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8F3-4976-419B-90D7-C63A1200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FC6-CC0C-40EF-A950-DFCA39E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048-FD3E-46EC-868F-CF11C654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360-64CE-4C02-AFB2-0E8B9AE9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EA97-1834-4129-9CC3-311E9ECD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8B1-D91C-415F-AE68-EB3DD05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1C2E-60E2-4DD1-A75B-43AA424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8B6A-0223-4134-A528-F8FA7AA4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9B2E-77F1-4C0B-95C2-2A3EF92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541-52F0-4CFF-B000-431CF4A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6EB6-9F21-4CEE-8C0F-0F162F3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EDA-6CF4-4052-A31F-CB281B51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4BA-4F77-4E5A-8AFD-6AC9FF8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9EA-04B6-4E00-9B16-3622183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4DFB-141F-4FD5-A4E8-A785CDBB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8A94-5B86-4226-AED7-DD91D5D4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3070-80E9-49CF-8A33-5E4251A6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065-20AE-4632-99B6-1DF07C1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441-292A-4544-B66A-046410A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772-0BA6-45A1-A344-D74F3B9E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2B6-D99B-4CF1-8A88-793C1491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0F2-4357-49A2-B70E-D5C91C6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27A-F015-4DFA-9987-3CB0C6B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299-44A7-4B6B-9C4C-1A039AB7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eaeaea"/>
                </a:solidFill>
                <a:latin typeface="Verdana"/>
              </a:rPr>
              <a:t>Biztonság .NET-b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5464-2207-4494-AF3D-41717ADB8F61}" type="slidenum">
              <a:rPr b="1" lang="hu-HU" sz="16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D99-DE1D-4898-BC34-173E229805EA}" type="datetime">
              <a:rPr b="0" lang="hu-HU" sz="1200" spc="-1" strike="noStrike">
                <a:solidFill>
                  <a:srgbClr val="eaeaea"/>
                </a:solidFill>
                <a:latin typeface="Verdana"/>
              </a:rPr>
              <a:t>26.07.29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3BF3-3FD7-4461-A5A4-AAEAC5F247C4}" type="slidenum">
              <a:rPr b="1" lang="hu-HU" sz="16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700" spc="-1" strike="noStrike">
                <a:solidFill>
                  <a:srgbClr val="ffffcc"/>
                </a:solidFill>
                <a:latin typeface="Arial"/>
              </a:rPr>
              <a:t>Biztonság .NET-be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rizsán Zoltá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i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1.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Megvalósítá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Minden esetben Demand() fv. Hívás.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(IPermission interface, PermissionSet osztál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SecurityException kivétel dobódik, ha nincs megfelelő jogosultsá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680-2BC1-4BC2-9EB6-A031573039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347AD-E34C-48BF-95B7-53B4D8971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Osztálykönyvtár eszköz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System.Security.Principal 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névté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Interface-ek (általánosak):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Iidentity</a:t>
            </a:r>
            <a:br>
              <a:rPr sz="2800"/>
            </a:b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felhasználók adata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Iprincipal</a:t>
            </a:r>
            <a:br>
              <a:rPr sz="28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soporttagsá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E2C-D0D9-4AE8-B0AE-0F7B71C180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EC9F5-CCFE-4F24-97F4-AF1DF7D91B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IIdent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public interface IIdentity{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String Name{get;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String AuthenticationType{get;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bool IsAutenticated{get;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BBC-44E3-458E-A9E5-860ADE85B8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457FA-9533-43C2-BA5F-6FBF4BE641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IPrincip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Minden szálhoz egy </a:t>
            </a:r>
            <a:r>
              <a:rPr b="0" i="1" lang="hu-HU" sz="3200" spc="-1" strike="noStrike">
                <a:solidFill>
                  <a:srgbClr val="eaeaea"/>
                </a:solidFill>
                <a:latin typeface="Verdana"/>
              </a:rPr>
              <a:t>principal 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objekt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Tread.CurrentPrincipal (olvasható - írható)</a:t>
            </a:r>
            <a:br>
              <a:rPr sz="3200"/>
            </a:b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public interface IPrincipal{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Iidentity Identity{get;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bool IsInRole(String Role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2AC-6F58-442E-8D73-5D04D1DD3C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4EB9C-4694-4AE6-A423-3CDBFC1DC4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Általános osztály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Előre definiált, az alaposztály könyvtár ele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Csak az interface-t implementálja.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GenericIdent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GenericPrincip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8E5-7112-4A7F-8C5F-8D3F9F9DD7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759D0-C619-48E6-AAA2-A64F9DE7B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Windows specifikus osztály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WindowsIdentity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Egy windows-os felhasználót kezel. 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WindowsPrincipal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Windows-os csoporttagság nyilvántartás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037-0BA1-42A7-8663-BF2CE199A4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59724-94D9-4290-B1A1-2CC0057869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WindowsIdent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z Iidentity fv.-ei +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IsAnonym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IsGue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IsSyst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tatic </a:t>
            </a: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GetAnonymous(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tatic </a:t>
            </a: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GetCurrent()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- win32 szál</a:t>
            </a:r>
            <a:br>
              <a:rPr sz="28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lehet, hogy más, mint  a .NET Ident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mpersonate() - win32 szál felh. változtatása (erőforrás hozzáférés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433-D0EF-4A50-95B8-052952F459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DED52-065E-49CE-BA2C-61AAD9CA4B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WindowsPrincip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Hasonló, mint a GenericPrincipal, de 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IsInRole()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két fajta paraméterre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tr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BUILTIN\szere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GÉPNÉV\Felhasznál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TARTOMÁNY\Felhasznál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felsosorolt (WindowsBuiltInRo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countOperator, Administrator, PowerUser Backup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perator, Guest, User, Replicator, ..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FEF-A306-4AF4-B05B-DBE179EEDA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B38C8-FEEA-404B-9145-0E6F222E05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Példa 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Thread.CurrentPrincipal = new GenericPrincipal(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new GenericIdentity(”Hát én”), null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Console.WriteLine(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string.Format(”Az aktuális Identity: {0}\n \tTípusa: {1}”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Thread.CurrentPrincipal.Identity.Name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Thread.CurrentPrincipal.Identity.GetType().FullNa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Console.WriteLine(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string.Format(”Az aktuális Identity: {0}\n \tTípusa: {1}”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WindowsIdentity.GetCurrent().Name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WindowsIdentity.GetCurrent().GetType().FullNa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F53-0543-4304-A28D-C92AEDA812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735D7-846D-4FAB-BA0C-FB6AA8C408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Példa II - </a:t>
            </a: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MyIdentit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class MyIdentity : GenericIdentity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rivate string m_fullName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string FullName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get{ return m_fullName;}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MyIdentity (string userName, string fullNam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: base(userName) { m_fullName = fullName;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static MyIdentity Current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get{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return (MyPrincipal.Current == null)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ull : MyPrincipal.Current.Identity as MyIdentity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1C7-CF19-4FEF-96E4-417E28A47A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D9916-DD50-4CDA-BE83-5A6266B500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Alapfogalma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zonosítás (a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thentication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Hitelesítés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Ki az aki a kérést küldi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Engedélyezés (a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thorization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Hozzáférés szabályozás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Milyen erőforrásokat érhet el, használhat ez a személy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ntegritás ellenőrzés (i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tegrity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check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Hogyan biztosítható, hogy az adatokat útközben ne manipulálhassák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2B1-2C52-43B2-B60C-337957914F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34D64-CECC-45F3-BE98-6907206FAF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Példa II - </a:t>
            </a: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MyPrincip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class MyPrincipal : GenericPrincipal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MyPrincipal(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MyIdentity ident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, string[] roles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: base(ident,roles){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override bool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IsInRole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(string role)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if (Identity != null &amp;&amp; Identity.Name == ”Admin”) return true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else return base.IsInRole(role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new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MyIdentity Identity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get{return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base.Identity as MyIdentity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;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public static MyPrincipal Current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get{ return 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Thread.CurrentPrincipal as MyPrincipal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;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5EF-4402-4CF4-ADE8-7844D52FFD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72E66-8747-41E9-AF2C-08BE06D1FC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Példa II - </a:t>
            </a:r>
            <a:r>
              <a:rPr b="0" lang="hu-HU" sz="3600" spc="-1" strike="noStrike">
                <a:solidFill>
                  <a:srgbClr val="ffffcc"/>
                </a:solidFill>
                <a:latin typeface="Arial"/>
              </a:rPr>
              <a:t>teszt kó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static void Main(string[] args)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Thread.CurrentPrincipal = new GenericPrincipal(new </a:t>
            </a:r>
            <a:r>
              <a:rPr b="0" lang="hu-HU" sz="1800" spc="-1" strike="noStrike">
                <a:solidFill>
                  <a:srgbClr val="99ffcc"/>
                </a:solidFill>
                <a:latin typeface="Verdana"/>
              </a:rPr>
              <a:t>MyIdentity("Admin", "Rendszer gizda"), null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try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1800" spc="-1" strike="noStrike">
                <a:solidFill>
                  <a:srgbClr val="aa8456"/>
                </a:solidFill>
                <a:latin typeface="Verdana"/>
              </a:rPr>
              <a:t>DoIt(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Thread.CurrentPrincipal = new GenericPrincipal(new </a:t>
            </a:r>
            <a:r>
              <a:rPr b="0" lang="hu-HU" sz="1800" spc="-1" strike="noStrike">
                <a:solidFill>
                  <a:srgbClr val="99ffcc"/>
                </a:solidFill>
                <a:latin typeface="Verdana"/>
              </a:rPr>
              <a:t>MyIdentity("Krz", "Hát én ki más"), null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a8456"/>
                </a:solidFill>
                <a:latin typeface="Verdana"/>
              </a:rPr>
              <a:t>    </a:t>
            </a:r>
            <a:r>
              <a:rPr b="0" lang="hu-HU" sz="1800" spc="-1" strike="noStrike">
                <a:solidFill>
                  <a:srgbClr val="aa8456"/>
                </a:solidFill>
                <a:latin typeface="Verdana"/>
              </a:rPr>
              <a:t>DoIt();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catch(Exception e){Console.WriteLine("Kivétel: " + e.ToString ());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[PrincipalPermission(SecurityAction.Demand, Name="Admin") ]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static void  DoIt(){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MyIdentity  MyI= Thread.CurrentPrincipal.Identity as MyIdentity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Console.WriteLine("DoIt hívás: Név:{0} ({1})"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MyI.Name, MyI.FullName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E88-33A0-45BC-9633-985EB21394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E7FB7-B723-4687-992F-74BABC775E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Biztonsági környezet öröklé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Új szál esetén öröklődik a Pirncip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new Thread() 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-&gt; ig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new Timer 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-&gt; n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.NET Remoting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-&gt; általában ne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Web Service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-&gt; általában n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00A-744C-4987-B8A2-1B884368C5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843DF-FDF9-49F2-A199-AD6D665A1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Alkalmazástartomán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Szálak biztonsági környezetét egységesen szabályozhatju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cc"/>
                </a:solidFill>
                <a:latin typeface="Verdana"/>
              </a:rPr>
              <a:t>AppDomain.SetPrincipalPolicy(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araméterek lehetnek (PrincipalPolicy felsorolt típus)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NoPrincipal (nul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UnauthenticatedPrincipal (alapért., ü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WindowsPrincip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ECB-DCE2-4A30-AC98-15A835B3E7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A6E77-7F1B-4DF0-8A2E-DC2FB0D629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Nem szerep alapú biztonsá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Nem Mindet, vagy semmit, han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z adott pro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dott erőforrás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milyen műveletet hajthat vé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óderedet-alapú (evidence based securit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ódhozzáférési jogosultság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(Code Access Security CA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25B-BF84-44E1-A280-5A91066090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7E81-BA06-4508-8F39-A538AD36DE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Biztonsági házire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programok jogait nem minden esetben a rendszergazda állítja és nem futásidőbe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ec85e"/>
                </a:solidFill>
                <a:latin typeface="Verdana"/>
              </a:rPr>
              <a:t>Előre elkészített szabályrendszer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, amely 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kódról származó információk alapján meghatározza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Verdana"/>
              </a:rPr>
              <a:t>hogy mely erőforrásokon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a845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aa8456"/>
                </a:solidFill>
                <a:latin typeface="Verdana"/>
              </a:rPr>
              <a:t>milyen művelet(ek)et hajthat vé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DBD-5001-496D-886B-32A2E77C64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CCD81-7C9D-432C-9254-C53EFD93E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redetigazolás, erdetinformáció</a:t>
            </a:r>
            <a:br>
              <a:rPr sz="4400"/>
            </a:b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kódról származó információ (bizonyíték - evi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nc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Beépített információ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Információk szerelvényrő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Has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Kiadó (kiadó digitális aláírása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rős név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Információk indítás helyéről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Alkalmazásmapp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Webhe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UR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Zón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Lehet saját is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CA3-6DF5-4B5D-A9ED-AA369DA049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3967C-B9E9-4ABB-8A51-21D722CB0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Kódhoz rendelhető jog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CodeAccessPermission osztály leszármazottja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Léteznek beépített jogok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nvironmentPermiss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EventLogPermiss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PrintingPermiss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RegitryPermiss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FileIO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Permis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Bővíthető saját jogokkal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BD5-06C1-443D-88C0-5536A4651B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9AFF6-77CC-4527-B1D0-803898DC9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Jog csoportok, </a:t>
            </a:r>
            <a:br>
              <a:rPr sz="4400"/>
            </a:b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ngedély halmazo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Jogok csoportba rendezhetőek, nevesíthetőek (Named Permission Set)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Léteznek beépített engedélyhalmazo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Noth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xecution (nem használhat védett erőforrást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LocalInter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verything (kivéve kód ellenőrzés kihagyás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ullTrust (GAC-ban levők alapból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aját definiálható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2A5-0698-4C8E-98ED-5877AEA873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63D21-D8CC-433E-A26B-9E218227B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Házirend felépítése, működés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Fastruktúr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somópontjaiban: </a:t>
            </a:r>
            <a:r>
              <a:rPr b="1" lang="hu-HU" sz="2400" spc="-1" strike="noStrike">
                <a:solidFill>
                  <a:srgbClr val="ff9966"/>
                </a:solidFill>
                <a:latin typeface="Verdana"/>
              </a:rPr>
              <a:t>feltétel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(Kód eredetére) - </a:t>
            </a:r>
            <a:r>
              <a:rPr b="1" lang="hu-HU" sz="2400" spc="-1" strike="noStrike">
                <a:solidFill>
                  <a:srgbClr val="ffffcc"/>
                </a:solidFill>
                <a:latin typeface="Verdana"/>
              </a:rPr>
              <a:t>engedélyhalmaz</a:t>
            </a: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Ha a feltétel igaz, akk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a program megkapja a jogok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Verdana"/>
              </a:rPr>
              <a:t>folytatódik a kiértékelés s gyermekk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Végigmegy a fán és összegzi azokat (UNIÓ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 fa egy szintjén csak egy levélre illeszkedhet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A rendszer többszintű, 4 fából ál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77A-D552-4993-8BCF-766F8DFEBB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F7762-768A-47C2-995E-66A2DFC03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Windows biztonsá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Felhasználó hitelesítés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Kerber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NTL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Publikus kulc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Objektum alapú hozzáférés szabályozá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059-617D-48C0-8F9E-C40A12971A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08680-C1FE-47E3-BE15-3D4A569EAB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Támogatott házirende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cc"/>
                </a:solidFill>
                <a:latin typeface="Verdana"/>
              </a:rPr>
              <a:t>1. szint Vállalati (Enterprise)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ctive Directory telepíthet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Tartományra érvény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ec85e"/>
                </a:solidFill>
                <a:latin typeface="Verdana"/>
              </a:rPr>
              <a:t>2. szint Számítógép (Machine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aa8456"/>
                </a:solidFill>
                <a:latin typeface="Verdana"/>
              </a:rPr>
              <a:t>3. szint Felhasználói (Us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4. szint Alkalmazástartományi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(Application Domai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Futtató hoszt által létrehozot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142-2DCF-4735-8C8F-02F8F9F084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B3B3C-E8AC-4745-9E30-478F221A0D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Házirendek végső jogosultság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rendszer sorra kiértékeli az összes fát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z 1. szinttől kezdődően a 4. szint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végső jogosultság az egyes jogosultságok metsze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FB9-9403-4DBA-B83A-3DCB036847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0561D-3028-428E-850A-ABA261CF68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Kiértékelést befolyásolás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Kizárólagosság (Exclusive)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:</a:t>
            </a:r>
            <a:br>
              <a:rPr sz="32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a a fát bejárva elér egy ilyen csomópontot, nem megy tovább a gyerekre! Megy a következő fára.</a:t>
            </a:r>
            <a:br>
              <a:rPr sz="28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(Nem kaphat több jogo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Végső szint (Level Final)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:</a:t>
            </a:r>
            <a:br>
              <a:rPr sz="32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z aktuális fánál abbahagyja a kiértékelést nem folytatja az alacsonyabb szintűvel!</a:t>
            </a:r>
            <a:br>
              <a:rPr sz="28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(Nem kaphat kevesebb jogo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3E7-9F7D-421E-9F04-C552DFAF7A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1FFF4-87F8-488C-AE15-83A43D4AC8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Házirend vizuális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6480" y="1700280"/>
            <a:ext cx="1022040" cy="916920"/>
          </a:xfrm>
          <a:prstGeom prst="rect">
            <a:avLst/>
          </a:prstGeom>
          <a:solidFill>
            <a:srgbClr val="99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99"/>
                </a:solidFill>
                <a:latin typeface="Verdana"/>
              </a:rPr>
              <a:t>Vállalat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3040" y="2800440"/>
            <a:ext cx="1445760" cy="91692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99"/>
                </a:solidFill>
                <a:latin typeface="Verdana"/>
              </a:rPr>
              <a:t>Számítógé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73520" y="4005360"/>
            <a:ext cx="1519200" cy="916920"/>
          </a:xfrm>
          <a:prstGeom prst="rect">
            <a:avLst/>
          </a:prstGeom>
          <a:solidFill>
            <a:srgbClr val="aa8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99"/>
                </a:solidFill>
                <a:latin typeface="Verdana"/>
              </a:rPr>
              <a:t>Felhasználó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80680" y="5157720"/>
            <a:ext cx="250956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99"/>
                </a:solidFill>
                <a:latin typeface="Verdana"/>
              </a:rPr>
              <a:t>Alkalmazástartomán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588000" y="1700280"/>
            <a:ext cx="1989000" cy="4032360"/>
            <a:chOff x="6588000" y="1700280"/>
            <a:chExt cx="1989000" cy="4032360"/>
          </a:xfrm>
        </p:grpSpPr>
        <p:sp>
          <p:nvSpPr>
            <p:cNvPr id="184" name=""/>
            <p:cNvSpPr/>
            <p:nvPr/>
          </p:nvSpPr>
          <p:spPr>
            <a:xfrm>
              <a:off x="6588000" y="1700280"/>
              <a:ext cx="792360" cy="4032360"/>
            </a:xfrm>
            <a:prstGeom prst="downArrow">
              <a:avLst>
                <a:gd name="adj1" fmla="val 50000"/>
                <a:gd name="adj2" fmla="val 127226"/>
              </a:avLst>
            </a:prstGeom>
            <a:solidFill>
              <a:srgbClr val="339966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9000" y="28526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eaeaea"/>
                  </a:solidFill>
                  <a:latin typeface="Verdana"/>
                </a:rPr>
                <a:t>Kiértékelé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9280" y="1211400"/>
            <a:ext cx="5113440" cy="2850480"/>
            <a:chOff x="179280" y="1211400"/>
            <a:chExt cx="5113440" cy="2850480"/>
          </a:xfrm>
        </p:grpSpPr>
        <p:grpSp>
          <p:nvGrpSpPr>
            <p:cNvPr id="187" name=""/>
            <p:cNvGrpSpPr/>
            <p:nvPr/>
          </p:nvGrpSpPr>
          <p:grpSpPr>
            <a:xfrm>
              <a:off x="179280" y="1211400"/>
              <a:ext cx="4464000" cy="2837160"/>
              <a:chOff x="179280" y="1211400"/>
              <a:chExt cx="4464000" cy="2837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79280" y="1211400"/>
                <a:ext cx="4464000" cy="2837160"/>
              </a:xfrm>
              <a:prstGeom prst="rect">
                <a:avLst/>
              </a:prstGeom>
              <a:solidFill>
                <a:srgbClr val="eec85e"/>
              </a:solidFill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4200" y="2637000"/>
                <a:ext cx="1681920" cy="368280"/>
              </a:xfrm>
              <a:prstGeom prst="rect">
                <a:avLst/>
              </a:prstGeom>
              <a:solidFill>
                <a:srgbClr val="aa8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eaeaea"/>
                    </a:solidFill>
                    <a:latin typeface="Verdana"/>
                  </a:rPr>
                  <a:t>Kibocsátó: MS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42560" y="1924200"/>
                <a:ext cx="1103400" cy="71280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46320" y="1924200"/>
                <a:ext cx="1057320" cy="70488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46320" y="1924200"/>
                <a:ext cx="2065320" cy="71280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9880" y="3451320"/>
                <a:ext cx="1192680" cy="368280"/>
              </a:xfrm>
              <a:prstGeom prst="rect">
                <a:avLst/>
              </a:prstGeom>
              <a:solidFill>
                <a:srgbClr val="aa8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eaeaea"/>
                    </a:solidFill>
                    <a:latin typeface="Verdana"/>
                  </a:rPr>
                  <a:t>Ms.Office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42920" y="3003480"/>
                <a:ext cx="0" cy="44784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98320" y="1557360"/>
                <a:ext cx="1460880" cy="368280"/>
              </a:xfrm>
              <a:prstGeom prst="rect">
                <a:avLst/>
              </a:prstGeom>
              <a:solidFill>
                <a:srgbClr val="aa8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eaeaea"/>
                    </a:solidFill>
                    <a:latin typeface="Verdana"/>
                  </a:rPr>
                  <a:t>Minden kód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643280" y="1211400"/>
              <a:ext cx="649440" cy="158904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43280" y="3715920"/>
              <a:ext cx="649440" cy="34596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2FD-5051-4DDF-AA01-5913B0A73FE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0798C-8E8F-4C12-BA82-D2774FDA80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Szerelvények - biztonsá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Szerelvényekhez is rendelhetőek biztonsági előírások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Requi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Ref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ttribútummal valósítják meg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968-9A19-446A-A8DB-45554C1130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D693-C6D0-4D65-A8D2-7AD17D24A0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Arial"/>
              </a:rPr>
              <a:t>Futó program végső jogosultság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66"/>
                </a:solidFill>
                <a:latin typeface="Verdana"/>
              </a:rPr>
              <a:t>((MIN </a:t>
            </a:r>
            <a:r>
              <a:rPr b="1" lang="hu-HU" sz="2800" spc="-1" strike="noStrike">
                <a:solidFill>
                  <a:srgbClr val="ff9966"/>
                </a:solidFill>
                <a:latin typeface="Symbol"/>
                <a:ea typeface="Symbol"/>
              </a:rPr>
              <a:t></a:t>
            </a:r>
            <a:r>
              <a:rPr b="1" lang="hu-HU" sz="2800" spc="-1" strike="noStrike">
                <a:solidFill>
                  <a:srgbClr val="ff9966"/>
                </a:solidFill>
                <a:latin typeface="Verdana"/>
              </a:rPr>
              <a:t> OPT) </a:t>
            </a:r>
            <a:r>
              <a:rPr b="1" lang="hu-HU" sz="2800" spc="-1" strike="noStrike">
                <a:solidFill>
                  <a:srgbClr val="ff9966"/>
                </a:solidFill>
                <a:latin typeface="Symbol"/>
                <a:ea typeface="Symbol"/>
              </a:rPr>
              <a:t></a:t>
            </a:r>
            <a:r>
              <a:rPr b="1" lang="hu-HU" sz="2800" spc="-1" strike="noStrike">
                <a:solidFill>
                  <a:srgbClr val="ff9966"/>
                </a:solidFill>
                <a:latin typeface="Verdana"/>
              </a:rPr>
              <a:t> ALLOWED) \ REF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MIN, OPT : szerelvény által kért jogo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ALLOWED : házirendból eredő jogo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zerelvény által visszautasított jogo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Ha a MIN jog nem áll rendelkezésre, akkor kivétel keletkezik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527-FECC-4BF9-B27E-C58C2CBB4D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A6EA-9CEA-4D40-8BFF-3E8FE3355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Jog, jogcso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Legkisebb egység, erőforrásokon végezhető műveletek halmazak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public interface IPermission{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Permission Union(IPermission rhs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Permission Intercect(IPermission rhs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Permission Copy(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Void Demand(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PermissionSet osztály (ICollectio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25D-8348-4F00-AE21-0F56F278A3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CEDED-22E8-45EB-84B4-0CEF5D2FFB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lenőrzés fajtá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Op. rendszer: erőforrá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lkalmazás: Feladatot, funkció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eretrendszer: személy, jog, stack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módja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eklaratí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Imperatí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5A8-6EAF-4DFC-AD5B-613C5D35BD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97904-2FF4-48DE-AE06-859CF8D3AC7A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Deklaratív ellenőr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ttribútum segítségével (beépül metaadatb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Az engedély paramétereit már fordítási időben tudni kell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Gy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önnyen felderíthető, dokumentálható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Szerelvényre, tfv.-re érvény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FBE-5708-4641-BEF8-E5CA62EB74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DA178-8C2D-4CF2-B5E9-C51300EBA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Imperatív ellenőr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ermission 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vagy 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ermissionSet osztály egy példányának létrehozás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Majd Demand fv.-ével 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Futásidej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Kivétel elkapás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ódszint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5C4-1C64-4ACD-B4FC-F1A9C4D347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B4589-7950-45F5-9C20-7CB99FA017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+ .NET biztonsá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Nem lehet kikerülni vagy lecserélni az op. rendszer vagy hálózat biztonságá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Csak fokozni vagy kiterjeszteni leh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36A-A584-4391-8A2D-15CA27311C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3AE04-9C61-49CC-A955-8536F2FACF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Stack ellenőrzé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Minden metódus híváshoz veremkere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Biztonsági ell. (Demand) esetén bejárja a hívási vermet, és megvizsgálja a fv.-ek veremkeretei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66"/>
                </a:solidFill>
                <a:latin typeface="Verdana"/>
              </a:rPr>
              <a:t>Minden Win32API hívás előtt Demand()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A39-8D0C-4DE7-B99F-E0610E5BFD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171E6-F986-468D-B2F3-26779674A9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lenőrzés módosító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hagyományos ell. módosítják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ssert: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nem vizsgál tovább, engedélye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Deny: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nem vizsgál tovább, ti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Permit Only: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ktuálisra assert, többire Den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4F0-455B-4425-B4AC-A509B53FE0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9B574-D6DB-45E6-AD44-C1A29300E1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Stack ellenőrzés szabály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Engedélyen, vagy engedélyhalmazon hívható módosít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Csak egy módosító lehet aktív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Művelet elvégzése után szokás visszavonni (RevetAll, RevertAssert, …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Konstruktorban tilos a veremvizsgálat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Demand() helyett lehet LinkDemand() – nem jár végig a vermen, csak az aktuálisat vizsgálja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Reflexiónál LinkDeman() -&gt; Demand(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D63-CA42-4487-8081-F790A9E28A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8E08-7662-416E-A051-BD40EF185C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Biztonság beállítás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Jog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aspol.exe</a:t>
            </a:r>
            <a:br>
              <a:rPr sz="2800"/>
            </a:b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-házirend –művelet pl.: -addfullTr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.NET Configurar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Engedé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Configurator (beépítet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XML fájlból (beépített, saját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284-4D54-414B-B30D-F61DDA7C79E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DB4A1-066F-4DB2-A061-5E5961EDDE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Biztonsági modell filozófiáj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Segédalkalmazásokkal állítható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Ellenőrizhető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felhasználó kilétét - </a:t>
            </a:r>
            <a:r>
              <a:rPr b="0" lang="hu-HU" sz="2800" spc="-1" strike="noStrike">
                <a:solidFill>
                  <a:srgbClr val="eec85e"/>
                </a:solidFill>
                <a:latin typeface="Verdana"/>
              </a:rPr>
              <a:t>szerep alapú</a:t>
            </a:r>
            <a:br>
              <a:rPr sz="2800"/>
            </a:b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és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009999"/>
                </a:solidFill>
                <a:latin typeface="Verdana"/>
              </a:rPr>
              <a:t>vagy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kód eredetét</a:t>
            </a:r>
            <a:br>
              <a:rPr sz="2800"/>
            </a:br>
            <a:r>
              <a:rPr b="0" lang="hu-HU" sz="2800" spc="-1" strike="noStrike">
                <a:solidFill>
                  <a:srgbClr val="009999"/>
                </a:solidFill>
                <a:latin typeface="Verdana"/>
              </a:rPr>
              <a:t>és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ff9966"/>
                </a:solidFill>
                <a:latin typeface="Verdana"/>
              </a:rPr>
              <a:t>va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ívási lánco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BF3-8894-423D-BE5F-85823E8CD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42E6D-BF76-4AAB-8921-BD9EED327C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Szerep alapú biztonsá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Tradicionális, elterjedt biztonsági ellenőrzé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felhasználókat csoportokba rendezik, ezek a szerepek. A jogokat a szerepek kapják, nem a felhasználó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NET </a:t>
            </a: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szál szinten kezeli a szerep alapú biztonságo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D7E-CAB0-4DD5-BC01-77B1E1E1BD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CD58-611E-4D28-A93A-7B297ED2D051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Ellenőrzés hely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z operációs rendszer a kernelben vagy modulb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 .NET alaposztály-könyvtárában, az osztályok fv.-eibe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Az alkalmazás komponenseiben, osztályib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966-6DAB-4E15-AD0F-0487275986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EABF0-6704-47BD-9BB4-93EF98FB9C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cc"/>
                </a:solidFill>
                <a:latin typeface="Arial"/>
              </a:rPr>
              <a:t>Biztonságot fenyegető szereplő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Jóindulatú (ártatlan)</a:t>
            </a:r>
            <a:br>
              <a:rPr sz="3200"/>
            </a:b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hitelesített – óvatlan, figyelmet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Verdana"/>
              </a:rPr>
              <a:t>Rosszindulatú (támadó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hitelesített felh.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</a:t>
            </a: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datait megszerezni, használn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Verdana"/>
              </a:rPr>
              <a:t>Megváltoztatni a rendszer komponenseit észrevétlenül (buffer túlcsordulá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E76-25F7-4BD5-8BFE-EC08AF63F6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52BAE-BCC6-4A9E-87B3-20BBFF137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d3d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"/>
              </a:rPr>
              <a:t>Biztonsági fenyegetése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Titoksértés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Kód, illetéktelen személy - kényes bizalmas informáci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Ellenőrzés hamisítás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Logok módosítása, zagyválás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Azonosító megszerzése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Jogosult felhasználó nevében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Jogosultság megszerzése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jogosult felhasználó -&gt; adm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Szerviz elfojtás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Sok felesleges, érvényes művelet -&gt; szükséges funkciók lassulna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66"/>
                </a:solidFill>
                <a:latin typeface="Verdana"/>
              </a:rPr>
              <a:t>Mobil kód</a:t>
            </a:r>
            <a:br>
              <a:rPr sz="2400"/>
            </a:br>
            <a:r>
              <a:rPr b="0" lang="hu-HU" sz="2400" spc="-1" strike="noStrike">
                <a:solidFill>
                  <a:srgbClr val="eaeaea"/>
                </a:solidFill>
                <a:latin typeface="Verdana"/>
              </a:rPr>
              <a:t>Letöltött kódok gyakran admin jog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rizsán Zoltán i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6B1-FE42-47B4-A4F1-9984C48C5C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D1D7-995B-41D2-B940-2697350339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z</cp:lastModifiedBy>
  <dcterms:modified xsi:type="dcterms:W3CDTF">2009-03-30T09:59:14Z</dcterms:modified>
  <cp:revision>32</cp:revision>
  <dc:subject/>
  <dc:title>PowerPoint bemutat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8</vt:r8>
  </property>
  <property fmtid="{D5CDD505-2E9C-101B-9397-08002B2CF9AE}" pid="3" name="Version">
    <vt:r8>3</vt:r8>
  </property>
</Properties>
</file>