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7A8-AD41-4A9D-825C-05137EA2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8131-8F54-4A90-BB48-821441FF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626-9AE4-4584-ADE2-C89ED50E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E57-FEB9-44AC-8FD9-81753561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98FD-2B79-426B-A156-CA4DDE47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EE25-A286-4E30-851E-FEA16051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DC75-A4D3-4E93-88C6-0C901C55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8489-B0F6-4B85-A6B8-09440EE7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42A9-E307-42E6-8BEF-44459536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6904-D11A-46B4-8075-E5036E92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118F-E453-4A9D-B4B5-9EAB37D2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118-9112-4C97-BD4E-94909498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47E9-F998-473C-BB46-9772248B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573B-441E-4C8A-8B44-F6F57C24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8C87-AB6B-4F37-8311-E9CB6B66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51B7-A952-44DB-8E68-556844BB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3D3A-E9C9-43A8-8F17-06956FCC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17D-FAAA-4C38-A05B-025EAABF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AB5-EF0C-48E8-A1A8-12EB64C0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DB3-6E63-4C4F-8AFF-4A67E067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586-F2ED-4A2D-B8F0-9DB7F620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E14E-1EC9-4821-9F36-F449B4D8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49C-CFD4-4BBF-91D1-F8E80C2A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4B8-DF2E-4CFE-BA73-53DEF56F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A7D3-C16C-4719-BBA0-D09B377F9AB3}" type="slidenum"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6915-28A0-4446-98A7-C5C46BFD8264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330033"/>
                </a:solidFill>
                <a:latin typeface="Times New Roman"/>
              </a:rPr>
              <a:t>C# osztályok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rizsán Zolt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9637-EBCB-4514-98A2-9BBEEB7FDAB7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Osztály része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tagok (Field) - ad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onstansok (Constant) – állandó adat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sak olvasható mezők (read onl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Tagfüggvények (Method) – fv.-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Operátorok (Operator) – speciális tfv.-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dexelők (Indexer) – speciális tfv.-e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ulajdonságok (Property) – kivülről adat, belülről f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legátumok – típusos fv. poin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semények (Event) – delegátu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F312-09E4-480E-BD94-90494EADC36F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Tagfüggvén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sztályban definiált függv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C#-ban nem definiálhatunk globális függvény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rmája:</a:t>
            </a:r>
            <a:br>
              <a:rPr sz="2400"/>
            </a:b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[attribútum] [módosítók] visszatérési_érték fvnév([paraméterszignatúra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módosító csak egyszer szerepelh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lcsönösen kizárják egymást: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atic, virtual, overr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lcsönösen kizárják egymást: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w, overr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E434-8431-412C-9CD5-28F6253302B2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Tagfüggvény </a:t>
            </a:r>
            <a:br>
              <a:rPr sz="3800"/>
            </a:br>
            <a:r>
              <a:rPr b="0" lang="hu-HU" sz="3000" spc="-1" strike="noStrike">
                <a:solidFill>
                  <a:srgbClr val="330033"/>
                </a:solidFill>
                <a:latin typeface="Times New Roman"/>
              </a:rPr>
              <a:t>változó hosszúságú paraméterlista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lass OpenEnded{ 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 void Foo(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arams object[] pp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){ 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r (int i = 0 ;  i &lt; pp.GetLength(0) ;  i++){ 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onsole.WriteLine(pp[i]); 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 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lass TestVarArgs{ 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atic void Main(string[] args){ 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penEnded oe = new OpenEnded(); 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e.Foo(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123, 456, "Hello", new Point(7,8), 9.0m, true, 'X‘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; 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5F10-CFA8-4305-937A-3FEC5A475580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Tagfüggvény</a:t>
            </a:r>
            <a:br>
              <a:rPr sz="3800"/>
            </a:br>
            <a:r>
              <a:rPr b="0" lang="hu-HU" sz="3000" spc="-1" strike="noStrike">
                <a:solidFill>
                  <a:srgbClr val="330033"/>
                </a:solidFill>
                <a:latin typeface="Times New Roman"/>
              </a:rPr>
              <a:t>paraméter átadás módjai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oid ertekSzerint(int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eállított értéket k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oid referenciaSzerint(ref int 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ívásnál is kell a ref kulcsszó, kötelező inicializál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oid kimenetiRefSzerint(out int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ívásnál is kell az out kulcsszó, kötelező a fv. törzsben beállíta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1851-6CF3-422F-B482-91C304918BFA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Tagfüggvény</a:t>
            </a:r>
            <a:br>
              <a:rPr sz="3800"/>
            </a:br>
            <a:r>
              <a:rPr b="0" lang="hu-HU" sz="3000" spc="-1" strike="noStrike">
                <a:solidFill>
                  <a:srgbClr val="330033"/>
                </a:solidFill>
                <a:latin typeface="Times New Roman"/>
              </a:rPr>
              <a:t>Main fv. alakjai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900000" y="1557360"/>
            <a:ext cx="77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blic static void Main() {..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blic static void Main(string[] args) {..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blic static int Main() {..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blic static int Main(string[] args) {..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1CBC-79B5-49C5-B59F-29B211D0D606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Tagfüggvény</a:t>
            </a:r>
            <a:br>
              <a:rPr sz="3800"/>
            </a:br>
            <a:r>
              <a:rPr b="0" lang="hu-HU" sz="3000" spc="-1" strike="noStrike">
                <a:solidFill>
                  <a:srgbClr val="330033"/>
                </a:solidFill>
                <a:latin typeface="Times New Roman"/>
              </a:rPr>
              <a:t>Virtuális fv.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ból nem virtuális (nem úgy, mint 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virtua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ulcsszó segítségé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egy fv. virtuális, akkor kötelező definiálni a törzsé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ülírása az 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overrid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minősítővel a leszármazott osztályok valamelyiké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ljes azonos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3BA4-4A46-4925-AB23-70B5A61A217D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Tagfüggvény</a:t>
            </a:r>
            <a:br>
              <a:rPr sz="3800"/>
            </a:br>
            <a:r>
              <a:rPr b="0" lang="hu-HU" sz="3000" spc="-1" strike="noStrike">
                <a:solidFill>
                  <a:srgbClr val="330033"/>
                </a:solidFill>
                <a:latin typeface="Times New Roman"/>
              </a:rPr>
              <a:t>Konstruktor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ve: osztályné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ehet meghívni explicite, de meghívódik amikor a rendszer létrehozza az objektum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fault konstruktor itt is v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nincs konstruktor itt is létrejön egy, és ez  0, false, null-ra áll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ívható másik konstruktor, akár az ősosztályé is, de a formája a következ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ublic Employee(int weeklySalary, int numberOfWeeks) </a:t>
            </a:r>
            <a:r>
              <a:rPr b="1" lang="hu-HU" sz="2600" spc="-1" strike="noStrike">
                <a:solidFill>
                  <a:srgbClr val="ff0000"/>
                </a:solidFill>
                <a:latin typeface="Arial"/>
              </a:rPr>
              <a:t>: this(weeklySalary)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{ }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9E12-6FCA-4258-9058-D81A86BDCFDC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330033"/>
                </a:solidFill>
                <a:latin typeface="Times New Roman"/>
              </a:rPr>
              <a:t>Tagfüggvény</a:t>
            </a:r>
            <a:br>
              <a:rPr sz="3800"/>
            </a:br>
            <a:r>
              <a:rPr b="0" lang="hu-HU" sz="3000" spc="-1" strike="noStrike">
                <a:solidFill>
                  <a:srgbClr val="330033"/>
                </a:solidFill>
                <a:latin typeface="Times New Roman"/>
              </a:rPr>
              <a:t>Destruktor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ve: ~osztályné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ak 1 darab lehet. Ami finalize-re konvertálód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öröklődik, és nem lehet felüldefiniáln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ehet meghívni explicite, de meghívódik amikor a gc felszabadítja, kisöpri az objektum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ehet sem paramétere, sem módosító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61D0-E848-4FBE-B7BF-31FD3947EA10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Külső fv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kkor mégis van??????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ehet definiálni, de lehet használni mások által definiált dll fv.-e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DllImpor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"kernel32", SetLastError=true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atic extern bool CreateDirectory(string na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ecurityAttribute s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E901-18E7-40BE-A812-C581504A233E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Operátoro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toperandusú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ik legalább osztály típus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operandusú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sztály típus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re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ost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5EF7-0C0A-4B46-BD48-029DDFADD661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Fogalm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nálló hatáskörrel rendelkező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bsztrakt adattíp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mely több, különböző elemet tartalmaz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Minden esetben a heap-en jön lét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gramozó hozza létre, de a GC menedzse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76DB-B0CF-467B-AB8B-385144D036FF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Szintaktikai szabályo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atikus fv.-nek kell lennie (static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kusnak kell lennie (public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ve kötelezően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operator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tána egy j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operandusú op.-nál a fv. paramétere kötelezően az adott osztály típusú kell legy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toperandusú op.-nál a fv. egyik paramétere kötelezően az adott osztály típusú kell legy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definiálható felül a [] operátor (de ott vannak az indexere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B80F-2BD1-4557-851E-A323B25C83BF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Szintaktikai szabályo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) operatort nem le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&amp;&amp;, || , ?: logikai operatorokat nem le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== sem lehet, de az Equals fv.-t viszont felül lehet írn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w, =, . Sem le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&lt;, &gt; operátorokat csak párban lehet újradefiniáln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étező operátorokat nem lehet újradefiniáln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F782-552E-43F5-9E8F-66FA1427838A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Példa – egyoperandusú operát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ruct RGBColor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ublic static readonly RGBColor EMPTY = new RGBColor(0x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ublic static readonly RGBColor FULL = new RGBColor(0xFF); int colorValue; 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ublic int ColorValue{ get { return colorValue; }  } 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ublic RGBColor(int color){ colorValue = color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public static RGBColor operator++(RGBColor color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f (color.colorValue != FULL) color.colorValue++;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turn color; 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public static RGBColor operator- -(RGBColor color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f (color.colorValue != EMPTY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olor.colorValue--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turn 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ublic string ToString(string format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turn (colorValue.ToString(format))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B9AC-9FFA-41D0-BDB4-86ABC2570062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Példa – aritmetrikai operát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public static bool operator&lt;(RGBColor color1, RGBColor color2)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{ 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turn color1.colorValue &lt; color2.colorValu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public static bool operator&gt;(RGBColor color1, RGBColor color2)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{ 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turn color1.colorValue &gt; color2.colorValu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0ED5-CEDA-471C-AB70-47E2B56366F1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Példa – kétoperandusú operát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ublic static RGBColor operator+(RGBColor color, int inc)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f (0xFF &gt;= (color.colorValue + inc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olor.colorValue += inc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olor.colorValue = 0xFF; 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turn col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ublic static RGBColor operator-(RGBColor color, int dec)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{ if (0 &lt; (color.colorValue - dec)) 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olor.colorValue -= dec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se 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olor.colorValue = 0x00; 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turn col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BAF2-8C1C-4930-A6D7-54E43C34037A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Péld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ruct RGB{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 RGB(RGBColor red, RGBColor green, RGBColor blue)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d = r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reen = gre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lue = b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 RGBColor R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 RGBColor Gre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 RGBColor Bl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 override string ToString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Red.ToString("X2"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+ Green.ToString("X2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+ Blue.ToString("X2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9B4A-BB83-4CE5-89C5-16A2796CDFA4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Példa – teszt osztál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lass GradientFill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atic void PrintRGBValue(RGB rgb)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onsole.WriteLine("{0} ", rg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 static void Main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onsole.WriteLine("Getting RGB values for gradient "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"fill (dark red -&gt; red)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r (RGB rgb = RGB.DARKR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gb.Red.ColorValue &lt; 0xFF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rgb.Red++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intRGBValue(rg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71C8-279B-4103-B78B-64649527637D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Konverziós operátoro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akja: public static kulcsszó operator mire(m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ulcsszó leh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mplicit</a:t>
            </a:r>
            <a:br>
              <a:rPr sz="22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utomatikusan lefut.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ikeresnek kell lennie!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kkor ajánlott, ha nem jár inf. veszteség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Explicit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Nem fut le automatikusa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ív(ód)á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típus) kifejezés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&gt; kivételt dobh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f as típu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&gt; Nem dobhat kivételt (null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3582-0E41-41C8-8F1D-B1FB82DBA4AD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Példa 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public static implicit operator int (RGBColor c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turn col.colorVal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sztben cs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r (RGB rgb = RGB.DARKR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gb.Red.ColorValue &lt; </a:t>
            </a:r>
            <a:r>
              <a:rPr b="0" lang="hu-HU" sz="2400" spc="-1" strike="noStrike">
                <a:solidFill>
                  <a:srgbClr val="33cc33"/>
                </a:solidFill>
                <a:latin typeface="Arial"/>
              </a:rPr>
              <a:t>RGBColor.FUL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gb.Red++)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73FE-4143-452C-9CC5-CE9505431B89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Példa - konverziós operát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ruct Celsius{ 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 Celsius(float temp){ 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his.temp = te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 static implicit operator Celsius(float temp){ 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elsius c; 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 = new Celsius(temp); 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turn(c); 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 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 static implicit operator float(Celsius c){ 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turn((((c.temp - 32) / 9) * 5)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/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ahrenhe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e viss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 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 float te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561C-65E4-4628-BC12-F3A1C614F26F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Definíció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[attributes] [modifiers] class &lt;className&gt; [: baseClassName]  {     [class-body] }[;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ódosítók lehetnek: </a:t>
            </a:r>
            <a:br>
              <a:rPr sz="2800"/>
            </a:b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ew, public, protected, internal, private, abstract, seal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sonló, mint C++-ban, vagy JAVA-ban, nem kötelező a „;” a vég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incs jelölve, de minden osztály a System.Object származott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5051-CE98-4652-A4A1-AE811E993644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Osztály része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tagok (Field) - ad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onstansok (Constant) – állandó adat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sak olvasható mezők (read onl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agfüggvények (Method) – fv.-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Operátorok (Operator) – speciális tfv.-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dexelők (Indexer) – speciális tfv.-e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Tulajdonságok (Property) – kivűlről adat, belülről f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legátumok – típusos fv. poin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semények (Event) – delegátu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F17F-C207-407F-B831-2166269DCEF3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Tulajdonságo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ívülről adattag belülről tf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het csak írható, lehet csak olvash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Nem lehet fv. paramét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bsztrakt osztály segítségével kikényszeríthető a lé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het virtuál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6CBA-3043-497D-81EA-97D78C9FB239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Szintaktik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[attributes] [modifers] &lt;type&gt; &lt;property-na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{ 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[ set {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&lt;accessor-body&gt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 ] 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[ get {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&lt;accessor-body 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 ]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1131-696F-4EC2-B33E-0944A60D9A1F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Péld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lass Addres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rotected string city; 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public string City{  get{ return city; }  }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//csak olvasha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rotected string zipCode; 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public string ZipCod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get { return zipCode; } 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set { zipCode = value; city = "Atlanta";} 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lass PropertyApp{ 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ublic static void Main(){ 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ddress addr = new Address(); 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ddr.ZipCode = "30338"; 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ring zip = addr.ZipCo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onsole.WriteLine("The city for ZIP code {0} is {1}", addr.ZipCode, addr.City); 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5798-858F-403B-9699-F9D707EF1E5D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ulajdons</a:t>
            </a: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á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ok</a:t>
            </a: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 IL-b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2" descr=""/>
          <p:cNvPicPr/>
          <p:nvPr/>
        </p:nvPicPr>
        <p:blipFill>
          <a:blip r:embed="rId1"/>
          <a:stretch/>
        </p:blipFill>
        <p:spPr>
          <a:xfrm>
            <a:off x="2411280" y="1847880"/>
            <a:ext cx="4537080" cy="3832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EFA9-E5BA-4404-B38F-21ACC3459143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Példa - index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sing System.Collection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lass MyListBox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rotected ArrayList data = new ArrayList(); 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public object this[int idx]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{ 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990033"/>
                </a:solidFill>
                <a:latin typeface="Arial"/>
              </a:rPr>
              <a:t>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{ 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f (idx &gt; -1 &amp;&amp; idx &lt; data.Count){ return (data[idx]); }else{ 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row new InvalidOperationException("[MyListBox.set_Item]” +                                        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"Index out of rang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    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}} 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990033"/>
                </a:solidFill>
                <a:latin typeface="Arial"/>
              </a:rPr>
              <a:t>s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f (idx &gt; -1 &amp;&amp; idx &lt; data.Count){ data[idx] = value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se if (idx == data.Count){ data.Add(value); }els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row new InvalidOperationException(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"[MyListBox.get_Item] Index out of rang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} 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}}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4550-934D-4B39-802D-6946732B3672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Példa – indexer tesz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lass IndexersApp{ 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blic static void Main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yListBox lbx = new MyListBox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bx[0] = "foo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bx[1] = "bar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bx[2] = "baz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nsole.WriteLine("{0} {1} {2}"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bx[0], lbx[1], lbx[2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B1FC-ED75-453A-90DC-653D3A343415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Osztály része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tagok (Field) -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onstansok (Constant) - állandó ad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Csak olvasható mezők (read on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agfüggvények (Method) - fv.-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Operátorok (Operator) - speciális tfv.-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Indexelők (Indexer) - speciális tfv.-e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ulajdonságok (Property) - kivülről adat, belülről f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legátumok - típusos fv.pointerek (</a:t>
            </a:r>
            <a:r>
              <a:rPr b="0" lang="hu-HU" sz="2400" spc="-1" strike="noStrike">
                <a:solidFill>
                  <a:srgbClr val="b2b2b2"/>
                </a:solidFill>
                <a:latin typeface="Arial"/>
              </a:rPr>
              <a:t>külön diasoroza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semények (Event) - delegátumok (</a:t>
            </a:r>
            <a:r>
              <a:rPr b="0" lang="hu-HU" sz="2400" spc="-1" strike="noStrike">
                <a:solidFill>
                  <a:srgbClr val="b2b2b2"/>
                </a:solidFill>
                <a:latin typeface="Arial"/>
              </a:rPr>
              <a:t>külön diasoroza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0F86-9814-48B9-A2B9-90D552E913C7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Mezők tárolási módjai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atikus: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példány minden objektum számára, osztályhoz kötődik, nem az objektumhoz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ány: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objektumnak külön példánya van a tagbó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5414-A5AA-481B-8FE0-03BD2C3F4A5C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Mezők hozzáférési módosító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 tagok elérési szabályozza, minden mező elé ki kell tenn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0033"/>
                </a:solidFill>
                <a:latin typeface="Arial"/>
              </a:rPr>
              <a:t>private (alapértelmezett)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csak az adott osztályból érhető 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0033"/>
                </a:solidFill>
                <a:latin typeface="Arial"/>
              </a:rPr>
              <a:t>protected: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dott osztályból, és a leszármazottakból érhető 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0033"/>
                </a:solidFill>
                <a:latin typeface="Arial"/>
              </a:rPr>
              <a:t>internal: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ak a szerelvény fv.-ei érhetik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0033"/>
                </a:solidFill>
                <a:latin typeface="Arial"/>
              </a:rPr>
              <a:t>protected internal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z előző kettő össz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0033"/>
                </a:solidFill>
                <a:latin typeface="Arial"/>
              </a:rPr>
              <a:t>public: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incs semmilyen korlátozás, minden szerelvénybő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B4D8-F545-4838-B11F-DF16DC018F6B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Osztály része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Adattagok (Field) - ad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Konstansok (Constant) – állandó adat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Csak olvasható mezők (read onl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agfüggvények (Method) – fv.-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Operátorok (Operator) – speciális tfv.-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dexelők (Indexer) – speciális tfv.-e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ulajdonságok (Property) – kivűlről adat, belülről f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legátumok – típusos fv. Pointer oszt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semények (Event) – delegátu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AD6E-D6B8-4673-AD11-3C0B51053672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Adattago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sztály hatáskörben definiált változ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rmája:</a:t>
            </a:r>
            <a:br>
              <a:rPr sz="2800"/>
            </a:b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[attribútum] [módosító] típus azonosító [=kezdő érték][, azonosító [=kezdő érték]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ódosítók lehetnek:</a:t>
            </a:r>
            <a:br>
              <a:rPr sz="2800"/>
            </a:b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– konstans</a:t>
            </a:r>
            <a:br>
              <a:rPr sz="2800"/>
            </a:b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readonl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– csak olvasható mező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atic – statikus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olatile – gyakran változ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B6FF-6230-4420-8F08-8F86B60C7A85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Konsta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téke fordítási időben állítódik be, futási időben értéke nem változtathat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ak konstans értékét veheti f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értelmezett tárolási osztálya sta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kell példányosítani az osztályt ahhoz, hogy használj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SIL kódban lcd utasítás (load constant) tölti fel a stack-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átum helye 3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rizsán Zoltán, i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Élőláb helye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# osztály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ia számának helye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5EFA-A556-4046-AFA0-523CF6EDB2FF}" type="slidenum">
              <a:rPr b="1" lang="hu-H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330033"/>
                </a:solidFill>
                <a:latin typeface="Times New Roman"/>
              </a:rPr>
              <a:t>Csak olvasható mező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Futási időben állítható az értéke, de csak egysz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tékét 3 helyen állíthatjuk: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nstruktor, statikus konstruktor, vagy a definíció sorá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tékét akár fv. hívás visszatérési értéke is szolgáltathatj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osztály különböző példányaiban a mező különböző étéket vehet f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1:22:56Z</dcterms:created>
  <dc:creator>k</dc:creator>
  <dc:description/>
  <dc:language>en-US</dc:language>
  <cp:lastModifiedBy>krz</cp:lastModifiedBy>
  <dcterms:modified xsi:type="dcterms:W3CDTF">2008-02-10T14:36:47Z</dcterms:modified>
  <cp:revision>55</cp:revision>
  <dc:subject/>
  <dc:title>C# osztályok</dc:title>
</cp:coreProperties>
</file>