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693-1B68-49DA-8F3E-243EA0BE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B70-C762-4B68-B306-7F54EB30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406-E240-4FFD-9ACC-10681D03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926-3123-4B25-B0CA-8DD9057E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E929-6C6F-4772-81C1-753FF6E8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440B-0E30-48B8-B2D1-30BDFBE9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CF38-4476-46EE-8DB4-C11AABAC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B041-B524-475B-8BD5-3031FA61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2DBA-E5DF-4394-BDCF-9BE8E83F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AF8B-4198-43F1-8100-9F2C9AE3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166B-5ED6-4585-BCF9-5638A1B0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5F1-7238-4F61-AE51-69126D1C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B090-BC61-4274-8F3F-6B096F4F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1BB6-557D-430F-9E04-A2CD603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B239-458B-4697-9FC6-7B4D16FA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437-F8DE-4717-A8A6-463D05F7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DF66-51B8-4DD9-A353-8D54E9BF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155-6996-4242-8687-4F61422B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526-C615-4AE9-90B1-6ABC2EC5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0DB-003C-4B82-B59C-01CB7C1B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EBE-5771-457F-A3A9-5319847F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C1A-4779-4D5E-B940-9A4B3DC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A4E-A135-4CAC-9B43-80897FCB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75C-FFC9-4329-8451-92C5BF96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66cc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ccff"/>
                </a:solidFill>
                <a:latin typeface="Verdana"/>
              </a:rPr>
              <a:t>&lt;date/time&gt;</a:t>
            </a:r>
            <a:r>
              <a:rPr b="1" lang="hu-HU" sz="1200" spc="-1" strike="noStrike">
                <a:solidFill>
                  <a:srgbClr val="66ccff"/>
                </a:solidFill>
                <a:latin typeface="Verdana"/>
              </a:rPr>
              <a:t>Krizsán Zoltá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ccff"/>
                </a:solidFill>
                <a:latin typeface="Verdana"/>
              </a:rPr>
              <a:t>i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66cc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66ccff"/>
                </a:solidFill>
                <a:latin typeface="Verdana"/>
              </a:rPr>
              <a:t>Delegátumok C#-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6cc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D6D0-A369-4A4A-A86A-2DABEE1E0A22}" type="slidenum">
              <a:rPr b="1" lang="en-US" sz="1400" spc="-1" strike="noStrike">
                <a:solidFill>
                  <a:srgbClr val="66cc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BBAB-0BCB-49C6-9D58-69C064A289C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100" spc="-1" strike="noStrike">
                <a:solidFill>
                  <a:srgbClr val="c4c3aa"/>
                </a:solidFill>
                <a:latin typeface="Arial"/>
              </a:rPr>
              <a:t>Delegátumok C#-ban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rizsán Zolt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i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System.Delegat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ccff"/>
                </a:solidFill>
                <a:latin typeface="Verdana"/>
              </a:rPr>
              <a:t>public static Delegate Combine(Delegate tail, Delegate head) 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: hozzáfűz a listá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ccff"/>
                </a:solidFill>
                <a:latin typeface="Verdana"/>
              </a:rPr>
              <a:t>public static Delegate Combine(Delegate[] delegateArray) 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: hozzáfűz a listáho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ccff"/>
                </a:solidFill>
                <a:latin typeface="Verdana"/>
              </a:rPr>
              <a:t>public static Delegate Remove(Delegate source, Delegate value) 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: töröl a listábó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0E7-30A5-4EEB-B98E-2C658BAB80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System.Delegate C#-ba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ccff"/>
                </a:solidFill>
                <a:latin typeface="Verdana"/>
              </a:rPr>
              <a:t>public static Delegate Combine</a:t>
            </a:r>
            <a:br>
              <a:rPr sz="3200"/>
            </a:br>
            <a:r>
              <a:rPr b="0" lang="hu-HU" sz="3200" spc="-1" strike="noStrike">
                <a:solidFill>
                  <a:srgbClr val="66ccff"/>
                </a:solidFill>
                <a:latin typeface="Verdana"/>
              </a:rPr>
              <a:t>helyett </a:t>
            </a:r>
            <a:br>
              <a:rPr sz="3200"/>
            </a:br>
            <a:r>
              <a:rPr b="1" lang="hu-HU" sz="3200" spc="-1" strike="noStrike">
                <a:solidFill>
                  <a:srgbClr val="ccff33"/>
                </a:solidFill>
                <a:latin typeface="Verdana"/>
              </a:rPr>
              <a:t>operator+=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ccff"/>
                </a:solidFill>
                <a:latin typeface="Verdana"/>
              </a:rPr>
              <a:t>public static Delegate Remove</a:t>
            </a:r>
            <a:br>
              <a:rPr sz="3200"/>
            </a:br>
            <a:r>
              <a:rPr b="0" lang="hu-HU" sz="3200" spc="-1" strike="noStrike">
                <a:solidFill>
                  <a:srgbClr val="66ccff"/>
                </a:solidFill>
                <a:latin typeface="Verdana"/>
              </a:rPr>
              <a:t>helyett</a:t>
            </a:r>
            <a:br>
              <a:rPr sz="3200"/>
            </a:br>
            <a:r>
              <a:rPr b="1" lang="hu-HU" sz="3200" spc="-1" strike="noStrike">
                <a:solidFill>
                  <a:srgbClr val="ccff33"/>
                </a:solidFill>
                <a:latin typeface="Verdana"/>
              </a:rPr>
              <a:t>operator-=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F5C-8EB1-4564-AD69-2C7ED26D7F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Példa II.-set osztál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class Set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rivate Object[] items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ublic Set(Int32 numItems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tems = new Object[numItems]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or (Int32 i =0; i &lt; numItems; i++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tems[i] = i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public delegate void Feedback(Object value, Int32 item, Int32 numItem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public void ProcessItems(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Feedback feedback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or(Int32 item = 0; item&lt; items.Length(); item++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f (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feedback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!= null ){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feedback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items[item], item+1, items.Length); 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3F8-F602-4AD5-A66C-057022A328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Példa II.-App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atic void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Main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){ </a:t>
            </a:r>
            <a:r>
              <a:rPr b="0" lang="hu-HU" sz="1600" spc="-1" strike="noStrike">
                <a:solidFill>
                  <a:srgbClr val="c4c3aa"/>
                </a:solidFill>
                <a:latin typeface="Verdana"/>
              </a:rPr>
              <a:t>StaticCallbacks(); InstanceCallbacks();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atic void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StaticCallbacks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Set setOfItems = new Set(5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setOfItems.ProcessItems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nul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);Console.WriteLine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setOfItems.ProcessItems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new 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Set.Feedback(App.FeedbackToConsole)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Console.WriteLine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setOfItems.ProcessItems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new 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Set.Feedback(App.FeedbackToMsgBox)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Console.WriteLine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et.Feedback fb = 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null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b 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+= new Set.Feedback(App.FeedbackToConsole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b 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+= new Set.Feedback(App.FeedbackToMsgBox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setOfItems.ProcessItems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fb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);Console.WriteLine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atic void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InstanceCallbacks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)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Set setOItems = new Set(5); App appobj = new App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9966"/>
                </a:solidFill>
                <a:latin typeface="Verdana"/>
              </a:rPr>
              <a:t>setOItems.ProcessItems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new 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9900"/>
                </a:solidFill>
                <a:latin typeface="Verdana"/>
              </a:rPr>
              <a:t>Set.Feedback(appobj.FeedbackToFile)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Console.WriteLine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277-EF47-4BD7-BDC4-4F77564B1D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Példa II.-App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atic void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FeedbackToConsol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Object value, Int32 item, Int32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numItems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Console.WriteLine("Processing item {0} of {1}: {2}."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tem, numItems, value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atic void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FeedbackToMsgBox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Object value, Int32 item, Int32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numItems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MessageBox.Show(String.Format("Processing item {0} of {1}: {2}.", item, numItems, value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void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FeedbackToFil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Object value, Int32 item, Int32 numItems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reamWriter sw = new StreamWriter("Status", true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w.WriteLine("Processing item {0} of {1}: {2}.",item,numItems,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value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w.Close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CAE-4B85-4130-8961-2160501FF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IL kó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ézzük meg az IL kódo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ff33"/>
                </a:solidFill>
                <a:latin typeface="Verdana"/>
              </a:rPr>
              <a:t>feedback( items[item], item+1, items.Length );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elyett:</a:t>
            </a:r>
            <a:br>
              <a:rPr sz="3200"/>
            </a:b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IL_001b:  callvirt   instance void Set/Feedback::Invoke(object</a:t>
            </a:r>
            <a:r>
              <a:rPr b="0" lang="hu-HU" sz="2800" spc="-1" strike="noStrike">
                <a:solidFill>
                  <a:srgbClr val="66ccff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 int32</a:t>
            </a:r>
            <a:r>
              <a:rPr b="0" lang="hu-HU" sz="2800" spc="-1" strike="noStrike">
                <a:solidFill>
                  <a:srgbClr val="66ccff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 int3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415-5AAD-4225-97F1-893C24139C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MulticastDelegate.Invok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cff33"/>
                </a:solidFill>
                <a:latin typeface="Verdana"/>
              </a:rPr>
              <a:t>Public Int32 virtual Invoke(Object value, Int32 item, Int32 numItem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if (_prev != null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_prev.Invoke( value, item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numItems 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return _target.methodPtr(value, 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item, numIte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2FB-D7B2-42FE-84E0-C9C592B3C7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4c3aa"/>
                </a:solidFill>
                <a:latin typeface="Arial"/>
              </a:rPr>
              <a:t>Teljes kontroll a delegátum lánc felet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ff33"/>
                </a:solidFill>
                <a:latin typeface="Verdana"/>
              </a:rPr>
              <a:t>public virtual Delegate[] GetInvocationList(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lónozza a lista elemeit egy tömbbe, de minden elem _prev-je nul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visszaadott tömbön végigjárhatunk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5B2-0325-4611-8337-FDFDCD2D5C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élda II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class Light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public String GetPosition()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return "Villany felkapcsolva!"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class Fan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public String Speed()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{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throw new Exception("Nagyon gyors!"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class Speaker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public String Volume()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return "Nagyon hangos!"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C22-DF70-437E-9008-A15BE9E573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Példa III-App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ccff33"/>
                </a:solidFill>
                <a:latin typeface="Verdana"/>
              </a:rPr>
              <a:t>delegate string GetStatus(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ccff33"/>
                </a:solidFill>
                <a:latin typeface="Verdana"/>
              </a:rPr>
              <a:t>static public void Main()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GetStatus getstatus = null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getstatus </a:t>
            </a:r>
            <a:r>
              <a:rPr b="0" lang="hu-HU" sz="2000" spc="-1" strike="noStrike">
                <a:solidFill>
                  <a:srgbClr val="66ccff"/>
                </a:solidFill>
                <a:latin typeface="Verdana"/>
              </a:rPr>
              <a:t>+=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new GetStatus( 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new Light().GetPosition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getstatus </a:t>
            </a:r>
            <a:r>
              <a:rPr b="0" lang="hu-HU" sz="2000" spc="-1" strike="noStrike">
                <a:solidFill>
                  <a:srgbClr val="66ccff"/>
                </a:solidFill>
                <a:latin typeface="Verdana"/>
              </a:rPr>
              <a:t>+=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new GetStatus( 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new Fan().Speed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getstatus </a:t>
            </a:r>
            <a:r>
              <a:rPr b="0" lang="hu-HU" sz="2000" spc="-1" strike="noStrike">
                <a:solidFill>
                  <a:srgbClr val="66ccff"/>
                </a:solidFill>
                <a:latin typeface="Verdana"/>
              </a:rPr>
              <a:t>+=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new GetStatus( </a:t>
            </a:r>
            <a:r>
              <a:rPr b="0" lang="hu-HU" sz="2000" spc="-1" strike="noStrike">
                <a:solidFill>
                  <a:srgbClr val="ff9966"/>
                </a:solidFill>
                <a:latin typeface="Verdana"/>
              </a:rPr>
              <a:t>new Speaker().Volume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Console.WriteLine(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3300"/>
                </a:solidFill>
                <a:latin typeface="Verdana"/>
              </a:rPr>
              <a:t>GetComponentStatusReport(getstatus)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 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024-E3FC-4307-863B-AFDD836924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Események kezelés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Nem kell vizuális felületnek lenn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Delegátumok segítségével valósíthatja meg a .N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6C8-3227-4EE7-BD01-EB87AD1E8B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Példa III-AppI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static String GetComponentStatusReport(GetStatus status)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f ( status == null) return null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tringBuilder sb = new StringBuilder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66ccff"/>
                </a:solidFill>
                <a:latin typeface="Verdana"/>
              </a:rPr>
              <a:t>Delegate[] arrayOfDelegates = status.GetInvocationList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foreach( GetStatus getstatus in arrayOfDelegates 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try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b.AppendFormat("{0}{1}{1}", getstatus() ,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Environment.NewLine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catch(Exception e)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Object o = getstatus.Targe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sb.AppendFormat("Hiba keletkezett: {1}{2}{0}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Hiba: {3}{0}{0}", Environment.NewLine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(o == null) ? "" : o.GetType() + "."),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getstatus.Method.Name, e.Message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return sb.ToString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809-4A82-4F4E-8DBD-B202821909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4c3aa"/>
                </a:solidFill>
                <a:latin typeface="Arial"/>
              </a:rPr>
              <a:t>Delegátumok</a:t>
            </a:r>
            <a:br>
              <a:rPr sz="4000"/>
            </a:br>
            <a:r>
              <a:rPr b="0" lang="hu-HU" sz="3200" spc="-1" strike="noStrike">
                <a:solidFill>
                  <a:srgbClr val="c4c3aa"/>
                </a:solidFill>
                <a:latin typeface="Arial"/>
              </a:rPr>
              <a:t>Típusos fv. pointer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Biztonságos kódkészítés miatt tiltott a pointer aritmetika a C#-b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Fv. Pointer helyett delegát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lakja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delegate típus nev(tipus param_nev,.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Ha megadjuk a paraméter típusát, akkor a paraméter nevét is meg kell adni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3A9-3D35-4CE0-9A81-B2AF1DA25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Delegátum II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Nem csak a fv. címe, de visszatérési érték + paraméter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mire hivatkozik, lehe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Statikus f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Példány f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E6F-025D-4DE5-A197-F79B7C2C4C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Verdana"/>
              </a:rPr>
              <a:t>delegate void MyDelegate(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public class MyClass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public void InstanceMethod(){Console.WriteLine("A message from the instance method.");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   </a:t>
            </a:r>
            <a:r>
              <a:rPr b="0" lang="hu-HU" sz="1800" spc="-1" strike="noStrike">
                <a:solidFill>
                  <a:srgbClr val="66ccff"/>
                </a:solidFill>
                <a:latin typeface="Verdana"/>
              </a:rPr>
              <a:t>static public void StaticMethod(){Console.WriteLine("A message from the static method.");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public class MainClass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static public void Main(){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MyClass p = new MyClass(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MyDelegate d = </a:t>
            </a:r>
            <a:r>
              <a:rPr b="0" lang="hu-HU" sz="1800" spc="-1" strike="noStrike">
                <a:solidFill>
                  <a:srgbClr val="ff3300"/>
                </a:solidFill>
                <a:latin typeface="Verdana"/>
              </a:rPr>
              <a:t>new MyDelegate(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800" spc="-1" strike="noStrike">
                <a:solidFill>
                  <a:srgbClr val="ccff33"/>
                </a:solidFill>
                <a:latin typeface="Verdana"/>
              </a:rPr>
              <a:t>p.InstanceMethod</a:t>
            </a:r>
            <a:r>
              <a:rPr b="0" lang="hu-HU" sz="1800" spc="-1" strike="noStrike">
                <a:solidFill>
                  <a:srgbClr val="ff3300"/>
                </a:solidFill>
                <a:latin typeface="Verdana"/>
              </a:rPr>
              <a:t> )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; </a:t>
            </a:r>
            <a:r>
              <a:rPr b="0" lang="hu-HU" sz="1800" spc="-1" strike="noStrike">
                <a:solidFill>
                  <a:srgbClr val="cc9900"/>
                </a:solidFill>
                <a:latin typeface="Verdana"/>
              </a:rPr>
              <a:t>d(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d = </a:t>
            </a:r>
            <a:r>
              <a:rPr b="0" lang="hu-HU" sz="1800" spc="-1" strike="noStrike">
                <a:solidFill>
                  <a:srgbClr val="ff3300"/>
                </a:solidFill>
                <a:latin typeface="Verdana"/>
              </a:rPr>
              <a:t>new MyDelegate(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u-HU" sz="1800" spc="-1" strike="noStrike">
                <a:solidFill>
                  <a:srgbClr val="ccff33"/>
                </a:solidFill>
                <a:latin typeface="Verdana"/>
              </a:rPr>
              <a:t>MyClass.StaticMethod</a:t>
            </a:r>
            <a:r>
              <a:rPr b="0" lang="hu-HU" sz="1800" spc="-1" strike="noStrike">
                <a:solidFill>
                  <a:srgbClr val="ff3300"/>
                </a:solidFill>
                <a:latin typeface="Verdana"/>
              </a:rPr>
              <a:t> )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; </a:t>
            </a:r>
            <a:r>
              <a:rPr b="0" lang="hu-HU" sz="1800" spc="-1" strike="noStrike">
                <a:solidFill>
                  <a:srgbClr val="cc9900"/>
                </a:solidFill>
                <a:latin typeface="Verdana"/>
              </a:rPr>
              <a:t>d(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4C7-934D-45D7-BB23-D1DB1591D0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Részlet a Példa il kódjábó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.class private auto ansi sealed MyDelegate extends [mscorlib]System.MulticastDelegate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.method public hidebysig specialname rtspecialnam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instance void  </a:t>
            </a:r>
            <a:r>
              <a:rPr b="1" lang="hu-HU" sz="1600" spc="-1" strike="noStrike">
                <a:solidFill>
                  <a:srgbClr val="ffffff"/>
                </a:solidFill>
                <a:latin typeface="Verdana"/>
              </a:rPr>
              <a:t>.ctor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object 'object'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                               </a:t>
            </a:r>
            <a:r>
              <a:rPr b="0" lang="hu-HU" sz="1600" spc="-1" strike="noStrike">
                <a:solidFill>
                  <a:srgbClr val="ccff33"/>
                </a:solidFill>
                <a:latin typeface="Verdana"/>
              </a:rPr>
              <a:t>native int 'method‘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) runtime manag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{  } // end of method MyDelegate::.c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.method public hidebysig virtual instance void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          </a:t>
            </a:r>
            <a:r>
              <a:rPr b="1" lang="hu-HU" sz="1600" spc="-1" strike="noStrike">
                <a:solidFill>
                  <a:srgbClr val="ff3300"/>
                </a:solidFill>
                <a:latin typeface="Verdana"/>
              </a:rPr>
              <a:t>Invoke</a:t>
            </a: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() runtime managed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{  } // end of method MyDelegate::Invok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.method public hidebysig newslot virtual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          </a:t>
            </a: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instance class [mscorlib]System.IAsyncResult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          </a:t>
            </a:r>
            <a:r>
              <a:rPr b="1" lang="hu-HU" sz="1600" spc="-1" strike="noStrike">
                <a:solidFill>
                  <a:srgbClr val="ff3300"/>
                </a:solidFill>
                <a:latin typeface="Verdana"/>
              </a:rPr>
              <a:t>BeginInvoke</a:t>
            </a: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(class [mscorlib]System.AsyncCallback callback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                      </a:t>
            </a: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object 'object') runtime manag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{  } // end of method MyDelegate::BeginInvok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.method public hidebysig newslot virtual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          </a:t>
            </a: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instance void  </a:t>
            </a:r>
            <a:r>
              <a:rPr b="1" lang="hu-HU" sz="1600" spc="-1" strike="noStrike">
                <a:solidFill>
                  <a:srgbClr val="ff3300"/>
                </a:solidFill>
                <a:latin typeface="Verdana"/>
              </a:rPr>
              <a:t>EndInvoke</a:t>
            </a:r>
            <a:r>
              <a:rPr b="0" lang="hu-HU" sz="1600" spc="-1" strike="noStrike">
                <a:solidFill>
                  <a:srgbClr val="ff3300"/>
                </a:solidFill>
                <a:latin typeface="Verdana"/>
              </a:rPr>
              <a:t>(class [mscorlib]System.IAsyncResult result) runtime managed</a:t>
            </a: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 {  } // end of method MyDelegate::EndInvok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Verdana"/>
              </a:rPr>
              <a:t>} // end of class MyDeleg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FA8-A726-4BEC-8CB7-377819B6A4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4c3aa"/>
                </a:solidFill>
                <a:latin typeface="Arial"/>
              </a:rPr>
              <a:t>MulticastDelegate</a:t>
            </a:r>
            <a:br>
              <a:rPr sz="4000"/>
            </a:br>
            <a:r>
              <a:rPr b="0" lang="hu-HU" sz="3200" spc="-1" strike="noStrike">
                <a:solidFill>
                  <a:srgbClr val="c4c3aa"/>
                </a:solidFill>
                <a:latin typeface="Arial"/>
              </a:rPr>
              <a:t>minden delegátum őse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_target (System.Object)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z objektumra referál, amely a call back fv.-hez kapcsolódik (csak példány fv. esetén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_methodPtr (System.Int32)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gész szám, amellyel a CLR azonosítja a fv.-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_prev (System.MulticastDelegate)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láncolt lista előző elemére mut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17D-49B2-4C36-8675-F35A0C61B8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MulticastDelegate II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ét fontos </a:t>
            </a:r>
            <a:r>
              <a:rPr b="0" i="1" lang="hu-HU" sz="3200" spc="-1" strike="noStrike">
                <a:solidFill>
                  <a:srgbClr val="ffffff"/>
                </a:solidFill>
                <a:latin typeface="Verdana"/>
              </a:rPr>
              <a:t>tulajdonság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Target-&gt;_targ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Verdana"/>
              </a:rPr>
              <a:t>Method-&gt;_methodPt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z Invoke fv. nem hívható meg közvetlenül (VB-ben viszont kötelező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Equals újradefiniált, igaz, ha _target és _methodPtr azonosakra referá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0B0-C5B2-4FDB-84CA-06EC1BDB8C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4c3aa"/>
                </a:solidFill>
                <a:latin typeface="Arial"/>
              </a:rPr>
              <a:t>Delegátum lánc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A delegátum önmagában is hasznos, de láncolt listára fűzve hatékonyabb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_prev az előző elemre. Kezdetben </a:t>
            </a:r>
            <a:r>
              <a:rPr b="0" i="1" lang="hu-HU" sz="3200" spc="-1" strike="noStrike">
                <a:solidFill>
                  <a:srgbClr val="ffffff"/>
                </a:solidFill>
                <a:latin typeface="Verdana"/>
              </a:rPr>
              <a:t>null, </a:t>
            </a: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ésőbb áll be egy érvényes objektumr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B8C-8E74-4388-8448-A86D92680D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14:45:38Z</dcterms:created>
  <dc:creator>k</dc:creator>
  <dc:description/>
  <dc:language>en-US</dc:language>
  <cp:lastModifiedBy>KZ</cp:lastModifiedBy>
  <dcterms:modified xsi:type="dcterms:W3CDTF">2005-10-07T21:09:44Z</dcterms:modified>
  <cp:revision>10</cp:revision>
  <dc:subject/>
  <dc:title>Eseményrendszer, delegátumok C#-ban</dc:title>
</cp:coreProperties>
</file>