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2A7-E8DE-4A41-A93A-7CC7A8CD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8BA-B68A-4864-BBDB-391DB865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0D8-706A-4C2B-96EE-9C10B73F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72E-7F8E-44B8-A2B2-15BCE8AC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8979-B3C9-4897-8F77-F0FE9D64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B44BA-4F4E-40B4-8C1E-DC251B9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774DE-C87E-47E9-A99F-DF4FEFB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BF53A-446F-4712-9E55-C9F4665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13EF5-CD79-49C7-BBE9-2056257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C2FE-2CE2-4A54-B82A-F2FEB45A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44B8A-61CE-47A3-A0CB-38B9603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0F2-FBF2-4A6E-ADE2-BB4F089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60F09-A148-4B4D-98DA-A801506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0EEC-BBBB-453F-823D-244F320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EA80-6455-422B-B496-B9D3645C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19BE0-EC6B-4026-96B7-B4B0EE75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C0BCF-70F4-4510-8FB3-9C1EEDD3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A9F-F8D0-4572-9E71-46907991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D87-745A-4F84-B044-354B1972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808-5F3A-40D4-8585-B09B8A5D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4FC-E5BF-4665-88D3-DDF0C410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1BB-64FB-4D44-8C48-0A1FDD0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6F9-E039-499B-AD4E-FF1EE63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173-BF3C-4E5E-B3A1-6765F11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B693-6BD9-4A06-8FDD-324BF9A5D8DF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197840" y="6116760"/>
          <a:ext cx="105876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7840" y="6116760"/>
                    <a:ext cx="1058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5E2-DDA7-4D39-8B78-27D4CFB94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197840" y="6116760"/>
          <a:ext cx="105876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7840" y="6116760"/>
                    <a:ext cx="10587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sdn.microsoft.com/net" TargetMode="External"/><Relationship Id="rId3" Type="http://schemas.openxmlformats.org/officeDocument/2006/relationships/hyperlink" Target="http://msdn.microsoft.com/net" TargetMode="External"/><Relationship Id="rId4" Type="http://schemas.openxmlformats.org/officeDocument/2006/relationships/hyperlink" Target="http://msdn.microsoft.com/ne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.NET CL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zsán Zolt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Általános Informatikai Tanszé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kolci Egye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487CF-AEB2-4D50-B741-E2FA947281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gyszerű pél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static void Main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onsole.WriteLine(”Hello”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Console.WriteLine(”Bello”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E45-AD62-4D07-AE19-C9B32D4128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IT fordítás men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előtt a Main lefutna a CLR az összes hivatkozást felderí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felderített hivatkozásokból egy belső struktúrát épít f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inden fv-hez egy bejegyzé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z a bejegyzés tartalmazza fv. kezdőcímé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égül beállítja a struktúra elemeit egy CLR-en belüli fv-re, nevezzük JITCopile-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2A4-7158-4AA6-B3BC-7E731CBCD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IT fordítás menete 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ikor a WriteLine fv. először meghívódik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JITCompile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ívódik meg helyett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JITCompile átnézi a metadatákat a fv. IL kódját keres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JITCompile ellenőrzi, majd lefordítja az IL-t nativ-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inamikusan lefoglal memóriát, majd rámásolja a lefordított nativ kód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B1B-CFF6-4F9A-937B-E608252F5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IT fordítás menete I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isszatér, és átírja a struktúra megfelelő elemének tartalmát, hogy az a lefordított natív kódra muta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égül meghívja a kód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2. alkalommal csak fv hívás, mert már lefordítot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D14-4B27-4F7E-BE7D-4D64E81220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öztes kód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, MSIL, 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1-4 byte-os utasítás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b 260 db utasít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bjektum orientált (newobj, callvi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ssembly (load, push, pop, c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bsztra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tack alapú (box, unbo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ivétel kezelést haszná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ahoma"/>
              </a:rPr>
              <a:t>A CLR minden funkciója elérhető segítségéve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1E0-48A9-411F-967D-FA6DB7D335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59280" y="3645000"/>
            <a:ext cx="2519280" cy="253116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kó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ív kó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őforr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R menedzselt modul tartal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111480"/>
            <a:ext cx="2519280" cy="58140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2565360"/>
            <a:ext cx="251928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R f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989000"/>
            <a:ext cx="25192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f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269-ED9B-454C-B708-18891B7B6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PE (portable executable) fej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asonlít a COFF-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artalmazza a fájl típusá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dőpecsé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k natív CPU kódot tartalmazó modul esetén plusz információk a kódr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ED6-3F35-4CAB-932D-387886A47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R fej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ükséges CLR verziószá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leg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etodDef metadata token a belépési ponthoz (Main fv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elye, mérete, a modu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ETADATA-já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rőforrások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rős névn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yébb flegekn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8CF-67B3-4873-8AE4-0463BC18D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Meta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nden menedzselt modul tartalmaz metadata táblák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2 fajtája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írják a típusokat, tagokat, amelyeket ugyanezen forráskód tartalma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írják azokat a típusokat, tagokat, amelyekre ez a forráskód referál, hivatkoz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etadata csak a fájlban tárolódha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58C-1763-41C5-8F5D-A44E85A438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embly - szerelvé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het exe vagy d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ogikai, fizikai egysége a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újrahasznosíthat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elepíthe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verzionálhat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ompon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Önleíró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 minden információ tárol, ami szükséges a futásához. Semmilyen plusz info nem szükség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612-4A30-4647-ACA4-F2B0D8F521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Common Language Runti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zös nyelvi futtató rends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icrosoft üzleti implementáció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ommon Language Infrastruture (specifikáció), környeze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étrehoz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jleszt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uttat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SCLI (Ro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280-2879-458E-854B-5D50728F3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zerelvény 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öbb modult is tartalmaz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Önálló biztonsági egy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Önálló típus egy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gkisebb verzionálható egy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j-fej melletti futást támogató egysé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ódban  im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ferencia hatáskö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9BA-7329-4C4A-B7E5-577ACE1332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öbb modul – egy szerelvény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kor szükséges, érdem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pusokat tudjuk szétválasztan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gy a felhasználó lépésenként le tudja tölte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őforrásokat, adatokat mellékelünk a szerelvényh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öbb programozási nyelven készül az alkalmaz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603-3D71-49D2-9C62-F13E3DA491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öbb modult tartalmazó szerelvé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4608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ajnos a VS.NET nem ismeri. (Kézzel ke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odulok PE-je nem tartalmaz manifest-et, ezeket a szerelvény tárolj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odult csc esetén </a:t>
            </a:r>
            <a:r>
              <a:rPr b="0" i="1" lang="hu-HU" sz="3200" spc="-1" strike="noStrike">
                <a:solidFill>
                  <a:srgbClr val="33cccc"/>
                </a:solidFill>
                <a:latin typeface="Tahoma"/>
              </a:rPr>
              <a:t>/t[arget]:module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araméterrel kell fordítani!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eredménye </a:t>
            </a:r>
            <a:r>
              <a:rPr b="0" i="1" lang="hu-HU" sz="3200" spc="-1" strike="noStrike">
                <a:solidFill>
                  <a:srgbClr val="33cccc"/>
                </a:solidFill>
                <a:latin typeface="Tahoma"/>
              </a:rPr>
              <a:t>xxx.netmodule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les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 szerelvényhez hozzá kell adni a modul(oka)t a </a:t>
            </a:r>
            <a:r>
              <a:rPr b="0" i="1" lang="hu-HU" sz="3200" spc="-1" strike="noStrike">
                <a:solidFill>
                  <a:srgbClr val="33cccc"/>
                </a:solidFill>
                <a:latin typeface="Tahoma"/>
              </a:rPr>
              <a:t>/addmodule: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apcsolóval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agy AssemblyLinker al.exe-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594-1A54-4ED3-9EF0-3AED7E3C0A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Assembly Linker al.ex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rőforrás hozzáillesztése a szerelvényhez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beágyazás </a:t>
            </a:r>
            <a:r>
              <a:rPr b="0" i="1" lang="hu-HU" sz="2800" spc="-1" strike="noStrike">
                <a:solidFill>
                  <a:srgbClr val="33cccc"/>
                </a:solidFill>
                <a:latin typeface="Tahoma"/>
              </a:rPr>
              <a:t>/embed[resourc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inkelés </a:t>
            </a:r>
            <a:r>
              <a:rPr b="0" i="1" lang="hu-HU" sz="2800" spc="-1" strike="noStrike">
                <a:solidFill>
                  <a:srgbClr val="33cccc"/>
                </a:solidFill>
                <a:latin typeface="Tahoma"/>
              </a:rPr>
              <a:t>/link[resourc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32 bites erőforrás hozzáillesztése</a:t>
            </a:r>
            <a:r>
              <a:rPr b="0" lang="hu-HU" sz="32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i="1" lang="hu-HU" sz="3200" spc="-1" strike="noStrike">
                <a:solidFill>
                  <a:srgbClr val="33cccc"/>
                </a:solidFill>
                <a:latin typeface="Tahoma"/>
              </a:rPr>
              <a:t>/win32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32 bites ikon</a:t>
            </a:r>
            <a:r>
              <a:rPr b="0" lang="hu-HU" sz="32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i="1" lang="hu-HU" sz="3200" spc="-1" strike="noStrike">
                <a:solidFill>
                  <a:srgbClr val="33cccc"/>
                </a:solidFill>
                <a:latin typeface="Tahoma"/>
              </a:rPr>
              <a:t>/win32ic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659-9A28-44C9-8A4D-9E2C208F5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AssemblyInfo.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VS.NET automatikusan létrehoz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ttribútumokat lehet benne definiálni, melyek a szerelvényre vonatkoz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émelyiket lehet a al.exe-ből állíta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l.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assembly:AssemblyVersion(”3.0.0.0”)]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.exe - /version paramé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BA0-1305-4C1E-BB6D-1240412668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embly telepíté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ima másolá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rivát telepítés, ha a szerelvény bárhová felmásoljuk, a használó másik szerelvény mellé., ilyenkor más szerelvények nem érik 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kalmazás leszedése (uninstall) sima törl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 kell regisztry-t, ini fájlokat módosíta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D72-70AA-4F01-B699-75AA3AC476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zerelvények konfiguráci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XML fájl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uttatható szerelvény személyes konfigurációja, vele azonos jegyzékben: </a:t>
            </a:r>
            <a:r>
              <a:rPr b="0" lang="hu-HU" sz="2800" spc="-1" strike="noStrike">
                <a:solidFill>
                  <a:srgbClr val="33cccc"/>
                </a:solidFill>
                <a:latin typeface="Tahoma"/>
              </a:rPr>
              <a:t>xxx.exe.conf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SP.NET Web Forms, XML Web szervízek esetén a virtuális gyökerében </a:t>
            </a:r>
            <a:r>
              <a:rPr b="0" lang="hu-HU" sz="2800" spc="-1" strike="noStrike">
                <a:solidFill>
                  <a:srgbClr val="33cccc"/>
                </a:solidFill>
                <a:latin typeface="Tahoma"/>
              </a:rPr>
              <a:t>Web.config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lehet sajátja is mellette </a:t>
            </a:r>
            <a:r>
              <a:rPr b="0" lang="hu-HU" sz="2800" spc="-1" strike="noStrike">
                <a:solidFill>
                  <a:srgbClr val="33cccc"/>
                </a:solidFill>
                <a:latin typeface="Tahoma"/>
              </a:rPr>
              <a:t>Web.conf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TML oldal link tag-je </a:t>
            </a:r>
            <a:br>
              <a:rPr sz="2800"/>
            </a:br>
            <a:r>
              <a:rPr b="0" lang="hu-HU" sz="2800" spc="-1" strike="noStrike">
                <a:solidFill>
                  <a:srgbClr val="33cccc"/>
                </a:solidFill>
                <a:latin typeface="Tahoma"/>
              </a:rPr>
              <a:t>&lt;LINK REL=”Configuration” HREF=url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551-1513-46B6-9EF5-EA4C05F0E2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ális konfiguráci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ülírja az alkalmazás beállítása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elye: </a:t>
            </a:r>
            <a:r>
              <a:rPr b="0" lang="hu-HU" sz="3200" spc="-1" strike="noStrike">
                <a:solidFill>
                  <a:srgbClr val="33cccc"/>
                </a:solidFill>
                <a:latin typeface="Tahoma"/>
              </a:rPr>
              <a:t>%SystemRoot%\Microsoft.NET\</a:t>
            </a:r>
            <a:br>
              <a:rPr sz="3200"/>
            </a:br>
            <a:r>
              <a:rPr b="0" lang="hu-HU" sz="3200" spc="-1" strike="noStrike">
                <a:solidFill>
                  <a:srgbClr val="33cccc"/>
                </a:solidFill>
                <a:latin typeface="Tahoma"/>
              </a:rPr>
              <a:t>Framework\vXXX\CONFIG\machine.config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, ahol XXX a runtime verziója, pl.: 1.1.43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Grafikusan a Controll Panel aló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D08-9A64-43B5-9F70-F375E2B640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.NET Fra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%windir%\system32 jegyzékben kell lennie egy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MSCorEE.dll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ájl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öbb verzió is fent lehet egyidejűle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lyik a beállított?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KEY_LOCAL_MACHINE\SOFTWARE\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icrosoft\.NETFramework\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1C9-7D97-44AA-877E-D9043F4101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651280" y="2391840"/>
            <a:ext cx="3166920" cy="446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mtartom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50920" y="764640"/>
            <a:ext cx="8137440" cy="6021720"/>
            <a:chOff x="250920" y="764640"/>
            <a:chExt cx="8137440" cy="6021720"/>
          </a:xfrm>
        </p:grpSpPr>
        <p:sp>
          <p:nvSpPr>
            <p:cNvPr id="153" name=""/>
            <p:cNvSpPr/>
            <p:nvPr/>
          </p:nvSpPr>
          <p:spPr>
            <a:xfrm flipH="1">
              <a:off x="394920" y="2951640"/>
              <a:ext cx="5977080" cy="383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95280" y="764640"/>
              <a:ext cx="6121440" cy="159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920" y="933480"/>
              <a:ext cx="3816360" cy="585288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Tahoma"/>
                </a:rPr>
                <a:t>Menedzselt ex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11640" y="2783160"/>
              <a:ext cx="4176720" cy="378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211640" y="764640"/>
              <a:ext cx="4176720" cy="159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nedzselt exe betölti és inicializálja a CLR-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557360"/>
            <a:ext cx="3601800" cy="3993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 f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4880" y="3213000"/>
            <a:ext cx="1855440" cy="3682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nedzselt 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7440" y="5950080"/>
            <a:ext cx="1553760" cy="3682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SCorEE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8360" y="2278080"/>
            <a:ext cx="3168720" cy="1373760"/>
            <a:chOff x="468360" y="2278080"/>
            <a:chExt cx="3168720" cy="1373760"/>
          </a:xfrm>
        </p:grpSpPr>
        <p:sp>
          <p:nvSpPr>
            <p:cNvPr id="163" name=""/>
            <p:cNvSpPr/>
            <p:nvPr/>
          </p:nvSpPr>
          <p:spPr>
            <a:xfrm>
              <a:off x="468360" y="2278080"/>
              <a:ext cx="3168720" cy="1373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.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6760" y="2925720"/>
              <a:ext cx="2131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Tahoma"/>
                </a:rPr>
                <a:t>JMP _CorExe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68360" y="3933720"/>
            <a:ext cx="3240000" cy="1373760"/>
            <a:chOff x="468360" y="3933720"/>
            <a:chExt cx="3240000" cy="1373760"/>
          </a:xfrm>
        </p:grpSpPr>
        <p:sp>
          <p:nvSpPr>
            <p:cNvPr id="166" name=""/>
            <p:cNvSpPr/>
            <p:nvPr/>
          </p:nvSpPr>
          <p:spPr>
            <a:xfrm>
              <a:off x="468360" y="3933720"/>
              <a:ext cx="3240000" cy="1373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.ida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080" y="4581360"/>
              <a:ext cx="2768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Tahoma"/>
                </a:rPr>
                <a:t>DLL: MSCorLib.d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Tahoma"/>
                </a:rPr>
                <a:t>Function: _CorExe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8" name=""/>
          <p:cNvCxnSpPr>
            <a:stCxn id="160" idx="1"/>
            <a:endCxn id="164" idx="0"/>
          </p:cNvCxnSpPr>
          <p:nvPr/>
        </p:nvCxnSpPr>
        <p:spPr>
          <a:xfrm rot="10800000">
            <a:off x="1872360" y="2925000"/>
            <a:ext cx="4500000" cy="472320"/>
          </a:xfrm>
          <a:prstGeom prst="curvedConnector5">
            <a:avLst>
              <a:gd name="adj1" fmla="val 37611"/>
              <a:gd name="adj2" fmla="val 74218"/>
              <a:gd name="adj3" fmla="val 37611"/>
            </a:avLst>
          </a:prstGeom>
          <a:ln w="507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4" idx="2"/>
            <a:endCxn id="161" idx="0"/>
          </p:cNvCxnSpPr>
          <p:nvPr/>
        </p:nvCxnSpPr>
        <p:spPr>
          <a:xfrm flipH="1" rot="16200000">
            <a:off x="3255120" y="1910160"/>
            <a:ext cx="2657880" cy="5422320"/>
          </a:xfrm>
          <a:prstGeom prst="curvedConnector5">
            <a:avLst>
              <a:gd name="adj1" fmla="val 50000"/>
              <a:gd name="adj2" fmla="val 49996"/>
              <a:gd name="adj3" fmla="val 50000"/>
            </a:avLst>
          </a:prstGeom>
          <a:ln w="507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170" name=""/>
          <p:cNvGrpSpPr/>
          <p:nvPr/>
        </p:nvGrpSpPr>
        <p:grpSpPr>
          <a:xfrm>
            <a:off x="6516720" y="549360"/>
            <a:ext cx="1511280" cy="2664000"/>
            <a:chOff x="6516720" y="549360"/>
            <a:chExt cx="1511280" cy="2664000"/>
          </a:xfrm>
        </p:grpSpPr>
        <p:grpSp>
          <p:nvGrpSpPr>
            <p:cNvPr id="171" name=""/>
            <p:cNvGrpSpPr/>
            <p:nvPr/>
          </p:nvGrpSpPr>
          <p:grpSpPr>
            <a:xfrm>
              <a:off x="6516720" y="549360"/>
              <a:ext cx="1511280" cy="718920"/>
              <a:chOff x="6516720" y="549360"/>
              <a:chExt cx="1511280" cy="718920"/>
            </a:xfrm>
          </p:grpSpPr>
          <p:sp>
            <p:nvSpPr>
              <p:cNvPr id="172" name=""/>
              <p:cNvSpPr/>
              <p:nvPr/>
            </p:nvSpPr>
            <p:spPr>
              <a:xfrm>
                <a:off x="6516720" y="549360"/>
                <a:ext cx="1511280" cy="7189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05440" y="765000"/>
                <a:ext cx="94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74" name=""/>
            <p:cNvCxnSpPr>
              <a:stCxn id="172" idx="4"/>
              <a:endCxn id="160" idx="0"/>
            </p:cNvCxnSpPr>
            <p:nvPr/>
          </p:nvCxnSpPr>
          <p:spPr>
            <a:xfrm>
              <a:off x="7272360" y="1268280"/>
              <a:ext cx="30600" cy="1945440"/>
            </a:xfrm>
            <a:prstGeom prst="straightConnector1">
              <a:avLst/>
            </a:prstGeom>
            <a:ln w="50760">
              <a:solidFill>
                <a:srgbClr val="ffffff"/>
              </a:solidFill>
              <a:miter/>
              <a:tailEnd len="lg" type="stealth" w="lg"/>
            </a:ln>
          </p:spPr>
        </p:cxnSp>
      </p:grpSp>
      <p:sp>
        <p:nvSpPr>
          <p:cNvPr id="175" name=""/>
          <p:cNvSpPr/>
          <p:nvPr/>
        </p:nvSpPr>
        <p:spPr>
          <a:xfrm>
            <a:off x="250920" y="5791320"/>
            <a:ext cx="3601800" cy="106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R f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947-21C6-4496-B646-A61C2AE640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ő fela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üggetlenül hardvertől, szoftvertő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ügyelt futtatása a menedzselt kód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T fordít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ztonsági ellenőrz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F07-1626-454C-AF6E-BD036EDC2A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olytatá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MSCorEE megvizsgálja CLR fejet, a Main metódus token lekérdez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Megvizsgálja Main metadata-ját, lekérdezi az IL helyét az EXE-be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Lefordítja IL kódot natív CPU kód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A Main fv. kezdő címére ugri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32C-24A2-44FE-931C-1510D3BFCB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 kérés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 program, dinamikus, oszto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osztok futtatni szeretnéne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ávo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Éppen letöltött, nem ellenőrzött, hely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ely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ob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ód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abad neki? (vírus, krekker, T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354-F08E-494C-AF8D-FD94569EA9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goldás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szerű: engedélyezett a kód, vagy nem (egész kó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Java: homokzsákba (sandbox) letölthetjük a távoli kódokat, de nincs interakció a helyi erőforrásokk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.NET típus biz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erelvény ellenőrzése (manif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ípusok ellenőrzése a szerelvényb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CEA-0589-4AC0-89E9-5D6EDD5F5B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zerelvény ellenőrzé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anifest integritásának ellenőrzésén alap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okenek hivatkozásának ellenőrzése (használt táblá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oken sztring tábla hivatkozások ellenőrzé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lenőrzé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mikor a GAC-ba betöltőd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mikor a diszkről beolvassa a  rends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D79-0226-4E7B-9001-E81BE0219E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ípus ellenőrzé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 az előző ellenőrzés sikeres volt, akkor következ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Óva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m menedzselt kód teljesen megbízott, nem ellenőrz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49D-FD37-4ED6-A800-6D68EF6136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L kód kategóriá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llegális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JIT nem tudja natív kódra fordítani, érvénytelen utasítás(oka)t tartalmaz. Pl.: ugró utasítások rossz hely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egális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JIT lefordítja nat. Kódra, de használ nem típus biztos lehetőségeket. Pl.: pointer aritmetikák adattagok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ípus biz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lenőrizhet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57C-2CD1-4C15-83C9-8CAA464D87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404640"/>
            <a:ext cx="6175440" cy="6175440"/>
          </a:xfrm>
          <a:prstGeom prst="ellipse">
            <a:avLst/>
          </a:prstGeom>
          <a:solidFill>
            <a:srgbClr val="00cc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981000"/>
            <a:ext cx="3744720" cy="3745080"/>
          </a:xfrm>
          <a:prstGeom prst="ellipse">
            <a:avLst/>
          </a:prstGeom>
          <a:solidFill>
            <a:srgbClr val="ff00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052640"/>
            <a:ext cx="3745080" cy="3744720"/>
          </a:xfrm>
          <a:prstGeom prst="ellipse">
            <a:avLst/>
          </a:prstGeom>
          <a:solidFill>
            <a:srgbClr val="66cc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2565360"/>
            <a:ext cx="3745080" cy="3745080"/>
          </a:xfrm>
          <a:prstGeom prst="ellipse">
            <a:avLst/>
          </a:prstGeom>
          <a:solidFill>
            <a:srgbClr val="0000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2637000"/>
            <a:ext cx="1368360" cy="1368360"/>
          </a:xfrm>
          <a:prstGeom prst="ellipse">
            <a:avLst/>
          </a:prstGeom>
          <a:solidFill>
            <a:srgbClr val="000000">
              <a:alpha val="6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62840" y="18144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3600" y="1743120"/>
            <a:ext cx="14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Vi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97440" y="508464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8280" y="306864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6400" y="476280"/>
            <a:ext cx="18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R/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23A-C377-4B3B-90E7-9D50E81D11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LS kompatibilitás az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[assembly:CLSCompliant(true)]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ttribútummal kapcsolható 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ublic UInt32 ABC() {return 0;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ublic void abc(){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AC1-BDD6-4161-B43C-7617D56F26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S 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előző kód a CLS kompatibilitás bekapcsolása nélkül hibajelzés nélkül fut,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e ha bekapcsoljuk, akk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iba1 : előjel nélküli egész integer nem kompatibi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iba2 : a CLS nem case sensitive, így az ABC és az abc ugyanaz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B0F-4684-430F-ADD5-244C8A4FA4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Profájlo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nyvtárak (library) készle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tandard profájl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ernel – minimálisan ezt implementálni k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ípusokat implementáló osztály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lusz osztályok a fordítók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ompact – kiegészítő könyvtárak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lusz funkció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FB3-F493-4742-9060-3D51EB9727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gítségek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j technológiá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lkalmazás tartományok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Application Domain)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rocessz – alprocess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ehetőségek ugyanazok, de a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lprocessz (pl.: plugin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ogikai processz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lacsony költség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Szerelvények (assembly) dll, de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ultúra, és több verz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D85-47C9-4D6A-82EB-19C5D2CC9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27280" y="1628640"/>
            <a:ext cx="6068880" cy="484884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Compact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ahoma"/>
              </a:rPr>
              <a:t>Sztenderd CLI struktú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836880" y="2217600"/>
            <a:ext cx="4391280" cy="26542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Kernel profáj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4680" y="2852640"/>
            <a:ext cx="292536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Base Class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8280" y="3573360"/>
            <a:ext cx="3832200" cy="8254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Runtime Infrastru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39840" y="5445000"/>
            <a:ext cx="12751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X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5280" y="5445000"/>
            <a:ext cx="159804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Net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68400" y="5445000"/>
            <a:ext cx="1802160" cy="8254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Refl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36480" y="1557360"/>
            <a:ext cx="500760" cy="5031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i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8480" y="1773360"/>
            <a:ext cx="500760" cy="44830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i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340-E53C-4DF0-806E-845FEBFFD1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rodalomjegyzé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sdn.microsoft.com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/ne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FBC-32F8-47BA-A963-50C7E43C61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kalmazás tartomá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5680" y="2114640"/>
          <a:ext cx="6091200" cy="381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5680" y="2114640"/>
                    <a:ext cx="609120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309-01D1-47BB-AE00-C9FF5DDCF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rtuális futtató környezet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60 alakult ki az el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Lassú hardver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ezdetleges rends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990-es évek Java Virtual Machine (JV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léggé” gyors hardverek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jól szervezett technológiák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sztott rendszerek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épszerű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pretá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70D-8208-4B3E-AD67-B0966A162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rtuális futtató környezetek 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2000 .N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bsztrakt futtató környez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em interpretá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JIT fordít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elepítéskor fordítás (NGEN.ex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yelv függetl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sztott rendszer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2E0-ADD4-4970-8845-840EB9856D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00000" y="404640"/>
            <a:ext cx="7229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nedzselt alkalmazás éle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1557360"/>
            <a:ext cx="8572320" cy="53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Forráskód (20 nyel valamelyike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2349360"/>
            <a:ext cx="56991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MSIL kód + meta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3213000"/>
            <a:ext cx="4076640" cy="1150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 Telepítésk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GEN.ex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492800" y="3213000"/>
            <a:ext cx="4651200" cy="187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b Közvetl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sználat előt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IT fordít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5300640"/>
            <a:ext cx="76341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CLR betölti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ttatja az alkalmazá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C57-9202-4237-BB53-AC305234B2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IT fordítá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tódusonként fordí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a nem hívunk meg egy fv.-t, akkor nem is fordítja 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32 byte-ig inline fv., felette fv. hívá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18B-9D2D-4A51-8EC2-7237016AB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3:18:28Z</dcterms:created>
  <dc:creator>Krizsu</dc:creator>
  <dc:description/>
  <dc:language>en-US</dc:language>
  <cp:lastModifiedBy>krz</cp:lastModifiedBy>
  <dcterms:modified xsi:type="dcterms:W3CDTF">2009-03-09T19:28:03Z</dcterms:modified>
  <cp:revision>35</cp:revision>
  <dc:subject/>
  <dc:title>.NET CLR</dc:title>
</cp:coreProperties>
</file>