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4EB2-760C-4948-8F4C-C363F9EAA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82C7-4AF9-44D1-9B50-B369AB80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6A24-A8B1-4432-8650-98B7EE1D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9DCA-A8FC-4BDD-9850-C26CA5E2A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7300-8F3D-4816-AD02-AB4CD2A1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E081-60D0-49BF-AA01-0F496E3C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241B-1D6F-4D4D-B286-EEFD7976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5E74-9AC8-4D4C-B342-0947F92E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A332-B1A2-4BF1-9A28-AFB89586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8D2E-3FBF-49DE-8347-0667F015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3FF6-5DED-430D-80C2-5BB7F4CF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D64C-4992-42E8-A949-062F8E78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B0EA-5362-40CE-AAAA-6EDA30DC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FA23-8A0A-456C-B12F-F11BCDFE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C36B-B6C1-43FA-8E08-AE97952A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9416-01D7-4B21-961B-EB95D2167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86A5-1F57-4DC9-98C0-2214905F9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BC1A-3C68-4907-875A-BDE516E9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0E12-DBF2-4EC2-9281-BE1240C6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637D-38E6-454B-A4D1-1BF9C6DC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C13F-3A73-4829-9F47-BA877079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1594-715E-434D-8431-16DE3906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D116-2D70-44A7-9E06-CD71CC17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7DFD-DB93-483A-A9DF-94833929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553A-07E0-489C-947F-21B6AEE03E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C2E2-0804-4B8A-BC83-5E3394511A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sdn2.microsoft.com/en-us/library/system.collections.generic.aspx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5ffff"/>
                </a:solidFill>
                <a:latin typeface="Tahoma"/>
              </a:rPr>
              <a:t>Generic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Krizsán Zoltá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ípus paramét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típus[,tipus2,…]&gt; alak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z osztályon belül használhatóak a típus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zabályok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m lehet sem interfész, sem ősosztá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m lehet attribútum típ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ípus paraméter kényszere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Ahol nem tartjuk be, fordítási hibát eredménye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where T: struktúra 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érték típus kell legyen, nem lehet null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where T: cla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bármilyen referencia (osztály, interfész, delegátum, vagy tömb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where T: new(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publikus paraméter nélküli konstruk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Where T: &lt;ősosztály_név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Where T: &lt;interfész_név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Where T: 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5ffff"/>
                </a:solidFill>
                <a:latin typeface="Tahoma"/>
              </a:rPr>
              <a:t>Default kulcsszó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Típusparaméterű változó inicializálására val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típusparaméter vag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Referencia (t = nu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Érték típ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Egyszerű (t = 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Struktúr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Default hatása, a következő esetben </a:t>
            </a:r>
            <a:br>
              <a:rPr sz="2800"/>
            </a:br>
            <a:r>
              <a:rPr b="0" lang="hu-HU" sz="2800" spc="-1" strike="noStrike">
                <a:solidFill>
                  <a:srgbClr val="ffcc00"/>
                </a:solidFill>
                <a:latin typeface="Tahoma"/>
              </a:rPr>
              <a:t>T temp = default(T);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Ha referencia, akkor nu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Ha egyszerű érték, akkor 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Ha struktúra, akkor minden eleme rendre 0, vagy nu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onkretizálá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Meg kell adni egy konkrét típust a példányosításná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Osztaly&lt;int&gt; Objketum = new Osztaly&lt;int&gt;(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00"/>
                </a:solidFill>
                <a:latin typeface="Tahoma"/>
              </a:rPr>
              <a:t>MIND 2 OLDALON KELL A &lt;KONKRET_TIPUS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éldakód - deklaráció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00"/>
                </a:solidFill>
                <a:latin typeface="Tahoma"/>
              </a:rPr>
              <a:t>public class GenericList&lt;T&gt;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ahoma"/>
              </a:rPr>
              <a:t>private class Node {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ahoma"/>
              </a:rPr>
              <a:t>Node(</a:t>
            </a:r>
            <a:r>
              <a:rPr b="0" lang="hu-HU" sz="1600" spc="-1" strike="noStrike">
                <a:solidFill>
                  <a:srgbClr val="ffcc00"/>
                </a:solidFill>
                <a:latin typeface="Tahoma"/>
              </a:rPr>
              <a:t>T t</a:t>
            </a:r>
            <a:r>
              <a:rPr b="0" lang="hu-HU" sz="1600" spc="-1" strike="noStrike">
                <a:solidFill>
                  <a:srgbClr val="ffffff"/>
                </a:solidFill>
                <a:latin typeface="Tahoma"/>
              </a:rPr>
              <a:t>) { next = null; data = t; }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ahoma"/>
              </a:rPr>
              <a:t>public Node Next { get { return next; } set { next = value; } }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private </a:t>
            </a:r>
            <a:r>
              <a:rPr b="0" lang="hu-HU" sz="1800" spc="-1" strike="noStrike">
                <a:solidFill>
                  <a:srgbClr val="ffcc00"/>
                </a:solidFill>
                <a:latin typeface="Tahoma"/>
              </a:rPr>
              <a:t>T data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private Node head; { head = null; 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public GenericList() { head = null; }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public void AddHead(</a:t>
            </a:r>
            <a:r>
              <a:rPr b="0" lang="hu-HU" sz="1800" spc="-1" strike="noStrike">
                <a:solidFill>
                  <a:srgbClr val="ffcc00"/>
                </a:solidFill>
                <a:latin typeface="Tahoma"/>
              </a:rPr>
              <a:t>T t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) {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Node n = new Node(t); n.Next = head; head = n; }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public </a:t>
            </a:r>
            <a:r>
              <a:rPr b="0" lang="hu-HU" sz="1800" spc="-1" strike="noStrike">
                <a:solidFill>
                  <a:srgbClr val="ffcc00"/>
                </a:solidFill>
                <a:latin typeface="Tahoma"/>
              </a:rPr>
              <a:t>IEnumerator&lt;T&gt;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GetEnumerator() {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Node current = head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while (current != null) {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yield return current.Data; current = current.Next; }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}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éldakód – konkretizálás, használa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class TestGenericList {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static void Main() {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00"/>
                </a:solidFill>
                <a:latin typeface="Tahoma"/>
              </a:rPr>
              <a:t>GenericList&lt;int&gt; list = new GenericList&lt;int&gt;();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for (int x = 0; x &lt; 10; x++) {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list.AddHead(x); }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foreach (int i in list) {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System.Console.Write(i + " "); }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System.Console.WriteLine("\nDone"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}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}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5ffff"/>
                </a:solidFill>
                <a:latin typeface="Tahoma"/>
              </a:rPr>
              <a:t>Példakód – generics fv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static void </a:t>
            </a:r>
            <a:r>
              <a:rPr b="0" lang="hu-HU" sz="1800" spc="-1" strike="noStrike">
                <a:solidFill>
                  <a:srgbClr val="ffcc00"/>
                </a:solidFill>
                <a:latin typeface="Tahoma"/>
              </a:rPr>
              <a:t>Swap&lt;T&gt;(ref T lhs, ref T rh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hu-HU" sz="1800" spc="-1" strike="noStrike">
                <a:solidFill>
                  <a:srgbClr val="ffcc00"/>
                </a:solidFill>
                <a:latin typeface="Tahoma"/>
              </a:rPr>
              <a:t>T temp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temp = lhs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lhs = rhs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rhs = temp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public static void TestSwap(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int a =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int b = 2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hu-HU" sz="1800" spc="-1" strike="noStrike">
                <a:solidFill>
                  <a:srgbClr val="ffcc00"/>
                </a:solidFill>
                <a:latin typeface="Tahoma"/>
              </a:rPr>
              <a:t>Swap&lt;int&gt;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(ref a, ref b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System.Console.WriteLine(a + " " + b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5ffff"/>
                </a:solidFill>
                <a:latin typeface="Tahoma"/>
              </a:rPr>
              <a:t>Példakód - delegátu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public delegate void Del&lt;T&gt;(T item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public static void Notify(int i) { }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Del&lt;int&gt; m1 = new Del&lt;int&gt;(Notify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emutató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 .NET 2.0 verziótó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Típusparamé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Más nyelvben ez a template (sablon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Metódus, osztál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Változóin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dattagjain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típusait nem rögzítjü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Általános megoldás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ellemző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Növeli a kód újrahasznosíthatóságo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Egyszerűsíti a kódot, gyorsabb működés (nem kell a sok cas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Általában gyűjtemények készítéséhez, segítéséhez használju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Vannak beépített generic-ek (</a:t>
            </a:r>
            <a:r>
              <a:rPr b="0" lang="hu-HU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System.Collections.Generic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List, Queue, Stack, LinkedL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5ffff"/>
                </a:solidFill>
                <a:latin typeface="Tahoma"/>
              </a:rPr>
              <a:t>Beépített generics-e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ArrayList </a:t>
            </a: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List&lt;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Queue </a:t>
            </a: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Queue&lt;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Stack </a:t>
            </a: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Stack&lt;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Hashtable </a:t>
            </a: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Dictionary&lt;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SortedList </a:t>
            </a: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SortedList&lt;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ListDictionary </a:t>
            </a: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Dictionary&lt;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HybridDictionary </a:t>
            </a: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Dictionary&lt;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OrderedDictionary </a:t>
            </a: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Dictionary&lt;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SortedDictionary </a:t>
            </a: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SortedDictionary&lt;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NameValueCollection </a:t>
            </a: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Dictionary&lt;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DictionaryEntry </a:t>
            </a: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KeyValuePair&lt;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lkalmazhatósá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Interfészhez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Osztályhoz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Delegátumhoz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Metódushoz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Eseményhe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ddigi megoldá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Object alapú megoldá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Hozzáadás egyszerű, DE a kiolvasáskor cast. Következmény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Lassú kód (+ művelet a cast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Hibalehetőség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ystem.Collections.ArrayList list = new System.Collections.ArrayList(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list.Add(3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list.Add("It is raining in Redmond."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 t = 0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each (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int x in lis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 += x;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// kivétel a 2. pozicióban, mert az nem integ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5ffff"/>
                </a:solidFill>
                <a:latin typeface="Tahoma"/>
              </a:rPr>
              <a:t>Generics megoldá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ahoma"/>
              </a:rPr>
              <a:t>//Hozzunk létre egy konkrét típus osztály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ahoma"/>
              </a:rPr>
              <a:t>List&lt;int&gt; list1 = new List&lt;int&gt;()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ahoma"/>
              </a:rPr>
              <a:t>// nincs cast, nincs boxolá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ahoma"/>
              </a:rPr>
              <a:t>list1.Add(3)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ahoma"/>
              </a:rPr>
              <a:t>// A következő sor fordítási hibát okozn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ahoma"/>
              </a:rPr>
              <a:t>// list1.Add("It is raining in Redmond.")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ahoma"/>
              </a:rPr>
              <a:t>// a következő sorok biztosan, hibamentesen lefutna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nt t = 0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oreach (</a:t>
            </a: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int x in l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 += x;</a:t>
            </a:r>
            <a:r>
              <a:rPr b="0" lang="hu-H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asználat, működé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Forráskódb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Hozzuk létre a generics típu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Hozzunk létre konkrét példány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00"/>
                </a:solidFill>
                <a:latin typeface="Tahoma"/>
              </a:rPr>
              <a:t>Futásidőben az RTL - amikor először szükség van arra a konkrét típusú osztályra – létrehozz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5ffff"/>
                </a:solidFill>
                <a:latin typeface="Tahoma"/>
              </a:rPr>
              <a:t>Generics osztály definiálás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Class osztaly&lt;tipusparameter&gt;{…} alak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Ezek után az osztályon belül a típusparaméterben szereplő típus azonosítók használhatók, mint típuso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13:57:31Z</dcterms:created>
  <dc:creator>krz</dc:creator>
  <dc:description/>
  <dc:language>en-US</dc:language>
  <cp:lastModifiedBy>krz</cp:lastModifiedBy>
  <dcterms:modified xsi:type="dcterms:W3CDTF">2007-11-14T07:39:25Z</dcterms:modified>
  <cp:revision>22</cp:revision>
  <dc:subject/>
  <dc:title>Generics</dc:title>
</cp:coreProperties>
</file>