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8B8F8-FC6A-4744-9A61-FB72C29C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64143-896F-4EA1-81E7-2ECB51B1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9CCD3-68C9-4F5C-B7F7-348BEDE5B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62D16-FB41-44C3-9D70-1736A846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5E0A-3471-48E9-826C-9D5F28FC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2F61-739A-466F-B2D7-1C027886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34E6-E6A1-4543-8699-983D0A98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B9F1-0D09-48A8-A914-40399186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5DB6-0495-42AE-ACBD-948B270A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1B30-97DF-427F-A06A-66A258A4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0B27-CAA4-4A56-A76C-13F5DFAC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62D1F-024E-4120-8859-DBF17779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C5BE-24B2-4072-96B5-E06B143C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EA74-CE1A-4489-9EC2-21CE44CE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F0BD-D425-4517-932E-ECA9649A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838B-3FB5-4A3B-A807-FB575892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28EC-A571-4713-83DC-E0531A8F5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F337E-C6DC-4D9D-958B-24DD7969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0A952-7972-4059-8707-56E74131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A2418-7C9B-40D0-B5A1-7BE29735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0B715-9391-40F5-B0ED-D1A3817C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9C440-005C-4BA2-80E0-0B366BDA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56F6D-47D6-4383-9A27-02299499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F62BD-6B01-4CCF-AC5B-78CCB6FC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8E6F-A775-455C-86D8-9A049AD8C2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" name=""/>
          <p:cNvGraphicFramePr/>
          <p:nvPr/>
        </p:nvGraphicFramePr>
        <p:xfrm>
          <a:off x="7197840" y="6116760"/>
          <a:ext cx="1058760" cy="70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97840" y="6116760"/>
                    <a:ext cx="105876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42B5-AD5C-4F09-9EE8-FF4DEDD325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197840" y="6116760"/>
          <a:ext cx="1058760" cy="70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97840" y="6116760"/>
                    <a:ext cx="105876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.NET FRAMEWORK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övi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rizsán Zoltá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4360" y="1208160"/>
            <a:ext cx="7559640" cy="3506040"/>
          </a:xfrm>
          <a:prstGeom prst="rect">
            <a:avLst/>
          </a:prstGeom>
          <a:solidFill>
            <a:srgbClr val="a88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NET FRAME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 keretrendszer része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826920" y="3168720"/>
            <a:ext cx="7021800" cy="2043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L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gyteljesítményű futtató rendszer (moto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2639880"/>
            <a:ext cx="7021800" cy="5814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gységesített osztálykönyvtá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26920" y="2060640"/>
            <a:ext cx="7021800" cy="581400"/>
          </a:xfrm>
          <a:prstGeom prst="rect">
            <a:avLst/>
          </a:pr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SP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4653000"/>
            <a:ext cx="7559640" cy="1068840"/>
          </a:xfrm>
          <a:prstGeom prst="rect">
            <a:avLst/>
          </a:pr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3399"/>
                </a:solidFill>
                <a:latin typeface="Garamond"/>
              </a:rPr>
              <a:t>Windos operációs rendsz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49520" y="5300640"/>
            <a:ext cx="3441960" cy="3682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aramond"/>
              </a:rPr>
              <a:t>Rendszer szervízek (COM+, .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5e5ff"/>
                </a:solidFill>
                <a:latin typeface="Garamond"/>
              </a:rPr>
              <a:t>CLR</a:t>
            </a:r>
            <a:br>
              <a:rPr sz="4000"/>
            </a:br>
            <a:r>
              <a:rPr b="1" lang="hu-HU" sz="3200" spc="-1" strike="noStrike">
                <a:solidFill>
                  <a:srgbClr val="e5e5ff"/>
                </a:solidFill>
                <a:latin typeface="Garamond"/>
              </a:rPr>
              <a:t>Common Language Runtim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"/>
          <p:cNvSpPr/>
          <p:nvPr/>
        </p:nvSpPr>
        <p:spPr>
          <a:xfrm>
            <a:off x="2392200" y="1405080"/>
            <a:ext cx="4340520" cy="5335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LR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27080" y="1916280"/>
            <a:ext cx="16056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dít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22320" y="2708280"/>
            <a:ext cx="3705840" cy="58140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emória medz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88040" y="4292640"/>
            <a:ext cx="4012200" cy="5814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ztonsági rendsz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80600" y="5084640"/>
            <a:ext cx="2738160" cy="1556280"/>
          </a:xfrm>
          <a:prstGeom prst="rect">
            <a:avLst/>
          </a:pr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Garamond"/>
              </a:rPr>
              <a:t>Közös nyelv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Garamond"/>
              </a:rPr>
              <a:t>specifikáci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Garamond"/>
              </a:rPr>
              <a:t>C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0560" y="3500280"/>
            <a:ext cx="3056400" cy="5814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sztály betölt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Common Language Specif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öbbnyelvű együttműködés,integráci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ulajdonságo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Önleíró komponense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gyszerű telepíté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gyszerű verziókezelé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épített verzió kezelé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ulajdonságok I</a:t>
            </a:r>
            <a:br>
              <a:rPr sz="40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Rövidebb fejleszté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20 támogatott nyelv (nyílt specifikáció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tate-of-the-art </a:t>
            </a: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fejlesztő eszközö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Komponens alapú, könnyen kapcsolható desig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kálázható osztott alkalmazá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ulajdonságok II</a:t>
            </a:r>
            <a:br>
              <a:rPr sz="40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Egyszerű integráció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zoftverek szervízké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pecifikációk, sztenderdek nyelvek, infrastruktúrá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Transzpanens kiterjesztési lehetősé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Könnyű adatbázis elérés – XML adat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ulajdonságok II</a:t>
            </a:r>
            <a:br>
              <a:rPr sz="40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Hatékonyabb, új szolgáltatások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Szabály alapú (Evidence-based) biztonsá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gyszerűsített telepíté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lkalmazások növelt megbízhatósá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Nagyobb teljesítmény – XML Webszervíz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Vállalati rendszerek elkészítéséhez szükséges alkalmazás szervizeket biztosí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Konzisztens, egységesített program modell (önálló, interneten együttműködő alkalmazásokhoz), különböző web alapú kliensekhez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őbb jellemző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2 Különböző projekt eredmény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hatékonyabb fejlesztés elősegítése (COM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platform kifejlesztése, amivel szervizeket lehet készíten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Új elv: XML web szerviz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heterogén rendszerek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Internet protokollokat, sztenderdeket használ (SOAP, XML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eb fejlesztés</a:t>
            </a:r>
            <a:br>
              <a:rPr sz="40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Régebbe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Statikus lap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Magas fejlesztési költsé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C alapú programozási nyelvek (CGI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Kevés hozzá értő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Bonyolúlt az alkalmazások integritása, skálázhatósága. Több rendszert kellett használn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eb fejlesztés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.NET módr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SP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Interaktí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Könnyen használható, beágyazható  üzleti logik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gyszerű szktript nyel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C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Könnyen megírható általa az üzleti logik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Moduláris egységeket lehet létrehozn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Több nyelv támogatás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gítségév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sökken a fejlesztés ide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b-re skálázhat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Állapotmentes alkalmazá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Új megoldás: XML Web szervíz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Készítés ment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Írjuk meg az algoritmust bármilyen támogatott nyelv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Telepítsük bármelyik hardver platformr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Skálázzuk az internet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Mi is az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lkalmazá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kiexportálja funkció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internetre, intranet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sztenderd internet protokollokra épül (HTTP, XML, WSDL, Disco, UDDI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2T22:13:46Z</dcterms:created>
  <dc:creator>k</dc:creator>
  <dc:description/>
  <dc:language>en-US</dc:language>
  <cp:lastModifiedBy>krz</cp:lastModifiedBy>
  <dcterms:modified xsi:type="dcterms:W3CDTF">2007-10-03T09:18:59Z</dcterms:modified>
  <cp:revision>14</cp:revision>
  <dc:subject/>
  <dc:title>.NET FRAMEWORK</dc:title>
</cp:coreProperties>
</file>