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DED-2B9E-4E03-8A39-B77CA34F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6FB-DBF3-4F93-BB0E-06FF6B9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433-99DE-4E22-B68C-B063D303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1EC-F85F-48C0-AE0E-07E95DC9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FC7B-A9C5-4BDD-A7FF-602430FC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4370-0038-461E-B26F-82AB99D9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F31-34C3-4377-A9D4-83B044E0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CFD-D7BF-4ABB-9093-D42C810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D6A-647C-4F16-92AE-D36C482B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B9B-6D89-429C-8500-E6D5955E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01C8-ED74-4A05-B41C-F78DBAA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617-4A59-48F0-9947-A3FF416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281B-8551-49A6-B147-BFA7D79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EDA5-03B8-4A33-B930-BD34BBE9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4768-2136-45E2-927C-44CF580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FBA7-76A3-4C96-972C-9AA8D9BC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6120-E2AF-4604-8AAF-267EF0A7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3F7-DC40-48B7-86CF-1C2F372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1C1-2E56-48A3-AB9F-3ADEE8F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CB4-9C27-44DD-A4A9-95A259EE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812-720E-474C-B3DB-1EDFABD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1B4-F7EF-40A0-BA45-8E39DE9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B51-CEE0-4826-AA30-FC3C820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955-EAF3-42C1-B9C1-5B27C8D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.NET Framework Class Library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(F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432-FA59-436C-A7CC-D03160101A4B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018-76F1-4811-82E0-1C03374A5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.NET Framework Class Library</a:t>
            </a:r>
            <a:br>
              <a:rPr sz="4400"/>
            </a:b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(FCL) .NET 1.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Krizsán Zoltá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ros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RemotingFormatter-t implementáló osztályok (RPC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apFor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naryFor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mentés -</a:t>
            </a:r>
            <a:r>
              <a:rPr b="0" lang="hu-HU" sz="2800" spc="-1" strike="noStrike">
                <a:solidFill>
                  <a:srgbClr val="f2f965"/>
                </a:solidFill>
                <a:latin typeface="Arial"/>
              </a:rPr>
              <a:t> Seria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töltés –</a:t>
            </a:r>
            <a:r>
              <a:rPr b="0" lang="hu-HU" sz="2800" spc="-1" strike="noStrike">
                <a:solidFill>
                  <a:srgbClr val="f2f965"/>
                </a:solidFill>
                <a:latin typeface="Arial"/>
              </a:rPr>
              <a:t> Deseria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ttribútum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7c80"/>
                </a:solidFill>
                <a:latin typeface="Arial"/>
              </a:rPr>
              <a:t>[Serializable(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7c80"/>
                </a:solidFill>
                <a:latin typeface="Arial"/>
              </a:rPr>
              <a:t>[NonSerialized()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BEB-8F6F-489F-8B40-F8E76A7F68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- soros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.Runtime.Serializatio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cc00"/>
                </a:solidFill>
                <a:latin typeface="Arial"/>
              </a:rPr>
              <a:t>using System.Runtime.Serialization.Formatters.So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using System.Runtime.Serialization.Formatters.Binar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class Tes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static void Main() 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TestSimpleObject obj = new TestSimpleObjec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Before serialization: ");  obj.Pr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am stream = File.Open("data.xml", FileMode.Creat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99cc00"/>
                </a:solidFill>
                <a:latin typeface="Arial"/>
              </a:rPr>
              <a:t>SoapFormatter formatter = new SoapFormatter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BinaryFormatter formatter = new BinaryFormatt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formatter.Serialize(stream, obj);      stream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obj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am = File.Open("data.xml", FileMode.Op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99cc00"/>
                </a:solidFill>
                <a:latin typeface="Arial"/>
              </a:rPr>
              <a:t>formatter = new SoapFormatter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formatter = new BinaryFormatt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obj = (TestSimpleObject)formatter.Deserialize(stream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am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After deserialization: ");      obj.Pr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962-71AD-45E8-BFBD-D0CE5AABC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– sorosítás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[Serializable()]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class TestSimpleObject 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int member1;    public string member2;    public double member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[NonSerialized()]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public string member4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TestSimpleObjec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mber1 = 1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mber2 = "hello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mber3 = 3.1415926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mber4 = "hello world!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void Prin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member1 = '{0}'", member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member2 = '{0}'", member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member3 = '{0}'", member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member4 = '{0}'", member4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663-A81E-47CF-8D98-D4016A805F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2C1-0541-4A93-BE7A-4A07790529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Collection -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ármilyen típus eltárolható benne (System.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őbb osztályai: ArrayList, Hashtable, Stack, és Que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++-ban template-ek (ST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.NET 2.0-tól - Gene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44C-C434-4482-B6FF-167702ABD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Collection - Hash táb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árokban tárolja az adatokat </a:t>
            </a:r>
            <a:r>
              <a:rPr b="0" lang="hu-HU" sz="3200" spc="-1" strike="noStrike">
                <a:solidFill>
                  <a:srgbClr val="cc3300"/>
                </a:solidFill>
                <a:latin typeface="Arial"/>
              </a:rPr>
              <a:t>kulcs – érté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Gyors keresés, egyedi kulc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illesztés: Add fv., [] oper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járás:</a:t>
            </a:r>
            <a:br>
              <a:rPr sz="32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reach(DictionaryEntry entry in t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"Kulcs:{0} Érték:{1}", entry.Key, entry.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örlés: Remove, Clear fv.-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D0E-C683-4209-83DC-DFD427497C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Collection - Töm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rray osztály, statikus primitív típusok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6 tulajdonság: IsFixedSize, IsReadOnly, IsSynchronized, Lenght, Rank, SyncR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22 f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mplementál több interfészt is.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l.:az IList-et add, clear, insert, remove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5A-5AAF-4D45-849E-CB20A33F5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Collection - pél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class SamplesArrayList 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static void Main() 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rrayList myAL = new Array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AL.Add("Hello");   myAL.Add("World");   myAL.Add("!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 "myAL"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 "\tCount:    {0}", myAL.Count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 "\tCapacity: {0}", myAL.Capacity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( "\tValues:" );   PrintValues( myAL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static void PrintValues( IEnumerable myList ) 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ystem.Collections.IEnumerator myEnumerator =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List.GetEnumerato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hile ( myEnumerator.MoveNext() 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 "\t{0}"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Enumerator.Current 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F3D-2A29-4EE4-81B7-B2B02A8F55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A14-0885-4A2C-959F-2BCBF4A6B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guláris kif. -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ERL 5.0 kompatibilis! (.NET 1.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ystem.Text.RegularExpression névtér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8 osztály, 1 delegátum,1 felsorolt tí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gEx osztá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ML elem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tringeket részsztringekre bon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ző minták keres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szsztring keresé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06D-E08C-478C-87A3-566D97E05A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őbb tulajdonság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bjektum orientált AP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éges fejlesztői könytá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öbb, mint 7000 típus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osztály, struktúra, interfész, felsorolt, delegátu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erarchikusan szervezett névterek (kb. 10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# - using, VB – im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A88-9AB4-43B3-BABC-10F784FA0C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guláris kif. - pél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x r = new Regex("(-)"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[] s = r.Split("one-two-banana"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tml elemzéshez használjuk 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gEx regex = new RegEx(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[^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*&gt;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”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2D7-D4DA-4603-85D8-9A578FE56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gul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 kif.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 – péld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lass RegExSample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string CapText(Match m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ing x = m.ToStrin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 (char.IsLower(x[0]))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turn char.ToUpper(x[0]) + x.Substring(1, x.Length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turn 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void Main(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ing text = "four score and seven years ago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ystem.Console.WriteLine("text=[" + text + "]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ing result = </a:t>
            </a: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Regex.Replac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text, @"\w+"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w MatchEvaluator(RegExSample.CapTex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ystem.Console.WriteLine("result=[" + result + "]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9FE-4203-4D65-A2E1-D4F7DC9B74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686-51BE-488A-8D21-288DF6A45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-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ystem.Net névtér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36 osztály, 5 interfész, 1 delegátum,4 felsorolt típ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ntosabb osztályok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ookie, WebClient, WebException, WebProxy, SocketAddres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elterjedt protokollt támog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ebRequest és WebResponse az al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491-312B-4D59-9863-35F58F80B2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Internet - példa - WebCli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class Test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static void Main (string[] args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(args == null || args.Length == 0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hrow new ApplicationException ("Specify the URI of the resource to retrieve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WebClient client = new WebClient 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client.Headers.Ad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"user-agent", "Mozilla/4.0 (compatible; MSIE 6.0; Windows NT 5.2; .NET CLR 1.0.3705;)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ream data =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client.OpenRead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args[0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reamReader reader = new StreamReader (dat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ring s = reader.ReadToEnd 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 (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ata.Close 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ader.Close 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95D-60E7-401C-BD57-366985A91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ccecff"/>
                </a:solidFill>
                <a:latin typeface="Arial"/>
              </a:rPr>
              <a:t>System.Net.Sockets.TcpClient</a:t>
            </a: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void Connect(String server, String messag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 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32 port = 130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TcpClient client = new TcpClient(server, por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yte[] data = System.Text.Encoding.ASCII.GetBytes(message);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NetworkStream stream = client.GetStream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tream.Write(data, 0, data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Sent: {0}", message);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ata = new Byte[256];                     String responseData = String.Emp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32 bytes =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tream.Read(data, 0, data.Length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sponseData = System.Text.Encoding.ASCII.GetString(data, 0, byte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Received: {0}", responseData);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client.Close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 (ArgumentNullException e) {Console.WriteLine("ArgumentNullException: {0}", e);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 (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ocketException 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) { Console.WriteLine("SocketException: {0}", e); }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906-30F5-413A-959E-CBAA863DB5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Request</a:t>
            </a: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 -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Initialize the Web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Request myRequest = WebRequest.Create("http://www.contoso.com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Return the respo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Response myResponse = myRequest.GetRespon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Code to use the WebResponse goes 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 Close the response to free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Response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8F-ED3B-405A-8A48-6271D44665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System.We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SP.NET Web alkalmazásokhoz, XML Web szervizekhez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System.Web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– osztályok, interfészek böngésző/server kommunikációhoz.  HTTP kimenetet produkál (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ttpRespons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, olvassa HTTP kérést (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ttpReque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, …. + osztályok, amelyek kezelik, használják a cookie-kat, fájl átvitelt, kivételeket, 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System.Web.UI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– Web Form oldalakat készíthetünk, (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System.Web.UI.HtmlControl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– HTML specifikus kontrollok Web formokhoz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System.Web.UI.WebControl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– ASP.NET Web szerver kontrollo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ecff"/>
                </a:solidFill>
                <a:latin typeface="Arial"/>
              </a:rPr>
              <a:t>System.Web.Service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- XML Web szervizekh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9F6-EF30-4B2B-BC31-872F5EFFD7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Levelezés - as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ailMessage mess = new MailMessag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.From = ”valaki@valahonnan.com”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.To =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.Subject =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.Body =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ailAttachment MyAttachment = new MailAttachment(sSubst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.Attachments.Add(MyAttachme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mtpMail.SmtpServer = ”localhost”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mtpMail.Send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7D0-D7B9-40E3-90A5-7C10BA3314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549-0D6E-493D-A743-4FF43A941E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emény vezér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program vár, hogy egy esemény bekövetkezzen, amit lekez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ring an event – eseményt generál az objek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istener – objektum, ami vár az esemén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vent handler – módszer, amely lekezeli az esemény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301-4A5B-4508-AB9E-5B4197C9E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Adatdbázis -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ystem.Data névté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ámogatott források:</a:t>
            </a:r>
            <a:br>
              <a:rPr sz="32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DBC, ADO, DAO, RDO, OL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őbb osztályok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nection, DataReader, DataSet, DataAdapter, Sql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B64-C7DA-4D13-87AD-A46E721482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Adat lekérdezés</a:t>
            </a:r>
            <a:br>
              <a:rPr sz="4000"/>
            </a:b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SqlDataRead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7c80"/>
                </a:solidFill>
                <a:latin typeface="Arial"/>
              </a:rPr>
              <a:t>System.Data.SqlClien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névté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trehozzuk, használjuk az objektumot, majd lezárjuk a </a:t>
            </a:r>
            <a:r>
              <a:rPr b="0" lang="hu-HU" sz="2400" spc="-1" strike="noStrike">
                <a:solidFill>
                  <a:srgbClr val="ff7c80"/>
                </a:solidFill>
                <a:latin typeface="Arial"/>
              </a:rPr>
              <a:t>Clos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fv.-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edmények lekérdezé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GetBoolea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GetCha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GetDoub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lyek paramétere az oszlop sorszáma (0 index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validCastException, ha nem konvertálható implic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őtte hívjuk meg a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IsDBNul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fv.-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cordsAffected tulajdonság értéke csak a lezárás után érvény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pecsételt, nem lehet származtatni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17A-7ECE-4266-B569-34F7F65967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SqlDataRead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void ReadMyData(string myConnString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ing mySelectQuery = "SELECT OrderID, CustomerID FROM Order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qlConnection myConnection = new SqlConnection(myConnStrin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qlCommand myCommand = new SqlCommand(mySelectQuery,myConnecti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Connection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DataReader myRea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Reader =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Command.ExecuteRead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Always call Read before accessing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hile (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Reader.Read(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Reader.GetInt32(0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+ ", " + myReader.GetString(1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Reader.Close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// always call Close when done rea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Connection.Close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// Close the connection when done with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2C1-0DC2-435C-ABF9-9C28454E82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SqlComm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QL utasítás, vagy tárolt elj. futtathatu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pecsételt, nem lehet származtatni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rancs futtatás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ExecuteReader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– több soros lekérde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ExecuteNonQuer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– INSERT, DELETE, UPDATE, SET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ataSet nélkül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ExecuteScalar 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– egyszerű típusra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futtatja az utasítást, és visszatér az első sor első oszlopáv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ExecuteXmlReader</a:t>
            </a:r>
            <a:r>
              <a:rPr b="0" lang="hu-HU" sz="20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– CommandText -&gt; XmlReader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edmény XML-ben jön viss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862-7606-480C-A4E3-019D7DBFA4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1" lang="hu-HU" sz="3200" spc="-1" strike="noStrike">
                <a:solidFill>
                  <a:srgbClr val="ccecff"/>
                </a:solidFill>
                <a:latin typeface="Arial"/>
              </a:rPr>
              <a:t>SqlComman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ublic void CreateMySqlCommand(string myExecuteQuery, SqlConnection myConnec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qlCommand myCommand = new SqlCommand(myExecuteQuery, myConnectio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yCommand.Connection.Open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int AffectedRows = 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7c80"/>
                </a:solidFill>
                <a:latin typeface="Arial"/>
              </a:rPr>
              <a:t>myCommand.ExecuteNonQuery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yConnection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D60-076F-49FA-B33A-DFE2FA57C6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ExecuteXmlRead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void CreateMyXmlReader(string myXmlQuery, SqlConnection myConnection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mmand myCommand = new SqlCommand(myXmlQuery, myConnecti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Connection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ystem.Xml.XmlReader myXmlReader = myCommand.ExecuteXmlRead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XmlReader.Close(); // Always close the XmlReader when finish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(Exception e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ystem.Diagnostics.EventLog log = new System.Diagnostics.EventLog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og.Source = "My Application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og.WriteEntry(e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Exception of type {0} occurred.", e.GetTyp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 finally{ myConnection.Close()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979-4D21-44FE-B12D-C2038795FB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kivételkezelés - tranzakció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SqlTransaction myTrans;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myCommand.Transaction = myTra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{   </a:t>
            </a: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myCommand.ExecuteNonQuery();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myTrans.Commit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(Exception e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{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Trans.Rollback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 (SqlException ex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 (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Trans.Connection != nul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An exception of type " + ex.GetType()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" was encountered while attempting to roll back the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ansaction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An exception of type " + e.GetType()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" was encountered while inserting the data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Neither record was written to databas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ly{ </a:t>
            </a: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myConnection.Close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47E-546E-47D0-B9D3-29D80FD8C8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áltozó paraméterek haszn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epare fv. hívása, utána exec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tte be kell állítani a paramét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rték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erver oldali nev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93B-D940-47C3-8346-B6A154A3B8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0" lang="hu-HU" sz="2800" spc="-1" strike="noStrike">
                <a:solidFill>
                  <a:srgbClr val="ccec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  id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ing  desc = "myFirstRegion"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nnection rConn = new SqlConnection("Persist Security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fo=False;Integrated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ecurity=SSPI;database=northwind;server=mySQLServer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Conn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mmand command    = new SqlCommand(null, rCon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CommandText = "insert into Region (RegionID,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gionDescription) values (@id, @desc)"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Parameters.Add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( "@id", id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Parameters.Add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( "@desc", desc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Prepare(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// Calling Prepare after having set the Commandtext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nd para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xecuteNonQuery(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Parameters[0].Value = 2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Parameters[1].Value = "mySecondRegion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mand.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xecuteNonQuery(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CA8-4CD2-472F-B63B-483D605096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Data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O .NET fő kompon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datbázis pufferelt mása a memóriában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ataTable objektumok gyűjteménye, lehet közöttük kapcsol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Írható, olvas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XML sémáj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TP-n keresztül valósul meg a kapcso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éma betölthető XML-ből, lementhető XML-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451-5708-4D17-BE17-6EBB5715BB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678-A984-4D4F-BAA9-D7A8039F3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DataAdap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íd a DataSet és az adatforrás közöt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ill feltölti a DataSet-et az adatforrás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pdate frissíti az adatforrást a DataSet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crosoft SQL esetén használjuk az SqlDataAda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684-63F3-4793-BA88-0079C4E89E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0" lang="hu-HU" sz="2800" spc="-1" strike="noStrike">
                <a:solidFill>
                  <a:srgbClr val="ccecff"/>
                </a:solidFill>
                <a:latin typeface="Arial"/>
              </a:rPr>
              <a:t>DataAdap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DataSet CreateCmdsAndUpdate(DataSet myDataSet,string myConnection,string mySelectQuery,string myTableNa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leDbConnection myConn = new OleDbConnection(myConnectio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leDbDataAdapter myDataAdapter = new OleDbDataAdapt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DataAdapter.SelectCommand = new OleDbCommand(mySelectQuery, myCon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leDbCommandBuilder custCB = new OleDbCommandBuilder(myDataAdapter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Conn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ataSet custDS = new DataSe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DataAdapter.Fill(custD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code to modify data in datase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DataAdapter.Update(custD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Conn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turn custD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B6B-1B47-4CE8-AAAE-69ED19A3C4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- </a:t>
            </a:r>
            <a:r>
              <a:rPr b="0" lang="hu-HU" sz="3200" spc="-1" strike="noStrike">
                <a:solidFill>
                  <a:srgbClr val="ccecff"/>
                </a:solidFill>
                <a:latin typeface="Arial"/>
              </a:rPr>
              <a:t>DataSe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nnection myConn = new SqlConnection(cStrin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DataAdapter myAdapter = new SqlDataAdapt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cc00"/>
                </a:solidFill>
                <a:latin typeface="Arial"/>
              </a:rPr>
              <a:t>myAdapter.TableMappings.Add("Table", "Supplier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Conn.Ope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mmand myCmd = new SqlCommand("SELECT * FROM Suppliers", myCon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Adapter.SelectCommand = myCm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ds = new DataSet("Customer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Adapter.Fill(d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qlDataAdapter adpProducts = new SqlDataAdapte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cc00"/>
                </a:solidFill>
                <a:latin typeface="Arial"/>
              </a:rPr>
              <a:t>adpProducts.TableMappings.Add("Table", "Product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qlCommand cmdProd = new SqlCommand("SELECT * FROM Products", myCon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dpProducts.SelectCommand = cmdPr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adpProducts.Fill(ds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Conn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System.Data.DataRelation d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System.Data.DataColumn dc1, dc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dc1 = ds.Tables["Suppliers"].Columns["SupplierID"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dc2 = ds.Tables["Products"].Columns["SupplierID"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dr = new System.Data.DataRelation("suppliers2products", dc1, dc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ds.Relations.Add(d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62-A86D-4CFA-AD96-8AE1475CEE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279-E362-46B7-8F47-038B3B2399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Reflekció –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ystem.Reflection névté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nformáció osztályok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thodInfo, ConstructorInfo, MemberInfo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0A2-F31B-4786-A091-D516DA702E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assembly fv.-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.Reflectio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class LoadInvoke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static void Main(string[] args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ssembly a =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Assembly.LoadFro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args[0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ype[] mytypes =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a.GetTypes(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indingFlags flags = (BindingFlags.NonPublic | BindingFlags.Public 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indingFlags.Static | BindingFlags.Instance |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indingFlags.DeclaredOnl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each(Type t in mytype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ethodInfo[] mi = t.GetMethods(flag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bject obj =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Activator.CreateInstance(t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each(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ethodInfo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m in mi){ m.Invoke(obj, null)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A07-8582-4A33-8C1C-5BF7819034A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- assemb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ssembly SampleAssemb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ampleAssembly = Assembly.LoadFrom("c:\\Sample.Assembly.dll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thodInfo Method = SampleAssembly.GetTypes()[0].GetMethod("Method1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arameterInfo[] Params = Method.GetParameter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Display information about method parame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Param = sPara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  Type = System.St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  Position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  Optional=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each (ParameterInfo Param in Para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Param=" + Param.Name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  Type=" + Param.ParameterType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  Position=" + Param.Position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  Optional=" + Param.IsOptional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4F6-2041-48F2-BB79-B54E058C72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5AD-4BF4-41D7-87A9-49798581B6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agnosztika – főbb tulajdonság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ystem.Diagnostic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ventLog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lvashatunk – írhatunk a redszer eseménye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utó processzeket monitorozhatju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erformanceCounter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elyi vagy távoli rendszert monitorozhatju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bug, Trace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ibakeresés, nyomköve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44B-A785-4B5D-BACE-05564BA5D8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ecff"/>
                </a:solidFill>
                <a:latin typeface="Arial"/>
              </a:rPr>
              <a:t>Példa</a:t>
            </a:r>
            <a:br>
              <a:rPr sz="4000"/>
            </a:br>
            <a:r>
              <a:rPr b="0" lang="hu-HU" sz="2800" spc="-1" strike="noStrike">
                <a:solidFill>
                  <a:srgbClr val="ccecff"/>
                </a:solidFill>
                <a:latin typeface="Arial"/>
              </a:rPr>
              <a:t>Event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.Diagnostic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.Thread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lass MySample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static void Main(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Create the source, if it does not already exi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(!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ventLog.SourceExist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"MySource")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ventLog.CreateEventSourc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"MySource", "MyNewLo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CreatingEventSourc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Create an EventLog instance and assign its 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ventLog myLog = new EventLog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Log.Sourc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= "MySource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Log.WriteEntr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"Writing to event log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FBA-FCD2-44EC-B740-98A8300215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O - Főbb jellemz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tem.IO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: 30 osztály, 1 struktúra, 3 delegátum, 7 e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inaryReader, BinaryWriter, Directory, File, FileInfo, FileStream, IOException, MemoryStream, Path, Stream, StreamWriter, StreamReader, TextReader, Text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FAF-D144-47E0-B8E2-BA4C271B0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- diagnoszti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ing System;using  System.Diagnostics;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using System.ComponentMod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t int ERROR_FILE_NOT_FOUND =2;    const int ERROR_ACCESS_DENIED = 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void PrintDoc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Process myProcess = new Proces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string myDocumentsPath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Environment.GetFolderPath(Environment.SpecialFolder.Persona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Process.StartInfo.FileName = myDocumentsPath + "\\MyFile.doc"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Process.StartInfo.Verb = "Print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Process.StartInfo.CreateNoWindow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myProcess.Star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tch (Win32Exception 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(e.NativeErrorCode == ERROR_FILE_NOT_FOUND) {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e.Message + ". Check the path.");  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se if (e.NativeErrorCode == ERROR_ACCESS_DENIED) {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e.Message + ". Nincs jo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125-9B83-4CA7-8818-444C6C93C7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– diagnosztika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ry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ocess myProces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Process = Process.Start("Notepad.ex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Display physical memory usage 5 times at intervals of 2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 (int i = 0;i &lt; 5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 (!myProcess.HasExited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Process.Refresh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Print working set to conso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Physical Memory Usage: 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+ myProcess.WorkingSet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.Sleep(2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  else { break; 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Process.CloseMainWindow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Process.Clos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  catch(Exception e) { Console.WriteLine(e.Message)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199-843A-40D2-AA01-F1EAFA1248E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- de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static int Main(string[] args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Listeners.Add(new TextWriterTraceListener(Console.Ou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AutoFlush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Inden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WriteLine("Entering Mai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nsole.WriteLine("Hello World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WriteLine("Exiting Main"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Uninden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ublic static void MyMethod(Type type, Type baseTyp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bug.Assert(type != null, "Type parameter is null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"Can't get object for null typ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9E8-B42E-450C-8F4F-45A57EF3AA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- tr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TraceSwitch mySwitch = new TraceSwitch("General", "Entire Application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c public void MyMethod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rite the message if the TraceSwitch level is set to Error or hig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(mySwitch.TraceErr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My error messag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rite the message if the TraceSwitch level is set to Verbo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(mySwitch.TraceVerbo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My second error messag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e method that prints error messages based on the switch le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Metho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8E2-D078-49F4-9BE5-120482CCCF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tegóriá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00 névt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/O (file,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llection (hash táblák, din. tömbö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guláris kifejez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flek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agnosz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Szál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BD1-3BAE-476F-B647-A0D652AD35E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álak – főbb tulajdonság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ystem.Threading névté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álkezelő fv.-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bort (AbortExce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u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leep (statik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E9D-F478-4EA0-A39B-97D3C728298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élda - szál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ystem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ystem.Thread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public static void ThreadProc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0; i &lt; 10; i++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Thread: {0}", i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hread.Sleep(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static void Main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sole.WriteLine("Main thread: Start a second thr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hread t = new Thre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2f965"/>
                </a:solidFill>
                <a:latin typeface="Arial"/>
              </a:rPr>
              <a:t>new ThreadStar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hreadPro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.Star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 = 0; i &lt; 4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Main thread: Do some work.");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hread.Sleep(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Main thread: Call Join(), ThreadProc ends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t.Join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WriteLine("Main thread: Press Enter to end program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08E-9D7F-487D-9805-0C3C2EA176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Get/Set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las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atic void Main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hread[] newThreads = new Thread[4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r(int i = 0; i &lt; newThreads.Length; i++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wThreads[i] = new Thread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w ThreadStart(Slot.SlotTest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wThreads[i].Sta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4B0-6246-4618-9FDC-5BE3BAE2A87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Get/SetData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lass Slo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Random randomGenerator;    static LocalDataStoreSlot localSlo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Slo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andomGenerator = new Random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ocalSlot = Thread.AllocateDataSlo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static void SlotTes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Thread.SetData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localSlot, randomGenerator.Next(1, 200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Data in thread_{0}'s data slot: {1,3}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ppDomain.GetCurrentThreadId().ToString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Thread.GetData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localSlot)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.Sleep(1000); // legyen ideje a szálaknak beír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Data in thread_{0}'s data slot: {1,3}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ppDomain.GetCurrentThreadId().ToString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Thread.GetData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localSlot)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58B-4B5C-4FF0-A361-8195994735C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mutex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lass Tes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ate static Mutex mut = new Mutex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ate const int numIterations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ate const int numThreads = 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tic void Main(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szálak létrehoz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(int i = 0; i &lt; numThreads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 myThread = new Thread(new ThreadStart(MyThreadProc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Thread.Name = String.Format("Thread{0}", i + 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yThread.Star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 // fő szál kilép, csak a fonalak fut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BEA-88AF-4F4E-BC8B-2FF84178DDD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File rendszer fv.-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leSystemInfo (absztrakt), csak példány fv.-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irectory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ile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rectory (statikus fv.-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le (statikus fv.-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ath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tringeken manipulál, amelyek fájlra, vagy jegyzékre irányulnak. Nem kell hogy létezzen a cé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C68-CA45-4777-BD3C-0C5C29AB5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mutex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ate static void MyThreadProc(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(int i = 0; i &lt; numIterations; i++){  UseResource()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// A szinkronizált erőforrást szimulál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ate static void UseResourc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t.WaitOne(); // VÁRAKOZUNK ABELÉPÉS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{0} has entered the protected area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.CurrentThread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.Sleep(500); // SZIMULÁLJUK AMELÓ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sole.WriteLine("{0} is leaving the protected area\r\n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read.CurrentThread.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t.ReleaseMutex(); // ELENGEDJÜK A MUTEX-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8C3-ECF4-4933-9D77-A69D37E67AD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Példa – File rendsz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DirectoryInfo dir =  new DirectoryInfo(Directory.GetCurrentDirectory()); 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Console.WriteLine( "Current Dir: {0}", dir.FullName); 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foreach (FileInfo f in dir.GetFiles()) {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Console.WriteLine("{0,-14}{1,10}{2,20}",  f.Name, f.Length, f.LastWriteTim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7c8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Process p = Process.GetCurrentProcess()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ProcessModule pm = p.MainModule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string s = pm.ModuleName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 Path.GetFullPath(s) )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 Path.GetFileName(s) )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 Path.GetFileNameWithoutExtension(s)); 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Path.GetDirectoryName(Directory.GetCurrentDirectory()));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Path.GetPathRoot(Directory.GetCurrentDirectory(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 Path.GetTempPath() ); 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2f965"/>
                </a:solidFill>
                <a:latin typeface="Arial"/>
              </a:rPr>
              <a:t>Console.WriteLine( Path.GetTempFileName()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266-AE85-4346-9956-386C0FBFD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O - Tipikus jegyzőköny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661000"/>
            <a:ext cx="8713800" cy="1068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rjuk le a folyam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800" y="3060720"/>
            <a:ext cx="4112640" cy="2531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inár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inaryRead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inary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sztályok valamely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ad, Write f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1440" y="3060720"/>
            <a:ext cx="4400640" cy="2531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öve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treamRead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tream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sztályok valamely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adLine, WriteLine f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413000"/>
            <a:ext cx="8642160" cy="155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yissuk meg a folyamot a FileStream osztály segítségé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FF0-F3D3-4C6A-B77E-D08C0DF05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O - Pél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reamReader reader = nul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ader = new StreamReader(args[0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or(string line = reader.ReadLine(); line != nul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ine = reader.ReadLine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onsole.WriteLine(lin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atch(IOException e){Console.WriteLine(e.Message)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nally{ if (reader != null) reader.Close(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179-17D2-4505-899E-17AE10BBE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8:47:16Z</dcterms:created>
  <dc:creator>k</dc:creator>
  <dc:description/>
  <dc:language>en-US</dc:language>
  <cp:lastModifiedBy>krz</cp:lastModifiedBy>
  <dcterms:modified xsi:type="dcterms:W3CDTF">2007-10-17T06:28:41Z</dcterms:modified>
  <cp:revision>52</cp:revision>
  <dc:subject/>
  <dc:title>.NET Framework Class Library (FCL)</dc:title>
</cp:coreProperties>
</file>