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D8250-83A1-4D2C-B9AD-93E6A3259D82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7DED9-56BB-4A0A-9E58-4B55529BD042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AuthentiCode-dal is használhat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egyediseget es biztonsagot (serthetetlenséget biztosi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E220-1257-41A5-907E-FDDFBDFB5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9F23-0BED-429A-9C75-DDCDB70AC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0A2D-8FFA-48C9-939A-013B54A2F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09E0-F409-40E9-8661-59679F0C7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40B6A-5E26-4A71-92BB-BD39277C9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7B94D-AB9E-4312-923B-E44CF2083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194C0-925A-4051-A505-6565A4385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1792C-1E91-469E-8434-F8AA6F455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F6DFD-8DEC-4000-AC2D-D8A569DF7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ECD5D-AF1E-4FF3-8556-4B495CABB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05F11-3E7C-40AC-A029-9CAAD28BC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2EA9-5CAB-4EA4-8D37-C7EC35221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54F2F-94EC-439D-B50E-3CB4DAA09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84D95-FA13-4641-9EC5-03D89FE40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796B6-BFFF-4287-9631-CAC2C53BB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2D94C-C34E-4B4E-A82D-52AABA123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5F0E6-224C-484F-B797-0F74897D6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AD59-0A17-4A3C-9DCC-FD3468870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7B09-7112-4F6F-B9F5-10EFCDA0D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49AA-28FE-45BD-BC1D-0CE7731BD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BA6F-DB94-4447-819E-CF2146B24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41D2-0287-4854-A905-DEEA46333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C78B-6538-4485-899A-3A384352B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09B3-5EE1-49B3-B484-119B553B5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949E7-A162-440F-A0F4-89FF223F0F89}" type="slidenum"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7197840" y="6116760"/>
          <a:ext cx="1058760" cy="704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197840" y="6116760"/>
                    <a:ext cx="1058760" cy="70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5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6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9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10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EE28A-4F2A-4D06-ADE7-A42530778D02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7197840" y="6116760"/>
          <a:ext cx="1058760" cy="704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197840" y="6116760"/>
                    <a:ext cx="1058760" cy="70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Megosztott szerelvények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Krizsán Zoltá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1.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"/>
          <p:cNvGrpSpPr/>
          <p:nvPr/>
        </p:nvGrpSpPr>
        <p:grpSpPr>
          <a:xfrm>
            <a:off x="179280" y="907920"/>
            <a:ext cx="6408720" cy="5473800"/>
            <a:chOff x="179280" y="907920"/>
            <a:chExt cx="6408720" cy="5473800"/>
          </a:xfrm>
        </p:grpSpPr>
        <p:sp>
          <p:nvSpPr>
            <p:cNvPr id="414" name=""/>
            <p:cNvSpPr/>
            <p:nvPr/>
          </p:nvSpPr>
          <p:spPr>
            <a:xfrm>
              <a:off x="179280" y="907920"/>
              <a:ext cx="6408720" cy="5473800"/>
            </a:xfrm>
            <a:prstGeom prst="rightArrowCallout">
              <a:avLst>
                <a:gd name="adj1" fmla="val 25002"/>
                <a:gd name="adj2" fmla="val 25000"/>
                <a:gd name="adj3" fmla="val 19513"/>
                <a:gd name="adj4" fmla="val 66667"/>
              </a:avLst>
            </a:prstGeom>
            <a:solidFill>
              <a:srgbClr val="99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561920" y="3284640"/>
              <a:ext cx="1438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ffffff"/>
                  </a:solidFill>
                  <a:latin typeface="Tahoma"/>
                </a:rPr>
                <a:t>Hash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ffffff"/>
                  </a:solidFill>
                  <a:latin typeface="Tahoma"/>
                </a:rPr>
                <a:t>algoritmu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93240" y="141120"/>
            <a:ext cx="8642520" cy="5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ahoma"/>
              </a:rPr>
              <a:t>Megosztott szerelvények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417" name=""/>
          <p:cNvGrpSpPr/>
          <p:nvPr/>
        </p:nvGrpSpPr>
        <p:grpSpPr>
          <a:xfrm>
            <a:off x="324000" y="1052640"/>
            <a:ext cx="4032000" cy="5173920"/>
            <a:chOff x="324000" y="1052640"/>
            <a:chExt cx="4032000" cy="5173920"/>
          </a:xfrm>
        </p:grpSpPr>
        <p:sp>
          <p:nvSpPr>
            <p:cNvPr id="418" name=""/>
            <p:cNvSpPr/>
            <p:nvPr/>
          </p:nvSpPr>
          <p:spPr>
            <a:xfrm>
              <a:off x="324000" y="1628640"/>
              <a:ext cx="4032000" cy="2043720"/>
            </a:xfrm>
            <a:prstGeom prst="rect">
              <a:avLst/>
            </a:prstGeom>
            <a:solidFill>
              <a:srgbClr val="9383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24000" y="5157720"/>
              <a:ext cx="4032000" cy="1068840"/>
            </a:xfrm>
            <a:prstGeom prst="rect">
              <a:avLst/>
            </a:prstGeom>
            <a:solidFill>
              <a:srgbClr val="a3c145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CLR fej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24000" y="3645000"/>
              <a:ext cx="4032000" cy="1556280"/>
            </a:xfrm>
            <a:prstGeom prst="rect">
              <a:avLst/>
            </a:prstGeom>
            <a:solidFill>
              <a:srgbClr val="0066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IL kód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24000" y="1052640"/>
              <a:ext cx="4032000" cy="581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PE fej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84360" y="2522520"/>
              <a:ext cx="3168360" cy="1068840"/>
            </a:xfrm>
            <a:prstGeom prst="rect">
              <a:avLst/>
            </a:prstGeom>
            <a:solidFill>
              <a:srgbClr val="99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3200" spc="-1" strike="noStrike">
                  <a:solidFill>
                    <a:srgbClr val="ffffff"/>
                  </a:solidFill>
                  <a:latin typeface="Tahoma"/>
                </a:rPr>
                <a:t>Manifest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908000" y="3098880"/>
              <a:ext cx="18205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9383b3"/>
                  </a:solidFill>
                  <a:latin typeface="Tahoma"/>
                </a:rPr>
                <a:t>Publikus kulc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6663600" y="3429000"/>
            <a:ext cx="1847880" cy="459720"/>
          </a:xfrm>
          <a:prstGeom prst="rect">
            <a:avLst/>
          </a:prstGeom>
          <a:solidFill>
            <a:srgbClr val="9966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ahoma"/>
              </a:rPr>
              <a:t>Hash érté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331960" y="5373720"/>
            <a:ext cx="3134160" cy="459720"/>
          </a:xfrm>
          <a:prstGeom prst="rect">
            <a:avLst/>
          </a:prstGeom>
          <a:solidFill>
            <a:srgbClr val="9966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RSE digitális aláírá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26" name=""/>
          <p:cNvCxnSpPr/>
          <p:nvPr/>
        </p:nvCxnSpPr>
        <p:spPr>
          <a:xfrm rot="5400000">
            <a:off x="6503760" y="4290120"/>
            <a:ext cx="1478880" cy="689400"/>
          </a:xfrm>
          <a:prstGeom prst="curvedConnector5">
            <a:avLst>
              <a:gd name="adj1" fmla="val 49939"/>
              <a:gd name="adj2" fmla="val 50000"/>
              <a:gd name="adj3" fmla="val 49939"/>
            </a:avLst>
          </a:prstGeom>
          <a:ln w="38160">
            <a:solidFill>
              <a:srgbClr val="9966ff"/>
            </a:solidFill>
            <a:miter/>
            <a:tailEnd len="lg" type="stealth" w="lg"/>
          </a:ln>
        </p:spPr>
      </p:cxnSp>
      <p:sp>
        <p:nvSpPr>
          <p:cNvPr id="427" name=""/>
          <p:cNvSpPr/>
          <p:nvPr/>
        </p:nvSpPr>
        <p:spPr>
          <a:xfrm>
            <a:off x="6730560" y="4292640"/>
            <a:ext cx="152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privát kul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B837-2345-4197-8608-448CBA69B61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6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9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2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5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2.59259E-006 L -0.50642 0.05 E">
                                      <p:cBhvr>
                                        <p:cTn id="50" dur="2000" fill="hold"/>
                                        <p:tgtEl>
                                          <p:spTgt spid="4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Digitális aláírás szerep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iztosít a szerelvény hiteleségéről, származásáró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szerelvény betöltése előtt mindig ellenőrzi, így biztosítja a szerelvény sértetlenségét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a valaki módosítja a szerelvény tartalmát, akkor újlenyomatok változnak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7D52-EA50-4BD3-B093-BF25FED0224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elepíté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Ha mindenki elérheti, akkor egy központi (CLR által ismert) helyre kell telepíteni, ahol a CLR keresi, ha hivatkozás va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Global Assembly Cache (GAC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Helye:</a:t>
            </a:r>
            <a:br>
              <a:rPr sz="2800"/>
            </a:b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 %windir%\Assembly\GA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Jegyzékeket tartalmaz.</a:t>
            </a:r>
            <a:br>
              <a:rPr sz="2800"/>
            </a:br>
            <a:r>
              <a:rPr b="0" lang="hu-HU" sz="2800" spc="-1" strike="noStrike">
                <a:solidFill>
                  <a:srgbClr val="ff0000"/>
                </a:solidFill>
                <a:latin typeface="Tahoma"/>
              </a:rPr>
              <a:t>Tilos kézzel bemásolni a szerelvényt!</a:t>
            </a:r>
            <a:br>
              <a:rPr sz="2800"/>
            </a:b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Használjunk eszközöket, amelyek létrehozzák, és bemásolják a szerelvény(eke)t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D4B8-C413-43C7-9462-97A580FE27B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cc"/>
                </a:solidFill>
                <a:latin typeface="Tahoma"/>
              </a:rPr>
              <a:t>Gacutil.exe – telepítő alkalmazá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Csak az adminisztrátor tagjai használhatják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/l szerelvény – kiírja a szerelvény adatait, ha nincs paraméter, akkor minde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/i – telepíti a szerelvényt</a:t>
            </a:r>
            <a:br>
              <a:rPr sz="3200"/>
            </a:b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/if – ha már telepítve volt, akkor felülírja</a:t>
            </a:r>
            <a:br>
              <a:rPr sz="3200"/>
            </a:br>
            <a:r>
              <a:rPr b="0" lang="hu-HU" sz="3200" spc="-1" strike="noStrike">
                <a:solidFill>
                  <a:srgbClr val="ff0000"/>
                </a:solidFill>
                <a:latin typeface="Tahoma"/>
              </a:rPr>
              <a:t>Ha nincs a szerelvénynek erős neve, akkor hibajelzést kapunk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/u – törli a szerelvényt a rendszerbő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7492-CE9C-45F6-8A11-4C97D34ECB9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cc"/>
                </a:solidFill>
                <a:latin typeface="Tahoma"/>
              </a:rPr>
              <a:t>Windows explorer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35" name="" descr=""/>
          <p:cNvPicPr/>
          <p:nvPr/>
        </p:nvPicPr>
        <p:blipFill>
          <a:blip r:embed="rId1"/>
          <a:stretch/>
        </p:blipFill>
        <p:spPr>
          <a:xfrm>
            <a:off x="301680" y="1600200"/>
            <a:ext cx="8540640" cy="4498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2447-7EC4-4D83-B6CE-B09F933AC49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Ha minden stimmel, akkor ..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Internet explorer-el (nem total commander) egyszerűen behúzzuk drag and drop, ha az telepíthető, akkor telepíti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0000"/>
                </a:solidFill>
                <a:latin typeface="Tahoma"/>
              </a:rPr>
              <a:t>Ilyenkor telepíti, nem bemásolja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C8BD-D341-4B07-B221-02ECA870E50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GAC belső struktúráj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Az adott  helyen jegyzék a szerelvény nev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Benne jegyzékek, melyek alakja:</a:t>
            </a:r>
            <a:br>
              <a:rPr sz="3200"/>
            </a:b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(verzió_kultúra_publikusKulcsToken, ha a kultúra neutral, akkor nincs)</a:t>
            </a:r>
            <a:br>
              <a:rPr sz="3200"/>
            </a:b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pl.: 0.0.0.0__378dfefaa4be9a09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B6DA-B6F8-4401-97C9-CD6EE089650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zerelvények használat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Fordításkor: csc /reference szerelvény_név</a:t>
            </a:r>
            <a:br>
              <a:rPr sz="3200"/>
            </a:b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Hol keresi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munkakönyvtárb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ahol a CLR v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amit megadunk a fordítónak /lib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LIB környezeti változó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EC03-0581-4966-B03F-9DEF3AC0E3D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ffffcc"/>
                </a:solidFill>
                <a:latin typeface="Tahoma"/>
              </a:rPr>
              <a:t>Késleltetett (delayed), részleges (partial) jelölé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A saját kulcs titkossága nagyon fontos, vigyázzunk rá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Nagyobb cégek (pl. Microsoft) nem adja ki minden alkalmazottnak, de fejleszteni kell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Megoldás: fejlesztés alatt csak a publikus kulcsot használjuk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A4C5-F37B-4287-99BB-529350635A4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Késleltetett jelölés használat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Egyszer létrehozzuk a saját/nyilvános kulcspárt tartalmazó fájlt </a:t>
            </a:r>
            <a:br>
              <a:rPr sz="2800"/>
            </a:br>
            <a:r>
              <a:rPr b="0" i="1" lang="hu-HU" sz="2800" spc="-1" strike="noStrike">
                <a:solidFill>
                  <a:srgbClr val="ffffff"/>
                </a:solidFill>
                <a:latin typeface="Tahoma"/>
              </a:rPr>
              <a:t>sn.exe –k sajat.kulc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Kiszedjük a nyilvános kulcsot a pub.kulcs-ba</a:t>
            </a:r>
            <a:br>
              <a:rPr sz="2800"/>
            </a:br>
            <a:r>
              <a:rPr b="0" i="1" lang="hu-HU" sz="2800" spc="-1" strike="noStrike">
                <a:solidFill>
                  <a:srgbClr val="ffffff"/>
                </a:solidFill>
                <a:latin typeface="Tahoma"/>
              </a:rPr>
              <a:t>sn.exe –p sajat.kulcs pub.kulc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Majd megadjuk a megfelelő attribútumot</a:t>
            </a:r>
            <a:br>
              <a:rPr sz="2800"/>
            </a:b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AssemblyDelaySign(true) vagy</a:t>
            </a:r>
            <a:br>
              <a:rPr sz="2800"/>
            </a:b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az al.exe /delay</a:t>
            </a:r>
            <a:br>
              <a:rPr sz="2800"/>
            </a:b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A538-EF7B-40C4-B469-1924D348C6F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cc"/>
                </a:solidFill>
                <a:latin typeface="Tahoma"/>
              </a:rPr>
              <a:t>Privát vs Megosztott szerelvények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Privát szerelvény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telepítés, ha a szerelvény bárhová felmásoljuk, a használó másik szerelvény mellé, ilyenkor más szerelvények nem érik e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Nem kell regisztry-t, ini fájlokat módosítan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Megosztott (publikus, globális) szerelvény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A rendszeren, és a hálózaton levő összes szerelvény használhatja, központi helyen kell legye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.NET Framework Class Library (FCL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2AAE-8C4F-43C6-AF37-4EE71A32D81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Késleltetett jelölés használata II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Lefordítjuk a szerelvén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Nem telepítjük a Gacutil.exe-vel (vagy a drag n’ drop), hanem </a:t>
            </a:r>
            <a:br>
              <a:rPr sz="2800"/>
            </a:br>
            <a:r>
              <a:rPr b="0" i="1" lang="hu-HU" sz="2800" spc="-1" strike="noStrike">
                <a:solidFill>
                  <a:srgbClr val="ffffff"/>
                </a:solidFill>
                <a:latin typeface="Tahoma"/>
              </a:rPr>
              <a:t>sn.exe –Vr szerelveny.dll [felhasználó lista]</a:t>
            </a:r>
            <a:br>
              <a:rPr sz="2800"/>
            </a:b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regisztrálja, ellenőrzés kiiktatjuk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Végül, miután elkészült a végleges verzió, jelöljük (hitelesítsük) a saját kulccsal:</a:t>
            </a:r>
            <a:br>
              <a:rPr sz="2800"/>
            </a:br>
            <a:r>
              <a:rPr b="0" i="1" lang="hu-HU" sz="2800" spc="-1" strike="noStrike">
                <a:solidFill>
                  <a:srgbClr val="ffffff"/>
                </a:solidFill>
                <a:latin typeface="Tahoma"/>
              </a:rPr>
              <a:t>sn.exe –R szerelveny.dll sajat.kulc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Visszaállítjuk az ellenőrzést:</a:t>
            </a:r>
            <a:br>
              <a:rPr sz="2800"/>
            </a:br>
            <a:r>
              <a:rPr b="0" i="1" lang="hu-HU" sz="2800" spc="-1" strike="noStrike">
                <a:solidFill>
                  <a:srgbClr val="ffffff"/>
                </a:solidFill>
                <a:latin typeface="Tahoma"/>
              </a:rPr>
              <a:t>sn.exe –Vu szerelvény.dl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1715-5B00-4B27-994D-12FEAAC8772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Erős – gyenge nevű szerelvén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Ugyanaz a felépítés (csak privát lehet)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P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CLR fej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metadat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Azonban erős név (privát és globális is lehet): </a:t>
            </a:r>
            <a:br>
              <a:rPr sz="2800"/>
            </a:b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készítő privát / publikus kulcsa jelöli, ezért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egyed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biztonság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verzionál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bárhová telepíthető (akár a hálózaton i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6B54-DDB3-4BF6-9D93-414429600F5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roblém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Legyen Asm egy legalább 2 szerelvény által használt szerelvény, benne típusok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Két különböző cég implementálja ugyanazokat a típusoka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Telepítés régi módszerrel:</a:t>
            </a:r>
            <a:br>
              <a:rPr sz="3200"/>
            </a:b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Egyikkel felülírjuk a másikat (dll hell)!</a:t>
            </a:r>
            <a:br>
              <a:rPr sz="3200"/>
            </a:b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Fájlnevek különbsége sem elég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Megoldás az erős név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EFB7-2B44-4E79-AE51-E4039648C2C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Erős név tartalm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fájlnév (kiterjesztés nélkül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verziószám (x.y.v.z alakú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kultúra azonosító (nyelvi + területi azonosítás, neutral=ninc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publikus kulcs token (publikus kulcsból ered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Pl.: mscorlib, Version=1.0.5000.0, Culture=neutral, PublicKeyToken=b77a5c561934e089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EB44-0BBB-4313-BC54-908AE589209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cc"/>
                </a:solidFill>
                <a:latin typeface="Tahoma"/>
              </a:rPr>
              <a:t>Publikus privát kulcsú titkosítá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2 cég -&gt; 2 különböző titkos/nyilvános kulcspár -&gt; különböző erős név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Lehetne GUIID alapú is, titkosítás alkalmazásával lehet a szerelvény sértetlenségét, is biztosítani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FD2F-C64A-4920-9741-BAEB17FEF31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Erős nevű szerelvény létrehozás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Erős név generáltatása:</a:t>
            </a:r>
            <a:br>
              <a:rPr sz="2800"/>
            </a:br>
            <a:r>
              <a:rPr b="0" i="1" lang="hu-HU" sz="2800" spc="-1" strike="noStrike">
                <a:solidFill>
                  <a:srgbClr val="ffffff"/>
                </a:solidFill>
                <a:latin typeface="Tahoma"/>
              </a:rPr>
              <a:t>SN.exe –k sajat.kulcs (Strong Name Utility). 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Létrehoz egy fájlt, amiben saját (128 byte) / nyilvános (438 byte) kulcs tárolódik.</a:t>
            </a:r>
            <a:br>
              <a:rPr sz="2800"/>
            </a:b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(Paraméterei kis-, nagybetű érzékenyek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Megfelelő attribútum beállítása.</a:t>
            </a:r>
            <a:br>
              <a:rPr sz="2800"/>
            </a:b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pl.: AssemblyInfo.cs fájlba</a:t>
            </a:r>
            <a:br>
              <a:rPr sz="2800"/>
            </a:b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[assembly: AssemblyKeyFile(”sajat.kulcs”)]</a:t>
            </a:r>
            <a:br>
              <a:rPr sz="2800"/>
            </a:b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vagy</a:t>
            </a:r>
            <a:br>
              <a:rPr sz="2800"/>
            </a:br>
            <a:r>
              <a:rPr b="0" i="1" lang="hu-HU" sz="2800" spc="-1" strike="noStrike">
                <a:solidFill>
                  <a:srgbClr val="ffffff"/>
                </a:solidFill>
                <a:latin typeface="Tahoma"/>
              </a:rPr>
              <a:t>al.exe /keyfile 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kapcsolov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6977-8199-4855-A522-DDE556C34E2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Erős nevű szerelvény létrehozása II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Ezek után a fordító </a:t>
            </a:r>
            <a:r>
              <a:rPr b="0" i="1" lang="hu-HU" sz="3200" spc="-1" strike="noStrike">
                <a:solidFill>
                  <a:srgbClr val="ffffff"/>
                </a:solidFill>
                <a:latin typeface="Tahoma"/>
              </a:rPr>
              <a:t>megjelöli</a:t>
            </a: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 a saját kulccsal a szerelvény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Beilleszti a nyilvános kulcsot a manifest-be</a:t>
            </a:r>
            <a:br>
              <a:rPr sz="3200"/>
            </a:b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Már amelyiknek van manifestje.</a:t>
            </a:r>
            <a:br>
              <a:rPr sz="3200"/>
            </a:b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(Emlékezzünk – több modul esetén, csak egynek va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4C8E-FBAD-4C32-B96E-D8F3D4C5A61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Digitális jelölés I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A szerelvény metadata FileDef táblája tartalmazza a fájlok listáját, és az egyes fájlok nevét és ujjlenyomatát. </a:t>
            </a:r>
            <a:br>
              <a:rPr sz="3200"/>
            </a:b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Újlenyomat = hash összeg. (Alapértelmezett a SHA-1, de felülbírálható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E0DE-CF54-4AFF-8998-7CFC9E1B555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4T20:55:07Z</dcterms:created>
  <dc:creator>k</dc:creator>
  <dc:description/>
  <dc:language>en-US</dc:language>
  <cp:lastModifiedBy>krz</cp:lastModifiedBy>
  <dcterms:modified xsi:type="dcterms:W3CDTF">2007-10-31T08:33:02Z</dcterms:modified>
  <cp:revision>25</cp:revision>
  <dc:subject/>
  <dc:title>Megosztott szerelvények</dc:title>
</cp:coreProperties>
</file>