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2A4-E2E2-4767-8CBD-6C6539BC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BC4-BC81-46C3-B2FA-490E9CF3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F2C-2F83-4176-B0DF-6DED30BD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72D-2BF8-4AB5-9616-7C26CEC2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DBC6-7A53-431F-8A46-813BE496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D3B2-01E4-4FA0-8FF0-723B91F0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4006-1C59-4C44-A9AC-B4387CCB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BCAB-A56D-4508-BA61-078300D3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C8EE-1C90-4413-93D4-C703126D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2AFE-DBF7-4E6F-9373-4993CE56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2315-04CA-4FCF-866A-1620F46F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CD4-475F-4D3E-BC88-986BE196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C3A4-42AC-44C2-A492-086076C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1DEF-7565-46BE-BD6B-863FCBF3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7933-5BF0-4438-A35E-D9F4058B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961A-9130-42E6-A210-3F812D5D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7189-69A0-4EAF-9F07-4954C6E9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14A-C1A4-402A-81BA-9B8E1B23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76C-3C31-466E-8834-A29E96E1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4D5-EC64-48DA-A66E-667FB27D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424-CED9-4CCE-875E-500CFB93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8CC-9F97-40FB-96B9-A3CAE4E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40D-EBAF-4555-9E6B-05132727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836-B8F4-49E8-A5DC-473934FF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66cc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66ccff"/>
                </a:solidFill>
                <a:latin typeface="Verdana"/>
              </a:rPr>
              <a:t>&lt;date/time&gt;</a:t>
            </a:r>
            <a:r>
              <a:rPr b="1" lang="hu-HU" sz="1200" spc="-1" strike="noStrike">
                <a:solidFill>
                  <a:srgbClr val="66ccff"/>
                </a:solidFill>
                <a:latin typeface="Verdana"/>
              </a:rPr>
              <a:t>Krizsán Zoltá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66ccff"/>
                </a:solidFill>
                <a:latin typeface="Verdana"/>
              </a:rPr>
              <a:t>i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66cc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66ccff"/>
                </a:solidFill>
                <a:latin typeface="Verdana"/>
              </a:rPr>
              <a:t>Események C#-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6cc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F1A0-0245-4626-BFC5-35C5086107D8}" type="slidenum">
              <a:rPr b="1" lang="en-US" sz="1400" spc="-1" strike="noStrike">
                <a:solidFill>
                  <a:srgbClr val="66cc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BFFC-9218-4D1F-8F62-47B1E1FD2CE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100" spc="-1" strike="noStrike">
                <a:solidFill>
                  <a:srgbClr val="c4c3aa"/>
                </a:solidFill>
                <a:latin typeface="Arial"/>
              </a:rPr>
              <a:t>Események C#-ban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rizsán Zolt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i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1.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4c3aa"/>
                </a:solidFill>
                <a:latin typeface="Arial"/>
              </a:rPr>
              <a:t>Az eseményt megosztó osztály tervezése IV</a:t>
            </a:r>
            <a:br>
              <a:rPr sz="4000"/>
            </a:br>
            <a:r>
              <a:rPr b="0" lang="hu-HU" sz="2800" spc="-1" strike="noStrike">
                <a:solidFill>
                  <a:srgbClr val="c4c3aa"/>
                </a:solidFill>
                <a:latin typeface="Arial"/>
              </a:rPr>
              <a:t>Értesítő fv. definiálása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rotected, virtual a javaso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aramétere az esemény paramét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Neve On-al kezdődik és a vége az esemény nev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Ellenőrzi, hogy érdeklődik –e valaki az esemény iránt, majd meghívja azokat!</a:t>
            </a:r>
            <a:br>
              <a:rPr sz="2800"/>
            </a:br>
            <a:r>
              <a:rPr b="0" lang="cs-CZ" sz="2600" spc="-1" strike="noStrike">
                <a:solidFill>
                  <a:srgbClr val="66ccff"/>
                </a:solidFill>
                <a:latin typeface="Verdana"/>
              </a:rPr>
              <a:t>protected virtual void OnBeforeStart(StartEventArgs e) </a:t>
            </a:r>
            <a:br>
              <a:rPr sz="2600"/>
            </a:br>
            <a:r>
              <a:rPr b="0" lang="cs-CZ" sz="2600" spc="-1" strike="noStrike">
                <a:solidFill>
                  <a:srgbClr val="66ccff"/>
                </a:solidFill>
                <a:latin typeface="Verdana"/>
              </a:rPr>
              <a:t>{ </a:t>
            </a:r>
            <a:br>
              <a:rPr sz="2600"/>
            </a:br>
            <a:r>
              <a:rPr b="0" lang="cs-CZ" sz="2600" spc="-1" strike="noStrike">
                <a:solidFill>
                  <a:srgbClr val="66ccff"/>
                </a:solidFill>
                <a:latin typeface="Verdana"/>
              </a:rPr>
              <a:t>   if (BeforeStart != null) BeforeStart(this, e); </a:t>
            </a:r>
            <a:br>
              <a:rPr sz="2600"/>
            </a:br>
            <a:r>
              <a:rPr b="0" lang="cs-CZ" sz="2600" spc="-1" strike="noStrike">
                <a:solidFill>
                  <a:srgbClr val="66ccff"/>
                </a:solidFill>
                <a:latin typeface="Verdana"/>
              </a:rPr>
              <a:t>}</a:t>
            </a:r>
            <a:r>
              <a:rPr b="0" lang="hu-HU" sz="26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2BF-7B8A-4063-B1AB-5BD5B2FACB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4c3aa"/>
                </a:solidFill>
                <a:latin typeface="Arial"/>
              </a:rPr>
              <a:t>Az eseményt megosztó osztály tervezése V</a:t>
            </a:r>
            <a:br>
              <a:rPr sz="4000"/>
            </a:br>
            <a:r>
              <a:rPr b="0" lang="hu-HU" sz="2800" spc="-1" strike="noStrike">
                <a:solidFill>
                  <a:srgbClr val="c4c3aa"/>
                </a:solidFill>
                <a:latin typeface="Arial"/>
              </a:rPr>
              <a:t>Észlelő fv. definiálása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Észleli a várt esemény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Létrehozza az esemény paraméter osztályá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eghívja az értesítő fv.-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EAA-BD72-478F-A6C1-C4229BD646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élda kódj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class MailManager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public class MailMsgEventArgs : EventArgs 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public MailMsgEventArgs(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String from, String to, String subject, String body)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this.from =from;this.to  = to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this.subject =subject;this.body =body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public readonly String from, to, subject, body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ccff33"/>
                </a:solidFill>
                <a:latin typeface="Verdana"/>
              </a:rPr>
              <a:t>public delegate void MailMsgEventHandler(Object sender, MailMsgEventArgs args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public event MailMsgEventHandler MailMsg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9ac2c0"/>
                </a:solidFill>
                <a:latin typeface="Verdana"/>
              </a:rPr>
              <a:t>protected virtual void OnMailMsg(MailMsgEventArgs e)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ac2c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9ac2c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9ac2c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9ac2c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9ac2c0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9ac2c0"/>
                </a:solidFill>
                <a:latin typeface="Verdana"/>
              </a:rPr>
              <a:t>if (MailMsg !=null){ MailMsg(this, e); }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bfcb4f"/>
                </a:solidFill>
                <a:latin typeface="Verdana"/>
              </a:rPr>
              <a:t>public void SimulateArrivingMsg(String from, String to, String subject, String body)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fcb4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bfcb4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bfcb4f"/>
                </a:solidFill>
                <a:latin typeface="Verdana"/>
              </a:rPr>
              <a:t>MailMsgEventArgs e = new MailMsgEventArgs(from, to, subject, body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fcb4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bfcb4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bfcb4f"/>
                </a:solidFill>
                <a:latin typeface="Verdana"/>
              </a:rPr>
              <a:t>OnMailMsg(e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50920" y="14130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9640" y="292428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386064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604360" y="37162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5280" y="4869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24000" y="3644640"/>
            <a:ext cx="50292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3F5-B775-45E5-8635-29942DFE38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Mi is történik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66ccff"/>
                </a:solidFill>
                <a:latin typeface="Verdana"/>
              </a:rPr>
              <a:t>public event MailMsgEventHandler MailMsg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Sor hatásár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Private delegátum adattag (linkelt lista fej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Publikus add_ tagfv. (System.Delegate.Combine fv.-t hívj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Publikus remove_ tagfv. (System.Delegate.Remove fv.-t hívj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jön lét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8F7-4D72-4EE4-A538-86695E7956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Mi is történik? I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ccff33"/>
                </a:solidFill>
                <a:latin typeface="Verdana"/>
              </a:rPr>
              <a:t>private MailMsgEventHandler MailMsg = null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3300"/>
                </a:solidFill>
                <a:latin typeface="Verdana"/>
              </a:rPr>
              <a:t>[MethodImplAttribute(MethodImplOptions.Synchronized)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public void add_MailMsg(MailMsgEventHandler handler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MailMsg = (MailMsgEventHandle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Delegate.Combine(MailMsg, handler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3300"/>
                </a:solidFill>
                <a:latin typeface="Verdana"/>
              </a:rPr>
              <a:t>[MethodImplAttribute(MethodImplOptions.Synchronized)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public void remove_MailMsg(MailMsgEventHandler handler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MailMsg = (MailMsgEventHandle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Delegate.Remove(MailMsg, handler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9966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8D9-8F15-425F-95C5-C365680CF7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z érdeklődő osztály tervezés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Definiáljunk legalább 3 tagfv.-t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ccff"/>
                </a:solidFill>
                <a:latin typeface="Verdana"/>
              </a:rPr>
              <a:t>Konstrukto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ccff"/>
                </a:solidFill>
                <a:latin typeface="Verdana"/>
              </a:rPr>
              <a:t>Eseménykezelő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ccff"/>
                </a:solidFill>
                <a:latin typeface="Verdana"/>
              </a:rPr>
              <a:t>Érdeklődést visszavonó (unregiste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Konstrukto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kapja meg a érdekelt eseményt küldő osztályt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a fv. végén jelentse be érdeklődését az esemény iránt!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 operator+= </a:t>
            </a:r>
            <a:r>
              <a:rPr b="0" i="1" lang="hu-HU" sz="2400" spc="-1" strike="noStrike">
                <a:solidFill>
                  <a:srgbClr val="66ccff"/>
                </a:solidFill>
                <a:latin typeface="Verdana"/>
              </a:rPr>
              <a:t>Eseménykezelő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, ami átfordul xxx.add_ fv. Hívás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33F-77B8-48E0-B321-EB51F841F5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z érdeklődő osztály tervezése II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seménykezelő fv.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Paraméterszignatúrája meg kell egyezzen az esemény delegátum típusával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Érdeklődést visszavonó (unregister)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perator-= </a:t>
            </a:r>
            <a:r>
              <a:rPr b="0" i="1" lang="hu-HU" sz="3200" spc="-1" strike="noStrike">
                <a:solidFill>
                  <a:srgbClr val="66ccff"/>
                </a:solidFill>
                <a:latin typeface="Verdana"/>
              </a:rPr>
              <a:t>Eseménykezelő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, ami átfordul xxx.remove_ fv. Hívásra.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setleg meghívhatja a Dispose-t i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14B-3C86-4FA4-8EE8-D418E9BA48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élda kódja – Fax osztál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class Fax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public Fax(MailManager mm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mm.MailMsg += new MailManager.MailMsgEventHandler(FaxMsg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private void FaxMsg(Object Sender, MailManager.MailMsgEventArgs e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Console.WriteLine("Faxing mail message: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Console.WriteLine(" To: {0}\n From: {1}\n Subject: {2}\n Body: 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{3}\n",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e.from, e.to, e.subject, e.body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public void Unregister(MailManager mm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MailManager.MailMsgEventHandler callback =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new MailManager.MailMsgEventHandler(FaxMsg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mm.MailMsg -= callback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944-489C-4E89-82B5-08A03E06E8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Példa kódja – Pager osztál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class Pager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public Pager(MailManager mm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mm.MailMsg += new MailManager.MailMsgEventHandler(PagerMsg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private void PagerMsg(Object Sender, MailManager.MailMsgEventArgs e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Console.WriteLine("Pager message: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Console.WriteLine(" To: {0}\n From: {1}\n Subject: {2}\n Body: 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{3}\n", e.from, e.to, e.subject, e.body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public void Unregister(MailManager mm)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MailManager.MailMsgEventHandler callback =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new MailManager.MailMsgEventHandler(PagerMsg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mm.MailMsg -= callback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4EA-FADF-4441-952D-CAAB703AC0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Esemény regisztráció feletti közvetlen felügyele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generált kód nem ideális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a nincs párhuzamosság, akkor felesleges a</a:t>
            </a:r>
            <a:br>
              <a:rPr sz="3200"/>
            </a:br>
            <a:r>
              <a:rPr b="0" lang="hu-HU" sz="3200" spc="-1" strike="noStrike">
                <a:solidFill>
                  <a:srgbClr val="ff3300"/>
                </a:solidFill>
                <a:latin typeface="Verdana"/>
              </a:rPr>
              <a:t>[MethodImplAttribute(MethodImplOptions.Synchronized)]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ttribútum, ami lassí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Pláne ha még loggolni is kell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4AA-73CF-406C-B750-949F1292D7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Mi az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szinkron történésről értesítés egy vagy több objektum számár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Delegátumok segítségével valósítja meg a C#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57B-01D6-40F3-B129-F7CF6C9CE1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éldakód változás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6120"/>
            <a:ext cx="822960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class MailManager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public class MailMsgEventArgs : EventArgs{…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public delegate void MailMsgEventHandler(Object sender, MailMsgEventArgs args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private MailMsgEventHandler mailMsgEventHandlerDelegate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public event MailMsgEventHandler MailMsg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add {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mailMsgEventHandlerDelegate = (MailMsgEventHandler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Delegate.Combine(mailMsgEventHandlerDelegate,value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9ac2c0"/>
                </a:solidFill>
                <a:latin typeface="Verdana"/>
              </a:rPr>
              <a:t>remove{</a:t>
            </a:r>
            <a:r>
              <a:rPr b="0" lang="hu-HU" sz="1600" spc="-1" strike="noStrike">
                <a:solidFill>
                  <a:srgbClr val="9ac2c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9ac2c0"/>
                </a:solidFill>
                <a:latin typeface="Verdana"/>
              </a:rPr>
              <a:t>mailMsgEventHandlerDelegate = (MailMsgEventHandler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ac2c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9ac2c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9ac2c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9ac2c0"/>
                </a:solidFill>
                <a:latin typeface="Verdana"/>
              </a:rPr>
              <a:t>Delegate.Remove(mailMsgEventHandlerDelegate,value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9ac2c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9ac2c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9ac2c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protected virtual void OnMailMsg(MailMsgEventArgs e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if (mailMsgEventHandlerDelegate !=null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mailMsgEventHandlerDelegate(this, e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public void SimulateArrivingMsg(String from,String to,String subject,String body){…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80B-AE27-49F8-8A89-B1C675129A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Lehetőség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gy objektum </a:t>
            </a: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bejelentheti érdeklődésé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gy esemény irá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gy objektum </a:t>
            </a: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visszavonhatja érdeklődésé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gy esemény irá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gy objektum </a:t>
            </a: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eseményt definiálhat, amit közzéteh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976-05AB-46BD-9464-F91F0FDC50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11280" y="907920"/>
            <a:ext cx="7850160" cy="4392720"/>
            <a:chOff x="611280" y="907920"/>
            <a:chExt cx="7850160" cy="4392720"/>
          </a:xfrm>
        </p:grpSpPr>
        <p:sp>
          <p:nvSpPr>
            <p:cNvPr id="338" name=""/>
            <p:cNvSpPr/>
            <p:nvPr/>
          </p:nvSpPr>
          <p:spPr>
            <a:xfrm>
              <a:off x="611280" y="907920"/>
              <a:ext cx="2160360" cy="16560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Fa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00720" y="907920"/>
              <a:ext cx="2160720" cy="16560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Nyomtat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43280" y="3213000"/>
              <a:ext cx="3024000" cy="2087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Levelező menedz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355640" y="4941720"/>
            <a:ext cx="4537440" cy="1439640"/>
            <a:chOff x="4355640" y="4941720"/>
            <a:chExt cx="4537440" cy="1439640"/>
          </a:xfrm>
        </p:grpSpPr>
        <p:cxnSp>
          <p:nvCxnSpPr>
            <p:cNvPr id="342" name=""/>
            <p:cNvCxnSpPr>
              <a:endCxn id="340" idx="4"/>
            </p:cNvCxnSpPr>
            <p:nvPr/>
          </p:nvCxnSpPr>
          <p:spPr>
            <a:xfrm flipV="1">
              <a:off x="4355640" y="5299920"/>
              <a:ext cx="1080" cy="1081800"/>
            </a:xfrm>
            <a:prstGeom prst="bentConnector2">
              <a:avLst/>
            </a:prstGeom>
            <a:ln w="25560">
              <a:solidFill>
                <a:srgbClr val="ffff00"/>
              </a:solidFill>
              <a:miter/>
              <a:tailEnd len="lg" type="stealth" w="lg"/>
            </a:ln>
          </p:spPr>
        </p:cxnSp>
        <p:sp>
          <p:nvSpPr>
            <p:cNvPr id="343" name=""/>
            <p:cNvSpPr/>
            <p:nvPr/>
          </p:nvSpPr>
          <p:spPr>
            <a:xfrm>
              <a:off x="5256360" y="4941720"/>
              <a:ext cx="3636720" cy="1297080"/>
            </a:xfrm>
            <a:prstGeom prst="wedgeEllipseCallout">
              <a:avLst>
                <a:gd name="adj1" fmla="val -73657"/>
                <a:gd name="adj2" fmla="val 31763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Új üzenet érkezi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0" y="2563560"/>
            <a:ext cx="7381440" cy="3457800"/>
            <a:chOff x="0" y="2563560"/>
            <a:chExt cx="7381440" cy="3457800"/>
          </a:xfrm>
        </p:grpSpPr>
        <p:cxnSp>
          <p:nvCxnSpPr>
            <p:cNvPr id="345" name=""/>
            <p:cNvCxnSpPr>
              <a:stCxn id="338" idx="4"/>
              <a:endCxn id="340" idx="2"/>
            </p:cNvCxnSpPr>
            <p:nvPr/>
          </p:nvCxnSpPr>
          <p:spPr>
            <a:xfrm flipH="1" rot="16200000">
              <a:off x="1419840" y="2835000"/>
              <a:ext cx="1694520" cy="1151640"/>
            </a:xfrm>
            <a:prstGeom prst="bentConnector2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346" name=""/>
            <p:cNvCxnSpPr>
              <a:stCxn id="339" idx="4"/>
              <a:endCxn id="340" idx="6"/>
            </p:cNvCxnSpPr>
            <p:nvPr/>
          </p:nvCxnSpPr>
          <p:spPr>
            <a:xfrm rot="5400000">
              <a:off x="5776920" y="2653200"/>
              <a:ext cx="1694520" cy="1515240"/>
            </a:xfrm>
            <a:prstGeom prst="bentConnector2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</p:cxnSp>
        <p:sp>
          <p:nvSpPr>
            <p:cNvPr id="347" name=""/>
            <p:cNvSpPr/>
            <p:nvPr/>
          </p:nvSpPr>
          <p:spPr>
            <a:xfrm>
              <a:off x="0" y="4508640"/>
              <a:ext cx="3059280" cy="1512720"/>
            </a:xfrm>
            <a:prstGeom prst="wedgeEllipseCallout">
              <a:avLst>
                <a:gd name="adj1" fmla="val 32356"/>
                <a:gd name="adj2" fmla="val -65111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4508640"/>
              <a:ext cx="3132000" cy="1512720"/>
            </a:xfrm>
            <a:prstGeom prst="wedgeEllipseCallout">
              <a:avLst>
                <a:gd name="adj1" fmla="val 160643"/>
                <a:gd name="adj2" fmla="val -64166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Bejelentik érdeklődésüket az esemény irá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770920" y="1735920"/>
            <a:ext cx="5761800" cy="2269440"/>
            <a:chOff x="2770920" y="1735920"/>
            <a:chExt cx="5761800" cy="2269440"/>
          </a:xfrm>
        </p:grpSpPr>
        <p:cxnSp>
          <p:nvCxnSpPr>
            <p:cNvPr id="350" name=""/>
            <p:cNvCxnSpPr>
              <a:stCxn id="340" idx="0"/>
              <a:endCxn id="338" idx="6"/>
            </p:cNvCxnSpPr>
            <p:nvPr/>
          </p:nvCxnSpPr>
          <p:spPr>
            <a:xfrm flipV="1" rot="16200000">
              <a:off x="2824920" y="1681920"/>
              <a:ext cx="1477080" cy="1585080"/>
            </a:xfrm>
            <a:prstGeom prst="bentConnector2">
              <a:avLst/>
            </a:prstGeom>
            <a:ln w="25560">
              <a:solidFill>
                <a:srgbClr val="00ccff"/>
              </a:solidFill>
              <a:miter/>
              <a:tailEnd len="lg" type="stealth" w="lg"/>
            </a:ln>
          </p:spPr>
        </p:cxnSp>
        <p:cxnSp>
          <p:nvCxnSpPr>
            <p:cNvPr id="351" name=""/>
            <p:cNvCxnSpPr>
              <a:stCxn id="340" idx="0"/>
              <a:endCxn id="339" idx="2"/>
            </p:cNvCxnSpPr>
            <p:nvPr/>
          </p:nvCxnSpPr>
          <p:spPr>
            <a:xfrm flipH="1" flipV="1" rot="5400000">
              <a:off x="4590000" y="1501920"/>
              <a:ext cx="1477080" cy="1945440"/>
            </a:xfrm>
            <a:prstGeom prst="bentConnector2">
              <a:avLst/>
            </a:prstGeom>
            <a:ln w="25560">
              <a:solidFill>
                <a:srgbClr val="00ccff"/>
              </a:solidFill>
              <a:miter/>
              <a:tailEnd len="lg" type="stealth" w="lg"/>
            </a:ln>
          </p:spPr>
        </p:cxnSp>
        <p:sp>
          <p:nvSpPr>
            <p:cNvPr id="352" name=""/>
            <p:cNvSpPr/>
            <p:nvPr/>
          </p:nvSpPr>
          <p:spPr>
            <a:xfrm>
              <a:off x="6156360" y="2637000"/>
              <a:ext cx="2376360" cy="1368360"/>
            </a:xfrm>
            <a:prstGeom prst="wedgeEllipseCallout">
              <a:avLst>
                <a:gd name="adj1" fmla="val -125550"/>
                <a:gd name="adj2" fmla="val -71115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Értesítés az esemény bekövetkezésérő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843280" y="3213000"/>
            <a:ext cx="3024000" cy="719280"/>
          </a:xfrm>
          <a:prstGeom prst="cloudCallout">
            <a:avLst>
              <a:gd name="adj1" fmla="val -14620"/>
              <a:gd name="adj2" fmla="val 78254"/>
            </a:avLst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finiál egy esemény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E25-63CC-447F-A6A4-1715C58305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z eseményt megosztó osztály tervezése I</a:t>
            </a:r>
            <a:br>
              <a:rPr sz="4000"/>
            </a:br>
            <a:r>
              <a:rPr b="0" lang="en-US" sz="2800" spc="-1" strike="noStrike">
                <a:solidFill>
                  <a:srgbClr val="c4c3aa"/>
                </a:solidFill>
                <a:latin typeface="Arial"/>
              </a:rPr>
              <a:t>Esemény paramétereinek definiálása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a szükségünk van paraméterre.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(Sender-t mindenképp megkapj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Osztály definiálása (neve vége EventArg), őse a </a:t>
            </a:r>
            <a:r>
              <a:rPr b="0" lang="hu-HU" sz="3200" spc="-1" strike="noStrike">
                <a:solidFill>
                  <a:srgbClr val="66ccff"/>
                </a:solidFill>
                <a:latin typeface="Verdana"/>
              </a:rPr>
              <a:t>Systen.EventAr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ublic class StartEventArgs : System.EventArgs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{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}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14E-A830-4E8C-9172-507963BA65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4c3aa"/>
                </a:solidFill>
                <a:latin typeface="Arial"/>
              </a:rPr>
              <a:t>Az eseményt megosztó osztály tervezése II</a:t>
            </a:r>
            <a:br>
              <a:rPr sz="4000"/>
            </a:br>
            <a:r>
              <a:rPr b="0" lang="hu-HU" sz="2800" spc="-1" strike="noStrike">
                <a:solidFill>
                  <a:srgbClr val="c4c3aa"/>
                </a:solidFill>
                <a:latin typeface="Arial"/>
              </a:rPr>
              <a:t>Delegátum definiálása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a van saját esemény paraméter, akkor kell saját delegátum típus is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a nincs, akkor használjuk a </a:t>
            </a:r>
            <a:r>
              <a:rPr b="0" lang="cs-CZ" sz="3200" spc="-1" strike="noStrike">
                <a:solidFill>
                  <a:srgbClr val="66ccff"/>
                </a:solidFill>
                <a:latin typeface="Verdana"/>
              </a:rPr>
              <a:t>System.EventHandler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A1A-6F12-48F3-9930-3F642DEE24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4c3aa"/>
                </a:solidFill>
                <a:latin typeface="Arial"/>
              </a:rPr>
              <a:t>Az eseményt megosztó osztály tervezése II</a:t>
            </a:r>
            <a:br>
              <a:rPr sz="4000"/>
            </a:br>
            <a:r>
              <a:rPr b="0" lang="hu-HU" sz="2800" spc="-1" strike="noStrike">
                <a:solidFill>
                  <a:srgbClr val="c4c3aa"/>
                </a:solidFill>
                <a:latin typeface="Arial"/>
              </a:rPr>
              <a:t>Delegátum definiálása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jánlások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Neve: EventHandler vég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void visszatéré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2 paramét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Első: küldő objekt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Második: paraméter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Ha nincs + paraméter, akkor használjuk a </a:t>
            </a:r>
            <a:r>
              <a:rPr b="0" lang="hu-HU" sz="2800" spc="-1" strike="noStrike">
                <a:solidFill>
                  <a:srgbClr val="66ccff"/>
                </a:solidFill>
                <a:latin typeface="Verdana"/>
              </a:rPr>
              <a:t>System.EventHandler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-t, aminek a 2. paramétere </a:t>
            </a:r>
            <a:r>
              <a:rPr b="0" lang="hu-HU" sz="2800" spc="-1" strike="noStrike">
                <a:solidFill>
                  <a:srgbClr val="66ccff"/>
                </a:solidFill>
                <a:latin typeface="Verdana"/>
              </a:rPr>
              <a:t>EventArgs.Empty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legyen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F36-D16A-4F54-A0C5-808CBD0177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z eseményt megosztó osztály tervezése III</a:t>
            </a:r>
            <a:br>
              <a:rPr sz="4000"/>
            </a:br>
            <a:r>
              <a:rPr b="0" lang="en-US" sz="2800" spc="-1" strike="noStrike">
                <a:solidFill>
                  <a:srgbClr val="c4c3aa"/>
                </a:solidFill>
                <a:latin typeface="Arial"/>
              </a:rPr>
              <a:t>Esemény definiálása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z előzőleg definiált delegátum a típusa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Ismernie kell mind a kiterjesztő, mind az érdeklődő osztályoknak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Láthatósága általában publikus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Gyakran tulajdonságnak definiáljuk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Minden esetben a küldő osztály hozza lét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88D-A8DF-4BEC-A69D-454E98F38E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z eseményt megosztó osztály tervezése III (opcionális)</a:t>
            </a:r>
            <a:br>
              <a:rPr sz="4000"/>
            </a:br>
            <a:r>
              <a:rPr b="0" lang="en-US" sz="2800" spc="-1" strike="noStrike">
                <a:solidFill>
                  <a:srgbClr val="c4c3aa"/>
                </a:solidFill>
                <a:latin typeface="Arial"/>
              </a:rPr>
              <a:t>Alapértelmezett esemény definiálása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a a megosztó osztály kompone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gy esemény megjelölhet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ccff"/>
                </a:solidFill>
                <a:latin typeface="Verdana"/>
              </a:rPr>
              <a:t>[System.ComponentModel.DefaultEvent("BeforeStart")] </a:t>
            </a:r>
            <a:br>
              <a:rPr sz="2800"/>
            </a:br>
            <a:r>
              <a:rPr b="0" lang="cs-CZ" sz="2800" spc="-1" strike="noStrike">
                <a:solidFill>
                  <a:srgbClr val="66ccff"/>
                </a:solidFill>
                <a:latin typeface="Verdana"/>
              </a:rPr>
              <a:t>public class Sender : System.ComponentModel.Componen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{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}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5A7-E56B-4CFC-AAD8-7100CA48B1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14:45:38Z</dcterms:created>
  <dc:creator>k</dc:creator>
  <dc:description/>
  <dc:language>en-US</dc:language>
  <cp:lastModifiedBy>KZ</cp:lastModifiedBy>
  <dcterms:modified xsi:type="dcterms:W3CDTF">2005-11-12T23:03:03Z</dcterms:modified>
  <cp:revision>40</cp:revision>
  <dc:subject/>
  <dc:title>Eseményrendszer, delegátumok C#-ban</dc:title>
</cp:coreProperties>
</file>