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BB2-EEF0-47B6-BAE3-AD7A4EE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078-8887-4B5D-97EB-857C5A8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048-9F9A-4486-9A99-9BFA9B90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4CF-5B86-42BE-9080-6C5AE434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DE0-4D50-4858-8749-FD6A40F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7EB-39A8-4736-9372-D80C3AD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272-7332-49F1-8C45-BBA2B50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B8B-B5C6-480C-86C1-C30A0C41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FB4-7DDF-407D-A845-71E47CF8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80D-541D-4D5B-82DE-C028B34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F7A-212E-4D25-BDBC-167C7C5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3C6-E307-47EA-B032-E2DE3D3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5F90-8F9D-4698-AA0D-73B97E5DA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A0EC-F4D5-4FD8-869C-E77472772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#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ztályok, struktúrá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rizsán Zolt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AC1-0F85-4352-816E-9229D761F40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E3542-46F8-4F49-8564-E5ED2A327C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kus osztály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a az osztálynak csak statiku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 metódusai, és tulajdonságai vannak, akkor érdemes megjelöl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tatic class CCC{} formáj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em lehet létrehozni példányt belő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Így véletlenül sem tudunk hozzáadni példány tag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D58-D5DB-4229-838F-52114616EE2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B38C3-8344-4696-94BC-B79DBA89D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ztály &lt;-&gt; Struktú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Mindkettő objektumok váza,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Calibri"/>
              </a:rPr>
              <a:t>Struktúra példány (érték típus) a stack-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Calibri"/>
              </a:rPr>
              <a:t>Osztály példány (referencia típus) a heap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Calibri"/>
              </a:rPr>
              <a:t>jön lét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Calibri"/>
              </a:rPr>
              <a:t>A struktúra pecsételt, nem lehet őse más elemek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ehetséges tagjai ugyanaz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AD7-4FAE-4FCB-A4A7-AF18CFCF80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A3619-F0BF-4892-A75A-624C53043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# osztály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75F-A2FC-4A7F-B396-86CE678DF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ztály fogal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Önálló hatáskörrel rendelkező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bsztrakt adattípus (ezek után használhatjuk mint új típust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mely több – logikailag összetartozó  – különböző elemet tartalmaz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c0504d"/>
                </a:solidFill>
                <a:latin typeface="Calibri"/>
              </a:rPr>
              <a:t>Minden esetben a heap-en jön lét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 programozó hozza létre, de a GC menedzseli.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Mozgatja törl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7D5-726E-46C5-9A6A-DB0F547A3C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6B67D-A26A-46CB-A22F-E29E77A8595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# osztály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1EE-7B76-4353-8D82-D2AE531AF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íci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Calibri"/>
              </a:rPr>
              <a:t>[attributes] [modifiers] class &lt;className&gt; [: baseClassName]  {     [class-body] }[;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ódosítók lehetnek: </a:t>
            </a:r>
            <a:br>
              <a:rPr sz="3200"/>
            </a:br>
            <a:r>
              <a:rPr b="0" i="1" lang="hu-HU" sz="3200" spc="-1" strike="noStrike">
                <a:solidFill>
                  <a:srgbClr val="000000"/>
                </a:solidFill>
                <a:latin typeface="Calibri"/>
              </a:rPr>
              <a:t>new, public, protected, internal, private, abstract, sea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asonló, mint C++-ban, vagy JAVA-ban, nem kötelező a „;” a végé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Nincs jelölve, de minden osztály a System.Object származott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66D-7D18-4737-B4B2-8E1D163060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2D50D-027F-4150-9EAE-C933D60B37A4}" type="datetime1">
              <a:rPr lang="en-US"/>
              <a:t>07/29/26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# osztály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3A1-E360-48FB-8801-B30773E2B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zők tárolási módja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ku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y példány minden objektum számára, osztályhoz kötődik, nem az objektumho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éldán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den objektumnak külön példánya van a tagbó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682-CA76-41D6-9194-BFB95F613F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8625E-6D71-437D-8435-3D587548D9BC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# osztály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A73-7F7D-4185-9E1B-551E57ABF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zők hozzáférési módosít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0504d"/>
                </a:solidFill>
                <a:latin typeface="Calibri"/>
              </a:rPr>
              <a:t>A tagok elérési szabályozza, minden mező elé ki kell tenn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alibri"/>
              </a:rPr>
              <a:t>private (alapértelmezett):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csak az adott osztályból érhető 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alibri"/>
              </a:rPr>
              <a:t>protected: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z adott osztályból, és a leszármazottakból érhető 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alibri"/>
              </a:rPr>
              <a:t>internal: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csak a szerelvény fv.-ei érhetik 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alibri"/>
              </a:rPr>
              <a:t>protected internal: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az előző kettő összeg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vag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ff"/>
                </a:solidFill>
                <a:latin typeface="Calibri"/>
              </a:rPr>
              <a:t>public: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nincs semmilyen korlátozás, minden szerelvénybő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8B5-9750-4997-A02B-6E1F3E788B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2B914-586F-474B-A9E7-C3D28273C86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Krizsán Zoltán, i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Élőláb hely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# osztály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F5A-335A-4CB6-86A0-DB92E6071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ztály rész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Adattagok (Field) – adatok </a:t>
            </a:r>
            <a:r>
              <a:rPr b="0" lang="hu-HU" sz="2700" spc="-1" strike="noStrike">
                <a:solidFill>
                  <a:srgbClr val="c0504d"/>
                </a:solidFill>
                <a:latin typeface="Calibri"/>
              </a:rPr>
              <a:t>(külön fóliasoroz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nstansok (Constant) – állandó ad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Csak olvasható mezők (read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agfüggvények (Method) – fv.-ek </a:t>
            </a:r>
            <a:r>
              <a:rPr b="0" lang="hu-HU" sz="2700" spc="-1" strike="noStrike">
                <a:solidFill>
                  <a:srgbClr val="c0504d"/>
                </a:solidFill>
                <a:latin typeface="Calibri"/>
              </a:rPr>
              <a:t>(külön fóliasoroz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Operátorok (Operator) – speciális tfv.-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Indexelők (Indexer) – speciális tfv.-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ntruktor, destruktor – speciális tfv.-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ulajdonságok (Property) – kívülről adat, belülről fv. </a:t>
            </a:r>
            <a:r>
              <a:rPr b="0" lang="hu-HU" sz="2700" spc="-1" strike="noStrike">
                <a:solidFill>
                  <a:srgbClr val="c0504d"/>
                </a:solidFill>
                <a:latin typeface="Calibri"/>
              </a:rPr>
              <a:t>(külön fóliasoroz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Delegátumok – típusos fv. Pointerek </a:t>
            </a:r>
            <a:br>
              <a:rPr sz="2700"/>
            </a:br>
            <a:r>
              <a:rPr b="0" lang="hu-HU" sz="2700" spc="-1" strike="noStrike">
                <a:solidFill>
                  <a:srgbClr val="c0504d"/>
                </a:solidFill>
                <a:latin typeface="Calibri"/>
              </a:rPr>
              <a:t>(külön fóliasoroz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Események (Event) – delegátumok </a:t>
            </a:r>
            <a:r>
              <a:rPr b="0" lang="hu-HU" sz="2700" spc="-1" strike="noStrike">
                <a:solidFill>
                  <a:srgbClr val="c0504d"/>
                </a:solidFill>
                <a:latin typeface="Calibri"/>
              </a:rPr>
              <a:t>(külön fóliasoroza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CB8-DA2C-4E54-BED4-9C37223732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F22A-6EDD-477B-86E8-999219C2C616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ciális osztályok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Lehetőség van egy osztályt több forrásfájlra tagolni. (visual studio form-okat külön tesz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partial kulcssz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nden részben meg kell, hogy egyezzenek a következő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vate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nal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led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clas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ic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F71-2EF6-41B0-A952-7FAC0D26D4A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CF449-67C6-46C3-81AA-20F9BED732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ciális osztályok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[Attributumok1] partial class NagyOsztaly : TheBigBaseClass, IBigClass {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public void MethodOne() { } }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[Attributumok2] partial class NagyOsztaly : IOtherBigClass {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public void MethodTwo() { } }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A fordító összeilleszt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[Attributumok1] [Attributumok2] partial class NagyOsztaly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: TheBigBaseClass, IBigClass, IOtherBigClass {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public void MethodOne() { }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public void MethodTwo() { }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Calibri"/>
              </a:rPr>
              <a:t>}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C1B-CC65-402A-9706-78A77FA433F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A5E45-7EB1-456A-A255-CF31877C59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4:13:09Z</dcterms:created>
  <dc:creator>krz</dc:creator>
  <dc:description/>
  <dc:language>en-US</dc:language>
  <cp:lastModifiedBy>krz</cp:lastModifiedBy>
  <dcterms:modified xsi:type="dcterms:W3CDTF">2008-02-19T21:56:06Z</dcterms:modified>
  <cp:revision>18</cp:revision>
  <dc:subject/>
  <dc:title>C# osztályok, struktúrák</dc:title>
</cp:coreProperties>
</file>