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219-508F-44C2-9F01-4CF72B1B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CE4-17E8-4D71-AF65-4E8A82A1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D8A-A35C-4BA2-B8D7-1789F621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F8A-1EC0-4912-A90D-92BED108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1ED-2505-4043-B130-172EA4FC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A8B-FE82-4968-9FBD-47D08CD7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A7F-0CCE-4CD2-ADBA-112A2A92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43B-044F-4029-8909-87800DD5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F90-20F5-434A-8FEE-8BE60303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7F2-47C6-4A5C-BBB6-B7E134CA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B08-5E8F-4A20-9A5A-252805CA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DA8-6A7F-4BB9-ADE8-6378627E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86AE-5A80-4D82-9DE2-BCDEAD401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# tagfüggv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struktor IV</a:t>
            </a:r>
            <a:br>
              <a:rPr sz="4000"/>
            </a:b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rivát konstrukt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yan osztályoknak kell, amelyeket nem szabad példányosíta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az, ha csak statikus részük 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Vigyázzunk, ha nem adunk meg hozzáférést, akkor az privát les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ath osztálynak is privát 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5CFB-173C-43D0-BFFD-BB0E1B7509D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estru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ve: ~osztályné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sak 1 darab lehet. Ami finalize-re konvertálód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öröklődi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lehet felüldefiniál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lehet meghívni explicite, de </a:t>
            </a: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meghívódik amikor a gc felszabadítja, kisöpri az objektumo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estruktor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lehet sem paramé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lehet módosító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adata az utóhatások megszüntetése. (értesítés, nyugtázás, …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uktúrának nem leh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2B07-8232-4564-9324-C725BB109B5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függvé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ztályban definiált függv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Arial"/>
              </a:rPr>
              <a:t>C#-ban nem definiálhatunk globális függvény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rmája:</a:t>
            </a:r>
            <a:br>
              <a:rPr sz="2800"/>
            </a:b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[attribútum] [módosítók] visszatérési_érték fvnév([paraméterszignatúra]){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módosító csak egyszer szerepelh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lcsönösen kizárják egymást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tic, virtual, over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lcsönösen kizárják egymást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w, over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5BAE-C85C-4C2F-83BE-8DCDF75B2EF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gfüggvény </a:t>
            </a:r>
            <a:br>
              <a:rPr sz="4000"/>
            </a:b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változó hosszúságú paraméterlist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lass OpenEnded{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 void Foo(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params object[] p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){ 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 (int i = 0 ;  i &lt; pp.GetLength(0) ;  i++){ 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nsole.WriteLine(pp[i]); 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lass TestVarArgs{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atic void Main(string[] args){ 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penEnded oe = new OpenEnded(); 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e.Foo(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123, 456, "Hello", new Point(7,8), 9.0m, true, 'X‘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;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7C7B-6E15-4F53-9254-74F0D7C765E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gfüggvény</a:t>
            </a:r>
            <a:br>
              <a:rPr sz="4000"/>
            </a:b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araméter átadás módja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oid ertekSzerint(int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állított értéket k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oid referenciaSzerint(ref int 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ívásnál is kell a ref kulcsszó, kötelező inicializál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oid kimenetiRefSzerint(out int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ívásnál is kell az out kulcsszó, kötelező a fv. törzsben beállít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6F28-E52E-41E5-93ED-C5997840AEF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agfüggvény</a:t>
            </a:r>
            <a:br>
              <a:rPr sz="4000"/>
            </a:br>
            <a:r>
              <a:rPr b="0" lang="hu-HU" sz="3300" spc="-1" strike="noStrike">
                <a:solidFill>
                  <a:srgbClr val="000000"/>
                </a:solidFill>
                <a:latin typeface="Arial"/>
              </a:rPr>
              <a:t>Main fv. alakja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900000" y="1557360"/>
            <a:ext cx="777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 static void Main() {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 static void Main(string[] args) {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 static int Main() {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 static int Main(string[] args) {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aramétere a parancssori argumentumokat tartalmaz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536D-2A34-4B31-A89F-6D0A1370451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agfüggvény</a:t>
            </a:r>
            <a:br>
              <a:rPr sz="4000"/>
            </a:br>
            <a:r>
              <a:rPr b="0" lang="hu-HU" sz="3300" spc="-1" strike="noStrike">
                <a:solidFill>
                  <a:srgbClr val="000000"/>
                </a:solidFill>
                <a:latin typeface="Arial"/>
              </a:rPr>
              <a:t>Virtuális fv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pból nem virtuális (nem úgy, mint 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Arial"/>
              </a:rPr>
              <a:t>virtua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ulcsszó segítségével lesz csak a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egy fv. virtuális, akkor kötelező definiálni a törzsét (nincs pure virtu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ülírása az </a:t>
            </a:r>
            <a:r>
              <a:rPr b="0" lang="hu-HU" sz="3200" spc="-1" strike="noStrike">
                <a:solidFill>
                  <a:srgbClr val="333399"/>
                </a:solidFill>
                <a:latin typeface="Arial"/>
              </a:rPr>
              <a:t>override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minősítővel a leszármazott osztályok valamelyiké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ljes azonosság kötelez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7DF8-E25C-40CA-B961-B32B7A89830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ve: osztályné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lehet meghívni explicite, de </a:t>
            </a: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meghívódik miután a rendszer létrehozta az objektumo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fault konstruktor létrejön, ha nem definiálunk (paraméter nélkül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nincs konstruktor itt is létrejön egy, és ez  0, false, null-ra állítja az adattagok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struktor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adata az objektum inicializálása „konstruálá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öbb is lehet, de paraméterei m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ívható másik konstruktor, akár az ősosztályé is, de a formája a következő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 Employee(int weeklySalary, int numberOfWeeks) </a:t>
            </a:r>
            <a:r>
              <a:rPr b="1" lang="hu-HU" sz="2800" spc="-1" strike="noStrike">
                <a:solidFill>
                  <a:srgbClr val="333399"/>
                </a:solidFill>
                <a:latin typeface="Arial"/>
              </a:rPr>
              <a:t>: this(weeklySalary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{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 Employee(int weeklySalary, int numberOfWeeks) </a:t>
            </a:r>
            <a:r>
              <a:rPr b="1" lang="hu-HU" sz="2800" spc="-1" strike="noStrike">
                <a:solidFill>
                  <a:srgbClr val="333399"/>
                </a:solidFill>
                <a:latin typeface="Arial"/>
              </a:rPr>
              <a:t>: base(weeklySalary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{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struktor fajt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éld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 objektum inicializálására használj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ktum létrehozását tiltjuk meg vel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osztály első betöltődésekor fut le vagy amikor a statikus mezőre először hivatkozu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adata a csak olvasható vagy statikus mezők beállít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 lehet paramét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2:43:07Z</dcterms:created>
  <dc:creator>krz</dc:creator>
  <dc:description/>
  <dc:language>en-US</dc:language>
  <cp:lastModifiedBy>krz</cp:lastModifiedBy>
  <dcterms:modified xsi:type="dcterms:W3CDTF">2008-02-19T23:37:15Z</dcterms:modified>
  <cp:revision>10</cp:revision>
  <dc:subject/>
  <dc:title>C# tagfüggvények</dc:title>
</cp:coreProperties>
</file>