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E55-4D39-44E2-9FB4-73B0E096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BFC-23B9-4BD0-BE62-D0ECD677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42DD-D636-4DEB-99F3-47F66F95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CE12-50DB-4BE7-B934-E9A6A582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BF16-E1A1-4321-8018-B54A0873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D85-CE9B-4438-BB5F-B17905DE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CBE0-2BD2-4006-ADFD-7FF71DC8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62F4-285E-4B66-9E32-DA83374F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263-9C48-4380-BD2F-03373C17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E473-FCC2-40A5-B9B3-C89A7BC2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303C-50C7-4522-B5B9-DC8BDA7F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BD86-F41F-4C2A-9504-896E62F3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4217-7938-434C-AAF8-5758D9E589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evezetés a programozásb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ximum,minimum kiválasztá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algoritm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Változók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N : egés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X : tömb (1..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AX: egés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Maxkiválasztás(N,X,MA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AX:=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iklus I=2 től N 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Ha X(MAX)&lt;X(I) akkor MAX:=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Maxkiválasztás(N,X,MAX,MAXER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AX:=1,MAXERT:=X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iklus I=2 től N 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Ha MAXERT &lt; X(I) akkor MAX:=I, MAXERT:=x(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inimum kiválasztásnál nagyobb helyett kisebbet vizsgálu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ásolá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1: egy szöveg minden magánhangzóját cseréljük ki az e betű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lgorit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üggvé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: H_elemtípus </a:t>
            </a:r>
            <a:r>
              <a:rPr b="0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G_elemtíp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áltozó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N : egés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X : tömb(1..N:H_elemtíp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Y : tömb(1..N:G_elemtíp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ásolás(N,X,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iklus i=1 től N 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Y(i):=F(X(i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Kiválogatá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2: adjuk meg egy osztály azon tanulóit, akik jeles átlagú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lgoritm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üggvé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T: Elemtípus </a:t>
            </a:r>
            <a:r>
              <a:rPr b="1" lang="hu-HU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 logika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áltozó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N : egés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X : tömb(1..N:Elemtípu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DB : egés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Y : tömb(1..N:Egés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iválogatás(N,X,Y,D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DB:=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iklus i=1 től N i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Ha T(X(i) akkor DB:=DB+1, Y(DB):=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ndezése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szerű cserés rende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elyfoglalás: N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sonlítások száma: N*(N-1)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n ill. max kiválasztásos rende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elyfoglalás: N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sonlítások száma: N*(N-1)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uborékos rende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elyfoglalás: N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sonlítások száma: N-1 – N*(N-1)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eillesztéses rende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elyfoglalás: N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sonlítások száma: N-1 – N*(N-1)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gyszerű cserés rendezé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endezés(N,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iklus I=1 től N-1 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iklus J=I+1 től N 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 X(I) &gt; X(J) akkor csere(X(I),X(J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00"/>
                </a:solidFill>
                <a:latin typeface="Arial"/>
              </a:rPr>
              <a:t>Min. ill. max. kiválasztásos rendezé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endezés(N,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iklus I=1 től N-1 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N:=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iklus J=I+1 től N 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 X(MIN) &gt; X(J) akkor MIN:=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sere(X(I),X(MIN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uborékos rendezé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Rendezés(N,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iklus I=N től 2 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iklus J=1 től I-1 i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Ha X(J)&gt;X(J+1) akkor csere(X(J),X(J+1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Javított Rendezés(N,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:=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iklus amíg I &gt;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S:=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iklus J=1 től I-1 i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Ha X(J)&gt;X(J+1) akkor csere(X(J),X(J+1)),CS:=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I:=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eillesztéses rendezé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endezés(N,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iklus I=2 től N 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J:=I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iklus amíg J&gt; 0 és X(J) &gt; X(J+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Csere (X(J),X(J+1)), J:=J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8:33:48Z</dcterms:created>
  <dc:creator>Nagymáté Péter</dc:creator>
  <dc:description/>
  <dc:language>en-US</dc:language>
  <cp:lastModifiedBy>Nagymáté Péter</cp:lastModifiedBy>
  <dcterms:modified xsi:type="dcterms:W3CDTF">2004-04-22T09:06:51Z</dcterms:modified>
  <cp:revision>5</cp:revision>
  <dc:subject/>
  <dc:title>Bevezetés a programozásba</dc:title>
</cp:coreProperties>
</file>