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EDB-52CB-40B1-BE30-39D75124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7AD-8494-4A2F-9423-F7162918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3D8-6136-4473-A0F2-0498889F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38E-A202-438D-8BF1-A2EB36E0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CE7-E908-4F16-B032-771A22C0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552-CAFB-4376-8631-9C39D508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5CA-DED1-471A-AB6C-0219333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502-1906-4622-A2C5-EB435DA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FBE-5099-4FCB-BD57-DE18BBC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899-DFE0-4B8F-8A75-BC3C670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528-1F40-49CC-B4BC-C39869A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31D-386D-49F1-ACC7-75466281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9B7-F71E-47EB-A62F-DED8A6905D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. Szokásos hibá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em teljesen tisztázott fel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em egyértelmű fogalmak (pl. második legnagyob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élrevezető szöveges leí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Áttekinthetetlen megfogalma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 hogyanról szól a mit hely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musok kódolás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. Az algoritmus leírás finomításának mélysége (a programíró felkészültségének függvényéb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eljesen részl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gramozási tételek szintjéig (pl. Keresés(N,X,páros,VAN,S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dulspecifikáció szintjé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 A programozási nyelv választásának szempontj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. Lehet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A programkészítő ismeri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3. Megbízhatóság, dokumentált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Könnyű alkalmazhatóság (megfelelő nyelvi eszköz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Hatékony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6. Modularitás, más nyelvű részek lehetnek-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7. Hordozhatóság, nyelvi álland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. Kódolási szabályok (tetszőleges nyelvre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. Értékadás (struktúra, részstruktúra, párhuzam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Beolvasás (kérdés, ellenőrzés, struktúra beolvasás), kiírás (pozícionálás, formátum, struktúra kiírá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3. Elágazások (mi van, ha nincs különben-á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Ciklusok (ciklusok egymásba alakítá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Eljárások, függvények (mi van, ha nincs paraméter; függvé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V. Program transzformá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Nem megengedett elágazás feltételek (logikai változ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Nem megengedett ciklusfeltételek (logikai változ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Szimmetrikus logikai művelet a ciklusfeltételben (típusbővítés, feltétel kiemelés, lé­pésszám csökkenté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Nem megengedett párhuzamos értékadás (segédváltoz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. Szekvencia két tagjának felcserélése (feltétele: függetlensé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6. Ciklusváltozó növelése és ciklusmag felcserélése 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. Nem megengedett sokirányú elágazás (elseif szerkez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. Függvény helyettesítése változóval (ha többször kellene kiszámolni az értéké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9. Nem megengedett függvényérték típus (eljárássá alakít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ozási nyelvek osztályozá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. Amatőr és professzionális programozási nyelv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. Emberközel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I. Számítási modellek (az az absztrakt modell, ami alapján az algoritmusokat végre kell hajta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matőr és professzionális programozási nyelve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tő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ktiv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yors nyelvi fejlő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k nyelvi 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szerű program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ális gépi tulajdonság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fesszioná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odular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abil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vés nyelvi 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k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épfüggetlenség, átvi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Emberközelsé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csonyszintű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imbolikus utasít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mkené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r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ktív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thelyfoglalás, defini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épi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ó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Emberközelsé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szintű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feladatorient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tozó=tart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fejez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í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ágazás, cik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jár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araméter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csonyszintű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éporient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=kezdőc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tételes vezérlésát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hívás, visszat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. Neumann-elvű nyelvek     ( Neumann-elvű számítógé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emória, címezhető (sorszámm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rogram és az adatok a memóriában van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végrehajtás memóriaállapotok sorozata, állapottér (adatok tere), koordináták, programfüggvény: állapottér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lapottér, konkrét állapot=pon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rogram leírása szöve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n változ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n értékad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utasítások ismételt végrehajtása lehetséges (ciklus, GO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ágazás (GO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eolvasás: memória másolás (ld. C6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iírás: memória másolás (képernyő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A jelenlegi számítógépek ilyenek, s ezért a nyelvek jelentős többsége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 problémamegoldás lépése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tapélda: házépí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, ami látszi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, ami ténylegesen mögötte v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gényfelmérés (szempontok: család mérete, elképzelése, pén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ervezés (alaprajz, anyagigé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Szervezés (ütemterv vagy vállalkoz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Építkezés (anyagbeszerzés, kivitelez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Használatba vétel (szemrevételezés - szépség, kipróbálás - jósá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Beköltözés, bentlakás (módosítgatás, újabb hibák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. Automata-elvű nyelvek    (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pari robot, pl. festőautom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adatok állapotok, illetve bemenetek – fix felosztású memória (pl. festőkar he­lye, fest-e, ...): állapotté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végrehajtás egyszerű állapotok soroz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gy állapotátmenet-függvé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lkülönül az állapotoktó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vékenységorientáltság (állapotváltoztatá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utasítások általában egy állapotkomponenst változtat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áltozó, értékadás nincs (csak névvel ellátott állapotkomponense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sak primitív (állapot-, vagy paraméter- vagy érzékelőállapot-függő) ciklusok ír­ható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állapot-, vagy paraméter vagy érzékelőállapot-függő elágaz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tasítások paraméterezhető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olvasás: paraméterezés, állapotlekérdezés, érzékelő állap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írás: állapotváltozás nyo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árhuzamoss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. Példa: LOGO grafikai része, ipari robotok nyelv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Funkcionális nyelvek     ( analíz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program egy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ória nin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végrehajtás függvénykifej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ős matematikai kidolgozottsá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áltozó, értékadás nin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onstansok = konstans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ggvénykompozí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klus nincs, helyette rekurzív függvények lehet ciklus, ha léteznek a programon értelmezett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ltételes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ggvényargumentum v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olvasás: speciális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írás: a függvény eredménye, esetleg speciális (mellékhatással rendelkező függ­vén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Példa: LOGO szövegkezelő része, (FORTH,) LI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. Logikai nyelvek          ( matematikai log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gy logikai formula (általában nem lehet teljesen általános formula: megszorítások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végrehajtása a logikai formula kiértékel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rős matematikai kidolgozotts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ormulákban szerepelhetnek paraméter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és az adatok nem különülnek el (minden adat egy azonosan igaz for­mul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élda: szülője, nagyszülő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incs változó, értékad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ekvencia = és, elágazás = va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nincs, helyette rekurzív formulá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nak feltételes kifejezés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emi utasítás: mintaillesz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olvasás, kiírás: mintaillesz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lehetőség új formulák létrehozására (új utasítá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értékelési algoritmus: backtrack csak a MIT? kell leír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. Példa: PRO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. Adatfolyam nyelvek           ( csővezeté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. Objektumelvű nyelvek    ( emberek csoport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bjektum = szerkezet + eljárások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típ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adat és a kód nem választható el egymástó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(adatdefiniáláskor jönnek létre az őt kezelő eljárások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bjektumtípus=osztály </a:t>
            </a: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típust megvalósító mod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ivatkozás: objektumtípusú változó.eljárásnév, objektumtípusú változó.mezőné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objektumok üzenetekkel (eljárások) kommunikálnak egymássa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eseményvezérelt programozá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öröklés: az új objektum egy másik objektum összes jellemzőjével rendelkezik, il­letve ehhez újakat is definiál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típusszármaztatás (láthatósági kérdése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örökléssel objektumok hierarchikus rendszere alakítható k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sak értékszerinti paraméterátadás lehe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dinamikus objektumokhoz (mutató) meg kell adni egy konstruktort és egy dest­rukt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objektumok (tárgyak) önálló életet élő dolg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eljáráshívás a legfontosabb fogal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lyan objektumnak lehet értéket adni, amely ilyen eljárást közöl magáró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3. Példa: Turbo Pascal 6.0, Visual BASIC, Small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ff00"/>
                </a:solidFill>
                <a:latin typeface="Arial"/>
              </a:rPr>
              <a:t>Neumann elv</a:t>
            </a:r>
            <a:r>
              <a:rPr b="1" lang="hu-HU" sz="4400" spc="-1" strike="noStrike">
                <a:solidFill>
                  <a:srgbClr val="ffff00"/>
                </a:solidFill>
                <a:latin typeface="Arial"/>
              </a:rPr>
              <a:t>ű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nyelvek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Arial"/>
              </a:rPr>
              <a:t>I. Ad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1. Elemi adattípu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integer, char, real, boolean, complex, byte, double precision, long­integer, wo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2. Felsor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konstansok átlapolhatók-e vagy s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3. Altí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részhalmaz kijelölés logikai formulával, részintervall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4. Származtatott tí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azonos értékhalmaz, de nem keverhe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mann elvű nyelvek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5. Mut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eépített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OKE cím,by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6. Összetett adattípusok (tömb, szöveg, rekord, halmaz, unió, f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rekord: szelektoro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,EL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változónév.mezõné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COBO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mezõnév IN változóné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konstrukciós mûvel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[mezõ,mezõ,...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unió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COBO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REDEF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EQUIVAL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ömbindexek: 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általáb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 &gt;=0 (1) és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 véges típ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konstrukciós mûvel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ELAN1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[elem,elem,...]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ALGOL68,Ada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résztömb müvele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ff00"/>
                </a:solidFill>
                <a:latin typeface="Arial"/>
              </a:rPr>
              <a:t>II. Utasítás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1. Érték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értékmásolás: minden változóhoz más memória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értékmegosztás: minden értékhez más memória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Többszörös értékadás (pl. C: A=B=C,PL/I, FORTR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Párhuzamos értékadás (pl. A,B:=B,A, ld. Z80: EX DE,HL, CL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j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dés: tets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leges (típusú) változó, konstruktor (kivétel sokszor: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ltételes kifejezés (Pl. ALGOL60, ELAN: A:=if X&lt;Y then Y else 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ltételes értékadás (Pl. ALGOL68: if A&lt;B then A else B :=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2. Elágazá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if then 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ágazás záró utasÍtás: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77,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LGOL68,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"csellengõ else„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LSE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L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 feltételnek lehet mellékhatá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sokirányu elágazás: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kiszámitott 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SEL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emdeterminisztikus elágazá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when A&lt;=B the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when A&gt;=B the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emszimmetrikus logikai mûveletek (optimalizált végrehajtás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Modula-2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and,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and then, or 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3. Cikl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WHILE bentmaradás feltétele DO ciklus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REPEAT ciklusmag UNTIL kilépés feltét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-s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iklusvég:   ENDDO, OD, ENDWHILE, END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elsorolás:  ALGOL60: for i:=2,3,5,7,11 do utas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Pascal: absztrakt felsorolás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Kilépés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ontinue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ciklusv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ciklusvég mögé (ki a ciklusbó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Modula-2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exit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a ciklusvég mögé (ki a ciklusbó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iklusváltozó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általában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egész, néha való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diszkrét 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a ciklusra loká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ALGOL60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tömbelem is leh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00"/>
                </a:solidFill>
                <a:latin typeface="Arial"/>
              </a:rPr>
              <a:t>4. Input-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inc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LGOL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Termin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írás, olvas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ozícionálás + egyebek (ESC-szekvenciá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yitás, zárás, írás, olvasás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ext, szekvenciális, indexelt, dire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ile vége kezelés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OF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ND=cimke (olvasá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Statusz változó, ONERROR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ORMAT, USING,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incs, hanem PREDEFINIT mûveletek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Modula-2, ELAN, 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Milyen típusú adat írható, olvashat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emi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saját (elemi)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etszõleges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 A programkészítés folyama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Specifikálás (miből?, mit?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specif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Tervezés (mivel?, hogyan?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dat- + algoritmus-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Kódolás (a gép hogyan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kód (reprezentáció+ implementáci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Tesztelés (hibás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ibalista (diagnóz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. Hibakeresés (hol a hiba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ibahely, -ok (teráp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6. Hibajavítás (hogyan jó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elye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. Minőségvizsgálat, hatékonyság (jobbítható?)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jó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. Dokumentálás (hogyan működik, használható?)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ználható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9. Használat, karbantartás (még mindig jó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velő (időtálló)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00"/>
                </a:solidFill>
                <a:latin typeface="Arial"/>
              </a:rPr>
              <a:t>5. Eljárás, függvény, operáto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különítés a program többi részétõ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átadás (cím, név, érték, eredmény szerint), meg lehet mondani, mily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var, érté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VAR, CO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CDL2,Ada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i, o, 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roblémái: álnév, globális változó használ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Számuk, azonosításuk módja: sorrend szerint, név szer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ek feltételezett érté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Lokális változ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BASIC: GOSUB sorszám, nincs fizikai vége és kezd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: finomítás:  nincs paraméter, nincs lokális változ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üggvény: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DEF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utasításfüggvé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scal, E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Operátor: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Mellékhatás problémá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A függvény értéktípusa sokszor elemi típusokra korlátozott (kivétel: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 lehe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változó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Pascal,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üggvény, eljárás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Pascal,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típus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6. Modul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Modula-2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Specifikációs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Implementációs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XPORT, IMPORT, eljárások elrej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LAN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ACKET név DEFINES eljárás és típusne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Turbo Pascal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7. Specifikáció a programszöveg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uclid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roc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re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ost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begin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 más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ggvénytáblázat, nagybetű-kisbetű konverzió, szótagok hangrendje, vektorok össze­adá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orozat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évi összeg, autóversenyző körönkénti idej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átlagkör, N!, szakkörök névsor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zakkörre járók névsora, szavak sorozat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nd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eldönté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ím-e, hónapnév-e, bukott-e, van-e sziget, monoton növekvő-e, kitűnő-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ivála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lyik volt pozitív, 1 év hőmérsékle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kor nem fa­gyott, hónapnév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rszám, legkisebb oszt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(lineáris) keres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lyik volt negatív, menetre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nat átszállás nélkül, va­lódi osztó, horgászok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0 kg-osnál nagyobb halat fogó, bajnoksá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ndent nyerő csap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megszám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aládi jövedelmek, létszám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étminimum alattiak száma, osztók száma, ma­gánhangzók száma, bajnokság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% felett van-e a többsé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aximum kiválasz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gjobb hónap, legrosszabb hónap, kórházi betege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glá­zasabb, legmelegebb nap, névsor első emb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kiváloga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mélynyilvántart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 évnél fiatalabb lányok, N osztói, magas hangrendű sza­vak, menetre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kor vannak vonatok, jeles átlagú tanulók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ozási tételek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rozat(ok)hoz sorozat(ok) rendelés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szétválogatá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áték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típusok szerint (autók, babák, társasjátékok, kártyák), fiúk–lányok, páro­sak–páratlanok, lázasak–egészségesek, jeles–jó–közepes–elégséges–elégtelene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etszet (közös elemek kiválogatá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özös prímosztók, madármegfigyelés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nem költözők, horgászok halfélé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e­lyiket fogta mindenki, emberek szabad órá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indenki ráé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gyesítés (unió: legalább az egyikben előforduló elemek kiválogatás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kkt prímtényezői, emberek szabad órá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valaki ráér, horgászok halfélé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i­lyen halak van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összefuttatás (rendezettek uniój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iúk, lányok névsora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osztálynévsor, osztálynévsor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skolanévsor, szakkör­névsor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szakkörre járók névsora, időfutamok eredménye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végeredmény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elemi rendezése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gyszerű cseré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inimum kiválasztáso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buboréko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ozási tételek: keresése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keres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ogaritmikus keres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isszalépéses keresés (backtrac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lgoritmusok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tcai telefon használata: az algoritmus fogalma (mi algoritmus és mi nem a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égrehajtható (van hozzá végrehajt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épésenként hajtható vég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lépések maguk is algoritmu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ontosan definiált, adott végrehajtási sorrend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 folyamat véges hosszúságú, időben esetleg végtelen leír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örpautomata használ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másutáni végrehajtás, ismétlés (elöltesztel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árhuzamosság, nemdeterminisztikus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éges-végtelen ismét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2-ből, több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egyből, ismétlés (hátultesztel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nemdeterminisztiku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smétlés (számlálá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mdeterminisztikus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Ad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ódavíz készíté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i és összetett adat (patron, víz; szif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menő, kimenő, belső adat (patron, víz; szifon; szódaví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ans, változó (fej; patron, szif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tok és algoritmikus szerkezetek kapcso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 szorz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kv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ága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kasá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us, rekurz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kál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. Rész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Bemenő adatok (értékalmaz, mértékegység)+ összefüggéseik (előfelt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Eredmények + kiszámítási szabályuk (utófelt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A megoldással szembeni követel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Korlátozó tényez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A használt fogalmak definició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. Tulajdonság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Egyértelmű, pontos, tel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Rövid, tömör, formalizá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Szemléletes, ért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kál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II. Specifikációs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Szöveges 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Matematikai mega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galma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lapottér: értékhalmazok direkt szorzata — A=BxCx...x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lapot: az állapottér egy pon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: az állapottér projekciója — egy koordiná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adat: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x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: állapotsorozat (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xA**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függvény: A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 (illetve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xA) (véges futások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: a P program (p programfüggvénnyel) megoldja az F feladatot, ha DF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P és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F: p(a)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őfeltétel, utófeltétel, leggyengébb előfeltétel: ef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lf(P,u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élda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(x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= z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1. Be: X,Y,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:=(X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+Y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-Z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i: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. Be: X,Y,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XX:=X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: YY:=Y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: ZZ:=Z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:=XX+YY-Z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i: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hu-H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bx+c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öveges specif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menet-kimenet 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halmaz (a=0 lehe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ogalmak: megol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menet változatlansá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determinisztikusság (adjunk meg egy megoldás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. A specifikáció (programfüggvény) és az algoritmikus szerkezet kapcso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743120"/>
            <a:ext cx="741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7:25:32Z</dcterms:created>
  <dc:creator>Nagymáté Péter</dc:creator>
  <dc:description/>
  <dc:language>en-US</dc:language>
  <cp:lastModifiedBy>Nagymáté Péter</cp:lastModifiedBy>
  <dcterms:modified xsi:type="dcterms:W3CDTF">2004-03-25T09:26:33Z</dcterms:modified>
  <cp:revision>24</cp:revision>
  <dc:subject/>
  <dc:title>Bevezetés a programozásba</dc:title>
</cp:coreProperties>
</file>