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Beágyazott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lokkstrukturáltság támog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ddig: egymásba ágyazható blokk utasít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sztálydefiníciók is egymásba ágyaz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szor kényelmes: frappáns, kompakt kó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gyázat: könnyű nehezen olvashatóvá, bonyolulttá tenni a programunkat v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sznál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gfelelő könyvtár import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Lista osztályból példány(ok) létreh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töltés adato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trejönnek az Elem objektumok a hátté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iterátor lekérd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Felsoroló osztályú objektumot kap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zzákapcsolódik a listához, amit be kell já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sta bejárása az iterátor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terátor tudja, melyik listát kell bejá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em statikus tag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kor létrehozunk egy Felsoroló objektumot, akkor az hozzákapcsolódik egy Lista objektum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ok közötti kapcsolatot építettünk 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utomatikusan megtehetjük nem statikus tagosztály segítségéve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ként definiált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ldányszint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kell a static kulcss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52280"/>
            <a:ext cx="84582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Lis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Elem első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hu-HU" sz="2400" spc="-1" strike="noStrike">
                <a:solidFill>
                  <a:srgbClr val="b2b2b2"/>
                </a:solidFill>
                <a:latin typeface="Courier New"/>
              </a:rPr>
              <a:t>static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class Felsoro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lements It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b2b2b2"/>
                </a:solidFill>
                <a:latin typeface="Courier New"/>
              </a:rPr>
              <a:t>final Lista lis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em aktuá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elsoroló (</a:t>
            </a:r>
            <a:r>
              <a:rPr b="1" lang="hu-HU" sz="2400" spc="-1" strike="noStrike">
                <a:solidFill>
                  <a:srgbClr val="b2b2b2"/>
                </a:solidFill>
                <a:latin typeface="Courier New"/>
              </a:rPr>
              <a:t>Lista lista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b2b2b2"/>
                </a:solidFill>
                <a:latin typeface="Courier New"/>
              </a:rPr>
              <a:t>this.lista = lis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ktuális = </a:t>
            </a:r>
            <a:r>
              <a:rPr b="1" lang="hu-HU" sz="2400" spc="-1" strike="noStrike">
                <a:solidFill>
                  <a:srgbClr val="b2b2b2"/>
                </a:solidFill>
                <a:latin typeface="Courier New"/>
              </a:rPr>
              <a:t>lista.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s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Iterator felsoroló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new Felsoroló(</a:t>
            </a:r>
            <a:r>
              <a:rPr b="1" lang="hu-HU" sz="2400" spc="-1" strike="noStrike">
                <a:solidFill>
                  <a:srgbClr val="b2b2b2"/>
                </a:solidFill>
                <a:latin typeface="Courier New"/>
              </a:rPr>
              <a:t>this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Lis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Elem első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class Felsoroló implements It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em aktuális = els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Iterator felsoroló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new Felsoroló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ső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sta.this.els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soroló objektum létrehozása csak egy List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bjektumhoz képest lehetség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KülsőFelsoro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extends Lista.Felsoroló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KülsőFelsoroló (Lista list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lista.sup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soroló objektum létrehozása csak egy List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bjektumhoz képest lehetség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okális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okális változók mintáj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k a befoglaló metóduson belül használható az osztálydefiní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lokális osztályú objektum viszont túlélheti az osztályát befoglaló metód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a Felsoroló osztályra csak a felsoroló() metódusban van szükség - definiáljuk ot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ód kompaktsága tovább nő ezz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61760" y="60948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Lis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Elem első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Iterator felsoroló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class Felsoro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lements It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em aktuális = els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new Felsoroló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gy másik péld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program típus helyett Java-ban interfészt használhatun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lamilyen objektumon végzett művelet absztrakció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ype Művelet = procedure (adat: Obj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oid (*f)(Obj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interface Műve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végrehajt (Object ada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lső iterá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Lis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mindre (Művelet művele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or ( Elem elem = el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em !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em = elem.kovetkez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művelet.végrehajt(elem.ada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lamilyen műveletet végrehajtunk minden listae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int multiplicit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Lista lista, final Object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minta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Számláló implements Műve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n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végrehajt (Object ada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 (adat.equals(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minta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zámláló számláló = new Számláló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sta.mindre(számláló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számláló.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sználhatjuk a metódus paramétereit és lokális változóit, csak annyi kell, hogy final-ek legye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tódus paramétere és lokális változója túlélheti a metód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Osztályok fajtá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utya közönséges oszt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ágyazott oszt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atikus tagosztál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jelentős minőségi különb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nem statikus) tagosztál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okális osztályo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belső osztál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évtelen osztál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434340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final megkerü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zt akarjuk, hogy egy paraméter vagy egy változó értéke megváltozhasson, de a final megmaradhasson valahogy, akkor tegyük be egy egy hosszúságú tömb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int multiplicit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Lista lista, final Object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[]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minta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évtelen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gazándiból a Felsoroló osztály definíciójára csak egy kifejezésben van szükségünk. Sőt, magára a Felsoroló osztályra sincs szükségünk, csak egy példányra belő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Egy kifejezésben szereplő osztálydefiní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Lis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Elem első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Iterator felsoroló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new Iterator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em aktuális = els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évtelen osztály, fordítás utá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sta$1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terfész megvalósítása vagy osztály kiterjeszt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rtelemszerű megkötések, pl. konstruktor sem ír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ágyazott osztályok haszn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vtelen osztály a leggyakrab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WT-ben eseménykezelők 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stázzuk ki a tmp alkönyvtár összes txt kiterjesztésű fájljának a nevé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 feladatot már korábban megoldottuk. Írjuk át névtelen osztályosra a megoldá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probl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aját lista adattípus megvaló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sta, E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em osztály egy segédosztá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áncolt ábrázo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5105520"/>
            <a:ext cx="990360" cy="5331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5105520"/>
            <a:ext cx="990360" cy="5331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5105520"/>
            <a:ext cx="990360" cy="5331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5105520"/>
            <a:ext cx="990360" cy="5331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4864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54864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4864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54864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029200"/>
            <a:ext cx="60948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>
            <a:off x="1371240" y="533376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6" name=""/>
          <p:cNvSpPr/>
          <p:nvPr/>
        </p:nvSpPr>
        <p:spPr>
          <a:xfrm>
            <a:off x="3124080" y="533412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33412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533412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apcsolat a Lista és az Elem közö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gyon erős kapcsolat között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felé csak a Lista fontos, az Elem n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ldás: tegyük őket egy csomagba, de csak a Lista lesz publi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 van, ha kell egy Fa adattípus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lön csomag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úl sok csomag lesz, nehéz haszná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gyanabba a csomag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veszik az elkülönültség előn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gis ez lesz a megoldá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é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csomagon belül van Lista, Elem, Fa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Lista és az Elem erősebb kapcsolatban legyen, mint Lista és Fa, vagy Elem és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Lista és az Elem lássák egymás privát dolgait is, és a Fa egyáltalán ne lássa az Elem osztál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jtsük el az Elem osztályt a Lista osztályon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elül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tatikus tag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ok: adattagok és metódusok;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ussz lehetnek osztályok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atikus tag: osztályszintű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atic kulcss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Lis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private class Elem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Elem első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class Lista {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rivate Elem első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rivate static class Elem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Object ada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Elem előző, következő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Elem(Object adat, Elem előző, Elem következő){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is.adat = adat; this.előző = előző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this.következő = következő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public void beszúr (Object adat)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első = new Elem(adat,null,első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if (első.következő != null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első.következő.előző = első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statikus tagosztályok által kínált előnyö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ogikai összetartozás kifej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mpaktság, olvasható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okbazárás, adatelrejtés támog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em segédosztályt elrejtettük a külvilág el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eágyazott osztály hozzáfér a befoglaló osztály privát adatai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soroló osztályból használhatjuk a Lista osztály privát adat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mészetesen a befoglaló is a beágyazottéih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4582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List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Elem első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vate static class Felsoro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lements It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nal Lista lis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lem aktuá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elsoroló (Lista list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is.lista = lis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ktuális = lista.els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Iterator felsoroló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new Felsoroló(thi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5:22:06Z</dcterms:created>
  <dc:creator>Kozsik Tamas</dc:creator>
  <dc:description/>
  <dc:language>en-US</dc:language>
  <cp:lastModifiedBy>kto</cp:lastModifiedBy>
  <dcterms:modified xsi:type="dcterms:W3CDTF">2006-04-27T15:49:59Z</dcterms:modified>
  <cp:revision>5</cp:revision>
  <dc:subject/>
  <dc:title>Beágyazott osztályok</dc:title>
</cp:coreProperties>
</file>