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</p:sldIdLst>
  <p:sldSz cx="10080625" cy="7559675"/>
  <p:notesSz cx="7772400" cy="10026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848720" y="7235640"/>
            <a:ext cx="2232000" cy="323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Kozsik Tam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2000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tp://xenia.sote.hu/pub/mirrors/java.blackdown.org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Java programozási nye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zsik Tamás, 2000-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39800" y="923400"/>
            <a:ext cx="86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golás: modulari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800" y="2103480"/>
            <a:ext cx="860580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ot komponensekre bon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ndszert alrendszerekre bon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3960" y="3733920"/>
            <a:ext cx="8867880" cy="3511440"/>
          </a:xfrm>
          <a:prstGeom prst="roundRect">
            <a:avLst>
              <a:gd name="adj" fmla="val 42"/>
            </a:avLst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5000" y="3921120"/>
            <a:ext cx="2386080" cy="3075120"/>
          </a:xfrm>
          <a:custGeom>
            <a:avLst/>
            <a:gdLst>
              <a:gd name="textAreaLeft" fmla="*/ 360 w 2386080"/>
              <a:gd name="textAreaRight" fmla="*/ 2385720 w 2386080"/>
              <a:gd name="textAreaTop" fmla="*/ 360 h 3075120"/>
              <a:gd name="textAreaBottom" fmla="*/ 3074760 h 3075120"/>
            </a:gdLst>
            <a:ahLst/>
            <a:rect l="textAreaLeft" t="textAreaTop" r="textAreaRight" b="textAreaBottom"/>
            <a:pathLst>
              <a:path w="21600" h="27837">
                <a:moveTo>
                  <a:pt x="14" y="0"/>
                </a:moveTo>
                <a:arcTo wR="14" hR="14" stAng="16200000" swAng="-5400000"/>
                <a:lnTo>
                  <a:pt x="0" y="27823"/>
                </a:lnTo>
                <a:arcTo wR="14" hR="14" stAng="10800000" swAng="-5400000"/>
                <a:lnTo>
                  <a:pt x="21586" y="27837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09840" y="3967200"/>
            <a:ext cx="5481720" cy="1185840"/>
          </a:xfrm>
          <a:prstGeom prst="roundRect">
            <a:avLst>
              <a:gd name="adj" fmla="val 13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41520" y="5294160"/>
            <a:ext cx="5402520" cy="1608120"/>
          </a:xfrm>
          <a:prstGeom prst="roundRect">
            <a:avLst>
              <a:gd name="adj" fmla="val 9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68400" y="5465880"/>
            <a:ext cx="841320" cy="734760"/>
          </a:xfrm>
          <a:prstGeom prst="roundRect">
            <a:avLst>
              <a:gd name="adj" fmla="val 21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08160" y="5856120"/>
            <a:ext cx="857160" cy="731880"/>
          </a:xfrm>
          <a:prstGeom prst="roundRect">
            <a:avLst>
              <a:gd name="adj" fmla="val 21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70560" y="4154400"/>
            <a:ext cx="1357560" cy="795600"/>
          </a:xfrm>
          <a:prstGeom prst="roundRect">
            <a:avLst>
              <a:gd name="adj" fmla="val 19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25720" y="5545080"/>
            <a:ext cx="1748160" cy="998640"/>
          </a:xfrm>
          <a:prstGeom prst="roundRect">
            <a:avLst>
              <a:gd name="adj" fmla="val 15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2000" y="4092480"/>
            <a:ext cx="1809720" cy="1076400"/>
          </a:xfrm>
          <a:prstGeom prst="roundRect">
            <a:avLst>
              <a:gd name="adj" fmla="val 14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76600" y="4122720"/>
            <a:ext cx="2449440" cy="654120"/>
          </a:xfrm>
          <a:prstGeom prst="roundRect">
            <a:avLst>
              <a:gd name="adj" fmla="val 24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08600" y="5435640"/>
            <a:ext cx="1560600" cy="733320"/>
          </a:xfrm>
          <a:prstGeom prst="roundRect">
            <a:avLst>
              <a:gd name="adj" fmla="val 21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92840" y="6262560"/>
            <a:ext cx="1747800" cy="54468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7200" y="5637240"/>
            <a:ext cx="514440" cy="685800"/>
          </a:xfrm>
          <a:custGeom>
            <a:avLst/>
            <a:gdLst>
              <a:gd name="textAreaLeft" fmla="*/ 360 w 514440"/>
              <a:gd name="textAreaRight" fmla="*/ 514080 w 51444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28790">
                <a:moveTo>
                  <a:pt x="66" y="0"/>
                </a:moveTo>
                <a:arcTo wR="66" hR="66" stAng="16200000" swAng="-5400000"/>
                <a:lnTo>
                  <a:pt x="0" y="28724"/>
                </a:lnTo>
                <a:arcTo wR="66" hR="66" stAng="10800000" swAng="-5400000"/>
                <a:lnTo>
                  <a:pt x="21534" y="28790"/>
                </a:lnTo>
                <a:arcTo wR="66" hR="66" stAng="5400000" swAng="-5400000"/>
                <a:lnTo>
                  <a:pt x="21600" y="66"/>
                </a:lnTo>
                <a:arcTo wR="66" hR="66" stAng="0" swAng="-5400000"/>
                <a:close/>
              </a:path>
            </a:pathLst>
          </a:cu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5240" y="5762520"/>
            <a:ext cx="825480" cy="466920"/>
          </a:xfrm>
          <a:prstGeom prst="roundRect">
            <a:avLst>
              <a:gd name="adj" fmla="val 338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11120" y="4232160"/>
            <a:ext cx="746280" cy="452520"/>
          </a:xfrm>
          <a:prstGeom prst="roundRect">
            <a:avLst>
              <a:gd name="adj" fmla="val 347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7600" y="4186080"/>
            <a:ext cx="406440" cy="311400"/>
          </a:xfrm>
          <a:prstGeom prst="roundRect">
            <a:avLst>
              <a:gd name="adj" fmla="val 50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17600" y="4716360"/>
            <a:ext cx="466920" cy="265320"/>
          </a:xfrm>
          <a:prstGeom prst="roundRect">
            <a:avLst>
              <a:gd name="adj" fmla="val 593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9800" y="923400"/>
            <a:ext cx="86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golás: modulari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9800" y="2101680"/>
            <a:ext cx="860580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programot komponensekre bon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rendszert alrendszerekre bon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733920"/>
            <a:ext cx="8867880" cy="3511440"/>
          </a:xfrm>
          <a:prstGeom prst="roundRect">
            <a:avLst>
              <a:gd name="adj" fmla="val 42"/>
            </a:avLst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5000" y="3921120"/>
            <a:ext cx="2386080" cy="3075120"/>
          </a:xfrm>
          <a:custGeom>
            <a:avLst/>
            <a:gdLst>
              <a:gd name="textAreaLeft" fmla="*/ 360 w 2386080"/>
              <a:gd name="textAreaRight" fmla="*/ 2385720 w 2386080"/>
              <a:gd name="textAreaTop" fmla="*/ 360 h 3075120"/>
              <a:gd name="textAreaBottom" fmla="*/ 3074760 h 3075120"/>
            </a:gdLst>
            <a:ahLst/>
            <a:rect l="textAreaLeft" t="textAreaTop" r="textAreaRight" b="textAreaBottom"/>
            <a:pathLst>
              <a:path w="21600" h="27837">
                <a:moveTo>
                  <a:pt x="14" y="0"/>
                </a:moveTo>
                <a:arcTo wR="14" hR="14" stAng="16200000" swAng="-5400000"/>
                <a:lnTo>
                  <a:pt x="0" y="27823"/>
                </a:lnTo>
                <a:arcTo wR="14" hR="14" stAng="10800000" swAng="-5400000"/>
                <a:lnTo>
                  <a:pt x="21586" y="27837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09840" y="3967200"/>
            <a:ext cx="5481720" cy="1185840"/>
          </a:xfrm>
          <a:prstGeom prst="roundRect">
            <a:avLst>
              <a:gd name="adj" fmla="val 13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41520" y="5294160"/>
            <a:ext cx="5402520" cy="1608120"/>
          </a:xfrm>
          <a:prstGeom prst="roundRect">
            <a:avLst>
              <a:gd name="adj" fmla="val 9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8400" y="5465880"/>
            <a:ext cx="841320" cy="734760"/>
          </a:xfrm>
          <a:prstGeom prst="roundRect">
            <a:avLst>
              <a:gd name="adj" fmla="val 21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08160" y="5856120"/>
            <a:ext cx="857160" cy="731880"/>
          </a:xfrm>
          <a:prstGeom prst="roundRect">
            <a:avLst>
              <a:gd name="adj" fmla="val 21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70560" y="4154400"/>
            <a:ext cx="1357560" cy="795600"/>
          </a:xfrm>
          <a:prstGeom prst="roundRect">
            <a:avLst>
              <a:gd name="adj" fmla="val 19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25720" y="5543640"/>
            <a:ext cx="1748160" cy="996840"/>
          </a:xfrm>
          <a:prstGeom prst="roundRect">
            <a:avLst>
              <a:gd name="adj" fmla="val 15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2000" y="4092480"/>
            <a:ext cx="1809720" cy="1076400"/>
          </a:xfrm>
          <a:prstGeom prst="roundRect">
            <a:avLst>
              <a:gd name="adj" fmla="val 14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76600" y="4122720"/>
            <a:ext cx="2449440" cy="654120"/>
          </a:xfrm>
          <a:prstGeom prst="roundRect">
            <a:avLst>
              <a:gd name="adj" fmla="val 24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08600" y="5433840"/>
            <a:ext cx="1560600" cy="733680"/>
          </a:xfrm>
          <a:prstGeom prst="roundRect">
            <a:avLst>
              <a:gd name="adj" fmla="val 21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92840" y="6262560"/>
            <a:ext cx="1747800" cy="54468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7200" y="5637240"/>
            <a:ext cx="514440" cy="685800"/>
          </a:xfrm>
          <a:custGeom>
            <a:avLst/>
            <a:gdLst>
              <a:gd name="textAreaLeft" fmla="*/ 360 w 514440"/>
              <a:gd name="textAreaRight" fmla="*/ 514080 w 51444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28790">
                <a:moveTo>
                  <a:pt x="66" y="0"/>
                </a:moveTo>
                <a:arcTo wR="66" hR="66" stAng="16200000" swAng="-5400000"/>
                <a:lnTo>
                  <a:pt x="0" y="28724"/>
                </a:lnTo>
                <a:arcTo wR="66" hR="66" stAng="10800000" swAng="-5400000"/>
                <a:lnTo>
                  <a:pt x="21534" y="28790"/>
                </a:lnTo>
                <a:arcTo wR="66" hR="66" stAng="5400000" swAng="-5400000"/>
                <a:lnTo>
                  <a:pt x="21600" y="66"/>
                </a:lnTo>
                <a:arcTo wR="66" hR="66" stAng="0" swAng="-5400000"/>
                <a:close/>
              </a:path>
            </a:pathLst>
          </a:cu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5240" y="5762520"/>
            <a:ext cx="825480" cy="466920"/>
          </a:xfrm>
          <a:prstGeom prst="roundRect">
            <a:avLst>
              <a:gd name="adj" fmla="val 338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11120" y="4232160"/>
            <a:ext cx="746280" cy="452520"/>
          </a:xfrm>
          <a:prstGeom prst="roundRect">
            <a:avLst>
              <a:gd name="adj" fmla="val 347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17600" y="4184640"/>
            <a:ext cx="406440" cy="311040"/>
          </a:xfrm>
          <a:prstGeom prst="roundRect">
            <a:avLst>
              <a:gd name="adj" fmla="val 50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17600" y="4716360"/>
            <a:ext cx="466920" cy="265320"/>
          </a:xfrm>
          <a:prstGeom prst="roundRect">
            <a:avLst>
              <a:gd name="adj" fmla="val 593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1" idx="2"/>
            <a:endCxn id="93" idx="1"/>
          </p:cNvCxnSpPr>
          <p:nvPr/>
        </p:nvCxnSpPr>
        <p:spPr>
          <a:xfrm flipH="1" rot="16200000">
            <a:off x="1867320" y="4500360"/>
            <a:ext cx="165960" cy="533880"/>
          </a:xfrm>
          <a:prstGeom prst="bentConnector2">
            <a:avLst/>
          </a:prstGeom>
          <a:ln w="109800">
            <a:solidFill>
              <a:srgbClr val="ff3333"/>
            </a:solidFill>
            <a:miter/>
          </a:ln>
        </p:spPr>
      </p:cxnSp>
      <p:cxnSp>
        <p:nvCxnSpPr>
          <p:cNvPr id="95" name=""/>
          <p:cNvCxnSpPr/>
          <p:nvPr/>
        </p:nvCxnSpPr>
        <p:spPr>
          <a:xfrm flipV="1">
            <a:off x="4419360" y="4876200"/>
            <a:ext cx="2061000" cy="811800"/>
          </a:xfrm>
          <a:prstGeom prst="bentConnector3">
            <a:avLst>
              <a:gd name="adj1" fmla="val 50000"/>
            </a:avLst>
          </a:prstGeom>
          <a:ln w="36720">
            <a:solidFill>
              <a:srgbClr val="ff3333"/>
            </a:solidFill>
            <a:miter/>
          </a:ln>
        </p:spPr>
      </p:cxnSp>
      <p:cxnSp>
        <p:nvCxnSpPr>
          <p:cNvPr id="96" name=""/>
          <p:cNvCxnSpPr>
            <a:stCxn id="93" idx="2"/>
            <a:endCxn id="82" idx="0"/>
          </p:cNvCxnSpPr>
          <p:nvPr/>
        </p:nvCxnSpPr>
        <p:spPr>
          <a:xfrm flipH="1" rot="16200000">
            <a:off x="2056680" y="5375520"/>
            <a:ext cx="875160" cy="86400"/>
          </a:xfrm>
          <a:prstGeom prst="bentConnector3">
            <a:avLst>
              <a:gd name="adj1" fmla="val 49876"/>
            </a:avLst>
          </a:prstGeom>
          <a:ln w="54720">
            <a:solidFill>
              <a:srgbClr val="ff3333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09120"/>
            <a:ext cx="86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 tagolása Java-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676520"/>
            <a:ext cx="8605800" cy="55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somagok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pa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sztályok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622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y osztály: szorosan összetartozó adatok és művel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2262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z egy csomagba kerülő osztályok logikailag jobban összetartoznak, mint a különböző csomagokba kerülő osztály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5374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gyelőre ennyi elég... 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39800" y="923400"/>
            <a:ext cx="86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élda csomagok használatá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92240" y="2763720"/>
            <a:ext cx="8102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ckage énkiscsomago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lass Verem 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ckage másikcsomago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mport énkiscsomagom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Verem v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910360" cy="12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ódolási konvenciók: azonosítók ne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311120"/>
            <a:ext cx="850572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áltozók n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fizetés, nyugdíjKorhatá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konstansok" n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PI (Math.PI)     TT_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ódusok n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lekérdez()      fizetéstEmel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ípusok n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mitív: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int, boolea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ztály:</a:t>
            </a: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  Verem    VeremMegtelt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somagok n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(CE)"/>
              </a:rPr>
              <a:t>java.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ódolási konvenciók: a kapcsos zárójel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8040" y="2371680"/>
            <a:ext cx="88218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ublic Object pop() throws ÜresVeremExcep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VeremKivetel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 veremtető &gt; 0 )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veremtető 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 adatok[veremtető]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hrow new ÜresVeremExceptio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47640" y="294840"/>
            <a:ext cx="86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árhuzamossá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8640" y="1258920"/>
            <a:ext cx="9174240" cy="60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y programon belül több végrehajtási szál le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eladat logikai darabolásából származ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ényelmesebb lehet leírni úgy a programot, hogy több szálat íru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Végrehajtási) szál: 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ámogatás: a Thread osztályon keresztü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érdések: ütemezés, kommunikáció, interfer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éldáu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 egyik szál a felhasználói felülettel foglalkoz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ásik szál a hálózaton keresztül kommunikál valaki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39800" y="294840"/>
            <a:ext cx="86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élda párhuzamosság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1960" y="1936800"/>
            <a:ext cx="9226440" cy="51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lass A extends Thread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ublic String név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ublic void run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ystem.out.println(név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lass B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ublic static void main(String[] args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 x = new A(); x.név = "Jancsi"; x.star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 y = new A(); y.név = "Juliska"; y.star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3360" y="0"/>
            <a:ext cx="86058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gramvégrehaj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4160" y="2362320"/>
            <a:ext cx="4317840" cy="332712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lyasmi, mint egy közönséges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az, hogy egy interpreter segítségével, de azért mégiscsak hagyományosan futtatj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562720" y="1754280"/>
            <a:ext cx="4279680" cy="242568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ML oldalba ágyazott kis programoc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Web-böngésző futtat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4952880"/>
            <a:ext cx="4341600" cy="146124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TTP szerverbe ágyazott kis programoc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HTTP szerver futta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4419720"/>
            <a:ext cx="4308480" cy="42696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zervlet (servl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295280"/>
            <a:ext cx="4343400" cy="85356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pplikáció, applic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219320"/>
            <a:ext cx="4276440" cy="42696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et (appl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62040" y="124200"/>
            <a:ext cx="86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Kivétel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990720"/>
            <a:ext cx="86058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Bef>
                <a:spcPts val="2826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a kivételkezelést támogató nyelvi elemek nagyon hasznosa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2826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kivétel: a programot a normális / átlagos végrehajtási menetétől eltérítő esemény   (pl. futási idejű hib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2826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 kivételek lekezelését végző programkód szeparálása a normális / átlagos végrehajtást leíró kódtó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lvashatóság, karbantarthatóság, továbbfejleszthetősé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egbízhatóság, stabilitá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kivételfajták megkülönbözteté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reprezentálása Java-ban: osztályokk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ierarchiába szervezhetők ezál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kivételek: mint egy speciális visszatérési érté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98560" y="3452400"/>
            <a:ext cx="86043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. Bevez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81160" y="0"/>
            <a:ext cx="8837280" cy="75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lass Verem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bject[] adato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veremtető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maxmére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ublic Verem( int maxméret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his.maxméret = maxmére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datok = new Object[maxméret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ublic void push( Object o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hrows VeremMegtelt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( veremtető &lt; maxméret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datok[veremtető] = 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veremtető 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 else throw new VeremMegteltException(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59360" y="-360"/>
            <a:ext cx="60195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Verem 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oszt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1160" y="0"/>
            <a:ext cx="8837280" cy="75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lass Verem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bject[] adato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veremtető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maxmére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ublic Verem( int maxméret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his.maxméret = maxmére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datok = new Object[maxméret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ublic void push( Object o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hrows VeremMegteltExceptio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( veremtető &lt; maxméret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datok[veremtető] = 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veremtető 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hrow new VeremMegteltException(o)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59360" y="-360"/>
            <a:ext cx="60195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Verem 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oszt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41240" y="923400"/>
            <a:ext cx="86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Kivétel osztály definiál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3440" y="2482920"/>
            <a:ext cx="91486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lass VeremMegteltException extends 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ublic Object nemFértBe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ublic VeremMegteltException( Object o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emFértBele = 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blonok (generi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ava 5.0-t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ntaxist tekintve emlékeztetnek a C++ template-ek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ist&lt;Integer&gt; li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lass List&lt;T&gt; { ..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981080" y="-360"/>
            <a:ext cx="7818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vek a továbbiak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612720"/>
            <a:ext cx="8605800" cy="67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 nyelv mag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lapok: deklarációk, utasítások, kifejezések, vezérlési szerkezete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z objektum-elvű programozás eszköze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somago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kivételkezelé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árhuzamossá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Könyvtára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emenet/kimene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grafikus felhasználói felülete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pplete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álózatkezelé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tb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4960" y="271944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A programozási környez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18920" y="250560"/>
            <a:ext cx="86058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töl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0800" y="1907640"/>
            <a:ext cx="97995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onla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java.sun.com/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stall anyag (Linux, Windows, Solari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okumentáció a szabványos könyvtárakró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nline olvasható dokumentáci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utorial, cikkek, könyvek</a:t>
            </a:r>
            <a:r>
              <a:rPr b="0" lang="en-GB" sz="3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2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ikes: egy gyors Java fordít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ttp://oss.software.ibm.com/developerworks/opensource/jikes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93360" y="15876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vasnival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692360"/>
            <a:ext cx="906768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-315360">
              <a:spcBef>
                <a:spcPts val="651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va 2 Útikalauz programozókna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yékyné G. J. (ed.)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51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álózati alkalmazások készítés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Csizmazia Baláz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51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java.sun.com/docs/book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51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va Felhasználók Társaság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java.sch.bme.h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550200" y="168120"/>
            <a:ext cx="338904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39440" y="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első program: Hello Worl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7200" y="3684240"/>
            <a:ext cx="86040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menteni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llo.j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vű fájl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4920" y="1262160"/>
            <a:ext cx="9359280" cy="222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ass Hello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atic void main( String[] args 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12880" y="4513320"/>
            <a:ext cx="5259240" cy="292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$ javac Hell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$ 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Hello.class    Hell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$ java 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Hello Worl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4760" y="5027760"/>
            <a:ext cx="11224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Fixed (CE)"/>
              </a:rPr>
              <a:t>ja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Fixed (CE)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563480"/>
            <a:ext cx="1008072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ájlnév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sztálynév.</a:t>
            </a:r>
            <a:r>
              <a:rPr b="1" lang="en-GB" sz="2600" spc="-1" strike="noStrike">
                <a:solidFill>
                  <a:srgbClr val="000000"/>
                </a:solidFill>
                <a:latin typeface="Fixed (CE)"/>
              </a:rPr>
              <a:t>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Fixed (CE)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ixed (CE)"/>
              </a:rPr>
              <a:t>java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sztálynév.</a:t>
            </a:r>
            <a:r>
              <a:rPr b="1" lang="en-GB" sz="2600" spc="-1" strike="noStrike">
                <a:solidFill>
                  <a:srgbClr val="000000"/>
                </a:solidFill>
                <a:latin typeface="Fixed (CE)"/>
              </a:rPr>
              <a:t>cla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ájtkódra fordít, class fáj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33"/>
              </a:buClr>
              <a:buFont typeface="Fixed (CE)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ff3333"/>
                </a:solidFill>
                <a:latin typeface="Fixed (CE)"/>
              </a:rPr>
              <a:t>jav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31440" y="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dítás és futta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12880" y="4513320"/>
            <a:ext cx="5259240" cy="292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$ javac Hell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$ 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Hello.class    Hell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$ java 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Hello Worl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Fixed (CE)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440000" y="1981080"/>
            <a:ext cx="761760" cy="430200"/>
          </a:xfrm>
          <a:prstGeom prst="line">
            <a:avLst/>
          </a:prstGeom>
          <a:ln w="36720">
            <a:solidFill>
              <a:srgbClr val="0047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0000" y="2514600"/>
            <a:ext cx="679320" cy="0"/>
          </a:xfrm>
          <a:prstGeom prst="line">
            <a:avLst/>
          </a:prstGeom>
          <a:ln w="36720">
            <a:solidFill>
              <a:srgbClr val="0047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295280" y="2743200"/>
            <a:ext cx="1687680" cy="406440"/>
          </a:xfrm>
          <a:prstGeom prst="line">
            <a:avLst/>
          </a:prstGeom>
          <a:ln w="36720">
            <a:solidFill>
              <a:srgbClr val="0047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19280" y="539280"/>
            <a:ext cx="86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örténe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9800" y="1549440"/>
            <a:ext cx="860580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Bef>
                <a:spcPts val="51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Microsystem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3674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(19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K 1.0 (199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K 1.1 (199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2 Platform, J2SDK 1.2 (199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2 Platform, Standard Edition 1.3 (2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2 Platform, Standard E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 (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2 Platform, Standard E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0 (200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39440" y="330120"/>
            <a:ext cx="86058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övidítés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9440" y="1549440"/>
            <a:ext cx="860580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2SE, J2EE, J2ME: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ava 2 Standard/Enterprise/Mobile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2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jlesztői környez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lopment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va 2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ftw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lopment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1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ttató rendszer: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-ti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95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preter: Java Virtuális Gép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rtual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h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E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pkönyvtá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yenesen hozzáférhe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prise Edition, Mobile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1120" y="276696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 Az ala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7760" y="12708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tal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287080"/>
            <a:ext cx="4173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3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zonosít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aptípu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erál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ifejezés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tasít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4240" y="2617920"/>
            <a:ext cx="39578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áltozódeklaráci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Értékad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zérlési szerkez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program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gjegyzés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1482840"/>
            <a:ext cx="7072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cedurális programozás alapfogalm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41240" y="124200"/>
            <a:ext cx="86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ár megint: Hello Worl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6360" y="1262160"/>
            <a:ext cx="9359280" cy="222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ass Hello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atic void main( String[] args 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41240" y="31320"/>
            <a:ext cx="86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(++) nyelvhez hasonlító szint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360" y="1262160"/>
            <a:ext cx="9359280" cy="222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ass Hello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atic void main( String[] args 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74440" y="4041000"/>
            <a:ext cx="4830120" cy="222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92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 (CE)"/>
              </a:rPr>
              <a:t>#include &lt;stdio.h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 (CE)"/>
              </a:rPr>
              <a:t>int main(</a:t>
            </a:r>
            <a:r>
              <a:rPr b="0" lang="hu-HU" sz="2800" spc="-1" strike="noStrike">
                <a:solidFill>
                  <a:srgbClr val="000000"/>
                </a:solidFill>
                <a:latin typeface="Courier New (CE)"/>
              </a:rPr>
              <a:t>void</a:t>
            </a:r>
            <a:r>
              <a:rPr b="0" lang="en-GB" sz="2800" spc="-1" strike="noStrike">
                <a:solidFill>
                  <a:srgbClr val="000000"/>
                </a:solidFill>
                <a:latin typeface="Courier New (CE)"/>
              </a:rPr>
              <a:t>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 (CE)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 (CE)"/>
              </a:rPr>
              <a:t>printf("Hello World!\n");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urier New (CE)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 (CE)"/>
              </a:rPr>
              <a:t>return </a:t>
            </a:r>
            <a:r>
              <a:rPr b="0" lang="hu-HU" sz="2800" spc="-1" strike="noStrike">
                <a:solidFill>
                  <a:srgbClr val="000000"/>
                </a:solidFill>
                <a:latin typeface="Courier New (CE)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urier New (CE)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 (CE)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41240" y="47160"/>
            <a:ext cx="86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(++) nyelvhez hasonlító szint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" y="867240"/>
            <a:ext cx="9359280" cy="26521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ourier New"/>
              </a:rPr>
              <a:t>import java.io.*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ass Hello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atic void main( String[] args 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68640" y="4253400"/>
            <a:ext cx="5816160" cy="1798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 (CE)"/>
              </a:rPr>
              <a:t>#include &lt;stdio.h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 (CE)"/>
              </a:rPr>
              <a:t>void main( int argc, char* argv[] 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 (CE)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 (CE)"/>
              </a:rPr>
              <a:t>fprintf(stdout,"Hello World!\n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 (CE)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62120" y="304560"/>
            <a:ext cx="86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gyan is írjunk programo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5040" y="1564560"/>
            <a:ext cx="9359640" cy="222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Hell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 static voi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main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[] arg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41240" y="45720"/>
            <a:ext cx="86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zám kiírása a képernyő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360" y="1245600"/>
            <a:ext cx="9359640" cy="222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Hell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 static voi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main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[] arg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4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6360" y="3851280"/>
            <a:ext cx="849636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31640" indent="-2156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zövegek, számok, logikai értékek st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últerhe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076400" y="190080"/>
            <a:ext cx="7770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ztrakt programok kódol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600200"/>
            <a:ext cx="426564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31640" indent="-323640">
              <a:spcBef>
                <a:spcPts val="244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Állapotté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244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Értékad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244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gramkonstrukci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zekv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lágaz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ik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244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uktogramm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244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999999"/>
                </a:solidFill>
                <a:latin typeface="Times New Roman"/>
              </a:rPr>
              <a:t>Típusmegvalós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07960" y="1465200"/>
            <a:ext cx="39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áltozók neve és típ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46200" y="3708360"/>
            <a:ext cx="1815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asít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83320" y="5867280"/>
            <a:ext cx="2269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program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24360" y="2627280"/>
            <a:ext cx="405000" cy="2762280"/>
          </a:xfrm>
          <a:custGeom>
            <a:avLst/>
            <a:gdLst/>
            <a:ahLst/>
            <a:rect l="l" t="t" r="r" b="b"/>
            <a:pathLst>
              <a:path w="1129" h="7678">
                <a:moveTo>
                  <a:pt x="0" y="7677"/>
                </a:moveTo>
                <a:cubicBezTo>
                  <a:pt x="282" y="7677"/>
                  <a:pt x="564" y="7297"/>
                  <a:pt x="564" y="6908"/>
                </a:cubicBezTo>
                <a:cubicBezTo>
                  <a:pt x="564" y="6908"/>
                  <a:pt x="564" y="4608"/>
                  <a:pt x="564" y="4608"/>
                </a:cubicBezTo>
                <a:cubicBezTo>
                  <a:pt x="564" y="4224"/>
                  <a:pt x="846" y="3841"/>
                  <a:pt x="1128" y="3841"/>
                </a:cubicBezTo>
                <a:cubicBezTo>
                  <a:pt x="846" y="3841"/>
                  <a:pt x="564" y="3458"/>
                  <a:pt x="564" y="3071"/>
                </a:cubicBezTo>
                <a:cubicBezTo>
                  <a:pt x="564" y="3071"/>
                  <a:pt x="564" y="769"/>
                  <a:pt x="564" y="769"/>
                </a:cubicBezTo>
                <a:cubicBezTo>
                  <a:pt x="564" y="389"/>
                  <a:pt x="282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609120"/>
            <a:ext cx="86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Áttekin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676520"/>
            <a:ext cx="860580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ktum-elvű imperatív nyel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/C++ nyelvekhez hasonlító szint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yszerű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2826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pretált jelleg, bájtkó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rdozhatóság ("write once, run everywhere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B technoló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pl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2826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ssúság, erőforrás-igényes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01680" y="78840"/>
            <a:ext cx="7770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onosít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915840"/>
            <a:ext cx="777096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31640" indent="-323640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1001880"/>
                <a:tab algn="l" pos="1916280"/>
                <a:tab algn="l" pos="2828880"/>
                <a:tab algn="l" pos="3745080"/>
                <a:tab algn="l" pos="4657680"/>
                <a:tab algn="l" pos="5573880"/>
                <a:tab algn="l" pos="6486480"/>
                <a:tab algn="l" pos="7402680"/>
                <a:tab algn="l" pos="8315280"/>
                <a:tab algn="l" pos="9231480"/>
                <a:tab algn="l" pos="1014408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arakterek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etűk    _     $     számjegy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Font typeface="Times New Roman"/>
              <a:buChar char="–"/>
              <a:tabLst>
                <a:tab algn="l" pos="1001880"/>
                <a:tab algn="l" pos="1916280"/>
                <a:tab algn="l" pos="2828880"/>
                <a:tab algn="l" pos="3745080"/>
                <a:tab algn="l" pos="4657680"/>
                <a:tab algn="l" pos="5573880"/>
                <a:tab algn="l" pos="6486480"/>
                <a:tab algn="l" pos="7402680"/>
                <a:tab algn="l" pos="8315280"/>
                <a:tab algn="l" pos="9231480"/>
                <a:tab algn="l" pos="1014408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lső karakter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tű        _       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1001880"/>
                <a:tab algn="l" pos="1916280"/>
                <a:tab algn="l" pos="2828880"/>
                <a:tab algn="l" pos="3745080"/>
                <a:tab algn="l" pos="4657680"/>
                <a:tab algn="l" pos="5573880"/>
                <a:tab algn="l" pos="6486480"/>
                <a:tab algn="l" pos="7402680"/>
                <a:tab algn="l" pos="8315280"/>
                <a:tab algn="l" pos="9231480"/>
                <a:tab algn="l" pos="1014408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tű: két bájton,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i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Font typeface="Times New Roman"/>
              <a:buChar char="–"/>
              <a:tabLst>
                <a:tab algn="l" pos="1001880"/>
                <a:tab algn="l" pos="1916280"/>
                <a:tab algn="l" pos="2828880"/>
                <a:tab algn="l" pos="3745080"/>
                <a:tab algn="l" pos="4657680"/>
                <a:tab algn="l" pos="5573880"/>
                <a:tab algn="l" pos="6486480"/>
                <a:tab algn="l" pos="7402680"/>
                <a:tab algn="l" pos="8315280"/>
                <a:tab algn="l" pos="9231480"/>
                <a:tab algn="l" pos="1014408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.</a:t>
            </a:r>
            <a:r>
              <a:rPr b="0" lang="en-GB" sz="28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nevező</a:t>
            </a:r>
            <a:r>
              <a:rPr b="0" lang="en-GB" sz="28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nevez\u01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Font typeface="Times New Roman"/>
              <a:buChar char="–"/>
              <a:tabLst>
                <a:tab algn="l" pos="1001880"/>
                <a:tab algn="l" pos="1916280"/>
                <a:tab algn="l" pos="2828880"/>
                <a:tab algn="l" pos="3745080"/>
                <a:tab algn="l" pos="4657680"/>
                <a:tab algn="l" pos="5573880"/>
                <a:tab algn="l" pos="6486480"/>
                <a:tab algn="l" pos="7402680"/>
                <a:tab algn="l" pos="8315280"/>
                <a:tab algn="l" pos="9231480"/>
                <a:tab algn="l" pos="1014408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m</a:t>
            </a:r>
            <a:r>
              <a:rPr b="0" lang="en-GB" sz="28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nevezo</a:t>
            </a:r>
            <a:r>
              <a:rPr b="0" lang="en-GB" sz="28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agy</a:t>
            </a:r>
            <a:r>
              <a:rPr b="0" lang="en-GB" sz="28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nevez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2551"/>
              </a:spcBef>
              <a:buClr>
                <a:srgbClr val="000000"/>
              </a:buClr>
              <a:buFont typeface="Times New Roman"/>
              <a:buChar char="•"/>
              <a:tabLst>
                <a:tab algn="l" pos="1001880"/>
                <a:tab algn="l" pos="1916280"/>
                <a:tab algn="l" pos="2828880"/>
                <a:tab algn="l" pos="3745080"/>
                <a:tab algn="l" pos="4657680"/>
                <a:tab algn="l" pos="5573880"/>
                <a:tab algn="l" pos="6486480"/>
                <a:tab algn="l" pos="7402680"/>
                <a:tab algn="l" pos="8315280"/>
                <a:tab algn="l" pos="9231480"/>
                <a:tab algn="l" pos="1014408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glalt szav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Font typeface="Times New Roman"/>
              <a:buChar char="–"/>
              <a:tabLst>
                <a:tab algn="l" pos="1001880"/>
                <a:tab algn="l" pos="1916280"/>
                <a:tab algn="l" pos="2828880"/>
                <a:tab algn="l" pos="3745080"/>
                <a:tab algn="l" pos="4657680"/>
                <a:tab algn="l" pos="5573880"/>
                <a:tab algn="l" pos="6486480"/>
                <a:tab algn="l" pos="7402680"/>
                <a:tab algn="l" pos="8315280"/>
                <a:tab algn="l" pos="9231480"/>
                <a:tab algn="l" pos="1014408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ulcsszavak</a:t>
            </a:r>
            <a:r>
              <a:rPr b="0" lang="en-GB" sz="28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 (CE)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800" spc="-1" strike="noStrike">
                <a:solidFill>
                  <a:srgbClr val="000000"/>
                </a:solidFill>
                <a:latin typeface="Times New Roman (CE)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GB" sz="28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b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Font typeface="Times New Roman"/>
              <a:buChar char="–"/>
              <a:tabLst>
                <a:tab algn="l" pos="1001880"/>
                <a:tab algn="l" pos="1916280"/>
                <a:tab algn="l" pos="2828880"/>
                <a:tab algn="l" pos="3745080"/>
                <a:tab algn="l" pos="4657680"/>
                <a:tab algn="l" pos="5573880"/>
                <a:tab algn="l" pos="6486480"/>
                <a:tab algn="l" pos="7402680"/>
                <a:tab algn="l" pos="8315280"/>
                <a:tab algn="l" pos="9231480"/>
                <a:tab algn="l" pos="1014408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m használt:</a:t>
            </a:r>
            <a:r>
              <a:rPr b="0" lang="en-GB" sz="28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GB" sz="2800" spc="-1" strike="noStrike">
                <a:solidFill>
                  <a:srgbClr val="000000"/>
                </a:solidFill>
                <a:latin typeface="Times New Roman (CE)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go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Font typeface="Times New Roman"/>
              <a:buChar char="–"/>
              <a:tabLst>
                <a:tab algn="l" pos="1001880"/>
                <a:tab algn="l" pos="1916280"/>
                <a:tab algn="l" pos="2828880"/>
                <a:tab algn="l" pos="3745080"/>
                <a:tab algn="l" pos="4657680"/>
                <a:tab algn="l" pos="5573880"/>
                <a:tab algn="l" pos="6486480"/>
                <a:tab algn="l" pos="7402680"/>
                <a:tab algn="l" pos="8315280"/>
                <a:tab algn="l" pos="9231480"/>
                <a:tab algn="l" pos="1014408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definit literálok:</a:t>
            </a:r>
            <a:r>
              <a:rPr b="0" lang="en-GB" sz="28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GB" sz="2800" spc="-1" strike="noStrike">
                <a:solidFill>
                  <a:srgbClr val="000000"/>
                </a:solidFill>
                <a:latin typeface="Times New Roman (CE)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GB" sz="2800" spc="-1" strike="noStrike">
                <a:solidFill>
                  <a:srgbClr val="000000"/>
                </a:solidFill>
                <a:latin typeface="Times New Roman (CE)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1231920" y="95400"/>
            <a:ext cx="7770960" cy="1139760"/>
            <a:chOff x="1231920" y="95400"/>
            <a:chExt cx="7770960" cy="1139760"/>
          </a:xfrm>
        </p:grpSpPr>
        <p:sp>
          <p:nvSpPr>
            <p:cNvPr id="176" name=""/>
            <p:cNvSpPr/>
            <p:nvPr/>
          </p:nvSpPr>
          <p:spPr>
            <a:xfrm>
              <a:off x="1231920" y="95400"/>
              <a:ext cx="7770960" cy="113976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31920" y="282960"/>
              <a:ext cx="777096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5560"/>
                  <a:tab algn="l" pos="5791320"/>
                  <a:tab algn="l" pos="6515280"/>
                  <a:tab algn="l" pos="72374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</a:rPr>
                <a:t>Karakterkészle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450800" y="1771560"/>
            <a:ext cx="7855200" cy="4564440"/>
            <a:chOff x="1450800" y="1771560"/>
            <a:chExt cx="7855200" cy="4564440"/>
          </a:xfrm>
        </p:grpSpPr>
        <p:sp>
          <p:nvSpPr>
            <p:cNvPr id="179" name=""/>
            <p:cNvSpPr/>
            <p:nvPr/>
          </p:nvSpPr>
          <p:spPr>
            <a:xfrm>
              <a:off x="1450800" y="1771560"/>
              <a:ext cx="7855200" cy="450396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50800" y="1771560"/>
              <a:ext cx="7855200" cy="456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431640" indent="-323640"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5560"/>
                  <a:tab algn="l" pos="5791320"/>
                  <a:tab algn="l" pos="6515280"/>
                  <a:tab algn="l" pos="72374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Betűk ábrázolása két bájton,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Unicod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31640" indent="-323640"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5560"/>
                  <a:tab algn="l" pos="5791320"/>
                  <a:tab algn="l" pos="6515280"/>
                  <a:tab algn="l" pos="72374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pl.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 (CE)"/>
                </a:rPr>
                <a:t>	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 (CE)"/>
                </a:rPr>
                <a:t>	</a:t>
              </a:r>
              <a:r>
                <a:rPr b="0" lang="en-GB" sz="3200" spc="-1" strike="noStrike">
                  <a:solidFill>
                    <a:srgbClr val="000000"/>
                  </a:solidFill>
                  <a:latin typeface="Courier New"/>
                </a:rPr>
                <a:t>nevező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 (CE)"/>
                </a:rPr>
                <a:t>	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 (CE)"/>
                </a:rPr>
                <a:t>	</a:t>
              </a:r>
              <a:br>
                <a:rPr sz="3200"/>
              </a:br>
              <a:r>
                <a:rPr b="0" lang="en-GB" sz="3200" spc="-1" strike="noStrike">
                  <a:solidFill>
                    <a:srgbClr val="000000"/>
                  </a:solidFill>
                  <a:latin typeface="Times New Roman (CE)"/>
                </a:rPr>
                <a:t>	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 (CE)"/>
                </a:rPr>
                <a:t>	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 (CE)"/>
                </a:rPr>
                <a:t>	</a:t>
              </a:r>
              <a:r>
                <a:rPr b="0" lang="en-GB" sz="3200" spc="-1" strike="noStrike">
                  <a:solidFill>
                    <a:srgbClr val="000000"/>
                  </a:solidFill>
                  <a:latin typeface="Courier New"/>
                </a:rPr>
                <a:t>nevez\u015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31640" indent="-323640"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5560"/>
                  <a:tab algn="l" pos="5791320"/>
                  <a:tab algn="l" pos="6515280"/>
                  <a:tab algn="l" pos="72374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ne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 (CE)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urier New"/>
                </a:rPr>
                <a:t>nevezo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 (CE)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vagy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 (CE)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urier New"/>
                </a:rPr>
                <a:t>nevez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31640" indent="-323640">
                <a:spcBef>
                  <a:spcPts val="751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5560"/>
                  <a:tab algn="l" pos="5791320"/>
                  <a:tab algn="l" pos="6515280"/>
                  <a:tab algn="l" pos="72374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31640" indent="-323640"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5560"/>
                  <a:tab algn="l" pos="5791320"/>
                  <a:tab algn="l" pos="6515280"/>
                  <a:tab algn="l" pos="72374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ASCII (7 bit)      Latin-1 és Latin-2 (8 bit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31640" indent="-323640"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5560"/>
                  <a:tab algn="l" pos="5791320"/>
                  <a:tab algn="l" pos="6515280"/>
                  <a:tab algn="l" pos="72374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C-ben Latin-1 szövegliterálo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31640" indent="-323640"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5560"/>
                  <a:tab algn="l" pos="5791320"/>
                  <a:tab algn="l" pos="6515280"/>
                  <a:tab algn="l" pos="72374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Ada95-ben Latin-1 azonosító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50800" y="94320"/>
            <a:ext cx="7770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ípu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006560"/>
            <a:ext cx="1008072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31640" indent="-323640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imitív típu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olean (true vagy fal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6 bites Unicode karak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8 bites előjeles egés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hor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6 bites előjeles egés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2 bites előjeles egés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4 bites előjeles egés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2 bites lebegőpontos szá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4 bites lebegőpontos szá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999999"/>
                </a:solidFill>
                <a:latin typeface="Times New Roman"/>
              </a:rPr>
              <a:t>osztályok, interfészek</a:t>
            </a:r>
            <a:r>
              <a:rPr b="0" lang="hu-HU" sz="3200" spc="-1" strike="noStrike">
                <a:solidFill>
                  <a:srgbClr val="999999"/>
                </a:solidFill>
                <a:latin typeface="Times New Roman"/>
              </a:rPr>
              <a:t>, tömbök, felsorolási típu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89920" y="1584360"/>
            <a:ext cx="2106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  &amp;&amp;  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2971800"/>
            <a:ext cx="455400" cy="3811680"/>
          </a:xfrm>
          <a:custGeom>
            <a:avLst/>
            <a:gdLst/>
            <a:ahLst/>
            <a:rect l="l" t="t" r="r" b="b"/>
            <a:pathLst>
              <a:path w="1271" h="10590">
                <a:moveTo>
                  <a:pt x="0" y="10589"/>
                </a:moveTo>
                <a:cubicBezTo>
                  <a:pt x="318" y="10589"/>
                  <a:pt x="635" y="10065"/>
                  <a:pt x="635" y="9530"/>
                </a:cubicBezTo>
                <a:cubicBezTo>
                  <a:pt x="635" y="9530"/>
                  <a:pt x="635" y="6357"/>
                  <a:pt x="635" y="6357"/>
                </a:cubicBezTo>
                <a:cubicBezTo>
                  <a:pt x="635" y="5828"/>
                  <a:pt x="953" y="5297"/>
                  <a:pt x="1270" y="5297"/>
                </a:cubicBezTo>
                <a:cubicBezTo>
                  <a:pt x="953" y="5297"/>
                  <a:pt x="635" y="4768"/>
                  <a:pt x="635" y="4238"/>
                </a:cubicBezTo>
                <a:cubicBezTo>
                  <a:pt x="635" y="4238"/>
                  <a:pt x="635" y="1059"/>
                  <a:pt x="635" y="1059"/>
                </a:cubicBezTo>
                <a:cubicBezTo>
                  <a:pt x="635" y="536"/>
                  <a:pt x="318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60400" y="4267080"/>
            <a:ext cx="2562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  -  *  / 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  &gt;  &lt;=  &gt;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  |  &lt;&lt;  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79440" y="283680"/>
            <a:ext cx="7770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áltozó-deklar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1360" y="1654200"/>
            <a:ext cx="8859600" cy="54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31640" indent="-3236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urier New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urier New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int i, j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urier New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int i =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urier New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int i, j = 0;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int i; int j =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urier New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15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klaráció-utas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15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icializáló értékad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15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lvasás írás előtt: fordítási hi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01680" y="363240"/>
            <a:ext cx="7770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élda: olvasás írás elő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23760" y="4318560"/>
            <a:ext cx="554940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 (42==42) i=3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99760" y="2085120"/>
            <a:ext cx="262332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y = x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60600" y="2069280"/>
            <a:ext cx="262332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y = x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6560" y="6553080"/>
            <a:ext cx="638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programszöveg statikus elemzés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25520" y="101520"/>
            <a:ext cx="7770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álok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zámliterál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676520"/>
            <a:ext cx="914256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31640" indent="-32364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gész számok (in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 (CE)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dec.:</a:t>
            </a:r>
            <a:r>
              <a:rPr b="0" lang="en-GB" sz="30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255</a:t>
            </a: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okt.:</a:t>
            </a:r>
            <a:r>
              <a:rPr b="0" lang="en-GB" sz="30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0377</a:t>
            </a: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hex.:</a:t>
            </a:r>
            <a:r>
              <a:rPr b="0" lang="en-GB" sz="30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0xf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 (CE)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ong:</a:t>
            </a:r>
            <a:r>
              <a:rPr b="0" lang="en-GB" sz="30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255L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vagy</a:t>
            </a:r>
            <a:r>
              <a:rPr b="0" lang="en-GB" sz="30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255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vagy</a:t>
            </a:r>
            <a:r>
              <a:rPr b="0" lang="en-GB" sz="30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0xff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 (CE)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short, byte: explicit konverzió, pl.</a:t>
            </a:r>
            <a:r>
              <a:rPr b="0" lang="en-GB" sz="30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(short)25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25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begőpontos számok (doubl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 (CE)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12.3</a:t>
            </a: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12.3e4</a:t>
            </a: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12.3e4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 (CE)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loat:</a:t>
            </a:r>
            <a:r>
              <a:rPr b="0" lang="en-GB" sz="30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12.3e4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lla:</a:t>
            </a:r>
            <a:r>
              <a:rPr b="0" lang="en-GB" sz="28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.0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s</a:t>
            </a:r>
            <a:r>
              <a:rPr b="0" lang="en-GB" sz="28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-0.0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lehet (lásd</a:t>
            </a:r>
            <a:r>
              <a:rPr b="0" lang="en-GB" sz="28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.0/-0.0</a:t>
            </a:r>
            <a:r>
              <a:rPr b="0" lang="en-GB" sz="2800" spc="-1" strike="noStrike">
                <a:solidFill>
                  <a:srgbClr val="000000"/>
                </a:solidFill>
                <a:latin typeface="Times New Roman (CE)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295280" y="-152280"/>
            <a:ext cx="7770960" cy="1141200"/>
            <a:chOff x="1295280" y="-152280"/>
            <a:chExt cx="7770960" cy="1141200"/>
          </a:xfrm>
        </p:grpSpPr>
        <p:sp>
          <p:nvSpPr>
            <p:cNvPr id="196" name=""/>
            <p:cNvSpPr/>
            <p:nvPr/>
          </p:nvSpPr>
          <p:spPr>
            <a:xfrm>
              <a:off x="1295280" y="-152280"/>
              <a:ext cx="7770960" cy="114120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95280" y="35640"/>
              <a:ext cx="777096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5560"/>
                  <a:tab algn="l" pos="5791320"/>
                  <a:tab algn="l" pos="6515280"/>
                  <a:tab algn="l" pos="72374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</a:rPr>
                <a:t>Még literálok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33520" y="1066680"/>
            <a:ext cx="9142200" cy="5706000"/>
            <a:chOff x="533520" y="1066680"/>
            <a:chExt cx="9142200" cy="5706000"/>
          </a:xfrm>
        </p:grpSpPr>
        <p:sp>
          <p:nvSpPr>
            <p:cNvPr id="199" name=""/>
            <p:cNvSpPr/>
            <p:nvPr/>
          </p:nvSpPr>
          <p:spPr>
            <a:xfrm>
              <a:off x="533520" y="1066680"/>
              <a:ext cx="9142200" cy="560628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3520" y="1066680"/>
              <a:ext cx="9142200" cy="57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431640" indent="-323640">
                <a:spcBef>
                  <a:spcPts val="751"/>
                </a:spcBef>
                <a:buClr>
                  <a:srgbClr val="000000"/>
                </a:buClr>
                <a:buSzPct val="130000"/>
                <a:buFont typeface="Times New Roman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5560"/>
                  <a:tab algn="l" pos="5791320"/>
                  <a:tab algn="l" pos="6515280"/>
                  <a:tab algn="l" pos="7237440"/>
                  <a:tab algn="l" pos="7961400"/>
                  <a:tab algn="l" pos="8686800"/>
                  <a:tab algn="l" pos="9128160"/>
                  <a:tab algn="l" pos="10040760"/>
                  <a:tab algn="l" pos="1095372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Logikai értékek: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és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31640" indent="-323640">
                <a:lnSpc>
                  <a:spcPct val="120000"/>
                </a:lnSpc>
                <a:spcBef>
                  <a:spcPts val="1599"/>
                </a:spcBef>
                <a:buClr>
                  <a:srgbClr val="000000"/>
                </a:buClr>
                <a:buSzPct val="130000"/>
                <a:buFont typeface="Times New Roman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5560"/>
                  <a:tab algn="l" pos="5791320"/>
                  <a:tab algn="l" pos="6515280"/>
                  <a:tab algn="l" pos="7237440"/>
                  <a:tab algn="l" pos="7961400"/>
                  <a:tab algn="l" pos="8686800"/>
                  <a:tab algn="l" pos="9128160"/>
                  <a:tab algn="l" pos="10040760"/>
                  <a:tab algn="l" pos="1095372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Karakterek: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'K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31640" indent="-3236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5560"/>
                  <a:tab algn="l" pos="5791320"/>
                  <a:tab algn="l" pos="6515280"/>
                  <a:tab algn="l" pos="7237440"/>
                  <a:tab algn="l" pos="7961400"/>
                  <a:tab algn="l" pos="8686800"/>
                  <a:tab algn="l" pos="9128160"/>
                  <a:tab algn="l" pos="10040760"/>
                  <a:tab algn="l" pos="1095372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  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\n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 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újsor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	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	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	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\\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\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31640" indent="-3236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5560"/>
                  <a:tab algn="l" pos="5791320"/>
                  <a:tab algn="l" pos="6515280"/>
                  <a:tab algn="l" pos="7237440"/>
                  <a:tab algn="l" pos="7961400"/>
                  <a:tab algn="l" pos="8686800"/>
                  <a:tab algn="l" pos="9128160"/>
                  <a:tab algn="l" pos="10040760"/>
                  <a:tab algn="l" pos="1095372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  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\t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 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abulátor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	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	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\'</a:t>
              </a: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aposztró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31640" indent="-3236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5560"/>
                  <a:tab algn="l" pos="5791320"/>
                  <a:tab algn="l" pos="6515280"/>
                  <a:tab algn="l" pos="7237440"/>
                  <a:tab algn="l" pos="7961400"/>
                  <a:tab algn="l" pos="8686800"/>
                  <a:tab algn="l" pos="9128160"/>
                  <a:tab algn="l" pos="10040760"/>
                  <a:tab algn="l" pos="1095372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  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\b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 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backspace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	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	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\"</a:t>
              </a:r>
              <a:r>
                <a:rPr b="0" lang="en-GB" sz="2800" spc="-1" strike="noStrike">
                  <a:solidFill>
                    <a:srgbClr val="000000"/>
                  </a:solidFill>
                  <a:latin typeface="StarBats"/>
                  <a:ea typeface="StarBats"/>
                </a:rPr>
                <a:t>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dézőj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31640" indent="-3236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5560"/>
                  <a:tab algn="l" pos="5791320"/>
                  <a:tab algn="l" pos="6515280"/>
                  <a:tab algn="l" pos="7237440"/>
                  <a:tab algn="l" pos="7961400"/>
                  <a:tab algn="l" pos="8686800"/>
                  <a:tab algn="l" pos="9128160"/>
                  <a:tab algn="l" pos="10040760"/>
                  <a:tab algn="l" pos="1095372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  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\r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 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sorvissza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	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	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\o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Courier New"/>
                </a:rPr>
                <a:t>oo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karakter oktális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31640" indent="-3236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5560"/>
                  <a:tab algn="l" pos="5791320"/>
                  <a:tab algn="l" pos="6515280"/>
                  <a:tab algn="l" pos="7237440"/>
                  <a:tab algn="l" pos="7961400"/>
                  <a:tab algn="l" pos="8686800"/>
                  <a:tab algn="l" pos="9128160"/>
                  <a:tab algn="l" pos="10040760"/>
                  <a:tab algn="l" pos="1095372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  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\f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 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lapdobás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	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 (CE)"/>
                </a:rPr>
                <a:t>	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\u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Courier New"/>
                </a:rPr>
                <a:t>hhhh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Unicode, hexadeci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31640" indent="-323640">
                <a:lnSpc>
                  <a:spcPct val="120000"/>
                </a:lnSpc>
                <a:spcBef>
                  <a:spcPts val="2449"/>
                </a:spcBef>
                <a:buClr>
                  <a:srgbClr val="000000"/>
                </a:buClr>
                <a:buSzPct val="130000"/>
                <a:buFont typeface="Times New Roman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5560"/>
                  <a:tab algn="l" pos="5791320"/>
                  <a:tab algn="l" pos="6515280"/>
                  <a:tab algn="l" pos="7237440"/>
                  <a:tab algn="l" pos="7961400"/>
                  <a:tab algn="l" pos="8686800"/>
                  <a:tab algn="l" pos="9128160"/>
                  <a:tab algn="l" pos="10040760"/>
                  <a:tab algn="l" pos="1095372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Szövegek: "Helló Világ"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31640" indent="-323640">
                <a:lnSpc>
                  <a:spcPct val="120000"/>
                </a:lnSpc>
                <a:spcBef>
                  <a:spcPts val="41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5560"/>
                  <a:tab algn="l" pos="5791320"/>
                  <a:tab algn="l" pos="6515280"/>
                  <a:tab algn="l" pos="7237440"/>
                  <a:tab algn="l" pos="7961400"/>
                  <a:tab algn="l" pos="8686800"/>
                  <a:tab algn="l" pos="9128160"/>
                  <a:tab algn="l" pos="10040760"/>
                  <a:tab algn="l" pos="10953720"/>
                </a:tabLst>
              </a:pPr>
              <a:r>
                <a:rPr b="0" lang="en-GB" sz="2800" spc="-1" strike="noStrike">
                  <a:solidFill>
                    <a:srgbClr val="b2b2b2"/>
                  </a:solidFill>
                  <a:latin typeface="Times New Roman"/>
                </a:rPr>
                <a:t>                      </a:t>
              </a:r>
              <a:r>
                <a:rPr b="0" lang="en-GB" sz="2800" spc="-1" strike="noStrike">
                  <a:solidFill>
                    <a:srgbClr val="999999"/>
                  </a:solidFill>
                  <a:latin typeface="Times New Roman"/>
                </a:rPr>
                <a:t>Tömbök, objektumok, osztályo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49480" y="-360"/>
            <a:ext cx="62290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 hos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3352680"/>
            <a:ext cx="9523440" cy="449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br>
              <a:rPr sz="1000"/>
            </a:b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$ javac Hossz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$ java Hoss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Exception in thread "main"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 java.lang.ArrayIndexOutOfBounds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at Hossz.main(Hossz.java: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$ java Hossz elmebet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8680" y="858960"/>
            <a:ext cx="952344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lass Hossz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public static void main( String args[] 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ystem.out.println(args[0].length()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9800" y="921960"/>
            <a:ext cx="86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lo Worl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6680" y="3108240"/>
            <a:ext cx="9335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ass Hello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atic void main( String[] args 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"Hello World!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380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49840" y="77400"/>
            <a:ext cx="6229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ből szá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4952880"/>
            <a:ext cx="9523440" cy="264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ixed (CE)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$ javac Szoroz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$ java Szoroz 10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ixed (CE)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8680" y="1281240"/>
            <a:ext cx="95234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lass Szoroz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public static void main( String args[] 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nt x = Integer.parseInt(args[0]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nt y = Integer.parseInt(args[1]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ystem.out.println(x*y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Írj olyan programot, aminek egy parancssori argumentumot kell adni, ami egy N szám. A program határozza meg, hogy milyen hosszú a parancssori argumentum, mint String. Ezután írja ki a képernyőre a hossz és N szorzatá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87440" y="471240"/>
            <a:ext cx="7770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ezérlési szerkeze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31960" y="1981080"/>
            <a:ext cx="7770960" cy="42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31640" indent="-323640"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Értékad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lok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ágazás (egyszerű és összetet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iklus (elöl- és hátultesztelős, léptető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iklusmegszak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ilépés alprogram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309680" y="439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Értékad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531800"/>
            <a:ext cx="8353440" cy="55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31640" indent="-323640">
              <a:lnSpc>
                <a:spcPct val="100000"/>
              </a:lnSpc>
              <a:spcBef>
                <a:spcPts val="4524"/>
              </a:spcBef>
              <a:spcAft>
                <a:spcPts val="1426"/>
              </a:spcAft>
              <a:buClr>
                <a:srgbClr val="000000"/>
              </a:buClr>
              <a:buFont typeface="Courier New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 = 3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4524"/>
              </a:spcBef>
              <a:spcAft>
                <a:spcPts val="1426"/>
              </a:spcAft>
              <a:buClr>
                <a:srgbClr val="000000"/>
              </a:buClr>
              <a:buFont typeface="Courier New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 += 2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 = i+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1976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 -= 2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 *= 2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 /= 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4524"/>
              </a:spcBef>
              <a:spcAft>
                <a:spcPts val="1426"/>
              </a:spcAft>
              <a:buClr>
                <a:srgbClr val="000000"/>
              </a:buClr>
              <a:buFont typeface="Courier New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++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 += 1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 = i+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0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erület[i] += terület[0]*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08080" y="188640"/>
            <a:ext cx="7770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éptetős ciklus: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57480" y="1484280"/>
            <a:ext cx="792288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for (int i=0; i&lt;10; ++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iklusváltozót deklarálhatom a cikluson belü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lyenkor a ciklusváltozó lokális a ciklus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08080" y="188640"/>
            <a:ext cx="7770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éptetős ciklus: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57480" y="1484280"/>
            <a:ext cx="7922880" cy="46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for (int i=0; i&lt;10;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for (i=0; i&lt;10; ++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49200" y="361440"/>
            <a:ext cx="7770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ktoriális szám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5800" y="1677960"/>
            <a:ext cx="966492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ass Faktorialis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atic void main( String[] args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faktoriális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( int i = 1; i&lt;=10; ++i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ktoriális = faktoriális * 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faktoriáli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249200" y="361440"/>
            <a:ext cx="7770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ktoriális szám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4360" y="1677960"/>
            <a:ext cx="966456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ass Faktorialis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atic void main( String[] args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faktoriális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( int i = 1; i&lt;=10; ++i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ktoriális *= 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.println(faktoriáli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49200" y="361440"/>
            <a:ext cx="7770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ktoriális szám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4360" y="1677960"/>
            <a:ext cx="96645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ass Faktorialis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 static void main( String[] args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faktoriális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( int i = 1; i&lt;=10; ++i )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ktoriális *= 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ystem.out.println(faktoriáli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7080" y="320400"/>
            <a:ext cx="8606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Építőkock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7200" y="539640"/>
            <a:ext cx="8604000" cy="65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z OOP elem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sztályok (típuso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dattago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űvelete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golás magasabb szinten: csomag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az modularitá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lokkstrukturáltság részleges támoga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árhuzamosság: végrehajtási szál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égrehajtás: programok és appl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ivétel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blon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249200" y="361440"/>
            <a:ext cx="7770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ktoriális szám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6000" y="631800"/>
            <a:ext cx="9666360" cy="59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lass Faktorialis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ublic static void main( String[] args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int n = Integer.parseInt(args[0]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800" spc="-1" strike="noStrike">
                <a:solidFill>
                  <a:srgbClr val="ff0000"/>
                </a:solidFill>
                <a:latin typeface="Courier New"/>
              </a:rPr>
              <a:t>long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faktoriális = 1</a:t>
            </a:r>
            <a:r>
              <a:rPr b="0" lang="en-GB" sz="2800" spc="-1" strike="noStrike">
                <a:solidFill>
                  <a:srgbClr val="ff0000"/>
                </a:solidFill>
                <a:latin typeface="Courier New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or (int i=1; i&lt;=n; ++i)</a:t>
            </a:r>
            <a:r>
              <a:rPr b="1" lang="en-GB" sz="2800" spc="-1" strike="noStrike">
                <a:solidFill>
                  <a:srgbClr val="ff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aktoriális *= 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ystem.out.println(n + "!=" +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aktoriáli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álás adatszerkez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98056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.0-tól, ún. “enhanced for loo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mbökön és adatszerkezeteken iterálhatu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ás nyelveken általában foreach kulcsszó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public static void main( String[] args 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for( String s: arg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6058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1760" y="1753920"/>
            <a:ext cx="86058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813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Írjuk át úgy a faktoriálist számoló programot, hogy az el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anccsori argumentum faktoriálisát határozza me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813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Írjunk olyan programot, ami a parancssori argumentumait összeszorozza!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ranccsori argumentumok számára így lehet hivatkozni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args.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49200" y="101880"/>
            <a:ext cx="7770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kk uta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143000"/>
            <a:ext cx="8688600" cy="57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31640" indent="-323640">
              <a:lnSpc>
                <a:spcPct val="100000"/>
              </a:lnSpc>
              <a:spcBef>
                <a:spcPts val="2174"/>
              </a:spcBef>
              <a:buClr>
                <a:srgbClr val="000000"/>
              </a:buClr>
              <a:buFont typeface="Courier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32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és</a:t>
            </a:r>
            <a:r>
              <a:rPr b="0" lang="en-GB" sz="32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özé írt utasítássoroz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 (CE)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{ int i; i=12; if (i&gt;0) i++;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3288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írható mindenhova, ahol utasítás k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.</a:t>
            </a:r>
            <a:r>
              <a:rPr b="0" lang="en-GB" sz="28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tán a</a:t>
            </a:r>
            <a:r>
              <a:rPr b="0" lang="en-GB" sz="28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aktoriali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gram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ymásba ágyazhat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3288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klarációs utasítások akárh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{int i; i=12; int j=i+1; i++;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áltozó ha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öre: deklarációtól a blokk végé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188640"/>
            <a:ext cx="7770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gyszerű elágazás:</a:t>
            </a:r>
            <a:r>
              <a:rPr b="0" lang="en-US" sz="44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1371600"/>
            <a:ext cx="853452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31640" indent="-323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  ( i&gt;j )   i = 1/(i-j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  ( i&gt;j )  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k = i-j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 = 1/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  ( i&gt;j )   i = 1/(i-j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lse          {i = 0; j = 0;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36720" y="188640"/>
            <a:ext cx="7770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selleng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ő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1295280"/>
            <a:ext cx="3224160" cy="29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 (a==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 (b==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 =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 = 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62720" y="1295280"/>
            <a:ext cx="321444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 (a==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 (b==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 =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 = 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08200" y="4495680"/>
            <a:ext cx="28674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 (a==1)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 (b==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 =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 e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 = 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9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öbbágú elága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632800" cy="49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if( &lt;feltétel-1&gt; 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&lt;utasítások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} else if( &lt;feltétel-2&gt; 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&lt;utasítások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utasítások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incs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elsif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vagy </a:t>
            </a:r>
            <a:r>
              <a:rPr b="1" lang="hu-HU" sz="32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szerkez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86058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Írjuk át az eddig elkészített programokat úgy, hogy ellenőrizzék, hogy megfelelő számú parancssori argumentummal hívták-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33992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Összetett elágazás:</a:t>
            </a:r>
            <a:r>
              <a:rPr b="0" lang="en-US" sz="44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2200320"/>
            <a:ext cx="8153640" cy="31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witch (billentyű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ase 'w': y++;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ase 'z': y--;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ase 'a': x--;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ase 's': x++; break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3992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Összetett elágazás:</a:t>
            </a:r>
            <a:r>
              <a:rPr b="0" lang="en-US" sz="44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2200320"/>
            <a:ext cx="8839440" cy="42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witch (billentyű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ase 'w': y++;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ase 'z': y--;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ase 'a': x--;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ase 's': x++; break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efaul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ystem.out.println("Hiba!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39800" y="921960"/>
            <a:ext cx="86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OOP elem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1680"/>
            <a:ext cx="86058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bjektumok,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osztályok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(adatközpontú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seményvezérelt programozá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s. strukturált programozá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deklaratív /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imperatí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databsztrakció (egységbe zárás, adatelrejté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olimorfizm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Öröklődé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Dinamikus köté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3992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Összetett elágazás:</a:t>
            </a:r>
            <a:r>
              <a:rPr b="0" lang="en-US" sz="44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2200320"/>
            <a:ext cx="8839440" cy="42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witch (billentyű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ase 'w': y++; </a:t>
            </a:r>
            <a:r>
              <a:rPr b="1" lang="en-US" sz="3200" spc="-1" strike="noStrike">
                <a:solidFill>
                  <a:srgbClr val="808080"/>
                </a:solidFill>
                <a:latin typeface="Courier New"/>
              </a:rPr>
              <a:t>break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ase 'z': y--;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ase 'a': x--;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ase 's': x++; break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efaul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ystem.out.println("Hiba!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03480" y="188640"/>
            <a:ext cx="7770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ztelős ciklu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09600" y="1506600"/>
            <a:ext cx="595332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int i = </a:t>
            </a:r>
            <a:r>
              <a:rPr b="0" i="1" lang="en-GB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while (i&lt;10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ystem.out.print(i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int j = </a:t>
            </a:r>
            <a:r>
              <a:rPr b="0" i="1" lang="en-GB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ystem.out.print(j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j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} while (j&lt;10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54080" y="1827000"/>
            <a:ext cx="1648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813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faktoriálist számoló programot írjuk át while ciklusr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813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zámítsuk ki két szám legnagyobb közös osztójá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85840" y="517320"/>
            <a:ext cx="7770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44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35000" y="1949400"/>
            <a:ext cx="774252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int i=0, j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külső: for (; i&lt;10;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or (j=0; j&lt;10; ++j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if (tömb[i][j] ==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break külső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ímke állhat utasítások előtt, pl.</a:t>
            </a:r>
            <a:r>
              <a:rPr b="0" lang="en-GB" sz="32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külső</a:t>
            </a:r>
            <a:r>
              <a:rPr b="0" lang="en-GB" sz="3200" spc="-1" strike="noStrike">
                <a:solidFill>
                  <a:srgbClr val="000000"/>
                </a:solidFill>
                <a:latin typeface="Times New Roman (CE)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85840" y="517320"/>
            <a:ext cx="7770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44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35000" y="1949400"/>
            <a:ext cx="774252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 i=0, j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ülső: for (; i&lt;10; ++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or (j=0; j&lt;10; ++j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f (tömb[i][j] ==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reak </a:t>
            </a:r>
            <a:r>
              <a:rPr b="1" lang="en-US" sz="3200" spc="-1" strike="noStrike">
                <a:solidFill>
                  <a:srgbClr val="b3b3b3"/>
                </a:solidFill>
                <a:latin typeface="Courier New"/>
              </a:rPr>
              <a:t>külső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ímke állhat utasítások előtt, pl.</a:t>
            </a:r>
            <a:r>
              <a:rPr b="0" lang="en-US" sz="32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külső</a:t>
            </a:r>
            <a:r>
              <a:rPr b="0" lang="en-US" sz="3200" spc="-1" strike="noStrike">
                <a:solidFill>
                  <a:srgbClr val="000000"/>
                </a:solidFill>
                <a:latin typeface="Times New Roman (CE)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403280" y="626760"/>
            <a:ext cx="7770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44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4760" y="2063880"/>
            <a:ext cx="951696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 i=0, j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ülső: for (; i&lt;10; ++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or (j=0; j&lt;10; ++j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f (tömb[i][j] == 0)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ystem.out.println(i + " " + j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ntinue külső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405080" y="626760"/>
            <a:ext cx="7770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4400" spc="-1" strike="noStrike">
                <a:solidFill>
                  <a:srgbClr val="000000"/>
                </a:solidFill>
                <a:latin typeface="Times New Roman (CE)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as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4760" y="2063880"/>
            <a:ext cx="951696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 i=0, j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ülső: for (; i&lt;10; ++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or (j=0; j&lt;10; ++j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f (tömb[i][j] == 0)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ystem.out.println(i + " " + j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ntinue </a:t>
            </a:r>
            <a:r>
              <a:rPr b="1" lang="en-US" sz="3200" spc="-1" strike="noStrike">
                <a:solidFill>
                  <a:srgbClr val="999999"/>
                </a:solidFill>
                <a:latin typeface="Courier New"/>
              </a:rPr>
              <a:t>külső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667400" y="186840"/>
            <a:ext cx="5411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program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0280" y="1077840"/>
            <a:ext cx="9664920" cy="61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lass Lnk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ublic static void main( String[] args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( args.length != 2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ystem.err.println("Hibás paraméterezés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 a = Integer.parseInt(args[0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 b = Integer.parseInt(args[1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( a != b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( a &gt; b )  a -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lse         b -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ystem.out.println("lnko = " + 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68840" y="-360"/>
            <a:ext cx="5411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program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533520"/>
            <a:ext cx="10080720" cy="70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class Lnko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static int lnko( int a, int b )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while( a != b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if( a &gt; b )  a -= b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else         b -= a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public static void main( String[] args)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if( args.length != 2 )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System.err.println("Hibás paraméterezés!"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int a = Integer.parseInt(args[0]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int b = Integer.parseInt(args[1]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System.out.println("lnko = " + lnko(a,b)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ilépés alprogrambó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return utasítás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return 3;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pl. int visszatérési típus eset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return;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void visszatérési típus eseté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természetesen nem kötelező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 a visszatérési típus nem void, akkor kötelező minden lehetséges végrehajtási ágon szerepeln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50"/>
              </a:spcBef>
              <a:buClr>
                <a:srgbClr val="000000"/>
              </a:buClr>
              <a:buFont typeface="Courier New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ogramszöveg statikus elemzés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059360" y="-38520"/>
            <a:ext cx="60195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Verem 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oszt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160" y="0"/>
            <a:ext cx="8837280" cy="73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class Verem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Object[] adatok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int veremtető = 0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int maxmére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public Verem( int maxméret )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this.maxméret = maxmére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adatok = new Object[maxméret]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public void push( Object o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throws VeremMegteltException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if( veremtető &lt; maxméret )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adatok[veremtető] = o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veremtető ++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} else throw new VeremMegteltException(o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éterátad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rték szeri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bjektumok átadása: megosztás szerin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18920" y="466560"/>
            <a:ext cx="8605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áltozó számú argu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39440" y="1763640"/>
            <a:ext cx="86058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ava 5.0-tó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(++)-ban megszokot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elölé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void write(String... records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String record: records)   System.out.println(record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("line 1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("line 2", "line 3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("line 4", "line 5", "line 6", "line 7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86058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Írjuk át a faktoriálist számító programot úgy, hogy a számolást kiemeljük egy függvény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67400" y="188640"/>
            <a:ext cx="5411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goldás (1. lépé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1312920"/>
            <a:ext cx="966492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lass Faktoriali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ublic static void main( String[] args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( args.length == 0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ystem.err.println("Hibás paraméterezés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 n = Integer.parseInt(args[0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ong fakt = 1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( int i = 1; i&lt;=n; ++i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akt *=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ystem.out.println(fak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782640"/>
            <a:ext cx="10080720" cy="67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class Faktorialis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static long faktoriális( int n )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long fakt = 1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for( int i = 1; i&lt;=n; ++i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fakt *= i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return fak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public static void main( String[] args)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if( args.length == 0 )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System.err.println("Hibás paraméterezés!"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int n = Integer.parseInt(args[0]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System.out.println(faktoriális(n)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68840" y="-360"/>
            <a:ext cx="5411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goldás (2. lépé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9440" y="0"/>
            <a:ext cx="8605800" cy="10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ifejezés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12480" y="1101600"/>
            <a:ext cx="9288360" cy="628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terálokból, változónevekből, operátorokból, függvényhívásokból, zárójelekből építhetők f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átorok kiértékelési sorrendje jól definiált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rioritás, asszociativitás, fixit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-hez hasonló operátorok, néhány eltérés. Semmi különö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int y = 3*(4+3)/21 + 41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int x = (y &lt; 0) ? (y ++) : (y &gt;&gt; 2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boolean típus különbözik az int típustó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false &amp;&amp; tru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"hagyományos", lusta kiértékelésű ”é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false &amp; tru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 mohó/szigorú kiértékelésű ”é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3 &amp; 5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bitenkénti ”é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262120" y="-360"/>
            <a:ext cx="45579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gjegyzés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4480" y="571680"/>
            <a:ext cx="8893080" cy="22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jeltől sor végé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/*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*/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jelek közé ír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kumentációs megjegyzés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/**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*/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jelek közé ír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40" y="2357280"/>
            <a:ext cx="10079280" cy="519192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class Faktorialis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/** Kiírja a képernyőre 10 faktoriálisát */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public static void main( String[] args)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/* A paramétereket ne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használom semmire */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int faktoriális = 1;       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// ebbe gyűjtö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for( int i = 1; i&lt;=10; ++i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faktoriális = faktoriális *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System.out.println(faktoriális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7520" y="-360"/>
            <a:ext cx="860580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kumentációs megjegyzés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9493200" cy="62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avado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rogram segítségével HTML formátumú dokumentáció gyártható a Java forrásfájlokbó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bbe a dokumentációba bekerülnek a dokumentációs megjegyzés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ülönböző, ún. tag-ek segítségével paraméterezhetjük fel a dokumentáció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@param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raméter dokumentál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@resul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isszatérési érték dokumentál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@se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ivatkozás más osztály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Courier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éldául: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javadoc -private Faktorialis.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160" y="0"/>
            <a:ext cx="8837280" cy="73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class Verem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Object[] adatok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veremtető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maxmére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public Verem( int maxméret )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this.maxméret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maxmére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adatok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new Object[maxméret]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push( Object o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throws VeremMegteltException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( veremtető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maxméret )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adatok[veremtető]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o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veremtető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GB" sz="23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throw new VeremMegteltException(o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128160"/>
                <a:tab algn="l" pos="10040760"/>
                <a:tab algn="l" pos="109537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59360" y="-360"/>
            <a:ext cx="60195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Verem 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 (CE)"/>
              </a:rPr>
              <a:t>oszt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kumentáljuk a faktoriálist és a legnagyobb közös osztót számoló programjaink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8T11:59:01Z</dcterms:created>
  <dc:creator/>
  <dc:description/>
  <dc:language>en-US</dc:language>
  <cp:lastModifiedBy>kto</cp:lastModifiedBy>
  <cp:lastPrinted>2001-01-24T09:08:31Z</cp:lastPrinted>
  <dcterms:modified xsi:type="dcterms:W3CDTF">2006-04-27T13:08:48Z</dcterms:modified>
  <cp:revision>33</cp:revision>
  <dc:subject/>
  <dc:title>Nincs diacím</dc:title>
</cp:coreProperties>
</file>