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3300"/>
                </a:solidFill>
                <a:latin typeface="Times New Roman"/>
              </a:rPr>
              <a:t>JavaB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gyon divatos technoló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tévesztendő össze az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nterprise Java Beans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chnológiá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ogramozási konvenciók gyűjtemén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ponens-elvű program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zuális fejlesztőeszköz segítség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történi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eanBox segítségével testreszabhatunk, összekapcsolhatunk olyan bean-eket, amelyek nem is léteztek még a BeanBox megírásak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eanBox futási időben megismerkedik velük, és segítségével manipulálhatjuk ő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időben fut a BeanBox és a vele tervezett és összeállított alkalm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nelemzés (reflec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Java program információt gyűjthet saját magáról, vagy más Java programról - futás köz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ípusdefiníciókat leíró class fájlok sok információt tartalmaz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Java program megvizsgálhatja a virtuális gép által betöltött bájtkód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őt, a belső reprezentációjához hozzáférve nem csak elemezheti, de akár aktiválhat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.lang.reflec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Meghiv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s 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c = Class.forName(args[0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[] formalArgs = (args.length &gt; 2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? new Class[] {String.class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: new Class[]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Object o = c.newInstan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Method m = c.getMethod(args[1],formalAr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Object[] actualArgs = (args.length &gt;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? new Object[] {args[2]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: new Object[]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m.invoke(o,actualAr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Alm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kiir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 "alma "+thi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kiir(String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 "alma "+s+" "+thi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 "apple "+thi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java Meghiv Alma kiir s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lma szia Alma@fee6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Beans konven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önelemzés segítségével egy bean fejlesztőeszköz képes felderíteni és aktiválni metódus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őt, tudja őket speciálisan is kezelni, ha követjük az elnevezési konvenció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ulajdonságok testreszab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eménykez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lajdonság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ulajdonság: amit be lehet állítani (set) és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 lehet kérdezni (g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egy bean-nek lesz egy „méret” nevű „int” típusú tulajdonsága, ha definiálunk benne ilyen metódusok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void setMéret( int mére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int getMére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nak még egyéb konvenciók is, pl. tömbök eseté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estreszab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tszőleges bean tulajdonságaihoz a BeanBox futás közben elkészítheti a tulajdonságszerkesztő dialógust (Properties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utási idejű információk alapj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őség van saját tulajdonságszerkesztők elkészítésére, és a tulajdonságszerkesztő dialógusban történő megjelenítésére (PropertyEd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őt, akár saját tulajdonságszerkesztő dialógus definiálására is (Customizer, BeanInf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nk olyan JavaBean-t, melynek grafikus felülete egy piros pontot tartalmaz. A pont mérete legyen a bean tulajdonsá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erzisztencia, vizuális megjelen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Bean-ek két fontos tulajdonsá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 lehessen tárolni őket (és a belőlük összeállított program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hessen vizuális eszközzel manipulálni ő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eanBox a Java szerializációt haszná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követeli, hogy a JavaBean-ek megvalósítsák a Serializable interfész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ban a java.awt.Component-ből származtatjuk le a bean-einke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R fájl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készített JavaBean-eket JAR fájlokban szokás tárol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a class fájl(ok)on kívül tartalmazza a szükséges erőforrásokat, és egy manifest.tmp fáj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nifest.tmp:       </a:t>
            </a:r>
            <a:r>
              <a:rPr b="0" lang="hu-HU" sz="2800" spc="-1" strike="noStrike">
                <a:solidFill>
                  <a:srgbClr val="000000"/>
                </a:solidFill>
                <a:latin typeface="Courier New"/>
              </a:rPr>
              <a:t>Name: Pirospont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hu-HU" sz="2800" spc="-1" strike="noStrike">
                <a:solidFill>
                  <a:srgbClr val="000000"/>
                </a:solidFill>
                <a:latin typeface="Courier New"/>
              </a:rPr>
              <a:t>Java-Bean: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r cfm Pirospont.jar manifest.tmp Pirospont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R fájl betölthető egy futó BeanBox-ba, vagy, ha bemásoljuk a beans/jars könyvtárba, automatikusan betöltődik indulásk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ponens-elvű programo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ot komponensekből állítom öss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komponens egy önálló egység, jól meghatározott interféss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lyasmi, mint az objektum, csak nagyobb is le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őleg előregyártott komponensekből építkez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eménykeze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rás - esemény - figyel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épített esemény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ulajdonság változása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tött (bound) tulajdonság, PropertyChange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ulajdonság változásának megkísérlése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étózható (vetoable) tulajdonsá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etoableChangeListener, PropertyVeto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ját események eset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finiáljuk az esemény osztályt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util.Event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finiáljuk a figyelők interfészét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util.EventLis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valósítjuk a forr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mplementáljuk a figyelők regisztrációj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hol kell, kiváltjuk az eseményt, és értesítjük a regisztrált figyelő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hatunk speciális figyelő osztályokat is, de (egy BeanBox által generált adapter segítségével) összeköthetjük a forrást más bean-nel 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oló bean: egy Label, melynek felirata egy szám. A szám növelhető a Számoló növel() metódusával. Amikor elérjük a „max” értéket, a számoló 0-ra csökken, és MaxEvent váltódik ki. A max értéke egy tulajdonság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rm bean: egy nyomógomb, mely figyeli a MaxEvent-et, és piros színre vált, ha az bekövetkez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Off-the-sh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nak „áruházak”, ahol komponenseket veh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ak össze kell kapcsolni őket, és kész is van az alkalm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ozás mérnöki, vagy pláne szerelői munkává vál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csón megbízható terméket állítunk el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sszeszere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eszerzett komponenseket be kell konfigurálni (testreszabás, custom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abványok garantálják, h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omponenseket össze lehet rak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ármikor ki lehet cserélni egy másik, hasonló funkcionalitást nyújtó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erelés támogatható vizuális fejlesztő eszköz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goldás Java mód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Bean - kompon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JavaBean attól JavaBean, hogy elkészítésekor bizonyos konvenciókat követü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beans csom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nelemzést (reflection) használ: java.lang.ref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seménykezelés (mint AWT-ben láttu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erzisz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zuális megjelen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anBox környez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ean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un készített egy ingyen letölthető bean-fejlesztő környeze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k játékra / demonstrációra j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veket ki lehet próbálni raj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onyolultabb dolgokat nem lehet vele csiná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ok olyan dolog, ami szükséges egy program elkészítéséhez, nincs b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rofesszionális eszközök működési elve is ugyan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ean Development 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DK 1.1  -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://java.sun.com/javabean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nne van a BeanBox, dokumentációk, példaprogra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DK mellett más, kapcsolódó technológiá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Beans Tools for Activ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fo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Beans Activation Framework (J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BeanBox futta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ans/beanbox/run.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ans\beanbox\run.b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oolbox, Beanbox, Properties,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thod Tra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an-ek elhelyezése a BeanBox-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ulajdonságok módo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an-ek összekapcs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uggler vezérlése nyomógombokk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ntés és visszatöl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pplet-té alak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adat: Vízmolekula forg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1:01:19Z</dcterms:created>
  <dc:creator>Kozsik Tamás</dc:creator>
  <dc:description/>
  <dc:language>en-US</dc:language>
  <cp:lastModifiedBy>kto</cp:lastModifiedBy>
  <dcterms:modified xsi:type="dcterms:W3CDTF">2006-04-27T16:02:33Z</dcterms:modified>
  <cp:revision>2</cp:revision>
  <dc:subject/>
  <dc:title>JavaBeans</dc:title>
</cp:coreProperties>
</file>