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7672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Times New Roman"/>
              </a:rPr>
              <a:t>RMI = Remote Method In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 tudjuk hívni olyan objektumok metódusait is, amelyek más virtuális gépben fut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mmunikáció különböz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épeken futó Java programok közö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iens-szerver alkalmaz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osztott alkalmaz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ternatíva: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m csak Java programok/objektumok közö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tub - csonk: klienscso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ávoli objektum reprezentánsa a klien virtuális gépek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mikor távoli objektumra referenciát szerzünk a registry-b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, akkor egy ilyen jön lé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ikor távoli objektumokat paraméterként vagy visszatérési értékként átadunk, akkor ilyen adódik át hely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Ugyanazokat a távoli interfészeket valósítja meg, mint amit a távoli objek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ég cast-olni is le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t is kell akkor tenn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elosztott objektumrendszer komponenseinek megtervezése és megvalós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dítás, és utána a csonkok legener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ájlok kitevése a hál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ta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elosztott objektumrendszer komponenseinek megtervezése és megvalósítása (4/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 kell d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ni, hogy a rendszerben mely komponensek lesznek távolról elérhe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, és melyek lesznek lokáli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elosztott objektumrendszer komponenseinek megtervezése és megvalósítása (4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ávoli interfészek defini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ávolról elérhet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zolgáltatások definiá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ávoli metódusok paramétereiben és visszatérési értékeiben használt típusok (osztályok és interfészek) megír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elosztott objektumrendszer komponenseinek megtervezése és megvalósítása (4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31237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ávoli osztályok elkész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mplementálják a távoli interfész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gvalósítják a távolról igénybevehető szolgáltatás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tódusok paramétereiben és visszatérési értékeiben használt típusok (osztályok és interfészek) megír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elosztott objektumrendszer komponenseinek megtervezése és megvalósítása (4/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ensek megvalós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áér akkor is, ha a távoli objektumok már üzembe vannak helyezv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dítás, és utána a csonkok legenerá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rrásfájlok leford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ja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.class fájlokból a csonkok legener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r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bbek között ez is része a Development Kit-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ájlok kitevése a háló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den .class fájlt, amit a kliensek használni szeretnének majd, elérhet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é tessz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egy WEB-szerveren kereszt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ávoli interfész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lienscsonk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segédosztályok és segédinterfészek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paraméterek, visszatérési értékek típusa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utt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miregistry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z is része a Development Kit-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ávoli objektumokat bejegyz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gra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. a szerver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sználó progra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liens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gyan is kell akkor ilyet írn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szítsünk el egy távoli objektumot, ami tud összegezni egész számok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efiniáljuk a szolgáltatást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der interfés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valósítjuk a távoli objektumot: RemoteAdder oszt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unk egy kliens programot, ami haszná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ens-szerver forgatóköny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erver program elérhet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é tesz objektumo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jegyzi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t egy registry-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ávoli objektumok várják, hogy a kliensek meghívják a metódusai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liensek szereznek egy referenciát egy ilyen objektum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tán hívogatják a távoli objektumok metódus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észleteket az RMI rendszer elintéz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dder interfés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rjesszük ki a java.rmi.Remote interfész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uk bele a szolgáltatást, ami most két metód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d: hozzád egy számot az eddigi összegh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et: lekérdezi az eddigi össze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ondoskodjunk arról, hogy a metódusok deklarálják a throws klózukban a java.rmi.RemoteException kivét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llette egyebeket is deklarálhatnának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dder.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mport java.rmi.Remo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mport java.rmi.RemoteExcep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ublic interface Adder extends Remot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void add( int a 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throws RemoteExcep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int get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          throws RemoteExcep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moteAdder 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 kell valósítson egy távoli interfészt, most pl. az Adder interfész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terjesztjük a java.rmi.server.UnicastRemoteObject osztály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nunk kell konstruktor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ondoskodni kell arról, hogy beregisztráljuk az osztály egy példányát egy registry-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írhatunk egy main metódust is benne, ami ezt megteszi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teAdder.java (2/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3516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ublic class RemoteAd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ten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rmi.server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nicastRemote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mplements Adder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t sum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ublic RemoteAdder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hrows java.rmi.RemoteException {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ublic void add( int a ){ sum += a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ublic int get(){ return sum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teAdder.java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8560" y="2637000"/>
            <a:ext cx="727380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ublic static void main( String args[]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h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.rmi.RemoteExcep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.net.MalformedURLExcept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der adder = new RemoteAdde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name =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"rmi://localhost: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0/Adder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.rmi.Naming.reb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ame,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d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ávoli interfész megvalós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mplementáljuk az interfészben specifikált metóduso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hrows klózban már nem kell feltüntetni a java.rmi.RemoteException kivét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ersze, ha akarjuk, kiválthatjuk, és akkor fel kell tüntet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nstruktort is kell írni, ami viszont kiválthatja ezt a kivételt, tehát nem lehet a default konstruktorra támaszkod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UnicastRemote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demes ebb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származtatni a távoli objektumok osztály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ényelmi oszt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String, equals, hash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álás”, leszármazásnál automatik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t-pont (unicast, és nem broadcast) kommunik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pértelmezett socket-os megvalósítása az RMI-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 nem leszármazot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 kell valósítani az RMI specifikációban adott szemantikával az Object-beli m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ete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exportálni kell a távoli objektum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ogy az RMI rendszer tudomást szerezzen ró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UnicastRemoteObject.exportObject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eregisztrálás mód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felel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ztonsági felügyel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ecurity manager) install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ávoli objektum osztályának példányos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jegy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rmiregistry-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gy más szolgáltatóba, pl. J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jegy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hhoz, hogy egy kliens szerezni tudjon egy referenciát élete els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ávoli objektumá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bire már tud referenciát szerezni et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efinit távoli objektum: RMI reg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év alapján lehet t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ávoli objektumokra referenciát kér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olgáltatás elindítása: rmireg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PI hozzá: java.rmi.N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osztott objektumok rendszere forgatóköny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ülönböz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zámítógépeken futó különböz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ő virtuális gépekb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helyezke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bjektumokat bejegyzü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keresik egymást és kommunikálnak egymá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ívogatják egymás metódus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más megkeresése: pl. registry-n kereszt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észleteket az RMI rendszer elintéz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mi://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számítógép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né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nem adunk meg számítógépet, akkor az aktuális számítógé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nem adunk meg portot, akkor 10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bejegyeztünk egy távoli objektumot, akkor már van egy referencia rá, ezért nem lehet 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felszabadítani szemétgy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téssel, ezért a main végetérése után nem áll le a pr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kli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ztonsági felügyelő beáll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ávoli referencia beszer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ávoli metódusok hív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lient.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lass Client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ublic static void main(String[] args) throws Except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ystem.setSecurityManager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w RMISecurityManager() 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ring name = "rmi://localhost: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0/Adder"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der adder = (Adder) Naming.lookup(nam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r( int i = 0; i&lt;args.length; i++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der.add(Integer.parseInt(args[i]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ystem.out.println("Az összeg: "+adder.get(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ztonsági felügyel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édi a virtuális gépet és az azt futtató rendszert a letöltött kódtól (pl. lokális fájlrendszer eléré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telez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álni, ha azt akarjuk, hogy dinamikus osztályletöltés menj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éterek, visszatérési értékek, kivételek típusá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.rmi.RMISecurity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lyasmi, mint ami az appletek esetén is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 mást is beállítani, vagy jogokat adni egy policy fájll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System.get/setSecurityManager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h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zés egy gépen bel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li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der.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lient.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der.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moteAdder.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moteAdder_Stub.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nagyon engedékeny (és ezért nagyon veszélyes) megoldá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rant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ermission java.security.AllPermiss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nem annyira engedékeny megoldá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rant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ermission java.net.Socket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"*:1024-65535", "connect,accept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uttatá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Window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miregis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(pl.   rmiregistry 8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ver ind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 -Djava.rmi.server.codebase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le:/c:\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r\szerver/     Remote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liens ind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java.rmi.server.host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local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java.security.policy=policy  Client  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helyezés HTTP-szerve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onk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moteAdder_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b.class)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tölthető helyen, p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//localhost:8080/adder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zerveroldali f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jlok egy szerver gépe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r.class,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moteAdder.clas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Adder_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b.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liensoldali fájlok egy kliens gépen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der.class, Client.class,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ta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mireg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ver indítása (ugyanazon a gép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 -Djava.rmi.server.codebase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t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localhost:8080/adder/   Remote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liens ind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java.rmi.server.host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local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java.security.policy=policy  Client  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vékenység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ávoli objektumok megkeresése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ájuk referencia beszer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miregistry-n keresztü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tódushívások paramétereként/eredményeké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mmunikáció a távoli objektum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ima metódushívások a programozó számá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észleteket az RMI elfe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sztálydefiníciós fájlok tovább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másnak átadott objektumok osztályának betöltése egy másik, távoli virtuális gépb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ívum fájl haszná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liensoldali fájlokat összecsomagol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lient.j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setleg a szerveroldaliakat i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uttatáskor:   -class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nyolultabb 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lyan távoli objektumot fogunk írni, ami valamilyen feladatot old meg. Az, hogy mi a feladat, ismeretlen akkor, amikor a távoli objektumot elkészítjük. Annyit tudunk csak, hogy leírható egy bizonyos interfésszel. A dinamikus osztálybetöltés gondoskodik a többir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52480" y="5029200"/>
            <a:ext cx="64771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RMI megvalós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R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1.1 (Skel és Stu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1.2 (csak Stu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MI over II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éterátad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ializáció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intaxis hasonlít a lokális metódushívásra,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nem referencia szerint, hanem érték sze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MI és apple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jó felhasználási területe az RMI-nek a visszahívásos technika egy megvalós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pplet (ami egy távoli objektum) beregisztrálja magát egy szervernél (ami szintén egy távoli objekt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erver visszahívja az appletet, ha történt valam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(un)marsha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RMI kommunikáció során a metódushívást elkódolja a 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tódus, paraméterek, visszatérési érté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információkból az egyik fél szerializáció segítségével adatfolyamot állít el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artner az adatfolyamból visszanyeri az információ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ocateRegistry.createRegistry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programból indítanánk az rmiregistry-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java.rmi.registry.LocateRegistry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oszt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ublic static void main( String[] arg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hrows 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ocateRegistry.createRegistry(1099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mote r = new RemoteAdder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aming.rebind("rmi://localhost/Adder",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emétgyűj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kal nehezebb feladat az elosztott szemétgyűjtés, mint az egy virtuális gépen belü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RMI-ben megvalósítottak egy ily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használt hálózati objektumok segítik ezt a szemétgyűjtő mechaniz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ktivá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olyan szerver kell, amelyet a rendszer automatikusan tud aktiválni, amikor erre szükség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.rmi.ac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rmaztassunk le az Activatable osztályból a UnicastRemoteObject hely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a: to be don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400040"/>
            <a:ext cx="79246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namikus osztálybetöl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ikor a távoli objektumok egymás metódusait hívjá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étereket adnak át és visszatérési értékeket kap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biztos, hogy egy virtuális gép ismeri annak az objektumnak az osztályát, amit így k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RMI letölti az osztálydefiníció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ávoli objektum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melyeknek meg lehet hívni metódusait az RMI segítségével más virtuális gépekb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va.rmi.Rem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fészt megvalósítj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valósítanak egy távoli interfészt (a Remote egy kiterjesztését), amiben fel vannak sorolva a távolról elérhet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ódusa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ávoli metód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terjesztjük a java.rmi.Remote interfész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lesz a „távoli interfész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bben vannak definiálva a távolról meghívható metódu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ak ezek hívhatók távolr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ek a metódusok specifikálják, hogy kiválthatják a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java.rmi.RemoteExceptio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kivét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is történi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liens egy „távoli referenciával” rendelkezik a távoli objektum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liens virtuális gépben egy proxy objektum van, ami úgy csinál, mintha 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nne a távoli objek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vábbítja a metódushívásokat a távoli objektum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t a proxy objektumot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tub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nak neve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5:37:23Z</dcterms:created>
  <dc:creator>Kozsik Tamás</dc:creator>
  <dc:description/>
  <dc:language>en-US</dc:language>
  <cp:lastModifiedBy>kto</cp:lastModifiedBy>
  <dcterms:modified xsi:type="dcterms:W3CDTF">2006-04-27T16:03:46Z</dcterms:modified>
  <cp:revision>15</cp:revision>
  <dc:subject/>
  <dc:title>RMI = Remote Method Invocation</dc:title>
</cp:coreProperties>
</file>