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842-4D05-4A6A-8ECA-FAF4A0C6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789-77ED-4A67-9A89-E2C5699D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CC2-FE8D-4CC6-B8D1-17F753BF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A67-DE35-4D0F-951F-2A97F9DB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50F-E893-462B-A12D-2B1D1008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73F-9652-4175-844F-83A7E8D7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9A1-0516-430F-8CFC-912EC806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FD0D-2D1E-4AFC-9A78-5190B262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9C5-9F68-49A7-BA1B-9E673439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12A-1B4C-4334-9EC7-EDD0F65D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4E3-7D98-4A48-AA65-EC0E2026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3D7-8CCE-4DDB-824C-1CB50062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40EA40-F038-4B47-BB4F-AE025FCF25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Csomag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csomagok összeáll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somagok nyitott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ármikor hozzávehetek újabb osztályokat, interfésze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yszerűen elé írok egy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tasítá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y típus pontosan egy csomagba tartoz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omagok metszete ü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évtelen csomag: ha nincs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utasí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Po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sztály legyen a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geo.alapo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somag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dítsuk le külön a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Po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sztály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ivatkozás más csomagok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 egy forrásfájlban használni akarunk egy típust egy másik csomagbó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Írjuk ki a teljes nevé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ortáljuk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utasítá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ivatkozás teljes név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éldául névtelen csomagban, az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sztályt definiáló fájlon belül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void foo(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800" spc="-1" strike="noStrike">
                <a:solidFill>
                  <a:srgbClr val="3333cc"/>
                </a:solidFill>
                <a:latin typeface="Courier New"/>
              </a:rPr>
              <a:t>java.util.Vector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bar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800" spc="-1" strike="noStrike">
                <a:solidFill>
                  <a:srgbClr val="3333cc"/>
                </a:solidFill>
                <a:latin typeface="Courier New"/>
              </a:rPr>
              <a:t>java.util.Vector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mportálás + rövid né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éldául névtelen csomagban, az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sztályt definiáló fájlon belül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urier New"/>
              </a:rPr>
              <a:t>import java.util.Vect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void foo(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800" spc="-1" strike="noStrike">
                <a:solidFill>
                  <a:srgbClr val="3333cc"/>
                </a:solidFill>
                <a:latin typeface="Courier New"/>
              </a:rPr>
              <a:t>Vector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bar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800" spc="-1" strike="noStrike">
                <a:solidFill>
                  <a:srgbClr val="3333cc"/>
                </a:solidFill>
                <a:latin typeface="Courier New"/>
              </a:rPr>
              <a:t>Vector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mportálás + rövid né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nden típust importálhatunk egyszerre a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somagbó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urier New"/>
              </a:rPr>
              <a:t>import java.util.*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void foo(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Vector bar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new Vector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uta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 használható, hogy ne kelljen kiírni bizonyos típusok teljes nevét (pl. java.util.Vector), csak a rövid nevét (Vecto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m elég, hogy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mport java.*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m használható „félig teljes” név, pl.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util.V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541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eágyazott típusok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10 Pitch"/>
              </a:rPr>
              <a:t>import java.util.Vecto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10 Pitch"/>
              </a:rPr>
              <a:t>import java.io.*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10 Pitch"/>
              </a:rPr>
              <a:t>import java.util.Map.Entr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10 Pitch"/>
              </a:rPr>
              <a:t>import java.text.Format.*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541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kus tagok importá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 Java 5-től kezdve nem csak típusok, hanem statikus tagok is importálható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1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tatikus metóduso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1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tatikus attribútumo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10 Pitch"/>
              </a:rPr>
              <a:t>import static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utasítá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1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mportálható egy utasításs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1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gy név, va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1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gy típus összes statikus tagj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541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import static java.util.Arrays.so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class Sorting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public static void main( String[] args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ort(arg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or( String s: args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ystem.out.println(s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program tago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ípusdefiníciók (osztályok, interfészek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tódu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lokk utasít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somag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ágyazott osztály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Kö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sztály kerüljön a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ge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somag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sználnia kell a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geo.alapok.Po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sztály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m megy a fordítás, ugy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dítási egy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z, amit oda lehet adni a fordítónak, hogy lefordít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va-ban egy fordítási egység tartal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utasítás (opcionális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utasítások (opcionális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ípusdefiníciók (egy vagy több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orrend kötö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somagdeklaráció és az importáló utasítások minden típusdefinícióra vonatkozn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fordítási egység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099800"/>
            <a:ext cx="8610480" cy="55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öbb típusdefiníciót is tartalmazhat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ndegyikhez keletkezik egy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.clas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áj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savar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ckage raktár.adato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ublic class Csavar extends Anyag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lass CsavarMenet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rdítás során két fájl keletkezi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savar.class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savarMenet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fordítási egységek elhelye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Általában fájlokban, a fájlrendszer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éhány fejlesztőeszköz ettől eltérően, valamilyen adatbázisban tárolja a forráso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rásfájl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y fájl pontosan egy fordítási egységet tartalm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ájl kiterjesztése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 a fájlban van publikus típus, akkor a fájl neve meg kell, hogy egyezzen a típus nevé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y fájlban / fordítási egységben csak egy publikus típus lehe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forrásfájlok elhelye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zzunk létre a csomagszerkezettel egyező könyvtárszerkeze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bba tegyük a forrásfájlo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őprogram egyelőre kerüljön a gyökérbe, a névtelen csomag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dítsunk a gyökérbő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ésőbb beszélünk még a további trükkökről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Kör és Pont osztályok mellé írj egy főprogramot, és fordítsd össze ő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gyeld meg, hogy a Pont objektumok félnyilvános adattagjait nem tudod a Kör osztálydefinícióból vagy a főprogramból használn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lefordított fájlok elhelye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övetni kell a csomag-hierarchi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ülönben a virtuális gép (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tanácstalan les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könyvtárak létreho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éldául a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aktar.adatok.Csava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sztály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.clas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ájlját a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aktár/adato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lkönyvtárba kell te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aktár/adatok/Csavar.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-d kapcso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m kell kézzel másolgatni: bízzuk rá a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dító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gmondjuk, mi legyen a célkönyvtá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zon belül felépíti a szükséges könyvtárstruktúr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c -d . Csavar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c -d ../classes Csavar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források elhelye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vaslat: ugyanolyan struktúrában, mint a .class fájloknál, azaz követve a csomaghierarchiát. Pl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r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rakt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dat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gu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w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rakt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dat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gu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w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rendszerek kialak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057400"/>
            <a:ext cx="769644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438280"/>
            <a:ext cx="2895840" cy="1295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2666880"/>
            <a:ext cx="335268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4419720"/>
            <a:ext cx="4800600" cy="1447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648320"/>
            <a:ext cx="182880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4648320"/>
            <a:ext cx="198144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2666880"/>
            <a:ext cx="380880" cy="60984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840"/>
              <a:gd name="textAreaBottom" fmla="*/ 591480 h 609840"/>
            </a:gdLst>
            <a:ahLst/>
            <a:rect l="textAreaLeft" t="textAreaTop" r="textAreaRight" b="textAreaBottom"/>
            <a:pathLst>
              <a:path w="21600" h="34572">
                <a:moveTo>
                  <a:pt x="3600" y="0"/>
                </a:moveTo>
                <a:arcTo wR="3600" hR="3600" stAng="16200000" swAng="-5400000"/>
                <a:lnTo>
                  <a:pt x="0" y="30972"/>
                </a:lnTo>
                <a:arcTo wR="3600" hR="3600" stAng="10800000" swAng="-5400000"/>
                <a:lnTo>
                  <a:pt x="18000" y="345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480060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4800600"/>
            <a:ext cx="381240" cy="60948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19">
                <a:moveTo>
                  <a:pt x="3600" y="0"/>
                </a:moveTo>
                <a:arcTo wR="3600" hR="3600" stAng="16200000" swAng="-5400000"/>
                <a:lnTo>
                  <a:pt x="0" y="30919"/>
                </a:lnTo>
                <a:arcTo wR="3600" hR="3600" stAng="10800000" swAng="-5400000"/>
                <a:lnTo>
                  <a:pt x="18000" y="345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304812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480060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480060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274320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81952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0120" y="510552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4724280"/>
            <a:ext cx="381240" cy="60984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609840"/>
              <a:gd name="textAreaBottom" fmla="*/ 591480 h 609840"/>
            </a:gdLst>
            <a:ahLst/>
            <a:rect l="textAreaLeft" t="textAreaTop" r="textAreaRight" b="textAreaBottom"/>
            <a:pathLst>
              <a:path w="21600" h="34540">
                <a:moveTo>
                  <a:pt x="3600" y="0"/>
                </a:moveTo>
                <a:arcTo wR="3600" hR="3600" stAng="16200000" swAng="-5400000"/>
                <a:lnTo>
                  <a:pt x="0" y="30940"/>
                </a:lnTo>
                <a:arcTo wR="3600" hR="3600" stAng="10800000" swAng="-5400000"/>
                <a:lnTo>
                  <a:pt x="18000" y="34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480060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276720"/>
            <a:ext cx="381240" cy="60948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19">
                <a:moveTo>
                  <a:pt x="3600" y="0"/>
                </a:moveTo>
                <a:arcTo wR="3600" hR="3600" stAng="16200000" swAng="-5400000"/>
                <a:lnTo>
                  <a:pt x="0" y="30919"/>
                </a:lnTo>
                <a:arcTo wR="3600" hR="3600" stAng="10800000" swAng="-5400000"/>
                <a:lnTo>
                  <a:pt x="18000" y="345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2895480"/>
            <a:ext cx="182880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812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304812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rásfájlok elhelyezése (2)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hetnek egy könyvtárszerkezetben a .class fájlokk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hetnek két különböző, de azonos szerkezetű könyvtárstruktúrában a forrás és a .class fájl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hetnek egész máshogy is, pl. sok könyvtárban szétszór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-sourcepath kapcso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 sok könyvtárba vannak szétszórva a forrásfájlok, akkor használhatjuk 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-sourcepat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kapcsoló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gadható, hogy mely könyvtárakban kell keresni forrásfájlok ut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vac -sourcepath ~/src/java:~/projects/raktar DB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ivatkozások a fordítási egységen kívül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 egy fordítási egység hivatkozik egy másik fordítási egységben levő típusra, akkor a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dít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gpróbálja megtalálni a hozzá tartozó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.clas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ájlt - ha egyáltalán le van már az a típus fordí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 nincs lefordítva, akkor megkeresi a megfelelő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.jav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ájlt, és rekurzívan azt is lefordí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kurzív ford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neve alapján keresi meg a hivatkozott típust tartalmazó forrásfájlt a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ájlnévnek meg kell egyeznie a típusnév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-sourcepat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apcsoló szerep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l keresse a .class fájlok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apértelmezés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zabványos könyvtárakban 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 aktuális munkakönyvtár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-classpath kapcsoló segítségével más is megadha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javac -classpath ~/classes:. DB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zabványos könyvtárakban, 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~/class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önyvtárban és az aktuális munkakönyvtár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-classpath kapcso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gadható több könyvtárnév, amelyekben a .class fájlokat keresheti a fordí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könyvtárnevek elválasztásához UNIX alatt a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indows alatt a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;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használand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m csak könyvtárnevek, hanem .zip és .jar fájlok is megadhatók, azokban is k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kapcsoló rövidebb alakja: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-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gyan történik a keresé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790560"/>
            <a:ext cx="8458200" cy="60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javac -classpath ~/classes:. DB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gyük fel, hogy hivatkozás történik 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ktar.adatok.Csava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sztály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zabványos könyvtárakban nem talál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t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v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vax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kezdetű típusok vannak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resi a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~/classes/raktar/adatok/Csavar.clas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áj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 az sincs, keresi a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ktar/adatok/Csavar.clas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áj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 az sincs, keresi a forrását, a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ktar/adatok/Csavar.jav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ájlt, hogy lefordít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-sourcepath kapcsoló alapj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 nincs megadva, akkor az aktuális könyvtár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sztálykeresési útvonal hagyományos megad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LASSPATH környezeti változ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apság nem illendő haszná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önnyen összekavarodnak a dolgok, ha több projekten is dolgozu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lyette a -classpath kapcsol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javac fordító egyéb kapcsoló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zabványos kapcsolók, 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yomkövetési inf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malizál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targ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ód verziószám (1.1, 1.2, …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nowar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 legyenek figyelmeztetés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depreca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erről még lesz szó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m szabványos kapcsol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ésőbbi/korábbi fordítók nem biztos, hogy ismer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. heap méretének beállí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rendszerek kialak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057400"/>
            <a:ext cx="769644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2438280"/>
            <a:ext cx="2895840" cy="1295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2666880"/>
            <a:ext cx="335268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4419720"/>
            <a:ext cx="4800600" cy="1447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182880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4648320"/>
            <a:ext cx="198144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2666880"/>
            <a:ext cx="380880" cy="60984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840"/>
              <a:gd name="textAreaBottom" fmla="*/ 591480 h 609840"/>
            </a:gdLst>
            <a:ahLst/>
            <a:rect l="textAreaLeft" t="textAreaTop" r="textAreaRight" b="textAreaBottom"/>
            <a:pathLst>
              <a:path w="21600" h="34572">
                <a:moveTo>
                  <a:pt x="3600" y="0"/>
                </a:moveTo>
                <a:arcTo wR="3600" hR="3600" stAng="16200000" swAng="-5400000"/>
                <a:lnTo>
                  <a:pt x="0" y="30972"/>
                </a:lnTo>
                <a:arcTo wR="3600" hR="3600" stAng="10800000" swAng="-5400000"/>
                <a:lnTo>
                  <a:pt x="18000" y="345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480060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800600"/>
            <a:ext cx="381240" cy="60948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19">
                <a:moveTo>
                  <a:pt x="3600" y="0"/>
                </a:moveTo>
                <a:arcTo wR="3600" hR="3600" stAng="16200000" swAng="-5400000"/>
                <a:lnTo>
                  <a:pt x="0" y="30919"/>
                </a:lnTo>
                <a:arcTo wR="3600" hR="3600" stAng="10800000" swAng="-5400000"/>
                <a:lnTo>
                  <a:pt x="18000" y="345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04812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480060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480060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274320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81952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510552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4724280"/>
            <a:ext cx="381240" cy="60984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609840"/>
              <a:gd name="textAreaBottom" fmla="*/ 591480 h 609840"/>
            </a:gdLst>
            <a:ahLst/>
            <a:rect l="textAreaLeft" t="textAreaTop" r="textAreaRight" b="textAreaBottom"/>
            <a:pathLst>
              <a:path w="21600" h="34540">
                <a:moveTo>
                  <a:pt x="3600" y="0"/>
                </a:moveTo>
                <a:arcTo wR="3600" hR="3600" stAng="16200000" swAng="-5400000"/>
                <a:lnTo>
                  <a:pt x="0" y="30940"/>
                </a:lnTo>
                <a:arcTo wR="3600" hR="3600" stAng="10800000" swAng="-5400000"/>
                <a:lnTo>
                  <a:pt x="18000" y="34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480060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3276720"/>
            <a:ext cx="381240" cy="60948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19">
                <a:moveTo>
                  <a:pt x="3600" y="0"/>
                </a:moveTo>
                <a:arcTo wR="3600" hR="3600" stAng="16200000" swAng="-5400000"/>
                <a:lnTo>
                  <a:pt x="0" y="30919"/>
                </a:lnTo>
                <a:arcTo wR="3600" hR="3600" stAng="10800000" swAng="-5400000"/>
                <a:lnTo>
                  <a:pt x="18000" y="345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2895480"/>
            <a:ext cx="182880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15200" y="304812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304812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5105520"/>
            <a:ext cx="304920" cy="1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048120" y="3351240"/>
            <a:ext cx="304560" cy="1450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som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típusainkat csomagokba sorol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Összetartozás kifeje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somagok hierarchiába szervezhető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nősített hivatkozás pontokk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y típus teljes neve tartalmazza az őt befoglaló csomag nevét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V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Összetartoz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láthatósági módosítószavak:</a:t>
            </a: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 nem írunk semmit, akkor „félnyilvános”, azaz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somagszint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z azonos csomagban levő osztályok hozzáférnek egymás félnyilvános tagjaih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nnek a kiterjesz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somagok hierarchiáj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gazándiból nem is a csomagok vannak hierarchiába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nem 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somagneve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somagnak semmi köze 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somaghoz - csak a nevük „hasonló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m tökéletes a támogatás Java-ban a programrendszerek hierarchikus tagolásá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rendszerek kialak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057400"/>
            <a:ext cx="769644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438280"/>
            <a:ext cx="2895840" cy="1295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2666880"/>
            <a:ext cx="335268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4419720"/>
            <a:ext cx="4800600" cy="1447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648320"/>
            <a:ext cx="182880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4648320"/>
            <a:ext cx="198144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2666880"/>
            <a:ext cx="380880" cy="60984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840"/>
              <a:gd name="textAreaBottom" fmla="*/ 591480 h 609840"/>
            </a:gdLst>
            <a:ahLst/>
            <a:rect l="textAreaLeft" t="textAreaTop" r="textAreaRight" b="textAreaBottom"/>
            <a:pathLst>
              <a:path w="21600" h="34572">
                <a:moveTo>
                  <a:pt x="3600" y="0"/>
                </a:moveTo>
                <a:arcTo wR="3600" hR="3600" stAng="16200000" swAng="-5400000"/>
                <a:lnTo>
                  <a:pt x="0" y="30972"/>
                </a:lnTo>
                <a:arcTo wR="3600" hR="3600" stAng="10800000" swAng="-5400000"/>
                <a:lnTo>
                  <a:pt x="18000" y="345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480060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4800600"/>
            <a:ext cx="381240" cy="60948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19">
                <a:moveTo>
                  <a:pt x="3600" y="0"/>
                </a:moveTo>
                <a:arcTo wR="3600" hR="3600" stAng="16200000" swAng="-5400000"/>
                <a:lnTo>
                  <a:pt x="0" y="30919"/>
                </a:lnTo>
                <a:arcTo wR="3600" hR="3600" stAng="10800000" swAng="-5400000"/>
                <a:lnTo>
                  <a:pt x="18000" y="345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304812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480060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480060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74320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281952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510552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4724280"/>
            <a:ext cx="381240" cy="60984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609840"/>
              <a:gd name="textAreaBottom" fmla="*/ 591480 h 609840"/>
            </a:gdLst>
            <a:ahLst/>
            <a:rect l="textAreaLeft" t="textAreaTop" r="textAreaRight" b="textAreaBottom"/>
            <a:pathLst>
              <a:path w="21600" h="34540">
                <a:moveTo>
                  <a:pt x="3600" y="0"/>
                </a:moveTo>
                <a:arcTo wR="3600" hR="3600" stAng="16200000" swAng="-5400000"/>
                <a:lnTo>
                  <a:pt x="0" y="30940"/>
                </a:lnTo>
                <a:arcTo wR="3600" hR="3600" stAng="10800000" swAng="-5400000"/>
                <a:lnTo>
                  <a:pt x="18000" y="34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480060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3276720"/>
            <a:ext cx="381240" cy="60948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19">
                <a:moveTo>
                  <a:pt x="3600" y="0"/>
                </a:moveTo>
                <a:arcTo wR="3600" hR="3600" stAng="16200000" swAng="-5400000"/>
                <a:lnTo>
                  <a:pt x="0" y="30919"/>
                </a:lnTo>
                <a:arcTo wR="3600" hR="3600" stAng="10800000" swAng="-5400000"/>
                <a:lnTo>
                  <a:pt x="18000" y="345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2895480"/>
            <a:ext cx="182880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04812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3048120"/>
            <a:ext cx="380880" cy="6094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609480"/>
              <a:gd name="textAreaBottom" fmla="*/ 591120 h 609480"/>
            </a:gdLst>
            <a:ahLst/>
            <a:rect l="textAreaLeft" t="textAreaTop" r="textAreaRight" b="textAreaBottom"/>
            <a:pathLst>
              <a:path w="21600" h="34552">
                <a:moveTo>
                  <a:pt x="3600" y="0"/>
                </a:moveTo>
                <a:arcTo wR="3600" hR="3600" stAng="16200000" swAng="-5400000"/>
                <a:lnTo>
                  <a:pt x="0" y="30952"/>
                </a:lnTo>
                <a:arcTo wR="3600" hR="3600" stAng="10800000" swAng="-5400000"/>
                <a:lnTo>
                  <a:pt x="18000" y="34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5105520"/>
            <a:ext cx="304920" cy="1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048120" y="3351240"/>
            <a:ext cx="304560" cy="1450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5105520"/>
            <a:ext cx="106668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somagok megad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típusdefiníció elé egyszerűen beírjuk, hogy melyik csomagba tartoz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kulcssz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ckage raktár.adato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ublic class Csavar extends Anyag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ozsik Tamas</dc:creator>
  <dc:description/>
  <dc:language>en-US</dc:language>
  <cp:lastModifiedBy>Kozsik Tamas</cp:lastModifiedBy>
  <cp:revision>0</cp:revision>
  <dc:subject/>
  <dc:title>V. Csomagok</dc:title>
</cp:coreProperties>
</file>