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76720" y="6524640"/>
            <a:ext cx="2266920" cy="33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Kozsik Ta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2000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Adatbáziskezel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lációs adatbáziskezel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oha a Java objektum-elvű, egyelőre nem az objektum-elvű adatbáziskezelőket támogat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lapelv: platform-függetlenség, ebbe beletartozik az adatbáziskezelőktől való függetlenség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oldás: JD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msql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junk be SQL parancso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végére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\g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kell, ez zárja le a parancsot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(a parancs lehet több soros 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egítség: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\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lépés: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\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ájlból parancsok: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msql StockMarket &lt;input.t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érés TCP/IP-n kereszt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msql -hostname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gépnév   adatbáz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msql -h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gépnév   adatbáz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msql -h localhost Stock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relshow -h localhost StockMarket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datbázis elérhető a 1112 TCP porton keresztül (alapértelmezés szeri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datbáziskezelés Java program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DBC nélkül: AB-kezelőtől függő kód, API-hívások JNI-n keresztül (Java Native 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DBC-vel: kód, mely független az AB-kezelőtől. Bármikor le lehet cseréln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datmanipulációs nyelv továbbra is az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beágyazott, az SQL parancsok sztringekben van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fordító nem ellenőrzi, futás közben derül ki minden hiba... :-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SQL és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msql-jdbc-1-0.jar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fájlban van a meghajtó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t a jar fájlt is használjuk a fordításkor és a futtatáskor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-classpath msql-jdbc-1-0.jar: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 van benne? Egy csomó osztály, ami megvalósít fontos interfésze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river, Connection, Statement, ResultSet, s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 a com.imaginary.sql.msql.MsqlDriver osztályt valahogy a JVM tudomására kell hozni, mondjuk példányosít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import java.sql.*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class DBTesz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public static void main(String args[]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throws SQLException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new com.imaginary.sql.msql.MsqlDriver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Connection c = DriverManager.getConn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("jdbc:msql://localhost:1112/StockMarket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Statement s = c.createStatement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ResultSet rs = s.executeQu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("select * from Stock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while( rs.next()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System.out.println(rs.getString(1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rs.close(); s.close();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c.close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adatbáziskezelé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mikor a JVM betölti a </a:t>
            </a:r>
            <a:r>
              <a:rPr b="0" lang="hu-HU" sz="3200" spc="-1" strike="noStrike">
                <a:solidFill>
                  <a:srgbClr val="3333cc"/>
                </a:solidFill>
                <a:latin typeface="Times New Roman"/>
              </a:rPr>
              <a:t>Driver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interfészt megvalósító osztályt, akkor az beregisztrálja magát a DriverManager-né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DriverManager-től kérhetünk egy </a:t>
            </a:r>
            <a:r>
              <a:rPr b="0" lang="hu-HU" sz="3200" spc="-1" strike="noStrike">
                <a:solidFill>
                  <a:srgbClr val="3333cc"/>
                </a:solidFill>
                <a:latin typeface="Times New Roman"/>
              </a:rPr>
              <a:t>Connectio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onnection-től egy </a:t>
            </a:r>
            <a:r>
              <a:rPr b="0" lang="hu-HU" sz="3200" spc="-1" strike="noStrike">
                <a:solidFill>
                  <a:srgbClr val="3333cc"/>
                </a:solidFill>
                <a:latin typeface="Times New Roman"/>
              </a:rPr>
              <a:t>Statemen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tatement-tel végrehajthatunk egy SQL utasítást. Lekérdezés eredménye egy </a:t>
            </a:r>
            <a:r>
              <a:rPr b="0" lang="hu-HU" sz="3200" spc="-1" strike="noStrike">
                <a:solidFill>
                  <a:srgbClr val="3333cc"/>
                </a:solidFill>
                <a:latin typeface="Times New Roman"/>
              </a:rPr>
              <a:t>Result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esultSet-et bejárhatjuk soronké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eket a kékeket mind megvalósítja a meghajtópr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JDBC meghajt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Java program több adatbáziskezelőt is használ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degyikhez kell a megfelelő meghajtópr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DriverManager tartja nyilván a meghajtó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választja a megfelelőt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Connection c = DriverManager.getConnection</a:t>
            </a:r>
            <a:br>
              <a:rPr sz="2200"/>
            </a:b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("jdbc:msql://localhost:1112/StockMarket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gramozó dolga csak az, hogy a JVM-mel betöltesse a Driver-t implementáló osztályt, mert az automatikusan beregisztrálja magát a DriverManager-nél (egy statikus inicializátor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eghajtó betölt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ny létrehozása</a:t>
            </a:r>
            <a:br>
              <a:rPr sz="3200"/>
            </a:b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new com.imaginary.sql.msql.MsqlDriver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rName metódussal</a:t>
            </a:r>
            <a:br>
              <a:rPr sz="3200"/>
            </a:b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try{ Class.forName</a:t>
            </a:r>
            <a:br>
              <a:rPr sz="2200"/>
            </a:b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     ("com.imaginary.sql.msql.MsqlDriver");</a:t>
            </a:r>
            <a:br>
              <a:rPr sz="2200"/>
            </a:b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} catch (ClassNotFoundException exc){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.class attribútummal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Class cl =</a:t>
            </a:r>
            <a:br>
              <a:rPr sz="2200"/>
            </a:b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 com.imaginary.sql.msql.MsqlDriver.clas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dbc.drivers jellemző beállítása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ogy a kód semmi adatbáziskezelő-specifikus részt ne tartalmazzo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1640" y="-3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dbc.dri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6091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import java.sql.*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class DBTesz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public static void main(String args[]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throws SQLException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Connection c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DriverManager.getConnection(args[0]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javac DBTeszt.j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java -classpath msql-jdbc-1-0.jar:.</a:t>
            </a:r>
            <a:br>
              <a:rPr sz="2200"/>
            </a:b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-Djdbc.drivers=com.imaginary.sql.msql.MsqlDriver</a:t>
            </a:r>
            <a:br>
              <a:rPr sz="2200"/>
            </a:b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DBTeszt jdbc:msql://localhost:1112/Stock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bb meghajtó is betölthető (Windows ; és UNIX : elv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ülönböző adatbáziskezel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programban több adatbázis is használható, akár több adatbáziskezelőn keresztü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áttérés egyik adatbáziskezelőről egy másikra viszonylag egyszer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őleg, ha az SQL utasításokban megmaradunk a szabványos lehetőségekné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agyon sokféle adatbáziskezelőhöz készítettek már JDBC meghajtó programot (lásd Java honl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n egy JDBC-ODBC kapcsoló meghajtó, amivel minden olyan AB-kezelő használható, amihez van ODBC (Open Data Base Connectivity) interfés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78483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lami interfész, amit a Java programok és az adatbáziskezelők közé lehet rak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 kelljen olyan kódot írni, amely egy picit is egy konkrét ABkezelő rendszertől fü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művelethalmaz, amit a Java programozók használhat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unkcionalitás, amit az adatbáziskezelő készítőjének meg kell valósít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DBC-comp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rződés-mo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onnection létrehoz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str = "jdbc:msql://localhost:1112/StockMarket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Connection c = DriverManager.getConnection(str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jdbc: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alprotokoll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alné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éldául.</a:t>
            </a: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jdbc.odbc.Object.Stock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araméterként átadott sztringet végigkérdezi a regisztrált meghajtóktól. Az elsőt, amelyik tud vele mit kezdeni (alprotokoll), megbízza a munká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választási sorrend: először a jdbc.drivers, utána az explicit betöltött osztály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QL utasítások végrehajtásá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tatement s = c.createStateme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nnak lekérdezések és adatmanipuláci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kérde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ResultSet rs = s.execute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("select * from Stock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manipul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int sorok = s.execute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("insert into Stock values ('ABC',90)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öbb eredményt adó SQL utasítás végrehajtá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boolean vanEredmény = s.execute("...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esult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redménytábla, lekérdezés eredmén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ResultSet rs = s.execute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("select * from Stock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orait egymás után feldolgozha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while( rs.next() )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ezdetben a kurzor az első sor elé mu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ktuális sor komponenseit kiszedhetj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tring s = rs.getString(1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Statement-hez egyszerre csak egy ResultSet lehet megnyi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dménysorok feldolgoz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ktuális sorból az oszlopok (komponensek) kiszedhetők a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getXXX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okk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String getString(int oszlo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int getInt(int oszlo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oszlopok 1-től számozód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 az oszlop száma helyett a nevét megad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vésbbé haték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oszlopokat balról jobbra kell végigolvasni, és csak egy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esultSet a JDBC 2.0 szer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redménytábla kurzorát előre is lehet mozgatni, lehet benne pozícioná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 módosítani az eredménytáblát, és rajta keresztül az adatbáz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 lehet pl. állítani, hogy más SQL utasítások hatása ne jelenjen meg a feldolgozás alatt álló eredménytáblá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tatement stmt = con.createStatement(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ResultSet.TYPE_SCROLL_INSENSITIVE,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ResultSet.CONCUR_UPDATABLE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zícionálás és sor módos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s.absolute(5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s.updateString("Név"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"Janis Joplin"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s.updateRow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krollozható és módosítható Result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DBC 2.0 kell hozz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updateXXX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ok szabályai ugyanazok, mint a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getXXX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oké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 beszúrása és törl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s.moveToInsertRow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s.updateString(1,"Sting"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s.updateInt(2,35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s.updateBoolean(3,tru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s.insertRow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s.moveToCurrentRow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s.deleteRow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típusok és JDBC típu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etString, getInt, ...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IT, TINYINT, SHORTINT, INT, LONG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.math.BigDecimal - NUME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etASCIIStream - LONGVARCH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etBinaryStream - LONGVARBINARY, getCharacter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.sql.Blob, java.sql.Cl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.sql.Date, Time, Timest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repared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egy SQL utasítást többször is végre akarunk hajt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őfordított SQL uta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a meghajtó támogatja az előfordítá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tékonyabb, mint többször egy Statement-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araméterezh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etXXX metódu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paraméter típusának megfelelő setXXX k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tatement leszármazott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lkalmazott[] beosztottak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reparedStatement s = c.prepareStatement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"insert into Alkalmazott"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"(Név, Fizetés, Id) values (?,?,?)"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or(int i=0; i&lt;beosztottak.length; i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.setString(1, beosztottak[i].getNév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.setInt(2, beosztottak[i].getFizetés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.setInt(3, 100*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.executeUpda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DBC: Java Data Base Conne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báziskezelő készítője: csinálnia kell egy meghajtó-programot (driver), amellyel az adatbáziskezelő kielégíti a JDBC specifikáció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 programozó: a java.sql és a javax.sql csomagokban található osztályok, interfészek segítségével dolgozik, és a programhoz csatolja a használt adatbáziskezelő JDBC-meghajtóprogramj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allabl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-SQL utasítások, pl. tárolt eljárások végrehajtásá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DBC eljáráshívási escape-szekvencia</a:t>
            </a:r>
            <a:br>
              <a:rPr sz="3200"/>
            </a:br>
            <a:r>
              <a:rPr b="0" lang="hu-HU" sz="3000" spc="-1" strike="noStrike">
                <a:solidFill>
                  <a:srgbClr val="000000"/>
                </a:solidFill>
                <a:latin typeface="Times New Roman"/>
              </a:rPr>
              <a:t>{call </a:t>
            </a:r>
            <a:r>
              <a:rPr b="0" i="1" lang="hu-HU" sz="3000" spc="-1" strike="noStrike">
                <a:solidFill>
                  <a:srgbClr val="000000"/>
                </a:solidFill>
                <a:latin typeface="Times New Roman"/>
              </a:rPr>
              <a:t>&lt;procedure-name&gt;</a:t>
            </a:r>
            <a:r>
              <a:rPr b="0" lang="hu-HU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hu-HU" sz="3000" spc="-1" strike="noStrike">
                <a:solidFill>
                  <a:srgbClr val="000000"/>
                </a:solidFill>
                <a:latin typeface="Times New Roman"/>
              </a:rPr>
              <a:t>&lt;arg1&gt;</a:t>
            </a:r>
            <a:r>
              <a:rPr b="0" lang="hu-HU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hu-HU" sz="3000" spc="-1" strike="noStrike">
                <a:solidFill>
                  <a:srgbClr val="000000"/>
                </a:solidFill>
                <a:latin typeface="Times New Roman"/>
              </a:rPr>
              <a:t>&lt;arg2&gt;</a:t>
            </a:r>
            <a:r>
              <a:rPr b="0" lang="hu-HU" sz="3000" spc="-1" strike="noStrike">
                <a:solidFill>
                  <a:srgbClr val="000000"/>
                </a:solidFill>
                <a:latin typeface="Times New Roman"/>
              </a:rPr>
              <a:t>, ...]}</a:t>
            </a:r>
            <a:br>
              <a:rPr sz="3000"/>
            </a:br>
            <a:r>
              <a:rPr b="0" lang="hu-HU" sz="3000" spc="-1" strike="noStrike">
                <a:solidFill>
                  <a:srgbClr val="000000"/>
                </a:solidFill>
                <a:latin typeface="Times New Roman"/>
              </a:rPr>
              <a:t>{?= call </a:t>
            </a:r>
            <a:r>
              <a:rPr b="0" i="1" lang="hu-HU" sz="3000" spc="-1" strike="noStrike">
                <a:solidFill>
                  <a:srgbClr val="000000"/>
                </a:solidFill>
                <a:latin typeface="Times New Roman"/>
              </a:rPr>
              <a:t>&lt;procedure-name&gt;</a:t>
            </a:r>
            <a:r>
              <a:rPr b="0" lang="hu-HU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hu-HU" sz="3000" spc="-1" strike="noStrike">
                <a:solidFill>
                  <a:srgbClr val="000000"/>
                </a:solidFill>
                <a:latin typeface="Times New Roman"/>
              </a:rPr>
              <a:t>&lt;arg1&gt;</a:t>
            </a:r>
            <a:r>
              <a:rPr b="0" lang="hu-HU" sz="3000" spc="-1" strike="noStrike">
                <a:solidFill>
                  <a:srgbClr val="000000"/>
                </a:solidFill>
                <a:latin typeface="Times New Roman"/>
              </a:rPr>
              <a:t>, ...]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nek bemeneti és kimeneti paraméter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És vegy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imenetiek típusát regisztráni kell végrehajtás elő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visszaadott eredményeeket (pl. ResultSet) előbb kell feldolgozni, mint a kimeneti paramétere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eparedStatement leszármazott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CallableStatement s = c.prepare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( "{call return_seats[?, ?, ?]}"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.setString(1, "MA-723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.registerOut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(2, java.sql.Types.BOOLEA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.registerOut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(3, java.sql.Types.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.execut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// eredmények feldolgozása, ha van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boolean dohányzó = s.getBoolean(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int szabadHelyek = s.getInt(3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219320"/>
            <a:ext cx="84582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boolean tábla = s.execute("...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int sorok = s.getUpdateCou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while ( tábla || (sorok != -1) 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if(tábla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ResultSet rs = s.getResultSe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// csinálunk rs-sel vala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// csinálunk sorok-kal vala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tábla = s.getMoreResult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orok = s.getUpdateCou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3400" y="304920"/>
            <a:ext cx="423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Statement.execute(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avax.sql - szabványos kiterjesz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NDI - logikai név az adatbázisok elérésé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üggetlenség az adatbázis nevétől és pontos elérési útvonalát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bázis-kapcsolatok cache-el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apcsolat felépítése nagyon időigén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TA - Java Transaction API haszná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tfázisú protokoll tranzakciókezelésh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táblák kezelése off-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öbbrétegű (multi-tier) alkalmaz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t rétegű modell: a felhasználói interfész az adatbázishoz kapcsolód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árom rétegű modell: közbeiktatunk egy szerveroldali program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felhasználói felület a hálózaton kapcsolódik a szerverh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TML form (+szervlet), applet,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TTP, TCP - UDP, RMI,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szerver az adatbázis(ok)kal tartja a kapcsola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iztonság, megbízhatóság, rugalmasság, könnyebb használat, konfigurálhatósá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zak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ogikailag összetartozó adatbáziskezelő utasítások együt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jtódjon végre az egész (vagy sem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églegesítés: commit, visszavonás: roll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nkurrens adatbáziskezelés esetén problémák: sorbarendezhetőség (serializabil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tásban legyen olyan, mintha valamilyen sorrendbben egymás után hajtódtak volna vég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konzisztens adatok elkerül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oltpont-veszé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zakciók készít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lapértelmezett: automatikus nyugtá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den SQL utasítás befejeződése után nyugtá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égrehajtódott, és nem ad vissza eredmény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utasítást tartalmazó SQL objektmot újra végrehajtj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redménytála utolsó sorát is feldolgoz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eredménytáblát lezárj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nuális nyugtázási mó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etAuto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programozó hívja meg a commit és rollback metóduso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zakció izolációs szin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apcsolathoz rendelhetjük (Conne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etTransactionI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RANSSACTION_NONE: nincs tranz. ke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_READ_UNCOMMITED: olvasáskor mindig az aktuális értéket látj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_READ_COMMITED: olvasáskor mindig a legutóbbi véglegesített eredményt látj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_REPEATABLE_READ: a tranzakció által olvasott értékek megegyeznek a kezdeti érték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_SERIALIZABLE: a tranzakció ideje alatt az olvasott értékeket más tranzakciók nem írhatják felü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akezel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QL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etMessag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QLstate (X/OPEN SQLstate szabvány szer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ibakód (adatbáziskezelő-specifikus kó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ivatkozás a következő hibára (kiegészítése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QLW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utomatikusn lekezelik a JDBC metódu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SQL-objektumokhoz láncolva, listá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etWarnings(), clearWarning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atabase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datbázis jellemző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etMetaData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QL fogalmak adatbázisspecikifus megvalósításai, annak korlá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etCatalogSeparator(), getIdentifierQuoteString(), getMaxConnections(), getMaxColumnsInTabl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datbáziskezelő tud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upportsFullJoins(), supportsResultSetConcurrenc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DBC COMP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pportsColumnAliasing(), supportsSubqueriesInExists(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elációs adatbáziskezelés - áttekin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datok fizikai ábrázolása mellékes (remélhetőleg hatékon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ogikailag az adatok relációkként jelennek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elációk tábláknak felelnek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eláció elemei a tábla sor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eláció típusát az oszlopok határozzák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elációkon műveletek végezhetők (pl. jo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tüntetett projekciók: kulc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ötegelt (batch) végrehaj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yorsabb adatmanipulációs/definíciós utasít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int[] soro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Statement s = c.createStatemen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s.addBatch("insert into Nevek" + "values ('Lennon', 'McCartney')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s.addBatch("insert into Nevek" + "values ('Szőrényi', 'Bródy')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sorok = s.executeBatch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: bróker c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gyfelek táb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on.         Név                          Cí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                 John Lennon            London, Abbey Road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2                 Jim Morrison           LA, Love Street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3                 Presszer Gábor        Bp, Miénkitta té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1337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6765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733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3434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észvények táb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év                          Á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E                1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VK                    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54100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9528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65530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atmanipuláció: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tructured Query Language, I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terjedt, burjánzó, de szabványosították (ISO-ANSI, 198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JDBC az ANSI SQL-2 szabványt köv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kérdezések, adatfelvitel, törlés, módosítás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bázis-adminisztr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elect * from Ügyfel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elect Név from Részvények where Ár &lt;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insert into Részvények (Név, Ár) values ('MOL',1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update Részvények set Ár=121 where Név='MOL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delete from Részvények where Név='MOL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create table Tulajdonok 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(Azonosító int, Mennyiség 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drop table Tulajdon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ni SQL: m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agyon egyszerű adatbáziskezelő (Hugh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mindent tud, amit az SQL szerint ké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s adatbázisokhoz hatékony, kis erőforrás-igény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n hozzá: terminál program, relációséma nézegető, C-nyelvi API, JDBC meghaj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liens/szerver támogatása TCP/IP-n kereszt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znál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dítsuk el az adatbázis motort. Ehhez az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msql2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programot kell futtat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elshow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éma nézegető: milyen adatbázisok vanna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elshow StockMarket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lyen táblák vannak ben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elshow StockMarket Custome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tábla definíciójának megtekin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msql StockMarket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lépés a terminál programba, AB megnyi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6:16:18Z</dcterms:created>
  <dc:creator>kto</dc:creator>
  <dc:description/>
  <dc:language>en-US</dc:language>
  <cp:lastModifiedBy>kto</cp:lastModifiedBy>
  <dcterms:modified xsi:type="dcterms:W3CDTF">2006-04-27T16:01:25Z</dcterms:modified>
  <cp:revision>19</cp:revision>
  <dc:subject/>
  <dc:title>Adatbáziskezelés</dc:title>
</cp:coreProperties>
</file>