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123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76720" y="6524640"/>
            <a:ext cx="2266920" cy="333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Kozsik Tam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2000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Times New Roman"/>
              </a:rPr>
              <a:t>Grafikus felhasználói felület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omponensek kipróbál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égigpróbáljuk a komponense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agyjából ugyanúgy néznek ki és működnek minden platfor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eddigi programban a konstruktor törzsébe tesszük a komponensek létrehozás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iszkálni már lehet a komponenseket, de a programunkat még nem készítjük fel arra, hogy csináljanak valam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lmenü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enük használhatók menüpontkén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gy lehet almenüt készít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public class Menu extends MenuI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Menu m = new Menu("Edit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Menu am = new Menu("Settings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m.add(am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CheckboxMenuI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jelölős men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temEvent generálódik, ha kijelöl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lehet CheckboxGroup-ba szervez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"radio" jelleg nem lehet, mint a Checkbox-ná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 lehet kérdezni, hogy bekapcsolt állapotban van-e, vagy s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Menu am = new Menu("Settings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heckboxMenuItem mi =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CheckboxMenuItem("Monospaced fon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mi.addItemListener(..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m.add(m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övegszerkesztő program Edit menüjében helyezzünk el egy Settings almenüt, amelyben - egyelőre - csak egy menüpont legyen, amivel ki/be kapcsolhatjuk, hogy monospaced fonttal jelenjen-e meg a TextArea tartal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sználd a java.awt.Font osztályt és a TextArea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etFont(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metódus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ItemEvent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getStateChange(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metódusa hasznos le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 kérdezzük le túl korán a TextArea fontjá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Clipboard használ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aját is definiálható, de elérhető a programok közötti, közös vágólap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getToolkit().getSystemClipboard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TextArea automatikusan kezeli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l. Windows alatt Ctrl-X, Ctrl-C, Ctrl-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tringek átvitelére jól használható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tring str = (String)clipboard.getContents(null).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getTransferData(DataFlavor.stringFlavor);</a:t>
            </a:r>
            <a:br>
              <a:rPr sz="2000"/>
            </a:b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tringSelection ss = new StringSelection(str);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clipboard.setContents(ss,s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.awt.datatransfer, Transferable, Clip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észítsük ki a szövegszerkesztő programot Cut, Copy és Paste menüpontokkal, melyek a programok közötti vágólapot kezeli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igyázat: valamilyen misztikus ok miatt az első nem, csak a második működik majd j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//String str = ta.getSelectedTex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tring str =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new String(ta.getSelectedText(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tringSelection ss = new StringSelection(st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ovábbi lehetőségekre 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urzor beáll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omponent osztályban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etCursor(Cur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Cursor( Cursor.HAND_CURSO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kon beáll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rame osztályban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etIconImage(Im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oolkit.createImage(fájlné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ín beáll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omponent osztályban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etForeground(Color)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és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etBackground(Co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olor.red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Color(140,180,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Chat programban az alsó TextArea háttérszíne legyen fekete, a betűk színe legyen sár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end nyomógomb felett a kurzor legyen kéz alak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sználjuk a chat.gif fájlt a Chat program ikonjaké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Rajzo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Component osztályban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paint(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metód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public void paint( Graphics g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adja, hogy hogyan rajzolódjon ki a kompon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t felüldefiniálva rajzolhatu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Graphics objektumon keresztü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ellemző példa: Applet vagy Can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Vonal extends Fr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public void paint( Graphics g 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g.drawLine(20,30,40,5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rame f = new Vonal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.setSize(100,2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.setVisible(tr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Grap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omponens látható részét reprezentá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pernyőpontok mátrix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omponens bal felső sarka a 0,0 koordinátájú pont, ehhez képest lehet pozícioná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omponensek: Lab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extends Fr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Hello(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uper(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add(new Label("Hello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 hello = new 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.setSize(100,2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.setVisible(tr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Vonalak, téglalapok, ellipszis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Graphics osztályban definiált művel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void drawLine(int x1, int y1, int x2, int y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void drawRect(int x, int y, int width, int 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void drawOval(int x, int y, int width, int 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Ugyanezek kitöltés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void fillRect(int x, int y, int width, int 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void fillOval(int x, int y, int width, int 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rükkösebb dolg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onyolultabb alakzatok (draw és fi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void drawPolygon(int[] xPoints, int[] yPoints,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    int nPoi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void drawRoundRect(int x, int y, int width, int height,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    int arcWidth, int arc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void draw3DRect(int x, int y, int width, int height,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    boolean rais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void drawArc(int x, int y, int width, int height,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    int startAngle, int arcAngle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pek, szöveg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void drawString(String str, int x, int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void drawImage(Image i, int x, int y, ImageObserver 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eállítá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ajzolás előtt beállítha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rajzolás szí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graphics.setColor(Col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használt font (drawSt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graphics.setFont(Fo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églalapok, ellipszisek mér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egy 10 x 10 -es négyzetet akarunk rajzolni, akk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g.drawRect(0,0,9,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rt a 9 azt jelenti, hogy 9-szer jobbra/lefelé kell men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viszont kitöltött alakzatot csinálunk, akkor nem kell egyet levo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ajzolj pálcikaemberké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efiniáld felül a Frame paint metódus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6252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91120" y="3352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885840" y="41148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91120" y="41148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388584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91120" y="365760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ire rajzoljun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ellemző, hogy egy Applet egy rajzolt kompon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egy alkalmazásban/appletben csak egy komponens az, ami rajzolt, akkor azt a komponenst válasszuk Canvas-n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emberkés programot alakítsuk úgy ki, hogy alul legyen egy nyomógom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ajzot egy Canvas objektumon helyezzük el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a változtatni akarunk a rajz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omponens automatikusan újrarajzolódik, ha elveszünk előle valamit, ami eddig egy részét eltaka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agy pl. ha ikonizált állapotból visszahozz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lyenkor a paint() magától meghívód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mi akarunk valamit változtatni, és ezért újra akarjuk rajzolni a képet, ne a paint() metódust hívjuk, hanem a repaint()-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repaint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public void repain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 letörli a komponensünk képét, majd meghívja a paint()-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ész pontosan a repaint() az update()-et hívja, az törli le a komponenst és hívja meg a paint()-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 nem akarunk törölni, vagy offscreen rajzolást akarunk csinálni, akkor itt lehet közbeavatkoz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emberkés programban a Fel/Le nyomógomb egy logikai változót billentgessen. A Canvas objektumunkban a paint() ettől a logikai változótól függően az emberke kezét felfelé vagy lefelé rajzolja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ehát a nyomógomb hatására az emberke mozgatja majd a kezé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omponensek: 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Label középre igazított szövegg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extends Fr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Hello(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uper(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dd(new Label("Hello"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, Label.CENTER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 hello = new 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.setSize(100,2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.setVisible(tr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Graphics2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mit a paint megkap, az nem egyszerűen egy Graphics, hanem egy Graphics2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 a Graphics leszármazott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kkal többet t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rgatás, eltolás, stb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yugodtan konvertáljuk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public void paint( Graphics g 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((Graphics2D)g).rotate(0.4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emberke elforgatva és eltolva jelenjen meg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latform-függő inform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Toolkit objektumon keresztü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getToolkit().getFontLis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getToolkit().getScreenSize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csak a komponenseken keresztül juthatunk hozzá Toolkit objektumh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Toolkit.getDefaultToolki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övegszerkesztő program kezdetben foglalja el az egész képernyő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omponensek: But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extends Fr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Hello(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uper(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dd(new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Button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"Hello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 hello = new 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.setSize(100,2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.setVisible(tr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omponensek: Checkb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447920"/>
            <a:ext cx="80769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extends Fr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Hello(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uper(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dd(new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Checkbox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"Hello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 hello = new 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.setSize(100,2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.setVisible(tr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omponensek: Text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1447920"/>
            <a:ext cx="80769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extends Fr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Hello(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uper(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dd(new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TextField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"Hello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 hello = new 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.setSize(100,2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.setVisible(tr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omponensek: Text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447920"/>
            <a:ext cx="80769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extends Fr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Hello(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uper(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dd(new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TextArea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"Hello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 hello = new 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.setSize(100,2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.setVisible(tr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omponensek: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extends Fr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Hello(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uper(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List list = new List(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list.add("Szia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list.add(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list.add("Salu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add(lis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String args[])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omponensek: List (mul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extends Fr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Hello(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uper(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List list = new List(10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, true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list.add("Szia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list.add(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list.add("Salu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dd(lis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String args[])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omponensek: Ch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extends Fr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Hello(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uper(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Choice choice = new Choi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choice.add("Szia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choice.add(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choice.add("Salu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add(choi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String args[])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Grafikus felhasználói felület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elhasználó a programmal úgy tartja a kapcsolatot, h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eret húzog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nüpontokból válog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ombokat nyomog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istákban kijelöl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onténer (Contain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omponenseket tartalmaz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onténerek is komponens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onténerek további konténereket tartalmazhatnak: egymásba ágya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rame is egy konté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másik gyakran használt: Pa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ebek: Window, Dialog, ScrollPane, 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üvé tartozó képernyőelemek összefogásá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onténer tervezési minta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(Container design patter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2590920"/>
            <a:ext cx="3733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4724280"/>
            <a:ext cx="37335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37339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73392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4419720"/>
            <a:ext cx="457200" cy="30456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3341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312408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32767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541008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525780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konténer (egyben kompone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gazándiból nem is látszik, hogy ott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anel, mint kompon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447920"/>
            <a:ext cx="80769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extends Fr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Hello(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uper(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add(new Panel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 hello = new 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.setSize(100,2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.setVisible(tr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anel, mint konté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447920"/>
            <a:ext cx="8686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extends Fr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Hello(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uper(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Panel panel = new Panel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panel.add(new Button("Szia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panel.add(new Button("Hello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panel.add(new Button("Salut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dd(pane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String args[])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omponensek elhelyez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ddig csak létrehoztuk a komponenseket és belepakoltuk egy konténer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mondtuk meg, hogy mekkora legyen, és hova kerüljö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tméretezésnél automatikusan változtak/mozogtak a komponens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xplicit elhelyez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felhasználói felület elkészítésénél az egyik legnehezebb feladat az elhelyezé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... Aminek nagy része az átméretezés köve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xplicit programozással ugyan megoldható, de az nagyon macerás, sokat kell számolgat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oldás Java-ban: Layout 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Layout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rogramozónak nem kell foglalkozni az elhelyezés részletei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agas szinten (kellően absztrakt nyelven) fogalmazhatja meg az igény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 hova kerüljö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 mekkora legy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kötelező Layout Manager-t használni, de tényleg könnyebb azzal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Layout manager - 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lhelyezési straté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konténeren belül hogyan kell a komponenseket elhelyez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öbb predefinit LM használha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order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low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rid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ard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ridBagLayout (ehhez már gyakorlat ke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éb (lásd Sw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hatunk sajátot is (ehhez nagy gyakorlat ke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low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omponenseket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folyamatosa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kell elhelyez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 kell kérdezni a komponensektől, hogy mekkorák „szeretnének lenni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míg férnek egymás mellé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nem, akkor következő sorban folytat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apértelmezésben középre igazítva a sor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mi sehogy sem fér, az nem jelenik meg rende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Java Foundation Classes - J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bstract Windowing Toolkit - AW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blakozó rends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ccess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rag-and-dr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2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luggable Look-And-F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lowLayout - Pan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anel konténerekben az alapértelmezett Layout Manager a Flow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éldánk is ilyet mutatott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gyeljük meg, hogyan viselkedik átméretezésné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rame - FlowLay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rame konténereknél az alapértelmezett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nem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a Flow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e ott is be lehet állítani, hogy egy bizonyos Frame objektumnak az legyen a Layout Manager-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etLayout(new FlowLayout(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rame, de nem Flow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8686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extends Fr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Hello(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uper(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add(new Button("Szia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add(new Button("Hello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add(new Button("Salut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String args[])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rame + Flow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447920"/>
            <a:ext cx="8686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extends Fr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Hello(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uper(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setLayout(new FlowLayou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dd(new Button("Szia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dd(new Button("Hello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dd(new Button("Salut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String args[])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order 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onténer széléhez történő igaz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lhelyezés az égtájaknak megfelelő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gfeljebb öt komponens helyezhető 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3505320"/>
            <a:ext cx="5486400" cy="3124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4114800"/>
            <a:ext cx="3048120" cy="192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4114800"/>
            <a:ext cx="1067040" cy="192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6095880"/>
            <a:ext cx="53341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4114800"/>
            <a:ext cx="1066680" cy="192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3581280"/>
            <a:ext cx="53341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05120" y="380880"/>
            <a:ext cx="5486400" cy="6096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990720"/>
            <a:ext cx="3048120" cy="484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990720"/>
            <a:ext cx="1067040" cy="484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5943600"/>
            <a:ext cx="53341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990720"/>
            <a:ext cx="1066680" cy="484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457200"/>
            <a:ext cx="53341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1828800"/>
            <a:ext cx="8458200" cy="3124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2438280"/>
            <a:ext cx="5943600" cy="192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438280"/>
            <a:ext cx="1067040" cy="192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419720"/>
            <a:ext cx="8305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2438280"/>
            <a:ext cx="1143000" cy="192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905120"/>
            <a:ext cx="8305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1600200"/>
            <a:ext cx="8458200" cy="3352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1676520"/>
            <a:ext cx="5943600" cy="265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676520"/>
            <a:ext cx="1067040" cy="265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419720"/>
            <a:ext cx="8305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1676520"/>
            <a:ext cx="1143000" cy="265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1600200"/>
            <a:ext cx="8458200" cy="3352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1676520"/>
            <a:ext cx="7162920" cy="265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676520"/>
            <a:ext cx="1067040" cy="265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4419720"/>
            <a:ext cx="8305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1600200"/>
            <a:ext cx="8458200" cy="3352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676520"/>
            <a:ext cx="1067040" cy="265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4419720"/>
            <a:ext cx="8305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bstract Windowing Toolkit - AW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blakozó ren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séges lehetőségek minden platfor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otif, Windows, MacO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ülönféle rendszerek lehetőségeinek metsz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icit fapados...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.awt csomag, valamint alcsomag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ava.awt.color, java.awt.event, java.awt.font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Ugyanaz a program minden platformon f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ául öt nyomóg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class Hello extends Frame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public Hello()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super("Hello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add(new Button("Fent"),    </a:t>
            </a:r>
            <a:r>
              <a:rPr b="1" lang="hu-HU" sz="2200" spc="-1" strike="noStrike">
                <a:solidFill>
                  <a:srgbClr val="ff0000"/>
                </a:solidFill>
                <a:latin typeface="Courier New"/>
              </a:rPr>
              <a:t>BorderLayout.NORTH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add(new Button("Lent"),    </a:t>
            </a:r>
            <a:r>
              <a:rPr b="1" lang="hu-HU" sz="2200" spc="-1" strike="noStrike">
                <a:solidFill>
                  <a:srgbClr val="ff0000"/>
                </a:solidFill>
                <a:latin typeface="Courier New"/>
              </a:rPr>
              <a:t>BorderLayout.SOUTH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add(new Button("Balra"),   </a:t>
            </a:r>
            <a:r>
              <a:rPr b="1" lang="hu-HU" sz="2200" spc="-1" strike="noStrike">
                <a:solidFill>
                  <a:srgbClr val="ff0000"/>
                </a:solidFill>
                <a:latin typeface="Courier New"/>
              </a:rPr>
              <a:t>BorderLayout.WEST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add(new Button("Jobbra"),  </a:t>
            </a:r>
            <a:r>
              <a:rPr b="1" lang="hu-HU" sz="2200" spc="-1" strike="noStrike">
                <a:solidFill>
                  <a:srgbClr val="ff0000"/>
                </a:solidFill>
                <a:latin typeface="Courier New"/>
              </a:rPr>
              <a:t>BorderLayout.EAST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add(new Button("Középen"), </a:t>
            </a:r>
            <a:r>
              <a:rPr b="1" lang="hu-HU" sz="2200" spc="-1" strike="noStrike">
                <a:solidFill>
                  <a:srgbClr val="ff0000"/>
                </a:solidFill>
                <a:latin typeface="Courier New"/>
              </a:rPr>
              <a:t>BorderLayout.CENTER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public static void main(String args[]){...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elhelyezés sorrendje és mód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van, akit északra tettek, a BorderLayout elhelyező objektum lekérdezi, milyen magas szeretne lenni, és olyan magas lesz, észak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éltében meg akkora, hogy kitöltse a kontén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3276720"/>
            <a:ext cx="8458200" cy="3352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3352680"/>
            <a:ext cx="8305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elhelyezés sorrendje és mód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van, akit északra tettek, a BorderLayout elhelyező objektum lekérdezi, milyen magas szeretne lenni, és olyan magas lesz, észak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éltében meg akkora, hogy kitöltse a kontén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3276720"/>
            <a:ext cx="8458200" cy="3352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352680"/>
            <a:ext cx="8305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2666520" y="4191120"/>
            <a:ext cx="4419720" cy="1828800"/>
          </a:xfrm>
          <a:prstGeom prst="wedgeRoundRectCallout">
            <a:avLst>
              <a:gd name="adj1" fmla="val -47273"/>
              <a:gd name="adj2" fmla="val 6518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69280" y="4495680"/>
            <a:ext cx="389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éldául egy nyomógombnál a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elirata határozza meg, h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kkora szeretne le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elhelyezés sorrendje és mód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van, akit délre tettek, ugyanezen stratégiával lesz elhelyezve, csak dé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együk fel, hogy most nincs senki dél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276720"/>
            <a:ext cx="8458200" cy="3352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352680"/>
            <a:ext cx="8305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6095880"/>
            <a:ext cx="8305920" cy="459720"/>
          </a:xfrm>
          <a:prstGeom prst="rect">
            <a:avLst/>
          </a:prstGeom>
          <a:noFill/>
          <a:ln w="38160">
            <a:solidFill>
              <a:srgbClr val="cc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ccff"/>
                </a:solidFill>
                <a:latin typeface="Times New Roman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elhelyezés sorrendje és mód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van, akit nyugatra tettek,  lekérdezzük, milyen széles szeretne lenni, és olyan les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agassága: amilyen magas csak lehet az észak és dél figyelembe vételé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3276720"/>
            <a:ext cx="8458200" cy="3352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3352680"/>
            <a:ext cx="8305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3886200"/>
            <a:ext cx="1066680" cy="265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elhelyezés sorrendje és mód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van, akit keletre tettek, ugyanezzel a stratégiával lesz elhelyezve, csak kele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3276720"/>
            <a:ext cx="8458200" cy="3352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3352680"/>
            <a:ext cx="8305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3886200"/>
            <a:ext cx="1066680" cy="265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96080" y="3886200"/>
            <a:ext cx="1067040" cy="265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elhelyezés sorrendje és mód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égül a középre tett komponens, ha van olyan, akkor kitölti a rendelkezésre álló maradék terüle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276720"/>
            <a:ext cx="8458200" cy="3352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3352680"/>
            <a:ext cx="8305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886200"/>
            <a:ext cx="1066680" cy="265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96080" y="3886200"/>
            <a:ext cx="1067040" cy="265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3886200"/>
            <a:ext cx="6019920" cy="2654280"/>
          </a:xfrm>
          <a:prstGeom prst="rect">
            <a:avLst/>
          </a:prstGeom>
          <a:noFill/>
          <a:ln w="38160">
            <a:solidFill>
              <a:srgbClr val="cc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ccff"/>
                </a:solidFill>
                <a:latin typeface="Times New Roman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elhelyezés sorrendje és mód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égül a középre tett komponens, ha van olyan, akkor kitölti a rendelkezésre álló maradék terüle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éldánkban most ne legyen center kompon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276720"/>
            <a:ext cx="8458200" cy="3352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3352680"/>
            <a:ext cx="8305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3886200"/>
            <a:ext cx="1066680" cy="265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6080" y="3886200"/>
            <a:ext cx="1067040" cy="265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orderLayout beáll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rame-nél a BorderLayout az alapértelmez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ás konténernél a setLayout metódus meghívásával kell beállítanu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ául egy panelné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Panel panel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= new Panel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panel.setLayout( new BorderLayout() 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anel.add(   new Button("Bal")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      BorderLayout.WEST    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Visszatérve egy korábbi program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extends Fr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Hello(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uper(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add(new Button("Szia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add(new Button("Hello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add(new Button("Salut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String args[])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cc"/>
                </a:solidFill>
                <a:latin typeface="Times New Roman"/>
              </a:rPr>
              <a:t>Az egy paraméteres </a:t>
            </a:r>
            <a:r>
              <a:rPr b="1" lang="hu-HU" sz="3000" spc="-1" strike="noStrike">
                <a:solidFill>
                  <a:srgbClr val="3333cc"/>
                </a:solidFill>
                <a:latin typeface="Courier New"/>
              </a:rPr>
              <a:t>add()</a:t>
            </a:r>
            <a:r>
              <a:rPr b="0" lang="hu-HU" sz="3200" spc="-1" strike="noStrike">
                <a:solidFill>
                  <a:srgbClr val="3333cc"/>
                </a:solidFill>
                <a:latin typeface="Times New Roman"/>
              </a:rPr>
              <a:t> a </a:t>
            </a:r>
            <a:r>
              <a:rPr b="1" lang="hu-HU" sz="3000" spc="-1" strike="noStrike">
                <a:solidFill>
                  <a:srgbClr val="3333cc"/>
                </a:solidFill>
                <a:latin typeface="Courier New"/>
              </a:rPr>
              <a:t>CENTER</a:t>
            </a:r>
            <a:r>
              <a:rPr b="0" lang="hu-HU" sz="3200" spc="-1" strike="noStrike">
                <a:solidFill>
                  <a:srgbClr val="3333cc"/>
                </a:solidFill>
                <a:latin typeface="Times New Roman"/>
              </a:rPr>
              <a:t>-be tes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lső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awt.Fr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Ablak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rame f = new Fram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.setSize(100,2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.setVisible(tr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Grid Layout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ugyanakkora komponenseket akarok elhelyezni egy franciakockás rács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etLayout( new GridLayout(3,0)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 kell adni, hogy a rácsnak hány sora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vagy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hány oszlopa legy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Utána az egy paraméteres add() használha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ács méretét a másik dimenzióban a komponensek száma határozza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ául a fent létrehozott elrendező objektum három sort alakít majd ki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GridLayout konstrukt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t paramétert vá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az első paraméternek pozitív számot adunk meg, akkor annyi sort alakít majd ki. Ilyenkor a második paraméter indiffer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az első paraméter nulla, akkor a másodiknak kell pozitívnak lennie, és ez a kialakítandó oszlopok számát adja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etLayout( </a:t>
            </a:r>
            <a:r>
              <a:rPr b="1" lang="hu-HU" sz="2800" spc="-1" strike="noStrike">
                <a:solidFill>
                  <a:srgbClr val="3333cc"/>
                </a:solidFill>
                <a:latin typeface="Courier New"/>
              </a:rPr>
              <a:t>new GridLayout(3,0)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etLayout( </a:t>
            </a:r>
            <a:r>
              <a:rPr b="1" lang="hu-HU" sz="2800" spc="-1" strike="noStrike">
                <a:solidFill>
                  <a:srgbClr val="3333cc"/>
                </a:solidFill>
                <a:latin typeface="Courier New"/>
              </a:rPr>
              <a:t>new GridLayout(3,4)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etLayout( </a:t>
            </a:r>
            <a:r>
              <a:rPr b="1" lang="hu-HU" sz="2800" spc="-1" strike="noStrike">
                <a:solidFill>
                  <a:srgbClr val="3333cc"/>
                </a:solidFill>
                <a:latin typeface="Courier New"/>
              </a:rPr>
              <a:t>new GridLayout(3,1000)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szítsünk nyomógombokból egy telefonbillentyűzetet, amin 12 gomb található: a számok 1-től 9-ig, valamint a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#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arakterek. Minden gomb legyen ugyanakkora, és legyenek egy 4 soros és három oszlopos rácsb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onyolultabb képernyőké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5867280" cy="3806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943600" y="3124080"/>
            <a:ext cx="2590920" cy="838440"/>
          </a:xfrm>
          <a:prstGeom prst="wedgeEllipseCallout">
            <a:avLst>
              <a:gd name="adj1" fmla="val -84805"/>
              <a:gd name="adj2" fmla="val 4166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9760" y="33526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ext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roblé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743200" cy="3276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124080" y="2362320"/>
            <a:ext cx="586764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304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egoldás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: Konténerek és Layout Manag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ek egym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ásba ágyaz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2820960" cy="3276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200400" y="2209680"/>
            <a:ext cx="2820960" cy="3276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172200" y="2209680"/>
            <a:ext cx="2820960" cy="3276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429000" y="4800600"/>
            <a:ext cx="23781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0066"/>
                </a:solidFill>
                <a:latin typeface="Times New Roman"/>
              </a:rPr>
              <a:t>Panel 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15200" y="4800600"/>
            <a:ext cx="14479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0066"/>
                </a:solidFill>
                <a:latin typeface="Times New Roman"/>
              </a:rPr>
              <a:t>Panel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571500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order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33920" y="571500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anel 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order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10640" y="571500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anel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rid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33520" y="228600"/>
            <a:ext cx="8076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A megoldó programkó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1066680"/>
            <a:ext cx="7315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class OC extends Fra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OC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add(new TextArea(), BorderLayout.CENT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anel p1 = new Pane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add(p1,BorderLayout.SOU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1.setLayout(new BorderLayout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anel p2 = new Pane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1.add(p2,BorderLayout.EAS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2.setLayout(new GridLayout(1,0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2.add(new Button("Ok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2.add(new Button("Cancel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static void main( String[] args 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OC oc = new OC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oc.pack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oc.setVisible(tr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róbáljuk ki az előbbi programot, de kis módosításokkal: írjunk egy egyszerű szövegszerkesztő program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ét nyomógomb: Save és Load legy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gyen egy TextField is, amibe a szerkesztendő fájlnevet kell megadni. Ezt egy címke jelezze előt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76520" y="4114800"/>
            <a:ext cx="6248160" cy="2514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6095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ilen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6095880"/>
            <a:ext cx="9144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6095880"/>
            <a:ext cx="2819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4191120"/>
            <a:ext cx="60962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6172200"/>
            <a:ext cx="76212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43600" y="6095880"/>
            <a:ext cx="9144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6172200"/>
            <a:ext cx="76176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ervezzünk meg egy Chat programot, melyben egymás alatt két, egyforma méretű TextArea található, valamint alattuk egy, az ablak szélességét felvevő, „Send” feliratú nyomógom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ázi 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telefonos programunkat alakítsuk úgy át, hogy a Frame-en belül a telefonos panel mindig a bal felső sarokban helyezkedjen el, és mindig ugyanakkora legyen. (Amekkora szeretne lenni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gyeljük meg, hogy hogyan viselkedik a telefonos panel, ha egész kicsire vesszük le az ablako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keret, fő program-képerny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lapvető funkcionali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ozgathat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átméretezhető (a sarkánál fogv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konizálható, visszaállíthat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pcionális cím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k minden hiányzik m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éldául bezár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Csináljon végre valamit a program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ndeljünk funkcionalitást a felületelemekh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pecifikáljuk, hogy mi történjen, amikor valaki piszkál egy felületele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semény-orientált szemlé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ás nyelvekben / ablakozó rendszerekben gyakran: call-back eljár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i történjen, h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gyományos eseménymod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omponens eldönti, hogy mit akar csinálni, ha őt megpiszkáltá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 mégsem, akkor értesíti az őt tartalmazó kontén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És így tovább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ava 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Új, fejlettebb eseménymodell: Java 1.1-tő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seménymod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semény forrása: amivel történhet vala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éldául egy felületelem, például egy nyomógo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semény: ami törté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éldául lenyomtá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gyelő: ami reagálni tud az esemény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artalmazza a kódot, amit végre kell hajt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257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résztvev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38280" y="2362320"/>
            <a:ext cx="167652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sem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Ev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2895480"/>
            <a:ext cx="14479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orr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2895480"/>
            <a:ext cx="16765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igyelő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Lis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3429000"/>
            <a:ext cx="426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838080"/>
            <a:ext cx="0" cy="2057400"/>
          </a:xfrm>
          <a:prstGeom prst="line">
            <a:avLst/>
          </a:prstGeom>
          <a:ln w="190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1219320"/>
            <a:ext cx="2361960" cy="685800"/>
          </a:xfrm>
          <a:prstGeom prst="wedgeRoundRectCallout">
            <a:avLst>
              <a:gd name="adj1" fmla="val -64111"/>
              <a:gd name="adj2" fmla="val 81944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0" y="137160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rnyezeti ha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257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résztvev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2362320"/>
            <a:ext cx="167652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sem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Ev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2895480"/>
            <a:ext cx="14479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orr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2200" y="2895480"/>
            <a:ext cx="16765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igyelő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Lis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1676520"/>
            <a:ext cx="167652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igyelő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Lis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72200" y="4267080"/>
            <a:ext cx="16765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igyelő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Lis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05120" y="3429000"/>
            <a:ext cx="426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876920" y="23623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838080"/>
            <a:ext cx="0" cy="2057400"/>
          </a:xfrm>
          <a:prstGeom prst="line">
            <a:avLst/>
          </a:prstGeom>
          <a:ln w="190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257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résztvev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2362320"/>
            <a:ext cx="167652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sem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Ev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895480"/>
            <a:ext cx="14479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orr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72200" y="2895480"/>
            <a:ext cx="16765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igyelő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Lis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72200" y="1676520"/>
            <a:ext cx="167652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igyelő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Lis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72200" y="4267080"/>
            <a:ext cx="16765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igyelő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Lis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5257800"/>
            <a:ext cx="14479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orr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05120" y="3429000"/>
            <a:ext cx="426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769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876920" y="23623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601992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167652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sem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Ev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5562720"/>
            <a:ext cx="167652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igyelő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Lis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5029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876920" y="50292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838080"/>
            <a:ext cx="0" cy="2057400"/>
          </a:xfrm>
          <a:prstGeom prst="line">
            <a:avLst/>
          </a:prstGeom>
          <a:ln w="190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5791320"/>
            <a:ext cx="1066680" cy="0"/>
          </a:xfrm>
          <a:prstGeom prst="line">
            <a:avLst/>
          </a:prstGeom>
          <a:ln w="190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257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WT-s 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3581280"/>
            <a:ext cx="167652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enyomta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4191120"/>
            <a:ext cx="19051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yomóg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00800" y="2895480"/>
            <a:ext cx="24382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mentjük a fáj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4114800"/>
            <a:ext cx="23623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 menüpontot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szürkítü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0" y="46483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3581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05520" y="5791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105520" y="358092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2133720"/>
            <a:ext cx="0" cy="2057400"/>
          </a:xfrm>
          <a:prstGeom prst="line">
            <a:avLst/>
          </a:prstGeom>
          <a:ln w="190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838080"/>
            <a:ext cx="1828800" cy="1295640"/>
          </a:xfrm>
          <a:prstGeom prst="hexagon">
            <a:avLst>
              <a:gd name="adj" fmla="val 35288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sználó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2133720"/>
            <a:ext cx="2362320" cy="685800"/>
          </a:xfrm>
          <a:prstGeom prst="wedgeRoundRectCallout">
            <a:avLst>
              <a:gd name="adj1" fmla="val -71171"/>
              <a:gd name="adj2" fmla="val 111574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61600" y="22096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enyom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00800" y="5410080"/>
            <a:ext cx="137160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257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zek csak szerepe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66880" y="3581280"/>
            <a:ext cx="167652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enyomta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4191120"/>
            <a:ext cx="19051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yomóg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2895480"/>
            <a:ext cx="24382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mentjük a fáj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00800" y="4114800"/>
            <a:ext cx="23623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 menüpontot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szürkítü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46483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5520" y="3581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5791320"/>
            <a:ext cx="129528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105520" y="358092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19320" y="2133720"/>
            <a:ext cx="0" cy="2057400"/>
          </a:xfrm>
          <a:prstGeom prst="line">
            <a:avLst/>
          </a:prstGeom>
          <a:ln w="190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838080"/>
            <a:ext cx="1828800" cy="1295640"/>
          </a:xfrm>
          <a:prstGeom prst="hexagon">
            <a:avLst>
              <a:gd name="adj" fmla="val 35288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sználó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28800" y="2133720"/>
            <a:ext cx="2362320" cy="685800"/>
          </a:xfrm>
          <a:prstGeom prst="wedgeRoundRectCallout">
            <a:avLst>
              <a:gd name="adj1" fmla="val -71171"/>
              <a:gd name="adj2" fmla="val 111574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61600" y="22096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enyom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00800" y="5410080"/>
            <a:ext cx="137160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666880" y="6248520"/>
            <a:ext cx="10670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19720" y="6172200"/>
            <a:ext cx="8380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733920" y="6629400"/>
            <a:ext cx="3200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34320" y="624852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257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szereplők típu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3581280"/>
            <a:ext cx="167652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ction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4191120"/>
            <a:ext cx="19051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2895480"/>
            <a:ext cx="24382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ctionLis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00800" y="4114800"/>
            <a:ext cx="23623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ctionLis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46483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05520" y="3581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05520" y="5791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105520" y="358092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2133720"/>
            <a:ext cx="0" cy="2057400"/>
          </a:xfrm>
          <a:prstGeom prst="line">
            <a:avLst/>
          </a:prstGeom>
          <a:ln w="190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838080"/>
            <a:ext cx="1828800" cy="1295640"/>
          </a:xfrm>
          <a:prstGeom prst="hexagon">
            <a:avLst>
              <a:gd name="adj" fmla="val 35288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sználó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28800" y="2133720"/>
            <a:ext cx="2362320" cy="685800"/>
          </a:xfrm>
          <a:prstGeom prst="wedgeRoundRectCallout">
            <a:avLst>
              <a:gd name="adj1" fmla="val -71171"/>
              <a:gd name="adj2" fmla="val 111574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61600" y="22096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enyom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5410080"/>
            <a:ext cx="23623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ctionLis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257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okféle résztvevő v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3581280"/>
            <a:ext cx="190512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Window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4191120"/>
            <a:ext cx="19051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00800" y="2895480"/>
            <a:ext cx="24382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WindowLis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00800" y="4114800"/>
            <a:ext cx="23623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WindowLis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46483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05520" y="3581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05520" y="5791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105520" y="358092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19320" y="2133720"/>
            <a:ext cx="0" cy="2057400"/>
          </a:xfrm>
          <a:prstGeom prst="line">
            <a:avLst/>
          </a:prstGeom>
          <a:ln w="190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838080"/>
            <a:ext cx="1828800" cy="1295640"/>
          </a:xfrm>
          <a:prstGeom prst="hexagon">
            <a:avLst>
              <a:gd name="adj" fmla="val 35288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sználó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28800" y="2133720"/>
            <a:ext cx="2362320" cy="685800"/>
          </a:xfrm>
          <a:prstGeom prst="wedgeRoundRectCallout">
            <a:avLst>
              <a:gd name="adj1" fmla="val -71171"/>
              <a:gd name="adj2" fmla="val 111574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0520" y="220968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konizá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00800" y="5410080"/>
            <a:ext cx="23623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WindowLis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ogyan írjunk programot a tanfolya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extends Fr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 hello = new 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.setSize(100,2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.setVisible(tr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124080" y="22860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apcsolat felvét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4191120"/>
            <a:ext cx="19051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24480" y="2057400"/>
            <a:ext cx="23623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ctionLis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5105520"/>
            <a:ext cx="66294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ublic void addActionListener(ActionListener l)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ublic void removeActionListener(ActionListener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0" y="3124080"/>
            <a:ext cx="4648320" cy="2133720"/>
          </a:xfrm>
          <a:custGeom>
            <a:avLst/>
            <a:gdLst/>
            <a:ahLst/>
            <a:rect l="l" t="t" r="r" b="b"/>
            <a:pathLst>
              <a:path w="2928" h="1216">
                <a:moveTo>
                  <a:pt x="2928" y="0"/>
                </a:moveTo>
                <a:cubicBezTo>
                  <a:pt x="2332" y="448"/>
                  <a:pt x="1736" y="896"/>
                  <a:pt x="1248" y="1056"/>
                </a:cubicBezTo>
                <a:cubicBezTo>
                  <a:pt x="760" y="1216"/>
                  <a:pt x="380" y="1088"/>
                  <a:pt x="0" y="96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77120" y="4038480"/>
            <a:ext cx="2133360" cy="762120"/>
          </a:xfrm>
          <a:prstGeom prst="wedgeRoundRectCallout">
            <a:avLst>
              <a:gd name="adj1" fmla="val -50444"/>
              <a:gd name="adj2" fmla="val -11312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704280" y="419112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76720" y="1600200"/>
            <a:ext cx="1981080" cy="762120"/>
          </a:xfrm>
          <a:prstGeom prst="wedgeRoundRectCallout">
            <a:avLst>
              <a:gd name="adj1" fmla="val 102962"/>
              <a:gd name="adj2" fmla="val 7291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351600" y="175248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gy interfé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124080" y="22860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apcsolat felvét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4191120"/>
            <a:ext cx="19051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24480" y="2057400"/>
            <a:ext cx="23623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ctionLis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2120" y="5105520"/>
            <a:ext cx="66294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ublic void addActionListener(ActionListener l)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ublic void removeActionListener(ActionListener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0" y="3124080"/>
            <a:ext cx="4648320" cy="2133720"/>
          </a:xfrm>
          <a:custGeom>
            <a:avLst/>
            <a:gdLst/>
            <a:ahLst/>
            <a:rect l="l" t="t" r="r" b="b"/>
            <a:pathLst>
              <a:path w="2928" h="1216">
                <a:moveTo>
                  <a:pt x="2928" y="0"/>
                </a:moveTo>
                <a:cubicBezTo>
                  <a:pt x="2332" y="448"/>
                  <a:pt x="1736" y="896"/>
                  <a:pt x="1248" y="1056"/>
                </a:cubicBezTo>
                <a:cubicBezTo>
                  <a:pt x="760" y="1216"/>
                  <a:pt x="380" y="1088"/>
                  <a:pt x="0" y="96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7120" y="4038480"/>
            <a:ext cx="2133360" cy="762120"/>
          </a:xfrm>
          <a:prstGeom prst="wedgeRoundRectCallout">
            <a:avLst>
              <a:gd name="adj1" fmla="val -50444"/>
              <a:gd name="adj2" fmla="val -11312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04280" y="419112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1600200"/>
            <a:ext cx="1981080" cy="762120"/>
          </a:xfrm>
          <a:prstGeom prst="wedgeRoundRectCallout">
            <a:avLst>
              <a:gd name="adj1" fmla="val 102962"/>
              <a:gd name="adj2" fmla="val 7291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351600" y="175248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gy interfé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2666880"/>
            <a:ext cx="236196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ctionLis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0" y="3733920"/>
            <a:ext cx="2209680" cy="1447560"/>
          </a:xfrm>
          <a:custGeom>
            <a:avLst/>
            <a:gdLst/>
            <a:ahLst/>
            <a:rect l="l" t="t" r="r" b="b"/>
            <a:pathLst>
              <a:path w="1248" h="712">
                <a:moveTo>
                  <a:pt x="1248" y="0"/>
                </a:moveTo>
                <a:cubicBezTo>
                  <a:pt x="1160" y="268"/>
                  <a:pt x="1072" y="536"/>
                  <a:pt x="912" y="624"/>
                </a:cubicBezTo>
                <a:cubicBezTo>
                  <a:pt x="752" y="712"/>
                  <a:pt x="440" y="568"/>
                  <a:pt x="288" y="528"/>
                </a:cubicBezTo>
                <a:cubicBezTo>
                  <a:pt x="136" y="488"/>
                  <a:pt x="68" y="436"/>
                  <a:pt x="0" y="384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124080" y="22860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semény eljutta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505320"/>
            <a:ext cx="190476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cc"/>
                </a:solidFill>
                <a:latin typeface="Times New Roman"/>
              </a:rPr>
              <a:t>Action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4191120"/>
            <a:ext cx="19051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00800" y="2895480"/>
            <a:ext cx="25146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ctionLis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00800" y="4114800"/>
            <a:ext cx="25146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ctionLis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2133720"/>
            <a:ext cx="0" cy="2057400"/>
          </a:xfrm>
          <a:prstGeom prst="line">
            <a:avLst/>
          </a:prstGeom>
          <a:ln w="190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838080"/>
            <a:ext cx="1828800" cy="1295640"/>
          </a:xfrm>
          <a:prstGeom prst="hexagon">
            <a:avLst>
              <a:gd name="adj" fmla="val 35288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sználó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133720"/>
            <a:ext cx="2362320" cy="685800"/>
          </a:xfrm>
          <a:prstGeom prst="wedgeRoundRectCallout">
            <a:avLst>
              <a:gd name="adj1" fmla="val -71171"/>
              <a:gd name="adj2" fmla="val 111574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61600" y="22096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enyom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19520" y="5181480"/>
            <a:ext cx="57150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ublic void actionPerformed(</a:t>
            </a:r>
            <a:r>
              <a:rPr b="1" lang="hu-HU" sz="2400" spc="-1" strike="noStrike">
                <a:solidFill>
                  <a:srgbClr val="9900cc"/>
                </a:solidFill>
                <a:latin typeface="Times New Roman"/>
              </a:rPr>
              <a:t>ActionEvent 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0" y="4648320"/>
            <a:ext cx="4114800" cy="533160"/>
          </a:xfrm>
          <a:custGeom>
            <a:avLst/>
            <a:gdLst/>
            <a:ahLst/>
            <a:rect l="l" t="t" r="r" b="b"/>
            <a:pathLst>
              <a:path w="2592" h="336">
                <a:moveTo>
                  <a:pt x="0" y="0"/>
                </a:moveTo>
                <a:cubicBezTo>
                  <a:pt x="432" y="168"/>
                  <a:pt x="864" y="336"/>
                  <a:pt x="1296" y="336"/>
                </a:cubicBezTo>
                <a:cubicBezTo>
                  <a:pt x="1728" y="336"/>
                  <a:pt x="2160" y="168"/>
                  <a:pt x="2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86000" y="3505320"/>
            <a:ext cx="4114800" cy="1257120"/>
          </a:xfrm>
          <a:custGeom>
            <a:avLst/>
            <a:gdLst/>
            <a:ahLst/>
            <a:rect l="l" t="t" r="r" b="b"/>
            <a:pathLst>
              <a:path w="2592" h="792">
                <a:moveTo>
                  <a:pt x="0" y="720"/>
                </a:moveTo>
                <a:cubicBezTo>
                  <a:pt x="528" y="756"/>
                  <a:pt x="1056" y="792"/>
                  <a:pt x="1488" y="672"/>
                </a:cubicBezTo>
                <a:cubicBezTo>
                  <a:pt x="1920" y="552"/>
                  <a:pt x="2256" y="276"/>
                  <a:pt x="2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124080" y="22860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semény lekezel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8120" y="3505320"/>
            <a:ext cx="190476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cc"/>
                </a:solidFill>
                <a:latin typeface="Times New Roman"/>
              </a:rPr>
              <a:t>Action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0880" y="4191120"/>
            <a:ext cx="19051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400800" y="2895480"/>
            <a:ext cx="25146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ctionLis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400800" y="4114800"/>
            <a:ext cx="25146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ctionLis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19320" y="2133720"/>
            <a:ext cx="0" cy="2057400"/>
          </a:xfrm>
          <a:prstGeom prst="line">
            <a:avLst/>
          </a:prstGeom>
          <a:ln w="190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4920" y="838080"/>
            <a:ext cx="1828800" cy="1295640"/>
          </a:xfrm>
          <a:prstGeom prst="hexagon">
            <a:avLst>
              <a:gd name="adj" fmla="val 35288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sználó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28800" y="2133720"/>
            <a:ext cx="2362320" cy="685800"/>
          </a:xfrm>
          <a:prstGeom prst="wedgeRoundRectCallout">
            <a:avLst>
              <a:gd name="adj1" fmla="val -71171"/>
              <a:gd name="adj2" fmla="val 111574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61600" y="22096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enyom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19520" y="5181480"/>
            <a:ext cx="579096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ublic void actionPerformed(</a:t>
            </a:r>
            <a:r>
              <a:rPr b="1" lang="hu-HU" sz="2400" spc="-1" strike="noStrike">
                <a:solidFill>
                  <a:srgbClr val="9900cc"/>
                </a:solidFill>
                <a:latin typeface="Times New Roman"/>
              </a:rPr>
              <a:t>ActionEvent 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0" y="4648320"/>
            <a:ext cx="4114800" cy="533160"/>
          </a:xfrm>
          <a:custGeom>
            <a:avLst/>
            <a:gdLst/>
            <a:ahLst/>
            <a:rect l="l" t="t" r="r" b="b"/>
            <a:pathLst>
              <a:path w="2592" h="336">
                <a:moveTo>
                  <a:pt x="0" y="0"/>
                </a:moveTo>
                <a:cubicBezTo>
                  <a:pt x="432" y="168"/>
                  <a:pt x="864" y="336"/>
                  <a:pt x="1296" y="336"/>
                </a:cubicBezTo>
                <a:cubicBezTo>
                  <a:pt x="1728" y="336"/>
                  <a:pt x="2160" y="168"/>
                  <a:pt x="2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0" y="3505320"/>
            <a:ext cx="4114800" cy="1257120"/>
          </a:xfrm>
          <a:custGeom>
            <a:avLst/>
            <a:gdLst/>
            <a:ahLst/>
            <a:rect l="l" t="t" r="r" b="b"/>
            <a:pathLst>
              <a:path w="2592" h="792">
                <a:moveTo>
                  <a:pt x="0" y="720"/>
                </a:moveTo>
                <a:cubicBezTo>
                  <a:pt x="528" y="756"/>
                  <a:pt x="1056" y="792"/>
                  <a:pt x="1488" y="672"/>
                </a:cubicBezTo>
                <a:cubicBezTo>
                  <a:pt x="1920" y="552"/>
                  <a:pt x="2256" y="276"/>
                  <a:pt x="2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junk eseménykezelő osztályt, és egy példányát kapcsoljuk hozzá Chat program Send nyomógombjához. A figyelő reakciója az legyen, hogy kiírja a szabványos kimenetre, hogy lenyomták az általa figyelt gomb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sználd a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java.awt.event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csomago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róbálj meg létrehozni és a nyomógombhoz kapcsolni két példányt a figyelő osztály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gold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Courier New"/>
              </a:rPr>
              <a:t>import java.awt.event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Courier New"/>
              </a:rPr>
              <a:t>public class Figyelo implements ActionListen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3333cc"/>
                </a:solidFill>
                <a:latin typeface="Courier New"/>
              </a:rPr>
              <a:t>public void actionPerformed( ActionEvent e 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3333cc"/>
                </a:solidFill>
                <a:latin typeface="Courier New"/>
              </a:rPr>
              <a:t>System.out.println("Lenyomták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Courier New"/>
              </a:rPr>
              <a:t>Button b = new Button("Send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Courier New"/>
              </a:rPr>
              <a:t>add(b, BorderLayout.SOU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Courier New"/>
              </a:rPr>
              <a:t>b.addActionListener( new Figyelo(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Courier New"/>
              </a:rPr>
              <a:t>b.addActionListener( new Figyelo(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het maga a Chat program is egy figyelő. Csinálja azt, hogy az alsó TextArea tartalmát hozzáfűzi a felsőéhez, és le is törli az alsó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etText, setText, app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TextArea-kból attribútumot kell csinálni, hogy a referenciák a metódushívások közben is megmaradjanak (hogy minden metódusból használhassuk ők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tán idővel a két másik figyelőt ki is lehet ám venni... :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ülönálló oszt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k esetben kényelmes, ha az eseménykezelőt nem különálló osztályként valósítjuk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irekt hozzáférés szükséges a komponensekh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n, amikor az sem kényelmes, ha a Frame-be tesszük az eseménykezelé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ágyazott osztályok segítenek maj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juk meg a Chat programot úgy, hogy az eseménykezelés külön osztályban legy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ükséges információkat el kell juttatni az eseménykezelést végző objektumhoz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eágyazott osztály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beágyazott osztályok segítségével kényelmese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évtelen osztály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információ megfelelő helyre történő eljuttatásával nem kell foglalkoz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ogyan írjunk programot a tanfolya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extends Fr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public Hello(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super(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 hello = new 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.setSize(100,2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ello.setVisible(tr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d meg a Chat programot úgy, hogy névtelen osztályt használsz az eseménykezeléshe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ás esemény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WindowEvent, KeyEvent, ItemEvent, MouseEvent, MouseMotionEvent, ComponentEvent, ContainerEvent, st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den komponensnél kitalálható, hogy milyen eseményt tud kivált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dd*Listener   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addWindowListener, addKeyListen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blak becsukása: Window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WindowEvent, WindowListe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WindowEvent: az ablakokkal kapcsolatos események összefoglaló n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WindowListe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indowActivated( WindowEvent e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indowDeactivated( WindowEvent e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indowOpened( WindowEvent e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indowClosed( WindowEvent e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windowClosing( WindowEvent e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indowIconified( WindowEvent e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indowDeiconified( WindowEvent e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(Window)Adap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egy WindowListener-t írunk, akkor meg kell valósítani 7 metód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ölöslegesen macerás, mert sokszor csak egy metódus érdekel minket, a többi n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többinek úgyis üres törzset írná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sználjunk helyette WindowAdapter-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 egy osztály, ami üres törzzsel valósítja meg a 7 metódust a WindowListener-bő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származtatunk belőle, és ami kell, felüldefiniáljuk, a többit örököljü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Chat programot egészítsük ki úgy, hogy ki lehessen belőle lép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ystem.exit(0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gyelem! Hibaforrás: ha rosszul írjuk be a windowClosing nevét vagy paraméterezését, a fordító nem fog szólni, mert öröklődik az üres törzsű metódu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sináljuk azt is meg a Chat programban, hogy a felső TextArea-t ne lehessen szerkeszteni, és hogy egyből az alsó TextArea kapja meg az input fókuszt, amikor elindul a program, meg miután lenyomtuk a Send nyomógomb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jezzük be a szövegszerkesztő programot! A Load és Save nyomógombhoz rendeljünk értelemszerű eseménykezelőket. A fájlnevet vegyük a TextField-ből. A kilépésre is adjunk lehetősé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Lokális változók elérése beágyazott osztályok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előző feladat során a komponenseket adattagként vettük f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lég, ha lokális változó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eseménykezelésért felelős névtelen osztályokból így is elérhető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lyenkor final módosítószóval kell deklarálni ő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róbáld k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class SzovegSzerkeszto extends Fra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3366ff"/>
                </a:solidFill>
                <a:latin typeface="Courier New"/>
              </a:rPr>
              <a:t>TextArea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hu-HU" sz="2000" spc="-1" strike="noStrike">
                <a:solidFill>
                  <a:srgbClr val="3366ff"/>
                </a:solidFill>
                <a:latin typeface="Courier New"/>
              </a:rPr>
              <a:t>ta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= new TextAre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3366ff"/>
                </a:solidFill>
                <a:latin typeface="Courier New"/>
              </a:rPr>
              <a:t>TextField tf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= new TextFiel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Button load = new Button("Load"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ave = new Button("Sav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SzovegSzerkeszto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ave.addActionListener( new ActionListener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void actionPerformed( ActionEvent e 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rintWriter w = new PrintWriter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new FileWriter(</a:t>
            </a:r>
            <a:r>
              <a:rPr b="1" lang="hu-HU" sz="2000" spc="-1" strike="noStrike">
                <a:solidFill>
                  <a:srgbClr val="3366ff"/>
                </a:solidFill>
                <a:latin typeface="Courier New"/>
              </a:rPr>
              <a:t>tf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.getText()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w.print(</a:t>
            </a:r>
            <a:r>
              <a:rPr b="1" lang="hu-HU" sz="2000" spc="-1" strike="noStrike">
                <a:solidFill>
                  <a:srgbClr val="3366ff"/>
                </a:solidFill>
                <a:latin typeface="Courier New"/>
              </a:rPr>
              <a:t>ta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.getText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w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 catch( IOException ioe 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ystem.err.println("Sikertelen mentés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class SzovegSzerkeszto extends Fra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SzovegSzerkeszto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000" spc="-1" strike="noStrike">
                <a:solidFill>
                  <a:srgbClr val="3366ff"/>
                </a:solidFill>
                <a:latin typeface="Courier New"/>
              </a:rPr>
              <a:t>final TextArea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hu-HU" sz="2000" spc="-1" strike="noStrike">
                <a:solidFill>
                  <a:srgbClr val="3366ff"/>
                </a:solidFill>
                <a:latin typeface="Courier New"/>
              </a:rPr>
              <a:t>ta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= new TextAre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000" spc="-1" strike="noStrike">
                <a:solidFill>
                  <a:srgbClr val="3366ff"/>
                </a:solidFill>
                <a:latin typeface="Courier New"/>
              </a:rPr>
              <a:t>final TextField tf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= new TextFiel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Button load = new Button("Load"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ave = new Button("Sav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ave.addActionListener( new ActionListener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void actionPerformed( ActionEvent e 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rintWriter w = new PrintWriter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new FileWriter(</a:t>
            </a:r>
            <a:r>
              <a:rPr b="1" lang="hu-HU" sz="2000" spc="-1" strike="noStrike">
                <a:solidFill>
                  <a:srgbClr val="3366ff"/>
                </a:solidFill>
                <a:latin typeface="Courier New"/>
              </a:rPr>
              <a:t>tf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.getText()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w.print(</a:t>
            </a:r>
            <a:r>
              <a:rPr b="1" lang="hu-HU" sz="2000" spc="-1" strike="noStrike">
                <a:solidFill>
                  <a:srgbClr val="3366ff"/>
                </a:solidFill>
                <a:latin typeface="Courier New"/>
              </a:rPr>
              <a:t>ta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.getText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w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 catch( IOException ioe 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ystem.err.println("Sikertelen mentés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grafikus felület eleme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omponensek (Compon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okás widget-nek is nevez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ímkék, nyomógombok, listák, legördülő listák, kiválasztó dobozok, "rádió" dobozok, szöveg beviteli mezők,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abel, Button, List, Choice, Checkbox, TextField, TextArea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enük egy picit más témakörbe tartoz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Ugyanaz a figyelő több forrásh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Ugyanaz a figyelő több forráshoz is hozzárendelhet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ármelyik forrásban fellép az esemény, a figyelő megfelelő metódusa végrehajtód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átadott esemény objektum információt hord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ául azt, hogy melyik forrásból származik: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getSource(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metód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void actionPerformed(ActionEvent e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f( e.getSource() == ... ) ..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övegszerkesztő programban a nyomógombok lekezelését ne névtelen osztállyal valósítsuk meg, hanem a Frame kapja meg az eseményeket. Döntsön a getSource() alapján arról, hogy mit kell csináln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nü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den Frame objektumhoz hozzákapcsolható (legfeljebb egy) menüsor: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enu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enüsorba menüket lehet felvenni: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enük menüpontokat tartalmazhatnak: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enuI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enüpontok között lehetnek speciális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választó jelek (Sepa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menü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i/bekacsolhatós menüpontok (CheckboxMenuIt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nüs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sak Frame-hez rendelhető hozz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pplethez például ne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op-up menük használhatók appleteknél i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wing-ben már lehet appletekhez is menüt rendelni, ott sokkal több lehetőség va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MenuBar mb = new MenuBar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setMenuBar(mb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n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enübárhoz lehet hozzáve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Menu m = new Menu("File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mb.add(m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m = new Menu("Edit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mb.add(m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help menü speciálisan kezelhet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z bizonyos rendszereken a menüsor jobb szélén jelenik majd meg (Windows-on n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m = new Menu("Help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mb.setHelpMenu(m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nüpo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enükhöz lehet hozzáve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MenuItem mi = new MenuItem("Load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m.add(mi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mi = new MenuItem("Save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m.add(m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m.addSeparator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enüpontok szintén ActionEvent-eket generálnak, amikor kiválasztják ő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mi.addActionListener( ...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juk újra a szövegszerkesztő programot úgy, hogy ne nyomógombokkal, hanem menükkel lehessen vezérel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enüsor alatt csak egy TextArea legy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gyen File menü (Load, Save, elválasztó jel, Exit), legyen Edit menü (üres) és legyen Help menü (szintén ü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előre a Load és a Save ne csináljon semmit, de az Exit már működjö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Dialógus abl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onténer (Contai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ülön ablakként jelenik meg (Windo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peciális, előre elkészített dialógusablak a FileDia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odális vagy s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77120" y="380880"/>
            <a:ext cx="190476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553080" y="3200400"/>
            <a:ext cx="19051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53080" y="4572000"/>
            <a:ext cx="19051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ia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53080" y="5867280"/>
            <a:ext cx="19051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ileDia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553080" y="1752480"/>
            <a:ext cx="19051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7467480" y="10663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467480" y="243792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7467480" y="388584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7467480" y="5181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ileDialog használ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onstruktorral létrehozzuk - paraméterként átadjuk a Frame-et, amihez képest modál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rakás előtt beállítjuk, hogy Save vagy 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how(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metódussal kitesszü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mikor Ok-t vagy Cancel-t nyomtak, eltűnik, és megint a Frame-mel dolgozhatu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getFile(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és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getDirectory(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metódussal lekérdezhető a kiválasztott fájl és útv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ancel esetén a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getFile()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eredménye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övegszerkesztő programban az elmenteni, illetve betölteni való fájl nevét egy FileDialog dialógusablakból szerezzük me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ileDialog objektumot csak egyszer hozzuk létre, eltároljuk a szövegszerkesztő egy adattagjában, és amikor kell, kitesszü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ájl megnyitásához egy java.io.File objektumot használhatunk, ami egy fájlnevet reprezentá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enüpontok közötti választás az ActionEvent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getActionCommand(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metódusával me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16:02:02Z</dcterms:created>
  <dc:creator>Kozsik Tamas</dc:creator>
  <dc:description/>
  <dc:language>en-US</dc:language>
  <cp:lastModifiedBy>kto</cp:lastModifiedBy>
  <dcterms:modified xsi:type="dcterms:W3CDTF">2006-04-27T16:00:27Z</dcterms:modified>
  <cp:revision>16</cp:revision>
  <dc:subject/>
  <dc:title>XI. Grafikus felhasználói felületek</dc:title>
</cp:coreProperties>
</file>