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76720" y="6524640"/>
            <a:ext cx="2266920" cy="333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Kozsik Tam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2000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Times New Roman"/>
              </a:rPr>
              <a:t>Be- és kimenet kezelé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gyanaz fájlb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1932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Üdvözlő szöveg kiírása egy fájl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 String args[]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FileWriter fw = new FileWriter("a.t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PrintWriter pw = new PrintWriter(fw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"Hello World!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52880" y="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ásik 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Writer w = new OutputStreamWriter(os,"MacCentralEurop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w.write('Ú'); w.flush();   // w.write(218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ader r = new InputStreamReader(is,"Cp1250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t i = r.rea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stem.out.println(i);     // 328 jelenik m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218 Unicode kód az Ú bet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acCentralEurope a 242 kódot rendeli hozz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Windows Latin-2 (azaz a Cp1250) a 328  Unicode kódú karaktert rendeli a 242 értékh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 a n bet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00200" y="6248520"/>
            <a:ext cx="76320" cy="75960"/>
          </a:xfrm>
          <a:custGeom>
            <a:avLst/>
            <a:gdLst/>
            <a:ahLst/>
            <a:rect l="l" t="t" r="r" b="b"/>
            <a:pathLst>
              <a:path w="191" h="80">
                <a:moveTo>
                  <a:pt x="0" y="67"/>
                </a:moveTo>
                <a:cubicBezTo>
                  <a:pt x="12" y="12"/>
                  <a:pt x="57" y="8"/>
                  <a:pt x="105" y="1"/>
                </a:cubicBezTo>
                <a:cubicBezTo>
                  <a:pt x="118" y="3"/>
                  <a:pt x="133" y="0"/>
                  <a:pt x="145" y="7"/>
                </a:cubicBezTo>
                <a:cubicBezTo>
                  <a:pt x="151" y="10"/>
                  <a:pt x="147" y="21"/>
                  <a:pt x="151" y="27"/>
                </a:cubicBezTo>
                <a:cubicBezTo>
                  <a:pt x="162" y="46"/>
                  <a:pt x="191" y="55"/>
                  <a:pt x="191" y="80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nulsá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yanazzal a karakterkódolással érdemes beolvasni, mint amivel kiírtuk az adato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 a Java programunk más programmal / más platformmal tartja a kapcsolatot, akkor is jól m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z a szabály platformfüggetlenséget is biztosí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ét Java program közötti kommunikációnál is fontos (p. hálózatos progr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Java által támogatott karakterkódolási szabvány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SO Latin-1, ISO Latin-2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Windows Latin-1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ac kódol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BM kódtábl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ávol-keleti szabványok (Big5, JIS, stb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ndnek megfelel egy sztring, amit a konstruktornak kell átadni. Pl. "8859_1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rakterszervezésű fájlcsatorn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ader fr = new FileReader("olvass.el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ader fr = new InputStreamReader(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FileInputStream("olvass.el"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ader fr = new InputStreamReader(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FileInputStream("olvass.el"),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"8859_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atornák egymás után fűz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equenceInput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onstruktorának megadunk több InputStream-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eket egymás után végigolvashatjuk: ha az egyik véget ér, automatikusan ugrik a következő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él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putStream in = new SequenceInputStream(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(new FileInputStream("papsajt")),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System.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Vector v = new Vector(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v.addElement(new FileInputStream("papsajt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v.addElement(System.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putStream in =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SequenceInputStream(v.elements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égigolvashatjuk a "papsajt" fájlt, és folytatjuk az olvasást a szabványos bemenetrő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ből lehet még olvasni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re lehet még írn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ás könyvtárakban is vannak olyan osztályok, metódusok, amelyek segítségével csatornákhoz juthatunk hozz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éldául a java.net.Socket osztálytól tudunk olyan bemeneti és kimeneti csatornákat beszerezni, amivel hálózati kapcsolaton keresztül lehet irkálni, olvasgatni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egészítések az alapfunkcionalitásh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ét bemeneti csatorna alaposztálynak, az InputStream-nek és a Reader-nek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ovábbi "szolgáltatásai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önyvjelző mechaniz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atelérhetőség-vizsgá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atelérhetőség-vizsgál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putStream: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t available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ader: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oolean ready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 lehet tudni, hogy a beolvasás blokkolódni fog-e. Az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available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csak becslést a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int méret( String fnév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(new FileInputStream(fnév)).availabl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önyvjelző mechanizm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void mark(int readlimit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boolean markSupporte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void reset(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tehetek egy könyvjelzőt az aktuális pozíci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... amennyiben a csatornaosztály támogatja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isszaugrok a könyvjelző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gyanaz fájlb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21932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Üdvözlő szöveg kiírása egy fájl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 String args[]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FileWrite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w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= new FileWriter("a.t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PrintWriter pw = new PrintWriter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w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"Hello World!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önyvjelző mechanizm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void mark(int readlimit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boolean markSupporte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void reset(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tehetek egy könyvjelzőt az aktuális pozíci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 visszaugrok a reset-tel, akkor innen kezdve megint elolvashatom a csatorna tartalmá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mark és a reset között max. "readlimit" bájtot olvashatok át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önyvjelző mechanizm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void mark(int readlimit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boolean markSupporte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void reset(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ónéhány csatornaosztály támogatja a könyvjelző mechanizmust, de jó sok n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két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( ByteArrayInputStream i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t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.mark(in.available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while( (c=in.read()) != -1 )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stem.out.println(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.reset();                      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// még egyszer írjuk ki ugyana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while( (c=in.read()) != -1 )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stem.out.println(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 funkcionalitá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űr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ár beszéltünk ezekrő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ufferel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dattípus-érték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öveges „nyomtatá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ovábbiakat fogunk megismerni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ég mielőtt rátérnénk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ataInputStream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ataOutputStream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tring readUTF(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oid writeUTF(String 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rintStream, PrintWrite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vétel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DataInputStream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DataOutputStream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String readUTF()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void writeUTF(String 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Unicode sztringek elmentése és visszaolvas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latformfügget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ún. UTF-8 formátum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formációvesztés nélkü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ugyanis a karakterszervezésű csatornák csak a nekik megfelelő karakterkódolási szabvány szerinti karaktereket tudjá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rjunk ki fájlba sztringeket és karaktertömböket az összes általunk ismert mód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erítsük fel a különbségeke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rintStream, PrintWriter: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ivétel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űveletek nem váltanak ki IOException kivételt gond eseté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elyette egy error-flag-et állíta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boolean checkError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457200"/>
            <a:ext cx="7924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 funkcionalitá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vábbi szűr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66680" y="228600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menet sorainak számol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t visszatev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tumok beolvasása / kiír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ömörí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bemenet sorainak számol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ineNumberReader, </a:t>
            </a:r>
            <a:r>
              <a:rPr b="0" lang="hu-HU" sz="3200" spc="-1" strike="noStrike">
                <a:solidFill>
                  <a:srgbClr val="808080"/>
                </a:solidFill>
                <a:latin typeface="Times New Roman"/>
              </a:rPr>
              <a:t>LineNumberInput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LineNumberReader be =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LineNumberReader(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FileReader("borok.txt"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tring s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while( (sor = be.readLine()) != null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f( sor.endsWith("bor"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stem.out.println(be.getLineNumber()-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be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gyanaz fájlb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21932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Üdvözlő szöveg kiírása egy fájl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 String args[]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FileWriter fw = new FileWriter("a.t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PrintWriter pw = new PrintWriter(fw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p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println("Hello World!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at visszatevése a bemeneti csatorná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ushbackReader, PushbackInput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shbackReader be = new PushbackReader(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InputStreamReader(System.in), 2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t c = be.rea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while( (c == ' ')  || (c == '\t') ||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(c == '\r') || (c == '\n') )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c = be.rea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f( c != -1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be.unread(c);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be.unread(' 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ktumok tárol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bjectInputStream, ObjectOutput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terjesztik a Data*putStream osztályo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e nem csak adattípus-értékeket lehet elmenteni / visszaolvasni, hanem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objektumokat is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void writeObject( Object obj )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bject readObjec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throws OptionalDataException,                  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NotFoundException,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ktumok tárol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bjectInputStream, ObjectOutput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terjesztik a Data*putStream osztályo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e nem csak adattípus-értékeket lehet elmenteni / visszaolvasni, hanem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objektumokat is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Courier New"/>
              </a:rPr>
              <a:t>void writeObject( Object obj )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throw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Courier New"/>
              </a:rPr>
              <a:t>Object readObjec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throw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erializác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ikor egy objektumot elmentünk, azokat az objektumokat is el kell menteni, amelyekre hivatkozik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s ez így megy rekurzíva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 egy objektum a hivatkozottak között többször is előfordul, akkor is csak egyszer kell elmenten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erializ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t a bonyolult feladatot a Java megcsinálja nekü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sak annyit kell tenni, hogy megvalósítjuk a Serializable interfész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m specifikál metódusokat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sak oda kell írni az osztályunk definíciójá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 is történi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tainformáció is elmentésre kerü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objektum osztálya, verziószám, st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lmentődnek az objektum adattagj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lmentődnek a hivatkozott objektumok is rekurzí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az objektum már korábban el lett mentve, akkor helyette egy "mutató" lesz elment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66920" y="151920"/>
            <a:ext cx="3048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30492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Vector v = new Vecto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v.add("Lenno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v.add(new Integer(42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bjectOutputStream out =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ObjectOutputStream(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FileOutputStream("a.dat"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ut.writeObject(v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bjectInputStream in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ObjectInputStream(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FileInputStream("a.dat"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v = (Vector) in.readObjec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stem.out.println(v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sináljunk egy főnököt két beosztottal. Mentsük el a főnökö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másik programmal olvassuk be a főnököt (a két beosztottjával együt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lkalmazott és a Főnök osztályokban írjunk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toString(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metódust, hogy tudjuk tesztelni az előző két programo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sak a hecc kedvéért... a főnök egyik beosztottja legyen saját ma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omhango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het szabályozni, hogy pontosan mi is mentődjön el az objektum által tárolt adatok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öbb szinten nyílik lehetőség a szabályozás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ad/writeObject felüldefiniál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erialPersistant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xternaliz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omhango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het szabályozni, hogy pontosan mi is mentődjön el az objektum által tárolt adatok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öbb szinten nyílik lehetőség a szabályozás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ad/writeObject felüldefiniál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erialPersistant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xternaliz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gyanaz fájlb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21932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Üdvözlő szöveg kiírása egy fájl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 String args[]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FileWriter fw = new FileWriter("a.t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PrintWriter pw = new PrintWriter(fw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p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println("Hello World!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pw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módosítósz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nt pl. public, final, abstract, st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egy adattagot nem szeretnénk szerializáció során elmenteni, akkor elé írjuk, hogy trans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re használju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szeri adat, pl. erőforrás-leíró (Fr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izalmas ad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dundáns informá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ájlrendszer fájljaihoz való hozzáfér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ile osztályon keresztül történ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ile objektumok fájlneveket reprezentál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fájlokat: egy File objektumon keresztül nem lehet olvasni vagy írni egy fájlt. Arra ott van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csatorná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özvetlen elérésű fájl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it lehet csinálni File objektumokk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kérdezni, hogy létezik-e olyan nevű fáj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kérdezni, hogy olvasható/írható-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y fájlt törö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Átnevez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önyvtárat kilistáz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zek műveletek a fájlrendszere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ile törlendő = new File("dobj.ki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f( törlendő.canWrite() ) törlendő.delet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ile objektum létrehoz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ile könyvtár = new File("/usr/local/bi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ile ez_is_az = new File("/usr/local","bi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ile fájl = new File(könyvtár,"vim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tring elv = File.separa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ile könyvtár =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File(elv+"usr"+elv+"local"+elv+"bi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űveletekre 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public boolean exist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public boolean isFil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public boolean renameTo( File cél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public boolean mkdir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public boolean isAbsolut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public File getParentFil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public long lastModified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istázzuk ki a tmp alkönyvtár összes txt kiterjesztésű fájljának nevé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hhez kicsit körül kell nézni az API dokumentációba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övegfeldolgoz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treamToken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csatorna tartalmát tokenekre bont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int nextToken() throws IOEx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ám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onosít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gjegyzés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csatorna fölé hozzuk létre, mint egy szűrőt (de ez nem csator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avakra bontunk egy szöve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5960" y="10666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Szavakr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 String args[] ) 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treamTokenizer s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StreamTokeniz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InputStreamReader(System.in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while( st.nextToken() !=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StreamTokenizer.TT_EOF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f( st.ttype == StreamTokenizer.TT_WORD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stem.out.println(st.sv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Próbáld 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t.ordinaryChar(46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t.slashStarComments(tru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ont írásjel közönséges karakter.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övegben a C-stílusú megjegyzéseket figyelmen kívül akarjuk hagy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A kutya /* ez               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egy állat */ ugat.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kut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u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gyanaz fájlb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21932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Üdvözlő szöveg kiírása egy fájl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 String args[]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FileWriter fw = new FileWriter("a.t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PrintWriter pw = new PrintWriter(fw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p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println("Hello World!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pw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int-tek beolvasása szöveges formátumbó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öveg formátum, pl. szövegfáj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t típusú értékeket tartalm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retnénk egy csatorna osztályt, amivel ilyet könnyű feldolgoz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űrő csatornaként valósítjuk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PrintStream „inverz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egít a StreamTokenizer osztá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int-tek beolvasása szöveges formátumbó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hu-HU" sz="2000" spc="-1" strike="noStrike">
                <a:solidFill>
                  <a:srgbClr val="3333cc"/>
                </a:solidFill>
                <a:latin typeface="Courier New"/>
              </a:rPr>
              <a:t>NotExpectedTokenException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extends 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int toke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NotExpectedTokenException( int token )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{ this.token=token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hu-HU" sz="2000" spc="-1" strike="noStrike">
                <a:solidFill>
                  <a:srgbClr val="3333cc"/>
                </a:solidFill>
                <a:latin typeface="Courier New"/>
              </a:rPr>
              <a:t>TypedReader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extends FilterRead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hu-HU" sz="2000" spc="-1" strike="noStrike">
                <a:solidFill>
                  <a:srgbClr val="3333cc"/>
                </a:solidFill>
                <a:latin typeface="Courier New"/>
              </a:rPr>
              <a:t>TypedReader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( Reader in ){ super(in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ff6600"/>
                </a:solidFill>
                <a:latin typeface="Courier New"/>
              </a:rPr>
              <a:t>public int </a:t>
            </a:r>
            <a:r>
              <a:rPr b="1" lang="hu-HU" sz="2000" spc="-1" strike="noStrike">
                <a:solidFill>
                  <a:srgbClr val="cc3300"/>
                </a:solidFill>
                <a:latin typeface="Courier New"/>
              </a:rPr>
              <a:t>scanInt</a:t>
            </a:r>
            <a:r>
              <a:rPr b="1" lang="hu-HU" sz="2000" spc="-1" strike="noStrike">
                <a:solidFill>
                  <a:srgbClr val="ff6600"/>
                </a:solidFill>
                <a:latin typeface="Courier New"/>
              </a:rPr>
              <a:t>() </a:t>
            </a:r>
            <a:br>
              <a:rPr sz="2000"/>
            </a:br>
            <a:r>
              <a:rPr b="1" lang="hu-HU" sz="2000" spc="-1" strike="noStrike">
                <a:solidFill>
                  <a:srgbClr val="ff6600"/>
                </a:solidFill>
                <a:latin typeface="Courier New"/>
              </a:rPr>
              <a:t>throws NotExpectedTokenException, IOException 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hu-HU" sz="2000" spc="-1" strike="noStrike">
                <a:solidFill>
                  <a:srgbClr val="3333cc"/>
                </a:solidFill>
                <a:latin typeface="Courier New"/>
              </a:rPr>
              <a:t>main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( String[] args )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throws IOException 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152280" y="4572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hu-HU" sz="2000" spc="-1" strike="noStrike">
                <a:solidFill>
                  <a:srgbClr val="ff3300"/>
                </a:solidFill>
                <a:latin typeface="Courier New"/>
              </a:rPr>
              <a:t>scanInt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throws NotExpectedTokenException, IO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treamTokenizer st = new StreamTokenizer(i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t.ordinaryChar('/');      // nincs megjegyzésj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t.ordinaryChar('.');      // ne legyen tizedesp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t.nextToke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if ( (st.ttype==StreamTokenizer.TT_NUMBER) &amp;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(st.nval&gt;=Integer.MIN_VALUE) &amp;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(st.nval&lt;=Integer.MAX_VALUE)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return (int)st.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// sikerült számként értelmez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else throw new NotExpectedTokenException(st.ttyp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915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hu-HU" sz="2000" spc="-1" strike="noStrike">
                <a:solidFill>
                  <a:srgbClr val="ff3300"/>
                </a:solidFill>
                <a:latin typeface="Courier New"/>
              </a:rPr>
              <a:t>main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( String[] arg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throws IO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TypedReader in = new TypedReader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new InputStreamReader(System.in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boolean endOfInts = fals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while (!endOfInt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ystem.out.print("Írjon be egy számot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try {   sum += in.scan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 catch (NotExpectedTokenException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{ endOfInts=true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ystem.out.println("\nAz összeg: " + 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átrix osztályhoz írjunk olyan beolvasó műveletet, ami egy szövegfájlból olvas be egy mátrixot. A szövegfájlban nem feltétlenül soronként vannak a mátrix elemei, egy sorban lehet több is. Az elemeket fehér szóközök választják el. Ha ettől eltérő bemenetet tapasztalunk, váltsunk ki kivéte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gyanaz fájlb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219320"/>
            <a:ext cx="83059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Üdvözlő szöveg kiírása egy fájl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 String args[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throws IOExcep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FileWriter fw = new FileWriter("a.t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PrintWriter pw = new PrintWriter(fw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p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println("Hello World!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pw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gyanaz fájlb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Üdvözlő szöveg kiírása egy fájl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 String args[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Writer fw = new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FileWrit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"a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Writer pw = new PrintWriter(fw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w.println("Hello World!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w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gyanaz fájlb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Üdvözlő szöveg kiírása egy fájl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 String args[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Writer fw = new FileWriter("a.t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Writer pw = new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PrintWrit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fw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w.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printl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"Hello World!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w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ystem.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 egy predefinit csato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abványos kime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rint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an neki println() műv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lyasmi, mint a PrintWr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an még System.in és System.err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ystem.out.println("Hello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java.io csomag tarta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k pici osztá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degyik egy kis funkcionalitást valósít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önnyen komponálható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 néhány nagyon fontos osztály, a többi már haladóknak való...   :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gelső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Üdvözlő szöveg kiírása a képernyő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 String args[]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"Hello World!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osztályok rendszerez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ülönböző szempontok szerint csoportosíthatjuk az osztályo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imme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osztályok neve sokat elár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vek névkomponensekből épülnek fel, amelyek segítik az osztály hovatartozásának megállapításá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osztályok hierarchiája is követi a logikai tagolá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osztályok csoportosí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árom szempont szerint le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irá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me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me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funk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árolás módjának specifikál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 funkcionalitás hozzáad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szerve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áj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ak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A csatornák irány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het bemeneti és kimene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meneti: amiről olvasni le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putStream, R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meneti: amire írni le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utputStream, Wr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immetria:  például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leInputStream,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leReader,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leOutputStream,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leWr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A csatornaosztályok funkció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2a.   A tárolás módjának specifikál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ol vannak az adat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l. FileWriter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fájlb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2b.   Extra funkcionalitás hozzáad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ogyan szeretnénk piszkálni az adato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l. PrintWriter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println() metóduss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a. A tárolás módjának specifikál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onnan olvassuk az adatokat, vagy hova írjuk azo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leReader, CharArrayReader, StringReader, PipedR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-ben: scanf, fscanf, ssca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abványos műveletek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nimális funkcionalitást biztosíta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b. Extra funkcionalitás hozzáad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onyolultabb műveletek külön osztály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Önmagukban egyszerű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omponálható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Szűrő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éldául a PrintWriter, BufferedReader, st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Az adatok szervez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ájtszervezés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ülönböző karakterkódolási szabványok figyelmen kívül hagy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nput- vagy Output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arakterszervezés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ülönböző karakterkódolási szabványokból származó eltérések kezel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ader vagy Wr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Az adatok szervez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arakterkódolási szabvány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SCII (7 b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xtended ASCII, EBCDIC,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SO Latin-1, ISO Latin-2,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indows Latin-*, Mac, IBM, stb. (1 báj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ava: Unicode (2 báj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ordozhatóság, i18n, elosztott alkalmazások: a szabványok explicit kezel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 1.1-tő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k régi osztály/művelet elavult (deprecat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rakterszervezésű csatorn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ában a karakterek (char, String) két bájtos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operációs rendszerek és a nem Java alkalmazások többségében csak egy bájtosak (pl. szövegfájl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ogyan lehet a leképezést megadni a kettő közöt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arakterkódolási szabvány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atornaosztály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csatornaosztályok hierarchiája és elnevezése követi a rendsz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önnyen kitalálható, hogy melyik osztály mire val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égy bázisosztály, és a többi ezeknek a leszármazott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gyan használjunk fájlok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riviális megoldás: a szabványos bemenet/kimenet átirányításá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operációs rendszer szolgálta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üdvözlő szöveget ki akarjuk írni a hello.txt nevű fájlb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java Hell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hello.t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égy bázisoszt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put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emeneti bájtcsato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utput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imeneti bájtcsato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emeneti karaktercsato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Wr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imeneti karaktercsato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zármazott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név tükrözi, hogy melyikbő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imme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leInputStream,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leOutputStream,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leReader,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leWr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ufferedInputStream,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ufferedOutputStream, BufferedReader,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ufferedWr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yteArrayInputStream,   ByteArrayOutputStream, CharArrayReader,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harArrayWr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pfunkcionali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négy bázisosztályban van specifikál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 a négy osztály absztra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leszármazottak valósítják meg a funkcionalitá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l. a FileInputStream egy olyan InputStream, ami az alap csatorna-funkcionalitást fájlokon valósítja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meneti csatorn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atorna megnyi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atorna lezár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vasás a csatornár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atornán található adatok mennyiségének lekérdez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önyvjelző mechaniz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meneti csatorn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satorna megnyi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satorna lezár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rás a csatorná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uffer ürítése (flush-olá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atornák megnyi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egfelelő osztályú csatorna objektum létrehozásá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en az objektumon végezhetők el a további csatornaművele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ileInputStream fin =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FileInputStream("a.t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putStream fin =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FileInputStream("a.t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atornák bezár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close() művelet segítségé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 felejtsük el! Főleg kimenet csatornáknál fontos: magában foglalja a bufferelt adatok tényleges kiírását (flush)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fin.clos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IOPrób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 String args[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hrows IOExcep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InputStream fin = </a:t>
            </a:r>
            <a:br>
              <a:rPr sz="2400"/>
            </a:b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new FileInputStream("a.t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OutputStream fout = </a:t>
            </a:r>
            <a:br>
              <a:rPr sz="2400"/>
            </a:b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new FileOutputStream("b.t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* itt most csinálhatnék valamit...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in.close(); fout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olvas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ad() műveletek segítségé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ajdnem ugyanaz InputStream-ek és Reader-ek eseté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áromfajta read() műve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read()-ek: InputStr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adat beolvas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int read(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 bájtot beolvas;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, ha vé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tömbnyi adat beolvas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int read( byte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[] b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lvas b-be; visszaadja a beolvasott bájtok számá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résztömbnyi adat beolvas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int read( byte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[] b, int off, int len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ff-tól len hosszan ol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 egy programban több fájl v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kkor a programon belülről is kellene tudni használni ő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an egy speciális könyvtár erre a cél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java.io csom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csak fájlok kezelése, hanem általában bemenet és kime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read()-ek: R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int read(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int read( char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[] c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int read( char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[] c, int off, int len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t read(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t read( by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] b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t read( by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] b, int off, int len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Ugyanaz, csak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byte[]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 helyett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char[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ír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write() műveletek segítségé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ajdnem ugyanaz OutputStream-ek és Writer-ek eseté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immetrikus a beolvasó read() műveletekk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áromfajta alap write() műve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lussz még egy kis kiegészí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write()-ok: OutputStr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066680"/>
            <a:ext cx="81532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adat kiír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void write( int i 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i-nek a legalsó bájtját írja 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t read(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tömbnyi adat kiír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void write( byte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[] b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t   read( by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] b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résztömbnyi adat kiír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void write( byte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[] b, int off, int len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t   read( by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] b, int off, int len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write()-ok: Wri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981080"/>
            <a:ext cx="8153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void write( int i 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void write( char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[] c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void write( char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[] c, int off, int len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write()-ok: Wri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981080"/>
            <a:ext cx="8153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void write( int i 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3300"/>
                </a:solidFill>
                <a:latin typeface="Times New Roman"/>
              </a:rPr>
              <a:t>az i legalsó két bájtját írja 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void write( </a:t>
            </a:r>
            <a:r>
              <a:rPr b="1" lang="hu-HU" sz="2400" spc="-1" strike="noStrike">
                <a:solidFill>
                  <a:srgbClr val="ff3300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[] c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void write( </a:t>
            </a:r>
            <a:r>
              <a:rPr b="1" lang="hu-HU" sz="2400" spc="-1" strike="noStrike">
                <a:solidFill>
                  <a:srgbClr val="ff3300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[] c, int off, int len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write()-ok: Wri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981080"/>
            <a:ext cx="8153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void write( int i 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void write( char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[] c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void write( char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[] c, int off, int len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void write( String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s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void write( String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s, int off, int len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) 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élda: máso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tatic void má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( InputStream in, OutputStream ou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t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while( (b=in.read()) != -1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ut.write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ut.flus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Összerakv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143000"/>
            <a:ext cx="80773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cp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 String args[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putStream fin =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FileInputStream(args[0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utputStream fout =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FileOutputStream(args[1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ásol(fin,fou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.close(); fout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ic void másol(...) ... 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ott két fájl, "a.txt" és "b.txt". Fésüljük össze a két fájl tartalmát a "c.txt" fájlba. Először egy bájt az "a.txt"-ből, aztán egy a "b.txt"-ből, aztán megint egy az "a.txt"-ből, stb. Ha valamelyik fájl végetér, a másik fájl maradékát másoljuk a "c.txt" végé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szatérve még egy percr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tatic void má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( InputStream in, OutputStream ou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t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while( (b=in.read()) != -1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ut.write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out.flus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uffer ürítése: az adatok ténylegesen kiíródjanak a fizikai adathordoz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menet és kimenet absztrakció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menet: konzol, fájl, hálózati kapcsolat, adatbázis egy rekordja, st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atokat lehet egymás után olvasni ró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menet: képernyő, fájl, nyomtató, hálózati kapcsolat, adatbázis egy rekordja, st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atokat lehet egymás után kiírni r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kvenciális input/output fáj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satorna (Stre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satornaobjektum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ásolás tömbb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tatic int BlokkMéret = 1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ásolBlokkonké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( InputStream in, OutputStream ou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byte[] b = new byte[BlokkMéret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t hoss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while( (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hossz=in.read(b)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) == BlokkMére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out.write(b)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f( hossz != -1 ) </a:t>
            </a:r>
            <a:r>
              <a:rPr b="1" lang="hu-HU" sz="2400" spc="-1" strike="noStrike">
                <a:solidFill>
                  <a:srgbClr val="3333cc"/>
                </a:solidFill>
                <a:latin typeface="Courier New"/>
              </a:rPr>
              <a:t>out.write(b,0,hossz)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out.flus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szerre 100 bájtot másolunk 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előző feladatra adott megoldást módosítsd úgy, hogy az a.txt és a b.txt fájlokból 10 bájtos blokkokat másoljon a c.txt fájlb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éget ért és üres csatorn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ét teljesen különböző dolo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éget ért: ha üres, és üres is mar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Üres: lehet, hogy még nem ért véget, csak éppen nem érkezett még meg az ad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ndoljunk egy hálózati kapcsola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. a szerver várja, hogy a kliens küldjön adat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 a különbség a beolvasó műveletek számá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véget ért egy csatorna, a beolvasás befejeződik, és a visszatérési érték jelzi, hogy nincs több ad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ső read: -1 a visszatérési érté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ásik két read: a beolvasott adatok számát adja viss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üres a csatorna, a beolvasó művelet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blokkolódik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, várja, hogy érkezzen ad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végrehajtási szál felfüggesztődik, nem fut tová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él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éget ért csatorna: az előző példákban a ciklusból kiléptünk, amikor végetért a bemenet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lokkolt beolvasás: a program vár, amíg be nem írunk egy sort. Ekkor a shell odateszi az adatokat a program szabványos bemeneté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 String args[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t i = System.in.rea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stem.out.write(i); System.out.flus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ülönbség a write és a print közö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 String args[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t i = System.in.rea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stem.out.write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stem.out.println(" " +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írjuk a beolvasott betűt (bájtot) úgy, ahogy beolvastuk, majd utána a kódjá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rint: kinyomtatás szöveges formá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 van még a fájlokon kívü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atornák segítségével nem csak fájlokból lehet olvasni, és fájlokba ír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ória, hálózati kapcsolat, nyomtató, st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dezekről kicsit később ejtünk majd szó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atornák feladat szerinti csoportosí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apfunkcionalitás megvalósítása különböző adathordozókon (pl. fájlok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ra funkcionalitással való ellátá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zűrő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űr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26668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39625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29600" y="26668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21960" y="49179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meneti csatorna, pl. egy fáj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3200400"/>
            <a:ext cx="2209680" cy="304920"/>
          </a:xfrm>
          <a:prstGeom prst="rightArrow">
            <a:avLst>
              <a:gd name="adj1" fmla="val 50000"/>
              <a:gd name="adj2" fmla="val 1811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űr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29718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39625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29600" y="26668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487692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 szűrőn keresztül írun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mi extra funkcionalitást biztosít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pl. bufferelé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3200400"/>
            <a:ext cx="2210040" cy="304920"/>
          </a:xfrm>
          <a:prstGeom prst="rightArrow">
            <a:avLst>
              <a:gd name="adj1" fmla="val 50000"/>
              <a:gd name="adj2" fmla="val 1811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26668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657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re kell ez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Ugyanazokat a műveleteket lehet haszná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jól megszervezett könyvtár: java.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él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szerűsé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ugalmassá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ifejezőer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űr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29718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39625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29600" y="26668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46483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szűrő is egy csatorna, amit egy újabb szűrővel láthatunk 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omponálhatjuk a szűrőket, hogy bonyolultabb viselkedést állíthassunk elő. (Pl. bufferelés és print-elés egyszer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3124080"/>
            <a:ext cx="2210040" cy="304920"/>
          </a:xfrm>
          <a:prstGeom prst="rightArrow">
            <a:avLst>
              <a:gd name="adj1" fmla="val 50000"/>
              <a:gd name="adj2" fmla="val 1811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26668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3657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35053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űr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91120" y="29718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62720" y="39625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29600" y="26668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4800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szűrő(ke)t megkerülve is írhatunk a külső csatornára, de ez eléggé veszélyes. (Gondoljunk pl. arra, hogy a szűrő a bufferelés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3124080"/>
            <a:ext cx="2210040" cy="304920"/>
          </a:xfrm>
          <a:prstGeom prst="rightArrow">
            <a:avLst>
              <a:gd name="adj1" fmla="val 50000"/>
              <a:gd name="adj2" fmla="val 1811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26668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91120" y="3657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35053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2666880"/>
            <a:ext cx="2133720" cy="228600"/>
          </a:xfrm>
          <a:prstGeom prst="rightArrow">
            <a:avLst>
              <a:gd name="adj1" fmla="val 50000"/>
              <a:gd name="adj2" fmla="val 2333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óhasznál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űrőket mindig egy már meglévő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csatorna fölé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hozzuk lé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űrő csatorna konstruktorának paraméterként meg kell adni a szűrt csatorn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FileWriter fw = new FileWriter("a.t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PrintWriter pw = new PrintWriter(fw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6172200"/>
            <a:ext cx="22096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5791320"/>
            <a:ext cx="2209680" cy="380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5410080"/>
            <a:ext cx="2209680" cy="3812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54100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ásodik szűrő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ő szűrő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űrt csato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4724280"/>
            <a:ext cx="380880" cy="533520"/>
          </a:xfrm>
          <a:prstGeom prst="upArrow">
            <a:avLst>
              <a:gd name="adj1" fmla="val 33333"/>
              <a:gd name="adj2" fmla="val 5419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4724280"/>
            <a:ext cx="380880" cy="533520"/>
          </a:xfrm>
          <a:prstGeom prst="downArrow">
            <a:avLst>
              <a:gd name="adj1" fmla="val 36454"/>
              <a:gd name="adj2" fmla="val 4924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4724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jánlott hozzáfé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gfontosabb szűr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ufferel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attípus-értékek beolvasása és kiír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öveges formában történő kiírás („nyomtatás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első példánk volt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öveges kiírás fájl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 String args[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Writer fw = new FileWriter("a.t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Writer pw = new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PrintWrit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fw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w.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printl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"Hello World!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w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FileWriter objektumnak nincs println művele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első példánk volt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öveges kiírás fájl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 String args[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FileWriter fw = new FileWriter("a.t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Writer pw = new PrintWriter(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f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w.println("Hello World!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w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zűrő konstruktorának átadjuk fw-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első példánk volt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öveges kiírás fájl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 String args[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Writer fw = new FileWriter("a.t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Writer pw = new PrintWriter(fw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w.println(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42*Integer.parseInt(args[0]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w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gy PrintWriter szűrővel kinyomtathatunk számoka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első példánk volt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öveges kiírás fájl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 String args[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Writer fw = new FileWriter("a.t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Writer pw = new PrintWriter(fw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w.println(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args.length &gt; 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w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gy logikai értékeket, st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öveges kiír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80773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rintStream és PrintWr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vezetesek a System.out és System.e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ersze nem csak fájlok fölé hozhatjuk létr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nyomtathatunk adattípus-értékeket is, és objektumokat is – a toString() metóduson keresztü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rint: sima kinyomtatás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rintln: mint print, plussz soremel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ystem.out.print(4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ystem.out.print("42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áris kiír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ataOutput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attípus-értékek bináris kiír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 nem egyszerűen bájtokat szeretnénk kiírni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l. kiírhatjuk egyszerre mind a négy bájtot, ami egy float típusú értékhez k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ileOutputStream fout = new FileOutputStream("a.da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DataOutputStream dout = new DataOutputStream(fou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dout.</a:t>
            </a:r>
            <a:r>
              <a:rPr b="1" lang="hu-HU" sz="2400" spc="-1" strike="noStrike">
                <a:solidFill>
                  <a:srgbClr val="ff3300"/>
                </a:solidFill>
                <a:latin typeface="Courier New"/>
              </a:rPr>
              <a:t>writeFloat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((float)12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mét az a legelső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21932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Üdvözlő szöveg kiírása a képernyő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 String args[]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"Hello World!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áris beolvas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ataInput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Ugyanaz visszafelé is megy: beolvasunk négy bájtot, és rekonstruáljuk belőle a float típusú érté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DataInputStream din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DataInputStream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FileInputStream("a.dat"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loat f = din.</a:t>
            </a:r>
            <a:r>
              <a:rPr b="1" lang="hu-HU" sz="2400" spc="-1" strike="noStrike">
                <a:solidFill>
                  <a:srgbClr val="ff3300"/>
                </a:solidFill>
                <a:latin typeface="Courier New"/>
              </a:rPr>
              <a:t>readFloat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hetőség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riteBool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riteB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riteS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rite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rite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rite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riteFl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rite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riteU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1295280"/>
            <a:ext cx="3886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adBool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adB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adS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ad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ad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ad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adFl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ad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adU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re jó ez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atok tömör tárolását teszi lehetővé a bináris formát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DataOutputStream és a DataInputStream segítségével egyszerűen lehet adattípus-értékeket elmenteni és visszaolvas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latform-független megoldás: a bináris formátumot a Java pontosan specifikálja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(big-endian vs. little-endian problé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átrix osztályt egészítsük ki bináris elmentő és beolvasó műveletekk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rjunk hozzá toString() metódust is, hogy megkönnyítsük a képernyőre való kiírá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rjunk egy főprogramot, ami elment egy egységmátrix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rjunk egy másik főprogramot, ami egy fájlból beolvasott mátrixhoz hozzáadja a csupa egyes mátrixot, és visszaírja a fájlb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érd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yik hány bájtot ír k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ut.writeInt(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out.print(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ülönbség a szöveges és a bináris formátum közö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ileOutputStream fout =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FileOutputStream("okos.t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DataOutputStream dout =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DataOutputStream(fou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rintStream      pout =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PrintStream(fou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46483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617220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29600" y="4648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4800600"/>
            <a:ext cx="43434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5181480"/>
            <a:ext cx="43434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5638680"/>
            <a:ext cx="4343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6019920"/>
            <a:ext cx="4343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Times New Roman"/>
              </a:rPr>
              <a:t>d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5791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p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ülönbség a szöveges és a bináris formátum közö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ileOutputStream fout =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FileOutputStream("okos.t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DataOutputStream dout =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DataOutputStream(fou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rintStream      pout =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PrintStream(fou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dout.writeInt( 1869311859);   dout.flus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out.print(    1869311859);   pout.flus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out.write(    1869311859);   fout.flus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ámok többségénél tényleg tömörebb a bináris form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rintStream inverz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ataInputStream - DataOutputStream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olvasás             - kiír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???                       - PrintStream/PrintWr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incs olyan csatornaosztály, aminek a segítségével egyszerűen lehetne szöveges formátumban elmentett adattípus-értékeket visszaolvas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oldás: BufferedReader - mindjár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ásik: StreamTokenizer (haladó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ufferel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ufferedInputStream, BufferedReade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ufferedOutputStream, BufferedWr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ek a csatornák buffereln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ó esetben az oprendszer is bufferel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putStream bin =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BufferedInputStream(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FileInputStream("a.txt")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átsszuk ki a bufferelést! Írjunk olyan programot, ami összevissza ír egy fájlb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gyanaz fájlb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21932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Üdvözlő szöveg kiírása egy fájl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 String args[]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"Hello World!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űrők komponál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bufferelést gyakran használjuk egyéb szűrővel együtt, pl. Data*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ileInputStream     fin =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FileInputStream(távoli_fáj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BufferedInputStream bin =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BufferedInputStream(f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DataInputStream     din =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DataInputStream(b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loat összeg = 0.0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or( int i=0; i&lt;100; i++ )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összeg += din.readFloat()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ég egy fontos dolog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ufferedR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rok olvasása szöveges állomány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etódus:</a:t>
            </a:r>
            <a:br>
              <a:rPr sz="3200"/>
            </a:b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tring readLine() throws IOEx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remelésig olvas, a soremelés jelet nem adja viss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oremelés jel: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\r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\n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satorna vége esetén: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Interaktív alfanumerikus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 String args[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BufferedReader r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BufferedRead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InputStreamReader(System.in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stem.out.println("Üssön be egy számot: 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tring s = r.readLin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t n = Integer.parseInt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stem.out.println("A szám négyzete: " + n*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rjunk olyan metódust a mátrix osztályhoz, amelynek segítségével szöveges formátumból be lehet olvasni egy mátrixot. A mátrix elemei mind külön sorban legyene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sználj BufferedReader osztályt egy FileReader fölé húzv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özvetlen elérésű fájl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kan szeretnek pozícionálni egy fájlba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 nem megy a csatornaosztályok eseté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andomAccess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 lehet nyitni egy fájlt, és lehet olvasni ("r") vagy írni/olvasni ("rw"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űveletek: mint DataInputStream és DataOutputStream, de együ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Times New Roman"/>
              </a:rPr>
              <a:t>Minden háromhatványadik számot inkrementálun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andomAccessFile f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w RandomAccessFile("adatok.dat","rw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t háromhatvány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while( háromhatvány * 4 &lt; f.length()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.seek(háromhatvány * 4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t adat = f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.seek(háromhatvány * 4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.writeInt(adat+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háromhatvány *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dexelt fájlkezel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indexelt fájl 1024 hosszúságú, double értékeket tartalmazó sorozatokat tartalma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indexeléshez használjunk lexikografikus rendezé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adó kurzush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k vannak még a fájlokon kívü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eladat szerinti csoportosítás szerint: honnan olvasunk, illetve hova íru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hetőségek a java.io csomag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ájl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söv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ájt- és karaktertömbök, sztring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ájtcsatorna felett definiált karaktercsatorná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összefűzött csatorná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k vannak még a fájlokon kívü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eladat szerinti csoportosítás szerint: honnan olvasunk, illetve hova íru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hetőségek a java.io csomag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ájl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söv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ájt- és karaktertömbök, sztring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ájtcsatorna felett definiált karaktercsatorná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összefűzött csatorná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gyanaz fájlb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21932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Üdvözlő szöveg kiírása egy fájl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lass Hell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 String args[]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FileWriter fw = new FileWriter("a.t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"Hello World!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öv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PipedInputStream-et és egy PipedOutputStream-et összekapcsolhatunk egymáss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mit a pout-ra írunk, megjelenik az pin-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re jók? Konkurrens végrehajtási szálak egymás közötti kommunikációjára, 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sőbb lesz róluk bővebben sz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ória művelet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datok, amiket végigolvasunk, vagy amiket kiírunk, egy memóriacímtől kezdve, folytonosan helyezkednek 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éldául egy bájttömb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yteArrayInputStream, -Output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agy esetleg egy karaktertömb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harArrayReader, -Wr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agy egy sztring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tringReader, -Wr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08080"/>
                </a:solidFill>
                <a:latin typeface="Times New Roman"/>
              </a:rPr>
              <a:t>StringBufferInput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raktertömbből olvasu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char[] t = {'r', 'ó', 'k', 'a'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CharArrayReader in = new CharArrayReader(t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t[0] = 'f'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ystem.out.println(in.read()=='f');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"true"-t fog kiír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ájtcsatornák felett definiált karaktercsatorn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apcsolat a kétféle szervezésű csatornaosztályok közö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ülönböző karakterkódolási szabványok támoga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putStreamReader, OutputStreamWr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pecifikálhatjuk, hogy melyik karakter melyik bájtra legyen leképez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rakterek leképezése bájtok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byte típusú érték 256-féle le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arakterből jóval többféle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arakterkódolási szabvány: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ly karaktereket reprezentálja ez a 256 különböző ért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éldául a Unicode karakterek kétbájtos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char típ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rakterkódolási szabvány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SCII - 7 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xtended ASCII - 8 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BC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atin-1, Latin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Windows-os kódtábl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ac-es kódtábl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191120" y="-3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304560"/>
            <a:ext cx="83059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Writer w = new OutputStreamWriter(System.out,"8859_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w.write(33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w.flus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ystem.out.write(336)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8859_2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SO Latin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336 Unicode kódú karakter az "Ő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Latin-2 tartalmazza ezt a karaktert, a 256 lehetséges érték közül a 213 van hozzárende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ehát a System.out-ra a 213 bájt fog kiíród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latform-függő, hogy mit fogunk lát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l. Latin-1 képernyő esetén 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" karakt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6324480"/>
            <a:ext cx="177840" cy="76320"/>
          </a:xfrm>
          <a:custGeom>
            <a:avLst/>
            <a:gdLst/>
            <a:ahLst/>
            <a:rect l="l" t="t" r="r" b="b"/>
            <a:pathLst>
              <a:path w="560" h="132">
                <a:moveTo>
                  <a:pt x="0" y="79"/>
                </a:moveTo>
                <a:cubicBezTo>
                  <a:pt x="17" y="30"/>
                  <a:pt x="74" y="16"/>
                  <a:pt x="119" y="0"/>
                </a:cubicBezTo>
                <a:cubicBezTo>
                  <a:pt x="161" y="4"/>
                  <a:pt x="202" y="2"/>
                  <a:pt x="237" y="26"/>
                </a:cubicBezTo>
                <a:cubicBezTo>
                  <a:pt x="255" y="77"/>
                  <a:pt x="229" y="12"/>
                  <a:pt x="264" y="66"/>
                </a:cubicBezTo>
                <a:cubicBezTo>
                  <a:pt x="268" y="72"/>
                  <a:pt x="265" y="81"/>
                  <a:pt x="270" y="86"/>
                </a:cubicBezTo>
                <a:cubicBezTo>
                  <a:pt x="275" y="91"/>
                  <a:pt x="283" y="90"/>
                  <a:pt x="290" y="92"/>
                </a:cubicBezTo>
                <a:cubicBezTo>
                  <a:pt x="308" y="120"/>
                  <a:pt x="332" y="121"/>
                  <a:pt x="363" y="132"/>
                </a:cubicBezTo>
                <a:cubicBezTo>
                  <a:pt x="409" y="120"/>
                  <a:pt x="455" y="124"/>
                  <a:pt x="501" y="112"/>
                </a:cubicBezTo>
                <a:cubicBezTo>
                  <a:pt x="525" y="96"/>
                  <a:pt x="539" y="74"/>
                  <a:pt x="560" y="5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 Latin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ISO Latin-1 kódolásban szereplő karakterek a Nyugat-Európában használatos betűket (is) tartalmazz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en karakterekhez az ISO Latin-1 ugyanazokat a számokat rendeli, mint a Unicode. Azaz: a Unicode kódtábla első 256 karaktere ugyanaz, mint a Latin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az a hullámos O betű Unicode kódja is 2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 Latin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artalmazza azokat a betűket is, amelyeket csak mifelénk használnak, nevezetesen az ő, ű, Ő és Ű betű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előbbi példában: a 336 Unicode kódú karaktert, az Ő-t, és a 213 értékkel kapcsolja öss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 a karakter nincs az ISO Latin-1 kódtáblában, abban a hullámos változat van a 213 értékhez kapcsol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Writer w = new OutputStreamWriter(System.out,"8859_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w.write("tekn\u0150c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w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\u0150 karakter a 336-os, azaz az Ő bet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 nincs a Latin-1-ben (8859_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imeneten a ? karakternek megfelelő bájt íródik ki hely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tekn?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2T15:02:39Z</dcterms:created>
  <dc:creator>Kozsik Tamas</dc:creator>
  <dc:description/>
  <dc:language>en-US</dc:language>
  <cp:lastModifiedBy>kto</cp:lastModifiedBy>
  <dcterms:modified xsi:type="dcterms:W3CDTF">2006-04-27T15:48:51Z</dcterms:modified>
  <cp:revision>15</cp:revision>
  <dc:subject/>
  <dc:title>IX. Bemenet és kimenet</dc:title>
</cp:coreProperties>
</file>