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76720" y="6524640"/>
            <a:ext cx="2266920" cy="33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Kozsik Ta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2000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Java Technológia</a:t>
            </a:r>
            <a:br>
              <a:rPr sz="4400"/>
            </a:b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Standard E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orrásfájlok elhelyezés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nek egy könyvtárszerkezetben a .class fájlokk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nek két különböző, de azonos szerkezetű könyvtárstruktúrában a forrás és a .class fájl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nek egész máshogy is, pl. sok könyvtárban szétszór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-sourcepath kapcso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sok könyvtárba vannak szétszórva a forrásfájlok, akkor használhatjuk a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-sourcepath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kapcsoló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adható, hogy mely könyvtárakban kell keresni forrásfájlok ut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javac -sourcepath ~/src/java:~/projects/raktar DB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ivatkozások a fordítási egységen kívül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egy fordítási egység hivatkozik egy másik fordítási egységben levő típusra, akkor 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javac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fordít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gpróbálja megtalálni a hozzá tartozó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fájlt - ha egyáltalán le van már az a típus fordí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nincs lefordítva, akkor megkeresi a megfelelő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.jav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fájlt, és rekurzívan azt is lefordí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ekurzív ford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neve alapján keresi meg a hivatkozott típust tartalmazó forrásfájlt 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ja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fájlnévnek meg kell egyeznie a típusnév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-sourcepath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kapcsoló szerep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ol keresse a .class fájlok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lapértelmezés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szabványos könyvtárakban 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ktuális munkakönyvtár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-classpath kapcsoló segítségével más is megad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javac -classpath ~/classes:. DB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szabványos könyvtárakban, a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~/classe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könyvtárban és az aktuális munkakönyvtár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-classpath kapcso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adható több könyvtárnév, amelyekben a .class fájlokat keresheti a fordí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könyvtárnevek elválasztásához UNIX alatt a 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Windows alatt a 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;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használand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csak könyvtárnevek, hanem .zip és .jar fájlok is megadhatók, azokban is k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apcsoló rövidebb alakja: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-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ogyan történik a keresé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javac -classpath ~/classes:. DB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gyük fel, hogy hivatkozás történik a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aktar.adatok.Csava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osztály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szabványos könyvtárakban nem talál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tt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java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javax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ezdetű típusok vannak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resi a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~/classes/raktar/adatok/Csavar.clas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fáj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az sincs, keresi a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raktar/adatok/Csavar.clas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fáj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az sincs, keresi a forrását, a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raktar/adatok/Csavar.jav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fájlt, hogy lefordí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-sourcepath kapcsoló alapj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nincs megadva, akkor az aktuális könyvtár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Osztálykeresési útvonal hagyományos megad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LASSPATH környezeti változ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napság nem illendő haszná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önnyen összekavarodnak a dolgok, ha több projekten is dolgoz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elyette a -classpath kapcsol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javac fordító egyéb kapcsoló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abványos kapcsolók, 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g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yomkövetési inf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O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ptimalizál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targe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ód verziószám (1.1, 1.2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nowarn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 legyenek figyelmeztetés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deprecation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… erről még lesz szó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szabványos kapcsol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sőbbi/korábbi fordítók nem biztos, hogy ismer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 heap méretének beállí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virtuális gép ind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java parancsnak is adhatunk kapcsoló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-classpath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ugyanúgy, mint fordításk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ott megadott helyeken keresi az osztályokat az osztálybetöl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ás szabványos kapcsolók, pl.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-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a főprogram nem névtelen csomagban van: teljes osztálynevet kell megad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java -classpath ~/classes:. raktar.Indi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t is jelent 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java Hello.clas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paranc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ódolás utá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rrásfájlok                                        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élig-meddig” lefordítjuk            pl.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ja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ájtkód                                              .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terpretáljuk                                 pl.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atformfüggetlenség, bizton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ézzük meg, milyen opciói vannak a fordítónak és a virtuális gépne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epre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PI néhány eleme elavulhat az újabb és újabb verziók kihozatalak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sztályok, interfészek, metódu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deprecate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szóval jelölik meg a dokumentáció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illeszkedik az aktuális Java szemlélet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 internacionalizá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Újabb API verziók nem biztos, hogy támogatni fogj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atuk kerülend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eprecated felold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ordító figyelmeztetést küld, ha deprecated elemet használ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rdítsuk újra a -deprecation kapcsoló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ibalistát kapunk azokról az elemekről, amelyek deprecated állapotú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dokumentáció megadja, mi kell hely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demes a javítást elvégezni, hogy a programunk hosszabb életű legye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ozzunk létre egy java.util.Date objektumot a születési időnkkel, és írassuk ki. Tüntessük el a programunkból az elavult elemeke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-D kapcso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virtuális gépnek paraméterek adhatók 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ystem properties - rendszerjellemz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gramból lekérdezhető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nnak automatikusan beállítottak, és mi is létrehozhatunk újabbakat a -D kapcsoló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class Jellemzok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roperties p = System.getPropertie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Enumeration nevek = p.propertyName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while ( nevek.hasMoreElements(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ring név = (String) nevek.nextEleme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tring érték = p.getProperty(né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System.out.println(név + " = " + érté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java -Dezaneve=valami Jellemz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emelvények az eredménybő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java -Dezaneve=valami Jellemz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java.version =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user.timezone = Europe/Pa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java.specification.version = 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java.vm.vendor = Sun Microsystems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user.home = /h/teacher/k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java.vm.specification.version =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os.arch = sp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emelvények az eredménybő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java -Dezaneve=valami Jellemz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user.language =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user.name = k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path.separator =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file.separator =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user.dir = /h/mnt/pandora/userlv/home/teacher/k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ezaneve = vala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egédprogram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c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rdí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irtuális gé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doc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kumentáció generá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r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 ARchieve kész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avadoc: HTML dokumentá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gramszövegből a specifikációk kigyűjtése (csomagnevek, osztálynevek, adattagok, metódusok, kivételek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kumentációs megjegyzések beillesztése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/** … 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peciális adatok a dokumentációs megjegyzéseken belül (ún. tag-e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erajzolv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676520"/>
            <a:ext cx="1219320" cy="121896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r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4724280"/>
            <a:ext cx="1447920" cy="76212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lass fáj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1981080"/>
            <a:ext cx="2438280" cy="60984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sztály betöl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3352680"/>
            <a:ext cx="2743200" cy="60984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ájtkód ellenőrz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4572000"/>
            <a:ext cx="2438640" cy="6094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IT kódgenerá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4572000"/>
            <a:ext cx="2438640" cy="6094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5638680"/>
            <a:ext cx="2438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505320"/>
            <a:ext cx="2438280" cy="6094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rdí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114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2590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3962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3962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4" idx="2"/>
            <a:endCxn id="45" idx="0"/>
          </p:cNvCxnSpPr>
          <p:nvPr/>
        </p:nvCxnSpPr>
        <p:spPr>
          <a:xfrm flipH="1" flipV="1" rot="5400000">
            <a:off x="2248920" y="1597320"/>
            <a:ext cx="3463200" cy="4229640"/>
          </a:xfrm>
          <a:prstGeom prst="bentConnector5">
            <a:avLst>
              <a:gd name="adj1" fmla="val -7838"/>
              <a:gd name="adj2" fmla="val 29494"/>
              <a:gd name="adj3" fmla="val 1107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avadoc tag-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@author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rző neve - email cí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@versio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erziósz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@param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araméter dokumentá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@retur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isszatérési érték dok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@throw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váltott kivételek dok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@se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ivatkozás,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@deprecate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avultság jel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/** Hagyományos verem adattíp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@author Kozsik Ta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@version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class Vere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* A verem tartalma.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util.Vector adatok = new java.util.Vecto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* Betesz egy elemet a verem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see #p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param adat Amit betes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ush(Object adat)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* Kivesz egy elemet a veremb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ő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result Object A verem tetej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én levő e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throws UresException Ha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üres a ve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pop() throws UresException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avadoc meghív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ülönféle hozzáférési kategóriák (public, protected, package, private) szerint lehet különböző részletességű dokumentációt készít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het saját formátumot definiálni (docl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s van egy csomó kapcsoló (-classpath,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sourcepath, -d, stb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ar - Java ARchi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ényegében zip formátum, kis extrákk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jar program használata hasonlít a tar parancs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rchívum készíté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jar cvf classes.jar Foo.class Bar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ás fejlesztőeszközö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k cég csinált már Java fordítót és virtuális gép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ul a böngészőprogramokban is saját szokott le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elyette használhatunk plug-in virtuális gép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jlesztő eszközökben is szokott saját le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nnak hatékonyabbak is, mint a Sun cucc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ord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abban a könyvtárban vagyunk, ahol a fájl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javac Hell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eggyel lejjebb, pl.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cd ..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után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javac udv/Hell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több fájlt is le akarunk fordítani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javac udv/*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ordítás (több fáj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Írjuk össze a lefordítandó forrásfájlok nevét egy fájlba, pl. 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forrasok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fájlb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$ cat forra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Hell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zia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alut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$ javac @forra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fordítási egység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öbb típusdefiníciót is tartalmazhat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degyikhez keletkezik egy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fáj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Csavar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ackage raktár.adatok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class Csavar extends Anyag {...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class CsavarMenet {...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ordítás során két fájl keletkezi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Csavar.class  CsavarMenet.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lefordított fájlok elhelye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övetni kell a csomag-hierarchi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ülönben a virtuális gép (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) tanácstalan les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lkönyvtárak létreh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ul 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raktar.adatok.Csavar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osztály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fájlját 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raktár/adatok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alkönyvtárba kell te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raktár/adatok/Csavar.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-d kapcso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kell kézzel másolgatni: bízzuk rá a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javac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fordít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mondjuk, mi legyen a célkönyvtá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on belül felépíti a szükséges könyvtárstruktúr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javac -d . Csavar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javac -d ../classes Csavar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források elhelye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slat: ugyanolyan struktúrában, mint a .class fájloknál, azaz követve a csomaghierarchiát. Pl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sr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rakt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adat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gu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w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rakt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adat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gu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w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2:49:50Z</dcterms:created>
  <dc:creator>Kozsik Tamas</dc:creator>
  <dc:description/>
  <dc:language>en-US</dc:language>
  <cp:lastModifiedBy>kto</cp:lastModifiedBy>
  <dcterms:modified xsi:type="dcterms:W3CDTF">2006-04-27T15:47:12Z</dcterms:modified>
  <cp:revision>14</cp:revision>
  <dc:subject/>
  <dc:title>VI. Java Technológia (SE)</dc:title>
</cp:coreProperties>
</file>