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Párhuzamos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 egyszerre több mindent is csinál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ítással egyidőben 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processzor: számítások egyidő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processzor több programot futtat (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felhasználós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dőosztásos tech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program több végrehajtási szálból áll (th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hread t = new Thread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 ez még semmi különöset sem csinál, mert üres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Thread(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 ez még semmi különöset sem csinál, mert üres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a run() felüldefiniálás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MyThread(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MyThread extends Thread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 System.out.println("Hi!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a run() felüldefiniálás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Thread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ystem.out.println("Hi!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ind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elég létrehozni egy Thread objektu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hread objektum nem a végrehajtási sz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egy eszköz, aminek segítségével különböző dolgokat csinálhatunk egy végrehajtási száll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kell hívni a start() metódus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utomatikusan elindítja a run()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run()-t kell felüldefiniálni, megadni a szál programj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8120" y="3206880"/>
            <a:ext cx="4529160" cy="906480"/>
          </a:xfrm>
          <a:custGeom>
            <a:avLst/>
            <a:gdLst/>
            <a:ahLst/>
            <a:rect l="l" t="t" r="r" b="b"/>
            <a:pathLst>
              <a:path w="2853" h="571">
                <a:moveTo>
                  <a:pt x="0" y="571"/>
                </a:moveTo>
                <a:cubicBezTo>
                  <a:pt x="152" y="559"/>
                  <a:pt x="153" y="567"/>
                  <a:pt x="264" y="541"/>
                </a:cubicBezTo>
                <a:cubicBezTo>
                  <a:pt x="303" y="532"/>
                  <a:pt x="381" y="512"/>
                  <a:pt x="381" y="512"/>
                </a:cubicBezTo>
                <a:cubicBezTo>
                  <a:pt x="454" y="401"/>
                  <a:pt x="377" y="493"/>
                  <a:pt x="629" y="453"/>
                </a:cubicBezTo>
                <a:cubicBezTo>
                  <a:pt x="651" y="450"/>
                  <a:pt x="667" y="431"/>
                  <a:pt x="688" y="424"/>
                </a:cubicBezTo>
                <a:cubicBezTo>
                  <a:pt x="741" y="407"/>
                  <a:pt x="799" y="405"/>
                  <a:pt x="849" y="380"/>
                </a:cubicBezTo>
                <a:cubicBezTo>
                  <a:pt x="865" y="372"/>
                  <a:pt x="876" y="355"/>
                  <a:pt x="893" y="351"/>
                </a:cubicBezTo>
                <a:cubicBezTo>
                  <a:pt x="950" y="336"/>
                  <a:pt x="1010" y="334"/>
                  <a:pt x="1068" y="322"/>
                </a:cubicBezTo>
                <a:cubicBezTo>
                  <a:pt x="1103" y="315"/>
                  <a:pt x="1137" y="302"/>
                  <a:pt x="1171" y="292"/>
                </a:cubicBezTo>
                <a:cubicBezTo>
                  <a:pt x="1260" y="226"/>
                  <a:pt x="1329" y="240"/>
                  <a:pt x="1434" y="205"/>
                </a:cubicBezTo>
                <a:cubicBezTo>
                  <a:pt x="1527" y="109"/>
                  <a:pt x="1701" y="108"/>
                  <a:pt x="1829" y="88"/>
                </a:cubicBezTo>
                <a:cubicBezTo>
                  <a:pt x="1977" y="38"/>
                  <a:pt x="1886" y="60"/>
                  <a:pt x="2107" y="44"/>
                </a:cubicBezTo>
                <a:cubicBezTo>
                  <a:pt x="2183" y="18"/>
                  <a:pt x="2262" y="11"/>
                  <a:pt x="2341" y="0"/>
                </a:cubicBezTo>
                <a:cubicBezTo>
                  <a:pt x="2380" y="5"/>
                  <a:pt x="2420" y="3"/>
                  <a:pt x="2458" y="14"/>
                </a:cubicBezTo>
                <a:cubicBezTo>
                  <a:pt x="2472" y="18"/>
                  <a:pt x="2475" y="38"/>
                  <a:pt x="2488" y="44"/>
                </a:cubicBezTo>
                <a:cubicBezTo>
                  <a:pt x="2529" y="65"/>
                  <a:pt x="2575" y="73"/>
                  <a:pt x="2619" y="88"/>
                </a:cubicBezTo>
                <a:cubicBezTo>
                  <a:pt x="2680" y="109"/>
                  <a:pt x="2810" y="117"/>
                  <a:pt x="2810" y="117"/>
                </a:cubicBezTo>
                <a:cubicBezTo>
                  <a:pt x="2819" y="144"/>
                  <a:pt x="2822" y="219"/>
                  <a:pt x="2853" y="21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8120" y="3206880"/>
            <a:ext cx="4529160" cy="906480"/>
          </a:xfrm>
          <a:custGeom>
            <a:avLst/>
            <a:gdLst/>
            <a:ahLst/>
            <a:rect l="l" t="t" r="r" b="b"/>
            <a:pathLst>
              <a:path w="2853" h="571">
                <a:moveTo>
                  <a:pt x="0" y="571"/>
                </a:moveTo>
                <a:cubicBezTo>
                  <a:pt x="152" y="559"/>
                  <a:pt x="153" y="567"/>
                  <a:pt x="264" y="541"/>
                </a:cubicBezTo>
                <a:cubicBezTo>
                  <a:pt x="303" y="532"/>
                  <a:pt x="381" y="512"/>
                  <a:pt x="381" y="512"/>
                </a:cubicBezTo>
                <a:cubicBezTo>
                  <a:pt x="454" y="401"/>
                  <a:pt x="377" y="493"/>
                  <a:pt x="629" y="453"/>
                </a:cubicBezTo>
                <a:cubicBezTo>
                  <a:pt x="651" y="450"/>
                  <a:pt x="667" y="431"/>
                  <a:pt x="688" y="424"/>
                </a:cubicBezTo>
                <a:cubicBezTo>
                  <a:pt x="741" y="407"/>
                  <a:pt x="799" y="405"/>
                  <a:pt x="849" y="380"/>
                </a:cubicBezTo>
                <a:cubicBezTo>
                  <a:pt x="865" y="372"/>
                  <a:pt x="876" y="355"/>
                  <a:pt x="893" y="351"/>
                </a:cubicBezTo>
                <a:cubicBezTo>
                  <a:pt x="950" y="336"/>
                  <a:pt x="1010" y="334"/>
                  <a:pt x="1068" y="322"/>
                </a:cubicBezTo>
                <a:cubicBezTo>
                  <a:pt x="1103" y="315"/>
                  <a:pt x="1137" y="302"/>
                  <a:pt x="1171" y="292"/>
                </a:cubicBezTo>
                <a:cubicBezTo>
                  <a:pt x="1260" y="226"/>
                  <a:pt x="1329" y="240"/>
                  <a:pt x="1434" y="205"/>
                </a:cubicBezTo>
                <a:cubicBezTo>
                  <a:pt x="1527" y="109"/>
                  <a:pt x="1701" y="108"/>
                  <a:pt x="1829" y="88"/>
                </a:cubicBezTo>
                <a:cubicBezTo>
                  <a:pt x="1977" y="38"/>
                  <a:pt x="1886" y="60"/>
                  <a:pt x="2107" y="44"/>
                </a:cubicBezTo>
                <a:cubicBezTo>
                  <a:pt x="2183" y="18"/>
                  <a:pt x="2262" y="11"/>
                  <a:pt x="2341" y="0"/>
                </a:cubicBezTo>
                <a:cubicBezTo>
                  <a:pt x="2380" y="5"/>
                  <a:pt x="2420" y="3"/>
                  <a:pt x="2458" y="14"/>
                </a:cubicBezTo>
                <a:cubicBezTo>
                  <a:pt x="2472" y="18"/>
                  <a:pt x="2475" y="38"/>
                  <a:pt x="2488" y="44"/>
                </a:cubicBezTo>
                <a:cubicBezTo>
                  <a:pt x="2529" y="65"/>
                  <a:pt x="2575" y="73"/>
                  <a:pt x="2619" y="88"/>
                </a:cubicBezTo>
                <a:cubicBezTo>
                  <a:pt x="2680" y="109"/>
                  <a:pt x="2810" y="117"/>
                  <a:pt x="2810" y="117"/>
                </a:cubicBezTo>
                <a:cubicBezTo>
                  <a:pt x="2819" y="144"/>
                  <a:pt x="2822" y="219"/>
                  <a:pt x="2853" y="21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6800" y="3554280"/>
            <a:ext cx="4832280" cy="979560"/>
          </a:xfrm>
          <a:custGeom>
            <a:avLst/>
            <a:gdLst/>
            <a:ahLst/>
            <a:rect l="l" t="t" r="r" b="b"/>
            <a:pathLst>
              <a:path w="3044" h="617">
                <a:moveTo>
                  <a:pt x="3043" y="0"/>
                </a:moveTo>
                <a:cubicBezTo>
                  <a:pt x="3038" y="20"/>
                  <a:pt x="3044" y="46"/>
                  <a:pt x="3029" y="59"/>
                </a:cubicBezTo>
                <a:cubicBezTo>
                  <a:pt x="2975" y="106"/>
                  <a:pt x="2783" y="113"/>
                  <a:pt x="2736" y="117"/>
                </a:cubicBezTo>
                <a:cubicBezTo>
                  <a:pt x="2464" y="140"/>
                  <a:pt x="2190" y="147"/>
                  <a:pt x="1917" y="161"/>
                </a:cubicBezTo>
                <a:cubicBezTo>
                  <a:pt x="1851" y="172"/>
                  <a:pt x="1790" y="184"/>
                  <a:pt x="1727" y="205"/>
                </a:cubicBezTo>
                <a:cubicBezTo>
                  <a:pt x="1601" y="288"/>
                  <a:pt x="1760" y="188"/>
                  <a:pt x="1639" y="249"/>
                </a:cubicBezTo>
                <a:cubicBezTo>
                  <a:pt x="1623" y="257"/>
                  <a:pt x="1611" y="271"/>
                  <a:pt x="1595" y="278"/>
                </a:cubicBezTo>
                <a:cubicBezTo>
                  <a:pt x="1567" y="291"/>
                  <a:pt x="1536" y="298"/>
                  <a:pt x="1507" y="308"/>
                </a:cubicBezTo>
                <a:cubicBezTo>
                  <a:pt x="1492" y="313"/>
                  <a:pt x="1463" y="322"/>
                  <a:pt x="1463" y="322"/>
                </a:cubicBezTo>
                <a:cubicBezTo>
                  <a:pt x="1399" y="366"/>
                  <a:pt x="1334" y="368"/>
                  <a:pt x="1258" y="381"/>
                </a:cubicBezTo>
                <a:cubicBezTo>
                  <a:pt x="1201" y="467"/>
                  <a:pt x="1113" y="459"/>
                  <a:pt x="1024" y="483"/>
                </a:cubicBezTo>
                <a:cubicBezTo>
                  <a:pt x="920" y="511"/>
                  <a:pt x="843" y="529"/>
                  <a:pt x="732" y="542"/>
                </a:cubicBezTo>
                <a:cubicBezTo>
                  <a:pt x="498" y="617"/>
                  <a:pt x="246" y="571"/>
                  <a:pt x="0" y="5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é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tékonyság növelése: ha több processzo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felhasználó kiszolg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idő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terak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Program logikai tag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ik szál a felhasználói felülettel foglalko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ásik szál a hálózaton keresztül kommunikál valak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8120" y="3206880"/>
            <a:ext cx="4529160" cy="906480"/>
          </a:xfrm>
          <a:custGeom>
            <a:avLst/>
            <a:gdLst/>
            <a:ahLst/>
            <a:rect l="l" t="t" r="r" b="b"/>
            <a:pathLst>
              <a:path w="2853" h="571">
                <a:moveTo>
                  <a:pt x="0" y="571"/>
                </a:moveTo>
                <a:cubicBezTo>
                  <a:pt x="152" y="559"/>
                  <a:pt x="153" y="567"/>
                  <a:pt x="264" y="541"/>
                </a:cubicBezTo>
                <a:cubicBezTo>
                  <a:pt x="303" y="532"/>
                  <a:pt x="381" y="512"/>
                  <a:pt x="381" y="512"/>
                </a:cubicBezTo>
                <a:cubicBezTo>
                  <a:pt x="454" y="401"/>
                  <a:pt x="377" y="493"/>
                  <a:pt x="629" y="453"/>
                </a:cubicBezTo>
                <a:cubicBezTo>
                  <a:pt x="651" y="450"/>
                  <a:pt x="667" y="431"/>
                  <a:pt x="688" y="424"/>
                </a:cubicBezTo>
                <a:cubicBezTo>
                  <a:pt x="741" y="407"/>
                  <a:pt x="799" y="405"/>
                  <a:pt x="849" y="380"/>
                </a:cubicBezTo>
                <a:cubicBezTo>
                  <a:pt x="865" y="372"/>
                  <a:pt x="876" y="355"/>
                  <a:pt x="893" y="351"/>
                </a:cubicBezTo>
                <a:cubicBezTo>
                  <a:pt x="950" y="336"/>
                  <a:pt x="1010" y="334"/>
                  <a:pt x="1068" y="322"/>
                </a:cubicBezTo>
                <a:cubicBezTo>
                  <a:pt x="1103" y="315"/>
                  <a:pt x="1137" y="302"/>
                  <a:pt x="1171" y="292"/>
                </a:cubicBezTo>
                <a:cubicBezTo>
                  <a:pt x="1260" y="226"/>
                  <a:pt x="1329" y="240"/>
                  <a:pt x="1434" y="205"/>
                </a:cubicBezTo>
                <a:cubicBezTo>
                  <a:pt x="1527" y="109"/>
                  <a:pt x="1701" y="108"/>
                  <a:pt x="1829" y="88"/>
                </a:cubicBezTo>
                <a:cubicBezTo>
                  <a:pt x="1977" y="38"/>
                  <a:pt x="1886" y="60"/>
                  <a:pt x="2107" y="44"/>
                </a:cubicBezTo>
                <a:cubicBezTo>
                  <a:pt x="2183" y="18"/>
                  <a:pt x="2262" y="11"/>
                  <a:pt x="2341" y="0"/>
                </a:cubicBezTo>
                <a:cubicBezTo>
                  <a:pt x="2380" y="5"/>
                  <a:pt x="2420" y="3"/>
                  <a:pt x="2458" y="14"/>
                </a:cubicBezTo>
                <a:cubicBezTo>
                  <a:pt x="2472" y="18"/>
                  <a:pt x="2475" y="38"/>
                  <a:pt x="2488" y="44"/>
                </a:cubicBezTo>
                <a:cubicBezTo>
                  <a:pt x="2529" y="65"/>
                  <a:pt x="2575" y="73"/>
                  <a:pt x="2619" y="88"/>
                </a:cubicBezTo>
                <a:cubicBezTo>
                  <a:pt x="2680" y="109"/>
                  <a:pt x="2810" y="117"/>
                  <a:pt x="2810" y="117"/>
                </a:cubicBezTo>
                <a:cubicBezTo>
                  <a:pt x="2819" y="144"/>
                  <a:pt x="2822" y="219"/>
                  <a:pt x="2853" y="21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6800" y="3554280"/>
            <a:ext cx="4832280" cy="979560"/>
          </a:xfrm>
          <a:custGeom>
            <a:avLst/>
            <a:gdLst/>
            <a:ahLst/>
            <a:rect l="l" t="t" r="r" b="b"/>
            <a:pathLst>
              <a:path w="3044" h="617">
                <a:moveTo>
                  <a:pt x="3043" y="0"/>
                </a:moveTo>
                <a:cubicBezTo>
                  <a:pt x="3038" y="20"/>
                  <a:pt x="3044" y="46"/>
                  <a:pt x="3029" y="59"/>
                </a:cubicBezTo>
                <a:cubicBezTo>
                  <a:pt x="2975" y="106"/>
                  <a:pt x="2783" y="113"/>
                  <a:pt x="2736" y="117"/>
                </a:cubicBezTo>
                <a:cubicBezTo>
                  <a:pt x="2464" y="140"/>
                  <a:pt x="2190" y="147"/>
                  <a:pt x="1917" y="161"/>
                </a:cubicBezTo>
                <a:cubicBezTo>
                  <a:pt x="1851" y="172"/>
                  <a:pt x="1790" y="184"/>
                  <a:pt x="1727" y="205"/>
                </a:cubicBezTo>
                <a:cubicBezTo>
                  <a:pt x="1601" y="288"/>
                  <a:pt x="1760" y="188"/>
                  <a:pt x="1639" y="249"/>
                </a:cubicBezTo>
                <a:cubicBezTo>
                  <a:pt x="1623" y="257"/>
                  <a:pt x="1611" y="271"/>
                  <a:pt x="1595" y="278"/>
                </a:cubicBezTo>
                <a:cubicBezTo>
                  <a:pt x="1567" y="291"/>
                  <a:pt x="1536" y="298"/>
                  <a:pt x="1507" y="308"/>
                </a:cubicBezTo>
                <a:cubicBezTo>
                  <a:pt x="1492" y="313"/>
                  <a:pt x="1463" y="322"/>
                  <a:pt x="1463" y="322"/>
                </a:cubicBezTo>
                <a:cubicBezTo>
                  <a:pt x="1399" y="366"/>
                  <a:pt x="1334" y="368"/>
                  <a:pt x="1258" y="381"/>
                </a:cubicBezTo>
                <a:cubicBezTo>
                  <a:pt x="1201" y="467"/>
                  <a:pt x="1113" y="459"/>
                  <a:pt x="1024" y="483"/>
                </a:cubicBezTo>
                <a:cubicBezTo>
                  <a:pt x="920" y="511"/>
                  <a:pt x="843" y="529"/>
                  <a:pt x="732" y="542"/>
                </a:cubicBezTo>
                <a:cubicBezTo>
                  <a:pt x="498" y="617"/>
                  <a:pt x="246" y="571"/>
                  <a:pt x="0" y="5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12840" y="4062240"/>
            <a:ext cx="4981680" cy="846360"/>
          </a:xfrm>
          <a:custGeom>
            <a:avLst/>
            <a:gdLst/>
            <a:ahLst/>
            <a:rect l="l" t="t" r="r" b="b"/>
            <a:pathLst>
              <a:path w="3138" h="533">
                <a:moveTo>
                  <a:pt x="88" y="251"/>
                </a:moveTo>
                <a:cubicBezTo>
                  <a:pt x="18" y="297"/>
                  <a:pt x="50" y="263"/>
                  <a:pt x="15" y="368"/>
                </a:cubicBezTo>
                <a:cubicBezTo>
                  <a:pt x="10" y="383"/>
                  <a:pt x="0" y="412"/>
                  <a:pt x="0" y="412"/>
                </a:cubicBezTo>
                <a:cubicBezTo>
                  <a:pt x="67" y="477"/>
                  <a:pt x="103" y="453"/>
                  <a:pt x="205" y="441"/>
                </a:cubicBezTo>
                <a:cubicBezTo>
                  <a:pt x="297" y="533"/>
                  <a:pt x="224" y="475"/>
                  <a:pt x="498" y="456"/>
                </a:cubicBezTo>
                <a:cubicBezTo>
                  <a:pt x="552" y="452"/>
                  <a:pt x="605" y="445"/>
                  <a:pt x="659" y="441"/>
                </a:cubicBezTo>
                <a:cubicBezTo>
                  <a:pt x="747" y="435"/>
                  <a:pt x="834" y="432"/>
                  <a:pt x="922" y="427"/>
                </a:cubicBezTo>
                <a:cubicBezTo>
                  <a:pt x="1117" y="361"/>
                  <a:pt x="1324" y="375"/>
                  <a:pt x="1522" y="324"/>
                </a:cubicBezTo>
                <a:cubicBezTo>
                  <a:pt x="1602" y="271"/>
                  <a:pt x="1642" y="264"/>
                  <a:pt x="1742" y="251"/>
                </a:cubicBezTo>
                <a:cubicBezTo>
                  <a:pt x="1848" y="145"/>
                  <a:pt x="1700" y="274"/>
                  <a:pt x="1932" y="193"/>
                </a:cubicBezTo>
                <a:cubicBezTo>
                  <a:pt x="1986" y="174"/>
                  <a:pt x="2022" y="115"/>
                  <a:pt x="2078" y="105"/>
                </a:cubicBezTo>
                <a:cubicBezTo>
                  <a:pt x="2222" y="80"/>
                  <a:pt x="2371" y="95"/>
                  <a:pt x="2517" y="90"/>
                </a:cubicBezTo>
                <a:cubicBezTo>
                  <a:pt x="2647" y="46"/>
                  <a:pt x="2616" y="46"/>
                  <a:pt x="2795" y="32"/>
                </a:cubicBezTo>
                <a:cubicBezTo>
                  <a:pt x="2912" y="8"/>
                  <a:pt x="2896" y="0"/>
                  <a:pt x="3029" y="17"/>
                </a:cubicBezTo>
                <a:cubicBezTo>
                  <a:pt x="3092" y="78"/>
                  <a:pt x="3032" y="8"/>
                  <a:pt x="3073" y="134"/>
                </a:cubicBezTo>
                <a:cubicBezTo>
                  <a:pt x="3078" y="151"/>
                  <a:pt x="3092" y="163"/>
                  <a:pt x="3102" y="178"/>
                </a:cubicBezTo>
                <a:cubicBezTo>
                  <a:pt x="3088" y="390"/>
                  <a:pt x="3138" y="336"/>
                  <a:pt x="3073" y="39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8120" y="3206880"/>
            <a:ext cx="4529160" cy="906480"/>
          </a:xfrm>
          <a:custGeom>
            <a:avLst/>
            <a:gdLst/>
            <a:ahLst/>
            <a:rect l="l" t="t" r="r" b="b"/>
            <a:pathLst>
              <a:path w="2853" h="571">
                <a:moveTo>
                  <a:pt x="0" y="571"/>
                </a:moveTo>
                <a:cubicBezTo>
                  <a:pt x="152" y="559"/>
                  <a:pt x="153" y="567"/>
                  <a:pt x="264" y="541"/>
                </a:cubicBezTo>
                <a:cubicBezTo>
                  <a:pt x="303" y="532"/>
                  <a:pt x="381" y="512"/>
                  <a:pt x="381" y="512"/>
                </a:cubicBezTo>
                <a:cubicBezTo>
                  <a:pt x="454" y="401"/>
                  <a:pt x="377" y="493"/>
                  <a:pt x="629" y="453"/>
                </a:cubicBezTo>
                <a:cubicBezTo>
                  <a:pt x="651" y="450"/>
                  <a:pt x="667" y="431"/>
                  <a:pt x="688" y="424"/>
                </a:cubicBezTo>
                <a:cubicBezTo>
                  <a:pt x="741" y="407"/>
                  <a:pt x="799" y="405"/>
                  <a:pt x="849" y="380"/>
                </a:cubicBezTo>
                <a:cubicBezTo>
                  <a:pt x="865" y="372"/>
                  <a:pt x="876" y="355"/>
                  <a:pt x="893" y="351"/>
                </a:cubicBezTo>
                <a:cubicBezTo>
                  <a:pt x="950" y="336"/>
                  <a:pt x="1010" y="334"/>
                  <a:pt x="1068" y="322"/>
                </a:cubicBezTo>
                <a:cubicBezTo>
                  <a:pt x="1103" y="315"/>
                  <a:pt x="1137" y="302"/>
                  <a:pt x="1171" y="292"/>
                </a:cubicBezTo>
                <a:cubicBezTo>
                  <a:pt x="1260" y="226"/>
                  <a:pt x="1329" y="240"/>
                  <a:pt x="1434" y="205"/>
                </a:cubicBezTo>
                <a:cubicBezTo>
                  <a:pt x="1527" y="109"/>
                  <a:pt x="1701" y="108"/>
                  <a:pt x="1829" y="88"/>
                </a:cubicBezTo>
                <a:cubicBezTo>
                  <a:pt x="1977" y="38"/>
                  <a:pt x="1886" y="60"/>
                  <a:pt x="2107" y="44"/>
                </a:cubicBezTo>
                <a:cubicBezTo>
                  <a:pt x="2183" y="18"/>
                  <a:pt x="2262" y="11"/>
                  <a:pt x="2341" y="0"/>
                </a:cubicBezTo>
                <a:cubicBezTo>
                  <a:pt x="2380" y="5"/>
                  <a:pt x="2420" y="3"/>
                  <a:pt x="2458" y="14"/>
                </a:cubicBezTo>
                <a:cubicBezTo>
                  <a:pt x="2472" y="18"/>
                  <a:pt x="2475" y="38"/>
                  <a:pt x="2488" y="44"/>
                </a:cubicBezTo>
                <a:cubicBezTo>
                  <a:pt x="2529" y="65"/>
                  <a:pt x="2575" y="73"/>
                  <a:pt x="2619" y="88"/>
                </a:cubicBezTo>
                <a:cubicBezTo>
                  <a:pt x="2680" y="109"/>
                  <a:pt x="2810" y="117"/>
                  <a:pt x="2810" y="117"/>
                </a:cubicBezTo>
                <a:cubicBezTo>
                  <a:pt x="2819" y="144"/>
                  <a:pt x="2822" y="219"/>
                  <a:pt x="2853" y="21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6800" y="3554280"/>
            <a:ext cx="4832280" cy="979560"/>
          </a:xfrm>
          <a:custGeom>
            <a:avLst/>
            <a:gdLst/>
            <a:ahLst/>
            <a:rect l="l" t="t" r="r" b="b"/>
            <a:pathLst>
              <a:path w="3044" h="617">
                <a:moveTo>
                  <a:pt x="3043" y="0"/>
                </a:moveTo>
                <a:cubicBezTo>
                  <a:pt x="3038" y="20"/>
                  <a:pt x="3044" y="46"/>
                  <a:pt x="3029" y="59"/>
                </a:cubicBezTo>
                <a:cubicBezTo>
                  <a:pt x="2975" y="106"/>
                  <a:pt x="2783" y="113"/>
                  <a:pt x="2736" y="117"/>
                </a:cubicBezTo>
                <a:cubicBezTo>
                  <a:pt x="2464" y="140"/>
                  <a:pt x="2190" y="147"/>
                  <a:pt x="1917" y="161"/>
                </a:cubicBezTo>
                <a:cubicBezTo>
                  <a:pt x="1851" y="172"/>
                  <a:pt x="1790" y="184"/>
                  <a:pt x="1727" y="205"/>
                </a:cubicBezTo>
                <a:cubicBezTo>
                  <a:pt x="1601" y="288"/>
                  <a:pt x="1760" y="188"/>
                  <a:pt x="1639" y="249"/>
                </a:cubicBezTo>
                <a:cubicBezTo>
                  <a:pt x="1623" y="257"/>
                  <a:pt x="1611" y="271"/>
                  <a:pt x="1595" y="278"/>
                </a:cubicBezTo>
                <a:cubicBezTo>
                  <a:pt x="1567" y="291"/>
                  <a:pt x="1536" y="298"/>
                  <a:pt x="1507" y="308"/>
                </a:cubicBezTo>
                <a:cubicBezTo>
                  <a:pt x="1492" y="313"/>
                  <a:pt x="1463" y="322"/>
                  <a:pt x="1463" y="322"/>
                </a:cubicBezTo>
                <a:cubicBezTo>
                  <a:pt x="1399" y="366"/>
                  <a:pt x="1334" y="368"/>
                  <a:pt x="1258" y="381"/>
                </a:cubicBezTo>
                <a:cubicBezTo>
                  <a:pt x="1201" y="467"/>
                  <a:pt x="1113" y="459"/>
                  <a:pt x="1024" y="483"/>
                </a:cubicBezTo>
                <a:cubicBezTo>
                  <a:pt x="920" y="511"/>
                  <a:pt x="843" y="529"/>
                  <a:pt x="732" y="542"/>
                </a:cubicBezTo>
                <a:cubicBezTo>
                  <a:pt x="498" y="617"/>
                  <a:pt x="246" y="571"/>
                  <a:pt x="0" y="5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452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12840" y="4062240"/>
            <a:ext cx="4981680" cy="846360"/>
          </a:xfrm>
          <a:custGeom>
            <a:avLst/>
            <a:gdLst/>
            <a:ahLst/>
            <a:rect l="l" t="t" r="r" b="b"/>
            <a:pathLst>
              <a:path w="3138" h="533">
                <a:moveTo>
                  <a:pt x="88" y="251"/>
                </a:moveTo>
                <a:cubicBezTo>
                  <a:pt x="18" y="297"/>
                  <a:pt x="50" y="263"/>
                  <a:pt x="15" y="368"/>
                </a:cubicBezTo>
                <a:cubicBezTo>
                  <a:pt x="10" y="383"/>
                  <a:pt x="0" y="412"/>
                  <a:pt x="0" y="412"/>
                </a:cubicBezTo>
                <a:cubicBezTo>
                  <a:pt x="67" y="477"/>
                  <a:pt x="103" y="453"/>
                  <a:pt x="205" y="441"/>
                </a:cubicBezTo>
                <a:cubicBezTo>
                  <a:pt x="297" y="533"/>
                  <a:pt x="224" y="475"/>
                  <a:pt x="498" y="456"/>
                </a:cubicBezTo>
                <a:cubicBezTo>
                  <a:pt x="552" y="452"/>
                  <a:pt x="605" y="445"/>
                  <a:pt x="659" y="441"/>
                </a:cubicBezTo>
                <a:cubicBezTo>
                  <a:pt x="747" y="435"/>
                  <a:pt x="834" y="432"/>
                  <a:pt x="922" y="427"/>
                </a:cubicBezTo>
                <a:cubicBezTo>
                  <a:pt x="1117" y="361"/>
                  <a:pt x="1324" y="375"/>
                  <a:pt x="1522" y="324"/>
                </a:cubicBezTo>
                <a:cubicBezTo>
                  <a:pt x="1602" y="271"/>
                  <a:pt x="1642" y="264"/>
                  <a:pt x="1742" y="251"/>
                </a:cubicBezTo>
                <a:cubicBezTo>
                  <a:pt x="1848" y="145"/>
                  <a:pt x="1700" y="274"/>
                  <a:pt x="1932" y="193"/>
                </a:cubicBezTo>
                <a:cubicBezTo>
                  <a:pt x="1986" y="174"/>
                  <a:pt x="2022" y="115"/>
                  <a:pt x="2078" y="105"/>
                </a:cubicBezTo>
                <a:cubicBezTo>
                  <a:pt x="2222" y="80"/>
                  <a:pt x="2371" y="95"/>
                  <a:pt x="2517" y="90"/>
                </a:cubicBezTo>
                <a:cubicBezTo>
                  <a:pt x="2647" y="46"/>
                  <a:pt x="2616" y="46"/>
                  <a:pt x="2795" y="32"/>
                </a:cubicBezTo>
                <a:cubicBezTo>
                  <a:pt x="2912" y="8"/>
                  <a:pt x="2896" y="0"/>
                  <a:pt x="3029" y="17"/>
                </a:cubicBezTo>
                <a:cubicBezTo>
                  <a:pt x="3092" y="78"/>
                  <a:pt x="3032" y="8"/>
                  <a:pt x="3073" y="134"/>
                </a:cubicBezTo>
                <a:cubicBezTo>
                  <a:pt x="3078" y="151"/>
                  <a:pt x="3092" y="163"/>
                  <a:pt x="3102" y="178"/>
                </a:cubicBezTo>
                <a:cubicBezTo>
                  <a:pt x="3088" y="390"/>
                  <a:pt x="3138" y="336"/>
                  <a:pt x="3073" y="39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1600" y="4692600"/>
            <a:ext cx="5419440" cy="397080"/>
          </a:xfrm>
          <a:custGeom>
            <a:avLst/>
            <a:gdLst/>
            <a:ahLst/>
            <a:rect l="l" t="t" r="r" b="b"/>
            <a:pathLst>
              <a:path w="3414" h="250">
                <a:moveTo>
                  <a:pt x="3414" y="0"/>
                </a:moveTo>
                <a:cubicBezTo>
                  <a:pt x="3307" y="36"/>
                  <a:pt x="3356" y="23"/>
                  <a:pt x="3268" y="44"/>
                </a:cubicBezTo>
                <a:cubicBezTo>
                  <a:pt x="2825" y="36"/>
                  <a:pt x="2460" y="13"/>
                  <a:pt x="2039" y="44"/>
                </a:cubicBezTo>
                <a:cubicBezTo>
                  <a:pt x="2019" y="49"/>
                  <a:pt x="1999" y="51"/>
                  <a:pt x="1980" y="59"/>
                </a:cubicBezTo>
                <a:cubicBezTo>
                  <a:pt x="1964" y="66"/>
                  <a:pt x="1953" y="83"/>
                  <a:pt x="1936" y="88"/>
                </a:cubicBezTo>
                <a:cubicBezTo>
                  <a:pt x="1786" y="133"/>
                  <a:pt x="1624" y="112"/>
                  <a:pt x="1468" y="118"/>
                </a:cubicBezTo>
                <a:cubicBezTo>
                  <a:pt x="1350" y="129"/>
                  <a:pt x="1235" y="147"/>
                  <a:pt x="1117" y="161"/>
                </a:cubicBezTo>
                <a:cubicBezTo>
                  <a:pt x="856" y="250"/>
                  <a:pt x="556" y="173"/>
                  <a:pt x="283" y="147"/>
                </a:cubicBezTo>
                <a:cubicBezTo>
                  <a:pt x="211" y="100"/>
                  <a:pt x="146" y="87"/>
                  <a:pt x="63" y="74"/>
                </a:cubicBezTo>
                <a:cubicBezTo>
                  <a:pt x="0" y="89"/>
                  <a:pt x="5" y="68"/>
                  <a:pt x="5" y="1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40720" y="2579760"/>
            <a:ext cx="163440" cy="1162080"/>
          </a:xfrm>
          <a:custGeom>
            <a:avLst/>
            <a:gdLst/>
            <a:ahLst/>
            <a:rect l="l" t="t" r="r" b="b"/>
            <a:pathLst>
              <a:path w="103" h="732">
                <a:moveTo>
                  <a:pt x="0" y="0"/>
                </a:moveTo>
                <a:cubicBezTo>
                  <a:pt x="20" y="58"/>
                  <a:pt x="32" y="115"/>
                  <a:pt x="44" y="175"/>
                </a:cubicBezTo>
                <a:cubicBezTo>
                  <a:pt x="14" y="293"/>
                  <a:pt x="29" y="437"/>
                  <a:pt x="59" y="556"/>
                </a:cubicBezTo>
                <a:cubicBezTo>
                  <a:pt x="103" y="732"/>
                  <a:pt x="88" y="453"/>
                  <a:pt x="88" y="7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llusztr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981080"/>
            <a:ext cx="3886200" cy="4496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2057400"/>
            <a:ext cx="3657600" cy="441972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840" y="2971800"/>
            <a:ext cx="368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m(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read t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new MyThread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.star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7160" y="2971800"/>
            <a:ext cx="35107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MyThread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run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96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0760" y="1143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my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extends Th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7280" y="581040"/>
            <a:ext cx="210960" cy="1928880"/>
          </a:xfrm>
          <a:custGeom>
            <a:avLst/>
            <a:gdLst/>
            <a:ahLst/>
            <a:rect l="l" t="t" r="r" b="b"/>
            <a:pathLst>
              <a:path w="133" h="1215">
                <a:moveTo>
                  <a:pt x="0" y="0"/>
                </a:moveTo>
                <a:cubicBezTo>
                  <a:pt x="96" y="96"/>
                  <a:pt x="74" y="189"/>
                  <a:pt x="29" y="322"/>
                </a:cubicBezTo>
                <a:cubicBezTo>
                  <a:pt x="93" y="604"/>
                  <a:pt x="44" y="335"/>
                  <a:pt x="44" y="834"/>
                </a:cubicBezTo>
                <a:cubicBezTo>
                  <a:pt x="44" y="931"/>
                  <a:pt x="40" y="916"/>
                  <a:pt x="103" y="937"/>
                </a:cubicBezTo>
                <a:cubicBezTo>
                  <a:pt x="133" y="1029"/>
                  <a:pt x="116" y="1129"/>
                  <a:pt x="73" y="121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400" y="2509920"/>
            <a:ext cx="1863720" cy="1636560"/>
          </a:xfrm>
          <a:custGeom>
            <a:avLst/>
            <a:gdLst/>
            <a:ahLst/>
            <a:rect l="l" t="t" r="r" b="b"/>
            <a:pathLst>
              <a:path w="1174" h="1031">
                <a:moveTo>
                  <a:pt x="33" y="0"/>
                </a:moveTo>
                <a:cubicBezTo>
                  <a:pt x="23" y="15"/>
                  <a:pt x="0" y="27"/>
                  <a:pt x="4" y="44"/>
                </a:cubicBezTo>
                <a:cubicBezTo>
                  <a:pt x="8" y="63"/>
                  <a:pt x="77" y="83"/>
                  <a:pt x="91" y="87"/>
                </a:cubicBezTo>
                <a:cubicBezTo>
                  <a:pt x="206" y="115"/>
                  <a:pt x="311" y="134"/>
                  <a:pt x="428" y="146"/>
                </a:cubicBezTo>
                <a:cubicBezTo>
                  <a:pt x="433" y="161"/>
                  <a:pt x="430" y="181"/>
                  <a:pt x="443" y="190"/>
                </a:cubicBezTo>
                <a:cubicBezTo>
                  <a:pt x="464" y="204"/>
                  <a:pt x="492" y="198"/>
                  <a:pt x="516" y="205"/>
                </a:cubicBezTo>
                <a:cubicBezTo>
                  <a:pt x="607" y="230"/>
                  <a:pt x="684" y="249"/>
                  <a:pt x="779" y="263"/>
                </a:cubicBezTo>
                <a:cubicBezTo>
                  <a:pt x="794" y="268"/>
                  <a:pt x="815" y="265"/>
                  <a:pt x="823" y="278"/>
                </a:cubicBezTo>
                <a:cubicBezTo>
                  <a:pt x="838" y="304"/>
                  <a:pt x="832" y="337"/>
                  <a:pt x="838" y="366"/>
                </a:cubicBezTo>
                <a:cubicBezTo>
                  <a:pt x="871" y="532"/>
                  <a:pt x="830" y="275"/>
                  <a:pt x="867" y="527"/>
                </a:cubicBezTo>
                <a:cubicBezTo>
                  <a:pt x="862" y="551"/>
                  <a:pt x="866" y="579"/>
                  <a:pt x="852" y="600"/>
                </a:cubicBezTo>
                <a:cubicBezTo>
                  <a:pt x="809" y="664"/>
                  <a:pt x="788" y="554"/>
                  <a:pt x="823" y="658"/>
                </a:cubicBezTo>
                <a:cubicBezTo>
                  <a:pt x="818" y="717"/>
                  <a:pt x="787" y="779"/>
                  <a:pt x="808" y="834"/>
                </a:cubicBezTo>
                <a:cubicBezTo>
                  <a:pt x="819" y="862"/>
                  <a:pt x="869" y="836"/>
                  <a:pt x="896" y="849"/>
                </a:cubicBezTo>
                <a:cubicBezTo>
                  <a:pt x="911" y="857"/>
                  <a:pt x="914" y="879"/>
                  <a:pt x="925" y="892"/>
                </a:cubicBezTo>
                <a:cubicBezTo>
                  <a:pt x="950" y="923"/>
                  <a:pt x="965" y="928"/>
                  <a:pt x="999" y="951"/>
                </a:cubicBezTo>
                <a:cubicBezTo>
                  <a:pt x="1052" y="1031"/>
                  <a:pt x="1073" y="1010"/>
                  <a:pt x="1174" y="101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3206880"/>
            <a:ext cx="4529160" cy="906480"/>
          </a:xfrm>
          <a:custGeom>
            <a:avLst/>
            <a:gdLst/>
            <a:ahLst/>
            <a:rect l="l" t="t" r="r" b="b"/>
            <a:pathLst>
              <a:path w="2853" h="571">
                <a:moveTo>
                  <a:pt x="0" y="571"/>
                </a:moveTo>
                <a:cubicBezTo>
                  <a:pt x="152" y="559"/>
                  <a:pt x="153" y="567"/>
                  <a:pt x="264" y="541"/>
                </a:cubicBezTo>
                <a:cubicBezTo>
                  <a:pt x="303" y="532"/>
                  <a:pt x="381" y="512"/>
                  <a:pt x="381" y="512"/>
                </a:cubicBezTo>
                <a:cubicBezTo>
                  <a:pt x="454" y="401"/>
                  <a:pt x="377" y="493"/>
                  <a:pt x="629" y="453"/>
                </a:cubicBezTo>
                <a:cubicBezTo>
                  <a:pt x="651" y="450"/>
                  <a:pt x="667" y="431"/>
                  <a:pt x="688" y="424"/>
                </a:cubicBezTo>
                <a:cubicBezTo>
                  <a:pt x="741" y="407"/>
                  <a:pt x="799" y="405"/>
                  <a:pt x="849" y="380"/>
                </a:cubicBezTo>
                <a:cubicBezTo>
                  <a:pt x="865" y="372"/>
                  <a:pt x="876" y="355"/>
                  <a:pt x="893" y="351"/>
                </a:cubicBezTo>
                <a:cubicBezTo>
                  <a:pt x="950" y="336"/>
                  <a:pt x="1010" y="334"/>
                  <a:pt x="1068" y="322"/>
                </a:cubicBezTo>
                <a:cubicBezTo>
                  <a:pt x="1103" y="315"/>
                  <a:pt x="1137" y="302"/>
                  <a:pt x="1171" y="292"/>
                </a:cubicBezTo>
                <a:cubicBezTo>
                  <a:pt x="1260" y="226"/>
                  <a:pt x="1329" y="240"/>
                  <a:pt x="1434" y="205"/>
                </a:cubicBezTo>
                <a:cubicBezTo>
                  <a:pt x="1527" y="109"/>
                  <a:pt x="1701" y="108"/>
                  <a:pt x="1829" y="88"/>
                </a:cubicBezTo>
                <a:cubicBezTo>
                  <a:pt x="1977" y="38"/>
                  <a:pt x="1886" y="60"/>
                  <a:pt x="2107" y="44"/>
                </a:cubicBezTo>
                <a:cubicBezTo>
                  <a:pt x="2183" y="18"/>
                  <a:pt x="2262" y="11"/>
                  <a:pt x="2341" y="0"/>
                </a:cubicBezTo>
                <a:cubicBezTo>
                  <a:pt x="2380" y="5"/>
                  <a:pt x="2420" y="3"/>
                  <a:pt x="2458" y="14"/>
                </a:cubicBezTo>
                <a:cubicBezTo>
                  <a:pt x="2472" y="18"/>
                  <a:pt x="2475" y="38"/>
                  <a:pt x="2488" y="44"/>
                </a:cubicBezTo>
                <a:cubicBezTo>
                  <a:pt x="2529" y="65"/>
                  <a:pt x="2575" y="73"/>
                  <a:pt x="2619" y="88"/>
                </a:cubicBezTo>
                <a:cubicBezTo>
                  <a:pt x="2680" y="109"/>
                  <a:pt x="2810" y="117"/>
                  <a:pt x="2810" y="117"/>
                </a:cubicBezTo>
                <a:cubicBezTo>
                  <a:pt x="2819" y="144"/>
                  <a:pt x="2822" y="219"/>
                  <a:pt x="2853" y="219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6800" y="3554280"/>
            <a:ext cx="4832280" cy="979560"/>
          </a:xfrm>
          <a:custGeom>
            <a:avLst/>
            <a:gdLst/>
            <a:ahLst/>
            <a:rect l="l" t="t" r="r" b="b"/>
            <a:pathLst>
              <a:path w="3044" h="617">
                <a:moveTo>
                  <a:pt x="3043" y="0"/>
                </a:moveTo>
                <a:cubicBezTo>
                  <a:pt x="3038" y="20"/>
                  <a:pt x="3044" y="46"/>
                  <a:pt x="3029" y="59"/>
                </a:cubicBezTo>
                <a:cubicBezTo>
                  <a:pt x="2975" y="106"/>
                  <a:pt x="2783" y="113"/>
                  <a:pt x="2736" y="117"/>
                </a:cubicBezTo>
                <a:cubicBezTo>
                  <a:pt x="2464" y="140"/>
                  <a:pt x="2190" y="147"/>
                  <a:pt x="1917" y="161"/>
                </a:cubicBezTo>
                <a:cubicBezTo>
                  <a:pt x="1851" y="172"/>
                  <a:pt x="1790" y="184"/>
                  <a:pt x="1727" y="205"/>
                </a:cubicBezTo>
                <a:cubicBezTo>
                  <a:pt x="1601" y="288"/>
                  <a:pt x="1760" y="188"/>
                  <a:pt x="1639" y="249"/>
                </a:cubicBezTo>
                <a:cubicBezTo>
                  <a:pt x="1623" y="257"/>
                  <a:pt x="1611" y="271"/>
                  <a:pt x="1595" y="278"/>
                </a:cubicBezTo>
                <a:cubicBezTo>
                  <a:pt x="1567" y="291"/>
                  <a:pt x="1536" y="298"/>
                  <a:pt x="1507" y="308"/>
                </a:cubicBezTo>
                <a:cubicBezTo>
                  <a:pt x="1492" y="313"/>
                  <a:pt x="1463" y="322"/>
                  <a:pt x="1463" y="322"/>
                </a:cubicBezTo>
                <a:cubicBezTo>
                  <a:pt x="1399" y="366"/>
                  <a:pt x="1334" y="368"/>
                  <a:pt x="1258" y="381"/>
                </a:cubicBezTo>
                <a:cubicBezTo>
                  <a:pt x="1201" y="467"/>
                  <a:pt x="1113" y="459"/>
                  <a:pt x="1024" y="483"/>
                </a:cubicBezTo>
                <a:cubicBezTo>
                  <a:pt x="920" y="511"/>
                  <a:pt x="843" y="529"/>
                  <a:pt x="732" y="542"/>
                </a:cubicBezTo>
                <a:cubicBezTo>
                  <a:pt x="498" y="617"/>
                  <a:pt x="246" y="571"/>
                  <a:pt x="0" y="5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452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12840" y="4062240"/>
            <a:ext cx="4981680" cy="846360"/>
          </a:xfrm>
          <a:custGeom>
            <a:avLst/>
            <a:gdLst/>
            <a:ahLst/>
            <a:rect l="l" t="t" r="r" b="b"/>
            <a:pathLst>
              <a:path w="3138" h="533">
                <a:moveTo>
                  <a:pt x="88" y="251"/>
                </a:moveTo>
                <a:cubicBezTo>
                  <a:pt x="18" y="297"/>
                  <a:pt x="50" y="263"/>
                  <a:pt x="15" y="368"/>
                </a:cubicBezTo>
                <a:cubicBezTo>
                  <a:pt x="10" y="383"/>
                  <a:pt x="0" y="412"/>
                  <a:pt x="0" y="412"/>
                </a:cubicBezTo>
                <a:cubicBezTo>
                  <a:pt x="67" y="477"/>
                  <a:pt x="103" y="453"/>
                  <a:pt x="205" y="441"/>
                </a:cubicBezTo>
                <a:cubicBezTo>
                  <a:pt x="297" y="533"/>
                  <a:pt x="224" y="475"/>
                  <a:pt x="498" y="456"/>
                </a:cubicBezTo>
                <a:cubicBezTo>
                  <a:pt x="552" y="452"/>
                  <a:pt x="605" y="445"/>
                  <a:pt x="659" y="441"/>
                </a:cubicBezTo>
                <a:cubicBezTo>
                  <a:pt x="747" y="435"/>
                  <a:pt x="834" y="432"/>
                  <a:pt x="922" y="427"/>
                </a:cubicBezTo>
                <a:cubicBezTo>
                  <a:pt x="1117" y="361"/>
                  <a:pt x="1324" y="375"/>
                  <a:pt x="1522" y="324"/>
                </a:cubicBezTo>
                <a:cubicBezTo>
                  <a:pt x="1602" y="271"/>
                  <a:pt x="1642" y="264"/>
                  <a:pt x="1742" y="251"/>
                </a:cubicBezTo>
                <a:cubicBezTo>
                  <a:pt x="1848" y="145"/>
                  <a:pt x="1700" y="274"/>
                  <a:pt x="1932" y="193"/>
                </a:cubicBezTo>
                <a:cubicBezTo>
                  <a:pt x="1986" y="174"/>
                  <a:pt x="2022" y="115"/>
                  <a:pt x="2078" y="105"/>
                </a:cubicBezTo>
                <a:cubicBezTo>
                  <a:pt x="2222" y="80"/>
                  <a:pt x="2371" y="95"/>
                  <a:pt x="2517" y="90"/>
                </a:cubicBezTo>
                <a:cubicBezTo>
                  <a:pt x="2647" y="46"/>
                  <a:pt x="2616" y="46"/>
                  <a:pt x="2795" y="32"/>
                </a:cubicBezTo>
                <a:cubicBezTo>
                  <a:pt x="2912" y="8"/>
                  <a:pt x="2896" y="0"/>
                  <a:pt x="3029" y="17"/>
                </a:cubicBezTo>
                <a:cubicBezTo>
                  <a:pt x="3092" y="78"/>
                  <a:pt x="3032" y="8"/>
                  <a:pt x="3073" y="134"/>
                </a:cubicBezTo>
                <a:cubicBezTo>
                  <a:pt x="3078" y="151"/>
                  <a:pt x="3092" y="163"/>
                  <a:pt x="3102" y="178"/>
                </a:cubicBezTo>
                <a:cubicBezTo>
                  <a:pt x="3088" y="390"/>
                  <a:pt x="3138" y="336"/>
                  <a:pt x="3073" y="39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1600" y="4692600"/>
            <a:ext cx="5419440" cy="397080"/>
          </a:xfrm>
          <a:custGeom>
            <a:avLst/>
            <a:gdLst/>
            <a:ahLst/>
            <a:rect l="l" t="t" r="r" b="b"/>
            <a:pathLst>
              <a:path w="3414" h="250">
                <a:moveTo>
                  <a:pt x="3414" y="0"/>
                </a:moveTo>
                <a:cubicBezTo>
                  <a:pt x="3307" y="36"/>
                  <a:pt x="3356" y="23"/>
                  <a:pt x="3268" y="44"/>
                </a:cubicBezTo>
                <a:cubicBezTo>
                  <a:pt x="2825" y="36"/>
                  <a:pt x="2460" y="13"/>
                  <a:pt x="2039" y="44"/>
                </a:cubicBezTo>
                <a:cubicBezTo>
                  <a:pt x="2019" y="49"/>
                  <a:pt x="1999" y="51"/>
                  <a:pt x="1980" y="59"/>
                </a:cubicBezTo>
                <a:cubicBezTo>
                  <a:pt x="1964" y="66"/>
                  <a:pt x="1953" y="83"/>
                  <a:pt x="1936" y="88"/>
                </a:cubicBezTo>
                <a:cubicBezTo>
                  <a:pt x="1786" y="133"/>
                  <a:pt x="1624" y="112"/>
                  <a:pt x="1468" y="118"/>
                </a:cubicBezTo>
                <a:cubicBezTo>
                  <a:pt x="1350" y="129"/>
                  <a:pt x="1235" y="147"/>
                  <a:pt x="1117" y="161"/>
                </a:cubicBezTo>
                <a:cubicBezTo>
                  <a:pt x="856" y="250"/>
                  <a:pt x="556" y="173"/>
                  <a:pt x="283" y="147"/>
                </a:cubicBezTo>
                <a:cubicBezTo>
                  <a:pt x="211" y="100"/>
                  <a:pt x="146" y="87"/>
                  <a:pt x="63" y="74"/>
                </a:cubicBezTo>
                <a:cubicBezTo>
                  <a:pt x="0" y="89"/>
                  <a:pt x="5" y="68"/>
                  <a:pt x="5" y="1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40720" y="2579760"/>
            <a:ext cx="163440" cy="1162080"/>
          </a:xfrm>
          <a:custGeom>
            <a:avLst/>
            <a:gdLst/>
            <a:ahLst/>
            <a:rect l="l" t="t" r="r" b="b"/>
            <a:pathLst>
              <a:path w="103" h="732">
                <a:moveTo>
                  <a:pt x="0" y="0"/>
                </a:moveTo>
                <a:cubicBezTo>
                  <a:pt x="20" y="58"/>
                  <a:pt x="32" y="115"/>
                  <a:pt x="44" y="175"/>
                </a:cubicBezTo>
                <a:cubicBezTo>
                  <a:pt x="14" y="293"/>
                  <a:pt x="29" y="437"/>
                  <a:pt x="59" y="556"/>
                </a:cubicBezTo>
                <a:cubicBezTo>
                  <a:pt x="103" y="732"/>
                  <a:pt x="88" y="453"/>
                  <a:pt x="88" y="7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520" y="4832280"/>
            <a:ext cx="1035000" cy="1673280"/>
          </a:xfrm>
          <a:custGeom>
            <a:avLst/>
            <a:gdLst/>
            <a:ahLst/>
            <a:rect l="l" t="t" r="r" b="b"/>
            <a:pathLst>
              <a:path w="652" h="1054">
                <a:moveTo>
                  <a:pt x="652" y="0"/>
                </a:moveTo>
                <a:cubicBezTo>
                  <a:pt x="636" y="16"/>
                  <a:pt x="599" y="52"/>
                  <a:pt x="593" y="73"/>
                </a:cubicBezTo>
                <a:cubicBezTo>
                  <a:pt x="560" y="194"/>
                  <a:pt x="618" y="198"/>
                  <a:pt x="506" y="234"/>
                </a:cubicBezTo>
                <a:cubicBezTo>
                  <a:pt x="489" y="282"/>
                  <a:pt x="493" y="340"/>
                  <a:pt x="462" y="381"/>
                </a:cubicBezTo>
                <a:cubicBezTo>
                  <a:pt x="450" y="397"/>
                  <a:pt x="423" y="390"/>
                  <a:pt x="403" y="395"/>
                </a:cubicBezTo>
                <a:cubicBezTo>
                  <a:pt x="381" y="428"/>
                  <a:pt x="369" y="467"/>
                  <a:pt x="345" y="498"/>
                </a:cubicBezTo>
                <a:cubicBezTo>
                  <a:pt x="324" y="525"/>
                  <a:pt x="296" y="547"/>
                  <a:pt x="271" y="571"/>
                </a:cubicBezTo>
                <a:cubicBezTo>
                  <a:pt x="258" y="583"/>
                  <a:pt x="256" y="604"/>
                  <a:pt x="242" y="615"/>
                </a:cubicBezTo>
                <a:cubicBezTo>
                  <a:pt x="230" y="625"/>
                  <a:pt x="213" y="625"/>
                  <a:pt x="198" y="630"/>
                </a:cubicBezTo>
                <a:cubicBezTo>
                  <a:pt x="141" y="686"/>
                  <a:pt x="83" y="724"/>
                  <a:pt x="37" y="791"/>
                </a:cubicBezTo>
                <a:cubicBezTo>
                  <a:pt x="0" y="904"/>
                  <a:pt x="23" y="819"/>
                  <a:pt x="23" y="105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69240" y="3693960"/>
            <a:ext cx="1833480" cy="2102040"/>
          </a:xfrm>
          <a:custGeom>
            <a:avLst/>
            <a:gdLst/>
            <a:ahLst/>
            <a:rect l="l" t="t" r="r" b="b"/>
            <a:pathLst>
              <a:path w="1155" h="1324">
                <a:moveTo>
                  <a:pt x="1155" y="0"/>
                </a:moveTo>
                <a:cubicBezTo>
                  <a:pt x="1142" y="131"/>
                  <a:pt x="1147" y="265"/>
                  <a:pt x="1126" y="395"/>
                </a:cubicBezTo>
                <a:cubicBezTo>
                  <a:pt x="1124" y="406"/>
                  <a:pt x="1049" y="484"/>
                  <a:pt x="1038" y="498"/>
                </a:cubicBezTo>
                <a:cubicBezTo>
                  <a:pt x="980" y="571"/>
                  <a:pt x="905" y="627"/>
                  <a:pt x="834" y="688"/>
                </a:cubicBezTo>
                <a:cubicBezTo>
                  <a:pt x="745" y="765"/>
                  <a:pt x="814" y="738"/>
                  <a:pt x="716" y="761"/>
                </a:cubicBezTo>
                <a:cubicBezTo>
                  <a:pt x="635" y="802"/>
                  <a:pt x="568" y="842"/>
                  <a:pt x="482" y="864"/>
                </a:cubicBezTo>
                <a:cubicBezTo>
                  <a:pt x="396" y="921"/>
                  <a:pt x="302" y="964"/>
                  <a:pt x="204" y="995"/>
                </a:cubicBezTo>
                <a:cubicBezTo>
                  <a:pt x="189" y="1005"/>
                  <a:pt x="176" y="1018"/>
                  <a:pt x="160" y="1025"/>
                </a:cubicBezTo>
                <a:cubicBezTo>
                  <a:pt x="132" y="1038"/>
                  <a:pt x="73" y="1054"/>
                  <a:pt x="73" y="1054"/>
                </a:cubicBezTo>
                <a:cubicBezTo>
                  <a:pt x="35" y="1090"/>
                  <a:pt x="16" y="1121"/>
                  <a:pt x="0" y="1171"/>
                </a:cubicBezTo>
                <a:cubicBezTo>
                  <a:pt x="14" y="1176"/>
                  <a:pt x="28" y="1182"/>
                  <a:pt x="43" y="1186"/>
                </a:cubicBezTo>
                <a:cubicBezTo>
                  <a:pt x="67" y="1192"/>
                  <a:pt x="99" y="1182"/>
                  <a:pt x="117" y="1200"/>
                </a:cubicBezTo>
                <a:cubicBezTo>
                  <a:pt x="127" y="1210"/>
                  <a:pt x="100" y="1224"/>
                  <a:pt x="87" y="1229"/>
                </a:cubicBezTo>
                <a:cubicBezTo>
                  <a:pt x="64" y="1239"/>
                  <a:pt x="38" y="1239"/>
                  <a:pt x="14" y="1244"/>
                </a:cubicBezTo>
                <a:cubicBezTo>
                  <a:pt x="34" y="1324"/>
                  <a:pt x="19" y="1317"/>
                  <a:pt x="117" y="13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ér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Thread(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ny szálon fut ez a program?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ny végrehajtási szál v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csinál ez a progr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29528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MyThread(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 System.out.println("Bye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MyThread extends Thread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 System.out.println("Hi!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ki, hogy mit csinál az előző program, 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.. legyen három sz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zzunk létre két példányt a MyThread osztályb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icializáljuk a két példányt különböző string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eket a stringeket kell kiírni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kéne csinál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finiála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temezéstől fü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yelv definíciója nem tesz megkötést az ütemez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böző platformokon / virtuális gépeken különbözőképpen működ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irtuális gép meghatároz(hat)ja az ütemezési stratégi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azon belül is sok lehetőség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mindentől függ (pl. hőmérséklettő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Ütemezés különböző platformok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laris alatt: egy szál addig fut, amíg csak lehet (hatékonya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T alatt: időosztásos ütemezés (igazságosa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sszefoglalva: írjunk olyan programokat, amelyek működése nem érzékeny az ütemez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ártatlanság (fairn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zt akarjuk, hogy minden szál „egyszerre”, „párhuzamosan” fu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szál már „elég sokat” dolgozott, adjon lehetőséget más szálaknak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yiel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n metódus meghívásával lehet lemondani a vezérlésr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hread osztály statikus metód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csinál ez a progr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MyThread(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ystem.out.println("Bye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hread.yield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kalmazási terü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ításilag nehéz problém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időjárás-előrejel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lós idejű alkalmaz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lyamatszabályozási felad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mulá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ágen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osztott rendsz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repülőtéri helyfogla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k be a yield()-eket a szálainkb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ásik ú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-ban egyszeres öröklő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rehajtási szálnál leszármaztatás a Thread osztály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használja” azt az egy lehetősé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ne kelljen leszármazta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valósítjuk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interfészt, ami előírja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un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Thread objektum létrehozásánál a konstruktornak átadunk egy futtatható objektu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a run() megadás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600200"/>
            <a:ext cx="883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new MyThread()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MyThread extends Thread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 System.out.println("Hi!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a run() megadás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600200"/>
            <a:ext cx="883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new Thread(new MyRunnable())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MyRunnable implements Runnable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true) System.out.println("Hi!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152280"/>
            <a:ext cx="7696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ipikus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MyApplet extends Appl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              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implements Runnable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// animáció megjelenít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star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Thread(this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etcik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19320"/>
            <a:ext cx="228600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étrej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715000"/>
            <a:ext cx="236196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et é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724280"/>
            <a:ext cx="266688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u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286000"/>
            <a:ext cx="274320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uttat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581280"/>
            <a:ext cx="2667240" cy="609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lokk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3" idx="4"/>
            <a:endCxn id="186" idx="2"/>
          </p:cNvCxnSpPr>
          <p:nvPr/>
        </p:nvCxnSpPr>
        <p:spPr>
          <a:xfrm flipH="1" rot="16200000">
            <a:off x="2018160" y="1409400"/>
            <a:ext cx="762840" cy="1600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9" name=""/>
          <p:cNvSpPr/>
          <p:nvPr/>
        </p:nvSpPr>
        <p:spPr>
          <a:xfrm>
            <a:off x="4343400" y="289548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289548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endCxn id="187" idx="4"/>
          </p:cNvCxnSpPr>
          <p:nvPr/>
        </p:nvCxnSpPr>
        <p:spPr>
          <a:xfrm flipV="1">
            <a:off x="5943600" y="4190760"/>
            <a:ext cx="1486800" cy="915120"/>
          </a:xfrm>
          <a:prstGeom prst="curvedConnector2">
            <a:avLst/>
          </a:prstGeom>
          <a:ln w="25560">
            <a:solidFill>
              <a:srgbClr val="ff6600"/>
            </a:solidFill>
            <a:miter/>
            <a:tailEnd len="med" type="triangle" w="lg"/>
          </a:ln>
        </p:spPr>
      </p:cxnSp>
      <p:cxnSp>
        <p:nvCxnSpPr>
          <p:cNvPr id="192" name=""/>
          <p:cNvCxnSpPr>
            <a:stCxn id="187" idx="0"/>
            <a:endCxn id="186" idx="6"/>
          </p:cNvCxnSpPr>
          <p:nvPr/>
        </p:nvCxnSpPr>
        <p:spPr>
          <a:xfrm flipV="1" rot="16200000">
            <a:off x="6190920" y="2342160"/>
            <a:ext cx="991080" cy="1486800"/>
          </a:xfrm>
          <a:prstGeom prst="curvedConnector2">
            <a:avLst/>
          </a:prstGeom>
          <a:ln w="25560">
            <a:solidFill>
              <a:srgbClr val="ff6600"/>
            </a:solidFill>
            <a:miter/>
            <a:tailEnd len="med" type="triangle" w="lg"/>
          </a:ln>
        </p:spPr>
      </p:cxnSp>
      <p:cxnSp>
        <p:nvCxnSpPr>
          <p:cNvPr id="193" name=""/>
          <p:cNvCxnSpPr>
            <a:stCxn id="185" idx="4"/>
            <a:endCxn id="184" idx="6"/>
          </p:cNvCxnSpPr>
          <p:nvPr/>
        </p:nvCxnSpPr>
        <p:spPr>
          <a:xfrm rot="5400000">
            <a:off x="3314160" y="4762440"/>
            <a:ext cx="648360" cy="19440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4" name=""/>
          <p:cNvSpPr/>
          <p:nvPr/>
        </p:nvSpPr>
        <p:spPr>
          <a:xfrm>
            <a:off x="220932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un() elf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31520" y="350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5" idx="6"/>
            <a:endCxn id="187" idx="3"/>
          </p:cNvCxnSpPr>
          <p:nvPr/>
        </p:nvCxnSpPr>
        <p:spPr>
          <a:xfrm flipV="1">
            <a:off x="5943600" y="4101480"/>
            <a:ext cx="543600" cy="965880"/>
          </a:xfrm>
          <a:prstGeom prst="curvedConnector2">
            <a:avLst/>
          </a:prstGeom>
          <a:ln w="25560">
            <a:solidFill>
              <a:srgbClr val="3333cc"/>
            </a:solidFill>
            <a:miter/>
            <a:tailEnd len="med" type="triangle" w="lg"/>
          </a:ln>
        </p:spPr>
      </p:cxnSp>
      <p:cxnSp>
        <p:nvCxnSpPr>
          <p:cNvPr id="198" name=""/>
          <p:cNvCxnSpPr>
            <a:stCxn id="187" idx="1"/>
            <a:endCxn id="186" idx="5"/>
          </p:cNvCxnSpPr>
          <p:nvPr/>
        </p:nvCxnSpPr>
        <p:spPr>
          <a:xfrm flipV="1" rot="16200000">
            <a:off x="5581800" y="2765160"/>
            <a:ext cx="864360" cy="94536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25560">
            <a:solidFill>
              <a:srgbClr val="3333cc"/>
            </a:solidFill>
            <a:miter/>
            <a:tailEnd len="med" type="triangle" w="lg"/>
          </a:ln>
        </p:spPr>
      </p:cxnSp>
      <p:sp>
        <p:nvSpPr>
          <p:cNvPr id="199" name=""/>
          <p:cNvSpPr/>
          <p:nvPr/>
        </p:nvSpPr>
        <p:spPr>
          <a:xfrm>
            <a:off x="7315200" y="4267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slee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41911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1240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000" y="1981080"/>
            <a:ext cx="17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felébredés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interrup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V="1">
            <a:off x="5943600" y="3961800"/>
            <a:ext cx="2820240" cy="1181880"/>
          </a:xfrm>
          <a:prstGeom prst="curvedConnector5">
            <a:avLst>
              <a:gd name="adj1" fmla="val 108093"/>
              <a:gd name="adj2" fmla="val 50000"/>
              <a:gd name="adj3" fmla="val 108093"/>
            </a:avLst>
          </a:prstGeom>
          <a:ln w="25560">
            <a:solidFill>
              <a:srgbClr val="009900"/>
            </a:solidFill>
            <a:miter/>
            <a:tailEnd len="med" type="triangle" w="lg"/>
          </a:ln>
        </p:spPr>
      </p:cxnSp>
      <p:cxnSp>
        <p:nvCxnSpPr>
          <p:cNvPr id="204" name=""/>
          <p:cNvCxnSpPr>
            <a:stCxn id="187" idx="6"/>
            <a:endCxn id="186" idx="0"/>
          </p:cNvCxnSpPr>
          <p:nvPr/>
        </p:nvCxnSpPr>
        <p:spPr>
          <a:xfrm flipH="1" flipV="1">
            <a:off x="4571640" y="2285280"/>
            <a:ext cx="4191840" cy="1600920"/>
          </a:xfrm>
          <a:prstGeom prst="curvedConnector5">
            <a:avLst>
              <a:gd name="adj1" fmla="val -8408"/>
              <a:gd name="adj2" fmla="val 82321"/>
              <a:gd name="adj3" fmla="val -8408"/>
            </a:avLst>
          </a:prstGeom>
          <a:ln w="25560">
            <a:solidFill>
              <a:srgbClr val="009900"/>
            </a:solidFill>
            <a:miter/>
            <a:tailEnd len="med" type="triangle" w="lg"/>
          </a:ln>
        </p:spPr>
      </p:cxnSp>
      <p:sp>
        <p:nvSpPr>
          <p:cNvPr id="205" name=""/>
          <p:cNvSpPr/>
          <p:nvPr/>
        </p:nvSpPr>
        <p:spPr>
          <a:xfrm>
            <a:off x="7239600" y="51055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9900"/>
                </a:solidFill>
                <a:latin typeface="Times New Roman"/>
              </a:rPr>
              <a:t>blokkoló 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6000" y="7621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9900"/>
                </a:solidFill>
                <a:latin typeface="Times New Roman"/>
              </a:rPr>
              <a:t>IO rendelkezésre á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5" idx="2"/>
            <a:endCxn id="186" idx="3"/>
          </p:cNvCxnSpPr>
          <p:nvPr/>
        </p:nvCxnSpPr>
        <p:spPr>
          <a:xfrm flipH="1" rot="10800000">
            <a:off x="3276360" y="2806560"/>
            <a:ext cx="326160" cy="2261160"/>
          </a:xfrm>
          <a:prstGeom prst="curvedConnector5">
            <a:avLst>
              <a:gd name="adj1" fmla="val -70165"/>
              <a:gd name="adj2" fmla="val 43121"/>
              <a:gd name="adj3" fmla="val -70165"/>
            </a:avLst>
          </a:prstGeom>
          <a:ln w="25560">
            <a:solidFill>
              <a:srgbClr val="cc99ff"/>
            </a:solidFill>
            <a:miter/>
            <a:tailEnd len="med" type="triangle" w="lg"/>
          </a:ln>
        </p:spPr>
      </p:cxnSp>
      <p:sp>
        <p:nvSpPr>
          <p:cNvPr id="208" name=""/>
          <p:cNvSpPr/>
          <p:nvPr/>
        </p:nvSpPr>
        <p:spPr>
          <a:xfrm>
            <a:off x="1980720" y="3733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66ff"/>
                </a:solidFill>
                <a:latin typeface="Times New Roman"/>
              </a:rPr>
              <a:t>yiel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etcik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219320"/>
            <a:ext cx="228600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étrej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715000"/>
            <a:ext cx="236196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et é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724280"/>
            <a:ext cx="266688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u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286000"/>
            <a:ext cx="274320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uttat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581280"/>
            <a:ext cx="2667240" cy="609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lokk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0" idx="4"/>
            <a:endCxn id="213" idx="2"/>
          </p:cNvCxnSpPr>
          <p:nvPr/>
        </p:nvCxnSpPr>
        <p:spPr>
          <a:xfrm flipH="1" rot="16200000">
            <a:off x="2018160" y="1409400"/>
            <a:ext cx="762840" cy="16009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6" name=""/>
          <p:cNvSpPr/>
          <p:nvPr/>
        </p:nvSpPr>
        <p:spPr>
          <a:xfrm>
            <a:off x="3962520" y="289548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91120" y="289548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endCxn id="214" idx="4"/>
          </p:cNvCxnSpPr>
          <p:nvPr/>
        </p:nvCxnSpPr>
        <p:spPr>
          <a:xfrm flipV="1">
            <a:off x="5943600" y="4190760"/>
            <a:ext cx="1486800" cy="915120"/>
          </a:xfrm>
          <a:prstGeom prst="curvedConnector2">
            <a:avLst/>
          </a:prstGeom>
          <a:ln w="25560">
            <a:solidFill>
              <a:srgbClr val="ff6600"/>
            </a:solidFill>
            <a:miter/>
            <a:tailEnd len="med" type="triangle" w="lg"/>
          </a:ln>
        </p:spPr>
      </p:cxnSp>
      <p:cxnSp>
        <p:nvCxnSpPr>
          <p:cNvPr id="219" name=""/>
          <p:cNvCxnSpPr>
            <a:stCxn id="214" idx="0"/>
          </p:cNvCxnSpPr>
          <p:nvPr/>
        </p:nvCxnSpPr>
        <p:spPr>
          <a:xfrm flipV="1" rot="16200000">
            <a:off x="6190920" y="2342160"/>
            <a:ext cx="991080" cy="1486800"/>
          </a:xfrm>
          <a:prstGeom prst="curvedConnector2">
            <a:avLst/>
          </a:prstGeom>
          <a:ln w="25560">
            <a:solidFill>
              <a:srgbClr val="ff6600"/>
            </a:solidFill>
            <a:miter/>
            <a:tailEnd len="med" type="triangle" w="lg"/>
          </a:ln>
        </p:spPr>
      </p:cxnSp>
      <p:cxnSp>
        <p:nvCxnSpPr>
          <p:cNvPr id="220" name=""/>
          <p:cNvCxnSpPr>
            <a:stCxn id="212" idx="4"/>
            <a:endCxn id="211" idx="6"/>
          </p:cNvCxnSpPr>
          <p:nvPr/>
        </p:nvCxnSpPr>
        <p:spPr>
          <a:xfrm rot="5400000">
            <a:off x="3314160" y="4762440"/>
            <a:ext cx="648360" cy="194400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1" name=""/>
          <p:cNvSpPr/>
          <p:nvPr/>
        </p:nvSpPr>
        <p:spPr>
          <a:xfrm>
            <a:off x="220932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un() elf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2920" y="380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2" idx="6"/>
            <a:endCxn id="214" idx="3"/>
          </p:cNvCxnSpPr>
          <p:nvPr/>
        </p:nvCxnSpPr>
        <p:spPr>
          <a:xfrm flipV="1">
            <a:off x="5943600" y="4101480"/>
            <a:ext cx="543600" cy="965880"/>
          </a:xfrm>
          <a:prstGeom prst="curvedConnector2">
            <a:avLst/>
          </a:prstGeom>
          <a:ln w="25560">
            <a:solidFill>
              <a:srgbClr val="3333cc"/>
            </a:solidFill>
            <a:miter/>
            <a:tailEnd len="med" type="triangle" w="lg"/>
          </a:ln>
        </p:spPr>
      </p:cxnSp>
      <p:cxnSp>
        <p:nvCxnSpPr>
          <p:cNvPr id="225" name=""/>
          <p:cNvCxnSpPr>
            <a:stCxn id="214" idx="1"/>
            <a:endCxn id="213" idx="5"/>
          </p:cNvCxnSpPr>
          <p:nvPr/>
        </p:nvCxnSpPr>
        <p:spPr>
          <a:xfrm flipV="1" rot="16200000">
            <a:off x="5581800" y="2765160"/>
            <a:ext cx="864360" cy="94536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25560">
            <a:solidFill>
              <a:srgbClr val="3333cc"/>
            </a:solidFill>
            <a:miter/>
            <a:tailEnd len="med" type="triangle" w="lg"/>
          </a:ln>
        </p:spPr>
      </p:cxnSp>
      <p:sp>
        <p:nvSpPr>
          <p:cNvPr id="226" name=""/>
          <p:cNvSpPr/>
          <p:nvPr/>
        </p:nvSpPr>
        <p:spPr>
          <a:xfrm>
            <a:off x="7315200" y="4267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slee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41911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1240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000" y="1905120"/>
            <a:ext cx="17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felébredés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00"/>
                </a:solidFill>
                <a:latin typeface="Times New Roman"/>
              </a:rPr>
              <a:t>interrup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V="1">
            <a:off x="5943600" y="3961800"/>
            <a:ext cx="2820240" cy="1181880"/>
          </a:xfrm>
          <a:prstGeom prst="curvedConnector5">
            <a:avLst>
              <a:gd name="adj1" fmla="val 108093"/>
              <a:gd name="adj2" fmla="val 50000"/>
              <a:gd name="adj3" fmla="val 108093"/>
            </a:avLst>
          </a:prstGeom>
          <a:ln w="25560">
            <a:solidFill>
              <a:srgbClr val="009900"/>
            </a:solidFill>
            <a:miter/>
            <a:tailEnd len="med" type="triangle" w="lg"/>
          </a:ln>
        </p:spPr>
      </p:cxnSp>
      <p:cxnSp>
        <p:nvCxnSpPr>
          <p:cNvPr id="231" name=""/>
          <p:cNvCxnSpPr>
            <a:stCxn id="214" idx="6"/>
            <a:endCxn id="213" idx="0"/>
          </p:cNvCxnSpPr>
          <p:nvPr/>
        </p:nvCxnSpPr>
        <p:spPr>
          <a:xfrm flipH="1" flipV="1">
            <a:off x="4571640" y="2285280"/>
            <a:ext cx="4191840" cy="1600920"/>
          </a:xfrm>
          <a:prstGeom prst="curvedConnector5">
            <a:avLst>
              <a:gd name="adj1" fmla="val -8408"/>
              <a:gd name="adj2" fmla="val 82321"/>
              <a:gd name="adj3" fmla="val -8408"/>
            </a:avLst>
          </a:prstGeom>
          <a:ln w="25560">
            <a:solidFill>
              <a:srgbClr val="009900"/>
            </a:solidFill>
            <a:miter/>
            <a:tailEnd len="med" type="triangle" w="lg"/>
          </a:ln>
        </p:spPr>
      </p:cxnSp>
      <p:sp>
        <p:nvSpPr>
          <p:cNvPr id="232" name=""/>
          <p:cNvSpPr/>
          <p:nvPr/>
        </p:nvSpPr>
        <p:spPr>
          <a:xfrm>
            <a:off x="7239600" y="51055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9900"/>
                </a:solidFill>
                <a:latin typeface="Times New Roman"/>
              </a:rPr>
              <a:t>blokkoló 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6000" y="7621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9900"/>
                </a:solidFill>
                <a:latin typeface="Times New Roman"/>
              </a:rPr>
              <a:t>IO rendelkezésre á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1752480"/>
            <a:ext cx="0" cy="40388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790960" y="2666880"/>
            <a:ext cx="1066680" cy="9144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" y="5181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st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840" y="36576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susp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7120" y="289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resu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/>
          <p:nvPr/>
        </p:nvCxnSpPr>
        <p:spPr>
          <a:xfrm flipH="1" rot="10800000">
            <a:off x="3276360" y="2806560"/>
            <a:ext cx="326160" cy="2261160"/>
          </a:xfrm>
          <a:prstGeom prst="curvedConnector5">
            <a:avLst>
              <a:gd name="adj1" fmla="val -70165"/>
              <a:gd name="adj2" fmla="val 43121"/>
              <a:gd name="adj3" fmla="val -70165"/>
            </a:avLst>
          </a:prstGeom>
          <a:ln w="25560">
            <a:solidFill>
              <a:srgbClr val="cc99ff"/>
            </a:solidFill>
            <a:miter/>
            <a:tailEnd len="med" type="triangle" w="lg"/>
          </a:ln>
        </p:spPr>
      </p:cxnSp>
      <p:sp>
        <p:nvSpPr>
          <p:cNvPr id="240" name=""/>
          <p:cNvSpPr/>
          <p:nvPr/>
        </p:nvSpPr>
        <p:spPr>
          <a:xfrm>
            <a:off x="1980720" y="3733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66ff"/>
                </a:solidFill>
                <a:latin typeface="Times New Roman"/>
              </a:rPr>
              <a:t>yiel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13" idx="4"/>
            <a:endCxn id="214" idx="2"/>
          </p:cNvCxnSpPr>
          <p:nvPr/>
        </p:nvCxnSpPr>
        <p:spPr>
          <a:xfrm flipH="1" rot="16200000">
            <a:off x="4837680" y="2628720"/>
            <a:ext cx="991440" cy="1524600"/>
          </a:xfrm>
          <a:prstGeom prst="curvedConnector2">
            <a:avLst/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</p:cxnSp>
      <p:cxnSp>
        <p:nvCxnSpPr>
          <p:cNvPr id="242" name=""/>
          <p:cNvCxnSpPr>
            <a:endCxn id="211" idx="0"/>
          </p:cNvCxnSpPr>
          <p:nvPr/>
        </p:nvCxnSpPr>
        <p:spPr>
          <a:xfrm rot="5400000">
            <a:off x="964440" y="3251160"/>
            <a:ext cx="2985120" cy="1943640"/>
          </a:xfrm>
          <a:prstGeom prst="curvedConnector5">
            <a:avLst>
              <a:gd name="adj1" fmla="val 6537"/>
              <a:gd name="adj2" fmla="val 50000"/>
              <a:gd name="adj3" fmla="val 6537"/>
            </a:avLst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</p:cxnSp>
      <p:cxnSp>
        <p:nvCxnSpPr>
          <p:cNvPr id="243" name=""/>
          <p:cNvCxnSpPr>
            <a:stCxn id="212" idx="2"/>
            <a:endCxn id="211" idx="0"/>
          </p:cNvCxnSpPr>
          <p:nvPr/>
        </p:nvCxnSpPr>
        <p:spPr>
          <a:xfrm flipV="1" rot="10800000">
            <a:off x="1485360" y="5066280"/>
            <a:ext cx="1791360" cy="648360"/>
          </a:xfrm>
          <a:prstGeom prst="curvedConnector2">
            <a:avLst/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</p:cxnSp>
      <p:cxnSp>
        <p:nvCxnSpPr>
          <p:cNvPr id="244" name=""/>
          <p:cNvCxnSpPr>
            <a:stCxn id="214" idx="5"/>
            <a:endCxn id="211" idx="4"/>
          </p:cNvCxnSpPr>
          <p:nvPr/>
        </p:nvCxnSpPr>
        <p:spPr>
          <a:xfrm rot="5400000">
            <a:off x="3779280" y="1807920"/>
            <a:ext cx="2299320" cy="6887160"/>
          </a:xfrm>
          <a:prstGeom prst="curvedConnector5">
            <a:avLst>
              <a:gd name="adj1" fmla="val 109943"/>
              <a:gd name="adj2" fmla="val 50000"/>
              <a:gd name="adj3" fmla="val 109943"/>
            </a:avLst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</p:cxnSp>
      <p:cxnSp>
        <p:nvCxnSpPr>
          <p:cNvPr id="245" name=""/>
          <p:cNvCxnSpPr>
            <a:stCxn id="212" idx="0"/>
          </p:cNvCxnSpPr>
          <p:nvPr/>
        </p:nvCxnSpPr>
        <p:spPr>
          <a:xfrm flipH="1" flipV="1" rot="5400000">
            <a:off x="4952520" y="3542760"/>
            <a:ext cx="838800" cy="1524600"/>
          </a:xfrm>
          <a:prstGeom prst="curvedConnector2">
            <a:avLst/>
          </a:prstGeom>
          <a:ln w="25560">
            <a:solidFill>
              <a:srgbClr val="808080"/>
            </a:solidFill>
            <a:prstDash val="dash"/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 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SleepDemo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try { sleep(1000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catch (InterruptedException ie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new Dat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new SleepDemo())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err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 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BlokkolóDemo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try { System.in.read(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catch (IOException ie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new Dat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new BlokkolóDemo())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err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zőn (ami a képernyő megfelelője) egy nyúl és egy róka bóklászik. A nyulat mi irányítjuk a szabványos bemenetről az 'q', 'w', 'e', 'a', 's', 'd', 'y', 'x' és 'c' billentyűk segítségével. A róka a nyúl felé igyekszik. Az állatok a 8 velük szomszédos mezőre léphetnek át egy lépésben. A róka kb. kétszer olyan gyakran lép, mint a nyúl, viszont minden irányváltoztatás előtt meg kell áll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árhuzamossági model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sztott (sha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processzor, ugyanaz a memóriaterü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osztott (distribu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processzor, mindnek saját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munikációs csatornák, üzenetkül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 van, ha csak egy processzor v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ál leál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top() metódus nem javaso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ízzuk rá a szálra, hogy mikor akar megáll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run() egy ciklus, akkor szabjunk neki feltét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yakran egy sleep() is van a ciklus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tétel egy flag-et figyelhet, amit kívülről átbillenthetü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adat: állítsuk le a nyuszit, ha megfogta a rók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MyApplet extends Appl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lements Runnable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rivate boolean fut = fals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start(){...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stop(){...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...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star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fut = tru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new Thread(this)).start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stop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fut = fals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while(fut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    // animáció egy lép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{ sleep(100);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atch(InterruptedExeption e){...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ső probléma: inter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vagy több szál, noha külön-külön jók, együtt mégis butaságot csinálnak:   a || b = ab V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ülírják egymás eredmény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konzisztenciát okoznak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szá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lgozi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idejű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3581280"/>
            <a:ext cx="5791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Száml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egyenle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rátesz(int összeg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újEgyenle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újEgyenleg = egyenleg+össze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gyenleg = újEgyenle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934320" y="53341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400800" y="182844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nterferencia ellen: szinkroniz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hoz való hozzáférés szerializ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lcsönös kizár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ritikus szakaszok védel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afor - mint vonatokn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 és V műve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szélyes programozás, rossz minőségű kó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ok + műveletek kölcsönös kizárá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ól illeszkedik az objektum-elvű szemlélet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ó-olva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-ban nincs olyan nyelvi elem, mint pl. Ada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: „thread-safe” szám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Szám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nt 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nchroniz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oid rátesz(int össze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új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újEgyenleg = egyenleg+össz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yenleg = új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ynchronized kulcssz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ok elé írhatjuk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de pl. interfészekben nem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lcsönös kizárás arra a metódusra, ső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ulcs (loc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várakozási 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ulcs azé az objektumé, amelyiké a metó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gyanaz a kulcs az összes szinkronizált metódusáh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előtt egy szál beléphetne egy szinkronizált metódusba, meg kell szereznie a kulcs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ár rá a várakozási so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lépéskor visszaadja a kulcs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yulas-rókás feladatban hol van szükség szinkronizációra? Írjuk be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0"/>
            <a:ext cx="8839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Szám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int 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nchroniz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oid rátesz(int össze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új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újEgyenleg = egyenleg+össz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yenleg = újEgyenl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nchroniz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oid kivesz(int össz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SzámlaTúllépés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 egyenleg &lt; össze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 new SzámlaTúllépés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egyenleg -= össz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inkronizált blokk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ynchronized kulcsszó védhet blokk utasítás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lyenkor meg kell adni, hogy melyik objektum kulcsán szinkronizál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ynchronized(obj)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 szinkronizációjával egyenérték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rátesz(int össze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ed(this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számla objektum rátesz metódusa nem szink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ed(számla){ számla.rátesz(100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inkronizált blokko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szor úgy használjuk, hogy a monitor szemléletet megtör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az adat műveleteire biztosítjuk a kölcsönös kizárást, hanem az adathoz hozzáférni igyekvő kódba tessz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ritikus szakasz utasításhoz hasonl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étjogosultság: ha nem egy objektumban vannak azok az adatok, amelyekhez szerializált hozzáférést akarunk garant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őforrások kezelése, tranza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őbb látunk példá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egy processzor va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cesszor kapcsolgat a különböző folyamato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gyiket csak kis ideig futta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árhuzamosság láts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cesszoridő jó kihaszn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lokkolt folyamatok nem tartják fel a töb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áltogatás is időigén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atikus szinkronizált metód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lass A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atic synchronized void m(...)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lyen objektum kulcsán szinkronizálu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nelemzés: az osztályok futási idejű reprezentációja a virtuális gépben egy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ú objektum - 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rdés: ezek szerint futhatnak egyidőben szinkronizált statikus és  példánymetódus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mikor nem kell szinkronizálni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tomi műveletek Java-ban: értékadás volatile változók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gy módosítós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sek szerint még ez sem kell primitív típusú változók esetén, kivéve 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ong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változó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jobboldalon nem szerepel a válto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már több változó összefügg (típusinvariáns), akkor szerializáljuk a hozzáférést synchronized-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adat: ez alapján a nyulászatból kivehető egy pár szinkronizálá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ait - not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gnálokra hasonl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feltétel teljesüléséig blokkolhatja magát egy sz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tétel (potenciális) bekövetkezését jelezheti egy másik sz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feladat: termelő - fogyasztó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korlátos) bufferen keresztül kommunikál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termelő, egy fogyasz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termelő, több fogyasz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rmelő-fogyasz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971800"/>
            <a:ext cx="288720" cy="3460680"/>
          </a:xfrm>
          <a:custGeom>
            <a:avLst/>
            <a:gdLst/>
            <a:ahLst/>
            <a:rect l="l" t="t" r="r" b="b"/>
            <a:pathLst>
              <a:path w="182" h="2180">
                <a:moveTo>
                  <a:pt x="66" y="0"/>
                </a:moveTo>
                <a:cubicBezTo>
                  <a:pt x="73" y="64"/>
                  <a:pt x="62" y="135"/>
                  <a:pt x="95" y="190"/>
                </a:cubicBezTo>
                <a:cubicBezTo>
                  <a:pt x="111" y="217"/>
                  <a:pt x="137" y="237"/>
                  <a:pt x="154" y="263"/>
                </a:cubicBezTo>
                <a:cubicBezTo>
                  <a:pt x="149" y="429"/>
                  <a:pt x="160" y="596"/>
                  <a:pt x="139" y="761"/>
                </a:cubicBezTo>
                <a:cubicBezTo>
                  <a:pt x="135" y="796"/>
                  <a:pt x="101" y="820"/>
                  <a:pt x="81" y="849"/>
                </a:cubicBezTo>
                <a:cubicBezTo>
                  <a:pt x="71" y="864"/>
                  <a:pt x="51" y="892"/>
                  <a:pt x="51" y="892"/>
                </a:cubicBezTo>
                <a:cubicBezTo>
                  <a:pt x="35" y="993"/>
                  <a:pt x="0" y="1121"/>
                  <a:pt x="81" y="1200"/>
                </a:cubicBezTo>
                <a:cubicBezTo>
                  <a:pt x="86" y="1215"/>
                  <a:pt x="86" y="1232"/>
                  <a:pt x="95" y="1244"/>
                </a:cubicBezTo>
                <a:cubicBezTo>
                  <a:pt x="116" y="1272"/>
                  <a:pt x="168" y="1317"/>
                  <a:pt x="168" y="1317"/>
                </a:cubicBezTo>
                <a:cubicBezTo>
                  <a:pt x="159" y="1429"/>
                  <a:pt x="156" y="1496"/>
                  <a:pt x="125" y="1595"/>
                </a:cubicBezTo>
                <a:cubicBezTo>
                  <a:pt x="130" y="1688"/>
                  <a:pt x="131" y="1781"/>
                  <a:pt x="139" y="1873"/>
                </a:cubicBezTo>
                <a:cubicBezTo>
                  <a:pt x="147" y="1957"/>
                  <a:pt x="182" y="1876"/>
                  <a:pt x="139" y="1990"/>
                </a:cubicBezTo>
                <a:cubicBezTo>
                  <a:pt x="133" y="2006"/>
                  <a:pt x="117" y="2018"/>
                  <a:pt x="110" y="2034"/>
                </a:cubicBezTo>
                <a:cubicBezTo>
                  <a:pt x="98" y="2062"/>
                  <a:pt x="91" y="2093"/>
                  <a:pt x="81" y="2122"/>
                </a:cubicBezTo>
                <a:cubicBezTo>
                  <a:pt x="75" y="2141"/>
                  <a:pt x="66" y="2180"/>
                  <a:pt x="66" y="21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2666880"/>
            <a:ext cx="301680" cy="3880080"/>
          </a:xfrm>
          <a:custGeom>
            <a:avLst/>
            <a:gdLst/>
            <a:ahLst/>
            <a:rect l="l" t="t" r="r" b="b"/>
            <a:pathLst>
              <a:path w="190" h="2444">
                <a:moveTo>
                  <a:pt x="146" y="0"/>
                </a:moveTo>
                <a:cubicBezTo>
                  <a:pt x="77" y="105"/>
                  <a:pt x="97" y="54"/>
                  <a:pt x="73" y="146"/>
                </a:cubicBezTo>
                <a:cubicBezTo>
                  <a:pt x="113" y="264"/>
                  <a:pt x="131" y="403"/>
                  <a:pt x="59" y="512"/>
                </a:cubicBezTo>
                <a:cubicBezTo>
                  <a:pt x="70" y="605"/>
                  <a:pt x="78" y="697"/>
                  <a:pt x="132" y="775"/>
                </a:cubicBezTo>
                <a:cubicBezTo>
                  <a:pt x="160" y="859"/>
                  <a:pt x="188" y="892"/>
                  <a:pt x="117" y="966"/>
                </a:cubicBezTo>
                <a:cubicBezTo>
                  <a:pt x="125" y="1102"/>
                  <a:pt x="79" y="1229"/>
                  <a:pt x="190" y="1302"/>
                </a:cubicBezTo>
                <a:cubicBezTo>
                  <a:pt x="185" y="1351"/>
                  <a:pt x="183" y="1400"/>
                  <a:pt x="176" y="1449"/>
                </a:cubicBezTo>
                <a:cubicBezTo>
                  <a:pt x="168" y="1502"/>
                  <a:pt x="129" y="1543"/>
                  <a:pt x="117" y="1595"/>
                </a:cubicBezTo>
                <a:cubicBezTo>
                  <a:pt x="92" y="1704"/>
                  <a:pt x="63" y="1793"/>
                  <a:pt x="0" y="1888"/>
                </a:cubicBezTo>
                <a:cubicBezTo>
                  <a:pt x="22" y="1951"/>
                  <a:pt x="22" y="1969"/>
                  <a:pt x="88" y="1990"/>
                </a:cubicBezTo>
                <a:cubicBezTo>
                  <a:pt x="122" y="2095"/>
                  <a:pt x="100" y="2052"/>
                  <a:pt x="146" y="2122"/>
                </a:cubicBezTo>
                <a:cubicBezTo>
                  <a:pt x="151" y="2156"/>
                  <a:pt x="161" y="2190"/>
                  <a:pt x="161" y="2224"/>
                </a:cubicBezTo>
                <a:cubicBezTo>
                  <a:pt x="161" y="2318"/>
                  <a:pt x="133" y="2250"/>
                  <a:pt x="117" y="2341"/>
                </a:cubicBezTo>
                <a:cubicBezTo>
                  <a:pt x="111" y="2375"/>
                  <a:pt x="117" y="2410"/>
                  <a:pt x="117" y="24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6840" y="335268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erme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ogyasz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mel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7280" y="19051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gyasz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962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038480"/>
            <a:ext cx="2362320" cy="106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95880" y="38862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45720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447920" y="4114800"/>
            <a:ext cx="251460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743200"/>
            <a:ext cx="29718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termelő szál definí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14300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Termelő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 buff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Termelő( Buffer buffer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is.buffer = buff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har ch = (char) System.in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.termel(new Character(ch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termelő szál definí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114300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Termelő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 buff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Termelő( Buffer buffer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is.buffer = buff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ry{ char ch = (char) System.in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.termel(new Character(ch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 catch ( IOException e 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rlátlan buffer, egy fogyasz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Buffer extends S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Object fogyasz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üres() )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wai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kivesz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void termel(Object o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tesz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ot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rlátlan buffer, egy fogyasz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Buffer extends S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Object fogyasz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üres()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try{ wait()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catch(InterruptedException e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kivesz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void termel(Object o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tesz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ot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rlátlan buffer, egy fogyasz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Buffer extends S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Object fogyasz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üres()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try{ wait()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catch(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InterruptedException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e){return nul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;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kivesz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void termel(Object o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tesz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ot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űkö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objektumhoz tartozik a sima kulcshoz tartozó várakozási soron kívül egy másik, az ún.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wait-várakozási 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wait() hatására a szál bekerül e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otify() hatására az egyik várakozó kikerül belő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wait() és notify() hívások csak olyan kódrészben szerepelhetnek, amelyek ugyanazon az objektumon szinkronizálta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bj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{ ...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bj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wait(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árhuzamosság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gy folyamaton bel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rehajtási szálak (th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Ilyenekkel fogunk foglalko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helysúlyú (Lightweight, kevés költség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inkább a feladat logikai darabolás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 elképzelhető, hogy különböző processzorokra kerülnek a szál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sztott” jelleg: közös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 megszerzi az objektum kulcsát, ehhez, ha kell, sorban áll egy ideig (synchroniz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wait() hatására elengedi a kulcsot, és bekerül a wait-várakozási s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ásik szál megkaparinthatja a kulcsot (kezdődik a synchroniz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otify() metódussal felébreszthet egy wait-es alvót, aki bekerül a kulcsos várakozási s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ynchronized végén elengedi a kulcs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ébredt alvónak (is) lehetősége van megszerezni a kulcssot és továbbm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ynchronized blokkja végén ő is elengedi a kulcs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rlátlan buffer, több fogyasz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Buffer extends S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Object fogyasz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 üres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try{ wait(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catch(InterruptedException e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kivesz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ynchronized void termel(Object o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tesz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otifyAl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8160" y="5181480"/>
            <a:ext cx="24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incs szükség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sy waiting-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ezzük be a termelő-fogyasztó feladatot a fogyasztó implementálás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gyan valósítanánk meg a szemaforokat Java-b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az író-olvasó problémá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ítsunk a nyulas-rókás programunkon! A képernyőre akkor kell kirajzolni a mezőt, ha valami változás történ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álak kommuniká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szinkron leginká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nkron kommunikáció (pl. Ada randevú) helyett csak wait-notify szinkronizáció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sztott és elosztott szemlélet egyará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sztott: közös memóriá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osztott: üzenetküldés csatornákka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Piped csatorná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melő-fogyasz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özös memórián kereszt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munikációra használt objektumokra referenciákat lehet átadni, eljuttatni a szálak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a róka a nyúlról így szerez információ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letes esetben magát a futtatható objektumot is megoszthatju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A implements Runn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adatok, m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űveletek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ead t1 = new Thread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ead t2 = new Thread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iped csatorna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ipedInputStream, PipedOutputStream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ipedReader, Piped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bemenetit és egy kimenetit összekapcsol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ő egyik végére az egyik szál ír, a cső másik végéről a másik szál olv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gyázat: az olvasás blokkoló művel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vailable(), ready() - bár ez utóbbival rosszak a tapaszta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ipedReader r = new PipedRead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ipedWriter w = new PipedWriter(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new TermelőSzál(w))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new FogyasztóSzál(w))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TermelőSzál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riter 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TermelőSzál( Writer w ){ this.w = w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fu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har adat = ...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er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.write(adat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; w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ltpont (deadlo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hány folyamat véglegesen blokkolódik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ra várnak, hogy egy másik, szintén a holtpontos halmazban levő folyamat csináljon vala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terferencia tökéletes kiküszöbölése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úl sok a szinkroniz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akran erőforrás-kezelés vagy tranzakciók köz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a: étkező filozófusok (dining philosop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lehet tenn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univerzális megoldás, a programozó dolga a feladathoz illeszkedő megoldás kidolg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tektálás, megszüntetés (pl. timeout), előrejelzés, megelő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előzés: erőforrások sorrendbe állítása, szimmetria megtörése, központi irányítás, véletlenszerű várakoztatás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a filozófuso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 void m1(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 void m2(B b){... b.m1()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 void m1(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 void m2(A a){... a.m1()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 a = new A(); 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ik szálba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a.m2(b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ik szálban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.m2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álak Java-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épített nyelvi támogatás: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elvi fogalom: (végrehajtási) szál, 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mogató osztály: java.lang.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1(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2(B b){... b.m1()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1(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2(A a){... a.m1()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 a = new A(); 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o = new Objec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ik szálba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synchronized(o) {a.m2(b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ik szálban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nchronized(o) {b.m2(a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éheztetés (starvation, livelo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ndszer nem áll le, a folyamatok mennek, de van olyan köztük, amelyik nem tudja azt csinálni, amit szeret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több fogyasztó közül az egyik el van hanyagolva. Vagy az egyik filozófus sosem es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a folyamatra kerül a vezérlés,ő kezd futni, de akkor épp nem teljesül a továbbhaladási felté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nnyen bekövetkezhet wait-notify mell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dés/megelőzés még nehezebb, mint a holtpont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iori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akhoz prioritás van rend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oritási szintek: 1 (MIN_PRIORITY) és 10 (MAX_PRIORITY)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dszerszintű szálak prioritása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 a prioritási szintek között preemptív ütemezést kér: a magasabb prioritású fu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ajnos a JVM-nek nem kötelező ezt betar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 ezen múljon a programunk helyess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szinten belül definiála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N „Green” szálak: koopera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N „Natív” szálak: preemp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ioritás (foly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szál futtathatóvá válik (pl. felébred vagy elindul), és egy alacsonyabb prioritású fut éppen, akkor az átadja a vezérl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oritási szint lekérdezése és beállítása: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int getPriority()          void setPriority(int prio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l létrehozásakor a létrehozott örökli a létrehozó prioritását, ha mást nem adun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stratégia: sokat dolgozó szálnak kisebb prioritást érdemes ad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álcsopor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ak szálcsoportokba sorol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l létrehozásak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lang.Thread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gikailag összetartozó szálak lehetnek egy csoport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oport maximális prioritása beállítható, a csoportbeli szálaké ezt nem fogja meghalad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ak lekérdezhetnek információkat a saját csoportjukr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csoportok hierarchiába szervezhe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émon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lak lehetnek démon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nem démon szálak véget érnek, akkor a program is véget ér, és a démon szálak a háttérben futnak tová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indítás, azaz a start() előtt be kell állí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boolean isDaemo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void setDaemon(boolean 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g néhány műve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oin(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utó szál blokkolódik, amíg az a szál véget nem ér, amelyiknek a join-ját meghív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korlát adható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rupt(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blokkolt állapotú szálat (sleep, wait) felébreszt. A felébredt szálban a blokkoló utasítás helyén InterruptedException lép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op(), suspend() és resume(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avultak, mert veszélyesek (helyesség, holtp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igyáza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on nehéz párhuzamos programot ír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 már nem látja 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probl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munik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inkroniz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ütem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ter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égrehajtási szálak létreh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őprogram egy végrehajtási sz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vábbi végrehajtási szálak hozhatók lé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hrea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ba tartozó objektumot létre kell ho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bjektum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art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ával indítjuk a végrehajtási szá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l programja az objektum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un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ában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7T16:01:21Z</dcterms:created>
  <dc:creator>Kozsik Tamas</dc:creator>
  <dc:description/>
  <dc:language>en-US</dc:language>
  <cp:lastModifiedBy>kto</cp:lastModifiedBy>
  <dcterms:modified xsi:type="dcterms:W3CDTF">2006-04-27T15:50:29Z</dcterms:modified>
  <cp:revision>19</cp:revision>
  <dc:subject/>
  <dc:title>XV. Végrehajtási szálak</dc:title>
</cp:coreProperties>
</file>