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76720" y="6524640"/>
            <a:ext cx="2266920" cy="3333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Kozsik Tam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 2000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0000"/>
                </a:solidFill>
                <a:latin typeface="Times New Roman"/>
              </a:rPr>
              <a:t>Különböző nyelvekhez igazítás</a:t>
            </a:r>
            <a:br>
              <a:rPr sz="4400"/>
            </a:br>
            <a:r>
              <a:rPr b="0" lang="hu-HU" sz="4400" spc="-1" strike="noStrike">
                <a:solidFill>
                  <a:srgbClr val="ff0000"/>
                </a:solidFill>
                <a:latin typeface="Times New Roman"/>
              </a:rPr>
              <a:t>Internationalization - i18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Locale-nak megfelelő változ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ResourceBundle rb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ResourceBundle.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getBundle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("Feliratok"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new Locale("en","US"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rb.getString("title")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ét változatot készítettünk, egy </a:t>
            </a:r>
            <a:r>
              <a:rPr b="0" i="1" lang="hu-HU" sz="3200" spc="-1" strike="noStrike">
                <a:solidFill>
                  <a:srgbClr val="000000"/>
                </a:solidFill>
                <a:latin typeface="Times New Roman"/>
              </a:rPr>
              <a:t>angolt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és egy </a:t>
            </a:r>
            <a:r>
              <a:rPr b="0" i="1" lang="hu-HU" sz="3200" spc="-1" strike="noStrike">
                <a:solidFill>
                  <a:srgbClr val="000000"/>
                </a:solidFill>
                <a:latin typeface="Times New Roman"/>
              </a:rPr>
              <a:t>alapértelmezettet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Feliratok_en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és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Felirat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eresés: a specifikusabbtól az általánosabb fel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Feliratok_en_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Feliratok_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Felirat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Írj programot, ami a bekéri egy körnek a sugarát, és kiszámolja a területét. A program két különböző nyelven tudjon kommunikálni a felhasználóva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roperty ResourceBund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em forrásfájlban, hanem erőforrás-leíró fájlban vannak a különböző változat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date=Időpon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rice=Jegyár: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feliratok.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title=Koncer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date=Da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rice=Price: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feliratok_en.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title=Conce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581280" y="152280"/>
            <a:ext cx="5410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Ugyanúgy használjuk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066680"/>
            <a:ext cx="89154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Feliratok_Tes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static void main(String args[]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ResourceBundle rb1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ResourceBundle.getBundle("feliratok"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Locale.getDefault(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ResourceBundle rb2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ResourceBundle.getBundle("feliratok"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new Locale("en","US"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rb1.getString("title")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ystem.out.println(rb2.getString("title"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lakítsuk át az előző feladatra adott megoldást property-fájlosr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Locale-specifikus formátum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Number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ate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essage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ava.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somag osztály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Dátum-formát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8. június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yarország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8/6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/3/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a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/6/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nország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.06.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Dátumformátumok kezel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ateFormat dfin = DateFormat.getDateInstance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ateFormat.SHOR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 Locale("en","US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ate date = dfin.parse("6/3/98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ateFormat dfout = DateFormat.getDateInstance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ateFormat.LO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cale.getDefaul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(  dfout.format(date) 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essage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övegek felparaméterezésé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"A {1} fájlrendszer mérete {0} megabájt."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"A /home fájlrendszer mérete 3.3 gigabájt."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"A /tmp fájlrendszer mérete 1.2 gigabájt."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 mint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"A {1} fájlrendszer mérete {0} megabájt.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 méret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ect[] args = {méret, "/home"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 s =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MessageFormat.format(minta,arg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Összetett 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ResourceBundle rb = ResourceBundle.getBundle(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"hibauzenetek", Locale.getDefault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Object[] param = {"Alma.java"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ystem.out.println(MessageFormat.format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rb.getString("Mes"), param 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ibauzenetek_en.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Mes=File {0} cannot be f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ibauzenetek_hu_HU.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Mes=Nem találom az alábbi fájlt: {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a a szoftvert több országban is el akarjuk ad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yi igényekhez igazí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használó anyanyelvének megfelelő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átumokra vonatkozó helyi szabály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átumok, számok, pé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cionalizáci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ó, ha a programunkban el tudjuk választani ezeket a részleteket a lényegtő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Java segít eb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átumok, hibaüzenetek, címké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Ugyanaz a program két nyel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5345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Loc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nyelvi/területi egysé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ava.util.Lo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yel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Orszá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áltozat/nyelvjár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_hu_HU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_en_US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_fr_FR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_fr_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Locale-ok beszerz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étrehozhatjuk a nekünk kellő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cale locale = new Locale("en", "US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ekérhetjük az alapértelmezet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cale locale = Locale.getDefaul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ekérhetjük a rendelkezésre állók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cale locales[] = Locale.getAvailableLocales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ülönböző nyelvű szöveg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ímkék, hibaüzenetek, st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ülönböző változatok: ResourceBund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istResourceBund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orrásszöveg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ropertyResourceBund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ulajdonságleíró fájl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gkülönböztetés: Locale-okon keresztü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ListResourceBund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Feliratok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extends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ListResourceBundle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tatic final Object[][] contents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{ { "date",  "Időpont: " 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{ "price", "Jegyár: " 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{ "title", "Koncertek"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Object[][] getContents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{ return contents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ListResourceBund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Feliratok</a:t>
            </a:r>
            <a:r>
              <a:rPr b="1" lang="hu-HU" sz="2400" spc="-1" strike="noStrike">
                <a:solidFill>
                  <a:srgbClr val="ff3300"/>
                </a:solidFill>
                <a:latin typeface="Courier New"/>
              </a:rPr>
              <a:t>_en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extends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ListResourceBundle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tatic final Object[][] contents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{ { "date",  "Date: " 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{ "price", "Price: " 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{ "title", "Concertes"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Object[][] getContents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{ return contents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33560" y="15192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ogyan használju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Feliratok_Tes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static void main(String args[]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ResourceBundle rb1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ResourceBundle.getBundle("Feliratok"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Locale.getDefault(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ResourceBundle rb2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ResourceBundle.getBundle("Feliratok"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new Locale("en","US"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rb1.getString("title")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ystem.out.println(rb2.getString("title"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to</cp:lastModifiedBy>
  <dcterms:modified xsi:type="dcterms:W3CDTF">2006-04-27T15:59:50Z</dcterms:modified>
  <cp:revision>7</cp:revision>
  <dc:subject/>
  <dc:title>Ha a szoftvert több országban is el akarjuk adni</dc:title>
</cp:coreProperties>
</file>