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Times New Roman"/>
              </a:rPr>
              <a:t>Szerv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s szerverprogra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liens-szerver architektúrát feltételezü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roldalon futó kisalkalm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 ahogy az applet egy kliens oldali kisalkalm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egy HTTP szerverbe integrál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GI programozás Java megfelelő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ervletek és HTTP szerv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ggyakrabban HTTP protokollt használó szervleteket szoktak írni (pl. mi is azt fogu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javax.servlet.http.HttpServ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őség van más protokoll használatár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javax.servlet.Servl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interfé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javax.servlet.GenericServ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x.servle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x.servlet.http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class Hello extends HttpServ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public void doGet( HttpServletRequest req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                    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HttpServletResponse r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                  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throws IOException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res.setContentType("text/htm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rintWriter out = res.getWriter(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out.println("&lt;html&gt;&lt;head&gt;&lt;title&gt;Hi&lt;/title&gt;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"&lt;/head&gt;&lt;body&gt;Hello&lt;/body&gt;&lt;/html&gt;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x.servle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x.servlet.http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class Hello extends HttpServ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public void doGet( HttpServletRequest req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                    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HttpServletResponse r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                  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throws IOException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res.setContentType("text/htm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rintWriter out = res.getWriter(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out.println("&lt;html&gt;&lt;head&gt;&lt;title&gt;Hi&lt;/title&gt;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"&lt;/head&gt;&lt;body&gt;Hello&lt;/body&gt;&lt;/html&gt;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ring getServletInfo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return "Hello servlet by Tamás Kozsik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ső szervletünk: He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mportáljuk a javax.servlet, a javax.servlet.http és a java.io tartalm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unk egy doGet metó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doGet paramétere HttpServletRequest és HttpServlet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utóbbira kinyomtatunk egy HTML oldalt, amit a böngésző kap maj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próbálás (JSD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dítsuk le! Használjuk a szervlet API-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.class fájlt másoljuk 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webpages/WEB-INF/servlets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nyvtá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dítsuk el/újra a webszer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lítsuk a böngészőt erre az oldalra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ttp://localhost:8080/servlet/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juk elérni a más számítógépeken futó web-szervereket i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próbálás (Tomc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rdítsuk le! Használjuk a szervlet API-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szítsünk el egy pár könyvtárat: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webapps/haliho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webapps/haliho/WEB-INF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webapps/haliho/WEB-INF/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.class fájlt másoljuk a legutóbbi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dítsuk el/újra a webszerv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llítsuk a böngészőt erre az oldalra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ttp://localhost:8080/haliho/servlet/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óbáljuk elérni a más számítógépeken futó web-szervereket i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Értéke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a szervlet mindig ugyanazt az oldalt adja viss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gazi haszna a szervleteknek a dinamikus HTML oldalak generálásában rejl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szor a szervlet aktiválása a böngészőből paraméterek átadásával is j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egy HTML form a szervlettől vár válasz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nk olyan szervletet, amely egy, a felhasználó által begépelt szöveget megfordít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junk HTML form-ot! A form egy szövegbeviteli mezőt tartalmazzon, melynek tartalmát (Enter hatására) elküldjük a szervletn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HTM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&lt;head&gt;&lt;title&gt;Hi&lt;/title&gt;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&lt;form actio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"http://localhost:8080/servlet/Fordit"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method = po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zöveg: &lt;input type=text name=szo size=3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t csinál ez a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övegbeviteli mező neve: s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orm kitöltése után (Enter hatására) a böngésző a web-szervertől ezt az oldalt kéri el:</a:t>
            </a:r>
            <a:br>
              <a:rPr sz="32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http://localhost:8080/servlet/For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egy szervlet címe, az ő válaszát jeleníti m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éréssel együtt elküldi a form-ba bevitt információkat is, melyekhez a szervlet hozzáfé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nformáció „csomagolási módja” most „pos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az a szervlet a doPost metódusával reagál rá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ásik lehetőség a get, doGet len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GI program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GI = Common Gateway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TTP szerver nem egy „igazi” HTML oldalt ad viss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program generálja az old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namikus HTML oldal: tartalma paraméterektől függ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ot egy speciális URL-re történő hivatkozáskor indítja a HTTP sz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adatbázisból vehet adatokat, hogy egy HTML form-ra reagálj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x.servle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x.servlet.http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class Fordit extends HttpServ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void doPost( HttpServletRequest req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HttpServletResponse 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) throws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StringBuffer s = new StringBuff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                           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req.getParameter("szo"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res.setContentType("text/htm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rintWriter out = res.getWriter(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out.printl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"&lt;html&gt;&lt;head&gt;&lt;title&gt;Hi&lt;/title&gt;&lt;/head&gt;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"&lt;body&gt;" </a:t>
            </a: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+ s.reverse().toString() +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"&lt;/body&gt;&lt;/html&gt;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szervlet műkö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ervlet majdnem ugyanolyan, mint az előző péld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kéri a „szo” nevű paraméterének értéké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a „szo” szövegbeviteli mező tartal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az értéket megfordítja, és beleszövi a generált HTML oldal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ervlet fordítása, installálása és futtatása a már megismert módon történik. A HTML oldal akárhol is lehet, csak rá tudjunk állítani egy web-böngésző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ebalkalma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odern világ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ervletet a web.xml fájl segítségével lehet konfigurá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a fájlt az alkalmazás (például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haliho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WEB-INF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könyvtárába kell helye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lkalmazáshoz tartozó statikus oldalak és egyéb fájlok 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WEB-INF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en kívül lesz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WEB-INF/li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könyvtárban jar fájlokban a használt programkönyvtárak (például JDBC meghajtók) lehet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webalkalmazás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li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di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-I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di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&lt;?xml version="1.0" encoding="ISO-8859-1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&lt;!DOCTYPE web-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"-//Sun Microsystems, Inc.//DTD Web Application 2.3//E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"http://java.sun.com/j2ee/dtd/web-app_2_3.dt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&lt;servlet-name&gt;szevasz&lt;/servlet-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&lt;servlet-class&gt;Hello&lt;/servlet-cla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019920"/>
            <a:ext cx="55627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localhost:8080/haliho/servlet/szev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ebkonté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Web)szerverben futó J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ddleware szolgáltatásokat biztosít a benne futó webkomponenseknek (webalkalmaz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lepítési leírás (deployment descriptor)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web.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atalina a Tomcat webszerver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eb Arch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ar kiterjesztésű fáj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gyanolyan zip fájl, mint egy jar, csak éppen webalkalmazást vagy webkomponenst tartalm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r paranccsal készíthetjük el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jar cvf ../haliho.war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elepítés Tomcat al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gy a megfelelő belső szerkezetű könyvtárak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gy a belőle készített war fáj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másoljuk 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webapp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könyvtá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 újraindítjuk a tomcat szerv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t deployment is lehetséges: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anage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telepítés a szerver újraindítása nélkü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omcat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előre telepített webalkalm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utó szerver alatt tudjuk az alkalmazásokat keze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ázás</a:t>
            </a:r>
            <a:br>
              <a:rPr sz="28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ttp://localhost:8080/manager/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lepítés / eltávolítás</a:t>
            </a:r>
            <a:br>
              <a:rPr sz="28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http://localhost:8080/manager/install?path=/haliho&amp;war=file:/home/kto/haliho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http://localhost:8080/manager/install?path=/haliho&amp;war=jar:file:/home/kto/haliho.war!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ktiválás / deaktivá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rissí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ono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pból nincs engedélyez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lapértelmezett azonosítás: MemoryRealm</a:t>
            </a:r>
            <a:br>
              <a:rPr sz="32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$CATALINA_HOME/conf/tomcat-users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 kell írni egy ilyen sort:</a:t>
            </a:r>
            <a:br>
              <a:rPr sz="32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&lt;user name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ityu" password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tuddmeg" roles="standard,manager"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Ugyanez Java-ban: szervletek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TTP szerverbe be van integrálva egy Java Virtuális Gé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tud szervleteket futtatni, amikor erre igény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speciális (szervletet azonosító) URL-re történő hivatkozáskor a szervlet állítja elő a HTTP szerver válasz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kalmazás frissí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anager segítség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conf/server.xm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fájlban használjuk 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elodabl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tag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eriodikusan ellenőrzi, hogy változott-e va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jlesztés közben has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lesben túl költsé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Visszatérve a </a:t>
            </a:r>
            <a:r>
              <a:rPr b="1" lang="hu-HU" sz="4400" spc="-1" strike="noStrike">
                <a:solidFill>
                  <a:srgbClr val="000000"/>
                </a:solidFill>
                <a:latin typeface="Courier New"/>
              </a:rPr>
              <a:t>web.xml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fájlh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raméterek átadása a szervlet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raméterek átadása a webalkalmazás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rvlet-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ssion-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ter-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ervlet, GenericServ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interface Servle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public void service( ServletRequest req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ServletResponse res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throws ServletException,    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java.io.IO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abstract class GenericServlet implements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Servlet, ServletConfig, Serializable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tpServ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HttpServlet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GenericServlet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i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...) throws ...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otected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ServletRequ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q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ServletRespon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) ...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otected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P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otected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otected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Dele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otected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Hea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otected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Optio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otected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r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otected lo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astModifi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ServletRequ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q)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ervletek életcikl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pesetben minden szervletből egy példány jön létre a webszerver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szolgálja ki a kéréseket konkurrens mó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étrejövetel (1x):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raméter nélküli konstruktor,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réskiszolgálás: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szüntetés (1x): destr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523880"/>
            <a:ext cx="63244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Serv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init( ServletConfig config ) throws Servle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ServletConfig getServletConfig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service( ServletRequest req, ServletResponse r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rows ServletException, java.io.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destro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String getServletInf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ublic abstract class 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GenericServlet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implements Servlet, ServletConfig,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init( ServletConfig config ) throws Servle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ServletConfig getServletConfig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// eltárolja, illetve visszaadja config-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// az init hívja a másik init-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init() throws Servle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// 2.1-től van, azóta lehet felüldefiniá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abstract void service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( ServletRequest req, ServletResponse r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rows ServletException, java.io.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ublic abstract class 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GenericServlet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implements Servlet, ServletConfig,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nyelmi metód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String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tInitParamete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String 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java.util.Enumeration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tInitParameterName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ServletContext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tServletContex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String ms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String message, Throwable 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blic String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tServletNam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ublic abstract class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HttpServlet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extends GenericServ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service( ServletRequest req, ServletResponse r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// hívja a másik service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tected  void service( HttpServletRequest req,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HttpServletResponse r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rows ServletException, java.io.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// hívja a doGet/Post/Put/Head/Delete/Trace/Options metóduso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// ServletException fel nem ismert HTTP kérésre (felüldefiniálható)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tected  void doGet( HttpServletRequest req,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HttpServletResponse r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rows ServletException, java.io.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ért jobb, mint a CG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atform-független megol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tékony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gaz, hogy a Java lassú, d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WEB szerveren belül állandóan fut a JVM: gyorsabb, mint egy külső programot indítani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általában a CGI programok szkript nyelven íródtak, ugyanúgy interpretáltak/lassúak, mint a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nkurrens kéréskiszolgálások szinkronizáció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onos helyről jövő kérések kiszolgálása között információ megőrzése viszonylag könny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(web)szerver szolgáltatásait (pl. log) igénybe veh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ublic abstract class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HttpServlet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extends GenericServ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Get, doPut, doPost, doDelete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ad Request HTTP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Head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 doGet, de csak a fejléc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Options, doT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tected long getLastModified(HttpServletRequest re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zési listára fel- és leiratk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erzisztens adatok (fájlb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icializációs paraméter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TP-fejlécm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tp://www.novocode.com/doc/servlet-essential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efan Ze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picit megpiszkálta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9898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mport javax.servle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mport javax.servlet.http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class ListManagerServlet extends HttpServ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tected void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oGe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 HttpServletRequest req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ttpServletResponse r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rows ServletException,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tected void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oPos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 … ) … { …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vate Set address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vate static class SubscriptionException extends 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ubscriptionException( String details ){ super(details);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0" lang="hu-HU" sz="2000" spc="-1" strike="noStrike">
                <a:solidFill>
                  <a:srgbClr val="ff0000"/>
                </a:solidFill>
                <a:latin typeface="Times New Roman"/>
              </a:rPr>
              <a:t>synchronized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void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String e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rows IOException, Subscription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f  ( addresses.add (email) )   sa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se throw new SubscriptionException(email + " was already subscribed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0" lang="hu-HU" sz="2000" spc="-1" strike="noStrike">
                <a:solidFill>
                  <a:srgbClr val="ff0000"/>
                </a:solidFill>
                <a:latin typeface="Times New Roman"/>
              </a:rPr>
              <a:t>synchronized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void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unsubscrib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String e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rows IOException, SubscriptionException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f( addresses.remove(email) )   sav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se throw new SubscriptionException(email + " was not subscribed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404640"/>
            <a:ext cx="8209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ivate String file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ivate void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)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bjectOutputStream out = new ObjectOutputStream(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                new FileOutputStream(filename)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ut.writeObject(addres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ut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ivate void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) throws 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bjectInputStream in = new ObjectInputStream(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                new FileInputStream(filename)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dresses = (Set) in.readObjec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) throws ServletException,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lename = 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getInitParamet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"addressfi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f ( filename == null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row new 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UnavailableExceptio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 th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The \"addressfile\" property must be set to a file name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ry {   load();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atch ( FileNotFoundException e ) 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dresses = new HashSe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av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atch ( Exception e 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row new UnavailableException ( th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Err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g address file: " + 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9647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 ServletConfig config ) throws Servlet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super.init(confi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lename = getInitParameter("addressfi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űködik réges régi (2.1 előtti) szervletfuttató környezetekbe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81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otected void doGet ( HttpServletRequest req, HttpServletResponse r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rows ServletException,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s.setContentType("text/htm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Times New Roman"/>
              </a:rPr>
              <a:t>res.setHeader("pragma", "no-cach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ntWriter out = res.getWrit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HTML&gt;&lt;HEAD&gt;&lt;TITLE&gt;ListManager&lt;/TITLE&gt;&lt;/HEAD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BODY&gt;&lt;H3&gt;Members:&lt;/H3&gt;&lt;UL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ynchronized (thi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or ( Iterator i = addresses.iterator();  i.hasNext();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 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LI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 i.next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/UL&gt;&lt;HR&gt;&lt;FORM METHOD=POST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Enter your email address: &lt;INPUT TYPE=TEXT NAME=email&gt;&lt;BR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INPUT TYPE=SUBMIT NAME=action VALUE=subscribe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INPUT TYPE=SUBMIT NAME=action VALUE=unsubscribe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/FORM&gt;&lt;/BODY&gt;&lt;/HTML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otected void doPost ( HttpServletRequest req, HttpServletResponse r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rows ServletException,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ring m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ring email = req.getParameter("email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f (email ==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row new SubscriptionException("No email address given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f ( "subscribe".equals(req.getParameter("action"))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ubscribe(email);        mes = " has been subscribed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nsubscribe(email);    mes = " has been removed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ntHTML(req,res,email,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 catch (Subscription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Times New Roman"/>
              </a:rPr>
              <a:t>res.sendError(res.SC_BAD_REQUEST, 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vate void printHTML(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tpServletRequest req , HttpServletResponse r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ring email, String mes)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throws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s.setContentType("text/htm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s.setHeader("pragma", "no-cach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ntWriter out = res.getWrit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HTML&gt;&lt;HEAD&gt;&lt;TITLE&gt;List Manager&lt;/TITLE&gt;&lt;/HEAD&gt;&lt;BODY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ema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m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HR&gt;&lt;A HREF=\"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</a:t>
            </a:r>
            <a:r>
              <a:rPr b="0" lang="hu-HU" sz="2000" spc="-1" strike="noStrike">
                <a:solidFill>
                  <a:srgbClr val="ff0000"/>
                </a:solidFill>
                <a:latin typeface="Times New Roman"/>
              </a:rPr>
              <a:t>req.getRequestURI(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\"&gt;Show the list&lt;/A&gt;&lt;/BODY&gt;&lt;/HTML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close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ublic String getServletInfo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turn "ListManagerServlet 1.1 by Stefan Zeiger, modified by KT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ez a technológ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égebben: Server Development Kit segítség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 már integrált más technológiákk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SP (Java Server P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Java Enterprise Technológia szerves rés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felelő WEB szerver kell a futtatás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N referencia implementáció: használja a Tomcat-et (Jakarta projekt, Apache SW Foun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ersze a mai profi eszközök is fel vannak már erre készítve (pl. az Apache, MS IIS, stb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pplikáció szerverek (BEA, IBM, iPlanet, stb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4343400"/>
          <a:ext cx="76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343400"/>
                    <a:ext cx="76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onkurrens kéréskiszolgá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esetben egy szervletből egy példány jön létre a konténer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rogramozó megvalósíthat szálbiztos kiszolgálá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he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őleg ne szinkronizáljuk az egész service metódust vagy do* metó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vult (deprecated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rábízni a konténerre: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mplements SingleThread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lyenkor több példányt is létrehoz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gy szinkronizálja a service metó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distributabl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web.xml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fájlban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 virtuális gépben is példányosul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38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TTP protokoll állapotm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 kérés kiszolgálása között nem őriz meg információt a kérések küldőjér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 alkalmazás mégis ezt kívánja Megoldás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csonyszint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áthatatlan form mező (csúnya megold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ookie (csak ha a böngésző is enge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RL-átírás (macer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SL Session (HTTPS esetén j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gas szintű: Session API, konténer dol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áttérben Cookie (JSESSIONID) vagy URL-átí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vásárlókoc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teszek FOO-t vagy BAR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kérdezem a tartal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izete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tp://www.novocode.com/doc/servlet-essential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efan Ze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picit megpiszkálta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ession API (cookie-v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Session objektum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ktumokat tárol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tAttribute és get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égebben: putValue és get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ssion indítás és leáll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korl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HTML&gt;&lt;HEAD&gt;&lt;TITLE&gt;Online Shop&lt;/TITLE&gt;&lt;/HEAD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RM METHOD=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="http://....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NPUT TYPE=SUBMIT NAME=fo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LUE="Put a FOO into the shopping c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NPUT TYPE=SUBMIT NAME=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LUE="Put a BAR into the shopping c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NPUT TYPE=SUBMIT NAME=s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LUE="See the shopping cart contents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NPUT TYPE=SUBMIT NAME=bu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LUE="Buy the shopping cart contents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/BODY&gt;&lt;/HTML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189000"/>
            <a:ext cx="8496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otected void doPost ( HttpServletRequest req, HttpServletResponse r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rows ServletException,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tpSession session = req.getSession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f ( session.isNew(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ession.putValue ( "foo",  new int[] {0}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ession.putValue ( "bar",  new int[] {0}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t[] foo = (int[]) session.getValue("foo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t[] bar = (int[]) session.getValue("bar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ring msg = feldolgoz(req,session,foo,b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álaszol(req,res,msg,foo,b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0"/>
            <a:ext cx="8496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vate String feldolgoz ( HttpServletRequest req, HttpSession session, …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rows ServletException,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f ( req.getParameter("foo") != null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++ foo[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turn "Bought a FOO. You now have " + foo[0] + ".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 else if ( req.getParameter("bar") != null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++ bar[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turn "Bought a BAR. You now have " + bar[0] + ".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 else if ( req.getParameter("buy") != null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Times New Roman"/>
              </a:rPr>
              <a:t>session.invalidat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turn "Your order for " + foo[0] + " FOOs and 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ar[0] + " BARs has been accepted. "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Your shopping cart is empty now.";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turn "You have " + foo[0] + " FOOs and 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ar[0] + " BARs in your shopping cart. 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189000"/>
            <a:ext cx="8496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vate void válaszol ( HttpServletRequest req, HttpServletResponse r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ring msg )        throws ServletException,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s.setContentType("text/htm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s.setHeader("pragma", "no-cach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ntWriter out = res.getWrit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HTML&gt;&lt;HEAD&gt;&lt;TITLE&gt;Shopping Cart&lt;/TITLE&gt;&lt;/HEAD&gt;&lt;BODY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ms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HR&gt;&lt;A HREF=\"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req.getRequestUR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\"&gt;Back to the shop&lt;/A&gt;&lt;/BODY&gt;&lt;/HTML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close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ession API URL-átírá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 cookie-kat nem támogatja vagy nem engedélyezi a kli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gőrzendő információkat belekódoljuk azokba az URL-ekbe, amelyek a kliens következő kérésében lesznek maj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RM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ncodeURL (régen: encode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89000"/>
            <a:ext cx="8496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otected void doGet ( HttpServletRequest req, HttpServletResponse r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rows ServletException,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tpSession session = req.getSession(false);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s.setContentType("text/htm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s.setHeader("pragma", "no-cach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ntWriter out = res.getWrit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HTML&gt;&lt;HEAD&gt;&lt;TITLE&gt;Online Shop&lt;/TITLE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/HEAD&gt;&lt;BODY&gt;&lt;FORM METHOD=POST </a:t>
            </a:r>
            <a:r>
              <a:rPr b="0" lang="hu-HU" sz="1600" spc="-1" strike="noStrike">
                <a:solidFill>
                  <a:srgbClr val="ff0000"/>
                </a:solidFill>
                <a:latin typeface="Times New Roman"/>
              </a:rPr>
              <a:t>ACTION=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Times New Roman"/>
              </a:rPr>
              <a:t>out.print ( res.encodeURL( req.getRequestURI()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6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INPUT TYPE=SUBMIT NAME=foo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VALUE="Put a FOO into the shopping cart"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&lt;INPUT TYPE=SUBMIT NAME=bar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VALUE="Put a BAR into the shopping cart"&gt;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&lt;INPUT TYPE=SUBMIT NAME=see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VALUE="See the shopping cart contents"&gt;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&lt;INPUT TYPE=SUBMIT NAME=buy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VALUE="Buy the shopping cart contents"&gt;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out.print ( "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&lt;/FORM&gt;&lt;/BODY&gt;&lt;/HTML&gt;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out.clo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 Servlet Development 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SDK 2.1 - 1999 ápri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java.sun.com/products/servl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z 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r csak az archívumban található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rtal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rvlet programozói könyvtár (API)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ervlet.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játék Web-szerver fejlesztéshez/tesztelés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éldaprogra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189000"/>
            <a:ext cx="8496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vate void válaszol ( HttpServletRequest req, HttpServletResponse r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ring msg )        throws ServletException,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s.setContentType("text/htm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s.setHeader("pragma", "no-cach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rintWriter out = res.getWrit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HTML&gt;&lt;HEAD&gt;&lt;TITLE&gt;Shopping Cart&lt;/TITLE&gt;&lt;/HEAD&gt;&lt;BODY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ms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&lt;HR&gt;&lt;A HREF=\"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 </a:t>
            </a:r>
            <a:r>
              <a:rPr b="0" lang="hu-HU" sz="2000" spc="-1" strike="noStrike">
                <a:solidFill>
                  <a:srgbClr val="ff0000"/>
                </a:solidFill>
                <a:latin typeface="Times New Roman"/>
              </a:rPr>
              <a:t>res.encodeURL(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req.getRequestURI() </a:t>
            </a:r>
            <a:r>
              <a:rPr b="0" lang="hu-HU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print("</a:t>
            </a: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\"&gt;Back to the shop&lt;/A&gt;&lt;/BODY&gt;&lt;/HTML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t.close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ervletek közötti kommunik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tódus meghívása (1.*, 2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ervlet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3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zervletfuttató környezetet azonosítja a szervlet szám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példány webalkalmazásonként, virtuális gépenként és virtuális host-onké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„könyvtárnak” felel meg az URL névtér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éldául: http://www.aitia.ai/könyvesb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formáció megosztására, ha nem eloszth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értelmezett (default) kontex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on szervleteknek, amelyek nem részei webalkalmazásn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eloszth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Webalkalmazás inicializációs adat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ervlet kontextusán keresztül érhetők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InitParame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InitParameter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elepítési leírásban megadhat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ring kulcshoz String érték rendel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web-ap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ervlet&gt;  … &lt;/servle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text-pa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am-name&gt;kulcs&lt;/param-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am-valu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té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aram-valu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ntext-pa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web-ap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ontext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at tárolhatunk a kontextus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ring kulcshoz Object rendel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ható egy alkalmazáson (kontextuson) belüli szervletek közötti információcser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nem elosztható az alkalma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elosztható, használjuk helyette adatbázist vagy EJB kompon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tódus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tAttribute, getAttribute, getAttributeNames, remove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őforrások elér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ntextuson belüli statikus erőforrások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.net.URL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tResource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String p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putStream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tResourceAsStream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String p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.util.Set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tResourcePaths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String p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ath: /va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lkalmazás (gyökér)kontextusán bel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atikus és dinamikus erőforrások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questDispatcher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tRequestDispatche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String 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 kontextus erőforrásai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rvletContext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etContext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String uri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iglenes munkakönyvtá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n kontextushoz tartozik 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dett a többi kontextust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érése: előre definiált kontextus attribú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x.servlet.context.temp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.io.File objek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ervletConf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nicializáció során kapja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ajta keresztül érhető el a Servlet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rvletinicializációs paraméter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tInitParameter, getInitParameter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ring kulcshoz String érté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web.xml-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ervle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it-pa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am-name&gt;kulcs&lt;/param-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am-valu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té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aram-valu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init-pa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ervle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raméte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ttribútu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 fejléc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okie-k (getCook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ocale-ok (getLocal, getLoc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quest paraméte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query string-ből és a törzsb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Parameter, getParameterValues, getParameterNames, getParamete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ath információk nem tartoznak 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ost-olt paramétereket InputStream segítségével is feldolgozha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gy az egyik, vagy a másik, amelyikkel kezdj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SDK: a Web sz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dítás: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startserve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.ba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pértelmezésben nem a szokványos 80-as TCP portot használja, hanem a 8080-as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böngészővel próbáljuk ki: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http://localhost:8080/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gy akár egy másik gépen futó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állítás: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stopserve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.ba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 egy speciális könyvtár, ahova a szervleteinket kell pako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quest attribútum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nténer -&gt; szervlet, szervlet -&gt; szerv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ring kulcshoz Object ért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Attribute, setAttribute, getAttribute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 fejléc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tHeader, getHeaders, getHeader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tIntHeader, getDate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jlécek beállítása a törzs küldése elő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tHeader, addHeader (+ kényelmi: int, D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tirányítás (sendRedirect),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bajelzés (sendErr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ernacionaliz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tLocale, setContentType, setCharacter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válasz bufferel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 konténer támogatja ez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tBufferSize és setBuffer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0, ha nincs buffer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ikor először ürül a buffer, akkortól számít a törzsküldés (isCommit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lush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set és reset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ak kommittálás elő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set a fejléceket is tör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Dispatc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us, illetve statikus e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őforrásokh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rvletContex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en keresztül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kár saját, akár más (getContext) kontextusb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questDispatcher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getRequestDispatch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String 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ontextushoz képest relatív út, /val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questDispatcher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getNamedDispatcher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String 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ontextusban ismeretes né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gy a Request-en kereszt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éréshez képest relatív elérési út adható m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questDispatcher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getRequestDispatch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String 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questDispatcher haszn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rőforrást belefoglalja a válasz törzsé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ször is csinálhatok il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ívott nem tudja megváltoztatni a fejléc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iszolgálást rábízom a hívot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mmittált válasz után már nem hívh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ívása után a válasz lezár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8469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p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ítési leírásban a webalkalmazáshoz névleképezési szabályokat adhatunk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Így egy szervletet nem csak a neve alapján tud aktiválni egy klienské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évleképezési lehetőség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érési út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/valami/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terjesztés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*.val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apértelmezett szervlet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ntos illeszkedés: minden egyé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rvlet-mapping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rvlet-name&gt;szevasz&lt;/servlet-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url-pattern&gt;*.html&lt;/url-patter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servlet-mapping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8469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p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ítési leírásban a webalkalmazáshoz névleképezési szabályokat adhatunk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Így egy szervletet nem csak a neve alapján tud aktiválni egy klienské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évleképezési lehetőség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érési út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/valami/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terjesztés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*.val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apértelmezett szervlet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ntos illeszkedés: minden egyé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rvlet-mapping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rvlet-name&gt;szevasz&lt;/servlet-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url-pattern&gt;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a/korte/*&lt;/url-patter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servlet-mapping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a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p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ítési leírásban a webalkalmazáshoz hibalapokat adhatunk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bakód (sendError) vagy fellépő kivétel típusa alapján választ a konté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&lt;error-page&gt; -ek egyediek a hibakódot, illetve a kivételtípust illető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vételtípusnál az osztályhierarchiában a legközelebbi n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rror-p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rror-code&gt;400&lt;/error-cod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ocation&gt;400.html&lt;/loc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error-p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a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p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ítési leírásban a webalkalmazáshoz hibalapokat adhatunk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bakód (sendError) vagy fellépő kivétel típusa alapján választ a konté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&lt;error-page&gt; -ek egyediek a hibakódot, illetve a kivételtípust illető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vételtípusnál az osztályhierarchiában a legközelebbi n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rror-p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xception-type&gt;app.MyException&lt;/exception-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ocation&gt;400.html&lt;/loc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error-p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pache Jakarta project http://jakarta.apach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nálló és beágyazható websz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atalina (szervlet konténer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sper (JSP mo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Üdvözlő oldal (welcome fi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 e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y kérésben szereplő URI egy könyvtá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mi nincs szervletre (vagy JSP oldalra) képez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kkor a konténer megpróbálja kiegészíteni ez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welcome-file-lis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welcome-file&gt;index.html&lt;/welcome-fi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welcome-file&gt;default.jsp&lt;/welcome-fi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welcome-file-lis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Webalkalmazás környezete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(environ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ipikusan J2EE-konform webkonténerné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NDI-be bejegyzett erőforr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ajtá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nv-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jb-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jb-local-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source-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source-env-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seménykezelő (listen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8062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alkalmazásokhoz rendel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lönböző események bekövetkeztekor a konténer automatikusan hívja ő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rvletContext, HttpSession, Servlet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letciklus-események, attribútum-változ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istener&gt;&lt;listener-class&gt;Alma&lt;/listener-class&gt;&lt;/listen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Alma implements HttpSessionListener 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989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inamikus és statikus erőforrások szolgáltatása előtt, illetve után végrehajtód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jlécek és tartalmak transzformálás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 kérés, mind válasz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éldá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uthentik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g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pek konvertá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mörí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itko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finiálás: &lt;fil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rőforrásokhoz rendelés: &lt;filter-mapping&gt;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űködési folya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1342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hívódik a doFilter(req,res,ch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ilterChain objektumot a konténer ad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vizsgálhatja a req fejléc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csomagolhatja egy saját, specializált req-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csomagolhatja a res-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vja a chain.doFilter(req,res) metó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ly pl. továbbmehet a következő filterre,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gy a tényleges erőforrás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vizsgálhatja a res fejléc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rend a lán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url-pattern&gt; segítségével kapcsolt filterek, az előfordulásuk sorrendjé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servlet-name&gt; segítségével kapcsolt filterek, az előfordulásuk sorrendjé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ga az erőfor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ilter és dispatc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.4-től van ez a lehető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csak klienskérésre kapcsolhat be a filtere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kár include, forward vagy error eseté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dispatch&gt; elem(ek)ben megadható: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QUEST, INCLUDE, FORWARD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alkalma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ás ind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ener objektumok példányosítása (1/def/JV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rvletContextListener-ekre contextInitialized meghív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ilterek példányosítása (1/def/JVM)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 init metódusuk meghív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on szervletek példányosítása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 init metódusuk meghívása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melyekben van &lt;load-on-startup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zton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uthentication (azonosít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ccess control for resources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hozzáférési jogok erőforrásokho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ata integrity (illetéktelen nem módosíthatja az adatok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ata privacy (csak az kaphatja meg az adatokat, aki jogosult rá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hetőség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8134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klaratív (a telepítési leírásb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security-constrai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web-resource-collec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web-resource-name&gt;a&lt;/ web-resource-name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url-pattern&gt;*.html&lt;/url-patter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http-method&gt;PUT&lt;http-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web-resource-collec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auth-constraint&gt;&lt;role-name&gt;X&lt;/role-name&gt;&lt;/auth…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gramozott (a kódb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tRemoteUser, isCallerInRole, getUser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rep (role):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használók logikai csoportosítás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zerver programozói könyvtá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ervlet.jar fájl tartalma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x.servlet és javax.servlet.http csomag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abványos kiterjesztések (standard exten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a jar fájlt bele kell tenni a classpath-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uthentik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 Ba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TTP/1.0 szerinti, felhasználói név és jelsz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em biztonságos (titkosítatlan adat, azonosítatlan szerv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iztonságos transzport szinttel jobb (HTT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 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jelszó kódolva m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elterje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m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t HTTP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S Client (HTTP over SS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2:33:10Z</dcterms:created>
  <dc:creator>Kozsik Tamás</dc:creator>
  <dc:description/>
  <dc:language>en-US</dc:language>
  <cp:lastModifiedBy>kto</cp:lastModifiedBy>
  <dcterms:modified xsi:type="dcterms:W3CDTF">2006-04-27T16:03:05Z</dcterms:modified>
  <cp:revision>28</cp:revision>
  <dc:subject/>
  <dc:title>Szervletek</dc:title>
</cp:coreProperties>
</file>