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KATTINT.WAV" ContentType="audio/x-wav"/>
  <Override PartName="/ppt/presProps.xml" ContentType="application/vnd.openxmlformats-officedocument.presentationml.presPro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6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7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8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177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76720" y="6524640"/>
            <a:ext cx="2266920" cy="3333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Kozsik Tam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2000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KATTINT.WAV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bjektum-elvű programozás (OO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tumok, osztályok (adatközpont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eményvezérelt programoz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s. strukturált programoz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klaratív /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mperatí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tabsztrakció (egységbe zárás, adatelrejt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morfiz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Öröklőd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namikus kö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Osztályok, objektumok a Java nyelvb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Osztál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sé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objektumok reprezentációjának megad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Objektum: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egy osztály egy példány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inden objektum valamilyen osztályból származik példányosítás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eprezentáció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éldány adattagok, példány metódu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Osztály: típ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típusossá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80588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84760" indent="-2847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gy parciális rendezé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760" indent="-284760">
              <a:lnSpc>
                <a:spcPct val="80000"/>
              </a:lnSpc>
              <a:spcBef>
                <a:spcPts val="4524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 gyermek rendelkezik a szülő összes attribútumáv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760" indent="-284760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minden eseményre reagálni tud, amire a szülő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760" indent="-284760"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zért minden olyan helyzetben, amikor a szülőt használhatjuk, használhatjuk a gyermeket i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480" indent="-239040"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a gyermek típusa a szülő típusának egy altípus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480" indent="-23904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(hiszen a típus = megszorítás arra, hogy egy értéket milyen helyzetben szabad használni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-152640"/>
            <a:ext cx="78058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Példa: Főnök része Alkalmazot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51920" y="745920"/>
            <a:ext cx="8991720" cy="61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z Alkalmazott műveleteit meghívhatjuk egy Főnökre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Főnök f = new Főnök("Jancsi",20000);</a:t>
            </a:r>
            <a:br>
              <a:rPr sz="2600"/>
            </a:b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f.fizetéstEmel(20000);</a:t>
            </a:r>
            <a:br>
              <a:rPr sz="2600"/>
            </a:b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int i = (new Főnök("Juliska")).fizetés(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gy Alkalmazott formális paraméternek átadható egy Főnök aktuál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Alkalmazott a = new Alkalmazott("Frédi");</a:t>
            </a:r>
            <a:br>
              <a:rPr sz="2600"/>
            </a:b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if( a.többetKeresMint(new Főnök("Béni")) )</a:t>
            </a:r>
            <a:br>
              <a:rPr sz="2600"/>
            </a:b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gy Alkalmazott típusú referenciának értékül adható egy Főnök példán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 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Alkalmazott a = new Főnök("Winnetou"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limorfizmus, többalakúsá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80588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78640" indent="-278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ugyanaz a művelet meghívható Alkalmazottal és Főnökkel egyaránt: 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öbb típussal rendelkezik a művel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8640" indent="-278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gy rögzített típusú (pl. Alkalmazott) változó hivatkozhat több különböző típusú objektumra (Alkalmazott, Főnök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8640" indent="-278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z a fajta polimorfizmus az ún. altípus polimorfizmus (subtype vagy inclusion polimorfizmus).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Van másféle is, pl. parametrikus polimorfizmus, ami az Ada generic-re hasonlí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limorfizmus: Cardelli-Weg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verzál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ametrik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típus (inclu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25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-h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ípuskényszerítés (coerc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vek túlterhelése (overlo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8055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Példa parametrikus polimorfizmusra (Ada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1295280"/>
            <a:ext cx="8991720" cy="57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gener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type T is privat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rocedure Swap ( a, b: in out T )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c: T := 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a := b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b := c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end Swa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rocedure IntegerSwap is new Swap(Integer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rocedure BooleanSwap is new Swap(Boolean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a: Integer := 4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b: Integer := 33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IntegerSwap(a,b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7732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élda parametrikus polimorfizmusra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funkcionális nyelvek, pl. Cle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4920" y="2971800"/>
            <a:ext cx="842616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swap :: (a,a) -&gt; (a,a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swap (x,y) = (y,x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swap (42,33) 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eredménye</a:t>
            </a: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 (33,42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78058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Változók típu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45820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0"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statiku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a változó deklarációjában megadott típu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0"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dinamiku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a változó által hivatkozott objektum tényleges típus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dinamikus mindig a leszármazottja a statikusnak (vagy maga a statik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tatikus típus állandó, de a dinamikus típus változhat a futás so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34800" y="4255920"/>
            <a:ext cx="8809200" cy="22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lkalmazott a = new Alkalmazott("Adél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őnök b = new Főnök("Balázs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lkalmazott c = new Főnök("Cecil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 =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 = new Alkalmazott("András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bject típusú változ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160" y="1906200"/>
            <a:ext cx="84596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elelnek meg a típus nélküli mutatókn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indenre hivatkozhatnak, ami nem primitív típus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Object o = new Alkalmazott("Olga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o = new Kör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0"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m megy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o.fizetéstEmel(20000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Alkalmazott a = 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atikus típus szere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y objektumreferencia (vagy objektum kifejezés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ikus típus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önti el azt, hog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t szab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sinálni az objektum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. azt, hogy milyen műveletek hívhatók meg 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 szabad például az alábbiakat, mert fordítási hib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bject o = new Alkalmazott("Olga")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.fizetéstEmel(20000);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lkalmazott c = new Főnök("Cecil")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őnök b = c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Különbség az altípusosság és a kódkiterjesztés közö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54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élda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 Négyzet az altípusa a Téglalapna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 Téglalap megkapható a Négyzetből újabb adattagok felvételé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z OO nyelvek többsége nem tesz különbséget a kettő között, mindkettőt ugyanazzal a nyelvi eszközzel (öröklődés) támogatjá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nkább az altípusosság mellett definiáljunk öröklődés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tisztább tervezéshez vezet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(esetleg felesleges kód árán, mint pl. Négyzetben a "b"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Alkalmazott osztá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3240" y="1143000"/>
            <a:ext cx="694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class Alkalmazot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tring név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tring beosztá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nt fizeté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void fizetéstEmel( int mennyivel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zet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é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= mennyiv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920" y="510552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lkalmazot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Java-ban: Erős (strong) típusellenőrz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gyekszik fordítási időben típushelyességet biztosítani (static typing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setenként futási idejű ellenőrzéseket is csinál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dynamic typ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ípuskonverz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utomatikus (implici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xplic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71400" y="0"/>
            <a:ext cx="77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utomatikus típuskonverz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51"/>
              </a:spcBef>
              <a:buClr>
                <a:srgbClr val="ff3333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ff3333"/>
                </a:solidFill>
                <a:latin typeface="Times New Roman"/>
              </a:rPr>
              <a:t>altípusok eseté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szűkebb halmazba tartozó értéket egy bővebb halmazba tartozó értékké konvertá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0"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objektumok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esetén: egy leszármazott osztályba tartozó objektumot az ősosztályba tartozóként kez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int i = (new Főnök("Juliska")).fizet</a:t>
            </a: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é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s(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0"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primitív típusok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esetén is definiál a nyelv altípusokat, így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(CE)"/>
              </a:rPr>
              <a:t>    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b &lt; c|s &lt; i &lt; l &lt; f &lt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0"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l &lt; f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esetén információvesztés lehet (pontossá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(CE)"/>
              </a:rPr>
              <a:t>    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b = 1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0"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s jó, egész literált fordítási időben bájttá tud alakítan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0"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 reprezentációt meg kell változtatn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805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plicit típuskonverzió: típuskényszerí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3120" indent="-303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bővebből szűkebbet csinál: adatvesztő, nem biztonsá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. float-ból int-et: Math osztály kerekítő műveleté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. egészek szűkítése esetén a felső bitek vesznek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bjektumok esetén: ha hiba, akk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lassCastExcep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gelőzé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perá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3333cc"/>
                </a:solidFill>
                <a:latin typeface="Courier New"/>
              </a:rPr>
              <a:t>Object o = new Alkalmazott("Olga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3333cc"/>
                </a:solidFill>
                <a:latin typeface="Courier New"/>
              </a:rPr>
              <a:t>Alkalmazott a = (Alkalmazott) o;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3333cc"/>
                </a:solidFill>
                <a:latin typeface="Courier New"/>
              </a:rPr>
              <a:t>((Alkalmazott)o).fizetéstEmel(20000);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3333cc"/>
                </a:solidFill>
                <a:latin typeface="Courier New"/>
              </a:rPr>
              <a:t>if( o instanceof Alkalmazott )</a:t>
            </a:r>
            <a:br>
              <a:rPr sz="2400"/>
            </a:br>
            <a:r>
              <a:rPr b="0" lang="en-GB" sz="2400" spc="-1" strike="noStrike">
                <a:solidFill>
                  <a:srgbClr val="3333cc"/>
                </a:solidFill>
                <a:latin typeface="Courier New"/>
              </a:rPr>
              <a:t>    ((Alkalmazott)o).fizetéstEmel(200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szítsd el a SzínesKör osztályt a Kör osztály leszármazottjaként. Új műveletei: a szín beállítása és lekérdezé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vezess be új adattagot: a színes körök színét a középpontjuk színe határozza meg, amely nem közönséges pont, hanem színes p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200" y="3841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evek újrahasznosí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99880" indent="-299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elüldefiniálás (redefi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960" indent="-2520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öröklődés menté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9880" indent="-299880">
              <a:spcBef>
                <a:spcPts val="3963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últerhelés (overload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960" indent="-252000">
              <a:spcBef>
                <a:spcPts val="1701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áltozó vs. metódus (zárójele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960" indent="-252000">
              <a:spcBef>
                <a:spcPts val="1701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ódus vs. metódus (paraméterez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960" indent="0">
              <a:spcBef>
                <a:spcPts val="7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9880" indent="-299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fed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960" indent="-252000">
              <a:spcBef>
                <a:spcPts val="1701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éldányváltozó vs. metódus paramétere (th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805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últerhelésre 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62120" y="1368360"/>
            <a:ext cx="7805520" cy="20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90880" indent="-290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gyanolyan névvel több művel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0880" indent="-290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paraméterezés dönti el, mikor melyikre gondolu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0880" indent="-290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ondoljunk a konstruktorokr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7200" y="3886200"/>
            <a:ext cx="8305920" cy="27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class Alkalmazott {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void fizetéstEmel(){ ... }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void fizetéstEmel( int mennyivel ){ ... }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805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últerhelésre 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805880" cy="20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Ugyanolyan névvel több művele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 paraméterezés dönti el, mikor melyikre gondolun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Gondoljunk a konstruktorokra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0880" y="3276720"/>
            <a:ext cx="80866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lass Alkalmazot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void fizetéstEmel(){ fizetés += 1000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void fizetéstEmel( int mennyivel )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izetés += mennyiv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8058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últerhelésre 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7805880" cy="20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Ugyanolyan névvel több művele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 paraméterezés dönti el, mikor melyikre gondolun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Gondoljunk a konstruktorokra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0880" y="3276720"/>
            <a:ext cx="80866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lass Alkalmazot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void fizetéstEmel(){ fizetéstEmel(1000)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void fizetéstEmel( int mennyivel )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izetés += mennyiv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-152640"/>
            <a:ext cx="78058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últerhelésre 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0880" y="3276720"/>
            <a:ext cx="8391600" cy="34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class Alkalmazott {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void fizetéstEmel(){ fizetéstEmel(1000); }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void fizetéstEmel( int mennyivel ){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fizetés += mennyivel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914400"/>
            <a:ext cx="9142560" cy="1904760"/>
          </a:xfrm>
          <a:prstGeom prst="rect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public static void main( String args[] ){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Alkalmazott a = new Alkalmazott()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a.fizetéstEmel(1500)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a.fizetéstEmel()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Alkalmazott osztá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3240" y="1143000"/>
            <a:ext cx="694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b2b2b2"/>
                </a:solidFill>
                <a:latin typeface="Courier New"/>
              </a:rPr>
              <a:t>public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class Alkalmazot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tring név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tring beosztá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nt fizeté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void fizetéstEmel( int mennyivel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zet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é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= mennyiv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72920" y="510552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lkalmazot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lüldefiniál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74320" y="685800"/>
            <a:ext cx="886932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97000" indent="-2970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a gyermek osztályban bizonyos eseményekre másképp kell (vagy legalábbis lehet) reagálni, mint a szülőosztályba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a szülő- (vagy ős)osztálybeli metódust felüldefiniáljuk a gyermekb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0">
              <a:lnSpc>
                <a:spcPct val="40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(CE)"/>
              </a:rPr>
              <a:t>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class Téglalap {</a:t>
            </a:r>
            <a:br>
              <a:rPr sz="2300"/>
            </a:b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...</a:t>
            </a:r>
            <a:br>
              <a:rPr sz="2300"/>
            </a:b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double kerület() { return 2*(a+b); }</a:t>
            </a:r>
            <a:br>
              <a:rPr sz="2300"/>
            </a:b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}</a:t>
            </a:r>
            <a:br>
              <a:rPr sz="2300"/>
            </a:br>
            <a:br>
              <a:rPr sz="2300"/>
            </a:b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class Négyzet extends Téglalap { </a:t>
            </a:r>
            <a:br>
              <a:rPr sz="2300"/>
            </a:b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...</a:t>
            </a:r>
            <a:br>
              <a:rPr sz="2300"/>
            </a:b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double kerület() { return 4*a; }</a:t>
            </a:r>
            <a:br>
              <a:rPr sz="2300"/>
            </a:b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örökölt metódushoz új definíciót rendelün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csak példánymetódusok eseté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80588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a mást kell csinálni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42920" y="2590920"/>
            <a:ext cx="9001080" cy="42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class Alkalmazott 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int pótlék() { return nyelvvizsgákSzáma*5000; 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class Főnök extends Alkalmazott 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int pótlék() {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return nyelvvizsgákSzáma*5000 +</a:t>
            </a:r>
            <a:br>
              <a:rPr sz="2300"/>
            </a:b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          beosztottakSzáma*1000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80588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z örökölt metód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780588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használható a </a:t>
            </a:r>
            <a:r>
              <a:rPr b="0" lang="en-GB" sz="3000" spc="-1" strike="noStrike">
                <a:solidFill>
                  <a:srgbClr val="000000"/>
                </a:solidFill>
                <a:latin typeface="Courier (CE)"/>
              </a:rPr>
              <a:t>super.valami()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is a felüldefiniált metódus elérésé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2920" y="2590920"/>
            <a:ext cx="9001080" cy="42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class Alkalmazott 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int pótlék() { return nyelvvizsgákSzáma*5000; 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class Főnök extends Alkalmazott 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int pótlék() {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return super.pótlék() +</a:t>
            </a:r>
            <a:br>
              <a:rPr sz="2300"/>
            </a:b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          beosztottakSzáma*1000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szíts toString műveletet a Pont és a SzínesPont osztályokhoz, mely az ilyen objektumokról adatokat szolgáltat egy String formájában. (Az adatok az attribútumok értékei legyenek.) A metódus az alábbi specifikációval rendelkezz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public String toString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8440" y="-360"/>
            <a:ext cx="78058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namikus kötés (late bind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362800" cy="24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mindig a dinamikus típus szerinti művelet hívódik meg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futás közben választódik ki az a metódus, ami végrehajtódi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C++ virtual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Java: teljesen dinamiku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19320" y="2743200"/>
            <a:ext cx="69102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Alkalmazott a = new Alkalmazott(...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Főnök f = new Főnök(...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int i = a.pótlék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int j = f.pótlék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a = f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int k = a.pótlék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60280" y="5369040"/>
            <a:ext cx="83646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2280" y="4800600"/>
            <a:ext cx="8363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7920" indent="-277920"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még az örökölt metódus törzsében is dinamikus kötés v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2280" y="5334120"/>
            <a:ext cx="89917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class Alkalmazott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int teljesFizetés() { return fizetés() + pótlék()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ont osztályban definiáljunk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metódust, mely kiírja a pontot a szabványos kimenetre. (Ehhez, implicit módon, az előző feladatban írt toString metódust használjuk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ézzük meg, hogyan működik az örökölt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metódus a SzínesPont objektumok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200" y="0"/>
            <a:ext cx="780732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lüldefiniálás szabály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58360" y="731880"/>
            <a:ext cx="826452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zignatúra megegyez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visszatérési típus megegyez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hozzáférési kategória: nem sz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űkíthet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0" algn="ctr"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private &lt; félnyilvános &lt; protected &lt; publ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ecifikált kiváltható kivételek: nem bővíthet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0" algn="ctr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ha a szignatúra ugyanaz, akkor már nem lehet túlterhelés, ezért ha a többi feltétel nem oké, akkor fordítási hi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8600" y="4876920"/>
            <a:ext cx="87264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rotected Integer add( Vector v ) throws A, B {...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ublic  Integer add( Vector v ) throws C {...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gyen: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class C extends A {...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71040" y="0"/>
            <a:ext cx="780588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típusosság egy megközelít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160" y="609480"/>
            <a:ext cx="7807320" cy="18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"types as sets", típusértékhalmazok tartalmaz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 altípusú érték mindig használható, ha a bővebb típusú k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ontra- és kovariancia, invari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2590920"/>
            <a:ext cx="9142560" cy="3351960"/>
          </a:xfrm>
          <a:prstGeom prst="rect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class X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Integer add( Vector v ) throws A, B {...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class Y extends X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ublic  Integer add( Vector v ) throws C {...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class C extends A {...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73480" y="5183280"/>
            <a:ext cx="4970520" cy="1676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X x = new X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Y y = new Y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Vector v = new Vector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 x.add(v) ... y.add(v) 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 legfontosabb/legelterjedtebb OO nyelv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440" y="2090880"/>
            <a:ext cx="780588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mula 6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mall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iff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Variancia 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művelet paraméter: invariancia (pl. Jav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2211480"/>
            <a:ext cx="914256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class Gyerek { ...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class Síelő extends Gyerek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void szobatársatRendel( Síelő szobatárs ){ ...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íelő szobatárs(){ ...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class SíelőLány extends Síelő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void szobatársatRendel(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Síelő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szobatárs ){ ...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Síelő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szobatárs(){ ...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Alkalmazott osztá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3240" y="1143000"/>
            <a:ext cx="6947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class Alkalmazot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tring név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tring beosztá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nt fizeté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void fizetéstEmel( int mennyivel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zet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é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= mennyiv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nt szobaszá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2920" y="510552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lkalmazot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47840" y="5854680"/>
            <a:ext cx="4036320" cy="8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300" spc="-1" strike="noStrike">
                <a:solidFill>
                  <a:srgbClr val="000000"/>
                </a:solidFill>
                <a:latin typeface="Courier New"/>
              </a:rPr>
              <a:t>javac Alkalmazott</a:t>
            </a:r>
            <a:r>
              <a:rPr b="1" i="1" lang="en-US" sz="2300" spc="-1" strike="noStrike">
                <a:solidFill>
                  <a:srgbClr val="000000"/>
                </a:solidFill>
                <a:latin typeface="Courier New"/>
              </a:rPr>
              <a:t>.jav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Courier New"/>
              </a:rPr>
              <a:t>java Alkalmazot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334120" y="6324120"/>
            <a:ext cx="205740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6324480"/>
            <a:ext cx="22096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Variancia 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művelet paraméter: kontra-variancia (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nem Java!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2211480"/>
            <a:ext cx="914256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class Gyerek { ...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class Síelő extends Gyerek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void szobatársatRendel( Síelő szobatárs ){ ...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íelő szobatárs(){ ...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contra-class SíelőLány extends Síelő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void szobatársatRendel(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Gyerek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szobatárs ){ ...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SíelőLány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szobatárs(){ ...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Variancia 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művelet paraméter: ko-variancia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pl. Eiffel,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nem Java!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40" y="2354400"/>
            <a:ext cx="91425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Courier New"/>
              </a:rPr>
              <a:t>class Gyerek { ...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Courier New"/>
              </a:rPr>
              <a:t>class Síelő extends Gyerek {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100" spc="-1" strike="noStrike">
                <a:solidFill>
                  <a:srgbClr val="000000"/>
                </a:solidFill>
                <a:latin typeface="Courier New"/>
              </a:rPr>
              <a:t>void szobatársatRendel( Síelő szobatárs ){ ...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100" spc="-1" strike="noStrike">
                <a:solidFill>
                  <a:srgbClr val="000000"/>
                </a:solidFill>
                <a:latin typeface="Courier New"/>
              </a:rPr>
              <a:t>Síelő szobatárs(){ ...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Courier New"/>
              </a:rPr>
              <a:t>co-class SíelőLány extends Síelő {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100" spc="-1" strike="noStrike">
                <a:solidFill>
                  <a:srgbClr val="000000"/>
                </a:solidFill>
                <a:latin typeface="Courier New"/>
              </a:rPr>
              <a:t>void szobatársatRendel( </a:t>
            </a: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SíelőLány</a:t>
            </a:r>
            <a:r>
              <a:rPr b="0" lang="en-GB" sz="2100" spc="-1" strike="noStrike">
                <a:solidFill>
                  <a:srgbClr val="000000"/>
                </a:solidFill>
                <a:latin typeface="Courier New"/>
              </a:rPr>
              <a:t> szobatárs ){ ...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SíelőLány</a:t>
            </a:r>
            <a:r>
              <a:rPr b="0" lang="en-GB" sz="2100" spc="-1" strike="noStrike">
                <a:solidFill>
                  <a:srgbClr val="000000"/>
                </a:solidFill>
                <a:latin typeface="Courier New"/>
              </a:rPr>
              <a:t> szobatárs(){ ...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Általában megengedhető lenn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űvelet felüldefiniálása eseté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805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97000" indent="-2970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kontravariancia (ellentétes változás) az alprogram paraméteréb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5120" indent="-2494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 paraméter típusa bővebb: több paramétert elfogadó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 visszatérési érték típusára kovarianc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5120" indent="-2494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 visszatérési érték szűkebb: nem ad olyat vissza, amit az ősbeli s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hol egy bennfoglaló típusú valamit használok, ott lehet helyette egy altípusbelit használni; sőt, még több környezetben használhatom az altípusbelit, hiszen az speciálisabb, több információt hordozó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élda kontravarianciára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NEM JAVA!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2438280"/>
            <a:ext cx="8945640" cy="36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Gyerek gy = new Gyerek()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Síelő s1 = new Síelő(), s2 = new Síelő()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SíelőLány slány = new SíelőLány()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slány.szobatársatRendel(gy)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s1.szobatársatRendel(s2)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s1.szobatársatRendel(slány)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s1 = slány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s1.szobatársatRendel(s2)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8058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iffel-ben (Bertrand Meyer) megengedett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űvelet felüldefiniálása eseté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78058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78640" indent="-278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ovariancia (együttváltozás) a felüldefiniált alprogram paraméteré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5160" indent="-2340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 altípusbeli műveletben a szülőbeli paramétertípusának egy altípusa szerep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8640" indent="-278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visszatérési érték típusára is kovaria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2280" y="4724280"/>
            <a:ext cx="85550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Síelő s1 = new Síelő(), s2 = new Síelő()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SíelőLány slány = new SíelőLány()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s1.szobatársatRendel(s2)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s1 = slány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s1.szobatársatRendel(s2);</a:t>
            </a:r>
            <a:r>
              <a:rPr b="0" lang="en-GB" sz="2500" spc="-1" strike="noStrike">
                <a:solidFill>
                  <a:srgbClr val="000000"/>
                </a:solidFill>
                <a:latin typeface="Courier (CE)"/>
              </a:rPr>
              <a:t>  </a:t>
            </a:r>
            <a:r>
              <a:rPr b="1" lang="en-GB" sz="2500" spc="-1" strike="noStrike">
                <a:solidFill>
                  <a:srgbClr val="000000"/>
                </a:solidFill>
                <a:latin typeface="Times New Roman (CE)"/>
              </a:rPr>
              <a:t>NEM Jó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ég egy példa Eiffel-bő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37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marL="24480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gy altípusból elhagyhatók bázistípusból örökölt művelet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480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z megsérti azt a szabályt, hogy az altípusú érték mindig használható ott, ahol a bázistípusú érté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480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izonyos esetekben programozás-technikailag kényelmes tud lenni. Például: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Madár repül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Pingvin nem repü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807320" cy="7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Visszatérve a Java-h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62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variancia (nem-változás) az alprogram paraméteré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z altípusban a paraméter típusa ugyanaz, mint a szülőb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szatérési értékre is invari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zont kivételekre (speciális visszatérési érték)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o-variancia, és láthatóságra (ami a paraméterekre hasonlít) kontra-vari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5664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últerhelés: a szignatúra különböző, tehát azt definiálja felül, amivel megegyezik a szignatú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elüldefiniálásnál igyekezzünk megőrizni a jelentést, inkább csak a kiszámítá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ódja legyen m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8058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eterogén adatszerkezet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293760" indent="-293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gy adatszerkezetben többféle osztályú objektumot szeretnénk tárol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8640" indent="-246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éha jó, néha n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éldául a predefinit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sztályban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ek vanna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gy tömbbe is tehetünk különbözőket egy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közös őstípu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lapjá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Test[] t = {new Kocka(42.0),new Gömb(33.0) }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atiku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ípus ugyanaz, a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inamiku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ípus eltérh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805520" cy="11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últerhelés: választás a változatok közö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8058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ha a szignatúrában szereplő típusok ős-leszármazott viszonyban állna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fordítási időben történik a választá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z aktuális paraméterek statikus típusa dö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ltípusosság lehetsé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"legjobban illeszkedő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fordítási hiba, ha nin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ípuskényszeríté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rossz stílus, kerülendő a többértelműsé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3000" y="5562720"/>
            <a:ext cx="89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void m(Alkalmazott a1, Alkalmazott a2) { ... }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void m(Alkalmazott a, Fonok f) { ... }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void m(Fonok f, Alkalmazott a) { ... }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28280" y="328680"/>
            <a:ext cx="780588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fed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805520" cy="27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72520" indent="-272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sztályszintű metódusoknál nincs felüldefiniálás + dinamikus kö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520" indent="-272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statikus metódusokat elfedni leh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520" indent="-272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m csak a szignatúrának kell megegyezni, hanem... hasonló szabályok mint felüldefiniálásnál, különben fordítási hi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4114800"/>
            <a:ext cx="8228160" cy="26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static void alma(int x){ ... }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class B extends A {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static void alma(int x){ ... }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ő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880" y="1143000"/>
            <a:ext cx="8285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class Alkalmazot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{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kalmazott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24382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2971800"/>
            <a:ext cx="822960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class Program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static void main( String[] args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Alkalmazot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new Alkalmazot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rogram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Courier New"/>
              </a:rPr>
              <a:t>javac Program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Courier New"/>
              </a:rPr>
              <a:t>jav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0" y="2560680"/>
            <a:ext cx="9142560" cy="429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Alkalmazot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atic public int nyugdíjKorhatár() { return 65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atic public int A_nyugdíjKorhatár(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yugdíjKorhatár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őnök extends Alkalmazot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atic public int nyugdíjKorhatár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uper.nyugdíjKorhatár() +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Alkalmazott.nyugdíjKorhatár() +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8680" y="914400"/>
            <a:ext cx="3000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7920" indent="-2779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lfedett elérés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3640">
              <a:lnSpc>
                <a:spcPct val="90000"/>
              </a:lnSpc>
              <a:buClr>
                <a:srgbClr val="ffffff"/>
              </a:buClr>
              <a:buSzPct val="60000"/>
              <a:buFont typeface="StarBats" charset="2"/>
              <a:buChar char=""/>
              <a:tabLst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upe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3640">
              <a:lnSpc>
                <a:spcPct val="90000"/>
              </a:lnSpc>
              <a:buClr>
                <a:srgbClr val="ffffff"/>
              </a:buClr>
              <a:buSzPct val="60000"/>
              <a:buFont typeface="StarBats" charset="2"/>
              <a:buChar char=""/>
              <a:tabLst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inősíté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3640">
              <a:lnSpc>
                <a:spcPct val="90000"/>
              </a:lnSpc>
              <a:buClr>
                <a:srgbClr val="ffffff"/>
              </a:buClr>
              <a:buSzPct val="60000"/>
              <a:buFont typeface="StarBats" charset="2"/>
              <a:buChar char=""/>
              <a:tabLst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ípuskényszerítés</a:t>
            </a:r>
            <a:r>
              <a:rPr b="0" lang="en-GB" sz="27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32080" y="609480"/>
            <a:ext cx="5911920" cy="2301120"/>
          </a:xfrm>
          <a:prstGeom prst="rect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Alkalmazott a = new Alkalmazott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Főnök f = new Főnök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GB" sz="2100" spc="-1" strike="noStrike">
                <a:solidFill>
                  <a:srgbClr val="000000"/>
                </a:solidFill>
                <a:latin typeface="Courier New"/>
              </a:rPr>
              <a:t>a.nyugdíjKorhatár(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GB" sz="2100" spc="-1" strike="noStrike">
                <a:solidFill>
                  <a:srgbClr val="000000"/>
                </a:solidFill>
                <a:latin typeface="Courier New"/>
              </a:rPr>
              <a:t>f.nyugdíjKorhatár(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GB" sz="2100" spc="-1" strike="noStrike">
                <a:solidFill>
                  <a:srgbClr val="000000"/>
                </a:solidFill>
                <a:latin typeface="Courier New"/>
              </a:rPr>
              <a:t>Alkalmazott.nyugdíjKorhatár(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GB" sz="2100" spc="-1" strike="noStrike">
                <a:solidFill>
                  <a:srgbClr val="000000"/>
                </a:solidFill>
                <a:latin typeface="Courier New"/>
              </a:rPr>
              <a:t>((Alkalmazott)f).nyugdíjKorhatár(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80588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sztálymetódus elfed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2560680"/>
            <a:ext cx="9142560" cy="429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Alkalmazot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atic public int nyugdíjKorhatár() { return 65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atic public int A_nyugdíjKorhatár(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yugdíjKorhatár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őnök extends Alkalmazot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atic public int nyugdíjKorhatár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uper.nyugdíjKorhatár() +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Alkalmazott.nyugdíjKorhatár() +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04920" y="69840"/>
            <a:ext cx="2874960" cy="23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7920" indent="-2779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tatikus kiválasztá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3640">
              <a:lnSpc>
                <a:spcPct val="90000"/>
              </a:lnSpc>
              <a:spcAft>
                <a:spcPts val="1026"/>
              </a:spcAft>
              <a:buClr>
                <a:srgbClr val="ffffff"/>
              </a:buClr>
              <a:buFont typeface="Times New Roman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fordítási időb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40000"/>
              </a:lnSpc>
              <a:spcBef>
                <a:spcPts val="2826"/>
              </a:spcBef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lfedett eléré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364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Times New Roman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örökölt metóduson keresztül</a:t>
            </a:r>
            <a:r>
              <a:rPr b="0" lang="en-GB" sz="25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32080" y="0"/>
            <a:ext cx="5911920" cy="2865600"/>
          </a:xfrm>
          <a:prstGeom prst="rect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Alkalmazott a = new Alkalmazott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Főnök f = new Főnök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a.nyugdíjKorhatá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f.nyugdíjKorhatá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 = 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a.nyugdíjKorhatá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a.fizetés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a.A_nyugdíjKorhatá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1447920"/>
            <a:ext cx="9142560" cy="5362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class Alkalmazott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static public int nyugdíjKorhatár() { return 65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static public int A_nyugdíjKorhatár() 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return nyugdíjKorhatár(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class Főnök extends Alkalmazott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static public int nyugdíjKorhatár(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return super.nyugdíjKorhatár() + 5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return Alkalmazott.nyugdíjKorhatár() + 5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static float nyugdíjKorhatár() { ... }     NEM JÓ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static int fizetés(){...}                  NEM JÓ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480" y="609480"/>
            <a:ext cx="597024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7920" indent="-2779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példánymetódust nem szabad elfedni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Változók elfed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97000" indent="-297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éldány- vagy osztályszintű változók eseté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kus kiválasz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z elfedett változókhoz nem lehet közvetlenül hozzáférni, cs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5120" indent="-249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er-es minősítés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5120" indent="-249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ípusos minősítéssel (osztályváltozó eseté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5120" indent="-249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ípuskényszerítés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5120" indent="-249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örökölt metóduson keresztü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élda példányváltozó elfedésé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80880" y="1295280"/>
            <a:ext cx="829800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int x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void pr() { System.out.println(x)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class b extends a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int x = 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void pri(){ System.out.println(super.x)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static public void main( String[] args 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a v = new b();    b w = new b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System.out.println(v.x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 " " + w.x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System.out.println(((a)w).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v.pr();  w.pr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w.pri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 final módosítósz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"nem változtatható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áltozó (példány, osztályszintű, lokális, paramé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ódus (példány, osztályszintű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sztá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42600" y="-36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al változ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384200"/>
            <a:ext cx="7805880" cy="20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vázi konstan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m változtatható a változó értéke, ha már egyszer beállított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inal double ADÓKULCS = 0.25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-15264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al változ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7805880" cy="24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293760" indent="-293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vázi konstan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8640" indent="-246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m változtatható a változó értéke, ha már egyszer beállított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8640" indent="-246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inal double ADÓKULCS = 0.25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üres konstansok (a fordító észreveszi a hibá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3427560"/>
            <a:ext cx="914256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inal static int i = 10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inal static int ifac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tatic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nt j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or(int k=1; k&lt;100; k+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 *= k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act = j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al változ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7805880" cy="24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293760" indent="-293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vázi konstan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8640" indent="-246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m változtatható a változó értéke, ha már egyszer beállított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8640" indent="-246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inal double ADÓKULCS = 0.25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üres konstansok (a fordító észreveszi a hibá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440" y="3429000"/>
            <a:ext cx="9142560" cy="34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inal static int i = System.in.read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inal static int ifac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tatic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nt j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or(int k=1; k&lt;100; k+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 *= k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act = j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Üres konstans értéke konstruktorokbó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1040" y="2224080"/>
            <a:ext cx="88329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inal String név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ublic Alkalmazott( String név )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his(név,1000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ublic Alkalmazott( String név, int fizetés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his.név = név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his.fizetés = fizeté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szítsd el a Pont osztály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lajdonságok: x és y koordin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űvelet: eltol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x és dy értékek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al változó: a referencia nem változ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3720" y="2238480"/>
            <a:ext cx="8101080" cy="30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int v = 1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ublic static void main( String args[] 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final A a = new A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a = new A(); 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</a:rPr>
              <a:t>// NEM SZABAD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a.v = 1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al metódus és osztá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81520" indent="-281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"nem változtatható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2000" indent="-236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em lehet felüldefiniálni, illetve leszármaztatni belő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480" y="2743200"/>
            <a:ext cx="7859880" cy="38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public class Object {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public final Class getClass()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public final class System {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Pl. ha veszélybe sodorná a rendszer működését..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-228600"/>
            <a:ext cx="780588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bsztrakt osztály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120" y="758880"/>
            <a:ext cx="7807320" cy="60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iányosan definiált osztály (valami nincs benne kész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0">
              <a:spcBef>
                <a:spcPts val="1125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0">
              <a:lnSpc>
                <a:spcPct val="170000"/>
              </a:lnSpc>
              <a:spcBef>
                <a:spcPts val="1125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3112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nem lehet belőle példányosítan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0">
              <a:spcBef>
                <a:spcPts val="1125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0">
              <a:spcBef>
                <a:spcPts val="1125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z altípus reláció megadása tervezés szempontjából sokszor megkívánj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-228600"/>
            <a:ext cx="780588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bsztrakt osztály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758880"/>
            <a:ext cx="7807320" cy="60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iányosan definiált osztály (valami nincs benne kész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zonyos műveleteknek még nem adjuk meg az implementációjá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0">
              <a:spcBef>
                <a:spcPts val="1125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3112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nem lehet belőle példányosítan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0">
              <a:spcBef>
                <a:spcPts val="1125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0">
              <a:spcBef>
                <a:spcPts val="1125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z altípus reláció megadása tervezés szempontjából sokszor megkívánj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440" y="-228600"/>
            <a:ext cx="780588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bsztrakt osztály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120" y="758880"/>
            <a:ext cx="7807320" cy="60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iányosan definiált osztály (valami nincs benne kész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zonyos műveleteknek még nem adjuk meg az implementációjá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1" lang="en-GB" sz="2400" spc="-1" strike="noStrike">
                <a:solidFill>
                  <a:srgbClr val="000000"/>
                </a:solidFill>
                <a:latin typeface="Courier (CE)"/>
              </a:rPr>
              <a:t>abstra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ódosítószóval jelezzü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3112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nem lehet belőle példányosítan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0">
              <a:spcBef>
                <a:spcPts val="1125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0">
              <a:spcBef>
                <a:spcPts val="1125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z altípus reláció megadása tervezés szempontjából sokszor megkívánj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-228600"/>
            <a:ext cx="780588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bsztrakt osztály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758880"/>
            <a:ext cx="7807320" cy="60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iányosan definiált osztály (valami nincs benne kész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zonyos műveleteknek még nem adjuk meg az implementációjá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1" lang="en-GB" sz="2400" spc="-1" strike="noStrike">
                <a:solidFill>
                  <a:srgbClr val="000000"/>
                </a:solidFill>
                <a:latin typeface="Courier (CE)"/>
              </a:rPr>
              <a:t>abstra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ódosítószóval jelezzü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3112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nem lehet belőle példányosítan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0">
              <a:spcBef>
                <a:spcPts val="1125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0">
              <a:spcBef>
                <a:spcPts val="1125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z altípus reláció megadása tervezés szempontjából sokszor megkívánj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sak azért kellenek, hogy "igazi" osztályok közös viselkedését csak egyszer kelljen leírni, vagy hogy "igazi" osztályok közös őssel rendelkezze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304920" y="285840"/>
            <a:ext cx="8839080" cy="60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class Gyerek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rotected Játék kedvencJáték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és egyéb attribútumo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bstract double mennyireSzereti(Gyerek mási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Gyerek legjobbBarát( Gyere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osztály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t maxhe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max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érté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nnyireSzeret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osztály[0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 int i = 1; i&lt;oszt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y.length; i++ 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érté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nnyireSzeret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osztály[i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érték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max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érték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{ maxérték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érté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maxhely = i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szt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y[maxhel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Gyerek gyerek = new Gyerek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886200" y="5714640"/>
            <a:ext cx="388620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52280" y="228600"/>
            <a:ext cx="8991720" cy="60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(CE)"/>
              </a:rPr>
              <a:t>public </a:t>
            </a:r>
            <a:r>
              <a:rPr b="1" lang="en-GB" sz="1600" spc="-1" strike="noStrike">
                <a:solidFill>
                  <a:srgbClr val="000000"/>
                </a:solidFill>
                <a:latin typeface="Courier (CE)"/>
              </a:rPr>
              <a:t>abstract</a:t>
            </a:r>
            <a:r>
              <a:rPr b="0" lang="en-GB" sz="1600" spc="-1" strike="noStrike">
                <a:solidFill>
                  <a:srgbClr val="000000"/>
                </a:solidFill>
                <a:latin typeface="Courier (CE)"/>
              </a:rPr>
              <a:t> class Gyerek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(CE)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(CE)"/>
              </a:rPr>
              <a:t>protected Játék kedvencJáték;      </a:t>
            </a:r>
            <a:r>
              <a:rPr b="0" lang="en-US" sz="1600" spc="-1" strike="noStrike">
                <a:solidFill>
                  <a:srgbClr val="000000"/>
                </a:solidFill>
                <a:latin typeface="Courier (CE)"/>
              </a:rPr>
              <a:t>// </a:t>
            </a:r>
            <a:r>
              <a:rPr b="0" lang="hu-HU" sz="1600" spc="-1" strike="noStrike">
                <a:solidFill>
                  <a:srgbClr val="000000"/>
                </a:solidFill>
                <a:latin typeface="Courier (CE)"/>
              </a:rPr>
              <a:t>és egyéb attribútumok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(CE)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(CE)"/>
              </a:rPr>
              <a:t>public abstract double mennyireSzereti(Gyerek mási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(CE)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(CE)"/>
              </a:rPr>
              <a:t>public Gyerek legjobbBarát( Gyerek</a:t>
            </a:r>
            <a:r>
              <a:rPr b="0" lang="en-US" sz="1600" spc="-1" strike="noStrike">
                <a:solidFill>
                  <a:srgbClr val="000000"/>
                </a:solidFill>
                <a:latin typeface="Courier (CE)"/>
              </a:rPr>
              <a:t>[] </a:t>
            </a:r>
            <a:r>
              <a:rPr b="0" lang="hu-HU" sz="1600" spc="-1" strike="noStrike">
                <a:solidFill>
                  <a:srgbClr val="000000"/>
                </a:solidFill>
                <a:latin typeface="Courier (CE)"/>
              </a:rPr>
              <a:t>osztály </a:t>
            </a:r>
            <a:r>
              <a:rPr b="0" lang="en-GB" sz="1600" spc="-1" strike="noStrike">
                <a:solidFill>
                  <a:srgbClr val="000000"/>
                </a:solidFill>
                <a:latin typeface="Courier (CE)"/>
              </a:rPr>
              <a:t>){ ...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(CE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(CE)"/>
              </a:rPr>
              <a:t>public class Fi</a:t>
            </a:r>
            <a:r>
              <a:rPr b="0" lang="hu-HU" sz="1600" spc="-1" strike="noStrike">
                <a:solidFill>
                  <a:srgbClr val="000000"/>
                </a:solidFill>
                <a:latin typeface="Courier (CE)"/>
              </a:rPr>
              <a:t>ú</a:t>
            </a:r>
            <a:r>
              <a:rPr b="0" lang="en-GB" sz="1600" spc="-1" strike="noStrike">
                <a:solidFill>
                  <a:srgbClr val="000000"/>
                </a:solidFill>
                <a:latin typeface="Courier (CE)"/>
              </a:rPr>
              <a:t> extends Gyerek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(CE)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(CE)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(CE)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(CE)"/>
              </a:rPr>
              <a:t>public double mennyireSzereti(Gyerek másik)</a:t>
            </a:r>
            <a:r>
              <a:rPr b="1" lang="en-US" sz="1600" spc="-1" strike="noStrike">
                <a:solidFill>
                  <a:srgbClr val="000000"/>
                </a:solidFill>
                <a:latin typeface="Courier (CE)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(CE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(CE)"/>
              </a:rPr>
              <a:t>double összeg = 0.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(CE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(CE)"/>
              </a:rPr>
              <a:t>if( kedvencJ</a:t>
            </a:r>
            <a:r>
              <a:rPr b="0" lang="hu-HU" sz="1600" spc="-1" strike="noStrike">
                <a:solidFill>
                  <a:srgbClr val="000000"/>
                </a:solidFill>
                <a:latin typeface="Courier (CE)"/>
              </a:rPr>
              <a:t>áték</a:t>
            </a:r>
            <a:r>
              <a:rPr b="0" lang="en-US" sz="1600" spc="-1" strike="noStrike">
                <a:solidFill>
                  <a:srgbClr val="000000"/>
                </a:solidFill>
                <a:latin typeface="Courier (CE)"/>
              </a:rPr>
              <a:t>.equals(másik.kedvencJáték) )  </a:t>
            </a:r>
            <a:r>
              <a:rPr b="0" lang="hu-HU" sz="1600" spc="-1" strike="noStrike">
                <a:solidFill>
                  <a:srgbClr val="000000"/>
                </a:solidFill>
                <a:latin typeface="Courier (CE)"/>
              </a:rPr>
              <a:t>összeg </a:t>
            </a:r>
            <a:r>
              <a:rPr b="0" lang="en-US" sz="1600" spc="-1" strike="noStrike">
                <a:solidFill>
                  <a:srgbClr val="000000"/>
                </a:solidFill>
                <a:latin typeface="Courier (CE)"/>
              </a:rPr>
              <a:t>+= 10.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(CE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(CE)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(CE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(CE)"/>
              </a:rPr>
              <a:t>return </a:t>
            </a:r>
            <a:r>
              <a:rPr b="0" lang="hu-HU" sz="1600" spc="-1" strike="noStrike">
                <a:solidFill>
                  <a:srgbClr val="000000"/>
                </a:solidFill>
                <a:latin typeface="Courier (CE)"/>
              </a:rPr>
              <a:t>összeg</a:t>
            </a:r>
            <a:r>
              <a:rPr b="0" lang="en-US" sz="1600" spc="-1" strike="noStrike">
                <a:solidFill>
                  <a:srgbClr val="000000"/>
                </a:solidFill>
                <a:latin typeface="Courier (CE)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(CE)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(CE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(CE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(CE)"/>
              </a:rPr>
              <a:t>public class L</a:t>
            </a:r>
            <a:r>
              <a:rPr b="0" lang="hu-HU" sz="1600" spc="-1" strike="noStrike">
                <a:solidFill>
                  <a:srgbClr val="000000"/>
                </a:solidFill>
                <a:latin typeface="Courier (CE)"/>
              </a:rPr>
              <a:t>á</a:t>
            </a:r>
            <a:r>
              <a:rPr b="0" lang="en-US" sz="1600" spc="-1" strike="noStrike">
                <a:solidFill>
                  <a:srgbClr val="000000"/>
                </a:solidFill>
                <a:latin typeface="Courier (CE)"/>
              </a:rPr>
              <a:t>ny</a:t>
            </a:r>
            <a:r>
              <a:rPr b="0" lang="en-GB" sz="1600" spc="-1" strike="noStrike">
                <a:solidFill>
                  <a:srgbClr val="000000"/>
                </a:solidFill>
                <a:latin typeface="Courier (CE)"/>
              </a:rPr>
              <a:t> extends Gyerek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(CE)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(CE)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(CE)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(CE)"/>
              </a:rPr>
              <a:t>public double mennyireSzereti(Gyerek másik)</a:t>
            </a:r>
            <a:r>
              <a:rPr b="1" lang="en-US" sz="1600" spc="-1" strike="noStrike">
                <a:solidFill>
                  <a:srgbClr val="000000"/>
                </a:solidFill>
                <a:latin typeface="Courier (CE)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(CE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(CE)"/>
              </a:rPr>
              <a:t>if( m</a:t>
            </a:r>
            <a:r>
              <a:rPr b="0" lang="hu-HU" sz="1600" spc="-1" strike="noStrike">
                <a:solidFill>
                  <a:srgbClr val="000000"/>
                </a:solidFill>
                <a:latin typeface="Courier (CE)"/>
              </a:rPr>
              <a:t>ásik</a:t>
            </a:r>
            <a:r>
              <a:rPr b="0" lang="en-US" sz="1600" spc="-1" strike="noStrike">
                <a:solidFill>
                  <a:srgbClr val="000000"/>
                </a:solidFill>
                <a:latin typeface="Courier (CE)"/>
              </a:rPr>
              <a:t>.kedvencJ</a:t>
            </a:r>
            <a:r>
              <a:rPr b="0" lang="hu-HU" sz="1600" spc="-1" strike="noStrike">
                <a:solidFill>
                  <a:srgbClr val="000000"/>
                </a:solidFill>
                <a:latin typeface="Courier (CE)"/>
              </a:rPr>
              <a:t>áték</a:t>
            </a:r>
            <a:r>
              <a:rPr b="0" lang="en-US" sz="1600" spc="-1" strike="noStrike">
                <a:solidFill>
                  <a:srgbClr val="000000"/>
                </a:solidFill>
                <a:latin typeface="Courier (CE)"/>
              </a:rPr>
              <a:t>.equals(J</a:t>
            </a:r>
            <a:r>
              <a:rPr b="0" lang="hu-HU" sz="1600" spc="-1" strike="noStrike">
                <a:solidFill>
                  <a:srgbClr val="000000"/>
                </a:solidFill>
                <a:latin typeface="Courier (CE)"/>
              </a:rPr>
              <a:t>áték.döglöttMacska</a:t>
            </a:r>
            <a:r>
              <a:rPr b="0" lang="en-US" sz="1600" spc="-1" strike="noStrike">
                <a:solidFill>
                  <a:srgbClr val="000000"/>
                </a:solidFill>
                <a:latin typeface="Courier (CE)"/>
              </a:rPr>
              <a:t>) )  return 0.0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(CE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(CE)"/>
              </a:rPr>
              <a:t>if( m</a:t>
            </a:r>
            <a:r>
              <a:rPr b="0" lang="hu-HU" sz="1600" spc="-1" strike="noStrike">
                <a:solidFill>
                  <a:srgbClr val="000000"/>
                </a:solidFill>
                <a:latin typeface="Courier (CE)"/>
              </a:rPr>
              <a:t>ásik</a:t>
            </a:r>
            <a:r>
              <a:rPr b="0" lang="en-US" sz="1600" spc="-1" strike="noStrike">
                <a:solidFill>
                  <a:srgbClr val="000000"/>
                </a:solidFill>
                <a:latin typeface="Courier (CE)"/>
              </a:rPr>
              <a:t>.kedvencJ</a:t>
            </a:r>
            <a:r>
              <a:rPr b="0" lang="hu-HU" sz="1600" spc="-1" strike="noStrike">
                <a:solidFill>
                  <a:srgbClr val="000000"/>
                </a:solidFill>
                <a:latin typeface="Courier (CE)"/>
              </a:rPr>
              <a:t>áték</a:t>
            </a:r>
            <a:r>
              <a:rPr b="0" lang="en-US" sz="1600" spc="-1" strike="noStrike">
                <a:solidFill>
                  <a:srgbClr val="000000"/>
                </a:solidFill>
                <a:latin typeface="Courier (CE)"/>
              </a:rPr>
              <a:t>.equals(J</a:t>
            </a:r>
            <a:r>
              <a:rPr b="0" lang="hu-HU" sz="1600" spc="-1" strike="noStrike">
                <a:solidFill>
                  <a:srgbClr val="000000"/>
                </a:solidFill>
                <a:latin typeface="Courier (CE)"/>
              </a:rPr>
              <a:t>áték.hajasBaba</a:t>
            </a:r>
            <a:r>
              <a:rPr b="0" lang="en-US" sz="1600" spc="-1" strike="noStrike">
                <a:solidFill>
                  <a:srgbClr val="000000"/>
                </a:solidFill>
                <a:latin typeface="Courier (CE)"/>
              </a:rPr>
              <a:t>) )  return 12.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(CE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(CE)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(CE)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(CE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(CE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(CE)"/>
              </a:rPr>
              <a:t>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(CE)"/>
              </a:rPr>
              <a:t>Gyerek jancsi = new Fi</a:t>
            </a:r>
            <a:r>
              <a:rPr b="0" lang="hu-HU" sz="1600" spc="-1" strike="noStrike">
                <a:solidFill>
                  <a:srgbClr val="000000"/>
                </a:solidFill>
                <a:latin typeface="Courier (CE)"/>
              </a:rPr>
              <a:t>ú</a:t>
            </a:r>
            <a:r>
              <a:rPr b="0" lang="en-GB" sz="1600" spc="-1" strike="noStrike">
                <a:solidFill>
                  <a:srgbClr val="000000"/>
                </a:solidFill>
                <a:latin typeface="Courier (CE)"/>
              </a:rPr>
              <a:t>(), juliska = new L</a:t>
            </a:r>
            <a:r>
              <a:rPr b="0" lang="hu-HU" sz="1600" spc="-1" strike="noStrike">
                <a:solidFill>
                  <a:srgbClr val="000000"/>
                </a:solidFill>
                <a:latin typeface="Courier (CE)"/>
              </a:rPr>
              <a:t>á</a:t>
            </a:r>
            <a:r>
              <a:rPr b="0" lang="en-GB" sz="1600" spc="-1" strike="noStrike">
                <a:solidFill>
                  <a:srgbClr val="000000"/>
                </a:solidFill>
                <a:latin typeface="Courier (CE)"/>
              </a:rPr>
              <a:t>ny();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alósítsd meg a Hasáb absztrakt osztályt.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ulajdonság: magasság.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bsztrakt művelet: alapterület számítása.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ásik művelet: térfogat számítá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szítsd el a Henger és Kocka osztályokat, melyek a Hasáb konkrét leszármazottj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52280" y="0"/>
            <a:ext cx="8991720" cy="68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abstract class Hasáb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otected double magassá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abstract double alapterüle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double térfogat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alapterület() * magasság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class Henger extends Hasáb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 // konstruktor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otected double sugá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double alapterület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sugár*sugár*Math.P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class Kocka extends Hasáb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 // konstruktor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double alapterület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magasság*magassá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asáb h = new Kocka(1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ő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880" y="1143000"/>
            <a:ext cx="8285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ublic class Alkalmazot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kalmazott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4382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2971800"/>
            <a:ext cx="822960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ublic class Program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ublic static void main( String[] args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Alkalmazot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new Alkalmazot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rogram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Courier New"/>
              </a:rPr>
              <a:t>javac Program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Courier New"/>
              </a:rPr>
              <a:t>jav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8058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bsztrakt osztályok: összegez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805880" cy="52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97000" indent="-2970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nem példányosítható közvetlenül, előbb specializálni kell (megvalósítani az absztrakt műveleteket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 gyerek is lehet absztrak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5120" indent="-2494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kár absztrakt a szülő, akár n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bsztrakt statikus típussal rendelkező változók hivatkozhatnak valamilyen leszármazott konkrét dinamikus típusú objektumr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5120" indent="-2494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dinamikus kötés hívásk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gy absztrakt metódus nem lehet private, final vagy static (sem nativ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öbbszörös öröklőd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gy osztály több osztálytól is örökölh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 osztályhierarchia egy irányított körmentes gráf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de nem feltétlenül fa vagy erdő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éldául: RészegesEgyetemista, 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téltűJármű, SzínesNégy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3112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ta a szakirodalom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gyon hasznos do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blémákat vet fel (állítól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25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kompromisszum (jó? nem jó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osztályokra egyszeres öröklődés, d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öbbszörös öröklődés "problémái"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gyanolyan attribútum/metódus többszörö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ass D extends B,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.valam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.val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elüldefiniálásko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.val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mételt öröklődés: ugyanaz többszö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ass B extends 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ass C extend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.val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fész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00200" y="2118960"/>
            <a:ext cx="780552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gy másik referencia típ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z absztrakt osztályok definíciójára hasonlí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ípusspecifikáció-szerű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öbbszörös öröklődés (altípus reláció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m új dolog, Objective-C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fész: "absztrakt"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84760" indent="-284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ljesen absztrakt, egyáltalan nincs benne "kód", csak specifikáci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480" indent="-239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. nincs metódustörzs vagy példányváltozó ben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5800" y="4114800"/>
            <a:ext cx="788508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public interface Enumeration {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public boolean hasMoreElements()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public Object nextElement()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80588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fész: nem példányosíthat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7805880" cy="15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99880" indent="-299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gyanúgy, mint az absztrakt osztályok: nem példányosítható közvetlenü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9880" indent="-299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őbb "meg kell valósítani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57200" y="2819520"/>
            <a:ext cx="812484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class ListaIterátor implements Enumeration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ublic boolean hasMoreElements(){ ...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ublic Object nextElement(){ ...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HalmazIterá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TömbIterá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SorozatIterá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stb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fész: öröklőd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84760" indent="-284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fészek is kiterjeszthetik egymást: ext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760" indent="-284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kár többszörös öröklődés is leh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480" indent="-239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 a kódöröklés szintjén gondot is okozhat a többszörös öröklődés, azért a specifikáció öröklődése esetén n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760" indent="-284760">
              <a:spcBef>
                <a:spcPts val="25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z osztályok megvalósíthatnak interfésze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480" indent="-23904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gyanazt az interfészt többe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480" indent="-2390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gyanaz az osztály többe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lációk a referencia-típusok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164440" cy="52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Öröklődés osztályok közö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 (egyszeres öröklődés, közös gyöké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ódörökl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Öröklődés interfészek közö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örmentes gráf (többszörös öröklődés, nincs közös gyöké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ecifikáció örökl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gvalósítás osztályok és interfészek közö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pcsolat a két gráf között, továbbra is körm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ecifikáció örökl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fész megvalósí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z I egy interfész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 az I egyik őse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z A osztály megvalósítja I-t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 leszármazottja az A-nak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kkor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 megvalósítja J-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fész: típ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sználhatók változódeklarációk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sználhatók formális paraméterek specifikációjá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ő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880" y="1143000"/>
            <a:ext cx="8285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ublic class Alkalmazot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kalmazott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24382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2971800"/>
            <a:ext cx="822960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ublic class Program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 void main( String[] args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Alkalmazott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new Alkalmazot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rogram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Courier New"/>
              </a:rPr>
              <a:t>javac Program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Courier New"/>
              </a:rPr>
              <a:t>jav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fész: típ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sználhatók változódeklarációk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sználhatók formális paraméterek specifikációjá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0">
              <a:spcBef>
                <a:spcPts val="7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gy interfész típusú változó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ferencia, ami olyan objektumra mutathat, amely osztálya (közvetlenül vagy közvetve) megvalósítja az interfész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(CE)"/>
              </a:rPr>
              <a:t>I v = new A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(CE)"/>
              </a:rPr>
              <a:t>J w = new B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fész: típ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sználhatók változódeklarációk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sználhatók formális paraméterek specifikációjá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0">
              <a:spcBef>
                <a:spcPts val="7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gy interfész típusú formális paramét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gadható egy olyan aktuális paraméter, amely egy objektum, és amely osztálya (közvetlenül vagy közvetve) megvalósítja az interfész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void m( I p ){...}      m(new A()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void n( J p ){...}      n(new B()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36000"/>
            <a:ext cx="8837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Ha egy változó (vagy formális paraméter) deklarált típusa (azaz statikus típusa) egy interfész, akk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8073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namikus típusa egy azt megvalósító osztá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sak ennyit használhatunk ki ról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80000"/>
              </a:lnSpc>
              <a:spcBef>
                <a:spcPts val="25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változóra olyan műveleteket használhatunk, amelyek az interfészben (közvetlenül vagy közvetve) definiálva vann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33520" y="4114800"/>
            <a:ext cx="801504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void elemeketKiír( Enumeration e ){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while( e.hasMoreElements() 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System.out.prinln(e.nextElement()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Vector v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elemeketKiír( v.elements() 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80552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fészek megad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1976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ódosítószó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Automatikusan, azaz nincs hatása. Nem szokás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Mint osztályoknál; több csomag esetén érdekes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1976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iterjesztés (öröklődé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tends után l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1976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éldánymetódusok specifikációja é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sztályszintű konstans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m lehetnek benne üres konstans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60000"/>
              </a:lnSpc>
              <a:spcBef>
                <a:spcPts val="3963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 interfészek neve gyakran -ható, -hető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zaz -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0"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Comparable,   Runnable   (Futtatható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tódusok az interfészekb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99880" indent="-299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sználható módosító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960" indent="-2520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bstract és public (automatikusan, nincs hatásu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9880" indent="-299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m használható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960" indent="-2520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960" indent="-2520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960" indent="-2520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960" indent="-2520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960" indent="-2520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native, synchroniz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Változódeklarációk az interfészekb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sználható módosító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ublic final static (automatikusan, nincs hatásu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m használható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volatile, transi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fészt megvalósító osztá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z osztályban egy implements klóz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nne több interfész felsorolhat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metódusok megvalósítása public kell, hogy legy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konstansok specifikációját természetesen nem kell megismétel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évütköz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áltozó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tódu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0">
              <a:spcBef>
                <a:spcPts val="7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0">
              <a:spcBef>
                <a:spcPts val="7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öröklődés során újabb entitás ugyanazzal a névvel vagy szignatúrá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öbbszörös öröklődés során több helyről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öbb helyről, de ugyanaz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évütközések változódeklarációkb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fed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érés minősítésen keresztü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0">
              <a:spcBef>
                <a:spcPts val="7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 többszörösen örökö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 ugyanaz több úton, akkor csak egy lesz belő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 másik, akkor a hivatkozásnál fel kell oldani a többértelműséget, különben fordítási hi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8073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évütközések metódusokná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667720" cy="67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het túlterhelés (különböző szignatú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het felüldefiniálás, ha a szignatúra megegyezik;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yenkor kell még (különben fordítási hib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visszatérési típus egyenlősé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 kiváltott kivételekre a szokásos kovarian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 hozzáférési kategóriára nincs korlátozás, hiszen minden publi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0">
              <a:spcBef>
                <a:spcPts val="7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öbbszörös örökl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ha ugyanaz, akkor egyértelmű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ha több ugyanolyan szignatúrájú, akkor a "legnagyobb közös osztó" ("azt" kell venni felüldefiniálásnál és megvalósításnál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ő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880" y="1143000"/>
            <a:ext cx="8285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ublic class Alkalmazot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kalmazott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24382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2971800"/>
            <a:ext cx="822960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ublic class Program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 void main( String[] args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 Alkalmazot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rogram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Courier New"/>
              </a:rPr>
              <a:t>javac Program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Courier New"/>
              </a:rPr>
              <a:t>jav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szítsd el a Színezhető interfészt, mely műveleteket definiál szín lekérdezésére és beállítására. A SzínesPont és SzínesKör osztályok valósítsák meg ezt az interfész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Objektumok tárol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inamikus memóriakezelés szüksé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da, C: mutatók (pointere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a: referenci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Alkalmazott a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áltozóban az objektum memóriabeli címét tároljuk. A deklaráció hatására nem jön létre objektu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ktum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ogram) entitás: állapot és funkcionali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yedi, zárt (interfész), konzisz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ibútumok, esemény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ibútum - változó (adatta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eménykezelő - alprogram (metód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Objektum létrehoz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lang="hu-HU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változóhoz objektum hozzárendel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a = new Alkalmazott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éldányosítás: valamilyen osztályból a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operátorral (memóriafoglalás a mellékhatás, a kezdőcím a kifejezés érték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new Alkalmazott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referencia a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operátorral létrehozot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objektumra muta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szíts főprogramot a Pont osztályhoz. Hozz létre benne egy Pont objektum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etódus meghív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9920" y="1143000"/>
            <a:ext cx="621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ublic class Alkalmazot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fizet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Emel( ... ){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3505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41148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ublic class Program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ublic static void main( String[] args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Alkalmazot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 new Alkalmazot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.fizet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Emel(400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etódus meghív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8840" y="1143000"/>
            <a:ext cx="749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ublic class Alkalmazot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void fizet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Emel( ... ){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3505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41148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ublic class Program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ublic static void main( String[] args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Alkalmazot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 new Alkalmazot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.fizet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Emel(400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dattag elér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8840" y="1143000"/>
            <a:ext cx="749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ublic class Alkalmazot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fizeté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fizet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Emel( ... ){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3505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411480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ublic class Program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ublic static void main( String[] args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Alkalmazot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 new Alkalmazot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.fizet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 = 200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.fizet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Emel(400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dattag elér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8840" y="1143000"/>
            <a:ext cx="749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ublic class Alkalmazot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int fizeté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fizet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Emel( ... ){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3505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411480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ublic class Program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ublic static void main( String[] args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Alkalmazot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 new Alkalmazot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.fizet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 = 200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.fizet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Emel(400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Állítsd be a létrehozott Pont koordinátáit, told el a definiált metódussal, végül írd ki a képernyőre a koordináták új értéké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dattagok definiál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datta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példányváltoz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dattag megadása - változódeklaráci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1120" y="3276720"/>
            <a:ext cx="767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ublic class Alkalmazot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fizeté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fizetéstBe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l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í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 ... )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fizet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Emel( ... ){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dattagok inicializál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8840" y="1447920"/>
            <a:ext cx="767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ublic class Alkalmazot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fizetés = 200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fizetéstBe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l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í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 ... )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fizet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Emel( ... ){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434340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57524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ublic class Program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ublic static void main( String[] args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Alkalmazot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 new Alkalmazot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.fizet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Emel(400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dattagok automatikus inicializálása: 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8840" y="1447920"/>
            <a:ext cx="767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ublic class Alkalmazot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fizeté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fizetéstBe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l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í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 ... )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fizet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Emel( ... ){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434340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457524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ublic class Program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ublic static void main( String[] args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Alkalmazot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 new Alkalmazot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.fizet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Emel(400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83640" y="3584520"/>
            <a:ext cx="58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Olyan, mint: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nt fizeté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élda objektumok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133720"/>
            <a:ext cx="3733920" cy="426708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4267080"/>
              <a:gd name="textAreaBottom" fmla="*/ 4084920 h 4267080"/>
            </a:gdLst>
            <a:ahLst/>
            <a:rect l="textAreaLeft" t="textAreaTop" r="textAreaRight" b="textAreaBottom"/>
            <a:pathLst>
              <a:path w="21600" h="24684">
                <a:moveTo>
                  <a:pt x="3600" y="0"/>
                </a:moveTo>
                <a:arcTo wR="3600" hR="3600" stAng="16200000" swAng="-5400000"/>
                <a:lnTo>
                  <a:pt x="0" y="21084"/>
                </a:lnTo>
                <a:arcTo wR="3600" hR="3600" stAng="10800000" swAng="-5400000"/>
                <a:lnTo>
                  <a:pt x="18000" y="24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2209680"/>
            <a:ext cx="3886200" cy="4114800"/>
          </a:xfrm>
          <a:custGeom>
            <a:avLst/>
            <a:gdLst>
              <a:gd name="textAreaLeft" fmla="*/ 189720 w 3886200"/>
              <a:gd name="textAreaRight" fmla="*/ 3696480 w 3886200"/>
              <a:gd name="textAreaTop" fmla="*/ 189720 h 4114800"/>
              <a:gd name="textAreaBottom" fmla="*/ 3925080 h 4114800"/>
            </a:gdLst>
            <a:ahLst/>
            <a:rect l="textAreaLeft" t="textAreaTop" r="textAreaRight" b="textAreaBottom"/>
            <a:pathLst>
              <a:path w="21600" h="22870">
                <a:moveTo>
                  <a:pt x="3600" y="0"/>
                </a:moveTo>
                <a:arcTo wR="3600" hR="3600" stAng="16200000" swAng="-5400000"/>
                <a:lnTo>
                  <a:pt x="0" y="19270"/>
                </a:lnTo>
                <a:arcTo wR="3600" hR="3600" stAng="10800000" swAng="-5400000"/>
                <a:lnTo>
                  <a:pt x="18000" y="228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90600" y="129528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lkalmazo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1371600"/>
            <a:ext cx="8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ö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480" y="25146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-koord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-coord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480" y="335268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ár: 1 egy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3809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ület: 3.1415926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4530600"/>
            <a:ext cx="2286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gyí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csinyí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t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3760" y="2590920"/>
            <a:ext cx="24757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év: Gipsz Jak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Munkahely: E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Fizetés: 200e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1960" y="4648320"/>
            <a:ext cx="17762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FizetéstE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Feladato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dattagok automatikus inicializálása: implicit kezdőérté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éldányváltozók esetén történ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lprogram lokális változójára nincs (fordítási hibát okoz, ha előzetes értékadás nélkül próbáljuk használ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éldányváltozók esetén nehéz lenne betartani ezt a szabályt, ezért inicializál automatikus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l. szám típusok esetén nulla (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gy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0.0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), boolean esetén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, char eseté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\u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m illik kihasználn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nt osztályban az x és y adattagokat explicit inicializáld 0-r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dattagok definiálása: péld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nt fizetés=200000, pótlékok, levonások=fizeté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4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áthatóság változtatás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 fi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zeté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20000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 m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ódosítható értékű változó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“konstansok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uble AD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ÓKUL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25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ivatkozás példányváltozók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public class Alkalmazot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public int fizeté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public void fizetéstEmel( int mennyivel 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zet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és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= mennyive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többetKeresMint(Alkalmazott m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k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zet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és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 &gt;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másik.fizetés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public class Program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public static void main( String[] args 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Alkalmazott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new Alkalmazot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.fizet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é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 = 2000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1066680"/>
            <a:ext cx="30477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sztálydefiníción belü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3200400"/>
            <a:ext cx="19047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ás objektum adattagjá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53080" y="2133720"/>
            <a:ext cx="2210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ajá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adatta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4419720"/>
            <a:ext cx="5486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6095880"/>
            <a:ext cx="2210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ás osztály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15200" y="4572000"/>
            <a:ext cx="1828800" cy="947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ősített né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6" idx="0"/>
            <a:endCxn id="192" idx="3"/>
          </p:cNvCxnSpPr>
          <p:nvPr/>
        </p:nvCxnSpPr>
        <p:spPr>
          <a:xfrm flipH="1" flipV="1" rot="5400000">
            <a:off x="7824960" y="4015080"/>
            <a:ext cx="961200" cy="153000"/>
          </a:xfrm>
          <a:prstGeom prst="curvedConnector5">
            <a:avLst>
              <a:gd name="adj1" fmla="val 28587"/>
              <a:gd name="adj2" fmla="val 162971"/>
              <a:gd name="adj3" fmla="val 28587"/>
            </a:avLst>
          </a:prstGeom>
          <a:ln w="63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6" idx="2"/>
            <a:endCxn id="195" idx="3"/>
          </p:cNvCxnSpPr>
          <p:nvPr/>
        </p:nvCxnSpPr>
        <p:spPr>
          <a:xfrm rot="5400000">
            <a:off x="7635240" y="5730840"/>
            <a:ext cx="807120" cy="381600"/>
          </a:xfrm>
          <a:prstGeom prst="curvedConnector2">
            <a:avLst/>
          </a:prstGeom>
          <a:ln w="60480">
            <a:solidFill>
              <a:srgbClr val="00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etódus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tódus: alprogram, amely egy objektumhoz van kapcsol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„első paraméter” az objekt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éldául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avában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a.többetKeresMint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dában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többetKeresMint(a,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Üzenetküldéses szint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llékhatásos függvé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ljárás: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visszatérési érté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etódusok definíció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ejből (specifikációból) és törzsből á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Courier New"/>
              </a:rPr>
              <a:t>public void fizetéstEmel( int mennyivel )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fizet</a:t>
            </a:r>
            <a:r>
              <a:rPr b="1" lang="hu-HU" sz="2800" spc="-1" strike="noStrike">
                <a:solidFill>
                  <a:srgbClr val="3333cc"/>
                </a:solidFill>
                <a:latin typeface="Courier New"/>
              </a:rPr>
              <a:t>és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+= mennyive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ej: módosítók, a visszatérési érték típusa, azonosító név, paraméterlista, </a:t>
            </a:r>
            <a:r>
              <a:rPr b="0" lang="hu-HU" sz="3200" spc="-1" strike="noStrike">
                <a:solidFill>
                  <a:srgbClr val="b2b2b2"/>
                </a:solidFill>
                <a:latin typeface="Times New Roman"/>
              </a:rPr>
              <a:t>ellenőrzött kivétel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araméterlista: </a:t>
            </a:r>
            <a:r>
              <a:rPr b="0" lang="hu-HU" sz="3200" spc="-1" strike="noStrike">
                <a:solidFill>
                  <a:srgbClr val="000000"/>
                </a:solidFill>
                <a:latin typeface="Courier New"/>
              </a:rPr>
              <a:t>(int x, int y, char 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ignatúra: azonosító, paraméterek típ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hu-HU" sz="2800" spc="-1" strike="noStrike">
                <a:solidFill>
                  <a:srgbClr val="ff0000"/>
                </a:solidFill>
                <a:latin typeface="Courier New"/>
              </a:rPr>
              <a:t>fizetéstEmel(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hu-HU" sz="2800" spc="-1" strike="noStrike">
                <a:solidFill>
                  <a:srgbClr val="ff0000"/>
                </a:solidFill>
                <a:latin typeface="Courier New"/>
              </a:rPr>
              <a:t>int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mennyivel </a:t>
            </a:r>
            <a:r>
              <a:rPr b="1" lang="hu-HU" sz="28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izet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é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= mennyive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ák metódusdefiníciók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2040" y="2057400"/>
            <a:ext cx="566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nt lnko( int a, int b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while( a!=b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if( a&gt;b ) a-=b; else b-=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209680"/>
            <a:ext cx="25905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laptípusokra érték szerinti paraméterátad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2040" y="4419720"/>
            <a:ext cx="548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void fizetéstDupláz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izeté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=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4343400"/>
            <a:ext cx="2286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Üres paraméterl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ilépés metódusbó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nem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a visszatérési érték típusa, akkor kell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utasítás, amivel megadjuk a visszatérési érté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nincs visszatérési érték (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), akkor is lehet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utasítás, amivel kiléphetü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void f(...)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while(...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f(...) retur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ilépés metódusbó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1219320"/>
            <a:ext cx="7772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nem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a visszatérési érték típusa, akkor kell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utasítás, amivel megadjuk a visszatérési érté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nincs visszatérési érték (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), akkor is lehet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utasítás, amivel kiléphetü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</a:rPr>
              <a:t>void f(...)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while(...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f(...) break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Vezérlésmegszakító utasítás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- kilép a ciklusmag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- kilép a ciklus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- kilép a metódus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élda objektumok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133720"/>
            <a:ext cx="3733920" cy="426708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4267080"/>
              <a:gd name="textAreaBottom" fmla="*/ 4084920 h 4267080"/>
            </a:gdLst>
            <a:ahLst/>
            <a:rect l="textAreaLeft" t="textAreaTop" r="textAreaRight" b="textAreaBottom"/>
            <a:pathLst>
              <a:path w="21600" h="24684">
                <a:moveTo>
                  <a:pt x="3600" y="0"/>
                </a:moveTo>
                <a:arcTo wR="3600" hR="3600" stAng="16200000" swAng="-5400000"/>
                <a:lnTo>
                  <a:pt x="0" y="21084"/>
                </a:lnTo>
                <a:arcTo wR="3600" hR="3600" stAng="10800000" swAng="-5400000"/>
                <a:lnTo>
                  <a:pt x="18000" y="24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2209680"/>
            <a:ext cx="3886200" cy="4114800"/>
          </a:xfrm>
          <a:custGeom>
            <a:avLst/>
            <a:gdLst>
              <a:gd name="textAreaLeft" fmla="*/ 189720 w 3886200"/>
              <a:gd name="textAreaRight" fmla="*/ 3696480 w 3886200"/>
              <a:gd name="textAreaTop" fmla="*/ 189720 h 4114800"/>
              <a:gd name="textAreaBottom" fmla="*/ 3925080 h 4114800"/>
            </a:gdLst>
            <a:ahLst/>
            <a:rect l="textAreaLeft" t="textAreaTop" r="textAreaRight" b="textAreaBottom"/>
            <a:pathLst>
              <a:path w="21600" h="22870">
                <a:moveTo>
                  <a:pt x="3600" y="0"/>
                </a:moveTo>
                <a:arcTo wR="3600" hR="3600" stAng="16200000" swAng="-5400000"/>
                <a:lnTo>
                  <a:pt x="0" y="19270"/>
                </a:lnTo>
                <a:arcTo wR="3600" hR="3600" stAng="10800000" swAng="-5400000"/>
                <a:lnTo>
                  <a:pt x="18000" y="228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0600" y="129528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lkalmazo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1371600"/>
            <a:ext cx="8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ö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2895480"/>
            <a:ext cx="23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özéppont: Orig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480" y="335268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ár: 1 egy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809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ület: 3.1415926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4530600"/>
            <a:ext cx="2286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gyí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csinyí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t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3760" y="2590920"/>
            <a:ext cx="24757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év: Gipsz Jak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Munkahely: E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Fizetés: 200e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1960" y="4648320"/>
            <a:ext cx="17762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FizetéstE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Feladato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visszatérési érték megad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fordító ellenőrzi, hogy “függvény” esetén mindenféleképp lesz visszatérési érték, azaz a vezérlés mindig eljut egy return utasításh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sonlóan a metódusok lokális változói kapcsán végzett ellenőrzéshez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niciali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záltsá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dítási idejű dön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szítsd el a Kör osztály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ulajdonságok: középpont (Pont) és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                         sugár (dou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űveletek: eltol és nagyí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ltol: dx és dy értékekkel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özéppontot kell eltolni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agyít: a sugarat szorozni faktor-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492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özvetlen adathozzáférés megtil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8120" y="914400"/>
            <a:ext cx="822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ublic class Alkalmazot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fizeté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fizetéstBe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á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l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í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int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össze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zet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é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ö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sze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fizet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Emel( ... ){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40384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421020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ublic class Program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ublic static void main( String[] args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Alkalmazot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 new Alkalmazot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.fizet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Be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állí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2000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.fizet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Emel(400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ípusinvariáns megőrz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0800" y="2438280"/>
            <a:ext cx="8288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public class Alkalmazot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ouble fizetés, évesFizeté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 void fizetéstBe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állí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int új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izetés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 új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évesFizetés = 12*fizeté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ör osztályban vezess be egy új attribútumot, a területet tartsuk benne nyilván. Írd meg a sugaratBeállít művelete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sználd a Math.PI értéke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űveletek legyenek publikusak, az attribútumok 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észíts lekérdező műveleteket a sugárhoz és a területhez, melyek publikusak. (Az adattagok nem publikusak!) A lekérdező műveletek neve megegyezhet a lekérdezett attribútum nevé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ípusinvariáns megőrz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0440" y="2438280"/>
            <a:ext cx="8501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public class K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ör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ouble sug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ár, terüle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 void sugaratBe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állí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ouble r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g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á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 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er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üle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 sug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á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sug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á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Math.P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Referenciák ráállítása egy objektum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2057400"/>
            <a:ext cx="8839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eferencia és objektum együttes létrehoz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Alkalmazott a = new Alkalmazott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eferencia ráállítása meglévő objektum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Alkalmazott b = 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ét referencia ugyanarra az objektumra mut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b.fizetéstEmel(10000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róbáld ki a Pont osztály egy objektumáv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Üres 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egy változó értéke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, akkor nem mutat objektum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Alkalm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zott c = nul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referencia minden osztá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oz használhat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éldányváltozók automatikus inicializálásához ezt használja a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c.fizetéstEmel(10000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utási idejű hiba: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NullPointerEx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Nem változtatható 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final Alkalmazott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new Alkalmazot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.fizet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Be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állí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1000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= new Alkalmazot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erencia “konstans”, nem lehet m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ásik objektumra állítani, de a mutatott objektum megváltoz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élda objektumok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2133720"/>
            <a:ext cx="3733920" cy="426708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4267080"/>
              <a:gd name="textAreaBottom" fmla="*/ 4084920 h 4267080"/>
            </a:gdLst>
            <a:ahLst/>
            <a:rect l="textAreaLeft" t="textAreaTop" r="textAreaRight" b="textAreaBottom"/>
            <a:pathLst>
              <a:path w="21600" h="24684">
                <a:moveTo>
                  <a:pt x="3600" y="0"/>
                </a:moveTo>
                <a:arcTo wR="3600" hR="3600" stAng="16200000" swAng="-5400000"/>
                <a:lnTo>
                  <a:pt x="0" y="21084"/>
                </a:lnTo>
                <a:arcTo wR="3600" hR="3600" stAng="10800000" swAng="-5400000"/>
                <a:lnTo>
                  <a:pt x="18000" y="24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209680"/>
            <a:ext cx="3886200" cy="4114800"/>
          </a:xfrm>
          <a:custGeom>
            <a:avLst/>
            <a:gdLst>
              <a:gd name="textAreaLeft" fmla="*/ 189720 w 3886200"/>
              <a:gd name="textAreaRight" fmla="*/ 3696480 w 3886200"/>
              <a:gd name="textAreaTop" fmla="*/ 189720 h 4114800"/>
              <a:gd name="textAreaBottom" fmla="*/ 3925080 h 4114800"/>
            </a:gdLst>
            <a:ahLst/>
            <a:rect l="textAreaLeft" t="textAreaTop" r="textAreaRight" b="textAreaBottom"/>
            <a:pathLst>
              <a:path w="21600" h="22870">
                <a:moveTo>
                  <a:pt x="3600" y="0"/>
                </a:moveTo>
                <a:arcTo wR="3600" hR="3600" stAng="16200000" swAng="-5400000"/>
                <a:lnTo>
                  <a:pt x="0" y="19270"/>
                </a:lnTo>
                <a:arcTo wR="3600" hR="3600" stAng="10800000" swAng="-5400000"/>
                <a:lnTo>
                  <a:pt x="18000" y="228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4530600"/>
            <a:ext cx="2286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gyí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csinyí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t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1960" y="2590920"/>
            <a:ext cx="27334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év: Gipsz Jak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osz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anársegé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zetés: 200e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1960" y="4648320"/>
            <a:ext cx="17762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zetéstE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ladato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514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özéppont: Orig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480" y="335268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ár: 1 egy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3809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ület: 3.1415926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0600" y="129528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kalmazo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1371600"/>
            <a:ext cx="8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ö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Összetett típus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Összetett értéket csak objektummal lehet létrehozni: az egyetlen típuskonstrukci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nden összetett érték dinamik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nden összetett értékre referencián keresztül lehet hozzáfér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l. a tömbök is (speciális predefinit) osztály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Objektum paraméterké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többetKeresMint(Alkalmazott m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</a:rPr>
              <a:t>á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k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fizet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</a:rPr>
              <a:t>és &gt; másik.fizeté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</a:rPr>
              <a:t>public void keressenAnnyitM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Alkalmazott m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</a:rPr>
              <a:t>á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k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ásik.fizetéstBeállít(fizeté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őprogramban:      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a.keressenAnnyitMint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objektumreferencia érté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zerint ad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ódik át: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referencia szerinti paraméterátad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Olyan, mint a C-ben a cím szeri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ellékha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etódusoknak lehet mellékha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objektumon, amihez tartoz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globális objektumokon (System.o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araméterként átadott objektumok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public class Program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public static void fizetéstEm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( Alkalmazott a, int mennyivel 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.fizet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éstEmel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nyive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ont és a Kör osztályokhoz készítsd el a távolság() metódust, mely megadja az objektum távolságát egy, a paramétereként átadott Pont objektumtó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ör osztályban definiálj példánymetódust, mely a paramétereként átadott pont objektumot a kör objektum középpontjába állítja: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public void középpontba( Pont p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objektum élettart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incs olyan utasítás, amivel objektumot explicit módon meg lehet szüntet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nyelv biztonságosságát növe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métgyűjtés: ha már nem hivatkoznak egy objektumra, akkor azt meg lehet szüntet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Alkalm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zott a = new Alkalmazot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nul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m biztos, hogy megszűnik a program vége elő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zemétgyűj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odern nyelvekben gyak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iztonságos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öbbszörös hivatkozás esetén: ha az egyik hivatkozáson keresztül megszüntetjük az objektumot, egy másikon keresztül meg továbbra is használni próbálj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tékonyság: idő és tá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iklikus hivatkoz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métgyűjtő algoritmu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sztályszintű változók és metódus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67560" cy="12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tyúk és a tojás: programot csak objektumhoz tudunk készíteni (metódust), objektumot pedig csak a program futása közben tudunk létrehozn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4267080"/>
            <a:ext cx="77324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class hello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ublic static void main( String[] args 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System.out.println("hello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sztályszintű változók és metódusok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877760"/>
            <a:ext cx="7908840" cy="13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72520" indent="-272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z objektumoknak vannak attribútumai és műveletei, amiket az osztálydefinícióban adunk meg: példányváltozók és (példány)metóduso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4038480"/>
            <a:ext cx="84805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ublic class Alkalmazott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int fizetés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ublic void fizetéstEmel( int mennyivel ){ ...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sztályszintű változók és metódusok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906200"/>
            <a:ext cx="8839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269280" indent="-269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z osztályoknak is lehetnek: osztályszintű változók és osztályszintű metódusok. Ezeket is az osztálydefinícióban adjuk meg, de a static módosítószóv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4200" y="4079880"/>
            <a:ext cx="892980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atic int nyugdíjKorhatár = 6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atic void nyugdíjKorhatártEmel( int mennyivel 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yugdíjKorhatár += mennyive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életk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hátravan(){ return nyugdíjKorhatár - életkor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sztályszintű változók és metódusok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805880" cy="49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példányváltozók minden objektumhoz (az osztály minden példányához) létrejönnek, az osztályszintű változók az osztályhoz jönnek létre; azaz csak egy van, és minden objektum osztozik raj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példánymetódusok egy objektumhoz tartoznak: az első (kvázi implicit) paraméter az objektum; osztályszintű metódusok az osztály műveletei, az "első paraméter" az osztá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 osztályok is picit olyanok, mint az objektumok. (Azzal, hogy vannak attribútumaik és eseménykezelőik.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pcsolatok objektumok közö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sztá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hasonló objektumok gyűjtemén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uktúrális hasonlóság (reprezentáció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ionális hasonlóság (viselked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ípus: típusértékek halm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éldányosítás (osztál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kt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ációk: is-a, has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ációk, asszociáció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sztályszintű változók és metódusok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3596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z osztályszintű változók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ifejezhetik, hogy ugyanaz az attribútumérték van minden objektumhoz (nyugdíjKorhatá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 osztály állapotát rögzíthetik (kávépénz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8360" y="3936960"/>
            <a:ext cx="780264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static int kávépénz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ublic int kávéraBefizet(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fizetés -= 10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kávépénz += 10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static public kávétVesz(){ ...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sztályszintű változók és metódusok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static dolgokhoz nem kell objektum; a főprogram is ilyen vol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procedurális programozás imitálás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sztály - modu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sztályszintű metódus - alprogr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"Globális értékek", példa: System.out, Math.P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8058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őprogram működ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217520"/>
            <a:ext cx="8610480" cy="56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gy Java program egy osztály "végrehajtásának" felel meg: ha van statikus main nevű metódu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java-nak megadott nevű osztályt inicializálja a virtuális gép (pl. az osztályváltozóit inicializálja), és megpróbálja elkezdeni a main-jét. Ha nincs main: futási idejű hib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égetérés: ha a main végetér, vagy meghívjuk a System.exit(int)-et. (Kilépési állapot, nulla szokott a normális állapot lenni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main feje: amit eddig csináltunk. (Elvileg az args név helyett lehet más is, de az a megszokott.) A String[]-be kerülnek a virtuális gépnek átadott extra paraméterek. C-ben ugyanez: argc, argv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8360" y="2224080"/>
            <a:ext cx="8782200" cy="33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ublic class Argumentumok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ublic static void main( String[] args 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if (args.length &gt; 0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for (int i=0; i &lt; args.length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System.out.println(args[i]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 else 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System.out.println("nincsenek argumentumok"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ic változók inicializál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70724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78640" indent="-278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gyanúgy, mint a példányváltozóknál: az előfordulás sorrendjéb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2590920"/>
            <a:ext cx="74073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static int i = 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static int j = 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3429000"/>
            <a:ext cx="774072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7920" indent="-277920"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példányváltozók:</a:t>
            </a:r>
            <a:r>
              <a:rPr b="0" lang="en-GB" sz="29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minden példány létrehozásakor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osztályváltozók: egyszer, az osztály inicializációjakor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osztály inicializációja: az első rá vonatkozó hivatkozás kiértékelésekor (pl. példányosítás, metódus meghívása, változó hozzáférés)</a:t>
            </a:r>
            <a:r>
              <a:rPr b="0" lang="en-GB" sz="29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42600" y="18720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ic változók inicializálása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2496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icializátorban lehet már deklarált osztályszintű változó, de nem lehet példányváltozó; példányváltozó inicializátorában viszont lehet osztályszintű változó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038480"/>
            <a:ext cx="7704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static int k = i+j-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boolean túlkoros = életkor &gt; nyugdíjKorhatá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0200" y="4329000"/>
            <a:ext cx="782460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4952880"/>
            <a:ext cx="7824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7920" indent="-277920"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utomatikus inicializáció van: implicit kezdőérték</a:t>
            </a:r>
            <a:r>
              <a:rPr b="0" lang="en-GB" sz="2900" spc="-1" strike="noStrike">
                <a:solidFill>
                  <a:srgbClr val="000000"/>
                </a:solidFill>
                <a:latin typeface="Times New Roman (CE)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04840" y="4660920"/>
            <a:ext cx="69944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ivatkozás osztályszintű változó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5000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bjektumon és osztályon keresztül egyará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120" y="3032280"/>
            <a:ext cx="72374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Alkalmazott a = new Alkalmazott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 a.nyugdíjKorhatár 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 Alkalmazott.nyugdíjKorhatár 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1309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Hivatkozás osztályszintű változóra 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779436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nősítés nélkül: az aktuális objektum osztályának osztályszintű változójá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bjektumos minősítés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sztályos minősítéssel; objektumok, példányok hiányában is működi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3733920"/>
            <a:ext cx="91425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ublic class Számozott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static int következő = 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ublic final int SORSZÁM = következő++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8560" y="5489640"/>
            <a:ext cx="806616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5181480"/>
            <a:ext cx="80452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7920" indent="-277920"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példányváltozók inicializátora minden példányosításkor kiértékelődik. (Ez a mellékhatásos kifejezéseknél fontos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... és osztálymetódus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50080" cy="12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66400" indent="-266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sak az osztályváltozókhoz férhet hozzá, a példányváltozókhoz nem. (Nincs aktuális példány, mert akkor is végrehajtható, ha nincs példány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3520" y="4191120"/>
            <a:ext cx="82580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a.nyugdíjKorhatártEmel(5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Alkalmazott.nyugdíjKorhatártEmel(5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ör osztályhoz írj illeszkedik() műveletet, mely eldönti, hogy a paraméterként megadott Pont objektum illeszkedik-e a körvonalra - egy adott tűréshatáron belül. A tűréshatár értéke a Kör osztály jellemző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észíts olyan osztályszintű távolság m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letet, amelynek két Pont paramétert adhatunk á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Pont osztályhoz készíts műveletet, amely a paraméterként átadott két Pont objektum által meghatározott szakasz felezőpontját adja viss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élda objektumok kapcsolatá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3124080"/>
            <a:ext cx="3047760" cy="24386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06080" y="213372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5200" y="3809880"/>
            <a:ext cx="146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-koord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-koord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t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2133720"/>
            <a:ext cx="3733920" cy="426708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4267080"/>
              <a:gd name="textAreaBottom" fmla="*/ 4084920 h 4267080"/>
            </a:gdLst>
            <a:ahLst/>
            <a:rect l="textAreaLeft" t="textAreaTop" r="textAreaRight" b="textAreaBottom"/>
            <a:pathLst>
              <a:path w="21600" h="24684">
                <a:moveTo>
                  <a:pt x="3600" y="0"/>
                </a:moveTo>
                <a:arcTo wR="3600" hR="3600" stAng="16200000" swAng="-5400000"/>
                <a:lnTo>
                  <a:pt x="0" y="21084"/>
                </a:lnTo>
                <a:arcTo wR="3600" hR="3600" stAng="10800000" swAng="-5400000"/>
                <a:lnTo>
                  <a:pt x="18000" y="24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1371600"/>
            <a:ext cx="8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ö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4530600"/>
            <a:ext cx="2286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gyí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csinyí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t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819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özéppont: Orig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480" y="335268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ár: 1 egy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3809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ület: 3.1415926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5" idx="3"/>
            <a:endCxn id="79" idx="1"/>
          </p:cNvCxnSpPr>
          <p:nvPr/>
        </p:nvCxnSpPr>
        <p:spPr>
          <a:xfrm>
            <a:off x="3276360" y="3048120"/>
            <a:ext cx="2515320" cy="129600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78058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 this pszeudováltoz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796932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Az osztálydefiníción belül a példánymetódusokban this névvel hivatkozhatunk az aktuális objektumra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A static metódusokban a this persze nem használható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Ez egy predefinit név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Noha a this.valami-hez általában nem kell a minősítés, időnként azért szükség lehet rá. És olyan is van, amikor maga a this kell (pl. átadni paraméterként)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4343400"/>
            <a:ext cx="841212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boolean kevesebbetKeresMint( Alkalmazott másik 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return másik.többetKeresMint(thi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ublic void fizetéstBeállít( int fizetés 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this.fizetés = fizeté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ör osztály sugaratBeállít metódusának formális paramétere legyen ugyanúgy elnevezve, mint a sugár attribút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évütközés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éldányváltozó és formális paraméter neve megegyezhet. Példa: előbb... ELFED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tódusnév és változónév megegyezhet, mert a () megkülönbözteti őket a hivatkozásko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4800600"/>
            <a:ext cx="80996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int fizeté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ublic int fizetés(){ return fizetés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58440" y="287280"/>
            <a:ext cx="7805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tódusnevek túlterhel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gyanazt a nevet használhatom több metódushoz, ha különböző a szignatú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szignatúra: név plussz paraméterek típusának sorozata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"metódusnév túlterhelése"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meghíváskor az aktuális paraméterek száma és (statikus) típusa alapján dönt a fordító (nem számít a visszatérési érték, mert anélkül is meg lehet egy metódust hívni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valaminek illeszkednie kell, különben fordítási hib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295280"/>
            <a:ext cx="727380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void fizetéstEmel( int növekmény 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fizetés += növekmény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void fizetéstEmel(){ fizetés += 5000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void fizetéstEmel( Alkalmazott másik 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if (kevesebbetKeresMint(másik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fizetés = másik.fizeté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a.fizetéstEmel(10000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a.fizetéstEmel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a.fizetéstEmel(b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14400" y="1295280"/>
            <a:ext cx="727380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void fizetéstEmel( int növekmény 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fizetés += növekmén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void fizetéstEmel(){ </a:t>
            </a:r>
            <a:r>
              <a:rPr b="1" lang="en-GB" sz="2200" spc="-1" strike="noStrike">
                <a:solidFill>
                  <a:srgbClr val="000000"/>
                </a:solidFill>
                <a:latin typeface="Courier (CE)"/>
              </a:rPr>
              <a:t>fizetéstEmel(5000)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void fizetéstEmel( Alkalmazott másik 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if (kevesebbetKeresMint(másik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      </a:t>
            </a: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fizetés = másik.fizeté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a.fizetéstEmel(10000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a.fizetéstEmel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(CE)"/>
              </a:rPr>
              <a:t>a.fizetéstEmel(b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szíts középpontos tükrözést végző műveleteket a Pont és a Kör osztályokb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űveleteket meg lehessen hívni Pont objektummal is és két koordinátával (cx,cy) i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ósítsd meg a középpontos tükrözés műveleteket úgy, hogy egymást hívjá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-152640"/>
            <a:ext cx="78058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Öröklőd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76852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Osztály kiegészítése új tagokkal (példányváltozókkal, metódusokkal)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Szülőosztály, gyermekosztály. Tranzitív lezárt: ős, leszármazott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öröklés: a szülő tagjaival is rendelkezi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3508200"/>
            <a:ext cx="891540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ublic class Főnök extends Alkalmazott 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int beosztottakSzáma = 0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ublic void újBeosztott( Alkalmazott beosztott 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Osztályhierarch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685440"/>
            <a:ext cx="8136000" cy="60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97000" indent="-2970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z öröklődési relációt gráfként megadva osztályhierarchiának is nevezik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egyszeres öröklődés esetén ez egy (irányított) erdő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Java-ban van egy "univerzális ősosztály", az Object, minden osztály ennek a leszármazottj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5120" indent="-2494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ha nem adunk meg extends-et, akkor implicit extends Object va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5120" indent="-2494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Object: predefinit, a java.lang-ban van definiálv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5120" indent="-2494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olyan metódusokat definiál, amelyekkel minden objektumnak rendelkeznie kel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5120" indent="-249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inden, ami nem primitív típusú (int, char, stb.), az Object leszármazottj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ehát az osztályhierarchia egy irányított f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ozzáférési kategóri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269280" indent="-269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formáció-elrejtés: nem jó, ha "mindenki mindent lát"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5360" indent="-2264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a program komponensei jól meghatározott, szűk   interfészen keresztül kapcsolódnak össz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85360" indent="-2264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egy komponensen belül erős kohézió, komponensek között korlátozott, szűkített interfész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85360" indent="-2264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a program növekedése nem okoz exponenciális, csak lineáris komplexitás-növekedést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85360" indent="-226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nyelvi támogatás ajánlott az információ elrejtéséhez, hogy ne a programozónak kelljen mindenre figyeln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élda: osztályok és kapcsolata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133720"/>
            <a:ext cx="3733920" cy="4267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3124080"/>
            <a:ext cx="3047760" cy="2438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4530600"/>
            <a:ext cx="2286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gyí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csinyí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t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819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özéppont: P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35268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ár: Szá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809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ület: Szá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24120" y="3809880"/>
            <a:ext cx="198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-koord: Szá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-koord: Szá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t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720" y="327672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2286000"/>
            <a:ext cx="8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ö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4114800"/>
            <a:ext cx="609480" cy="6094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44197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80588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ozzáférési kategóriák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1760" y="1066320"/>
            <a:ext cx="7807320" cy="52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81520" indent="-281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omponensek a Java programokban: elsősorban osztályok és csomagok szintjé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2000" indent="-23652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Amivel mi most foglalkozunk: minden egy (névtelen) csomagban, pl. minden használt osztály egy könyvtárban lefordítva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12000" indent="-236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Osztályok szintjén: adattagok és metódusok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520" indent="-281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éld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2000" indent="-23652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Kör osztály (sugár és terüle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12000" indent="-23652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Alkalmazott osztály (fizetés és évesFizeté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12000" indent="-236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Csak egyszerre lehet babrálni, hogy a típusinvariáns megmaradjon: metóduson keresztül lehessen csak csinálni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17520" y="115920"/>
            <a:ext cx="8470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Módosító szavak: public, private, protecte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27892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90880" indent="-290880">
              <a:spcBef>
                <a:spcPts val="5374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minden tag pontosan egy hozzáférési kategóriában lehet, ezért ezen módosítószavak közül max. egyet lehet használni egy tagho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0880" indent="-290880">
              <a:lnSpc>
                <a:spcPct val="30000"/>
              </a:lnSpc>
              <a:spcBef>
                <a:spcPts val="5374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Félnyilvános tago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ha nem írunk semmi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800" indent="-2444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azonos csomagban definiált osztályok (objektumai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90880" indent="-290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yilvános tago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publi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800" indent="-2444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különböző csomagokban definiált osztályok is elérik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800" indent="-2444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írás/olvasás szabályozása: nincs "read-only"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800" indent="-244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megoldás: lekérdező függvénnyel (akár ugyanazzal a     névvel is lehet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609120" y="228600"/>
            <a:ext cx="780732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97000" indent="-297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Privát tago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priv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5120" indent="-2494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csak az osztálydefiníción belül érhető el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45120" indent="-2494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az osztály minden objektuma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45120" indent="-249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jó lenne egy még szigorúbb is, de ilyen ninc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Védett tago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protecte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5120" indent="-2494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a félnyilvános kategória kiterjesztése: azonos csomag, plussz a leszármazottak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45120" indent="-249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Az örökölt tagok mindig ott vannak, de nem mindig érhetőek el (közvetlenül) a gyerekből, csak ha a szülő ezt megengedi a hozzáférési módosítokkal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54360" indent="-198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. egy private változóhoz/metódushoz nem fér hozzá, csak esetleg közvetett úton, más (örökölt) metódusokon keresztü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szítsd el a SzínesPont osztályt a Pont osztály leszármazottjaként. Új tulajdonság: szín. Új műveletek: szín beállítása és lekérdezése. A szín attribútum legyen privá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icializác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60280" indent="0">
              <a:spcBef>
                <a:spcPts val="17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 típusinvariáns megteremtése példányosításkor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0280" indent="-260280">
              <a:spcBef>
                <a:spcPts val="4813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éldányváltozók inicializációj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0280" indent="-260280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nehézkes a példányosítást "felparaméterezni" (de nem lehetetlen, lásd a Számozott példát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0280" indent="-260280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nicializálás egy extra metódussal, pl. ini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0280" indent="-260280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más megoldás lenne a Factory, amikor az osztály egy osztályszintű metódusát lehetne használni példányosításr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ctory metód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8440" y="4871880"/>
            <a:ext cx="7805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60280" indent="-260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ég mindig veszélyes, jobb nyelvi szinten összekapcsolni a példányosítást és az inicializálá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3520" y="1828800"/>
            <a:ext cx="822780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ublic class Alkalmazott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static public Alkalmazott példányosít( ... 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Alkalmazott a = new Alkalmazott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78058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Konstruktor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440" y="756720"/>
            <a:ext cx="7807320" cy="610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rogramkód, ami a példányosításkor "automatikusan" végrehajtódik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hasonlít a metódusokra, de nem pont ugyanolyan (nem tag, mert pl. nem öröklődik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 konstruktor neve = az osztály nevéve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aramétereket vehet á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öbb (különböző szignatúrájú) konstruktor is lehet egy osztályba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csak példányosításkor hajtódhat végre (new mellett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 visszatérési típust nem kell megadni, mert az adot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80880" y="158760"/>
            <a:ext cx="8610840" cy="60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class Alkalmazott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ublic Alkalmazott( String név, int fizetés 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this.név = név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this.fizetés = fizeté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évesFizetés = 12*fizeté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ublic Alkalmazott( String név 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this.név = név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this.fizetés = 4000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évesFizetés = 12*fizeté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86868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Módosítók közül csak a hozzáférési kategóriát adók használhatók (vannak egyébként mások is, pl. a final)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 törzs olyan, mint egy void visszatérési értékű metódusé, a paraméter nélküli return-t használhatjuk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Szokás: ugyanazokat a neveket használhatjuk konstruktor formális paraméternek, mint a példányváltozóknak (this használata)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Meghívhat egy másik konstruktort is, this névvel: az első utasítás lehet csak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4800600"/>
            <a:ext cx="87310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ublic Alkalmazott( String név 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this(név,40000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 konstruktorok előtt a rendszer lefoglalja a tárat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ha a programozó nem ír konstruktort, akkor létrejön egy implicit, ami public, paraméter nélküli és üres törzsű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0" algn="ctr">
              <a:lnSpc>
                <a:spcPts val="0"/>
              </a:lnSpc>
              <a:spcBef>
                <a:spcPts val="36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urier New"/>
              </a:rPr>
              <a:t>public Főnök(){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3112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 hozzáférési kategóriák vonatkoznak a konstruktorokra i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25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Használat: new után paraméterek megadás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ktuális argumentumok a konstruktornak: ezek döntik el, hogy melyik konstruktor hívódik meg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5740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Ha nem írtunk konstruktort, akkor nem adunk át paramétert és az implicit konstruktor hívódik meg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élda: osztályok és kapcsolataik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2133720"/>
            <a:ext cx="3886200" cy="4114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4920" y="228600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kalmazo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3320" y="2895480"/>
            <a:ext cx="21740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év: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osz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zetés: Szá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2240" y="4952880"/>
            <a:ext cx="17762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zetéstE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ladato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4229280"/>
            <a:ext cx="2489040" cy="1828800"/>
          </a:xfrm>
          <a:custGeom>
            <a:avLst/>
            <a:gdLst/>
            <a:ahLst/>
            <a:rect l="l" t="t" r="r" b="b"/>
            <a:pathLst>
              <a:path w="1568" h="1152">
                <a:moveTo>
                  <a:pt x="0" y="312"/>
                </a:moveTo>
                <a:cubicBezTo>
                  <a:pt x="560" y="156"/>
                  <a:pt x="1120" y="0"/>
                  <a:pt x="1344" y="120"/>
                </a:cubicBezTo>
                <a:cubicBezTo>
                  <a:pt x="1568" y="240"/>
                  <a:pt x="1568" y="912"/>
                  <a:pt x="1344" y="1032"/>
                </a:cubicBezTo>
                <a:cubicBezTo>
                  <a:pt x="1120" y="1152"/>
                  <a:pt x="560" y="996"/>
                  <a:pt x="0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4572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1520" y="57150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őnö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240" y="45720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oszt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1219320"/>
            <a:ext cx="2743200" cy="1600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89880" y="1314360"/>
            <a:ext cx="12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198108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év: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2819520"/>
            <a:ext cx="533160" cy="5331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352680"/>
            <a:ext cx="2895480" cy="304920"/>
          </a:xfrm>
          <a:custGeom>
            <a:avLst/>
            <a:gdLst/>
            <a:ahLst/>
            <a:rect l="l" t="t" r="r" b="b"/>
            <a:pathLst>
              <a:path w="1824" h="192">
                <a:moveTo>
                  <a:pt x="0" y="192"/>
                </a:moveTo>
                <a:lnTo>
                  <a:pt x="1776" y="192"/>
                </a:lnTo>
                <a:lnTo>
                  <a:pt x="18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599760" y="900000"/>
            <a:ext cx="7807320" cy="17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 konstruktor nem örökölhető, de meghívható (a this-hez hasonlóan) a szülőosztálybeli konstruktor a legelső sorban: super névvel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5440" y="3102120"/>
            <a:ext cx="8086680" cy="30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ublic class Főnök extends Alkalmazott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ublic Főnök( String név, int fizetés 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super(név,fizeté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beosztottakSzáma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ublic Főnök( String név 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this(név,100000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52280" y="93600"/>
            <a:ext cx="88394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lnSpc>
                <a:spcPct val="70000"/>
              </a:lnSpc>
              <a:spcBef>
                <a:spcPts val="3674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 egy konstruktor nem hív meg másik konstruktort, akkor implicit módon egy paraméter nélküli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uper()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ívás kerül bele; ha nincs paraméter nélküli konstruktora a szülőnek, akkor fordítási hib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70000"/>
              </a:lnSpc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 implicit konstruktor üres, tehát abba is bekerül implicit super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2530440"/>
            <a:ext cx="88390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SzínesPont extends Pont { int szín = 0;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implicit generálódik:</a:t>
            </a:r>
            <a:r>
              <a:rPr b="0" lang="en-GB" sz="2000" spc="-1" strike="noStrike">
                <a:solidFill>
                  <a:srgbClr val="000000"/>
                </a:solidFill>
                <a:latin typeface="Courier (CE)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zínesPont() { super(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Négyze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old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Négyzet( int oldal ){ this.oldal = oldal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SzínesNégyzet extends Négyze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zín = 0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ordítási hiba, mert:</a:t>
            </a:r>
            <a:r>
              <a:rPr b="0" lang="en-GB" sz="2000" spc="-1" strike="noStrike">
                <a:solidFill>
                  <a:srgbClr val="000000"/>
                </a:solidFill>
                <a:latin typeface="Courier (CE)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zínesNégyzet() { super(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769680" y="985680"/>
            <a:ext cx="7807320" cy="29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84760" indent="-284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super megelőzi az osztálydefinícióban szereplő példányváltozó inicializálásokat, a többi része a konstruktornak viszont csak utánuk jö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760" indent="-284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gy protected konstruktort csak super-ként lehet meghívni a csomagon kívül, new-val csak csomagon belül lehe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ont és Kör osztályokhoz készíts konstruktorokat. A Pont osztályhoz csak egyet, aminek a koordinátákat lehet átadni. A Kör osztályhoz hárm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minek a sugár mellett egy Pont objektumo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lletve a középpont koordinátáit lehet átadn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alamint egy paraméter nélküli konstrukt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lyik Kör konstruktor hívhat meg egy másikat? Mit jelentenek a különböző lehetősége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ért nem fordul a SzínesPont osztály? Javítsd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icializáló blokk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923240" cy="13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99880" indent="-299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Utasításblokk a tagok (példány- és osztályszintű változók és metódusok) és konstruktorok között, az osztálydefiníción belü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0880" y="2666880"/>
            <a:ext cx="8534520" cy="40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class Számozott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static int következő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ublic final int SORSZÁM = következő++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int fac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fact = 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for (int j=2; j&lt;=SORSZÁM; j++) fact *= j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78948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sztályinicializátor és példányinicializátor (az utóbbi csak a Java 1.1 óta). Az osztályszintű inicializátor a static kulcsszóval kezdődi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3352680"/>
            <a:ext cx="800100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tatic int i = 10, ifac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tatic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fact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 (int j=2; j&lt;=i; j++) ifact *= 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152280" y="101520"/>
            <a:ext cx="8839440" cy="76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osztályszintű inicializátor: az osztály inicializációjakor fut le, az osztályszintű konstruktorokat helyettesíti (hiszen olyanok nincsenek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példányinicializátor: példányosításkor fut le, a konstruktorokat egészíti ki; pl. oda írhatjuk azt, amit minden konstruktorban végre kell hajtani (névtelen osztályoknál is jó, mert ott nem lehet konstruktor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több inicializáló blokk is lehet egy osztályba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végrehajtás (mind osztály-, mind példányszinten): a változók inicializálásával összefésülve, definiálási sorrendben; nem hivatkozhatnak később definiált változókra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nem lehet benne return utasítá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a példányinicializátor az osztály konstruktora előtt fut le, de az ősosztályok konstruktora utá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nem szoktuk a "tagok" közé sorolni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struktorok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99880" indent="-299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..márpedig nincsenek, hiszen szemétgyűjtés v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9880" indent="-299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égis, tudomást szerezhetünk az objektum megsemmisítéséről, ami fontos bizonyos applikációkná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9880" indent="-299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nalize metódust kell írni (az Object-ben van definiálva). Adott forma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9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protected void finalize(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9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throws Throwable { ...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9880" indent="-299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ntosan nem definiált, hogy mikor hívódik meg: ami biztos, hogy a tárterület újrafelhasználása előt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"Destruktorok" osztályokh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sztályszinten is van ilye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tatic void classFinalize(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throws Throwable { ...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 már nem rendelkezik példányokkal, és más módon sem hivatkoznak rá, akkor az osztály törölhető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Öröklődés meg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567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z öröklődés révén kód-újrafelhasználás jön létre, a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kód redundanciáját csökk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m csak a programozást könnyíti meg, hanem az olvashatóságot és a karbantarthatóságot is növe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z öröklődés nem csak kódmegosztást jelent, hanem altípus képzés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rvezési szintű fogal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59:02Z</dcterms:created>
  <dc:creator>kto</dc:creator>
  <dc:description/>
  <dc:language>en-US</dc:language>
  <cp:lastModifiedBy>kto</cp:lastModifiedBy>
  <dcterms:modified xsi:type="dcterms:W3CDTF">2006-04-27T13:11:23Z</dcterms:modified>
  <cp:revision>43</cp:revision>
  <dc:subject/>
  <dc:title>A Java programozási nyelv Objektum-elvű programozá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elte.hu/~kto/</vt:lpwstr>
  </property>
  <property fmtid="{D5CDD505-2E9C-101B-9397-08002B2CF9AE}" pid="9" name="LinkColor">
    <vt:r8>16711782</vt:r8>
  </property>
  <property fmtid="{D5CDD505-2E9C-101B-9397-08002B2CF9AE}" pid="10" name="MailAddress">
    <vt:lpwstr>kto@elte.h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WIN98\Profiles\kto\My Document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