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Times New Roman"/>
              </a:rPr>
              <a:t>App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 nyelv elsődleges számú reklám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oldalak aktívvá tevésé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s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-böngésző által futtatott Jav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lehetőség (a sok közül) a Java-ban hálózatos programok készítés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rafikus felhasználói felületű programoc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ppletviewer ind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elloApplet.class   HelloApple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 appletviewer hell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re valók az applete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hálózaton keresztül használt program grafikus felhasználói felü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yakran egy „vékony” kliens egy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liens-szerver architektúrájú program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liens számítógépet terhelő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PU-t és a memóriát a kliens gépen fogl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izton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ppletet hálózatról töltjük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eszélyes, nem szeretnénk, ha akármit megtehet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ppletekre szigorú biztonsági előírások vonatkoz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igorúbbak, mint az applikációk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xtra jogokat lehet persze adni neki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t nem tehet egy ap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értelmezésben egy app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használhat fájlokat a kliens számítógé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nyithat hálózati kapcsolatot más gépre, mint ahonnan letöltöt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hívhat natív (nem Java-ban írt) metódus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ogosultságokat biztosító fájlokkal ez megváltoztat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áírt appletek: valaki kezességet vállal ért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d át a szövegszerkesztő programot appletté! Ne a menüs változatot, mert az Applet osztály nem tudja a menüsor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d futtatni lokális gépen, illetve távolró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ppletek paraméter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öngésző mindig a paraméter nélküli konstruktort hívja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áz, ha nincs ilyen, vagy valami nem publi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nnan is venne paramétereke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paraméterezhető a megszokott mó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ezzük a HTML fájl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k String paramét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rükkös módon jut hozzá a paraméterek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araméteres applet t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applet code=HelloApplet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idth=300 height=200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&lt;param name=c</a:t>
            </a:r>
            <a:r>
              <a:rPr b="1" lang="hu-HU" sz="3200" spc="-1" strike="noStrike">
                <a:solidFill>
                  <a:srgbClr val="3333cc"/>
                </a:solidFill>
                <a:latin typeface="Courier New"/>
              </a:rPr>
              <a:t>ímke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 value=kto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&lt;/par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&lt;param name=gomb value=hello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&lt;/para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araméter átvét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ort java.awt.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class HelloApplet extends Applet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public void init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add(new Label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getParameter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"címke")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add(new Button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getParameter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("gomb")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k 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init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ban hívható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 elmarad a paramét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ort java.awt.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class HelloApplet extends Applet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init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String s = getParameter("címke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f( s==null )  s = "&lt;üres&gt;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dd(new Label(s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mberke appletet lehessen paraméterezni, hogy a keze kezdetben merre legyen: fel, vagy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ik sem, írjunk ki hibaüzenetet a szabványos hibacsatornára, és legyen a keze lef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 is egy app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juk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java.appl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csomag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osztály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leszármazot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ppletek 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osztály példányai, azaz egy objektum, és nem egy 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applet a böngésző ablakában egy terület, amire kirajzolhatja magát (grafikus felh. fe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rsze, ha akar - és megengedik neki - nyithat újabb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Window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kat (pl.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ek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abványos kimenet: java konz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l jelenik meg a szabványos kimenet és hibacsatorna rendes böngészők (nem appletviewer) eseté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kapcsolható az ún. Java konz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nen tudhatjuk meg pl. a hibák oká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d ki az Emberke appletet íg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pplet és applikáció egyszer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szor úgy készítünk el egy klienst, hogy az applikációként is és appletként is indítható legy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hhez ügyesen kell hívogatni az inicializáló rutin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juk ki mondjuk az Emberke applette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ort java.applet.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; import java.awt.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class HelloApplet extends Applet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void init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s = getParameter("címke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f( s==null )  s = "&lt;üres&gt;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icializ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void inicializ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dd(new Label(s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/** Csak appletként hívható!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HelloApplet(){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ort java.applet.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; import java.awt.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class HelloApplet extends Applet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void inicializ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(){ ...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/** Applikációból csak ez hívható!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HelloApplet(String 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{this.s=s; inicializá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();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Frame f = new Frame("Hello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f.add(new HelloApplet("hello"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etciklus-metódu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 nélküli konstruk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öngésző először ezt hívja m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ublic void ini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zvetlenül a konstruktor u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nit után, illetve mindig, amikor újra az appletet tartalmazó oldalra lépü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mikor elhagyjuk az appletet tartalmazó old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szteljük az életciklus-metódusokat, és határozzuk meg kapcsolatukat a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ublic void paint( Graphics g )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ódus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épek és hang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ppleteket eleve arra találták ki, hogy HTML oldalakat csicsázzunk ki vel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gy képfájlok megjelenítését és hangfájlok lejátszását igazán könnyűvé tett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pplet származási helyéről egyszerűen letölthetők, néhány metódussal könnyen használha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rsze sima applikációkból is lehet képeket és hangokat kezelni, csak bonyolultabb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ngfájl lejáts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class Hangos extends App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void init(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lay( getCodeBase(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audio/Laser.wav"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ngfájl lejáts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udioClip clip = getAudioClip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CodeBase(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audio/Laser.wav"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ip.play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ip.loop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épfájl megjelení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class Hangos extends App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age k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void init(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 = getImage( getCodeBase(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pics/hills.gif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void paint(Graphics g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.drawImage(k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,0,0,thi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import java.awt.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class HelloApplet extends Applet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ublic HelloApplet(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add(new Label("Hello"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sztály és a konstruktor is publi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udnivalók képekrő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 drawImage paraméterében egy ImageObserver - az Applet megvalósítj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töltés: megjelenítléskor, nem a getImage hat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hetőség van előre letölteni a képet: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ediaTr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szinkron töltődik le a ké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ni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képet letöltü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előre egy MediaTracker segítségé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külön végrehajtási szálat csinálunk, mely váltogatja a képeket bizonyos időközöné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pplet tag paraméter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nnan kell letölteni: a HTML oldalhoz képest relatív URL is megadható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debase="applets/classe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akran az applet kódját (a használt egyéb - nem standard - osztályok kódjával és) a használt erőforrásfájlokkal (képek, hangok) együtt összecsomagoljuk egy jar fájlba, és azt töltetjük le a böngésző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tékonyabb tud lenn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p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Úgy, ahogy az awt-beli komponenseknek a Swing-ben is vannak megfelelőik, 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osztálynak is van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javax.swing.JApp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hatjuk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helyett appletek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rtalmazhat már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JMenuBa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gyan használ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html&gt;&lt;head&gt;&lt;/head&gt;&lt;body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&lt;applet code=HelloApplet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width=300 height=200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&lt;/apple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beteszem egy html fájlba, pl.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ello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ányos HTML fáj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&lt;applet code=HelloApplet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width=300 height=200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&lt;/apple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oha nem helyes HTML dokumentum, a böngészők többsége ezt is tudja értelm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próbá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gyen a HTML fájl és a hivatkozott Java class fájl ugyanabban a könyvtá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WEB-böngészővel jelenítsük meg a HTML old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mégsem me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incs engedélyezve a böngészőben a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publikus az appletünk vagy a paraméter nélküli konstru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úl régi a böngészőbe integrált virtuális gé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Java plug-in segíth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mberke programot írjuk át applet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től fut az app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öngésző betölti a HTML old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tölti egy HTTP szervert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olvassa fájlból a helyi gé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telmezése közben megtalálja az applet tag-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honnan a HTML oldalt, letölti a class fáj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nyosítja az applet osztályt a paraméter nélküli konstruktorral (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zzárendel egy területet a böngeszőablakból, width és height alapján (kötelező megad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rajzolja, és vezérlést ad neki (AWT szál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ppletvie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öngészők nem frissítik a már egyszer betöltött appletet - hiába a refresh g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nyelmetlen így fejleszt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 változtatás után ki kell lépni a büngészőből, majd újra belép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ldás: applet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jlesztői rendszer része (mint javac, ja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egyszerű böngésző, mely csak az appleteket jeleníti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orsan elindu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to</cp:lastModifiedBy>
  <dcterms:modified xsi:type="dcterms:W3CDTF">2006-04-27T16:00:57Z</dcterms:modified>
  <cp:revision>5</cp:revision>
  <dc:subject/>
  <dc:title>Appletek</dc:title>
</cp:coreProperties>
</file>