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7708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84080" y="2743200"/>
            <a:ext cx="780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Tömbök, kollekciók és egyéb alaposztály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8073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somagoló 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rimitív típusokhoz léteznek csomagoló (wrapper) osztályok: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Integ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By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Dou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Bool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s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i = 4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eger j = new Integer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kor használjuk őket, ha primitív típusú értéket akarunk objektumként használni. Például, ha 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toStrin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én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ystem.out.println("mind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" + 4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hhez ez k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ew Integer(42).toString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y másik fontos példa kicsit később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ector v = new Vector();      v.add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600" y="115560"/>
            <a:ext cx="78073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somagoló osztályo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5848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oolean   Boolean           byte   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har      Character         short  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      Integer           long   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loat     Float             double  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537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űveletek pl. a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Integ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sztályhoz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c int parseInt(String s [, int radix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eger( String 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c String toString( int i [, int radix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inal static int MIN_VALUE, MAX_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ég néhány érdekes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th.PI, Math.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bs(), sqrt(), pow(), log(), min(), floor(), round(), rint(), random(), sin(), asin(), toRadians(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040" indent="-3074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, out, 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urrentTimeMilis(), exit(int), gc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040" indent="-307440">
              <a:spcBef>
                <a:spcPts val="4813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-27288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szám jellegű csomagoló osztályok közös ő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Java nyelv specifikációja megengedi a fordítóknak, hogy ne hozzanak létre azonos string-lite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okho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külön objektumokat. Próbáld ki, hogy az általad használt fordító mily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s mi a helyzet két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bjektum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String-es feladatho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tring s = new String("Szia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tring z = new String("Szia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( s == z )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ömbö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k, azonos típusba tartozó érték tárolásá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tékony elérés: index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őigényes beszúrás és tör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28640" y="303120"/>
            <a:ext cx="7805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 (CE)"/>
              </a:rPr>
              <a:t>Egy régi példaprogram fel-e-le-ve-ní-té-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280" y="1676520"/>
            <a:ext cx="8802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ass Hossz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static void main(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ring args[]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(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gs.lengt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&gt;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gs[0]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length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533840"/>
            <a:ext cx="55004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ömb típusú változó definíció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nt t[]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nt[] t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8120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93760">
              <a:lnSpc>
                <a:spcPct val="90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változó deklarációja nem hozza létre a tömbö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ömbtípusok olyanok, mint az osztályok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ömbök lényegében objektum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47ff"/>
                </a:solidFill>
                <a:latin typeface="Courier New"/>
              </a:rPr>
              <a:t>int[] t = new int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70000"/>
              </a:lnSpc>
              <a:spcBef>
                <a:spcPts val="5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47ff"/>
                </a:solidFill>
                <a:latin typeface="Courier New"/>
              </a:rPr>
              <a:t>int t[] = new int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90000"/>
              </a:lnSpc>
              <a:spcBef>
                <a:spcPts val="3336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y tömb típusú változó csak egy refer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100000"/>
              </a:lnSpc>
              <a:spcBef>
                <a:spcPts val="1536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[]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x = s[0]; int y = s.length;</a:t>
            </a:r>
            <a:r>
              <a:rPr b="0" lang="en-GB" sz="2900" spc="-1" strike="noStrike">
                <a:solidFill>
                  <a:srgbClr val="000000"/>
                </a:solidFill>
                <a:latin typeface="Courier (CE)"/>
              </a:rPr>
              <a:t>   </a:t>
            </a:r>
            <a:r>
              <a:rPr b="0" lang="en-GB" sz="2900" spc="-1" strike="noStrike">
                <a:solidFill>
                  <a:srgbClr val="ff0000"/>
                </a:solidFill>
                <a:latin typeface="Times New Roman"/>
              </a:rPr>
              <a:t>Hibásak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míg nincs létrehozva a tömb objektum, addig nem megy!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ullPointer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100000"/>
              </a:lnSpc>
              <a:spcAft>
                <a:spcPts val="1026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[3] x; int y[3];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900" spc="-1" strike="noStrike">
                <a:solidFill>
                  <a:srgbClr val="ff0000"/>
                </a:solidFill>
                <a:latin typeface="Times New Roman"/>
              </a:rPr>
              <a:t>Hibásak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8055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ömb létreho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8055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tömb elemeinek elér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53920"/>
            <a:ext cx="914400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93760">
              <a:lnSpc>
                <a:spcPct val="110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ömbök nullától indexelődnek, hossz mínusz egy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80000"/>
              </a:lnSpc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hosszt a tömb létrehozásakor adjuk me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osszt megváltoztatni nem leh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–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eferenciának viszont mindegy, hogy milyen hosszú a tömb.</a:t>
            </a:r>
            <a:br>
              <a:rPr sz="25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[] x = new int[5];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 = new int[7];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y[]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hossz lekérdezése:</a:t>
            </a:r>
            <a:r>
              <a:rPr b="0" lang="en-GB" sz="2900" spc="-1" strike="noStrike">
                <a:solidFill>
                  <a:srgbClr val="000000"/>
                </a:solidFill>
                <a:latin typeface="Times New Roman (CE)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gs.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ömb indexelése:</a:t>
            </a:r>
            <a:r>
              <a:rPr b="0" lang="en-GB" sz="2900" spc="-1" strike="noStrike">
                <a:solidFill>
                  <a:srgbClr val="000000"/>
                </a:solidFill>
                <a:latin typeface="Times New Roman (CE)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gs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80000"/>
              </a:lnSpc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uttató rendszer ellenőrzi az indexhatárokat!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 nem stimmel:</a:t>
            </a:r>
            <a:r>
              <a:rPr b="0" lang="en-GB" sz="29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76560" y="304560"/>
            <a:ext cx="426708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ömb feltöl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838080"/>
            <a:ext cx="822960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(CE)"/>
              </a:rPr>
              <a:t>double[] t = new double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(CE)"/>
              </a:rPr>
              <a:t>t[0] = 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(CE)"/>
              </a:rPr>
              <a:t>t[1] = 2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(CE)"/>
              </a:rPr>
              <a:t>t[2] = 3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(CE)"/>
              </a:rPr>
              <a:t>double[] s = new double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(CE)"/>
              </a:rPr>
              <a:t>for( int i = 0; i &lt; s.length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(CE)"/>
              </a:rPr>
              <a:t>  </a:t>
            </a:r>
            <a:r>
              <a:rPr b="1" lang="en-GB" sz="2400" spc="-1" strike="noStrike">
                <a:solidFill>
                  <a:srgbClr val="0000ff"/>
                </a:solidFill>
                <a:latin typeface="Courier (CE)"/>
              </a:rPr>
              <a:t>s[i]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(CE)"/>
              </a:rPr>
              <a:t>double[] v = {1.0, 2.0, 3.0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(CE)"/>
              </a:rPr>
              <a:t>double[] 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(CE)"/>
              </a:rPr>
              <a:t>w = new double</a:t>
            </a:r>
            <a:r>
              <a:rPr b="1" lang="en-US" sz="2400" spc="-1" strike="noStrike">
                <a:solidFill>
                  <a:srgbClr val="3333cc"/>
                </a:solidFill>
                <a:latin typeface="Courier (CE)"/>
              </a:rPr>
              <a:t>[] </a:t>
            </a:r>
            <a:r>
              <a:rPr b="1" lang="en-GB" sz="2400" spc="-1" strike="noStrike">
                <a:solidFill>
                  <a:srgbClr val="3333cc"/>
                </a:solidFill>
                <a:latin typeface="Courier (CE)"/>
              </a:rPr>
              <a:t>{1.0, 2.0, 3.0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éhány alaposztály, amit ismerni ill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92000" y="1991880"/>
            <a:ext cx="54594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ing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er, Double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ktumok tömb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447920"/>
            <a:ext cx="737892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 (CE)"/>
              </a:rPr>
              <a:t>Igazándiból referenciákból álló töm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Pont[] 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t = new Pont[3]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for (int i=0; i&lt;3; i++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t[i] = new Pont(i,2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Pont[] s = { new Pont(1,2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new Pont(2,2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new Pont(3,2) 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Verem osztály mintájára készítsd el a Sor osztályt! A sor Object-eket tárol, műveletei a put és a get. A reprezentációhoz használj tömböt, melynek méretét a konstruktornak kell átadni paraméterké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gítség: tarts nyilván két indexet, amelyek azt jelzik, hogy a soron következő get, ill. put művelet melyik elemen kell dolgozzon. A két index járjon körbe-körbe a tömbön. Kivételkezeléssel (ü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gy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le a sor) ne foglalkoz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4680" y="-360"/>
            <a:ext cx="5899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Verem 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8160"/>
            <a:ext cx="8609040" cy="66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ublic class Verem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Object[] adatok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 veremtető = 0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 maxmére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ublic Verem( int maxméret 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this.maxméret = maxmére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adatok = new Object[maxméret]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ublic void push( Object o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adatok[veremtető] = o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veremtető ++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ublic Object pop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 ... 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öbbdimenziós tö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ncs Java-b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 lehet csináln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ömbök tömbjé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nt[][] mdt = new int[3][2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 (int i=0; i&lt;3; i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 (int j=0; j&lt;2; j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dt[i][j] = i*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zabálytalan alakú "mátrix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1295280"/>
            <a:ext cx="688968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9376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int mdt[][];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 = new int[2][];</a:t>
            </a:r>
            <a:br>
              <a:rPr sz="2500"/>
            </a:b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[0] = new int[3];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[0][0] = 7;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[0][1] = 2;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[0][2] = 9;</a:t>
            </a:r>
            <a:br>
              <a:rPr sz="2500"/>
            </a:b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[1] = new int[4];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[1][0] = 2;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[1][1] = 4;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[1][2] = 8;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mdt[1][3] = 0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-152280"/>
            <a:ext cx="780588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eterogén tö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y tömbben többféle osztályú objektumot tárolh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: rendelkeznek valamilyen közös őstípu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ömbelemek statikus típusa közös. Ez mondja meg, hogy milyen műveleteket használhatunk ráju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ömbelemek dinamikus típusa különböző lehet. Ez mondja meg, hogy melyik implementációt kell végrehajta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Alkalmazott t[] = new Alkalmazott[100]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for( int i=0; i&lt;100; i++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t[i] = new Alkalmazott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t[42] = new Fonok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for( int i=0; i&lt;100; i++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System.out.println( t[i].fizetés()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ömbtípus, mint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k szempontból olya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"Altípusosság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Object[] t = new Alkalmazott[3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Bef>
                <a:spcPts val="452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gyázat! Ezután futási idejű hibát okoz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[0] = new Object();</a:t>
            </a:r>
            <a:r>
              <a:rPr b="0" lang="en-GB" sz="2800" spc="-1" strike="noStrike">
                <a:solidFill>
                  <a:srgbClr val="000000"/>
                </a:solidFill>
                <a:latin typeface="Courier (CE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z viszont j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s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[0] = new Fonok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4520" y="511200"/>
            <a:ext cx="780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 (CE)"/>
              </a:rPr>
              <a:t>Felad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4520" y="510120"/>
            <a:ext cx="780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 (CE)"/>
              </a:rPr>
              <a:t>Felad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68200"/>
            <a:ext cx="780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 (CE)"/>
              </a:rPr>
              <a:t>Felad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206360"/>
            <a:ext cx="780588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93760">
              <a:spcAft>
                <a:spcPts val="1287"/>
              </a:spcAft>
              <a:buClr>
                <a:srgbClr val="000000"/>
              </a:buClr>
              <a:buSzPct val="56000"/>
              <a:buFont typeface="StarBats" charset="2"/>
              <a:buChar char="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lósítsd meg a Mátrix típ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emek típusa: 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űvelet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étrehozá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(nullákkal, illetve egy adott elemmel feltölt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em lekérdezése és beáll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alárral való szor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zz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adás,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összead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zorzás (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ázi felada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gy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égmátrix létrehozása (négyze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Aft>
                <a:spcPts val="1287"/>
              </a:spcAft>
              <a:buClr>
                <a:srgbClr val="000000"/>
              </a:buClr>
              <a:buSzPct val="56000"/>
              <a:buFont typeface="StarBats" charset="2"/>
              <a:buChar char="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reprezentációhoz használj kétdimenziós tömbö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711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gyéb kollek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71680" y="1792440"/>
            <a:ext cx="18050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roz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lm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u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á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8360" y="1792440"/>
            <a:ext cx="2214720" cy="30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93760"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k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h-táb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tékony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"Trade-off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ömb: konstans elérés, lineáris beszú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sta: lineáris elérés, konstans beszú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upac: logaritmikus elérés és beszú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álasszuk azt, ami a feladathoz a leginkább megfe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den más osztálynak az őse. (Alapértelmezett, ha nincs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hát minden objektum beletartozik az Object osztály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apvető műveleteket definiál, amelyekkel minden objektum kell, hogy rendelkez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String toString(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          stringgé alakí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boolean equals( Object o )</a:t>
            </a:r>
            <a:r>
              <a:rPr b="0" lang="en-GB" sz="3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összehasonlí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ebek: clone, getClass, hashCode, finalize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hetőségek Java-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ömbö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Hashtab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ok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soma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JDK 1.0 óta vannak már a nyelv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yűjtemény Keretrendsz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Collections Frame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JDK 1.2 óta szabványosított része a nyelv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452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éb, nem standard könyvtárak is elérhetők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. JG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4160" y="0"/>
            <a:ext cx="780732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00000"/>
            <a:ext cx="853416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Viszonylag gyors lekérdezés/beszúrás/törlé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leje, vége, köze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bject-eket tárolhatunk ben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(CE)"/>
              </a:rPr>
              <a:t>boolean contains( Object elem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(CE)"/>
              </a:rPr>
              <a:t>int indexOf( Object elem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(CE)"/>
              </a:rPr>
              <a:t>Object elementAt( int index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(CE)"/>
              </a:rPr>
              <a:t>Object lastElement(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(CE)"/>
              </a:rPr>
              <a:t>Object removeElementAt(int index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(CE)"/>
              </a:rPr>
              <a:t>boolean removeElement( Object elem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(CE)"/>
              </a:rPr>
              <a:t>void insertElementAt( Object elem, int index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(CE)"/>
              </a:rPr>
              <a:t>void addElement( Object elem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stb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0588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 a Vector használat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8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class RövidSzavak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Vector v = new Vector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for( int i=0; i&lt;args.length; i++ 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if( args[i].length() &lt; 10 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v.add(args[i]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8055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Vector elem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55360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elemek Object típusú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oid utolsóBorNélkül( Vector v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( int i=v.size()-1; 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=0;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--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ring s = (String) v.getElementAt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( s.endsWith("bor")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.removeElementAt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80588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zámok soroz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 tömböt szeretnénk használni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int[] t = {2,42,37};               new int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Integer[] t = { new Integer(2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new Integer(42), new Integer(37)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gész másképp helyezkednek el a memóriában az adato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31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 mást, mondju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Vecto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-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3112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ector v = new Vect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.add( new Integer(42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.add( new Integer(37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.insertElementAt( new Integer(2), 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um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80588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terátor, melynek segítségével egy gyűjtemény bejárható. Például egy Vector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void kiír( Enumeration e ){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while( e.hasMoreElements() ){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    </a:t>
            </a: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Object o = e.nextElement()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    </a:t>
            </a: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System.out.println(o)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urier New (CE)"/>
              </a:rPr>
              <a:t>kiír(v.elements()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-152280"/>
            <a:ext cx="780552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apaci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39080" cy="64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ármennyi elemet tárolhatunk a Vector objektumok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ozícionálós műveletek hatékonyságának biztosítása érdekében "tömb jellegű" belső reprezentá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őnként "megtelik": ilyenkor szerez még egy kis memóriát, hogy tovább lehessen belepakol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omatikusan megnöveli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kapacitásá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kezdeti kapacitás beállítható a konstruktor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ector()      Vector( int initialCapacit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ector( int initialCapacit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int capacityIncrem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capacity(), ensureCapacity(), trimToSiz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Írj egy műveletet, amely egy vektorból kiszedi azon elemek első előfordulásait, amely elemek többször is előfordulnak a vektorban. Az alábbi módon valósítsd ezt meg. Lekérve egy Enumeration objektumot, pakold át sorra az elemeket egy másik vektorba, ha m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g nem voltak benn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Ha már benne voltak, akkor egy harmadik vektorba tedd őket, ha abban még nem voltak. Ezután ezt a harmadik vektort járd be egy Enumeration segítségével, és minden elemének töröld ki az első előfordulását a legelső vektorbó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ck: verem adattí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Vector leszármazottjaként lett definiál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zokásos veremművelet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Object push( Object elem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Object pop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Object peek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boolean empty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152280"/>
            <a:ext cx="780732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sh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4582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 nem egész számokkal akarunk indexelni, hanem tetszőleges objektumokk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ulcs - érték párokat tárolhat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ashtable ht = new Hashtab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t.put("kalap", "piro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t.put("kabát", "kék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ring kalapSzíne = (String) ht.get("kalap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y pár beszúrása és visszakeresés kulcs alapjá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bject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 Object key, Object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bject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 Object ke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kulcs is és az érték is akármilyen objektum leh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gy táblán belül is lehet többféle kulcs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etszőleges objektumra működik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System.out.println( "o = " + o 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+ jel hatására az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automatikusan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Strin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-gé konvertálódik, mégpedig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toStrin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meghívásáv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ok osztály definiálja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toStrin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pecializálásával, hogy hogyan kell szöveges formára alakítani az objektuma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Obje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-beli alapértelmezett működés az objektum dinamikus típusának nevét és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hashCod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-ját írja ki.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Ez utóbbi egy szám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ystem.out.println(new String[2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[Ljava.lang.String;@23bc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vábbi Hashtable műve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038240"/>
            <a:ext cx="8207280" cy="58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keresések, törlés, kulcsok és értékek lekérdezése, st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boolean </a:t>
            </a:r>
            <a:r>
              <a:rPr b="1" lang="en-GB" sz="2500" spc="-1" strike="noStrike">
                <a:solidFill>
                  <a:srgbClr val="000000"/>
                </a:solidFill>
                <a:latin typeface="Courier (CE)"/>
              </a:rPr>
              <a:t>containsKey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 ( Object key 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boolean </a:t>
            </a:r>
            <a:r>
              <a:rPr b="1" lang="en-GB" sz="2500" spc="-1" strike="noStrike">
                <a:solidFill>
                  <a:srgbClr val="000000"/>
                </a:solidFill>
                <a:latin typeface="Courier (CE)"/>
              </a:rPr>
              <a:t>containsValue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 ( Object value 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Object </a:t>
            </a:r>
            <a:r>
              <a:rPr b="1" lang="en-GB" sz="2500" spc="-1" strike="noStrike">
                <a:solidFill>
                  <a:srgbClr val="000000"/>
                </a:solidFill>
                <a:latin typeface="Courier (CE)"/>
              </a:rPr>
              <a:t>remove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 ( Object key 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Enumeration </a:t>
            </a:r>
            <a:r>
              <a:rPr b="1" lang="en-GB" sz="2500" spc="-1" strike="noStrike">
                <a:solidFill>
                  <a:srgbClr val="000000"/>
                </a:solidFill>
                <a:latin typeface="Courier (CE)"/>
              </a:rPr>
              <a:t>keys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Enumeration </a:t>
            </a:r>
            <a:r>
              <a:rPr b="1" lang="en-GB" sz="2500" spc="-1" strike="noStrike">
                <a:solidFill>
                  <a:srgbClr val="000000"/>
                </a:solidFill>
                <a:latin typeface="Courier (CE)"/>
              </a:rPr>
              <a:t>elements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int </a:t>
            </a:r>
            <a:r>
              <a:rPr b="1" lang="en-GB" sz="2500" spc="-1" strike="noStrike">
                <a:solidFill>
                  <a:srgbClr val="000000"/>
                </a:solidFill>
                <a:latin typeface="Courier (CE)"/>
              </a:rPr>
              <a:t>size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void </a:t>
            </a:r>
            <a:r>
              <a:rPr b="1" lang="en-GB" sz="2500" spc="-1" strike="noStrike">
                <a:solidFill>
                  <a:srgbClr val="000000"/>
                </a:solidFill>
                <a:latin typeface="Courier (CE)"/>
              </a:rPr>
              <a:t>clear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tékony tárolás és keresés, a kulcsok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hashCode(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-ja alapjá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87520" y="682200"/>
            <a:ext cx="78055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 a Hashtable alkalmazás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798560"/>
            <a:ext cx="827244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gszámoljuk, hogy a parancssori argumetumok közül melyik szó hányszor szerep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java Hányszor elmegyek elmegyek messze megy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{messze=1, elmegyek=2, megyek=1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66772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class Hányszor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public static void main(String[] args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Hashtable h = new Hashtable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for( int i=0; i&lt;args.length; i++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String kulcs = args[i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nteger hányszo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f( h.containsKey(kulcs)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hányszor = (Integer) h.get(kulc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nt megEgy = hányszor.intValue() +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hányszor = new Integer(megEgy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hányszor = new Integer(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h.put( kulcs, hányszor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System.out.println(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869760"/>
            <a:ext cx="8839440" cy="59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arancssori argumentumokban számokat adunk át a programunknak. Minden előforduló számhoz tároljuk el, hogy hányadik parancssori argumentum. Ha többször is előfordul a szám, akkor az összes előfordulásának sorszámát el kell tárolni. Ez alapján a nyilvántartás alapján a programunk írja ki a képernyőre, hogy melyik szám hányadik pozíciókon fordult el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java Kigyűjt 11 32 1 32 5 11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32: 1 3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5: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1: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11: 0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{32=[1, 3, 6], 5=[4], 1=[2], 11=[0, 5]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228600"/>
            <a:ext cx="8637480" cy="67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class Kigyűj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public static void main(String[] args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Hashtable h = new Hashtable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for( int i=0; i&lt;args.length; i++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betesz( 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new Integer(i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new Integer(args[i]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kiír(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// System.out.println(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public static void betesz( Hashtable h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 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nteger poz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 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nteger szám ){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public static void kiír( Hashtable h ){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23800" y="425520"/>
            <a:ext cx="81154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public static void betesz( Hashtable 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Integer poz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Integer szám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ector 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if( h.containsKey(szám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 = (Vector) h.get(szá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 = new Vect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.add(po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h.put( szám, v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990720"/>
            <a:ext cx="81151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public static void kiír( Hashtable h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Enumeration számok = h.key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while( számok.hasMoreElements()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Integer szám = (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zámok.nextEleme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ystem.out.print(szám + "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ector v = (Vector) h.get(szá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Enumeration pozíciók = v.element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while( pozíciók.hasMoreElements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ystem.out.print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pozíciók.nextElement() + "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ystem.out.printl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160" y="186840"/>
            <a:ext cx="78073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Gyűjtemény Keretrends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048120"/>
            <a:ext cx="2036880" cy="50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Collection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7760" y="4495680"/>
            <a:ext cx="1971360" cy="50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ortedMap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2000" y="2971800"/>
            <a:ext cx="875520" cy="50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Map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82440" y="4656240"/>
            <a:ext cx="871200" cy="50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GB" sz="33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7920" y="6095880"/>
            <a:ext cx="1846440" cy="50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ortedSet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37480" y="4648320"/>
            <a:ext cx="755280" cy="50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GB" sz="33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5000" y="1219320"/>
            <a:ext cx="8719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yűjtemények rendszere, absztrakciós szintek bevezetésé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fészek:      gyűjtemény, leképezés, halmaz, 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06480" y="3567240"/>
            <a:ext cx="2130480" cy="1071360"/>
          </a:xfrm>
          <a:custGeom>
            <a:avLst/>
            <a:gdLst/>
            <a:ahLst/>
            <a:rect l="l" t="t" r="r" b="b"/>
            <a:pathLst>
              <a:path w="6527" h="3287">
                <a:moveTo>
                  <a:pt x="0" y="3286"/>
                </a:moveTo>
                <a:lnTo>
                  <a:pt x="3263" y="0"/>
                </a:lnTo>
                <a:lnTo>
                  <a:pt x="6526" y="328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00920" y="346536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-152280"/>
            <a:ext cx="78058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llection: gyűjtemény absztrakci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68680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boolean add(Object 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boolean contains(Object 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boolean remove(Object 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boolean addAll(Collection 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boolean containsAll(Collection 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boolean removeAll(Collection 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boolean retainAll(Collection 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void clear(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boolean isEmpty(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int size()              Iterator iterator(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Object[] toArray(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8073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st: sorozat adattí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12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gyanaz az elem többször is szerepel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elemek sorrendje lény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ét lista egyenlő, ha ua. elemek ua. sorrend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lyasminek képzelhetjük, mint a Vecto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őt: a Vector megvalósítja ezt az interfész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övidek a műveletek nevei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et, get,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remo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z elem legelső előfordulását távolítja el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ad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addAl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 sorozat végéhez adja hozz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400" indent="-300960">
              <a:lnSpc>
                <a:spcPct val="5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étféle megvalósítás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LinkedLi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4160" y="0"/>
            <a:ext cx="7807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als vs. =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28800"/>
            <a:ext cx="868680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ktumok egyenlőségét az </a:t>
            </a:r>
            <a:r>
              <a:rPr b="0" lang="en-GB" sz="2800" spc="-1" strike="noStrike">
                <a:solidFill>
                  <a:srgbClr val="000000"/>
                </a:solidFill>
                <a:latin typeface="Courier (CE)"/>
              </a:rPr>
              <a:t>equ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ódussal illik vizsgálni. Alapértelmezésben ez ugyanaz, mint az </a:t>
            </a:r>
            <a:r>
              <a:rPr b="0" lang="en-GB" sz="2800" spc="-1" strike="noStrike">
                <a:solidFill>
                  <a:srgbClr val="000000"/>
                </a:solidFill>
                <a:latin typeface="Courier (CE)"/>
              </a:rPr>
              <a:t>=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 például mikor egyenlő két dátum? Ha ugyanazt az időpontot jelölik, n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GB" sz="2800" spc="-1" strike="noStrike">
                <a:solidFill>
                  <a:srgbClr val="0000ff"/>
                </a:solidFill>
                <a:latin typeface="Courier (CE)"/>
              </a:rPr>
              <a:t>=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zt mondja meg, hogy két referencia mikor egyenlő. (Azaz, hogy a két objektum mikor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zon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éldáu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em lesz iga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z alább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Dátum(1970,4,28) == new Dátum(1970,4,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a szokás, hogy az osztályok, felüldefiniálva az </a:t>
            </a:r>
            <a:r>
              <a:rPr b="1" lang="en-GB" sz="2800" spc="-1" strike="noStrike">
                <a:solidFill>
                  <a:srgbClr val="0000ff"/>
                </a:solidFill>
                <a:latin typeface="Courier (CE)"/>
              </a:rPr>
              <a:t>equ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ódust, megadják, hogy mikor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gyenlő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ét objektum. Ez má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ga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eh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Dátum(1970,4,28)).equals( new Dátum(1970,4,28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87520" y="101520"/>
            <a:ext cx="780552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List megvalósítás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3960" y="1184400"/>
            <a:ext cx="8199360" cy="44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79800" indent="-284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étféle megvaló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áncolt (lista)        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LinkedLi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tékony a beszúrás a sorozat elej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tékony törlés bejárás köz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ktor jellegű        az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ArrayLi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tékony pozícionáló művel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általában ezt használjuk (általában ez hatékonyab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1897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eszármazottja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V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gy példa a List interfészh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1802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import java. util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public class ListábaPakolok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public static void main( 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List s = new ArrayLi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.add("Rout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.add(new Integer(66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.add("Rout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.add("to L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ystem.out.println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160" indent="-27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(CE)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[Route, 66, Route, to 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78055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: halmaz adattí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94600" cy="62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y elem csak egyszer szerepelhet a halmaz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elemek sorrendje indiffe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ét halmaz egyenlő, ha ua. az elemek vannak benn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rtalmazás: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contains, containsAll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únió: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addAll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szet:    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retainAll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ülönbség:   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gvalósítás: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Hash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y másik megvalósítás: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TreeS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ami a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ortedS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et is megvalósí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az a halmaz elemeihez rendezetten is hozzáférü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58800" y="441360"/>
            <a:ext cx="780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gy példa a Set interfészhe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447920"/>
            <a:ext cx="818064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import java. util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public class HalmazbaPakolok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public static void main( 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et s = new HashSe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.add("Rout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.add(new Integer(66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.add("Rout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.add("to L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ystem.out.println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[to LA, Route, 6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terator: gyűjtemény bejár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6389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lyasmi, mint az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Enumer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terfés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-272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icit rövidebbek a műveletek nev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-272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het törölni is bejárás so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040" indent="-307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űvelet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0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boolean hasNext(), Object next(), void remov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0040" indent="-307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zármazottja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ListItera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Ilyen a sorozatoknak (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van. Még több művele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0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boolean hasPrevious(), Object previous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0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void add(Object), void set(Objec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0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int nextIndex(), int previousIndex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8058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 az Iterator használat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2080" y="837720"/>
            <a:ext cx="8881920" cy="57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public class Iteráció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public static void main(String[] args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Collection c = new ArrayLis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for( int i=0; i&lt;10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c.add( new Double(Math.random()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terator it = c.iterator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while( it.hasNext()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Double d = (Double) it.next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f( d.doubleValue() &lt; 0.6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t.remove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System.out.println(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8055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p: leképezés adattí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068480"/>
            <a:ext cx="780732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lyasmi, mint a Hash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ulcs és érték pá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er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lcsokon: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keySet().iterato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értékeken: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values().iterato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árokon (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Entr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 neve):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entrySet().iterato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ét implementáció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HashMa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TreeM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TreeMa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egvalósítja 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SortedMa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et is (rendezettsé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Általában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HashMa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et használjuk, az hatékonyab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97080" indent="-29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ömböket: az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Array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s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űvelet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rozatokat, azaz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eket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Collection</a:t>
            </a:r>
            <a:r>
              <a:rPr b="1" lang="en-GB" sz="2600" spc="-1" strike="noStrike">
                <a:solidFill>
                  <a:srgbClr val="000000"/>
                </a:solidFill>
                <a:latin typeface="Courier (CE)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s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űveleté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 a tömbben/sorozatban tárolt elemeken van természetes rendezés. (Lásd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Comparab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terfész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(CE)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int[], Integer[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(CE)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Li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amibe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Dou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bjektumokat teszü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het saját rendezést definiálni, és aszerint rendezni. (Lásd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Compara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terfész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8073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észetes rendezés szer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980640"/>
            <a:ext cx="8763120" cy="58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(CE)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Comparable:   int compareTo(Object 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import java.util.*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class Rendez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public static void main( String[] args 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throws ClassCastException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Arrays.sort(args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for( int i=0; i&lt;args.length; i++ 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System.out.println(args[i]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                                     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Hell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java Rendez Szia Hello Salut         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Sal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                                     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Courier (CE)"/>
              </a:rPr>
              <a:t>Sz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gyük fel, hogy a parancssori argumentumok egész számok. Írjuk ki rendezve ők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z equals metódus a Dátum osztályb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class Dátu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év, hónap, na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boolean equals( Object d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( d instanceof Dátum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év    == ((Dátum)d).év &amp;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ónap == ((Dátum)d).hónap &amp;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ap   == ((Dátum)d).na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lse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int hashCode(){   // ez is k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400*év + 31*hónap + na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ját rendezés defini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arator: int compare( Object o1, Object o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class HosszHasonlító implements Comparator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public int compare(Object o1, Object o2)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nt h1 = ((String) o1).length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nt h2 = ((String) o2).length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f( h1&lt;h2 )   return -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f( h2&lt;h1 )   return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152280"/>
            <a:ext cx="825156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9376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Rendez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static void main( String[] arg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hrows ClassCast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rays.sort(args, new HosszHasonlító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( int i=0; i&lt;args.length; i+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ystem.out.println(args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java Rendez Szia Hi Salut            S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29376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al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ndezés sorozatok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gyanígy, csak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Collections.s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űveletet kell meghívni egy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bjektum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kár természetes rendezés, akár saját rendezés leh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gyéb művel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imum- és maximumkeresés        min(), max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náris keresés                                   binarySearch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gfordítás                                        revers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ltöltés, másolás                               fill(), cop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ndezés megszüntetése                     shuffl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rays,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ldd meg a számok rendezését másképp: írj egy olyan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Compara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t, ami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eket úgy hasonlít össze, hogy a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parseI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űvelettel először számot csinál belőlük, és azután ezeket hasonlítja öss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ldd meg a számok rendezését úgy, hogy a parancssori argumentumokat nem tömbbe pakolod, hanem egy 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ArrayLi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bjektumb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 dátum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49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Dátum d1 = new Dátum(2001,1,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Dátum d2 = new Dátum(2001,1,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Dátum d3 = new Dátum(1789,7,14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d1.equals(d2)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d1.equals(d3)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d1 == d2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d1 == d3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(new Object()).equals( new Object() )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new Object() == new Object() 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780588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String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8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nicode karakterek soroz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tring s = "Szia!"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tring s = new String("Szia!"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gy String objektum tartalmát nem lehet módosítani.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elyette új stringet kell létrehozn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 = "Szia?"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 = new String("Szia?"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e rengeteg konstruáló, lekérdező és összehasonlító művelet v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urier New"/>
              </a:rPr>
              <a:t>length, charAt, compareTo, concat, endsWith, replace, substring, trim, valueOf, indexOf, equalsIgnoreCase, toLowerCase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, ...</a:t>
            </a: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StringBuffer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code karakterek soroz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artalmát megváltoztathatom anélkül, hogy új objektumot kellene létrehoz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ás a reprezentációja, mint a String osztálynak, ezért más műveleteket lehet rajta hatékonyan megvalósíta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ppend, insert, reverse, setCharAt, set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3963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űveletek, azon kívül, hogy transzformálják az objektumot, vissza is adnak egy referenciát rá. Ez ezért jó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ringBuffer b = new StringBuffer("Szia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.append(" Hi!").append(" Salut!").rever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3:06:52Z</dcterms:created>
  <dc:creator>ELTE TTK Informatikai Tsz.</dc:creator>
  <dc:description/>
  <dc:language>en-US</dc:language>
  <cp:lastModifiedBy>kto</cp:lastModifiedBy>
  <dcterms:modified xsi:type="dcterms:W3CDTF">2006-04-27T13:12:32Z</dcterms:modified>
  <cp:revision>18</cp:revision>
  <dc:subject/>
  <dc:title>Nincs diacím</dc:title>
</cp:coreProperties>
</file>