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76720" y="6524640"/>
            <a:ext cx="2266920" cy="33336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Kozsik Tam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 2000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0000"/>
                </a:solidFill>
                <a:latin typeface="Times New Roman"/>
              </a:rPr>
              <a:t>Hálózati alkalmazás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Java egyik fő erőssé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Cél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liens-szerver architektú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losztott rends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Lehetőség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pplet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Szervlet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TCP/IP vagy UD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RMI, COR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51920" y="151920"/>
            <a:ext cx="899172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mport java.net.*; import java.io.*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class Böngésző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rows IOException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ocket s = new Socket("www.elte.hu", 80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putStream is = s.getInputStream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utputStream os = s.getOutputStream();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Writer out = new PrintWriter(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ew OutputStreamWriter(os)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ufferedReader in = new BufferedReader(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ew InputStreamReader(is)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ut.println("GET /index.html HTTP/1.0"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ut.println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ut.flush();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lin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hile ((line = in.readLine()) != nul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ystem.out.println(line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.close(); out.close(); s.close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51920" y="151920"/>
            <a:ext cx="899172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mport java.net.*; import java.io.*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class Ismétlő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rows IOException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rverSocket ss = new ServerSocket(1234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ocket s = ss.accept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putStream is = s.getInputStream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utputStream os = s.getOutputStream();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Writer out = new PrintWriter(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ew OutputStreamWriter(os)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ufferedReader in = new BufferedReader(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ew InputStreamReader(is)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lin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hile ((line = in.readLine()) != null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ut.println(line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ut.flush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.close(); out.close(); s.close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Felad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Írj chat programot. Paraméter nélkül elindítva szerverként viselkedjen. A kliens elindításához parancssori argumentumban kell megadni a szerver IP címé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a nem AWT-s programot írsz, hanem alfanumerikusat, akkor két végrehajtási szálat kell írno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Írd meg úgy, hogy egyszerre több kliens is lehessen összekapcsolódva! Ehhez többszálú programot kell írno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ypertext Transfer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TCP/IP feletti rét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érés-válasz protoko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zöve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TTP/1.0 vagy HTTP/1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érés/válasz, fejlécek, üres sor, törz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ejléc:     kulcs: érték(e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TTP/1.0 esetén nem kötelező fejlécmezőt küldeni, HTTP/1.1 esetén „Host” kötelez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HTTP kér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TTP/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GET, POST, H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TTP/1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PUT, DELETE, OPTIONS, TRACE, CONN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HTTP válas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9250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1xx: Informational - a kérés feldolgozás ala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2xx: Success - sikeres végrehajt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3xx: Redirection - a válasz előállításához további tevékenységek szükséges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4xx: Client Error - hibás, illetve teljesíthetetlen kér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404: Not f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5xx: Server Error - a szerver saját hibájából nem képes a helyes kérés megválaszolásá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HTTP fejléc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User-agent: Mozilla/3.0G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Server: Apache/1.2b3-de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Last-Modified: Fri, 31 Dec 1999 23:59:59 GM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Content-Type: image/g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Content-Length: 152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Date: Fri, 31 Dec 1999 23:59:59 GM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HTTP/1.1 klie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ell a Host fejlé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Host: www.elte.hu: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gy IP címhez több HTTP szerver tartoz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Chunked Transfer-En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Perzisztens TCP kapcsol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100 Contin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Chunked Transfer-Enco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HTTP/1.1 200 O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Date: Fri, 31 Dec 1999 23:59:59 GM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Content-Type: text/pla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Transfer-Encoding: chunk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1a; ignore-stuff-he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abcdefghijklmnopqrstuvwxy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1234567890abcde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some-footer: some-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another-footer: another-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[blank line here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Perzisztens TCP kapcsol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gy megnyitott kapcsolaton több kérés/válas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Connection: close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ejléc, ha nem akarunk perzisztens kapcsolat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szerver is küldhet ilyen választ, és utána zárja is a kapcsolat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Internet hálózat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zámítógépek azonosítása: IP cí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32 bites szám, pl. 157.181.42.4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Neveket rendelünk a gépekhez: D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zerver programok azonosít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IP cím mellett egy portszám is, 0-6553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0-1023: rendszergazda jog kell hozzáju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1-255: általánosan elterjedt szolgáltatás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TTP - 80, TELNET - 23, SSH - 22, st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100 Contin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Jelzi, hogy a szerver nemsokára küldi az igazi válasz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eldolgozás: általában figyelmen kívül hagyj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TTP/1.1 100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TTP/1.1 200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Date: Fri, 31 Dec 1999 23:59:59 GM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Content-Type: text/pl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Content-Length: 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HTTP/1.1 szer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Host fejléc megkövetelé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bszolút URL a kérésben (prox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Chunked data a kérésb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Perzisztens kapcsolat, Connection fejlé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Continue üzenetek küldé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Date header (cach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Date: Fri, 31 Dec 1999 23:59:59 GM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If-Modified-Since: és If-Unmodified-Since: fejlécek a kérésb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Válaszolni legalább a GET és HEAD kérések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lfogadni HTTP/1.0-s kérése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Formok feldolgozása, CG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POST: a kérés törzsében mennek a form adat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gy CGI program a szabványos bemenetről olvashatja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GET: a kérés URL-ben vannak elkódolva a form adat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gy CGI program a QUERY_STRING környezeti változóban kapja me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GET /path/script.cgi?field1=value1&amp;field2=value2 HTTP/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URL encoding (=, &amp;, %, +, non-printable ch)</a:t>
            </a:r>
            <a:br>
              <a:rPr sz="2800"/>
            </a:b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name=Lucy&amp;neighbors=Fred+%26+Eth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SMT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TCP/IP feletti rét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zöveges protoko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MTP szerver általában a 25-ös por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telnettel könnyen kipróbálhat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77724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gipsz@picasso:~$ </a:t>
            </a:r>
            <a:r>
              <a:rPr b="0" lang="hu-HU" sz="2000" spc="-1" strike="noStrike">
                <a:solidFill>
                  <a:srgbClr val="ff3300"/>
                </a:solidFill>
                <a:latin typeface="Times New Roman"/>
              </a:rPr>
              <a:t>telnet localhost 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Trying 127.0.0.1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Connected to picasso (127.0.0.1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Escape character is '^]'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220 localhost.localdomain ESMTP Sendmail 8.11.2/8.11.2; Mon, 8 Mar 2004 18:02:52 +0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3300"/>
                </a:solidFill>
                <a:latin typeface="Times New Roman"/>
              </a:rPr>
              <a:t>ehlo picasso.elte.h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250-localhost.localdomain Hello picasso [127.0.0.1], pleased to meet y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250-ENHANCEDSTATUSC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250-8BITM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250-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250-DS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250-ON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250-ET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250-XUS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250 HEL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3300"/>
                </a:solidFill>
                <a:latin typeface="Times New Roman"/>
              </a:rPr>
              <a:t>mail from: gipsz@picasso.elte.h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77724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250 HEL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3300"/>
                </a:solidFill>
                <a:latin typeface="Times New Roman"/>
              </a:rPr>
              <a:t>mail from: gipsz@picasso.elte.h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250 2.1.0 gipsz@picasso.elte.hu... Sender 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3300"/>
                </a:solidFill>
                <a:latin typeface="Times New Roman"/>
              </a:rPr>
              <a:t>rcpt to: kovacs@miro.elte.h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250 2.1.5 kovacs@miro.elte.hu... Recipient 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33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354 Enter mail, end with "." on a line by itse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3300"/>
                </a:solidFill>
                <a:latin typeface="Times New Roman"/>
              </a:rPr>
              <a:t>To: Kovacs Istvan &lt;kovacs@miro.elte.hu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3300"/>
                </a:solidFill>
                <a:latin typeface="Times New Roman"/>
              </a:rPr>
              <a:t>From: Gipsz Jakab &lt;gipsz@picasso.elte.hu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3300"/>
                </a:solidFill>
                <a:latin typeface="Times New Roman"/>
              </a:rPr>
              <a:t>Subject: Ez nem spam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3300"/>
                </a:solidFill>
                <a:latin typeface="Times New Roman"/>
              </a:rPr>
              <a:t>Szia haver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3300"/>
                </a:solidFill>
                <a:latin typeface="Times New Roman"/>
              </a:rPr>
              <a:t>Na mi ujsag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3300"/>
                </a:solidFill>
                <a:latin typeface="Times New Roman"/>
              </a:rPr>
              <a:t>gips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250 2.0.0 i28H5G013354 Message accepted for deli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77724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250 2.0.0 i28H5G013354 Message accepted for deli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3300"/>
                </a:solidFill>
                <a:latin typeface="Times New Roman"/>
              </a:rPr>
              <a:t>qu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221 2.0.0 localhost.localdomain closing conn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Connection closed by foreign ho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gipsz@picasso:~$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Data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UDP protokoll megvalósítása: DatagramSocket és DatagramPac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Példa: kliens küld szervernek, szerver visszaküldi dátum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ulticast lehető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é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80520" y="9140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DatagramSocket socket = new DatagramSocke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byte[] bu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buf = args[1].getBytes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InetAddress address = InetAddress.getByName(args[0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DatagramPacket packet = new DatagramPacket(buf, buf.length, address, 4445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socket.send(packe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buf = new byte[256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packet = new DatagramPacket(buf, buf.length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socket.receive(packe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System.out.println(new String(packet.getData()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socket.clos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80520" y="9140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DatagramSocket socket = new DatagramSocke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byte[] bu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buf = new byte[100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DatagramPacket packet = new DatagramPacket(buf, buf.length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socket.receive(packe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buf = (new String(packet.getData()) + new Date().toString()).getBytes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InetAddress address = packet.getAddress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int port = packet.getPor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packet = new DatagramPacket(buf, buf.length, address, por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socket.send(packe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socket.clos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IP, TCP, UD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IP: csomagkapcsolt - az al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UDP: szintén csomagkapcsolt (mint egy levé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z IP jellemzőit örökli (pl. csomagméret korlátozás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 csomagok érkezési sorrendje nem definiál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somagok el is veszhetnek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Nincs visszaigazolás a fogadótó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Hatékon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TCP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: kapcsolat-elvű (mint egy telefonbeszélgeté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Garantálja, hogy minden elküldött információ a küldés sorrendjében megérkez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Sok erőforrás (IP csomagok visszaigazolása, stb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Elosztott rendszer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program különböző komponensei különböző gépeken futna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bbe belefér a kliens/szerver architektúra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komponensek kommunikációja: objektumok egymás metódusait hívjá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kommunikációs részleteket elrejtik a programozó elő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egvalósít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Remote Method Invocation (Java-Jav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CORBA (Java-*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Kliens-szerver architektú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sszimetrikus kapcsolatfelvét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Szerver: passzív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gy gép egy portján várja a kliensek kapcsolatfelvételi igényé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liens: aktív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ismeri a szerver helyét, kezdeményezi a kapcsolat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ommunikáció: már szimmetrik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Mindketten küldhetnek információt a másikn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gy szerverhez több kliens egy időb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Sock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BSD UNIX világból származ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kommunik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ációs csatorna végpontj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java.net.Soc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írni lehet rá, ami elmegy a másik gépre a másik folyamatn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olvasni lehet róla, amit a másik gépen a másik folyamat í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914400"/>
            <a:ext cx="2286000" cy="5410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zámítógé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2743200"/>
            <a:ext cx="1371600" cy="22860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95280" y="3276720"/>
            <a:ext cx="1143000" cy="68580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o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77120" y="838080"/>
            <a:ext cx="2438280" cy="5562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391520" y="2819520"/>
            <a:ext cx="1371600" cy="22096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934320" y="3276720"/>
            <a:ext cx="1066680" cy="68580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0" y="3505320"/>
            <a:ext cx="480060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0" y="3733920"/>
            <a:ext cx="4800600" cy="0"/>
          </a:xfrm>
          <a:prstGeom prst="line">
            <a:avLst/>
          </a:prstGeom>
          <a:ln w="25560">
            <a:solidFill>
              <a:srgbClr val="ff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81480" y="259092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Times New Roman"/>
              </a:rPr>
              <a:t>Input</a:t>
            </a:r>
            <a:br>
              <a:rPr sz="2400"/>
            </a:br>
            <a:r>
              <a:rPr b="1" lang="hu-HU" sz="2400" spc="-1" strike="noStrike">
                <a:solidFill>
                  <a:srgbClr val="3333cc"/>
                </a:solidFill>
                <a:latin typeface="Times New Roman"/>
              </a:rPr>
              <a:t>St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66880" y="259092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Times New Roman"/>
              </a:rPr>
              <a:t>Output</a:t>
            </a:r>
            <a:br>
              <a:rPr sz="2400"/>
            </a:br>
            <a:r>
              <a:rPr b="1" lang="hu-HU" sz="2400" spc="-1" strike="noStrike">
                <a:solidFill>
                  <a:srgbClr val="3333cc"/>
                </a:solidFill>
                <a:latin typeface="Times New Roman"/>
              </a:rPr>
              <a:t>St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388620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Input</a:t>
            </a:r>
            <a:br>
              <a:rPr sz="2400"/>
            </a:b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St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388620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Output</a:t>
            </a:r>
            <a:br>
              <a:rPr sz="2400"/>
            </a:b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St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14800" y="1828800"/>
            <a:ext cx="685800" cy="3809880"/>
          </a:xfrm>
          <a:prstGeom prst="lightningBol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TCP kapcsolat kiépíté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zerv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java.net.ServerSocket létrehozása adott port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liens várá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létrejött kapcsolatot egy Socket reprezentál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li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gy Socket létrehozása: adott számítógép adott portján figyelő szerverprogramra való rácsatlakoz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Java-u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z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ServerSocket ss = new ServerSocket(1234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Socket s = ss.accep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li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Socket s = new Socket("www.elte.hu",8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9246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Kommunikáció a kapcsolat felépítése utá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ind a kliensen, mind a szerveren lekérjük a bemeneti és kimeneti csatornák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kliens Socket-jának kimenetije rá van csatlakoztatva a szerver Socket-jának bemenetijé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és fordítva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zeken keresztül lehet kommunikál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InputStream is  = s.getInputStream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OutputStream os = s.getOuputStream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30T13:15:54Z</dcterms:created>
  <dc:creator>Kozsik Tamas</dc:creator>
  <dc:description/>
  <dc:language>en-US</dc:language>
  <cp:lastModifiedBy>kto</cp:lastModifiedBy>
  <dcterms:modified xsi:type="dcterms:W3CDTF">2006-04-27T16:02:00Z</dcterms:modified>
  <cp:revision>7</cp:revision>
  <dc:subject/>
  <dc:title>Hálózati alkalmazások</dc:title>
</cp:coreProperties>
</file>