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 végrehajtása során ritkán bekövetkező esemén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a „fő végrehajtási ág”; logikailag alacsonyabbrendű feladat jel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használó butaságot csin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eciális/abnormális számítási eredm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0] = 12;         // ford</a:t>
            </a:r>
            <a:r>
              <a:rPr b="1" lang="hu-HU" sz="2600" spc="-1" strike="noStrike">
                <a:solidFill>
                  <a:srgbClr val="ff3300"/>
                </a:solidFill>
                <a:latin typeface="Courier New"/>
              </a:rPr>
              <a:t>ítási hi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 = new int[3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[3] = 2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u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0] = 12;    // NullPointerEx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 = new int[3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[3] = 2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// t[0] = 1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 = new int[3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3] = 21; // ArrayIndexOutOfBound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ek terj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ívási lánc men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égrehajtási verem men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ban kivétel lép fel, akkor az azt meghívó metódusban is fellép, azon a ponton, ahol meghívtuk 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csak persze le nem kezeljü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észen addig, amíg a main-ben is fel nem lép: ekkor leáll a program, és kiírja a kivét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ack 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a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3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1(80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1( int i 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ew int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2( int[] t )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7] = 12;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"stack trace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$ jav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xception in thread "main" java.lang.ArrayIndexOutOfBounds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t A.m2(A.java: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t A.m1(A.java: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t A.main(A.java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ngeteg hasznos inform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lyik végrehajtási sz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lyen kivétel (hiba) lépett f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lyik fájlban, melyik sorban, melyik metódus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lyen hívási lánc mentén terje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ltsunk ki egy hibát: osszunk le egy egész számot null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őször a főprogram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ki egy, a főprogramból meghívott metódus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sztandó és az osztó legyen parancssori argu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lekez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 terjedése közben egy ponton a hívási láncon lekezel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speciális vezérlési szerkez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ry catch fin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a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3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1(80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1( int i 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ew int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ry 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t); } catch (Exception e)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2( int[] t )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7] = 12;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m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3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1(80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1( int i 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ew int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ry 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t); } catch (Exception e)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2( int[] t )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7] = 12;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b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nyelvekben elképzelhető, hogy egy hiba fejreállítja a progra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ó esetben csak elszá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tleg nagy butaságot csinál, pl. elrontja az adatbáz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-ban a futtató rendszer ellenőrzi a hibá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class A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m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3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1(80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1( int i 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ew int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ry 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t); }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catch (Exception e){...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2( int[] t )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t[7] = 12;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atic void m1( int i 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[] t = new int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ry { </a:t>
            </a:r>
            <a:r>
              <a:rPr b="1" lang="en-US" sz="2600" spc="-1" strike="noStrike">
                <a:solidFill>
                  <a:srgbClr val="ff3300"/>
                </a:solidFill>
                <a:latin typeface="Courier New"/>
              </a:rPr>
              <a:t>m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t); }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catch (Exception e){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System.out.println(e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kezeljünk le egy kivét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lami értelmes dolgot csinálj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juk folytatni a működést a kivétel (pl. hiba) ellen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rítsuk el a hibát, és próbálkozzunk új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ntsük, ami ment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Zárjuk le a fájlokat, adatbázis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hiba kiír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programozó kiíratja, hogy hiba történt, és kilép a program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telmetlen módja a hiba „lekezeléséne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úgy is kiírta volna a virtuális gép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y - 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édett blokk: 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kezelő ágak: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védett blokkhoz több kivételkezelő 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önböző kivételekhez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 fajtájától függ, melyik kivételkezelő ág aktivizáló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  ... 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NullPointerException e){ ...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OException e){ ...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nterruptedException e){ ...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NullPointer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IO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nterrupted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ivételkezelő keres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try blokkban kivétel lép fel, akkor a hozzá tartozó catch ágakban keres a JVM kivételkezelő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ba nézi a catch ágakat, az első megfelelő törzsét végrehaj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felelő: ha a kivétel fajtája beletartozik a specifikált kivételosztály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llé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NullPointer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nterrupted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bbi feladat folytatása: kezeljük le a kivételt az osztást végző metódusb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lyen hibák vanna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ullával való o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mb túlindex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vatkozás „null” mutató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ték túl/alulcsordu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meg egy fá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lózati kapcsolat megszak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ivételek is objektu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 fajtája - az objektum osztál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ek hierarchiába vannak szervezve: az osztályhierarchia ál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etartozik egy kategóriába: altípuso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EOFExceptio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llé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NullPointer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nterrupted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nincs megfelelő catch 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találunk megfelelő kivételkezelőt, akkor a kivétel továbbterj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ha nem is lett volna kivételkezelő ré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ívóban újból lehetőségünk van a kivétel lekezel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llé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NullPointer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 catch (IO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tch (InterruptedException e){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l kezeljük le a kivét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tt, ahol ez értelmesen megte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 elő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 késő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tehető meg értelmesen, inkább engedjük, hogy a program elszáll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ző feladat folytatása: a metódus legyen függvény, ami visszaadja az osztás eredményét. A főprogram kezeli le a kivételt. Írja ki, hogy az osztás eredménye pozitív vagy negatív végtelen, vagy esetleg definiálatlan. (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sikerül lekezelni a kivét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utás a kivételkezelő rész után folytató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„megy vissza” a try-ba, ahol fellép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&lt;ut 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ut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 ( &lt;exc 1&gt; ) { &lt;ut 5&gt; &lt;ut 6&gt; &lt;ut 7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 ( 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&lt;exc 2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 {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8&gt; &lt;ut 9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 ( &lt;exc 3&gt; ) { &lt;ut 10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1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sikerül lekezelni a kivét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 a hívás helyén fellé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dott metódus végrehajtása megszak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&lt;ut 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Courier New"/>
              </a:rPr>
              <a:t>&lt;ut 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ut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 ( &lt;exc 1&gt; ) { &lt;ut 5&gt; &lt;ut 6&gt; &lt;ut 7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 ( &lt;exc 2&gt; ) { &lt;ut 8&gt; &lt;ut 9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ch ( &lt;exc 3&gt; ) { &lt;ut 10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ut 1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ivételkezelő ágak sorrend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űkebb meg kell, hogy előzze a bőveb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EOFException e1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IOException e2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így j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ivételkezelő ágak sorrend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űkebb meg kell, hogy előzze a bővebb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IOException e1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EOFException e2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jó. Fordítási hib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ásodik sohasem választódhat k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3520" y="3505320"/>
            <a:ext cx="6400800" cy="1828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!= Hi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ek nem mindig hibát jelez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, hogy csak egy ritkán bekövetkező, vagy a feladat szempontjából kevésbé fontos esemé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ry blokk és a catch ágak után írható egy finally blok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okat az utasításokat tartalmazza, amelyeke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ndenféleképpe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végre kell hajta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...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ch( ... )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ly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 catch( ... )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 catch( ... )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inally: mindenké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lépett fel kivéte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fellépett, de nem találunk megfelelő kivételkezelő ága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találunk...: akkor utá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vábbterjedés specifik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kivétel fellép egy metódusban, akkor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le kell kezelni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jelezni kell, hogy továbbad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tódusok specifikációja tartalmazza a metódusban fellépő lehetséges kivétel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améterlista és a törzs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rows 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static void main(String arg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putStream i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new FileInputStream("input.txt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} catch (IOException e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static void main(String arg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Courier New"/>
              </a:rPr>
              <a:t>throws IOException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nputStream i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new FileInputStream("input.txt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abályozott terje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művelet kiválthat egy kivételt, akkor a művelet használója tudni fog ró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lekezelh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, neki is specifikálnia kell, így az őt használó is tudomást szerez a kivételr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ivétel olyan, mint egy speciális visszatérési ért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untime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nak olyan kivételek, amelyeket nem kell lekezelni vagy a továbbterjedését specifik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úl sok helyen felléphet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nyegében a program minden pontj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bonyolítaná a programot, ha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ban programozói hibát jelentenek, nem „kivételes esemény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k ez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ullPointer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rmelyik objektumhivatkozásn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rayIndexOutOfBounds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rmelyik tömbindexelésn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ithmetic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ármelyik egész osztásk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kez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jól megírt, megbízható program jelentős része a kivételes eseményekkel foglalko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ó, ha van programnyelvi támogatás 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gramozói hib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ozó általában úgy írja meg a programját, hogy vigyáz arra, hogy ne legyenek programozói hib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szor felesleges hibakezelést betenni, vagy specifikálni a továbbterjed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ersze megengedett mind a lekezelés, mind a továbbterjedés specifikáció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ivételosztályok hierarchi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219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row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4382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952880"/>
            <a:ext cx="1676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aját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952880"/>
            <a:ext cx="2057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38280"/>
            <a:ext cx="1295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095880"/>
            <a:ext cx="2362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952880"/>
            <a:ext cx="14479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6095880"/>
            <a:ext cx="1676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OF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429000"/>
            <a:ext cx="1447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2" idx="0"/>
            <a:endCxn id="141" idx="2"/>
          </p:cNvCxnSpPr>
          <p:nvPr/>
        </p:nvCxnSpPr>
        <p:spPr>
          <a:xfrm flipH="1" flipV="1" rot="5400000">
            <a:off x="2381040" y="666360"/>
            <a:ext cx="838800" cy="27057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0"/>
            <a:endCxn id="145" idx="2"/>
          </p:cNvCxnSpPr>
          <p:nvPr/>
        </p:nvCxnSpPr>
        <p:spPr>
          <a:xfrm flipH="1" flipV="1" rot="5400000">
            <a:off x="2819160" y="1942560"/>
            <a:ext cx="2134080" cy="3886920"/>
          </a:xfrm>
          <a:prstGeom prst="bentConnector3">
            <a:avLst>
              <a:gd name="adj1" fmla="val 2900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endCxn id="142" idx="2"/>
          </p:cNvCxnSpPr>
          <p:nvPr/>
        </p:nvCxnSpPr>
        <p:spPr>
          <a:xfrm flipH="1" flipV="1" rot="5400000">
            <a:off x="876240" y="2856960"/>
            <a:ext cx="610200" cy="534240"/>
          </a:xfrm>
          <a:prstGeom prst="bentConnector3">
            <a:avLst>
              <a:gd name="adj1" fmla="val 327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1" idx="2"/>
            <a:endCxn id="145" idx="0"/>
          </p:cNvCxnSpPr>
          <p:nvPr/>
        </p:nvCxnSpPr>
        <p:spPr>
          <a:xfrm flipH="1" rot="16200000">
            <a:off x="4571280" y="1180800"/>
            <a:ext cx="838800" cy="16772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5" idx="2"/>
            <a:endCxn id="143" idx="0"/>
          </p:cNvCxnSpPr>
          <p:nvPr/>
        </p:nvCxnSpPr>
        <p:spPr>
          <a:xfrm flipH="1" rot="16200000">
            <a:off x="5466600" y="3181320"/>
            <a:ext cx="2134080" cy="1410120"/>
          </a:xfrm>
          <a:prstGeom prst="bentConnector3">
            <a:avLst>
              <a:gd name="adj1" fmla="val 710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8381880" y="5029200"/>
            <a:ext cx="609840" cy="3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2"/>
            <a:endCxn id="155" idx="0"/>
          </p:cNvCxnSpPr>
          <p:nvPr/>
        </p:nvCxnSpPr>
        <p:spPr>
          <a:xfrm flipH="1" rot="16200000">
            <a:off x="6152400" y="2495520"/>
            <a:ext cx="2210400" cy="2858040"/>
          </a:xfrm>
          <a:prstGeom prst="bentConnector3">
            <a:avLst>
              <a:gd name="adj1" fmla="val 68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6019920" y="6095880"/>
            <a:ext cx="609480" cy="3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3429000"/>
            <a:ext cx="609480" cy="3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6172200"/>
            <a:ext cx="609840" cy="304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5" idx="2"/>
            <a:endCxn id="147" idx="0"/>
          </p:cNvCxnSpPr>
          <p:nvPr/>
        </p:nvCxnSpPr>
        <p:spPr>
          <a:xfrm rot="5400000">
            <a:off x="4457160" y="3581280"/>
            <a:ext cx="2134080" cy="610560"/>
          </a:xfrm>
          <a:prstGeom prst="bentConnector3">
            <a:avLst>
              <a:gd name="adj1" fmla="val 708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4" idx="2"/>
            <a:endCxn id="159" idx="0"/>
          </p:cNvCxnSpPr>
          <p:nvPr/>
        </p:nvCxnSpPr>
        <p:spPr>
          <a:xfrm flipH="1" rot="16200000">
            <a:off x="2037240" y="5238720"/>
            <a:ext cx="838800" cy="1028880"/>
          </a:xfrm>
          <a:prstGeom prst="bentConnector3">
            <a:avLst>
              <a:gd name="adj1" fmla="val 6719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44" idx="2"/>
            <a:endCxn id="146" idx="0"/>
          </p:cNvCxnSpPr>
          <p:nvPr/>
        </p:nvCxnSpPr>
        <p:spPr>
          <a:xfrm rot="5400000">
            <a:off x="1256760" y="5410080"/>
            <a:ext cx="762480" cy="610560"/>
          </a:xfrm>
          <a:prstGeom prst="bentConnector3">
            <a:avLst>
              <a:gd name="adj1" fmla="val 73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47" idx="2"/>
            <a:endCxn id="157" idx="0"/>
          </p:cNvCxnSpPr>
          <p:nvPr/>
        </p:nvCxnSpPr>
        <p:spPr>
          <a:xfrm flipH="1" rot="16200000">
            <a:off x="5390280" y="5162400"/>
            <a:ext cx="762480" cy="1105560"/>
          </a:xfrm>
          <a:prstGeom prst="bentConnector3">
            <a:avLst>
              <a:gd name="adj1" fmla="val 758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7" idx="2"/>
            <a:endCxn id="148" idx="0"/>
          </p:cNvCxnSpPr>
          <p:nvPr/>
        </p:nvCxnSpPr>
        <p:spPr>
          <a:xfrm rot="5400000">
            <a:off x="4666680" y="5543640"/>
            <a:ext cx="762480" cy="343440"/>
          </a:xfrm>
          <a:prstGeom prst="bentConnector3">
            <a:avLst>
              <a:gd name="adj1" fmla="val 7661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42" idx="2"/>
            <a:endCxn id="158" idx="0"/>
          </p:cNvCxnSpPr>
          <p:nvPr/>
        </p:nvCxnSpPr>
        <p:spPr>
          <a:xfrm flipH="1" rot="16200000">
            <a:off x="1600200" y="2666520"/>
            <a:ext cx="610200" cy="915120"/>
          </a:xfrm>
          <a:prstGeom prst="bentConnector3">
            <a:avLst>
              <a:gd name="adj1" fmla="val 6664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3962520" y="16002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28195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3341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8195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334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rror leszármazott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atális hibák: már nincs mit tenn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kötelező lekezelni vagy a terjedést specifik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utOfMemoryErro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lassFormatErro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stantiationErro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nkageError NoClassDefFoundError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irtualMachineError StackOverflow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RuntimeException leszármazot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őbb már beszéltünk ról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ogramozói hibát jelez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ullPointerExcepti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rayIndexOufOfBoundsExcepti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ithmetic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Exception egyéb leszármazot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zekből van a legtö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s esem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lekezeljük, vagy specifikáljuk a terjedésü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OException, FileNotFoundException, InterruptedException, SQL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aját kivétel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kivételes események jel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gy diva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szerű az Exception osztályból leszármazta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 a RuntimeException osztályb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ima osztálydefiní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tárolhatunk egy kivételben információt a fellépés okár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VeremMegtel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extends Excep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eremMegteltException(){ super(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eremMegteltException( String 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uper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Object nemFértBe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eremMegteltException( Object o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nemFértBele =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kivál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aját kivételeinket mi magunk válthatjuk ki, jelezve a kivételes esemény bekövetkezés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edefinit kivételeket is kiválthatjuk, sőt, akár még Error-ok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throw kulcsszót kell használni, és utána megadni egy kivétel példá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VeremMegtel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e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row new VeremMegteltException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(tömbös ábrázolá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hrows VeremMegtel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emek[veremt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 =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emt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( ArrayInde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OfBoun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ion e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hrow new VeremMegteltException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a nincs kivételkezelésre támog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C-ben, Pascal-ban nincs speciális eszköz a kivételek kezelés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oldás: visszatérési hibakódok, plussz paraméterek, esetvizsgálatok (elágazás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gy egyszerűen semmi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usta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vashatóság, eleg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or osztály kiegészítése saját kivételosztályokkal és kivételkezel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átrixösszeadásos program kiegészítése saját kivételosztállyal és kivételkezel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újrakivál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, hogy egy ponton még nem tudunk teljesen lekezelni egy kivét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vább is adjuk a hívó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hozunk létre új kivételpéldá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a fillInStackT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tr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catch ( Exception e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g.print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lyenkor látszik, hogy a kivétel nem itt keletkez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intStackTrace() kimutat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ső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első(){ második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második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 new NullPointer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Exception in thread "main” java.lang.NullPoint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második(A.java: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első(A.java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main(A.java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ső()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atch( Exception e ){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System.err.println(e);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első(){ második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második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 new NullPointer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8380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ső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atch( Exception e ){ </a:t>
            </a:r>
            <a:r>
              <a:rPr b="1" lang="hu-HU" sz="2000" spc="-1" strike="noStrike">
                <a:solidFill>
                  <a:srgbClr val="3333cc"/>
                </a:solidFill>
                <a:latin typeface="Courier New"/>
              </a:rPr>
              <a:t>e.printStackTrace();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első(){ második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második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 new NullPointer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Exception in thread "main” java.lang.NullPointer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at A.második(A.java: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at A.első(A.java: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at A.main(A.java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8380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 args[] ){ első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első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 { második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atch( NullPointerException e ){ throw e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második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 new NullPointer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Exception in thread "main” java.lang.NullPoint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második(A.java: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első(A.java: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main(A.java: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380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 args[] ){ első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első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ry { második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atch( NullPointerException 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{ e.fillInStackTrace(); throw e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atic void második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 new NullPointerExcep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Exception in thread "main” java.lang.NullPointer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első(A.java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t A.main(A.java: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sztásos példában dobjuk el újra a kivételt, ha a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 eset v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olimorfizmus és ki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 felüldefiniálásakor az új metódus által kiváltható kivételek csak specifikusabbak lehet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az a leszármazott metódusa nem válthat ki több kivételt, mint az ős metód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 elmaradhat, vagy lehet helyette specifikusabb (leszármazott kivét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kezelést támogató nyelvi ele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s erőfeszítéssel, az olvashatóságot és az eleganciát megtartva lehessen kivételeket kez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ban a kivételeket kezelő kódot elválasztják a többitől, a „lényegtő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lkészült programok megbízhatóságát, olvashatóságát növe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void m(int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IOException, InterruptedExcep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void m(int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hrows EOF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rtal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fellép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terje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lekez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továbbterjedésének specifik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defini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ételek kivál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önböző kivételfajt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vétel fellép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 egy pontján, egy utasítás végrehajtása köz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ezhet hibát, vagy speciális esemén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ullPointerException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rayIndexOutOfBoundsExcepti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lassCastExceptio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O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5:26:22Z</dcterms:created>
  <dc:creator>Kozsik Tamas</dc:creator>
  <dc:description/>
  <dc:language>en-US</dc:language>
  <cp:lastModifiedBy>kto</cp:lastModifiedBy>
  <dcterms:modified xsi:type="dcterms:W3CDTF">2006-04-27T15:48:10Z</dcterms:modified>
  <cp:revision>11</cp:revision>
  <dc:subject/>
  <dc:title>VII. Kivételek</dc:title>
</cp:coreProperties>
</file>