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488-D81C-43C5-855A-DB37B655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E28-309A-40AF-B760-4B56B974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094-DE49-4ABF-8D78-13D096D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BA8-4F05-4E30-BCAE-155908F8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E1B-A116-4D10-B085-2DA16701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8F4-7B71-4145-A9D3-06C599A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E7A-1314-4CC6-B955-91DDB7C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CE2-7674-493B-BDA7-0E88A83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BB0-0D23-4341-832F-5C739CF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DA0-6365-485E-AC76-28E9B84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161-0361-4147-A40E-2ACC70F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FFD-17CC-4639-8600-1626E58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EC3-5391-42EF-B845-3F15DD846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szerkezete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ritmetikai ábrázolá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móriát úgy képzeljük el, mint egy hosszú, egydimenziós tömböt, vagyis vektort, amelynek elemei byte-ok. Ezen alapul az aritmetikai ábrázolás első változ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Cím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sztrakt memória-vektor adott kezdőcímétől kezdve elhelyezzük az adott adatszerkezet eleme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adatelem több byte-ot is elfoglalhat. Meg kell adni a címfüggvényt, amelynek segítségével minden adatelem helye (címe) meghatározhat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ndex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absztraktabb ábrázo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szerkezet elemeit egy olyan tömbben helyezzük el, amelynek nem byte-ok az elemei, hanem az adatszerkezet alaptípusának példánya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helyezést az első elemtől kezdjük, és ekkor egy indexfüggvényt kell megadnu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áncolt ábrázo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hhez az ábrázoláshoz bevezetjük az absztrakt mutató (pointer) fogalmá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egy mutató típusú változó, akkor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 jelöli az általa mutatott adatelem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nek az adatelemnek az esetleges komponenseit (pl. adat és mutató)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ill.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u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öl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ehová sem mutató pointer értéke N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ömbök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g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≥ 1) dimenziós tömb típus. Vezessük be az  indexhalmazt, ah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lyek bárme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etén szerepelnek): indexelés (=tömbelem kiválasztása) a már bevezetet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kifejezéssel, ami szerepelhet értékadó utasítás bal oldalán, és jobb oldalán is. Így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lekérdezé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módosít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32000" y="2924280"/>
                <a:ext cx="208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a megegyezés született, h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zerinti rákövetkezést is definiál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ö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 =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den belső elemn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b rákövetkezője van (azért csak a belsőknek, mert definíció szerint a dimenzió határánál nincs rákövetkező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dennapok során gyakran találkozunk a verem tároló struktúrá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mertebb példa a névadó, a mezőgazdaságban használt ver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 távolsági buszon is a vezető a különböző pénzérméket egy-egy kis verembe tudja betenni, ill. azokból veszi el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véházakban az alátét tányérokat gyakran egy veremként működő tároló mélyedésben tartják, s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ritmetikai ábrázol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vezetjük 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áltozót, mely mindig a legfelső elem indexe 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[0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ermet ábrázoló tömb: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műveletek mellett használni kell egy új,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Ful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veletet is, mivel a tömb betelhet, és ezt figyel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gram ver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ar v:array [1.. 10]of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urese:boole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rese:=(mut=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p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-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t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 t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push(e:integ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mut &lt; 10 then {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ért 10 mert ekkora a töm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[mut]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hile not urese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(po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ush(1);push(12);push(14);kiir;pop;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erem alkalmazás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rem adatszerkezetnek számos alkalmazásával találkozhatunk az algoritmusok és programok világáb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pvetően egy sorozat megfordítására alkalmas: ABC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C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zonban a verembe írást és a kivételt nem elkülönítve, egymás után, hanem „összekeverve” alkalmazzuk, akkor a sorozat számos átrendezését meg tudjuk valósít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típusok ábrázol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típus (A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szerkezet (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zentáció (ábrázolá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(tömbös) ábráz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ncolt (pointeres) ábráz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sor konstans; az üres sor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sor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sor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2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tt az 1-es, illetve a 2-es index a pár első, illetve második komponensét jelö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a veremhez hasonlóan lineáris adat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ritmetikai ábrázol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or ebben az ábrázolásban egy rekordszerkezet, melynek része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] tömb, amely a sor elemeit tartalmaz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1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index, amely mindenkor az első elemre mut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lamint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0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változó, amely a sor elemszámát jelz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r úgy működik, hogy a sor végére rakjuk, ill. az elejéről veszünk ki az eleme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célszerű a tömb elejére „beengedni” a tömb végén „kilógó” elemeket, különben betelne úgy a tömb, hogy egyes indexei felhasználatlan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tipikus sor lassan „körbemegy” a tömbö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or alkalmaz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s pufferelési eljárásokban (pl. klaviatúráná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ráfok, ill. fák szélességi bejárásánál (pl. bináris fák szintfolytonos bejárása, lásd ott!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méleti érdekesség: a sor „körbetekerésével” szimulálható a verem adatszerkezet, de a sor csak két veremmel valósítható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ype elemtip=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=^s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elem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tek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t: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je,vege:elem;  {elsonek es utolsonak betett elem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ssz: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iba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ures(var s:s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unction ures_e(var s:sor):boolea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res_e:=(s.hossz=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tele_e(var s:sor)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(s.hossz &lt; 20)  then tele_e:=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tele_e:=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elso(var s:sor)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elso:=s.eleje^.erte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cedure sorba(var s:sor; e:elemti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r uj:el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tele_e(s) then s.hiba:=tr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w(uj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ertek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mut:=ni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hossz:=s.hossz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s.vege=nil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eleje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^.mut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sorbol(var s:sor; var e:elemti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r se:el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:=s.eleje^.erte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:=s.elej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se^.mu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ispose(s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s.hossz-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s.eleje=nil then 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szint az adattípus leírásának legmagasabb absztrakciós szint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attípust úgy specifikáljuk, hogy szerkezetére, reprezentálására, implementálására semmilyen megfontolást, előírást, utalást nem teszün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írásban kizárólag matematikai fogalmak haszn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T szintű leírás lehet formális, és lehet informáli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. természetes magyar nyelven is elmondhatjuk, hogy mit várunk el egy veremtő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ényeg nem a formalizáltság mértéke, hanem az, hogy „nem látjuk” az adattípus belső struktúrájá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unction hibas_e(var s:sor):boolea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bas_e:=(s.hiba=tru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vetően két leírási mód terjedt 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 (axiómák megadásával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 (elő- és utófeltételle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élda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z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erem absztrakt adattípus (ADT) axiomatikus jellemzése három lépésben. A verem „lényege” az, hogy a legutoljára betett elemet lehet kivenni belő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1. Művelet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mint leképezé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2. Megszorítások a műveletek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értelmezési tartomány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res veremből nem lehet elemet kivenni, és a felső elemét sem lehet lekérdez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3. Axió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xiómákat úgy írjuk fel, hogy sorra vesszük az öt művelet (ill. egy konstans és négy művelet) összes lehetséges párosítását – mindkét sorrendben –, és ha van értelme az adott egymásra hatásnak, akkor azt kifejezzük egy logikai állításs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n egy fontos döntést hozunk meg az ADT szintű specifikáció alapj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mondjuk azt, hogy alapvetően milyen struktúrája van a szóban forgó adattípus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elebbről ez azt jelenti, hogy megadjuk az adatelem közötti legfontosabb rákövetkezési kapcsolatot, és ezt egy irányított gráf formájában le is raj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t egy szerkezeti gráf és az ADT szinten bevezetett műveletek alkotják együtte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szerkezeteket osztályozhatjuk az általuk meghatározott gráf alakja szer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irányú vagy szimmetrikus 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 (struktúrájú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ogonális (pl. mátr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szörösen összefüggő = általános gráf alakú adatszerk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a szinten arról hozunk döntést, hogy az ADS-szinten megjelent gráf rákövetkezési relációit milyen módon ábrá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brázolás még mindig absztrakt, noha már a számítógépes megvalósítást modelle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tiszta reprezentálási mód van, illetve ezeket lehet vegyesen is alkalmaz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ritmetikai (tömbös) ábrázol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ncolt (pointeres) ábrázol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32:18Z</dcterms:created>
  <dc:creator>Nagymáté Péter</dc:creator>
  <dc:description/>
  <dc:language>en-US</dc:language>
  <cp:lastModifiedBy>Nagymáté Péter</cp:lastModifiedBy>
  <dcterms:modified xsi:type="dcterms:W3CDTF">2005-02-10T12:58:58Z</dcterms:modified>
  <cp:revision>17</cp:revision>
  <dc:subject/>
  <dc:title>Adatszerkezetek </dc:title>
</cp:coreProperties>
</file>