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E3F-54AF-4DA2-8131-6BFF8B06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3B2-7A66-4499-9D42-35894719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AB1-4E34-469D-8177-CCD0DBA1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71F-7A4D-440C-8312-559573E0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2BD-73A7-4367-822D-1EB30055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91E-83E4-46FB-8621-70271C40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C73-504F-4F4F-81D8-B7F791D5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47A-CAFA-4EAB-91A7-EE19C8FC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52E-8BB6-4A66-8F7D-4F7863F8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D4F-A333-43B6-87F8-90698124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E3C-6743-4D49-B82A-7C10F84C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AE90-BCBF-48BB-BB70-EC63F4E4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8B98-2F77-484B-A4E0-21433AFF4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álózat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vel a hálózat használatáért fizetni kell , nem mindegy hogy időegység alatt mennyi információt viszünk át a hálóza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dtok ábrázolása általában redundá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satornán elküldött információt tekinthetjük egy egyfajta szimbólumsorozatnak, amely egy adott ABC –ből származ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dattömörítés el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292640"/>
            <a:ext cx="1584360" cy="86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ömörítetl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4292640"/>
            <a:ext cx="1584360" cy="86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őkészí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4292640"/>
            <a:ext cx="1584360" cy="86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dolgoz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20000" y="4292640"/>
            <a:ext cx="1584360" cy="86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ömörítet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1" idx="3"/>
            <a:endCxn id="62" idx="1"/>
          </p:cNvCxnSpPr>
          <p:nvPr/>
        </p:nvCxnSpPr>
        <p:spPr>
          <a:xfrm>
            <a:off x="2195640" y="4725720"/>
            <a:ext cx="576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2" idx="3"/>
            <a:endCxn id="63" idx="1"/>
          </p:cNvCxnSpPr>
          <p:nvPr/>
        </p:nvCxnSpPr>
        <p:spPr>
          <a:xfrm>
            <a:off x="4355640" y="4725720"/>
            <a:ext cx="577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stCxn id="63" idx="3"/>
            <a:endCxn id="64" idx="1"/>
          </p:cNvCxnSpPr>
          <p:nvPr/>
        </p:nvCxnSpPr>
        <p:spPr>
          <a:xfrm>
            <a:off x="6516720" y="4725720"/>
            <a:ext cx="504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1116000" y="3716280"/>
            <a:ext cx="7416720" cy="504720"/>
          </a:xfrm>
          <a:prstGeom prst="rightArrow">
            <a:avLst>
              <a:gd name="adj1" fmla="val 50000"/>
              <a:gd name="adj2" fmla="val 36736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ömörí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5300640"/>
            <a:ext cx="7272360" cy="504720"/>
          </a:xfrm>
          <a:prstGeom prst="leftArrow">
            <a:avLst>
              <a:gd name="adj1" fmla="val 50000"/>
              <a:gd name="adj2" fmla="val 3602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csomagol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ömörítés leh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immetrik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ömörítés és a kicsomagolás azonos eljá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zimmetrik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ömörítés hosszabb idejű míg a kicsomagolás rövidebb idej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jó tömörítést akarunk elérni akkor az információ lényegtelen részét eldobhatjuk (pl. képtömörítés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tömörítésnél lényeges hogy az eredeti információt helyre állíts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tömörítési eljár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arabszám-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mbólumsor-helyett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ta helyett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orozathossz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uffmann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ritmetikai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ranszformációs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ubband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edikáció vagy relatív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abszám kódol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 adathalmazban sok egymás után következő azonos szimbólum fordul elő, akkor célszerű egy külön szimbólum az ismétlődés jelzésére, és utána következzen az ismétlődő szimbólum, majd hogy hánysz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ldául az ismétlődés jelző legyen a # j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101B jelentése 101 darab B egymás ut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# maga a # j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imbólumsor helyettes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yakori azonos szimbólumsor helyett egy speciális szimból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ldául a tabulátor (TAB) j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a helyettes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akori szimbólumsorozat helyettesítése speciális szimbólum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ául a BASIC nyelv alapszavainak kódolása az ASCII karakterkészlet alsó (legfelső bit = 1)128 darab kódja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 az ún. tokeniz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orozathossz kódol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un Lenght Encoding – RLE: sok nullát tartalmazó bináris sorozatokban a nullák számát bináris számként adjuk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atisztikai kód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ódhossz a kód előfordulási gyakoriságától függ (Morse A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uffman kód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es jelek, vagy bájtsorozatok előfordulási gyakoriságát figyeli, és a generált kód hossza ettől fü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járás lényege egy optimális kódfa előáll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uffman kód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yünk fel minden jelet relatív gyakoriságával együtt egy gráf csúcspontjaké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ek lesznek a fa leve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juk össze a két legkisebb gyakoriságú csúcspontot egy közös csúcspont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új csúcs gyakorisága legyen az eredeti gyakoriságok össz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összevont csúcsokat hagyjuk ki a további összevonásokb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mételjük az összevonásokat addig amíg egyetlen egy csúcsunk ma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 lesz a kódfa gyök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uffman kód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ömörítendő szó : FELESLE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5877000"/>
            <a:ext cx="64764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5877000"/>
            <a:ext cx="64800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360" y="5877000"/>
            <a:ext cx="64800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6720" y="5877000"/>
            <a:ext cx="64764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877000"/>
            <a:ext cx="64764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5084640"/>
            <a:ext cx="647640" cy="505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5084640"/>
            <a:ext cx="648000" cy="505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4005360"/>
            <a:ext cx="64764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2781360"/>
            <a:ext cx="64800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>
            <a:stCxn id="85" idx="0"/>
            <a:endCxn id="90" idx="4"/>
          </p:cNvCxnSpPr>
          <p:nvPr/>
        </p:nvCxnSpPr>
        <p:spPr>
          <a:xfrm flipV="1">
            <a:off x="2374920" y="5589360"/>
            <a:ext cx="7214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6" idx="0"/>
            <a:endCxn id="90" idx="4"/>
          </p:cNvCxnSpPr>
          <p:nvPr/>
        </p:nvCxnSpPr>
        <p:spPr>
          <a:xfrm flipH="1" flipV="1">
            <a:off x="3095280" y="5589360"/>
            <a:ext cx="7214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7" idx="0"/>
            <a:endCxn id="89" idx="4"/>
          </p:cNvCxnSpPr>
          <p:nvPr/>
        </p:nvCxnSpPr>
        <p:spPr>
          <a:xfrm flipV="1">
            <a:off x="5400360" y="5589360"/>
            <a:ext cx="7196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9" idx="4"/>
            <a:endCxn id="88" idx="0"/>
          </p:cNvCxnSpPr>
          <p:nvPr/>
        </p:nvCxnSpPr>
        <p:spPr>
          <a:xfrm>
            <a:off x="6119280" y="5589720"/>
            <a:ext cx="8643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0" idx="0"/>
            <a:endCxn id="91" idx="4"/>
          </p:cNvCxnSpPr>
          <p:nvPr/>
        </p:nvCxnSpPr>
        <p:spPr>
          <a:xfrm flipV="1">
            <a:off x="3095640" y="4509720"/>
            <a:ext cx="151344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91" idx="4"/>
            <a:endCxn id="89" idx="0"/>
          </p:cNvCxnSpPr>
          <p:nvPr/>
        </p:nvCxnSpPr>
        <p:spPr>
          <a:xfrm>
            <a:off x="4608360" y="4510080"/>
            <a:ext cx="151200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2" idx="4"/>
            <a:endCxn id="91" idx="0"/>
          </p:cNvCxnSpPr>
          <p:nvPr/>
        </p:nvCxnSpPr>
        <p:spPr>
          <a:xfrm>
            <a:off x="3095640" y="3286080"/>
            <a:ext cx="151344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2" idx="4"/>
            <a:endCxn id="84" idx="0"/>
          </p:cNvCxnSpPr>
          <p:nvPr/>
        </p:nvCxnSpPr>
        <p:spPr>
          <a:xfrm flipH="1">
            <a:off x="1007280" y="3285720"/>
            <a:ext cx="2088360" cy="259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ritmetikai kódolá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íg a huffmann kódolás minden jelhez rendelt egy kódot, addig ez a tömörítés az egész szöveghez rendel egyetlen egy kó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ódszó egy a [0,1) intervallumba eső racionális sz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ód a relatív gyakoriságok alapján történő intervallum felosztással kerül meghatározás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ranszformációs kód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ául a Fourier transzformáció: egy periodikus időfüggvényt adott amplitúdójú és kezdeti fázisszögű szinusz hullámok összegével írunk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talánosan fogalmazva sok összetett jelenség írható le vektorizáció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ubband kódol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ak bizonyos frekvencia tartományba eső leveleket transzformál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edikció vagy relatív kód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z egymás követő jelek nem sokban térnek el egymástól, akkor elég csak a kis különbségeket kódol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sőbb réteg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OSI modell felső 4 rétege a hoszt-hoszt közötti kapcsolatok mikéntjét és milyenségét írják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k a rétegek a modellb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llítási ré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zony ré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jelenítési ré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kalmazási ré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álózati biztonság és védele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titkosítás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yakran előfordul, hogy bizalmas vagy titkos információt kell továbbítani a hálózaton kereszt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felelő algoritmus használatával megoldható, hogy a titkosított adatok sehogyan sem, vagy csak nagyon nehezen legyenek visszafejthető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kosítási mod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9840" y="4292640"/>
            <a:ext cx="2232000" cy="1224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kosítás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4292640"/>
            <a:ext cx="2232000" cy="1224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gfejtés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4200" y="4508640"/>
            <a:ext cx="1081080" cy="792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1989000"/>
            <a:ext cx="1081080" cy="792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1989000"/>
            <a:ext cx="1081080" cy="792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8" idx="3"/>
            <a:endCxn id="110" idx="1"/>
          </p:cNvCxnSpPr>
          <p:nvPr/>
        </p:nvCxnSpPr>
        <p:spPr>
          <a:xfrm>
            <a:off x="3201480" y="4905000"/>
            <a:ext cx="79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10" idx="3"/>
            <a:endCxn id="109" idx="1"/>
          </p:cNvCxnSpPr>
          <p:nvPr/>
        </p:nvCxnSpPr>
        <p:spPr>
          <a:xfrm>
            <a:off x="5075280" y="4905000"/>
            <a:ext cx="79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250920" y="4437000"/>
            <a:ext cx="6490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72360" y="4437000"/>
            <a:ext cx="64944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5589720"/>
            <a:ext cx="2232000" cy="647640"/>
          </a:xfrm>
          <a:prstGeom prst="upArrowCallout">
            <a:avLst>
              <a:gd name="adj1" fmla="val 86167"/>
              <a:gd name="adj2" fmla="val 86159"/>
              <a:gd name="adj3" fmla="val 1666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tkosítási kul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5373720"/>
            <a:ext cx="1152720" cy="1224000"/>
          </a:xfrm>
          <a:prstGeom prst="upArrowCallout">
            <a:avLst>
              <a:gd name="adj1" fmla="val 25002"/>
              <a:gd name="adj2" fmla="val 25000"/>
              <a:gd name="adj3" fmla="val 1769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itkosított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öveg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kriptog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5661000"/>
            <a:ext cx="2232000" cy="647640"/>
          </a:xfrm>
          <a:prstGeom prst="upArrowCallout">
            <a:avLst>
              <a:gd name="adj1" fmla="val 86167"/>
              <a:gd name="adj2" fmla="val 86159"/>
              <a:gd name="adj3" fmla="val 1666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gfejtési kul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500720" y="3357360"/>
            <a:ext cx="0" cy="1150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2924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788000" y="2924280"/>
            <a:ext cx="1439640" cy="144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2924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olakod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349360"/>
            <a:ext cx="23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2205000"/>
            <a:ext cx="36036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908000" y="1484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443640" y="14130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164360" y="14130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651640" y="2133720"/>
            <a:ext cx="79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2133720"/>
            <a:ext cx="863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573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rthető (nyílt) szöv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51640" y="350028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rthető (nyílt) szöv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12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zív betolakodó , csak figy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9079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tív betolakodó , az üzenetet megváltoztat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álózati biztonság és védele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titkosítás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itkosítástan (kriptológia) alapvető szabálya az, hogy a titkosítás készítőjének feltételeznie kell, hogy a megfejtő ismeri a titkosítás általános módszeré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itkosítási kulcs határozza meg konkrét esetben a titkosítá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égen amikor emberek végezték a titkosítást két általános módszert használta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elyettesítéses rejtjel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cseréléses rejtjel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yettesítéses rejtje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ABC-s módsz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ső alkalmazójáról elnevezve Caesar-féle rejtjelezésnek is neve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redeti abc-t egy 3 (ált esetben k) karakterrel eltolt abc –vel helyettesí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atisztikai alapon könnyen fejthet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bb ABC-s mó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6 Caesar-abc sort tartalmazó négyzetes má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yílt szöveg fölé egy kulcsot írunk, és a kulcsban lévő betű dönti el , hogy melyik sort használjuk az adott betű titkosít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gfejtés alapja a kulcs hosszának jó megsej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cseréléses rejtje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tűk sorrendjét változtatj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ulcsban egy betű csak egyszer fordulhat el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öveget kulcsnyi szélességű sorokra tördelve egymás alá írj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itkosított szöveget az oszlopok egymás után fűzésével kapj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oszlopok sorrendjét a kulcs betűinek abc-beli sorrendje határozza m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 – adattitkosítási szabv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zámítógépek megjelenésével felmerült az igény olyan titkosítási algoritmusok iránt, amelyek olyan komplikáltak, hogy még egy számítógép se tudja megfejt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 módszer lényegében egy 64 bites nyílt szöveget 64 bites titkosított szöveggé alakít, egy 56 bites titkosítási kulcs segítségé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áris elemek esetén a felcserélések és helyettesítések egyszerű áramkörök segítségével valósítható m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 – adattitkosítási szabv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227664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256536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270828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2852640"/>
            <a:ext cx="720720" cy="144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299736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314172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328464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4" idx="1"/>
          </p:cNvCxnSpPr>
          <p:nvPr/>
        </p:nvCxnSpPr>
        <p:spPr>
          <a:xfrm flipH="1">
            <a:off x="755280" y="234900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45" idx="1"/>
          </p:cNvCxnSpPr>
          <p:nvPr/>
        </p:nvCxnSpPr>
        <p:spPr>
          <a:xfrm flipH="1" flipV="1">
            <a:off x="755280" y="2491560"/>
            <a:ext cx="21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46" idx="1"/>
          </p:cNvCxnSpPr>
          <p:nvPr/>
        </p:nvCxnSpPr>
        <p:spPr>
          <a:xfrm flipH="1" flipV="1">
            <a:off x="755280" y="2636640"/>
            <a:ext cx="216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47" idx="1"/>
          </p:cNvCxnSpPr>
          <p:nvPr/>
        </p:nvCxnSpPr>
        <p:spPr>
          <a:xfrm flipH="1">
            <a:off x="755280" y="278100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48" idx="1"/>
          </p:cNvCxnSpPr>
          <p:nvPr/>
        </p:nvCxnSpPr>
        <p:spPr>
          <a:xfrm flipH="1" flipV="1">
            <a:off x="755280" y="2923920"/>
            <a:ext cx="216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"/>
          <p:cNvCxnSpPr>
            <a:stCxn id="149" idx="1"/>
          </p:cNvCxnSpPr>
          <p:nvPr/>
        </p:nvCxnSpPr>
        <p:spPr>
          <a:xfrm flipH="1" flipV="1">
            <a:off x="755280" y="3068280"/>
            <a:ext cx="216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0" idx="1"/>
          </p:cNvCxnSpPr>
          <p:nvPr/>
        </p:nvCxnSpPr>
        <p:spPr>
          <a:xfrm flipH="1" flipV="1">
            <a:off x="755280" y="3212280"/>
            <a:ext cx="21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51" idx="1"/>
          </p:cNvCxnSpPr>
          <p:nvPr/>
        </p:nvCxnSpPr>
        <p:spPr>
          <a:xfrm flipH="1">
            <a:off x="755280" y="335736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44" idx="3"/>
          </p:cNvCxnSpPr>
          <p:nvPr/>
        </p:nvCxnSpPr>
        <p:spPr>
          <a:xfrm>
            <a:off x="1692000" y="234900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45" idx="3"/>
          </p:cNvCxnSpPr>
          <p:nvPr/>
        </p:nvCxnSpPr>
        <p:spPr>
          <a:xfrm flipV="1">
            <a:off x="1692000" y="2491560"/>
            <a:ext cx="143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46" idx="3"/>
          </p:cNvCxnSpPr>
          <p:nvPr/>
        </p:nvCxnSpPr>
        <p:spPr>
          <a:xfrm flipV="1">
            <a:off x="1692000" y="263664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147" idx="3"/>
          </p:cNvCxnSpPr>
          <p:nvPr/>
        </p:nvCxnSpPr>
        <p:spPr>
          <a:xfrm>
            <a:off x="1692000" y="278100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"/>
          <p:cNvCxnSpPr>
            <a:stCxn id="148" idx="3"/>
          </p:cNvCxnSpPr>
          <p:nvPr/>
        </p:nvCxnSpPr>
        <p:spPr>
          <a:xfrm flipV="1">
            <a:off x="1692000" y="292392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149" idx="3"/>
          </p:cNvCxnSpPr>
          <p:nvPr/>
        </p:nvCxnSpPr>
        <p:spPr>
          <a:xfrm flipV="1">
            <a:off x="1692000" y="306828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50" idx="3"/>
          </p:cNvCxnSpPr>
          <p:nvPr/>
        </p:nvCxnSpPr>
        <p:spPr>
          <a:xfrm flipV="1">
            <a:off x="1692000" y="3212280"/>
            <a:ext cx="143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3"/>
          </p:cNvCxnSpPr>
          <p:nvPr/>
        </p:nvCxnSpPr>
        <p:spPr>
          <a:xfrm>
            <a:off x="1692000" y="335736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44" idx="1"/>
            <a:endCxn id="145" idx="3"/>
          </p:cNvCxnSpPr>
          <p:nvPr/>
        </p:nvCxnSpPr>
        <p:spPr>
          <a:xfrm>
            <a:off x="971640" y="2349360"/>
            <a:ext cx="72144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5" idx="1"/>
            <a:endCxn id="148" idx="3"/>
          </p:cNvCxnSpPr>
          <p:nvPr/>
        </p:nvCxnSpPr>
        <p:spPr>
          <a:xfrm>
            <a:off x="971640" y="2493720"/>
            <a:ext cx="721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6" idx="1"/>
            <a:endCxn id="144" idx="3"/>
          </p:cNvCxnSpPr>
          <p:nvPr/>
        </p:nvCxnSpPr>
        <p:spPr>
          <a:xfrm flipV="1">
            <a:off x="971640" y="2349000"/>
            <a:ext cx="72144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47" idx="1"/>
            <a:endCxn id="146" idx="3"/>
          </p:cNvCxnSpPr>
          <p:nvPr/>
        </p:nvCxnSpPr>
        <p:spPr>
          <a:xfrm flipV="1">
            <a:off x="971640" y="2637720"/>
            <a:ext cx="7214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48" idx="1"/>
            <a:endCxn id="147" idx="3"/>
          </p:cNvCxnSpPr>
          <p:nvPr/>
        </p:nvCxnSpPr>
        <p:spPr>
          <a:xfrm flipV="1">
            <a:off x="971640" y="2781000"/>
            <a:ext cx="721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49" idx="1"/>
            <a:endCxn id="151" idx="3"/>
          </p:cNvCxnSpPr>
          <p:nvPr/>
        </p:nvCxnSpPr>
        <p:spPr>
          <a:xfrm>
            <a:off x="971640" y="3069720"/>
            <a:ext cx="72144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50" idx="1"/>
            <a:endCxn id="149" idx="3"/>
          </p:cNvCxnSpPr>
          <p:nvPr/>
        </p:nvCxnSpPr>
        <p:spPr>
          <a:xfrm flipV="1">
            <a:off x="971640" y="3069720"/>
            <a:ext cx="72144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51" idx="1"/>
            <a:endCxn id="150" idx="3"/>
          </p:cNvCxnSpPr>
          <p:nvPr/>
        </p:nvCxnSpPr>
        <p:spPr>
          <a:xfrm flipV="1">
            <a:off x="971640" y="3214080"/>
            <a:ext cx="7214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3635280" y="227664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35280" y="242100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56536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35280" y="270828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35280" y="2852640"/>
            <a:ext cx="720720" cy="144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299736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314172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35280" y="328464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76" idx="1"/>
          </p:cNvCxnSpPr>
          <p:nvPr/>
        </p:nvCxnSpPr>
        <p:spPr>
          <a:xfrm flipH="1">
            <a:off x="3418920" y="234900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77" idx="1"/>
          </p:cNvCxnSpPr>
          <p:nvPr/>
        </p:nvCxnSpPr>
        <p:spPr>
          <a:xfrm flipH="1" flipV="1">
            <a:off x="3418920" y="2491560"/>
            <a:ext cx="216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78" idx="1"/>
          </p:cNvCxnSpPr>
          <p:nvPr/>
        </p:nvCxnSpPr>
        <p:spPr>
          <a:xfrm flipH="1" flipV="1">
            <a:off x="3418920" y="2636640"/>
            <a:ext cx="21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79" idx="1"/>
          </p:cNvCxnSpPr>
          <p:nvPr/>
        </p:nvCxnSpPr>
        <p:spPr>
          <a:xfrm flipH="1">
            <a:off x="3418920" y="278100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0" idx="1"/>
          </p:cNvCxnSpPr>
          <p:nvPr/>
        </p:nvCxnSpPr>
        <p:spPr>
          <a:xfrm flipH="1" flipV="1">
            <a:off x="3418920" y="2923920"/>
            <a:ext cx="21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81" idx="1"/>
          </p:cNvCxnSpPr>
          <p:nvPr/>
        </p:nvCxnSpPr>
        <p:spPr>
          <a:xfrm flipH="1" flipV="1">
            <a:off x="3418920" y="3068280"/>
            <a:ext cx="21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" name=""/>
          <p:cNvCxnSpPr>
            <a:stCxn id="182" idx="1"/>
          </p:cNvCxnSpPr>
          <p:nvPr/>
        </p:nvCxnSpPr>
        <p:spPr>
          <a:xfrm flipH="1" flipV="1">
            <a:off x="3418920" y="3212280"/>
            <a:ext cx="216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"/>
          <p:cNvCxnSpPr>
            <a:stCxn id="183" idx="1"/>
          </p:cNvCxnSpPr>
          <p:nvPr/>
        </p:nvCxnSpPr>
        <p:spPr>
          <a:xfrm flipH="1">
            <a:off x="3418920" y="335736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" name=""/>
          <p:cNvCxnSpPr>
            <a:stCxn id="176" idx="3"/>
          </p:cNvCxnSpPr>
          <p:nvPr/>
        </p:nvCxnSpPr>
        <p:spPr>
          <a:xfrm>
            <a:off x="4355640" y="234900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77" idx="3"/>
          </p:cNvCxnSpPr>
          <p:nvPr/>
        </p:nvCxnSpPr>
        <p:spPr>
          <a:xfrm flipV="1">
            <a:off x="4355640" y="2491560"/>
            <a:ext cx="143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78" idx="3"/>
          </p:cNvCxnSpPr>
          <p:nvPr/>
        </p:nvCxnSpPr>
        <p:spPr>
          <a:xfrm flipV="1">
            <a:off x="4355640" y="263664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79" idx="3"/>
          </p:cNvCxnSpPr>
          <p:nvPr/>
        </p:nvCxnSpPr>
        <p:spPr>
          <a:xfrm>
            <a:off x="4355640" y="278100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80" idx="3"/>
          </p:cNvCxnSpPr>
          <p:nvPr/>
        </p:nvCxnSpPr>
        <p:spPr>
          <a:xfrm flipV="1">
            <a:off x="4355640" y="292392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1" idx="3"/>
          </p:cNvCxnSpPr>
          <p:nvPr/>
        </p:nvCxnSpPr>
        <p:spPr>
          <a:xfrm flipV="1">
            <a:off x="4355640" y="306828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82" idx="3"/>
          </p:cNvCxnSpPr>
          <p:nvPr/>
        </p:nvCxnSpPr>
        <p:spPr>
          <a:xfrm flipV="1">
            <a:off x="4355640" y="3212280"/>
            <a:ext cx="143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3" idx="3"/>
          </p:cNvCxnSpPr>
          <p:nvPr/>
        </p:nvCxnSpPr>
        <p:spPr>
          <a:xfrm>
            <a:off x="4355640" y="335736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76" idx="1"/>
            <a:endCxn id="177" idx="3"/>
          </p:cNvCxnSpPr>
          <p:nvPr/>
        </p:nvCxnSpPr>
        <p:spPr>
          <a:xfrm>
            <a:off x="3635280" y="2349360"/>
            <a:ext cx="72144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77" idx="1"/>
            <a:endCxn id="180" idx="3"/>
          </p:cNvCxnSpPr>
          <p:nvPr/>
        </p:nvCxnSpPr>
        <p:spPr>
          <a:xfrm>
            <a:off x="3635280" y="2493720"/>
            <a:ext cx="721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78" idx="1"/>
            <a:endCxn id="176" idx="3"/>
          </p:cNvCxnSpPr>
          <p:nvPr/>
        </p:nvCxnSpPr>
        <p:spPr>
          <a:xfrm flipV="1">
            <a:off x="3635280" y="2349000"/>
            <a:ext cx="72144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79" idx="1"/>
            <a:endCxn id="178" idx="3"/>
          </p:cNvCxnSpPr>
          <p:nvPr/>
        </p:nvCxnSpPr>
        <p:spPr>
          <a:xfrm flipV="1">
            <a:off x="3635280" y="2637720"/>
            <a:ext cx="7214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80" idx="1"/>
            <a:endCxn id="179" idx="3"/>
          </p:cNvCxnSpPr>
          <p:nvPr/>
        </p:nvCxnSpPr>
        <p:spPr>
          <a:xfrm flipV="1">
            <a:off x="3635280" y="2781000"/>
            <a:ext cx="721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1" idx="1"/>
            <a:endCxn id="183" idx="3"/>
          </p:cNvCxnSpPr>
          <p:nvPr/>
        </p:nvCxnSpPr>
        <p:spPr>
          <a:xfrm>
            <a:off x="3635280" y="3069720"/>
            <a:ext cx="72144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2" idx="1"/>
            <a:endCxn id="181" idx="3"/>
          </p:cNvCxnSpPr>
          <p:nvPr/>
        </p:nvCxnSpPr>
        <p:spPr>
          <a:xfrm flipV="1">
            <a:off x="3635280" y="3069720"/>
            <a:ext cx="72144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83" idx="1"/>
            <a:endCxn id="182" idx="3"/>
          </p:cNvCxnSpPr>
          <p:nvPr/>
        </p:nvCxnSpPr>
        <p:spPr>
          <a:xfrm flipV="1">
            <a:off x="3635280" y="3214080"/>
            <a:ext cx="7214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2843280" y="2276640"/>
            <a:ext cx="57636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720" y="2276640"/>
            <a:ext cx="57600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627280" y="24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62728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627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7672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76720" y="27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7672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1844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dob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184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dob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4149720"/>
            <a:ext cx="842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elcseréléseket a P doboz, a helyettesítéseket az S doboz vég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itkosítás első lépésében egy kulcstól független felcserélés történik, az utolsóban, pedig ennek az inver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özbülső 16 fokozat ugyanúgy működik, de a kulcs más-más része határozza  meg az alkalmazott P és S dobozok konkrét felépítés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z természetesen logikai függvényekkel is leírha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2276640"/>
            <a:ext cx="360360" cy="129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227664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27640" y="256536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27640" y="285264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27640" y="314172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8000" y="2276640"/>
            <a:ext cx="360360" cy="129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48360" y="227664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48360" y="256536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48360" y="285264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48360" y="314172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08720" y="2276640"/>
            <a:ext cx="360360" cy="129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69080" y="227664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69080" y="256536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69080" y="285264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69080" y="314172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28000" y="2276640"/>
            <a:ext cx="360360" cy="129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ulcsok védel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bléma megoldása egy olyan E algoritmus, és olyan D megfejtési algoritmus használata, amelyekkel a d kikövetkeztetése gyakorlatilag akkor is lehetetlen marad, ha E teljes leírása hozzáférhet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lábbi követelményeket támassz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(E(P))=P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P a nyílt szö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ndkívül nehéz D-t E –ből leszármaztat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-t nem lehet választott nyílt szöveggel feltör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A algorit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számmisz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ndolj egy szám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 hozzá ha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orozd meg három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d ki belőle a gondolt szám háromszoros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eredmény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zámmisz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ndolj egy számot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keress egy tetszőleges prímszámot (N), mely NAGYOBB, mint az előző szá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eld a gondolt számot az (N-1). hatvány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dd az eredmény modulusát N-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radék: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A algorit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3. számmisz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ondolj egy számo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st keress egy tetszőleges prímszámot (N), mely NAGYOBB, mint az előző szá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meld a gondolt számot az N. hatvány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dd az eredmény modulusát N-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aradék: a gondolt sz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őző kettő matekul kifejez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hu-HU" sz="2400" spc="-1" strike="noStrike" baseline="30000">
                <a:solidFill>
                  <a:srgbClr val="000000"/>
                </a:solidFill>
                <a:latin typeface="Arial"/>
              </a:rPr>
              <a:t>(N-1)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mod N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hu-HU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mod N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állítá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adata nagyon fo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bízható adatszállítás biztosítása a forráshoszt és a célhost között, függetlenül az alatta lévő rétegek kialakításátó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álózati réteg által nyújtott szolgálatokra támaszko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sznált protokollok hasonlítanak a adatkapcsolati réteg protokolljaira, de itt a fizikai csatorna alatt a két hoszt összekötő alhálózatot értü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térés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ont-pont összeköttetésnél is kötelező a cím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ezdeti összeköttetés létesítése bonyol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lhálózat tárolókapacitása miatt egy csomag eltűnhet, majd hirtelen megjelen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somagok duplázódása miatt felmerülő problémákat is kezelni k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A algorit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(N)+1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od N 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ó volna ha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N)+1=P*Q, akk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(P*Q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od N = 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itkosító: T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od N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fejtő R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od N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*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N)+1 is jó felbontási al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ó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=5 a titkosítandó sz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=6 relatív prím T 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6)=1 és 5 azaz össze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* </a:t>
            </a:r>
            <a:r>
              <a:rPr b="0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N)+1=7*2+1=15=P*Q. P=3 és Q=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kus kulcs P és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ivát kulcs Q és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állítá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álózati szolgálatokat minőségük alapján 3 típusba soroltá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íp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ökéletes, hibamentes szolgá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incs elveszett, sérült, kettőzött csom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AN-ok esetén már sokszor teljesü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 típ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gyedi csomagok csak nagyon ritkán vesznek el, de a hálózati réteg időnként kiad egy N-RESET –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kkor a protokoll feladata, hogy összeszedje a maradékot, új összeköttetést létesítsen, újraszinkronizálja az átvitelt st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WAN-okra jellemz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 típ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ossz minőségű, nem megbízható szolgá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Gyakori N-RESET, elveszett vagy duplázott csomag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atagram szolgálatot nyújtó WAN-ok pl. a rádiós csomagszoró hálózatokra jellemz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állítá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állítási réteg számára a szállítási szolgálat-elérési pontok (TSAP) címei azonosítják a forrás illetve cél hosz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gy különféle szolgáltatásokhoz más-más TASP címek tarto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íg a hosztok címei ismertek addig a hoszton belüli címeket a küldő hoszt nem ismeri. Kétféle módszert használn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üldő hoszt által igényelt alkalmazást mindig a célnál egy alkalmazásszolgáltató fogadja, és az üzenet alapján rendel hozzájuk TSAP címe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speciális névszolgáltatót használnak. Egy adott TSAP cím megtalálásához összekötetést kell létesíteni a névszolgáltatóval aki megküldi a kért szolgáltatáshoz tartozó TSAP cím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állítá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 típusú hálózatszolgálatok esetén nehéz az összeköttetés létes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blémák megoldására két megold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omagok élettartamának korlát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omópontátlépés számlál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omag létrehozásának időpont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áromutas kézfogá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összeköttetés létesítése során a felek egy tetszőleges véletlen-számként választott kezdősorszámmal kezdik az adásukat, így kiszűrhető egy korábbi összeköttetésből származó késve érkezett csom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összeköttetés lebontásakor biztosítani kell az adatvesztés menteség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zonyréte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zállítási réteg felhasználásával szolgálatokat nyújt a felette lévő megjelenítési réteg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ő funkciója, hogy lehetőséget biztosítson a használóknak adatokat cserélni a viszonyokon keresztü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 viszony használhat egy vagy több szállítási összeköttetés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ndezett bontást támogatja, azaz a viszonyrétegben a bontási kérelmet meg kell erősít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os feladata a párbeszédes kapcsolatok kezel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gjeleníté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z a réteg felelős az információ megjelenítéséért és egységes értelmezéséé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ladata a szállított információ jelentéséhez kapcsolódi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ábráz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lózati bizton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lózati véde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ábrázolá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ülönféle gépek különböző adatábrázolási módokat használ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ldául karakterek esetén különböző kódrendszerek használata (IBM nagygépek EBCDIC kódja vagy az ASCII kó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zámábrázolásban is lehetnek különb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a két gép közt eltérés van akkor a hálózati kapcsolat során átvitt adatokat a megfelelő reprezentálás érdekében konvertálni k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dódó problémák kezelése nem egyszer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üldő vagy a vevő konvertáljon esetleg mindkettő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07:40:53Z</dcterms:created>
  <dc:creator>Nagymáté Péter</dc:creator>
  <dc:description/>
  <dc:language>en-US</dc:language>
  <cp:lastModifiedBy>Nagymáté Péter</cp:lastModifiedBy>
  <dcterms:modified xsi:type="dcterms:W3CDTF">2004-02-12T13:19:43Z</dcterms:modified>
  <cp:revision>23</cp:revision>
  <dc:subject/>
  <dc:title>Hálózatok </dc:title>
</cp:coreProperties>
</file>