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94F-AEF0-4CEA-9E06-5F753D69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9A4-B6C0-4D71-AD49-16787CBD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8E6-702D-4511-A67A-4FC7AB64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087-DAB7-4D61-A246-78F8B37D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6D0-4BDB-41CE-8F78-1635CCA0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D18-18A4-4AA7-829D-9A57963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EA3-5226-4EF7-9DEE-73C1C8A0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951-8B82-42B0-AD3C-4318C89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59E-3584-4C40-8A85-D3C664F3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87B-DC32-45F2-8B42-E6E71DB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E60-8725-4A61-8428-7E70277B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948-3F98-4022-8857-B12E28D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A56E-63FA-4750-A13D-0A43DA287F1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CP/IP és az Intern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Internet hálózati rétege: az I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z IP protokoll a 80-as években jelent me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rotokoll összekötetés men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álózati réteg megbízhatatlan összekötetés menetes szolgálatot biztosít, így az összes megbízhatósági mechanizmust a szállítási rétegben kell megvalósíta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a az adatátvite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Legkisebb  egységé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nnak pontos formájá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útválasztá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éhány további fontos szabályt, amelyek meghatározzák, hogy a hostok, IMP-k hogyan dolgozzák fel az IP csomagok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űködése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szállítási réteg a kapott üzeneteket max 64 Kbájtos datagramokra tördeli, melyek az útjuk során kisebb nagyobb darabokra lesznek felvágv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z összes célba ért ott újra összerakásra kerülnek üzenet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atagram két részből áll: egy fejrészből és egy szövegrészbő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27664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jes hosszúsá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331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zonosít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14172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jrész ellenőrző össze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tokol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27664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olgálat típu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élettarta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573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07664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81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708280"/>
            <a:ext cx="2879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datagramdarabeltol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708280"/>
            <a:ext cx="1443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08280"/>
            <a:ext cx="14472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08280"/>
            <a:ext cx="1425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2276640"/>
            <a:ext cx="8636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276640"/>
            <a:ext cx="792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zi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Verzió mező a protokoll verzióját azonosítj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 IHL adja a fejrész teljes hosszát 32 bites egységekben (20 bájt+opció) min. értéke : 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 szolgálat típus mező teszi lehetővé a hoszt számára , hogy kijelölje az alhálózattól kívánt szolgálat típusá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Teljes hosszúság a teljes datagram hossz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ax. 65536 báj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Fejrész+ad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onosítás mezé alapján állapítja meg a célhoszt, hogy egy új csomag melyik datagramhoz tartozi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DF Don’t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F More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Datagramdarabeltolás mező adja meg hogy hol található az adott darab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P csomagok tördelés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különféle hálózati csomópontokon történő átvitel során esetleg kisebb darabokra kell szétbonta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Minden hálózatra van egy jellemző max adatátviteli méret: network MT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Pl. az ethernet MTU = 1500 oktetes IP csomag, X.25 esetén lehet hogy az MTU csak 128 báj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élettartam mező lényegében egy 8 bites számláló, amely a csomagok élettartama ms-be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protokoll mező kijelöli, hogy a datagram mely szállítási folyamathoz tartozik, pl. TC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forrás és a cél cím hálózati számot és a hosztszámot adja me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ímzési rendsz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 hierarchikus: vannak hálózatok, és ezen belül host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et két részre kell bontani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gy hálózatot azonosí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És ezen belül egy gépet azonosító cím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hálózatok közti kapcsolatot az útválasztók biztosítjá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 hossza 32 bit ezt kellet két részre osztani, oly módon, hogy nagy hálózatokban lévő sok gépet is meg lehessen címez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5 különböző formátum használható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91628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781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781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573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508640"/>
            <a:ext cx="215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37372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916280"/>
            <a:ext cx="136656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7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916280"/>
            <a:ext cx="338472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2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781360"/>
            <a:ext cx="2016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1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2781360"/>
            <a:ext cx="2519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3573360"/>
            <a:ext cx="3024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21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573360"/>
            <a:ext cx="129528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508640"/>
            <a:ext cx="4103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öbbszörös cím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5373720"/>
            <a:ext cx="4103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nntartva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7840" y="2050920"/>
            <a:ext cx="31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1989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-126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0.1-255.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85264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28.0-191.255       0.1-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6450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”           192.0.0-223.255.25            1-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4581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445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első 3 címforma 128 hálózatot hálózatonként 16 millió hoszttal, 16384 hálózatot 64 K hoszttal illetve 2 millió hálózatot egyenként 254 hosztt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D osztályú címek a multicast hoz használandóa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eknél a hálózat és hoszt címének szétválasztására címmaszkokat használnak bitenként és műveletet használ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51640" y="1700280"/>
            <a:ext cx="0" cy="396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/IP – OSI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8900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OK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NET,SMTP,FTP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NSZPORT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TC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ROUTING – I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58136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ELÉRÉSI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FRAM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41300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060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708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3357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4076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4724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5373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35280" y="1413000"/>
            <a:ext cx="2521080" cy="576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1773360"/>
            <a:ext cx="2521080" cy="10792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635280" y="2060640"/>
            <a:ext cx="2521080" cy="792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3716280"/>
            <a:ext cx="25210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716280"/>
            <a:ext cx="2521080" cy="360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35280" y="4436640"/>
            <a:ext cx="2521080" cy="144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4581360"/>
            <a:ext cx="2448000" cy="14292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5445000"/>
            <a:ext cx="2521080" cy="2890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nntartott cím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127 –el kezdődő címek a loopback cím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hoszt címrészbe csak 1-eseket írva lehetséges az adott hálózatban lévő összes hosztnak üzenetet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 hoszt címrésze 0, az az aktuális hálózatot jelöl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útválasz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Csomagkapcsolt rendszerekben az útválasztás azt a folyamatot jelöli, amivel kiválasztjuk az útvonalat, amin a csomagot tovább küldjük és az útvonal választó az a számítógép, amely ezt végrehajt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gép a memóriájában lévő útválasztási tábla alapján dönti el hogy merre küldje tovább a csomag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Ha a két gép egyazon lokális hálózaton van , akkor útválasztás nélkül közvetlen összekötetés létesíthető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Különböző hálózatok közötti közvetett útválasztásnál először a feladónak kell megadni azt az útválasztót, amihez a csomagot küldi, majd az útválasztó fogja a cél hálózatra továbbítani a datagram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thernet IP ker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ípuskód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908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92572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Forrás gép Ethernet címe (utolsó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cél (utolsó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908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forrás (első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198900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Cél gép Ethernet címe (első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860640"/>
            <a:ext cx="5904000" cy="1152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P fejléc, TCP fejléc, majd a tényleges adatok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….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datok vé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5013360"/>
            <a:ext cx="5904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Alkalmazási sz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tt vannak a felhasználói és hálózati kapcsolatot biztosító programo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oszt-hoszt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z OSI modell szállítási rétegének felel meg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létesített és fennálló kapcsolat fenntartását biztosítj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Két rétegprotokollból áll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TCP – a továbbítást szabály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UDP – összekötetés-mentes szállítási protokol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ok közötti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 protokollja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z üzenetvezérlő protokoll cím meghatározó eljárása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 foglalt címet meghatáro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ben előforduló események és hibák jelzésé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CM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 elérés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z biztosítja a kapcsolatot a csomópontok közöt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/IP protoko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lső szállítási réteg protokoll az NCP (hálózatvezérlési protokoll) elvileg egy tökéletes alhálózattal való együttműködésre epül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szerűen átadta a TPDU-kat a hálózati rétegn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hogy az ARPANET internetté vált csökkent az átvitel megbízhatóság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zért vezeték be az új protokollt a TCP-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csoma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581360"/>
            <a:ext cx="720108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4221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27664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rszá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637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áültetett nyugt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2997360"/>
            <a:ext cx="360072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blak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3789360"/>
            <a:ext cx="360072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ürgősségi mutat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3789360"/>
            <a:ext cx="3600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4640"/>
            <a:ext cx="3600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port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1844640"/>
            <a:ext cx="360072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ndeltetési por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997360"/>
            <a:ext cx="151308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jrész hossz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2997360"/>
            <a:ext cx="792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ogadja a tetszőleges hosszúságú üzeneteket a felhasználói folyamattól és azokat maximum 64 kbájtos darabokra vágja szé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zekhez fejlécet fűz, majd elküldi őket datagramokké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eladata, hogy időzítéseket kezelve szükség szerint újraadja őket, illetve hogy helyes sorrendben rakja össze őket az eredeti üzenett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Minden csomagnak saját sorszáma van 32 biten címez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minimális fejrész 20 bájt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z összeköttetések végpontjai a cél illetve forrás porto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sorszám és a ráültetett nyugta a szokásos funkciókat látják el – 32 bit hosszúa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fejrész hossz kijelöli, hogy a TCP fejrész hány 32 bites szót tartalmaz. Erre az infóra az Opció mező változó hossza miatt van szüksé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Ezután hat jelzőbit következik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URG akkor 1 ha a sürgősségi mutató használva v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SYN és ACK összekötetés létesítésekor van funkció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IN az összekötetés lebontására használha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RST a hibás összekötetést lehet megszüntet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OM az üzenet vé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TCP –bel forgalomszabályozás változó méretű forgóablakot haszná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6-bites jelzőre van szükség: az ABLAK azt adja meg, hogy hány bájtot lehet még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alkalmazások a TCP protokoll szolgáltatásait megválaszthatják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Stream ori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Átvitt adat bitsoro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Virtual circuit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Duplex átvitel előtt erőforrásokat kell allokál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Buffered transf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Unstructured Stre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ull duplex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09:27:01Z</dcterms:created>
  <dc:creator>Nagymáté Péter</dc:creator>
  <dc:description/>
  <dc:language>en-US</dc:language>
  <cp:lastModifiedBy>Nagymáté Péter</cp:lastModifiedBy>
  <dcterms:modified xsi:type="dcterms:W3CDTF">2004-02-05T13:04:35Z</dcterms:modified>
  <cp:revision>22</cp:revision>
  <dc:subject/>
  <dc:title>A TCP/IP és az Internet</dc:title>
</cp:coreProperties>
</file>