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386-712D-4B41-9CE8-0ECE5A07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DC6-7EF2-4CEF-9A85-593ED2A1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C62-4F15-4841-8567-BBB91742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10C-8C13-4C6F-BFD3-399F4C67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00C-D35B-4B04-8193-FCAC64D3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6CC-0319-4D3B-A9AA-04A5713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56B-843E-4FBF-968C-F996D4BF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311-5025-4381-9135-7010FC2A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7C9-69A2-49A8-8BF7-9FA51988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726-5C3E-46FC-BE50-0EBDDF3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AFC-BA51-4E82-8B84-B897839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67F-01E5-4340-93D6-AB62E29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36E7-EA37-4087-8C69-95F720141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-es szabvány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tegek közötti szolgá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lózati/LCC felületek közötti szolgáltatási előí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típus : kapcsolatmentes illetve kapcsolatorient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szükség logikai kapcsolatra, közvetlen adatblokk feldolgozás, nincs folyamatvezérlés és hibajavítás. Két szolgálati primitív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.request: hálózati réteg </a:t>
            </a:r>
            <a:r>
              <a:rPr b="0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.indication: hálózati réteg </a:t>
            </a:r>
            <a:r>
              <a:rPr b="0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pcsolatot kell létesíteni, fenn tartani majd megszüntetni. 5 primitív oszt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CONNECT: két SAP közötti logikai kapcs. létes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ISCONNECT: a kapcsolat bon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_CONNECT: felépített összekötetésen keresztüli adatátv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RESET: alaphelyzetbe hozható az összeköt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CONNECTION_FLOWCONTROL: két réteg közti adatcsere vezér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tegek közötti szolgá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LC/MAC felületek közti szolgáltatási előí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árom primití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request: adatblokk küldésének kér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indication. Adsatblokk vétele és továbbítása megtörtént a MAC rétegből az LCC réteg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confirm: LCC jelzi, hogy elfogad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okális hálózatok fizikai egység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mmunikáció feladatait az erre a célra tervezett hardver és firmware lá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pterkárty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t spec. Perifériakártyaként kapható eszközt, a hálózat állomásaként használni kívánt valamennyi gépbe beépítik. Tartalmazza az LCC-t és MAC-t megvalósító hardvert és förm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ábelrends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t a kábelt illetve vezetéket jelenti, amit az összekapcsolásra használnak. Ide tartoznak még a csatlakozószerelvénye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centrátorok és erősít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s lokális hálózatokon használják a jelek erősítésére és elosztására, illetve a hálózatban levő eszközök egy központi helyen kerüljenek összekötetésbe egymással. (HUB,repeater, stb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z IEEE 802.3 és az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előtt egy állomás adni akar, belehallgat a csatornába. Ha a kábel foglalt, akkor az állomás addig vár, amíg az üressé nem válik, máskülönben azonnal adni kez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thernet hálózatok átviteli sebessége a jelenleg még a legtöbbet használt rendszerekben 10 Mbit/s. Ez persze nem jelenti azt, hogy minden körülmények közt ez a max átviteli seb., hiszen észszerűen kb. 60% -on üzemeltethet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hát az optimális sebesség 4.5 Mbit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szes implementáció manchester kódolást használ adat továbbítás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z IEEE 802.3 és az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2327400"/>
        </p:xfrm>
        <a:graphic>
          <a:graphicData uri="http://schemas.openxmlformats.org/drawingml/2006/table">
            <a:tbl>
              <a:tblPr/>
              <a:tblGrid>
                <a:gridCol w="1811160"/>
                <a:gridCol w="2808360"/>
                <a:gridCol w="361008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nevezé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ábel fajtá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generálás nélküli max hossz (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nyékolatlan csavart érp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kony koax káb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ag koax káb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vegszá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ékony koax káb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elek visszaverődésének megakadályozására a végpontokat a kábel hullámellenállásával megegyező értékű ellenállással kell lezárni (50 O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ek sorosan vannak felfűzve ún. BNC csatlakozók és T csatolók segítségével ami a hálózati kártyához csatlako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j gép csatlakoztatásának hátránya hogy a csatlakozás idejére a hálózat működése megá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él több állomás van a hálózatban annál nagyobb az érintkezési hiba valószinűsé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nyire sárga színű, ezért gyakra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yellow cabl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-nek is nevez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gyfrekvenciás jelillesztés miatt a kábel borításán azonos távolságokra felfestett jelzések jelzik a pontokat ahol a kábelhez lehet csatlako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t a kábelezés módszert csak olyan esetekben használják, ahol erősebb külső zavarok miatt szükséges az erősebb árnyékolás, illetve nagy távolság ese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atlakozás módja az ún. vámpír csatlakozó haszná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ábelbe egy rendkívül pontos mélységű, szélességű lyukat fúr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yukba ami a rézmagban végződik kell becsavarni a speciális csatlakozó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ábelre a vámpír csatlakozóhoz egy adó-vevőt (transceiver vagy MAU ) kell illeszteni, amihez csatlakoztatott kábel köti össze a számítógé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ó-vevő kábel (AUI=attachment unit interface) legfeljebb 50 méter lehet, és 5 árnyékolt sodort érpár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U csatlakozója négy szimmetrikus jeláramkört, tápellátást és földelést szolgáltató vezetéke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két olyan adó-vevő, amely 2.5 Km-nél távolabbra helyezkedi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olyan adó-vevő közötti út, amely 4-nél több jelismétlőn halad kereszt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avart érp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ilyen módon bekötött számítógép lényegében pont-pont kapcsolatot valósít meg az elosztó eszközzel, az UTP több-portos jelismétl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lyen eszközöknek 8-24 UTP csatlakozásuk van a számítógépek felé, és a bemenetükön UTP,optikai,BNC vagy AUI csatlakozó tal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uk lehetőség van fa struktúra kialakí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pületkábelezési megold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tlen kábel fut végig az épület szobáin át, úgy hogy az állomások a hozzájuk legközelebb eső ponton csatlako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gerinc kábel fut az alaptól a tetőig, és szintenként egy-egy jelismétlő alkalmazásával vízszintes kábelekkel csatlako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stag – vékony koax pár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vegszál – csavart érpár pár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keret egy 7-bájtos előtaggal (preamble) kezdődik, amely 10101010 mintá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 minta machester-kódolása, amely egy 10 MHz-es 5.5 usec időtartamú négyszögjel , lehetőséget biztosít a vevő órájának az adó órájához szinkronizálódj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után következik a keretkezdet bájt 10101011 mintá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eret két címet tartalm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abvány 2 és 6 bájtos címeket is mege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10 Mbit/s alapsáv csak 6 bájtos címeket hasz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élcím legfelső helyi értékű bitje (I/G) közönséges címeknél 0 (unicast) csoportcímeknél 1 értékű (multi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upa 1 –es tartalmazó célcím esetén az összes állomás veszi a keretet (broad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ímzésnél érdekes a legmagasabb helyiértékű bit melletti 46. bit (U/L)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 a bit a helyi és a globális címeket különbözteti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elyi címeket a hálózat menedzserek jelölik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lobális címeket az IEEE jelöli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vel 46 bit áll rendelkezésr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b. 7*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globális cím léte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421000"/>
            <a:ext cx="432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2421000"/>
            <a:ext cx="2872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421000"/>
            <a:ext cx="2376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421000"/>
            <a:ext cx="792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0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   1 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– 15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0-4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328464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284640"/>
            <a:ext cx="36072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3284640"/>
            <a:ext cx="1584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852640"/>
            <a:ext cx="1009440" cy="432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852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élok megtalálásának módja már a hálózati rétegre tar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t a 6*8 bájtot hexadecimális alakban, bájtonként „:” elválasztva adjá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:12:17:0:5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sszmező az adatmezőben  található adatbájtok számát adja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érvényes keretnek legalább 64 bájt hosszúnak kell len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tehát egy keret adatrésze 46 bájtnál rövidebb, akkor kitöltő mezőt kell haszn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utolsó mező az ellenőrzőösszeg (CRC –alap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jeles sín - IEEE 80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ártásautomatizálás sokszor igényel valós idejű, vagy felülről korlátos válaszidejű hálóza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 felépítés , ahol az állomások egymásnak küldik sorba körbe a kereteket, ilyen szempontból jó megol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állomás esetén, ha T ideig tart egy keret átvitele, akkor bármelyik állomás k*T időn belül képes kommunik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, mint fizikai topológia nem illeszkedik a futószalagok egyenes vonal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ért valójában busz kialakítású üzenet szórásos módot haszn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 csak logikailag létezik ( az állomás ismeri a szomszédjainak cím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jeles sín - IEEE 80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dési joga csak a tokent birtokló állomásnak van, ezért ütközés nem jöhet lé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C protokoll bonyolult 10 időzítést és számos belső állapotváltozó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izikai réteg a 75 Ohmos szélessávú koaxiális kábel. Három modulációs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ázis-folytonos 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ázis-koherens 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plitúd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hetséges sebességek 1.5 ill. 10 Mbit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llomások a gyűrűbe cím szerint csökkenő sorrendbe kerülhetnek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zérjel küldés is mindig a nagyobbtól a kisebb sorszámú felé irány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ioritás megvalósítására 4 osztály van a forgalom számára: 0,2,4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kor a vezérjel megérkezik egy állomáshoz akkor annak 6-os alállomása aktivizálódik ha van kerete azonnal kezdi a küldést, ha végzet és még van ideje, akkor tovább adja a jelet a 4-es alállomásna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dőzítések megfelelő beállításával elérhető az, hogy a teljes vezérjel birtoklási idő egy jól meghat. része a 6 –os prioritású forgalomé leg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tag a vevő órájának a szinkroniz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zdetjelző és végjelző mező a keret határát jelzi. Mindkét mező analóg kódolású szimbólumokat tartal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retvezérlés mező különbözteti meg a vezérlő és az adat keret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atmező hossza 8182 bájt 2 bájtos címzés esetén, 8174 bájt 6 bájtos címzés es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421000"/>
            <a:ext cx="21564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421000"/>
            <a:ext cx="273672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421000"/>
            <a:ext cx="43164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0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1  1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– 818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4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421000"/>
            <a:ext cx="216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421000"/>
            <a:ext cx="216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3182760"/>
        </p:xfrm>
        <a:graphic>
          <a:graphicData uri="http://schemas.openxmlformats.org/drawingml/2006/table">
            <a:tbl>
              <a:tblPr/>
              <a:tblGrid>
                <a:gridCol w="2027160"/>
                <a:gridCol w="2087640"/>
                <a:gridCol w="4114800"/>
              </a:tblGrid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etvezérlő mez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é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ad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m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érjel –igénylés gyűrű inicializálásak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 successo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állomások beléptetésének engedély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 successo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állomások beléptetésének engedély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foll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épülés elveszett vezérlőjelbő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 con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enyhelyzet feloldás több állomás egyidejű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űrűbe lépése eseté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érjel átad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succ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omások kilépésének kezel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izika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IEEE 802-es szabvány 3 olyan fizikai közeget szabványosított, amelyet az architektúrában használhat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rott érpá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axiális ká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kai ká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zikai szabvány megadja a kábel és az átvitel típusára a kódolás módjára és az adat sebességére vonatkozó előírás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elős a fizikai összekötetés létesítésért és megszüntetésért ,bitek átviteléért , kódolás – dekódolásért és az időzítésé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eghozzáférés-vezérlési ré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kális hálózatban lévő eszközök a közös fizikai csatornán való hozzáférésért vers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vel számos módszer létezik ennek kezelésére a bizottság a CSMA/CD, vezérjel-busz és vezérjel-gyűrű módszereket választot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eghozzáférés-vezérlési ré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abvány négy funkciót határozz m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eghozzáférés-vezér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álózati állomások szabályokat ill. eljárásokat használnak a megosztás vezérl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t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zdeti és záró információ jelzés hozzáadására van szükség, hogy azonosítani lehessen az üzenetek elejét és vég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álózat címzést használ, hogy azonosítani tudja az üzenet adásában és vételében résztvevő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afelism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élja a helyes üzenetadás és vétel ellenőrz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n a szinten minden IEEE 802 –es szabvány közö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lréteg szervezi az adatfolyamot, parancsokat értelmez, válaszokat generál, a hibákat ellenőrzi, és helyreállítási funkciókat hajt vé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lette álló rétegeknek nyújt szolgáltatást, úgy ahogy azt a hagyományos adatkapcsolati protokoll nyújtja a távolsági hálózat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SI modellt követő LAN kialakításban az LCC feletti réteg tulajdonképpen a hálózat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LCC/MAC felületek közötti szolgáltatási előírások azokat a szolgáltatásokat rögzíti, amelyet a két réteg felületei közt definiál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hhoz, hogy meg tudják különböztetni az ugyanazon állomás által létesített különböző cseretípusokat, bevezették a szolgáltatás-hozzáférési pont (SAP) fogalm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 SAP-ot amelyik adatblokkot küld forrás SAP –nak (SSAP), azt pedig amelyik adatblokkot vesz rendeltetési SAP-nak (DSAP) nev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z adatblokkot, amely a forrásállomás LLC-ből eljut a célállomás LLC-ig, logikai kapcsolatvezérlési protokoll adatblokknak (LLC PDU) nevez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SAP cím – egy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SAP cím – egyedi vagy csoportc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00:20Z</dcterms:created>
  <dc:creator>Nagymáté Péter</dc:creator>
  <dc:description/>
  <dc:language>en-US</dc:language>
  <cp:lastModifiedBy>Nagymáté Péter</cp:lastModifiedBy>
  <dcterms:modified xsi:type="dcterms:W3CDTF">2004-01-29T14:17:06Z</dcterms:modified>
  <cp:revision>17</cp:revision>
  <dc:subject/>
  <dc:title>Hálózatok</dc:title>
</cp:coreProperties>
</file>