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3E5-942C-4646-AD97-1E4D809D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7FD-2420-4466-B151-01FDB0E9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86B-CA8D-40D1-9732-1A2AFD1B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390-CA10-44CA-8E6D-0AB0DCAD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545D-FF6D-49CF-9273-82520895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CE57-EE2E-4703-A83D-F60896F6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82DF-E305-4176-9578-2DBA66B6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9F26-F77E-402B-803E-B28E4164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07FC-6A55-478C-8A64-3D3A9DCC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66DA-93D6-4AA7-803D-D7A9743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B751-DD03-4DF6-8B3A-4293FBA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A5D-033F-4C67-A59D-BE2DC20F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796C-332C-4617-94C7-B22EA3D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C952-ACDC-43DA-8D97-55D2241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B430-A0CE-40BB-AB3D-E253BE25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E337-C098-4DE2-9911-1B7FD439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1527-51D9-44E8-98B2-18DAD596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9D8-E9E7-4142-92BC-E33226BA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FDB-978A-4119-9E20-2B185708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B7D-798A-4671-9AEA-F0F99896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495-A104-4ACD-939A-3FE4030F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5AB-C694-4D40-8C09-4960175F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5E6-D569-43BE-A8D1-6A4B9CC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222-C5A2-4E42-A00F-A53FF5B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5D9-A16C-40B1-A468-EA0852968AB4}" type="slidenum">
              <a:rPr b="0" lang="hu-H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C6EB-002C-4EC4-92F2-3B03BDAC12E6}" type="slidenum">
              <a:rPr b="0" lang="hu-H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álózat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PSe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PSec a titkosításra épülő védelmi szolgáltatások és biztonsági protokollok együtte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iztosítja az adatintegritást, az eredet hiteleségét, az adat titkosságát és az adatáramlás titkosságá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alábbi biztonsági szolgáltatásokat kínál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Biztonsági tulajdonság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yilvános kulcsú tanúsítványon alapuló hiteles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őmegosztott kulcson alapuló hiteles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yilvános kulcsú kriptográf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datok sértetlenségének védelme hash függvényekk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ulcskezelé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datok védelme titkosításs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GMP,TC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GMP olyan protokoll , amelynek segítségével az IP állomások közlik a velül szomszédos csoportos küldést alkalmazó útválasztókkal , mely csoportos küldési csoportok tagj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TCP összeköttetés alapú, megbízható kapcsolatot biztosít az alkalmazások számára. Főbb funkció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TCP vételi ablak méretének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sleltetett visszaigazol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zelektív visszaigazol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CP időbélyege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MTU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működő átjáró felismer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CP csomag újraküld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D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Olyan kapcsolat nélküli datagram szolgáltatás biztosító TCP kiegészítés, amely sem a kézbesítést, sem a csomagok megfelelő sorrendjét nem garantá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ről lesz sz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apfogal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Windows TCP/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H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ou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apfogalm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álozati model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AN – Local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WAN – Wide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AN – Metropolitan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erver - Cl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eer to P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AC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P cím  (IPv4 és IPv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etma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HCP és Boo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oute , Gate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éhány fontosabb protokol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AppleTal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Mac-en használt szállítási protoko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DLC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A Hewlett Pakard JetDirect kártyával bővített lézernyomtatóinak eléréséhez szükség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etBEUI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Kis kiterjedésű hálózatok protokollja útvonalválasztóval (router) nem továbbítható. Tulajdonságait automatikusan állítja b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WLink IPX/SPX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kompatibilis protokoll: A Netware hálózatokban használható 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IPX/SPX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al kompatibilis száll protoko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WLink NetBIOS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A Novell és NT kiszolgálók közötti kapcsolattartást teszi lehetővé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Point To Point Tunneling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 (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PPTP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): Interneten keresztül létesít kapcsolato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TCP/IP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Transmission Control Protocol/Internet Protocol. A nagyméretű hálózatokon használt protokol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ndows TCP/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Windows TCP/IP központi elemekből (pl. ARP, IP, TCP protokolok), szolgáltatásokból (DHCP, DNS stb.) és a köztük lévő csatolófelületbő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satolófelületek: TDI (transport Driver Interface) és az NDIS (network Driver Interface Specifi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NDOWS TCP/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windows hálózati protokolljai az NDIS segítségével komunikál a hálózati csatolók drivere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özponti komponensek és a T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dress Resolution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Control Message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Protocol Secu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Group Management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ímfeloldási protokoll végzi a kimenő csomagok MAC címének meghatározását az IP címek alapj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kifelé tartó IP-datagramhoz csatolni kell a forrás és a cél MAC cím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cél meghatározásához az ARP broadcast üzenetet küld ki, és válaszkor feljegyzik a IP és Mac címeket egy táblázat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gyorsító tárban az élettartam 10 perc. A tár tartalmát az ARP –a  paranccsal  lehet kiírat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ternet Protocol 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eladata a csomagok címzése és tovább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csomag tartalmazza a forrás és a cél IP címé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MAC címektől eltérően a csomagban lévő IP címek a datagram teljes élete alatt állandóak maradn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P réteg alapfunkciói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ás: Ez az elsődleges funkció, az IP fejlécet megvizsgálva és az útvonal táblával összehasonlítva eldönti hogy a csomagot a felső rétegek vagy a hálózati csatoló felé kell továbbítania, esetleg egyszerűen eldobhatja az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IP cím ütközés érzékelése: A gép ARP broadcast üzenetek formájában kiküldi a beállított IP címe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CM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CMP segítségével az IP kommunikációt használó állomások és útválasztók hibákat jelezhetnek, és korlátozott adatcserét is folytathatnak  a vezérlésrő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övetkező feladatokra használjá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zbesítési problémák jelz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ó táblák felépítése és karbantart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ó felder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PMTU Path Maximum Transmission Unit (útvonal legnagyobb átviteli egysége)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érhetőségi problémák felderít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IP útválasztó ICMP üzenet formájában jelzi a túlterheltséget a küldő állomásn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1:19:00Z</dcterms:created>
  <dc:creator>Nagymáté Péter</dc:creator>
  <dc:description/>
  <dc:language>en-US</dc:language>
  <cp:lastModifiedBy>Nagymáté Péter</cp:lastModifiedBy>
  <dcterms:modified xsi:type="dcterms:W3CDTF">2003-11-18T14:19:57Z</dcterms:modified>
  <cp:revision>4</cp:revision>
  <dc:subject/>
  <dc:title>Hálózatok</dc:title>
</cp:coreProperties>
</file>