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A2F-4C28-40E4-B9E6-C85BCED5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9F1-3E89-4978-AB10-2FBA88E8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11A-B5D9-49D5-94A7-4D4A810F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257-0402-43AF-A8F7-52C3BACC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4850-CCBF-4674-BB18-EF60A019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AAEE-16A5-4D9F-A12F-B8F065F0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82B5-D313-4B60-8C17-83AD6093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AF74-3439-4780-B65C-2D4E2563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4077-420C-4C31-B0A8-B3A0C8C5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8648-9D93-4361-9750-B27C2B9B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3FDE-8C47-43BD-B35E-DCD7AC0C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287-0C86-48E7-A0F3-AC7A62C7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11DA-E49E-421A-B254-2A55229D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39DE-B85E-45D8-BC61-F7CDE6DA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D15A-DD0F-495A-A43B-8C7AC8E8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A32E-C539-4790-863E-5AC671DA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3432-6E81-4406-B801-8A95B768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B8E-2C8A-4CB1-AF7D-5AE07B78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36A-5746-47EF-901D-23F67686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551-51E8-49EF-AC54-6C3F9F7B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2B2-BADD-4C53-B8F4-782C083F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D00-9942-4D4E-8538-30E54D6C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FAB-66FE-45D3-BA2D-FE3F358B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494-7950-42E1-8347-364A788A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02E2-C88E-482C-90FB-EC07565024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3F94-8A61-4897-93CF-CCC2E8B5CF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áblázatkezelés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üggvénye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rtományok elnevezé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tományok megad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zúrá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év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év megad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év alapértelmezésben abszolút hivatkozást jel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atikus létrehoz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zúrá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év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étrehoz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gjegyzések a celláho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üggvények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szerű fv.-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ummáz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a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ost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üggvény varázsl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üggvények egymásba ágyaz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üggvények áttekinté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matika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ö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ekít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ztik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trix (töm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átum és id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énzügy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k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tételes formátum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áblázatok védel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rejt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fed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avéde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nkafüzet védel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at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Űrlapok használ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adatok szür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utószűr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rányítot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atok rendez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13:28:12Z</dcterms:created>
  <dc:creator>Nagymáté Péter</dc:creator>
  <dc:description/>
  <dc:language>en-US</dc:language>
  <cp:lastModifiedBy>Nagymáté Péter</cp:lastModifiedBy>
  <dcterms:modified xsi:type="dcterms:W3CDTF">2003-11-06T14:44:50Z</dcterms:modified>
  <cp:revision>2</cp:revision>
  <dc:subject/>
  <dc:title>Táblázatkezelés </dc:title>
</cp:coreProperties>
</file>