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135-7D28-4846-B96B-C2AF3C3A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87E-990B-4811-AB47-8821CB1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257-FEA0-48B4-A184-F187ECFF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493-61C8-4457-97BE-5DA4E39C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75F8-775B-4388-9DF0-F24E7077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72D-EDE6-4D3B-AC9A-535963DB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5180-75DF-479D-AD77-FA13B05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5CA-1E78-4BE9-9DFB-B7F1ACF2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B81-7380-419F-B8F4-43A29AD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A411-BDDB-4305-B1BA-854C12F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83E4-0CB5-44F9-AE2B-93FA612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EED-F1E9-40E8-A0B7-FFA89A01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4C5-29EA-4CD5-A98C-7F40E0E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3E1-9F33-4DF3-9860-71802B0F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5A0-3057-41F8-9928-40146CF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88A-37B2-4976-BF25-A9CDDB14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0176-FA1E-4ABB-B2E7-238F22BB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D94-2EA4-4F5A-8928-3D8C88B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DAC-AC45-41FA-A65A-FAB74A80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803-6157-4868-8913-4C5FFB8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3CC-F5D0-43F7-A463-8C420FE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068-539F-4860-8320-EAD341D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904-7D55-4B2B-BE31-94D5BDA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469-B501-48BD-90D7-013FA90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09E4-9D40-4E9A-82DF-5EF46B4B1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F31-50FF-4BD3-8F9E-B7C833226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átumo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éni   cella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ség van pl mértékegység megjelenítésé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formátum 3 számokra és egy negyedik szövegekre vonatkozó részből áll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észeket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asztja el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00000" y="4076640"/>
          <a:ext cx="7775640" cy="57636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  <a:gridCol w="1944720"/>
                <a:gridCol w="1942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ití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ív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ll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öve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684360" y="52293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űjellemzők hasonlóan mint a MS Office Word –b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gaz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egély és mintáz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zámítások elvég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űveletek és végrehajtás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ellába írt képlet az egyenlet egyik oldala, melynek az eredménye a cellában jeleni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éplet mindig az </a:t>
            </a:r>
            <a:r>
              <a:rPr b="1" lang="hu-HU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lel kezdő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értékelési sorrendet a precedencia szabályok határozzák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átumot és az időt is számonként kezeli a táblázatkez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ellahivatkoz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gyéb szerkesztés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gólap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űveletek hatása a képletek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orok és oszlopok rögz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 lehet az adatok grafikus ábrázolás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ntosabb diagram típusok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sszevont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 oszlop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nal 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rdia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 varázsl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áblázat: sorokból és oszlopokból állá rá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oszlopokból 256 áll rendelkezésre, melyeket az angol abc betűivel jelölünk meg. A,B,…Z,AA,AB,….I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rok azonosítására számokat használunk, összesen 65536 sor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a: egy sor és egy oszlop közös része. Összesen 256*65536 =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ab cella. A cellára oszlopával és sorával hivatkozu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kezelés alapja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ig egy aktív cella van. Adatbevitel ebbe a cellába történ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 csak egy adat ír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3 = S3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xcel dokumentumai a munkafü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több lapból áll. Alapértelmezésben 3 darab Munka1, Munka2, Munka3 lap áll rendel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unkafüzet összesen 255 lapból állhat. Egy lap lehet táblázat, vagy valamilyen más laptípus pl. grafik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nkafüzet használ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ne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munkalap beszúr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áltás a munkalapok köz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 tör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unkalapok 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ák kezel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ák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gás a cellák kö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jes táblázat kijelö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0" y="1773360"/>
          <a:ext cx="432108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73360"/>
                    <a:ext cx="432108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bevite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ltöltés előtt tervezzük meg a táblázatunk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épelés közben a kurzorvezérlő gombokkal nem lehet mozogni a szövegb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öveg csak akkor látszik hosszabbnak, ha nem takarja el a szomszédos cella tartal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erkesztőléc a javítás mellett a cella eredeti tartalmának megtekintésében is szerepet játsz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cellában akkor jelenek meg a # jelek , ha a tartalma nem jeleníthető meg a rendelkezésre álló hely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ellakezelé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őfordul, hogy több cellába is ugyanazokat az adatokat kell beír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agy sorozatokra van szükségü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utomatikus funkciókat a ctrl billentyű nyomva tartásával felülbírálhat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töltéshez használhatjuk a szerkesztés menü kitöltés alpontjá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örlés és beszú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ájl művelet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n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töl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Régi bezárása, új megnyi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 formázá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szlopszélesség és sormagas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formátumok beáll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rmátum az aktív cellára vagy a kijelölt területre lesz érvén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gyakran használt formá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öv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á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talá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0:30:13Z</dcterms:created>
  <dc:creator>Nagymáté Péter</dc:creator>
  <dc:description/>
  <dc:language>en-US</dc:language>
  <cp:lastModifiedBy>Nagymáté Péter</cp:lastModifiedBy>
  <dcterms:modified xsi:type="dcterms:W3CDTF">2003-11-03T11:37:22Z</dcterms:modified>
  <cp:revision>9</cp:revision>
  <dc:subject/>
  <dc:title>Táblázatkezelés</dc:title>
</cp:coreProperties>
</file>