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48C-8F5B-4D68-9C6B-4AB8396A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0A5-E5EE-4681-AA0C-72111B96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5FC-7D2C-4612-9EBF-21C4A4DA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EFF-A4F2-43DD-99A9-5794393C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7B0-EAFD-4058-8C9A-27A2DC56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1D4-F785-4E37-A707-7F389BE7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59F-F4FD-41C5-AD88-D6DD04B4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BED-DBDA-4FB7-BF4F-626D99DF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5FD-B352-4C89-9B5B-C48E5711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EDD-19D3-49F2-8665-D89D4DCE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2CE-4F93-4065-B414-61C071E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357-4F0D-4167-8298-83568153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75D6-0F1A-4066-96B0-B5710A165B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ációs algeb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ada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ap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 és S uniój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 és S metsz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etí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"/>
              </a:rPr>
              <a:t>cím, év, hossz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(Fil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"/>
              </a:rPr>
              <a:t>színe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(Fil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iválasz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 baseline="-25000">
                <a:solidFill>
                  <a:srgbClr val="ffffff"/>
                </a:solidFill>
                <a:latin typeface="Arial"/>
              </a:rPr>
              <a:t>hossz &gt;100 AND stúdióNév = ‘Fox’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(Fil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fejezésf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lyek a Fox stúdióban készült legalább 100 perc hosszú filmek, és mikor készültek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2781360"/>
            <a:ext cx="93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ím, é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422100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ossz &gt;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221000"/>
            <a:ext cx="22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 baseline="-25000">
                <a:solidFill>
                  <a:srgbClr val="ffffff"/>
                </a:solidFill>
                <a:latin typeface="Arial"/>
              </a:rPr>
              <a:t>stúdióNév = ‘Fox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551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5589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3716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4653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4653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58920" y="3933720"/>
            <a:ext cx="1368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3933720"/>
            <a:ext cx="129672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141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hezebbek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lyek azok a PC modellek amelyek sebessége legalább 1700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ly gyártók készítenek legalább 20 GB méretű merevlemez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djuk meg B gyártó által gyártott összes termék modellszámát és árát típustól függetlenü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djuk meg valamennyi színes lézernyomtató modellszám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lyek azok a gyártok akik laptopot árulnak de PC –t nem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lyek azok a HDD méretek amelyek legalább 2 pc –ben megtalálhatók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djuk meg azokat a PC párokat amelyek ugyanolyan gyorsak és a memóriájuk is ugyanakk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 gyártja a leggyorsabb PC –t vagy laptopo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 gyárt 3 kül sebességű PC –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 azok akik pontosan 3 típusú PC-t gyártanak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14:38:47Z</dcterms:created>
  <dc:creator>Nagymáté Péter</dc:creator>
  <dc:description/>
  <dc:language>en-US</dc:language>
  <cp:lastModifiedBy>Nagymáté Péter</cp:lastModifiedBy>
  <dcterms:modified xsi:type="dcterms:W3CDTF">2003-12-18T14:53:00Z</dcterms:modified>
  <cp:revision>2</cp:revision>
  <dc:subject/>
  <dc:title>Relációs algebra</dc:title>
</cp:coreProperties>
</file>