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9F83-0F7A-4008-821F-177FFA0E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0B32-F9CF-4E86-B998-C44E528C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E766-1761-403C-A70A-3F65ADB4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C180-6FC9-4181-AB25-CBD06400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4AEB-9C84-4974-9656-C35A7D88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1A22-8182-445A-A596-BB89420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6CBA-08E8-4757-A071-0193B17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E221-B2C2-4642-A60E-7650709B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80D-F040-47E5-B4CF-DB2310F2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5CEE-9368-4257-82A8-6DF9F01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F75E-9E56-4E41-9617-C8299139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F67C-B602-4A72-BAE1-40EB5A1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488-0178-4FC5-9C94-F4A2083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82E0-3448-4DE5-86DC-A969B66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E66-CAB9-4CD9-AB46-83CDC91D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DC0E-4044-477D-945C-29743484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CDE-FB74-447D-A6E9-883C05E6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E471-CB7C-4641-9218-E161F67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07A7-035A-45E5-AD1A-86D24A56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E855-2B45-47C5-9326-007FF14D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A900-0AC7-4ED1-85B9-3B93B38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1A8C-64D4-4AA2-AC30-C4D83CC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E2EE-D3C1-41C2-B456-E262DE62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0C7D-F904-42CB-8C9A-A92D9D4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64BD-C6F6-4019-B847-88BE064543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B47F-981B-4630-BBD9-549B77727C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datbázis kezelé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Q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ifejez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rakte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araktertípusú oszlopokat, szövegkonstansokat és a konkatenáció műveleti jelét tartalmazhatj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vény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,MAX kivételével nincsenek, de a behívó nyelv függvényeit elfogad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ifejez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ogik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ogikai típusú oszlopokat, logikai műveleteket, valamint az előbbi típusok közti összehasonlításokat tartalmazhat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vény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Nincsenek, de a behívó nyelv függvényeit elfogad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adatbázis létrehozása, törlé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REATE DATABASE adatbázis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étrejön az adatbázis az aktuális könyvtár adott nevű alkönyvtáráb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ROP DATABASE adatbázis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örli a lezárt adatbáz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Információ a létező adatbázisokró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HOW DATABAS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egjeleníti az összes adatbázis nevét, az egyes adatbázisok alkönyvtárához vezető utat, annak az alkalmazónak az azonosítóját, aki az adatbázist létrehozta, és a létrehozás dátum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datbázis megnyítása, lezár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TART DATABASE adatbázis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egnyitja az adatbázist (egyszerre csak egy aktív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TOP DATABASE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ezárja az aktív adatbáz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ISKO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700280"/>
            <a:ext cx="22338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99736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997360"/>
            <a:ext cx="223380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G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99736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KE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436572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36572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GC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365720"/>
            <a:ext cx="22334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PIDI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716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3716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3716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349360"/>
            <a:ext cx="432000" cy="503280"/>
          </a:xfrm>
          <a:prstGeom prst="up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639400">
            <a:off x="6876000" y="2276640"/>
            <a:ext cx="431640" cy="503280"/>
          </a:xfrm>
          <a:prstGeom prst="upArrow">
            <a:avLst>
              <a:gd name="adj1" fmla="val 50000"/>
              <a:gd name="adj2" fmla="val 2914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3564000">
            <a:off x="1834560" y="2277000"/>
            <a:ext cx="431640" cy="503280"/>
          </a:xfrm>
          <a:prstGeom prst="upArrow">
            <a:avLst>
              <a:gd name="adj1" fmla="val 50000"/>
              <a:gd name="adj2" fmla="val 2914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dattábla definiá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REATE TABLE táblanév (oszlopnév adattípus (adathossz)[,oszlopnév adattípus (adathossz)]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felsorolt oszlopokkal létrehoz egy tábl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ve legfeljebb 8 karak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 adatbázison belül a nevek különbözn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x 255 oszlo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x 4000 byte szé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ZEMELY{kod,nev,nem,anya,apa}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REATE TABLE szemely(kod char(3), nev char(12), nem logical, anya char(3), apa char(3)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ábla módosítása, törlé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LTER TABLE táblanév ADD (oszlopnév adattípus (adathossz)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áblához hozzáadni új oszlop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ROP TABLE táblanév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a kitörlése az adatbázisb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Új sorok elhelyezése az adattábláb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táblanév [(oszlopnév-lista)] VALUES (értékl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a felsorolt oszlopaiba az értéklista elemeit helyezi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lapértelmezés: minden oszl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örténeti áttekint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76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BM:SEQUEL,SQ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3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RA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4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FORMI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6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QL – szabvány : alaputasítás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89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QL – szabvány : dinamikus SQ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90-től OOP hat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YBASE: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hálózati munkára alkalmas adatbázis, metaadatbáz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ogramozó által def. Adattíp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ulcsdefiníci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árolt eljárások és trigger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Sorok beszúrása a SZEMELY –be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351’,’xxx’,.t.,’333’,’555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352’,’xxy’,.t.,’333’,’555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741’,’zzz’,.t.,’777’,’444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szemely VALUES (‘742’,’zzs’,.f.,’777’,’444’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Sorok beillesztése másik táblábó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SERT INTO táblanév [oszloplista] SELECT * FROM régitábl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hol  SELECT * FROM régitábla a régitábla Eredmény táblája minden oszlopá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datsor módosítása a tábláb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UPDATE táblanév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T oszlop1 = újérték1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[WHERE feltétel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WHERE nélkül minden sorra végrehajtód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Sorok törlése a tábálbó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LETE FROM táblanév [WHERE feltétel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WHERE nélkül minden sort törö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Lekérdezés adattáblákbó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lekérdezés során egy úgynevezett eredménytábla (E-tábla) jön lét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ELECT paranccsal az E-tábla a végrehajtás során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lépésenként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 alakul 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SELECT parancs szerkeze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… oszlop kiválasztása= pojekci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ROM … tábla-nevek megadása = Descartes-szorz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WHERE …] sorok kiválasztása = szelekc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GROUP BY …] csoportosít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HAVING …] csoportok közötti választ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UNION…] E-táblák összefűzése = uni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ORDER BY …] E-tábla rendez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[SAVE TO TEMP …]; E-tábla megőrzése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A select utasítás részei részletes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[ALL|DISTINCT] oszlopnév-lista|* FROM táblanév list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ROM mögé írt táblákból a SELECT mögé írt paraméterek szerint oszlopokat emel 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zekből eredmény táblát hoz lét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opció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* hatás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a , vagy táblák minden oszlopa bekerül az E-tábláb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oszlopnév-lista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lista elemei lesznek oszlopai az E-táblá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LL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E-tábla duplikált sorokat is tartalmazh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DISTINCT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duplikált sorokat csak egyszer tartalmaz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lista elemei lehetnek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a oszlopnevei; ha több táblában is szerepel ugyanaz az oszlopnév, akkor táblanév.oszlopnév alakban írju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FROM által kijelölt tábla oszlopneveiből képzett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ggregáló függvények valamely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éb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éldák származtatott oszlopok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ritmetikai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joved+2000 FROM tanul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rakteres kifejez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left(osztaly,1),upper(nev) FROM tanul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ggregáló függvé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AVG(joved) FROM tanul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örténeti áttekint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4GL hat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FORMIX: képernyőtervező és nyomatatási fejlesztőeszkő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Ügyfél-kiszolgálói felépítés hatás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datbázis-gép programozása SQL alap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QL változat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Base IV SQL, DB2, Ingres, Gupta SQL, MS SQL Server, Transact SQL, InterBase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ggregáló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COUNT függvé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OUNT([DISTINCT] oszlopnév|*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egszámolja az oszlopnév által megadott oszlop elemeinek szám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ggregáló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UM függvé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UM [ALL] kifejezés | [ALL | DISTINCT] [oszlopnév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Összegzi a numerikus típusú oszlop értéke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ggregáló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következő aggregáló függvények paraméterezése megegyezik a SUM –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VG (…) : átlag képz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N (…) : minimális érték kikeres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AX (…) : maximális érték kikeres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gjegyzés: a MIN és MAX fv. Argumentuma numerikus, dátum vagy karakteres is le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WHERE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WHERE felté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E-tábla a feltételeknek megfelelő sorokat teszi 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eltétel egy logikai kifejez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redikátum függvény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WHERE feltételében használhat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ETWEEN predikát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if1 BETWEEN kif2 AND kif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az ha : kif2 &lt;= kif1 &lt;= kif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n predikát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szlopnév IN (értéklis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az, ha az oszlopnév értékei elemei a listán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LIKE predikát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Oszlopnév LIKE érté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gaz, ha az oszlop értéke megegyezik a like utáni értékk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aszkolható: _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GROUP BY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GROUP BY oszlopnév[,oszlopnév]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oszlopk értékei alapján csoportokat képez (egy csoportba az azonos értékűek tartozna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csoportra rendszerint aggregáló függvényt alkalmazu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kötés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inden GROUP BY –beli oszlopnévnek vagy a SELECT-ben, vagy a SELECT-ben felírt aggregáló függvény argumentumában kell szerepel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Nem lehet származtatott oszlopnév a GROUP BY argument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HAVING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HAVING felté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GROUP BY csoportjaiból, csak azok a sorok kerülnek az E-táblába, amelyek eleget tesznek a feltételn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z ORDER BY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RDER BY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szlopnév / oszlopnév-sorszám [ASC/DESC]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oszlopok értéke szerint rendezi az E-tábl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gjegyzé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oszlopnévnek szerepelnie kell a SELECT-b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oszlop-sorszám a SELECT-ben megadott oszlopnév sorszá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SC növekv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DESC csökkenő rendezett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Igények az adatbázis kezelő rendszer fel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taada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árkezel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 feldolgoz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ranzakció-kezel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erkezeti módosít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datmódosít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apcsolat teremté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UNION alparan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…. UNION SELECT …[UNION SELECT]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eszi az egymás után következő E-táblák uniój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E-tábláknak kompatibilisnek kell lenniü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onos oszlopsz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oszlopoknak azonos típusúnak kell lenniü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áblák összekapcs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k összekapcsolása azt jelenti, hogy a FROM mögött több A-tábla nevét adjuk m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ELECT * FROM table1, table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lyenkor a táblák DESCARTES-szorzata képződ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áblák összekapcs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enlőség-kapcsolat (EQUIJOIN-kapcsola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Gyakran kötünk össze táblákat közös oszlopok alapján (kulcs-oszlopo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ábla összekapcsolása önmagával (SELF-J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A-táblát önmagával is összekapcsolhatju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táblát két névvel jelöljük m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ágyazott SELECT paranc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WHERE és a HAVING feltételében SELECT parancs is szerepelh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 az úgynevezett belső vagy beágyazott SEL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DE nem tartalmazhat ORDER BY, SAVE TO TEMP és FOR UPDATE OF klauzák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belső SELECT is tartalmazhat belső SELECT-et, vagyis a SELECT-ek </a:t>
            </a:r>
            <a:r>
              <a:rPr b="1" lang="hu-HU" sz="3200" spc="-1" strike="noStrike" u="sng">
                <a:solidFill>
                  <a:srgbClr val="ffffff"/>
                </a:solidFill>
                <a:uFillTx/>
                <a:latin typeface="Garamond"/>
              </a:rPr>
              <a:t>egymásba ágyazható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Beágyazott SELECT parancs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belső SELECT –et mindig zárójelpárban kell megad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orren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őször a belső, majd a külső lekérdezést értékeli ki , és végül összeveti az érték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ásodlagos lekérdezést a főlekérdezés minden sorával külön kiértéke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set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gyetlen értéket tartalmazó belső E-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öbb értéket tartalmazó belső E-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lyenkor használni kell az IN, ANY, ALL vagy EXISTS predikátumok valamelyiké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egadás formátum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edikátum (belső SEL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redikátumo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IN predikát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gaz értéket ad vissza, ha az egyelőség valamelyik belső E-táblabeli értékre iga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NY predikátu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gaz, ha a megadott összehasonlítás valamelyik belső E-táblabeli értékre iga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Predikátumo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ALL prediká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gaz értéket ad vissza, ha az egyelőség valamennyi belső E-táblabeli értékre iga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EXISTS prediká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iválasztja azokat a sorokat, amelyekhez a belső E-táblában egy vagy több sor tartoz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IN operátor helyett mindig alkalmazható, de fordítva n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Eset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első SELECT egyszer hajtódik vég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első SELECT a külső minden sorára végrehajtódi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Okozója: a belső SELECT –beli hivatkozások a külső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nev, osztaly FROM tanulo WHERE azon NOT IN (SELECT azon FROM szeme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ELECT nev FROM tanulo WHERE azon IN (SELECT azon FROM segely WHERE jogcim IN (SELECT jogcim FROM jogcim WHERE megnev LIKE ‘%konyv%)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e5e5ff"/>
                </a:solidFill>
                <a:latin typeface="Garamond"/>
              </a:rPr>
              <a:t>A szabvány SQL nyelv eleme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lapelem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SQL táblákat (relációkat keze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nevezésük: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a azonosítója (neve) betűvel kezdődik (max 8 karakt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a attributumait oszlopoknak nevezzük, melyek típusát a tábla definiálásakor adjuk me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Oszlopazonosító: max 10 karak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táblák névvel ellátott együttese az adatbáz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eve: DATAB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Táblák fajtá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dat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redmény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Virtuális tábla – nincs adattartalom fizikail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Index tábla – kereséshez k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inoníma táb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Oszloptípuso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MALL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TE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ECIMAL(x,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UMERIC(x,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LOAT(x,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har(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Kifejezés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ritmetik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szlopneveket, konstansokat, függvényeket és aritmetikai müveleti jeleket tartalmazh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üggvény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ggregáló függvények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OUNT, SUM, AVG, MAX, M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ehívó nyelv függvény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0:12:48Z</dcterms:created>
  <dc:creator>Nagymáté Péter</dc:creator>
  <dc:description/>
  <dc:language>en-US</dc:language>
  <cp:lastModifiedBy>FM</cp:lastModifiedBy>
  <dcterms:modified xsi:type="dcterms:W3CDTF">2004-01-06T15:38:43Z</dcterms:modified>
  <cp:revision>14</cp:revision>
  <dc:subject/>
  <dc:title>Adatbázis kezelés</dc:title>
</cp:coreProperties>
</file>