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948-266C-4E48-AEFD-E181D321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B36-AE3C-4B19-9779-FF13A4AA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CF0-19BF-4643-BC8F-D7CBD858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F2F-03E0-4026-AE0C-CF57CFA6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79D5-3FDA-4A1E-994B-3971D923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AF6B-00F7-4885-B580-203847ED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D755-4FD2-42F3-8C36-BB7750F7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783C-6199-4376-9D4C-7773687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2E6E-C73D-45F7-B44E-8B4D9909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D124-57A5-4134-B6AF-600C8F16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B188-8A03-4CC8-8F45-6AD3C92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210-EE2A-490F-AE58-DC8EF54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75BC-17F7-4D41-9B20-B3CA3A8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BF87-56B4-4F8E-A229-FC0E8907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E638-DBEE-4219-BCE2-ACECAAF8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BBD6-14B6-4770-8332-7A84400F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8DC8-9850-440C-A6AE-D4803766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320-1A4A-4A89-B584-14A87294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A77-3BCE-40ED-A17F-715BF4E1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8FC-7643-423F-BB13-1467D7B2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5C8-4D83-4DA1-8DD5-BA6E304F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574-CA82-49B0-B466-D541953D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23D-7E80-42EC-935F-162A7BCB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D6E-32B3-4D58-8522-62A7CF6F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2B34-943C-468D-8A13-D068AC2E9C4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59F1-8DA5-4F98-8F20-178E7F57C3A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Arial"/>
              </a:rPr>
              <a:t>A RELÁCIÓS ALGEB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Összekapcsolás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jele: &gt;&lt;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gyen R n-ed fokú, S pedig m –ed fokú rel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&gt;&lt;S n+m –ed fokú reláció, melynek elemei az RxS elemei közül azok, amelyekre az R reláció i. és az S reláció j. attribútuma között teljesül a 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-val jelölt összehasonlítás (&lt;,&gt;,= stb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öviden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(n+j)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(Rx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2000" y="4005360"/>
            <a:ext cx="280800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xS               A B C D E 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b  d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b  c  f 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 f  c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f  c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27280" y="4869000"/>
            <a:ext cx="6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&gt;&l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ermészetes összekapcsolá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jele: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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gyen R n –ed fokú, S m –ed fokú reláció,R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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 –t a következőképpen kapju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pezzük RxS –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gyük az azonos attributumokat R-ből és S –ből, és emeljük ki azokat a sorokat RxS –ből, amelyekben az azonos oszlopban lévő értékek megegyez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nti pontban vett attribútumokra szüntessük meg az ismétlödő oszlop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557360"/>
            <a:ext cx="180000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1557360"/>
            <a:ext cx="180000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42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242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1557360"/>
            <a:ext cx="280836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ffffff"/>
                </a:solidFill>
                <a:uFillTx/>
                <a:latin typeface="Arial"/>
              </a:rPr>
              <a:t>RxS    R.A B R.C S.A E S.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  b   c   b   d 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  b   c   f    c 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  d    e   b   d 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  d    e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  c    a    b   d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  c    a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5013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08360" y="4076640"/>
            <a:ext cx="280836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hu-HU" sz="1800" spc="-1" strike="noStrike" u="sng" baseline="-25000">
                <a:solidFill>
                  <a:srgbClr val="ffffff"/>
                </a:solidFill>
                <a:uFillTx/>
                <a:latin typeface="Garamond"/>
              </a:rPr>
              <a:t>RxS</a:t>
            </a:r>
            <a:r>
              <a:rPr b="0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     R.A B R.C S.A E S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    d    e   b   d  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    c    a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76640"/>
            <a:ext cx="280836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ffffff"/>
                </a:solidFill>
                <a:uFillTx/>
                <a:latin typeface="Arial"/>
              </a:rPr>
              <a:t>RxS    R.A B R.C S.A E S.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  b   c   b   d 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  b   c   f    c 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  d    e   b   d 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  d    e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  c    a    b   d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  c    a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 rot="10800000">
            <a:off x="6300720" y="4940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4076640"/>
            <a:ext cx="180036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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A B C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a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relációs adatbázis kezelő nyelvek lekérdezési lehetős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relációs algebra műveletein alaps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ülönb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scartes szorz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ojek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lekci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ány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ts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Összekapcso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rmészetes összekapcso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ó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jele :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R és S két n-ed fokú reláci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ójuk az R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  szintén n-ed fokú rel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rai vagy az R –nek vagy az S –nek vagy mindkettőnek elem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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ünbség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jele : -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yen R és S két n-ed fokú reláci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 - S  különbsége szintén n-ed fokú rel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orai vagy az R –nek elemei de az S –nek n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-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scartes –szorzat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jele: x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R n –ed , S m –ed fokú rel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scartes-szorzatuk az az (n+m) –ed fokú Rx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den elem első részét az R –ből, második részét pedig az S –ből vesszü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005360"/>
            <a:ext cx="280800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xS               A B C D E 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b  d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b  c  f 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e  f  c 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f  c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jekció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jele:</a:t>
            </a:r>
            <a:r>
              <a:rPr b="0" lang="el-GR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Kiemelünk attribútumokat és a maradékot adott szempont szerint átrendezzü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hu-HU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1,i2,…,im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(R) –lel jelöljük, ahol az i1,i2,…,im a megadott és átrendezett attribútumot neve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</a:t>
            </a:r>
            <a:r>
              <a:rPr b="1" lang="hu-HU" sz="1800" spc="-1" strike="noStrike" baseline="-25000">
                <a:solidFill>
                  <a:srgbClr val="ffffff"/>
                </a:solidFill>
                <a:latin typeface="Garamond"/>
              </a:rPr>
              <a:t>C,B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(R)     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d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lekció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ele (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Az R reláción végzett szelekció egy olyan relációt eredményez, amelynek elemei az R reláció elemeiből kerülnek ki az F feltétel (logikai kifejezés) által meghatározott mó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C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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’a’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ányados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jel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Legyen R n –ed fokú, S m –ed  fokú reláció (n &gt; m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Az R és S hányadosa az 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S reláció, amely n-m oszlopból áll, és amelynek Descartes –szorzata az S relációval benne van az R reláció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(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S) x S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A B C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 e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 f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F 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486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÷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tszet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jele: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 n –ed fokú reláció, R és S R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 –sel jelölt metszetén az  R – ( R-S) relációt ért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A B 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c  f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f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486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8472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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11:32:22Z</dcterms:created>
  <dc:creator>Nagymáté Péter</dc:creator>
  <dc:description/>
  <dc:language>en-US</dc:language>
  <cp:lastModifiedBy>Nagymáté Péter</cp:lastModifiedBy>
  <dcterms:modified xsi:type="dcterms:W3CDTF">2003-12-16T13:02:30Z</dcterms:modified>
  <cp:revision>6</cp:revision>
  <dc:subject/>
  <dc:title>A RELÁCIÓS ALGEBRA</dc:title>
</cp:coreProperties>
</file>