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31B-8D7D-41DB-9148-E226456C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226-AB58-43F8-AF2B-922017A6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165-67A4-4332-BDDD-3B6A504E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0F3-53FF-4D22-82E9-23256BE5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F89-3D31-4ECC-8270-D354F604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32F-5DC5-4295-B7AA-7E653330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30F-7688-47FA-9C15-6B60C7E0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410-AB7A-4A33-84B8-D0FF33F7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6F5-D681-4697-B702-0314C75B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444-8B2F-4817-AA02-5AE9BB8C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96E-B476-41D1-8E25-CE39834C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428-6A0B-4C6F-BF5C-3A7C9423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586B-975B-4586-86FB-455A29729F39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43.xml"/><Relationship Id="rId5" Type="http://schemas.openxmlformats.org/officeDocument/2006/relationships/slide" Target="slide60.xml"/><Relationship Id="rId6" Type="http://schemas.openxmlformats.org/officeDocument/2006/relationships/slide" Target="slide70.xml"/><Relationship Id="rId7" Type="http://schemas.openxmlformats.org/officeDocument/2006/relationships/slide" Target="slide70.xml"/><Relationship Id="rId8" Type="http://schemas.openxmlformats.org/officeDocument/2006/relationships/slide" Target="slide80.xml"/><Relationship Id="rId9" Type="http://schemas.openxmlformats.org/officeDocument/2006/relationships/slide" Target="slide94.xml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8100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HTML és az XML alap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otoko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épek azonosítása IP (Internet Protocol) segítségé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32 bites szám (pl. 157.181.16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omain né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mmunikáció HTTP protokoll segítségé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yper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t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ansfer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okumentumok letöltése, megjelen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yílt forráskódú szoftv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adon (ingyen) hozzáférhető, használható, másolható, terjeszthető, bővíthető és módosítható számítógépes program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nux disztribúció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ozilla Firefox (http://www.firefox.hu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penOffice (http://www.openoffice.or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pache webszerver (http://www.apache.or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AMP szerver (http://www.wampserver.com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3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orld Wide Web Konzor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94, Tim Berners-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özös protokollok és nyelvek kifejlesz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nki számára hozzáférhető legy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T, CERN, AR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sőbb sokan csatlakoztak (pl. MTA SZTAK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7238880" y="6453360"/>
            <a:ext cx="19051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A1B8-2FCC-4982-AE11-C591D07F6632}" type="slidenum">
              <a:rPr b="1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3C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lkalmazott nyelvek vagy a megfelelő protokollok kidolgozására vonatkozó javas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épés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avaslat benyúj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ljegyzés publik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unkacsoport létreh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unkapéldány publik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avaslat jelölt áll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avaslat terve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avaslat jóváhagy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eb Hozzáférhetőségi Kezdemény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57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pek és animációkhoz alt attribú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prégiók kezelése map címk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ultimédia: audio- és videóanyagok szövege,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ivatkozások: szövegkörnyezet nélkül is legyen érthető (rossz: kattints 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ldalszerkezet: fejléc, lista, 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rafikon és diagramm: longdesc attribú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cript, applet, plugin: legyen alternatí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eretek: legyen noframes és tartalomra utaló keretne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áblázatok: megjegyzések sorról sorra, összegzés a tartalomr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lenőrzés: használjunk ellenőrző eszközö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eírónyelvek: HTML és X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eírónyelvek: HTML és X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TML nyelv fej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se, lehet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gei és célj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XHTML nyel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HTML dokumentumok szerkezete, címkék és szerepük a dokumentum szerkezetének leírásában, a szöveges információ formázásá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 fejlőd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ős: SGML (Standard Generalized Markup Language) – 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recízen leírta a tartal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hangsúly nem a formázáson v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1.0 Tim Berners-Lee –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ső böngésző - Mosaic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2.0 Internet Engineering Task Force -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ár nem csak a tartalomra koncentr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3.2 W3C javaslat – 1997 januá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Netscape elemek: fontok, táblázatok, appletek,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4.0 W3C javaslat – 1997 dec., 1998 áp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tíluslap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4.01 apróbb javítások –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ovábbfejlesz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XHTML 1.0 W3C javaslat – 2000 janu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HTML 5.0 kidolgozás al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XHTML 2.0 kidolgozás al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 nyel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yperText Markup Language – Hypertext Jelölő Nyel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élja: dokumentumok számára standard kód segítségével formázott megjelenítést biztosít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peleme a címke (tag) pl. &lt;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yitó- és záró címke pl. &lt;html&gt; … &lt;/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ak nyitó címke pl. &lt;br&gt;, &lt;h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yitó címke belsejében attribútumok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&lt;a href="http://www.gdf.hu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böngészők intelligens módon értelme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élreértések elkerülésére: X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tensible HyperText Markup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TML szigorúbb és tisztább változ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TML elemeket leírása XML segítségé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n címkének van záró e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soros címkénél a lezárást jelezzük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 &lt;br 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n címkenév kisbetűvel írand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n  eleme azonosítható a Document Object Model segítségével, az objektumok módosíth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jánlott szakirodal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ankönyv: Medzihradszky Dénes: A web programozás alapj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W. Sebesta: A World Wide Web programozása, Panem Kiadó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üstös János: World Wide Web HTML 4.0, Szak Kiadó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Moncur: Tanuljuk meg a JavaScript használatát, Kiskapu Kiadó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 Barrett: JavaScript webfejlesz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ek, Kossuth Kiadó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Auley-Jobson: JavaScript programozói referencia, Panem Kiadó, 20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3schools.com/tags/ref_byfunc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HTML (XHTML) dokumentum alapszerkez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head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title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ímsor szövege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/tit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/head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dokumentum törz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/html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head&gt;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TML dokumentum leírására szolg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incs attribútu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ovábbi elemek tároló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titl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címsorban megjelenő szö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as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dokumentum alapértelmezett hel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link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apcsolat más dokumentumok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meta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információ a dokumentumr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ulcssza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leí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cript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JavaScript vagy VBScript kód hel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tyl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beágyazott stílus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Arial"/>
              </a:rPr>
              <a:t>&lt;head&gt;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elem -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META HTTP-EQUIV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Content-Type"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CONTEN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text/html; charset=ISO-8859-1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META NAM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Author"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CONTEN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Nagymáté Pét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META NAM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Keywords„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CONTEN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Angol, rövidszőrű, bóbitás, tengerimalac, tenyészet, fehér, agouti, aguti, krém, sárga, buff, cream, white, English, shorthair, crested, cavies, Meerschweinchen, dog, boar, sow, eladó, sal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META NAM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description"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CONTEN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Angol rövidszőrű és Angol bóbítás tengerimalacok krém, sárga, fehér és agouti színekben, English shorthair and English crested cavies,Meerschweinchen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TITLE&gt;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ngol rövidsz&amp;#337;r&amp;#369; és Angol bóbitás tengerimalacok krém, sárga, fehér és agouti színekben, English shorthair and English crested cavies,Meerschweinchen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!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function F_loadRollover(){} function F_roll()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//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SCRIPT LANGUAG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JavaScript1.2" 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SRC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="./rollover.js"&gt;</a:t>
            </a: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99"/>
                </a:solidFill>
                <a:latin typeface="Arial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Arial"/>
              </a:rPr>
              <a:t>&lt;body&gt;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redetileg a dokumentum törzsének határoló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terjesztették a dokumentum háttér és a szövegszíneinek beállít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áttérszín: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 bg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övegszín: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 tex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"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yperlinkek színe: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 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"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látogatott link: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 v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"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ktív linkek színe: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 a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"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ldal betöltéséhez, mint eseményhez kapcsolható események is itt helyezhetők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övegtagoló elemek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921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p&gt;&lt;/p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paragraf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őtte és utána nagyobb h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lign attributumában igazítás (left, right,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új 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div&gt;&lt;/div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több bekezdést magába foglaló egy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incs sortávolság növ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pan&gt;&lt;/span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bekezdésnél kisebb egy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rre alkalmazható speciális formá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lockquote&gt;&lt;/blockquot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blokkidéz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ehúzás a kijelölt rész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pre&gt;&lt;/pr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eredeti formázás megőrz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code&gt;&lt;/code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programkód megjelen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r /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sortö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hr /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vízszintes v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övegformázó elem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font&gt;&lt;/font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szöveg típusának, színének, nagyságának beáll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h</a:t>
            </a:r>
            <a:r>
              <a:rPr b="0" i="1" lang="hu-HU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gt;&lt;/h</a:t>
            </a:r>
            <a:r>
              <a:rPr b="0" i="1" lang="hu-HU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 1..6  - címso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élkövé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őtte és után üres 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&gt;&lt;/b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félkövér be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i&gt;&lt;/i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dőlt be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up&gt;&lt;/sup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felső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ub&gt;&lt;/sub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alsó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ig&gt;&lt;/big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a környezeténél nagyobb be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mall&gt;&lt;/small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a környezeténél kisebb be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strong&gt;&lt;/strong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- erősen hangsúlyozott (félköv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em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ép elem - </a:t>
            </a: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img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im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src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kep.xxx" 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al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szoveg" 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width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800" 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heigh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600"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src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– forrás fájl (gif, jpg, png, stb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lowsrc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– alacsonyabb felbontású forrás fáj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al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– kép rövid leí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width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– kép széles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heigh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– kép magassá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ép részekre bontása - </a:t>
            </a:r>
            <a:r>
              <a:rPr b="0" lang="hu-HU" sz="4000" spc="-1" strike="noStrike">
                <a:solidFill>
                  <a:srgbClr val="333399"/>
                </a:solidFill>
                <a:latin typeface="Times New Roman"/>
              </a:rPr>
              <a:t>&lt;map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ott kép darabokra bonthat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darabokhoz linkek kapcsolha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img&gt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tag-ben usemap attribú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img src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usemap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"#navkep" 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map id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"navkep" </a:t>
            </a: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nam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"navkep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area shap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"rect" coord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 : két sa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"circle" coord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 : középpont, sug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"poly" coord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 : összes csúcsp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map&gt;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tag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img sr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planets.gif"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 width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145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heigh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126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al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Planets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usema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#planetmap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map i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planetmap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planetmap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area shape="rect" coord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0,0,82,126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href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sun.htm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al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Sun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area shape ="circle" coord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90,58,3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href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mercur.htm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al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Mercury" /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area shape ="circle" coord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124,58,8"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 href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"venus.htm" </a:t>
            </a: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al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"Venu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99"/>
                </a:solidFill>
                <a:latin typeface="Arial"/>
              </a:rPr>
              <a:t>&lt;/map&gt;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áblázat deklar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tabl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al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bg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b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cellpa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ávolság a cella határ és a tartalom közö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cell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ávolság a cellák közö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99cc00"/>
                </a:solidFill>
                <a:latin typeface="Times New Roman"/>
              </a:rPr>
              <a:t>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zükséges előismerete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ítástechnikai alapok: A Windows operációs rendszer alapfunkcióinak ismerete; Könyvtár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ű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etek; Inté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ználata; Szoftverek telepítése és futtatása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ozási alapok: Programozás elemei, változók, objektumok, vezér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zerkezetek, tömbö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vizsga előfelté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yakorlaton való aktív részvé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rre a tananyagra épülő más tantárgy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alapú alkalmazásfejlesz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áblázat cím és adatsor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ímsor, címsor cell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h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ím cella1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h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ím cella2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atsorok, adatcell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d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dat cella1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td&gt;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dat cella2</a:t>
            </a: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33399"/>
                </a:solidFill>
                <a:latin typeface="Times New Roman"/>
              </a:rPr>
              <a:t>&lt;/t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sorolás - </a:t>
            </a: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li&gt;&lt;/li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szerű felsor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ontozott (rendezetlen)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ul typ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li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i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li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i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ámozott (rendezett)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ol typ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li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i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li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i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o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ínek a webold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tűszín (text), háttérszín (bgco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nkek szín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ormál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tekintet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ktív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n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ész dokumentumra, valamely elemre (pl. táblázat, vagy annak egy cellá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gad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gol néven (pl. red, yel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exadecimális kóddal (pl. "#FF0000", "#FFFF00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gb kóddal (pl. rgb(255,0,0), rgb(255,255,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eretek –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 az oldal változó részét kell friss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hezen követhetők a link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body&gt;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elem helyett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se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set col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 "25%, 25%, *"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 src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bal.htm"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nam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”bal”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 src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kozep.htm"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nam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”kozep”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set row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 „50%, *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 src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jobb_f.htm"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nam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”jobb_f”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frame src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"jobb_a.htm" 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nam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”jobb_a”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framese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99"/>
                </a:solidFill>
                <a:latin typeface="Times New Roman"/>
              </a:rPr>
              <a:t>&lt;/framese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eretek – noframes, i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noframes&gt;&lt;/noframes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rra az esetre ha a böngésző nem tudná a kereteket keze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iframe&gt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- inlin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blak az ablakon bel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orrásfájl, méretek megadásá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iframe src="iframe.htm" width="200" height="100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peciális karakt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és ; jelek közé ír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&lt;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t; &gt;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on-breaking spac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bs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opyrigh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op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gyar ékezetes betű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763272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 szerkesztő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szerű szövegszerkesztők (kódszintű szerkesztő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egyzettö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otepad++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ttp://notepad-plus.sourceforge.net/hu/site.ht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YSWYG szerkesztőprogra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e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reamW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rst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rontPage (Sharepoint Design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tobject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S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Adatok összekapcsolása - hyperlinkk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umon bel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a href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#bevezetes"&gt;Bevezetés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a name="bevezetes"&gt;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/a&gt;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vezetés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umok között –szerveren bel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a href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./leiras.htm"&gt;Leírás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umok között –szerveren kiv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a href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"http://www.elcobaya.hu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írás </a:t>
            </a:r>
            <a:r>
              <a:rPr b="0" lang="hu-HU" sz="2800" spc="-1" strike="noStrike">
                <a:solidFill>
                  <a:srgbClr val="333399"/>
                </a:solidFill>
                <a:latin typeface="Times New Roman"/>
              </a:rPr>
              <a:t>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 HTML tagok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ML konténer ta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arakter formázó HTML ta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orformázó HTML ta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1, H2,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R, NO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E, 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055"/>
          <p:cNvSpPr/>
          <p:nvPr/>
        </p:nvSpPr>
        <p:spPr>
          <a:xfrm>
            <a:off x="6732720" y="162864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2056"/>
          <p:cNvSpPr/>
          <p:nvPr/>
        </p:nvSpPr>
        <p:spPr>
          <a:xfrm>
            <a:off x="6948360" y="2349360"/>
            <a:ext cx="83844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2057"/>
          <p:cNvSpPr/>
          <p:nvPr/>
        </p:nvSpPr>
        <p:spPr>
          <a:xfrm>
            <a:off x="7812000" y="2349360"/>
            <a:ext cx="83844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2058"/>
          <p:cNvSpPr/>
          <p:nvPr/>
        </p:nvSpPr>
        <p:spPr>
          <a:xfrm>
            <a:off x="4067280" y="371628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2059"/>
          <p:cNvSpPr/>
          <p:nvPr/>
        </p:nvSpPr>
        <p:spPr>
          <a:xfrm>
            <a:off x="4067280" y="436572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060"/>
          <p:cNvSpPr/>
          <p:nvPr/>
        </p:nvSpPr>
        <p:spPr>
          <a:xfrm>
            <a:off x="4140360" y="544500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lap HTML tagok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p (I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iperhivatkozás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REF attribútum megadásának lehetőség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sták létreh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ndezetlen lista (U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ndezett, sorszámozott lista (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sta elemek (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28"/>
          <p:cNvSpPr/>
          <p:nvPr/>
        </p:nvSpPr>
        <p:spPr>
          <a:xfrm>
            <a:off x="4356000" y="170028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29"/>
          <p:cNvSpPr/>
          <p:nvPr/>
        </p:nvSpPr>
        <p:spPr>
          <a:xfrm>
            <a:off x="5580000" y="400536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0"/>
          <p:cNvSpPr/>
          <p:nvPr/>
        </p:nvSpPr>
        <p:spPr>
          <a:xfrm>
            <a:off x="7596360" y="486900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nanyag számonkérése a vizsgaidőszakb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méleti vizsga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hol tesztek alapján kérjük számon a tananyagot. A tananyag számonkérése során programozási ismeretek is e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ülnek, kódrészleteket kell felismerni, analizálni, azok várható kimenetét felismer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elentkezés, a vizsgán való részvétel vagy távolmaradás, és az indexbeíratás a mindenkori vizsgaszabályzat szerint történi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 táb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00000" y="1052280"/>
            <a:ext cx="78631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BLE 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áblasorok (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áblacellák (T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áblázatok formázásának attribútum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ELLSPACING, CELLP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GCOLOR,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OLSPAN, ROW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ML táblák egymásba ágya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Összetett weblap megjelenítése táblaké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28"/>
          <p:cNvSpPr/>
          <p:nvPr/>
        </p:nvSpPr>
        <p:spPr>
          <a:xfrm>
            <a:off x="3733920" y="112536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029"/>
          <p:cNvSpPr/>
          <p:nvPr/>
        </p:nvSpPr>
        <p:spPr>
          <a:xfrm>
            <a:off x="6659640" y="357336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030"/>
          <p:cNvSpPr/>
          <p:nvPr/>
        </p:nvSpPr>
        <p:spPr>
          <a:xfrm>
            <a:off x="5940360" y="465300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1031"/>
          <p:cNvSpPr/>
          <p:nvPr/>
        </p:nvSpPr>
        <p:spPr>
          <a:xfrm>
            <a:off x="7524720" y="544500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032"/>
          <p:cNvSpPr/>
          <p:nvPr/>
        </p:nvSpPr>
        <p:spPr>
          <a:xfrm>
            <a:off x="7524720" y="595008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 keret (Fra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rame és Frameset szere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OLS és ROWS attribú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-line keretek (IFR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rameset-ek egymásba ágya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vigálás a keretek köz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ARGET attribú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28"/>
          <p:cNvSpPr/>
          <p:nvPr/>
        </p:nvSpPr>
        <p:spPr>
          <a:xfrm>
            <a:off x="6588000" y="184464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29"/>
          <p:cNvSpPr/>
          <p:nvPr/>
        </p:nvSpPr>
        <p:spPr>
          <a:xfrm>
            <a:off x="6588000" y="2349360"/>
            <a:ext cx="83844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30"/>
          <p:cNvSpPr/>
          <p:nvPr/>
        </p:nvSpPr>
        <p:spPr>
          <a:xfrm>
            <a:off x="7524720" y="234936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ovábbi HTML elem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ELDSET és LEG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PAN és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arakter egyedek 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28"/>
          <p:cNvSpPr/>
          <p:nvPr/>
        </p:nvSpPr>
        <p:spPr>
          <a:xfrm>
            <a:off x="3564000" y="162864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029"/>
          <p:cNvSpPr/>
          <p:nvPr/>
        </p:nvSpPr>
        <p:spPr>
          <a:xfrm>
            <a:off x="5580000" y="220500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1030"/>
          <p:cNvSpPr/>
          <p:nvPr/>
        </p:nvSpPr>
        <p:spPr>
          <a:xfrm>
            <a:off x="2411280" y="278136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1031"/>
          <p:cNvSpPr/>
          <p:nvPr/>
        </p:nvSpPr>
        <p:spPr>
          <a:xfrm>
            <a:off x="3995640" y="342900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32"/>
          <p:cNvSpPr/>
          <p:nvPr/>
        </p:nvSpPr>
        <p:spPr>
          <a:xfrm>
            <a:off x="2627280" y="400536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033"/>
          <p:cNvSpPr/>
          <p:nvPr/>
        </p:nvSpPr>
        <p:spPr>
          <a:xfrm>
            <a:off x="7380360" y="458136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ormázás korszerű módszerekk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stílusok, stíluslap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7921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ülső és belső stíluslap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S szabály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ormázás CSS alapj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S hierarchi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Times New Roman"/>
              </a:rPr>
              <a:t>Stílusok, stíluslap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SS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cading Style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 vagy XHTML dokumentumok stílusleíró nye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épcsőzetes stílus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ls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kumentum szint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üls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gítségével egységesen állítható a betűméret, szín, elrendezés, s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különül a dokumentum struktúrája a dokumentum megjelenését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CSS történ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 elsősorban a tartalommal foglalkozik, de vannak kifejezetten megjelenítési utasítások pl. &lt;i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 tagok megjelenítési utasításai pl. &lt;h2 style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"font-size:30px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ilisztikai igények folyamatosan növeked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ülönböző böngészők a stílus módosítására létrehozták saját leíró nyelvü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ílusok egységesítésre született a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S1 – W3C –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S2 – W3C –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S3 – jelenleg is fejlesztés alatt á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stíluslapok szintj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9900"/>
                </a:solidFill>
                <a:latin typeface="Times New Roman"/>
              </a:rPr>
              <a:t>belső</a:t>
            </a: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egyetlen tag tartalmára vonatko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nyitó tag-ben lehet elhelyezni a 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style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ttribútum értékeké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style = "tulajdonság1: érték1; tulajdonság2: érték2; …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9900"/>
                </a:solidFill>
                <a:latin typeface="Times New Roman"/>
              </a:rPr>
              <a:t>dokumentum szintű</a:t>
            </a:r>
            <a:r>
              <a:rPr b="1" i="1" lang="hu-H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hu-HU" sz="2000" spc="-1" strike="noStrike">
                <a:solidFill>
                  <a:srgbClr val="ff9900"/>
                </a:solidFill>
                <a:latin typeface="Times New Roman"/>
              </a:rPr>
              <a:t>-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dokumentum teljes törzsére vonatko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fejben a &lt;style&gt; tag tartalmaként jelenhetnek m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!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Times New Roman"/>
              </a:rPr>
              <a:t>CSS utasítás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9900"/>
                </a:solidFill>
                <a:latin typeface="Times New Roman"/>
              </a:rPr>
              <a:t>külső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több dokumentum törzsére vonatkoz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árolásuk külön szöveges (text/css) állomány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 &lt;link&gt; tag-gel hivatkozhatunk rájuk, pl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link rel= ”stylesheet” type="text/cs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href="http://www.cs.edu/styles/wbook.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/lin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SS utasí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SS utasítás két részből á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9900"/>
                </a:solidFill>
                <a:latin typeface="Times New Roman"/>
              </a:rPr>
              <a:t>szelektor</a:t>
            </a: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 a formázandó HTML elemcsoportot jelöli ki (pl. H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9900"/>
                </a:solidFill>
                <a:latin typeface="Times New Roman"/>
              </a:rPr>
              <a:t>deklaráció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– a szelektorban megadott tag-ek formáz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ulajdonság: érték” párokkal (pl. color: 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több deklarációt „;” választja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l. H1 {font-size:30px; color: red;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tílusoszt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stíluslaptól eltérő specifikációt határozhatunk m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 dokumentumszintű és külső stíluslapokra vonatko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style&gt; tag-ben definiálhatjuk, pl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style type = 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!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.normal {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tulajdonság-érték lista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.special {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tulajdonság-érték lista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/sty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kumentum törzsében a használni kívánt stílusosztályt az adott tag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ttribútumában adhatjuk meg, pl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p class="normal"&gt; ez egy normál bekezdés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p class="special"&gt; ez egy speciális bekezdés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esz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54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ladatok lefedik a jegyzet, az előadás és a gyakorlatok anyagát, és hasonlóak a fejezetek végén található tesztfeladatokhoz. A vizsgán kb. 20 tesztkérdés van. Két típusú tesztfeladat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etlen jó válasz lehetséges: Ha eltalálta 1 pontot kap, ha nem, 0-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öbb jó válasz lehetséges ("Jelölje be az összes jó választ!"): Annyi pontot kap, ahány jó választ adott. Minden rontás 1 pont levon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elkezésre álló id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ő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0 pe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Tulajdonságok és tulajdonságérték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tűtulajdonság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listatulajdonság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zöveg igazítá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margó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z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etűtulajdonság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nt-famil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pl. Arial, Courier, ‘Times New Roman’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pl. serif, sans-serif, cur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nt-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p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pix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xx-small, x-small, small, medium, large, x-large, xx-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nt-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italic, o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ont-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bold, bolder, normal, lig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100 és 900 közötti szám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ext-dec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under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over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ine-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Listatulajdonság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st-style-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ndezetlen listá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isc, circle, 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ndezett listá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pper-alpha, lower-alph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upper-roman, lower-r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: &lt;ul style="list-style-type:disc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ist-style-image (kép a listaelem elő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li style="list-style-image: url(image.gif)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övegek igaz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kezdések első sora: </a:t>
            </a:r>
            <a:r>
              <a:rPr b="0" lang="hu-HU" sz="3200" spc="-1" strike="noStrike">
                <a:solidFill>
                  <a:srgbClr val="ff9900"/>
                </a:solidFill>
                <a:latin typeface="Times New Roman"/>
              </a:rPr>
              <a:t>text-i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.: &lt;p style="text-indent: 0.5in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öveg vízszintes igazítása: </a:t>
            </a:r>
            <a:r>
              <a:rPr b="0" lang="hu-HU" sz="3200" spc="-1" strike="noStrike">
                <a:solidFill>
                  <a:srgbClr val="ff9900"/>
                </a:solidFill>
                <a:latin typeface="Times New Roman"/>
              </a:rPr>
              <a:t>text-al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ft, center, right, jus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pek és táblázatok "körülfolyatása": </a:t>
            </a:r>
            <a:r>
              <a:rPr b="0" lang="hu-HU" sz="3200" spc="-1" strike="noStrike">
                <a:solidFill>
                  <a:srgbClr val="ff9900"/>
                </a:solidFill>
                <a:latin typeface="Times New Roman"/>
              </a:rPr>
              <a:t>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ft, right,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&lt;img src="…" alt="…" style="float: right"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arg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 elem körül margók meghatároz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rgin-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rgin-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rgin-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rgin-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&lt;img src="…" alt="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yle="float: righ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rgin-left: 0.35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rgin-bottom: 0.35in"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Szín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 elemek előtérszíne: </a:t>
            </a: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áttérszín: </a:t>
            </a: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background-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em hátterében kép elhelyezése:</a:t>
            </a:r>
            <a:br>
              <a:rPr sz="2800"/>
            </a:b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background-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ínértékek megadható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névve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pl. red, green (lime), blu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jegyű </a:t>
            </a: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hexadecimáli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számmal,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#FF0000, #00FF00,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9900"/>
                </a:solidFill>
                <a:latin typeface="Times New Roman"/>
              </a:rPr>
              <a:t>rg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ormátumban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rgb(255, 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span&gt;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és a </a:t>
            </a:r>
            <a:r>
              <a:rPr b="0" lang="hu-HU" sz="4400" spc="-1" strike="noStrike">
                <a:solidFill>
                  <a:srgbClr val="333399"/>
                </a:solidFill>
                <a:latin typeface="Times New Roman"/>
              </a:rPr>
              <a:t>&lt;div&gt;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t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span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 egy sorban egy kifejezést máshogy szeretnénk megjeleníteni, pl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p&gt;Egy mondatban &lt;span style="font-size: 24pt; color: red"&gt;kiemelt szavak&lt;/span&gt; lehetnek.&lt;/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3399"/>
                </a:solidFill>
                <a:latin typeface="Times New Roman"/>
              </a:rPr>
              <a:t>&lt;div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bekezdést magába foglaló nagyobb egységet szeretnénk egyszerre formáz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CSS előny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artalom szétválasztható a formát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nállóan tervezhető és újrafelhasznál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égi technikában számos szöveg grafikaként jelent meg, ami lass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CSS csak egyszer megy le a kliens gépre, és nem laponként külön-kül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séges megjele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ülön CSS lehet a képernyőre, és külön a nyomtató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SS szabályok defini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intakti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szabályhatáskör {attr:érték; attr:érték;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g pél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ody {font-family:ariel; font-size:10;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sztály pél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error {font-color:red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ont (.) jelenti azt, hogy ez egy osztályszab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SS használ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244000" cy="53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agába a tagba is rakható stílus inform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vételes körülmények köz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íluslap szintaktik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lobális stíluslap a /HEAD szekció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ML LINK tag haszná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sődlegeshez ezt célszerű haszná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sztály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ílus osztál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lobális osztál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szeudoosztál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7956720" y="177336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219640" y="2276640"/>
            <a:ext cx="83844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8028000" y="278136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4572000" y="472428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9"/>
          <p:cNvSpPr/>
          <p:nvPr/>
        </p:nvSpPr>
        <p:spPr>
          <a:xfrm>
            <a:off x="4572000" y="5157720"/>
            <a:ext cx="8380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4572000" y="5589720"/>
            <a:ext cx="838080" cy="380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54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iről lesz sz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33480"/>
            <a:ext cx="7837560" cy="30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Internet és World Wide Web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Leíró nyelvek: HTML és X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Stílusok, stíluslap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XML nyelv és alkalma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Ű</a:t>
            </a: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rlap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Programozás JavaScript nyel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Dokumentum Objektum Mode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XML nyelv és alkalma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2477880"/>
            <a:ext cx="8229600" cy="33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XML nyelv kialakulása és alkalmazása az adatok összefüggéseinek leírásá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yakorlati alkalmazások, a leírás szabályainak rögzíté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XML séma és DTD szere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ML nyelv és alkalmaz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XML nyelv kialaku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ensible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kup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nguage – Kiterjeszthető Jelölőnyelv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őse: SGML (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neralized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rkup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ngu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XML 1.0 Tim Bray, W3C – 1998 febru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XML nyelv jellemző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SGML részhalm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arakteres adattovábbítás strukturált formá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datok közötti összefüggéseket írja 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atok megjelenítésével nem törő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latform független adattár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raktikus alkalmazása: XHTML, XAML, SQL lekérdez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dokumentumok szerkezetét megadhatj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TD (Dokumentum Típus Definíció) segítség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ML séma felhasználásá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ML pél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Software_Inventor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O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Type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Microsoft Windows XP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Typ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Owner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agymáté Péter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Owner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O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Corporat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bev6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Corpor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bev6 (Verzió: 6.4.30)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Vers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/a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Vers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Corporat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dressBook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Corpor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dressBook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Vers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n/a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Vers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Corporat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obe Systems Incorporated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Corpor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obe Flash Player 10 ActiveX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Vers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10.0.12.36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Vers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- &lt;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Corporat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obe Systems, Inc.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Corporat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Adobe Photoshop 7.0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Version&gt;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Version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Progra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/Software_Inventor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um Típus Definí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kumentumok együttesére szabványos szerkezetet defin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gok, attribútumok, és szabályok halm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trukturális szabályok halmaza </a:t>
            </a:r>
            <a:r>
              <a:rPr b="0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deklarációk, hogy mely elemek hol és hogyan jelenhetnek meg a dokumentum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lső és külső D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TD szerkez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!kulcsszó …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hetséges kulcsszav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!ELEMENT elemnév (a gyerek elemek nevének listája)&gt; - elemek deklaráci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!ATTLIST elemnév attribútum_név attribútum_típus [alapértelmezett_érték]&gt; - attribútumok deklar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hetséges alapértelmezett értékek: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#FIXED, #REQUIRED, #IMPL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!ENTITY egyed_név egyed_érték&gt; - egyedek deklar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TD hátrány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XML formátum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elemezhető XML elemző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t (DTD, XML) szintaktikával kell foglalko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ag adattípusát nem szabályozza (minden szöveg típus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em támogatja az XML újabb képességeit, például a névterek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ML-sémá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TD hátrányainak kiküszöbölésére szület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3C a DTD utódaként definiá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SD (XML Schema Definition)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éven is szokták emleget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okoldalú adattípus rendszert hasz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4 különböző adattípus közül választhat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új adattípusok definiálhat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 ellenőrzést biztosít az adattípusok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XML-alapú formátumon alap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okványos XML eszközöket lehet használni a létrehozásához és feldolgozásáho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XSD hátrány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pecifikáció túl na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héz a megérte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onyolult implementál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XML-alapú szintaxis miatt a séma definíció hossz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héz az XSD olvasása és ír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nternet és World Wid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477880"/>
            <a:ext cx="822960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felvétel a HTML/XHTML lehetőségeive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űrlapok szere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űrlapok szerkeszté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űrlap elemek adta lehetőség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000000"/>
                </a:solidFill>
                <a:latin typeface="Times New Roman"/>
              </a:rPr>
              <a:t>Űrlap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Adatok továbbítása űrlapokk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eblapok segítségével adatok felvitele a szerv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rveroldali alkalmazások dolgozzák fel az adatok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atrögzítés adatbázis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éb elektronikus ügyinté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attovábbítás feltéte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/XHTML nyelv űrlap és űrlapobjektum elem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liens a http protokoll segítségével a szerverhez intézett kéréshez mellékelt adatokat küldjön a szerver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http protokollból adódóan csak karakteres adatok továbbíthatók név-érték pár formájá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ubmit() hatására az összes űrlapelem felvegye a bevitt értéket és ezeket egy metódus http kérésbe csomago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rver oldalon a név-érték párokból valódi változók jöjjenek létre a szerver memóriájá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TML/XHTML ű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rm action="weblap.html" method="get" name="…", id="…", title="…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űrlap törzse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eviteli mező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va továbbítsa az adat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grehajtható program is leh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ilto: a kliens levelezője indul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et: adatok az URL-ben jelenne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st: adatok a kérés törzsében kerülnek továbbítá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Űrlap elemek - szövegmezők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egysoros szövegmez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input type="text" name="…" value="szöveg" 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egysoros rejtett szövegmez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input type="password" name="…" value="*****" 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többsoros szövegmez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textarea wrap="off" name="…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öbbsoros szöv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/textare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Űrlap elemek - válasz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ádiógomb cso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radio" name="gomb" value="elso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radio" name="gomb" value="masodi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elölőm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checkbox" name="box1"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alue="ha bekkanttintják, ez lesz elküldv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egördülő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select name="lista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option value="l1"&gt;lista_elem_1&lt;/option&gt;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option value="l2"&gt;lista_elem_2&lt;/op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/sel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6524640"/>
            <a:ext cx="9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ahoma"/>
              </a:rPr>
              <a:t>Űrlap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Űrlap elem – fájl feltöl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rm action="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input type="file" name="fajlnev" value="ide kerül a feltöltendő fájl neve"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input type="submit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Űrlap elem - nyomógomb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irat nélküli g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button" name="nyomógomb" onClick()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ubmit gomb felirat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submit" name="submit_gomb" 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ubmit gomb ké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image" src="kep.jpg" name="kepes_gomb"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rder="0" width="50" height ="15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set g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input type="reset" name="reset_gomb" 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Hogyan működik egy web űrl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53444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thod="post" Action="ugyanez a lap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űrlap egyedi "id" és "name" attribútumot k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degyik vezérlőelemhez hozzárendelődik egy "value"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jtett vezérlőelem gondoskodik az állapot megőrzéséről (_VIEWSTATE né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ikapcsolható az enableviewstate="false" megadásával bármelyik vezérlőelemn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40948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szerverek és kliens-szerver rendszerek, gépek azonosítása a hálóza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3 Konzorcium és szerepe a web fejlesztéséb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nternet m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űködése,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olgáltatás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00000" y="404640"/>
            <a:ext cx="70567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Internet és World Wide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rogramozás JavaScript nyel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2477880"/>
            <a:ext cx="822960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vaScript nyelv szere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vaScript nyújtotta lehető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JavaScript beillesztése a weboldalak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Programozás JavaScript nyel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JavaScript szere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eblapok dinamikus kezelhetősége érdekében fejlesztették 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egnépszerűbb szkriptnye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-típusú nyelv, nem módosított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liens-oldali JavaScrip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öngésző kez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mmunikáció a felhasználó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jektum alapú nye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A JavaScript nyújtotta lehetőség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sz kódrészletek állnak rendelkezés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egítségével dinamikusan felépíthetők a weboldal egyes rész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/XHTML objektumokhoz kapcsolható eseményekre reagálni tudu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TML/XHTML DOM elemei olvashatók és írhat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űrlap mezőit elküldés előtt ellenőrizhetjü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öngésző specifikus megold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Script a webold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eillesztése a &lt;script&gt; tag segítségé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head&gt; elemen bel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vények, változók deklaráci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átható kimenete itt ne legy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tt lévő kódot meg kell hív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body&gt; elemen bel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grehajtás a feldolgozás so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vényeket itt is meg kell hív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JavaScript kód külső fájlban is elhelyezh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script type="text/javascript" src="szkript.js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Kliensoldali szkript alkalma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TML komment technikát kell haszná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SCRIPT Language=JavaScript&gt;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!--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unction Valami()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……..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a böngésző nem ért JavaScript-ül, akkor, ignorálja, mert kommentnek teki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JavaScript 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ontosvessző az utasítások vég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m kötelező használn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ommentjelek ( //, illetve /*…..*/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áltozódeklar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r Valto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zékeny a kisbetű-nagybetű különbsé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deklaráció nem kötelez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 – HEAD ré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SCRIPT Language="JavaScript"&gt;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&lt;!--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unction openWin(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window=window.open(URL,"new_window",    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"toolbar=no,width=350,height=400,status=no,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scrollbars=yes,resizable=no,menubar=no")}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//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lda – BODY ré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A HREF="javascript:openWin(‘mozart.html’);"&gt;Mozart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A HREF="javascript:openWin(‘beethoven.html’);"&gt;Beethoven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A HREF="javascript:openWin(‘wagner.html’);"&gt;Wagner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yelvi elem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áltoz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m típusos nye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vényességi köre a deklaráció helyétől fü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ezérlőszerkeze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ltételes szerkezetek (if…else, sw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erációk (for, while, do...wh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járások, függv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ert("Figyelmeztetés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onfirm("Valóban?"); -&gt; OK: true, Mégsem: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ompt("valtozo_nev", "kezdeti_ertek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Internet és a Web kialaku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terne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60-as évek végén az ARPA (Advanced Research Project Agency) által kifejlesztett számítógép hálóz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sszekapcsolt hálózatok hálóz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World Wide We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üggetlen projekt az 1990-es évek elejé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im Berners, 1990-es évek ele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seménykez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eseménykezelők segítségével dinamikus weboldalak hozhatók lé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ipikus esem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érkattin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ér mozgatása valamely pont föl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űrlapbeviteli mező kiválasztása vagy elhagy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űrlap elküldése vagy alaphelyzetbe áll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eblap vagy kép betöltő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Gyakran használt eseménykezelő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eboldal betöltésekor, elhagyásak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Load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 -</a:t>
            </a: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öngésző típusának lekérde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Unload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- kilépés kez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űrlap kez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Focu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belépés egy űrlap elem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Blu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űrlap elem elhagy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Chang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űrlap elem tartalma megválto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Submi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űrlap elküld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érmozg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MouseOve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egér felö kerül egy elem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onMouseOu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– egér elhagyja az ele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dőzítő ese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getHours(), getMinutes(), getSecond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00"/>
                </a:solidFill>
                <a:latin typeface="Times New Roman"/>
              </a:rPr>
              <a:t>set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Fontosabb JavaScript Objektum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ngth(), toUpperCase(), match(), indexOf(), repla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etTim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etFullYear(), getMonth(), getDate(), getDa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oncat(), sort(), push(), pop(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andom(), max(), min(), round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Böngésző objektum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nd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hierarchia csúcsán á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öngészőablakot képvi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böngészőről tárol információ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kliens gép képernyőjéről rendelkezik információkk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orábban meglátogatott web oldalak címét tár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z éppen aktuális oldal címét tartalma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load() vagy replace() függvényei segítségével új oldal tölthető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okumentum Objektum Modell</a:t>
            </a:r>
            <a:r>
              <a:rPr b="0" lang="hu-HU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2816280"/>
            <a:ext cx="822960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Dokumentum Objektum Modell (DOM) és alkalmazása a szerkesztésb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OM alapon dolgozó JavaScript megoldás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Dokumentum Objektum Modell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Dokumentum Objektum Mod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ványos, platform és nyelv független 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nterfészeket definiál HTML dokumentumok és alkalmazások köz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objektumokat, metódusokat és tulajdonságokat definiál, melyek lekérdezhetők és módosítha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OM történ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990 közepétől a W3C fejlesz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M 0 specifikáció nem létezett, mégis HTML 4 specifikáció rés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M 1 –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TML és XML dokumentummodellre irány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M 2 – 2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íluslap objektummodelt ad m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tílusinformáció kez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átfogó esemény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M 3 –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XML-hez tartozó tartalommodel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okumentumvalidá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okumentumnézetek és formáz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Window objek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22360" y="1658880"/>
            <a:ext cx="79120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tódu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en, showModelDialog, showModelessDialog, close, navi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ulajdonsá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ocument, event, history, location, navig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se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nload, onbeforeunload, onunload, onfocus, onbl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llek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Dokument objek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2360" y="1658880"/>
            <a:ext cx="80121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etódu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en, write, close, createElement, insertAdjacentElement, insert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ulajdonsá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dy, cookie, title, lastModified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se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nclick, onpropertychange, onmousexxx, onkeyxxx, ondrag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llekci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l, frames,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2:12:19Z</dcterms:created>
  <dc:creator/>
  <dc:description/>
  <dc:language>en-US</dc:language>
  <cp:lastModifiedBy>törzskönyv</cp:lastModifiedBy>
  <dcterms:modified xsi:type="dcterms:W3CDTF">2008-10-24T15:28:18Z</dcterms:modified>
  <cp:revision>70</cp:revision>
  <dc:subject/>
  <dc:title>Html és XML</dc:title>
</cp:coreProperties>
</file>