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B22-034F-4CE3-B1B6-8EEA69AC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0CD-83EE-4670-9A5C-EACF2A54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0FC-B7FD-4A74-A038-45271E6F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845-BB8D-4174-BB07-ED566F95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B8F-E976-4EC4-8C29-97191E6D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852-BBDD-457B-9967-CD3B8857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24D6-E84A-43BE-8925-3288021C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0F1-7171-4E85-A8ED-BC7E0A77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A48E-FEB3-4147-9017-0C9AD2C9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2F0-2529-4363-B678-566909A6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39A-12DE-433A-B63C-CD1BDD00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25FD-A0E4-40C3-968C-CDE6739D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B618-3DB2-4449-9B70-74C47FE92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álózato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vel a hálózat használatáért fizetni kell , nem mindegy hogy időegység alatt mennyi információt viszünk át a hálóza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dtok ábrázolása általában redundá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satornán elküldött információt tekinthetjük egy egyfajta szimbólumsorozatnak, amely egy adott ABC –ből származ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dattömörítés el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292640"/>
            <a:ext cx="1584360" cy="8650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ömörítetl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4292640"/>
            <a:ext cx="1584360" cy="8650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őkészí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4292640"/>
            <a:ext cx="1584360" cy="8650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ldolgoz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20000" y="4292640"/>
            <a:ext cx="1584360" cy="8650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ömörítet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1" idx="3"/>
            <a:endCxn id="62" idx="1"/>
          </p:cNvCxnSpPr>
          <p:nvPr/>
        </p:nvCxnSpPr>
        <p:spPr>
          <a:xfrm>
            <a:off x="2195640" y="4725720"/>
            <a:ext cx="576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2" idx="3"/>
            <a:endCxn id="63" idx="1"/>
          </p:cNvCxnSpPr>
          <p:nvPr/>
        </p:nvCxnSpPr>
        <p:spPr>
          <a:xfrm>
            <a:off x="4355640" y="4725720"/>
            <a:ext cx="577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7" name=""/>
          <p:cNvCxnSpPr>
            <a:stCxn id="63" idx="3"/>
            <a:endCxn id="64" idx="1"/>
          </p:cNvCxnSpPr>
          <p:nvPr/>
        </p:nvCxnSpPr>
        <p:spPr>
          <a:xfrm>
            <a:off x="6516720" y="4725720"/>
            <a:ext cx="504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68" name=""/>
          <p:cNvSpPr/>
          <p:nvPr/>
        </p:nvSpPr>
        <p:spPr>
          <a:xfrm>
            <a:off x="1116000" y="3716280"/>
            <a:ext cx="7416720" cy="504720"/>
          </a:xfrm>
          <a:prstGeom prst="rightArrow">
            <a:avLst>
              <a:gd name="adj1" fmla="val 50000"/>
              <a:gd name="adj2" fmla="val 36736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ömörí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5300640"/>
            <a:ext cx="7272360" cy="504720"/>
          </a:xfrm>
          <a:prstGeom prst="leftArrow">
            <a:avLst>
              <a:gd name="adj1" fmla="val 50000"/>
              <a:gd name="adj2" fmla="val 3602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csomagol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ömörítés leh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immetrik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ömörítés és a kicsomagolás azonos eljá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zimmetrik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ömörítés hosszabb idejű míg a kicsomagolás rövidebb idej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 jó tömörítést akarunk elérni akkor az információ lényegtelen részét eldobhatjuk (pl. képtömörítés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tömörítésnél lényeges hogy az eredeti információt helyre állíts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hány tömörítési eljár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arabszám-kód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imbólumsor-helyettes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ta helyettes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orozathossz kód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uffmann kód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ritmetikai kód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ranszformációs kód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ubband kód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edikáció vagy relatív kód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abszám kódol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 adathalmazban sok egymás után következő azonos szimbólum fordul elő, akkor célszerű egy külön szimbólum az ismétlődés jelzésére, és utána következzen az ismétlődő szimbólum, majd hogy hánysz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ldául az ismétlődés jelző legyen a # j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101B jelentése 101 darab B egymás ut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# maga a # j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imbólumsor helyettesí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yakori azonos szimbólumsor helyett egy speciális szimból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ldául a tabulátor (TAB) j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a helyettesí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akori szimbólumsorozat helyettesítése speciális szimbólum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ául a BASIC nyelv alapszavainak kódolása az ASCII karakterkészlet alsó (legfelső bit = 1)128 darab kódja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z az ún. tokenizá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orozathossz kódol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un Lenght Encoding – RLE: sok nullát tartalmazó bináris sorozatokban a nullák számát bináris számként adjuk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atisztikai kód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ódhossz a kód előfordulási gyakoriságától függ (Morse AB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uffman kód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es jelek, vagy bájtsorozatok előfordulási gyakoriságát figyeli, és a generált kód hossza ettől fü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ljárás lényege egy optimális kódfa előáll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uffman kód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yünk fel minden jelet relatív gyakoriságával együtt egy gráf csúcspontjaké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zek lesznek a fa leve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juk össze a két legkisebb gyakoriságú csúcspontot egy közös csúcspont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új csúcs gyakorisága legyen az eredeti gyakoriságok össz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összevont csúcsokat hagyjuk ki a további összevonásokbó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mételjük az összevonásokat addig amíg egyetlen egy csúcsunk ma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z lesz a kódfa gyök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uffman kódo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ömörítendő szó : FELESLE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5877000"/>
            <a:ext cx="647640" cy="50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5877000"/>
            <a:ext cx="648000" cy="50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360" y="5877000"/>
            <a:ext cx="648000" cy="50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6720" y="5877000"/>
            <a:ext cx="647640" cy="50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877000"/>
            <a:ext cx="647640" cy="50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5084640"/>
            <a:ext cx="647640" cy="505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5084640"/>
            <a:ext cx="648000" cy="505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4720" y="4005360"/>
            <a:ext cx="647640" cy="50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2781360"/>
            <a:ext cx="648000" cy="504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>
            <a:stCxn id="85" idx="0"/>
            <a:endCxn id="90" idx="4"/>
          </p:cNvCxnSpPr>
          <p:nvPr/>
        </p:nvCxnSpPr>
        <p:spPr>
          <a:xfrm flipV="1">
            <a:off x="2374920" y="5589360"/>
            <a:ext cx="72144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6" idx="0"/>
            <a:endCxn id="90" idx="4"/>
          </p:cNvCxnSpPr>
          <p:nvPr/>
        </p:nvCxnSpPr>
        <p:spPr>
          <a:xfrm flipH="1" flipV="1">
            <a:off x="3095280" y="5589360"/>
            <a:ext cx="72144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7" idx="0"/>
            <a:endCxn id="89" idx="4"/>
          </p:cNvCxnSpPr>
          <p:nvPr/>
        </p:nvCxnSpPr>
        <p:spPr>
          <a:xfrm flipV="1">
            <a:off x="5400360" y="5589360"/>
            <a:ext cx="71964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89" idx="4"/>
            <a:endCxn id="88" idx="0"/>
          </p:cNvCxnSpPr>
          <p:nvPr/>
        </p:nvCxnSpPr>
        <p:spPr>
          <a:xfrm>
            <a:off x="6119280" y="5589720"/>
            <a:ext cx="8643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0" idx="0"/>
            <a:endCxn id="91" idx="4"/>
          </p:cNvCxnSpPr>
          <p:nvPr/>
        </p:nvCxnSpPr>
        <p:spPr>
          <a:xfrm flipV="1">
            <a:off x="3095640" y="4509720"/>
            <a:ext cx="151344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91" idx="4"/>
            <a:endCxn id="89" idx="0"/>
          </p:cNvCxnSpPr>
          <p:nvPr/>
        </p:nvCxnSpPr>
        <p:spPr>
          <a:xfrm>
            <a:off x="4608360" y="4510080"/>
            <a:ext cx="151200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92" idx="4"/>
            <a:endCxn id="91" idx="0"/>
          </p:cNvCxnSpPr>
          <p:nvPr/>
        </p:nvCxnSpPr>
        <p:spPr>
          <a:xfrm>
            <a:off x="3095640" y="3286080"/>
            <a:ext cx="151344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92" idx="4"/>
            <a:endCxn id="84" idx="0"/>
          </p:cNvCxnSpPr>
          <p:nvPr/>
        </p:nvCxnSpPr>
        <p:spPr>
          <a:xfrm flipH="1">
            <a:off x="1007280" y="3285720"/>
            <a:ext cx="2088360" cy="259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ritmetikai kódolá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íg a huffmann kódolás minden jelhez rendelt egy kódot, addig ez a tömörítés az egész szöveghez rendel egyetlen egy kód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ódszó egy a [0,1) intervallumba eső racionális sz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ód a relatív gyakoriságok alapján történő intervallum felosztással kerül meghatározás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ömörí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ranszformációs kódo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ául a Fourier transzformáció: egy periodikus időfüggvényt adott amplitúdójú és kezdeti fázisszögű szinusz hullámok összegével írunk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talánosan fogalmazva sok összetett jelenség írható le vektorizáció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ubband kódol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ak bizonyos frekvencia tartományba eső leveleket transzformál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edikció vagy relatív kódo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z egymás követő jelek nem sokban térnek el egymástól, akkor elég csak a kis különbségeket kódol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sőbb réteg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OSI modell felső 4 rétege a hoszt-hoszt közötti kapcsolatok mikéntjét és milyenségét írják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ek a rétegek a modellb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llítási ré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szony ré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jelenítési ré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kalmazási ré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álózati biztonság és védele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titkosítás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yakran előfordul, hogy bizalmas vagy titkos információt kell továbbítani a hálózaton keresztü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felelő algoritmus használatával megoldható, hogy a titkosított adatok sehogyan sem, vagy csak nagyon nehezen legyenek visszafejthető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tkosítási mod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9840" y="4292640"/>
            <a:ext cx="2232000" cy="1224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kosítás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ó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4292640"/>
            <a:ext cx="2232000" cy="1224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gfejtés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ó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4200" y="4508640"/>
            <a:ext cx="1081080" cy="792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0720" y="1989000"/>
            <a:ext cx="1081080" cy="792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1989000"/>
            <a:ext cx="1081080" cy="792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08" idx="3"/>
            <a:endCxn id="110" idx="1"/>
          </p:cNvCxnSpPr>
          <p:nvPr/>
        </p:nvCxnSpPr>
        <p:spPr>
          <a:xfrm>
            <a:off x="3201480" y="4905000"/>
            <a:ext cx="79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10" idx="3"/>
            <a:endCxn id="109" idx="1"/>
          </p:cNvCxnSpPr>
          <p:nvPr/>
        </p:nvCxnSpPr>
        <p:spPr>
          <a:xfrm>
            <a:off x="5075280" y="4905000"/>
            <a:ext cx="79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250920" y="4437000"/>
            <a:ext cx="64908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72360" y="4437000"/>
            <a:ext cx="64944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5589720"/>
            <a:ext cx="2232000" cy="647640"/>
          </a:xfrm>
          <a:prstGeom prst="upArrowCallout">
            <a:avLst>
              <a:gd name="adj1" fmla="val 86167"/>
              <a:gd name="adj2" fmla="val 86159"/>
              <a:gd name="adj3" fmla="val 16667"/>
              <a:gd name="adj4" fmla="val 666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tkosítási kul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5373720"/>
            <a:ext cx="1152720" cy="1224000"/>
          </a:xfrm>
          <a:prstGeom prst="upArrowCallout">
            <a:avLst>
              <a:gd name="adj1" fmla="val 25002"/>
              <a:gd name="adj2" fmla="val 25000"/>
              <a:gd name="adj3" fmla="val 17697"/>
              <a:gd name="adj4" fmla="val 666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itkosított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öveg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kriptog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5661000"/>
            <a:ext cx="2232000" cy="647640"/>
          </a:xfrm>
          <a:prstGeom prst="upArrowCallout">
            <a:avLst>
              <a:gd name="adj1" fmla="val 86167"/>
              <a:gd name="adj2" fmla="val 86159"/>
              <a:gd name="adj3" fmla="val 16667"/>
              <a:gd name="adj4" fmla="val 6666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gfejtési kul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500720" y="3357360"/>
            <a:ext cx="0" cy="1150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2924280"/>
            <a:ext cx="1655640" cy="144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788000" y="2924280"/>
            <a:ext cx="1439640" cy="144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29242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olakod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349360"/>
            <a:ext cx="23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2205000"/>
            <a:ext cx="36036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908000" y="148428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443640" y="141300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164360" y="141300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651640" y="2133720"/>
            <a:ext cx="79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4360" y="2133720"/>
            <a:ext cx="863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573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rthető (nyílt) szöv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51640" y="350028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rthető (nyílt) szöv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1125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zív betolakodó , csak figy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9079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tív betolakodó , az üzenetet megváltoztat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álózati biztonság és védele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titkosítás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itkosítástan (kriptológia) alapvető szabálya az, hogy a titkosítás készítőjének feltételeznie kell, hogy a megfejtő ismeri a titkosítás általános módszeré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itkosítási kulcs határozza meg konkrét esetben a titkosítá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égen amikor emberek végezték a titkosítást két általános módszert használta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elyettesítéses rejtjel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cseréléses rejtjel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yettesítéses rejtjel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ABC-s módsz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ső alkalmazójáról elnevezve Caesar-féle rejtjelezésnek is neve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redeti abc-t egy 3 (ált esetben k) karakterrel eltolt abc –vel helyettesí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atisztikai alapon könnyen fejthet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öbb ABC-s móds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6 Caesar-abc sort tartalmazó négyzetes má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yílt szöveg fölé egy kulcsot írunk, és a kulcsban lévő betű dönti el , hogy melyik sort használjuk az adott betű titkosít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egfejtés alapja a kulcs hosszának jó megsej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lcseréléses rejtjel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tűk sorrendjét változtatj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ulcsban egy betű csak egyszer fordulhat el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zöveget kulcsnyi szélességű sorokra tördelve egymás alá írj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itkosított szöveget az oszlopok egymás után fűzésével kapj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oszlopok sorrendjét a kulcs betűinek abc-beli sorrendje határozza m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 – adattitkosítási szabvá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zámítógépek megjelenésével felmerült az igény olyan titkosítási algoritmusok iránt, amelyek olyan komplikáltak, hogy még egy számítógép se tudja megfejt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S módszer lényegében egy 64 bites nyílt szöveget 64 bites titkosított szöveggé alakít, egy 56 bites titkosítási kulcs segítségé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áris elemek esetén a felcserélések és helyettesítések egyszerű áramkörök segítségével valósítható m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 – adattitkosítási szabvá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227664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42100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256536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71640" y="270828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2852640"/>
            <a:ext cx="720720" cy="144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299736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314172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328464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44" idx="1"/>
          </p:cNvCxnSpPr>
          <p:nvPr/>
        </p:nvCxnSpPr>
        <p:spPr>
          <a:xfrm flipH="1">
            <a:off x="755280" y="234900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" name=""/>
          <p:cNvCxnSpPr>
            <a:stCxn id="145" idx="1"/>
          </p:cNvCxnSpPr>
          <p:nvPr/>
        </p:nvCxnSpPr>
        <p:spPr>
          <a:xfrm flipH="1" flipV="1">
            <a:off x="755280" y="2491560"/>
            <a:ext cx="21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46" idx="1"/>
          </p:cNvCxnSpPr>
          <p:nvPr/>
        </p:nvCxnSpPr>
        <p:spPr>
          <a:xfrm flipH="1" flipV="1">
            <a:off x="755280" y="2636640"/>
            <a:ext cx="216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47" idx="1"/>
          </p:cNvCxnSpPr>
          <p:nvPr/>
        </p:nvCxnSpPr>
        <p:spPr>
          <a:xfrm flipH="1">
            <a:off x="755280" y="278100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48" idx="1"/>
          </p:cNvCxnSpPr>
          <p:nvPr/>
        </p:nvCxnSpPr>
        <p:spPr>
          <a:xfrm flipH="1" flipV="1">
            <a:off x="755280" y="2923920"/>
            <a:ext cx="216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7" name=""/>
          <p:cNvCxnSpPr>
            <a:stCxn id="149" idx="1"/>
          </p:cNvCxnSpPr>
          <p:nvPr/>
        </p:nvCxnSpPr>
        <p:spPr>
          <a:xfrm flipH="1" flipV="1">
            <a:off x="755280" y="3068280"/>
            <a:ext cx="216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0" idx="1"/>
          </p:cNvCxnSpPr>
          <p:nvPr/>
        </p:nvCxnSpPr>
        <p:spPr>
          <a:xfrm flipH="1" flipV="1">
            <a:off x="755280" y="3212280"/>
            <a:ext cx="21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51" idx="1"/>
          </p:cNvCxnSpPr>
          <p:nvPr/>
        </p:nvCxnSpPr>
        <p:spPr>
          <a:xfrm flipH="1">
            <a:off x="755280" y="335736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44" idx="3"/>
          </p:cNvCxnSpPr>
          <p:nvPr/>
        </p:nvCxnSpPr>
        <p:spPr>
          <a:xfrm>
            <a:off x="1692000" y="234900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45" idx="3"/>
          </p:cNvCxnSpPr>
          <p:nvPr/>
        </p:nvCxnSpPr>
        <p:spPr>
          <a:xfrm flipV="1">
            <a:off x="1692000" y="2491560"/>
            <a:ext cx="143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46" idx="3"/>
          </p:cNvCxnSpPr>
          <p:nvPr/>
        </p:nvCxnSpPr>
        <p:spPr>
          <a:xfrm flipV="1">
            <a:off x="1692000" y="263664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"/>
          <p:cNvCxnSpPr>
            <a:stCxn id="147" idx="3"/>
          </p:cNvCxnSpPr>
          <p:nvPr/>
        </p:nvCxnSpPr>
        <p:spPr>
          <a:xfrm>
            <a:off x="1692000" y="278100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"/>
          <p:cNvCxnSpPr>
            <a:stCxn id="148" idx="3"/>
          </p:cNvCxnSpPr>
          <p:nvPr/>
        </p:nvCxnSpPr>
        <p:spPr>
          <a:xfrm flipV="1">
            <a:off x="1692000" y="292392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149" idx="3"/>
          </p:cNvCxnSpPr>
          <p:nvPr/>
        </p:nvCxnSpPr>
        <p:spPr>
          <a:xfrm flipV="1">
            <a:off x="1692000" y="306828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50" idx="3"/>
          </p:cNvCxnSpPr>
          <p:nvPr/>
        </p:nvCxnSpPr>
        <p:spPr>
          <a:xfrm flipV="1">
            <a:off x="1692000" y="3212280"/>
            <a:ext cx="143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1" idx="3"/>
          </p:cNvCxnSpPr>
          <p:nvPr/>
        </p:nvCxnSpPr>
        <p:spPr>
          <a:xfrm>
            <a:off x="1692000" y="335736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44" idx="1"/>
            <a:endCxn id="145" idx="3"/>
          </p:cNvCxnSpPr>
          <p:nvPr/>
        </p:nvCxnSpPr>
        <p:spPr>
          <a:xfrm>
            <a:off x="971640" y="2349360"/>
            <a:ext cx="72144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45" idx="1"/>
            <a:endCxn id="148" idx="3"/>
          </p:cNvCxnSpPr>
          <p:nvPr/>
        </p:nvCxnSpPr>
        <p:spPr>
          <a:xfrm>
            <a:off x="971640" y="2493720"/>
            <a:ext cx="7214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46" idx="1"/>
            <a:endCxn id="144" idx="3"/>
          </p:cNvCxnSpPr>
          <p:nvPr/>
        </p:nvCxnSpPr>
        <p:spPr>
          <a:xfrm flipV="1">
            <a:off x="971640" y="2349000"/>
            <a:ext cx="72144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47" idx="1"/>
            <a:endCxn id="146" idx="3"/>
          </p:cNvCxnSpPr>
          <p:nvPr/>
        </p:nvCxnSpPr>
        <p:spPr>
          <a:xfrm flipV="1">
            <a:off x="971640" y="2637720"/>
            <a:ext cx="7214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48" idx="1"/>
            <a:endCxn id="147" idx="3"/>
          </p:cNvCxnSpPr>
          <p:nvPr/>
        </p:nvCxnSpPr>
        <p:spPr>
          <a:xfrm flipV="1">
            <a:off x="971640" y="2781000"/>
            <a:ext cx="7214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49" idx="1"/>
            <a:endCxn id="151" idx="3"/>
          </p:cNvCxnSpPr>
          <p:nvPr/>
        </p:nvCxnSpPr>
        <p:spPr>
          <a:xfrm>
            <a:off x="971640" y="3069720"/>
            <a:ext cx="72144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50" idx="1"/>
            <a:endCxn id="149" idx="3"/>
          </p:cNvCxnSpPr>
          <p:nvPr/>
        </p:nvCxnSpPr>
        <p:spPr>
          <a:xfrm flipV="1">
            <a:off x="971640" y="3069720"/>
            <a:ext cx="72144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51" idx="1"/>
            <a:endCxn id="150" idx="3"/>
          </p:cNvCxnSpPr>
          <p:nvPr/>
        </p:nvCxnSpPr>
        <p:spPr>
          <a:xfrm flipV="1">
            <a:off x="971640" y="3214080"/>
            <a:ext cx="7214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3635280" y="227664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35280" y="242100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56536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35280" y="270828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35280" y="2852640"/>
            <a:ext cx="720720" cy="144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299736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314172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35280" y="3284640"/>
            <a:ext cx="720720" cy="144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76" idx="1"/>
          </p:cNvCxnSpPr>
          <p:nvPr/>
        </p:nvCxnSpPr>
        <p:spPr>
          <a:xfrm flipH="1">
            <a:off x="3418920" y="2349000"/>
            <a:ext cx="21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77" idx="1"/>
          </p:cNvCxnSpPr>
          <p:nvPr/>
        </p:nvCxnSpPr>
        <p:spPr>
          <a:xfrm flipH="1" flipV="1">
            <a:off x="3418920" y="2491560"/>
            <a:ext cx="216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78" idx="1"/>
          </p:cNvCxnSpPr>
          <p:nvPr/>
        </p:nvCxnSpPr>
        <p:spPr>
          <a:xfrm flipH="1" flipV="1">
            <a:off x="3418920" y="2636640"/>
            <a:ext cx="216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79" idx="1"/>
          </p:cNvCxnSpPr>
          <p:nvPr/>
        </p:nvCxnSpPr>
        <p:spPr>
          <a:xfrm flipH="1">
            <a:off x="3418920" y="2781000"/>
            <a:ext cx="21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0" idx="1"/>
          </p:cNvCxnSpPr>
          <p:nvPr/>
        </p:nvCxnSpPr>
        <p:spPr>
          <a:xfrm flipH="1" flipV="1">
            <a:off x="3418920" y="2923920"/>
            <a:ext cx="216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" name=""/>
          <p:cNvCxnSpPr>
            <a:stCxn id="181" idx="1"/>
          </p:cNvCxnSpPr>
          <p:nvPr/>
        </p:nvCxnSpPr>
        <p:spPr>
          <a:xfrm flipH="1" flipV="1">
            <a:off x="3418920" y="3068280"/>
            <a:ext cx="216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" name=""/>
          <p:cNvCxnSpPr>
            <a:stCxn id="182" idx="1"/>
          </p:cNvCxnSpPr>
          <p:nvPr/>
        </p:nvCxnSpPr>
        <p:spPr>
          <a:xfrm flipH="1" flipV="1">
            <a:off x="3418920" y="3212280"/>
            <a:ext cx="216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" name=""/>
          <p:cNvCxnSpPr>
            <a:stCxn id="183" idx="1"/>
          </p:cNvCxnSpPr>
          <p:nvPr/>
        </p:nvCxnSpPr>
        <p:spPr>
          <a:xfrm flipH="1">
            <a:off x="3418920" y="3357360"/>
            <a:ext cx="21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" name=""/>
          <p:cNvCxnSpPr>
            <a:stCxn id="176" idx="3"/>
          </p:cNvCxnSpPr>
          <p:nvPr/>
        </p:nvCxnSpPr>
        <p:spPr>
          <a:xfrm>
            <a:off x="4355640" y="234900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77" idx="3"/>
          </p:cNvCxnSpPr>
          <p:nvPr/>
        </p:nvCxnSpPr>
        <p:spPr>
          <a:xfrm flipV="1">
            <a:off x="4355640" y="2491560"/>
            <a:ext cx="143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" name=""/>
          <p:cNvCxnSpPr>
            <a:stCxn id="178" idx="3"/>
          </p:cNvCxnSpPr>
          <p:nvPr/>
        </p:nvCxnSpPr>
        <p:spPr>
          <a:xfrm flipV="1">
            <a:off x="4355640" y="263664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79" idx="3"/>
          </p:cNvCxnSpPr>
          <p:nvPr/>
        </p:nvCxnSpPr>
        <p:spPr>
          <a:xfrm>
            <a:off x="4355640" y="278100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" name=""/>
          <p:cNvCxnSpPr>
            <a:stCxn id="180" idx="3"/>
          </p:cNvCxnSpPr>
          <p:nvPr/>
        </p:nvCxnSpPr>
        <p:spPr>
          <a:xfrm flipV="1">
            <a:off x="4355640" y="292392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1" idx="3"/>
          </p:cNvCxnSpPr>
          <p:nvPr/>
        </p:nvCxnSpPr>
        <p:spPr>
          <a:xfrm flipV="1">
            <a:off x="4355640" y="3068280"/>
            <a:ext cx="143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" name=""/>
          <p:cNvCxnSpPr>
            <a:stCxn id="182" idx="3"/>
          </p:cNvCxnSpPr>
          <p:nvPr/>
        </p:nvCxnSpPr>
        <p:spPr>
          <a:xfrm flipV="1">
            <a:off x="4355640" y="3212280"/>
            <a:ext cx="143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3" idx="3"/>
          </p:cNvCxnSpPr>
          <p:nvPr/>
        </p:nvCxnSpPr>
        <p:spPr>
          <a:xfrm>
            <a:off x="4355640" y="3357360"/>
            <a:ext cx="14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76" idx="1"/>
            <a:endCxn id="177" idx="3"/>
          </p:cNvCxnSpPr>
          <p:nvPr/>
        </p:nvCxnSpPr>
        <p:spPr>
          <a:xfrm>
            <a:off x="3635280" y="2349360"/>
            <a:ext cx="72144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77" idx="1"/>
            <a:endCxn id="180" idx="3"/>
          </p:cNvCxnSpPr>
          <p:nvPr/>
        </p:nvCxnSpPr>
        <p:spPr>
          <a:xfrm>
            <a:off x="3635280" y="2493720"/>
            <a:ext cx="7214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78" idx="1"/>
            <a:endCxn id="176" idx="3"/>
          </p:cNvCxnSpPr>
          <p:nvPr/>
        </p:nvCxnSpPr>
        <p:spPr>
          <a:xfrm flipV="1">
            <a:off x="3635280" y="2349000"/>
            <a:ext cx="72144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79" idx="1"/>
            <a:endCxn id="178" idx="3"/>
          </p:cNvCxnSpPr>
          <p:nvPr/>
        </p:nvCxnSpPr>
        <p:spPr>
          <a:xfrm flipV="1">
            <a:off x="3635280" y="2637720"/>
            <a:ext cx="7214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80" idx="1"/>
            <a:endCxn id="179" idx="3"/>
          </p:cNvCxnSpPr>
          <p:nvPr/>
        </p:nvCxnSpPr>
        <p:spPr>
          <a:xfrm flipV="1">
            <a:off x="3635280" y="2781000"/>
            <a:ext cx="7214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1" idx="1"/>
            <a:endCxn id="183" idx="3"/>
          </p:cNvCxnSpPr>
          <p:nvPr/>
        </p:nvCxnSpPr>
        <p:spPr>
          <a:xfrm>
            <a:off x="3635280" y="3069720"/>
            <a:ext cx="72144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2" idx="1"/>
            <a:endCxn id="181" idx="3"/>
          </p:cNvCxnSpPr>
          <p:nvPr/>
        </p:nvCxnSpPr>
        <p:spPr>
          <a:xfrm flipV="1">
            <a:off x="3635280" y="3069720"/>
            <a:ext cx="72144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83" idx="1"/>
            <a:endCxn id="182" idx="3"/>
          </p:cNvCxnSpPr>
          <p:nvPr/>
        </p:nvCxnSpPr>
        <p:spPr>
          <a:xfrm flipV="1">
            <a:off x="3635280" y="3214080"/>
            <a:ext cx="7214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2843280" y="2276640"/>
            <a:ext cx="57636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720" y="2276640"/>
            <a:ext cx="576000" cy="115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627280" y="249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62728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62728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7672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76720" y="27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7672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4360" y="1844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dob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184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dob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4149720"/>
            <a:ext cx="8424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elcseréléseket a P doboz, a helyettesítéseket az S doboz vég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itkosítás első lépésében egy kulcstól független felcserélés történik, az utolsóban, pedig ennek az inver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közbülső 16 fokozat ugyanúgy működik, de a kulcs más-más része határozza  meg az alkalmazott P és S dobozok konkrét felépítés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z természetesen logikai függvényekkel is leírha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2276640"/>
            <a:ext cx="360360" cy="129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2276640"/>
            <a:ext cx="36036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27640" y="2565360"/>
            <a:ext cx="36036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27640" y="2852640"/>
            <a:ext cx="36036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27640" y="3141720"/>
            <a:ext cx="36036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8000" y="2276640"/>
            <a:ext cx="360360" cy="129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48360" y="2276640"/>
            <a:ext cx="36036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48360" y="2565360"/>
            <a:ext cx="36036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948360" y="2852640"/>
            <a:ext cx="36036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48360" y="3141720"/>
            <a:ext cx="36036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08720" y="2276640"/>
            <a:ext cx="360360" cy="129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69080" y="2276640"/>
            <a:ext cx="36036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69080" y="2565360"/>
            <a:ext cx="36036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69080" y="2852640"/>
            <a:ext cx="36036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69080" y="3141720"/>
            <a:ext cx="36036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28000" y="2276640"/>
            <a:ext cx="360360" cy="1296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kulcsok védel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robléma megoldása egy olyan E algoritmus, és olyan D megfejtési algoritmus használata, amelyekkel a d kikövetkeztetése gyakorlatilag akkor is lehetetlen marad, ha E teljes leírása hozzáférhet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lábbi követelményeket támassz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(E(P))=P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 P a nyílt szö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ndkívül nehéz D-t E –ből leszármaztat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-t nem lehet választott nyílt szöveggel feltör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A algorit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számmisz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ndolj egy szám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 hozzá ha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orozd meg három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d ki belőle a gondolt szám háromszoros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eredmény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zámmisz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ndolj egy számot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keress egy tetszőleges prímszámot (N), mely NAGYOBB, mint az előző szám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eld a gondolt számot az (N-1). hatvány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dd az eredmény modulusát N-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radék: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A algorit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3. számmisz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ondolj egy számo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ost keress egy tetszőleges prímszámot (N), mely NAGYOBB, mint az előző szá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meld a gondolt számot az N. hatvány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dd az eredmény modulusát N-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aradék: a gondolt sz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lőző kettő matekul kifejez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hu-HU" sz="2400" spc="-1" strike="noStrike" baseline="30000">
                <a:solidFill>
                  <a:srgbClr val="000000"/>
                </a:solidFill>
                <a:latin typeface="Arial"/>
              </a:rPr>
              <a:t>(N-1)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mod N 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hu-HU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mod N =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állítá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adata nagyon fo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bízható adatszállítás biztosítása a forráshoszt és a célhost között, függetlenül az alatta lévő rétegek kialakításátó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álózati réteg által nyújtott szolgálatokra támaszko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asznált protokollok hasonlítanak a adatkapcsolati réteg protokolljaira, de itt a fizikai csatorna alatt a két hoszt összekötő alhálózatot értü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térés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ont-pont összeköttetésnél is kötelező a cím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ezdeti összeköttetés létesítése bonyol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lhálózat tárolókapacitása miatt egy csomag eltűnhet, majd hirtelen megjelen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somagok duplázódása miatt felmerülő problémákat is kezelni k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SA algorit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hu-HU" sz="2400" spc="-1" strike="noStrike" baseline="30000">
                <a:solidFill>
                  <a:srgbClr val="000000"/>
                </a:solidFill>
                <a:latin typeface="Arial"/>
              </a:rPr>
              <a:t>(N)+1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mod N =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ó volna ha 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N)+1=P*Q, akk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400" spc="-1" strike="noStrike" baseline="30000">
                <a:solidFill>
                  <a:srgbClr val="000000"/>
                </a:solidFill>
                <a:latin typeface="Arial"/>
              </a:rPr>
              <a:t>(P*Q)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mod N = 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itkosító: T</a:t>
            </a:r>
            <a:r>
              <a:rPr b="0" lang="hu-HU" sz="24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mod N 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fejtő R</a:t>
            </a:r>
            <a:r>
              <a:rPr b="0" lang="hu-HU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mod N =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* 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N)+1 is jó felbontási al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ó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=5 a titkosítandó sz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=6 relatív prím T h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6)=1 és 5 azaz össze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* </a:t>
            </a:r>
            <a:r>
              <a:rPr b="0" lang="hu-HU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N)+1=7*2+1=15=P*Q. P=3 és Q=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ublikus kulcs P és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ivát kulcs Q és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állítá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álózati szolgálatokat minőségük alapján 3 típusba soroltá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íp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ökéletes, hibamentes szolgá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incs elveszett, sérült, kettőzött csom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LAN-ok esetén már sokszor teljesü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 típ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gyedi csomagok csak nagyon ritkán vesznek el, de a hálózati réteg időnként kiad egy N-RESET –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kkor a protokoll feladata, hogy összeszedje a maradékot, új összeköttetést létesítsen, újraszinkronizálja az átvitelt st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WAN-okra jellemz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 típ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Rossz minőségű, nem megbízható szolgá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Gyakori N-RESET, elveszett vagy duplázott csomag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Datagram szolgálatot nyújtó WAN-ok pl. a rádiós csomagszoró hálózatokra jellemz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állítá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állítási réteg számára a szállítási szolgálat-elérési pontok (TSAP) címei azonosítják a forrás illetve cél hoszt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Így különféle szolgáltatásokhoz más-más TASP címek tartoz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íg a hosztok címei ismertek addig a hoszton belüli címeket a küldő hoszt nem ismeri. Kétféle módszert használn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üldő hoszt által igényelt alkalmazást mindig a célnál egy alkalmazásszolgáltató fogadja, és az üzenet alapján rendel hozzájuk TSAP címe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speciális névszolgáltatót használnak. Egy adott TSAP cím megtalálásához összekötetést kell létesíteni a névszolgáltatóval aki megküldi a kért szolgáltatáshoz tartozó TSAP cím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állítá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 típusú hálózatszolgálatok esetén nehéz az összeköttetés létes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roblémák megoldására két megold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omagok élettartamának korláto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somópontátlépés számlál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somag létrehozásának időpont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áromutas kézfogás alk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összeköttetés létesítése során a felek egy tetszőleges véletlen-számként választott kezdősorszámmal kezdik az adásukat, így kiszűrhető egy korábbi összeköttetésből származó késve érkezett csom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összeköttetés lebontásakor biztosítani kell az adatvesztés menteség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zonyréte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zállítási réteg felhasználásával szolgálatokat nyújt a felette lévő megjelenítési réteg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ő funkciója, hogy lehetőséget biztosítson a használóknak adatokat cserélni a viszonyokon keresztü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 viszony használhat egy vagy több szállítási összeköttetés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ndezett bontást támogatja, azaz a viszonyrétegben a bontási kérelmet meg kell erősít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os feladata a párbeszédes kapcsolatok kezel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gjelenítési rét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z a réteg felelős az információ megjelenítéséért és egységes értelmezéséé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ladata a szállított információ jelentéséhez kapcsolódi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tábrázo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ttömörí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álózati biztons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álózati véde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ábrázolá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ülönféle gépek különböző adatábrázolási módokat használ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ldául karakterek esetén különböző kódrendszerek használata (IBM nagygépek EBCDIC kódja vagy az ASCII kó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zámábrázolásban is lehetnek különb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a két gép közt eltérés van akkor a hálózati kapcsolat során átvitt adatokat a megfelelő reprezentálás érdekében konvertálni k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adódó problémák kezelése nem egyszer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üldő vagy a vevő konvertáljon esetleg mindkettő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07:40:53Z</dcterms:created>
  <dc:creator>Nagymáté Péter</dc:creator>
  <dc:description/>
  <dc:language>en-US</dc:language>
  <cp:lastModifiedBy>Nagymáté Péter</cp:lastModifiedBy>
  <dcterms:modified xsi:type="dcterms:W3CDTF">2004-02-12T13:19:43Z</dcterms:modified>
  <cp:revision>23</cp:revision>
  <dc:subject/>
  <dc:title>Hálózatok </dc:title>
</cp:coreProperties>
</file>