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4A8-13FE-4F93-982F-9D934D37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0B5-79AC-422C-BA9C-94C9E2D0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F97-CCB8-4ED0-B494-E8F251A6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9A1-1644-4692-8117-C1F65335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924F-885A-4CA1-81C7-8BFC712B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4420-7F57-4038-9C64-AAB6AA9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F661-2D16-4EDE-A3AC-6E5E9A61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1DE7-473F-409B-9381-A323DE58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E6EE-639D-42FD-867A-779AFB0A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C1B0-76FF-48EF-A5BE-EE08B258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FD47-78B3-4BB9-A014-C53C6C9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09F-561A-4062-BC92-56B7049E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861F-0457-439E-8060-5497523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F0E1-DF93-4045-AE92-C3FC3D21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C88C-9F36-497B-952A-BE4F9E62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01E1-EDEE-410A-AE9B-33A32AD2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8BB7-04DA-4A50-B274-EB56202B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519-48CA-4B48-96F2-C812DF5F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B2F-AC94-4016-BF94-ABDC0519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F28-29F7-4909-A5DE-98A8C195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5F4-A42C-4ED2-B61D-3DB7360A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0B3-B5C9-41FB-946E-4171DE9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0FF-7AEE-437F-9579-263A0C32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296-0505-4D0A-A1B0-FF266CB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DD66-F780-4025-97DE-B35730282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9F9C-99F7-48AA-80CF-163193C46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optikai szálás gyűrűből áll, amelyekben az adatforgalom ellentétes irán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állomás típ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osztályú: mindkét gyűrűhöz kapcsoló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 osztályú, csak az egyikhez kapcsoló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tenciálisan 1000 állomásból és 200 km optikai szálból áll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 az 5 -ből kódolást haszná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4 MAC szimbólumból álló csoport 5 bites csoporttá kódolva jelenik meg a köz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hetséges 32 kombinációból 16 az adatok, 3 a határolók, 2 a vezérlés és 3 a hardverjelzés számára van fenntar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i réteg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 réteg feladata a csomagok eljuttatása a forrástól a cél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célig egy csomag több csomópontot is érint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eltérő hálózatszervezési módszer létez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köttetés alap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köttetés m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sszekötetés alapú hálózatoknál az összeköttetést virtuális áramkörnek szokták nev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ásiknál az átvitel csomagok segítségével történik ezek a datagra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Hálózati réteg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is áramkör használatakor nem kell minden egyes csomagra forgalomszabályozási döntést hoz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galom szabályozása az összeköttetés létesítésének a rés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sszeköttetés menetes esetben elvileg minden egyes csomag külön utat követhet, mivel a csomagok útválasztása függet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őnyök és hátrány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1680" y="1676520"/>
          <a:ext cx="8540640" cy="392256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rg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gram hálóz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tuális áramkörö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amkör létes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üksé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mzé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en csomagban forrás é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élc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egy rövid, VÁ –t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onosító cí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llapotinformáci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alhálózat nem hord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áblázatokban táro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galomirányí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somagok útvonala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mástól függet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Á létesítése meghat.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útvonala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omóponti hibák hatá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az IMP ben lévő</a:t>
                      </a:r>
                      <a:br>
                        <a:rPr sz="1400"/>
                      </a:b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omagok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s, az IMP-n átmenő</a:t>
                      </a:r>
                      <a:br>
                        <a:rPr sz="1400"/>
                      </a:b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Á megh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lódásvezér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héz megold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nnyű, ha elegendő puffer v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tettsé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zállítási réteg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álózati réteg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dkét szolgálath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k összeköttetés alapúh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adata a csomagok hatékony eljuttatása az egyik csomópontból a másik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álózatot célszerű gráfként modell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onalkapcsolt hálózatoknál az útvonal kijelölése a hívás felépítésének fázisában törté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magkapcsolt hálózatokban a csomópontoknak egy ún. routing táblákat kell tartalmazni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tettségét alapvetően meghatározza a topoló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galomirányító algoritmusok osztályozásának alapjául 4 főfunkciót tekinthetü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zérlésm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foly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ció-karbantartó folya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vábbító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lgoritmusoknak két osztálya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ív – alkalmazko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sztikus – előre meghatár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Forgalomirányítá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lehetséges vezérlésmó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szti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yan rögzített eljárás, amelyet a változó feltételek nem befolyáso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zigetel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den csomópont hoz irányítási döntéseket, de csak helyi információk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osztot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omópontok információt cserél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zpontosított adap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somópontok egy közös irányító központnak jelentik a helyi információ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 legrövidebb út meghatároz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optimális útvonal nem feltétlenül jelenti a fizikailag legrövidebb útvona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rték lehet példá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omópont átlépés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nyi idő alatt jut el a cso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alhasználat költ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ltalánosan egy adott szakasz mértékét a távolság, az adatátviteli sebesség,az átlagos forgalom, a kommunikációs költség, az átlagos sorhossz vagy más egyéb tényezők alapján határozzák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 legrövidebb út meghatároz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tematikailag a probléma a gráfelmélet segítségével határozható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eladat a gráf két csomópontja közötti olyan élekből álló útvonal meghatározása, amelyre az érintett élek mértékeinek az összege minimá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gyik módszer a Dijsktrá-tól szárma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6600"/>
                </a:solidFill>
                <a:latin typeface="Arial"/>
              </a:rPr>
              <a:t>Dijsktra algoritmus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en csomópontot címkével látunk el, amely két tagból á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első tag az adott csomópont legrövidebb távolsága a forrásponttól. Ez kezdetben végtelen minden csomópon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ásodik tag annak a csomópontnak a neve, amelyen keresztül valósul meg a legrövidebb ú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lgoritmus működése során utakat talál, és úgy változnak a címkék is a legjobb utat tükröz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címke ideiglenes és állandó lehet. Amikor az algoritmus felfedezi, hogy egy adott címke a forrástól a címkéhez tartozó csomópontig vezető legrövidebb utat jelzi, akkor a címkét állandóvá teszi, és ezután már nem változta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űrű nem igazán alkalmas üzenetszórásos átvitel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 alakba rendezett két pont közötti kapcsolatok halm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jdnem teljesen digitális, kiszámítható felső időkorlátos csatorna hozzáférést biztos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vezésnél lényeges 1 bit „hossz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 gyűrű K Mbit/s –es akkor 1/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-ként kerül ki egy bit az átviteli köze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7" idx="7"/>
            <a:endCxn id="158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8" idx="5"/>
            <a:endCxn id="159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7" idx="5"/>
            <a:endCxn id="162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2" idx="7"/>
            <a:endCxn id="159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58" idx="6"/>
            <a:endCxn id="160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9" idx="6"/>
            <a:endCxn id="161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0" idx="3"/>
            <a:endCxn id="161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1" idx="5"/>
            <a:endCxn id="163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6"/>
            <a:endCxn id="163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0" idx="5"/>
            <a:endCxn id="164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3" idx="7"/>
            <a:endCxn id="164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7" idx="7"/>
            <a:endCxn id="188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8" idx="5"/>
            <a:endCxn id="189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5"/>
            <a:endCxn id="192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2" idx="7"/>
            <a:endCxn id="189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6"/>
            <a:endCxn id="190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9" idx="6"/>
            <a:endCxn id="191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0" idx="3"/>
            <a:endCxn id="191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1" idx="5"/>
            <a:endCxn id="193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2" idx="6"/>
            <a:endCxn id="193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0" idx="5"/>
            <a:endCxn id="194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93" idx="7"/>
            <a:endCxn id="194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57340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0" idx="7"/>
            <a:endCxn id="221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1" idx="5"/>
            <a:endCxn id="222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0" idx="5"/>
            <a:endCxn id="225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5" idx="7"/>
            <a:endCxn id="222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21" idx="6"/>
            <a:endCxn id="223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222" idx="6"/>
            <a:endCxn id="224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223" idx="3"/>
            <a:endCxn id="224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4" idx="5"/>
            <a:endCxn id="226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5" idx="6"/>
            <a:endCxn id="226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3" idx="5"/>
            <a:endCxn id="227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26" idx="7"/>
            <a:endCxn id="227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0" idx="7"/>
            <a:endCxn id="251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1" idx="5"/>
            <a:endCxn id="252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50" idx="5"/>
            <a:endCxn id="255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5" idx="7"/>
            <a:endCxn id="252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1" idx="6"/>
            <a:endCxn id="253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52" idx="6"/>
            <a:endCxn id="254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4" name=""/>
          <p:cNvCxnSpPr>
            <a:stCxn id="253" idx="3"/>
            <a:endCxn id="254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>
            <a:stCxn id="254" idx="5"/>
            <a:endCxn id="256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"/>
          <p:cNvCxnSpPr>
            <a:stCxn id="255" idx="6"/>
            <a:endCxn id="256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3" idx="5"/>
            <a:endCxn id="257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stCxn id="256" idx="7"/>
            <a:endCxn id="257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26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119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270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33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627280" y="5734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221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636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4764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69372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74920" y="155736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69372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88000" y="155736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0" y="2421000"/>
            <a:ext cx="2890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242100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16720" y="155736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"/>
          <p:cNvCxnSpPr>
            <a:stCxn id="290" idx="7"/>
            <a:endCxn id="291" idx="3"/>
          </p:cNvCxnSpPr>
          <p:nvPr/>
        </p:nvCxnSpPr>
        <p:spPr>
          <a:xfrm flipV="1">
            <a:off x="1793880" y="93744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1" idx="5"/>
            <a:endCxn id="292" idx="1"/>
          </p:cNvCxnSpPr>
          <p:nvPr/>
        </p:nvCxnSpPr>
        <p:spPr>
          <a:xfrm>
            <a:off x="2657520" y="93780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"/>
          <p:cNvCxnSpPr>
            <a:stCxn id="290" idx="5"/>
            <a:endCxn id="295" idx="1"/>
          </p:cNvCxnSpPr>
          <p:nvPr/>
        </p:nvCxnSpPr>
        <p:spPr>
          <a:xfrm>
            <a:off x="1793880" y="1801440"/>
            <a:ext cx="58968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5" idx="7"/>
            <a:endCxn id="292" idx="3"/>
          </p:cNvCxnSpPr>
          <p:nvPr/>
        </p:nvCxnSpPr>
        <p:spPr>
          <a:xfrm flipV="1">
            <a:off x="2585520" y="1801080"/>
            <a:ext cx="732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1" idx="6"/>
            <a:endCxn id="293" idx="2"/>
          </p:cNvCxnSpPr>
          <p:nvPr/>
        </p:nvCxnSpPr>
        <p:spPr>
          <a:xfrm>
            <a:off x="2700360" y="83772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2" idx="6"/>
            <a:endCxn id="294" idx="2"/>
          </p:cNvCxnSpPr>
          <p:nvPr/>
        </p:nvCxnSpPr>
        <p:spPr>
          <a:xfrm>
            <a:off x="3564000" y="170136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3" idx="3"/>
            <a:endCxn id="294" idx="7"/>
          </p:cNvCxnSpPr>
          <p:nvPr/>
        </p:nvCxnSpPr>
        <p:spPr>
          <a:xfrm flipH="1">
            <a:off x="5033160" y="937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4" idx="5"/>
            <a:endCxn id="296" idx="1"/>
          </p:cNvCxnSpPr>
          <p:nvPr/>
        </p:nvCxnSpPr>
        <p:spPr>
          <a:xfrm>
            <a:off x="5033520" y="180144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5" idx="6"/>
            <a:endCxn id="296" idx="2"/>
          </p:cNvCxnSpPr>
          <p:nvPr/>
        </p:nvCxnSpPr>
        <p:spPr>
          <a:xfrm>
            <a:off x="2629080" y="256500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3" idx="5"/>
            <a:endCxn id="297" idx="1"/>
          </p:cNvCxnSpPr>
          <p:nvPr/>
        </p:nvCxnSpPr>
        <p:spPr>
          <a:xfrm>
            <a:off x="5897160" y="93780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7"/>
            <a:endCxn id="297" idx="3"/>
          </p:cNvCxnSpPr>
          <p:nvPr/>
        </p:nvCxnSpPr>
        <p:spPr>
          <a:xfrm flipV="1">
            <a:off x="5897160" y="180108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1692360" y="112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236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0036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43280" y="98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51280" y="22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80000" y="549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3236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83280" y="10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8360" y="184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3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98920" y="3718080"/>
            <a:ext cx="28872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458136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38920" y="3718080"/>
            <a:ext cx="288720" cy="28728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75280" y="458136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27280" y="5445000"/>
            <a:ext cx="28908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38920" y="5445000"/>
            <a:ext cx="288720" cy="287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04000" y="4581360"/>
            <a:ext cx="289080" cy="287640"/>
          </a:xfrm>
          <a:prstGeom prst="ellipse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0" idx="7"/>
            <a:endCxn id="321" idx="3"/>
          </p:cNvCxnSpPr>
          <p:nvPr/>
        </p:nvCxnSpPr>
        <p:spPr>
          <a:xfrm flipV="1">
            <a:off x="2080800" y="396180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21" idx="5"/>
            <a:endCxn id="322" idx="1"/>
          </p:cNvCxnSpPr>
          <p:nvPr/>
        </p:nvCxnSpPr>
        <p:spPr>
          <a:xfrm>
            <a:off x="2944800" y="3962160"/>
            <a:ext cx="66060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20" idx="5"/>
            <a:endCxn id="325" idx="1"/>
          </p:cNvCxnSpPr>
          <p:nvPr/>
        </p:nvCxnSpPr>
        <p:spPr>
          <a:xfrm>
            <a:off x="2081160" y="4826160"/>
            <a:ext cx="58968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5" idx="7"/>
            <a:endCxn id="322" idx="3"/>
          </p:cNvCxnSpPr>
          <p:nvPr/>
        </p:nvCxnSpPr>
        <p:spPr>
          <a:xfrm flipV="1">
            <a:off x="2873520" y="4825800"/>
            <a:ext cx="73224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1" idx="6"/>
            <a:endCxn id="323" idx="2"/>
          </p:cNvCxnSpPr>
          <p:nvPr/>
        </p:nvCxnSpPr>
        <p:spPr>
          <a:xfrm>
            <a:off x="2987640" y="3862080"/>
            <a:ext cx="295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2" idx="6"/>
            <a:endCxn id="324" idx="2"/>
          </p:cNvCxnSpPr>
          <p:nvPr/>
        </p:nvCxnSpPr>
        <p:spPr>
          <a:xfrm>
            <a:off x="3851280" y="472572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323" idx="3"/>
            <a:endCxn id="324" idx="7"/>
          </p:cNvCxnSpPr>
          <p:nvPr/>
        </p:nvCxnSpPr>
        <p:spPr>
          <a:xfrm flipH="1">
            <a:off x="5320440" y="3962160"/>
            <a:ext cx="66132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4" idx="5"/>
            <a:endCxn id="326" idx="1"/>
          </p:cNvCxnSpPr>
          <p:nvPr/>
        </p:nvCxnSpPr>
        <p:spPr>
          <a:xfrm>
            <a:off x="5320800" y="4826160"/>
            <a:ext cx="66132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25" idx="6"/>
            <a:endCxn id="326" idx="2"/>
          </p:cNvCxnSpPr>
          <p:nvPr/>
        </p:nvCxnSpPr>
        <p:spPr>
          <a:xfrm>
            <a:off x="2916360" y="5589360"/>
            <a:ext cx="302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23" idx="5"/>
            <a:endCxn id="327" idx="1"/>
          </p:cNvCxnSpPr>
          <p:nvPr/>
        </p:nvCxnSpPr>
        <p:spPr>
          <a:xfrm>
            <a:off x="6184440" y="3962160"/>
            <a:ext cx="662760" cy="66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6" idx="7"/>
            <a:endCxn id="327" idx="3"/>
          </p:cNvCxnSpPr>
          <p:nvPr/>
        </p:nvCxnSpPr>
        <p:spPr>
          <a:xfrm flipV="1">
            <a:off x="6184440" y="4825800"/>
            <a:ext cx="662760" cy="66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197964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87640" y="47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305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38560" y="4437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138560" y="530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35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056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99280" y="50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3564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067280" y="278136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33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59280" y="1268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63640" y="2492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1268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64000" y="33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24360" y="263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56000" y="33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51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40360" y="566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8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eladat A és D pontok közötti legrövidebb út megtalálása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ópontot állandóvá tessz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 lesz az aktuális csomó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vizsgáljuk a szomszédjait (B és G) és beírjuk A-tól való távolságu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szes frissen címkézett csomópont vizsgálata, azt tesszük állandóvá, amelyik a legkisebb értékű címkével rendelk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a csomópont lesz a következő munkacsomópon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 esetben ez a B pont. Most B –ből indu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szomszédja van: E és C. E pont távolsága A-tól 4 , C pont távolsága A-tól 9 , Tehát E pont lesz a következő állandó csomó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eladat A és D pontok közötti legrövidebb út megtalálás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st E szomszédjait vizsgálj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G és F pont. F pont (6,E),G pont (5,E) címkéjű lesz. Tehát G lesz az álland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 szomszédjai : A,E és H . H címkéje (9,G) lesz, a többiek már állandó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ek közül a legkisebb már rögzített ezért E következő legkisebb szomszédját F –et kell vizsgálni, az lesz állan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 szomszédjai: E,C és H pont. F távolsága A-tól ezeken keresztül 6,12 és 9 ezért (6,E) címkével lesz állan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llandó F szomszédjai közül H távolsága A-tól 8 ezért H lesz az állandó, ennek a végpont szomszéd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rövidebb út: A-B-E-F-H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Determinisztikus forgalomirányítá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életlen forgalomirányító eljár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ovábbítandó csomagot a csomópont egy véletlen szám generátor segítségével kiválasztott vonalon küldi tová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vel így a csomagok véletlen bolyonganak, ésszerűnek látszik egy élettartam bevezetése (csomópontok átlépésének szá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árasztásos eljár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ópontok a bejövő csomagot minden vonalra kiküld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épések száma itt is korláto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ősen terheli a rendsz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Adaptív algoritmus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a a hálózat elosztott jelegéből 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öntéskor olyan eseményeket kellene figyelembe venni amelyről van nem vagy eléggé régi információval rendelkez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ó lenne az egész hálózatra kiterjedő forgalomirányítási információ azonnali elérhető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ban ez megvalósíthatatlan, szimulációs modellezést használva, analizálták az elméleti teljesítőképess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Elszigetelt eljáráso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ó krumpli algorit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somópont a beérkezett csomagok abba a kimeneti sorba rakja amelyik a legrövide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foglalkozik az irány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ított tanulás módsz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en csomópont egy csomagot indít, amely tartalmaz egy számlálót és az indító azonosítój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kor egy csomópont egy ilyen csomagot vesz, akkor ezt elolvasva , megtudja, hogy a küldő hány csomópont távolságra van tő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Torlódásvezérlés 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jó hálózati forgalomvezérlési algoritmus megoldást ad a túlterhelések elviselésé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 kell használnia a beépített forgalomvezérlő mechanizmusát arra, hogy a túlzott forgalmi igényeket visszauta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es hálózatrészek túltelítődnek, akkor a várakozási sorok állandóan tele vannak, Ezt a helyzetet nevezzük torlódásnak (cong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élsőséges esete a befulladás (lock-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orlódás lehet helyi jellegü vagy súlyosabb egész hálózatra kiterjed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tratégiák az elkerülésr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ufferek foglalá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rtuális áramkörök esetén használ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MP-okban az adott VÁ –hoz tárolóterület foglalható, csak akkor nyugtázza, ha tovább is tudta küld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mageldobás módsz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csomagot egyszerűen eldobjuk, ha nincs h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csomag nyugtát is tartalmaz akkor célszerű egy külön pufferbe dobni és nem a kuká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űrűinterfészeknek két üzemmódja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á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 érkező bit egy pufferbe ker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z állomások tétlenek, akkor egy speciális bitminta jár körbe (vezérjel – tok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áshoz meg kell szerezni a vezérj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állomás az utolsó keretet utolsó bitjét is elküldte, vissza kell helyeznie a vezérjelet a gyűrű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tratégiák az elkerülésr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zometrikus torlódásvezér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úl sok csomag okozza a torlódást, ezért célszerű a csomagok számát korláto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oldás engedélycsomagok haszná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ngedélyek száma korlátoz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fojtó csomagok haszná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filozófiája: az algoritmus csak akkor kezdjen működni, ha a hálózaton torlódásveszély kezd kialaku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új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=a*K</a:t>
            </a:r>
            <a:r>
              <a:rPr b="0" lang="hu-HU" sz="2000" spc="-1" strike="noStrike" baseline="-25000">
                <a:solidFill>
                  <a:srgbClr val="000000"/>
                </a:solidFill>
                <a:latin typeface="Arial"/>
              </a:rPr>
              <a:t>rég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(1-a)*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K értéke egy küszöböt elér akkor a kimeneti vonal „figyelmeztetés” állapotba kerü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egy ilyen kimeneti vonalra kell továbbküldeni, akkor elküldéssel párhuzamosan visszaküld a forráshelyre egy lefojtó csomag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X.25 hálóz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52948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z egy CCITT ajánlás, amely a felhasználó (DTE) és a hálózat (DCE) közötti interfészt definiál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zen ajánlás alapján elkészített berendezések az ISO OSI 7 ref. Modell alsó 3 szintjét valósítják meg, miközben maga az ajánlás végső soron a 3. és 4. szint közti interfészt definiá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61880" y="3886200"/>
          <a:ext cx="8380080" cy="2081160"/>
        </p:xfrm>
        <a:graphic>
          <a:graphicData uri="http://schemas.openxmlformats.org/drawingml/2006/table">
            <a:tbl>
              <a:tblPr/>
              <a:tblGrid>
                <a:gridCol w="2316240"/>
                <a:gridCol w="3662280"/>
                <a:gridCol w="24015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E (user) ol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E (node) ol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rtuális kapcsol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irtuális kapcsol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ai Sz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nyleges kapcso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ikai Sz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2843280" y="4437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5013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43280" y="5589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Három alapvető csomagtípusú szolgálatot határoztak meg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atagram (DG) szolg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ővé teszi, hogy a felhasználó a hálózatban független csomagokat bárhová elküldjön, vagy bárhonnan fogadj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ndó virtuális áramkör (PV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DTE-t állandóan összeköt logikai csatornával. Ez biztosítja a csomagváltások során a sorrendhelyessé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rtuális hívás (V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mi az előbbi PVC rövid időre kapcsolt összeköttetés , ideiglenesen kialakított megfelelő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Protokoll szintek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zikai sz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magkapcsoló központhoz való kapcsolódást biztosítja adatáramkörökön keresztü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lehet bérel, vagy kapcsolt összekötetés, esetleg analóg távbeszélő áramkö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ásodik sz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HDLC szerinti adatkapcsolat, amely a DTE és a DCE közötti hibamentes adatcserét biztosí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rotokoll neve LAP-B (Link Access Protocoll-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retek elejét/végét egy speciális kód szinkron karakter jelzi ún. FLAG (07Eh,01111110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agsz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edi azonosítókkal ellátott logikai csatornákból á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soportokba vannak szervezve 4 bit a csoportszámot, 8 bit a csatornaszámot hordo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X.25 hálóz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os szolgáltatás a nem csomagkapcsolt hálózatokkal való illesztést biztosító csomagösszeállítás-felbontás funkció. (P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irtuális hívás folyam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2708280"/>
            <a:ext cx="2303640" cy="7207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ívó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E-DCE interfé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08720" y="2708280"/>
            <a:ext cx="2303280" cy="7207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ívot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E-DCE interfé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364500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KÉ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364500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JÖVŐ HÍV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9640" y="40053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 KAPCSO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08720" y="4005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ÍVÁS ELFOGAD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4292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08720" y="4292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9640" y="479736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08720" y="479736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9640" y="5084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BEJELEN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8720" y="508464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KÉ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53737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 VISSZAIGAZO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8720" y="5373720"/>
            <a:ext cx="23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TÁS VISSZAIGAZO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87640" y="2708280"/>
            <a:ext cx="0" cy="3241800"/>
          </a:xfrm>
          <a:prstGeom prst="line">
            <a:avLst/>
          </a:prstGeom>
          <a:ln w="381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2720" y="2708280"/>
            <a:ext cx="0" cy="3241800"/>
          </a:xfrm>
          <a:prstGeom prst="line">
            <a:avLst/>
          </a:prstGeom>
          <a:ln w="381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1280" y="4292640"/>
            <a:ext cx="720072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5084640"/>
            <a:ext cx="720072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484360" y="3789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556000" y="414972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68360" y="443700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68360" y="4941720"/>
            <a:ext cx="3888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626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551664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1964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635280" y="3068640"/>
            <a:ext cx="1008000" cy="5047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6600"/>
                </a:solidFill>
                <a:latin typeface="Arial"/>
              </a:rPr>
              <a:t>Keret relézés (Frame Relay)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a csomagokat, hanem az adatkapcsolati szint kereteit viszik át megfelelő minőségű hálóz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X.25 –höz hasonló új módszer, bár nem megbízható összeköttetést biztosít, nincs a sebességet és a vevő fogadóképességét figyelembe vevő áramlásvezér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szak Amerikában az „európai” X.25 átvitel helyett használ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retek nyugtázása nagyon egyszerűen megold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retformátumnak  egyetlen 1 bites mezőt kell tartalmaznia ami kezdetben 0, ha a célállomás megkapja a keretet akkor ezt a mezőt 1 re állí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802.5 szabvány szerinti vezérjeles gyűrű 1,4 vagy 16 Mbit/s-os sebességre alkalmas árnyékolt sodort érpár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agas és alacsony logikai értéket 3.0 – 4.5 V közötti poz ill negatív jelek képvise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ábelszakadásra megoldás a huzalközpont (wir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3429000"/>
            <a:ext cx="2160720" cy="2158920"/>
          </a:xfrm>
          <a:prstGeom prst="roundRect">
            <a:avLst>
              <a:gd name="adj" fmla="val 16667"/>
            </a:avLst>
          </a:prstGeom>
          <a:solidFill>
            <a:srgbClr val="e2f2e2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zalközp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220500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602136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414972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4149720"/>
            <a:ext cx="647640" cy="647640"/>
          </a:xfrm>
          <a:prstGeom prst="octagon">
            <a:avLst>
              <a:gd name="adj" fmla="val 29287"/>
            </a:avLst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852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2852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4365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140360" y="479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4797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71640" y="4365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71640" y="458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24360" y="4149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4149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356000" y="45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45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27640" y="4365720"/>
            <a:ext cx="288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4140000" y="465264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24360" y="436536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41497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apműködése egyszer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nincs forgalom akkor egy 3 bájtos vezérjel kering kör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íg egy állomás meg nem szerzi a második bájt egy adott 0 értékű bitjének 1-be állítás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által az első két bájt keretkezdet szekvenciává alakul 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242100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656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656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933720"/>
            <a:ext cx="43344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492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3933720"/>
            <a:ext cx="720720" cy="36036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3933720"/>
            <a:ext cx="107964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élcí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6920" y="3933720"/>
            <a:ext cx="107928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ráscí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3933720"/>
            <a:ext cx="2016000" cy="358920"/>
          </a:xfrm>
          <a:prstGeom prst="rect">
            <a:avLst/>
          </a:prstGeom>
          <a:solidFill>
            <a:srgbClr val="fbee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500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2 vagy 6   2 vagy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cs hatá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1989000"/>
            <a:ext cx="295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zérjel formá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keret formá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40360" y="2205000"/>
            <a:ext cx="1511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067280" y="2997360"/>
            <a:ext cx="1511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Vezérjeles gyűrű MAC protokollja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s körülmények közt a keret első bitje előbb ér vissza, mint hogy a teljes keret el lenne küld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hát az adó állomásnak már küldés közben el kell kezdenie az útjukat befejező bitek kivonását a gyűrűb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Vezérjeles gyűrű karbantartása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gyűrűben van 1 felügyelő állo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z állomás felelős a gyűrű helyes működéséé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gyűrű felállásakor az első egy Claim Token keretet küld ki, ha más nem küld ki akkor Ő lesz a felügye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6:46:13Z</dcterms:created>
  <dc:creator>Nagymáté Péter</dc:creator>
  <dc:description/>
  <dc:language>en-US</dc:language>
  <cp:lastModifiedBy>Nagymáté Péter</cp:lastModifiedBy>
  <dcterms:modified xsi:type="dcterms:W3CDTF">2004-02-10T10:44:04Z</dcterms:modified>
  <cp:revision>25</cp:revision>
  <dc:subject/>
  <dc:title>Hálózatok </dc:title>
</cp:coreProperties>
</file>