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66BB-D997-418B-B9A7-BEA4C76B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03EC-C82F-41A4-9126-63563721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DE7B-65E8-422C-B0BD-3925B526A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E17C-D2DC-4E2E-8C74-81F689553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13E3-5704-42C1-9861-DC302FF0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F7DC-B57E-4588-AEBD-3AC7DD5B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74D1-3FB8-46CD-9FFF-0C1DA522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9739-C202-45C3-902F-1EE839EB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0EE3-F2DD-4160-81ED-E739BB4D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731C-EB30-4D83-BC23-AAD2DCA9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4159-BA2E-4321-B722-A8ADD625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2228-A90B-4488-93D2-57406C3D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52A7-F47B-4CD9-965E-96246602E3DB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TCP/IP és az Interne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z Internet hálózati rétege: az IP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z IP protokoll a 80-as években jelent meg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protokoll összekötetés ment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hálózati réteg megbízhatatlan összekötetés menetes szolgálatot biztosít, így az összes megbízhatósági mechanizmust a szállítási rétegben kell megvalósítan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P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Definiálja az adatátvitel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Legkisebb  egységé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nnak pontos formájá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z útválasztá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Néhány további fontos szabályt, amelyek meghatározzák, hogy a hostok, IMP-k hogyan dolgozzák fel az IP csomagok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űködése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 szállítási réteg a kapott üzeneteket max 64 Kbájtos datagramokra tördeli, melyek az útjuk során kisebb nagyobb darabokra lesznek felvágv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Ha az összes célba ért ott újra összerakásra kerülnek üzenetté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 datagram két részből áll: egy fejrészből és egy szövegrészbő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P fejrész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2276640"/>
            <a:ext cx="331128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eljes hosszúság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2708280"/>
            <a:ext cx="331344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zonosítá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3141720"/>
            <a:ext cx="331128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ejrész ellenőrző összeg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3141720"/>
            <a:ext cx="165744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otokol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43280" y="2276640"/>
            <a:ext cx="165744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zolgálat típu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3141720"/>
            <a:ext cx="165744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élettartam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3573360"/>
            <a:ext cx="6624720" cy="503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ORRÁSCÍM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87280" y="4076640"/>
            <a:ext cx="6624720" cy="503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ÉLCÍM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4581360"/>
            <a:ext cx="6624720" cy="503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PCIÓK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32360" y="2708280"/>
            <a:ext cx="287964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datagramdarabeltolá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88000" y="2708280"/>
            <a:ext cx="14436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M</a:t>
            </a:r>
            <a:br>
              <a:rPr sz="1200"/>
            </a:b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3280" y="2708280"/>
            <a:ext cx="14472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D</a:t>
            </a:r>
            <a:br>
              <a:rPr sz="1200"/>
            </a:b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00720" y="2708280"/>
            <a:ext cx="14256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79640" y="2276640"/>
            <a:ext cx="86364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H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2276640"/>
            <a:ext cx="79236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verzió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P fejrész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Arial"/>
              </a:rPr>
              <a:t>Verzió mező a protokoll verzióját azonosítj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Arial"/>
              </a:rPr>
              <a:t>Az IHL adja a fejrész teljes hosszát 32 bites egységekben (20 bájt+opció) min. értéke : 5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Arial"/>
              </a:rPr>
              <a:t>A szolgálat típus mező teszi lehetővé a hoszt számára , hogy kijelölje az alhálózattól kívánt szolgálat típusá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Arial"/>
              </a:rPr>
              <a:t>Teljes hosszúság a teljes datagram hossz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00"/>
                </a:solidFill>
                <a:latin typeface="Arial"/>
              </a:rPr>
              <a:t>Max. 65536 bájt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00"/>
                </a:solidFill>
                <a:latin typeface="Arial"/>
              </a:rPr>
              <a:t>Fejrész+adat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Arial"/>
              </a:rPr>
              <a:t>Azonosítás mezé alapján állapítja meg a célhoszt, hogy egy új csomag melyik datagramhoz tartozik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00"/>
                </a:solidFill>
                <a:latin typeface="Arial"/>
              </a:rPr>
              <a:t>DF Don’t fragment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00"/>
                </a:solidFill>
                <a:latin typeface="Arial"/>
              </a:rPr>
              <a:t>MF More fragment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Arial"/>
              </a:rPr>
              <a:t>Datagramdarabeltolás mező adja meg hogy hol található az adott darab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P fejrész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IP csomagok tördelése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 különféle hálózati csomópontokon történő átvitel során esetleg kisebb darabokra kell szétbontani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Minden hálózatra van egy jellemző max adatátviteli méret: network MTU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Pl. az ethernet MTU = 1500 oktetes IP csomag, X.25 esetén lehet hogy az MTU csak 128 báj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P fejrész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z élettartam mező lényegében egy 8 bites számláló, amely a csomagok élettartama ms-ben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 protokoll mező kijelöli, hogy a datagram mely szállítási folyamathoz tartozik, pl. TCP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 forrás és a cél cím hálózati számot és a hosztszámot adja me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ímzési rendsze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 címzés hierarchikus: vannak hálózatok, és ezen belül hostok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 címet két részre kell bontani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Egy hálózatot azonosító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És ezen belül egy gépet azonosító cím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 hálózatok közti kapcsolatot az útválasztók biztosítják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 cím hossza 32 bit ezt kellet két részre osztani, oly módon, hogy nagy hálózatokban lévő sok gépet is meg lehessen címezni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5 különböző formátum használható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P címformátumo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916280"/>
            <a:ext cx="216000" cy="433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2781360"/>
            <a:ext cx="21564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2781360"/>
            <a:ext cx="21600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3573360"/>
            <a:ext cx="21600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3573360"/>
            <a:ext cx="21564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3573360"/>
            <a:ext cx="21600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16000" y="4508640"/>
            <a:ext cx="216000" cy="433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4508640"/>
            <a:ext cx="216000" cy="433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4508640"/>
            <a:ext cx="215640" cy="433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4508640"/>
            <a:ext cx="216000" cy="433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6000" y="5373720"/>
            <a:ext cx="21600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00000" y="5373720"/>
            <a:ext cx="21600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5373720"/>
            <a:ext cx="21564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5373720"/>
            <a:ext cx="21600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1916280"/>
            <a:ext cx="1366560" cy="433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álózat (7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50920" y="1916280"/>
            <a:ext cx="3384720" cy="433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Hoszt (24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00000" y="2781360"/>
            <a:ext cx="201636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álózat (14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16360" y="2781360"/>
            <a:ext cx="251928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Hoszt (16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3573360"/>
            <a:ext cx="3024360" cy="43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álózat (21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40360" y="3573360"/>
            <a:ext cx="1295280" cy="43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Hoszt (8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32000" y="4508640"/>
            <a:ext cx="4103640" cy="433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öbbszörös cím (28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32000" y="5373720"/>
            <a:ext cx="4103640" cy="433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enntartva (28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87840" y="2050920"/>
            <a:ext cx="311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08720" y="1989000"/>
            <a:ext cx="33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A”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0-126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0.0.1-255.255.25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80000" y="285264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B”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128.0-191.255       0.1-255.25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80000" y="364500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C”           192.0.0-223.255.25            1-25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651640" y="4581360"/>
            <a:ext cx="33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D”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5445000"/>
            <a:ext cx="33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E”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P címformátumo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z első 3 címforma 128 hálózatot hálózatonként 16 millió hoszttal, 16384 hálózatot 64 K hoszttal illetve 2 millió hálózatot egyenként 254 hosztt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 D osztályú címek a multicast hoz használandóak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 címzéseknél a hálózat és hoszt címének szétválasztására címmaszkokat használnak bitenként és műveletet használv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451640" y="1700280"/>
            <a:ext cx="0" cy="39607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CP/IP – OSI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1989000"/>
            <a:ext cx="2808360" cy="863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LKALMAZÁSOK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ELNET,SMTP,FTP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2852640"/>
            <a:ext cx="2808360" cy="863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RANSZPORT RÉTEG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TCP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3716280"/>
            <a:ext cx="2808360" cy="863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ÁLÓZATI RÉTEG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ROUTING – IP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4581360"/>
            <a:ext cx="2808360" cy="863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ÁLÓZAT ELÉRÉSI 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(FRAME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56360" y="1413000"/>
            <a:ext cx="2592360" cy="360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LKALMAZÁSI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56360" y="2060640"/>
            <a:ext cx="2592360" cy="360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EGJELENÍTÉSI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2708280"/>
            <a:ext cx="2592360" cy="360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GYÜTTMŰKÖDÉSI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56360" y="3357720"/>
            <a:ext cx="2592360" cy="360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ZÁLLÍTÁSI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56360" y="4076640"/>
            <a:ext cx="2592360" cy="360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ÁLÓZATI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56360" y="4724280"/>
            <a:ext cx="2592360" cy="360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DATKAPCSOLATI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56360" y="5373720"/>
            <a:ext cx="2592360" cy="360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IZIKAI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635280" y="1413000"/>
            <a:ext cx="2521080" cy="576000"/>
          </a:xfrm>
          <a:prstGeom prst="line">
            <a:avLst/>
          </a:prstGeom>
          <a:ln w="936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635280" y="1773360"/>
            <a:ext cx="2521080" cy="1079280"/>
          </a:xfrm>
          <a:prstGeom prst="line">
            <a:avLst/>
          </a:prstGeom>
          <a:ln w="936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635280" y="2060640"/>
            <a:ext cx="2521080" cy="792000"/>
          </a:xfrm>
          <a:prstGeom prst="line">
            <a:avLst/>
          </a:prstGeom>
          <a:ln w="936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3716280"/>
            <a:ext cx="2521080" cy="0"/>
          </a:xfrm>
          <a:prstGeom prst="line">
            <a:avLst/>
          </a:prstGeom>
          <a:ln w="936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35280" y="3716280"/>
            <a:ext cx="2521080" cy="360360"/>
          </a:xfrm>
          <a:prstGeom prst="line">
            <a:avLst/>
          </a:prstGeom>
          <a:ln w="936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635280" y="4436640"/>
            <a:ext cx="2521080" cy="144360"/>
          </a:xfrm>
          <a:prstGeom prst="line">
            <a:avLst/>
          </a:prstGeom>
          <a:ln w="936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4581360"/>
            <a:ext cx="2448000" cy="142920"/>
          </a:xfrm>
          <a:prstGeom prst="line">
            <a:avLst/>
          </a:prstGeom>
          <a:ln w="936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35280" y="5445000"/>
            <a:ext cx="2521080" cy="289080"/>
          </a:xfrm>
          <a:prstGeom prst="line">
            <a:avLst/>
          </a:prstGeom>
          <a:ln w="9360">
            <a:solidFill>
              <a:srgbClr val="ff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enntartott címe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 127 –el kezdődő címek a loopback címe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 hoszt címrészbe csak 1-eseket írva lehetséges az adott hálózatban lévő összes hosztnak üzenetet külden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Ha a hoszt címrésze 0, az az aktuális hálózatot jelöl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P útválasztá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Csomagkapcsolt rendszerekben az útválasztás azt a folyamatot jelöli, amivel kiválasztjuk az útvonalat, amin a csomagot tovább küldjük és az útvonal választó az a számítógép, amely ezt végrehajtj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A gép a memóriájában lévő útválasztási tábla alapján dönti el hogy merre küldje tovább a csomago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Ha a két gép egyazon lokális hálózaton van , akkor útválasztás nélkül közvetlen összekötetés létesíthető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Különböző hálózatok közötti közvetett útválasztásnál először a feladónak kell megadni azt az útválasztót, amihez a csomagot küldi, majd az útválasztó fogja a cél hálózatra továbbítani a datagramo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Ethernet IP kere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76360" y="3357720"/>
            <a:ext cx="2952720" cy="5029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ípuskód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29080" y="3357720"/>
            <a:ext cx="2952720" cy="5029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76360" y="2925720"/>
            <a:ext cx="5905440" cy="43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Forrás gép Ethernet címe (utolsó 32 bit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76360" y="2421000"/>
            <a:ext cx="2952720" cy="503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Ethernet cél (utolsó 16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29080" y="2421000"/>
            <a:ext cx="2952720" cy="503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Ethernet forrás (első 16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76360" y="1989000"/>
            <a:ext cx="5905440" cy="43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Cél gép Ethernet címe (első 32 bit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76360" y="3860640"/>
            <a:ext cx="5904000" cy="11527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IP fejléc, TCP fejléc, majd a tényleges adatok</a:t>
            </a:r>
            <a:br>
              <a:rPr sz="1800"/>
            </a:b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….</a:t>
            </a:r>
            <a:br>
              <a:rPr sz="1800"/>
            </a:b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Adatok vég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76360" y="5013360"/>
            <a:ext cx="590400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Ethernet ellenőrző összeg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Alkalmazási szin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Itt vannak a felhasználói és hálózati kapcsolatot biztosító programok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Hoszt-hoszt réteg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Az OSI modell szállítási rétegének felel meg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A létesített és fennálló kapcsolat fenntartását biztosítja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Két rétegprotokollból áll: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TCP – a továbbítást szabályzó eljárás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UDP – összekötetés-mentes szállítási protokoll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Hálózatok közötti réteg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A réteg protokollja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Az üzenetvezérlő protokoll cím meghatározó eljárása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A foglalt címet meghatározó eljárás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A rétegben előforduló események és hibák jelzésér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00"/>
                </a:solidFill>
                <a:latin typeface="Arial"/>
              </a:rPr>
              <a:t>ICMP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Hálózat elérési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Ez biztosítja a kapcsolatot a csomópontok között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CP/IP protokol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z első szállítási réteg protokoll az NCP (hálózatvezérlési protokoll) elvileg egy tökéletes alhálózattal való együttműködésre epül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Egyszerűen átadta a TPDU-kat a hálózati rétegne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hogy az ARPANET internetté vált csökkent az átvitel megbízhatóság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Ezért vezeték be az új protokollt a TCP-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CP csoma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4581360"/>
            <a:ext cx="7201080" cy="1224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D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42920" y="4221000"/>
            <a:ext cx="7201080" cy="360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opciók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42920" y="2276640"/>
            <a:ext cx="7201080" cy="360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orszám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2637000"/>
            <a:ext cx="7201080" cy="360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áültetett nyugta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43280" y="2997360"/>
            <a:ext cx="360072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blak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43280" y="3789360"/>
            <a:ext cx="360072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ürgősségi mutató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3789360"/>
            <a:ext cx="360036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llenőrző összeg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1844640"/>
            <a:ext cx="3600360" cy="43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orrásport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3280" y="1844640"/>
            <a:ext cx="3600720" cy="43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ndeltetési port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2997360"/>
            <a:ext cx="151308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Fejrész hossz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48000" y="2997360"/>
            <a:ext cx="21600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U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R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64000" y="2997360"/>
            <a:ext cx="21600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80000" y="2997360"/>
            <a:ext cx="21564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E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O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5640" y="2997360"/>
            <a:ext cx="21600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R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11640" y="2997360"/>
            <a:ext cx="21600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Y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27640" y="2997360"/>
            <a:ext cx="21564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F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56000" y="2997360"/>
            <a:ext cx="792000" cy="79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CP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Fogadja a tetszőleges hosszúságú üzeneteket a felhasználói folyamattól és azokat maximum 64 kbájtos darabokra vágja szé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Ezekhez fejlécet fűz, majd elküldi őket datagramokkén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Feladata, hogy időzítéseket kezelve szükség szerint újraadja őket, illetve hogy helyes sorrendben rakja össze őket az eredeti üzenetté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Minden csomagnak saját sorszáma van 32 biten címezv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A minimális fejrész 20 bájto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Az összeköttetések végpontjai a cél illetve forrás porto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A sorszám és a ráültetett nyugta a szokásos funkciókat látják el – 32 bit hosszúak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CP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 fejrész hossz kijelöli, hogy a TCP fejrész hány 32 bites szót tartalmaz. Erre az infóra az Opció mező változó hossza miatt van szüksé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Ezután hat jelzőbit következik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URG akkor 1 ha a sürgősségi mutató használva va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SYN és ACK összekötetés létesítésekor van funkciój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FIN az összekötetés lebontására használható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RST a hibás összekötetést lehet megszüntetni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EOM az üzenet vég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CP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TCP –bel forgalomszabályozás változó méretű forgóablakot haszná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6-bites jelzőre van szükség: az ABLAK azt adja meg, hogy hány bájtot lehet még külden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PCIÓ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Az alkalmazások a TCP protokoll szolgáltatásait megválaszthatják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Stream orient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Átvitt adat bitsoroz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Virtual circuit connec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00"/>
                </a:solidFill>
                <a:latin typeface="Arial"/>
              </a:rPr>
              <a:t>Duplex átvitel előtt erőforrásokat kell allokálni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Buffered transf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Unstructured Strea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Full duplex connec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5T09:27:01Z</dcterms:created>
  <dc:creator>Nagymáté Péter</dc:creator>
  <dc:description/>
  <dc:language>en-US</dc:language>
  <cp:lastModifiedBy>Nagymáté Péter</cp:lastModifiedBy>
  <dcterms:modified xsi:type="dcterms:W3CDTF">2004-02-05T13:04:35Z</dcterms:modified>
  <cp:revision>22</cp:revision>
  <dc:subject/>
  <dc:title>A TCP/IP és az Internet</dc:title>
</cp:coreProperties>
</file>