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50A1-B969-4B2D-9503-5E06DC474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81B9-B9D5-4862-A380-7AD20E831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8D1A-5845-429C-828B-509FBC344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7D2B-CB35-472D-BCB0-271C97F60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4ED0-F91F-43A0-B445-C5D0F4C41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1D73-BE7F-46B7-B114-18B22BD15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E7E4-AE32-4826-84B4-CC9D27018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33F3-29F1-462A-BE43-FD4559670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B7E0-F1A3-40DB-A4F9-24F47AC9F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A204-25C1-469B-B364-24E3288F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FC65-E86B-4B39-8947-A593B1AE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054D-A54E-4731-B44C-7B13D805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F5674-0057-44FC-A1C9-87AB96657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álózat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EE 802-es szabvány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étegek közötti szolgálat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álózati/LCC felületek közötti szolgáltatási előírás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ét típus : kapcsolatmentes illetve kapcsolatorientá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incs szükség logikai kapcsolatra, közvetlen adatblokk feldolgozás, nincs folyamatvezérlés és hibajavítás. Két szolgálati primitív v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L_DATA.request: hálózati réteg </a:t>
            </a:r>
            <a:r>
              <a:rPr b="0" lang="hu-H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L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L_DATA.indication: hálózati réteg </a:t>
            </a:r>
            <a:r>
              <a:rPr b="0" lang="hu-H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L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apcsolatot kell létesíteni, fenn tartani majd megszüntetni. 5 primitív osztá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L_CONNECT: két SAP közötti logikai kapcs. létesíté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L_DISCONNECT: a kapcsolat bont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L_DATA_CONNECT: felépített összekötetésen keresztüli adatátvi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L_RESET: alaphelyzetbe hozható az összeköte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L_CONNECTION_FLOWCONTROL: két réteg közti adatcsere vezérl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étegek közötti szolgálat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LLC/MAC felületek közti szolgáltatási előírás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Három primitív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A_DATA.request: adatblokk küldésének kér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A_DATA.indication. Adsatblokk vétele és továbbítása megtörtént a MAC rétegből az LCC réteg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A_DATA.confirm: LCC jelzi, hogy elfogad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lokális hálózatok fizikai egysége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kommunikáció feladatait az erre a célra tervezett hardver és firmware látja 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dapterkárty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zt spec. Perifériakártyaként kapható eszközt, a hálózat állomásaként használni kívánt valamennyi gépbe beépítik. Tartalmazza az LCC-t és MAC-t megvalósító hardvert és förmv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ábelrendsz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t a kábelt illetve vezetéket jelenti, amit az összekapcsolásra használnak. Ide tartoznak még a csatlakozószerelvények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oncentrátorok és erősítő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gyes lokális hálózatokon használják a jelek erősítésére és elosztására, illetve a hálózatban levő eszközök egy központi helyen kerüljenek összekötetésbe egymással. (HUB,repeater, stb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z IEEE 802.3 és az Ether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ielőtt egy állomás adni akar, belehallgat a csatornába. Ha a kábel foglalt, akkor az állomás addig vár, amíg az üressé nem válik, máskülönben azonnal adni kez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ethernet hálózatok átviteli sebessége a jelenleg még a legtöbbet használt rendszerekben 10 Mbit/s. Ez persze nem jelenti azt, hogy minden körülmények közt ez a max átviteli seb., hiszen észszerűen kb. 60% -on üzemeltethető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ehát az optimális sebesség 4.5 Mbit/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összes implementáció manchester kódolást használ adat továbbítás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z IEEE 802.3 és az Ether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600200"/>
          <a:ext cx="8229600" cy="2327400"/>
        </p:xfrm>
        <a:graphic>
          <a:graphicData uri="http://schemas.openxmlformats.org/drawingml/2006/table">
            <a:tbl>
              <a:tblPr/>
              <a:tblGrid>
                <a:gridCol w="1811160"/>
                <a:gridCol w="2808360"/>
                <a:gridCol w="3610080"/>
              </a:tblGrid>
              <a:tr h="46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nevezé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kábel fajtá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lgenerálás nélküli max hossz (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Bas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rnyékolatlan csavart érpá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Base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ékony koax káb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Base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stag koax káb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Base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üvegszá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Vékony koax kábelez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jelek visszaverődésének megakadályozására a végpontokat a kábel hullámellenállásával megegyező értékű ellenállással kell lezárni (50 Oh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számítógépek sorosan vannak felfűzve ún. BNC csatlakozók és T csatolók segítségével ami a hálózati kártyához csatlakoz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új gép csatlakoztatásának hátránya hogy a csatlakozás idejére a hálózat működése megá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inél több állomás van a hálózatban annál nagyobb az érintkezési hiba valószinűsé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Vastag ethernet káb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öbbnyire sárga színű, ezért gyakran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yellow cable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-nek is nevezi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nagyfrekvenciás jelillesztés miatt a kábel borításán azonos távolságokra felfestett jelzések jelzik a pontokat ahol a kábelhez lehet csatlakoz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zt a kábelezés módszert csak olyan esetekben használják, ahol erősebb külső zavarok miatt szükséges az erősebb árnyékolás, illetve nagy távolság eseté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Vastag ethernet káb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csatlakozás módja az ún. vámpír csatlakozó használ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kábelbe egy rendkívül pontos mélységű, szélességű lyukat fúrn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lyukba ami a rézmagban végződik kell becsavarni a speciális csatlakozó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kábelre a vámpír csatlakozóhoz egy adó-vevőt (transceiver vagy MAU ) kell illeszteni, amihez csatlakoztatott kábel köti össze a számítógép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Vastag ethernet káb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adó-vevő kábel (AUI=attachment unit interface) legfeljebb 50 méter lehet, és 5 árnyékolt sodort érpárt tartalma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MAU csatlakozója négy szimmetrikus jeláramkört, tápellátást és földelést szolgáltató vezetéket tartalma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em lehet két olyan adó-vevő, amely 2.5 Km-nél távolabbra helyezkedik 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em lehet olyan adó-vevő közötti út, amely 4-nél több jelismétlőn halad keresztü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avart érpá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inden ilyen módon bekötött számítógép lényegében pont-pont kapcsolatot valósít meg az elosztó eszközzel, az UTP több-portos jelismétlő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ilyen eszközöknek 8-24 UTP csatlakozásuk van a számítógépek felé, és a bemenetükön UTP,optikai,BNC vagy AUI csatlakozó találhat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Általuk lehetőség van fa struktúra kialakításá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kális hálózat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IEEE 802-es szabvány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802.1 szabvány az alapokat írja le, és az interfész primitíveket definiál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802.2 az adatkapcsolati réteg felső részét az ún. LLC (Logical Link Control) alréteget definiálja ,az adatkapcsolati réteget osztoták két részre: a közeg hozzáférési rétegre (MAC –Media Access Control) és az LCC-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802.3 szabvány a CSMA/CD (ethernet) leír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802.4 szabvány a vezérjeles sí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802.5 szabvány a vezérjeles gyűrű leír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Épületkábelezési megoldás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gyetlen kábel fut végig az épület szobáin át, úgy hogy az állomások a hozzájuk legközelebb eső ponton csatlakozn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gy gerinc kábel fut az alaptól a tetőig, és szintenként egy-egy jelismétlő alkalmazásával vízszintes kábelekkel csatlakozn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Vastag – vékony koax párosít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Üvegszál – csavart érpár párosít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802.3 MAC protokoll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inden keret egy 7-bájtos előtaggal (preamble) kezdődik, amely 10101010 mintáj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 minta machester-kódolása, amely egy 10 MHz-es 5.5 usec időtartamú négyszögjel , lehetőséget biztosít a vevő órájának az adó órájához szinkronizálódj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zután következik a keretkezdet bájt 10101011 mintá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keret két címet tartalma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szabvány 2 és 6 bájtos címeket is megen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10 Mbit/s alapsáv csak 6 bájtos címeket haszná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célcím legfelső helyi értékű bitje (I/G) közönséges címeknél 0 (unicast) csoportcímeknél 1 értékű (multica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csupa 1 –es tartalmazó célcím esetén az összes állomás veszi a keretet (broadca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802.3 MAC protokoll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Címzésnél érdekes a legmagasabb helyiértékű bit melletti 46. bit (U/L) használ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z a bit a helyi és a globális címeket különbözteti m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helyi címeket a hálózat menedzserek jelölik 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globális címeket az IEEE jelöli 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ivel 46 bit áll rendelkezésre </a:t>
            </a:r>
            <a:r>
              <a:rPr b="0" lang="hu-HU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kb. 7*10</a:t>
            </a:r>
            <a:r>
              <a:rPr b="0" lang="hu-HU" sz="2000" spc="-1" strike="noStrike" baseline="30000">
                <a:solidFill>
                  <a:srgbClr val="000000"/>
                </a:solidFill>
                <a:latin typeface="Arial"/>
              </a:rPr>
              <a:t>13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globális cím létez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9640" y="2421000"/>
            <a:ext cx="432000" cy="431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71640" y="2421000"/>
            <a:ext cx="287280" cy="431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58920" y="2421000"/>
            <a:ext cx="1081080" cy="431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élc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40000" y="2421000"/>
            <a:ext cx="1081080" cy="431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rásc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19640" y="2421000"/>
            <a:ext cx="360360" cy="431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80000" y="2421000"/>
            <a:ext cx="2376360" cy="431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948360" y="2421000"/>
            <a:ext cx="360360" cy="431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56360" y="2421000"/>
            <a:ext cx="792000" cy="431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2060640"/>
            <a:ext cx="698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     1   2 vagy 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vagy 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 – 15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0-4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627280" y="3284640"/>
            <a:ext cx="360360" cy="431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/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68360" y="3284640"/>
            <a:ext cx="360720" cy="431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/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987640" y="3284640"/>
            <a:ext cx="1584360" cy="431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6 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58920" y="2852640"/>
            <a:ext cx="1009440" cy="4320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19640" y="2852640"/>
            <a:ext cx="1152360" cy="4320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802.3 MAC protokoll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élok megtalálásának módja már a hálózati rétegre tartoz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zt a 6*8 bájtot hexadecimális alakban, bájtonként „:” elválasztva adják m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A:12:17:0:56: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hosszmező az adatmezőben  található adatbájtok számát adja me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z érvényes keretnek legalább 64 bájt hosszúnak kell len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 tehát egy keret adatrésze 46 bájtnál rövidebb, akkor kitöltő mezőt kell használ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z utolsó mező az ellenőrzőösszeg (CRC –alap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zérjeles sín - IEEE 802.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yártásautomatizálás sokszor igényel valós idejű, vagy felülről korlátos válaszidejű hálózat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yűrű felépítés , ahol az állomások egymásnak küldik sorba körbe a kereteket, ilyen szempontból jó megold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állomás esetén, ha T ideig tart egy keret átvitele, akkor bármelyik állomás k*T időn belül képes kommunikál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yűrű, mint fizikai topológia nem illeszkedik a futószalagok egyenes vonaláho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zért valójában busz kialakítású üzenet szórásos módot használn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yűrű csak logikailag létezik ( az állomás ismeri a szomszédjainak címé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zérjeles sín - IEEE 802.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üldési joga csak a tokent birtokló állomásnak van, ezért ütközés nem jöhet lé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MAC protokoll bonyolult 10 időzítést és számos belső állapotváltozót haszná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fizikai réteg a 75 Ohmos szélessávú koaxiális kábel. Három modulációs rends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ázis-folytonos frekv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ázis-koherens frekv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mplitúd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lehetséges sebességek 1.5 ill. 10 Mbit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ín MAC protokoll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állomások a gyűrűbe cím szerint csökkenő sorrendbe kerülhetnek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vezérjel küldés is mindig a nagyobbtól a kisebb sorszámú felé irány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prioritás megvalósítására 4 osztály van a forgalom számára: 0,2,4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mikor a vezérjel megérkezik egy állomáshoz akkor annak 6-os alállomása aktivizálódik ha van kerete azonnal kezdi a küldést, ha végzet és még van ideje, akkor tovább adja a jelet a 4-es alállomásnak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időzítések megfelelő beállításával elérhető az, hogy a teljes vezérjel birtoklási idő egy jól meghat. része a 6 –os prioritású forgalomé legy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ín MAC protokoll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3141720"/>
            <a:ext cx="8229600" cy="29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őtag a vevő órájának a szinkronizál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zdetjelző és végjelző mező a keret határát jelzi. Mindkét mező analóg kódolású szimbólumokat tartalm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keretvezérlés mező különbözteti meg a vezérlő és az adat kerete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z adatmező hossza 8182 bájt 2 bájtos címzés esetén, 8174 bájt 6 bájtos címzés eseté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1280" y="2421000"/>
            <a:ext cx="215640" cy="431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58920" y="2421000"/>
            <a:ext cx="1081080" cy="431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élc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421000"/>
            <a:ext cx="1081080" cy="431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rásc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19640" y="2421000"/>
            <a:ext cx="2736720" cy="431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88000" y="2421000"/>
            <a:ext cx="360360" cy="431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56360" y="2421000"/>
            <a:ext cx="431640" cy="431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8360" y="2060640"/>
            <a:ext cx="698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 1  1  2 vagy 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vagy 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 – 818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4  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26920" y="2421000"/>
            <a:ext cx="216000" cy="431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42920" y="2421000"/>
            <a:ext cx="216000" cy="431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ín MAC protokoll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57200" y="1600200"/>
          <a:ext cx="8229600" cy="3182760"/>
        </p:xfrm>
        <a:graphic>
          <a:graphicData uri="http://schemas.openxmlformats.org/drawingml/2006/table">
            <a:tbl>
              <a:tblPr/>
              <a:tblGrid>
                <a:gridCol w="2027160"/>
                <a:gridCol w="2087640"/>
                <a:gridCol w="4114800"/>
              </a:tblGrid>
              <a:tr h="34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retvezérlő mez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é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ladat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0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imtok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zérjel –igénylés gyűrű inicializálásako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00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icit successor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z állomások beléptetésének engedélyezé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00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icit successor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z állomások beléptetésének engedélyezé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00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 follow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lépülés elveszett vezérlőjelbő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00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lve conten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senyhelyzet feloldás több állomás egyidejű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yűrűbe lépése eseté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0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k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zérjel átadá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0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 success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llomások kilépésének kezelé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EEE 802 szabvány és az OS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2997360"/>
            <a:ext cx="1800000" cy="287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kalmazó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3284640"/>
            <a:ext cx="1800000" cy="287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gjeleníté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3573360"/>
            <a:ext cx="1800000" cy="287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gyüttműködé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3860640"/>
            <a:ext cx="1800000" cy="287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állítá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4149720"/>
            <a:ext cx="1800000" cy="287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álóz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4437000"/>
            <a:ext cx="1800000" cy="287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tkapcsol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4724280"/>
            <a:ext cx="1800000" cy="287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zik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71640" y="2852640"/>
            <a:ext cx="1656000" cy="647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Logikai kapcsolat </a:t>
            </a:r>
            <a:br>
              <a:rPr sz="1200"/>
            </a:b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vezérlési alréteg</a:t>
            </a:r>
            <a:br>
              <a:rPr sz="1200"/>
            </a:b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80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3645000"/>
            <a:ext cx="1656000" cy="647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Közeghozzáférés </a:t>
            </a:r>
            <a:br>
              <a:rPr sz="1200"/>
            </a:b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vezérlési alrét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771640" y="4437000"/>
            <a:ext cx="1656000" cy="647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zikai rét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3645000"/>
            <a:ext cx="1224000" cy="647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12000" y="3645000"/>
            <a:ext cx="1224000" cy="647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2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380360" y="3645000"/>
            <a:ext cx="1224000" cy="647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43280" y="4437000"/>
            <a:ext cx="865440" cy="647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Alapsávú</a:t>
            </a:r>
            <a:br>
              <a:rPr sz="1200"/>
            </a:b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ko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651640" y="4437000"/>
            <a:ext cx="865080" cy="647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Szélessávú</a:t>
            </a:r>
            <a:br>
              <a:rPr sz="1200"/>
            </a:b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ko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2720" y="4437000"/>
            <a:ext cx="865080" cy="647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drott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érpá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740720" y="4437000"/>
            <a:ext cx="865080" cy="64764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tikai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áb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68360" y="5013360"/>
            <a:ext cx="503280" cy="712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268360" y="4365720"/>
            <a:ext cx="503280" cy="3585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268360" y="2852280"/>
            <a:ext cx="503280" cy="15843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fizikai rét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z IEEE 802-es szabvány 3 olyan fizikai közeget szabványosított, amelyet az architektúrában használhatn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drott érpá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axiális kábe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kai kábe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izikai szabvány megadja a kábel és az átvitel típusára a kódolás módjára és az adat sebességére vonatkozó előírások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lelős a fizikai összekötetés létesítésért és megszüntetésért ,bitek átviteléért , kódolás – dekódolásért és az időzítésé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özeghozzáférés-vezérlési réte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okális hálózatban lévő eszközök a közös fizikai csatornán való hozzáférésért verse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vel számos módszer létezik ennek kezelésére a bizottság a CSMA/CD, vezérjel-busz és vezérjel-gyűrű módszereket választot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özeghozzáférés-vezérlési réte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zabvány négy funkciót határozz me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özeghozzáférés-vezérl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hálózati állomások szabályokat ill. eljárásokat használnak a megosztás vezérlésé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et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zdeti és záró információ jelzés hozzáadására van szükség, hogy azonosítani lehessen az üzenetek elejét és végé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ím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hálózat címzést használ, hogy azonosítani tudja az üzenet adásában és vételében résztvevő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bafelismer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élja a helyes üzenetadás és vétel ellenőrzé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ikai kapcsolatvezérlési rét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zen a szinten minden IEEE 802 –es szabvány közö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z alréteg szervezi az adatfolyamot, parancsokat értelmez, válaszokat generál, a hibákat ellenőrzi, és helyreállítási funkciókat hajt vég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ikai kapcsolatvezérlési rét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elette álló rétegeknek nyújt szolgáltatást, úgy ahogy azt a hagyományos adatkapcsolati protokoll nyújtja a távolsági hálózatb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z OSI modellt követő LAN kialakításban az LCC feletti réteg tulajdonképpen a hálózati rét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z LCC/MAC felületek közötti szolgáltatási előírások azokat a szolgáltatásokat rögzíti, amelyet a két réteg felületei közt definiáln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ikai kapcsolatvezérlési rét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hhoz, hogy meg tudják különböztetni az ugyanazon állomás által létesített különböző cseretípusokat, bevezették a szolgáltatás-hozzáférési pont (SAP) fogalmá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t a SAP-ot amelyik adatblokkot küld forrás SAP –nak (SSAP), azt pedig amelyik adatblokkot vesz rendeltetési SAP-nak (DSAP) nevez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t az adatblokkot, amely a forrásállomás LLC-ből eljut a célállomás LLC-ig, logikai kapcsolatvezérlési protokoll adatblokknak (LLC PDU) nevezzü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SAP cím – egy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SAP cím – egyedi vagy csoportcí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9T09:00:20Z</dcterms:created>
  <dc:creator>Nagymáté Péter</dc:creator>
  <dc:description/>
  <dc:language>en-US</dc:language>
  <cp:lastModifiedBy>Nagymáté Péter</cp:lastModifiedBy>
  <dcterms:modified xsi:type="dcterms:W3CDTF">2004-01-29T14:17:06Z</dcterms:modified>
  <cp:revision>17</cp:revision>
  <dc:subject/>
  <dc:title>Hálózatok</dc:title>
</cp:coreProperties>
</file>