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A0C18-B8EC-4297-A327-380980A2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19836-5188-452B-954B-2ABEEB8A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50CEA-1019-4DB9-8060-293BA912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5B84C-5023-48B3-B263-ACEE7112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8477-9212-4409-942F-ADA1C956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4352-C643-494E-9699-F7700268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EE93-3A93-4FC5-B551-ABEA1B1A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A3C9-238A-46CD-899E-EE9BACFC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990F-BA18-4332-9541-B2A9E65F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2DDC-7781-4E9B-AEA3-14CB20C7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EA3E-9B93-4DAA-8555-0E62C217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0756F-0BAE-4497-85A5-793C4F41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0D15-68BB-4A31-B2A8-6ACA1914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FFDE-28D7-4007-9194-44084EA5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D39C-10E2-403D-A820-3D7EE9C6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39E4-C378-4854-910A-D8956EF1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D65D-3A94-43B3-9A78-33859B43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194B2-9969-47E6-AA52-C6118630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2430-F7A2-4B02-A789-0EE925F4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CD421-A13B-4719-8AAF-25330DBE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4758E-ACBB-46D8-AA12-6769AF03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721E3-FE12-426F-AD9A-DE981C47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BEBAD-B86D-422A-A29C-C0C9950F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4F20C-AD65-4E51-B30F-2DB5C417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8A13-F4BD-4729-BF41-15DF492EBE3D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8386-54F5-4C24-A4AC-C4209E277F51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Hálózatok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atátviteli mód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ódolási eljárás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itális jelek kódo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RZ : nullára visszatérő, a nulla a nyugalmi állapot. 1 bitnél a bitidő első felében +V, a második felében a jel visszatér 0 –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Legrosszabb a sávszélesség igény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55640" y="3716280"/>
          <a:ext cx="7931160" cy="2409840"/>
        </p:xfrm>
        <a:graphic>
          <a:graphicData uri="http://schemas.openxmlformats.org/drawingml/2006/table">
            <a:tbl>
              <a:tblPr/>
              <a:tblGrid>
                <a:gridCol w="708120"/>
                <a:gridCol w="512640"/>
                <a:gridCol w="304920"/>
                <a:gridCol w="304560"/>
                <a:gridCol w="304920"/>
                <a:gridCol w="306360"/>
                <a:gridCol w="304920"/>
                <a:gridCol w="304920"/>
                <a:gridCol w="303120"/>
                <a:gridCol w="304560"/>
                <a:gridCol w="613080"/>
                <a:gridCol w="303120"/>
                <a:gridCol w="304920"/>
                <a:gridCol w="609480"/>
                <a:gridCol w="304920"/>
                <a:gridCol w="306360"/>
                <a:gridCol w="304560"/>
                <a:gridCol w="304920"/>
                <a:gridCol w="611280"/>
                <a:gridCol w="609480"/>
              </a:tblGrid>
              <a:tr h="603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itális jelek kódo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RZI : nullára nem visszatérő, megszakadásos, 0 bitnek a nulla szint felel meg, 1 bitnek vagy nulla vagy +V felel meg a következő képen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a az előző 1 nulla szint volt akkor a következő +V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a az előző 1 +V szint volt akkor a következő null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0 bit után mindig +V az 1 bi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11280" y="4005360"/>
          <a:ext cx="8075520" cy="2120760"/>
        </p:xfrm>
        <a:graphic>
          <a:graphicData uri="http://schemas.openxmlformats.org/drawingml/2006/table">
            <a:tbl>
              <a:tblPr/>
              <a:tblGrid>
                <a:gridCol w="720720"/>
                <a:gridCol w="522360"/>
                <a:gridCol w="620640"/>
                <a:gridCol w="622080"/>
                <a:gridCol w="621000"/>
                <a:gridCol w="618840"/>
                <a:gridCol w="623880"/>
                <a:gridCol w="619200"/>
                <a:gridCol w="620640"/>
                <a:gridCol w="622440"/>
                <a:gridCol w="620640"/>
                <a:gridCol w="622440"/>
                <a:gridCol w="620640"/>
              </a:tblGrid>
              <a:tr h="530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itális jelek kódo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chester kódol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t a jelátmenet, ugrás jelképezi a biteket, de itt az ugrás irányának is jelentősége va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0-1 átmenet 1-es bitet jelö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-0 átmenet 0-s bitet jelö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ikor több azonos  bit követi egymást, akkor a jelnek félidőben vissza kel térnie az eredeti szintre, hogy a következő átmenet is olyan irányú legy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módszer kiválóan alkalmas mágneses adatrögzítéshez 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arakterek ábrázo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SCII kódrendsz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128 db 7bites különböző kó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ét fő csopor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aramond"/>
              </a:rPr>
              <a:t>Grafikus karaktere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Garamond"/>
              </a:rPr>
              <a:t>Vezérlő karaktere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első 32 karakter és az utolsó DEL a vezérlő kategoriáj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Unico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16 bites kó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első 8192 hely a szabványos alfabetikus karakterek számára foglalták 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övetkező 4096 kód a szimbólumo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Utána lévő 4096 karakter a kínai, japán és koreai ABC-kn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utolsó előtti 5632 hely felhasználók által def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végső 495 karakter a konvertálást segítő tartomá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ód legnagyobb részét 27000 kar. Ún. Han karakterkészl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árhuzamos és soros adatátvit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 egy bitcsoportot egyszerre tudunk átvinni, akkor az átviteli sebesség nagyobb lesz, mintha a biteket sorban, egymás után vinnénk á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hhez azonban annyi adatút kell az ADÓ és a VEVŐ közt ahány bitből áll a bitcso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párhuzamos átvitelt csak kis távolságokra, illetve készülékek belsejében elhelyezkedő részegységek összekapcsolására használjá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oros átvitel esetén az információs biteket egyenként viszik át, így egy kódolt bitcsoport átviteli ideje nagyobb, mint párhuzamos esetb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zinkron soros adatátvit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nagyokú és széleskörű elterjedése miatt egy számítógép és egy modem, vagy terminál közötti fizikai rétegének megvalósítása nagyon font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Ez teljes duplex, pont-pont típusú összekötetést igény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z ezt megvalósító szabvány megalkotója az Electronic Industries Associ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A szabvány neve: EIA RS-232-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A RS-232-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szabvány leírásban a szgép hivatalos neve: adatvég-berendezés – DT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apcsolodó modemé: adatáramköri-végberendezés – DC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149720"/>
            <a:ext cx="2374920" cy="1511280"/>
          </a:xfrm>
          <a:prstGeom prst="irregularSeal2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LEFONOS HÁLÓZ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4292640"/>
            <a:ext cx="936720" cy="108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4292640"/>
            <a:ext cx="936720" cy="108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6360" y="4292640"/>
            <a:ext cx="936360" cy="108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4292640"/>
            <a:ext cx="936360" cy="1081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4797360"/>
            <a:ext cx="503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6360" y="4869000"/>
            <a:ext cx="863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35640" y="4869000"/>
            <a:ext cx="57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48360" y="4869000"/>
            <a:ext cx="719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5877000"/>
            <a:ext cx="2232360" cy="431640"/>
          </a:xfrm>
          <a:prstGeom prst="wedgeRoundRectCallout">
            <a:avLst>
              <a:gd name="adj1" fmla="val -28166"/>
              <a:gd name="adj2" fmla="val -300000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-232-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S-232C szab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DTE-DCE egységeket összekötő vezetékrendszer mechanikus csatlakozóját is definiálták: 25 pólusú csatlakoz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specifikáció szerint a -3V –nál kisebb fesz. A vonalon a bin 1-et ,míg a +3V-nál nagyobb fesz. A bin 0-át jelen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ikor a szgépet bekapcsolják, az aktíválja az adatterminál kész jelet(20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ikor a modemet kapcsolják be, akkor az aktíválja az adat kész jelet (6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 a modem vivőjelet érzékel a telefon vonalon akkor a vivőérzékelés jelet aktíválja (8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adáskérés (4) jelzi, hogy a terminál  adatot akar külden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adásra kész (5) azt jelent, hogy a modem felkészült az adatok fogadásár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z adatok adása az adás vonalon (2), vétele a vétel vonalon(3) történi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S-232C szab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2060640"/>
            <a:ext cx="1150920" cy="403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48360" y="2060640"/>
            <a:ext cx="1150920" cy="403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278136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227664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050920" y="321300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364500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050920" y="414972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050920" y="458136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050920" y="501336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50920" y="544500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5877000"/>
            <a:ext cx="4897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1989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ÉDŐFÖLD 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27280" y="2492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DÁS (TxD) 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2924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ÉTEL (RxD) 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27280" y="3357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ÁSKÉRÉS (RTS) 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3860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ÁSRA KÉSZ (CTS) 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429264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 KÉSZ (DSR) 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4724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LFÖLD (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5157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VŐÉRZÉKELÉS (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95640" y="558972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TERMINÁL KÉSZ (DTR) (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S-232C szab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hhoz, hogy a soros adatátvitel során az ADÓ-ról érkező biteket a VEVŐ egyértelműen azonosítani tudja, szükséges, hogy azonosan értelmezzék a jelek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szinkron soros átvitelnél a bitcsoportos átviteli mód biztosítja az ADÓ és a VEVŐ szinkronizmusá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Járulékos infókhoz járulékos bitek is kellenek: START ill. STOP bitek (keretező bite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atátvitel – analóg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múltat teljes egészében az analóg átvitel jellemezte. Például a telefon, televízió és rádió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telefonvonalon keresztül mindössze 10 Kbit/s nagyságrendű adatátvitel lehetséges, nagy hibaarány mellet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öbb állomás esetén telefonközpontot kell alkalmazn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hierarchia szint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lőfizető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elyi közpo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Távhívó közpo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apcsoló közpo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telefon csatorna alkalmas mind hang , mind adat átvitelre és a frekvenciája 300 és 3400 hz között van, tehát a sávszélessége 3100 hz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S-232C szab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protokoll konkrét megvalósításánál a következőknek kell teljesűlni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datbitek száma: 5,6,7 vagy 8 b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Paritásbi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top bitek száma: ez a soros vonalak a bitcsoportok átvitele után garantált logikai 1 állapotának az idejét határozza meg, az egy bit átviteléhez szükséges idővel kifejez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datátviteli sebesség (bit/s): fontos adat, ez határozza meg alapvetően az ADÓ és a VEVŐ szinkronizmusá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S-232C szab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1811160"/>
                <a:gridCol w="641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it/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gy bit átvitelének ideje (mse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,66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,33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,66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3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20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10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9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5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8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S-232C szabvá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Tényleges adatátviteli sebesség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9200 –as 8-1-2 es átvitel eseté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9200/(1 start+8 adat+1 paritás+2 stop bit) = 19200/12 =1600 adat (bájt) = 1,5625 Kbyte/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SDN –integrált szolgáltatású digitális hálóza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klasszikus távbeszélő rendszer nem alkalmas a modern digitális távközlés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z ISDN célja integrálni a hang és nem hang jelű átviteli szolgáltatások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legalapvetőbb szolgáltatás továbbra is a hangtovábbítás számos plusz funkcióval kiegészítve (hívószám kijelzés, 1 gombos hívá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SDN rendszerarchitektúráj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alapkoncepció az ún. digitális bitcső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bitfolyam időosztásos multiplexelésével  támogatja a több független csatorna kialakításá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CCITT négy ref. pontot határozott me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U referenciapont NT1 és ISDN központ közötti összekötteté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 referenciapont az NT1 –en a felhasználónak biztosít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 referenciapont az ISDN PBX és ISDN terminálok közötti interfés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R referenciapont a terminál adapterek és a nem IDSN terminálok közti összekötteté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SDN rendszerarchitektúráj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ális alközpont (PBX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ladata az előfizetői hívások kapcsolá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özponti része egy áramkör kapcsol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étféle típusú kapcsoló va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ereszteződéses (mátrix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dőosztásos kapcsol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özeg-hozzáférési módszer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életlen vezérlés: a közeget elvileg bármelyik állomás használhatja, de használat előtt meg kell győződnie, hogy más nem használ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sztott vezérlés: ilyen esetben egy időpontban mindig csak egy állomásnak van joga adatátvitel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özpontosított vezérlés: ilyenkor van egy kitüntetett állomás, mely vezérli a hálózatot, engedélyezi az állomások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özeg-hozzáférési módszer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600200"/>
          <a:ext cx="8229600" cy="2549520"/>
        </p:xfrm>
        <a:graphic>
          <a:graphicData uri="http://schemas.openxmlformats.org/drawingml/2006/table">
            <a:tbl>
              <a:tblPr/>
              <a:tblGrid>
                <a:gridCol w="2602080"/>
                <a:gridCol w="2808000"/>
                <a:gridCol w="281952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ÉLETL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SZTOT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ÖZPONTOSÍTOT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ÜTKÖZÉSFIGYELÉSES ÜTKÖZÉS JELZ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VEZÉRJEL TOVÁBBITÁSOS) VEZÉRJELGYŰR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EKÉRDEZÉS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ÉSELT GYŰR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VEZÉRJEL TOVÁBBÍTÁSOS) VEZÉRJELBUS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ONALKAPCSOLÁS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GISZTER BESZÚRÁS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ÜTKÖZÉSFIGYELÉSES ÜTKÖZÉST ELKERÜL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DŐOSZTÁSOS TÖBBSZÖRÖS HOZZÁFÉRÉS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életlen átvitel 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Mindegyik állomás figyeli a csatornát , ha szabad akkor az adás idejére kisajátítj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Ütközést jelző vivőérzékelős többszörös hozzáférés (CSMA/C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Carrier Sense Multiple Access with Collison Det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dás előtt belehallgat a csatornába, ha az csendes, akkor elküldi az üzenetet, a vivőérzékelés jelenti azt, hogy belehallg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küldött üzenet mindegyik állomáshoz eljut, melyek eldöntik, hogy nekik szól vagy s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dás közben el tudja dönteni, hogy az adott és a vett üzenetfolyam egyforma-e vagy se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a nem , akkor más is beszél, az üzenet hibás, sérül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zt hívják ütközésnek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Ezt használja az Ethernet hálóza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életlen átvitel 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Réselt gyűrű (slotted ring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gyűrűn felfűzött állomások </a:t>
            </a: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rés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-eknek elnevezett rögzített hosszúságú kereteket adnak körb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résben van egy jelző, hogy foglalt-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z állomások egy üres résbe, helyezik el az üzenet egy darabjá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Ha az üzenet visszaér a küldőhöz, akkor az kivonja az üzenetet a gyűrűbő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mek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Bár az előfizetők a helyi központhoz egy fémes vezető párral csatlakoznak, melyen elvileg akár 1-2 Mbit/s  adatátviteli sebesség lehetséges, gyakorlatban a jeleket szűrők segítségével 300 Hz és 3,3 KHz közt tartjá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z információt a szinuszos hullám egyik jellemzőjéhez rendelik hozz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Modulációs protokollo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mplitúdó moduláció : pl. a morze jel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Frekvencia moduláció : ezt használják a modem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módszer másik elnevezése FSK (Frequency Shift Keying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Fázis moduláció: nagyobb adatátvitelt tesz lehetőv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életlen átvitel 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Vezérjeles sín (Token bu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vezérjel busz az átviteli közeget úgy vezérli, hogy az állomásról állomásra történő vezérjel továbbítása egy logikai gyűrűt képe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Ütközést elkerülő, vivőérzékeléses többszörös hozzáférés (CSMA/C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Carrier Sence Multiple Access with Collision Avoid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Itt minden állomás adást figyelve belehallgat a csatornáb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z adás befejezése után egy adott ideig vár, ha ez idő alatt más nem kezd el adni, akkor elkezdi az adá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özpontosított átvitel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Külön egység, a központ végzi a hozzáférés vezérlés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Garamond"/>
              </a:rPr>
              <a:t>Lekérdezéses eljárás (polling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nnél az eljárásnál a főállomás, és a többi mellékállomás alkotja a hálózato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főállomás sorban egymás után szólítja az állomásokat, és ha van üzenetük akkor azt elküldik nek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Ő meg a cím alapján tovább küldi a megfelelő állomásna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özpontosított átvitel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kérdezéses eljár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"/>
          <p:cNvSpPr/>
          <p:nvPr/>
        </p:nvSpPr>
        <p:spPr>
          <a:xfrm>
            <a:off x="1547640" y="3141720"/>
            <a:ext cx="79236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43280" y="2637000"/>
            <a:ext cx="792000" cy="502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4724280"/>
            <a:ext cx="79236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32000" y="5445000"/>
            <a:ext cx="79236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35640" y="5229360"/>
            <a:ext cx="79200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6000" y="3789360"/>
            <a:ext cx="79200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59280" y="2708280"/>
            <a:ext cx="79236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5" name=""/>
          <p:cNvCxnSpPr>
            <a:stCxn id="208" idx="3"/>
          </p:cNvCxnSpPr>
          <p:nvPr/>
        </p:nvCxnSpPr>
        <p:spPr>
          <a:xfrm>
            <a:off x="2340000" y="3394080"/>
            <a:ext cx="1224720" cy="900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16" name=""/>
          <p:cNvCxnSpPr>
            <a:stCxn id="209" idx="2"/>
            <a:endCxn id="217" idx="1"/>
          </p:cNvCxnSpPr>
          <p:nvPr/>
        </p:nvCxnSpPr>
        <p:spPr>
          <a:xfrm>
            <a:off x="3240000" y="3139560"/>
            <a:ext cx="177120" cy="5835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18" name=""/>
          <p:cNvCxnSpPr>
            <a:stCxn id="214" idx="2"/>
            <a:endCxn id="217" idx="0"/>
          </p:cNvCxnSpPr>
          <p:nvPr/>
        </p:nvCxnSpPr>
        <p:spPr>
          <a:xfrm flipH="1">
            <a:off x="4104720" y="3211560"/>
            <a:ext cx="1151640" cy="289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19" name=""/>
          <p:cNvCxnSpPr>
            <a:stCxn id="210" idx="3"/>
            <a:endCxn id="217" idx="3"/>
          </p:cNvCxnSpPr>
          <p:nvPr/>
        </p:nvCxnSpPr>
        <p:spPr>
          <a:xfrm flipV="1">
            <a:off x="2195280" y="4790520"/>
            <a:ext cx="1221480" cy="1861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3132000" y="3500280"/>
            <a:ext cx="1944720" cy="1513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őállomás (mas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0" name=""/>
          <p:cNvCxnSpPr>
            <a:stCxn id="211" idx="3"/>
            <a:endCxn id="217" idx="4"/>
          </p:cNvCxnSpPr>
          <p:nvPr/>
        </p:nvCxnSpPr>
        <p:spPr>
          <a:xfrm flipV="1">
            <a:off x="3924000" y="5013000"/>
            <a:ext cx="181800" cy="684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21" name=""/>
          <p:cNvCxnSpPr>
            <a:stCxn id="212" idx="1"/>
            <a:endCxn id="217" idx="5"/>
          </p:cNvCxnSpPr>
          <p:nvPr/>
        </p:nvCxnSpPr>
        <p:spPr>
          <a:xfrm flipH="1" flipV="1">
            <a:off x="4792680" y="4790880"/>
            <a:ext cx="643320" cy="6912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22" name=""/>
          <p:cNvCxnSpPr>
            <a:stCxn id="213" idx="1"/>
            <a:endCxn id="217" idx="6"/>
          </p:cNvCxnSpPr>
          <p:nvPr/>
        </p:nvCxnSpPr>
        <p:spPr>
          <a:xfrm flipH="1">
            <a:off x="5076360" y="4041720"/>
            <a:ext cx="720000" cy="216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özpontosított átvitelvezérlé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Vonalkapcsolásos eljárá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központon belül külön kapcsoló relékkel kötik össze a kommunikálni kívánó állomásokat az üzenetváltás idejé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Időosztásos többszörös hozzáférésű eljárás (TDM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ime Division Multiple Acc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Elsődlegesen busz felépítésű hálózatoknál használjá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 buszhoz kapcsolódó  mellékállomás egy adott időszeletben adhat csa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mek – OSI model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kalmazó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gjelenítés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gyüttműködés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zállítás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álóza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atkapcsola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zika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Kommunikációs pr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Operációs rendsz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Fájlátviteli protoko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Hibafelismerési és javítási protoko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 modem áramköri működés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m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6084720" y="2852640"/>
            <a:ext cx="2592720" cy="1297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ZÁMÍTÓGÉ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2852640"/>
            <a:ext cx="2089080" cy="865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716280"/>
            <a:ext cx="2087640" cy="433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0..S27 BELSŐ REGISZ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3284640"/>
            <a:ext cx="2087640" cy="576000"/>
          </a:xfrm>
          <a:prstGeom prst="leftRightArrow">
            <a:avLst>
              <a:gd name="adj1" fmla="val 49861"/>
              <a:gd name="adj2" fmla="val 2701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3068640"/>
            <a:ext cx="71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Line Ph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610920" y="2205000"/>
            <a:ext cx="1152720" cy="1092960"/>
          </a:xfrm>
          <a:prstGeom prst="bentConnector3">
            <a:avLst>
              <a:gd name="adj1" fmla="val 49984"/>
            </a:avLst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116" name=""/>
          <p:cNvCxnSpPr/>
          <p:nvPr/>
        </p:nvCxnSpPr>
        <p:spPr>
          <a:xfrm flipH="1" flipV="1" rot="5400000">
            <a:off x="293400" y="3961800"/>
            <a:ext cx="2004120" cy="9374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3924360" y="306864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s23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5640" y="3068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COM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24360" y="414972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m parancsok, adato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m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Microcom Networking Protoc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NP1 : aszinkron, bájt orientált, fél duple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NP2 : aszinkron , teljes duplex. Z80 és Intel 6800 procikhoz dolgozták k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NP3 : szinkron duplex átvitel, 10 bites adatcsomagok 1,8,1 start – adat – sto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MNP4 :  csomag jellegű adatátvit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Fájl átviteli protokollo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X modem: 128 bájtos csomagok CRC ellenőrzéss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X modem -1K: 1024 bájtos csomago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Y modem: többszörös batch fájl átvit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Z modem: megszakadásból is fel tud épüln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Kermit: rég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itális adatátvit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z átvitel során mindig biteket viszünk át, de először szövegátvitel volt megvalósítva, így az egység a karakter let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z a karakterorientált átviteli eljárá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ésőbb a bitorientált eljárások terjedtek 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zinkron átvitel esetén az egyes bitek jellemző időpontjai egy alapidőtartam egész számú többszörösére helyezkednek el egymástó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zinkron átvitel esetén a START-STOP átvit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itális adatátvit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600200"/>
          <a:ext cx="8147160" cy="1114560"/>
        </p:xfrm>
        <a:graphic>
          <a:graphicData uri="http://schemas.openxmlformats.org/drawingml/2006/table">
            <a:tbl>
              <a:tblPr/>
              <a:tblGrid>
                <a:gridCol w="1165320"/>
                <a:gridCol w="1484280"/>
                <a:gridCol w="1138320"/>
                <a:gridCol w="571320"/>
                <a:gridCol w="1138320"/>
                <a:gridCol w="1484280"/>
                <a:gridCol w="1165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arakter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o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a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arakter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o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szinkron átvitel(START-STOP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268360" y="2924280"/>
          <a:ext cx="4464360" cy="1035000"/>
        </p:xfrm>
        <a:graphic>
          <a:graphicData uri="http://schemas.openxmlformats.org/drawingml/2006/table">
            <a:tbl>
              <a:tblPr/>
              <a:tblGrid>
                <a:gridCol w="863640"/>
                <a:gridCol w="935280"/>
                <a:gridCol w="2665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 darab karak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arakter szinkron átvit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403280" y="4221000"/>
          <a:ext cx="6480360" cy="1295640"/>
        </p:xfrm>
        <a:graphic>
          <a:graphicData uri="http://schemas.openxmlformats.org/drawingml/2006/table">
            <a:tbl>
              <a:tblPr/>
              <a:tblGrid>
                <a:gridCol w="865080"/>
                <a:gridCol w="863640"/>
                <a:gridCol w="1800360"/>
                <a:gridCol w="1655640"/>
                <a:gridCol w="1295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Y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ezérlő inf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atmez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é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it szinkron átvit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gitális jelek kódolá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RZ : nullára vissza nem térő, azaz mindig az a feszültség van a vonalon, amit az ábrázolt bit határoz me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11280" y="3645000"/>
          <a:ext cx="8075520" cy="2070000"/>
        </p:xfrm>
        <a:graphic>
          <a:graphicData uri="http://schemas.openxmlformats.org/drawingml/2006/table">
            <a:tbl>
              <a:tblPr/>
              <a:tblGrid>
                <a:gridCol w="720720"/>
                <a:gridCol w="522360"/>
                <a:gridCol w="620640"/>
                <a:gridCol w="622080"/>
                <a:gridCol w="621000"/>
                <a:gridCol w="618840"/>
                <a:gridCol w="623880"/>
                <a:gridCol w="619200"/>
                <a:gridCol w="620640"/>
                <a:gridCol w="622440"/>
                <a:gridCol w="620640"/>
                <a:gridCol w="622440"/>
                <a:gridCol w="62064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6:51:09Z</dcterms:created>
  <dc:creator>Nagymáté Péter</dc:creator>
  <dc:description/>
  <dc:language>en-US</dc:language>
  <cp:lastModifiedBy>Nagymáté Péter</cp:lastModifiedBy>
  <dcterms:modified xsi:type="dcterms:W3CDTF">2007-02-26T11:00:25Z</dcterms:modified>
  <cp:revision>17</cp:revision>
  <dc:subject/>
  <dc:title>Hálózatok </dc:title>
</cp:coreProperties>
</file>