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CC2-77B2-48A6-B849-A69760A5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630-414B-46E2-8F26-B7B491CF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6BF-7A46-4EFE-8734-C1035182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3DF-0146-417B-8606-D11026CB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595-0DB1-449C-AF12-60EDFE64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97F-9FE6-44C4-A2B6-E682CF10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786-4B64-4CB1-BDD0-DFD448B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554-E404-4C9B-ACC4-DBCB8CC8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613-7D74-460D-9EF8-720ADF8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F20-AA9E-4760-8EB5-1C5A394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9D0-8C7E-4F50-B147-209D02A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1BD3-9B94-4BE1-BB73-06DAA686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D553-7181-49E6-8B8F-6F0958FE2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álózat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X megvalós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osztály nem tartalmaz sem SAR, sem CS alréteg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Úgy lett definiálva, hogy az ATM réteg felől érkező kereteket mindenféle változtatás nélkül továbbítja a felsőbb rétegek felé és visz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réteg típust a konstans bit sebességű szolgáltatások használják (videó, hang átvitel, bérelt vonalas szolgáltatás, áramkör emuláció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zítési információk is továbbításra kerülnek az adó és vevő közö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AL1-es réteg az 53 byte-os ATM cella 48 byte hosszú információs mezejéből 1 byte-ot használ protokoll vezérlő információkra (PCI Protocol Control Inform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LL réte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réteget változó bit sebességű szolgáltatások használjá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dőzítési információk, mint az AAL1-nél is továbbításra kerülnek az adó és vevő közöt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t a típust nem dolgozták ki teljesen, de mobil kommunikációs kutatások folynak az AAL2 típus kihasználásá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3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bben az esetben egy igen érdekes réteggel állunk szembe, mert két AAL típus összeolvadásából jött lé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két típust változó bit sebességű és időzítési információkat nem igénylő szolgáltatások használtá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ülönbség a kapcsolat alapú és kapcsolatmentesség között volt, de idővel mindkettő támogatta a másika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bben a típusban lehetőség van több magasabb szintű kapcsolat multiplexálására, úgy hogy az ATM rétegben azok csak egy kapcsolatnak tűnjene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a réteg az olyan adatátviteli rendszerek miatt alakult ki, melyeknél nem fontos, hogy az adat fix időzítés szerint haladjon a hálózaton, hanem sokkal fontosabb az adat biztonságos átvitele még újraadás árán 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réteg nem biztosít ilyen ellenőrzési lehetőséget, ezért ehhez AAL réteg szinten kell beépíteni ezeket funkció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AL5 ezt úgy oldja meg, hogy az ATM cella 48 byte-os információs mezejét teljes mértékben a felsőbb rétegektől kapott adatok átvitelére haszn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thernet hálózatokon a többszörös hozzáférésű csatornán alkalmazott protokollok miatt, jelentős késleltetési idők lépnek fel, emiatt az átviteli távolsága igen korlátozot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hány száz méternyi távolságon túli átvitel már jelismétlést kív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smétlők száma viszont korlátozott, mert a késleltetési idők jelentősebb növekedése már felborítja a rendszer működésé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on nagy távolságú összeköttetések hozhatók létre fix késleltetési feltételek betartásáv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i eszközökön futó LAN emuláció lehetővé teszi, hogy ATM hálózattal összekapcsolt végpontok MAC (Media Access Control) réteg szinten kapcsolatot teremthessen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 pedig azt eredményezi, hogy LAN protokollokat használó programok (például a Novell Netware, Microsoft Windows, UNIX, LINUX) és protokollok (DECnet, TCP/IP) minden változtatás nélkül használhatók az ATM hálózat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757520"/>
            <a:ext cx="78836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N emulációs szolgáltató futhat akár egy ATM végponton, akár egy ATM kapcsol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lgáltató három fő részből á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AN emulációs szerver (LAN Emulation Server - LES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AN emuláció konfiguráló szerver (LAN Emulation Configuration Server - LECS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üzenetszóró szerver (Broadcast und Unknown Server - BU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AN emulációban résztvevő végpontokat angolul LEC-nek nevezzük. (LAN Emulation Cli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CS felelős a kliensek indítási konfigurálásáért, információkat nyújt a létező virtuális LAN-okról, és hozzárendeli a klienseket a megfelelő szerverekhez. A LES ennek alapján engedélyezi a klienseknek a kapcsolat felépíté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hálózatnak nincs beépített mechanizmusa az Ethernet hálózatokon használatos üzenetszórá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zért a 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mulációban az üzenetszórást meg kell valósítani, amit a BUS hivatott kiszolgálni, mégpedig úgy, hogy a hozzá beérkezett csomagot minden címzetthez point-to-multipoint kapcsolaton keresztül elkül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TM hálózatban a címek 20 byte hosszúak, míg a Ethernet-ben 6 byte-os MAC címek vanna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LES feladata az ATM címek MAC címekhez való hozzárendelése és megtanulá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A Remote Procedure Call - távoli eljáráshívá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ávoli eljáráshívást (RPC) úgy fejlesztették ki, hogy az gép, operációs rendszer, hálózati struktúra és szállítási réteg független legy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ényege, hogy a rendszer egy vagy több szerverből és sok kliensből ál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erver szolgáltatásait (mint például diszk területén tárolja a kliensek file-jait), míg a kliensek RPC kéréseken keresztül elérik azok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RPC kérésre a szerver egy nyugtával válaszol, ami már tartalmazza a kért információkat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RPC-t használja a felette elhelyezkedő NFS protok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hálóz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TM (Asyncronous Transfer Mode - aszinkron átviteli módú) hálózat alapszolgáltatása ATM cellák szállítása és kapcsolása (úgymint multiplexálás,átvitel és kapcsolá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z ATM hordozószolgálatot nevezik cell relay-nek, azaz cella továbbításna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lózatnak nem szükséges bármit is tudnia a két végpont között az ATM kapcsolaton futó applikációró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FS network file syste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egy olyan szolgáltatás, amely lehetővé teszi, hogy különböző architektúrákon működő eltérő operációs rendszerek hálózaton keresztül megosszák file rendszerük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egy általános file rendszer modellt használ, nem pedig egy architektúrához kötött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hálózati operációs rendszer ezt a modellt alkalmazza a saját file rendszeré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NFS a távoli eljáráshívási protokollra épü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RPC-re támaszkodva az NFS a távoli gépeken levő állományokat is eléri, mégpedig úgy, mintha helyben dolgoznánk rajtu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t jelenti, hogy a távoli file-okon végzett műveletek (pl. az írás és olvasás) látszólag egy helyi file-on törté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bből következően több előnye is van az NFS alapú rendszerek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hetővé teszi, hogy több számítógép ugyanazon file-t használja, így a hálózaton azonos adatot tud mindenki elér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zámítógépek között megosztott file rendszer révén, csökkenti a tárterület igényeket, mert így az alkalmazások nem igényelnek helyi diszk terület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at konzisztenciát biztosít, mivel minden felhasználó ugyanazokat a fileokat haszn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használó nem lát különbséget a helyi és távoli könyvtárak ill. file-ok közö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NFS rendszerben a felhasználó szemszögéből lényegtelen a file rendszer fizikai hely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hetősőge nyílik arra, hogy a számára szükséges valamennyi file-t elérje, tekintet nélkül azok helyé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liens úgy éri el a szerver file rendszerét, hogy saját file rendszerébe kötetként beilleszti az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csinál belőle másolatot, hanem a mount processz RPC hívásokat használ a szerver file rendszeréhez való hozzáférésh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 kérés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1374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F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NFS rendszernek kétféle verziója használatos az NFS Version 2 és az NFS Version 3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FS Version 2 szállítási réteg szinten még UDP protokollt követel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TM LAN emuláció számára ez a tulajdonsága előnytelen, mert diszkrét csomagok haladnak a hálózaton és így a felépített ATM kapcsolat rossz esetben minden csomag után felbomli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NFS újabb verziója (NFS Version 3) már képes TCP protokoll használatára is, ahol folyamatos adatforgalom zajlik két végpont közöt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TM hálóz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TM-ben az információt csomagokra osztva fix méretű, cellának nevezett időrésekben viszik á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k a cellák 48 byte hosszú információmezőt és 5 byte fejrészt tartalmaznak, ahol az információs mező teljes egészében a felhasználó rendelkezésére áll, míg a fejrészt az ATM réteg használja, főként a cellák azonosításá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gyes cellák fejlécében levő címkék azonosítják az adott linken a kapcsolat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62864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35772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49228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206064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62864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KALMAZ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508464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65300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194328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789360"/>
            <a:ext cx="194328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2060640"/>
            <a:ext cx="194292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249228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924280"/>
            <a:ext cx="10098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924280"/>
            <a:ext cx="100980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2924280"/>
            <a:ext cx="100944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2924280"/>
            <a:ext cx="1009440" cy="433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3357720"/>
            <a:ext cx="1942920" cy="431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5084640"/>
            <a:ext cx="194292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3789360"/>
            <a:ext cx="1944720" cy="129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M LAN emuláció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izikai közeg felett az ATM két rétege, az ATM réteg és az AAL5 (ATM Adaptation Layer) réteg találhat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re épül a LAN Emuláció, mely felett működik - az OSI szabvány szerint pontosan behatárolhatóan – hálózati réteg szinten az Internet Protocol (IP), szállítási réteg szinten a User Datagram Protocol (UDP) és Transmission Control Protocol (TC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távoli eljárás hívás protokoll (Remote Procedure Call - RPC) nem illeszkedik az OSI modell rétegeihez, hanem viszonyréteg és az alkalmazási réteg szinten helyezkedik 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Network File System (NFS) az alkalmazási réteg szintjén foglal hely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ATM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TM réteg feladata az adó oldalon az, hogy a felette elhelyezkedő AAL rétegtől kapott információs mezőt fejrésszel lássa 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Így jön létre az ATM 53 byte hosszú cellája. Ezen cellákat, melyek különböző kapcsolatokhoz tartoznak egy cella folyammá multiplexálja és továbbítja azokat a fizikai réteg fel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evő oldalon a fizikai rétegtől érkező cella folyamot szét választja kapcsolatonkénti cellákra és az ATM cella fejrészt eltávolít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isszaállított információt továbbítja az AAL réteg fel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réteg az ATM és a föntebbi rétegek között teremti meg a kapcsolat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sőbb rétegek PDU-jának (Physical Data Unit), fizikai adat egységének információs mezőjét hozzárendeli az ATM cellákho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AL funkciók támogatásának érdekében az adó oldali AAL processz kommunikál a vevő oldali AAL processz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AL réteg funkcióit két alréteg között osztották f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AR (Segmentation And Reassemb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S (Convergence Sublay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SAR feladata, hogy az adó oldalon a fentebbi rétegektől érkező adatokat darabolja bele az ATM cellák információs mezejébe, vevő oldalon pedig állítsa össze a fentebbi réteg eredeti adat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 szolgáltatás függő és feladata, hogy biztosítsa a fentebbi rétegek számára az AAL szolgáltatásokat az AAL-SAP-n (AAL Service Access Point), azaz a szolgáltatás hozzáférési pont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SAR és a CS között nincs definiált SA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AL réte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55736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ZTÁLY,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276640"/>
            <a:ext cx="201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ŐZÍ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443700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 TIP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3716280"/>
            <a:ext cx="201636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I T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997360"/>
            <a:ext cx="201636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 SEBESSÉ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155736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155736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155736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155736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443700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3/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443700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3/4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443700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4437000"/>
            <a:ext cx="129708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3716280"/>
            <a:ext cx="1296720" cy="719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997360"/>
            <a:ext cx="1297080" cy="7189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and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3716280"/>
            <a:ext cx="388944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csolat orientá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2997360"/>
            <a:ext cx="388908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toz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2276640"/>
            <a:ext cx="259236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üksé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35640" y="2276640"/>
            <a:ext cx="2592360" cy="72072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 szüksé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0:55:14Z</dcterms:created>
  <dc:creator>Nagymáté Péter</dc:creator>
  <dc:description/>
  <dc:language>en-US</dc:language>
  <cp:lastModifiedBy>Nagymáté Péter</cp:lastModifiedBy>
  <dcterms:modified xsi:type="dcterms:W3CDTF">2004-03-04T13:24:57Z</dcterms:modified>
  <cp:revision>23</cp:revision>
  <dc:subject/>
  <dc:title>Hálózatok</dc:title>
</cp:coreProperties>
</file>