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wmf" ContentType="image/x-wmf"/>
  <Override PartName="/ppt/media/image28.png" ContentType="image/png"/>
  <Override PartName="/ppt/media/image3.wmf" ContentType="image/x-wmf"/>
  <Override PartName="/ppt/media/image5.wmf" ContentType="image/x-wmf"/>
  <Override PartName="/ppt/media/image25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5.png" ContentType="image/png"/>
  <Override PartName="/ppt/media/image46.wmf" ContentType="image/x-wmf"/>
  <Override PartName="/ppt/media/image26.png" ContentType="image/png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32.png" ContentType="image/png"/>
  <Override PartName="/ppt/media/image31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F127-1066-43D7-B0CA-3A40D1D6EE5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lasz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xed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Kerb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nak OU-k, de nem lehet név ütköz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IntelliMirror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ulti-master replikáció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tív mó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, kikapcsolható, fájlszintű elérés nem fog menni, de pl. A webes 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TLM működik (Kerberos az alapértelmezet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égi Trust működ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an PDC emulátor, de már nem lehet NT4-es BDC-nk. A PDC emulátor ilyenkor még megtartja pl. A Master Browser szerepkö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em. SID-je csak a security principal-oknak van, GUID-ja minden AD objektumnak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NT4-es RAS szerverek esetén a betárcsázási jogot lekérdezhetjük alacsonyabb jogokkal is. A W2K ezt letiltja, ezért AD környezetben az NT4-es RAS szerverek csak akkor működnek, ha az AD telepítésekor (dcpromo)  hozzájárulunk, hogy a biztonsági szintet lejjebb húzza a rendszer. Ez NEM javas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slide at each buil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 insertion = 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 input by user (authenticate to c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passes PIN to Local Security Authority (L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A retrieves certificate from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beros sends certificate to KDC as part of the logon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verifies certificate then looks up account name in Activ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C returns TGT encrypted with session key that is encrypted with user’s public key from certif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 card decrypts session key the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68A-FB60-4CDA-BE8C-2C0659B6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CEB-F193-4184-9627-C01276D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B8C-E5EF-47D9-A7DE-9B8B0E2E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E78-4073-4157-968F-CF06CCD3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EBB-F119-413E-8E7D-F0657AB1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442-ADAF-4C87-B3E5-FCD8D14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F7E-8F1B-4117-93BE-6C1E936D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676-0BC4-49AE-896C-B8DE7CB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9DE-3B06-43B8-A82A-15F3E9C6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757-4D17-4519-807C-125E931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6E7-2412-476B-9D5D-3644AB9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89E-103A-4EC5-90C8-57A5087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55AE-E016-46E3-8357-72CFBDB26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7.wmf"/><Relationship Id="rId20" Type="http://schemas.openxmlformats.org/officeDocument/2006/relationships/image" Target="../media/image8.wmf"/><Relationship Id="rId21" Type="http://schemas.openxmlformats.org/officeDocument/2006/relationships/image" Target="../media/image7.wmf"/><Relationship Id="rId22" Type="http://schemas.openxmlformats.org/officeDocument/2006/relationships/image" Target="../media/image8.wmf"/><Relationship Id="rId23" Type="http://schemas.openxmlformats.org/officeDocument/2006/relationships/image" Target="../media/image7.wmf"/><Relationship Id="rId24" Type="http://schemas.openxmlformats.org/officeDocument/2006/relationships/image" Target="../media/image8.wmf"/><Relationship Id="rId25" Type="http://schemas.openxmlformats.org/officeDocument/2006/relationships/image" Target="../media/image7.wmf"/><Relationship Id="rId26" Type="http://schemas.openxmlformats.org/officeDocument/2006/relationships/image" Target="../media/image8.wmf"/><Relationship Id="rId27" Type="http://schemas.openxmlformats.org/officeDocument/2006/relationships/image" Target="../media/image7.wmf"/><Relationship Id="rId28" Type="http://schemas.openxmlformats.org/officeDocument/2006/relationships/image" Target="../media/image8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5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3.wmf"/><Relationship Id="rId7" Type="http://schemas.openxmlformats.org/officeDocument/2006/relationships/image" Target="../media/image15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41.png"/><Relationship Id="rId35" Type="http://schemas.openxmlformats.org/officeDocument/2006/relationships/image" Target="../media/image40.png"/><Relationship Id="rId36" Type="http://schemas.openxmlformats.org/officeDocument/2006/relationships/image" Target="../media/image42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4.png"/><Relationship Id="rId49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1.png"/><Relationship Id="rId24" Type="http://schemas.openxmlformats.org/officeDocument/2006/relationships/image" Target="../media/image40.png"/><Relationship Id="rId25" Type="http://schemas.openxmlformats.org/officeDocument/2006/relationships/image" Target="../media/image4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1.png"/><Relationship Id="rId32" Type="http://schemas.openxmlformats.org/officeDocument/2006/relationships/image" Target="../media/image40.png"/><Relationship Id="rId33" Type="http://schemas.openxmlformats.org/officeDocument/2006/relationships/image" Target="../media/image42.png"/><Relationship Id="rId34" Type="http://schemas.openxmlformats.org/officeDocument/2006/relationships/image" Target="../media/image44.png"/><Relationship Id="rId35" Type="http://schemas.openxmlformats.org/officeDocument/2006/relationships/image" Target="../media/image44.png"/><Relationship Id="rId36" Type="http://schemas.openxmlformats.org/officeDocument/2006/relationships/image" Target="../media/image44.png"/><Relationship Id="rId37" Type="http://schemas.openxmlformats.org/officeDocument/2006/relationships/image" Target="../media/image34.png"/><Relationship Id="rId38" Type="http://schemas.openxmlformats.org/officeDocument/2006/relationships/image" Target="../media/image35.png"/><Relationship Id="rId39" Type="http://schemas.openxmlformats.org/officeDocument/2006/relationships/image" Target="../media/image36.png"/><Relationship Id="rId40" Type="http://schemas.openxmlformats.org/officeDocument/2006/relationships/image" Target="../media/image37.png"/><Relationship Id="rId41" Type="http://schemas.openxmlformats.org/officeDocument/2006/relationships/image" Target="../media/image38.png"/><Relationship Id="rId42" Type="http://schemas.openxmlformats.org/officeDocument/2006/relationships/image" Target="../media/image41.png"/><Relationship Id="rId43" Type="http://schemas.openxmlformats.org/officeDocument/2006/relationships/image" Target="../media/image40.png"/><Relationship Id="rId44" Type="http://schemas.openxmlformats.org/officeDocument/2006/relationships/image" Target="../media/image42.png"/><Relationship Id="rId45" Type="http://schemas.openxmlformats.org/officeDocument/2006/relationships/image" Target="../media/image34.png"/><Relationship Id="rId46" Type="http://schemas.openxmlformats.org/officeDocument/2006/relationships/image" Target="../media/image35.png"/><Relationship Id="rId47" Type="http://schemas.openxmlformats.org/officeDocument/2006/relationships/image" Target="../media/image36.png"/><Relationship Id="rId48" Type="http://schemas.openxmlformats.org/officeDocument/2006/relationships/image" Target="../media/image37.png"/><Relationship Id="rId49" Type="http://schemas.openxmlformats.org/officeDocument/2006/relationships/image" Target="../media/image38.png"/><Relationship Id="rId50" Type="http://schemas.openxmlformats.org/officeDocument/2006/relationships/image" Target="../media/image41.png"/><Relationship Id="rId51" Type="http://schemas.openxmlformats.org/officeDocument/2006/relationships/image" Target="../media/image40.png"/><Relationship Id="rId52" Type="http://schemas.openxmlformats.org/officeDocument/2006/relationships/image" Target="../media/image42.png"/><Relationship Id="rId53" Type="http://schemas.openxmlformats.org/officeDocument/2006/relationships/image" Target="../media/image44.png"/><Relationship Id="rId54" Type="http://schemas.openxmlformats.org/officeDocument/2006/relationships/image" Target="../media/image44.png"/><Relationship Id="rId55" Type="http://schemas.openxmlformats.org/officeDocument/2006/relationships/image" Target="../media/image44.png"/><Relationship Id="rId56" Type="http://schemas.openxmlformats.org/officeDocument/2006/relationships/image" Target="../media/image44.png"/><Relationship Id="rId57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1.png"/><Relationship Id="rId8" Type="http://schemas.openxmlformats.org/officeDocument/2006/relationships/image" Target="../media/image40.png"/><Relationship Id="rId9" Type="http://schemas.openxmlformats.org/officeDocument/2006/relationships/image" Target="../media/image42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41.png"/><Relationship Id="rId16" Type="http://schemas.openxmlformats.org/officeDocument/2006/relationships/image" Target="../media/image40.png"/><Relationship Id="rId17" Type="http://schemas.openxmlformats.org/officeDocument/2006/relationships/image" Target="../media/image42.png"/><Relationship Id="rId1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igwam.sztaki.hu/" TargetMode="External"/><Relationship Id="rId2" Type="http://schemas.openxmlformats.org/officeDocument/2006/relationships/hyperlink" Target="http://wigwam.sztaki.hu/" TargetMode="Externa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41.png"/><Relationship Id="rId10" Type="http://schemas.openxmlformats.org/officeDocument/2006/relationships/image" Target="../media/image40.png"/><Relationship Id="rId11" Type="http://schemas.openxmlformats.org/officeDocument/2006/relationships/image" Target="../media/image42.pn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9.wmf"/><Relationship Id="rId21" Type="http://schemas.openxmlformats.org/officeDocument/2006/relationships/image" Target="../media/image9.wmf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8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9.wmf"/><Relationship Id="rId29" Type="http://schemas.openxmlformats.org/officeDocument/2006/relationships/image" Target="../media/image10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ndows -os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55760" y="5338800"/>
            <a:ext cx="955440" cy="1077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80880" y="3809880"/>
            <a:ext cx="2078280" cy="13068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719440" y="3816360"/>
            <a:ext cx="1595520" cy="10033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679400" y="5338800"/>
            <a:ext cx="1187640" cy="1019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533680" y="4967280"/>
            <a:ext cx="963720" cy="6080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683160" y="5005440"/>
            <a:ext cx="965160" cy="6062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974880" y="5079600"/>
            <a:ext cx="110880" cy="2588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 flipV="1">
            <a:off x="1901880" y="5041440"/>
            <a:ext cx="37152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3274920" y="4819680"/>
            <a:ext cx="149400" cy="18576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3906360" y="4781520"/>
            <a:ext cx="258840" cy="22392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459160" y="4336560"/>
            <a:ext cx="26028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382760" y="6045120"/>
            <a:ext cx="482400" cy="1112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459160" y="5487840"/>
            <a:ext cx="185760" cy="26064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719440" y="5562360"/>
            <a:ext cx="1187280" cy="6318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63640" y="3906720"/>
            <a:ext cx="1112760" cy="95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5080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57240" y="581832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41240" y="5435640"/>
            <a:ext cx="335160" cy="287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900000" y="4856040"/>
            <a:ext cx="0" cy="59544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 flipV="1">
            <a:off x="1976040" y="4855680"/>
            <a:ext cx="297000" cy="48276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089160" y="3890880"/>
            <a:ext cx="854280" cy="731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757600" y="5013360"/>
            <a:ext cx="515880" cy="441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2f5e"/>
              </a:gs>
              <a:gs pos="100000">
                <a:srgbClr val="0066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3016080" y="4595760"/>
            <a:ext cx="73080" cy="40968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308240" y="3852720"/>
          <a:ext cx="245880" cy="2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3852720"/>
                    <a:ext cx="24588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4" name=""/>
          <p:cNvGrpSpPr/>
          <p:nvPr/>
        </p:nvGrpSpPr>
        <p:grpSpPr>
          <a:xfrm>
            <a:off x="1299240" y="4187880"/>
            <a:ext cx="305640" cy="557280"/>
            <a:chOff x="1299240" y="4187880"/>
            <a:chExt cx="305640" cy="557280"/>
          </a:xfrm>
        </p:grpSpPr>
        <p:sp>
          <p:nvSpPr>
            <p:cNvPr id="1465" name=""/>
            <p:cNvSpPr/>
            <p:nvPr/>
          </p:nvSpPr>
          <p:spPr>
            <a:xfrm>
              <a:off x="151380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1380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4604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46040" y="466200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13800" y="439308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346040" y="4535640"/>
              <a:ext cx="9108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71" name=""/>
            <p:cNvGraphicFramePr/>
            <p:nvPr/>
          </p:nvGraphicFramePr>
          <p:xfrm>
            <a:off x="1361160" y="4187880"/>
            <a:ext cx="144720" cy="15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1160" y="4187880"/>
                      <a:ext cx="14472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73" name=""/>
            <p:cNvCxnSpPr>
              <a:endCxn id="1467" idx="2"/>
            </p:cNvCxnSpPr>
            <p:nvPr/>
          </p:nvCxnSpPr>
          <p:spPr>
            <a:xfrm flipV="1" rot="10800000">
              <a:off x="1345320" y="42634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4" name=""/>
            <p:cNvCxnSpPr>
              <a:endCxn id="1470" idx="2"/>
            </p:cNvCxnSpPr>
            <p:nvPr/>
          </p:nvCxnSpPr>
          <p:spPr>
            <a:xfrm flipV="1" rot="10800000">
              <a:off x="1345320" y="42634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5" name=""/>
            <p:cNvCxnSpPr>
              <a:endCxn id="1468" idx="2"/>
            </p:cNvCxnSpPr>
            <p:nvPr/>
          </p:nvCxnSpPr>
          <p:spPr>
            <a:xfrm flipV="1" rot="10800000">
              <a:off x="1345320" y="42634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6" name=""/>
            <p:cNvCxnSpPr>
              <a:stCxn id="1467" idx="6"/>
              <a:endCxn id="1469" idx="2"/>
            </p:cNvCxnSpPr>
            <p:nvPr/>
          </p:nvCxnSpPr>
          <p:spPr>
            <a:xfrm>
              <a:off x="1437120" y="4434480"/>
              <a:ext cx="766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7" name=""/>
            <p:cNvCxnSpPr>
              <a:stCxn id="1467" idx="6"/>
              <a:endCxn id="1465" idx="2"/>
            </p:cNvCxnSpPr>
            <p:nvPr/>
          </p:nvCxnSpPr>
          <p:spPr>
            <a:xfrm>
              <a:off x="1437120" y="4434840"/>
              <a:ext cx="7668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78" name=""/>
            <p:cNvCxnSpPr>
              <a:stCxn id="1467" idx="6"/>
              <a:endCxn id="1466" idx="2"/>
            </p:cNvCxnSpPr>
            <p:nvPr/>
          </p:nvCxnSpPr>
          <p:spPr>
            <a:xfrm>
              <a:off x="1437120" y="4434840"/>
              <a:ext cx="7668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479" name=""/>
          <p:cNvSpPr/>
          <p:nvPr/>
        </p:nvSpPr>
        <p:spPr>
          <a:xfrm flipH="1">
            <a:off x="1418760" y="3927600"/>
            <a:ext cx="2078280" cy="0"/>
          </a:xfrm>
          <a:prstGeom prst="line">
            <a:avLst/>
          </a:prstGeom>
          <a:ln w="284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844920" y="5487840"/>
            <a:ext cx="122040" cy="222480"/>
            <a:chOff x="844920" y="5487840"/>
            <a:chExt cx="122040" cy="222480"/>
          </a:xfrm>
        </p:grpSpPr>
        <p:sp>
          <p:nvSpPr>
            <p:cNvPr id="1481" name=""/>
            <p:cNvSpPr/>
            <p:nvPr/>
          </p:nvSpPr>
          <p:spPr>
            <a:xfrm>
              <a:off x="93060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3060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6364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63640" y="56772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930600" y="55699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63640" y="562680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87" name=""/>
            <p:cNvGraphicFramePr/>
            <p:nvPr/>
          </p:nvGraphicFramePr>
          <p:xfrm>
            <a:off x="869400" y="5487840"/>
            <a:ext cx="57960" cy="6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9400" y="548784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489" name=""/>
            <p:cNvCxnSpPr>
              <a:endCxn id="1483" idx="2"/>
            </p:cNvCxnSpPr>
            <p:nvPr/>
          </p:nvCxnSpPr>
          <p:spPr>
            <a:xfrm flipV="1" rot="10800000">
              <a:off x="862920" y="551736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0" name=""/>
            <p:cNvCxnSpPr>
              <a:endCxn id="1486" idx="2"/>
            </p:cNvCxnSpPr>
            <p:nvPr/>
          </p:nvCxnSpPr>
          <p:spPr>
            <a:xfrm flipV="1" rot="10800000">
              <a:off x="862920" y="551808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1" name=""/>
            <p:cNvCxnSpPr>
              <a:endCxn id="1484" idx="2"/>
            </p:cNvCxnSpPr>
            <p:nvPr/>
          </p:nvCxnSpPr>
          <p:spPr>
            <a:xfrm flipV="1" rot="10800000">
              <a:off x="862920" y="551700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2" name=""/>
            <p:cNvCxnSpPr>
              <a:stCxn id="1483" idx="6"/>
              <a:endCxn id="1485" idx="2"/>
            </p:cNvCxnSpPr>
            <p:nvPr/>
          </p:nvCxnSpPr>
          <p:spPr>
            <a:xfrm>
              <a:off x="899640" y="558612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3" name=""/>
            <p:cNvCxnSpPr>
              <a:stCxn id="1483" idx="6"/>
              <a:endCxn id="1481" idx="2"/>
            </p:cNvCxnSpPr>
            <p:nvPr/>
          </p:nvCxnSpPr>
          <p:spPr>
            <a:xfrm>
              <a:off x="899640" y="558612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494" name=""/>
            <p:cNvCxnSpPr>
              <a:stCxn id="1483" idx="6"/>
              <a:endCxn id="1482" idx="2"/>
            </p:cNvCxnSpPr>
            <p:nvPr/>
          </p:nvCxnSpPr>
          <p:spPr>
            <a:xfrm>
              <a:off x="899640" y="558648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495" name=""/>
          <p:cNvGrpSpPr/>
          <p:nvPr/>
        </p:nvGrpSpPr>
        <p:grpSpPr>
          <a:xfrm>
            <a:off x="1067040" y="5859360"/>
            <a:ext cx="122040" cy="222480"/>
            <a:chOff x="1067040" y="5859360"/>
            <a:chExt cx="122040" cy="222480"/>
          </a:xfrm>
        </p:grpSpPr>
        <p:sp>
          <p:nvSpPr>
            <p:cNvPr id="1496" name=""/>
            <p:cNvSpPr/>
            <p:nvPr/>
          </p:nvSpPr>
          <p:spPr>
            <a:xfrm>
              <a:off x="115272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272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576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8576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5272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8576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02" name=""/>
            <p:cNvGraphicFramePr/>
            <p:nvPr/>
          </p:nvGraphicFramePr>
          <p:xfrm>
            <a:off x="1091520" y="5859360"/>
            <a:ext cx="57960" cy="6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152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04" name=""/>
            <p:cNvCxnSpPr>
              <a:endCxn id="1498" idx="2"/>
            </p:cNvCxnSpPr>
            <p:nvPr/>
          </p:nvCxnSpPr>
          <p:spPr>
            <a:xfrm flipV="1" rot="10800000">
              <a:off x="108504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5" name=""/>
            <p:cNvCxnSpPr>
              <a:endCxn id="1501" idx="2"/>
            </p:cNvCxnSpPr>
            <p:nvPr/>
          </p:nvCxnSpPr>
          <p:spPr>
            <a:xfrm flipV="1" rot="10800000">
              <a:off x="108504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6" name=""/>
            <p:cNvCxnSpPr>
              <a:endCxn id="1499" idx="2"/>
            </p:cNvCxnSpPr>
            <p:nvPr/>
          </p:nvCxnSpPr>
          <p:spPr>
            <a:xfrm flipV="1" rot="10800000">
              <a:off x="108504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7" name=""/>
            <p:cNvCxnSpPr>
              <a:stCxn id="1498" idx="6"/>
              <a:endCxn id="1500" idx="2"/>
            </p:cNvCxnSpPr>
            <p:nvPr/>
          </p:nvCxnSpPr>
          <p:spPr>
            <a:xfrm>
              <a:off x="112176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8" name=""/>
            <p:cNvCxnSpPr>
              <a:stCxn id="1498" idx="6"/>
              <a:endCxn id="1496" idx="2"/>
            </p:cNvCxnSpPr>
            <p:nvPr/>
          </p:nvCxnSpPr>
          <p:spPr>
            <a:xfrm>
              <a:off x="112176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09" name=""/>
            <p:cNvCxnSpPr>
              <a:stCxn id="1498" idx="6"/>
              <a:endCxn id="1497" idx="2"/>
            </p:cNvCxnSpPr>
            <p:nvPr/>
          </p:nvCxnSpPr>
          <p:spPr>
            <a:xfrm>
              <a:off x="112176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10" name=""/>
          <p:cNvGrpSpPr/>
          <p:nvPr/>
        </p:nvGrpSpPr>
        <p:grpSpPr>
          <a:xfrm>
            <a:off x="659160" y="5859360"/>
            <a:ext cx="122040" cy="222480"/>
            <a:chOff x="659160" y="5859360"/>
            <a:chExt cx="122040" cy="222480"/>
          </a:xfrm>
        </p:grpSpPr>
        <p:sp>
          <p:nvSpPr>
            <p:cNvPr id="1511" name=""/>
            <p:cNvSpPr/>
            <p:nvPr/>
          </p:nvSpPr>
          <p:spPr>
            <a:xfrm>
              <a:off x="74484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484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788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77880" y="60487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44840" y="594144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77880" y="5998320"/>
              <a:ext cx="36360" cy="331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17" name=""/>
            <p:cNvGraphicFramePr/>
            <p:nvPr/>
          </p:nvGraphicFramePr>
          <p:xfrm>
            <a:off x="683640" y="5859360"/>
            <a:ext cx="57960" cy="61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3640" y="5859360"/>
                      <a:ext cx="57960" cy="6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19" name=""/>
            <p:cNvCxnSpPr>
              <a:endCxn id="1513" idx="2"/>
            </p:cNvCxnSpPr>
            <p:nvPr/>
          </p:nvCxnSpPr>
          <p:spPr>
            <a:xfrm flipV="1" rot="10800000">
              <a:off x="677160" y="5888880"/>
              <a:ext cx="6480" cy="687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0" name=""/>
            <p:cNvCxnSpPr>
              <a:endCxn id="1516" idx="2"/>
            </p:cNvCxnSpPr>
            <p:nvPr/>
          </p:nvCxnSpPr>
          <p:spPr>
            <a:xfrm flipV="1" rot="10800000">
              <a:off x="677160" y="5889600"/>
              <a:ext cx="6480" cy="125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1" name=""/>
            <p:cNvCxnSpPr>
              <a:endCxn id="1514" idx="2"/>
            </p:cNvCxnSpPr>
            <p:nvPr/>
          </p:nvCxnSpPr>
          <p:spPr>
            <a:xfrm flipV="1" rot="10800000">
              <a:off x="677160" y="5888520"/>
              <a:ext cx="6480" cy="175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2" name=""/>
            <p:cNvCxnSpPr>
              <a:stCxn id="1513" idx="6"/>
              <a:endCxn id="1515" idx="2"/>
            </p:cNvCxnSpPr>
            <p:nvPr/>
          </p:nvCxnSpPr>
          <p:spPr>
            <a:xfrm>
              <a:off x="713880" y="5957640"/>
              <a:ext cx="313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3" name=""/>
            <p:cNvCxnSpPr>
              <a:stCxn id="1513" idx="6"/>
              <a:endCxn id="1511" idx="2"/>
            </p:cNvCxnSpPr>
            <p:nvPr/>
          </p:nvCxnSpPr>
          <p:spPr>
            <a:xfrm>
              <a:off x="713880" y="5957640"/>
              <a:ext cx="31320" cy="572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24" name=""/>
            <p:cNvCxnSpPr>
              <a:stCxn id="1513" idx="6"/>
              <a:endCxn id="1512" idx="2"/>
            </p:cNvCxnSpPr>
            <p:nvPr/>
          </p:nvCxnSpPr>
          <p:spPr>
            <a:xfrm>
              <a:off x="713880" y="5958000"/>
              <a:ext cx="31320" cy="1080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3413880" y="4038480"/>
            <a:ext cx="306720" cy="557280"/>
            <a:chOff x="3413880" y="4038480"/>
            <a:chExt cx="306720" cy="557280"/>
          </a:xfrm>
        </p:grpSpPr>
        <p:sp>
          <p:nvSpPr>
            <p:cNvPr id="1526" name=""/>
            <p:cNvSpPr/>
            <p:nvPr/>
          </p:nvSpPr>
          <p:spPr>
            <a:xfrm>
              <a:off x="362916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2916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6068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60680" y="451260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29160" y="424368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60680" y="4386240"/>
              <a:ext cx="91440" cy="831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32" name=""/>
            <p:cNvGraphicFramePr/>
            <p:nvPr/>
          </p:nvGraphicFramePr>
          <p:xfrm>
            <a:off x="3475800" y="4038480"/>
            <a:ext cx="145440" cy="15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75800" y="4038480"/>
                      <a:ext cx="145440" cy="15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34" name=""/>
            <p:cNvCxnSpPr>
              <a:endCxn id="1528" idx="2"/>
            </p:cNvCxnSpPr>
            <p:nvPr/>
          </p:nvCxnSpPr>
          <p:spPr>
            <a:xfrm flipV="1" rot="10800000">
              <a:off x="3459960" y="4114080"/>
              <a:ext cx="15840" cy="1710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5" name=""/>
            <p:cNvCxnSpPr>
              <a:endCxn id="1531" idx="2"/>
            </p:cNvCxnSpPr>
            <p:nvPr/>
          </p:nvCxnSpPr>
          <p:spPr>
            <a:xfrm flipV="1" rot="10800000">
              <a:off x="3459960" y="4114080"/>
              <a:ext cx="15840" cy="312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6" name=""/>
            <p:cNvCxnSpPr>
              <a:endCxn id="1529" idx="2"/>
            </p:cNvCxnSpPr>
            <p:nvPr/>
          </p:nvCxnSpPr>
          <p:spPr>
            <a:xfrm flipV="1" rot="10800000">
              <a:off x="3459960" y="4114080"/>
              <a:ext cx="15840" cy="43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7" name=""/>
            <p:cNvCxnSpPr>
              <a:stCxn id="1528" idx="6"/>
              <a:endCxn id="1530" idx="2"/>
            </p:cNvCxnSpPr>
            <p:nvPr/>
          </p:nvCxnSpPr>
          <p:spPr>
            <a:xfrm>
              <a:off x="3551760" y="4285080"/>
              <a:ext cx="7740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8" name=""/>
            <p:cNvCxnSpPr>
              <a:stCxn id="1528" idx="6"/>
              <a:endCxn id="1526" idx="2"/>
            </p:cNvCxnSpPr>
            <p:nvPr/>
          </p:nvCxnSpPr>
          <p:spPr>
            <a:xfrm>
              <a:off x="3551760" y="4285440"/>
              <a:ext cx="77400" cy="142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39" name=""/>
            <p:cNvCxnSpPr>
              <a:stCxn id="1528" idx="6"/>
              <a:endCxn id="1527" idx="2"/>
            </p:cNvCxnSpPr>
            <p:nvPr/>
          </p:nvCxnSpPr>
          <p:spPr>
            <a:xfrm>
              <a:off x="3551760" y="4285440"/>
              <a:ext cx="77400" cy="26928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540" name=""/>
          <p:cNvGrpSpPr/>
          <p:nvPr/>
        </p:nvGrpSpPr>
        <p:grpSpPr>
          <a:xfrm>
            <a:off x="2950920" y="5153040"/>
            <a:ext cx="176400" cy="260280"/>
            <a:chOff x="2950920" y="5153040"/>
            <a:chExt cx="176400" cy="260280"/>
          </a:xfrm>
        </p:grpSpPr>
        <p:sp>
          <p:nvSpPr>
            <p:cNvPr id="1541" name=""/>
            <p:cNvSpPr/>
            <p:nvPr/>
          </p:nvSpPr>
          <p:spPr>
            <a:xfrm>
              <a:off x="307476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07476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828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78280" y="5374440"/>
              <a:ext cx="52560" cy="38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74760" y="52488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78280" y="5315400"/>
              <a:ext cx="52560" cy="385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47" name=""/>
            <p:cNvGraphicFramePr/>
            <p:nvPr/>
          </p:nvGraphicFramePr>
          <p:xfrm>
            <a:off x="2986920" y="5153040"/>
            <a:ext cx="83520" cy="71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86920" y="5153040"/>
                      <a:ext cx="83520" cy="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49" name=""/>
            <p:cNvCxnSpPr>
              <a:endCxn id="1543" idx="2"/>
            </p:cNvCxnSpPr>
            <p:nvPr/>
          </p:nvCxnSpPr>
          <p:spPr>
            <a:xfrm flipV="1" rot="10800000">
              <a:off x="2977560" y="5187600"/>
              <a:ext cx="9360" cy="802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0" name=""/>
            <p:cNvCxnSpPr>
              <a:endCxn id="1546" idx="2"/>
            </p:cNvCxnSpPr>
            <p:nvPr/>
          </p:nvCxnSpPr>
          <p:spPr>
            <a:xfrm flipV="1" rot="10800000">
              <a:off x="2977560" y="5187600"/>
              <a:ext cx="9360" cy="146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1" name=""/>
            <p:cNvCxnSpPr>
              <a:endCxn id="1544" idx="2"/>
            </p:cNvCxnSpPr>
            <p:nvPr/>
          </p:nvCxnSpPr>
          <p:spPr>
            <a:xfrm flipV="1" rot="10800000">
              <a:off x="2977560" y="5188320"/>
              <a:ext cx="9360" cy="2059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2" name=""/>
            <p:cNvCxnSpPr>
              <a:stCxn id="1543" idx="6"/>
              <a:endCxn id="1545" idx="2"/>
            </p:cNvCxnSpPr>
            <p:nvPr/>
          </p:nvCxnSpPr>
          <p:spPr>
            <a:xfrm>
              <a:off x="3030840" y="5268240"/>
              <a:ext cx="446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3" name=""/>
            <p:cNvCxnSpPr>
              <a:stCxn id="1543" idx="6"/>
              <a:endCxn id="1541" idx="2"/>
            </p:cNvCxnSpPr>
            <p:nvPr/>
          </p:nvCxnSpPr>
          <p:spPr>
            <a:xfrm>
              <a:off x="3030840" y="5268600"/>
              <a:ext cx="44640" cy="669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54" name=""/>
            <p:cNvCxnSpPr>
              <a:stCxn id="1543" idx="6"/>
              <a:endCxn id="1542" idx="2"/>
            </p:cNvCxnSpPr>
            <p:nvPr/>
          </p:nvCxnSpPr>
          <p:spPr>
            <a:xfrm>
              <a:off x="3030840" y="5268240"/>
              <a:ext cx="44640" cy="126360"/>
            </a:xfrm>
            <a:prstGeom prst="bentConnector3">
              <a:avLst>
                <a:gd name="adj1" fmla="val 49593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55" name=""/>
          <p:cNvSpPr/>
          <p:nvPr/>
        </p:nvSpPr>
        <p:spPr>
          <a:xfrm>
            <a:off x="2087640" y="5673600"/>
            <a:ext cx="396720" cy="2955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852560" y="6006960"/>
            <a:ext cx="216000" cy="3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198520" y="6081840"/>
            <a:ext cx="517680" cy="249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41520" y="5710320"/>
            <a:ext cx="11088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1010880" y="5673600"/>
            <a:ext cx="111240" cy="185760"/>
          </a:xfrm>
          <a:prstGeom prst="line">
            <a:avLst/>
          </a:prstGeom>
          <a:ln w="284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2108880" y="5599080"/>
            <a:ext cx="349920" cy="631800"/>
            <a:chOff x="2108880" y="5599080"/>
            <a:chExt cx="349920" cy="631800"/>
          </a:xfrm>
        </p:grpSpPr>
        <p:sp>
          <p:nvSpPr>
            <p:cNvPr id="1561" name=""/>
            <p:cNvSpPr/>
            <p:nvPr/>
          </p:nvSpPr>
          <p:spPr>
            <a:xfrm>
              <a:off x="235440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35440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16216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162160" y="6136560"/>
              <a:ext cx="104400" cy="94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354400" y="583200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162160" y="5993640"/>
              <a:ext cx="104400" cy="93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7" name=""/>
            <p:cNvGraphicFramePr/>
            <p:nvPr/>
          </p:nvGraphicFramePr>
          <p:xfrm>
            <a:off x="2179440" y="5599080"/>
            <a:ext cx="165960" cy="173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79440" y="5599080"/>
                      <a:ext cx="165960" cy="17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69" name=""/>
            <p:cNvCxnSpPr>
              <a:endCxn id="1563" idx="2"/>
            </p:cNvCxnSpPr>
            <p:nvPr/>
          </p:nvCxnSpPr>
          <p:spPr>
            <a:xfrm flipV="1" rot="10800000">
              <a:off x="2161440" y="5685840"/>
              <a:ext cx="18000" cy="19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0" name=""/>
            <p:cNvCxnSpPr>
              <a:endCxn id="1566" idx="2"/>
            </p:cNvCxnSpPr>
            <p:nvPr/>
          </p:nvCxnSpPr>
          <p:spPr>
            <a:xfrm flipV="1" rot="10800000">
              <a:off x="2161440" y="5685120"/>
              <a:ext cx="18000" cy="3546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1" name=""/>
            <p:cNvCxnSpPr>
              <a:endCxn id="1564" idx="2"/>
            </p:cNvCxnSpPr>
            <p:nvPr/>
          </p:nvCxnSpPr>
          <p:spPr>
            <a:xfrm flipV="1" rot="10800000">
              <a:off x="2161440" y="5685840"/>
              <a:ext cx="18000" cy="4982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2" name=""/>
            <p:cNvCxnSpPr>
              <a:stCxn id="1563" idx="6"/>
              <a:endCxn id="1565" idx="2"/>
            </p:cNvCxnSpPr>
            <p:nvPr/>
          </p:nvCxnSpPr>
          <p:spPr>
            <a:xfrm>
              <a:off x="2266560" y="5878800"/>
              <a:ext cx="885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3" name=""/>
            <p:cNvCxnSpPr>
              <a:stCxn id="1563" idx="6"/>
              <a:endCxn id="1561" idx="2"/>
            </p:cNvCxnSpPr>
            <p:nvPr/>
          </p:nvCxnSpPr>
          <p:spPr>
            <a:xfrm>
              <a:off x="2266560" y="5878800"/>
              <a:ext cx="88560" cy="16164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574" name=""/>
            <p:cNvCxnSpPr>
              <a:stCxn id="1563" idx="6"/>
              <a:endCxn id="1562" idx="2"/>
            </p:cNvCxnSpPr>
            <p:nvPr/>
          </p:nvCxnSpPr>
          <p:spPr>
            <a:xfrm>
              <a:off x="2266560" y="5879160"/>
              <a:ext cx="88560" cy="305280"/>
            </a:xfrm>
            <a:prstGeom prst="bentConnector3">
              <a:avLst>
                <a:gd name="adj1" fmla="val 49795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575" name=""/>
          <p:cNvSpPr/>
          <p:nvPr/>
        </p:nvSpPr>
        <p:spPr>
          <a:xfrm>
            <a:off x="228600" y="0"/>
            <a:ext cx="80200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800"/>
            </a:b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Egységes séma és konfigur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577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8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588" name=""/>
                <p:cNvCxnSpPr>
                  <a:stCxn id="1587" idx="1"/>
                  <a:endCxn id="1583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89" name=""/>
                <p:cNvCxnSpPr>
                  <a:stCxn id="1587" idx="1"/>
                  <a:endCxn id="1586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0" name=""/>
                <p:cNvCxnSpPr>
                  <a:stCxn id="1587" idx="1"/>
                  <a:endCxn id="1584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1" name=""/>
                <p:cNvCxnSpPr>
                  <a:stCxn id="1583" idx="6"/>
                  <a:endCxn id="1585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2" name=""/>
                <p:cNvCxnSpPr>
                  <a:stCxn id="1583" idx="6"/>
                  <a:endCxn id="1581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593" name=""/>
                <p:cNvCxnSpPr>
                  <a:stCxn id="1583" idx="6"/>
                  <a:endCxn id="1582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594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9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7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0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04" name=""/>
                <p:cNvCxnSpPr>
                  <a:stCxn id="1603" idx="1"/>
                  <a:endCxn id="1599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5" name=""/>
                <p:cNvCxnSpPr>
                  <a:stCxn id="1603" idx="1"/>
                  <a:endCxn id="1602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6" name=""/>
                <p:cNvCxnSpPr>
                  <a:stCxn id="1603" idx="1"/>
                  <a:endCxn id="1600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7" name=""/>
                <p:cNvCxnSpPr>
                  <a:stCxn id="1599" idx="6"/>
                  <a:endCxn id="1601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8" name=""/>
                <p:cNvCxnSpPr>
                  <a:stCxn id="1599" idx="6"/>
                  <a:endCxn id="1597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09" name=""/>
                <p:cNvCxnSpPr>
                  <a:stCxn id="1599" idx="6"/>
                  <a:endCxn id="1598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10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3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20" name=""/>
                <p:cNvCxnSpPr>
                  <a:stCxn id="1619" idx="1"/>
                  <a:endCxn id="1615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1" name=""/>
                <p:cNvCxnSpPr>
                  <a:stCxn id="1619" idx="1"/>
                  <a:endCxn id="1618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2" name=""/>
                <p:cNvCxnSpPr>
                  <a:stCxn id="1619" idx="1"/>
                  <a:endCxn id="1616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3" name=""/>
                <p:cNvCxnSpPr>
                  <a:stCxn id="1615" idx="6"/>
                  <a:endCxn id="1617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4" name=""/>
                <p:cNvCxnSpPr>
                  <a:stCxn id="1615" idx="6"/>
                  <a:endCxn id="1613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25" name=""/>
                <p:cNvCxnSpPr>
                  <a:stCxn id="1615" idx="6"/>
                  <a:endCxn id="1614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26" name=""/>
              <p:cNvCxnSpPr>
                <a:stCxn id="1579" idx="4"/>
                <a:endCxn id="1612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27" name=""/>
              <p:cNvCxnSpPr>
                <a:stCxn id="1579" idx="2"/>
                <a:endCxn id="1596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628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629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2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39" name=""/>
                <p:cNvCxnSpPr>
                  <a:stCxn id="1638" idx="1"/>
                  <a:endCxn id="1634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0" name=""/>
                <p:cNvCxnSpPr>
                  <a:stCxn id="1638" idx="1"/>
                  <a:endCxn id="1637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1" name=""/>
                <p:cNvCxnSpPr>
                  <a:stCxn id="1638" idx="1"/>
                  <a:endCxn id="1635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2" name=""/>
                <p:cNvCxnSpPr>
                  <a:stCxn id="1634" idx="6"/>
                  <a:endCxn id="1636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3" name=""/>
                <p:cNvCxnSpPr>
                  <a:stCxn id="1634" idx="6"/>
                  <a:endCxn id="1632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44" name=""/>
                <p:cNvCxnSpPr>
                  <a:stCxn id="1634" idx="6"/>
                  <a:endCxn id="1633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45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4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8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5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55" name=""/>
                <p:cNvCxnSpPr>
                  <a:stCxn id="1654" idx="1"/>
                  <a:endCxn id="1650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6" name=""/>
                <p:cNvCxnSpPr>
                  <a:stCxn id="1654" idx="1"/>
                  <a:endCxn id="1653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7" name=""/>
                <p:cNvCxnSpPr>
                  <a:stCxn id="1654" idx="1"/>
                  <a:endCxn id="1651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8" name=""/>
                <p:cNvCxnSpPr>
                  <a:stCxn id="1650" idx="6"/>
                  <a:endCxn id="1652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59" name=""/>
                <p:cNvCxnSpPr>
                  <a:stCxn id="1650" idx="6"/>
                  <a:endCxn id="1648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60" name=""/>
                <p:cNvCxnSpPr>
                  <a:stCxn id="1650" idx="6"/>
                  <a:endCxn id="1649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661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4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7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671" name=""/>
                <p:cNvCxnSpPr>
                  <a:stCxn id="1670" idx="1"/>
                  <a:endCxn id="1666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2" name=""/>
                <p:cNvCxnSpPr>
                  <a:stCxn id="1670" idx="1"/>
                  <a:endCxn id="1669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3" name=""/>
                <p:cNvCxnSpPr>
                  <a:stCxn id="1670" idx="1"/>
                  <a:endCxn id="1667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4" name=""/>
                <p:cNvCxnSpPr>
                  <a:stCxn id="1666" idx="6"/>
                  <a:endCxn id="1668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5" name=""/>
                <p:cNvCxnSpPr>
                  <a:stCxn id="1666" idx="6"/>
                  <a:endCxn id="1664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676" name=""/>
                <p:cNvCxnSpPr>
                  <a:stCxn id="1666" idx="6"/>
                  <a:endCxn id="1665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677" name=""/>
              <p:cNvCxnSpPr>
                <a:stCxn id="1630" idx="4"/>
                <a:endCxn id="1663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678" name=""/>
              <p:cNvCxnSpPr>
                <a:stCxn id="1630" idx="2"/>
                <a:endCxn id="1647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679" name=""/>
            <p:cNvCxnSpPr>
              <a:stCxn id="1580" idx="3"/>
              <a:endCxn id="1631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680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Erdő =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egy vagy több 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közösen menedzsel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tartomány hierarchiá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séma és konfiguráci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ös Global Cata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utomatikus, tranzitív tartomány kapcsol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553080" y="2971800"/>
            <a:ext cx="2438640" cy="3657600"/>
          </a:xfrm>
          <a:prstGeom prst="can">
            <a:avLst>
              <a:gd name="adj" fmla="val 7958"/>
            </a:avLst>
          </a:prstGeom>
          <a:gradFill rotWithShape="0">
            <a:gsLst>
              <a:gs pos="0">
                <a:srgbClr val="12365b"/>
              </a:gs>
              <a:gs pos="50000">
                <a:srgbClr val="3399ff"/>
              </a:gs>
              <a:gs pos="100000">
                <a:srgbClr val="1236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629400" y="59436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cccc"/>
              </a:gs>
              <a:gs pos="100000">
                <a:srgbClr val="1c71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Tartomány névté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OU-k, nyomtatók, megosztás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6629400" y="52578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Konfigur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pl.telephelyek, tartomány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629400" y="4572000"/>
            <a:ext cx="22860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Sé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66"/>
                </a:solidFill>
                <a:latin typeface="Arial Narrow"/>
              </a:rPr>
              <a:t>(objektumok, tulajdonságo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649760" y="4622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TDS.D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705720" y="4191120"/>
            <a:ext cx="2133360" cy="152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705720" y="3886200"/>
            <a:ext cx="2133360" cy="152280"/>
          </a:xfrm>
          <a:prstGeom prst="rect">
            <a:avLst/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05720" y="4038480"/>
            <a:ext cx="21333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3733920"/>
            <a:ext cx="2133360" cy="15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3581280"/>
            <a:ext cx="2133360" cy="152640"/>
          </a:xfrm>
          <a:prstGeom prst="rect">
            <a:avLst/>
          </a:prstGeom>
          <a:solidFill>
            <a:srgbClr val="66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429000"/>
            <a:ext cx="2133360" cy="152280"/>
          </a:xfrm>
          <a:prstGeom prst="rect">
            <a:avLst/>
          </a:prstGeom>
          <a:solidFill>
            <a:srgbClr val="cc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629400" y="3276720"/>
            <a:ext cx="2286000" cy="1218960"/>
          </a:xfrm>
          <a:prstGeom prst="can">
            <a:avLst>
              <a:gd name="adj" fmla="val 25000"/>
            </a:avLst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66"/>
                </a:solidFill>
                <a:latin typeface="Arial Narrow"/>
              </a:rPr>
              <a:t>Global Cat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29"/>
          <a:stretch/>
        </p:blipFill>
        <p:spPr>
          <a:xfrm>
            <a:off x="4038480" y="3505320"/>
            <a:ext cx="435240" cy="99036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6095880" y="2895480"/>
            <a:ext cx="381240" cy="3810240"/>
          </a:xfrm>
          <a:custGeom>
            <a:avLst/>
            <a:gdLst>
              <a:gd name="textAreaLeft" fmla="*/ 243720 w 381240"/>
              <a:gd name="textAreaRight" fmla="*/ 381600 w 3812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499280" y="33526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sz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962520"/>
            <a:ext cx="60984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80640" y="34434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051000" y="342900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Egy vagy több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721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erdős modell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ározzuk meg az erdő szintű változtatásokért felelős adminisztrátor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agság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erdőre van szükség, ha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lehet egyértelműen meghatározni a címtár sém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a tranzitív kapcsolat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702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703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0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6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13" name=""/>
                <p:cNvCxnSpPr>
                  <a:stCxn id="1712" idx="1"/>
                  <a:endCxn id="1708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4" name=""/>
                <p:cNvCxnSpPr>
                  <a:stCxn id="1712" idx="1"/>
                  <a:endCxn id="1711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5" name=""/>
                <p:cNvCxnSpPr>
                  <a:stCxn id="1712" idx="1"/>
                  <a:endCxn id="1709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6" name=""/>
                <p:cNvCxnSpPr>
                  <a:stCxn id="1708" idx="6"/>
                  <a:endCxn id="1710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7" name=""/>
                <p:cNvCxnSpPr>
                  <a:stCxn id="1708" idx="6"/>
                  <a:endCxn id="1706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18" name=""/>
                <p:cNvCxnSpPr>
                  <a:stCxn id="1708" idx="6"/>
                  <a:endCxn id="1707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19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2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2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29" name=""/>
                <p:cNvCxnSpPr>
                  <a:stCxn id="1728" idx="1"/>
                  <a:endCxn id="1724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0" name=""/>
                <p:cNvCxnSpPr>
                  <a:stCxn id="1728" idx="1"/>
                  <a:endCxn id="1727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1" name=""/>
                <p:cNvCxnSpPr>
                  <a:stCxn id="1728" idx="1"/>
                  <a:endCxn id="1725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2" name=""/>
                <p:cNvCxnSpPr>
                  <a:stCxn id="1724" idx="6"/>
                  <a:endCxn id="1726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3" name=""/>
                <p:cNvCxnSpPr>
                  <a:stCxn id="1724" idx="6"/>
                  <a:endCxn id="1722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34" name=""/>
                <p:cNvCxnSpPr>
                  <a:stCxn id="1724" idx="6"/>
                  <a:endCxn id="1723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35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3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8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4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45" name=""/>
                <p:cNvCxnSpPr>
                  <a:stCxn id="1744" idx="1"/>
                  <a:endCxn id="1740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6" name=""/>
                <p:cNvCxnSpPr>
                  <a:stCxn id="1744" idx="1"/>
                  <a:endCxn id="1743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7" name=""/>
                <p:cNvCxnSpPr>
                  <a:stCxn id="1744" idx="1"/>
                  <a:endCxn id="1741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8" name=""/>
                <p:cNvCxnSpPr>
                  <a:stCxn id="1740" idx="6"/>
                  <a:endCxn id="1742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49" name=""/>
                <p:cNvCxnSpPr>
                  <a:stCxn id="1740" idx="6"/>
                  <a:endCxn id="1738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50" name=""/>
                <p:cNvCxnSpPr>
                  <a:stCxn id="1740" idx="6"/>
                  <a:endCxn id="1739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751" name=""/>
              <p:cNvCxnSpPr>
                <a:stCxn id="1704" idx="4"/>
                <a:endCxn id="1737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752" name=""/>
              <p:cNvCxnSpPr>
                <a:stCxn id="1704" idx="2"/>
                <a:endCxn id="1721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753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5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7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64" name=""/>
                <p:cNvCxnSpPr>
                  <a:stCxn id="1763" idx="1"/>
                  <a:endCxn id="1759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5" name=""/>
                <p:cNvCxnSpPr>
                  <a:stCxn id="1763" idx="1"/>
                  <a:endCxn id="1762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6" name=""/>
                <p:cNvCxnSpPr>
                  <a:stCxn id="1763" idx="1"/>
                  <a:endCxn id="1760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7" name=""/>
                <p:cNvCxnSpPr>
                  <a:stCxn id="1759" idx="6"/>
                  <a:endCxn id="1761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8" name=""/>
                <p:cNvCxnSpPr>
                  <a:stCxn id="1759" idx="6"/>
                  <a:endCxn id="1757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69" name=""/>
                <p:cNvCxnSpPr>
                  <a:stCxn id="1759" idx="6"/>
                  <a:endCxn id="1758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70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80" name=""/>
                <p:cNvCxnSpPr>
                  <a:stCxn id="1779" idx="1"/>
                  <a:endCxn id="1775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1" name=""/>
                <p:cNvCxnSpPr>
                  <a:stCxn id="1779" idx="1"/>
                  <a:endCxn id="1778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2" name=""/>
                <p:cNvCxnSpPr>
                  <a:stCxn id="1779" idx="1"/>
                  <a:endCxn id="1776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3" name=""/>
                <p:cNvCxnSpPr>
                  <a:stCxn id="1775" idx="6"/>
                  <a:endCxn id="1777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4" name=""/>
                <p:cNvCxnSpPr>
                  <a:stCxn id="1775" idx="6"/>
                  <a:endCxn id="1773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85" name=""/>
                <p:cNvCxnSpPr>
                  <a:stCxn id="1775" idx="6"/>
                  <a:endCxn id="1774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786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8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9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9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796" name=""/>
                <p:cNvCxnSpPr>
                  <a:stCxn id="1795" idx="1"/>
                  <a:endCxn id="1791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7" name=""/>
                <p:cNvCxnSpPr>
                  <a:stCxn id="1795" idx="1"/>
                  <a:endCxn id="1794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8" name=""/>
                <p:cNvCxnSpPr>
                  <a:stCxn id="1795" idx="1"/>
                  <a:endCxn id="1792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799" name=""/>
                <p:cNvCxnSpPr>
                  <a:stCxn id="1791" idx="6"/>
                  <a:endCxn id="1793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0" name=""/>
                <p:cNvCxnSpPr>
                  <a:stCxn id="1791" idx="6"/>
                  <a:endCxn id="1789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01" name=""/>
                <p:cNvCxnSpPr>
                  <a:stCxn id="1791" idx="6"/>
                  <a:endCxn id="1790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02" name=""/>
              <p:cNvCxnSpPr>
                <a:stCxn id="1755" idx="4"/>
                <a:endCxn id="1788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03" name=""/>
              <p:cNvCxnSpPr>
                <a:stCxn id="1755" idx="2"/>
                <a:endCxn id="1772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804" name=""/>
            <p:cNvCxnSpPr>
              <a:stCxn id="1705" idx="3"/>
              <a:endCxn id="1756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erdők közötti kapcsola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510840" y="1949400"/>
            <a:ext cx="8480520" cy="43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bb Global Catalog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knak több GC-t kell elérni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erdő esetén az adatcsere csak import/export segédeszközökkel lehetsé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onfigurációt és sémát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ülön kell menedzs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xplicit, nem tranzitív kapcsolato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létes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808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809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810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2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19" name=""/>
                <p:cNvCxnSpPr>
                  <a:stCxn id="1818" idx="1"/>
                  <a:endCxn id="1814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0" name=""/>
                <p:cNvCxnSpPr>
                  <a:stCxn id="1818" idx="1"/>
                  <a:endCxn id="1817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1" name=""/>
                <p:cNvCxnSpPr>
                  <a:stCxn id="1818" idx="1"/>
                  <a:endCxn id="1815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2" name=""/>
                <p:cNvCxnSpPr>
                  <a:stCxn id="1814" idx="6"/>
                  <a:endCxn id="1816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3" name=""/>
                <p:cNvCxnSpPr>
                  <a:stCxn id="1814" idx="6"/>
                  <a:endCxn id="1812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24" name=""/>
                <p:cNvCxnSpPr>
                  <a:stCxn id="1814" idx="6"/>
                  <a:endCxn id="1813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25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2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8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3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35" name=""/>
                <p:cNvCxnSpPr>
                  <a:stCxn id="1834" idx="1"/>
                  <a:endCxn id="1830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6" name=""/>
                <p:cNvCxnSpPr>
                  <a:stCxn id="1834" idx="1"/>
                  <a:endCxn id="1833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7" name=""/>
                <p:cNvCxnSpPr>
                  <a:stCxn id="1834" idx="1"/>
                  <a:endCxn id="1831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8" name=""/>
                <p:cNvCxnSpPr>
                  <a:stCxn id="1830" idx="6"/>
                  <a:endCxn id="1832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39" name=""/>
                <p:cNvCxnSpPr>
                  <a:stCxn id="1830" idx="6"/>
                  <a:endCxn id="1828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40" name=""/>
                <p:cNvCxnSpPr>
                  <a:stCxn id="1830" idx="6"/>
                  <a:endCxn id="1829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41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4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4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5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51" name=""/>
                <p:cNvCxnSpPr>
                  <a:stCxn id="1850" idx="1"/>
                  <a:endCxn id="1846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2" name=""/>
                <p:cNvCxnSpPr>
                  <a:stCxn id="1850" idx="1"/>
                  <a:endCxn id="1849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3" name=""/>
                <p:cNvCxnSpPr>
                  <a:stCxn id="1850" idx="1"/>
                  <a:endCxn id="1847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4" name=""/>
                <p:cNvCxnSpPr>
                  <a:stCxn id="1846" idx="6"/>
                  <a:endCxn id="1848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5" name=""/>
                <p:cNvCxnSpPr>
                  <a:stCxn id="1846" idx="6"/>
                  <a:endCxn id="1844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56" name=""/>
                <p:cNvCxnSpPr>
                  <a:stCxn id="1846" idx="6"/>
                  <a:endCxn id="1845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857" name=""/>
              <p:cNvCxnSpPr>
                <a:stCxn id="1810" idx="4"/>
                <a:endCxn id="1843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858" name=""/>
              <p:cNvCxnSpPr>
                <a:stCxn id="1810" idx="2"/>
                <a:endCxn id="1827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859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860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3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6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70" name=""/>
                <p:cNvCxnSpPr>
                  <a:stCxn id="1869" idx="1"/>
                  <a:endCxn id="1865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1" name=""/>
                <p:cNvCxnSpPr>
                  <a:stCxn id="1869" idx="1"/>
                  <a:endCxn id="1868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2" name=""/>
                <p:cNvCxnSpPr>
                  <a:stCxn id="1869" idx="1"/>
                  <a:endCxn id="1866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3" name=""/>
                <p:cNvCxnSpPr>
                  <a:stCxn id="1865" idx="6"/>
                  <a:endCxn id="1867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4" name=""/>
                <p:cNvCxnSpPr>
                  <a:stCxn id="1865" idx="6"/>
                  <a:endCxn id="1863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75" name=""/>
                <p:cNvCxnSpPr>
                  <a:stCxn id="1865" idx="6"/>
                  <a:endCxn id="1864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76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7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9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8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886" name=""/>
                <p:cNvCxnSpPr>
                  <a:stCxn id="1885" idx="1"/>
                  <a:endCxn id="1881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7" name=""/>
                <p:cNvCxnSpPr>
                  <a:stCxn id="1885" idx="1"/>
                  <a:endCxn id="1884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8" name=""/>
                <p:cNvCxnSpPr>
                  <a:stCxn id="1885" idx="1"/>
                  <a:endCxn id="1882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89" name=""/>
                <p:cNvCxnSpPr>
                  <a:stCxn id="1881" idx="6"/>
                  <a:endCxn id="1883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0" name=""/>
                <p:cNvCxnSpPr>
                  <a:stCxn id="1881" idx="6"/>
                  <a:endCxn id="1879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891" name=""/>
                <p:cNvCxnSpPr>
                  <a:stCxn id="1881" idx="6"/>
                  <a:endCxn id="1880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892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9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5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0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02" name=""/>
                <p:cNvCxnSpPr>
                  <a:stCxn id="1901" idx="1"/>
                  <a:endCxn id="1897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3" name=""/>
                <p:cNvCxnSpPr>
                  <a:stCxn id="1901" idx="1"/>
                  <a:endCxn id="1900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4" name=""/>
                <p:cNvCxnSpPr>
                  <a:stCxn id="1901" idx="1"/>
                  <a:endCxn id="1898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5" name=""/>
                <p:cNvCxnSpPr>
                  <a:stCxn id="1897" idx="6"/>
                  <a:endCxn id="1899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6" name=""/>
                <p:cNvCxnSpPr>
                  <a:stCxn id="1897" idx="6"/>
                  <a:endCxn id="1895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07" name=""/>
                <p:cNvCxnSpPr>
                  <a:stCxn id="1897" idx="6"/>
                  <a:endCxn id="1896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08" name=""/>
              <p:cNvCxnSpPr>
                <a:stCxn id="1861" idx="4"/>
                <a:endCxn id="1894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09" name=""/>
              <p:cNvCxnSpPr>
                <a:stCxn id="1861" idx="2"/>
                <a:endCxn id="1878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1910" name=""/>
            <p:cNvCxnSpPr>
              <a:stCxn id="1811" idx="3"/>
              <a:endCxn id="1862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rdők nem választhatók el, és nem kapcsolhatók öss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 keletkezésükkor kapcsolódnak az erdő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rtományokat nem lehet erdők között mozgat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edi objektumokat mozgathatunk az erdők közö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k import/export:  LDIFDE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and groups:  Clone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s:  NETDOM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934320" y="228600"/>
            <a:ext cx="1914120" cy="837720"/>
            <a:chOff x="6934320" y="228600"/>
            <a:chExt cx="1914120" cy="837720"/>
          </a:xfrm>
        </p:grpSpPr>
        <p:grpSp>
          <p:nvGrpSpPr>
            <p:cNvPr id="1914" name=""/>
            <p:cNvGrpSpPr/>
            <p:nvPr/>
          </p:nvGrpSpPr>
          <p:grpSpPr>
            <a:xfrm>
              <a:off x="6934320" y="228600"/>
              <a:ext cx="928800" cy="837720"/>
              <a:chOff x="6934320" y="228600"/>
              <a:chExt cx="928800" cy="837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7185240" y="228600"/>
                <a:ext cx="428400" cy="388800"/>
                <a:chOff x="7185240" y="228600"/>
                <a:chExt cx="428400" cy="38880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718524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1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3500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8" name=""/>
                <p:cNvSpPr/>
                <p:nvPr/>
              </p:nvSpPr>
              <p:spPr>
                <a:xfrm>
                  <a:off x="74332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4332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73504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735048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43328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735048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804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25" name=""/>
                <p:cNvCxnSpPr>
                  <a:stCxn id="1924" idx="1"/>
                  <a:endCxn id="1920" idx="2"/>
                </p:cNvCxnSpPr>
                <p:nvPr/>
              </p:nvCxnSpPr>
              <p:spPr>
                <a:xfrm flipV="1" rot="10800000">
                  <a:off x="734976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6" name=""/>
                <p:cNvCxnSpPr>
                  <a:stCxn id="1924" idx="1"/>
                  <a:endCxn id="1923" idx="2"/>
                </p:cNvCxnSpPr>
                <p:nvPr/>
              </p:nvCxnSpPr>
              <p:spPr>
                <a:xfrm flipV="1" rot="10800000">
                  <a:off x="734976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7" name=""/>
                <p:cNvCxnSpPr>
                  <a:stCxn id="1924" idx="1"/>
                  <a:endCxn id="1921" idx="2"/>
                </p:cNvCxnSpPr>
                <p:nvPr/>
              </p:nvCxnSpPr>
              <p:spPr>
                <a:xfrm flipV="1" rot="10800000">
                  <a:off x="734976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8" name=""/>
                <p:cNvCxnSpPr>
                  <a:stCxn id="1920" idx="6"/>
                  <a:endCxn id="1922" idx="2"/>
                </p:cNvCxnSpPr>
                <p:nvPr/>
              </p:nvCxnSpPr>
              <p:spPr>
                <a:xfrm>
                  <a:off x="739584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29" name=""/>
                <p:cNvCxnSpPr>
                  <a:stCxn id="1920" idx="6"/>
                  <a:endCxn id="1918" idx="2"/>
                </p:cNvCxnSpPr>
                <p:nvPr/>
              </p:nvCxnSpPr>
              <p:spPr>
                <a:xfrm>
                  <a:off x="739584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30" name=""/>
                <p:cNvCxnSpPr>
                  <a:stCxn id="1920" idx="6"/>
                  <a:endCxn id="1919" idx="2"/>
                </p:cNvCxnSpPr>
                <p:nvPr/>
              </p:nvCxnSpPr>
              <p:spPr>
                <a:xfrm>
                  <a:off x="739584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31" name=""/>
              <p:cNvGrpSpPr/>
              <p:nvPr/>
            </p:nvGrpSpPr>
            <p:grpSpPr>
              <a:xfrm>
                <a:off x="6934320" y="677520"/>
                <a:ext cx="428400" cy="388800"/>
                <a:chOff x="6934320" y="677520"/>
                <a:chExt cx="428400" cy="38880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69343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0840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4" name=""/>
                <p:cNvSpPr/>
                <p:nvPr/>
              </p:nvSpPr>
              <p:spPr>
                <a:xfrm>
                  <a:off x="71823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1823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0995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0995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1823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0995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071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41" name=""/>
                <p:cNvCxnSpPr>
                  <a:stCxn id="1940" idx="1"/>
                  <a:endCxn id="1936" idx="2"/>
                </p:cNvCxnSpPr>
                <p:nvPr/>
              </p:nvCxnSpPr>
              <p:spPr>
                <a:xfrm flipV="1" rot="10800000">
                  <a:off x="70988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2" name=""/>
                <p:cNvCxnSpPr>
                  <a:stCxn id="1940" idx="1"/>
                  <a:endCxn id="1939" idx="2"/>
                </p:cNvCxnSpPr>
                <p:nvPr/>
              </p:nvCxnSpPr>
              <p:spPr>
                <a:xfrm flipV="1" rot="10800000">
                  <a:off x="70988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3" name=""/>
                <p:cNvCxnSpPr>
                  <a:stCxn id="1940" idx="1"/>
                  <a:endCxn id="1937" idx="2"/>
                </p:cNvCxnSpPr>
                <p:nvPr/>
              </p:nvCxnSpPr>
              <p:spPr>
                <a:xfrm flipV="1" rot="10800000">
                  <a:off x="70988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4" name=""/>
                <p:cNvCxnSpPr>
                  <a:stCxn id="1936" idx="6"/>
                  <a:endCxn id="1938" idx="2"/>
                </p:cNvCxnSpPr>
                <p:nvPr/>
              </p:nvCxnSpPr>
              <p:spPr>
                <a:xfrm>
                  <a:off x="71449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5" name=""/>
                <p:cNvCxnSpPr>
                  <a:stCxn id="1936" idx="6"/>
                  <a:endCxn id="1934" idx="2"/>
                </p:cNvCxnSpPr>
                <p:nvPr/>
              </p:nvCxnSpPr>
              <p:spPr>
                <a:xfrm>
                  <a:off x="71449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46" name=""/>
                <p:cNvCxnSpPr>
                  <a:stCxn id="1936" idx="6"/>
                  <a:endCxn id="1935" idx="2"/>
                </p:cNvCxnSpPr>
                <p:nvPr/>
              </p:nvCxnSpPr>
              <p:spPr>
                <a:xfrm>
                  <a:off x="71449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47" name=""/>
              <p:cNvGrpSpPr/>
              <p:nvPr/>
            </p:nvGrpSpPr>
            <p:grpSpPr>
              <a:xfrm>
                <a:off x="7434720" y="677520"/>
                <a:ext cx="428400" cy="388800"/>
                <a:chOff x="7434720" y="677520"/>
                <a:chExt cx="428400" cy="38880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743472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4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8448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0" name=""/>
                <p:cNvSpPr/>
                <p:nvPr/>
              </p:nvSpPr>
              <p:spPr>
                <a:xfrm>
                  <a:off x="76827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76827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5999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759996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68276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59996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5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0752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57" name=""/>
                <p:cNvCxnSpPr>
                  <a:stCxn id="1956" idx="1"/>
                  <a:endCxn id="1952" idx="2"/>
                </p:cNvCxnSpPr>
                <p:nvPr/>
              </p:nvCxnSpPr>
              <p:spPr>
                <a:xfrm flipV="1" rot="10800000">
                  <a:off x="759924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8" name=""/>
                <p:cNvCxnSpPr>
                  <a:stCxn id="1956" idx="1"/>
                  <a:endCxn id="1955" idx="2"/>
                </p:cNvCxnSpPr>
                <p:nvPr/>
              </p:nvCxnSpPr>
              <p:spPr>
                <a:xfrm flipV="1" rot="10800000">
                  <a:off x="759924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59" name=""/>
                <p:cNvCxnSpPr>
                  <a:stCxn id="1956" idx="1"/>
                  <a:endCxn id="1953" idx="2"/>
                </p:cNvCxnSpPr>
                <p:nvPr/>
              </p:nvCxnSpPr>
              <p:spPr>
                <a:xfrm flipV="1" rot="10800000">
                  <a:off x="759924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0" name=""/>
                <p:cNvCxnSpPr>
                  <a:stCxn id="1952" idx="6"/>
                  <a:endCxn id="1954" idx="2"/>
                </p:cNvCxnSpPr>
                <p:nvPr/>
              </p:nvCxnSpPr>
              <p:spPr>
                <a:xfrm>
                  <a:off x="764532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1" name=""/>
                <p:cNvCxnSpPr>
                  <a:stCxn id="1952" idx="6"/>
                  <a:endCxn id="1950" idx="2"/>
                </p:cNvCxnSpPr>
                <p:nvPr/>
              </p:nvCxnSpPr>
              <p:spPr>
                <a:xfrm>
                  <a:off x="764532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62" name=""/>
                <p:cNvCxnSpPr>
                  <a:stCxn id="1952" idx="6"/>
                  <a:endCxn id="1951" idx="2"/>
                </p:cNvCxnSpPr>
                <p:nvPr/>
              </p:nvCxnSpPr>
              <p:spPr>
                <a:xfrm>
                  <a:off x="764532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1963" name=""/>
              <p:cNvCxnSpPr>
                <a:stCxn id="1916" idx="4"/>
                <a:endCxn id="1949" idx="0"/>
              </p:cNvCxnSpPr>
              <p:nvPr/>
            </p:nvCxnSpPr>
            <p:spPr>
              <a:xfrm>
                <a:off x="761364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1964" name=""/>
              <p:cNvCxnSpPr>
                <a:stCxn id="1916" idx="2"/>
                <a:endCxn id="1933" idx="0"/>
              </p:cNvCxnSpPr>
              <p:nvPr/>
            </p:nvCxnSpPr>
            <p:spPr>
              <a:xfrm flipH="1">
                <a:off x="714636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1965" name=""/>
            <p:cNvGrpSpPr/>
            <p:nvPr/>
          </p:nvGrpSpPr>
          <p:grpSpPr>
            <a:xfrm>
              <a:off x="7919640" y="228600"/>
              <a:ext cx="928800" cy="837720"/>
              <a:chOff x="7919640" y="228600"/>
              <a:chExt cx="928800" cy="837720"/>
            </a:xfrm>
          </p:grpSpPr>
          <p:grpSp>
            <p:nvGrpSpPr>
              <p:cNvPr id="1966" name=""/>
              <p:cNvGrpSpPr/>
              <p:nvPr/>
            </p:nvGrpSpPr>
            <p:grpSpPr>
              <a:xfrm>
                <a:off x="8170560" y="228600"/>
                <a:ext cx="428400" cy="388800"/>
                <a:chOff x="8170560" y="228600"/>
                <a:chExt cx="428400" cy="38880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8170560" y="25632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6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320320" y="22860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9" name=""/>
                <p:cNvSpPr/>
                <p:nvPr/>
              </p:nvSpPr>
              <p:spPr>
                <a:xfrm>
                  <a:off x="84186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84186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3358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335800" y="567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418600" y="45900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335800" y="51624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7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343360" y="37692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76" name=""/>
                <p:cNvCxnSpPr>
                  <a:stCxn id="1975" idx="1"/>
                  <a:endCxn id="1971" idx="2"/>
                </p:cNvCxnSpPr>
                <p:nvPr/>
              </p:nvCxnSpPr>
              <p:spPr>
                <a:xfrm flipV="1" rot="10800000">
                  <a:off x="8335080" y="40644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7" name=""/>
                <p:cNvCxnSpPr>
                  <a:stCxn id="1975" idx="1"/>
                  <a:endCxn id="1974" idx="2"/>
                </p:cNvCxnSpPr>
                <p:nvPr/>
              </p:nvCxnSpPr>
              <p:spPr>
                <a:xfrm flipV="1" rot="10800000">
                  <a:off x="8335080" y="40644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8" name=""/>
                <p:cNvCxnSpPr>
                  <a:stCxn id="1975" idx="1"/>
                  <a:endCxn id="1972" idx="2"/>
                </p:cNvCxnSpPr>
                <p:nvPr/>
              </p:nvCxnSpPr>
              <p:spPr>
                <a:xfrm flipV="1" rot="10800000">
                  <a:off x="8335080" y="40716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79" name=""/>
                <p:cNvCxnSpPr>
                  <a:stCxn id="1971" idx="6"/>
                  <a:endCxn id="1973" idx="2"/>
                </p:cNvCxnSpPr>
                <p:nvPr/>
              </p:nvCxnSpPr>
              <p:spPr>
                <a:xfrm>
                  <a:off x="8381160" y="47556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0" name=""/>
                <p:cNvCxnSpPr>
                  <a:stCxn id="1971" idx="6"/>
                  <a:endCxn id="1969" idx="2"/>
                </p:cNvCxnSpPr>
                <p:nvPr/>
              </p:nvCxnSpPr>
              <p:spPr>
                <a:xfrm>
                  <a:off x="8381160" y="47592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81" name=""/>
                <p:cNvCxnSpPr>
                  <a:stCxn id="1971" idx="6"/>
                  <a:endCxn id="1970" idx="2"/>
                </p:cNvCxnSpPr>
                <p:nvPr/>
              </p:nvCxnSpPr>
              <p:spPr>
                <a:xfrm>
                  <a:off x="8381160" y="47556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82" name=""/>
              <p:cNvGrpSpPr/>
              <p:nvPr/>
            </p:nvGrpSpPr>
            <p:grpSpPr>
              <a:xfrm>
                <a:off x="7919640" y="677520"/>
                <a:ext cx="428400" cy="388800"/>
                <a:chOff x="7919640" y="677520"/>
                <a:chExt cx="428400" cy="38880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79196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8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0694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5" name=""/>
                <p:cNvSpPr/>
                <p:nvPr/>
              </p:nvSpPr>
              <p:spPr>
                <a:xfrm>
                  <a:off x="81676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81676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80848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80848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81676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80848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0924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1992" name=""/>
                <p:cNvCxnSpPr>
                  <a:stCxn id="1991" idx="1"/>
                  <a:endCxn id="1987" idx="2"/>
                </p:cNvCxnSpPr>
                <p:nvPr/>
              </p:nvCxnSpPr>
              <p:spPr>
                <a:xfrm flipV="1" rot="10800000">
                  <a:off x="80841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3" name=""/>
                <p:cNvCxnSpPr>
                  <a:stCxn id="1991" idx="1"/>
                  <a:endCxn id="1990" idx="2"/>
                </p:cNvCxnSpPr>
                <p:nvPr/>
              </p:nvCxnSpPr>
              <p:spPr>
                <a:xfrm flipV="1" rot="10800000">
                  <a:off x="80841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4" name=""/>
                <p:cNvCxnSpPr>
                  <a:stCxn id="1991" idx="1"/>
                  <a:endCxn id="1988" idx="2"/>
                </p:cNvCxnSpPr>
                <p:nvPr/>
              </p:nvCxnSpPr>
              <p:spPr>
                <a:xfrm flipV="1" rot="10800000">
                  <a:off x="80841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5" name=""/>
                <p:cNvCxnSpPr>
                  <a:stCxn id="1987" idx="6"/>
                  <a:endCxn id="1989" idx="2"/>
                </p:cNvCxnSpPr>
                <p:nvPr/>
              </p:nvCxnSpPr>
              <p:spPr>
                <a:xfrm>
                  <a:off x="81302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6" name=""/>
                <p:cNvCxnSpPr>
                  <a:stCxn id="1987" idx="6"/>
                  <a:endCxn id="1985" idx="2"/>
                </p:cNvCxnSpPr>
                <p:nvPr/>
              </p:nvCxnSpPr>
              <p:spPr>
                <a:xfrm>
                  <a:off x="81302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1997" name=""/>
                <p:cNvCxnSpPr>
                  <a:stCxn id="1987" idx="6"/>
                  <a:endCxn id="1986" idx="2"/>
                </p:cNvCxnSpPr>
                <p:nvPr/>
              </p:nvCxnSpPr>
              <p:spPr>
                <a:xfrm>
                  <a:off x="81302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grpSp>
            <p:nvGrpSpPr>
              <p:cNvPr id="1998" name=""/>
              <p:cNvGrpSpPr/>
              <p:nvPr/>
            </p:nvGrpSpPr>
            <p:grpSpPr>
              <a:xfrm>
                <a:off x="8420040" y="677520"/>
                <a:ext cx="428400" cy="388800"/>
                <a:chOff x="8420040" y="677520"/>
                <a:chExt cx="428400" cy="38880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8420040" y="705240"/>
                  <a:ext cx="428400" cy="361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93a7e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69800" y="677520"/>
                  <a:ext cx="125640" cy="11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1" name=""/>
                <p:cNvSpPr/>
                <p:nvPr/>
              </p:nvSpPr>
              <p:spPr>
                <a:xfrm>
                  <a:off x="86680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86680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85852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8585280" y="1015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8668080" y="90792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8585280" y="965160"/>
                  <a:ext cx="45000" cy="3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592840" y="825840"/>
                  <a:ext cx="71280" cy="61200"/>
                </a:xfrm>
                <a:prstGeom prst="rect">
                  <a:avLst/>
                </a:prstGeom>
                <a:ln w="0">
                  <a:noFill/>
                </a:ln>
              </p:spPr>
            </p:pic>
            <p:cxnSp>
              <p:nvCxnSpPr>
                <p:cNvPr id="2008" name=""/>
                <p:cNvCxnSpPr>
                  <a:stCxn id="2007" idx="1"/>
                  <a:endCxn id="2003" idx="2"/>
                </p:cNvCxnSpPr>
                <p:nvPr/>
              </p:nvCxnSpPr>
              <p:spPr>
                <a:xfrm flipV="1" rot="10800000">
                  <a:off x="8584560" y="855360"/>
                  <a:ext cx="7920" cy="6876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09" name=""/>
                <p:cNvCxnSpPr>
                  <a:stCxn id="2007" idx="1"/>
                  <a:endCxn id="2006" idx="2"/>
                </p:cNvCxnSpPr>
                <p:nvPr/>
              </p:nvCxnSpPr>
              <p:spPr>
                <a:xfrm flipV="1" rot="10800000">
                  <a:off x="8584560" y="855360"/>
                  <a:ext cx="7920" cy="12564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0" name=""/>
                <p:cNvCxnSpPr>
                  <a:stCxn id="2007" idx="1"/>
                  <a:endCxn id="2004" idx="2"/>
                </p:cNvCxnSpPr>
                <p:nvPr/>
              </p:nvCxnSpPr>
              <p:spPr>
                <a:xfrm flipV="1" rot="10800000">
                  <a:off x="8584560" y="856080"/>
                  <a:ext cx="7920" cy="176400"/>
                </a:xfrm>
                <a:prstGeom prst="bentConnector3">
                  <a:avLst>
                    <a:gd name="adj1" fmla="val 400000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1" name=""/>
                <p:cNvCxnSpPr>
                  <a:stCxn id="2003" idx="6"/>
                  <a:endCxn id="2005" idx="2"/>
                </p:cNvCxnSpPr>
                <p:nvPr/>
              </p:nvCxnSpPr>
              <p:spPr>
                <a:xfrm>
                  <a:off x="8630640" y="924480"/>
                  <a:ext cx="38160" cy="1080"/>
                </a:xfrm>
                <a:prstGeom prst="bentConnector2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2" name=""/>
                <p:cNvCxnSpPr>
                  <a:stCxn id="2003" idx="6"/>
                  <a:endCxn id="2001" idx="2"/>
                </p:cNvCxnSpPr>
                <p:nvPr/>
              </p:nvCxnSpPr>
              <p:spPr>
                <a:xfrm>
                  <a:off x="8630640" y="924840"/>
                  <a:ext cx="38160" cy="5760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  <p:cxnSp>
              <p:nvCxnSpPr>
                <p:cNvPr id="2013" name=""/>
                <p:cNvCxnSpPr>
                  <a:stCxn id="2003" idx="6"/>
                  <a:endCxn id="2002" idx="2"/>
                </p:cNvCxnSpPr>
                <p:nvPr/>
              </p:nvCxnSpPr>
              <p:spPr>
                <a:xfrm>
                  <a:off x="8630640" y="924480"/>
                  <a:ext cx="38160" cy="108360"/>
                </a:xfrm>
                <a:prstGeom prst="bentConnector3">
                  <a:avLst>
                    <a:gd name="adj1" fmla="val 49523"/>
                  </a:avLst>
                </a:prstGeom>
                <a:ln w="12600">
                  <a:solidFill>
                    <a:srgbClr val="ffffff"/>
                  </a:solidFill>
                  <a:miter/>
                </a:ln>
              </p:spPr>
            </p:cxnSp>
          </p:grpSp>
          <p:cxnSp>
            <p:nvCxnSpPr>
              <p:cNvPr id="2014" name=""/>
              <p:cNvCxnSpPr>
                <a:stCxn id="1967" idx="4"/>
                <a:endCxn id="2000" idx="0"/>
              </p:cNvCxnSpPr>
              <p:nvPr/>
            </p:nvCxnSpPr>
            <p:spPr>
              <a:xfrm>
                <a:off x="8598960" y="617040"/>
                <a:ext cx="3420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15" name=""/>
              <p:cNvCxnSpPr>
                <a:stCxn id="1967" idx="2"/>
                <a:endCxn id="1984" idx="0"/>
              </p:cNvCxnSpPr>
              <p:nvPr/>
            </p:nvCxnSpPr>
            <p:spPr>
              <a:xfrm flipH="1">
                <a:off x="8131680" y="617040"/>
                <a:ext cx="38880" cy="6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16" name=""/>
            <p:cNvCxnSpPr>
              <a:stCxn id="1917" idx="3"/>
              <a:endCxn id="1968" idx="1"/>
            </p:cNvCxnSpPr>
            <p:nvPr/>
          </p:nvCxnSpPr>
          <p:spPr>
            <a:xfrm>
              <a:off x="7460640" y="286560"/>
              <a:ext cx="8596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380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tartomány az erdő egy partí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plikációs környe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Rendszerfelügyeleti és biztonsági eg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ülön tartomány adminisztátorokkal rendelkez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szervezeti egység hierarch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Önálló biztonsági háziren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őforrás védelmet határolja el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Domain Local Group, Domain Global Gro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2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2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30" name=""/>
              <p:cNvCxnSpPr>
                <a:stCxn id="2029" idx="1"/>
                <a:endCxn id="202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1" name=""/>
              <p:cNvCxnSpPr>
                <a:stCxn id="2029" idx="1"/>
                <a:endCxn id="202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2" name=""/>
              <p:cNvCxnSpPr>
                <a:stCxn id="2029" idx="1"/>
                <a:endCxn id="202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3" name=""/>
              <p:cNvCxnSpPr>
                <a:stCxn id="2025" idx="6"/>
                <a:endCxn id="202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4" name=""/>
              <p:cNvCxnSpPr>
                <a:stCxn id="2025" idx="6"/>
                <a:endCxn id="202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35" name=""/>
              <p:cNvCxnSpPr>
                <a:stCxn id="2025" idx="6"/>
                <a:endCxn id="202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3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03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3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46" name=""/>
              <p:cNvCxnSpPr>
                <a:stCxn id="2045" idx="1"/>
                <a:endCxn id="204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7" name=""/>
              <p:cNvCxnSpPr>
                <a:stCxn id="2045" idx="1"/>
                <a:endCxn id="204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8" name=""/>
              <p:cNvCxnSpPr>
                <a:stCxn id="2045" idx="1"/>
                <a:endCxn id="204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49" name=""/>
              <p:cNvCxnSpPr>
                <a:stCxn id="2041" idx="6"/>
                <a:endCxn id="204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0" name=""/>
              <p:cNvCxnSpPr>
                <a:stCxn id="2041" idx="6"/>
                <a:endCxn id="203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51" name=""/>
              <p:cNvCxnSpPr>
                <a:stCxn id="2041" idx="6"/>
                <a:endCxn id="204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05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05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062" name=""/>
              <p:cNvCxnSpPr>
                <a:stCxn id="2061" idx="1"/>
                <a:endCxn id="205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3" name=""/>
              <p:cNvCxnSpPr>
                <a:stCxn id="2061" idx="1"/>
                <a:endCxn id="206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4" name=""/>
              <p:cNvCxnSpPr>
                <a:stCxn id="2061" idx="1"/>
                <a:endCxn id="205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5" name=""/>
              <p:cNvCxnSpPr>
                <a:stCxn id="2057" idx="6"/>
                <a:endCxn id="205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6" name=""/>
              <p:cNvCxnSpPr>
                <a:stCxn id="2057" idx="6"/>
                <a:endCxn id="205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067" name=""/>
              <p:cNvCxnSpPr>
                <a:stCxn id="2057" idx="6"/>
                <a:endCxn id="205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068" name=""/>
            <p:cNvCxnSpPr>
              <a:stCxn id="2021" idx="4"/>
              <a:endCxn id="205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069" name=""/>
            <p:cNvCxnSpPr>
              <a:stCxn id="2021" idx="2"/>
              <a:endCxn id="203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070" name=""/>
          <p:cNvSpPr/>
          <p:nvPr/>
        </p:nvSpPr>
        <p:spPr>
          <a:xfrm>
            <a:off x="6423120" y="4637160"/>
            <a:ext cx="2187360" cy="2092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7102440" y="4005360"/>
          <a:ext cx="774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2440" y="4005360"/>
                    <a:ext cx="774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3" name=""/>
          <p:cNvSpPr/>
          <p:nvPr/>
        </p:nvSpPr>
        <p:spPr>
          <a:xfrm>
            <a:off x="77104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7104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71992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199280" y="637380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7710480" y="5619600"/>
            <a:ext cx="277920" cy="23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199280" y="6019920"/>
            <a:ext cx="277920" cy="2332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9" name=""/>
          <p:cNvGraphicFramePr/>
          <p:nvPr/>
        </p:nvGraphicFramePr>
        <p:xfrm>
          <a:off x="7245360" y="5043600"/>
          <a:ext cx="44136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45360" y="5043600"/>
                    <a:ext cx="44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081" name=""/>
          <p:cNvCxnSpPr>
            <a:endCxn id="2075" idx="2"/>
          </p:cNvCxnSpPr>
          <p:nvPr/>
        </p:nvCxnSpPr>
        <p:spPr>
          <a:xfrm flipV="1" rot="10800000">
            <a:off x="7198560" y="5258880"/>
            <a:ext cx="46800" cy="4788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2" name=""/>
          <p:cNvCxnSpPr>
            <a:endCxn id="2078" idx="2"/>
          </p:cNvCxnSpPr>
          <p:nvPr/>
        </p:nvCxnSpPr>
        <p:spPr>
          <a:xfrm flipV="1" rot="10800000">
            <a:off x="7198560" y="5258160"/>
            <a:ext cx="46800" cy="87732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3" name=""/>
          <p:cNvCxnSpPr>
            <a:endCxn id="2076" idx="2"/>
          </p:cNvCxnSpPr>
          <p:nvPr/>
        </p:nvCxnSpPr>
        <p:spPr>
          <a:xfrm flipV="1" rot="10800000">
            <a:off x="7198560" y="5259240"/>
            <a:ext cx="46800" cy="12322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4" name=""/>
          <p:cNvCxnSpPr>
            <a:stCxn id="2075" idx="6"/>
            <a:endCxn id="2077" idx="2"/>
          </p:cNvCxnSpPr>
          <p:nvPr/>
        </p:nvCxnSpPr>
        <p:spPr>
          <a:xfrm>
            <a:off x="7477200" y="5736960"/>
            <a:ext cx="23400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5" name=""/>
          <p:cNvCxnSpPr>
            <a:stCxn id="2075" idx="6"/>
            <a:endCxn id="2073" idx="2"/>
          </p:cNvCxnSpPr>
          <p:nvPr/>
        </p:nvCxnSpPr>
        <p:spPr>
          <a:xfrm>
            <a:off x="7477200" y="5736960"/>
            <a:ext cx="234000" cy="39924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086" name=""/>
          <p:cNvCxnSpPr>
            <a:stCxn id="2075" idx="6"/>
            <a:endCxn id="2074" idx="2"/>
          </p:cNvCxnSpPr>
          <p:nvPr/>
        </p:nvCxnSpPr>
        <p:spPr>
          <a:xfrm>
            <a:off x="7477200" y="5737320"/>
            <a:ext cx="234000" cy="754560"/>
          </a:xfrm>
          <a:prstGeom prst="bentConnector3">
            <a:avLst>
              <a:gd name="adj1" fmla="val 49922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087" name=""/>
          <p:cNvSpPr/>
          <p:nvPr/>
        </p:nvSpPr>
        <p:spPr>
          <a:xfrm>
            <a:off x="4430880" y="5303880"/>
            <a:ext cx="2206440" cy="1320840"/>
          </a:xfrm>
          <a:prstGeom prst="wedgeRectCallout">
            <a:avLst>
              <a:gd name="adj1" fmla="val 84287"/>
              <a:gd name="adj2" fmla="val 4329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8" name="" descr=""/>
          <p:cNvPicPr/>
          <p:nvPr/>
        </p:nvPicPr>
        <p:blipFill>
          <a:blip r:embed="rId11"/>
          <a:stretch/>
        </p:blipFill>
        <p:spPr>
          <a:xfrm>
            <a:off x="4602240" y="5403960"/>
            <a:ext cx="404640" cy="419040"/>
          </a:xfrm>
          <a:prstGeom prst="rect">
            <a:avLst/>
          </a:prstGeom>
          <a:ln w="0">
            <a:noFill/>
          </a:ln>
        </p:spPr>
      </p:pic>
      <p:pic>
        <p:nvPicPr>
          <p:cNvPr id="2089" name="" descr=""/>
          <p:cNvPicPr/>
          <p:nvPr/>
        </p:nvPicPr>
        <p:blipFill>
          <a:blip r:embed="rId12"/>
          <a:stretch/>
        </p:blipFill>
        <p:spPr>
          <a:xfrm>
            <a:off x="5168880" y="5403960"/>
            <a:ext cx="558720" cy="574560"/>
          </a:xfrm>
          <a:prstGeom prst="rect">
            <a:avLst/>
          </a:prstGeom>
          <a:ln w="0">
            <a:noFill/>
          </a:ln>
        </p:spPr>
      </p:pic>
      <p:pic>
        <p:nvPicPr>
          <p:cNvPr id="2090" name="" descr=""/>
          <p:cNvPicPr/>
          <p:nvPr/>
        </p:nvPicPr>
        <p:blipFill>
          <a:blip r:embed="rId13"/>
          <a:stretch/>
        </p:blipFill>
        <p:spPr>
          <a:xfrm>
            <a:off x="5862600" y="5346720"/>
            <a:ext cx="695520" cy="728640"/>
          </a:xfrm>
          <a:prstGeom prst="rect">
            <a:avLst/>
          </a:prstGeom>
          <a:ln w="0">
            <a:noFill/>
          </a:ln>
        </p:spPr>
      </p:pic>
      <p:pic>
        <p:nvPicPr>
          <p:cNvPr id="2091" name="" descr=""/>
          <p:cNvPicPr/>
          <p:nvPr/>
        </p:nvPicPr>
        <p:blipFill>
          <a:blip r:embed="rId14"/>
          <a:stretch/>
        </p:blipFill>
        <p:spPr>
          <a:xfrm>
            <a:off x="4538520" y="5921280"/>
            <a:ext cx="695520" cy="722520"/>
          </a:xfrm>
          <a:prstGeom prst="rect">
            <a:avLst/>
          </a:prstGeom>
          <a:ln w="0">
            <a:noFill/>
          </a:ln>
        </p:spPr>
      </p:pic>
      <p:pic>
        <p:nvPicPr>
          <p:cNvPr id="2092" name="" descr=""/>
          <p:cNvPicPr/>
          <p:nvPr/>
        </p:nvPicPr>
        <p:blipFill>
          <a:blip r:embed="rId15"/>
          <a:stretch/>
        </p:blipFill>
        <p:spPr>
          <a:xfrm>
            <a:off x="6086520" y="6130800"/>
            <a:ext cx="406440" cy="420840"/>
          </a:xfrm>
          <a:prstGeom prst="rect">
            <a:avLst/>
          </a:prstGeom>
          <a:ln w="0">
            <a:noFill/>
          </a:ln>
        </p:spPr>
      </p:pic>
      <p:pic>
        <p:nvPicPr>
          <p:cNvPr id="2093" name="" descr=""/>
          <p:cNvPicPr/>
          <p:nvPr/>
        </p:nvPicPr>
        <p:blipFill>
          <a:blip r:embed="rId16"/>
          <a:stretch/>
        </p:blipFill>
        <p:spPr>
          <a:xfrm>
            <a:off x="5168880" y="5921280"/>
            <a:ext cx="801720" cy="86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tervezés lépés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15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artícionálás: replikáció és/vagy adminisztrációs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rdő legfelső tartományának kiválasz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 hie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hikus elrendez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DNS infrastruktúra kialak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097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098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0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07" name=""/>
              <p:cNvCxnSpPr>
                <a:stCxn id="2106" idx="1"/>
                <a:endCxn id="2102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8" name=""/>
              <p:cNvCxnSpPr>
                <a:stCxn id="2106" idx="1"/>
                <a:endCxn id="2105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09" name=""/>
              <p:cNvCxnSpPr>
                <a:stCxn id="2106" idx="1"/>
                <a:endCxn id="2103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0" name=""/>
              <p:cNvCxnSpPr>
                <a:stCxn id="2102" idx="6"/>
                <a:endCxn id="2104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1" name=""/>
              <p:cNvCxnSpPr>
                <a:stCxn id="2102" idx="6"/>
                <a:endCxn id="2100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12" name=""/>
              <p:cNvCxnSpPr>
                <a:stCxn id="2102" idx="6"/>
                <a:endCxn id="2101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13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14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6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23" name=""/>
              <p:cNvCxnSpPr>
                <a:stCxn id="2122" idx="1"/>
                <a:endCxn id="2118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4" name=""/>
              <p:cNvCxnSpPr>
                <a:stCxn id="2122" idx="1"/>
                <a:endCxn id="2121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5" name=""/>
              <p:cNvCxnSpPr>
                <a:stCxn id="2122" idx="1"/>
                <a:endCxn id="2119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6" name=""/>
              <p:cNvCxnSpPr>
                <a:stCxn id="2118" idx="6"/>
                <a:endCxn id="2120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7" name=""/>
              <p:cNvCxnSpPr>
                <a:stCxn id="2118" idx="6"/>
                <a:endCxn id="2116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28" name=""/>
              <p:cNvCxnSpPr>
                <a:stCxn id="2118" idx="6"/>
                <a:endCxn id="2117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29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30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2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39" name=""/>
              <p:cNvCxnSpPr>
                <a:stCxn id="2138" idx="1"/>
                <a:endCxn id="2134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0" name=""/>
              <p:cNvCxnSpPr>
                <a:stCxn id="2138" idx="1"/>
                <a:endCxn id="2137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1" name=""/>
              <p:cNvCxnSpPr>
                <a:stCxn id="2138" idx="1"/>
                <a:endCxn id="2135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2" name=""/>
              <p:cNvCxnSpPr>
                <a:stCxn id="2134" idx="6"/>
                <a:endCxn id="2136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3" name=""/>
              <p:cNvCxnSpPr>
                <a:stCxn id="2134" idx="6"/>
                <a:endCxn id="2132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44" name=""/>
              <p:cNvCxnSpPr>
                <a:stCxn id="2134" idx="6"/>
                <a:endCxn id="2133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45" name=""/>
            <p:cNvCxnSpPr>
              <a:stCxn id="2098" idx="4"/>
              <a:endCxn id="2131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46" name=""/>
            <p:cNvCxnSpPr>
              <a:stCxn id="2098" idx="2"/>
              <a:endCxn id="2115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Partícionálá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örekedjünk az egy tartományos környezetek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ctive Directory nagymértékben skálázh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ndkívül hatékony a telephelyek közti repliká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gazoljuk az újabb tartományok létjogosultságá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aját adminisztrátorra van ig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edi biztonsági házirendek (jelszó, felhasználói fiókok, Kerberos stb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plikáció (külön szervezeti egységek, scriptek, GPO-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yors frissítésre van szükség („in-place upgrad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150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151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3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60" name=""/>
              <p:cNvCxnSpPr>
                <a:stCxn id="2159" idx="1"/>
                <a:endCxn id="2155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1" name=""/>
              <p:cNvCxnSpPr>
                <a:stCxn id="2159" idx="1"/>
                <a:endCxn id="2158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2" name=""/>
              <p:cNvCxnSpPr>
                <a:stCxn id="2159" idx="1"/>
                <a:endCxn id="2156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3" name=""/>
              <p:cNvCxnSpPr>
                <a:stCxn id="2155" idx="6"/>
                <a:endCxn id="2157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4" name=""/>
              <p:cNvCxnSpPr>
                <a:stCxn id="2155" idx="6"/>
                <a:endCxn id="2153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65" name=""/>
              <p:cNvCxnSpPr>
                <a:stCxn id="2155" idx="6"/>
                <a:endCxn id="2154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66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167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9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76" name=""/>
              <p:cNvCxnSpPr>
                <a:stCxn id="2175" idx="1"/>
                <a:endCxn id="2171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7" name=""/>
              <p:cNvCxnSpPr>
                <a:stCxn id="2175" idx="1"/>
                <a:endCxn id="2174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8" name=""/>
              <p:cNvCxnSpPr>
                <a:stCxn id="2175" idx="1"/>
                <a:endCxn id="2172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79" name=""/>
              <p:cNvCxnSpPr>
                <a:stCxn id="2171" idx="6"/>
                <a:endCxn id="2173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0" name=""/>
              <p:cNvCxnSpPr>
                <a:stCxn id="2171" idx="6"/>
                <a:endCxn id="2169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81" name=""/>
              <p:cNvCxnSpPr>
                <a:stCxn id="2171" idx="6"/>
                <a:endCxn id="2170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182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183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5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92" name=""/>
              <p:cNvCxnSpPr>
                <a:stCxn id="2191" idx="1"/>
                <a:endCxn id="2187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3" name=""/>
              <p:cNvCxnSpPr>
                <a:stCxn id="2191" idx="1"/>
                <a:endCxn id="2190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4" name=""/>
              <p:cNvCxnSpPr>
                <a:stCxn id="2191" idx="1"/>
                <a:endCxn id="2188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5" name=""/>
              <p:cNvCxnSpPr>
                <a:stCxn id="2187" idx="6"/>
                <a:endCxn id="2189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6" name=""/>
              <p:cNvCxnSpPr>
                <a:stCxn id="2187" idx="6"/>
                <a:endCxn id="2185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197" name=""/>
              <p:cNvCxnSpPr>
                <a:stCxn id="2187" idx="6"/>
                <a:endCxn id="2186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198" name=""/>
            <p:cNvCxnSpPr>
              <a:stCxn id="2151" idx="4"/>
              <a:endCxn id="2184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199" name=""/>
            <p:cNvCxnSpPr>
              <a:stCxn id="2151" idx="2"/>
              <a:endCxn id="2168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Mikor NE hozzunk létre </a:t>
            </a:r>
            <a:br>
              <a:rPr sz="2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új tartományt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535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nNT 4.0:  40,000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felhasználó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:  1,000,000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ttp://www.esc.compaq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mary Domain Controller (PDC)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elkezésre állásának növ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ulti-maste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repl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Rendszerfelügyelet delegá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szükség erőforrás tartományo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legáció a szervezeti egységek (ou) szintjén történ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"/>
          <p:cNvGrpSpPr/>
          <p:nvPr/>
        </p:nvGrpSpPr>
        <p:grpSpPr>
          <a:xfrm>
            <a:off x="7162920" y="228600"/>
            <a:ext cx="928440" cy="837720"/>
            <a:chOff x="7162920" y="228600"/>
            <a:chExt cx="928440" cy="837720"/>
          </a:xfrm>
        </p:grpSpPr>
        <p:grpSp>
          <p:nvGrpSpPr>
            <p:cNvPr id="2203" name=""/>
            <p:cNvGrpSpPr/>
            <p:nvPr/>
          </p:nvGrpSpPr>
          <p:grpSpPr>
            <a:xfrm>
              <a:off x="7413480" y="228600"/>
              <a:ext cx="428400" cy="388800"/>
              <a:chOff x="7413480" y="228600"/>
              <a:chExt cx="428400" cy="388800"/>
            </a:xfrm>
          </p:grpSpPr>
          <p:sp>
            <p:nvSpPr>
              <p:cNvPr id="2204" name=""/>
              <p:cNvSpPr/>
              <p:nvPr/>
            </p:nvSpPr>
            <p:spPr>
              <a:xfrm>
                <a:off x="74134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632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6" name=""/>
              <p:cNvSpPr/>
              <p:nvPr/>
            </p:nvSpPr>
            <p:spPr>
              <a:xfrm>
                <a:off x="7661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661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5787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787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661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5787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862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13" name=""/>
              <p:cNvCxnSpPr>
                <a:stCxn id="2212" idx="1"/>
                <a:endCxn id="2208" idx="2"/>
              </p:cNvCxnSpPr>
              <p:nvPr/>
            </p:nvCxnSpPr>
            <p:spPr>
              <a:xfrm flipV="1" rot="10800000">
                <a:off x="75780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4" name=""/>
              <p:cNvCxnSpPr>
                <a:stCxn id="2212" idx="1"/>
                <a:endCxn id="2211" idx="2"/>
              </p:cNvCxnSpPr>
              <p:nvPr/>
            </p:nvCxnSpPr>
            <p:spPr>
              <a:xfrm flipV="1" rot="10800000">
                <a:off x="75780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5" name=""/>
              <p:cNvCxnSpPr>
                <a:stCxn id="2212" idx="1"/>
                <a:endCxn id="2209" idx="2"/>
              </p:cNvCxnSpPr>
              <p:nvPr/>
            </p:nvCxnSpPr>
            <p:spPr>
              <a:xfrm flipV="1" rot="10800000">
                <a:off x="75780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6" name=""/>
              <p:cNvCxnSpPr>
                <a:stCxn id="2208" idx="6"/>
                <a:endCxn id="2210" idx="2"/>
              </p:cNvCxnSpPr>
              <p:nvPr/>
            </p:nvCxnSpPr>
            <p:spPr>
              <a:xfrm>
                <a:off x="76240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7" name=""/>
              <p:cNvCxnSpPr>
                <a:stCxn id="2208" idx="6"/>
                <a:endCxn id="2206" idx="2"/>
              </p:cNvCxnSpPr>
              <p:nvPr/>
            </p:nvCxnSpPr>
            <p:spPr>
              <a:xfrm>
                <a:off x="76240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18" name=""/>
              <p:cNvCxnSpPr>
                <a:stCxn id="2208" idx="6"/>
                <a:endCxn id="2207" idx="2"/>
              </p:cNvCxnSpPr>
              <p:nvPr/>
            </p:nvCxnSpPr>
            <p:spPr>
              <a:xfrm>
                <a:off x="76240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19" name=""/>
            <p:cNvGrpSpPr/>
            <p:nvPr/>
          </p:nvGrpSpPr>
          <p:grpSpPr>
            <a:xfrm>
              <a:off x="7162920" y="677520"/>
              <a:ext cx="428400" cy="388800"/>
              <a:chOff x="7162920" y="677520"/>
              <a:chExt cx="428400" cy="388800"/>
            </a:xfrm>
          </p:grpSpPr>
          <p:sp>
            <p:nvSpPr>
              <p:cNvPr id="2220" name=""/>
              <p:cNvSpPr/>
              <p:nvPr/>
            </p:nvSpPr>
            <p:spPr>
              <a:xfrm>
                <a:off x="71629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26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2" name=""/>
              <p:cNvSpPr/>
              <p:nvPr/>
            </p:nvSpPr>
            <p:spPr>
              <a:xfrm>
                <a:off x="7410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7410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73281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3281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7410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73281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3357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29" name=""/>
              <p:cNvCxnSpPr>
                <a:stCxn id="2228" idx="1"/>
                <a:endCxn id="2224" idx="2"/>
              </p:cNvCxnSpPr>
              <p:nvPr/>
            </p:nvCxnSpPr>
            <p:spPr>
              <a:xfrm flipV="1" rot="10800000">
                <a:off x="73274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0" name=""/>
              <p:cNvCxnSpPr>
                <a:stCxn id="2228" idx="1"/>
                <a:endCxn id="2227" idx="2"/>
              </p:cNvCxnSpPr>
              <p:nvPr/>
            </p:nvCxnSpPr>
            <p:spPr>
              <a:xfrm flipV="1" rot="10800000">
                <a:off x="73274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1" name=""/>
              <p:cNvCxnSpPr>
                <a:stCxn id="2228" idx="1"/>
                <a:endCxn id="2225" idx="2"/>
              </p:cNvCxnSpPr>
              <p:nvPr/>
            </p:nvCxnSpPr>
            <p:spPr>
              <a:xfrm flipV="1" rot="10800000">
                <a:off x="73274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2" name=""/>
              <p:cNvCxnSpPr>
                <a:stCxn id="2224" idx="6"/>
                <a:endCxn id="2226" idx="2"/>
              </p:cNvCxnSpPr>
              <p:nvPr/>
            </p:nvCxnSpPr>
            <p:spPr>
              <a:xfrm>
                <a:off x="73735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3" name=""/>
              <p:cNvCxnSpPr>
                <a:stCxn id="2224" idx="6"/>
                <a:endCxn id="2222" idx="2"/>
              </p:cNvCxnSpPr>
              <p:nvPr/>
            </p:nvCxnSpPr>
            <p:spPr>
              <a:xfrm>
                <a:off x="73735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34" name=""/>
              <p:cNvCxnSpPr>
                <a:stCxn id="2224" idx="6"/>
                <a:endCxn id="2223" idx="2"/>
              </p:cNvCxnSpPr>
              <p:nvPr/>
            </p:nvCxnSpPr>
            <p:spPr>
              <a:xfrm>
                <a:off x="73735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35" name=""/>
            <p:cNvGrpSpPr/>
            <p:nvPr/>
          </p:nvGrpSpPr>
          <p:grpSpPr>
            <a:xfrm>
              <a:off x="7662960" y="677520"/>
              <a:ext cx="428400" cy="388800"/>
              <a:chOff x="7662960" y="677520"/>
              <a:chExt cx="428400" cy="388800"/>
            </a:xfrm>
          </p:grpSpPr>
          <p:sp>
            <p:nvSpPr>
              <p:cNvPr id="2236" name=""/>
              <p:cNvSpPr/>
              <p:nvPr/>
            </p:nvSpPr>
            <p:spPr>
              <a:xfrm>
                <a:off x="76629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3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127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8" name=""/>
              <p:cNvSpPr/>
              <p:nvPr/>
            </p:nvSpPr>
            <p:spPr>
              <a:xfrm>
                <a:off x="7911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911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8282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8282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911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8282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357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45" name=""/>
              <p:cNvCxnSpPr>
                <a:stCxn id="2244" idx="1"/>
                <a:endCxn id="2240" idx="2"/>
              </p:cNvCxnSpPr>
              <p:nvPr/>
            </p:nvCxnSpPr>
            <p:spPr>
              <a:xfrm flipV="1" rot="10800000">
                <a:off x="78274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6" name=""/>
              <p:cNvCxnSpPr>
                <a:stCxn id="2244" idx="1"/>
                <a:endCxn id="2243" idx="2"/>
              </p:cNvCxnSpPr>
              <p:nvPr/>
            </p:nvCxnSpPr>
            <p:spPr>
              <a:xfrm flipV="1" rot="10800000">
                <a:off x="78274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7" name=""/>
              <p:cNvCxnSpPr>
                <a:stCxn id="2244" idx="1"/>
                <a:endCxn id="2241" idx="2"/>
              </p:cNvCxnSpPr>
              <p:nvPr/>
            </p:nvCxnSpPr>
            <p:spPr>
              <a:xfrm flipV="1" rot="10800000">
                <a:off x="78274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8" name=""/>
              <p:cNvCxnSpPr>
                <a:stCxn id="2240" idx="6"/>
                <a:endCxn id="2242" idx="2"/>
              </p:cNvCxnSpPr>
              <p:nvPr/>
            </p:nvCxnSpPr>
            <p:spPr>
              <a:xfrm>
                <a:off x="78735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49" name=""/>
              <p:cNvCxnSpPr>
                <a:stCxn id="2240" idx="6"/>
                <a:endCxn id="2238" idx="2"/>
              </p:cNvCxnSpPr>
              <p:nvPr/>
            </p:nvCxnSpPr>
            <p:spPr>
              <a:xfrm>
                <a:off x="78735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50" name=""/>
              <p:cNvCxnSpPr>
                <a:stCxn id="2240" idx="6"/>
                <a:endCxn id="2239" idx="2"/>
              </p:cNvCxnSpPr>
              <p:nvPr/>
            </p:nvCxnSpPr>
            <p:spPr>
              <a:xfrm>
                <a:off x="78735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251" name=""/>
            <p:cNvCxnSpPr>
              <a:stCxn id="2204" idx="4"/>
              <a:endCxn id="2237" idx="0"/>
            </p:cNvCxnSpPr>
            <p:nvPr/>
          </p:nvCxnSpPr>
          <p:spPr>
            <a:xfrm>
              <a:off x="78415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252" name=""/>
            <p:cNvCxnSpPr>
              <a:stCxn id="2204" idx="2"/>
              <a:endCxn id="2221" idx="0"/>
            </p:cNvCxnSpPr>
            <p:nvPr/>
          </p:nvCxnSpPr>
          <p:spPr>
            <a:xfrm flipH="1">
              <a:off x="73749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legfelső tartomány kiválasz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536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 =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tartomány az erdő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 and Enterprise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ok tagjai itt jönnek lé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Admins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oport tagjai határozzák meg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ma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és a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nterprise Admi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tagj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dikál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est R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jdnem üres, csak adminisztrátor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incs konfliktu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5" name=""/>
          <p:cNvGrpSpPr/>
          <p:nvPr/>
        </p:nvGrpSpPr>
        <p:grpSpPr>
          <a:xfrm>
            <a:off x="8001000" y="228600"/>
            <a:ext cx="928800" cy="837720"/>
            <a:chOff x="8001000" y="228600"/>
            <a:chExt cx="928800" cy="837720"/>
          </a:xfrm>
        </p:grpSpPr>
        <p:grpSp>
          <p:nvGrpSpPr>
            <p:cNvPr id="2256" name=""/>
            <p:cNvGrpSpPr/>
            <p:nvPr/>
          </p:nvGrpSpPr>
          <p:grpSpPr>
            <a:xfrm>
              <a:off x="8251560" y="228600"/>
              <a:ext cx="428400" cy="388800"/>
              <a:chOff x="8251560" y="228600"/>
              <a:chExt cx="428400" cy="388800"/>
            </a:xfrm>
          </p:grpSpPr>
          <p:sp>
            <p:nvSpPr>
              <p:cNvPr id="2257" name=""/>
              <p:cNvSpPr/>
              <p:nvPr/>
            </p:nvSpPr>
            <p:spPr>
              <a:xfrm>
                <a:off x="825156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0132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9" name=""/>
              <p:cNvSpPr/>
              <p:nvPr/>
            </p:nvSpPr>
            <p:spPr>
              <a:xfrm>
                <a:off x="84996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84996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4168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841680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49960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41680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2436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66" name=""/>
              <p:cNvCxnSpPr>
                <a:stCxn id="2265" idx="1"/>
                <a:endCxn id="2261" idx="2"/>
              </p:cNvCxnSpPr>
              <p:nvPr/>
            </p:nvCxnSpPr>
            <p:spPr>
              <a:xfrm flipV="1" rot="10800000">
                <a:off x="841608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7" name=""/>
              <p:cNvCxnSpPr>
                <a:stCxn id="2265" idx="1"/>
                <a:endCxn id="2264" idx="2"/>
              </p:cNvCxnSpPr>
              <p:nvPr/>
            </p:nvCxnSpPr>
            <p:spPr>
              <a:xfrm flipV="1" rot="10800000">
                <a:off x="841608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8" name=""/>
              <p:cNvCxnSpPr>
                <a:stCxn id="2265" idx="1"/>
                <a:endCxn id="2262" idx="2"/>
              </p:cNvCxnSpPr>
              <p:nvPr/>
            </p:nvCxnSpPr>
            <p:spPr>
              <a:xfrm flipV="1" rot="10800000">
                <a:off x="841608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69" name=""/>
              <p:cNvCxnSpPr>
                <a:stCxn id="2261" idx="6"/>
                <a:endCxn id="2263" idx="2"/>
              </p:cNvCxnSpPr>
              <p:nvPr/>
            </p:nvCxnSpPr>
            <p:spPr>
              <a:xfrm>
                <a:off x="846216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0" name=""/>
              <p:cNvCxnSpPr>
                <a:stCxn id="2261" idx="6"/>
                <a:endCxn id="2259" idx="2"/>
              </p:cNvCxnSpPr>
              <p:nvPr/>
            </p:nvCxnSpPr>
            <p:spPr>
              <a:xfrm>
                <a:off x="846216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71" name=""/>
              <p:cNvCxnSpPr>
                <a:stCxn id="2261" idx="6"/>
                <a:endCxn id="2260" idx="2"/>
              </p:cNvCxnSpPr>
              <p:nvPr/>
            </p:nvCxnSpPr>
            <p:spPr>
              <a:xfrm>
                <a:off x="846216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72" name=""/>
            <p:cNvGrpSpPr/>
            <p:nvPr/>
          </p:nvGrpSpPr>
          <p:grpSpPr>
            <a:xfrm>
              <a:off x="8001000" y="677520"/>
              <a:ext cx="428400" cy="388800"/>
              <a:chOff x="8001000" y="677520"/>
              <a:chExt cx="428400" cy="388800"/>
            </a:xfrm>
          </p:grpSpPr>
          <p:sp>
            <p:nvSpPr>
              <p:cNvPr id="2273" name=""/>
              <p:cNvSpPr/>
              <p:nvPr/>
            </p:nvSpPr>
            <p:spPr>
              <a:xfrm>
                <a:off x="80010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507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5" name=""/>
              <p:cNvSpPr/>
              <p:nvPr/>
            </p:nvSpPr>
            <p:spPr>
              <a:xfrm>
                <a:off x="82490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82490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81662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81662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2490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81662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738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82" name=""/>
              <p:cNvCxnSpPr>
                <a:stCxn id="2281" idx="1"/>
                <a:endCxn id="2277" idx="2"/>
              </p:cNvCxnSpPr>
              <p:nvPr/>
            </p:nvCxnSpPr>
            <p:spPr>
              <a:xfrm flipV="1" rot="10800000">
                <a:off x="81655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3" name=""/>
              <p:cNvCxnSpPr>
                <a:stCxn id="2281" idx="1"/>
                <a:endCxn id="2280" idx="2"/>
              </p:cNvCxnSpPr>
              <p:nvPr/>
            </p:nvCxnSpPr>
            <p:spPr>
              <a:xfrm flipV="1" rot="10800000">
                <a:off x="81655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4" name=""/>
              <p:cNvCxnSpPr>
                <a:stCxn id="2281" idx="1"/>
                <a:endCxn id="2278" idx="2"/>
              </p:cNvCxnSpPr>
              <p:nvPr/>
            </p:nvCxnSpPr>
            <p:spPr>
              <a:xfrm flipV="1" rot="10800000">
                <a:off x="81655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5" name=""/>
              <p:cNvCxnSpPr>
                <a:stCxn id="2277" idx="6"/>
                <a:endCxn id="2279" idx="2"/>
              </p:cNvCxnSpPr>
              <p:nvPr/>
            </p:nvCxnSpPr>
            <p:spPr>
              <a:xfrm>
                <a:off x="82116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6" name=""/>
              <p:cNvCxnSpPr>
                <a:stCxn id="2277" idx="6"/>
                <a:endCxn id="2275" idx="2"/>
              </p:cNvCxnSpPr>
              <p:nvPr/>
            </p:nvCxnSpPr>
            <p:spPr>
              <a:xfrm>
                <a:off x="82116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87" name=""/>
              <p:cNvCxnSpPr>
                <a:stCxn id="2277" idx="6"/>
                <a:endCxn id="2276" idx="2"/>
              </p:cNvCxnSpPr>
              <p:nvPr/>
            </p:nvCxnSpPr>
            <p:spPr>
              <a:xfrm>
                <a:off x="82116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288" name=""/>
            <p:cNvGrpSpPr/>
            <p:nvPr/>
          </p:nvGrpSpPr>
          <p:grpSpPr>
            <a:xfrm>
              <a:off x="8501400" y="677520"/>
              <a:ext cx="428400" cy="388800"/>
              <a:chOff x="8501400" y="677520"/>
              <a:chExt cx="428400" cy="388800"/>
            </a:xfrm>
          </p:grpSpPr>
          <p:sp>
            <p:nvSpPr>
              <p:cNvPr id="2289" name=""/>
              <p:cNvSpPr/>
              <p:nvPr/>
            </p:nvSpPr>
            <p:spPr>
              <a:xfrm>
                <a:off x="850140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5116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87494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87494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86666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866664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874944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866664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67420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98" name=""/>
              <p:cNvCxnSpPr>
                <a:stCxn id="2297" idx="1"/>
                <a:endCxn id="2293" idx="2"/>
              </p:cNvCxnSpPr>
              <p:nvPr/>
            </p:nvCxnSpPr>
            <p:spPr>
              <a:xfrm flipV="1" rot="10800000">
                <a:off x="866592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299" name=""/>
              <p:cNvCxnSpPr>
                <a:stCxn id="2297" idx="1"/>
                <a:endCxn id="2296" idx="2"/>
              </p:cNvCxnSpPr>
              <p:nvPr/>
            </p:nvCxnSpPr>
            <p:spPr>
              <a:xfrm flipV="1" rot="10800000">
                <a:off x="866592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0" name=""/>
              <p:cNvCxnSpPr>
                <a:stCxn id="2297" idx="1"/>
                <a:endCxn id="2294" idx="2"/>
              </p:cNvCxnSpPr>
              <p:nvPr/>
            </p:nvCxnSpPr>
            <p:spPr>
              <a:xfrm flipV="1" rot="10800000">
                <a:off x="866592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1" name=""/>
              <p:cNvCxnSpPr>
                <a:stCxn id="2293" idx="6"/>
                <a:endCxn id="2295" idx="2"/>
              </p:cNvCxnSpPr>
              <p:nvPr/>
            </p:nvCxnSpPr>
            <p:spPr>
              <a:xfrm>
                <a:off x="871200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2" name=""/>
              <p:cNvCxnSpPr>
                <a:stCxn id="2293" idx="6"/>
                <a:endCxn id="2291" idx="2"/>
              </p:cNvCxnSpPr>
              <p:nvPr/>
            </p:nvCxnSpPr>
            <p:spPr>
              <a:xfrm>
                <a:off x="871200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03" name=""/>
              <p:cNvCxnSpPr>
                <a:stCxn id="2293" idx="6"/>
                <a:endCxn id="2292" idx="2"/>
              </p:cNvCxnSpPr>
              <p:nvPr/>
            </p:nvCxnSpPr>
            <p:spPr>
              <a:xfrm>
                <a:off x="871200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04" name=""/>
            <p:cNvCxnSpPr>
              <a:stCxn id="2257" idx="4"/>
              <a:endCxn id="2290" idx="0"/>
            </p:cNvCxnSpPr>
            <p:nvPr/>
          </p:nvCxnSpPr>
          <p:spPr>
            <a:xfrm>
              <a:off x="867996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05" name=""/>
            <p:cNvCxnSpPr>
              <a:stCxn id="2257" idx="2"/>
              <a:endCxn id="2274" idx="0"/>
            </p:cNvCxnSpPr>
            <p:nvPr/>
          </p:nvCxnSpPr>
          <p:spPr>
            <a:xfrm flipH="1">
              <a:off x="821304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S </a:t>
            </a: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infrastruktúra kialakítás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keres bejelentkezés feltéte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vezérlő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r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 Recor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RV)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jegyzéseket tes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CPROMO automatikusan létreho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2000 DNS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ata nem kötelező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integ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ció számos előnnyel j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NI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ompatibili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jánlott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8.1.2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, dynamic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imu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 4.9.7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RV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09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10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2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19" name=""/>
              <p:cNvCxnSpPr>
                <a:stCxn id="2318" idx="1"/>
                <a:endCxn id="2314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0" name=""/>
              <p:cNvCxnSpPr>
                <a:stCxn id="2318" idx="1"/>
                <a:endCxn id="2317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1" name=""/>
              <p:cNvCxnSpPr>
                <a:stCxn id="2318" idx="1"/>
                <a:endCxn id="2315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2" name=""/>
              <p:cNvCxnSpPr>
                <a:stCxn id="2314" idx="6"/>
                <a:endCxn id="2316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3" name=""/>
              <p:cNvCxnSpPr>
                <a:stCxn id="2314" idx="6"/>
                <a:endCxn id="2312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24" name=""/>
              <p:cNvCxnSpPr>
                <a:stCxn id="2314" idx="6"/>
                <a:endCxn id="2313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25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26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8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35" name=""/>
              <p:cNvCxnSpPr>
                <a:stCxn id="2334" idx="1"/>
                <a:endCxn id="2330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6" name=""/>
              <p:cNvCxnSpPr>
                <a:stCxn id="2334" idx="1"/>
                <a:endCxn id="2333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7" name=""/>
              <p:cNvCxnSpPr>
                <a:stCxn id="2334" idx="1"/>
                <a:endCxn id="2331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8" name=""/>
              <p:cNvCxnSpPr>
                <a:stCxn id="2330" idx="6"/>
                <a:endCxn id="2332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39" name=""/>
              <p:cNvCxnSpPr>
                <a:stCxn id="2330" idx="6"/>
                <a:endCxn id="2328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40" name=""/>
              <p:cNvCxnSpPr>
                <a:stCxn id="2330" idx="6"/>
                <a:endCxn id="2329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41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42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4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51" name=""/>
              <p:cNvCxnSpPr>
                <a:stCxn id="2350" idx="1"/>
                <a:endCxn id="2346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2" name=""/>
              <p:cNvCxnSpPr>
                <a:stCxn id="2350" idx="1"/>
                <a:endCxn id="2349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3" name=""/>
              <p:cNvCxnSpPr>
                <a:stCxn id="2350" idx="1"/>
                <a:endCxn id="2347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4" name=""/>
              <p:cNvCxnSpPr>
                <a:stCxn id="2346" idx="6"/>
                <a:endCxn id="2348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5" name=""/>
              <p:cNvCxnSpPr>
                <a:stCxn id="2346" idx="6"/>
                <a:endCxn id="2344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56" name=""/>
              <p:cNvCxnSpPr>
                <a:stCxn id="2346" idx="6"/>
                <a:endCxn id="2345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357" name=""/>
            <p:cNvCxnSpPr>
              <a:stCxn id="2310" idx="4"/>
              <a:endCxn id="2343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358" name=""/>
            <p:cNvCxnSpPr>
              <a:stCxn id="2310" idx="2"/>
              <a:endCxn id="2327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839880"/>
            <a:ext cx="9144000" cy="2667960"/>
            <a:chOff x="0" y="839880"/>
            <a:chExt cx="9144000" cy="2667960"/>
          </a:xfrm>
        </p:grpSpPr>
        <p:grpSp>
          <p:nvGrpSpPr>
            <p:cNvPr id="51" name=""/>
            <p:cNvGrpSpPr/>
            <p:nvPr/>
          </p:nvGrpSpPr>
          <p:grpSpPr>
            <a:xfrm>
              <a:off x="0" y="839880"/>
              <a:ext cx="9144000" cy="2667960"/>
              <a:chOff x="0" y="839880"/>
              <a:chExt cx="9144000" cy="266796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4332240" y="2088720"/>
                <a:ext cx="4800600" cy="141624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349880" y="843120"/>
                <a:ext cx="4794120" cy="125244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839880"/>
                <a:ext cx="4359240" cy="125244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0" y="2091600"/>
                <a:ext cx="4346640" cy="141588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611680" y="914400"/>
              <a:ext cx="2855160" cy="1830240"/>
              <a:chOff x="5611680" y="914400"/>
              <a:chExt cx="2855160" cy="1830240"/>
            </a:xfrm>
          </p:grpSpPr>
          <p:sp>
            <p:nvSpPr>
              <p:cNvPr id="57" name=""/>
              <p:cNvSpPr/>
              <p:nvPr/>
            </p:nvSpPr>
            <p:spPr>
              <a:xfrm>
                <a:off x="6946200" y="914400"/>
                <a:ext cx="15206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Nyomtat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Megosz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5611680" y="2325600"/>
                <a:ext cx="382680" cy="419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6095880" y="1523880"/>
                <a:ext cx="855360" cy="1076040"/>
                <a:chOff x="6095880" y="1523880"/>
                <a:chExt cx="855360" cy="107604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6139440" y="1523880"/>
                  <a:ext cx="518040" cy="853920"/>
                  <a:chOff x="6139440" y="1523880"/>
                  <a:chExt cx="518040" cy="8539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>
                    <a:off x="6370920" y="1576080"/>
                    <a:ext cx="286200" cy="80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>
                    <a:off x="6143040" y="1653120"/>
                    <a:ext cx="228960" cy="72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H="1">
                    <a:off x="6170400" y="1697400"/>
                    <a:ext cx="164520" cy="64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6171480" y="226044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flipH="1">
                    <a:off x="6171840" y="1784880"/>
                    <a:ext cx="16308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6175080" y="185184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174720" y="191844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175080" y="197856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193800" y="18219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193800" y="18885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193800" y="195552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6193800" y="202068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H="1">
                    <a:off x="6282360" y="175824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H="1">
                    <a:off x="6218280" y="182016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flipH="1">
                    <a:off x="6218280" y="18817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H="1">
                    <a:off x="6218280" y="19486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>
                    <a:off x="6218280" y="201348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171480" y="2228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171480" y="219708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6139080" y="1523880"/>
                    <a:ext cx="518040" cy="1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"/>
                <p:cNvGrpSpPr/>
                <p:nvPr/>
              </p:nvGrpSpPr>
              <p:grpSpPr>
                <a:xfrm>
                  <a:off x="6381720" y="1896120"/>
                  <a:ext cx="569520" cy="576720"/>
                  <a:chOff x="6381720" y="1896120"/>
                  <a:chExt cx="569520" cy="57672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6381720" y="231048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H="1">
                    <a:off x="6599160" y="189612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flipH="1">
                    <a:off x="6773040" y="1992960"/>
                    <a:ext cx="114480" cy="40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flipH="1">
                    <a:off x="6480720" y="231480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6410160" y="1968120"/>
                    <a:ext cx="36288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>
                    <a:off x="6457320" y="201492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H="1">
                    <a:off x="6477840" y="203544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>
                    <a:off x="6390000" y="232776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>
                    <a:off x="6661440" y="210780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H="1">
                    <a:off x="6410160" y="1913400"/>
                    <a:ext cx="47736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6095880" y="2358000"/>
                  <a:ext cx="558720" cy="241920"/>
                  <a:chOff x="6095880" y="2358000"/>
                  <a:chExt cx="558720" cy="2419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H="1">
                    <a:off x="6095880" y="245124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H="1">
                    <a:off x="6095520" y="235800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>
                    <a:off x="6282360" y="239292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flipH="1">
                    <a:off x="6262560" y="243000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flipH="1">
                    <a:off x="6236640" y="241200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203160" y="244332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6138360" y="239472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" name=""/>
            <p:cNvGrpSpPr/>
            <p:nvPr/>
          </p:nvGrpSpPr>
          <p:grpSpPr>
            <a:xfrm>
              <a:off x="3443040" y="990720"/>
              <a:ext cx="1983240" cy="1625400"/>
              <a:chOff x="3443040" y="990720"/>
              <a:chExt cx="1983240" cy="1625400"/>
            </a:xfrm>
          </p:grpSpPr>
          <p:sp>
            <p:nvSpPr>
              <p:cNvPr id="106" name=""/>
              <p:cNvSpPr/>
              <p:nvPr/>
            </p:nvSpPr>
            <p:spPr>
              <a:xfrm>
                <a:off x="4129200" y="990720"/>
                <a:ext cx="12970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Ügyfele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lózat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4554360" y="1932120"/>
                <a:ext cx="11160" cy="684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595680" y="990720"/>
                <a:ext cx="594000" cy="633240"/>
                <a:chOff x="3595680" y="990720"/>
                <a:chExt cx="594000" cy="6332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595680" y="1399320"/>
                  <a:ext cx="204120" cy="224640"/>
                  <a:chOff x="3595680" y="1399320"/>
                  <a:chExt cx="204120" cy="224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3595320" y="1399320"/>
                    <a:ext cx="2041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595680" y="1316520"/>
                  <a:ext cx="594000" cy="204120"/>
                  <a:chOff x="3595680" y="1316520"/>
                  <a:chExt cx="594000" cy="2041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>
                    <a:off x="3595680" y="1316520"/>
                    <a:ext cx="59400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3799800" y="1419120"/>
                  <a:ext cx="389880" cy="204840"/>
                  <a:chOff x="3799800" y="1419120"/>
                  <a:chExt cx="389880" cy="2048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3799440" y="1419120"/>
                    <a:ext cx="389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 flipH="1">
                  <a:off x="4087440" y="145440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3834000" y="1494360"/>
                  <a:ext cx="152280" cy="103680"/>
                  <a:chOff x="3834000" y="1494360"/>
                  <a:chExt cx="152280" cy="1036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3833640" y="149436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 flipH="1">
                  <a:off x="3838680" y="153072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3888000" y="154908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888000" y="15184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" name=""/>
                <p:cNvGrpSpPr/>
                <p:nvPr/>
              </p:nvGrpSpPr>
              <p:grpSpPr>
                <a:xfrm>
                  <a:off x="3619800" y="990720"/>
                  <a:ext cx="357840" cy="349560"/>
                  <a:chOff x="3619800" y="990720"/>
                  <a:chExt cx="357840" cy="3495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>
                    <a:off x="3619800" y="99072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684600" y="1082160"/>
                  <a:ext cx="116640" cy="384120"/>
                  <a:chOff x="3684600" y="1082160"/>
                  <a:chExt cx="116640" cy="384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>
                    <a:off x="3684600" y="10821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3684240" y="1003320"/>
                  <a:ext cx="483480" cy="141480"/>
                  <a:chOff x="3684240" y="1003320"/>
                  <a:chExt cx="483480" cy="1414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3683880" y="1003320"/>
                    <a:ext cx="48348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3839760" y="1390680"/>
                  <a:ext cx="255240" cy="77760"/>
                  <a:chOff x="3839760" y="1390680"/>
                  <a:chExt cx="255240" cy="777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>
                    <a:off x="3839400" y="1390680"/>
                    <a:ext cx="2552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3801240" y="1057320"/>
                  <a:ext cx="366480" cy="409320"/>
                  <a:chOff x="3801240" y="1057320"/>
                  <a:chExt cx="366480" cy="409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>
                    <a:off x="3801240" y="105732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3854160" y="1104120"/>
                  <a:ext cx="267480" cy="298080"/>
                  <a:chOff x="3854160" y="1104120"/>
                  <a:chExt cx="267480" cy="2980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3853800" y="1104120"/>
                    <a:ext cx="26748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3864600" y="1124280"/>
                  <a:ext cx="235440" cy="252720"/>
                  <a:chOff x="3864600" y="1124280"/>
                  <a:chExt cx="235440" cy="252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3864600" y="1124280"/>
                    <a:ext cx="23544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 flipH="1">
                  <a:off x="4044600" y="11613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19360" y="1271520"/>
                <a:ext cx="593640" cy="633600"/>
                <a:chOff x="3519360" y="1271520"/>
                <a:chExt cx="593640" cy="6336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3519720" y="1680480"/>
                  <a:ext cx="203760" cy="224640"/>
                  <a:chOff x="3519720" y="1680480"/>
                  <a:chExt cx="203760" cy="224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3519720" y="168048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3519360" y="1597320"/>
                  <a:ext cx="593640" cy="204480"/>
                  <a:chOff x="3519360" y="1597320"/>
                  <a:chExt cx="593640" cy="204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3519000" y="1597320"/>
                    <a:ext cx="59364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3723480" y="1699920"/>
                  <a:ext cx="389520" cy="204840"/>
                  <a:chOff x="3723480" y="1699920"/>
                  <a:chExt cx="389520" cy="20484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>
                    <a:off x="3723480" y="169992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 flipH="1">
                  <a:off x="4010760" y="173556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" name=""/>
                <p:cNvGrpSpPr/>
                <p:nvPr/>
              </p:nvGrpSpPr>
              <p:grpSpPr>
                <a:xfrm>
                  <a:off x="3757680" y="1775520"/>
                  <a:ext cx="152280" cy="103680"/>
                  <a:chOff x="3757680" y="1775520"/>
                  <a:chExt cx="152280" cy="1036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>
                    <a:off x="3757320" y="177552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3762360" y="181188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811680" y="183024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811680" y="179928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43480" y="1271520"/>
                  <a:ext cx="357840" cy="349920"/>
                  <a:chOff x="3543480" y="1271520"/>
                  <a:chExt cx="357840" cy="3499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3543480" y="1271520"/>
                    <a:ext cx="3578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3607920" y="1362960"/>
                  <a:ext cx="116640" cy="384120"/>
                  <a:chOff x="3607920" y="1362960"/>
                  <a:chExt cx="116640" cy="3841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3607920" y="136296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3607920" y="1284120"/>
                  <a:ext cx="483120" cy="141840"/>
                  <a:chOff x="3607920" y="1284120"/>
                  <a:chExt cx="483120" cy="1418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3607920" y="1284120"/>
                    <a:ext cx="4831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3763800" y="1671840"/>
                  <a:ext cx="254880" cy="77760"/>
                  <a:chOff x="3763800" y="1671840"/>
                  <a:chExt cx="254880" cy="777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3763800" y="167184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724560" y="1338120"/>
                  <a:ext cx="366480" cy="409680"/>
                  <a:chOff x="3724560" y="1338120"/>
                  <a:chExt cx="366480" cy="4096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>
                    <a:off x="3724560" y="1338120"/>
                    <a:ext cx="366480" cy="4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3777840" y="1384920"/>
                  <a:ext cx="267120" cy="298440"/>
                  <a:chOff x="3777840" y="1384920"/>
                  <a:chExt cx="267120" cy="2984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777840" y="1384920"/>
                    <a:ext cx="26712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3788280" y="1405080"/>
                  <a:ext cx="235080" cy="252720"/>
                  <a:chOff x="3788280" y="1405080"/>
                  <a:chExt cx="235080" cy="252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>
                    <a:off x="3787920" y="140508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 flipH="1">
                  <a:off x="3967920" y="144216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443040" y="1576440"/>
                <a:ext cx="593640" cy="633240"/>
                <a:chOff x="3443040" y="1576440"/>
                <a:chExt cx="593640" cy="6332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443400" y="1985040"/>
                  <a:ext cx="203760" cy="224640"/>
                  <a:chOff x="3443400" y="1985040"/>
                  <a:chExt cx="203760" cy="2246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3443400" y="1985040"/>
                    <a:ext cx="20376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366">
                        <a:moveTo>
                          <a:pt x="0" y="366"/>
                        </a:moveTo>
                        <a:lnTo>
                          <a:pt x="0" y="198"/>
                        </a:lnTo>
                        <a:lnTo>
                          <a:pt x="332" y="0"/>
                        </a:lnTo>
                        <a:lnTo>
                          <a:pt x="332" y="165"/>
                        </a:lnTo>
                        <a:lnTo>
                          <a:pt x="0" y="36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3443040" y="1902240"/>
                  <a:ext cx="593640" cy="204120"/>
                  <a:chOff x="3443040" y="1902240"/>
                  <a:chExt cx="593640" cy="2041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3442680" y="1902240"/>
                    <a:ext cx="5936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966" h="333">
                        <a:moveTo>
                          <a:pt x="634" y="333"/>
                        </a:moveTo>
                        <a:lnTo>
                          <a:pt x="0" y="166"/>
                        </a:lnTo>
                        <a:lnTo>
                          <a:pt x="351" y="0"/>
                        </a:lnTo>
                        <a:lnTo>
                          <a:pt x="966" y="135"/>
                        </a:lnTo>
                        <a:lnTo>
                          <a:pt x="634" y="33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3647160" y="2004840"/>
                  <a:ext cx="389520" cy="204840"/>
                  <a:chOff x="3647160" y="2004840"/>
                  <a:chExt cx="389520" cy="204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>
                    <a:off x="3647160" y="2004840"/>
                    <a:ext cx="3895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334">
                        <a:moveTo>
                          <a:pt x="0" y="0"/>
                        </a:moveTo>
                        <a:lnTo>
                          <a:pt x="1" y="163"/>
                        </a:lnTo>
                        <a:lnTo>
                          <a:pt x="634" y="334"/>
                        </a:lnTo>
                        <a:lnTo>
                          <a:pt x="634" y="1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 flipH="1">
                  <a:off x="3934440" y="2040120"/>
                  <a:ext cx="77760" cy="4716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127" y="77"/>
                      </a:move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127" y="36"/>
                      </a:lnTo>
                      <a:lnTo>
                        <a:pt x="127" y="7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3681360" y="2080080"/>
                  <a:ext cx="152280" cy="103680"/>
                  <a:chOff x="3681360" y="2080080"/>
                  <a:chExt cx="152280" cy="1036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3681000" y="2080080"/>
                    <a:ext cx="15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69">
                        <a:moveTo>
                          <a:pt x="0" y="0"/>
                        </a:moveTo>
                        <a:lnTo>
                          <a:pt x="248" y="67"/>
                        </a:lnTo>
                        <a:lnTo>
                          <a:pt x="248" y="169"/>
                        </a:lnTo>
                        <a:lnTo>
                          <a:pt x="0" y="10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>
                  <a:off x="3686040" y="2116440"/>
                  <a:ext cx="143280" cy="34200"/>
                </a:xfrm>
                <a:prstGeom prst="line">
                  <a:avLst/>
                </a:prstGeom>
                <a:ln w="12600">
                  <a:solidFill>
                    <a:srgbClr val="a9a9a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3735360" y="2134800"/>
                  <a:ext cx="53280" cy="23040"/>
                </a:xfrm>
                <a:custGeom>
                  <a:avLst/>
                  <a:gdLst/>
                  <a:ahLst/>
                  <a:rect l="l" t="t" r="r" b="b"/>
                  <a:pathLst>
                    <a:path w="87" h="38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8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3735360" y="2104200"/>
                  <a:ext cx="53280" cy="21960"/>
                </a:xfrm>
                <a:custGeom>
                  <a:avLst/>
                  <a:gdLst/>
                  <a:ahLst/>
                  <a:rect l="l" t="t" r="r" b="b"/>
                  <a:pathLst>
                    <a:path w="87" h="36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87" y="36"/>
                      </a:lnTo>
                      <a:lnTo>
                        <a:pt x="87" y="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467160" y="1576440"/>
                  <a:ext cx="357840" cy="349560"/>
                  <a:chOff x="3467160" y="1576440"/>
                  <a:chExt cx="357840" cy="3495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  <a:lnTo>
                          <a:pt x="480" y="570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3467160" y="1576440"/>
                    <a:ext cx="357840" cy="34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2" h="570">
                        <a:moveTo>
                          <a:pt x="480" y="570"/>
                        </a:moveTo>
                        <a:lnTo>
                          <a:pt x="582" y="444"/>
                        </a:lnTo>
                        <a:lnTo>
                          <a:pt x="582" y="98"/>
                        </a:lnTo>
                        <a:lnTo>
                          <a:pt x="153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3531600" y="1667880"/>
                  <a:ext cx="116640" cy="384120"/>
                  <a:chOff x="3531600" y="1667880"/>
                  <a:chExt cx="116640" cy="38412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  <a:close/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>
                    <a:off x="3531600" y="1667880"/>
                    <a:ext cx="1166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626">
                        <a:moveTo>
                          <a:pt x="0" y="626"/>
                        </a:moveTo>
                        <a:lnTo>
                          <a:pt x="0" y="102"/>
                        </a:lnTo>
                        <a:lnTo>
                          <a:pt x="190" y="0"/>
                        </a:lnTo>
                        <a:lnTo>
                          <a:pt x="190" y="505"/>
                        </a:lnTo>
                        <a:lnTo>
                          <a:pt x="0" y="62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3531600" y="1589040"/>
                  <a:ext cx="483120" cy="141480"/>
                  <a:chOff x="3531600" y="1589040"/>
                  <a:chExt cx="483120" cy="141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>
                    <a:off x="3531600" y="1589040"/>
                    <a:ext cx="4831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231">
                        <a:moveTo>
                          <a:pt x="595" y="231"/>
                        </a:moveTo>
                        <a:lnTo>
                          <a:pt x="0" y="89"/>
                        </a:lnTo>
                        <a:lnTo>
                          <a:pt x="220" y="0"/>
                        </a:lnTo>
                        <a:lnTo>
                          <a:pt x="786" y="129"/>
                        </a:lnTo>
                        <a:lnTo>
                          <a:pt x="595" y="23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3687480" y="1976400"/>
                  <a:ext cx="254880" cy="77760"/>
                  <a:chOff x="3687480" y="1976400"/>
                  <a:chExt cx="254880" cy="777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H="1">
                    <a:off x="3687480" y="1976400"/>
                    <a:ext cx="25488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127">
                        <a:moveTo>
                          <a:pt x="0" y="0"/>
                        </a:moveTo>
                        <a:lnTo>
                          <a:pt x="0" y="24"/>
                        </a:lnTo>
                        <a:lnTo>
                          <a:pt x="382" y="127"/>
                        </a:lnTo>
                        <a:lnTo>
                          <a:pt x="415" y="111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648240" y="1643040"/>
                  <a:ext cx="366480" cy="409320"/>
                  <a:chOff x="3648240" y="1643040"/>
                  <a:chExt cx="366480" cy="409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H="1">
                    <a:off x="3648240" y="1643040"/>
                    <a:ext cx="3664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667">
                        <a:moveTo>
                          <a:pt x="596" y="667"/>
                        </a:moveTo>
                        <a:lnTo>
                          <a:pt x="596" y="142"/>
                        </a:lnTo>
                        <a:lnTo>
                          <a:pt x="0" y="0"/>
                        </a:lnTo>
                        <a:lnTo>
                          <a:pt x="0" y="512"/>
                        </a:lnTo>
                        <a:lnTo>
                          <a:pt x="596" y="66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3701520" y="1689840"/>
                  <a:ext cx="267120" cy="298080"/>
                  <a:chOff x="3701520" y="1689840"/>
                  <a:chExt cx="267120" cy="298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flipH="1">
                    <a:off x="3701520" y="1689840"/>
                    <a:ext cx="26712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86">
                        <a:moveTo>
                          <a:pt x="435" y="486"/>
                        </a:moveTo>
                        <a:lnTo>
                          <a:pt x="435" y="104"/>
                        </a:lnTo>
                        <a:lnTo>
                          <a:pt x="0" y="0"/>
                        </a:lnTo>
                        <a:lnTo>
                          <a:pt x="0" y="376"/>
                        </a:lnTo>
                        <a:lnTo>
                          <a:pt x="435" y="48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3711960" y="1710000"/>
                  <a:ext cx="235080" cy="252720"/>
                  <a:chOff x="3711960" y="1710000"/>
                  <a:chExt cx="235080" cy="25272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3711600" y="1710000"/>
                    <a:ext cx="235080" cy="2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412">
                        <a:moveTo>
                          <a:pt x="383" y="412"/>
                        </a:moveTo>
                        <a:lnTo>
                          <a:pt x="383" y="88"/>
                        </a:lnTo>
                        <a:lnTo>
                          <a:pt x="0" y="0"/>
                        </a:lnTo>
                        <a:lnTo>
                          <a:pt x="0" y="319"/>
                        </a:lnTo>
                        <a:lnTo>
                          <a:pt x="383" y="412"/>
                        </a:lnTo>
                      </a:path>
                    </a:pathLst>
                  </a:custGeom>
                  <a:noFill/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>
                  <a:off x="3891600" y="1747080"/>
                  <a:ext cx="21960" cy="70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"/>
            <p:cNvGrpSpPr/>
            <p:nvPr/>
          </p:nvGrpSpPr>
          <p:grpSpPr>
            <a:xfrm>
              <a:off x="847440" y="1096920"/>
              <a:ext cx="2676960" cy="1684440"/>
              <a:chOff x="847440" y="1096920"/>
              <a:chExt cx="2676960" cy="1684440"/>
            </a:xfrm>
          </p:grpSpPr>
          <p:sp>
            <p:nvSpPr>
              <p:cNvPr id="226" name=""/>
              <p:cNvSpPr/>
              <p:nvPr/>
            </p:nvSpPr>
            <p:spPr>
              <a:xfrm>
                <a:off x="847440" y="1111320"/>
                <a:ext cx="16484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Felhaszn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Jogosult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Háziren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95480" y="2152800"/>
                <a:ext cx="628920" cy="628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371320" y="1096920"/>
                <a:ext cx="919080" cy="93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-179640" y="2057400"/>
            <a:ext cx="4523040" cy="4800600"/>
            <a:chOff x="-179640" y="2057400"/>
            <a:chExt cx="4523040" cy="4800600"/>
          </a:xfrm>
        </p:grpSpPr>
        <p:grpSp>
          <p:nvGrpSpPr>
            <p:cNvPr id="230" name=""/>
            <p:cNvGrpSpPr/>
            <p:nvPr/>
          </p:nvGrpSpPr>
          <p:grpSpPr>
            <a:xfrm>
              <a:off x="0" y="2057400"/>
              <a:ext cx="4343400" cy="4800600"/>
              <a:chOff x="0" y="2057400"/>
              <a:chExt cx="4343400" cy="480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3505320"/>
                <a:ext cx="4343400" cy="33526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57400"/>
                <a:ext cx="43434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1746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8960" y="6248520"/>
              <a:ext cx="228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gyüttműköd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-179640" y="3733920"/>
              <a:ext cx="3027600" cy="1075680"/>
              <a:chOff x="-179640" y="3733920"/>
              <a:chExt cx="3027600" cy="1075680"/>
            </a:xfrm>
          </p:grpSpPr>
          <p:sp>
            <p:nvSpPr>
              <p:cNvPr id="235" name=""/>
              <p:cNvSpPr/>
              <p:nvPr/>
            </p:nvSpPr>
            <p:spPr>
              <a:xfrm>
                <a:off x="-179640" y="3733920"/>
                <a:ext cx="2226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Áttér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zinkroniz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467080" y="3879360"/>
                <a:ext cx="380880" cy="133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00200" y="3733920"/>
                <a:ext cx="855360" cy="1075680"/>
                <a:chOff x="1600200" y="3733920"/>
                <a:chExt cx="855360" cy="107568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1893960" y="3733920"/>
                  <a:ext cx="518040" cy="853560"/>
                  <a:chOff x="1893960" y="3733920"/>
                  <a:chExt cx="518040" cy="8535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1893960" y="3786120"/>
                    <a:ext cx="286200" cy="80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936">
                        <a:moveTo>
                          <a:pt x="359" y="157"/>
                        </a:moveTo>
                        <a:lnTo>
                          <a:pt x="359" y="935"/>
                        </a:lnTo>
                        <a:lnTo>
                          <a:pt x="0" y="713"/>
                        </a:lnTo>
                        <a:lnTo>
                          <a:pt x="0" y="0"/>
                        </a:lnTo>
                        <a:lnTo>
                          <a:pt x="359" y="157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179440" y="3863160"/>
                    <a:ext cx="228960" cy="72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846">
                        <a:moveTo>
                          <a:pt x="0" y="67"/>
                        </a:moveTo>
                        <a:lnTo>
                          <a:pt x="0" y="845"/>
                        </a:lnTo>
                        <a:lnTo>
                          <a:pt x="287" y="767"/>
                        </a:lnTo>
                        <a:lnTo>
                          <a:pt x="287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  <a:lnTo>
                          <a:pt x="206" y="7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216160" y="3907440"/>
                    <a:ext cx="16452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751">
                        <a:moveTo>
                          <a:pt x="206" y="7"/>
                        </a:moveTo>
                        <a:lnTo>
                          <a:pt x="206" y="692"/>
                        </a:lnTo>
                        <a:lnTo>
                          <a:pt x="0" y="750"/>
                        </a:lnTo>
                        <a:lnTo>
                          <a:pt x="0" y="50"/>
                        </a:lnTo>
                        <a:lnTo>
                          <a:pt x="20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2220120" y="4470120"/>
                    <a:ext cx="15984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216160" y="3994920"/>
                    <a:ext cx="16308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353">
                        <a:moveTo>
                          <a:pt x="204" y="0"/>
                        </a:moveTo>
                        <a:lnTo>
                          <a:pt x="0" y="50"/>
                        </a:lnTo>
                        <a:lnTo>
                          <a:pt x="0" y="352"/>
                        </a:lnTo>
                        <a:lnTo>
                          <a:pt x="204" y="296"/>
                        </a:lnTo>
                        <a:lnTo>
                          <a:pt x="204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2218320" y="4061520"/>
                    <a:ext cx="158040" cy="38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>
                    <a:off x="2217600" y="4128480"/>
                    <a:ext cx="15912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H="1">
                    <a:off x="2219760" y="4188600"/>
                    <a:ext cx="1566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2241360" y="403164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2241360" y="40986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2241360" y="416520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2241360" y="4230360"/>
                    <a:ext cx="116280" cy="28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240280" y="3968280"/>
                    <a:ext cx="28440" cy="1872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71960" y="4030200"/>
                    <a:ext cx="6120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22"/>
                        </a:lnTo>
                        <a:lnTo>
                          <a:pt x="0" y="39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71960" y="409140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71960" y="415836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271960" y="4223520"/>
                    <a:ext cx="612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2">
                        <a:moveTo>
                          <a:pt x="76" y="0"/>
                        </a:moveTo>
                        <a:lnTo>
                          <a:pt x="76" y="24"/>
                        </a:lnTo>
                        <a:lnTo>
                          <a:pt x="0" y="41"/>
                        </a:lnTo>
                        <a:lnTo>
                          <a:pt x="0" y="17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2220120" y="443844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2220120" y="4406760"/>
                    <a:ext cx="159840" cy="45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93960" y="3733920"/>
                    <a:ext cx="5180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21">
                        <a:moveTo>
                          <a:pt x="650" y="151"/>
                        </a:moveTo>
                        <a:lnTo>
                          <a:pt x="359" y="220"/>
                        </a:lnTo>
                        <a:lnTo>
                          <a:pt x="0" y="63"/>
                        </a:lnTo>
                        <a:lnTo>
                          <a:pt x="283" y="0"/>
                        </a:lnTo>
                        <a:lnTo>
                          <a:pt x="650" y="15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600200" y="4106160"/>
                  <a:ext cx="569520" cy="576720"/>
                  <a:chOff x="1600200" y="4106160"/>
                  <a:chExt cx="569520" cy="5767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  <a:lnTo>
                          <a:pt x="590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623960" y="4520520"/>
                    <a:ext cx="54576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190">
                        <a:moveTo>
                          <a:pt x="590" y="0"/>
                        </a:moveTo>
                        <a:lnTo>
                          <a:pt x="685" y="54"/>
                        </a:lnTo>
                        <a:lnTo>
                          <a:pt x="685" y="74"/>
                        </a:lnTo>
                        <a:lnTo>
                          <a:pt x="256" y="189"/>
                        </a:lnTo>
                        <a:lnTo>
                          <a:pt x="0" y="32"/>
                        </a:lnTo>
                        <a:lnTo>
                          <a:pt x="0" y="19"/>
                        </a:lnTo>
                        <a:lnTo>
                          <a:pt x="45" y="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  <a:lnTo>
                          <a:pt x="78" y="425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600200" y="4106160"/>
                    <a:ext cx="351720" cy="36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26">
                        <a:moveTo>
                          <a:pt x="78" y="425"/>
                        </a:moveTo>
                        <a:lnTo>
                          <a:pt x="0" y="330"/>
                        </a:lnTo>
                        <a:lnTo>
                          <a:pt x="0" y="74"/>
                        </a:lnTo>
                        <a:lnTo>
                          <a:pt x="326" y="0"/>
                        </a:lnTo>
                        <a:lnTo>
                          <a:pt x="441" y="3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63920" y="4203000"/>
                    <a:ext cx="114480" cy="40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468">
                        <a:moveTo>
                          <a:pt x="143" y="467"/>
                        </a:moveTo>
                        <a:lnTo>
                          <a:pt x="143" y="76"/>
                        </a:lnTo>
                        <a:lnTo>
                          <a:pt x="0" y="0"/>
                        </a:lnTo>
                        <a:lnTo>
                          <a:pt x="0" y="378"/>
                        </a:lnTo>
                        <a:lnTo>
                          <a:pt x="143" y="467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  <a:lnTo>
                          <a:pt x="317" y="0"/>
                        </a:lnTo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817280" y="4524840"/>
                    <a:ext cx="253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94">
                        <a:moveTo>
                          <a:pt x="317" y="0"/>
                        </a:moveTo>
                        <a:lnTo>
                          <a:pt x="317" y="19"/>
                        </a:lnTo>
                        <a:lnTo>
                          <a:pt x="25" y="93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78400" y="4178160"/>
                    <a:ext cx="36288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497">
                        <a:moveTo>
                          <a:pt x="0" y="496"/>
                        </a:moveTo>
                        <a:lnTo>
                          <a:pt x="0" y="104"/>
                        </a:lnTo>
                        <a:lnTo>
                          <a:pt x="455" y="0"/>
                        </a:lnTo>
                        <a:lnTo>
                          <a:pt x="455" y="380"/>
                        </a:lnTo>
                        <a:lnTo>
                          <a:pt x="0" y="496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9160" y="4224960"/>
                    <a:ext cx="264960" cy="31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364">
                        <a:moveTo>
                          <a:pt x="0" y="363"/>
                        </a:moveTo>
                        <a:lnTo>
                          <a:pt x="0" y="78"/>
                        </a:lnTo>
                        <a:lnTo>
                          <a:pt x="332" y="0"/>
                        </a:lnTo>
                        <a:lnTo>
                          <a:pt x="332" y="28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39600" y="4245480"/>
                    <a:ext cx="2336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308">
                        <a:moveTo>
                          <a:pt x="0" y="307"/>
                        </a:moveTo>
                        <a:lnTo>
                          <a:pt x="0" y="65"/>
                        </a:lnTo>
                        <a:lnTo>
                          <a:pt x="293" y="0"/>
                        </a:lnTo>
                        <a:lnTo>
                          <a:pt x="293" y="238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618ffd"/>
                  </a:solidFill>
                  <a:ln cap="rnd" w="12600">
                    <a:solidFill>
                      <a:srgbClr val="a9a9a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35120" y="4537440"/>
                    <a:ext cx="5259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146">
                        <a:moveTo>
                          <a:pt x="660" y="35"/>
                        </a:moveTo>
                        <a:lnTo>
                          <a:pt x="244" y="1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868400" y="4317480"/>
                    <a:ext cx="21240" cy="64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663920" y="4123080"/>
                    <a:ext cx="47736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170">
                        <a:moveTo>
                          <a:pt x="599" y="63"/>
                        </a:moveTo>
                        <a:lnTo>
                          <a:pt x="142" y="169"/>
                        </a:lnTo>
                        <a:lnTo>
                          <a:pt x="0" y="95"/>
                        </a:lnTo>
                        <a:lnTo>
                          <a:pt x="425" y="0"/>
                        </a:lnTo>
                        <a:lnTo>
                          <a:pt x="599" y="6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896840" y="4567680"/>
                  <a:ext cx="558720" cy="241920"/>
                  <a:chOff x="1896840" y="4567680"/>
                  <a:chExt cx="558720" cy="2419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  <a:lnTo>
                          <a:pt x="701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96840" y="4660920"/>
                    <a:ext cx="55872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174">
                        <a:moveTo>
                          <a:pt x="701" y="0"/>
                        </a:moveTo>
                        <a:lnTo>
                          <a:pt x="699" y="20"/>
                        </a:lnTo>
                        <a:lnTo>
                          <a:pt x="149" y="173"/>
                        </a:lnTo>
                        <a:lnTo>
                          <a:pt x="0" y="82"/>
                        </a:lnTo>
                        <a:lnTo>
                          <a:pt x="0" y="3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900080" y="4567680"/>
                    <a:ext cx="555480" cy="221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259">
                        <a:moveTo>
                          <a:pt x="545" y="0"/>
                        </a:moveTo>
                        <a:lnTo>
                          <a:pt x="0" y="141"/>
                        </a:lnTo>
                        <a:lnTo>
                          <a:pt x="151" y="258"/>
                        </a:lnTo>
                        <a:lnTo>
                          <a:pt x="697" y="110"/>
                        </a:lnTo>
                        <a:lnTo>
                          <a:pt x="545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942200" y="4602600"/>
                    <a:ext cx="3268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1" h="118">
                        <a:moveTo>
                          <a:pt x="393" y="0"/>
                        </a:moveTo>
                        <a:lnTo>
                          <a:pt x="410" y="13"/>
                        </a:lnTo>
                        <a:lnTo>
                          <a:pt x="15" y="117"/>
                        </a:lnTo>
                        <a:lnTo>
                          <a:pt x="0" y="104"/>
                        </a:lnTo>
                        <a:lnTo>
                          <a:pt x="393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969200" y="4639680"/>
                    <a:ext cx="319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5">
                        <a:moveTo>
                          <a:pt x="327" y="0"/>
                        </a:moveTo>
                        <a:lnTo>
                          <a:pt x="401" y="54"/>
                        </a:lnTo>
                        <a:lnTo>
                          <a:pt x="376" y="61"/>
                        </a:lnTo>
                        <a:lnTo>
                          <a:pt x="361" y="52"/>
                        </a:lnTo>
                        <a:lnTo>
                          <a:pt x="344" y="55"/>
                        </a:lnTo>
                        <a:lnTo>
                          <a:pt x="357" y="66"/>
                        </a:lnTo>
                        <a:lnTo>
                          <a:pt x="115" y="131"/>
                        </a:lnTo>
                        <a:lnTo>
                          <a:pt x="101" y="122"/>
                        </a:lnTo>
                        <a:lnTo>
                          <a:pt x="79" y="127"/>
                        </a:lnTo>
                        <a:lnTo>
                          <a:pt x="92" y="139"/>
                        </a:lnTo>
                        <a:lnTo>
                          <a:pt x="71" y="144"/>
                        </a:lnTo>
                        <a:lnTo>
                          <a:pt x="0" y="83"/>
                        </a:lnTo>
                        <a:lnTo>
                          <a:pt x="327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247840" y="4621680"/>
                    <a:ext cx="666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6">
                        <a:moveTo>
                          <a:pt x="55" y="0"/>
                        </a:moveTo>
                        <a:lnTo>
                          <a:pt x="0" y="13"/>
                        </a:lnTo>
                        <a:lnTo>
                          <a:pt x="26" y="35"/>
                        </a:lnTo>
                        <a:lnTo>
                          <a:pt x="83" y="22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289960" y="4653000"/>
                    <a:ext cx="57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5">
                        <a:moveTo>
                          <a:pt x="57" y="4"/>
                        </a:moveTo>
                        <a:lnTo>
                          <a:pt x="40" y="9"/>
                        </a:lnTo>
                        <a:lnTo>
                          <a:pt x="28" y="0"/>
                        </a:lnTo>
                        <a:lnTo>
                          <a:pt x="9" y="6"/>
                        </a:lnTo>
                        <a:lnTo>
                          <a:pt x="19" y="15"/>
                        </a:lnTo>
                        <a:lnTo>
                          <a:pt x="0" y="21"/>
                        </a:lnTo>
                        <a:lnTo>
                          <a:pt x="15" y="34"/>
                        </a:lnTo>
                        <a:lnTo>
                          <a:pt x="72" y="19"/>
                        </a:lnTo>
                        <a:lnTo>
                          <a:pt x="57" y="4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05080" y="4604400"/>
                    <a:ext cx="1080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71">
                        <a:moveTo>
                          <a:pt x="64" y="0"/>
                        </a:moveTo>
                        <a:lnTo>
                          <a:pt x="0" y="17"/>
                        </a:lnTo>
                        <a:lnTo>
                          <a:pt x="68" y="70"/>
                        </a:lnTo>
                        <a:lnTo>
                          <a:pt x="135" y="53"/>
                        </a:lnTo>
                        <a:lnTo>
                          <a:pt x="64" y="0"/>
                        </a:lnTo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"/>
            <p:cNvGrpSpPr/>
            <p:nvPr/>
          </p:nvGrpSpPr>
          <p:grpSpPr>
            <a:xfrm>
              <a:off x="854640" y="4267080"/>
              <a:ext cx="2650680" cy="1562400"/>
              <a:chOff x="854640" y="4267080"/>
              <a:chExt cx="2650680" cy="1562400"/>
            </a:xfrm>
          </p:grpSpPr>
          <p:sp>
            <p:nvSpPr>
              <p:cNvPr id="284" name=""/>
              <p:cNvSpPr/>
              <p:nvPr/>
            </p:nvSpPr>
            <p:spPr>
              <a:xfrm>
                <a:off x="854640" y="4876920"/>
                <a:ext cx="206748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E-Mail 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kiszolgál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stafiók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fo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velezési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ist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276720" y="4267080"/>
                <a:ext cx="228600" cy="53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44720" y="5224320"/>
                <a:ext cx="631800" cy="605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131040" y="2502000"/>
              <a:ext cx="2567880" cy="1159560"/>
              <a:chOff x="131040" y="2502000"/>
              <a:chExt cx="2567880" cy="1159560"/>
            </a:xfrm>
          </p:grpSpPr>
          <p:sp>
            <p:nvSpPr>
              <p:cNvPr id="288" name=""/>
              <p:cNvSpPr/>
              <p:nvPr/>
            </p:nvSpPr>
            <p:spPr>
              <a:xfrm>
                <a:off x="131040" y="2502000"/>
                <a:ext cx="16606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Más címtára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Yellow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pag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lektroniku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ereskedele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Portál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51040" y="3271680"/>
                <a:ext cx="947880" cy="795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89200" y="2743200"/>
                <a:ext cx="593640" cy="366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1" name=""/>
          <p:cNvGrpSpPr/>
          <p:nvPr/>
        </p:nvGrpSpPr>
        <p:grpSpPr>
          <a:xfrm>
            <a:off x="4343040" y="2057400"/>
            <a:ext cx="4800960" cy="4800600"/>
            <a:chOff x="4343040" y="2057400"/>
            <a:chExt cx="4800960" cy="4800600"/>
          </a:xfrm>
        </p:grpSpPr>
        <p:grpSp>
          <p:nvGrpSpPr>
            <p:cNvPr id="292" name=""/>
            <p:cNvGrpSpPr/>
            <p:nvPr/>
          </p:nvGrpSpPr>
          <p:grpSpPr>
            <a:xfrm>
              <a:off x="4343040" y="2057400"/>
              <a:ext cx="4800960" cy="4800600"/>
              <a:chOff x="4343040" y="2057400"/>
              <a:chExt cx="4800960" cy="4800600"/>
            </a:xfrm>
          </p:grpSpPr>
          <p:sp>
            <p:nvSpPr>
              <p:cNvPr id="293" name=""/>
              <p:cNvSpPr/>
              <p:nvPr/>
            </p:nvSpPr>
            <p:spPr>
              <a:xfrm>
                <a:off x="4343400" y="3505320"/>
                <a:ext cx="4800600" cy="3352680"/>
              </a:xfrm>
              <a:prstGeom prst="rect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4342680" y="2057400"/>
                <a:ext cx="4800600" cy="1447920"/>
              </a:xfrm>
              <a:prstGeom prst="rtTriangle">
                <a:avLst/>
              </a:prstGeom>
              <a:gradFill rotWithShape="0">
                <a:gsLst>
                  <a:gs pos="0">
                    <a:srgbClr val="174675"/>
                  </a:gs>
                  <a:gs pos="100000">
                    <a:srgbClr val="3399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7466760" y="6248520"/>
              <a:ext cx="1457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tegráci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795920" y="4266720"/>
              <a:ext cx="2287800" cy="2455560"/>
              <a:chOff x="4795920" y="4266720"/>
              <a:chExt cx="2287800" cy="245556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4876920" y="4724280"/>
                <a:ext cx="987480" cy="827280"/>
                <a:chOff x="4876920" y="4724280"/>
                <a:chExt cx="987480" cy="827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876920" y="4724280"/>
                  <a:ext cx="987480" cy="8272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39200" y="4766400"/>
                  <a:ext cx="884880" cy="744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00" name=""/>
              <p:cNvSpPr/>
              <p:nvPr/>
            </p:nvSpPr>
            <p:spPr>
              <a:xfrm>
                <a:off x="4795920" y="5562720"/>
                <a:ext cx="2287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A</a:t>
                </a: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lkalmaz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z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rver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ingle Sign-O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Alkalmazás</a:t>
                </a:r>
                <a:br>
                  <a:rPr sz="1400"/>
                </a:b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specifikus információ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105160" y="4266720"/>
                <a:ext cx="7596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6324480" y="2895480"/>
              <a:ext cx="2793240" cy="1159560"/>
              <a:chOff x="6324480" y="2895480"/>
              <a:chExt cx="2793240" cy="115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7060680" y="28954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Hálózati eszközö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Cisco CNS/A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Q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iztonsá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18240" y="3424320"/>
                <a:ext cx="517680" cy="4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flipV="1">
                <a:off x="6324480" y="3162240"/>
                <a:ext cx="933480" cy="114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848200" y="4076640"/>
              <a:ext cx="3175560" cy="1000080"/>
              <a:chOff x="5848200" y="4076640"/>
              <a:chExt cx="3175560" cy="1000080"/>
            </a:xfrm>
          </p:grpSpPr>
          <p:sp>
            <p:nvSpPr>
              <p:cNvPr id="307" name=""/>
              <p:cNvSpPr/>
              <p:nvPr/>
            </p:nvSpPr>
            <p:spPr>
              <a:xfrm>
                <a:off x="6907320" y="4343400"/>
                <a:ext cx="2116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74600" indent="-1746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00"/>
                    </a:solidFill>
                    <a:latin typeface="Arial"/>
                  </a:rPr>
                  <a:t>Tűzfal szolgáltatá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onfiguráció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marL="174600" indent="-174600">
                  <a:buClr>
                    <a:srgbClr val="ffff00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VPN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beállításo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48200" y="4076640"/>
                <a:ext cx="44928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54720" y="4394160"/>
                <a:ext cx="682560" cy="677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ímtár = vállalati erőforr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666880" y="2685960"/>
            <a:ext cx="3619800" cy="1657440"/>
            <a:chOff x="2666880" y="2685960"/>
            <a:chExt cx="3619800" cy="1657440"/>
          </a:xfrm>
        </p:grpSpPr>
        <p:sp>
          <p:nvSpPr>
            <p:cNvPr id="312" name=""/>
            <p:cNvSpPr/>
            <p:nvPr/>
          </p:nvSpPr>
          <p:spPr>
            <a:xfrm>
              <a:off x="2666880" y="2685960"/>
              <a:ext cx="3619800" cy="16574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c54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51080" y="3657600"/>
              <a:ext cx="96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rect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1360" y="2819520"/>
              <a:ext cx="19335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4600" indent="-174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00"/>
                  </a:solidFill>
                  <a:latin typeface="Arial"/>
                </a:rPr>
                <a:t>Központi MGMT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Felhasználó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őforráso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Biztonsá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leg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ció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74600" indent="-174600"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Házire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2819520"/>
              <a:ext cx="1067040" cy="87768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235320" y="2930400"/>
              <a:ext cx="816120" cy="700200"/>
              <a:chOff x="3235320" y="2930400"/>
              <a:chExt cx="816120" cy="700200"/>
            </a:xfrm>
          </p:grpSpPr>
          <p:sp>
            <p:nvSpPr>
              <p:cNvPr id="317" name=""/>
              <p:cNvSpPr/>
              <p:nvPr/>
            </p:nvSpPr>
            <p:spPr>
              <a:xfrm flipH="1" flipV="1">
                <a:off x="3642840" y="3012840"/>
                <a:ext cx="76320" cy="12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553200" y="3003120"/>
                <a:ext cx="89640" cy="13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97480" y="293040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8200" y="3137040"/>
                <a:ext cx="9216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81000" y="3137040"/>
                <a:ext cx="92520" cy="80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235320" y="3217320"/>
                <a:ext cx="816120" cy="413280"/>
                <a:chOff x="3235320" y="3217320"/>
                <a:chExt cx="816120" cy="4132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>
                  <a:off x="3730680" y="3217320"/>
                  <a:ext cx="12888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3728520" y="3217320"/>
                  <a:ext cx="216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3549240" y="3217320"/>
                  <a:ext cx="612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3422160" y="3217320"/>
                  <a:ext cx="131040" cy="12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732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817800" y="334332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0640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87120" y="334332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23532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958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44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5292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7533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85560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337560" y="3549960"/>
                  <a:ext cx="9252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440160" y="3549960"/>
                  <a:ext cx="92160" cy="806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  <a:effectLst>
                  <a:outerShdw dist="17819" dir="2700000" blurRad="0" rotWithShape="0">
                    <a:srgbClr val="0033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279600" y="3417480"/>
                  <a:ext cx="135720" cy="132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3386880" y="3423240"/>
                  <a:ext cx="34920" cy="12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3494160" y="3421440"/>
                  <a:ext cx="5688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>
                  <a:off x="3555360" y="3427200"/>
                  <a:ext cx="34920" cy="122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3704400" y="3421440"/>
                  <a:ext cx="2844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3735000" y="3425400"/>
                  <a:ext cx="6120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>
                  <a:off x="3863880" y="3421440"/>
                  <a:ext cx="34920" cy="128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3868560" y="3425400"/>
                  <a:ext cx="128880" cy="124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422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névtér tervez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24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ekedjünk az egyszerűségr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ső tartományt nevét származtassuk a cég regisztrált DNS nevéb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 névtér legyen rövi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: corp.cegnev.hu, bp.cegnev.hu, hq.cegnev.hu, w2k.cegnev.hu, ad.cegnev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kor kell DNS név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jelentkezés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ímtár böngészéséné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liensek, szerverek, tartományok azonosítása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xchange 2000 SMTP út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standard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DNS karaktere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1" name=""/>
          <p:cNvGrpSpPr/>
          <p:nvPr/>
        </p:nvGrpSpPr>
        <p:grpSpPr>
          <a:xfrm>
            <a:off x="7848720" y="228600"/>
            <a:ext cx="928440" cy="837720"/>
            <a:chOff x="7848720" y="228600"/>
            <a:chExt cx="928440" cy="837720"/>
          </a:xfrm>
        </p:grpSpPr>
        <p:grpSp>
          <p:nvGrpSpPr>
            <p:cNvPr id="2362" name=""/>
            <p:cNvGrpSpPr/>
            <p:nvPr/>
          </p:nvGrpSpPr>
          <p:grpSpPr>
            <a:xfrm>
              <a:off x="8099280" y="228600"/>
              <a:ext cx="428400" cy="388800"/>
              <a:chOff x="8099280" y="228600"/>
              <a:chExt cx="428400" cy="388800"/>
            </a:xfrm>
          </p:grpSpPr>
          <p:sp>
            <p:nvSpPr>
              <p:cNvPr id="2363" name=""/>
              <p:cNvSpPr/>
              <p:nvPr/>
            </p:nvSpPr>
            <p:spPr>
              <a:xfrm>
                <a:off x="8099280" y="25632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22860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5" name=""/>
              <p:cNvSpPr/>
              <p:nvPr/>
            </p:nvSpPr>
            <p:spPr>
              <a:xfrm>
                <a:off x="83473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83473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82645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264520" y="567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347320" y="45900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264520" y="516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37692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72" name=""/>
              <p:cNvCxnSpPr>
                <a:stCxn id="2371" idx="1"/>
                <a:endCxn id="2367" idx="2"/>
              </p:cNvCxnSpPr>
              <p:nvPr/>
            </p:nvCxnSpPr>
            <p:spPr>
              <a:xfrm flipV="1" rot="10800000">
                <a:off x="8263800" y="40644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3" name=""/>
              <p:cNvCxnSpPr>
                <a:stCxn id="2371" idx="1"/>
                <a:endCxn id="2370" idx="2"/>
              </p:cNvCxnSpPr>
              <p:nvPr/>
            </p:nvCxnSpPr>
            <p:spPr>
              <a:xfrm flipV="1" rot="10800000">
                <a:off x="8263800" y="40644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4" name=""/>
              <p:cNvCxnSpPr>
                <a:stCxn id="2371" idx="1"/>
                <a:endCxn id="2368" idx="2"/>
              </p:cNvCxnSpPr>
              <p:nvPr/>
            </p:nvCxnSpPr>
            <p:spPr>
              <a:xfrm flipV="1" rot="10800000">
                <a:off x="8263800" y="40716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5" name=""/>
              <p:cNvCxnSpPr>
                <a:stCxn id="2367" idx="6"/>
                <a:endCxn id="2369" idx="2"/>
              </p:cNvCxnSpPr>
              <p:nvPr/>
            </p:nvCxnSpPr>
            <p:spPr>
              <a:xfrm>
                <a:off x="8309880" y="47556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6" name=""/>
              <p:cNvCxnSpPr>
                <a:stCxn id="2367" idx="6"/>
                <a:endCxn id="2365" idx="2"/>
              </p:cNvCxnSpPr>
              <p:nvPr/>
            </p:nvCxnSpPr>
            <p:spPr>
              <a:xfrm>
                <a:off x="8309880" y="47592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77" name=""/>
              <p:cNvCxnSpPr>
                <a:stCxn id="2367" idx="6"/>
                <a:endCxn id="2366" idx="2"/>
              </p:cNvCxnSpPr>
              <p:nvPr/>
            </p:nvCxnSpPr>
            <p:spPr>
              <a:xfrm>
                <a:off x="8309880" y="47556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78" name=""/>
            <p:cNvGrpSpPr/>
            <p:nvPr/>
          </p:nvGrpSpPr>
          <p:grpSpPr>
            <a:xfrm>
              <a:off x="7848720" y="677520"/>
              <a:ext cx="428400" cy="388800"/>
              <a:chOff x="7848720" y="677520"/>
              <a:chExt cx="428400" cy="388800"/>
            </a:xfrm>
          </p:grpSpPr>
          <p:sp>
            <p:nvSpPr>
              <p:cNvPr id="2379" name=""/>
              <p:cNvSpPr/>
              <p:nvPr/>
            </p:nvSpPr>
            <p:spPr>
              <a:xfrm>
                <a:off x="784872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1" name=""/>
              <p:cNvSpPr/>
              <p:nvPr/>
            </p:nvSpPr>
            <p:spPr>
              <a:xfrm>
                <a:off x="80967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80967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0139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801396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809676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801396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388" name=""/>
              <p:cNvCxnSpPr>
                <a:stCxn id="2387" idx="1"/>
                <a:endCxn id="2383" idx="2"/>
              </p:cNvCxnSpPr>
              <p:nvPr/>
            </p:nvCxnSpPr>
            <p:spPr>
              <a:xfrm flipV="1" rot="10800000">
                <a:off x="801324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89" name=""/>
              <p:cNvCxnSpPr>
                <a:stCxn id="2387" idx="1"/>
                <a:endCxn id="2386" idx="2"/>
              </p:cNvCxnSpPr>
              <p:nvPr/>
            </p:nvCxnSpPr>
            <p:spPr>
              <a:xfrm flipV="1" rot="10800000">
                <a:off x="801324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0" name=""/>
              <p:cNvCxnSpPr>
                <a:stCxn id="2387" idx="1"/>
                <a:endCxn id="2384" idx="2"/>
              </p:cNvCxnSpPr>
              <p:nvPr/>
            </p:nvCxnSpPr>
            <p:spPr>
              <a:xfrm flipV="1" rot="10800000">
                <a:off x="801324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1" name=""/>
              <p:cNvCxnSpPr>
                <a:stCxn id="2383" idx="6"/>
                <a:endCxn id="2385" idx="2"/>
              </p:cNvCxnSpPr>
              <p:nvPr/>
            </p:nvCxnSpPr>
            <p:spPr>
              <a:xfrm>
                <a:off x="805932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2" name=""/>
              <p:cNvCxnSpPr>
                <a:stCxn id="2383" idx="6"/>
                <a:endCxn id="2381" idx="2"/>
              </p:cNvCxnSpPr>
              <p:nvPr/>
            </p:nvCxnSpPr>
            <p:spPr>
              <a:xfrm>
                <a:off x="805932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393" name=""/>
              <p:cNvCxnSpPr>
                <a:stCxn id="2383" idx="6"/>
                <a:endCxn id="2382" idx="2"/>
              </p:cNvCxnSpPr>
              <p:nvPr/>
            </p:nvCxnSpPr>
            <p:spPr>
              <a:xfrm>
                <a:off x="805932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394" name=""/>
            <p:cNvGrpSpPr/>
            <p:nvPr/>
          </p:nvGrpSpPr>
          <p:grpSpPr>
            <a:xfrm>
              <a:off x="8348760" y="677520"/>
              <a:ext cx="428400" cy="388800"/>
              <a:chOff x="8348760" y="677520"/>
              <a:chExt cx="428400" cy="388800"/>
            </a:xfrm>
          </p:grpSpPr>
          <p:sp>
            <p:nvSpPr>
              <p:cNvPr id="2395" name=""/>
              <p:cNvSpPr/>
              <p:nvPr/>
            </p:nvSpPr>
            <p:spPr>
              <a:xfrm>
                <a:off x="8348760" y="7052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3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6775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7" name=""/>
              <p:cNvSpPr/>
              <p:nvPr/>
            </p:nvSpPr>
            <p:spPr>
              <a:xfrm>
                <a:off x="85968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85968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85140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514000" y="1015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596800" y="9079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8514000" y="9651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8258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04" name=""/>
              <p:cNvCxnSpPr>
                <a:stCxn id="2403" idx="1"/>
                <a:endCxn id="2399" idx="2"/>
              </p:cNvCxnSpPr>
              <p:nvPr/>
            </p:nvCxnSpPr>
            <p:spPr>
              <a:xfrm flipV="1" rot="10800000">
                <a:off x="8513280" y="8553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5" name=""/>
              <p:cNvCxnSpPr>
                <a:stCxn id="2403" idx="1"/>
                <a:endCxn id="2402" idx="2"/>
              </p:cNvCxnSpPr>
              <p:nvPr/>
            </p:nvCxnSpPr>
            <p:spPr>
              <a:xfrm flipV="1" rot="10800000">
                <a:off x="8513280" y="8553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6" name=""/>
              <p:cNvCxnSpPr>
                <a:stCxn id="2403" idx="1"/>
                <a:endCxn id="2400" idx="2"/>
              </p:cNvCxnSpPr>
              <p:nvPr/>
            </p:nvCxnSpPr>
            <p:spPr>
              <a:xfrm flipV="1" rot="10800000">
                <a:off x="8513280" y="8560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7" name=""/>
              <p:cNvCxnSpPr>
                <a:stCxn id="2399" idx="6"/>
                <a:endCxn id="2401" idx="2"/>
              </p:cNvCxnSpPr>
              <p:nvPr/>
            </p:nvCxnSpPr>
            <p:spPr>
              <a:xfrm>
                <a:off x="8559360" y="9244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8" name=""/>
              <p:cNvCxnSpPr>
                <a:stCxn id="2399" idx="6"/>
                <a:endCxn id="2397" idx="2"/>
              </p:cNvCxnSpPr>
              <p:nvPr/>
            </p:nvCxnSpPr>
            <p:spPr>
              <a:xfrm>
                <a:off x="8559360" y="9248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09" name=""/>
              <p:cNvCxnSpPr>
                <a:stCxn id="2399" idx="6"/>
                <a:endCxn id="2398" idx="2"/>
              </p:cNvCxnSpPr>
              <p:nvPr/>
            </p:nvCxnSpPr>
            <p:spPr>
              <a:xfrm>
                <a:off x="8559360" y="9244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10" name=""/>
            <p:cNvCxnSpPr>
              <a:stCxn id="2363" idx="4"/>
              <a:endCxn id="2396" idx="0"/>
            </p:cNvCxnSpPr>
            <p:nvPr/>
          </p:nvCxnSpPr>
          <p:spPr>
            <a:xfrm>
              <a:off x="8527320" y="61704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11" name=""/>
            <p:cNvCxnSpPr>
              <a:stCxn id="2363" idx="2"/>
              <a:endCxn id="2380" idx="0"/>
            </p:cNvCxnSpPr>
            <p:nvPr/>
          </p:nvCxnSpPr>
          <p:spPr>
            <a:xfrm flipH="1">
              <a:off x="8060760" y="61704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z áttérés után..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átneve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ierarchia nem változhat m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rtományokat nem lehet szétválasztani vagy összeolvaszt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 az objektumok mozgatha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port/export:  LDIFDE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k és csoport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MOVE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ítógép objektum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NETDOM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7848720" y="304920"/>
            <a:ext cx="928440" cy="837720"/>
            <a:chOff x="7848720" y="304920"/>
            <a:chExt cx="928440" cy="837720"/>
          </a:xfrm>
        </p:grpSpPr>
        <p:grpSp>
          <p:nvGrpSpPr>
            <p:cNvPr id="2415" name=""/>
            <p:cNvGrpSpPr/>
            <p:nvPr/>
          </p:nvGrpSpPr>
          <p:grpSpPr>
            <a:xfrm>
              <a:off x="8099280" y="304920"/>
              <a:ext cx="428400" cy="388800"/>
              <a:chOff x="8099280" y="304920"/>
              <a:chExt cx="428400" cy="388800"/>
            </a:xfrm>
          </p:grpSpPr>
          <p:sp>
            <p:nvSpPr>
              <p:cNvPr id="2416" name=""/>
              <p:cNvSpPr/>
              <p:nvPr/>
            </p:nvSpPr>
            <p:spPr>
              <a:xfrm>
                <a:off x="8099280" y="33264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249040" y="30492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8" name=""/>
              <p:cNvSpPr/>
              <p:nvPr/>
            </p:nvSpPr>
            <p:spPr>
              <a:xfrm>
                <a:off x="83473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3473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2645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264520" y="643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347320" y="53532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8264520" y="59256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272080" y="45324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25" name=""/>
              <p:cNvCxnSpPr>
                <a:stCxn id="2424" idx="1"/>
                <a:endCxn id="2420" idx="2"/>
              </p:cNvCxnSpPr>
              <p:nvPr/>
            </p:nvCxnSpPr>
            <p:spPr>
              <a:xfrm flipV="1" rot="10800000">
                <a:off x="8263800" y="48276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6" name=""/>
              <p:cNvCxnSpPr>
                <a:stCxn id="2424" idx="1"/>
                <a:endCxn id="2423" idx="2"/>
              </p:cNvCxnSpPr>
              <p:nvPr/>
            </p:nvCxnSpPr>
            <p:spPr>
              <a:xfrm flipV="1" rot="10800000">
                <a:off x="8263800" y="48276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7" name=""/>
              <p:cNvCxnSpPr>
                <a:stCxn id="2424" idx="1"/>
                <a:endCxn id="2421" idx="2"/>
              </p:cNvCxnSpPr>
              <p:nvPr/>
            </p:nvCxnSpPr>
            <p:spPr>
              <a:xfrm flipV="1" rot="10800000">
                <a:off x="8263800" y="48348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8" name=""/>
              <p:cNvCxnSpPr>
                <a:stCxn id="2420" idx="6"/>
                <a:endCxn id="2422" idx="2"/>
              </p:cNvCxnSpPr>
              <p:nvPr/>
            </p:nvCxnSpPr>
            <p:spPr>
              <a:xfrm>
                <a:off x="8309880" y="55188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29" name=""/>
              <p:cNvCxnSpPr>
                <a:stCxn id="2420" idx="6"/>
                <a:endCxn id="2418" idx="2"/>
              </p:cNvCxnSpPr>
              <p:nvPr/>
            </p:nvCxnSpPr>
            <p:spPr>
              <a:xfrm>
                <a:off x="8309880" y="55224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30" name=""/>
              <p:cNvCxnSpPr>
                <a:stCxn id="2420" idx="6"/>
                <a:endCxn id="2419" idx="2"/>
              </p:cNvCxnSpPr>
              <p:nvPr/>
            </p:nvCxnSpPr>
            <p:spPr>
              <a:xfrm>
                <a:off x="8309880" y="55188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31" name=""/>
            <p:cNvGrpSpPr/>
            <p:nvPr/>
          </p:nvGrpSpPr>
          <p:grpSpPr>
            <a:xfrm>
              <a:off x="7848720" y="753840"/>
              <a:ext cx="428400" cy="388800"/>
              <a:chOff x="7848720" y="753840"/>
              <a:chExt cx="428400" cy="388800"/>
            </a:xfrm>
          </p:grpSpPr>
          <p:sp>
            <p:nvSpPr>
              <p:cNvPr id="2432" name=""/>
              <p:cNvSpPr/>
              <p:nvPr/>
            </p:nvSpPr>
            <p:spPr>
              <a:xfrm>
                <a:off x="784872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9848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4" name=""/>
              <p:cNvSpPr/>
              <p:nvPr/>
            </p:nvSpPr>
            <p:spPr>
              <a:xfrm>
                <a:off x="80967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0967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0139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01396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09676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801396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2152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41" name=""/>
              <p:cNvCxnSpPr>
                <a:stCxn id="2440" idx="1"/>
                <a:endCxn id="2436" idx="2"/>
              </p:cNvCxnSpPr>
              <p:nvPr/>
            </p:nvCxnSpPr>
            <p:spPr>
              <a:xfrm flipV="1" rot="10800000">
                <a:off x="801324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2" name=""/>
              <p:cNvCxnSpPr>
                <a:stCxn id="2440" idx="1"/>
                <a:endCxn id="2439" idx="2"/>
              </p:cNvCxnSpPr>
              <p:nvPr/>
            </p:nvCxnSpPr>
            <p:spPr>
              <a:xfrm flipV="1" rot="10800000">
                <a:off x="801324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3" name=""/>
              <p:cNvCxnSpPr>
                <a:stCxn id="2440" idx="1"/>
                <a:endCxn id="2437" idx="2"/>
              </p:cNvCxnSpPr>
              <p:nvPr/>
            </p:nvCxnSpPr>
            <p:spPr>
              <a:xfrm flipV="1" rot="10800000">
                <a:off x="801324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4" name=""/>
              <p:cNvCxnSpPr>
                <a:stCxn id="2436" idx="6"/>
                <a:endCxn id="2438" idx="2"/>
              </p:cNvCxnSpPr>
              <p:nvPr/>
            </p:nvCxnSpPr>
            <p:spPr>
              <a:xfrm>
                <a:off x="805932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5" name=""/>
              <p:cNvCxnSpPr>
                <a:stCxn id="2436" idx="6"/>
                <a:endCxn id="2434" idx="2"/>
              </p:cNvCxnSpPr>
              <p:nvPr/>
            </p:nvCxnSpPr>
            <p:spPr>
              <a:xfrm>
                <a:off x="805932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46" name=""/>
              <p:cNvCxnSpPr>
                <a:stCxn id="2436" idx="6"/>
                <a:endCxn id="2435" idx="2"/>
              </p:cNvCxnSpPr>
              <p:nvPr/>
            </p:nvCxnSpPr>
            <p:spPr>
              <a:xfrm>
                <a:off x="805932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grpSp>
          <p:nvGrpSpPr>
            <p:cNvPr id="2447" name=""/>
            <p:cNvGrpSpPr/>
            <p:nvPr/>
          </p:nvGrpSpPr>
          <p:grpSpPr>
            <a:xfrm>
              <a:off x="8348760" y="753840"/>
              <a:ext cx="428400" cy="388800"/>
              <a:chOff x="8348760" y="753840"/>
              <a:chExt cx="428400" cy="388800"/>
            </a:xfrm>
          </p:grpSpPr>
          <p:sp>
            <p:nvSpPr>
              <p:cNvPr id="2448" name=""/>
              <p:cNvSpPr/>
              <p:nvPr/>
            </p:nvSpPr>
            <p:spPr>
              <a:xfrm>
                <a:off x="8348760" y="781560"/>
                <a:ext cx="428400" cy="361080"/>
              </a:xfrm>
              <a:prstGeom prst="triangle">
                <a:avLst>
                  <a:gd name="adj" fmla="val 50000"/>
                </a:avLst>
              </a:prstGeom>
              <a:solidFill>
                <a:srgbClr val="93a7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98520" y="753840"/>
                <a:ext cx="12564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0" name=""/>
              <p:cNvSpPr/>
              <p:nvPr/>
            </p:nvSpPr>
            <p:spPr>
              <a:xfrm>
                <a:off x="85968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5968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5140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514000" y="1092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596800" y="98424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514000" y="1041480"/>
                <a:ext cx="45000" cy="3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521560" y="902160"/>
                <a:ext cx="71280" cy="61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457" name=""/>
              <p:cNvCxnSpPr>
                <a:stCxn id="2456" idx="1"/>
                <a:endCxn id="2452" idx="2"/>
              </p:cNvCxnSpPr>
              <p:nvPr/>
            </p:nvCxnSpPr>
            <p:spPr>
              <a:xfrm flipV="1" rot="10800000">
                <a:off x="8513280" y="931680"/>
                <a:ext cx="7920" cy="6876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8" name=""/>
              <p:cNvCxnSpPr>
                <a:stCxn id="2456" idx="1"/>
                <a:endCxn id="2455" idx="2"/>
              </p:cNvCxnSpPr>
              <p:nvPr/>
            </p:nvCxnSpPr>
            <p:spPr>
              <a:xfrm flipV="1" rot="10800000">
                <a:off x="8513280" y="931680"/>
                <a:ext cx="7920" cy="12564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59" name=""/>
              <p:cNvCxnSpPr>
                <a:stCxn id="2456" idx="1"/>
                <a:endCxn id="2453" idx="2"/>
              </p:cNvCxnSpPr>
              <p:nvPr/>
            </p:nvCxnSpPr>
            <p:spPr>
              <a:xfrm flipV="1" rot="10800000">
                <a:off x="8513280" y="932400"/>
                <a:ext cx="7920" cy="176400"/>
              </a:xfrm>
              <a:prstGeom prst="bentConnector3">
                <a:avLst>
                  <a:gd name="adj1" fmla="val 400000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0" name=""/>
              <p:cNvCxnSpPr>
                <a:stCxn id="2452" idx="6"/>
                <a:endCxn id="2454" idx="2"/>
              </p:cNvCxnSpPr>
              <p:nvPr/>
            </p:nvCxnSpPr>
            <p:spPr>
              <a:xfrm>
                <a:off x="8559360" y="1000800"/>
                <a:ext cx="38160" cy="1080"/>
              </a:xfrm>
              <a:prstGeom prst="bentConnector2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1" name=""/>
              <p:cNvCxnSpPr>
                <a:stCxn id="2452" idx="6"/>
                <a:endCxn id="2450" idx="2"/>
              </p:cNvCxnSpPr>
              <p:nvPr/>
            </p:nvCxnSpPr>
            <p:spPr>
              <a:xfrm>
                <a:off x="8559360" y="1001160"/>
                <a:ext cx="38160" cy="5760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2462" name=""/>
              <p:cNvCxnSpPr>
                <a:stCxn id="2452" idx="6"/>
                <a:endCxn id="2451" idx="2"/>
              </p:cNvCxnSpPr>
              <p:nvPr/>
            </p:nvCxnSpPr>
            <p:spPr>
              <a:xfrm>
                <a:off x="8559360" y="1000800"/>
                <a:ext cx="38160" cy="108360"/>
              </a:xfrm>
              <a:prstGeom prst="bentConnector3">
                <a:avLst>
                  <a:gd name="adj1" fmla="val 49523"/>
                </a:avLst>
              </a:prstGeom>
              <a:ln w="12600">
                <a:solidFill>
                  <a:srgbClr val="ffffff"/>
                </a:solidFill>
                <a:miter/>
              </a:ln>
            </p:spPr>
          </p:cxnSp>
        </p:grpSp>
        <p:cxnSp>
          <p:nvCxnSpPr>
            <p:cNvPr id="2463" name=""/>
            <p:cNvCxnSpPr>
              <a:stCxn id="2416" idx="4"/>
              <a:endCxn id="2449" idx="0"/>
            </p:cNvCxnSpPr>
            <p:nvPr/>
          </p:nvCxnSpPr>
          <p:spPr>
            <a:xfrm>
              <a:off x="8527320" y="693360"/>
              <a:ext cx="3420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64" name=""/>
            <p:cNvCxnSpPr>
              <a:stCxn id="2416" idx="2"/>
              <a:endCxn id="2433" idx="0"/>
            </p:cNvCxnSpPr>
            <p:nvPr/>
          </p:nvCxnSpPr>
          <p:spPr>
            <a:xfrm flipH="1">
              <a:off x="8060760" y="693360"/>
              <a:ext cx="38880" cy="608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vezti egység egy univerzális tároló a tartomány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másba ágyaz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biztonsági objektum! - ellentétben a felhasználói csoportok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használási terület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ok csoportosításának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delegáció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Group Policy alapú felügyelet egy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nnyen átkonfigurál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élység nincs kihatással a böngészés sebességére, de ne menjünk 5 fö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7875000" y="225360"/>
            <a:ext cx="922320" cy="1523520"/>
            <a:chOff x="7875000" y="225360"/>
            <a:chExt cx="922320" cy="1523520"/>
          </a:xfrm>
        </p:grpSpPr>
        <p:sp>
          <p:nvSpPr>
            <p:cNvPr id="2468" name=""/>
            <p:cNvSpPr/>
            <p:nvPr/>
          </p:nvSpPr>
          <p:spPr>
            <a:xfrm>
              <a:off x="8517960" y="11754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8517960" y="152100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010360" y="78444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8010360" y="15210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517960" y="7844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010360" y="1175400"/>
              <a:ext cx="27648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74" name="" descr=""/>
            <p:cNvPicPr/>
            <p:nvPr/>
          </p:nvPicPr>
          <p:blipFill>
            <a:blip r:embed="rId1"/>
            <a:stretch/>
          </p:blipFill>
          <p:spPr>
            <a:xfrm>
              <a:off x="8055000" y="225360"/>
              <a:ext cx="442440" cy="418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75" name=""/>
            <p:cNvCxnSpPr>
              <a:stCxn id="2474" idx="1"/>
              <a:endCxn id="2470" idx="2"/>
            </p:cNvCxnSpPr>
            <p:nvPr/>
          </p:nvCxnSpPr>
          <p:spPr>
            <a:xfrm flipV="1" rot="10800000">
              <a:off x="8009640" y="435600"/>
              <a:ext cx="45360" cy="463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6" name=""/>
            <p:cNvCxnSpPr>
              <a:stCxn id="2474" idx="1"/>
              <a:endCxn id="2473" idx="2"/>
            </p:cNvCxnSpPr>
            <p:nvPr/>
          </p:nvCxnSpPr>
          <p:spPr>
            <a:xfrm flipV="1" rot="10800000">
              <a:off x="8009640" y="434880"/>
              <a:ext cx="4536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7" name=""/>
            <p:cNvCxnSpPr>
              <a:stCxn id="2474" idx="1"/>
              <a:endCxn id="2471" idx="2"/>
            </p:cNvCxnSpPr>
            <p:nvPr/>
          </p:nvCxnSpPr>
          <p:spPr>
            <a:xfrm flipV="1" rot="10800000">
              <a:off x="8009640" y="434880"/>
              <a:ext cx="45360" cy="11991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8" name=""/>
            <p:cNvCxnSpPr>
              <a:stCxn id="2470" idx="6"/>
              <a:endCxn id="2472" idx="2"/>
            </p:cNvCxnSpPr>
            <p:nvPr/>
          </p:nvCxnSpPr>
          <p:spPr>
            <a:xfrm>
              <a:off x="8286480" y="89856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79" name=""/>
            <p:cNvCxnSpPr>
              <a:stCxn id="2470" idx="6"/>
              <a:endCxn id="2468" idx="2"/>
            </p:cNvCxnSpPr>
            <p:nvPr/>
          </p:nvCxnSpPr>
          <p:spPr>
            <a:xfrm>
              <a:off x="8286480" y="89856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80" name=""/>
            <p:cNvCxnSpPr>
              <a:stCxn id="2470" idx="6"/>
              <a:endCxn id="2469" idx="2"/>
            </p:cNvCxnSpPr>
            <p:nvPr/>
          </p:nvCxnSpPr>
          <p:spPr>
            <a:xfrm>
              <a:off x="8286480" y="89856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Delegáci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ulajdonság szinten lehet a hozzáférést szabály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ugalmas deleg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vesebb tartomány adminisztrátorra van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elegálás szintj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jes hozzáfér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bjektum osztály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8680" indent="-511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ulajdonság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84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90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91" name=""/>
            <p:cNvCxnSpPr>
              <a:stCxn id="2490" idx="1"/>
              <a:endCxn id="2486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2" name=""/>
            <p:cNvCxnSpPr>
              <a:stCxn id="2490" idx="1"/>
              <a:endCxn id="2489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3" name=""/>
            <p:cNvCxnSpPr>
              <a:stCxn id="2490" idx="1"/>
              <a:endCxn id="2487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4" name=""/>
            <p:cNvCxnSpPr>
              <a:stCxn id="2486" idx="6"/>
              <a:endCxn id="2488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5" name=""/>
            <p:cNvCxnSpPr>
              <a:stCxn id="2486" idx="6"/>
              <a:endCxn id="2484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496" name=""/>
            <p:cNvCxnSpPr>
              <a:stCxn id="2486" idx="6"/>
              <a:endCxn id="2485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400" spc="-1" strike="noStrike">
                <a:solidFill>
                  <a:srgbClr val="ffcc00"/>
                </a:solidFill>
                <a:latin typeface="Arial"/>
              </a:rPr>
              <a:t>Hierarchiá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2499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5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506" name=""/>
            <p:cNvCxnSpPr>
              <a:stCxn id="2505" idx="1"/>
              <a:endCxn id="2501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7" name=""/>
            <p:cNvCxnSpPr>
              <a:stCxn id="2505" idx="1"/>
              <a:endCxn id="2504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8" name=""/>
            <p:cNvCxnSpPr>
              <a:stCxn id="2505" idx="1"/>
              <a:endCxn id="2502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09" name=""/>
            <p:cNvCxnSpPr>
              <a:stCxn id="2501" idx="6"/>
              <a:endCxn id="2503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0" name=""/>
            <p:cNvCxnSpPr>
              <a:stCxn id="2501" idx="6"/>
              <a:endCxn id="2499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11" name=""/>
            <p:cNvCxnSpPr>
              <a:stCxn id="2501" idx="6"/>
              <a:endCxn id="2500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609120" y="2284200"/>
            <a:ext cx="8215560" cy="25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öldrajzi elhelyezkedés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Üzleti modell alapjá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dminisztrációs szempontok sze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 Objektum típus, IT osztály, Group Policy-k alapj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914400" y="5060880"/>
            <a:ext cx="1904760" cy="1360080"/>
            <a:chOff x="914400" y="5060880"/>
            <a:chExt cx="1904760" cy="1360080"/>
          </a:xfrm>
        </p:grpSpPr>
        <p:sp>
          <p:nvSpPr>
            <p:cNvPr id="2514" name=""/>
            <p:cNvSpPr/>
            <p:nvPr/>
          </p:nvSpPr>
          <p:spPr>
            <a:xfrm>
              <a:off x="2331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197360" y="56840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764000" y="56840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17" name="" descr=""/>
            <p:cNvPicPr/>
            <p:nvPr/>
          </p:nvPicPr>
          <p:blipFill>
            <a:blip r:embed="rId2"/>
            <a:stretch/>
          </p:blipFill>
          <p:spPr>
            <a:xfrm>
              <a:off x="1707480" y="50608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8" name=""/>
            <p:cNvSpPr/>
            <p:nvPr/>
          </p:nvSpPr>
          <p:spPr>
            <a:xfrm>
              <a:off x="91440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25424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5940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3428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27412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613960" y="62510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24" name=""/>
            <p:cNvCxnSpPr>
              <a:stCxn id="2515" idx="0"/>
              <a:endCxn id="2517" idx="2"/>
            </p:cNvCxnSpPr>
            <p:nvPr/>
          </p:nvCxnSpPr>
          <p:spPr>
            <a:xfrm flipV="1">
              <a:off x="1300320" y="53708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5" name=""/>
            <p:cNvCxnSpPr>
              <a:stCxn id="2516" idx="0"/>
              <a:endCxn id="2517" idx="2"/>
            </p:cNvCxnSpPr>
            <p:nvPr/>
          </p:nvCxnSpPr>
          <p:spPr>
            <a:xfrm flipV="1">
              <a:off x="1866960" y="53708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6" name=""/>
            <p:cNvCxnSpPr>
              <a:stCxn id="2514" idx="0"/>
              <a:endCxn id="2517" idx="2"/>
            </p:cNvCxnSpPr>
            <p:nvPr/>
          </p:nvCxnSpPr>
          <p:spPr>
            <a:xfrm flipH="1" flipV="1">
              <a:off x="1872000" y="53708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7" name=""/>
            <p:cNvCxnSpPr>
              <a:stCxn id="2518" idx="0"/>
              <a:endCxn id="2515" idx="4"/>
            </p:cNvCxnSpPr>
            <p:nvPr/>
          </p:nvCxnSpPr>
          <p:spPr>
            <a:xfrm flipV="1">
              <a:off x="1017000" y="58539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8" name=""/>
            <p:cNvCxnSpPr>
              <a:stCxn id="2515" idx="4"/>
              <a:endCxn id="2519" idx="0"/>
            </p:cNvCxnSpPr>
            <p:nvPr/>
          </p:nvCxnSpPr>
          <p:spPr>
            <a:xfrm>
              <a:off x="1299960" y="58543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29" name=""/>
            <p:cNvCxnSpPr>
              <a:stCxn id="2520" idx="0"/>
              <a:endCxn id="2516" idx="4"/>
            </p:cNvCxnSpPr>
            <p:nvPr/>
          </p:nvCxnSpPr>
          <p:spPr>
            <a:xfrm flipV="1">
              <a:off x="169704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0" name=""/>
            <p:cNvCxnSpPr>
              <a:stCxn id="2521" idx="0"/>
              <a:endCxn id="2516" idx="4"/>
            </p:cNvCxnSpPr>
            <p:nvPr/>
          </p:nvCxnSpPr>
          <p:spPr>
            <a:xfrm flipH="1" flipV="1">
              <a:off x="1866600" y="58525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1" name=""/>
            <p:cNvCxnSpPr>
              <a:stCxn id="2522" idx="0"/>
              <a:endCxn id="2514" idx="4"/>
            </p:cNvCxnSpPr>
            <p:nvPr/>
          </p:nvCxnSpPr>
          <p:spPr>
            <a:xfrm flipV="1">
              <a:off x="2377080" y="58525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32" name=""/>
            <p:cNvCxnSpPr>
              <a:stCxn id="2523" idx="0"/>
              <a:endCxn id="2514" idx="4"/>
            </p:cNvCxnSpPr>
            <p:nvPr/>
          </p:nvCxnSpPr>
          <p:spPr>
            <a:xfrm flipH="1" flipV="1">
              <a:off x="2432520" y="58525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33" name=""/>
          <p:cNvGrpSpPr/>
          <p:nvPr/>
        </p:nvGrpSpPr>
        <p:grpSpPr>
          <a:xfrm>
            <a:off x="3657600" y="5116680"/>
            <a:ext cx="1904760" cy="1360080"/>
            <a:chOff x="3657600" y="5116680"/>
            <a:chExt cx="1904760" cy="1360080"/>
          </a:xfrm>
        </p:grpSpPr>
        <p:sp>
          <p:nvSpPr>
            <p:cNvPr id="2534" name=""/>
            <p:cNvSpPr/>
            <p:nvPr/>
          </p:nvSpPr>
          <p:spPr>
            <a:xfrm>
              <a:off x="5074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940560" y="573984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507200" y="573984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37" name="" descr=""/>
            <p:cNvPicPr/>
            <p:nvPr/>
          </p:nvPicPr>
          <p:blipFill>
            <a:blip r:embed="rId3"/>
            <a:stretch/>
          </p:blipFill>
          <p:spPr>
            <a:xfrm>
              <a:off x="4450680" y="511668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8" name=""/>
            <p:cNvSpPr/>
            <p:nvPr/>
          </p:nvSpPr>
          <p:spPr>
            <a:xfrm>
              <a:off x="365760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99744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372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67748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01732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357160" y="630684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44" name=""/>
            <p:cNvCxnSpPr>
              <a:stCxn id="2535" idx="0"/>
              <a:endCxn id="2537" idx="2"/>
            </p:cNvCxnSpPr>
            <p:nvPr/>
          </p:nvCxnSpPr>
          <p:spPr>
            <a:xfrm flipV="1">
              <a:off x="4043520" y="542664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5" name=""/>
            <p:cNvCxnSpPr>
              <a:stCxn id="2536" idx="0"/>
              <a:endCxn id="2537" idx="2"/>
            </p:cNvCxnSpPr>
            <p:nvPr/>
          </p:nvCxnSpPr>
          <p:spPr>
            <a:xfrm flipV="1">
              <a:off x="4610160" y="542664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6" name=""/>
            <p:cNvCxnSpPr>
              <a:stCxn id="2534" idx="0"/>
              <a:endCxn id="2537" idx="2"/>
            </p:cNvCxnSpPr>
            <p:nvPr/>
          </p:nvCxnSpPr>
          <p:spPr>
            <a:xfrm flipH="1" flipV="1">
              <a:off x="4615200" y="542664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7" name=""/>
            <p:cNvCxnSpPr>
              <a:stCxn id="2538" idx="0"/>
              <a:endCxn id="2535" idx="4"/>
            </p:cNvCxnSpPr>
            <p:nvPr/>
          </p:nvCxnSpPr>
          <p:spPr>
            <a:xfrm flipV="1">
              <a:off x="3760200" y="590976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8" name=""/>
            <p:cNvCxnSpPr>
              <a:stCxn id="2535" idx="4"/>
              <a:endCxn id="2539" idx="0"/>
            </p:cNvCxnSpPr>
            <p:nvPr/>
          </p:nvCxnSpPr>
          <p:spPr>
            <a:xfrm>
              <a:off x="4043160" y="591012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49" name=""/>
            <p:cNvCxnSpPr>
              <a:stCxn id="2540" idx="0"/>
              <a:endCxn id="2536" idx="4"/>
            </p:cNvCxnSpPr>
            <p:nvPr/>
          </p:nvCxnSpPr>
          <p:spPr>
            <a:xfrm flipV="1">
              <a:off x="444024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0" name=""/>
            <p:cNvCxnSpPr>
              <a:stCxn id="2541" idx="0"/>
              <a:endCxn id="2536" idx="4"/>
            </p:cNvCxnSpPr>
            <p:nvPr/>
          </p:nvCxnSpPr>
          <p:spPr>
            <a:xfrm flipH="1" flipV="1">
              <a:off x="4609800" y="590832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1" name=""/>
            <p:cNvCxnSpPr>
              <a:stCxn id="2542" idx="0"/>
              <a:endCxn id="2534" idx="4"/>
            </p:cNvCxnSpPr>
            <p:nvPr/>
          </p:nvCxnSpPr>
          <p:spPr>
            <a:xfrm flipV="1">
              <a:off x="5120280" y="590832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52" name=""/>
            <p:cNvCxnSpPr>
              <a:stCxn id="2543" idx="0"/>
              <a:endCxn id="2534" idx="4"/>
            </p:cNvCxnSpPr>
            <p:nvPr/>
          </p:nvCxnSpPr>
          <p:spPr>
            <a:xfrm flipH="1" flipV="1">
              <a:off x="5175720" y="590832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2553" name=""/>
          <p:cNvGrpSpPr/>
          <p:nvPr/>
        </p:nvGrpSpPr>
        <p:grpSpPr>
          <a:xfrm>
            <a:off x="6400800" y="5192640"/>
            <a:ext cx="1904760" cy="1360080"/>
            <a:chOff x="6400800" y="5192640"/>
            <a:chExt cx="1904760" cy="1360080"/>
          </a:xfrm>
        </p:grpSpPr>
        <p:sp>
          <p:nvSpPr>
            <p:cNvPr id="2554" name=""/>
            <p:cNvSpPr/>
            <p:nvPr/>
          </p:nvSpPr>
          <p:spPr>
            <a:xfrm>
              <a:off x="7817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683760" y="5815800"/>
              <a:ext cx="20556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250400" y="5815800"/>
              <a:ext cx="205200" cy="16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7" name="" descr=""/>
            <p:cNvPicPr/>
            <p:nvPr/>
          </p:nvPicPr>
          <p:blipFill>
            <a:blip r:embed="rId4"/>
            <a:stretch/>
          </p:blipFill>
          <p:spPr>
            <a:xfrm>
              <a:off x="7193880" y="5192640"/>
              <a:ext cx="329400" cy="3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>
              <a:off x="640080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74064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0804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742068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76052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8100360" y="6382800"/>
              <a:ext cx="205200" cy="1699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64" name=""/>
            <p:cNvCxnSpPr>
              <a:stCxn id="2555" idx="0"/>
              <a:endCxn id="2557" idx="2"/>
            </p:cNvCxnSpPr>
            <p:nvPr/>
          </p:nvCxnSpPr>
          <p:spPr>
            <a:xfrm flipV="1">
              <a:off x="6786720" y="5502600"/>
              <a:ext cx="57312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5" name=""/>
            <p:cNvCxnSpPr>
              <a:stCxn id="2556" idx="0"/>
              <a:endCxn id="2557" idx="2"/>
            </p:cNvCxnSpPr>
            <p:nvPr/>
          </p:nvCxnSpPr>
          <p:spPr>
            <a:xfrm flipV="1">
              <a:off x="7353360" y="5502600"/>
              <a:ext cx="648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6" name=""/>
            <p:cNvCxnSpPr>
              <a:stCxn id="2554" idx="0"/>
              <a:endCxn id="2557" idx="2"/>
            </p:cNvCxnSpPr>
            <p:nvPr/>
          </p:nvCxnSpPr>
          <p:spPr>
            <a:xfrm flipH="1" flipV="1">
              <a:off x="7358400" y="5502600"/>
              <a:ext cx="561240" cy="313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7" name=""/>
            <p:cNvCxnSpPr>
              <a:stCxn id="2558" idx="0"/>
              <a:endCxn id="2555" idx="4"/>
            </p:cNvCxnSpPr>
            <p:nvPr/>
          </p:nvCxnSpPr>
          <p:spPr>
            <a:xfrm flipV="1">
              <a:off x="6503400" y="5985720"/>
              <a:ext cx="28368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8" name=""/>
            <p:cNvCxnSpPr>
              <a:stCxn id="2555" idx="4"/>
              <a:endCxn id="2559" idx="0"/>
            </p:cNvCxnSpPr>
            <p:nvPr/>
          </p:nvCxnSpPr>
          <p:spPr>
            <a:xfrm>
              <a:off x="6786360" y="5986080"/>
              <a:ext cx="57240" cy="3974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69" name=""/>
            <p:cNvCxnSpPr>
              <a:stCxn id="2560" idx="0"/>
              <a:endCxn id="2556" idx="4"/>
            </p:cNvCxnSpPr>
            <p:nvPr/>
          </p:nvCxnSpPr>
          <p:spPr>
            <a:xfrm flipV="1">
              <a:off x="718344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0" name=""/>
            <p:cNvCxnSpPr>
              <a:stCxn id="2561" idx="0"/>
              <a:endCxn id="2556" idx="4"/>
            </p:cNvCxnSpPr>
            <p:nvPr/>
          </p:nvCxnSpPr>
          <p:spPr>
            <a:xfrm flipH="1" flipV="1">
              <a:off x="7353000" y="5984280"/>
              <a:ext cx="1706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1" name=""/>
            <p:cNvCxnSpPr>
              <a:stCxn id="2562" idx="0"/>
              <a:endCxn id="2554" idx="4"/>
            </p:cNvCxnSpPr>
            <p:nvPr/>
          </p:nvCxnSpPr>
          <p:spPr>
            <a:xfrm flipV="1">
              <a:off x="7863480" y="5984280"/>
              <a:ext cx="5688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2572" name=""/>
            <p:cNvCxnSpPr>
              <a:stCxn id="2563" idx="0"/>
              <a:endCxn id="2554" idx="4"/>
            </p:cNvCxnSpPr>
            <p:nvPr/>
          </p:nvCxnSpPr>
          <p:spPr>
            <a:xfrm flipH="1" flipV="1">
              <a:off x="7918920" y="5984280"/>
              <a:ext cx="284040" cy="398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2573" name=""/>
          <p:cNvSpPr/>
          <p:nvPr/>
        </p:nvSpPr>
        <p:spPr>
          <a:xfrm>
            <a:off x="762840" y="55180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Z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1599840" y="53658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2362320" y="544212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arany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720" y="615168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árosok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3322800" y="54212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énzü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5106240" y="546588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rke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376880" y="5421240"/>
            <a:ext cx="42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6249600" y="542124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7924680" y="534528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Fejlesz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7010640" y="549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Desk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Hálózati fájl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6840" y="5486400"/>
            <a:ext cx="80773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álózati fájlmegosztás objektumok hierarchiákba szervezik a fizikai megosztás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UNC útvonal mutat a tényleges megosztás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5" name=""/>
          <p:cNvCxnSpPr>
            <a:stCxn id="2586" idx="1"/>
            <a:endCxn id="2587" idx="5"/>
          </p:cNvCxnSpPr>
          <p:nvPr/>
        </p:nvCxnSpPr>
        <p:spPr>
          <a:xfrm flipH="1" flipV="1">
            <a:off x="3803400" y="4669560"/>
            <a:ext cx="265680" cy="1278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grpSp>
        <p:nvGrpSpPr>
          <p:cNvPr id="2588" name=""/>
          <p:cNvGrpSpPr/>
          <p:nvPr/>
        </p:nvGrpSpPr>
        <p:grpSpPr>
          <a:xfrm>
            <a:off x="1447920" y="2286000"/>
            <a:ext cx="6132960" cy="2837520"/>
            <a:chOff x="1447920" y="2286000"/>
            <a:chExt cx="6132960" cy="2837520"/>
          </a:xfrm>
        </p:grpSpPr>
        <p:grpSp>
          <p:nvGrpSpPr>
            <p:cNvPr id="2589" name=""/>
            <p:cNvGrpSpPr/>
            <p:nvPr/>
          </p:nvGrpSpPr>
          <p:grpSpPr>
            <a:xfrm>
              <a:off x="4502160" y="2409480"/>
              <a:ext cx="3078720" cy="2714040"/>
              <a:chOff x="4502160" y="2409480"/>
              <a:chExt cx="3078720" cy="2714040"/>
            </a:xfrm>
          </p:grpSpPr>
          <p:grpSp>
            <p:nvGrpSpPr>
              <p:cNvPr id="2590" name=""/>
              <p:cNvGrpSpPr/>
              <p:nvPr/>
            </p:nvGrpSpPr>
            <p:grpSpPr>
              <a:xfrm>
                <a:off x="4502160" y="2409480"/>
                <a:ext cx="1932840" cy="1562760"/>
                <a:chOff x="4502160" y="2409480"/>
                <a:chExt cx="1932840" cy="1562760"/>
              </a:xfrm>
            </p:grpSpPr>
            <p:grpSp>
              <p:nvGrpSpPr>
                <p:cNvPr id="2591" name=""/>
                <p:cNvGrpSpPr/>
                <p:nvPr/>
              </p:nvGrpSpPr>
              <p:grpSpPr>
                <a:xfrm>
                  <a:off x="5738400" y="2409480"/>
                  <a:ext cx="696600" cy="953640"/>
                  <a:chOff x="5738400" y="2409480"/>
                  <a:chExt cx="696600" cy="953640"/>
                </a:xfrm>
              </p:grpSpPr>
              <p:sp>
                <p:nvSpPr>
                  <p:cNvPr id="2592" name=""/>
                  <p:cNvSpPr/>
                  <p:nvPr/>
                </p:nvSpPr>
                <p:spPr>
                  <a:xfrm>
                    <a:off x="625896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5918400" y="2409480"/>
                    <a:ext cx="334080" cy="95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5962320" y="2451960"/>
                    <a:ext cx="24624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962320" y="2451960"/>
                    <a:ext cx="246240" cy="9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6004080" y="2630160"/>
                    <a:ext cx="1634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058800" y="2630160"/>
                    <a:ext cx="5364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5962320" y="2558520"/>
                    <a:ext cx="246240" cy="132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5738400" y="3324240"/>
                    <a:ext cx="1760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0" name=""/>
                <p:cNvSpPr/>
                <p:nvPr/>
              </p:nvSpPr>
              <p:spPr>
                <a:xfrm flipV="1" rot="19278000">
                  <a:off x="4453200" y="3319920"/>
                  <a:ext cx="1266840" cy="288000"/>
                </a:xfrm>
                <a:prstGeom prst="rightArrow">
                  <a:avLst>
                    <a:gd name="adj1" fmla="val 50000"/>
                    <a:gd name="adj2" fmla="val 109969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01" name=""/>
                <p:cNvGrpSpPr/>
                <p:nvPr/>
              </p:nvGrpSpPr>
              <p:grpSpPr>
                <a:xfrm>
                  <a:off x="5456160" y="2639880"/>
                  <a:ext cx="515880" cy="366480"/>
                  <a:chOff x="5456160" y="2639880"/>
                  <a:chExt cx="515880" cy="366480"/>
                </a:xfrm>
              </p:grpSpPr>
              <p:grpSp>
                <p:nvGrpSpPr>
                  <p:cNvPr id="2602" name=""/>
                  <p:cNvGrpSpPr/>
                  <p:nvPr/>
                </p:nvGrpSpPr>
                <p:grpSpPr>
                  <a:xfrm>
                    <a:off x="5554440" y="2639880"/>
                    <a:ext cx="417600" cy="309240"/>
                    <a:chOff x="5554440" y="2639880"/>
                    <a:chExt cx="417600" cy="309240"/>
                  </a:xfrm>
                </p:grpSpPr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5589000" y="2639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5554440" y="2701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05" name=""/>
                  <p:cNvSpPr/>
                  <p:nvPr/>
                </p:nvSpPr>
                <p:spPr>
                  <a:xfrm flipH="1">
                    <a:off x="5550480" y="2883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 flipH="1">
                    <a:off x="5553720" y="2992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 flipH="1">
                    <a:off x="5591880" y="3002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>
                    <a:off x="5622480" y="3002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>
                    <a:off x="5635080" y="3000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645160" y="2998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>
                    <a:off x="5654160" y="2982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 flipH="1">
                    <a:off x="5678280" y="2979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>
                    <a:off x="5685840" y="2964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>
                    <a:off x="5698080" y="2959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>
                    <a:off x="5709960" y="2953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>
                    <a:off x="5721480" y="2952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>
                    <a:off x="5727960" y="2950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>
                    <a:off x="5740560" y="2944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>
                    <a:off x="5755320" y="2933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>
                    <a:off x="5740920" y="2928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>
                    <a:off x="5734080" y="2923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>
                    <a:off x="5711040" y="2923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>
                    <a:off x="5701680" y="2931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>
                    <a:off x="5679360" y="2927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>
                    <a:off x="5662440" y="2918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>
                    <a:off x="5636880" y="2909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>
                    <a:off x="5638680" y="2909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>
                    <a:off x="5653440" y="2905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>
                    <a:off x="5678280" y="2905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H="1">
                    <a:off x="5678640" y="2905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>
                    <a:off x="5681160" y="2905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>
                    <a:off x="5689800" y="2892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H="1">
                    <a:off x="5715360" y="2883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>
                    <a:off x="5711760" y="2882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>
                    <a:off x="5687280" y="2883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flipH="1">
                    <a:off x="5677560" y="2886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flipH="1">
                    <a:off x="5658480" y="2889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H="1">
                    <a:off x="5637960" y="2887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>
                    <a:off x="5618520" y="2887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>
                    <a:off x="5592240" y="2895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>
                    <a:off x="5565960" y="2900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>
                    <a:off x="5553360" y="2913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>
                    <a:off x="5714640" y="288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>
                    <a:off x="5707440" y="2883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>
                    <a:off x="5707440" y="2889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>
                    <a:off x="5698080" y="2964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>
                    <a:off x="5672160" y="2964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>
                    <a:off x="5656680" y="2968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>
                    <a:off x="565596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>
                    <a:off x="5675400" y="2984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H="1">
                    <a:off x="5661720" y="2984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5656680" y="2987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>
                    <a:off x="565488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5655960" y="295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5643720" y="2948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>
                    <a:off x="5643000" y="294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5553720" y="2990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flipH="1">
                    <a:off x="5554440" y="2990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>
                    <a:off x="5576400" y="2994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H="1">
                    <a:off x="5598360" y="2999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H="1">
                    <a:off x="5626800" y="2999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>
                    <a:off x="5645160" y="2998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H="1">
                    <a:off x="5578200" y="29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H="1">
                    <a:off x="5580000" y="2986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H="1">
                    <a:off x="5636880" y="2993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H="1">
                    <a:off x="5670360" y="2968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H="1">
                    <a:off x="5663160" y="2968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>
                    <a:off x="5660640" y="2970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H="1">
                    <a:off x="5659560" y="2973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flipH="1">
                    <a:off x="5740920" y="2928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>
                    <a:off x="5727240" y="2928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H="1">
                    <a:off x="5707080" y="2932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H="1">
                    <a:off x="5705280" y="2932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>
                    <a:off x="571824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H="1">
                    <a:off x="5694840" y="2953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flipH="1">
                    <a:off x="5672880" y="2953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flipH="1">
                    <a:off x="5653440" y="2952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flipH="1">
                    <a:off x="5646240" y="2952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H="1">
                    <a:off x="5645160" y="2952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 flipH="1">
                    <a:off x="565596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H="1">
                    <a:off x="5657400" y="2922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H="1">
                    <a:off x="5671440" y="2926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 flipH="1">
                    <a:off x="5552640" y="2984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 flipH="1">
                    <a:off x="5552640" y="2984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 flipH="1">
                    <a:off x="5578200" y="2992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 flipH="1">
                    <a:off x="5640480" y="2905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 flipH="1">
                    <a:off x="5641200" y="2905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 flipH="1">
                    <a:off x="5653440" y="2913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 flipH="1">
                    <a:off x="5649840" y="295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 flipH="1">
                    <a:off x="5652000" y="2955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 flipH="1">
                    <a:off x="5673960" y="2955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 flipH="1">
                    <a:off x="5649840" y="2997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 flipH="1">
                    <a:off x="5650560" y="2985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>
                    <a:off x="5672880" y="2985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 flipH="1">
                    <a:off x="5657400" y="2987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5657400" y="2976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 flipH="1">
                    <a:off x="5685480" y="2975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5712120" y="2953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5707080" y="2955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 flipH="1">
                    <a:off x="5706360" y="2962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5692680" y="2964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H="1">
                    <a:off x="5689080" y="2965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H="1">
                    <a:off x="5687280" y="2975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flipH="1">
                    <a:off x="5727960" y="2933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flipH="1">
                    <a:off x="5727960" y="2933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 flipH="1">
                    <a:off x="5728680" y="2933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>
                    <a:off x="5726520" y="2933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H="1">
                    <a:off x="5658480" y="2907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>
                    <a:off x="5653440" y="2907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flipH="1">
                    <a:off x="5657400" y="2914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 flipH="1">
                    <a:off x="5563800" y="2916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 flipH="1">
                    <a:off x="5552640" y="2916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H="1">
                    <a:off x="5552640" y="292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H="1">
                    <a:off x="5528880" y="2912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H="1">
                    <a:off x="5553360" y="2992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H="1">
                    <a:off x="5537160" y="2995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 flipH="1">
                    <a:off x="5532120" y="2923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 flipH="1">
                    <a:off x="5531400" y="2923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H="1">
                    <a:off x="5530680" y="2920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H="1">
                    <a:off x="5528880" y="2912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H="1">
                    <a:off x="5550480" y="2912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 flipH="1">
                    <a:off x="5550120" y="2916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 flipH="1">
                    <a:off x="5550120" y="2968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H="1">
                    <a:off x="5527080" y="2979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H="1">
                    <a:off x="5525280" y="2986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>
                    <a:off x="5525280" y="2977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H="1">
                    <a:off x="5536440" y="2977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 flipH="1">
                    <a:off x="5536440" y="2986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H="1">
                    <a:off x="5553720" y="2995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H="1">
                    <a:off x="5538240" y="2994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H="1">
                    <a:off x="5537160" y="2994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>
                    <a:off x="554940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H="1">
                    <a:off x="5540760" y="2992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 flipH="1">
                    <a:off x="5540760" y="2992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 flipH="1">
                    <a:off x="5456520" y="2905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H="1">
                    <a:off x="5456880" y="2909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H="1">
                    <a:off x="5527080" y="2909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H="1">
                    <a:off x="5455800" y="2909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H="1">
                    <a:off x="5456520" y="2909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H="1">
                    <a:off x="5456880" y="2920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H="1">
                    <a:off x="5528160" y="2912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45" name=""/>
              <p:cNvGrpSpPr/>
              <p:nvPr/>
            </p:nvGrpSpPr>
            <p:grpSpPr>
              <a:xfrm>
                <a:off x="6964200" y="3997080"/>
                <a:ext cx="328680" cy="234000"/>
                <a:chOff x="6964200" y="3997080"/>
                <a:chExt cx="328680" cy="234000"/>
              </a:xfrm>
            </p:grpSpPr>
            <p:grpSp>
              <p:nvGrpSpPr>
                <p:cNvPr id="2746" name=""/>
                <p:cNvGrpSpPr/>
                <p:nvPr/>
              </p:nvGrpSpPr>
              <p:grpSpPr>
                <a:xfrm>
                  <a:off x="7026840" y="3997080"/>
                  <a:ext cx="266040" cy="196920"/>
                  <a:chOff x="7026840" y="3997080"/>
                  <a:chExt cx="266040" cy="196920"/>
                </a:xfrm>
              </p:grpSpPr>
              <p:sp>
                <p:nvSpPr>
                  <p:cNvPr id="2747" name=""/>
                  <p:cNvSpPr/>
                  <p:nvPr/>
                </p:nvSpPr>
                <p:spPr>
                  <a:xfrm>
                    <a:off x="7048800" y="3997080"/>
                    <a:ext cx="132840" cy="138240"/>
                  </a:xfrm>
                  <a:custGeom>
                    <a:avLst/>
                    <a:gdLst>
                      <a:gd name="textAreaLeft" fmla="*/ 6480 w 132840"/>
                      <a:gd name="textAreaRight" fmla="*/ 126360 w 132840"/>
                      <a:gd name="textAreaTop" fmla="*/ 6480 h 138240"/>
                      <a:gd name="textAreaBottom" fmla="*/ 131760 h 138240"/>
                    </a:gdLst>
                    <a:ahLst/>
                    <a:rect l="textAreaLeft" t="textAreaTop" r="textAreaRight" b="textAreaBottom"/>
                    <a:pathLst>
                      <a:path w="21600" h="2247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76"/>
                        </a:lnTo>
                        <a:arcTo wR="3600" hR="3600" stAng="10800000" swAng="-5400000"/>
                        <a:lnTo>
                          <a:pt x="18000" y="2247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7026840" y="4036320"/>
                    <a:ext cx="266040" cy="15768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49" name=""/>
                <p:cNvSpPr/>
                <p:nvPr/>
              </p:nvSpPr>
              <p:spPr>
                <a:xfrm flipH="1">
                  <a:off x="7023960" y="4152240"/>
                  <a:ext cx="132840" cy="78120"/>
                </a:xfrm>
                <a:custGeom>
                  <a:avLst/>
                  <a:gdLst/>
                  <a:ahLst/>
                  <a:rect l="l" t="t" r="r" b="b"/>
                  <a:pathLst>
                    <a:path w="1139" h="734">
                      <a:moveTo>
                        <a:pt x="1117" y="659"/>
                      </a:moveTo>
                      <a:lnTo>
                        <a:pt x="1109" y="659"/>
                      </a:lnTo>
                      <a:lnTo>
                        <a:pt x="1100" y="660"/>
                      </a:lnTo>
                      <a:lnTo>
                        <a:pt x="1088" y="662"/>
                      </a:lnTo>
                      <a:lnTo>
                        <a:pt x="1076" y="666"/>
                      </a:lnTo>
                      <a:lnTo>
                        <a:pt x="1062" y="669"/>
                      </a:lnTo>
                      <a:lnTo>
                        <a:pt x="1047" y="674"/>
                      </a:lnTo>
                      <a:lnTo>
                        <a:pt x="1032" y="680"/>
                      </a:lnTo>
                      <a:lnTo>
                        <a:pt x="1016" y="684"/>
                      </a:lnTo>
                      <a:lnTo>
                        <a:pt x="1001" y="690"/>
                      </a:lnTo>
                      <a:lnTo>
                        <a:pt x="985" y="695"/>
                      </a:lnTo>
                      <a:lnTo>
                        <a:pt x="971" y="700"/>
                      </a:lnTo>
                      <a:lnTo>
                        <a:pt x="956" y="705"/>
                      </a:lnTo>
                      <a:lnTo>
                        <a:pt x="943" y="708"/>
                      </a:lnTo>
                      <a:lnTo>
                        <a:pt x="932" y="712"/>
                      </a:lnTo>
                      <a:lnTo>
                        <a:pt x="923" y="714"/>
                      </a:lnTo>
                      <a:lnTo>
                        <a:pt x="915" y="715"/>
                      </a:lnTo>
                      <a:lnTo>
                        <a:pt x="897" y="716"/>
                      </a:lnTo>
                      <a:lnTo>
                        <a:pt x="875" y="718"/>
                      </a:lnTo>
                      <a:lnTo>
                        <a:pt x="849" y="719"/>
                      </a:lnTo>
                      <a:lnTo>
                        <a:pt x="821" y="719"/>
                      </a:lnTo>
                      <a:lnTo>
                        <a:pt x="795" y="720"/>
                      </a:lnTo>
                      <a:lnTo>
                        <a:pt x="772" y="720"/>
                      </a:lnTo>
                      <a:lnTo>
                        <a:pt x="754" y="720"/>
                      </a:lnTo>
                      <a:lnTo>
                        <a:pt x="744" y="720"/>
                      </a:lnTo>
                      <a:lnTo>
                        <a:pt x="738" y="720"/>
                      </a:lnTo>
                      <a:lnTo>
                        <a:pt x="733" y="721"/>
                      </a:lnTo>
                      <a:lnTo>
                        <a:pt x="726" y="723"/>
                      </a:lnTo>
                      <a:lnTo>
                        <a:pt x="718" y="726"/>
                      </a:lnTo>
                      <a:lnTo>
                        <a:pt x="710" y="728"/>
                      </a:lnTo>
                      <a:lnTo>
                        <a:pt x="700" y="730"/>
                      </a:lnTo>
                      <a:lnTo>
                        <a:pt x="691" y="733"/>
                      </a:lnTo>
                      <a:lnTo>
                        <a:pt x="681" y="734"/>
                      </a:lnTo>
                      <a:lnTo>
                        <a:pt x="670" y="734"/>
                      </a:lnTo>
                      <a:lnTo>
                        <a:pt x="659" y="731"/>
                      </a:lnTo>
                      <a:lnTo>
                        <a:pt x="649" y="728"/>
                      </a:lnTo>
                      <a:lnTo>
                        <a:pt x="638" y="724"/>
                      </a:lnTo>
                      <a:lnTo>
                        <a:pt x="629" y="720"/>
                      </a:lnTo>
                      <a:lnTo>
                        <a:pt x="621" y="715"/>
                      </a:lnTo>
                      <a:lnTo>
                        <a:pt x="614" y="713"/>
                      </a:lnTo>
                      <a:lnTo>
                        <a:pt x="609" y="712"/>
                      </a:lnTo>
                      <a:lnTo>
                        <a:pt x="608" y="712"/>
                      </a:lnTo>
                      <a:lnTo>
                        <a:pt x="610" y="712"/>
                      </a:lnTo>
                      <a:lnTo>
                        <a:pt x="615" y="711"/>
                      </a:lnTo>
                      <a:lnTo>
                        <a:pt x="619" y="710"/>
                      </a:lnTo>
                      <a:lnTo>
                        <a:pt x="620" y="708"/>
                      </a:lnTo>
                      <a:lnTo>
                        <a:pt x="615" y="706"/>
                      </a:lnTo>
                      <a:lnTo>
                        <a:pt x="602" y="703"/>
                      </a:lnTo>
                      <a:lnTo>
                        <a:pt x="581" y="698"/>
                      </a:lnTo>
                      <a:lnTo>
                        <a:pt x="554" y="690"/>
                      </a:lnTo>
                      <a:lnTo>
                        <a:pt x="530" y="680"/>
                      </a:lnTo>
                      <a:lnTo>
                        <a:pt x="508" y="666"/>
                      </a:lnTo>
                      <a:lnTo>
                        <a:pt x="488" y="651"/>
                      </a:lnTo>
                      <a:lnTo>
                        <a:pt x="473" y="636"/>
                      </a:lnTo>
                      <a:lnTo>
                        <a:pt x="461" y="622"/>
                      </a:lnTo>
                      <a:lnTo>
                        <a:pt x="450" y="612"/>
                      </a:lnTo>
                      <a:lnTo>
                        <a:pt x="445" y="605"/>
                      </a:lnTo>
                      <a:lnTo>
                        <a:pt x="440" y="601"/>
                      </a:lnTo>
                      <a:lnTo>
                        <a:pt x="435" y="597"/>
                      </a:lnTo>
                      <a:lnTo>
                        <a:pt x="430" y="593"/>
                      </a:lnTo>
                      <a:lnTo>
                        <a:pt x="424" y="590"/>
                      </a:lnTo>
                      <a:lnTo>
                        <a:pt x="418" y="587"/>
                      </a:lnTo>
                      <a:lnTo>
                        <a:pt x="411" y="583"/>
                      </a:lnTo>
                      <a:lnTo>
                        <a:pt x="405" y="580"/>
                      </a:lnTo>
                      <a:lnTo>
                        <a:pt x="399" y="577"/>
                      </a:lnTo>
                      <a:lnTo>
                        <a:pt x="392" y="573"/>
                      </a:lnTo>
                      <a:lnTo>
                        <a:pt x="382" y="564"/>
                      </a:lnTo>
                      <a:lnTo>
                        <a:pt x="374" y="552"/>
                      </a:lnTo>
                      <a:lnTo>
                        <a:pt x="365" y="539"/>
                      </a:lnTo>
                      <a:lnTo>
                        <a:pt x="356" y="527"/>
                      </a:lnTo>
                      <a:lnTo>
                        <a:pt x="348" y="514"/>
                      </a:lnTo>
                      <a:lnTo>
                        <a:pt x="340" y="503"/>
                      </a:lnTo>
                      <a:lnTo>
                        <a:pt x="334" y="495"/>
                      </a:lnTo>
                      <a:lnTo>
                        <a:pt x="327" y="495"/>
                      </a:lnTo>
                      <a:lnTo>
                        <a:pt x="318" y="493"/>
                      </a:lnTo>
                      <a:lnTo>
                        <a:pt x="309" y="490"/>
                      </a:lnTo>
                      <a:lnTo>
                        <a:pt x="300" y="484"/>
                      </a:lnTo>
                      <a:lnTo>
                        <a:pt x="290" y="480"/>
                      </a:lnTo>
                      <a:lnTo>
                        <a:pt x="282" y="474"/>
                      </a:lnTo>
                      <a:lnTo>
                        <a:pt x="275" y="468"/>
                      </a:lnTo>
                      <a:lnTo>
                        <a:pt x="270" y="464"/>
                      </a:lnTo>
                      <a:lnTo>
                        <a:pt x="265" y="459"/>
                      </a:lnTo>
                      <a:lnTo>
                        <a:pt x="259" y="454"/>
                      </a:lnTo>
                      <a:lnTo>
                        <a:pt x="251" y="450"/>
                      </a:lnTo>
                      <a:lnTo>
                        <a:pt x="244" y="444"/>
                      </a:lnTo>
                      <a:lnTo>
                        <a:pt x="236" y="439"/>
                      </a:lnTo>
                      <a:lnTo>
                        <a:pt x="228" y="436"/>
                      </a:lnTo>
                      <a:lnTo>
                        <a:pt x="220" y="432"/>
                      </a:lnTo>
                      <a:lnTo>
                        <a:pt x="213" y="429"/>
                      </a:lnTo>
                      <a:lnTo>
                        <a:pt x="210" y="428"/>
                      </a:lnTo>
                      <a:lnTo>
                        <a:pt x="205" y="427"/>
                      </a:lnTo>
                      <a:lnTo>
                        <a:pt x="200" y="427"/>
                      </a:lnTo>
                      <a:lnTo>
                        <a:pt x="196" y="427"/>
                      </a:lnTo>
                      <a:lnTo>
                        <a:pt x="191" y="427"/>
                      </a:lnTo>
                      <a:lnTo>
                        <a:pt x="185" y="427"/>
                      </a:lnTo>
                      <a:lnTo>
                        <a:pt x="180" y="428"/>
                      </a:lnTo>
                      <a:lnTo>
                        <a:pt x="174" y="429"/>
                      </a:lnTo>
                      <a:lnTo>
                        <a:pt x="166" y="429"/>
                      </a:lnTo>
                      <a:lnTo>
                        <a:pt x="157" y="429"/>
                      </a:lnTo>
                      <a:lnTo>
                        <a:pt x="147" y="427"/>
                      </a:lnTo>
                      <a:lnTo>
                        <a:pt x="137" y="423"/>
                      </a:lnTo>
                      <a:lnTo>
                        <a:pt x="127" y="420"/>
                      </a:lnTo>
                      <a:lnTo>
                        <a:pt x="119" y="415"/>
                      </a:lnTo>
                      <a:lnTo>
                        <a:pt x="111" y="412"/>
                      </a:lnTo>
                      <a:lnTo>
                        <a:pt x="106" y="407"/>
                      </a:lnTo>
                      <a:lnTo>
                        <a:pt x="101" y="404"/>
                      </a:lnTo>
                      <a:lnTo>
                        <a:pt x="95" y="400"/>
                      </a:lnTo>
                      <a:lnTo>
                        <a:pt x="86" y="397"/>
                      </a:lnTo>
                      <a:lnTo>
                        <a:pt x="76" y="395"/>
                      </a:lnTo>
                      <a:lnTo>
                        <a:pt x="66" y="391"/>
                      </a:lnTo>
                      <a:lnTo>
                        <a:pt x="53" y="387"/>
                      </a:lnTo>
                      <a:lnTo>
                        <a:pt x="40" y="381"/>
                      </a:lnTo>
                      <a:lnTo>
                        <a:pt x="28" y="375"/>
                      </a:lnTo>
                      <a:lnTo>
                        <a:pt x="16" y="368"/>
                      </a:lnTo>
                      <a:lnTo>
                        <a:pt x="8" y="359"/>
                      </a:lnTo>
                      <a:lnTo>
                        <a:pt x="4" y="350"/>
                      </a:lnTo>
                      <a:lnTo>
                        <a:pt x="1" y="341"/>
                      </a:lnTo>
                      <a:lnTo>
                        <a:pt x="0" y="330"/>
                      </a:lnTo>
                      <a:lnTo>
                        <a:pt x="1" y="322"/>
                      </a:lnTo>
                      <a:lnTo>
                        <a:pt x="4" y="314"/>
                      </a:lnTo>
                      <a:lnTo>
                        <a:pt x="6" y="307"/>
                      </a:lnTo>
                      <a:lnTo>
                        <a:pt x="12" y="303"/>
                      </a:lnTo>
                      <a:lnTo>
                        <a:pt x="22" y="298"/>
                      </a:lnTo>
                      <a:lnTo>
                        <a:pt x="35" y="293"/>
                      </a:lnTo>
                      <a:lnTo>
                        <a:pt x="50" y="290"/>
                      </a:lnTo>
                      <a:lnTo>
                        <a:pt x="66" y="287"/>
                      </a:lnTo>
                      <a:lnTo>
                        <a:pt x="80" y="283"/>
                      </a:lnTo>
                      <a:lnTo>
                        <a:pt x="91" y="281"/>
                      </a:lnTo>
                      <a:lnTo>
                        <a:pt x="99" y="280"/>
                      </a:lnTo>
                      <a:lnTo>
                        <a:pt x="99" y="274"/>
                      </a:lnTo>
                      <a:lnTo>
                        <a:pt x="101" y="268"/>
                      </a:lnTo>
                      <a:lnTo>
                        <a:pt x="106" y="265"/>
                      </a:lnTo>
                      <a:lnTo>
                        <a:pt x="113" y="261"/>
                      </a:lnTo>
                      <a:lnTo>
                        <a:pt x="120" y="259"/>
                      </a:lnTo>
                      <a:lnTo>
                        <a:pt x="127" y="257"/>
                      </a:lnTo>
                      <a:lnTo>
                        <a:pt x="135" y="255"/>
                      </a:lnTo>
                      <a:lnTo>
                        <a:pt x="142" y="254"/>
                      </a:lnTo>
                      <a:lnTo>
                        <a:pt x="151" y="254"/>
                      </a:lnTo>
                      <a:lnTo>
                        <a:pt x="166" y="258"/>
                      </a:lnTo>
                      <a:lnTo>
                        <a:pt x="182" y="262"/>
                      </a:lnTo>
                      <a:lnTo>
                        <a:pt x="200" y="269"/>
                      </a:lnTo>
                      <a:lnTo>
                        <a:pt x="219" y="276"/>
                      </a:lnTo>
                      <a:lnTo>
                        <a:pt x="236" y="284"/>
                      </a:lnTo>
                      <a:lnTo>
                        <a:pt x="250" y="291"/>
                      </a:lnTo>
                      <a:lnTo>
                        <a:pt x="259" y="297"/>
                      </a:lnTo>
                      <a:lnTo>
                        <a:pt x="267" y="297"/>
                      </a:lnTo>
                      <a:lnTo>
                        <a:pt x="276" y="298"/>
                      </a:lnTo>
                      <a:lnTo>
                        <a:pt x="286" y="299"/>
                      </a:lnTo>
                      <a:lnTo>
                        <a:pt x="295" y="300"/>
                      </a:lnTo>
                      <a:lnTo>
                        <a:pt x="302" y="301"/>
                      </a:lnTo>
                      <a:lnTo>
                        <a:pt x="308" y="303"/>
                      </a:lnTo>
                      <a:lnTo>
                        <a:pt x="312" y="304"/>
                      </a:lnTo>
                      <a:lnTo>
                        <a:pt x="313" y="304"/>
                      </a:lnTo>
                      <a:lnTo>
                        <a:pt x="326" y="299"/>
                      </a:lnTo>
                      <a:lnTo>
                        <a:pt x="340" y="296"/>
                      </a:lnTo>
                      <a:lnTo>
                        <a:pt x="357" y="291"/>
                      </a:lnTo>
                      <a:lnTo>
                        <a:pt x="376" y="287"/>
                      </a:lnTo>
                      <a:lnTo>
                        <a:pt x="393" y="283"/>
                      </a:lnTo>
                      <a:lnTo>
                        <a:pt x="410" y="278"/>
                      </a:lnTo>
                      <a:lnTo>
                        <a:pt x="425" y="275"/>
                      </a:lnTo>
                      <a:lnTo>
                        <a:pt x="438" y="272"/>
                      </a:lnTo>
                      <a:lnTo>
                        <a:pt x="449" y="268"/>
                      </a:lnTo>
                      <a:lnTo>
                        <a:pt x="461" y="262"/>
                      </a:lnTo>
                      <a:lnTo>
                        <a:pt x="472" y="255"/>
                      </a:lnTo>
                      <a:lnTo>
                        <a:pt x="484" y="247"/>
                      </a:lnTo>
                      <a:lnTo>
                        <a:pt x="495" y="239"/>
                      </a:lnTo>
                      <a:lnTo>
                        <a:pt x="507" y="231"/>
                      </a:lnTo>
                      <a:lnTo>
                        <a:pt x="517" y="224"/>
                      </a:lnTo>
                      <a:lnTo>
                        <a:pt x="526" y="219"/>
                      </a:lnTo>
                      <a:lnTo>
                        <a:pt x="537" y="213"/>
                      </a:lnTo>
                      <a:lnTo>
                        <a:pt x="549" y="205"/>
                      </a:lnTo>
                      <a:lnTo>
                        <a:pt x="563" y="197"/>
                      </a:lnTo>
                      <a:lnTo>
                        <a:pt x="579" y="189"/>
                      </a:lnTo>
                      <a:lnTo>
                        <a:pt x="598" y="181"/>
                      </a:lnTo>
                      <a:lnTo>
                        <a:pt x="617" y="175"/>
                      </a:lnTo>
                      <a:lnTo>
                        <a:pt x="639" y="170"/>
                      </a:lnTo>
                      <a:lnTo>
                        <a:pt x="662" y="169"/>
                      </a:lnTo>
                      <a:lnTo>
                        <a:pt x="653" y="168"/>
                      </a:lnTo>
                      <a:lnTo>
                        <a:pt x="640" y="168"/>
                      </a:lnTo>
                      <a:lnTo>
                        <a:pt x="628" y="172"/>
                      </a:lnTo>
                      <a:lnTo>
                        <a:pt x="613" y="175"/>
                      </a:lnTo>
                      <a:lnTo>
                        <a:pt x="600" y="180"/>
                      </a:lnTo>
                      <a:lnTo>
                        <a:pt x="587" y="185"/>
                      </a:lnTo>
                      <a:lnTo>
                        <a:pt x="579" y="190"/>
                      </a:lnTo>
                      <a:lnTo>
                        <a:pt x="574" y="193"/>
                      </a:lnTo>
                      <a:lnTo>
                        <a:pt x="562" y="198"/>
                      </a:lnTo>
                      <a:lnTo>
                        <a:pt x="545" y="197"/>
                      </a:lnTo>
                      <a:lnTo>
                        <a:pt x="522" y="192"/>
                      </a:lnTo>
                      <a:lnTo>
                        <a:pt x="498" y="185"/>
                      </a:lnTo>
                      <a:lnTo>
                        <a:pt x="472" y="175"/>
                      </a:lnTo>
                      <a:lnTo>
                        <a:pt x="448" y="165"/>
                      </a:lnTo>
                      <a:lnTo>
                        <a:pt x="430" y="154"/>
                      </a:lnTo>
                      <a:lnTo>
                        <a:pt x="416" y="144"/>
                      </a:lnTo>
                      <a:lnTo>
                        <a:pt x="441" y="154"/>
                      </a:lnTo>
                      <a:lnTo>
                        <a:pt x="439" y="154"/>
                      </a:lnTo>
                      <a:lnTo>
                        <a:pt x="434" y="153"/>
                      </a:lnTo>
                      <a:lnTo>
                        <a:pt x="426" y="150"/>
                      </a:lnTo>
                      <a:lnTo>
                        <a:pt x="416" y="144"/>
                      </a:lnTo>
                      <a:lnTo>
                        <a:pt x="417" y="144"/>
                      </a:lnTo>
                      <a:lnTo>
                        <a:pt x="419" y="143"/>
                      </a:lnTo>
                      <a:lnTo>
                        <a:pt x="420" y="142"/>
                      </a:lnTo>
                      <a:lnTo>
                        <a:pt x="422" y="141"/>
                      </a:lnTo>
                      <a:lnTo>
                        <a:pt x="419" y="141"/>
                      </a:lnTo>
                      <a:lnTo>
                        <a:pt x="414" y="141"/>
                      </a:lnTo>
                      <a:lnTo>
                        <a:pt x="402" y="143"/>
                      </a:lnTo>
                      <a:lnTo>
                        <a:pt x="385" y="147"/>
                      </a:lnTo>
                      <a:lnTo>
                        <a:pt x="362" y="149"/>
                      </a:lnTo>
                      <a:lnTo>
                        <a:pt x="336" y="143"/>
                      </a:lnTo>
                      <a:lnTo>
                        <a:pt x="311" y="132"/>
                      </a:lnTo>
                      <a:lnTo>
                        <a:pt x="287" y="119"/>
                      </a:lnTo>
                      <a:lnTo>
                        <a:pt x="264" y="104"/>
                      </a:lnTo>
                      <a:lnTo>
                        <a:pt x="244" y="88"/>
                      </a:lnTo>
                      <a:lnTo>
                        <a:pt x="229" y="74"/>
                      </a:lnTo>
                      <a:lnTo>
                        <a:pt x="220" y="62"/>
                      </a:lnTo>
                      <a:lnTo>
                        <a:pt x="217" y="43"/>
                      </a:lnTo>
                      <a:lnTo>
                        <a:pt x="225" y="26"/>
                      </a:lnTo>
                      <a:lnTo>
                        <a:pt x="234" y="13"/>
                      </a:lnTo>
                      <a:lnTo>
                        <a:pt x="238" y="8"/>
                      </a:lnTo>
                      <a:lnTo>
                        <a:pt x="241" y="3"/>
                      </a:lnTo>
                      <a:lnTo>
                        <a:pt x="247" y="0"/>
                      </a:lnTo>
                      <a:lnTo>
                        <a:pt x="255" y="1"/>
                      </a:lnTo>
                      <a:lnTo>
                        <a:pt x="263" y="5"/>
                      </a:lnTo>
                      <a:lnTo>
                        <a:pt x="272" y="8"/>
                      </a:lnTo>
                      <a:lnTo>
                        <a:pt x="287" y="12"/>
                      </a:lnTo>
                      <a:lnTo>
                        <a:pt x="308" y="16"/>
                      </a:lnTo>
                      <a:lnTo>
                        <a:pt x="329" y="20"/>
                      </a:lnTo>
                      <a:lnTo>
                        <a:pt x="351" y="24"/>
                      </a:lnTo>
                      <a:lnTo>
                        <a:pt x="370" y="27"/>
                      </a:lnTo>
                      <a:lnTo>
                        <a:pt x="384" y="29"/>
                      </a:lnTo>
                      <a:lnTo>
                        <a:pt x="388" y="30"/>
                      </a:lnTo>
                      <a:lnTo>
                        <a:pt x="391" y="31"/>
                      </a:lnTo>
                      <a:lnTo>
                        <a:pt x="395" y="32"/>
                      </a:lnTo>
                      <a:lnTo>
                        <a:pt x="403" y="35"/>
                      </a:lnTo>
                      <a:lnTo>
                        <a:pt x="412" y="37"/>
                      </a:lnTo>
                      <a:lnTo>
                        <a:pt x="423" y="39"/>
                      </a:lnTo>
                      <a:lnTo>
                        <a:pt x="432" y="42"/>
                      </a:lnTo>
                      <a:lnTo>
                        <a:pt x="439" y="43"/>
                      </a:lnTo>
                      <a:lnTo>
                        <a:pt x="445" y="44"/>
                      </a:lnTo>
                      <a:lnTo>
                        <a:pt x="452" y="44"/>
                      </a:lnTo>
                      <a:lnTo>
                        <a:pt x="464" y="43"/>
                      </a:lnTo>
                      <a:lnTo>
                        <a:pt x="479" y="42"/>
                      </a:lnTo>
                      <a:lnTo>
                        <a:pt x="495" y="42"/>
                      </a:lnTo>
                      <a:lnTo>
                        <a:pt x="511" y="41"/>
                      </a:lnTo>
                      <a:lnTo>
                        <a:pt x="526" y="41"/>
                      </a:lnTo>
                      <a:lnTo>
                        <a:pt x="538" y="42"/>
                      </a:lnTo>
                      <a:lnTo>
                        <a:pt x="545" y="44"/>
                      </a:lnTo>
                      <a:lnTo>
                        <a:pt x="552" y="45"/>
                      </a:lnTo>
                      <a:lnTo>
                        <a:pt x="564" y="45"/>
                      </a:lnTo>
                      <a:lnTo>
                        <a:pt x="579" y="44"/>
                      </a:lnTo>
                      <a:lnTo>
                        <a:pt x="598" y="42"/>
                      </a:lnTo>
                      <a:lnTo>
                        <a:pt x="616" y="38"/>
                      </a:lnTo>
                      <a:lnTo>
                        <a:pt x="635" y="36"/>
                      </a:lnTo>
                      <a:lnTo>
                        <a:pt x="651" y="35"/>
                      </a:lnTo>
                      <a:lnTo>
                        <a:pt x="662" y="34"/>
                      </a:lnTo>
                      <a:lnTo>
                        <a:pt x="673" y="35"/>
                      </a:lnTo>
                      <a:lnTo>
                        <a:pt x="687" y="39"/>
                      </a:lnTo>
                      <a:lnTo>
                        <a:pt x="700" y="45"/>
                      </a:lnTo>
                      <a:lnTo>
                        <a:pt x="715" y="52"/>
                      </a:lnTo>
                      <a:lnTo>
                        <a:pt x="730" y="60"/>
                      </a:lnTo>
                      <a:lnTo>
                        <a:pt x="744" y="67"/>
                      </a:lnTo>
                      <a:lnTo>
                        <a:pt x="757" y="73"/>
                      </a:lnTo>
                      <a:lnTo>
                        <a:pt x="766" y="76"/>
                      </a:lnTo>
                      <a:lnTo>
                        <a:pt x="776" y="78"/>
                      </a:lnTo>
                      <a:lnTo>
                        <a:pt x="791" y="82"/>
                      </a:lnTo>
                      <a:lnTo>
                        <a:pt x="811" y="84"/>
                      </a:lnTo>
                      <a:lnTo>
                        <a:pt x="832" y="88"/>
                      </a:lnTo>
                      <a:lnTo>
                        <a:pt x="852" y="91"/>
                      </a:lnTo>
                      <a:lnTo>
                        <a:pt x="873" y="95"/>
                      </a:lnTo>
                      <a:lnTo>
                        <a:pt x="893" y="99"/>
                      </a:lnTo>
                      <a:lnTo>
                        <a:pt x="908" y="105"/>
                      </a:lnTo>
                      <a:lnTo>
                        <a:pt x="924" y="112"/>
                      </a:lnTo>
                      <a:lnTo>
                        <a:pt x="945" y="123"/>
                      </a:lnTo>
                      <a:lnTo>
                        <a:pt x="969" y="136"/>
                      </a:lnTo>
                      <a:lnTo>
                        <a:pt x="993" y="149"/>
                      </a:lnTo>
                      <a:lnTo>
                        <a:pt x="1015" y="162"/>
                      </a:lnTo>
                      <a:lnTo>
                        <a:pt x="1033" y="173"/>
                      </a:lnTo>
                      <a:lnTo>
                        <a:pt x="1046" y="181"/>
                      </a:lnTo>
                      <a:lnTo>
                        <a:pt x="1050" y="183"/>
                      </a:lnTo>
                      <a:lnTo>
                        <a:pt x="1122" y="205"/>
                      </a:lnTo>
                      <a:lnTo>
                        <a:pt x="1122" y="260"/>
                      </a:lnTo>
                      <a:lnTo>
                        <a:pt x="1129" y="353"/>
                      </a:lnTo>
                      <a:lnTo>
                        <a:pt x="1137" y="449"/>
                      </a:lnTo>
                      <a:lnTo>
                        <a:pt x="1139" y="510"/>
                      </a:lnTo>
                      <a:lnTo>
                        <a:pt x="1135" y="547"/>
                      </a:lnTo>
                      <a:lnTo>
                        <a:pt x="1129" y="592"/>
                      </a:lnTo>
                      <a:lnTo>
                        <a:pt x="1122" y="633"/>
                      </a:lnTo>
                      <a:lnTo>
                        <a:pt x="1117" y="659"/>
                      </a:lnTo>
                      <a:close/>
                    </a:path>
                  </a:pathLst>
                </a:custGeom>
                <a:solidFill>
                  <a:srgbClr val="ddaa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>
                  <a:off x="7026840" y="4221720"/>
                  <a:ext cx="23760" cy="6840"/>
                </a:xfrm>
                <a:custGeom>
                  <a:avLst/>
                  <a:gdLst/>
                  <a:ahLst/>
                  <a:rect l="l" t="t" r="r" b="b"/>
                  <a:pathLst>
                    <a:path w="202" h="64">
                      <a:moveTo>
                        <a:pt x="0" y="64"/>
                      </a:moveTo>
                      <a:lnTo>
                        <a:pt x="0" y="64"/>
                      </a:lnTo>
                      <a:lnTo>
                        <a:pt x="8" y="63"/>
                      </a:lnTo>
                      <a:lnTo>
                        <a:pt x="18" y="60"/>
                      </a:lnTo>
                      <a:lnTo>
                        <a:pt x="30" y="57"/>
                      </a:lnTo>
                      <a:lnTo>
                        <a:pt x="42" y="53"/>
                      </a:lnTo>
                      <a:lnTo>
                        <a:pt x="57" y="49"/>
                      </a:lnTo>
                      <a:lnTo>
                        <a:pt x="71" y="43"/>
                      </a:lnTo>
                      <a:lnTo>
                        <a:pt x="87" y="38"/>
                      </a:lnTo>
                      <a:lnTo>
                        <a:pt x="102" y="33"/>
                      </a:lnTo>
                      <a:lnTo>
                        <a:pt x="118" y="28"/>
                      </a:lnTo>
                      <a:lnTo>
                        <a:pt x="133" y="22"/>
                      </a:lnTo>
                      <a:lnTo>
                        <a:pt x="148" y="18"/>
                      </a:lnTo>
                      <a:lnTo>
                        <a:pt x="162" y="14"/>
                      </a:lnTo>
                      <a:lnTo>
                        <a:pt x="173" y="11"/>
                      </a:lnTo>
                      <a:lnTo>
                        <a:pt x="185" y="9"/>
                      </a:lnTo>
                      <a:lnTo>
                        <a:pt x="194" y="7"/>
                      </a:lnTo>
                      <a:lnTo>
                        <a:pt x="202" y="7"/>
                      </a:lnTo>
                      <a:lnTo>
                        <a:pt x="202" y="0"/>
                      </a:lnTo>
                      <a:lnTo>
                        <a:pt x="194" y="0"/>
                      </a:lnTo>
                      <a:lnTo>
                        <a:pt x="185" y="2"/>
                      </a:lnTo>
                      <a:lnTo>
                        <a:pt x="173" y="4"/>
                      </a:lnTo>
                      <a:lnTo>
                        <a:pt x="160" y="7"/>
                      </a:lnTo>
                      <a:lnTo>
                        <a:pt x="146" y="11"/>
                      </a:lnTo>
                      <a:lnTo>
                        <a:pt x="131" y="15"/>
                      </a:lnTo>
                      <a:lnTo>
                        <a:pt x="116" y="21"/>
                      </a:lnTo>
                      <a:lnTo>
                        <a:pt x="100" y="26"/>
                      </a:lnTo>
                      <a:lnTo>
                        <a:pt x="85" y="32"/>
                      </a:lnTo>
                      <a:lnTo>
                        <a:pt x="69" y="36"/>
                      </a:lnTo>
                      <a:lnTo>
                        <a:pt x="55" y="42"/>
                      </a:lnTo>
                      <a:lnTo>
                        <a:pt x="40" y="46"/>
                      </a:lnTo>
                      <a:lnTo>
                        <a:pt x="27" y="50"/>
                      </a:lnTo>
                      <a:lnTo>
                        <a:pt x="16" y="53"/>
                      </a:lnTo>
                      <a:lnTo>
                        <a:pt x="8" y="56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7049880" y="4228200"/>
                  <a:ext cx="19800" cy="360"/>
                </a:xfrm>
                <a:custGeom>
                  <a:avLst/>
                  <a:gdLst/>
                  <a:ahLst/>
                  <a:rect l="l" t="t" r="r" b="b"/>
                  <a:pathLst>
                    <a:path w="17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0" y="12"/>
                      </a:lnTo>
                      <a:lnTo>
                        <a:pt x="28" y="12"/>
                      </a:lnTo>
                      <a:lnTo>
                        <a:pt x="51" y="12"/>
                      </a:lnTo>
                      <a:lnTo>
                        <a:pt x="77" y="11"/>
                      </a:lnTo>
                      <a:lnTo>
                        <a:pt x="105" y="11"/>
                      </a:lnTo>
                      <a:lnTo>
                        <a:pt x="131" y="9"/>
                      </a:lnTo>
                      <a:lnTo>
                        <a:pt x="153" y="8"/>
                      </a:lnTo>
                      <a:lnTo>
                        <a:pt x="171" y="7"/>
                      </a:lnTo>
                      <a:lnTo>
                        <a:pt x="171" y="0"/>
                      </a:lnTo>
                      <a:lnTo>
                        <a:pt x="153" y="1"/>
                      </a:lnTo>
                      <a:lnTo>
                        <a:pt x="131" y="2"/>
                      </a:lnTo>
                      <a:lnTo>
                        <a:pt x="105" y="2"/>
                      </a:lnTo>
                      <a:lnTo>
                        <a:pt x="77" y="2"/>
                      </a:lnTo>
                      <a:lnTo>
                        <a:pt x="51" y="3"/>
                      </a:lnTo>
                      <a:lnTo>
                        <a:pt x="28" y="3"/>
                      </a:lnTo>
                      <a:lnTo>
                        <a:pt x="1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H="1">
                  <a:off x="7070040" y="4228200"/>
                  <a:ext cx="7560" cy="2160"/>
                </a:xfrm>
                <a:custGeom>
                  <a:avLst/>
                  <a:gdLst/>
                  <a:ahLst/>
                  <a:rect l="l" t="t" r="r" b="b"/>
                  <a:pathLst>
                    <a:path w="63" h="22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10" y="21"/>
                      </a:lnTo>
                      <a:lnTo>
                        <a:pt x="19" y="19"/>
                      </a:lnTo>
                      <a:lnTo>
                        <a:pt x="30" y="16"/>
                      </a:lnTo>
                      <a:lnTo>
                        <a:pt x="38" y="14"/>
                      </a:lnTo>
                      <a:lnTo>
                        <a:pt x="46" y="12"/>
                      </a:lnTo>
                      <a:lnTo>
                        <a:pt x="53" y="9"/>
                      </a:lnTo>
                      <a:lnTo>
                        <a:pt x="57" y="8"/>
                      </a:lnTo>
                      <a:lnTo>
                        <a:pt x="63" y="9"/>
                      </a:lnTo>
                      <a:lnTo>
                        <a:pt x="63" y="0"/>
                      </a:lnTo>
                      <a:lnTo>
                        <a:pt x="57" y="1"/>
                      </a:lnTo>
                      <a:lnTo>
                        <a:pt x="50" y="3"/>
                      </a:lnTo>
                      <a:lnTo>
                        <a:pt x="44" y="5"/>
                      </a:lnTo>
                      <a:lnTo>
                        <a:pt x="35" y="7"/>
                      </a:lnTo>
                      <a:lnTo>
                        <a:pt x="27" y="9"/>
                      </a:lnTo>
                      <a:lnTo>
                        <a:pt x="19" y="12"/>
                      </a:lnTo>
                      <a:lnTo>
                        <a:pt x="10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>
                  <a:off x="7077600" y="4227120"/>
                  <a:ext cx="8280" cy="2880"/>
                </a:xfrm>
                <a:custGeom>
                  <a:avLst/>
                  <a:gdLst/>
                  <a:ahLst/>
                  <a:rect l="l" t="t" r="r" b="b"/>
                  <a:pathLst>
                    <a:path w="72" h="3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11" y="12"/>
                      </a:lnTo>
                      <a:lnTo>
                        <a:pt x="19" y="16"/>
                      </a:lnTo>
                      <a:lnTo>
                        <a:pt x="28" y="21"/>
                      </a:lnTo>
                      <a:lnTo>
                        <a:pt x="38" y="24"/>
                      </a:lnTo>
                      <a:lnTo>
                        <a:pt x="49" y="28"/>
                      </a:lnTo>
                      <a:lnTo>
                        <a:pt x="61" y="30"/>
                      </a:lnTo>
                      <a:lnTo>
                        <a:pt x="72" y="30"/>
                      </a:lnTo>
                      <a:lnTo>
                        <a:pt x="72" y="23"/>
                      </a:lnTo>
                      <a:lnTo>
                        <a:pt x="61" y="23"/>
                      </a:lnTo>
                      <a:lnTo>
                        <a:pt x="51" y="21"/>
                      </a:lnTo>
                      <a:lnTo>
                        <a:pt x="41" y="17"/>
                      </a:lnTo>
                      <a:lnTo>
                        <a:pt x="30" y="14"/>
                      </a:lnTo>
                      <a:lnTo>
                        <a:pt x="21" y="9"/>
                      </a:lnTo>
                      <a:lnTo>
                        <a:pt x="13" y="5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>
                  <a:off x="7085160" y="4226040"/>
                  <a:ext cx="5040" cy="2160"/>
                </a:xfrm>
                <a:custGeom>
                  <a:avLst/>
                  <a:gdLst/>
                  <a:ahLst/>
                  <a:rect l="l" t="t" r="r" b="b"/>
                  <a:pathLst>
                    <a:path w="41" h="21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1" y="11"/>
                      </a:lnTo>
                      <a:lnTo>
                        <a:pt x="33" y="15"/>
                      </a:lnTo>
                      <a:lnTo>
                        <a:pt x="36" y="16"/>
                      </a:lnTo>
                      <a:lnTo>
                        <a:pt x="36" y="11"/>
                      </a:lnTo>
                      <a:lnTo>
                        <a:pt x="33" y="12"/>
                      </a:lnTo>
                      <a:lnTo>
                        <a:pt x="29" y="13"/>
                      </a:lnTo>
                      <a:lnTo>
                        <a:pt x="27" y="12"/>
                      </a:lnTo>
                      <a:lnTo>
                        <a:pt x="28" y="21"/>
                      </a:lnTo>
                      <a:lnTo>
                        <a:pt x="28" y="12"/>
                      </a:lnTo>
                      <a:lnTo>
                        <a:pt x="27" y="21"/>
                      </a:ln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39" y="18"/>
                      </a:lnTo>
                      <a:lnTo>
                        <a:pt x="41" y="11"/>
                      </a:lnTo>
                      <a:lnTo>
                        <a:pt x="35" y="8"/>
                      </a:lnTo>
                      <a:lnTo>
                        <a:pt x="21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>
                  <a:off x="7090560" y="421596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39" h="98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11"/>
                      </a:lnTo>
                      <a:lnTo>
                        <a:pt x="16" y="21"/>
                      </a:lnTo>
                      <a:lnTo>
                        <a:pt x="29" y="35"/>
                      </a:lnTo>
                      <a:lnTo>
                        <a:pt x="44" y="51"/>
                      </a:lnTo>
                      <a:lnTo>
                        <a:pt x="64" y="66"/>
                      </a:lnTo>
                      <a:lnTo>
                        <a:pt x="87" y="80"/>
                      </a:lnTo>
                      <a:lnTo>
                        <a:pt x="111" y="90"/>
                      </a:lnTo>
                      <a:lnTo>
                        <a:pt x="139" y="98"/>
                      </a:lnTo>
                      <a:lnTo>
                        <a:pt x="139" y="92"/>
                      </a:lnTo>
                      <a:lnTo>
                        <a:pt x="113" y="84"/>
                      </a:lnTo>
                      <a:lnTo>
                        <a:pt x="89" y="73"/>
                      </a:lnTo>
                      <a:lnTo>
                        <a:pt x="68" y="59"/>
                      </a:lnTo>
                      <a:lnTo>
                        <a:pt x="49" y="44"/>
                      </a:lnTo>
                      <a:lnTo>
                        <a:pt x="34" y="31"/>
                      </a:lnTo>
                      <a:lnTo>
                        <a:pt x="21" y="17"/>
                      </a:lnTo>
                      <a:lnTo>
                        <a:pt x="11" y="7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flipH="1">
                  <a:off x="7106040" y="4213440"/>
                  <a:ext cx="5040" cy="2880"/>
                </a:xfrm>
                <a:custGeom>
                  <a:avLst/>
                  <a:gdLst/>
                  <a:ahLst/>
                  <a:rect l="l" t="t" r="r" b="b"/>
                  <a:pathLst>
                    <a:path w="50" h="33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9"/>
                      </a:lnTo>
                      <a:lnTo>
                        <a:pt x="13" y="13"/>
                      </a:lnTo>
                      <a:lnTo>
                        <a:pt x="20" y="16"/>
                      </a:lnTo>
                      <a:lnTo>
                        <a:pt x="25" y="19"/>
                      </a:lnTo>
                      <a:lnTo>
                        <a:pt x="30" y="23"/>
                      </a:lnTo>
                      <a:lnTo>
                        <a:pt x="36" y="26"/>
                      </a:lnTo>
                      <a:lnTo>
                        <a:pt x="41" y="31"/>
                      </a:lnTo>
                      <a:lnTo>
                        <a:pt x="45" y="33"/>
                      </a:lnTo>
                      <a:lnTo>
                        <a:pt x="50" y="29"/>
                      </a:lnTo>
                      <a:lnTo>
                        <a:pt x="45" y="24"/>
                      </a:lnTo>
                      <a:lnTo>
                        <a:pt x="41" y="19"/>
                      </a:lnTo>
                      <a:lnTo>
                        <a:pt x="35" y="16"/>
                      </a:lnTo>
                      <a:lnTo>
                        <a:pt x="29" y="13"/>
                      </a:lnTo>
                      <a:lnTo>
                        <a:pt x="22" y="9"/>
                      </a:lnTo>
                      <a:lnTo>
                        <a:pt x="15" y="6"/>
                      </a:lnTo>
                      <a:lnTo>
                        <a:pt x="10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7110360" y="42044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69" h="91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5" y="15"/>
                      </a:lnTo>
                      <a:lnTo>
                        <a:pt x="13" y="26"/>
                      </a:lnTo>
                      <a:lnTo>
                        <a:pt x="22" y="39"/>
                      </a:lnTo>
                      <a:lnTo>
                        <a:pt x="31" y="52"/>
                      </a:lnTo>
                      <a:lnTo>
                        <a:pt x="40" y="64"/>
                      </a:lnTo>
                      <a:lnTo>
                        <a:pt x="48" y="76"/>
                      </a:lnTo>
                      <a:lnTo>
                        <a:pt x="58" y="86"/>
                      </a:lnTo>
                      <a:lnTo>
                        <a:pt x="66" y="91"/>
                      </a:lnTo>
                      <a:lnTo>
                        <a:pt x="69" y="84"/>
                      </a:lnTo>
                      <a:lnTo>
                        <a:pt x="63" y="79"/>
                      </a:lnTo>
                      <a:lnTo>
                        <a:pt x="55" y="71"/>
                      </a:lnTo>
                      <a:lnTo>
                        <a:pt x="47" y="60"/>
                      </a:lnTo>
                      <a:lnTo>
                        <a:pt x="38" y="47"/>
                      </a:lnTo>
                      <a:lnTo>
                        <a:pt x="28" y="34"/>
                      </a:lnTo>
                      <a:lnTo>
                        <a:pt x="20" y="22"/>
                      </a:lnTo>
                      <a:lnTo>
                        <a:pt x="12" y="10"/>
                      </a:lnTo>
                      <a:lnTo>
                        <a:pt x="7" y="2"/>
                      </a:lnTo>
                      <a:lnTo>
                        <a:pt x="2" y="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7118280" y="420120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68" h="3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6" y="11"/>
                      </a:lnTo>
                      <a:lnTo>
                        <a:pt x="13" y="16"/>
                      </a:lnTo>
                      <a:lnTo>
                        <a:pt x="21" y="22"/>
                      </a:lnTo>
                      <a:lnTo>
                        <a:pt x="31" y="27"/>
                      </a:lnTo>
                      <a:lnTo>
                        <a:pt x="41" y="32"/>
                      </a:lnTo>
                      <a:lnTo>
                        <a:pt x="51" y="36"/>
                      </a:lnTo>
                      <a:lnTo>
                        <a:pt x="60" y="37"/>
                      </a:lnTo>
                      <a:lnTo>
                        <a:pt x="68" y="37"/>
                      </a:lnTo>
                      <a:lnTo>
                        <a:pt x="66" y="30"/>
                      </a:lnTo>
                      <a:lnTo>
                        <a:pt x="60" y="30"/>
                      </a:lnTo>
                      <a:lnTo>
                        <a:pt x="51" y="29"/>
                      </a:lnTo>
                      <a:lnTo>
                        <a:pt x="43" y="26"/>
                      </a:lnTo>
                      <a:lnTo>
                        <a:pt x="34" y="20"/>
                      </a:lnTo>
                      <a:lnTo>
                        <a:pt x="26" y="15"/>
                      </a:lnTo>
                      <a:lnTo>
                        <a:pt x="18" y="9"/>
                      </a:lnTo>
                      <a:lnTo>
                        <a:pt x="11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7126560" y="4197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62" h="40">
                      <a:moveTo>
                        <a:pt x="2" y="6"/>
                      </a:moveTo>
                      <a:lnTo>
                        <a:pt x="2" y="6"/>
                      </a:lnTo>
                      <a:lnTo>
                        <a:pt x="9" y="10"/>
                      </a:lnTo>
                      <a:lnTo>
                        <a:pt x="17" y="13"/>
                      </a:lnTo>
                      <a:lnTo>
                        <a:pt x="25" y="17"/>
                      </a:lnTo>
                      <a:lnTo>
                        <a:pt x="32" y="21"/>
                      </a:lnTo>
                      <a:lnTo>
                        <a:pt x="39" y="27"/>
                      </a:lnTo>
                      <a:lnTo>
                        <a:pt x="47" y="32"/>
                      </a:lnTo>
                      <a:lnTo>
                        <a:pt x="53" y="35"/>
                      </a:lnTo>
                      <a:lnTo>
                        <a:pt x="57" y="40"/>
                      </a:lnTo>
                      <a:lnTo>
                        <a:pt x="62" y="35"/>
                      </a:lnTo>
                      <a:lnTo>
                        <a:pt x="57" y="31"/>
                      </a:lnTo>
                      <a:lnTo>
                        <a:pt x="52" y="25"/>
                      </a:lnTo>
                      <a:lnTo>
                        <a:pt x="43" y="20"/>
                      </a:lnTo>
                      <a:lnTo>
                        <a:pt x="37" y="15"/>
                      </a:lnTo>
                      <a:lnTo>
                        <a:pt x="27" y="10"/>
                      </a:lnTo>
                      <a:lnTo>
                        <a:pt x="19" y="6"/>
                      </a:lnTo>
                      <a:lnTo>
                        <a:pt x="11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7132680" y="4196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40" h="1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6" y="9"/>
                      </a:lnTo>
                      <a:lnTo>
                        <a:pt x="11" y="8"/>
                      </a:lnTo>
                      <a:lnTo>
                        <a:pt x="17" y="9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31" y="8"/>
                      </a:lnTo>
                      <a:lnTo>
                        <a:pt x="35" y="9"/>
                      </a:lnTo>
                      <a:lnTo>
                        <a:pt x="38" y="10"/>
                      </a:lnTo>
                      <a:lnTo>
                        <a:pt x="40" y="4"/>
                      </a:lnTo>
                      <a:lnTo>
                        <a:pt x="37" y="2"/>
                      </a:lnTo>
                      <a:lnTo>
                        <a:pt x="31" y="1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1" y="1"/>
                      </a:lnTo>
                      <a:lnTo>
                        <a:pt x="6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>
                  <a:off x="7137360" y="419508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70" h="2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10"/>
                      </a:lnTo>
                      <a:lnTo>
                        <a:pt x="14" y="14"/>
                      </a:lnTo>
                      <a:lnTo>
                        <a:pt x="22" y="18"/>
                      </a:lnTo>
                      <a:lnTo>
                        <a:pt x="32" y="22"/>
                      </a:lnTo>
                      <a:lnTo>
                        <a:pt x="42" y="25"/>
                      </a:lnTo>
                      <a:lnTo>
                        <a:pt x="53" y="27"/>
                      </a:lnTo>
                      <a:lnTo>
                        <a:pt x="62" y="29"/>
                      </a:lnTo>
                      <a:lnTo>
                        <a:pt x="70" y="27"/>
                      </a:lnTo>
                      <a:lnTo>
                        <a:pt x="70" y="21"/>
                      </a:lnTo>
                      <a:lnTo>
                        <a:pt x="62" y="19"/>
                      </a:lnTo>
                      <a:lnTo>
                        <a:pt x="53" y="21"/>
                      </a:lnTo>
                      <a:lnTo>
                        <a:pt x="45" y="18"/>
                      </a:lnTo>
                      <a:lnTo>
                        <a:pt x="34" y="15"/>
                      </a:lnTo>
                      <a:lnTo>
                        <a:pt x="24" y="11"/>
                      </a:lnTo>
                      <a:lnTo>
                        <a:pt x="16" y="7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7144920" y="419148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81" h="3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2" y="12"/>
                      </a:lnTo>
                      <a:lnTo>
                        <a:pt x="25" y="18"/>
                      </a:lnTo>
                      <a:lnTo>
                        <a:pt x="38" y="23"/>
                      </a:lnTo>
                      <a:lnTo>
                        <a:pt x="48" y="26"/>
                      </a:lnTo>
                      <a:lnTo>
                        <a:pt x="58" y="28"/>
                      </a:lnTo>
                      <a:lnTo>
                        <a:pt x="66" y="32"/>
                      </a:lnTo>
                      <a:lnTo>
                        <a:pt x="72" y="35"/>
                      </a:lnTo>
                      <a:lnTo>
                        <a:pt x="77" y="38"/>
                      </a:lnTo>
                      <a:lnTo>
                        <a:pt x="81" y="33"/>
                      </a:lnTo>
                      <a:lnTo>
                        <a:pt x="77" y="28"/>
                      </a:lnTo>
                      <a:lnTo>
                        <a:pt x="69" y="25"/>
                      </a:lnTo>
                      <a:lnTo>
                        <a:pt x="61" y="21"/>
                      </a:lnTo>
                      <a:lnTo>
                        <a:pt x="50" y="19"/>
                      </a:lnTo>
                      <a:lnTo>
                        <a:pt x="40" y="16"/>
                      </a:lnTo>
                      <a:lnTo>
                        <a:pt x="27" y="11"/>
                      </a:lnTo>
                      <a:lnTo>
                        <a:pt x="15" y="5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>
                  <a:off x="7155000" y="4184280"/>
                  <a:ext cx="3600" cy="7560"/>
                </a:xfrm>
                <a:custGeom>
                  <a:avLst/>
                  <a:gdLst/>
                  <a:ahLst/>
                  <a:rect l="l" t="t" r="r" b="b"/>
                  <a:pathLst>
                    <a:path w="34" h="73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5" y="8"/>
                      </a:lnTo>
                      <a:lnTo>
                        <a:pt x="3" y="17"/>
                      </a:lnTo>
                      <a:lnTo>
                        <a:pt x="0" y="25"/>
                      </a:lnTo>
                      <a:lnTo>
                        <a:pt x="3" y="36"/>
                      </a:lnTo>
                      <a:lnTo>
                        <a:pt x="5" y="46"/>
                      </a:lnTo>
                      <a:lnTo>
                        <a:pt x="10" y="56"/>
                      </a:lnTo>
                      <a:lnTo>
                        <a:pt x="19" y="67"/>
                      </a:lnTo>
                      <a:lnTo>
                        <a:pt x="32" y="73"/>
                      </a:lnTo>
                      <a:lnTo>
                        <a:pt x="34" y="67"/>
                      </a:lnTo>
                      <a:lnTo>
                        <a:pt x="23" y="60"/>
                      </a:lnTo>
                      <a:lnTo>
                        <a:pt x="17" y="52"/>
                      </a:lnTo>
                      <a:lnTo>
                        <a:pt x="12" y="44"/>
                      </a:lnTo>
                      <a:lnTo>
                        <a:pt x="10" y="36"/>
                      </a:lnTo>
                      <a:lnTo>
                        <a:pt x="10" y="25"/>
                      </a:lnTo>
                      <a:lnTo>
                        <a:pt x="10" y="17"/>
                      </a:lnTo>
                      <a:lnTo>
                        <a:pt x="12" y="10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>
                  <a:off x="7145640" y="418140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101" h="34">
                      <a:moveTo>
                        <a:pt x="94" y="4"/>
                      </a:moveTo>
                      <a:lnTo>
                        <a:pt x="97" y="0"/>
                      </a:lnTo>
                      <a:lnTo>
                        <a:pt x="89" y="1"/>
                      </a:lnTo>
                      <a:lnTo>
                        <a:pt x="78" y="4"/>
                      </a:lnTo>
                      <a:lnTo>
                        <a:pt x="64" y="7"/>
                      </a:lnTo>
                      <a:lnTo>
                        <a:pt x="48" y="11"/>
                      </a:lnTo>
                      <a:lnTo>
                        <a:pt x="31" y="14"/>
                      </a:lnTo>
                      <a:lnTo>
                        <a:pt x="19" y="19"/>
                      </a:lnTo>
                      <a:lnTo>
                        <a:pt x="8" y="23"/>
                      </a:lnTo>
                      <a:lnTo>
                        <a:pt x="0" y="29"/>
                      </a:lnTo>
                      <a:lnTo>
                        <a:pt x="7" y="34"/>
                      </a:lnTo>
                      <a:lnTo>
                        <a:pt x="11" y="30"/>
                      </a:lnTo>
                      <a:lnTo>
                        <a:pt x="21" y="25"/>
                      </a:lnTo>
                      <a:lnTo>
                        <a:pt x="34" y="21"/>
                      </a:lnTo>
                      <a:lnTo>
                        <a:pt x="48" y="17"/>
                      </a:lnTo>
                      <a:lnTo>
                        <a:pt x="64" y="14"/>
                      </a:lnTo>
                      <a:lnTo>
                        <a:pt x="78" y="11"/>
                      </a:lnTo>
                      <a:lnTo>
                        <a:pt x="89" y="8"/>
                      </a:lnTo>
                      <a:lnTo>
                        <a:pt x="97" y="7"/>
                      </a:lnTo>
                      <a:lnTo>
                        <a:pt x="101" y="4"/>
                      </a:lnTo>
                      <a:lnTo>
                        <a:pt x="97" y="7"/>
                      </a:lnTo>
                      <a:lnTo>
                        <a:pt x="99" y="6"/>
                      </a:lnTo>
                      <a:lnTo>
                        <a:pt x="101" y="4"/>
                      </a:lnTo>
                      <a:lnTo>
                        <a:pt x="99" y="1"/>
                      </a:lnTo>
                      <a:lnTo>
                        <a:pt x="97" y="0"/>
                      </a:lnTo>
                      <a:lnTo>
                        <a:pt x="9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>
                  <a:off x="7141680" y="417816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39" y="1"/>
                      </a:lnTo>
                      <a:lnTo>
                        <a:pt x="31" y="2"/>
                      </a:lnTo>
                      <a:lnTo>
                        <a:pt x="23" y="4"/>
                      </a:lnTo>
                      <a:lnTo>
                        <a:pt x="16" y="7"/>
                      </a:lnTo>
                      <a:lnTo>
                        <a:pt x="8" y="10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7" y="29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12" y="17"/>
                      </a:lnTo>
                      <a:lnTo>
                        <a:pt x="18" y="14"/>
                      </a:lnTo>
                      <a:lnTo>
                        <a:pt x="25" y="11"/>
                      </a:lnTo>
                      <a:lnTo>
                        <a:pt x="31" y="9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46" y="7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7127280" y="4178160"/>
                  <a:ext cx="14400" cy="5760"/>
                </a:xfrm>
                <a:custGeom>
                  <a:avLst/>
                  <a:gdLst/>
                  <a:ahLst/>
                  <a:rect l="l" t="t" r="r" b="b"/>
                  <a:pathLst>
                    <a:path w="122" h="50">
                      <a:moveTo>
                        <a:pt x="117" y="41"/>
                      </a:moveTo>
                      <a:lnTo>
                        <a:pt x="120" y="42"/>
                      </a:lnTo>
                      <a:lnTo>
                        <a:pt x="109" y="37"/>
                      </a:lnTo>
                      <a:lnTo>
                        <a:pt x="95" y="30"/>
                      </a:lnTo>
                      <a:lnTo>
                        <a:pt x="78" y="22"/>
                      </a:lnTo>
                      <a:lnTo>
                        <a:pt x="60" y="15"/>
                      </a:lnTo>
                      <a:lnTo>
                        <a:pt x="41" y="8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23" y="10"/>
                      </a:lnTo>
                      <a:lnTo>
                        <a:pt x="39" y="15"/>
                      </a:lnTo>
                      <a:lnTo>
                        <a:pt x="57" y="22"/>
                      </a:lnTo>
                      <a:lnTo>
                        <a:pt x="76" y="29"/>
                      </a:lnTo>
                      <a:lnTo>
                        <a:pt x="93" y="37"/>
                      </a:lnTo>
                      <a:lnTo>
                        <a:pt x="107" y="44"/>
                      </a:lnTo>
                      <a:lnTo>
                        <a:pt x="115" y="49"/>
                      </a:lnTo>
                      <a:lnTo>
                        <a:pt x="117" y="50"/>
                      </a:lnTo>
                      <a:lnTo>
                        <a:pt x="115" y="49"/>
                      </a:lnTo>
                      <a:lnTo>
                        <a:pt x="118" y="49"/>
                      </a:lnTo>
                      <a:lnTo>
                        <a:pt x="121" y="47"/>
                      </a:lnTo>
                      <a:lnTo>
                        <a:pt x="122" y="45"/>
                      </a:lnTo>
                      <a:lnTo>
                        <a:pt x="120" y="42"/>
                      </a:lnTo>
                      <a:lnTo>
                        <a:pt x="117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>
                  <a:off x="7121160" y="4182840"/>
                  <a:ext cx="6480" cy="1080"/>
                </a:xfrm>
                <a:custGeom>
                  <a:avLst/>
                  <a:gdLst/>
                  <a:ahLst/>
                  <a:rect l="l" t="t" r="r" b="b"/>
                  <a:pathLst>
                    <a:path w="58" h="15">
                      <a:moveTo>
                        <a:pt x="53" y="8"/>
                      </a:moveTo>
                      <a:lnTo>
                        <a:pt x="54" y="8"/>
                      </a:lnTo>
                      <a:lnTo>
                        <a:pt x="53" y="8"/>
                      </a:lnTo>
                      <a:lnTo>
                        <a:pt x="49" y="7"/>
                      </a:lnTo>
                      <a:lnTo>
                        <a:pt x="43" y="6"/>
                      </a:lnTo>
                      <a:lnTo>
                        <a:pt x="36" y="5"/>
                      </a:lnTo>
                      <a:lnTo>
                        <a:pt x="27" y="4"/>
                      </a:lnTo>
                      <a:lnTo>
                        <a:pt x="17" y="3"/>
                      </a:lnTo>
                      <a:lnTo>
                        <a:pt x="8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8" y="8"/>
                      </a:lnTo>
                      <a:lnTo>
                        <a:pt x="17" y="9"/>
                      </a:lnTo>
                      <a:lnTo>
                        <a:pt x="27" y="11"/>
                      </a:lnTo>
                      <a:lnTo>
                        <a:pt x="36" y="12"/>
                      </a:lnTo>
                      <a:lnTo>
                        <a:pt x="43" y="13"/>
                      </a:lnTo>
                      <a:lnTo>
                        <a:pt x="49" y="14"/>
                      </a:lnTo>
                      <a:lnTo>
                        <a:pt x="53" y="15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7" y="14"/>
                      </a:lnTo>
                      <a:lnTo>
                        <a:pt x="58" y="12"/>
                      </a:lnTo>
                      <a:lnTo>
                        <a:pt x="57" y="9"/>
                      </a:lnTo>
                      <a:lnTo>
                        <a:pt x="54" y="8"/>
                      </a:lnTo>
                      <a:lnTo>
                        <a:pt x="5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7106760" y="4180680"/>
                  <a:ext cx="15120" cy="3600"/>
                </a:xfrm>
                <a:custGeom>
                  <a:avLst/>
                  <a:gdLst/>
                  <a:ahLst/>
                  <a:rect l="l" t="t" r="r" b="b"/>
                  <a:pathLst>
                    <a:path w="127" h="39">
                      <a:moveTo>
                        <a:pt x="126" y="0"/>
                      </a:moveTo>
                      <a:lnTo>
                        <a:pt x="125" y="0"/>
                      </a:lnTo>
                      <a:lnTo>
                        <a:pt x="113" y="4"/>
                      </a:lnTo>
                      <a:lnTo>
                        <a:pt x="98" y="7"/>
                      </a:lnTo>
                      <a:lnTo>
                        <a:pt x="81" y="12"/>
                      </a:lnTo>
                      <a:lnTo>
                        <a:pt x="64" y="15"/>
                      </a:lnTo>
                      <a:lnTo>
                        <a:pt x="44" y="20"/>
                      </a:lnTo>
                      <a:lnTo>
                        <a:pt x="27" y="24"/>
                      </a:lnTo>
                      <a:lnTo>
                        <a:pt x="13" y="28"/>
                      </a:lnTo>
                      <a:lnTo>
                        <a:pt x="0" y="32"/>
                      </a:lnTo>
                      <a:lnTo>
                        <a:pt x="2" y="39"/>
                      </a:lnTo>
                      <a:lnTo>
                        <a:pt x="15" y="35"/>
                      </a:lnTo>
                      <a:lnTo>
                        <a:pt x="29" y="31"/>
                      </a:lnTo>
                      <a:lnTo>
                        <a:pt x="46" y="27"/>
                      </a:lnTo>
                      <a:lnTo>
                        <a:pt x="64" y="22"/>
                      </a:lnTo>
                      <a:lnTo>
                        <a:pt x="81" y="19"/>
                      </a:lnTo>
                      <a:lnTo>
                        <a:pt x="98" y="14"/>
                      </a:lnTo>
                      <a:lnTo>
                        <a:pt x="113" y="10"/>
                      </a:lnTo>
                      <a:lnTo>
                        <a:pt x="127" y="7"/>
                      </a:lnTo>
                      <a:lnTo>
                        <a:pt x="126" y="7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>
                  <a:off x="7095240" y="417528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0" h="60">
                      <a:moveTo>
                        <a:pt x="87" y="0"/>
                      </a:moveTo>
                      <a:lnTo>
                        <a:pt x="87" y="0"/>
                      </a:lnTo>
                      <a:lnTo>
                        <a:pt x="77" y="6"/>
                      </a:lnTo>
                      <a:lnTo>
                        <a:pt x="67" y="13"/>
                      </a:lnTo>
                      <a:lnTo>
                        <a:pt x="55" y="21"/>
                      </a:lnTo>
                      <a:lnTo>
                        <a:pt x="44" y="29"/>
                      </a:lnTo>
                      <a:lnTo>
                        <a:pt x="32" y="37"/>
                      </a:lnTo>
                      <a:lnTo>
                        <a:pt x="22" y="44"/>
                      </a:lnTo>
                      <a:lnTo>
                        <a:pt x="10" y="50"/>
                      </a:lnTo>
                      <a:lnTo>
                        <a:pt x="0" y="53"/>
                      </a:lnTo>
                      <a:lnTo>
                        <a:pt x="0" y="60"/>
                      </a:lnTo>
                      <a:lnTo>
                        <a:pt x="12" y="57"/>
                      </a:lnTo>
                      <a:lnTo>
                        <a:pt x="24" y="51"/>
                      </a:lnTo>
                      <a:lnTo>
                        <a:pt x="37" y="44"/>
                      </a:lnTo>
                      <a:lnTo>
                        <a:pt x="48" y="36"/>
                      </a:lnTo>
                      <a:lnTo>
                        <a:pt x="60" y="28"/>
                      </a:lnTo>
                      <a:lnTo>
                        <a:pt x="71" y="20"/>
                      </a:lnTo>
                      <a:lnTo>
                        <a:pt x="82" y="13"/>
                      </a:lnTo>
                      <a:lnTo>
                        <a:pt x="90" y="7"/>
                      </a:lnTo>
                      <a:lnTo>
                        <a:pt x="90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>
                  <a:off x="7079760" y="4169160"/>
                  <a:ext cx="16560" cy="6840"/>
                </a:xfrm>
                <a:custGeom>
                  <a:avLst/>
                  <a:gdLst/>
                  <a:ahLst/>
                  <a:rect l="l" t="t" r="r" b="b"/>
                  <a:pathLst>
                    <a:path w="142" h="57">
                      <a:moveTo>
                        <a:pt x="136" y="8"/>
                      </a:moveTo>
                      <a:lnTo>
                        <a:pt x="137" y="0"/>
                      </a:lnTo>
                      <a:lnTo>
                        <a:pt x="114" y="2"/>
                      </a:lnTo>
                      <a:lnTo>
                        <a:pt x="92" y="7"/>
                      </a:lnTo>
                      <a:lnTo>
                        <a:pt x="72" y="12"/>
                      </a:lnTo>
                      <a:lnTo>
                        <a:pt x="53" y="20"/>
                      </a:lnTo>
                      <a:lnTo>
                        <a:pt x="37" y="28"/>
                      </a:lnTo>
                      <a:lnTo>
                        <a:pt x="22" y="36"/>
                      </a:lnTo>
                      <a:lnTo>
                        <a:pt x="9" y="45"/>
                      </a:lnTo>
                      <a:lnTo>
                        <a:pt x="0" y="50"/>
                      </a:lnTo>
                      <a:lnTo>
                        <a:pt x="3" y="57"/>
                      </a:lnTo>
                      <a:lnTo>
                        <a:pt x="14" y="51"/>
                      </a:lnTo>
                      <a:lnTo>
                        <a:pt x="27" y="43"/>
                      </a:lnTo>
                      <a:lnTo>
                        <a:pt x="39" y="35"/>
                      </a:lnTo>
                      <a:lnTo>
                        <a:pt x="56" y="27"/>
                      </a:lnTo>
                      <a:lnTo>
                        <a:pt x="74" y="19"/>
                      </a:lnTo>
                      <a:lnTo>
                        <a:pt x="92" y="13"/>
                      </a:lnTo>
                      <a:lnTo>
                        <a:pt x="114" y="9"/>
                      </a:lnTo>
                      <a:lnTo>
                        <a:pt x="137" y="9"/>
                      </a:lnTo>
                      <a:lnTo>
                        <a:pt x="138" y="1"/>
                      </a:lnTo>
                      <a:lnTo>
                        <a:pt x="137" y="9"/>
                      </a:lnTo>
                      <a:lnTo>
                        <a:pt x="141" y="8"/>
                      </a:lnTo>
                      <a:lnTo>
                        <a:pt x="142" y="4"/>
                      </a:lnTo>
                      <a:lnTo>
                        <a:pt x="141" y="1"/>
                      </a:lnTo>
                      <a:lnTo>
                        <a:pt x="137" y="0"/>
                      </a:lnTo>
                      <a:lnTo>
                        <a:pt x="13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7079760" y="4169160"/>
                  <a:ext cx="10440" cy="3600"/>
                </a:xfrm>
                <a:custGeom>
                  <a:avLst/>
                  <a:gdLst/>
                  <a:ahLst/>
                  <a:rect l="l" t="t" r="r" b="b"/>
                  <a:pathLst>
                    <a:path w="92" h="32">
                      <a:moveTo>
                        <a:pt x="5" y="32"/>
                      </a:moveTo>
                      <a:lnTo>
                        <a:pt x="5" y="32"/>
                      </a:lnTo>
                      <a:lnTo>
                        <a:pt x="11" y="29"/>
                      </a:lnTo>
                      <a:lnTo>
                        <a:pt x="18" y="25"/>
                      </a:lnTo>
                      <a:lnTo>
                        <a:pt x="30" y="19"/>
                      </a:lnTo>
                      <a:lnTo>
                        <a:pt x="43" y="14"/>
                      </a:lnTo>
                      <a:lnTo>
                        <a:pt x="57" y="11"/>
                      </a:lnTo>
                      <a:lnTo>
                        <a:pt x="69" y="8"/>
                      </a:lnTo>
                      <a:lnTo>
                        <a:pt x="82" y="9"/>
                      </a:lnTo>
                      <a:lnTo>
                        <a:pt x="90" y="9"/>
                      </a:lnTo>
                      <a:lnTo>
                        <a:pt x="92" y="2"/>
                      </a:lnTo>
                      <a:lnTo>
                        <a:pt x="82" y="0"/>
                      </a:lnTo>
                      <a:lnTo>
                        <a:pt x="69" y="1"/>
                      </a:lnTo>
                      <a:lnTo>
                        <a:pt x="57" y="4"/>
                      </a:lnTo>
                      <a:lnTo>
                        <a:pt x="41" y="8"/>
                      </a:lnTo>
                      <a:lnTo>
                        <a:pt x="28" y="12"/>
                      </a:lnTo>
                      <a:lnTo>
                        <a:pt x="15" y="18"/>
                      </a:lnTo>
                      <a:lnTo>
                        <a:pt x="6" y="23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7089840" y="4167000"/>
                  <a:ext cx="19080" cy="6840"/>
                </a:xfrm>
                <a:custGeom>
                  <a:avLst/>
                  <a:gdLst/>
                  <a:ahLst/>
                  <a:rect l="l" t="t" r="r" b="b"/>
                  <a:pathLst>
                    <a:path w="162" h="60">
                      <a:moveTo>
                        <a:pt x="3" y="0"/>
                      </a:moveTo>
                      <a:lnTo>
                        <a:pt x="0" y="5"/>
                      </a:lnTo>
                      <a:lnTo>
                        <a:pt x="13" y="17"/>
                      </a:lnTo>
                      <a:lnTo>
                        <a:pt x="33" y="27"/>
                      </a:lnTo>
                      <a:lnTo>
                        <a:pt x="57" y="37"/>
                      </a:lnTo>
                      <a:lnTo>
                        <a:pt x="82" y="48"/>
                      </a:lnTo>
                      <a:lnTo>
                        <a:pt x="108" y="55"/>
                      </a:lnTo>
                      <a:lnTo>
                        <a:pt x="131" y="59"/>
                      </a:lnTo>
                      <a:lnTo>
                        <a:pt x="148" y="60"/>
                      </a:lnTo>
                      <a:lnTo>
                        <a:pt x="162" y="55"/>
                      </a:lnTo>
                      <a:lnTo>
                        <a:pt x="157" y="50"/>
                      </a:lnTo>
                      <a:lnTo>
                        <a:pt x="148" y="54"/>
                      </a:lnTo>
                      <a:lnTo>
                        <a:pt x="131" y="52"/>
                      </a:lnTo>
                      <a:lnTo>
                        <a:pt x="108" y="48"/>
                      </a:lnTo>
                      <a:lnTo>
                        <a:pt x="85" y="41"/>
                      </a:lnTo>
                      <a:lnTo>
                        <a:pt x="59" y="31"/>
                      </a:lnTo>
                      <a:lnTo>
                        <a:pt x="35" y="20"/>
                      </a:lnTo>
                      <a:lnTo>
                        <a:pt x="18" y="10"/>
                      </a:lnTo>
                      <a:lnTo>
                        <a:pt x="4" y="1"/>
                      </a:lnTo>
                      <a:lnTo>
                        <a:pt x="1" y="6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7106040" y="41670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26" y="18"/>
                      </a:moveTo>
                      <a:lnTo>
                        <a:pt x="27" y="10"/>
                      </a:lnTo>
                      <a:lnTo>
                        <a:pt x="2" y="0"/>
                      </a:lnTo>
                      <a:lnTo>
                        <a:pt x="0" y="6"/>
                      </a:lnTo>
                      <a:lnTo>
                        <a:pt x="25" y="17"/>
                      </a:lnTo>
                      <a:lnTo>
                        <a:pt x="26" y="9"/>
                      </a:lnTo>
                      <a:lnTo>
                        <a:pt x="25" y="17"/>
                      </a:lnTo>
                      <a:lnTo>
                        <a:pt x="28" y="17"/>
                      </a:lnTo>
                      <a:lnTo>
                        <a:pt x="30" y="14"/>
                      </a:lnTo>
                      <a:lnTo>
                        <a:pt x="30" y="11"/>
                      </a:lnTo>
                      <a:lnTo>
                        <a:pt x="27" y="10"/>
                      </a:lnTo>
                      <a:lnTo>
                        <a:pt x="2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>
                  <a:off x="7106760" y="416700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30" h="18">
                      <a:moveTo>
                        <a:pt x="4" y="0"/>
                      </a:moveTo>
                      <a:lnTo>
                        <a:pt x="3" y="6"/>
                      </a:lnTo>
                      <a:lnTo>
                        <a:pt x="14" y="12"/>
                      </a:lnTo>
                      <a:lnTo>
                        <a:pt x="22" y="16"/>
                      </a:lnTo>
                      <a:lnTo>
                        <a:pt x="28" y="17"/>
                      </a:lnTo>
                      <a:lnTo>
                        <a:pt x="30" y="18"/>
                      </a:lnTo>
                      <a:lnTo>
                        <a:pt x="30" y="9"/>
                      </a:lnTo>
                      <a:lnTo>
                        <a:pt x="28" y="10"/>
                      </a:lnTo>
                      <a:lnTo>
                        <a:pt x="24" y="9"/>
                      </a:lnTo>
                      <a:lnTo>
                        <a:pt x="16" y="5"/>
                      </a:lnTo>
                      <a:lnTo>
                        <a:pt x="7" y="0"/>
                      </a:lnTo>
                      <a:lnTo>
                        <a:pt x="6" y="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7108200" y="4167000"/>
                  <a:ext cx="5040" cy="360"/>
                </a:xfrm>
                <a:custGeom>
                  <a:avLst/>
                  <a:gdLst/>
                  <a:ahLst/>
                  <a:rect l="l" t="t" r="r" b="b"/>
                  <a:pathLst>
                    <a:path w="39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7" y="10"/>
                      </a:lnTo>
                      <a:lnTo>
                        <a:pt x="29" y="8"/>
                      </a:lnTo>
                      <a:lnTo>
                        <a:pt x="34" y="9"/>
                      </a:lnTo>
                      <a:lnTo>
                        <a:pt x="34" y="7"/>
                      </a:lnTo>
                      <a:lnTo>
                        <a:pt x="33" y="3"/>
                      </a:lnTo>
                      <a:lnTo>
                        <a:pt x="32" y="3"/>
                      </a:lnTo>
                      <a:lnTo>
                        <a:pt x="31" y="5"/>
                      </a:lnTo>
                      <a:lnTo>
                        <a:pt x="30" y="5"/>
                      </a:lnTo>
                      <a:lnTo>
                        <a:pt x="32" y="11"/>
                      </a:lnTo>
                      <a:lnTo>
                        <a:pt x="33" y="11"/>
                      </a:lnTo>
                      <a:lnTo>
                        <a:pt x="37" y="10"/>
                      </a:lnTo>
                      <a:lnTo>
                        <a:pt x="38" y="8"/>
                      </a:lnTo>
                      <a:lnTo>
                        <a:pt x="39" y="2"/>
                      </a:lnTo>
                      <a:lnTo>
                        <a:pt x="34" y="0"/>
                      </a:lnTo>
                      <a:lnTo>
                        <a:pt x="29" y="1"/>
                      </a:lnTo>
                      <a:lnTo>
                        <a:pt x="17" y="3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>
                  <a:off x="7113600" y="41583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168" h="92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10" y="16"/>
                      </a:lnTo>
                      <a:lnTo>
                        <a:pt x="25" y="31"/>
                      </a:lnTo>
                      <a:lnTo>
                        <a:pt x="45" y="47"/>
                      </a:lnTo>
                      <a:lnTo>
                        <a:pt x="68" y="62"/>
                      </a:lnTo>
                      <a:lnTo>
                        <a:pt x="93" y="76"/>
                      </a:lnTo>
                      <a:lnTo>
                        <a:pt x="118" y="86"/>
                      </a:lnTo>
                      <a:lnTo>
                        <a:pt x="145" y="92"/>
                      </a:lnTo>
                      <a:lnTo>
                        <a:pt x="168" y="91"/>
                      </a:lnTo>
                      <a:lnTo>
                        <a:pt x="168" y="84"/>
                      </a:lnTo>
                      <a:lnTo>
                        <a:pt x="145" y="85"/>
                      </a:lnTo>
                      <a:lnTo>
                        <a:pt x="121" y="79"/>
                      </a:lnTo>
                      <a:lnTo>
                        <a:pt x="95" y="69"/>
                      </a:lnTo>
                      <a:lnTo>
                        <a:pt x="72" y="55"/>
                      </a:lnTo>
                      <a:lnTo>
                        <a:pt x="49" y="40"/>
                      </a:lnTo>
                      <a:lnTo>
                        <a:pt x="30" y="24"/>
                      </a:lnTo>
                      <a:lnTo>
                        <a:pt x="15" y="12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>
                  <a:off x="7129440" y="4152240"/>
                  <a:ext cx="3600" cy="576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21" y="3"/>
                      </a:moveTo>
                      <a:lnTo>
                        <a:pt x="23" y="1"/>
                      </a:lnTo>
                      <a:lnTo>
                        <a:pt x="17" y="6"/>
                      </a:lnTo>
                      <a:lnTo>
                        <a:pt x="8" y="18"/>
                      </a:lnTo>
                      <a:lnTo>
                        <a:pt x="0" y="38"/>
                      </a:lnTo>
                      <a:lnTo>
                        <a:pt x="4" y="59"/>
                      </a:lnTo>
                      <a:lnTo>
                        <a:pt x="11" y="56"/>
                      </a:lnTo>
                      <a:lnTo>
                        <a:pt x="7" y="38"/>
                      </a:lnTo>
                      <a:lnTo>
                        <a:pt x="15" y="23"/>
                      </a:lnTo>
                      <a:lnTo>
                        <a:pt x="24" y="10"/>
                      </a:lnTo>
                      <a:lnTo>
                        <a:pt x="28" y="6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29" y="3"/>
                      </a:lnTo>
                      <a:lnTo>
                        <a:pt x="28" y="1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H="1">
                  <a:off x="7127280" y="415152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4"/>
                      </a:moveTo>
                      <a:lnTo>
                        <a:pt x="31" y="4"/>
                      </a:lnTo>
                      <a:lnTo>
                        <a:pt x="22" y="1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9" y="11"/>
                      </a:lnTo>
                      <a:lnTo>
                        <a:pt x="9" y="8"/>
                      </a:lnTo>
                      <a:lnTo>
                        <a:pt x="13" y="7"/>
                      </a:lnTo>
                      <a:lnTo>
                        <a:pt x="19" y="8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3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H="1">
                  <a:off x="7112160" y="415224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132" h="33">
                      <a:moveTo>
                        <a:pt x="129" y="26"/>
                      </a:moveTo>
                      <a:lnTo>
                        <a:pt x="128" y="26"/>
                      </a:lnTo>
                      <a:lnTo>
                        <a:pt x="124" y="25"/>
                      </a:lnTo>
                      <a:lnTo>
                        <a:pt x="110" y="22"/>
                      </a:lnTo>
                      <a:lnTo>
                        <a:pt x="91" y="20"/>
                      </a:lnTo>
                      <a:lnTo>
                        <a:pt x="69" y="15"/>
                      </a:lnTo>
                      <a:lnTo>
                        <a:pt x="48" y="12"/>
                      </a:lnTo>
                      <a:lnTo>
                        <a:pt x="27" y="7"/>
                      </a:lnTo>
                      <a:lnTo>
                        <a:pt x="13" y="4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1"/>
                      </a:lnTo>
                      <a:lnTo>
                        <a:pt x="27" y="14"/>
                      </a:lnTo>
                      <a:lnTo>
                        <a:pt x="48" y="19"/>
                      </a:lnTo>
                      <a:lnTo>
                        <a:pt x="69" y="22"/>
                      </a:lnTo>
                      <a:lnTo>
                        <a:pt x="91" y="27"/>
                      </a:lnTo>
                      <a:lnTo>
                        <a:pt x="110" y="29"/>
                      </a:lnTo>
                      <a:lnTo>
                        <a:pt x="124" y="31"/>
                      </a:lnTo>
                      <a:lnTo>
                        <a:pt x="128" y="33"/>
                      </a:lnTo>
                      <a:lnTo>
                        <a:pt x="127" y="33"/>
                      </a:lnTo>
                      <a:lnTo>
                        <a:pt x="128" y="33"/>
                      </a:lnTo>
                      <a:lnTo>
                        <a:pt x="131" y="31"/>
                      </a:lnTo>
                      <a:lnTo>
                        <a:pt x="132" y="29"/>
                      </a:lnTo>
                      <a:lnTo>
                        <a:pt x="131" y="27"/>
                      </a:lnTo>
                      <a:lnTo>
                        <a:pt x="128" y="26"/>
                      </a:lnTo>
                      <a:lnTo>
                        <a:pt x="12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H="1">
                  <a:off x="7106040" y="4154400"/>
                  <a:ext cx="6480" cy="2160"/>
                </a:xfrm>
                <a:custGeom>
                  <a:avLst/>
                  <a:gdLst/>
                  <a:ahLst/>
                  <a:rect l="l" t="t" r="r" b="b"/>
                  <a:pathLst>
                    <a:path w="58" h="22">
                      <a:moveTo>
                        <a:pt x="58" y="12"/>
                      </a:moveTo>
                      <a:lnTo>
                        <a:pt x="58" y="12"/>
                      </a:lnTo>
                      <a:lnTo>
                        <a:pt x="52" y="12"/>
                      </a:lnTo>
                      <a:lnTo>
                        <a:pt x="45" y="11"/>
                      </a:lnTo>
                      <a:lnTo>
                        <a:pt x="36" y="9"/>
                      </a:lnTo>
                      <a:lnTo>
                        <a:pt x="25" y="7"/>
                      </a:lnTo>
                      <a:lnTo>
                        <a:pt x="17" y="4"/>
                      </a:lnTo>
                      <a:lnTo>
                        <a:pt x="9" y="2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7" y="9"/>
                      </a:lnTo>
                      <a:lnTo>
                        <a:pt x="15" y="11"/>
                      </a:lnTo>
                      <a:lnTo>
                        <a:pt x="25" y="14"/>
                      </a:lnTo>
                      <a:lnTo>
                        <a:pt x="36" y="16"/>
                      </a:lnTo>
                      <a:lnTo>
                        <a:pt x="45" y="18"/>
                      </a:lnTo>
                      <a:lnTo>
                        <a:pt x="52" y="19"/>
                      </a:lnTo>
                      <a:lnTo>
                        <a:pt x="58" y="22"/>
                      </a:lnTo>
                      <a:lnTo>
                        <a:pt x="58" y="22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H="1">
                  <a:off x="7093440" y="4156200"/>
                  <a:ext cx="12240" cy="720"/>
                </a:xfrm>
                <a:custGeom>
                  <a:avLst/>
                  <a:gdLst/>
                  <a:ahLst/>
                  <a:rect l="l" t="t" r="r" b="b"/>
                  <a:pathLst>
                    <a:path w="102" h="13">
                      <a:moveTo>
                        <a:pt x="102" y="5"/>
                      </a:moveTo>
                      <a:lnTo>
                        <a:pt x="102" y="5"/>
                      </a:lnTo>
                      <a:lnTo>
                        <a:pt x="93" y="2"/>
                      </a:lnTo>
                      <a:lnTo>
                        <a:pt x="81" y="0"/>
                      </a:lnTo>
                      <a:lnTo>
                        <a:pt x="66" y="0"/>
                      </a:lnTo>
                      <a:lnTo>
                        <a:pt x="50" y="1"/>
                      </a:lnTo>
                      <a:lnTo>
                        <a:pt x="34" y="1"/>
                      </a:lnTo>
                      <a:lnTo>
                        <a:pt x="19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19" y="10"/>
                      </a:lnTo>
                      <a:lnTo>
                        <a:pt x="34" y="10"/>
                      </a:lnTo>
                      <a:lnTo>
                        <a:pt x="50" y="10"/>
                      </a:lnTo>
                      <a:lnTo>
                        <a:pt x="66" y="9"/>
                      </a:lnTo>
                      <a:lnTo>
                        <a:pt x="81" y="9"/>
                      </a:lnTo>
                      <a:lnTo>
                        <a:pt x="93" y="9"/>
                      </a:lnTo>
                      <a:lnTo>
                        <a:pt x="98" y="11"/>
                      </a:lnTo>
                      <a:lnTo>
                        <a:pt x="98" y="11"/>
                      </a:lnTo>
                      <a:lnTo>
                        <a:pt x="10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7080480" y="415548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9" h="21">
                      <a:moveTo>
                        <a:pt x="119" y="0"/>
                      </a:moveTo>
                      <a:lnTo>
                        <a:pt x="119" y="0"/>
                      </a:lnTo>
                      <a:lnTo>
                        <a:pt x="108" y="2"/>
                      </a:lnTo>
                      <a:lnTo>
                        <a:pt x="92" y="3"/>
                      </a:lnTo>
                      <a:lnTo>
                        <a:pt x="73" y="6"/>
                      </a:lnTo>
                      <a:lnTo>
                        <a:pt x="55" y="9"/>
                      </a:lnTo>
                      <a:lnTo>
                        <a:pt x="36" y="12"/>
                      </a:lnTo>
                      <a:lnTo>
                        <a:pt x="21" y="12"/>
                      </a:lnTo>
                      <a:lnTo>
                        <a:pt x="9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9" y="21"/>
                      </a:lnTo>
                      <a:lnTo>
                        <a:pt x="21" y="21"/>
                      </a:lnTo>
                      <a:lnTo>
                        <a:pt x="36" y="18"/>
                      </a:lnTo>
                      <a:lnTo>
                        <a:pt x="55" y="16"/>
                      </a:lnTo>
                      <a:lnTo>
                        <a:pt x="73" y="13"/>
                      </a:lnTo>
                      <a:lnTo>
                        <a:pt x="92" y="10"/>
                      </a:lnTo>
                      <a:lnTo>
                        <a:pt x="108" y="9"/>
                      </a:lnTo>
                      <a:lnTo>
                        <a:pt x="119" y="9"/>
                      </a:lnTo>
                      <a:lnTo>
                        <a:pt x="119" y="9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>
                  <a:off x="7068240" y="415548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105" h="51">
                      <a:moveTo>
                        <a:pt x="105" y="44"/>
                      </a:moveTo>
                      <a:lnTo>
                        <a:pt x="105" y="44"/>
                      </a:lnTo>
                      <a:lnTo>
                        <a:pt x="96" y="40"/>
                      </a:lnTo>
                      <a:lnTo>
                        <a:pt x="83" y="35"/>
                      </a:lnTo>
                      <a:lnTo>
                        <a:pt x="69" y="28"/>
                      </a:lnTo>
                      <a:lnTo>
                        <a:pt x="54" y="20"/>
                      </a:lnTo>
                      <a:lnTo>
                        <a:pt x="39" y="13"/>
                      </a:lnTo>
                      <a:lnTo>
                        <a:pt x="26" y="7"/>
                      </a:lnTo>
                      <a:lnTo>
                        <a:pt x="11" y="2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1" y="9"/>
                      </a:lnTo>
                      <a:lnTo>
                        <a:pt x="23" y="14"/>
                      </a:lnTo>
                      <a:lnTo>
                        <a:pt x="37" y="20"/>
                      </a:lnTo>
                      <a:lnTo>
                        <a:pt x="52" y="26"/>
                      </a:lnTo>
                      <a:lnTo>
                        <a:pt x="67" y="35"/>
                      </a:lnTo>
                      <a:lnTo>
                        <a:pt x="81" y="41"/>
                      </a:lnTo>
                      <a:lnTo>
                        <a:pt x="94" y="47"/>
                      </a:lnTo>
                      <a:lnTo>
                        <a:pt x="103" y="51"/>
                      </a:lnTo>
                      <a:lnTo>
                        <a:pt x="103" y="51"/>
                      </a:lnTo>
                      <a:lnTo>
                        <a:pt x="10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>
                  <a:off x="7051320" y="4159800"/>
                  <a:ext cx="16560" cy="3600"/>
                </a:xfrm>
                <a:custGeom>
                  <a:avLst/>
                  <a:gdLst/>
                  <a:ahLst/>
                  <a:rect l="l" t="t" r="r" b="b"/>
                  <a:pathLst>
                    <a:path w="144" h="35">
                      <a:moveTo>
                        <a:pt x="144" y="28"/>
                      </a:moveTo>
                      <a:lnTo>
                        <a:pt x="144" y="28"/>
                      </a:lnTo>
                      <a:lnTo>
                        <a:pt x="129" y="23"/>
                      </a:lnTo>
                      <a:lnTo>
                        <a:pt x="108" y="18"/>
                      </a:lnTo>
                      <a:lnTo>
                        <a:pt x="87" y="15"/>
                      </a:lnTo>
                      <a:lnTo>
                        <a:pt x="67" y="11"/>
                      </a:lnTo>
                      <a:lnTo>
                        <a:pt x="46" y="8"/>
                      </a:lnTo>
                      <a:lnTo>
                        <a:pt x="26" y="5"/>
                      </a:lnTo>
                      <a:lnTo>
                        <a:pt x="11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1" y="9"/>
                      </a:lnTo>
                      <a:lnTo>
                        <a:pt x="26" y="12"/>
                      </a:lnTo>
                      <a:lnTo>
                        <a:pt x="46" y="15"/>
                      </a:lnTo>
                      <a:lnTo>
                        <a:pt x="67" y="18"/>
                      </a:lnTo>
                      <a:lnTo>
                        <a:pt x="87" y="22"/>
                      </a:lnTo>
                      <a:lnTo>
                        <a:pt x="108" y="25"/>
                      </a:lnTo>
                      <a:lnTo>
                        <a:pt x="127" y="30"/>
                      </a:lnTo>
                      <a:lnTo>
                        <a:pt x="142" y="35"/>
                      </a:lnTo>
                      <a:lnTo>
                        <a:pt x="142" y="35"/>
                      </a:lnTo>
                      <a:lnTo>
                        <a:pt x="14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>
                  <a:off x="7034040" y="416304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148" h="86">
                      <a:moveTo>
                        <a:pt x="145" y="79"/>
                      </a:moveTo>
                      <a:lnTo>
                        <a:pt x="146" y="79"/>
                      </a:lnTo>
                      <a:lnTo>
                        <a:pt x="141" y="76"/>
                      </a:lnTo>
                      <a:lnTo>
                        <a:pt x="129" y="68"/>
                      </a:lnTo>
                      <a:lnTo>
                        <a:pt x="110" y="58"/>
                      </a:lnTo>
                      <a:lnTo>
                        <a:pt x="87" y="44"/>
                      </a:lnTo>
                      <a:lnTo>
                        <a:pt x="63" y="31"/>
                      </a:lnTo>
                      <a:lnTo>
                        <a:pt x="39" y="19"/>
                      </a:lnTo>
                      <a:lnTo>
                        <a:pt x="18" y="7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6" y="14"/>
                      </a:lnTo>
                      <a:lnTo>
                        <a:pt x="36" y="26"/>
                      </a:lnTo>
                      <a:lnTo>
                        <a:pt x="61" y="38"/>
                      </a:lnTo>
                      <a:lnTo>
                        <a:pt x="85" y="51"/>
                      </a:lnTo>
                      <a:lnTo>
                        <a:pt x="105" y="65"/>
                      </a:lnTo>
                      <a:lnTo>
                        <a:pt x="124" y="75"/>
                      </a:lnTo>
                      <a:lnTo>
                        <a:pt x="137" y="83"/>
                      </a:lnTo>
                      <a:lnTo>
                        <a:pt x="141" y="86"/>
                      </a:lnTo>
                      <a:lnTo>
                        <a:pt x="142" y="86"/>
                      </a:lnTo>
                      <a:lnTo>
                        <a:pt x="141" y="86"/>
                      </a:lnTo>
                      <a:lnTo>
                        <a:pt x="145" y="86"/>
                      </a:lnTo>
                      <a:lnTo>
                        <a:pt x="147" y="83"/>
                      </a:lnTo>
                      <a:lnTo>
                        <a:pt x="148" y="81"/>
                      </a:lnTo>
                      <a:lnTo>
                        <a:pt x="146" y="79"/>
                      </a:lnTo>
                      <a:lnTo>
                        <a:pt x="145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>
                  <a:off x="7025760" y="417132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6" h="28">
                      <a:moveTo>
                        <a:pt x="76" y="26"/>
                      </a:moveTo>
                      <a:lnTo>
                        <a:pt x="74" y="21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72" y="28"/>
                      </a:lnTo>
                      <a:lnTo>
                        <a:pt x="69" y="24"/>
                      </a:lnTo>
                      <a:lnTo>
                        <a:pt x="72" y="28"/>
                      </a:lnTo>
                      <a:lnTo>
                        <a:pt x="75" y="28"/>
                      </a:lnTo>
                      <a:lnTo>
                        <a:pt x="76" y="26"/>
                      </a:lnTo>
                      <a:lnTo>
                        <a:pt x="76" y="23"/>
                      </a:lnTo>
                      <a:lnTo>
                        <a:pt x="74" y="21"/>
                      </a:lnTo>
                      <a:lnTo>
                        <a:pt x="7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3" y="152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3" y="145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3" y="1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>
                  <a:off x="7129440" y="4152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7125120" y="4152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45" y="31"/>
                      </a:moveTo>
                      <a:lnTo>
                        <a:pt x="44" y="30"/>
                      </a:lnTo>
                      <a:lnTo>
                        <a:pt x="39" y="28"/>
                      </a:lnTo>
                      <a:lnTo>
                        <a:pt x="36" y="25"/>
                      </a:lnTo>
                      <a:lnTo>
                        <a:pt x="29" y="21"/>
                      </a:lnTo>
                      <a:lnTo>
                        <a:pt x="23" y="16"/>
                      </a:lnTo>
                      <a:lnTo>
                        <a:pt x="16" y="12"/>
                      </a:lnTo>
                      <a:lnTo>
                        <a:pt x="10" y="6"/>
                      </a:lnTo>
                      <a:lnTo>
                        <a:pt x="7" y="0"/>
                      </a:lnTo>
                      <a:lnTo>
                        <a:pt x="0" y="5"/>
                      </a:lnTo>
                      <a:lnTo>
                        <a:pt x="6" y="10"/>
                      </a:lnTo>
                      <a:lnTo>
                        <a:pt x="12" y="16"/>
                      </a:lnTo>
                      <a:lnTo>
                        <a:pt x="18" y="23"/>
                      </a:lnTo>
                      <a:lnTo>
                        <a:pt x="24" y="28"/>
                      </a:lnTo>
                      <a:lnTo>
                        <a:pt x="31" y="32"/>
                      </a:lnTo>
                      <a:lnTo>
                        <a:pt x="37" y="35"/>
                      </a:lnTo>
                      <a:lnTo>
                        <a:pt x="39" y="37"/>
                      </a:lnTo>
                      <a:lnTo>
                        <a:pt x="40" y="38"/>
                      </a:lnTo>
                      <a:lnTo>
                        <a:pt x="4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>
                  <a:off x="7124400" y="415620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>
                  <a:off x="7118280" y="42044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>
                  <a:off x="7101360" y="4204440"/>
                  <a:ext cx="16920" cy="3600"/>
                </a:xfrm>
                <a:custGeom>
                  <a:avLst/>
                  <a:gdLst/>
                  <a:ahLst/>
                  <a:rect l="l" t="t" r="r" b="b"/>
                  <a:pathLst>
                    <a:path w="142" h="32">
                      <a:moveTo>
                        <a:pt x="142" y="25"/>
                      </a:moveTo>
                      <a:lnTo>
                        <a:pt x="142" y="25"/>
                      </a:lnTo>
                      <a:lnTo>
                        <a:pt x="130" y="21"/>
                      </a:lnTo>
                      <a:lnTo>
                        <a:pt x="114" y="16"/>
                      </a:lnTo>
                      <a:lnTo>
                        <a:pt x="95" y="13"/>
                      </a:lnTo>
                      <a:lnTo>
                        <a:pt x="73" y="9"/>
                      </a:lnTo>
                      <a:lnTo>
                        <a:pt x="51" y="7"/>
                      </a:lnTo>
                      <a:lnTo>
                        <a:pt x="30" y="4"/>
                      </a:lnTo>
                      <a:lnTo>
                        <a:pt x="13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3" y="9"/>
                      </a:lnTo>
                      <a:lnTo>
                        <a:pt x="30" y="10"/>
                      </a:lnTo>
                      <a:lnTo>
                        <a:pt x="51" y="14"/>
                      </a:lnTo>
                      <a:lnTo>
                        <a:pt x="73" y="16"/>
                      </a:lnTo>
                      <a:lnTo>
                        <a:pt x="95" y="20"/>
                      </a:lnTo>
                      <a:lnTo>
                        <a:pt x="114" y="23"/>
                      </a:lnTo>
                      <a:lnTo>
                        <a:pt x="128" y="28"/>
                      </a:lnTo>
                      <a:lnTo>
                        <a:pt x="137" y="32"/>
                      </a:lnTo>
                      <a:lnTo>
                        <a:pt x="137" y="32"/>
                      </a:lnTo>
                      <a:lnTo>
                        <a:pt x="1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>
                  <a:off x="7091280" y="420660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92" h="43">
                      <a:moveTo>
                        <a:pt x="92" y="36"/>
                      </a:moveTo>
                      <a:lnTo>
                        <a:pt x="89" y="35"/>
                      </a:lnTo>
                      <a:lnTo>
                        <a:pt x="81" y="33"/>
                      </a:lnTo>
                      <a:lnTo>
                        <a:pt x="69" y="28"/>
                      </a:lnTo>
                      <a:lnTo>
                        <a:pt x="54" y="23"/>
                      </a:lnTo>
                      <a:lnTo>
                        <a:pt x="39" y="18"/>
                      </a:lnTo>
                      <a:lnTo>
                        <a:pt x="24" y="12"/>
                      </a:lnTo>
                      <a:lnTo>
                        <a:pt x="13" y="6"/>
                      </a:lnTo>
                      <a:lnTo>
                        <a:pt x="5" y="0"/>
                      </a:lnTo>
                      <a:lnTo>
                        <a:pt x="0" y="7"/>
                      </a:lnTo>
                      <a:lnTo>
                        <a:pt x="11" y="13"/>
                      </a:lnTo>
                      <a:lnTo>
                        <a:pt x="22" y="19"/>
                      </a:lnTo>
                      <a:lnTo>
                        <a:pt x="37" y="25"/>
                      </a:lnTo>
                      <a:lnTo>
                        <a:pt x="52" y="30"/>
                      </a:lnTo>
                      <a:lnTo>
                        <a:pt x="67" y="35"/>
                      </a:lnTo>
                      <a:lnTo>
                        <a:pt x="78" y="39"/>
                      </a:lnTo>
                      <a:lnTo>
                        <a:pt x="87" y="42"/>
                      </a:lnTo>
                      <a:lnTo>
                        <a:pt x="90" y="43"/>
                      </a:lnTo>
                      <a:lnTo>
                        <a:pt x="92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>
                  <a:off x="7092000" y="42112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>
                  <a:off x="710352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>
                  <a:off x="7095240" y="4216680"/>
                  <a:ext cx="8280" cy="3600"/>
                </a:xfrm>
                <a:custGeom>
                  <a:avLst/>
                  <a:gdLst/>
                  <a:ahLst/>
                  <a:rect l="l" t="t" r="r" b="b"/>
                  <a:pathLst>
                    <a:path w="72" h="31">
                      <a:moveTo>
                        <a:pt x="68" y="24"/>
                      </a:moveTo>
                      <a:lnTo>
                        <a:pt x="70" y="24"/>
                      </a:lnTo>
                      <a:lnTo>
                        <a:pt x="67" y="23"/>
                      </a:lnTo>
                      <a:lnTo>
                        <a:pt x="63" y="22"/>
                      </a:lnTo>
                      <a:lnTo>
                        <a:pt x="55" y="18"/>
                      </a:lnTo>
                      <a:lnTo>
                        <a:pt x="45" y="15"/>
                      </a:lnTo>
                      <a:lnTo>
                        <a:pt x="35" y="10"/>
                      </a:lnTo>
                      <a:lnTo>
                        <a:pt x="24" y="7"/>
                      </a:ln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11" y="10"/>
                      </a:lnTo>
                      <a:lnTo>
                        <a:pt x="21" y="14"/>
                      </a:lnTo>
                      <a:lnTo>
                        <a:pt x="33" y="17"/>
                      </a:lnTo>
                      <a:lnTo>
                        <a:pt x="43" y="22"/>
                      </a:lnTo>
                      <a:lnTo>
                        <a:pt x="52" y="25"/>
                      </a:lnTo>
                      <a:lnTo>
                        <a:pt x="60" y="29"/>
                      </a:lnTo>
                      <a:lnTo>
                        <a:pt x="65" y="30"/>
                      </a:lnTo>
                      <a:lnTo>
                        <a:pt x="67" y="31"/>
                      </a:lnTo>
                      <a:lnTo>
                        <a:pt x="68" y="31"/>
                      </a:lnTo>
                      <a:lnTo>
                        <a:pt x="67" y="31"/>
                      </a:lnTo>
                      <a:lnTo>
                        <a:pt x="71" y="31"/>
                      </a:lnTo>
                      <a:lnTo>
                        <a:pt x="72" y="29"/>
                      </a:lnTo>
                      <a:lnTo>
                        <a:pt x="72" y="25"/>
                      </a:lnTo>
                      <a:lnTo>
                        <a:pt x="70" y="24"/>
                      </a:lnTo>
                      <a:lnTo>
                        <a:pt x="6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7091280" y="4218840"/>
                  <a:ext cx="4680" cy="216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41" y="14"/>
                      </a:moveTo>
                      <a:lnTo>
                        <a:pt x="41" y="1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1" y="17"/>
                      </a:lnTo>
                      <a:lnTo>
                        <a:pt x="4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>
                  <a:off x="7090560" y="42206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7092000" y="419508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>
                  <a:off x="7083000" y="41936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73" h="27">
                      <a:moveTo>
                        <a:pt x="73" y="0"/>
                      </a:moveTo>
                      <a:lnTo>
                        <a:pt x="66" y="3"/>
                      </a:lnTo>
                      <a:lnTo>
                        <a:pt x="59" y="6"/>
                      </a:lnTo>
                      <a:lnTo>
                        <a:pt x="52" y="11"/>
                      </a:lnTo>
                      <a:lnTo>
                        <a:pt x="44" y="14"/>
                      </a:lnTo>
                      <a:lnTo>
                        <a:pt x="36" y="18"/>
                      </a:lnTo>
                      <a:lnTo>
                        <a:pt x="25" y="18"/>
                      </a:lnTo>
                      <a:lnTo>
                        <a:pt x="14" y="18"/>
                      </a:lnTo>
                      <a:lnTo>
                        <a:pt x="2" y="14"/>
                      </a:lnTo>
                      <a:lnTo>
                        <a:pt x="0" y="21"/>
                      </a:lnTo>
                      <a:lnTo>
                        <a:pt x="14" y="25"/>
                      </a:lnTo>
                      <a:lnTo>
                        <a:pt x="25" y="27"/>
                      </a:lnTo>
                      <a:lnTo>
                        <a:pt x="36" y="25"/>
                      </a:lnTo>
                      <a:lnTo>
                        <a:pt x="46" y="21"/>
                      </a:lnTo>
                      <a:lnTo>
                        <a:pt x="54" y="18"/>
                      </a:lnTo>
                      <a:lnTo>
                        <a:pt x="63" y="13"/>
                      </a:lnTo>
                      <a:lnTo>
                        <a:pt x="68" y="10"/>
                      </a:lnTo>
                      <a:lnTo>
                        <a:pt x="73" y="7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7083000" y="419364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7026840" y="4220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7026840" y="4220640"/>
                  <a:ext cx="13680" cy="3600"/>
                </a:xfrm>
                <a:custGeom>
                  <a:avLst/>
                  <a:gdLst/>
                  <a:ahLst/>
                  <a:rect l="l" t="t" r="r" b="b"/>
                  <a:pathLst>
                    <a:path w="118" h="37">
                      <a:moveTo>
                        <a:pt x="5" y="37"/>
                      </a:moveTo>
                      <a:lnTo>
                        <a:pt x="7" y="37"/>
                      </a:lnTo>
                      <a:lnTo>
                        <a:pt x="13" y="34"/>
                      </a:lnTo>
                      <a:lnTo>
                        <a:pt x="28" y="30"/>
                      </a:lnTo>
                      <a:lnTo>
                        <a:pt x="47" y="25"/>
                      </a:lnTo>
                      <a:lnTo>
                        <a:pt x="66" y="20"/>
                      </a:lnTo>
                      <a:lnTo>
                        <a:pt x="86" y="15"/>
                      </a:lnTo>
                      <a:lnTo>
                        <a:pt x="102" y="12"/>
                      </a:lnTo>
                      <a:lnTo>
                        <a:pt x="114" y="10"/>
                      </a:lnTo>
                      <a:lnTo>
                        <a:pt x="118" y="0"/>
                      </a:lnTo>
                      <a:lnTo>
                        <a:pt x="118" y="10"/>
                      </a:lnTo>
                      <a:lnTo>
                        <a:pt x="114" y="3"/>
                      </a:lnTo>
                      <a:lnTo>
                        <a:pt x="102" y="5"/>
                      </a:lnTo>
                      <a:lnTo>
                        <a:pt x="86" y="8"/>
                      </a:lnTo>
                      <a:lnTo>
                        <a:pt x="66" y="13"/>
                      </a:lnTo>
                      <a:lnTo>
                        <a:pt x="45" y="18"/>
                      </a:lnTo>
                      <a:lnTo>
                        <a:pt x="26" y="23"/>
                      </a:lnTo>
                      <a:lnTo>
                        <a:pt x="11" y="27"/>
                      </a:lnTo>
                      <a:lnTo>
                        <a:pt x="2" y="30"/>
                      </a:lnTo>
                      <a:lnTo>
                        <a:pt x="3" y="30"/>
                      </a:lnTo>
                      <a:lnTo>
                        <a:pt x="2" y="30"/>
                      </a:lnTo>
                      <a:lnTo>
                        <a:pt x="0" y="33"/>
                      </a:lnTo>
                      <a:lnTo>
                        <a:pt x="1" y="35"/>
                      </a:lnTo>
                      <a:lnTo>
                        <a:pt x="3" y="37"/>
                      </a:lnTo>
                      <a:lnTo>
                        <a:pt x="7" y="37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040160" y="4223520"/>
                  <a:ext cx="14040" cy="3600"/>
                </a:xfrm>
                <a:custGeom>
                  <a:avLst/>
                  <a:gdLst/>
                  <a:ahLst/>
                  <a:rect l="l" t="t" r="r" b="b"/>
                  <a:pathLst>
                    <a:path w="130" h="39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9" y="39"/>
                      </a:lnTo>
                      <a:lnTo>
                        <a:pt x="23" y="37"/>
                      </a:lnTo>
                      <a:lnTo>
                        <a:pt x="42" y="34"/>
                      </a:lnTo>
                      <a:lnTo>
                        <a:pt x="61" y="29"/>
                      </a:lnTo>
                      <a:lnTo>
                        <a:pt x="83" y="23"/>
                      </a:lnTo>
                      <a:lnTo>
                        <a:pt x="102" y="18"/>
                      </a:lnTo>
                      <a:lnTo>
                        <a:pt x="119" y="12"/>
                      </a:lnTo>
                      <a:lnTo>
                        <a:pt x="130" y="7"/>
                      </a:lnTo>
                      <a:lnTo>
                        <a:pt x="128" y="0"/>
                      </a:lnTo>
                      <a:lnTo>
                        <a:pt x="117" y="5"/>
                      </a:lnTo>
                      <a:lnTo>
                        <a:pt x="99" y="11"/>
                      </a:lnTo>
                      <a:lnTo>
                        <a:pt x="81" y="16"/>
                      </a:lnTo>
                      <a:lnTo>
                        <a:pt x="61" y="22"/>
                      </a:lnTo>
                      <a:lnTo>
                        <a:pt x="42" y="27"/>
                      </a:lnTo>
                      <a:lnTo>
                        <a:pt x="23" y="30"/>
                      </a:lnTo>
                      <a:lnTo>
                        <a:pt x="9" y="32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7054560" y="4226400"/>
                  <a:ext cx="17640" cy="1440"/>
                </a:xfrm>
                <a:custGeom>
                  <a:avLst/>
                  <a:gdLst/>
                  <a:ahLst/>
                  <a:rect l="l" t="t" r="r" b="b"/>
                  <a:pathLst>
                    <a:path w="151" h="16">
                      <a:moveTo>
                        <a:pt x="2" y="16"/>
                      </a:moveTo>
                      <a:lnTo>
                        <a:pt x="2" y="16"/>
                      </a:lnTo>
                      <a:lnTo>
                        <a:pt x="11" y="14"/>
                      </a:lnTo>
                      <a:lnTo>
                        <a:pt x="30" y="12"/>
                      </a:lnTo>
                      <a:lnTo>
                        <a:pt x="53" y="11"/>
                      </a:lnTo>
                      <a:lnTo>
                        <a:pt x="77" y="9"/>
                      </a:lnTo>
                      <a:lnTo>
                        <a:pt x="101" y="9"/>
                      </a:lnTo>
                      <a:lnTo>
                        <a:pt x="123" y="9"/>
                      </a:lnTo>
                      <a:lnTo>
                        <a:pt x="140" y="9"/>
                      </a:lnTo>
                      <a:lnTo>
                        <a:pt x="148" y="9"/>
                      </a:lnTo>
                      <a:lnTo>
                        <a:pt x="151" y="2"/>
                      </a:lnTo>
                      <a:lnTo>
                        <a:pt x="140" y="0"/>
                      </a:lnTo>
                      <a:lnTo>
                        <a:pt x="123" y="0"/>
                      </a:lnTo>
                      <a:lnTo>
                        <a:pt x="101" y="0"/>
                      </a:lnTo>
                      <a:lnTo>
                        <a:pt x="77" y="2"/>
                      </a:lnTo>
                      <a:lnTo>
                        <a:pt x="53" y="4"/>
                      </a:lnTo>
                      <a:lnTo>
                        <a:pt x="30" y="5"/>
                      </a:lnTo>
                      <a:lnTo>
                        <a:pt x="11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7072920" y="4226400"/>
                  <a:ext cx="12960" cy="2160"/>
                </a:xfrm>
                <a:custGeom>
                  <a:avLst/>
                  <a:gdLst/>
                  <a:ahLst/>
                  <a:rect l="l" t="t" r="r" b="b"/>
                  <a:pathLst>
                    <a:path w="111" h="28">
                      <a:moveTo>
                        <a:pt x="0" y="4"/>
                      </a:moveTo>
                      <a:lnTo>
                        <a:pt x="8" y="12"/>
                      </a:lnTo>
                      <a:lnTo>
                        <a:pt x="20" y="18"/>
                      </a:lnTo>
                      <a:lnTo>
                        <a:pt x="32" y="23"/>
                      </a:lnTo>
                      <a:lnTo>
                        <a:pt x="46" y="26"/>
                      </a:lnTo>
                      <a:lnTo>
                        <a:pt x="61" y="28"/>
                      </a:lnTo>
                      <a:lnTo>
                        <a:pt x="76" y="27"/>
                      </a:lnTo>
                      <a:lnTo>
                        <a:pt x="93" y="25"/>
                      </a:lnTo>
                      <a:lnTo>
                        <a:pt x="111" y="19"/>
                      </a:lnTo>
                      <a:lnTo>
                        <a:pt x="109" y="12"/>
                      </a:lnTo>
                      <a:lnTo>
                        <a:pt x="93" y="18"/>
                      </a:lnTo>
                      <a:lnTo>
                        <a:pt x="76" y="20"/>
                      </a:lnTo>
                      <a:lnTo>
                        <a:pt x="61" y="19"/>
                      </a:lnTo>
                      <a:lnTo>
                        <a:pt x="46" y="19"/>
                      </a:lnTo>
                      <a:lnTo>
                        <a:pt x="34" y="16"/>
                      </a:lnTo>
                      <a:lnTo>
                        <a:pt x="22" y="11"/>
                      </a:lnTo>
                      <a:lnTo>
                        <a:pt x="13" y="5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>
                  <a:off x="7085160" y="4226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7041600" y="42181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7043040" y="4218120"/>
                  <a:ext cx="36720" cy="5040"/>
                </a:xfrm>
                <a:custGeom>
                  <a:avLst/>
                  <a:gdLst/>
                  <a:ahLst/>
                  <a:rect l="l" t="t" r="r" b="b"/>
                  <a:pathLst>
                    <a:path w="315" h="50">
                      <a:moveTo>
                        <a:pt x="2" y="50"/>
                      </a:moveTo>
                      <a:lnTo>
                        <a:pt x="15" y="45"/>
                      </a:lnTo>
                      <a:lnTo>
                        <a:pt x="30" y="40"/>
                      </a:lnTo>
                      <a:lnTo>
                        <a:pt x="48" y="35"/>
                      </a:lnTo>
                      <a:lnTo>
                        <a:pt x="69" y="32"/>
                      </a:lnTo>
                      <a:lnTo>
                        <a:pt x="92" y="27"/>
                      </a:lnTo>
                      <a:lnTo>
                        <a:pt x="118" y="24"/>
                      </a:lnTo>
                      <a:lnTo>
                        <a:pt x="143" y="22"/>
                      </a:lnTo>
                      <a:lnTo>
                        <a:pt x="168" y="18"/>
                      </a:lnTo>
                      <a:lnTo>
                        <a:pt x="194" y="16"/>
                      </a:lnTo>
                      <a:lnTo>
                        <a:pt x="219" y="14"/>
                      </a:lnTo>
                      <a:lnTo>
                        <a:pt x="242" y="12"/>
                      </a:lnTo>
                      <a:lnTo>
                        <a:pt x="263" y="10"/>
                      </a:lnTo>
                      <a:lnTo>
                        <a:pt x="281" y="10"/>
                      </a:lnTo>
                      <a:lnTo>
                        <a:pt x="296" y="10"/>
                      </a:lnTo>
                      <a:lnTo>
                        <a:pt x="308" y="8"/>
                      </a:lnTo>
                      <a:lnTo>
                        <a:pt x="315" y="9"/>
                      </a:lnTo>
                      <a:lnTo>
                        <a:pt x="315" y="0"/>
                      </a:lnTo>
                      <a:lnTo>
                        <a:pt x="308" y="1"/>
                      </a:lnTo>
                      <a:lnTo>
                        <a:pt x="296" y="1"/>
                      </a:lnTo>
                      <a:lnTo>
                        <a:pt x="281" y="1"/>
                      </a:lnTo>
                      <a:lnTo>
                        <a:pt x="263" y="3"/>
                      </a:lnTo>
                      <a:lnTo>
                        <a:pt x="242" y="5"/>
                      </a:lnTo>
                      <a:lnTo>
                        <a:pt x="219" y="7"/>
                      </a:lnTo>
                      <a:lnTo>
                        <a:pt x="194" y="9"/>
                      </a:lnTo>
                      <a:lnTo>
                        <a:pt x="168" y="11"/>
                      </a:lnTo>
                      <a:lnTo>
                        <a:pt x="143" y="15"/>
                      </a:lnTo>
                      <a:lnTo>
                        <a:pt x="118" y="17"/>
                      </a:lnTo>
                      <a:lnTo>
                        <a:pt x="92" y="20"/>
                      </a:lnTo>
                      <a:lnTo>
                        <a:pt x="69" y="25"/>
                      </a:lnTo>
                      <a:lnTo>
                        <a:pt x="48" y="28"/>
                      </a:lnTo>
                      <a:lnTo>
                        <a:pt x="28" y="33"/>
                      </a:lnTo>
                      <a:lnTo>
                        <a:pt x="13" y="38"/>
                      </a:lnTo>
                      <a:lnTo>
                        <a:pt x="0" y="43"/>
                      </a:lnTo>
                      <a:lnTo>
                        <a:pt x="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7079040" y="42228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7100640" y="420660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7096680" y="42066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37" h="13">
                      <a:moveTo>
                        <a:pt x="37" y="7"/>
                      </a:moveTo>
                      <a:lnTo>
                        <a:pt x="32" y="4"/>
                      </a:lnTo>
                      <a:lnTo>
                        <a:pt x="31" y="4"/>
                      </a:lnTo>
                      <a:lnTo>
                        <a:pt x="25" y="4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5" y="11"/>
                      </a:lnTo>
                      <a:lnTo>
                        <a:pt x="25" y="13"/>
                      </a:lnTo>
                      <a:lnTo>
                        <a:pt x="31" y="11"/>
                      </a:lnTo>
                      <a:lnTo>
                        <a:pt x="35" y="11"/>
                      </a:lnTo>
                      <a:lnTo>
                        <a:pt x="30" y="7"/>
                      </a:lnTo>
                      <a:lnTo>
                        <a:pt x="35" y="11"/>
                      </a:lnTo>
                      <a:lnTo>
                        <a:pt x="37" y="8"/>
                      </a:lnTo>
                      <a:lnTo>
                        <a:pt x="37" y="6"/>
                      </a:lnTo>
                      <a:lnTo>
                        <a:pt x="36" y="4"/>
                      </a:lnTo>
                      <a:lnTo>
                        <a:pt x="32" y="4"/>
                      </a:lnTo>
                      <a:lnTo>
                        <a:pt x="3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7095240" y="420804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22" h="27">
                      <a:moveTo>
                        <a:pt x="22" y="18"/>
                      </a:moveTo>
                      <a:lnTo>
                        <a:pt x="15" y="15"/>
                      </a:lnTo>
                      <a:lnTo>
                        <a:pt x="10" y="9"/>
                      </a:lnTo>
                      <a:lnTo>
                        <a:pt x="8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4" y="12"/>
                      </a:lnTo>
                      <a:lnTo>
                        <a:pt x="10" y="22"/>
                      </a:lnTo>
                      <a:lnTo>
                        <a:pt x="22" y="27"/>
                      </a:lnTo>
                      <a:lnTo>
                        <a:pt x="22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7094160" y="42098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7146360" y="418140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7136280" y="4181400"/>
                  <a:ext cx="9000" cy="3600"/>
                </a:xfrm>
                <a:custGeom>
                  <a:avLst/>
                  <a:gdLst/>
                  <a:ahLst/>
                  <a:rect l="l" t="t" r="r" b="b"/>
                  <a:pathLst>
                    <a:path w="78" h="38">
                      <a:moveTo>
                        <a:pt x="75" y="31"/>
                      </a:moveTo>
                      <a:lnTo>
                        <a:pt x="76" y="31"/>
                      </a:lnTo>
                      <a:lnTo>
                        <a:pt x="74" y="30"/>
                      </a:lnTo>
                      <a:lnTo>
                        <a:pt x="67" y="27"/>
                      </a:lnTo>
                      <a:lnTo>
                        <a:pt x="57" y="22"/>
                      </a:lnTo>
                      <a:lnTo>
                        <a:pt x="44" y="17"/>
                      </a:lnTo>
                      <a:lnTo>
                        <a:pt x="31" y="12"/>
                      </a:lnTo>
                      <a:lnTo>
                        <a:pt x="19" y="6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6" y="9"/>
                      </a:lnTo>
                      <a:lnTo>
                        <a:pt x="16" y="13"/>
                      </a:lnTo>
                      <a:lnTo>
                        <a:pt x="29" y="19"/>
                      </a:lnTo>
                      <a:lnTo>
                        <a:pt x="42" y="24"/>
                      </a:lnTo>
                      <a:lnTo>
                        <a:pt x="54" y="29"/>
                      </a:lnTo>
                      <a:lnTo>
                        <a:pt x="65" y="34"/>
                      </a:lnTo>
                      <a:lnTo>
                        <a:pt x="72" y="37"/>
                      </a:lnTo>
                      <a:lnTo>
                        <a:pt x="74" y="38"/>
                      </a:lnTo>
                      <a:lnTo>
                        <a:pt x="75" y="38"/>
                      </a:lnTo>
                      <a:lnTo>
                        <a:pt x="74" y="38"/>
                      </a:lnTo>
                      <a:lnTo>
                        <a:pt x="77" y="38"/>
                      </a:lnTo>
                      <a:lnTo>
                        <a:pt x="78" y="36"/>
                      </a:lnTo>
                      <a:lnTo>
                        <a:pt x="78" y="32"/>
                      </a:lnTo>
                      <a:lnTo>
                        <a:pt x="76" y="31"/>
                      </a:lnTo>
                      <a:lnTo>
                        <a:pt x="75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7124040" y="4183560"/>
                  <a:ext cx="13680" cy="1440"/>
                </a:xfrm>
                <a:custGeom>
                  <a:avLst/>
                  <a:gdLst/>
                  <a:ahLst/>
                  <a:rect l="l" t="t" r="r" b="b"/>
                  <a:pathLst>
                    <a:path w="117" h="15">
                      <a:moveTo>
                        <a:pt x="117" y="0"/>
                      </a:moveTo>
                      <a:lnTo>
                        <a:pt x="108" y="0"/>
                      </a:lnTo>
                      <a:lnTo>
                        <a:pt x="96" y="1"/>
                      </a:lnTo>
                      <a:lnTo>
                        <a:pt x="79" y="1"/>
                      </a:lnTo>
                      <a:lnTo>
                        <a:pt x="62" y="4"/>
                      </a:lnTo>
                      <a:lnTo>
                        <a:pt x="44" y="5"/>
                      </a:lnTo>
                      <a:lnTo>
                        <a:pt x="26" y="6"/>
                      </a:lnTo>
                      <a:lnTo>
                        <a:pt x="11" y="7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1" y="14"/>
                      </a:lnTo>
                      <a:lnTo>
                        <a:pt x="26" y="13"/>
                      </a:lnTo>
                      <a:lnTo>
                        <a:pt x="44" y="12"/>
                      </a:lnTo>
                      <a:lnTo>
                        <a:pt x="62" y="11"/>
                      </a:lnTo>
                      <a:lnTo>
                        <a:pt x="79" y="11"/>
                      </a:lnTo>
                      <a:lnTo>
                        <a:pt x="96" y="11"/>
                      </a:lnTo>
                      <a:lnTo>
                        <a:pt x="108" y="9"/>
                      </a:lnTo>
                      <a:lnTo>
                        <a:pt x="117" y="9"/>
                      </a:ln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7122600" y="41835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4" y="8"/>
                      </a:lnTo>
                      <a:lnTo>
                        <a:pt x="5" y="5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71316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7116480" y="4197240"/>
                  <a:ext cx="15120" cy="2160"/>
                </a:xfrm>
                <a:custGeom>
                  <a:avLst/>
                  <a:gdLst/>
                  <a:ahLst/>
                  <a:rect l="l" t="t" r="r" b="b"/>
                  <a:pathLst>
                    <a:path w="133" h="22">
                      <a:moveTo>
                        <a:pt x="133" y="15"/>
                      </a:moveTo>
                      <a:lnTo>
                        <a:pt x="133" y="15"/>
                      </a:lnTo>
                      <a:lnTo>
                        <a:pt x="122" y="13"/>
                      </a:lnTo>
                      <a:lnTo>
                        <a:pt x="107" y="11"/>
                      </a:lnTo>
                      <a:lnTo>
                        <a:pt x="88" y="8"/>
                      </a:lnTo>
                      <a:lnTo>
                        <a:pt x="67" y="6"/>
                      </a:lnTo>
                      <a:lnTo>
                        <a:pt x="47" y="4"/>
                      </a:lnTo>
                      <a:lnTo>
                        <a:pt x="27" y="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1" y="10"/>
                      </a:lnTo>
                      <a:lnTo>
                        <a:pt x="27" y="10"/>
                      </a:lnTo>
                      <a:lnTo>
                        <a:pt x="47" y="11"/>
                      </a:lnTo>
                      <a:lnTo>
                        <a:pt x="67" y="13"/>
                      </a:lnTo>
                      <a:lnTo>
                        <a:pt x="88" y="15"/>
                      </a:lnTo>
                      <a:lnTo>
                        <a:pt x="107" y="18"/>
                      </a:lnTo>
                      <a:lnTo>
                        <a:pt x="122" y="20"/>
                      </a:lnTo>
                      <a:lnTo>
                        <a:pt x="131" y="22"/>
                      </a:lnTo>
                      <a:lnTo>
                        <a:pt x="131" y="22"/>
                      </a:lnTo>
                      <a:lnTo>
                        <a:pt x="13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7102800" y="4197240"/>
                  <a:ext cx="13680" cy="2160"/>
                </a:xfrm>
                <a:custGeom>
                  <a:avLst/>
                  <a:gdLst/>
                  <a:ahLst/>
                  <a:rect l="l" t="t" r="r" b="b"/>
                  <a:pathLst>
                    <a:path w="118" h="25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06" y="3"/>
                      </a:lnTo>
                      <a:lnTo>
                        <a:pt x="91" y="5"/>
                      </a:lnTo>
                      <a:lnTo>
                        <a:pt x="74" y="7"/>
                      </a:lnTo>
                      <a:lnTo>
                        <a:pt x="55" y="11"/>
                      </a:lnTo>
                      <a:lnTo>
                        <a:pt x="38" y="14"/>
                      </a:lnTo>
                      <a:lnTo>
                        <a:pt x="23" y="17"/>
                      </a:lnTo>
                      <a:lnTo>
                        <a:pt x="10" y="15"/>
                      </a:lnTo>
                      <a:lnTo>
                        <a:pt x="2" y="15"/>
                      </a:lnTo>
                      <a:lnTo>
                        <a:pt x="0" y="22"/>
                      </a:lnTo>
                      <a:lnTo>
                        <a:pt x="10" y="25"/>
                      </a:lnTo>
                      <a:lnTo>
                        <a:pt x="23" y="23"/>
                      </a:lnTo>
                      <a:lnTo>
                        <a:pt x="38" y="21"/>
                      </a:lnTo>
                      <a:lnTo>
                        <a:pt x="55" y="18"/>
                      </a:lnTo>
                      <a:lnTo>
                        <a:pt x="74" y="14"/>
                      </a:lnTo>
                      <a:lnTo>
                        <a:pt x="91" y="12"/>
                      </a:lnTo>
                      <a:lnTo>
                        <a:pt x="106" y="10"/>
                      </a:lnTo>
                      <a:lnTo>
                        <a:pt x="118" y="10"/>
                      </a:lnTo>
                      <a:lnTo>
                        <a:pt x="118" y="1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7090560" y="4196880"/>
                  <a:ext cx="12240" cy="1440"/>
                </a:xfrm>
                <a:custGeom>
                  <a:avLst/>
                  <a:gdLst/>
                  <a:ahLst/>
                  <a:rect l="l" t="t" r="r" b="b"/>
                  <a:pathLst>
                    <a:path w="105" h="13">
                      <a:moveTo>
                        <a:pt x="105" y="5"/>
                      </a:moveTo>
                      <a:lnTo>
                        <a:pt x="105" y="5"/>
                      </a:lnTo>
                      <a:lnTo>
                        <a:pt x="96" y="2"/>
                      </a:lnTo>
                      <a:lnTo>
                        <a:pt x="86" y="0"/>
                      </a:lnTo>
                      <a:lnTo>
                        <a:pt x="72" y="0"/>
                      </a:lnTo>
                      <a:lnTo>
                        <a:pt x="58" y="0"/>
                      </a:lnTo>
                      <a:lnTo>
                        <a:pt x="42" y="2"/>
                      </a:lnTo>
                      <a:lnTo>
                        <a:pt x="27" y="3"/>
                      </a:lnTo>
                      <a:lnTo>
                        <a:pt x="13" y="3"/>
                      </a:lnTo>
                      <a:lnTo>
                        <a:pt x="0" y="3"/>
                      </a:lnTo>
                      <a:lnTo>
                        <a:pt x="0" y="13"/>
                      </a:lnTo>
                      <a:lnTo>
                        <a:pt x="13" y="13"/>
                      </a:lnTo>
                      <a:lnTo>
                        <a:pt x="27" y="10"/>
                      </a:lnTo>
                      <a:lnTo>
                        <a:pt x="42" y="9"/>
                      </a:lnTo>
                      <a:lnTo>
                        <a:pt x="58" y="9"/>
                      </a:lnTo>
                      <a:lnTo>
                        <a:pt x="72" y="9"/>
                      </a:lnTo>
                      <a:lnTo>
                        <a:pt x="86" y="9"/>
                      </a:lnTo>
                      <a:lnTo>
                        <a:pt x="96" y="9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7085880" y="41968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41" h="14">
                      <a:moveTo>
                        <a:pt x="39" y="0"/>
                      </a:moveTo>
                      <a:lnTo>
                        <a:pt x="39" y="0"/>
                      </a:lnTo>
                      <a:lnTo>
                        <a:pt x="34" y="1"/>
                      </a:lnTo>
                      <a:lnTo>
                        <a:pt x="30" y="4"/>
                      </a:lnTo>
                      <a:lnTo>
                        <a:pt x="26" y="5"/>
                      </a:lnTo>
                      <a:lnTo>
                        <a:pt x="20" y="6"/>
                      </a:lnTo>
                      <a:lnTo>
                        <a:pt x="13" y="5"/>
                      </a:lnTo>
                      <a:lnTo>
                        <a:pt x="7" y="6"/>
                      </a:lnTo>
                      <a:lnTo>
                        <a:pt x="2" y="4"/>
                      </a:lnTo>
                      <a:lnTo>
                        <a:pt x="0" y="10"/>
                      </a:lnTo>
                      <a:lnTo>
                        <a:pt x="7" y="13"/>
                      </a:lnTo>
                      <a:lnTo>
                        <a:pt x="13" y="14"/>
                      </a:lnTo>
                      <a:lnTo>
                        <a:pt x="20" y="13"/>
                      </a:lnTo>
                      <a:lnTo>
                        <a:pt x="26" y="12"/>
                      </a:lnTo>
                      <a:lnTo>
                        <a:pt x="32" y="10"/>
                      </a:lnTo>
                      <a:lnTo>
                        <a:pt x="37" y="8"/>
                      </a:lnTo>
                      <a:lnTo>
                        <a:pt x="39" y="7"/>
                      </a:lnTo>
                      <a:lnTo>
                        <a:pt x="41" y="7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7085160" y="41968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7092000" y="417816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7092360" y="417744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83" h="26">
                      <a:moveTo>
                        <a:pt x="5" y="26"/>
                      </a:moveTo>
                      <a:lnTo>
                        <a:pt x="10" y="23"/>
                      </a:lnTo>
                      <a:lnTo>
                        <a:pt x="20" y="18"/>
                      </a:lnTo>
                      <a:lnTo>
                        <a:pt x="31" y="13"/>
                      </a:lnTo>
                      <a:lnTo>
                        <a:pt x="42" y="10"/>
                      </a:lnTo>
                      <a:lnTo>
                        <a:pt x="54" y="9"/>
                      </a:lnTo>
                      <a:lnTo>
                        <a:pt x="65" y="9"/>
                      </a:lnTo>
                      <a:lnTo>
                        <a:pt x="74" y="8"/>
                      </a:lnTo>
                      <a:lnTo>
                        <a:pt x="78" y="10"/>
                      </a:lnTo>
                      <a:lnTo>
                        <a:pt x="83" y="3"/>
                      </a:lnTo>
                      <a:lnTo>
                        <a:pt x="74" y="1"/>
                      </a:lnTo>
                      <a:lnTo>
                        <a:pt x="65" y="0"/>
                      </a:lnTo>
                      <a:lnTo>
                        <a:pt x="54" y="2"/>
                      </a:lnTo>
                      <a:lnTo>
                        <a:pt x="42" y="3"/>
                      </a:lnTo>
                      <a:lnTo>
                        <a:pt x="29" y="6"/>
                      </a:lnTo>
                      <a:lnTo>
                        <a:pt x="17" y="11"/>
                      </a:lnTo>
                      <a:lnTo>
                        <a:pt x="8" y="16"/>
                      </a:lnTo>
                      <a:lnTo>
                        <a:pt x="0" y="21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7101360" y="41799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7025760" y="42166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7026480" y="4216680"/>
                  <a:ext cx="16560" cy="5760"/>
                </a:xfrm>
                <a:custGeom>
                  <a:avLst/>
                  <a:gdLst/>
                  <a:ahLst/>
                  <a:rect l="l" t="t" r="r" b="b"/>
                  <a:pathLst>
                    <a:path w="146" h="56">
                      <a:moveTo>
                        <a:pt x="7" y="54"/>
                      </a:moveTo>
                      <a:lnTo>
                        <a:pt x="7" y="43"/>
                      </a:lnTo>
                      <a:lnTo>
                        <a:pt x="17" y="35"/>
                      </a:lnTo>
                      <a:lnTo>
                        <a:pt x="36" y="26"/>
                      </a:lnTo>
                      <a:lnTo>
                        <a:pt x="60" y="18"/>
                      </a:lnTo>
                      <a:lnTo>
                        <a:pt x="86" y="14"/>
                      </a:lnTo>
                      <a:lnTo>
                        <a:pt x="112" y="10"/>
                      </a:lnTo>
                      <a:lnTo>
                        <a:pt x="134" y="9"/>
                      </a:lnTo>
                      <a:lnTo>
                        <a:pt x="146" y="9"/>
                      </a:lnTo>
                      <a:lnTo>
                        <a:pt x="146" y="2"/>
                      </a:lnTo>
                      <a:lnTo>
                        <a:pt x="134" y="0"/>
                      </a:lnTo>
                      <a:lnTo>
                        <a:pt x="112" y="3"/>
                      </a:lnTo>
                      <a:lnTo>
                        <a:pt x="86" y="7"/>
                      </a:lnTo>
                      <a:lnTo>
                        <a:pt x="60" y="11"/>
                      </a:lnTo>
                      <a:lnTo>
                        <a:pt x="33" y="19"/>
                      </a:lnTo>
                      <a:lnTo>
                        <a:pt x="13" y="29"/>
                      </a:lnTo>
                      <a:lnTo>
                        <a:pt x="0" y="41"/>
                      </a:lnTo>
                      <a:lnTo>
                        <a:pt x="0" y="56"/>
                      </a:lnTo>
                      <a:lnTo>
                        <a:pt x="7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704160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2"/>
                      </a:move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7081560" y="4167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7"/>
                      </a:moveTo>
                      <a:lnTo>
                        <a:pt x="7" y="5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7081560" y="4167000"/>
                  <a:ext cx="9000" cy="4320"/>
                </a:xfrm>
                <a:custGeom>
                  <a:avLst/>
                  <a:gdLst/>
                  <a:ahLst/>
                  <a:rect l="l" t="t" r="r" b="b"/>
                  <a:pathLst>
                    <a:path w="75" h="50">
                      <a:moveTo>
                        <a:pt x="3" y="50"/>
                      </a:moveTo>
                      <a:lnTo>
                        <a:pt x="18" y="43"/>
                      </a:lnTo>
                      <a:lnTo>
                        <a:pt x="32" y="35"/>
                      </a:lnTo>
                      <a:lnTo>
                        <a:pt x="45" y="28"/>
                      </a:lnTo>
                      <a:lnTo>
                        <a:pt x="56" y="21"/>
                      </a:lnTo>
                      <a:lnTo>
                        <a:pt x="64" y="15"/>
                      </a:lnTo>
                      <a:lnTo>
                        <a:pt x="71" y="12"/>
                      </a:lnTo>
                      <a:lnTo>
                        <a:pt x="74" y="7"/>
                      </a:lnTo>
                      <a:lnTo>
                        <a:pt x="75" y="7"/>
                      </a:lnTo>
                      <a:lnTo>
                        <a:pt x="71" y="0"/>
                      </a:lnTo>
                      <a:lnTo>
                        <a:pt x="70" y="2"/>
                      </a:lnTo>
                      <a:lnTo>
                        <a:pt x="66" y="5"/>
                      </a:lnTo>
                      <a:lnTo>
                        <a:pt x="59" y="8"/>
                      </a:lnTo>
                      <a:lnTo>
                        <a:pt x="51" y="14"/>
                      </a:lnTo>
                      <a:lnTo>
                        <a:pt x="41" y="21"/>
                      </a:lnTo>
                      <a:lnTo>
                        <a:pt x="29" y="28"/>
                      </a:lnTo>
                      <a:lnTo>
                        <a:pt x="15" y="36"/>
                      </a:lnTo>
                      <a:lnTo>
                        <a:pt x="0" y="43"/>
                      </a:lnTo>
                      <a:lnTo>
                        <a:pt x="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7090560" y="4171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5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7088400" y="41990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7088400" y="419832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128" h="16">
                      <a:moveTo>
                        <a:pt x="0" y="10"/>
                      </a:moveTo>
                      <a:lnTo>
                        <a:pt x="9" y="10"/>
                      </a:lnTo>
                      <a:lnTo>
                        <a:pt x="25" y="10"/>
                      </a:lnTo>
                      <a:lnTo>
                        <a:pt x="44" y="11"/>
                      </a:lnTo>
                      <a:lnTo>
                        <a:pt x="65" y="12"/>
                      </a:lnTo>
                      <a:lnTo>
                        <a:pt x="84" y="13"/>
                      </a:lnTo>
                      <a:lnTo>
                        <a:pt x="103" y="14"/>
                      </a:lnTo>
                      <a:lnTo>
                        <a:pt x="119" y="16"/>
                      </a:lnTo>
                      <a:lnTo>
                        <a:pt x="128" y="16"/>
                      </a:lnTo>
                      <a:lnTo>
                        <a:pt x="128" y="7"/>
                      </a:lnTo>
                      <a:lnTo>
                        <a:pt x="119" y="7"/>
                      </a:lnTo>
                      <a:lnTo>
                        <a:pt x="103" y="7"/>
                      </a:lnTo>
                      <a:lnTo>
                        <a:pt x="84" y="6"/>
                      </a:lnTo>
                      <a:lnTo>
                        <a:pt x="65" y="5"/>
                      </a:lnTo>
                      <a:lnTo>
                        <a:pt x="44" y="4"/>
                      </a:lnTo>
                      <a:lnTo>
                        <a:pt x="25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7103520" y="41983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5" y="0"/>
                      </a:move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7087680" y="422496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7088400" y="4217400"/>
                  <a:ext cx="15120" cy="8280"/>
                </a:xfrm>
                <a:custGeom>
                  <a:avLst/>
                  <a:gdLst/>
                  <a:ahLst/>
                  <a:rect l="l" t="t" r="r" b="b"/>
                  <a:pathLst>
                    <a:path w="127" h="77">
                      <a:moveTo>
                        <a:pt x="0" y="5"/>
                      </a:moveTo>
                      <a:lnTo>
                        <a:pt x="13" y="21"/>
                      </a:lnTo>
                      <a:lnTo>
                        <a:pt x="31" y="36"/>
                      </a:lnTo>
                      <a:lnTo>
                        <a:pt x="50" y="47"/>
                      </a:lnTo>
                      <a:lnTo>
                        <a:pt x="70" y="58"/>
                      </a:lnTo>
                      <a:lnTo>
                        <a:pt x="88" y="66"/>
                      </a:lnTo>
                      <a:lnTo>
                        <a:pt x="105" y="71"/>
                      </a:lnTo>
                      <a:lnTo>
                        <a:pt x="118" y="75"/>
                      </a:lnTo>
                      <a:lnTo>
                        <a:pt x="127" y="77"/>
                      </a:lnTo>
                      <a:lnTo>
                        <a:pt x="127" y="70"/>
                      </a:lnTo>
                      <a:lnTo>
                        <a:pt x="120" y="68"/>
                      </a:lnTo>
                      <a:lnTo>
                        <a:pt x="108" y="64"/>
                      </a:lnTo>
                      <a:lnTo>
                        <a:pt x="91" y="59"/>
                      </a:lnTo>
                      <a:lnTo>
                        <a:pt x="72" y="51"/>
                      </a:lnTo>
                      <a:lnTo>
                        <a:pt x="53" y="40"/>
                      </a:lnTo>
                      <a:lnTo>
                        <a:pt x="35" y="29"/>
                      </a:lnTo>
                      <a:lnTo>
                        <a:pt x="18" y="16"/>
                      </a:lnTo>
                      <a:lnTo>
                        <a:pt x="6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7102080" y="4217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7092360" y="4218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7093080" y="4212000"/>
                  <a:ext cx="18720" cy="7560"/>
                </a:xfrm>
                <a:custGeom>
                  <a:avLst/>
                  <a:gdLst/>
                  <a:ahLst/>
                  <a:rect l="l" t="t" r="r" b="b"/>
                  <a:pathLst>
                    <a:path w="161" h="72">
                      <a:moveTo>
                        <a:pt x="0" y="0"/>
                      </a:moveTo>
                      <a:lnTo>
                        <a:pt x="8" y="12"/>
                      </a:lnTo>
                      <a:lnTo>
                        <a:pt x="24" y="23"/>
                      </a:lnTo>
                      <a:lnTo>
                        <a:pt x="46" y="34"/>
                      </a:lnTo>
                      <a:lnTo>
                        <a:pt x="73" y="44"/>
                      </a:lnTo>
                      <a:lnTo>
                        <a:pt x="100" y="54"/>
                      </a:lnTo>
                      <a:lnTo>
                        <a:pt x="126" y="62"/>
                      </a:lnTo>
                      <a:lnTo>
                        <a:pt x="146" y="68"/>
                      </a:lnTo>
                      <a:lnTo>
                        <a:pt x="161" y="72"/>
                      </a:lnTo>
                      <a:lnTo>
                        <a:pt x="161" y="65"/>
                      </a:lnTo>
                      <a:lnTo>
                        <a:pt x="149" y="61"/>
                      </a:lnTo>
                      <a:lnTo>
                        <a:pt x="128" y="56"/>
                      </a:lnTo>
                      <a:lnTo>
                        <a:pt x="102" y="48"/>
                      </a:lnTo>
                      <a:lnTo>
                        <a:pt x="75" y="37"/>
                      </a:lnTo>
                      <a:lnTo>
                        <a:pt x="48" y="27"/>
                      </a:lnTo>
                      <a:lnTo>
                        <a:pt x="26" y="16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7110360" y="42112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7128000" y="4197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5"/>
                      </a:move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7123320" y="419832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39" y="45"/>
                      </a:moveTo>
                      <a:lnTo>
                        <a:pt x="22" y="26"/>
                      </a:lnTo>
                      <a:lnTo>
                        <a:pt x="13" y="13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6" y="15"/>
                      </a:lnTo>
                      <a:lnTo>
                        <a:pt x="15" y="31"/>
                      </a:lnTo>
                      <a:lnTo>
                        <a:pt x="35" y="52"/>
                      </a:lnTo>
                      <a:lnTo>
                        <a:pt x="39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7124040" y="42026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5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7115040" y="420444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9" y="4"/>
                      </a:move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7112520" y="420516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30" h="60">
                      <a:moveTo>
                        <a:pt x="30" y="53"/>
                      </a:moveTo>
                      <a:lnTo>
                        <a:pt x="23" y="46"/>
                      </a:lnTo>
                      <a:lnTo>
                        <a:pt x="15" y="32"/>
                      </a:lnTo>
                      <a:lnTo>
                        <a:pt x="11" y="16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4" y="16"/>
                      </a:lnTo>
                      <a:lnTo>
                        <a:pt x="8" y="35"/>
                      </a:lnTo>
                      <a:lnTo>
                        <a:pt x="16" y="51"/>
                      </a:lnTo>
                      <a:lnTo>
                        <a:pt x="30" y="60"/>
                      </a:lnTo>
                      <a:lnTo>
                        <a:pt x="3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7111440" y="421128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7137360" y="418428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7138080" y="41842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2" y="8"/>
                      </a:moveTo>
                      <a:lnTo>
                        <a:pt x="2" y="8"/>
                      </a:lnTo>
                      <a:lnTo>
                        <a:pt x="7" y="7"/>
                      </a:lnTo>
                      <a:lnTo>
                        <a:pt x="13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8" y="1"/>
                      </a:lnTo>
                      <a:lnTo>
                        <a:pt x="16" y="1"/>
                      </a:lnTo>
                      <a:lnTo>
                        <a:pt x="13" y="0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7138080" y="41842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30" h="10">
                      <a:moveTo>
                        <a:pt x="30" y="0"/>
                      </a:moveTo>
                      <a:lnTo>
                        <a:pt x="16" y="2"/>
                      </a:lnTo>
                      <a:lnTo>
                        <a:pt x="7" y="4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7" y="1"/>
                      </a:lnTo>
                      <a:lnTo>
                        <a:pt x="0" y="6"/>
                      </a:lnTo>
                      <a:lnTo>
                        <a:pt x="7" y="10"/>
                      </a:lnTo>
                      <a:lnTo>
                        <a:pt x="16" y="9"/>
                      </a:lnTo>
                      <a:lnTo>
                        <a:pt x="30" y="9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H="1">
                  <a:off x="7137000" y="41842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9"/>
                      </a:moveTo>
                      <a:lnTo>
                        <a:pt x="3" y="8"/>
                      </a:ln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>
                  <a:off x="7092720" y="416772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H="1">
                  <a:off x="7090560" y="416772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6" y="47"/>
                      </a:moveTo>
                      <a:lnTo>
                        <a:pt x="18" y="35"/>
                      </a:lnTo>
                      <a:lnTo>
                        <a:pt x="25" y="26"/>
                      </a:lnTo>
                      <a:lnTo>
                        <a:pt x="26" y="18"/>
                      </a:lnTo>
                      <a:lnTo>
                        <a:pt x="24" y="10"/>
                      </a:lnTo>
                      <a:lnTo>
                        <a:pt x="17" y="5"/>
                      </a:lnTo>
                      <a:lnTo>
                        <a:pt x="11" y="3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4" y="8"/>
                      </a:lnTo>
                      <a:lnTo>
                        <a:pt x="9" y="10"/>
                      </a:lnTo>
                      <a:lnTo>
                        <a:pt x="15" y="12"/>
                      </a:lnTo>
                      <a:lnTo>
                        <a:pt x="17" y="15"/>
                      </a:lnTo>
                      <a:lnTo>
                        <a:pt x="19" y="18"/>
                      </a:lnTo>
                      <a:lnTo>
                        <a:pt x="18" y="24"/>
                      </a:lnTo>
                      <a:lnTo>
                        <a:pt x="14" y="31"/>
                      </a:lnTo>
                      <a:lnTo>
                        <a:pt x="1" y="40"/>
                      </a:lnTo>
                      <a:lnTo>
                        <a:pt x="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H="1">
                  <a:off x="7092360" y="41724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>
                  <a:off x="7032600" y="41738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3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H="1">
                  <a:off x="7025760" y="4173840"/>
                  <a:ext cx="7560" cy="2880"/>
                </a:xfrm>
                <a:custGeom>
                  <a:avLst/>
                  <a:gdLst/>
                  <a:ahLst/>
                  <a:rect l="l" t="t" r="r" b="b"/>
                  <a:pathLst>
                    <a:path w="68" h="28">
                      <a:moveTo>
                        <a:pt x="61" y="22"/>
                      </a:moveTo>
                      <a:lnTo>
                        <a:pt x="61" y="22"/>
                      </a:lnTo>
                      <a:lnTo>
                        <a:pt x="53" y="22"/>
                      </a:lnTo>
                      <a:lnTo>
                        <a:pt x="46" y="19"/>
                      </a:lnTo>
                      <a:lnTo>
                        <a:pt x="36" y="16"/>
                      </a:lnTo>
                      <a:lnTo>
                        <a:pt x="26" y="11"/>
                      </a:lnTo>
                      <a:lnTo>
                        <a:pt x="17" y="7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6" y="9"/>
                      </a:lnTo>
                      <a:lnTo>
                        <a:pt x="14" y="14"/>
                      </a:lnTo>
                      <a:lnTo>
                        <a:pt x="23" y="18"/>
                      </a:lnTo>
                      <a:lnTo>
                        <a:pt x="34" y="23"/>
                      </a:lnTo>
                      <a:lnTo>
                        <a:pt x="44" y="26"/>
                      </a:lnTo>
                      <a:lnTo>
                        <a:pt x="53" y="28"/>
                      </a:lnTo>
                      <a:lnTo>
                        <a:pt x="61" y="28"/>
                      </a:lnTo>
                      <a:lnTo>
                        <a:pt x="68" y="26"/>
                      </a:lnTo>
                      <a:lnTo>
                        <a:pt x="6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H="1">
                  <a:off x="7025760" y="417600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7"/>
                      </a:move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H="1">
                  <a:off x="7011000" y="4170600"/>
                  <a:ext cx="16560" cy="55080"/>
                </a:xfrm>
                <a:custGeom>
                  <a:avLst/>
                  <a:gdLst/>
                  <a:ahLst/>
                  <a:rect l="l" t="t" r="r" b="b"/>
                  <a:pathLst>
                    <a:path w="143" h="516">
                      <a:moveTo>
                        <a:pt x="3" y="483"/>
                      </a:moveTo>
                      <a:lnTo>
                        <a:pt x="4" y="493"/>
                      </a:lnTo>
                      <a:lnTo>
                        <a:pt x="3" y="504"/>
                      </a:lnTo>
                      <a:lnTo>
                        <a:pt x="1" y="512"/>
                      </a:lnTo>
                      <a:lnTo>
                        <a:pt x="0" y="515"/>
                      </a:lnTo>
                      <a:lnTo>
                        <a:pt x="11" y="516"/>
                      </a:lnTo>
                      <a:lnTo>
                        <a:pt x="24" y="515"/>
                      </a:lnTo>
                      <a:lnTo>
                        <a:pt x="39" y="514"/>
                      </a:lnTo>
                      <a:lnTo>
                        <a:pt x="54" y="513"/>
                      </a:lnTo>
                      <a:lnTo>
                        <a:pt x="68" y="512"/>
                      </a:lnTo>
                      <a:lnTo>
                        <a:pt x="79" y="509"/>
                      </a:lnTo>
                      <a:lnTo>
                        <a:pt x="87" y="508"/>
                      </a:lnTo>
                      <a:lnTo>
                        <a:pt x="90" y="508"/>
                      </a:lnTo>
                      <a:lnTo>
                        <a:pt x="93" y="478"/>
                      </a:lnTo>
                      <a:lnTo>
                        <a:pt x="97" y="435"/>
                      </a:lnTo>
                      <a:lnTo>
                        <a:pt x="100" y="381"/>
                      </a:lnTo>
                      <a:lnTo>
                        <a:pt x="105" y="320"/>
                      </a:lnTo>
                      <a:lnTo>
                        <a:pt x="109" y="255"/>
                      </a:lnTo>
                      <a:lnTo>
                        <a:pt x="115" y="191"/>
                      </a:lnTo>
                      <a:lnTo>
                        <a:pt x="121" y="129"/>
                      </a:lnTo>
                      <a:lnTo>
                        <a:pt x="128" y="73"/>
                      </a:lnTo>
                      <a:lnTo>
                        <a:pt x="128" y="73"/>
                      </a:lnTo>
                      <a:lnTo>
                        <a:pt x="129" y="68"/>
                      </a:lnTo>
                      <a:lnTo>
                        <a:pt x="129" y="63"/>
                      </a:lnTo>
                      <a:lnTo>
                        <a:pt x="130" y="60"/>
                      </a:lnTo>
                      <a:lnTo>
                        <a:pt x="130" y="55"/>
                      </a:lnTo>
                      <a:lnTo>
                        <a:pt x="133" y="39"/>
                      </a:lnTo>
                      <a:lnTo>
                        <a:pt x="137" y="24"/>
                      </a:lnTo>
                      <a:lnTo>
                        <a:pt x="140" y="12"/>
                      </a:lnTo>
                      <a:lnTo>
                        <a:pt x="143" y="0"/>
                      </a:lnTo>
                      <a:lnTo>
                        <a:pt x="22" y="0"/>
                      </a:lnTo>
                      <a:lnTo>
                        <a:pt x="8" y="29"/>
                      </a:lnTo>
                      <a:lnTo>
                        <a:pt x="8" y="84"/>
                      </a:lnTo>
                      <a:lnTo>
                        <a:pt x="15" y="177"/>
                      </a:lnTo>
                      <a:lnTo>
                        <a:pt x="23" y="273"/>
                      </a:lnTo>
                      <a:lnTo>
                        <a:pt x="25" y="334"/>
                      </a:lnTo>
                      <a:lnTo>
                        <a:pt x="21" y="371"/>
                      </a:lnTo>
                      <a:lnTo>
                        <a:pt x="15" y="416"/>
                      </a:lnTo>
                      <a:lnTo>
                        <a:pt x="8" y="457"/>
                      </a:lnTo>
                      <a:lnTo>
                        <a:pt x="3" y="4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>
                  <a:off x="7026480" y="4221720"/>
                  <a:ext cx="1440" cy="3960"/>
                </a:xfrm>
                <a:custGeom>
                  <a:avLst/>
                  <a:gdLst/>
                  <a:ahLst/>
                  <a:rect l="l" t="t" r="r" b="b"/>
                  <a:pathLst>
                    <a:path w="13" h="37">
                      <a:moveTo>
                        <a:pt x="4" y="30"/>
                      </a:moveTo>
                      <a:lnTo>
                        <a:pt x="7" y="34"/>
                      </a:lnTo>
                      <a:lnTo>
                        <a:pt x="8" y="31"/>
                      </a:lnTo>
                      <a:lnTo>
                        <a:pt x="11" y="22"/>
                      </a:lnTo>
                      <a:lnTo>
                        <a:pt x="13" y="11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4" y="11"/>
                      </a:lnTo>
                      <a:lnTo>
                        <a:pt x="4" y="22"/>
                      </a:lnTo>
                      <a:lnTo>
                        <a:pt x="2" y="29"/>
                      </a:lnTo>
                      <a:lnTo>
                        <a:pt x="0" y="32"/>
                      </a:lnTo>
                      <a:lnTo>
                        <a:pt x="4" y="37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3" y="37"/>
                      </a:lnTo>
                      <a:lnTo>
                        <a:pt x="6" y="37"/>
                      </a:lnTo>
                      <a:lnTo>
                        <a:pt x="7" y="34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>
                  <a:off x="7015680" y="4224240"/>
                  <a:ext cx="11160" cy="2160"/>
                </a:xfrm>
                <a:custGeom>
                  <a:avLst/>
                  <a:gdLst/>
                  <a:ahLst/>
                  <a:rect l="l" t="t" r="r" b="b"/>
                  <a:pathLst>
                    <a:path w="93" h="16">
                      <a:moveTo>
                        <a:pt x="86" y="3"/>
                      </a:moveTo>
                      <a:lnTo>
                        <a:pt x="90" y="0"/>
                      </a:lnTo>
                      <a:lnTo>
                        <a:pt x="87" y="0"/>
                      </a:lnTo>
                      <a:lnTo>
                        <a:pt x="79" y="1"/>
                      </a:lnTo>
                      <a:lnTo>
                        <a:pt x="68" y="3"/>
                      </a:lnTo>
                      <a:lnTo>
                        <a:pt x="54" y="4"/>
                      </a:lnTo>
                      <a:lnTo>
                        <a:pt x="39" y="6"/>
                      </a:lnTo>
                      <a:lnTo>
                        <a:pt x="24" y="7"/>
                      </a:lnTo>
                      <a:lnTo>
                        <a:pt x="11" y="7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11" y="16"/>
                      </a:lnTo>
                      <a:lnTo>
                        <a:pt x="24" y="14"/>
                      </a:lnTo>
                      <a:lnTo>
                        <a:pt x="39" y="12"/>
                      </a:lnTo>
                      <a:lnTo>
                        <a:pt x="54" y="11"/>
                      </a:lnTo>
                      <a:lnTo>
                        <a:pt x="68" y="10"/>
                      </a:lnTo>
                      <a:lnTo>
                        <a:pt x="79" y="8"/>
                      </a:lnTo>
                      <a:lnTo>
                        <a:pt x="87" y="7"/>
                      </a:lnTo>
                      <a:lnTo>
                        <a:pt x="90" y="7"/>
                      </a:lnTo>
                      <a:lnTo>
                        <a:pt x="93" y="3"/>
                      </a:lnTo>
                      <a:lnTo>
                        <a:pt x="90" y="7"/>
                      </a:lnTo>
                      <a:lnTo>
                        <a:pt x="92" y="6"/>
                      </a:lnTo>
                      <a:lnTo>
                        <a:pt x="93" y="3"/>
                      </a:lnTo>
                      <a:lnTo>
                        <a:pt x="92" y="1"/>
                      </a:lnTo>
                      <a:lnTo>
                        <a:pt x="90" y="0"/>
                      </a:lnTo>
                      <a:lnTo>
                        <a:pt x="8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H="1">
                  <a:off x="7012440" y="4178160"/>
                  <a:ext cx="5040" cy="46440"/>
                </a:xfrm>
                <a:custGeom>
                  <a:avLst/>
                  <a:gdLst/>
                  <a:ahLst/>
                  <a:rect l="l" t="t" r="r" b="b"/>
                  <a:pathLst>
                    <a:path w="45" h="439">
                      <a:moveTo>
                        <a:pt x="38" y="4"/>
                      </a:moveTo>
                      <a:lnTo>
                        <a:pt x="38" y="4"/>
                      </a:lnTo>
                      <a:lnTo>
                        <a:pt x="31" y="60"/>
                      </a:lnTo>
                      <a:lnTo>
                        <a:pt x="26" y="122"/>
                      </a:lnTo>
                      <a:lnTo>
                        <a:pt x="20" y="186"/>
                      </a:lnTo>
                      <a:lnTo>
                        <a:pt x="15" y="251"/>
                      </a:lnTo>
                      <a:lnTo>
                        <a:pt x="11" y="312"/>
                      </a:lnTo>
                      <a:lnTo>
                        <a:pt x="7" y="366"/>
                      </a:lnTo>
                      <a:lnTo>
                        <a:pt x="4" y="409"/>
                      </a:lnTo>
                      <a:lnTo>
                        <a:pt x="0" y="439"/>
                      </a:lnTo>
                      <a:lnTo>
                        <a:pt x="7" y="439"/>
                      </a:lnTo>
                      <a:lnTo>
                        <a:pt x="11" y="409"/>
                      </a:lnTo>
                      <a:lnTo>
                        <a:pt x="14" y="366"/>
                      </a:lnTo>
                      <a:lnTo>
                        <a:pt x="17" y="312"/>
                      </a:lnTo>
                      <a:lnTo>
                        <a:pt x="22" y="251"/>
                      </a:lnTo>
                      <a:lnTo>
                        <a:pt x="27" y="186"/>
                      </a:lnTo>
                      <a:lnTo>
                        <a:pt x="32" y="122"/>
                      </a:lnTo>
                      <a:lnTo>
                        <a:pt x="38" y="60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5" y="4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8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H="1">
                  <a:off x="7011720" y="417816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H="1">
                  <a:off x="7011720" y="417600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1" h="22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3" y="9"/>
                      </a:lnTo>
                      <a:lnTo>
                        <a:pt x="1" y="12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7" y="22"/>
                      </a:lnTo>
                      <a:lnTo>
                        <a:pt x="8" y="17"/>
                      </a:lnTo>
                      <a:lnTo>
                        <a:pt x="8" y="12"/>
                      </a:lnTo>
                      <a:lnTo>
                        <a:pt x="9" y="9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9" y="1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9">
                      <a:moveTo>
                        <a:pt x="16" y="9"/>
                      </a:moveTo>
                      <a:lnTo>
                        <a:pt x="12" y="4"/>
                      </a:lnTo>
                      <a:lnTo>
                        <a:pt x="10" y="16"/>
                      </a:lnTo>
                      <a:lnTo>
                        <a:pt x="6" y="28"/>
                      </a:lnTo>
                      <a:lnTo>
                        <a:pt x="3" y="43"/>
                      </a:lnTo>
                      <a:lnTo>
                        <a:pt x="0" y="59"/>
                      </a:lnTo>
                      <a:lnTo>
                        <a:pt x="6" y="59"/>
                      </a:lnTo>
                      <a:lnTo>
                        <a:pt x="10" y="43"/>
                      </a:lnTo>
                      <a:lnTo>
                        <a:pt x="13" y="28"/>
                      </a:lnTo>
                      <a:lnTo>
                        <a:pt x="17" y="16"/>
                      </a:lnTo>
                      <a:lnTo>
                        <a:pt x="19" y="4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>
                  <a:off x="7011000" y="4170600"/>
                  <a:ext cx="14400" cy="360"/>
                </a:xfrm>
                <a:custGeom>
                  <a:avLst/>
                  <a:gdLst/>
                  <a:ahLst/>
                  <a:rect l="l" t="t" r="r" b="b"/>
                  <a:pathLst>
                    <a:path w="126" h="9">
                      <a:moveTo>
                        <a:pt x="8" y="5"/>
                      </a:moveTo>
                      <a:lnTo>
                        <a:pt x="5" y="9"/>
                      </a:lnTo>
                      <a:lnTo>
                        <a:pt x="126" y="9"/>
                      </a:lnTo>
                      <a:lnTo>
                        <a:pt x="126" y="0"/>
                      </a:lnTo>
                      <a:lnTo>
                        <a:pt x="5" y="0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8"/>
                      </a:lnTo>
                      <a:lnTo>
                        <a:pt x="5" y="9"/>
                      </a:lnTo>
                      <a:lnTo>
                        <a:pt x="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H="1">
                  <a:off x="7024680" y="41706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21" h="33">
                      <a:moveTo>
                        <a:pt x="7" y="31"/>
                      </a:moveTo>
                      <a:lnTo>
                        <a:pt x="7" y="31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2"/>
                      </a:lnTo>
                      <a:lnTo>
                        <a:pt x="3" y="33"/>
                      </a:lnTo>
                      <a:lnTo>
                        <a:pt x="6" y="33"/>
                      </a:lnTo>
                      <a:lnTo>
                        <a:pt x="7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H="1">
                  <a:off x="7023960" y="4173840"/>
                  <a:ext cx="2880" cy="32760"/>
                </a:xfrm>
                <a:custGeom>
                  <a:avLst/>
                  <a:gdLst/>
                  <a:ahLst/>
                  <a:rect l="l" t="t" r="r" b="b"/>
                  <a:pathLst>
                    <a:path w="25" h="306">
                      <a:moveTo>
                        <a:pt x="25" y="306"/>
                      </a:moveTo>
                      <a:lnTo>
                        <a:pt x="25" y="306"/>
                      </a:lnTo>
                      <a:lnTo>
                        <a:pt x="22" y="245"/>
                      </a:lnTo>
                      <a:lnTo>
                        <a:pt x="14" y="149"/>
                      </a:lnTo>
                      <a:lnTo>
                        <a:pt x="7" y="56"/>
                      </a:lnTo>
                      <a:lnTo>
                        <a:pt x="7" y="2"/>
                      </a:lnTo>
                      <a:lnTo>
                        <a:pt x="0" y="0"/>
                      </a:lnTo>
                      <a:lnTo>
                        <a:pt x="0" y="56"/>
                      </a:lnTo>
                      <a:lnTo>
                        <a:pt x="7" y="149"/>
                      </a:lnTo>
                      <a:lnTo>
                        <a:pt x="15" y="245"/>
                      </a:lnTo>
                      <a:lnTo>
                        <a:pt x="18" y="306"/>
                      </a:lnTo>
                      <a:lnTo>
                        <a:pt x="18" y="306"/>
                      </a:lnTo>
                      <a:lnTo>
                        <a:pt x="25" y="3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H="1">
                  <a:off x="7023960" y="4206600"/>
                  <a:ext cx="3600" cy="15840"/>
                </a:xfrm>
                <a:custGeom>
                  <a:avLst/>
                  <a:gdLst/>
                  <a:ahLst/>
                  <a:rect l="l" t="t" r="r" b="b"/>
                  <a:pathLst>
                    <a:path w="29" h="152">
                      <a:moveTo>
                        <a:pt x="7" y="148"/>
                      </a:moveTo>
                      <a:lnTo>
                        <a:pt x="7" y="149"/>
                      </a:lnTo>
                      <a:lnTo>
                        <a:pt x="11" y="123"/>
                      </a:lnTo>
                      <a:lnTo>
                        <a:pt x="18" y="82"/>
                      </a:lnTo>
                      <a:lnTo>
                        <a:pt x="24" y="37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7" y="37"/>
                      </a:lnTo>
                      <a:lnTo>
                        <a:pt x="11" y="82"/>
                      </a:lnTo>
                      <a:lnTo>
                        <a:pt x="4" y="123"/>
                      </a:lnTo>
                      <a:lnTo>
                        <a:pt x="0" y="149"/>
                      </a:lnTo>
                      <a:lnTo>
                        <a:pt x="0" y="150"/>
                      </a:lnTo>
                      <a:lnTo>
                        <a:pt x="0" y="149"/>
                      </a:lnTo>
                      <a:lnTo>
                        <a:pt x="1" y="151"/>
                      </a:lnTo>
                      <a:lnTo>
                        <a:pt x="3" y="152"/>
                      </a:lnTo>
                      <a:lnTo>
                        <a:pt x="6" y="151"/>
                      </a:lnTo>
                      <a:lnTo>
                        <a:pt x="7" y="149"/>
                      </a:lnTo>
                      <a:lnTo>
                        <a:pt x="7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H="1">
                  <a:off x="7008840" y="4213440"/>
                  <a:ext cx="11880" cy="9720"/>
                </a:xfrm>
                <a:custGeom>
                  <a:avLst/>
                  <a:gdLst/>
                  <a:ahLst/>
                  <a:rect l="l" t="t" r="r" b="b"/>
                  <a:pathLst>
                    <a:path w="111" h="95">
                      <a:moveTo>
                        <a:pt x="55" y="95"/>
                      </a:moveTo>
                      <a:lnTo>
                        <a:pt x="67" y="94"/>
                      </a:lnTo>
                      <a:lnTo>
                        <a:pt x="77" y="92"/>
                      </a:lnTo>
                      <a:lnTo>
                        <a:pt x="87" y="87"/>
                      </a:lnTo>
                      <a:lnTo>
                        <a:pt x="95" y="81"/>
                      </a:lnTo>
                      <a:lnTo>
                        <a:pt x="102" y="73"/>
                      </a:lnTo>
                      <a:lnTo>
                        <a:pt x="106" y="65"/>
                      </a:lnTo>
                      <a:lnTo>
                        <a:pt x="110" y="56"/>
                      </a:lnTo>
                      <a:lnTo>
                        <a:pt x="111" y="47"/>
                      </a:lnTo>
                      <a:lnTo>
                        <a:pt x="110" y="38"/>
                      </a:lnTo>
                      <a:lnTo>
                        <a:pt x="106" y="29"/>
                      </a:lnTo>
                      <a:lnTo>
                        <a:pt x="102" y="21"/>
                      </a:lnTo>
                      <a:lnTo>
                        <a:pt x="95" y="14"/>
                      </a:lnTo>
                      <a:lnTo>
                        <a:pt x="87" y="8"/>
                      </a:lnTo>
                      <a:lnTo>
                        <a:pt x="77" y="3"/>
                      </a:lnTo>
                      <a:lnTo>
                        <a:pt x="67" y="1"/>
                      </a:lnTo>
                      <a:lnTo>
                        <a:pt x="55" y="0"/>
                      </a:lnTo>
                      <a:lnTo>
                        <a:pt x="44" y="1"/>
                      </a:lnTo>
                      <a:lnTo>
                        <a:pt x="35" y="3"/>
                      </a:lnTo>
                      <a:lnTo>
                        <a:pt x="24" y="8"/>
                      </a:lnTo>
                      <a:lnTo>
                        <a:pt x="16" y="14"/>
                      </a:lnTo>
                      <a:lnTo>
                        <a:pt x="9" y="21"/>
                      </a:lnTo>
                      <a:lnTo>
                        <a:pt x="5" y="29"/>
                      </a:lnTo>
                      <a:lnTo>
                        <a:pt x="1" y="38"/>
                      </a:lnTo>
                      <a:lnTo>
                        <a:pt x="0" y="47"/>
                      </a:lnTo>
                      <a:lnTo>
                        <a:pt x="1" y="56"/>
                      </a:lnTo>
                      <a:lnTo>
                        <a:pt x="5" y="65"/>
                      </a:lnTo>
                      <a:lnTo>
                        <a:pt x="9" y="73"/>
                      </a:lnTo>
                      <a:lnTo>
                        <a:pt x="16" y="81"/>
                      </a:lnTo>
                      <a:lnTo>
                        <a:pt x="24" y="87"/>
                      </a:lnTo>
                      <a:lnTo>
                        <a:pt x="35" y="92"/>
                      </a:lnTo>
                      <a:lnTo>
                        <a:pt x="44" y="94"/>
                      </a:lnTo>
                      <a:lnTo>
                        <a:pt x="55" y="95"/>
                      </a:lnTo>
                      <a:close/>
                    </a:path>
                  </a:pathLst>
                </a:custGeom>
                <a:solidFill>
                  <a:srgbClr val="d1a3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>
                  <a:off x="7008840" y="421812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60" h="53">
                      <a:moveTo>
                        <a:pt x="51" y="0"/>
                      </a:moveTo>
                      <a:lnTo>
                        <a:pt x="51" y="0"/>
                      </a:lnTo>
                      <a:lnTo>
                        <a:pt x="51" y="9"/>
                      </a:lnTo>
                      <a:lnTo>
                        <a:pt x="48" y="17"/>
                      </a:lnTo>
                      <a:lnTo>
                        <a:pt x="43" y="24"/>
                      </a:lnTo>
                      <a:lnTo>
                        <a:pt x="37" y="32"/>
                      </a:lnTo>
                      <a:lnTo>
                        <a:pt x="29" y="37"/>
                      </a:lnTo>
                      <a:lnTo>
                        <a:pt x="21" y="41"/>
                      </a:lnTo>
                      <a:lnTo>
                        <a:pt x="12" y="44"/>
                      </a:lnTo>
                      <a:lnTo>
                        <a:pt x="0" y="44"/>
                      </a:lnTo>
                      <a:lnTo>
                        <a:pt x="0" y="53"/>
                      </a:lnTo>
                      <a:lnTo>
                        <a:pt x="12" y="51"/>
                      </a:lnTo>
                      <a:lnTo>
                        <a:pt x="24" y="48"/>
                      </a:lnTo>
                      <a:lnTo>
                        <a:pt x="34" y="44"/>
                      </a:lnTo>
                      <a:lnTo>
                        <a:pt x="42" y="37"/>
                      </a:lnTo>
                      <a:lnTo>
                        <a:pt x="50" y="29"/>
                      </a:lnTo>
                      <a:lnTo>
                        <a:pt x="55" y="20"/>
                      </a:lnTo>
                      <a:lnTo>
                        <a:pt x="58" y="9"/>
                      </a:lnTo>
                      <a:lnTo>
                        <a:pt x="60" y="0"/>
                      </a:lnTo>
                      <a:lnTo>
                        <a:pt x="60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>
                  <a:off x="7008840" y="4212720"/>
                  <a:ext cx="6480" cy="5040"/>
                </a:xfrm>
                <a:custGeom>
                  <a:avLst/>
                  <a:gdLst/>
                  <a:ahLst/>
                  <a:rect l="l" t="t" r="r" b="b"/>
                  <a:pathLst>
                    <a:path w="60" h="52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2" y="9"/>
                      </a:lnTo>
                      <a:lnTo>
                        <a:pt x="21" y="12"/>
                      </a:lnTo>
                      <a:lnTo>
                        <a:pt x="29" y="16"/>
                      </a:lnTo>
                      <a:lnTo>
                        <a:pt x="37" y="22"/>
                      </a:lnTo>
                      <a:lnTo>
                        <a:pt x="43" y="28"/>
                      </a:lnTo>
                      <a:lnTo>
                        <a:pt x="48" y="35"/>
                      </a:lnTo>
                      <a:lnTo>
                        <a:pt x="51" y="43"/>
                      </a:lnTo>
                      <a:lnTo>
                        <a:pt x="51" y="52"/>
                      </a:lnTo>
                      <a:lnTo>
                        <a:pt x="60" y="52"/>
                      </a:lnTo>
                      <a:lnTo>
                        <a:pt x="58" y="43"/>
                      </a:lnTo>
                      <a:lnTo>
                        <a:pt x="55" y="32"/>
                      </a:lnTo>
                      <a:lnTo>
                        <a:pt x="50" y="23"/>
                      </a:lnTo>
                      <a:lnTo>
                        <a:pt x="42" y="15"/>
                      </a:lnTo>
                      <a:lnTo>
                        <a:pt x="34" y="9"/>
                      </a:lnTo>
                      <a:lnTo>
                        <a:pt x="24" y="5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>
                  <a:off x="7014960" y="4212720"/>
                  <a:ext cx="6840" cy="504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9" y="52"/>
                      </a:moveTo>
                      <a:lnTo>
                        <a:pt x="9" y="52"/>
                      </a:lnTo>
                      <a:lnTo>
                        <a:pt x="9" y="43"/>
                      </a:lnTo>
                      <a:lnTo>
                        <a:pt x="12" y="35"/>
                      </a:lnTo>
                      <a:lnTo>
                        <a:pt x="17" y="28"/>
                      </a:lnTo>
                      <a:lnTo>
                        <a:pt x="23" y="22"/>
                      </a:lnTo>
                      <a:lnTo>
                        <a:pt x="30" y="16"/>
                      </a:lnTo>
                      <a:lnTo>
                        <a:pt x="40" y="12"/>
                      </a:lnTo>
                      <a:lnTo>
                        <a:pt x="48" y="9"/>
                      </a:lnTo>
                      <a:lnTo>
                        <a:pt x="59" y="9"/>
                      </a:lnTo>
                      <a:lnTo>
                        <a:pt x="59" y="0"/>
                      </a:lnTo>
                      <a:lnTo>
                        <a:pt x="48" y="3"/>
                      </a:lnTo>
                      <a:lnTo>
                        <a:pt x="38" y="5"/>
                      </a:lnTo>
                      <a:lnTo>
                        <a:pt x="27" y="9"/>
                      </a:lnTo>
                      <a:lnTo>
                        <a:pt x="18" y="15"/>
                      </a:lnTo>
                      <a:lnTo>
                        <a:pt x="10" y="23"/>
                      </a:lnTo>
                      <a:lnTo>
                        <a:pt x="5" y="32"/>
                      </a:lnTo>
                      <a:lnTo>
                        <a:pt x="2" y="43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9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>
                  <a:off x="7014960" y="421812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59" h="53">
                      <a:moveTo>
                        <a:pt x="59" y="44"/>
                      </a:moveTo>
                      <a:lnTo>
                        <a:pt x="59" y="44"/>
                      </a:lnTo>
                      <a:lnTo>
                        <a:pt x="48" y="44"/>
                      </a:lnTo>
                      <a:lnTo>
                        <a:pt x="40" y="41"/>
                      </a:lnTo>
                      <a:lnTo>
                        <a:pt x="30" y="37"/>
                      </a:lnTo>
                      <a:lnTo>
                        <a:pt x="23" y="32"/>
                      </a:lnTo>
                      <a:lnTo>
                        <a:pt x="17" y="24"/>
                      </a:lnTo>
                      <a:lnTo>
                        <a:pt x="12" y="17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5" y="20"/>
                      </a:lnTo>
                      <a:lnTo>
                        <a:pt x="10" y="29"/>
                      </a:lnTo>
                      <a:lnTo>
                        <a:pt x="18" y="37"/>
                      </a:lnTo>
                      <a:lnTo>
                        <a:pt x="27" y="44"/>
                      </a:lnTo>
                      <a:lnTo>
                        <a:pt x="38" y="48"/>
                      </a:lnTo>
                      <a:lnTo>
                        <a:pt x="48" y="51"/>
                      </a:lnTo>
                      <a:lnTo>
                        <a:pt x="59" y="53"/>
                      </a:lnTo>
                      <a:lnTo>
                        <a:pt x="59" y="53"/>
                      </a:lnTo>
                      <a:lnTo>
                        <a:pt x="59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7026120" y="42242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>
                  <a:off x="7016400" y="4223520"/>
                  <a:ext cx="9720" cy="1440"/>
                </a:xfrm>
                <a:custGeom>
                  <a:avLst/>
                  <a:gdLst/>
                  <a:ahLst/>
                  <a:rect l="l" t="t" r="r" b="b"/>
                  <a:pathLst>
                    <a:path w="85" h="14">
                      <a:moveTo>
                        <a:pt x="85" y="4"/>
                      </a:moveTo>
                      <a:lnTo>
                        <a:pt x="85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85" y="7"/>
                      </a:lnTo>
                      <a:lnTo>
                        <a:pt x="8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>
                  <a:off x="7015680" y="42235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H="1">
                  <a:off x="70232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H="1">
                  <a:off x="7018560" y="4221720"/>
                  <a:ext cx="5040" cy="720"/>
                </a:xfrm>
                <a:custGeom>
                  <a:avLst/>
                  <a:gdLst/>
                  <a:ahLst/>
                  <a:rect l="l" t="t" r="r" b="b"/>
                  <a:pathLst>
                    <a:path w="43" h="9">
                      <a:moveTo>
                        <a:pt x="43" y="3"/>
                      </a:moveTo>
                      <a:lnTo>
                        <a:pt x="43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43" y="7"/>
                      </a:lnTo>
                      <a:lnTo>
                        <a:pt x="4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7017840" y="422172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>
                  <a:off x="6964560" y="416700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454" h="601">
                      <a:moveTo>
                        <a:pt x="42" y="108"/>
                      </a:moveTo>
                      <a:lnTo>
                        <a:pt x="35" y="164"/>
                      </a:lnTo>
                      <a:lnTo>
                        <a:pt x="29" y="226"/>
                      </a:lnTo>
                      <a:lnTo>
                        <a:pt x="23" y="290"/>
                      </a:lnTo>
                      <a:lnTo>
                        <a:pt x="19" y="355"/>
                      </a:lnTo>
                      <a:lnTo>
                        <a:pt x="14" y="416"/>
                      </a:lnTo>
                      <a:lnTo>
                        <a:pt x="11" y="470"/>
                      </a:lnTo>
                      <a:lnTo>
                        <a:pt x="7" y="513"/>
                      </a:lnTo>
                      <a:lnTo>
                        <a:pt x="4" y="543"/>
                      </a:lnTo>
                      <a:lnTo>
                        <a:pt x="5" y="558"/>
                      </a:lnTo>
                      <a:lnTo>
                        <a:pt x="4" y="574"/>
                      </a:lnTo>
                      <a:lnTo>
                        <a:pt x="1" y="589"/>
                      </a:lnTo>
                      <a:lnTo>
                        <a:pt x="0" y="600"/>
                      </a:lnTo>
                      <a:lnTo>
                        <a:pt x="9" y="600"/>
                      </a:lnTo>
                      <a:lnTo>
                        <a:pt x="27" y="601"/>
                      </a:lnTo>
                      <a:lnTo>
                        <a:pt x="51" y="601"/>
                      </a:lnTo>
                      <a:lnTo>
                        <a:pt x="81" y="601"/>
                      </a:lnTo>
                      <a:lnTo>
                        <a:pt x="117" y="601"/>
                      </a:lnTo>
                      <a:lnTo>
                        <a:pt x="155" y="601"/>
                      </a:lnTo>
                      <a:lnTo>
                        <a:pt x="195" y="601"/>
                      </a:lnTo>
                      <a:lnTo>
                        <a:pt x="236" y="601"/>
                      </a:lnTo>
                      <a:lnTo>
                        <a:pt x="278" y="601"/>
                      </a:lnTo>
                      <a:lnTo>
                        <a:pt x="317" y="601"/>
                      </a:lnTo>
                      <a:lnTo>
                        <a:pt x="354" y="601"/>
                      </a:lnTo>
                      <a:lnTo>
                        <a:pt x="386" y="600"/>
                      </a:lnTo>
                      <a:lnTo>
                        <a:pt x="414" y="600"/>
                      </a:lnTo>
                      <a:lnTo>
                        <a:pt x="436" y="600"/>
                      </a:lnTo>
                      <a:lnTo>
                        <a:pt x="449" y="600"/>
                      </a:lnTo>
                      <a:lnTo>
                        <a:pt x="454" y="600"/>
                      </a:lnTo>
                      <a:lnTo>
                        <a:pt x="449" y="0"/>
                      </a:lnTo>
                      <a:lnTo>
                        <a:pt x="446" y="0"/>
                      </a:lnTo>
                      <a:lnTo>
                        <a:pt x="75" y="0"/>
                      </a:lnTo>
                      <a:lnTo>
                        <a:pt x="72" y="8"/>
                      </a:lnTo>
                      <a:lnTo>
                        <a:pt x="68" y="13"/>
                      </a:lnTo>
                      <a:lnTo>
                        <a:pt x="65" y="20"/>
                      </a:lnTo>
                      <a:lnTo>
                        <a:pt x="62" y="25"/>
                      </a:lnTo>
                      <a:lnTo>
                        <a:pt x="60" y="29"/>
                      </a:lnTo>
                      <a:lnTo>
                        <a:pt x="58" y="33"/>
                      </a:lnTo>
                      <a:lnTo>
                        <a:pt x="57" y="34"/>
                      </a:lnTo>
                      <a:lnTo>
                        <a:pt x="57" y="35"/>
                      </a:lnTo>
                      <a:lnTo>
                        <a:pt x="54" y="47"/>
                      </a:lnTo>
                      <a:lnTo>
                        <a:pt x="51" y="59"/>
                      </a:lnTo>
                      <a:lnTo>
                        <a:pt x="47" y="74"/>
                      </a:lnTo>
                      <a:lnTo>
                        <a:pt x="44" y="90"/>
                      </a:lnTo>
                      <a:lnTo>
                        <a:pt x="44" y="95"/>
                      </a:lnTo>
                      <a:lnTo>
                        <a:pt x="43" y="98"/>
                      </a:lnTo>
                      <a:lnTo>
                        <a:pt x="43" y="103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close/>
                    </a:path>
                  </a:pathLst>
                </a:custGeom>
                <a:solidFill>
                  <a:srgbClr val="875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6964920" y="4169160"/>
                  <a:ext cx="47520" cy="7560"/>
                </a:xfrm>
                <a:custGeom>
                  <a:avLst/>
                  <a:gdLst/>
                  <a:ahLst/>
                  <a:rect l="l" t="t" r="r" b="b"/>
                  <a:pathLst>
                    <a:path w="405" h="67">
                      <a:moveTo>
                        <a:pt x="13" y="11"/>
                      </a:move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6" y="5"/>
                      </a:lnTo>
                      <a:lnTo>
                        <a:pt x="18" y="1"/>
                      </a:lnTo>
                      <a:lnTo>
                        <a:pt x="23" y="1"/>
                      </a:lnTo>
                      <a:lnTo>
                        <a:pt x="35" y="1"/>
                      </a:lnTo>
                      <a:lnTo>
                        <a:pt x="52" y="1"/>
                      </a:lnTo>
                      <a:lnTo>
                        <a:pt x="76" y="1"/>
                      </a:lnTo>
                      <a:lnTo>
                        <a:pt x="104" y="1"/>
                      </a:lnTo>
                      <a:lnTo>
                        <a:pt x="136" y="1"/>
                      </a:lnTo>
                      <a:lnTo>
                        <a:pt x="169" y="1"/>
                      </a:lnTo>
                      <a:lnTo>
                        <a:pt x="204" y="0"/>
                      </a:lnTo>
                      <a:lnTo>
                        <a:pt x="240" y="0"/>
                      </a:lnTo>
                      <a:lnTo>
                        <a:pt x="274" y="0"/>
                      </a:lnTo>
                      <a:lnTo>
                        <a:pt x="306" y="0"/>
                      </a:lnTo>
                      <a:lnTo>
                        <a:pt x="336" y="0"/>
                      </a:lnTo>
                      <a:lnTo>
                        <a:pt x="362" y="0"/>
                      </a:lnTo>
                      <a:lnTo>
                        <a:pt x="382" y="0"/>
                      </a:lnTo>
                      <a:lnTo>
                        <a:pt x="397" y="0"/>
                      </a:lnTo>
                      <a:lnTo>
                        <a:pt x="405" y="0"/>
                      </a:lnTo>
                      <a:lnTo>
                        <a:pt x="405" y="67"/>
                      </a:lnTo>
                      <a:lnTo>
                        <a:pt x="401" y="67"/>
                      </a:lnTo>
                      <a:lnTo>
                        <a:pt x="389" y="67"/>
                      </a:lnTo>
                      <a:lnTo>
                        <a:pt x="370" y="67"/>
                      </a:lnTo>
                      <a:lnTo>
                        <a:pt x="346" y="67"/>
                      </a:lnTo>
                      <a:lnTo>
                        <a:pt x="316" y="67"/>
                      </a:lnTo>
                      <a:lnTo>
                        <a:pt x="283" y="67"/>
                      </a:lnTo>
                      <a:lnTo>
                        <a:pt x="248" y="67"/>
                      </a:lnTo>
                      <a:lnTo>
                        <a:pt x="212" y="66"/>
                      </a:lnTo>
                      <a:lnTo>
                        <a:pt x="174" y="66"/>
                      </a:lnTo>
                      <a:lnTo>
                        <a:pt x="138" y="66"/>
                      </a:lnTo>
                      <a:lnTo>
                        <a:pt x="105" y="66"/>
                      </a:lnTo>
                      <a:lnTo>
                        <a:pt x="73" y="66"/>
                      </a:lnTo>
                      <a:lnTo>
                        <a:pt x="46" y="66"/>
                      </a:lnTo>
                      <a:lnTo>
                        <a:pt x="24" y="66"/>
                      </a:lnTo>
                      <a:lnTo>
                        <a:pt x="8" y="66"/>
                      </a:lnTo>
                      <a:lnTo>
                        <a:pt x="0" y="66"/>
                      </a:lnTo>
                      <a:lnTo>
                        <a:pt x="3" y="50"/>
                      </a:lnTo>
                      <a:lnTo>
                        <a:pt x="7" y="35"/>
                      </a:lnTo>
                      <a:lnTo>
                        <a:pt x="10" y="23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7009560" y="4169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9" y="0"/>
                      </a:move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11" y="11"/>
                      </a:lnTo>
                      <a:lnTo>
                        <a:pt x="13" y="6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6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H="1">
                  <a:off x="6963840" y="4169160"/>
                  <a:ext cx="45720" cy="720"/>
                </a:xfrm>
                <a:custGeom>
                  <a:avLst/>
                  <a:gdLst/>
                  <a:ahLst/>
                  <a:rect l="l" t="t" r="r" b="b"/>
                  <a:pathLst>
                    <a:path w="392" h="10">
                      <a:moveTo>
                        <a:pt x="392" y="5"/>
                      </a:moveTo>
                      <a:lnTo>
                        <a:pt x="387" y="0"/>
                      </a:lnTo>
                      <a:lnTo>
                        <a:pt x="379" y="0"/>
                      </a:lnTo>
                      <a:lnTo>
                        <a:pt x="364" y="0"/>
                      </a:lnTo>
                      <a:lnTo>
                        <a:pt x="344" y="0"/>
                      </a:lnTo>
                      <a:lnTo>
                        <a:pt x="318" y="0"/>
                      </a:lnTo>
                      <a:lnTo>
                        <a:pt x="288" y="0"/>
                      </a:lnTo>
                      <a:lnTo>
                        <a:pt x="256" y="0"/>
                      </a:lnTo>
                      <a:lnTo>
                        <a:pt x="222" y="0"/>
                      </a:lnTo>
                      <a:lnTo>
                        <a:pt x="186" y="0"/>
                      </a:lnTo>
                      <a:lnTo>
                        <a:pt x="151" y="1"/>
                      </a:lnTo>
                      <a:lnTo>
                        <a:pt x="118" y="1"/>
                      </a:lnTo>
                      <a:lnTo>
                        <a:pt x="86" y="1"/>
                      </a:lnTo>
                      <a:lnTo>
                        <a:pt x="58" y="1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5" y="1"/>
                      </a:lnTo>
                      <a:lnTo>
                        <a:pt x="0" y="1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7" y="10"/>
                      </a:lnTo>
                      <a:lnTo>
                        <a:pt x="34" y="10"/>
                      </a:lnTo>
                      <a:lnTo>
                        <a:pt x="58" y="10"/>
                      </a:lnTo>
                      <a:lnTo>
                        <a:pt x="86" y="10"/>
                      </a:lnTo>
                      <a:lnTo>
                        <a:pt x="118" y="10"/>
                      </a:lnTo>
                      <a:lnTo>
                        <a:pt x="151" y="10"/>
                      </a:lnTo>
                      <a:lnTo>
                        <a:pt x="186" y="9"/>
                      </a:lnTo>
                      <a:lnTo>
                        <a:pt x="222" y="9"/>
                      </a:lnTo>
                      <a:lnTo>
                        <a:pt x="256" y="9"/>
                      </a:lnTo>
                      <a:lnTo>
                        <a:pt x="288" y="9"/>
                      </a:lnTo>
                      <a:lnTo>
                        <a:pt x="318" y="9"/>
                      </a:lnTo>
                      <a:lnTo>
                        <a:pt x="344" y="9"/>
                      </a:lnTo>
                      <a:lnTo>
                        <a:pt x="364" y="9"/>
                      </a:lnTo>
                      <a:lnTo>
                        <a:pt x="379" y="9"/>
                      </a:lnTo>
                      <a:lnTo>
                        <a:pt x="387" y="9"/>
                      </a:lnTo>
                      <a:lnTo>
                        <a:pt x="383" y="5"/>
                      </a:lnTo>
                      <a:lnTo>
                        <a:pt x="387" y="9"/>
                      </a:lnTo>
                      <a:lnTo>
                        <a:pt x="391" y="8"/>
                      </a:lnTo>
                      <a:lnTo>
                        <a:pt x="392" y="5"/>
                      </a:lnTo>
                      <a:lnTo>
                        <a:pt x="391" y="1"/>
                      </a:lnTo>
                      <a:lnTo>
                        <a:pt x="387" y="0"/>
                      </a:lnTo>
                      <a:lnTo>
                        <a:pt x="392" y="5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>
                  <a:off x="6964560" y="4169160"/>
                  <a:ext cx="1440" cy="8280"/>
                </a:xfrm>
                <a:custGeom>
                  <a:avLst/>
                  <a:gdLst/>
                  <a:ahLst/>
                  <a:rect l="l" t="t" r="r" b="b"/>
                  <a:pathLst>
                    <a:path w="9" h="72">
                      <a:moveTo>
                        <a:pt x="4" y="72"/>
                      </a:moveTo>
                      <a:lnTo>
                        <a:pt x="9" y="6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67"/>
                      </a:lnTo>
                      <a:lnTo>
                        <a:pt x="4" y="63"/>
                      </a:lnTo>
                      <a:lnTo>
                        <a:pt x="0" y="67"/>
                      </a:lnTo>
                      <a:lnTo>
                        <a:pt x="1" y="71"/>
                      </a:lnTo>
                      <a:lnTo>
                        <a:pt x="4" y="72"/>
                      </a:lnTo>
                      <a:lnTo>
                        <a:pt x="8" y="71"/>
                      </a:lnTo>
                      <a:lnTo>
                        <a:pt x="9" y="67"/>
                      </a:lnTo>
                      <a:lnTo>
                        <a:pt x="4" y="72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6964920" y="4176000"/>
                  <a:ext cx="47520" cy="1440"/>
                </a:xfrm>
                <a:custGeom>
                  <a:avLst/>
                  <a:gdLst/>
                  <a:ahLst/>
                  <a:rect l="l" t="t" r="r" b="b"/>
                  <a:pathLst>
                    <a:path w="410" h="10">
                      <a:moveTo>
                        <a:pt x="2" y="4"/>
                      </a:moveTo>
                      <a:lnTo>
                        <a:pt x="5" y="9"/>
                      </a:lnTo>
                      <a:lnTo>
                        <a:pt x="13" y="9"/>
                      </a:lnTo>
                      <a:lnTo>
                        <a:pt x="29" y="9"/>
                      </a:lnTo>
                      <a:lnTo>
                        <a:pt x="51" y="9"/>
                      </a:lnTo>
                      <a:lnTo>
                        <a:pt x="78" y="9"/>
                      </a:lnTo>
                      <a:lnTo>
                        <a:pt x="110" y="9"/>
                      </a:lnTo>
                      <a:lnTo>
                        <a:pt x="143" y="9"/>
                      </a:lnTo>
                      <a:lnTo>
                        <a:pt x="179" y="9"/>
                      </a:lnTo>
                      <a:lnTo>
                        <a:pt x="217" y="9"/>
                      </a:lnTo>
                      <a:lnTo>
                        <a:pt x="253" y="10"/>
                      </a:lnTo>
                      <a:lnTo>
                        <a:pt x="288" y="10"/>
                      </a:lnTo>
                      <a:lnTo>
                        <a:pt x="321" y="10"/>
                      </a:lnTo>
                      <a:lnTo>
                        <a:pt x="351" y="10"/>
                      </a:lnTo>
                      <a:lnTo>
                        <a:pt x="375" y="10"/>
                      </a:lnTo>
                      <a:lnTo>
                        <a:pt x="394" y="10"/>
                      </a:lnTo>
                      <a:lnTo>
                        <a:pt x="406" y="10"/>
                      </a:lnTo>
                      <a:lnTo>
                        <a:pt x="410" y="10"/>
                      </a:lnTo>
                      <a:lnTo>
                        <a:pt x="410" y="1"/>
                      </a:lnTo>
                      <a:lnTo>
                        <a:pt x="406" y="1"/>
                      </a:lnTo>
                      <a:lnTo>
                        <a:pt x="394" y="1"/>
                      </a:lnTo>
                      <a:lnTo>
                        <a:pt x="375" y="1"/>
                      </a:lnTo>
                      <a:lnTo>
                        <a:pt x="351" y="1"/>
                      </a:lnTo>
                      <a:lnTo>
                        <a:pt x="321" y="1"/>
                      </a:lnTo>
                      <a:lnTo>
                        <a:pt x="288" y="1"/>
                      </a:lnTo>
                      <a:lnTo>
                        <a:pt x="253" y="1"/>
                      </a:lnTo>
                      <a:lnTo>
                        <a:pt x="217" y="0"/>
                      </a:lnTo>
                      <a:lnTo>
                        <a:pt x="179" y="0"/>
                      </a:lnTo>
                      <a:lnTo>
                        <a:pt x="143" y="0"/>
                      </a:lnTo>
                      <a:lnTo>
                        <a:pt x="110" y="0"/>
                      </a:lnTo>
                      <a:lnTo>
                        <a:pt x="78" y="0"/>
                      </a:lnTo>
                      <a:lnTo>
                        <a:pt x="51" y="0"/>
                      </a:lnTo>
                      <a:lnTo>
                        <a:pt x="2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8"/>
                      </a:lnTo>
                      <a:lnTo>
                        <a:pt x="5" y="9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7010280" y="4170600"/>
                  <a:ext cx="2160" cy="57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12" y="1"/>
                      </a:moveTo>
                      <a:lnTo>
                        <a:pt x="12" y="3"/>
                      </a:lnTo>
                      <a:lnTo>
                        <a:pt x="10" y="15"/>
                      </a:lnTo>
                      <a:lnTo>
                        <a:pt x="6" y="27"/>
                      </a:lnTo>
                      <a:lnTo>
                        <a:pt x="3" y="42"/>
                      </a:lnTo>
                      <a:lnTo>
                        <a:pt x="0" y="58"/>
                      </a:lnTo>
                      <a:lnTo>
                        <a:pt x="6" y="58"/>
                      </a:lnTo>
                      <a:lnTo>
                        <a:pt x="10" y="42"/>
                      </a:lnTo>
                      <a:lnTo>
                        <a:pt x="13" y="27"/>
                      </a:lnTo>
                      <a:lnTo>
                        <a:pt x="17" y="15"/>
                      </a:lnTo>
                      <a:lnTo>
                        <a:pt x="19" y="3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8" y="1"/>
                      </a:lnTo>
                      <a:lnTo>
                        <a:pt x="16" y="0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12" y="1"/>
                      </a:lnTo>
                      <a:close/>
                    </a:path>
                  </a:pathLst>
                </a:custGeom>
                <a:solidFill>
                  <a:srgbClr val="003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4542120" y="3043080"/>
                <a:ext cx="3038760" cy="2080440"/>
                <a:chOff x="4542120" y="3043080"/>
                <a:chExt cx="3038760" cy="208044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5680800" y="3823920"/>
                  <a:ext cx="0" cy="1036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91" name=""/>
                <p:cNvGrpSpPr/>
                <p:nvPr/>
              </p:nvGrpSpPr>
              <p:grpSpPr>
                <a:xfrm>
                  <a:off x="7120800" y="3043080"/>
                  <a:ext cx="444600" cy="608040"/>
                  <a:chOff x="7120800" y="3043080"/>
                  <a:chExt cx="444600" cy="608040"/>
                </a:xfrm>
              </p:grpSpPr>
              <p:sp>
                <p:nvSpPr>
                  <p:cNvPr id="2892" name=""/>
                  <p:cNvSpPr/>
                  <p:nvPr/>
                </p:nvSpPr>
                <p:spPr>
                  <a:xfrm>
                    <a:off x="745308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7235640" y="3043080"/>
                    <a:ext cx="213480" cy="6080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7263720" y="307008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7263720" y="307008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7290360" y="318384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7325280" y="318384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7263720" y="313812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7120800" y="36262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6947640" y="3215880"/>
                  <a:ext cx="328680" cy="234000"/>
                  <a:chOff x="6947640" y="3215880"/>
                  <a:chExt cx="328680" cy="234000"/>
                </a:xfrm>
              </p:grpSpPr>
              <p:grpSp>
                <p:nvGrpSpPr>
                  <p:cNvPr id="2901" name=""/>
                  <p:cNvGrpSpPr/>
                  <p:nvPr/>
                </p:nvGrpSpPr>
                <p:grpSpPr>
                  <a:xfrm>
                    <a:off x="7010280" y="3215880"/>
                    <a:ext cx="266040" cy="196920"/>
                    <a:chOff x="7010280" y="3215880"/>
                    <a:chExt cx="266040" cy="196920"/>
                  </a:xfrm>
                </p:grpSpPr>
                <p:sp>
                  <p:nvSpPr>
                    <p:cNvPr id="2902" name=""/>
                    <p:cNvSpPr/>
                    <p:nvPr/>
                  </p:nvSpPr>
                  <p:spPr>
                    <a:xfrm>
                      <a:off x="7032240" y="321588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>
                      <a:off x="7010280" y="325512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4" name=""/>
                  <p:cNvSpPr/>
                  <p:nvPr/>
                </p:nvSpPr>
                <p:spPr>
                  <a:xfrm flipH="1">
                    <a:off x="7007400" y="337104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 flipH="1">
                    <a:off x="7010280" y="344052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 flipH="1">
                    <a:off x="7033320" y="344700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>
                    <a:off x="7053480" y="344700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>
                    <a:off x="7061040" y="344592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>
                    <a:off x="7068600" y="344484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 flipH="1">
                    <a:off x="7074000" y="343476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 flipH="1">
                    <a:off x="7089480" y="343224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7093800" y="342324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7101720" y="342000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7110000" y="34160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 flipH="1">
                    <a:off x="7116120" y="341568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 flipH="1">
                    <a:off x="7120800" y="34138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 flipH="1">
                    <a:off x="7128360" y="34102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H="1">
                    <a:off x="7138440" y="340308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H="1">
                    <a:off x="7129080" y="340020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 flipH="1">
                    <a:off x="7125120" y="339696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>
                    <a:off x="7110720" y="3396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H="1">
                    <a:off x="7104600" y="340164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 flipH="1">
                    <a:off x="7090200" y="339948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H="1">
                    <a:off x="7078680" y="339408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H="1">
                    <a:off x="7063200" y="338796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H="1">
                    <a:off x="7063200" y="338796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H="1">
                    <a:off x="7073280" y="338580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 flipH="1">
                    <a:off x="7089480" y="338580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 flipH="1">
                    <a:off x="7090200" y="338580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H="1">
                    <a:off x="7091640" y="338580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H="1">
                    <a:off x="7097040" y="337716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>
                    <a:off x="7112880" y="337104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H="1">
                    <a:off x="7110720" y="337032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H="1">
                    <a:off x="7095600" y="337104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 flipH="1">
                    <a:off x="7089480" y="337320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H="1">
                    <a:off x="7076880" y="337500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H="1">
                    <a:off x="7063920" y="33742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>
                    <a:off x="7051680" y="337428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H="1">
                    <a:off x="7034760" y="337860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 flipH="1">
                    <a:off x="7017480" y="338184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 flipH="1">
                    <a:off x="7009200" y="339012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H="1">
                    <a:off x="7112880" y="3371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>
                    <a:off x="7108560" y="33710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 flipH="1">
                    <a:off x="7107840" y="33750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H="1">
                    <a:off x="7101720" y="342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>
                    <a:off x="7084800" y="342324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7074720" y="342540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7075440" y="34300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>
                    <a:off x="708696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H="1">
                    <a:off x="7078680" y="343548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 flipH="1">
                    <a:off x="7074720" y="343764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7074000" y="34394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7075440" y="3413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H="1">
                    <a:off x="7066440" y="34124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>
                    <a:off x="7066440" y="34124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 flipH="1">
                    <a:off x="7010280" y="3439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 flipH="1">
                    <a:off x="7010280" y="343944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H="1">
                    <a:off x="7023600" y="344232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H="1">
                    <a:off x="7038000" y="344520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7056360" y="344520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H="1">
                    <a:off x="7068600" y="34448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 flipH="1">
                    <a:off x="7025040" y="34369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H="1">
                    <a:off x="7026480" y="343692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H="1">
                    <a:off x="7062480" y="34416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 flipH="1">
                    <a:off x="7084080" y="342540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 flipH="1">
                    <a:off x="7080120" y="342540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 flipH="1">
                    <a:off x="7078680" y="342684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H="1">
                    <a:off x="7077600" y="34286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H="1">
                    <a:off x="7129800" y="34002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 flipH="1">
                    <a:off x="7119720" y="340020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 flipH="1">
                    <a:off x="7107480" y="340236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 flipH="1">
                    <a:off x="7106040" y="34023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 flipH="1">
                    <a:off x="71150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H="1">
                    <a:off x="7099920" y="341604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H="1">
                    <a:off x="7086240" y="341604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 flipH="1">
                    <a:off x="7074000" y="341568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 flipH="1">
                    <a:off x="7069320" y="341568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H="1">
                    <a:off x="7068600" y="3415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H="1">
                    <a:off x="7075440" y="33969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7075800" y="339624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7084800" y="33987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7009200" y="3435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7009920" y="343548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702504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7065000" y="3385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7065000" y="338580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7074000" y="3390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 flipH="1">
                    <a:off x="7071840" y="34178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H="1">
                    <a:off x="7071840" y="341712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 flipH="1">
                    <a:off x="7086960" y="3417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H="1">
                    <a:off x="7071120" y="34437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H="1">
                    <a:off x="7071840" y="343620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>
                    <a:off x="7085520" y="3436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H="1">
                    <a:off x="7075800" y="3437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H="1">
                    <a:off x="7076520" y="343080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H="1">
                    <a:off x="7093800" y="34300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H="1">
                    <a:off x="7111440" y="34160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H="1">
                    <a:off x="7106760" y="3417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H="1">
                    <a:off x="7107480" y="34214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>
                    <a:off x="7098480" y="342324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>
                    <a:off x="7095960" y="342396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>
                    <a:off x="7094880" y="3430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H="1">
                    <a:off x="7120800" y="340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H="1">
                    <a:off x="7121520" y="3403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H="1">
                    <a:off x="7121520" y="34030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H="1">
                    <a:off x="7120440" y="34030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H="1">
                    <a:off x="7076160" y="3386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H="1">
                    <a:off x="7074000" y="33865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H="1">
                    <a:off x="7075800" y="3391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H="1">
                    <a:off x="7016040" y="3392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H="1">
                    <a:off x="7009200" y="339264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H="1">
                    <a:off x="7009200" y="3394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H="1">
                    <a:off x="6994440" y="338940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 flipH="1">
                    <a:off x="7009920" y="344052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 flipH="1">
                    <a:off x="6999120" y="344304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 flipH="1">
                    <a:off x="6995880" y="339696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 flipH="1">
                    <a:off x="6995160" y="33969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H="1">
                    <a:off x="6995160" y="33948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H="1">
                    <a:off x="6994440" y="338940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H="1">
                    <a:off x="7008120" y="338940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H="1">
                    <a:off x="7007400" y="339264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H="1">
                    <a:off x="7007400" y="342540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 flipH="1">
                    <a:off x="6992280" y="343224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 flipH="1">
                    <a:off x="6992280" y="343692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 flipH="1">
                    <a:off x="6992280" y="343152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 flipH="1">
                    <a:off x="6998400" y="343152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 flipH="1">
                    <a:off x="6998400" y="343692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 flipH="1">
                    <a:off x="7009560" y="34430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 flipH="1">
                    <a:off x="6999840" y="344232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 flipH="1">
                    <a:off x="6999120" y="34423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 flipH="1">
                    <a:off x="70066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 flipH="1">
                    <a:off x="7002000" y="344052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H="1">
                    <a:off x="7001280" y="34405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 flipH="1">
                    <a:off x="6948000" y="338580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 flipH="1">
                    <a:off x="6948360" y="338796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 flipH="1">
                    <a:off x="6993000" y="33879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 flipH="1">
                    <a:off x="6947280" y="338796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 flipH="1">
                    <a:off x="6948000" y="338796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 flipH="1">
                    <a:off x="6948360" y="339480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 flipH="1">
                    <a:off x="6993720" y="338940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4" name=""/>
                <p:cNvGrpSpPr/>
                <p:nvPr/>
              </p:nvGrpSpPr>
              <p:grpSpPr>
                <a:xfrm>
                  <a:off x="7136280" y="3791520"/>
                  <a:ext cx="444600" cy="608400"/>
                  <a:chOff x="7136280" y="3791520"/>
                  <a:chExt cx="444600" cy="608400"/>
                </a:xfrm>
              </p:grpSpPr>
              <p:sp>
                <p:nvSpPr>
                  <p:cNvPr id="3045" name=""/>
                  <p:cNvSpPr/>
                  <p:nvPr/>
                </p:nvSpPr>
                <p:spPr>
                  <a:xfrm>
                    <a:off x="746856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7251120" y="37915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279200" y="38185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7279200" y="38185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7305840" y="39322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340760" y="39322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7279200" y="38865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7136280" y="43750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3" name=""/>
                <p:cNvGrpSpPr/>
                <p:nvPr/>
              </p:nvGrpSpPr>
              <p:grpSpPr>
                <a:xfrm>
                  <a:off x="7136280" y="4515120"/>
                  <a:ext cx="444600" cy="608400"/>
                  <a:chOff x="7136280" y="4515120"/>
                  <a:chExt cx="444600" cy="608400"/>
                </a:xfrm>
              </p:grpSpPr>
              <p:sp>
                <p:nvSpPr>
                  <p:cNvPr id="3054" name=""/>
                  <p:cNvSpPr/>
                  <p:nvPr/>
                </p:nvSpPr>
                <p:spPr>
                  <a:xfrm>
                    <a:off x="746856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0" y="0"/>
                        </a:moveTo>
                        <a:lnTo>
                          <a:pt x="192" y="24"/>
                        </a:lnTo>
                        <a:lnTo>
                          <a:pt x="0" y="2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251120" y="4515120"/>
                    <a:ext cx="213480" cy="608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e7e7e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7279200" y="4542120"/>
                    <a:ext cx="157320" cy="370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7279200" y="4542120"/>
                    <a:ext cx="157320" cy="63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305840" y="4655880"/>
                    <a:ext cx="104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7340760" y="4655880"/>
                    <a:ext cx="342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7279200" y="4610160"/>
                    <a:ext cx="157320" cy="842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7136280" y="5098680"/>
                    <a:ext cx="1123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25">
                        <a:moveTo>
                          <a:pt x="192" y="0"/>
                        </a:moveTo>
                        <a:lnTo>
                          <a:pt x="0" y="24"/>
                        </a:lnTo>
                        <a:lnTo>
                          <a:pt x="192" y="24"/>
                        </a:lnTo>
                        <a:lnTo>
                          <a:pt x="192" y="0"/>
                        </a:lnTo>
                      </a:path>
                    </a:pathLst>
                  </a:custGeom>
                  <a:solidFill>
                    <a:srgbClr val="23232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2" name=""/>
                <p:cNvGrpSpPr/>
                <p:nvPr/>
              </p:nvGrpSpPr>
              <p:grpSpPr>
                <a:xfrm>
                  <a:off x="6963120" y="4687920"/>
                  <a:ext cx="328680" cy="234000"/>
                  <a:chOff x="6963120" y="4687920"/>
                  <a:chExt cx="328680" cy="234000"/>
                </a:xfrm>
              </p:grpSpPr>
              <p:grpSp>
                <p:nvGrpSpPr>
                  <p:cNvPr id="3063" name=""/>
                  <p:cNvGrpSpPr/>
                  <p:nvPr/>
                </p:nvGrpSpPr>
                <p:grpSpPr>
                  <a:xfrm>
                    <a:off x="7025760" y="4687920"/>
                    <a:ext cx="266040" cy="196920"/>
                    <a:chOff x="7025760" y="4687920"/>
                    <a:chExt cx="266040" cy="196920"/>
                  </a:xfrm>
                </p:grpSpPr>
                <p:sp>
                  <p:nvSpPr>
                    <p:cNvPr id="3064" name=""/>
                    <p:cNvSpPr/>
                    <p:nvPr/>
                  </p:nvSpPr>
                  <p:spPr>
                    <a:xfrm>
                      <a:off x="7047720" y="4687920"/>
                      <a:ext cx="132840" cy="138240"/>
                    </a:xfrm>
                    <a:custGeom>
                      <a:avLst/>
                      <a:gdLst>
                        <a:gd name="textAreaLeft" fmla="*/ 6480 w 132840"/>
                        <a:gd name="textAreaRight" fmla="*/ 126360 w 132840"/>
                        <a:gd name="textAreaTop" fmla="*/ 6480 h 138240"/>
                        <a:gd name="textAreaBottom" fmla="*/ 131760 h 138240"/>
                      </a:gdLst>
                      <a:ahLst/>
                      <a:rect l="textAreaLeft" t="textAreaTop" r="textAreaRight" b="textAreaBottom"/>
                      <a:pathLst>
                        <a:path w="21600" h="2247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876"/>
                          </a:lnTo>
                          <a:arcTo wR="3600" hR="3600" stAng="10800000" swAng="-5400000"/>
                          <a:lnTo>
                            <a:pt x="18000" y="2247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"/>
                    <p:cNvSpPr/>
                    <p:nvPr/>
                  </p:nvSpPr>
                  <p:spPr>
                    <a:xfrm>
                      <a:off x="7025760" y="4727160"/>
                      <a:ext cx="266040" cy="15768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66" name=""/>
                  <p:cNvSpPr/>
                  <p:nvPr/>
                </p:nvSpPr>
                <p:spPr>
                  <a:xfrm flipH="1">
                    <a:off x="7022880" y="4843080"/>
                    <a:ext cx="1328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 flipH="1">
                    <a:off x="7025760" y="4912560"/>
                    <a:ext cx="23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 flipH="1">
                    <a:off x="7048800" y="4919040"/>
                    <a:ext cx="19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H="1">
                    <a:off x="7068960" y="4919040"/>
                    <a:ext cx="75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 flipH="1">
                    <a:off x="7076520" y="4917960"/>
                    <a:ext cx="8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 flipH="1">
                    <a:off x="7084080" y="4916880"/>
                    <a:ext cx="50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 flipH="1">
                    <a:off x="7089480" y="4906800"/>
                    <a:ext cx="158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 flipH="1">
                    <a:off x="7104960" y="490428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 flipH="1">
                    <a:off x="7109280" y="4895280"/>
                    <a:ext cx="82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H="1">
                    <a:off x="7117200" y="4892040"/>
                    <a:ext cx="7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H="1">
                    <a:off x="7125480" y="48880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 flipH="1">
                    <a:off x="7131600" y="4887720"/>
                    <a:ext cx="4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H="1">
                    <a:off x="7136280" y="488592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H="1">
                    <a:off x="7143840" y="488232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H="1">
                    <a:off x="7153920" y="4875120"/>
                    <a:ext cx="3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H="1">
                    <a:off x="7144560" y="4872240"/>
                    <a:ext cx="11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H="1">
                    <a:off x="7140600" y="4869000"/>
                    <a:ext cx="5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H="1">
                    <a:off x="7126200" y="486900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H="1">
                    <a:off x="7120080" y="4873680"/>
                    <a:ext cx="6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H="1">
                    <a:off x="7105680" y="4871520"/>
                    <a:ext cx="151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H="1">
                    <a:off x="7094160" y="486612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 flipH="1">
                    <a:off x="7078680" y="4860000"/>
                    <a:ext cx="16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 flipH="1">
                    <a:off x="7078680" y="486000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H="1">
                    <a:off x="7088760" y="4857840"/>
                    <a:ext cx="190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 flipH="1">
                    <a:off x="7104960" y="4857840"/>
                    <a:ext cx="3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 flipH="1">
                    <a:off x="7105680" y="4857840"/>
                    <a:ext cx="2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H="1">
                    <a:off x="7107120" y="485784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H="1">
                    <a:off x="7112520" y="4849200"/>
                    <a:ext cx="18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H="1">
                    <a:off x="7128360" y="4843080"/>
                    <a:ext cx="3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 flipH="1">
                    <a:off x="7126200" y="4842360"/>
                    <a:ext cx="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 flipH="1">
                    <a:off x="7111080" y="4843080"/>
                    <a:ext cx="15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 flipH="1">
                    <a:off x="7104960" y="4845240"/>
                    <a:ext cx="6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 flipH="1">
                    <a:off x="7092360" y="4847040"/>
                    <a:ext cx="12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 flipH="1">
                    <a:off x="7079400" y="484632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 flipH="1">
                    <a:off x="7067160" y="4846320"/>
                    <a:ext cx="12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 flipH="1">
                    <a:off x="7050240" y="4850640"/>
                    <a:ext cx="165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 flipH="1">
                    <a:off x="7032960" y="4853880"/>
                    <a:ext cx="176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 flipH="1">
                    <a:off x="7024680" y="486216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 flipH="1">
                    <a:off x="7128360" y="484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 flipH="1">
                    <a:off x="7124040" y="484308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 flipH="1">
                    <a:off x="7123320" y="484704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 flipH="1">
                    <a:off x="7117200" y="48952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 flipH="1">
                    <a:off x="7100280" y="4895280"/>
                    <a:ext cx="1692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 flipH="1">
                    <a:off x="7090200" y="4897440"/>
                    <a:ext cx="10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 flipH="1">
                    <a:off x="7090920" y="4902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H="1">
                    <a:off x="710244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H="1">
                    <a:off x="7094160" y="4907520"/>
                    <a:ext cx="82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 flipH="1">
                    <a:off x="7090200" y="4909680"/>
                    <a:ext cx="4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 flipH="1">
                    <a:off x="7089480" y="49114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 flipH="1">
                    <a:off x="7090920" y="488592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 flipH="1">
                    <a:off x="7081920" y="48844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 flipH="1">
                    <a:off x="7081920" y="48844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H="1">
                    <a:off x="7025760" y="4911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>
                    <a:off x="7025760" y="4911480"/>
                    <a:ext cx="13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H="1">
                    <a:off x="7039080" y="4914360"/>
                    <a:ext cx="140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H="1">
                    <a:off x="7053480" y="4917240"/>
                    <a:ext cx="176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 flipH="1">
                    <a:off x="7071840" y="4917240"/>
                    <a:ext cx="129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 flipH="1">
                    <a:off x="7084080" y="4916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 flipH="1">
                    <a:off x="7040520" y="49089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 flipH="1">
                    <a:off x="7041960" y="4908960"/>
                    <a:ext cx="36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H="1">
                    <a:off x="7077960" y="49136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H="1">
                    <a:off x="7099560" y="489744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H="1">
                    <a:off x="7095600" y="489744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H="1">
                    <a:off x="7094160" y="489888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 flipH="1">
                    <a:off x="7093080" y="4900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 flipH="1">
                    <a:off x="7145280" y="48722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 flipH="1">
                    <a:off x="7135200" y="4872240"/>
                    <a:ext cx="90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 flipH="1">
                    <a:off x="7122960" y="4874400"/>
                    <a:ext cx="136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 flipH="1">
                    <a:off x="7121520" y="48744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 flipH="1">
                    <a:off x="71305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 flipH="1">
                    <a:off x="7115400" y="4888080"/>
                    <a:ext cx="15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 flipH="1">
                    <a:off x="7101720" y="4888080"/>
                    <a:ext cx="13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 flipH="1">
                    <a:off x="7089480" y="4887720"/>
                    <a:ext cx="12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 flipH="1">
                    <a:off x="7084800" y="488772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 flipH="1">
                    <a:off x="7084080" y="48877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 flipH="1">
                    <a:off x="7090920" y="48690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 flipH="1">
                    <a:off x="7091280" y="4868280"/>
                    <a:ext cx="90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 flipH="1">
                    <a:off x="7100280" y="48708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 flipH="1">
                    <a:off x="7024680" y="49075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 flipH="1">
                    <a:off x="7025400" y="4907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 flipH="1">
                    <a:off x="704052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 flipH="1">
                    <a:off x="7080480" y="4857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H="1">
                    <a:off x="7080480" y="4857840"/>
                    <a:ext cx="9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H="1">
                    <a:off x="7089480" y="4862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>
                    <a:off x="7087320" y="4889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H="1">
                    <a:off x="7087320" y="4889160"/>
                    <a:ext cx="14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 flipH="1">
                    <a:off x="7102440" y="48891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 flipH="1">
                    <a:off x="7086600" y="491580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flipH="1">
                    <a:off x="7087320" y="490824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H="1">
                    <a:off x="7101000" y="4908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>
                    <a:off x="7091280" y="4909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 flipH="1">
                    <a:off x="7092000" y="4902840"/>
                    <a:ext cx="187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 flipH="1">
                    <a:off x="7109280" y="490212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 flipH="1">
                    <a:off x="7126920" y="488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>
                    <a:off x="7122240" y="488916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>
                    <a:off x="7122960" y="48934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>
                    <a:off x="7113960" y="48952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>
                    <a:off x="7111440" y="4896000"/>
                    <a:ext cx="3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 flipH="1">
                    <a:off x="7110360" y="49021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 flipH="1">
                    <a:off x="7136280" y="487512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7137000" y="487512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>
                    <a:off x="7137000" y="48751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7135920" y="48751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H="1">
                    <a:off x="7091640" y="48585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 flipH="1">
                    <a:off x="7089480" y="485856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 flipH="1">
                    <a:off x="7091280" y="4863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>
                    <a:off x="7031520" y="48646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H="1">
                    <a:off x="7024680" y="4864680"/>
                    <a:ext cx="75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H="1">
                    <a:off x="7024680" y="48668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>
                    <a:off x="7009920" y="4861440"/>
                    <a:ext cx="165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 flipH="1">
                    <a:off x="7025400" y="4912560"/>
                    <a:ext cx="14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 flipH="1">
                    <a:off x="7014600" y="4915080"/>
                    <a:ext cx="11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 flipH="1">
                    <a:off x="7011360" y="4869000"/>
                    <a:ext cx="5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H="1">
                    <a:off x="7010640" y="48690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H="1">
                    <a:off x="7010640" y="486684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 flipH="1">
                    <a:off x="7009920" y="4861440"/>
                    <a:ext cx="14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 flipH="1">
                    <a:off x="7023600" y="4861440"/>
                    <a:ext cx="21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>
                    <a:off x="7022880" y="4864680"/>
                    <a:ext cx="2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>
                    <a:off x="7022880" y="4897440"/>
                    <a:ext cx="3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H="1">
                    <a:off x="7007760" y="4904280"/>
                    <a:ext cx="118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 flipH="1">
                    <a:off x="7007760" y="4908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 flipH="1">
                    <a:off x="7007760" y="490356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 flipH="1">
                    <a:off x="7013880" y="4903560"/>
                    <a:ext cx="68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H="1">
                    <a:off x="7013880" y="4908960"/>
                    <a:ext cx="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H="1">
                    <a:off x="7025040" y="49150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 flipH="1">
                    <a:off x="7015320" y="491436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>
                    <a:off x="7014600" y="49143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H="1">
                    <a:off x="70221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H="1">
                    <a:off x="7017480" y="4912560"/>
                    <a:ext cx="5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>
                    <a:off x="7016760" y="49125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H="1">
                    <a:off x="6963480" y="4857840"/>
                    <a:ext cx="532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flipH="1">
                    <a:off x="6963840" y="4860000"/>
                    <a:ext cx="475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>
                    <a:off x="7008480" y="48600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flipH="1">
                    <a:off x="6962760" y="4860000"/>
                    <a:ext cx="45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H="1">
                    <a:off x="6963480" y="4860000"/>
                    <a:ext cx="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>
                    <a:off x="6963840" y="4866840"/>
                    <a:ext cx="4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H="1">
                    <a:off x="7009200" y="4861440"/>
                    <a:ext cx="2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6" name=""/>
                <p:cNvGrpSpPr/>
                <p:nvPr/>
              </p:nvGrpSpPr>
              <p:grpSpPr>
                <a:xfrm>
                  <a:off x="5911200" y="3939480"/>
                  <a:ext cx="362160" cy="268560"/>
                  <a:chOff x="5911200" y="3939480"/>
                  <a:chExt cx="362160" cy="268560"/>
                </a:xfrm>
              </p:grpSpPr>
              <p:sp>
                <p:nvSpPr>
                  <p:cNvPr id="3207" name=""/>
                  <p:cNvSpPr/>
                  <p:nvPr/>
                </p:nvSpPr>
                <p:spPr>
                  <a:xfrm>
                    <a:off x="5941440" y="393948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5911200" y="399312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5911200" y="4304160"/>
                  <a:ext cx="362160" cy="268560"/>
                  <a:chOff x="5911200" y="4304160"/>
                  <a:chExt cx="362160" cy="26856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>
                    <a:off x="5941440" y="430416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5911200" y="435780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2" name=""/>
                <p:cNvGrpSpPr/>
                <p:nvPr/>
              </p:nvGrpSpPr>
              <p:grpSpPr>
                <a:xfrm>
                  <a:off x="5911200" y="4687920"/>
                  <a:ext cx="362160" cy="268560"/>
                  <a:chOff x="5911200" y="4687920"/>
                  <a:chExt cx="362160" cy="268560"/>
                </a:xfrm>
              </p:grpSpPr>
              <p:sp>
                <p:nvSpPr>
                  <p:cNvPr id="3213" name=""/>
                  <p:cNvSpPr/>
                  <p:nvPr/>
                </p:nvSpPr>
                <p:spPr>
                  <a:xfrm>
                    <a:off x="5941440" y="4687920"/>
                    <a:ext cx="181080" cy="187920"/>
                  </a:xfrm>
                  <a:custGeom>
                    <a:avLst/>
                    <a:gdLst>
                      <a:gd name="textAreaLeft" fmla="*/ 8640 w 181080"/>
                      <a:gd name="textAreaRight" fmla="*/ 172440 w 181080"/>
                      <a:gd name="textAreaTop" fmla="*/ 8640 h 187920"/>
                      <a:gd name="textAreaBottom" fmla="*/ 179280 h 187920"/>
                    </a:gdLst>
                    <a:ahLst/>
                    <a:rect l="textAreaLeft" t="textAreaTop" r="textAreaRight" b="textAreaBottom"/>
                    <a:pathLst>
                      <a:path w="21600" h="2241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18814"/>
                        </a:lnTo>
                        <a:arcTo wR="3600" hR="3600" stAng="10800000" swAng="-5400000"/>
                        <a:lnTo>
                          <a:pt x="18000" y="2241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5911200" y="4741560"/>
                    <a:ext cx="362160" cy="21492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n w="1260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15" name=""/>
                <p:cNvSpPr/>
                <p:nvPr/>
              </p:nvSpPr>
              <p:spPr>
                <a:xfrm>
                  <a:off x="5680800" y="41122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5680800" y="445788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680800" y="4860720"/>
                  <a:ext cx="230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18" name=""/>
                <p:cNvGrpSpPr/>
                <p:nvPr/>
              </p:nvGrpSpPr>
              <p:grpSpPr>
                <a:xfrm>
                  <a:off x="5392440" y="3593880"/>
                  <a:ext cx="515880" cy="366480"/>
                  <a:chOff x="5392440" y="3593880"/>
                  <a:chExt cx="515880" cy="366480"/>
                </a:xfrm>
              </p:grpSpPr>
              <p:grpSp>
                <p:nvGrpSpPr>
                  <p:cNvPr id="3219" name=""/>
                  <p:cNvGrpSpPr/>
                  <p:nvPr/>
                </p:nvGrpSpPr>
                <p:grpSpPr>
                  <a:xfrm>
                    <a:off x="5490720" y="3593880"/>
                    <a:ext cx="417600" cy="309240"/>
                    <a:chOff x="5490720" y="3593880"/>
                    <a:chExt cx="417600" cy="309240"/>
                  </a:xfrm>
                </p:grpSpPr>
                <p:sp>
                  <p:nvSpPr>
                    <p:cNvPr id="3220" name=""/>
                    <p:cNvSpPr/>
                    <p:nvPr/>
                  </p:nvSpPr>
                  <p:spPr>
                    <a:xfrm>
                      <a:off x="5525280" y="3593880"/>
                      <a:ext cx="208800" cy="216360"/>
                    </a:xfrm>
                    <a:custGeom>
                      <a:avLst/>
                      <a:gdLst>
                        <a:gd name="textAreaLeft" fmla="*/ 10080 w 208800"/>
                        <a:gd name="textAreaRight" fmla="*/ 198720 w 208800"/>
                        <a:gd name="textAreaTop" fmla="*/ 10080 h 216360"/>
                        <a:gd name="textAreaBottom" fmla="*/ 206280 h 216360"/>
                      </a:gdLst>
                      <a:ahLst/>
                      <a:rect l="textAreaLeft" t="textAreaTop" r="textAreaRight" b="textAreaBottom"/>
                      <a:pathLst>
                        <a:path w="21600" h="22381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18781"/>
                          </a:lnTo>
                          <a:arcTo wR="3600" hR="3600" stAng="10800000" swAng="-5400000"/>
                          <a:lnTo>
                            <a:pt x="18000" y="22381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1" name=""/>
                    <p:cNvSpPr/>
                    <p:nvPr/>
                  </p:nvSpPr>
                  <p:spPr>
                    <a:xfrm>
                      <a:off x="5490720" y="3655800"/>
                      <a:ext cx="417600" cy="247320"/>
                    </a:xfrm>
                    <a:prstGeom prst="roundRect">
                      <a:avLst>
                        <a:gd name="adj" fmla="val 16667"/>
                      </a:avLst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  <a:ln w="1260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22" name=""/>
                  <p:cNvSpPr/>
                  <p:nvPr/>
                </p:nvSpPr>
                <p:spPr>
                  <a:xfrm flipH="1">
                    <a:off x="5486760" y="3837240"/>
                    <a:ext cx="2084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H="1">
                    <a:off x="5490000" y="3946320"/>
                    <a:ext cx="37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5528160" y="3956040"/>
                    <a:ext cx="309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>
                    <a:off x="5558760" y="3956040"/>
                    <a:ext cx="118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H="1">
                    <a:off x="5571360" y="3954600"/>
                    <a:ext cx="129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H="1">
                    <a:off x="5581440" y="395244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>
                    <a:off x="5590440" y="3936600"/>
                    <a:ext cx="252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>
                    <a:off x="5614560" y="3933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5622120" y="3918600"/>
                    <a:ext cx="133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>
                    <a:off x="5634360" y="3913920"/>
                    <a:ext cx="11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 flipH="1">
                    <a:off x="5646240" y="3907800"/>
                    <a:ext cx="104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H="1">
                    <a:off x="5657760" y="3906720"/>
                    <a:ext cx="72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>
                    <a:off x="5664240" y="3904200"/>
                    <a:ext cx="11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H="1">
                    <a:off x="5676840" y="389844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H="1">
                    <a:off x="5691600" y="3887640"/>
                    <a:ext cx="5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H="1">
                    <a:off x="5677200" y="3882960"/>
                    <a:ext cx="17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 flipH="1">
                    <a:off x="5670360" y="387792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 flipH="1">
                    <a:off x="5647320" y="3877920"/>
                    <a:ext cx="22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H="1">
                    <a:off x="5637960" y="3885120"/>
                    <a:ext cx="10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H="1">
                    <a:off x="5615640" y="3881520"/>
                    <a:ext cx="23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>
                    <a:off x="5598720" y="3872880"/>
                    <a:ext cx="16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H="1">
                    <a:off x="5573160" y="3863520"/>
                    <a:ext cx="262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H="1">
                    <a:off x="5574960" y="3863520"/>
                    <a:ext cx="16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 flipH="1">
                    <a:off x="5589720" y="3859920"/>
                    <a:ext cx="298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H="1">
                    <a:off x="5614560" y="3859920"/>
                    <a:ext cx="57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>
                    <a:off x="5614920" y="38599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H="1">
                    <a:off x="5617440" y="38599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H="1">
                    <a:off x="5626080" y="3846600"/>
                    <a:ext cx="298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 flipH="1">
                    <a:off x="5651640" y="3837240"/>
                    <a:ext cx="5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 flipH="1">
                    <a:off x="5648040" y="3836160"/>
                    <a:ext cx="57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>
                    <a:off x="5623560" y="3837240"/>
                    <a:ext cx="248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H="1">
                    <a:off x="5613840" y="3840840"/>
                    <a:ext cx="10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H="1">
                    <a:off x="5594760" y="3843000"/>
                    <a:ext cx="19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H="1">
                    <a:off x="5574240" y="3841920"/>
                    <a:ext cx="21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 flipH="1">
                    <a:off x="5554800" y="3841920"/>
                    <a:ext cx="190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 flipH="1">
                    <a:off x="5528520" y="3849120"/>
                    <a:ext cx="26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>
                    <a:off x="5502240" y="3854160"/>
                    <a:ext cx="277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>
                    <a:off x="5489640" y="386712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 flipH="1">
                    <a:off x="5650920" y="383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 flipH="1">
                    <a:off x="5643720" y="3837240"/>
                    <a:ext cx="828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H="1">
                    <a:off x="5643720" y="38430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>
                    <a:off x="5634360" y="3918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5608440" y="3918600"/>
                    <a:ext cx="26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>
                    <a:off x="5592960" y="3922200"/>
                    <a:ext cx="16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 flipH="1">
                    <a:off x="559224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 flipH="1">
                    <a:off x="5611680" y="39380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H="1">
                    <a:off x="5598000" y="3938040"/>
                    <a:ext cx="13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H="1">
                    <a:off x="5592960" y="394164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H="1">
                    <a:off x="559116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H="1">
                    <a:off x="5592240" y="3904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H="1">
                    <a:off x="5580000" y="390204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H="1">
                    <a:off x="5579280" y="3902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H="1">
                    <a:off x="5490000" y="39441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 flipH="1">
                    <a:off x="5490720" y="3944160"/>
                    <a:ext cx="21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 flipH="1">
                    <a:off x="5512680" y="3948840"/>
                    <a:ext cx="223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 flipH="1">
                    <a:off x="5534640" y="3953520"/>
                    <a:ext cx="277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 flipH="1">
                    <a:off x="5563080" y="395352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 flipH="1">
                    <a:off x="5581440" y="39524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 flipH="1">
                    <a:off x="5514480" y="3940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 flipH="1">
                    <a:off x="5516280" y="3940200"/>
                    <a:ext cx="576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 flipH="1">
                    <a:off x="5573160" y="39474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H="1">
                    <a:off x="5606640" y="39222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H="1">
                    <a:off x="5599440" y="392220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H="1">
                    <a:off x="5596920" y="3924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H="1">
                    <a:off x="5595840" y="3927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H="1">
                    <a:off x="5677200" y="38829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H="1">
                    <a:off x="5663520" y="3882960"/>
                    <a:ext cx="14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 flipH="1">
                    <a:off x="5643360" y="388620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 flipH="1">
                    <a:off x="5641560" y="38862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>
                    <a:off x="565452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H="1">
                    <a:off x="5631120" y="3907800"/>
                    <a:ext cx="237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>
                    <a:off x="5609160" y="3907800"/>
                    <a:ext cx="21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H="1">
                    <a:off x="5589720" y="3906720"/>
                    <a:ext cx="19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 flipH="1">
                    <a:off x="5582520" y="3906720"/>
                    <a:ext cx="68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 flipH="1">
                    <a:off x="5581440" y="390672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H="1">
                    <a:off x="559224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H="1">
                    <a:off x="5593680" y="3876840"/>
                    <a:ext cx="14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H="1">
                    <a:off x="5607720" y="38804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H="1">
                    <a:off x="5488920" y="39380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H="1">
                    <a:off x="5488920" y="3938040"/>
                    <a:ext cx="26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 flipH="1">
                    <a:off x="5514480" y="3946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H="1">
                    <a:off x="5576760" y="38599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 flipH="1">
                    <a:off x="5577480" y="3859920"/>
                    <a:ext cx="144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H="1">
                    <a:off x="5589720" y="38671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 flipH="1">
                    <a:off x="5586120" y="3910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 flipH="1">
                    <a:off x="5588280" y="3909240"/>
                    <a:ext cx="22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 flipH="1">
                    <a:off x="5610240" y="39092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>
                    <a:off x="5586120" y="39510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>
                    <a:off x="5586840" y="3939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H="1">
                    <a:off x="5609160" y="393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H="1">
                    <a:off x="5593680" y="394164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H="1">
                    <a:off x="5593680" y="3930840"/>
                    <a:ext cx="298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H="1">
                    <a:off x="5621760" y="392976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>
                    <a:off x="5648400" y="390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>
                    <a:off x="5643360" y="3909240"/>
                    <a:ext cx="72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>
                    <a:off x="5642640" y="391644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>
                    <a:off x="5628960" y="3918600"/>
                    <a:ext cx="21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 flipH="1">
                    <a:off x="5625360" y="391968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 flipH="1">
                    <a:off x="5623560" y="392976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H="1">
                    <a:off x="5664240" y="38876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>
                    <a:off x="5664240" y="388764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>
                    <a:off x="5664960" y="3887640"/>
                    <a:ext cx="4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>
                    <a:off x="5662800" y="3887640"/>
                    <a:ext cx="10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H="1">
                    <a:off x="5594760" y="3861000"/>
                    <a:ext cx="3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H="1">
                    <a:off x="5589720" y="386100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>
                    <a:off x="5593680" y="38685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>
                    <a:off x="5500080" y="3870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H="1">
                    <a:off x="5488920" y="3870720"/>
                    <a:ext cx="118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>
                    <a:off x="5488920" y="3874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H="1">
                    <a:off x="5465160" y="3866040"/>
                    <a:ext cx="262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H="1">
                    <a:off x="5489640" y="3946320"/>
                    <a:ext cx="21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5473440" y="3949920"/>
                    <a:ext cx="176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5468400" y="3877920"/>
                    <a:ext cx="79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 flipH="1">
                    <a:off x="5467680" y="3877920"/>
                    <a:ext cx="10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5466960" y="3874320"/>
                    <a:ext cx="2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 flipH="1">
                    <a:off x="5465160" y="3866040"/>
                    <a:ext cx="226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5486760" y="3866040"/>
                    <a:ext cx="32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>
                    <a:off x="5486400" y="3870720"/>
                    <a:ext cx="43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H="1">
                    <a:off x="5486400" y="3922200"/>
                    <a:ext cx="5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>
                    <a:off x="5463360" y="3933000"/>
                    <a:ext cx="187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H="1">
                    <a:off x="5461560" y="3940200"/>
                    <a:ext cx="104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>
                    <a:off x="5461560" y="3931920"/>
                    <a:ext cx="1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>
                    <a:off x="5472720" y="3931920"/>
                    <a:ext cx="10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>
                    <a:off x="5472720" y="3940200"/>
                    <a:ext cx="108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5490000" y="39499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5474520" y="394884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H="1">
                    <a:off x="5473440" y="394884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H="1">
                    <a:off x="548568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5477040" y="394632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>
                    <a:off x="5477040" y="394632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 flipH="1">
                    <a:off x="5392800" y="3859920"/>
                    <a:ext cx="835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8754f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5393160" y="3863520"/>
                    <a:ext cx="745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 flipH="1">
                    <a:off x="5463360" y="386352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H="1">
                    <a:off x="5392080" y="3863520"/>
                    <a:ext cx="716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5392800" y="3863520"/>
                    <a:ext cx="2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>
                    <a:off x="5393160" y="3874320"/>
                    <a:ext cx="745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>
                    <a:off x="5464440" y="3866040"/>
                    <a:ext cx="3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362" name=""/>
                <p:cNvCxnSpPr>
                  <a:stCxn id="3208" idx="3"/>
                  <a:endCxn id="2903" idx="1"/>
                </p:cNvCxnSpPr>
                <p:nvPr/>
              </p:nvCxnSpPr>
              <p:spPr>
                <a:xfrm flipV="1">
                  <a:off x="6273360" y="3333960"/>
                  <a:ext cx="737280" cy="767520"/>
                </a:xfrm>
                <a:prstGeom prst="bentConnector3">
                  <a:avLst>
                    <a:gd name="adj1" fmla="val 33512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3" name=""/>
                <p:cNvCxnSpPr>
                  <a:stCxn id="3211" idx="3"/>
                  <a:endCxn id="2748" idx="1"/>
                </p:cNvCxnSpPr>
                <p:nvPr/>
              </p:nvCxnSpPr>
              <p:spPr>
                <a:xfrm flipV="1">
                  <a:off x="6273000" y="4115160"/>
                  <a:ext cx="754200" cy="351000"/>
                </a:xfrm>
                <a:prstGeom prst="bentConnector3">
                  <a:avLst>
                    <a:gd name="adj1" fmla="val 58739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364" name=""/>
                <p:cNvCxnSpPr>
                  <a:stCxn id="3214" idx="3"/>
                  <a:endCxn id="3065" idx="1"/>
                </p:cNvCxnSpPr>
                <p:nvPr/>
              </p:nvCxnSpPr>
              <p:spPr>
                <a:xfrm flipV="1">
                  <a:off x="6273000" y="4806720"/>
                  <a:ext cx="752760" cy="43920"/>
                </a:xfrm>
                <a:prstGeom prst="bentConnector3">
                  <a:avLst>
                    <a:gd name="adj1" fmla="val 49904"/>
                  </a:avLst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3365" name=""/>
                <p:cNvSpPr/>
                <p:nvPr/>
              </p:nvSpPr>
              <p:spPr>
                <a:xfrm flipV="1" rot="19278000">
                  <a:off x="4528800" y="4137120"/>
                  <a:ext cx="939240" cy="288000"/>
                </a:xfrm>
                <a:prstGeom prst="rightArrow">
                  <a:avLst>
                    <a:gd name="adj1" fmla="val 50000"/>
                    <a:gd name="adj2" fmla="val 81531"/>
                  </a:avLst>
                </a:prstGeom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6" name=""/>
            <p:cNvGrpSpPr/>
            <p:nvPr/>
          </p:nvGrpSpPr>
          <p:grpSpPr>
            <a:xfrm>
              <a:off x="1447920" y="2286000"/>
              <a:ext cx="3138120" cy="2715840"/>
              <a:chOff x="1447920" y="2286000"/>
              <a:chExt cx="3138120" cy="2715840"/>
            </a:xfrm>
          </p:grpSpPr>
          <p:grpSp>
            <p:nvGrpSpPr>
              <p:cNvPr id="3367" name=""/>
              <p:cNvGrpSpPr/>
              <p:nvPr/>
            </p:nvGrpSpPr>
            <p:grpSpPr>
              <a:xfrm>
                <a:off x="4068000" y="4071960"/>
                <a:ext cx="518040" cy="296280"/>
                <a:chOff x="4068000" y="4071960"/>
                <a:chExt cx="518040" cy="296280"/>
              </a:xfrm>
            </p:grpSpPr>
            <p:sp>
              <p:nvSpPr>
                <p:cNvPr id="3368" name=""/>
                <p:cNvSpPr/>
                <p:nvPr/>
              </p:nvSpPr>
              <p:spPr>
                <a:xfrm rot="5400000">
                  <a:off x="4309560" y="40831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4261680" y="43088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310280" y="42145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71" name=""/>
                <p:cNvGrpSpPr/>
                <p:nvPr/>
              </p:nvGrpSpPr>
              <p:grpSpPr>
                <a:xfrm>
                  <a:off x="4068360" y="4071960"/>
                  <a:ext cx="438480" cy="183600"/>
                  <a:chOff x="4068360" y="4071960"/>
                  <a:chExt cx="438480" cy="183600"/>
                </a:xfrm>
              </p:grpSpPr>
              <p:sp>
                <p:nvSpPr>
                  <p:cNvPr id="3372" name=""/>
                  <p:cNvSpPr/>
                  <p:nvPr/>
                </p:nvSpPr>
                <p:spPr>
                  <a:xfrm>
                    <a:off x="4068360" y="40719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4381560" y="41025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4115160" y="41486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4115160" y="41943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6" name=""/>
              <p:cNvSpPr/>
              <p:nvPr/>
            </p:nvSpPr>
            <p:spPr>
              <a:xfrm>
                <a:off x="2196360" y="2286000"/>
                <a:ext cx="806400" cy="69120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756a00"/>
                  </a:gs>
                  <a:gs pos="50000">
                    <a:srgbClr val="ffe701"/>
                  </a:gs>
                  <a:gs pos="100000">
                    <a:srgbClr val="756a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44792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3115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3146760" y="332280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61960" y="4129560"/>
                <a:ext cx="633240" cy="633600"/>
              </a:xfrm>
              <a:prstGeom prst="ellipse">
                <a:avLst/>
              </a:prstGeom>
              <a:gradFill rotWithShape="0">
                <a:gsLst>
                  <a:gs pos="0">
                    <a:srgbClr val="75755e"/>
                  </a:gs>
                  <a:gs pos="5000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66"/>
                    </a:solidFill>
                    <a:latin typeface="Arial"/>
                  </a:rPr>
                  <a:t>OU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3380" name=""/>
              <p:cNvCxnSpPr>
                <a:stCxn id="3377" idx="0"/>
                <a:endCxn id="3376" idx="2"/>
              </p:cNvCxnSpPr>
              <p:nvPr/>
            </p:nvCxnSpPr>
            <p:spPr>
              <a:xfrm flipV="1">
                <a:off x="1764000" y="2976840"/>
                <a:ext cx="4323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1" name=""/>
              <p:cNvCxnSpPr>
                <a:stCxn id="3378" idx="0"/>
                <a:endCxn id="3376" idx="3"/>
              </p:cNvCxnSpPr>
              <p:nvPr/>
            </p:nvCxnSpPr>
            <p:spPr>
              <a:xfrm flipH="1" flipV="1">
                <a:off x="2599200" y="2976840"/>
                <a:ext cx="2952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2" name=""/>
              <p:cNvCxnSpPr>
                <a:stCxn id="3379" idx="0"/>
                <a:endCxn id="3376" idx="4"/>
              </p:cNvCxnSpPr>
              <p:nvPr/>
            </p:nvCxnSpPr>
            <p:spPr>
              <a:xfrm flipH="1" flipV="1">
                <a:off x="3002040" y="2976840"/>
                <a:ext cx="461160" cy="3463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3" name=""/>
              <p:cNvCxnSpPr>
                <a:stCxn id="2587" idx="0"/>
                <a:endCxn id="3379" idx="4"/>
              </p:cNvCxnSpPr>
              <p:nvPr/>
            </p:nvCxnSpPr>
            <p:spPr>
              <a:xfrm flipH="1" flipV="1">
                <a:off x="3462840" y="3956400"/>
                <a:ext cx="115560" cy="173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cxnSp>
            <p:nvCxnSpPr>
              <p:cNvPr id="3384" name=""/>
              <p:cNvCxnSpPr>
                <a:stCxn id="3372" idx="1"/>
                <a:endCxn id="3379" idx="5"/>
              </p:cNvCxnSpPr>
              <p:nvPr/>
            </p:nvCxnSpPr>
            <p:spPr>
              <a:xfrm flipH="1" flipV="1">
                <a:off x="3687480" y="3863520"/>
                <a:ext cx="380880" cy="3006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</a:ln>
            </p:spPr>
          </p:cxnSp>
          <p:grpSp>
            <p:nvGrpSpPr>
              <p:cNvPr id="3385" name=""/>
              <p:cNvGrpSpPr/>
              <p:nvPr/>
            </p:nvGrpSpPr>
            <p:grpSpPr>
              <a:xfrm>
                <a:off x="4068000" y="4705560"/>
                <a:ext cx="518040" cy="296280"/>
                <a:chOff x="4068000" y="4705560"/>
                <a:chExt cx="518040" cy="296280"/>
              </a:xfrm>
            </p:grpSpPr>
            <p:sp>
              <p:nvSpPr>
                <p:cNvPr id="3386" name=""/>
                <p:cNvSpPr/>
                <p:nvPr/>
              </p:nvSpPr>
              <p:spPr>
                <a:xfrm rot="5400000">
                  <a:off x="4309560" y="4716720"/>
                  <a:ext cx="34560" cy="518040"/>
                </a:xfrm>
                <a:prstGeom prst="can">
                  <a:avLst>
                    <a:gd name="adj" fmla="val 3875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261680" y="4942440"/>
                  <a:ext cx="123840" cy="5940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310280" y="4848120"/>
                  <a:ext cx="29160" cy="101880"/>
                </a:xfrm>
                <a:prstGeom prst="can">
                  <a:avLst>
                    <a:gd name="adj" fmla="val 9560"/>
                  </a:avLst>
                </a:prstGeom>
                <a:solidFill>
                  <a:srgbClr val="dddddd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9" name=""/>
                <p:cNvGrpSpPr/>
                <p:nvPr/>
              </p:nvGrpSpPr>
              <p:grpSpPr>
                <a:xfrm>
                  <a:off x="4068360" y="4705560"/>
                  <a:ext cx="438480" cy="183600"/>
                  <a:chOff x="4068360" y="4705560"/>
                  <a:chExt cx="438480" cy="18360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4068360" y="4705560"/>
                    <a:ext cx="438480" cy="183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54720" bIns="54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4381560" y="4736160"/>
                    <a:ext cx="62280" cy="306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ff00"/>
                  </a:solidFill>
                  <a:ln w="936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4115160" y="4782240"/>
                    <a:ext cx="344520" cy="3024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4115160" y="4827960"/>
                    <a:ext cx="344520" cy="3060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77777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440" rIns="100440" tIns="-27000" bIns="-27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93" name=""/>
            <p:cNvSpPr/>
            <p:nvPr/>
          </p:nvSpPr>
          <p:spPr>
            <a:xfrm>
              <a:off x="2862720" y="23925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4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395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1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402" name=""/>
            <p:cNvCxnSpPr>
              <a:stCxn id="3401" idx="1"/>
              <a:endCxn id="3397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3" name=""/>
            <p:cNvCxnSpPr>
              <a:stCxn id="3401" idx="1"/>
              <a:endCxn id="3400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4" name=""/>
            <p:cNvCxnSpPr>
              <a:stCxn id="3401" idx="1"/>
              <a:endCxn id="3398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5" name=""/>
            <p:cNvCxnSpPr>
              <a:stCxn id="3397" idx="6"/>
              <a:endCxn id="3399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6" name=""/>
            <p:cNvCxnSpPr>
              <a:stCxn id="3397" idx="6"/>
              <a:endCxn id="3395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07" name=""/>
            <p:cNvCxnSpPr>
              <a:stCxn id="3397" idx="6"/>
              <a:endCxn id="3396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Nyomtató megosztás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09120" y="4495320"/>
            <a:ext cx="807732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yomtatók hierarchiába szervezhet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yomtató megosztás objektum tulajdonsága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nyomtató UNC útvo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ípus és nyomtatási képesség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phely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1828800" y="2128680"/>
            <a:ext cx="5637600" cy="2301480"/>
            <a:chOff x="1828800" y="2128680"/>
            <a:chExt cx="5637600" cy="2301480"/>
          </a:xfrm>
        </p:grpSpPr>
        <p:sp>
          <p:nvSpPr>
            <p:cNvPr id="3411" name=""/>
            <p:cNvSpPr/>
            <p:nvPr/>
          </p:nvSpPr>
          <p:spPr>
            <a:xfrm>
              <a:off x="2680200" y="2128680"/>
              <a:ext cx="916560" cy="785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6a00"/>
                </a:gs>
                <a:gs pos="50000">
                  <a:srgbClr val="ffe701"/>
                </a:gs>
                <a:gs pos="100000">
                  <a:srgbClr val="756a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82880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778120" y="3307680"/>
              <a:ext cx="72000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727800" y="3307680"/>
              <a:ext cx="720360" cy="720360"/>
            </a:xfrm>
            <a:prstGeom prst="ellipse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5" name=""/>
            <p:cNvCxnSpPr>
              <a:stCxn id="3412" idx="0"/>
              <a:endCxn id="3411" idx="2"/>
            </p:cNvCxnSpPr>
            <p:nvPr/>
          </p:nvCxnSpPr>
          <p:spPr>
            <a:xfrm flipV="1">
              <a:off x="2188800" y="2913840"/>
              <a:ext cx="49176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6" name=""/>
            <p:cNvCxnSpPr>
              <a:stCxn id="3413" idx="0"/>
              <a:endCxn id="3411" idx="3"/>
            </p:cNvCxnSpPr>
            <p:nvPr/>
          </p:nvCxnSpPr>
          <p:spPr>
            <a:xfrm flipV="1">
              <a:off x="3137760" y="2913840"/>
              <a:ext cx="108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7" name=""/>
            <p:cNvCxnSpPr>
              <a:stCxn id="3414" idx="0"/>
              <a:endCxn id="3411" idx="4"/>
            </p:cNvCxnSpPr>
            <p:nvPr/>
          </p:nvCxnSpPr>
          <p:spPr>
            <a:xfrm flipH="1" flipV="1">
              <a:off x="3596040" y="2913840"/>
              <a:ext cx="491400" cy="3934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418" name=""/>
            <p:cNvCxnSpPr>
              <a:endCxn id="3414" idx="5"/>
            </p:cNvCxnSpPr>
            <p:nvPr/>
          </p:nvCxnSpPr>
          <p:spPr>
            <a:xfrm flipH="1" flipV="1">
              <a:off x="4342320" y="3922560"/>
              <a:ext cx="433080" cy="3416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</a:ln>
          </p:spPr>
        </p:cxnSp>
        <p:sp>
          <p:nvSpPr>
            <p:cNvPr id="3419" name=""/>
            <p:cNvSpPr/>
            <p:nvPr/>
          </p:nvSpPr>
          <p:spPr>
            <a:xfrm>
              <a:off x="3404160" y="2226960"/>
              <a:ext cx="19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800" spc="-1" strike="noStrike">
                  <a:solidFill>
                    <a:srgbClr val="ffffff"/>
                  </a:solidFill>
                  <a:latin typeface="Arial"/>
                </a:rPr>
                <a:t>Tartomán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0" name=""/>
            <p:cNvGrpSpPr/>
            <p:nvPr/>
          </p:nvGrpSpPr>
          <p:grpSpPr>
            <a:xfrm>
              <a:off x="4382280" y="3972240"/>
              <a:ext cx="654840" cy="457920"/>
              <a:chOff x="4382280" y="3972240"/>
              <a:chExt cx="654840" cy="457920"/>
            </a:xfrm>
          </p:grpSpPr>
          <p:sp>
            <p:nvSpPr>
              <p:cNvPr id="3421" name=""/>
              <p:cNvSpPr/>
              <p:nvPr/>
            </p:nvSpPr>
            <p:spPr>
              <a:xfrm rot="5400000">
                <a:off x="4662360" y="4083480"/>
                <a:ext cx="53280" cy="613800"/>
              </a:xfrm>
              <a:prstGeom prst="can">
                <a:avLst>
                  <a:gd name="adj" fmla="val 3875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611240" y="4339800"/>
                <a:ext cx="148320" cy="903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668840" y="4194000"/>
                <a:ext cx="34920" cy="156960"/>
              </a:xfrm>
              <a:prstGeom prst="can">
                <a:avLst>
                  <a:gd name="adj" fmla="val 9560"/>
                </a:avLst>
              </a:prstGeom>
              <a:solidFill>
                <a:srgbClr val="dddddd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4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82360" y="3972240"/>
                <a:ext cx="554760" cy="33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25" name=""/>
            <p:cNvGrpSpPr/>
            <p:nvPr/>
          </p:nvGrpSpPr>
          <p:grpSpPr>
            <a:xfrm>
              <a:off x="5269320" y="2269080"/>
              <a:ext cx="2197080" cy="1777320"/>
              <a:chOff x="5269320" y="2269080"/>
              <a:chExt cx="2197080" cy="1777320"/>
            </a:xfrm>
          </p:grpSpPr>
          <p:grpSp>
            <p:nvGrpSpPr>
              <p:cNvPr id="3426" name=""/>
              <p:cNvGrpSpPr/>
              <p:nvPr/>
            </p:nvGrpSpPr>
            <p:grpSpPr>
              <a:xfrm>
                <a:off x="6674400" y="2269080"/>
                <a:ext cx="792000" cy="1084680"/>
                <a:chOff x="6674400" y="2269080"/>
                <a:chExt cx="792000" cy="108468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726624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0" y="0"/>
                      </a:moveTo>
                      <a:lnTo>
                        <a:pt x="192" y="24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878880" y="2269080"/>
                  <a:ext cx="379800" cy="1084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e7e7e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6928920" y="2317320"/>
                  <a:ext cx="280080" cy="66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100000">
                      <a:srgbClr val="ffff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6928920" y="2317320"/>
                  <a:ext cx="280080" cy="112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976440" y="2520000"/>
                  <a:ext cx="185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38720" y="2520000"/>
                  <a:ext cx="61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6928920" y="2438280"/>
                  <a:ext cx="280080" cy="150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6674400" y="3309480"/>
                  <a:ext cx="200160" cy="24840"/>
                </a:xfrm>
                <a:custGeom>
                  <a:avLst/>
                  <a:gdLst/>
                  <a:ahLst/>
                  <a:rect l="l" t="t" r="r" b="b"/>
                  <a:pathLst>
                    <a:path w="193" h="25">
                      <a:moveTo>
                        <a:pt x="192" y="0"/>
                      </a:moveTo>
                      <a:lnTo>
                        <a:pt x="0" y="24"/>
                      </a:lnTo>
                      <a:lnTo>
                        <a:pt x="192" y="24"/>
                      </a:lnTo>
                      <a:lnTo>
                        <a:pt x="192" y="0"/>
                      </a:lnTo>
                    </a:path>
                  </a:pathLst>
                </a:custGeom>
                <a:solidFill>
                  <a:srgbClr val="23232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35" name=""/>
              <p:cNvSpPr/>
              <p:nvPr/>
            </p:nvSpPr>
            <p:spPr>
              <a:xfrm flipV="1" rot="19278000">
                <a:off x="5213520" y="3304440"/>
                <a:ext cx="1440720" cy="327600"/>
              </a:xfrm>
              <a:prstGeom prst="rightArrow">
                <a:avLst>
                  <a:gd name="adj1" fmla="val 50000"/>
                  <a:gd name="adj2" fmla="val 109945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6" name=""/>
              <p:cNvGrpSpPr/>
              <p:nvPr/>
            </p:nvGrpSpPr>
            <p:grpSpPr>
              <a:xfrm>
                <a:off x="6477480" y="2596680"/>
                <a:ext cx="862200" cy="365040"/>
                <a:chOff x="6477480" y="2596680"/>
                <a:chExt cx="862200" cy="365040"/>
              </a:xfrm>
            </p:grpSpPr>
            <p:pic>
              <p:nvPicPr>
                <p:cNvPr id="34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582960" y="2596680"/>
                  <a:ext cx="75672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38" name=""/>
                <p:cNvGrpSpPr/>
                <p:nvPr/>
              </p:nvGrpSpPr>
              <p:grpSpPr>
                <a:xfrm>
                  <a:off x="6477480" y="2819880"/>
                  <a:ext cx="346680" cy="141840"/>
                  <a:chOff x="6477480" y="2819880"/>
                  <a:chExt cx="346680" cy="141840"/>
                </a:xfrm>
              </p:grpSpPr>
              <p:sp>
                <p:nvSpPr>
                  <p:cNvPr id="3439" name=""/>
                  <p:cNvSpPr/>
                  <p:nvPr/>
                </p:nvSpPr>
                <p:spPr>
                  <a:xfrm flipH="1">
                    <a:off x="6584400" y="2820600"/>
                    <a:ext cx="23796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734">
                        <a:moveTo>
                          <a:pt x="1117" y="659"/>
                        </a:moveTo>
                        <a:lnTo>
                          <a:pt x="1109" y="659"/>
                        </a:lnTo>
                        <a:lnTo>
                          <a:pt x="1100" y="660"/>
                        </a:lnTo>
                        <a:lnTo>
                          <a:pt x="1088" y="662"/>
                        </a:lnTo>
                        <a:lnTo>
                          <a:pt x="1076" y="666"/>
                        </a:lnTo>
                        <a:lnTo>
                          <a:pt x="1062" y="669"/>
                        </a:lnTo>
                        <a:lnTo>
                          <a:pt x="1047" y="674"/>
                        </a:lnTo>
                        <a:lnTo>
                          <a:pt x="1032" y="680"/>
                        </a:lnTo>
                        <a:lnTo>
                          <a:pt x="1016" y="684"/>
                        </a:lnTo>
                        <a:lnTo>
                          <a:pt x="1001" y="690"/>
                        </a:lnTo>
                        <a:lnTo>
                          <a:pt x="985" y="695"/>
                        </a:lnTo>
                        <a:lnTo>
                          <a:pt x="971" y="700"/>
                        </a:lnTo>
                        <a:lnTo>
                          <a:pt x="956" y="705"/>
                        </a:lnTo>
                        <a:lnTo>
                          <a:pt x="943" y="708"/>
                        </a:lnTo>
                        <a:lnTo>
                          <a:pt x="932" y="712"/>
                        </a:lnTo>
                        <a:lnTo>
                          <a:pt x="923" y="714"/>
                        </a:lnTo>
                        <a:lnTo>
                          <a:pt x="915" y="715"/>
                        </a:lnTo>
                        <a:lnTo>
                          <a:pt x="897" y="716"/>
                        </a:lnTo>
                        <a:lnTo>
                          <a:pt x="875" y="718"/>
                        </a:lnTo>
                        <a:lnTo>
                          <a:pt x="849" y="719"/>
                        </a:lnTo>
                        <a:lnTo>
                          <a:pt x="821" y="719"/>
                        </a:lnTo>
                        <a:lnTo>
                          <a:pt x="795" y="720"/>
                        </a:lnTo>
                        <a:lnTo>
                          <a:pt x="772" y="720"/>
                        </a:lnTo>
                        <a:lnTo>
                          <a:pt x="754" y="720"/>
                        </a:lnTo>
                        <a:lnTo>
                          <a:pt x="744" y="720"/>
                        </a:lnTo>
                        <a:lnTo>
                          <a:pt x="738" y="720"/>
                        </a:lnTo>
                        <a:lnTo>
                          <a:pt x="733" y="721"/>
                        </a:lnTo>
                        <a:lnTo>
                          <a:pt x="726" y="723"/>
                        </a:lnTo>
                        <a:lnTo>
                          <a:pt x="718" y="726"/>
                        </a:lnTo>
                        <a:lnTo>
                          <a:pt x="710" y="728"/>
                        </a:lnTo>
                        <a:lnTo>
                          <a:pt x="700" y="730"/>
                        </a:lnTo>
                        <a:lnTo>
                          <a:pt x="691" y="733"/>
                        </a:lnTo>
                        <a:lnTo>
                          <a:pt x="681" y="734"/>
                        </a:lnTo>
                        <a:lnTo>
                          <a:pt x="670" y="734"/>
                        </a:lnTo>
                        <a:lnTo>
                          <a:pt x="659" y="731"/>
                        </a:lnTo>
                        <a:lnTo>
                          <a:pt x="649" y="728"/>
                        </a:lnTo>
                        <a:lnTo>
                          <a:pt x="638" y="724"/>
                        </a:lnTo>
                        <a:lnTo>
                          <a:pt x="629" y="720"/>
                        </a:lnTo>
                        <a:lnTo>
                          <a:pt x="621" y="715"/>
                        </a:lnTo>
                        <a:lnTo>
                          <a:pt x="614" y="713"/>
                        </a:lnTo>
                        <a:lnTo>
                          <a:pt x="609" y="712"/>
                        </a:lnTo>
                        <a:lnTo>
                          <a:pt x="608" y="712"/>
                        </a:lnTo>
                        <a:lnTo>
                          <a:pt x="610" y="712"/>
                        </a:lnTo>
                        <a:lnTo>
                          <a:pt x="615" y="711"/>
                        </a:lnTo>
                        <a:lnTo>
                          <a:pt x="619" y="710"/>
                        </a:lnTo>
                        <a:lnTo>
                          <a:pt x="620" y="708"/>
                        </a:lnTo>
                        <a:lnTo>
                          <a:pt x="615" y="706"/>
                        </a:lnTo>
                        <a:lnTo>
                          <a:pt x="602" y="703"/>
                        </a:lnTo>
                        <a:lnTo>
                          <a:pt x="581" y="698"/>
                        </a:lnTo>
                        <a:lnTo>
                          <a:pt x="554" y="690"/>
                        </a:lnTo>
                        <a:lnTo>
                          <a:pt x="530" y="680"/>
                        </a:lnTo>
                        <a:lnTo>
                          <a:pt x="508" y="666"/>
                        </a:lnTo>
                        <a:lnTo>
                          <a:pt x="488" y="651"/>
                        </a:lnTo>
                        <a:lnTo>
                          <a:pt x="473" y="636"/>
                        </a:lnTo>
                        <a:lnTo>
                          <a:pt x="461" y="622"/>
                        </a:lnTo>
                        <a:lnTo>
                          <a:pt x="450" y="612"/>
                        </a:lnTo>
                        <a:lnTo>
                          <a:pt x="445" y="605"/>
                        </a:lnTo>
                        <a:lnTo>
                          <a:pt x="440" y="601"/>
                        </a:lnTo>
                        <a:lnTo>
                          <a:pt x="435" y="597"/>
                        </a:lnTo>
                        <a:lnTo>
                          <a:pt x="430" y="593"/>
                        </a:lnTo>
                        <a:lnTo>
                          <a:pt x="424" y="590"/>
                        </a:lnTo>
                        <a:lnTo>
                          <a:pt x="418" y="587"/>
                        </a:lnTo>
                        <a:lnTo>
                          <a:pt x="411" y="583"/>
                        </a:lnTo>
                        <a:lnTo>
                          <a:pt x="405" y="580"/>
                        </a:lnTo>
                        <a:lnTo>
                          <a:pt x="399" y="577"/>
                        </a:lnTo>
                        <a:lnTo>
                          <a:pt x="392" y="573"/>
                        </a:lnTo>
                        <a:lnTo>
                          <a:pt x="382" y="564"/>
                        </a:lnTo>
                        <a:lnTo>
                          <a:pt x="374" y="552"/>
                        </a:lnTo>
                        <a:lnTo>
                          <a:pt x="365" y="539"/>
                        </a:lnTo>
                        <a:lnTo>
                          <a:pt x="356" y="527"/>
                        </a:lnTo>
                        <a:lnTo>
                          <a:pt x="348" y="514"/>
                        </a:lnTo>
                        <a:lnTo>
                          <a:pt x="340" y="503"/>
                        </a:lnTo>
                        <a:lnTo>
                          <a:pt x="334" y="495"/>
                        </a:lnTo>
                        <a:lnTo>
                          <a:pt x="327" y="495"/>
                        </a:lnTo>
                        <a:lnTo>
                          <a:pt x="318" y="493"/>
                        </a:lnTo>
                        <a:lnTo>
                          <a:pt x="309" y="490"/>
                        </a:lnTo>
                        <a:lnTo>
                          <a:pt x="300" y="484"/>
                        </a:lnTo>
                        <a:lnTo>
                          <a:pt x="290" y="480"/>
                        </a:lnTo>
                        <a:lnTo>
                          <a:pt x="282" y="474"/>
                        </a:lnTo>
                        <a:lnTo>
                          <a:pt x="275" y="468"/>
                        </a:lnTo>
                        <a:lnTo>
                          <a:pt x="270" y="464"/>
                        </a:lnTo>
                        <a:lnTo>
                          <a:pt x="265" y="459"/>
                        </a:lnTo>
                        <a:lnTo>
                          <a:pt x="259" y="454"/>
                        </a:lnTo>
                        <a:lnTo>
                          <a:pt x="251" y="450"/>
                        </a:lnTo>
                        <a:lnTo>
                          <a:pt x="244" y="444"/>
                        </a:lnTo>
                        <a:lnTo>
                          <a:pt x="236" y="439"/>
                        </a:lnTo>
                        <a:lnTo>
                          <a:pt x="228" y="436"/>
                        </a:lnTo>
                        <a:lnTo>
                          <a:pt x="220" y="432"/>
                        </a:lnTo>
                        <a:lnTo>
                          <a:pt x="213" y="429"/>
                        </a:lnTo>
                        <a:lnTo>
                          <a:pt x="210" y="428"/>
                        </a:lnTo>
                        <a:lnTo>
                          <a:pt x="205" y="427"/>
                        </a:lnTo>
                        <a:lnTo>
                          <a:pt x="200" y="427"/>
                        </a:lnTo>
                        <a:lnTo>
                          <a:pt x="196" y="427"/>
                        </a:lnTo>
                        <a:lnTo>
                          <a:pt x="191" y="427"/>
                        </a:lnTo>
                        <a:lnTo>
                          <a:pt x="185" y="427"/>
                        </a:lnTo>
                        <a:lnTo>
                          <a:pt x="180" y="428"/>
                        </a:lnTo>
                        <a:lnTo>
                          <a:pt x="174" y="429"/>
                        </a:lnTo>
                        <a:lnTo>
                          <a:pt x="166" y="429"/>
                        </a:lnTo>
                        <a:lnTo>
                          <a:pt x="157" y="429"/>
                        </a:lnTo>
                        <a:lnTo>
                          <a:pt x="147" y="427"/>
                        </a:lnTo>
                        <a:lnTo>
                          <a:pt x="137" y="423"/>
                        </a:lnTo>
                        <a:lnTo>
                          <a:pt x="127" y="420"/>
                        </a:lnTo>
                        <a:lnTo>
                          <a:pt x="119" y="415"/>
                        </a:lnTo>
                        <a:lnTo>
                          <a:pt x="111" y="412"/>
                        </a:lnTo>
                        <a:lnTo>
                          <a:pt x="106" y="407"/>
                        </a:lnTo>
                        <a:lnTo>
                          <a:pt x="101" y="404"/>
                        </a:lnTo>
                        <a:lnTo>
                          <a:pt x="95" y="400"/>
                        </a:lnTo>
                        <a:lnTo>
                          <a:pt x="86" y="397"/>
                        </a:lnTo>
                        <a:lnTo>
                          <a:pt x="76" y="395"/>
                        </a:lnTo>
                        <a:lnTo>
                          <a:pt x="66" y="391"/>
                        </a:lnTo>
                        <a:lnTo>
                          <a:pt x="53" y="387"/>
                        </a:lnTo>
                        <a:lnTo>
                          <a:pt x="40" y="381"/>
                        </a:lnTo>
                        <a:lnTo>
                          <a:pt x="28" y="375"/>
                        </a:lnTo>
                        <a:lnTo>
                          <a:pt x="16" y="368"/>
                        </a:lnTo>
                        <a:lnTo>
                          <a:pt x="8" y="359"/>
                        </a:lnTo>
                        <a:lnTo>
                          <a:pt x="4" y="350"/>
                        </a:lnTo>
                        <a:lnTo>
                          <a:pt x="1" y="341"/>
                        </a:lnTo>
                        <a:lnTo>
                          <a:pt x="0" y="330"/>
                        </a:lnTo>
                        <a:lnTo>
                          <a:pt x="1" y="322"/>
                        </a:lnTo>
                        <a:lnTo>
                          <a:pt x="4" y="314"/>
                        </a:lnTo>
                        <a:lnTo>
                          <a:pt x="6" y="307"/>
                        </a:lnTo>
                        <a:lnTo>
                          <a:pt x="12" y="303"/>
                        </a:lnTo>
                        <a:lnTo>
                          <a:pt x="22" y="298"/>
                        </a:lnTo>
                        <a:lnTo>
                          <a:pt x="35" y="293"/>
                        </a:lnTo>
                        <a:lnTo>
                          <a:pt x="50" y="290"/>
                        </a:lnTo>
                        <a:lnTo>
                          <a:pt x="66" y="287"/>
                        </a:lnTo>
                        <a:lnTo>
                          <a:pt x="80" y="283"/>
                        </a:lnTo>
                        <a:lnTo>
                          <a:pt x="91" y="281"/>
                        </a:lnTo>
                        <a:lnTo>
                          <a:pt x="99" y="280"/>
                        </a:lnTo>
                        <a:lnTo>
                          <a:pt x="99" y="274"/>
                        </a:lnTo>
                        <a:lnTo>
                          <a:pt x="101" y="268"/>
                        </a:lnTo>
                        <a:lnTo>
                          <a:pt x="106" y="265"/>
                        </a:lnTo>
                        <a:lnTo>
                          <a:pt x="113" y="261"/>
                        </a:lnTo>
                        <a:lnTo>
                          <a:pt x="120" y="259"/>
                        </a:lnTo>
                        <a:lnTo>
                          <a:pt x="127" y="257"/>
                        </a:lnTo>
                        <a:lnTo>
                          <a:pt x="135" y="255"/>
                        </a:lnTo>
                        <a:lnTo>
                          <a:pt x="142" y="254"/>
                        </a:lnTo>
                        <a:lnTo>
                          <a:pt x="151" y="254"/>
                        </a:lnTo>
                        <a:lnTo>
                          <a:pt x="166" y="258"/>
                        </a:lnTo>
                        <a:lnTo>
                          <a:pt x="182" y="262"/>
                        </a:lnTo>
                        <a:lnTo>
                          <a:pt x="200" y="269"/>
                        </a:lnTo>
                        <a:lnTo>
                          <a:pt x="219" y="276"/>
                        </a:lnTo>
                        <a:lnTo>
                          <a:pt x="236" y="284"/>
                        </a:lnTo>
                        <a:lnTo>
                          <a:pt x="250" y="291"/>
                        </a:lnTo>
                        <a:lnTo>
                          <a:pt x="259" y="297"/>
                        </a:lnTo>
                        <a:lnTo>
                          <a:pt x="267" y="297"/>
                        </a:lnTo>
                        <a:lnTo>
                          <a:pt x="276" y="298"/>
                        </a:lnTo>
                        <a:lnTo>
                          <a:pt x="286" y="299"/>
                        </a:lnTo>
                        <a:lnTo>
                          <a:pt x="295" y="300"/>
                        </a:lnTo>
                        <a:lnTo>
                          <a:pt x="302" y="301"/>
                        </a:lnTo>
                        <a:lnTo>
                          <a:pt x="308" y="303"/>
                        </a:lnTo>
                        <a:lnTo>
                          <a:pt x="312" y="304"/>
                        </a:lnTo>
                        <a:lnTo>
                          <a:pt x="313" y="304"/>
                        </a:lnTo>
                        <a:lnTo>
                          <a:pt x="326" y="299"/>
                        </a:lnTo>
                        <a:lnTo>
                          <a:pt x="340" y="296"/>
                        </a:lnTo>
                        <a:lnTo>
                          <a:pt x="357" y="291"/>
                        </a:lnTo>
                        <a:lnTo>
                          <a:pt x="376" y="287"/>
                        </a:lnTo>
                        <a:lnTo>
                          <a:pt x="393" y="283"/>
                        </a:lnTo>
                        <a:lnTo>
                          <a:pt x="410" y="278"/>
                        </a:lnTo>
                        <a:lnTo>
                          <a:pt x="425" y="275"/>
                        </a:lnTo>
                        <a:lnTo>
                          <a:pt x="438" y="272"/>
                        </a:lnTo>
                        <a:lnTo>
                          <a:pt x="449" y="268"/>
                        </a:lnTo>
                        <a:lnTo>
                          <a:pt x="461" y="262"/>
                        </a:lnTo>
                        <a:lnTo>
                          <a:pt x="472" y="255"/>
                        </a:lnTo>
                        <a:lnTo>
                          <a:pt x="484" y="247"/>
                        </a:lnTo>
                        <a:lnTo>
                          <a:pt x="495" y="239"/>
                        </a:lnTo>
                        <a:lnTo>
                          <a:pt x="507" y="231"/>
                        </a:lnTo>
                        <a:lnTo>
                          <a:pt x="517" y="224"/>
                        </a:lnTo>
                        <a:lnTo>
                          <a:pt x="526" y="219"/>
                        </a:lnTo>
                        <a:lnTo>
                          <a:pt x="537" y="213"/>
                        </a:lnTo>
                        <a:lnTo>
                          <a:pt x="549" y="205"/>
                        </a:lnTo>
                        <a:lnTo>
                          <a:pt x="563" y="197"/>
                        </a:lnTo>
                        <a:lnTo>
                          <a:pt x="579" y="189"/>
                        </a:lnTo>
                        <a:lnTo>
                          <a:pt x="598" y="181"/>
                        </a:lnTo>
                        <a:lnTo>
                          <a:pt x="617" y="175"/>
                        </a:lnTo>
                        <a:lnTo>
                          <a:pt x="639" y="170"/>
                        </a:lnTo>
                        <a:lnTo>
                          <a:pt x="662" y="169"/>
                        </a:lnTo>
                        <a:lnTo>
                          <a:pt x="653" y="168"/>
                        </a:lnTo>
                        <a:lnTo>
                          <a:pt x="640" y="168"/>
                        </a:lnTo>
                        <a:lnTo>
                          <a:pt x="628" y="172"/>
                        </a:lnTo>
                        <a:lnTo>
                          <a:pt x="613" y="175"/>
                        </a:lnTo>
                        <a:lnTo>
                          <a:pt x="600" y="180"/>
                        </a:lnTo>
                        <a:lnTo>
                          <a:pt x="587" y="185"/>
                        </a:lnTo>
                        <a:lnTo>
                          <a:pt x="579" y="190"/>
                        </a:lnTo>
                        <a:lnTo>
                          <a:pt x="574" y="193"/>
                        </a:lnTo>
                        <a:lnTo>
                          <a:pt x="562" y="198"/>
                        </a:lnTo>
                        <a:lnTo>
                          <a:pt x="545" y="197"/>
                        </a:lnTo>
                        <a:lnTo>
                          <a:pt x="522" y="192"/>
                        </a:lnTo>
                        <a:lnTo>
                          <a:pt x="498" y="185"/>
                        </a:lnTo>
                        <a:lnTo>
                          <a:pt x="472" y="175"/>
                        </a:lnTo>
                        <a:lnTo>
                          <a:pt x="448" y="165"/>
                        </a:lnTo>
                        <a:lnTo>
                          <a:pt x="430" y="154"/>
                        </a:lnTo>
                        <a:lnTo>
                          <a:pt x="416" y="144"/>
                        </a:lnTo>
                        <a:lnTo>
                          <a:pt x="441" y="154"/>
                        </a:lnTo>
                        <a:lnTo>
                          <a:pt x="439" y="154"/>
                        </a:lnTo>
                        <a:lnTo>
                          <a:pt x="434" y="153"/>
                        </a:lnTo>
                        <a:lnTo>
                          <a:pt x="426" y="150"/>
                        </a:lnTo>
                        <a:lnTo>
                          <a:pt x="416" y="144"/>
                        </a:lnTo>
                        <a:lnTo>
                          <a:pt x="417" y="144"/>
                        </a:lnTo>
                        <a:lnTo>
                          <a:pt x="419" y="143"/>
                        </a:lnTo>
                        <a:lnTo>
                          <a:pt x="420" y="142"/>
                        </a:lnTo>
                        <a:lnTo>
                          <a:pt x="422" y="141"/>
                        </a:lnTo>
                        <a:lnTo>
                          <a:pt x="419" y="141"/>
                        </a:lnTo>
                        <a:lnTo>
                          <a:pt x="414" y="141"/>
                        </a:lnTo>
                        <a:lnTo>
                          <a:pt x="402" y="143"/>
                        </a:lnTo>
                        <a:lnTo>
                          <a:pt x="385" y="147"/>
                        </a:lnTo>
                        <a:lnTo>
                          <a:pt x="362" y="149"/>
                        </a:lnTo>
                        <a:lnTo>
                          <a:pt x="336" y="143"/>
                        </a:lnTo>
                        <a:lnTo>
                          <a:pt x="311" y="132"/>
                        </a:lnTo>
                        <a:lnTo>
                          <a:pt x="287" y="119"/>
                        </a:lnTo>
                        <a:lnTo>
                          <a:pt x="264" y="104"/>
                        </a:lnTo>
                        <a:lnTo>
                          <a:pt x="244" y="88"/>
                        </a:lnTo>
                        <a:lnTo>
                          <a:pt x="229" y="74"/>
                        </a:lnTo>
                        <a:lnTo>
                          <a:pt x="220" y="62"/>
                        </a:lnTo>
                        <a:lnTo>
                          <a:pt x="217" y="43"/>
                        </a:lnTo>
                        <a:lnTo>
                          <a:pt x="225" y="26"/>
                        </a:lnTo>
                        <a:lnTo>
                          <a:pt x="234" y="13"/>
                        </a:lnTo>
                        <a:lnTo>
                          <a:pt x="238" y="8"/>
                        </a:lnTo>
                        <a:lnTo>
                          <a:pt x="241" y="3"/>
                        </a:lnTo>
                        <a:lnTo>
                          <a:pt x="247" y="0"/>
                        </a:lnTo>
                        <a:lnTo>
                          <a:pt x="255" y="1"/>
                        </a:lnTo>
                        <a:lnTo>
                          <a:pt x="263" y="5"/>
                        </a:lnTo>
                        <a:lnTo>
                          <a:pt x="272" y="8"/>
                        </a:lnTo>
                        <a:lnTo>
                          <a:pt x="287" y="12"/>
                        </a:lnTo>
                        <a:lnTo>
                          <a:pt x="308" y="16"/>
                        </a:lnTo>
                        <a:lnTo>
                          <a:pt x="329" y="20"/>
                        </a:lnTo>
                        <a:lnTo>
                          <a:pt x="351" y="24"/>
                        </a:lnTo>
                        <a:lnTo>
                          <a:pt x="370" y="27"/>
                        </a:lnTo>
                        <a:lnTo>
                          <a:pt x="384" y="29"/>
                        </a:lnTo>
                        <a:lnTo>
                          <a:pt x="388" y="30"/>
                        </a:lnTo>
                        <a:lnTo>
                          <a:pt x="391" y="31"/>
                        </a:lnTo>
                        <a:lnTo>
                          <a:pt x="395" y="32"/>
                        </a:lnTo>
                        <a:lnTo>
                          <a:pt x="403" y="35"/>
                        </a:lnTo>
                        <a:lnTo>
                          <a:pt x="412" y="37"/>
                        </a:lnTo>
                        <a:lnTo>
                          <a:pt x="423" y="39"/>
                        </a:lnTo>
                        <a:lnTo>
                          <a:pt x="432" y="42"/>
                        </a:lnTo>
                        <a:lnTo>
                          <a:pt x="439" y="43"/>
                        </a:lnTo>
                        <a:lnTo>
                          <a:pt x="445" y="44"/>
                        </a:lnTo>
                        <a:lnTo>
                          <a:pt x="452" y="44"/>
                        </a:lnTo>
                        <a:lnTo>
                          <a:pt x="464" y="43"/>
                        </a:lnTo>
                        <a:lnTo>
                          <a:pt x="479" y="42"/>
                        </a:lnTo>
                        <a:lnTo>
                          <a:pt x="495" y="42"/>
                        </a:lnTo>
                        <a:lnTo>
                          <a:pt x="511" y="41"/>
                        </a:lnTo>
                        <a:lnTo>
                          <a:pt x="526" y="41"/>
                        </a:lnTo>
                        <a:lnTo>
                          <a:pt x="538" y="42"/>
                        </a:lnTo>
                        <a:lnTo>
                          <a:pt x="545" y="44"/>
                        </a:lnTo>
                        <a:lnTo>
                          <a:pt x="552" y="45"/>
                        </a:lnTo>
                        <a:lnTo>
                          <a:pt x="564" y="45"/>
                        </a:lnTo>
                        <a:lnTo>
                          <a:pt x="579" y="44"/>
                        </a:lnTo>
                        <a:lnTo>
                          <a:pt x="598" y="42"/>
                        </a:lnTo>
                        <a:lnTo>
                          <a:pt x="616" y="38"/>
                        </a:lnTo>
                        <a:lnTo>
                          <a:pt x="635" y="36"/>
                        </a:lnTo>
                        <a:lnTo>
                          <a:pt x="651" y="35"/>
                        </a:lnTo>
                        <a:lnTo>
                          <a:pt x="662" y="34"/>
                        </a:lnTo>
                        <a:lnTo>
                          <a:pt x="673" y="35"/>
                        </a:lnTo>
                        <a:lnTo>
                          <a:pt x="687" y="39"/>
                        </a:lnTo>
                        <a:lnTo>
                          <a:pt x="700" y="45"/>
                        </a:lnTo>
                        <a:lnTo>
                          <a:pt x="715" y="52"/>
                        </a:lnTo>
                        <a:lnTo>
                          <a:pt x="730" y="60"/>
                        </a:lnTo>
                        <a:lnTo>
                          <a:pt x="744" y="67"/>
                        </a:lnTo>
                        <a:lnTo>
                          <a:pt x="757" y="73"/>
                        </a:lnTo>
                        <a:lnTo>
                          <a:pt x="766" y="76"/>
                        </a:lnTo>
                        <a:lnTo>
                          <a:pt x="776" y="78"/>
                        </a:lnTo>
                        <a:lnTo>
                          <a:pt x="791" y="82"/>
                        </a:lnTo>
                        <a:lnTo>
                          <a:pt x="811" y="84"/>
                        </a:lnTo>
                        <a:lnTo>
                          <a:pt x="832" y="88"/>
                        </a:lnTo>
                        <a:lnTo>
                          <a:pt x="852" y="91"/>
                        </a:lnTo>
                        <a:lnTo>
                          <a:pt x="873" y="95"/>
                        </a:lnTo>
                        <a:lnTo>
                          <a:pt x="893" y="99"/>
                        </a:lnTo>
                        <a:lnTo>
                          <a:pt x="908" y="105"/>
                        </a:lnTo>
                        <a:lnTo>
                          <a:pt x="924" y="112"/>
                        </a:lnTo>
                        <a:lnTo>
                          <a:pt x="945" y="123"/>
                        </a:lnTo>
                        <a:lnTo>
                          <a:pt x="969" y="136"/>
                        </a:lnTo>
                        <a:lnTo>
                          <a:pt x="993" y="149"/>
                        </a:lnTo>
                        <a:lnTo>
                          <a:pt x="1015" y="162"/>
                        </a:lnTo>
                        <a:lnTo>
                          <a:pt x="1033" y="173"/>
                        </a:lnTo>
                        <a:lnTo>
                          <a:pt x="1046" y="181"/>
                        </a:lnTo>
                        <a:lnTo>
                          <a:pt x="1050" y="183"/>
                        </a:lnTo>
                        <a:lnTo>
                          <a:pt x="1122" y="205"/>
                        </a:lnTo>
                        <a:lnTo>
                          <a:pt x="1122" y="260"/>
                        </a:lnTo>
                        <a:lnTo>
                          <a:pt x="1129" y="353"/>
                        </a:lnTo>
                        <a:lnTo>
                          <a:pt x="1137" y="449"/>
                        </a:lnTo>
                        <a:lnTo>
                          <a:pt x="1139" y="510"/>
                        </a:lnTo>
                        <a:lnTo>
                          <a:pt x="1135" y="547"/>
                        </a:lnTo>
                        <a:lnTo>
                          <a:pt x="1129" y="592"/>
                        </a:lnTo>
                        <a:lnTo>
                          <a:pt x="1122" y="633"/>
                        </a:lnTo>
                        <a:lnTo>
                          <a:pt x="1117" y="659"/>
                        </a:lnTo>
                        <a:close/>
                      </a:path>
                    </a:pathLst>
                  </a:custGeom>
                  <a:solidFill>
                    <a:srgbClr val="dd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 flipH="1">
                    <a:off x="6589800" y="2945520"/>
                    <a:ext cx="424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4">
                        <a:moveTo>
                          <a:pt x="0" y="64"/>
                        </a:moveTo>
                        <a:lnTo>
                          <a:pt x="0" y="64"/>
                        </a:lnTo>
                        <a:lnTo>
                          <a:pt x="8" y="63"/>
                        </a:lnTo>
                        <a:lnTo>
                          <a:pt x="18" y="60"/>
                        </a:lnTo>
                        <a:lnTo>
                          <a:pt x="30" y="57"/>
                        </a:lnTo>
                        <a:lnTo>
                          <a:pt x="42" y="53"/>
                        </a:lnTo>
                        <a:lnTo>
                          <a:pt x="57" y="49"/>
                        </a:lnTo>
                        <a:lnTo>
                          <a:pt x="71" y="43"/>
                        </a:lnTo>
                        <a:lnTo>
                          <a:pt x="87" y="38"/>
                        </a:lnTo>
                        <a:lnTo>
                          <a:pt x="102" y="33"/>
                        </a:lnTo>
                        <a:lnTo>
                          <a:pt x="118" y="28"/>
                        </a:lnTo>
                        <a:lnTo>
                          <a:pt x="133" y="22"/>
                        </a:lnTo>
                        <a:lnTo>
                          <a:pt x="148" y="18"/>
                        </a:lnTo>
                        <a:lnTo>
                          <a:pt x="162" y="14"/>
                        </a:lnTo>
                        <a:lnTo>
                          <a:pt x="173" y="11"/>
                        </a:lnTo>
                        <a:lnTo>
                          <a:pt x="185" y="9"/>
                        </a:lnTo>
                        <a:lnTo>
                          <a:pt x="194" y="7"/>
                        </a:lnTo>
                        <a:lnTo>
                          <a:pt x="202" y="7"/>
                        </a:lnTo>
                        <a:lnTo>
                          <a:pt x="202" y="0"/>
                        </a:lnTo>
                        <a:lnTo>
                          <a:pt x="194" y="0"/>
                        </a:lnTo>
                        <a:lnTo>
                          <a:pt x="185" y="2"/>
                        </a:lnTo>
                        <a:lnTo>
                          <a:pt x="173" y="4"/>
                        </a:lnTo>
                        <a:lnTo>
                          <a:pt x="160" y="7"/>
                        </a:lnTo>
                        <a:lnTo>
                          <a:pt x="146" y="11"/>
                        </a:lnTo>
                        <a:lnTo>
                          <a:pt x="131" y="15"/>
                        </a:lnTo>
                        <a:lnTo>
                          <a:pt x="116" y="21"/>
                        </a:lnTo>
                        <a:lnTo>
                          <a:pt x="100" y="26"/>
                        </a:lnTo>
                        <a:lnTo>
                          <a:pt x="85" y="32"/>
                        </a:lnTo>
                        <a:lnTo>
                          <a:pt x="69" y="36"/>
                        </a:lnTo>
                        <a:lnTo>
                          <a:pt x="55" y="42"/>
                        </a:lnTo>
                        <a:lnTo>
                          <a:pt x="40" y="46"/>
                        </a:lnTo>
                        <a:lnTo>
                          <a:pt x="27" y="50"/>
                        </a:lnTo>
                        <a:lnTo>
                          <a:pt x="16" y="53"/>
                        </a:lnTo>
                        <a:lnTo>
                          <a:pt x="8" y="56"/>
                        </a:ln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H="1">
                    <a:off x="6632280" y="2955960"/>
                    <a:ext cx="352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10" y="12"/>
                        </a:lnTo>
                        <a:lnTo>
                          <a:pt x="28" y="12"/>
                        </a:lnTo>
                        <a:lnTo>
                          <a:pt x="51" y="12"/>
                        </a:lnTo>
                        <a:lnTo>
                          <a:pt x="77" y="11"/>
                        </a:lnTo>
                        <a:lnTo>
                          <a:pt x="105" y="11"/>
                        </a:lnTo>
                        <a:lnTo>
                          <a:pt x="131" y="9"/>
                        </a:lnTo>
                        <a:lnTo>
                          <a:pt x="153" y="8"/>
                        </a:lnTo>
                        <a:lnTo>
                          <a:pt x="171" y="7"/>
                        </a:lnTo>
                        <a:lnTo>
                          <a:pt x="171" y="0"/>
                        </a:lnTo>
                        <a:lnTo>
                          <a:pt x="153" y="1"/>
                        </a:lnTo>
                        <a:lnTo>
                          <a:pt x="131" y="2"/>
                        </a:lnTo>
                        <a:lnTo>
                          <a:pt x="105" y="2"/>
                        </a:lnTo>
                        <a:lnTo>
                          <a:pt x="77" y="2"/>
                        </a:lnTo>
                        <a:lnTo>
                          <a:pt x="51" y="3"/>
                        </a:lnTo>
                        <a:lnTo>
                          <a:pt x="28" y="3"/>
                        </a:lnTo>
                        <a:lnTo>
                          <a:pt x="1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>
                    <a:off x="6667200" y="2957040"/>
                    <a:ext cx="133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2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10" y="21"/>
                        </a:lnTo>
                        <a:lnTo>
                          <a:pt x="19" y="19"/>
                        </a:lnTo>
                        <a:lnTo>
                          <a:pt x="30" y="16"/>
                        </a:lnTo>
                        <a:lnTo>
                          <a:pt x="38" y="14"/>
                        </a:lnTo>
                        <a:lnTo>
                          <a:pt x="46" y="12"/>
                        </a:lnTo>
                        <a:lnTo>
                          <a:pt x="53" y="9"/>
                        </a:lnTo>
                        <a:lnTo>
                          <a:pt x="57" y="8"/>
                        </a:lnTo>
                        <a:lnTo>
                          <a:pt x="63" y="9"/>
                        </a:lnTo>
                        <a:lnTo>
                          <a:pt x="63" y="0"/>
                        </a:lnTo>
                        <a:lnTo>
                          <a:pt x="57" y="1"/>
                        </a:lnTo>
                        <a:lnTo>
                          <a:pt x="50" y="3"/>
                        </a:lnTo>
                        <a:lnTo>
                          <a:pt x="44" y="5"/>
                        </a:lnTo>
                        <a:lnTo>
                          <a:pt x="35" y="7"/>
                        </a:lnTo>
                        <a:lnTo>
                          <a:pt x="27" y="9"/>
                        </a:lnTo>
                        <a:lnTo>
                          <a:pt x="19" y="12"/>
                        </a:lnTo>
                        <a:lnTo>
                          <a:pt x="10" y="14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>
                    <a:off x="6681240" y="295524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0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4" y="9"/>
                        </a:lnTo>
                        <a:lnTo>
                          <a:pt x="11" y="12"/>
                        </a:lnTo>
                        <a:lnTo>
                          <a:pt x="19" y="16"/>
                        </a:lnTo>
                        <a:lnTo>
                          <a:pt x="28" y="21"/>
                        </a:lnTo>
                        <a:lnTo>
                          <a:pt x="38" y="24"/>
                        </a:lnTo>
                        <a:lnTo>
                          <a:pt x="49" y="28"/>
                        </a:lnTo>
                        <a:lnTo>
                          <a:pt x="61" y="30"/>
                        </a:lnTo>
                        <a:lnTo>
                          <a:pt x="72" y="30"/>
                        </a:lnTo>
                        <a:lnTo>
                          <a:pt x="72" y="23"/>
                        </a:lnTo>
                        <a:lnTo>
                          <a:pt x="61" y="23"/>
                        </a:lnTo>
                        <a:lnTo>
                          <a:pt x="51" y="21"/>
                        </a:lnTo>
                        <a:lnTo>
                          <a:pt x="41" y="17"/>
                        </a:lnTo>
                        <a:lnTo>
                          <a:pt x="30" y="14"/>
                        </a:lnTo>
                        <a:lnTo>
                          <a:pt x="21" y="9"/>
                        </a:lnTo>
                        <a:lnTo>
                          <a:pt x="13" y="5"/>
                        </a:lnTo>
                        <a:lnTo>
                          <a:pt x="6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6693480" y="2952720"/>
                    <a:ext cx="86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1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21" y="11"/>
                        </a:lnTo>
                        <a:lnTo>
                          <a:pt x="33" y="15"/>
                        </a:lnTo>
                        <a:lnTo>
                          <a:pt x="36" y="16"/>
                        </a:lnTo>
                        <a:lnTo>
                          <a:pt x="36" y="11"/>
                        </a:lnTo>
                        <a:lnTo>
                          <a:pt x="33" y="12"/>
                        </a:lnTo>
                        <a:lnTo>
                          <a:pt x="29" y="13"/>
                        </a:lnTo>
                        <a:lnTo>
                          <a:pt x="27" y="12"/>
                        </a:lnTo>
                        <a:lnTo>
                          <a:pt x="28" y="21"/>
                        </a:lnTo>
                        <a:lnTo>
                          <a:pt x="28" y="12"/>
                        </a:lnTo>
                        <a:lnTo>
                          <a:pt x="27" y="21"/>
                        </a:lnTo>
                        <a:lnTo>
                          <a:pt x="29" y="20"/>
                        </a:lnTo>
                        <a:lnTo>
                          <a:pt x="35" y="19"/>
                        </a:lnTo>
                        <a:lnTo>
                          <a:pt x="39" y="18"/>
                        </a:lnTo>
                        <a:lnTo>
                          <a:pt x="41" y="11"/>
                        </a:lnTo>
                        <a:lnTo>
                          <a:pt x="35" y="8"/>
                        </a:lnTo>
                        <a:lnTo>
                          <a:pt x="21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>
                    <a:off x="6702120" y="2935080"/>
                    <a:ext cx="288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98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6" y="11"/>
                        </a:lnTo>
                        <a:lnTo>
                          <a:pt x="16" y="21"/>
                        </a:lnTo>
                        <a:lnTo>
                          <a:pt x="29" y="35"/>
                        </a:lnTo>
                        <a:lnTo>
                          <a:pt x="44" y="51"/>
                        </a:lnTo>
                        <a:lnTo>
                          <a:pt x="64" y="66"/>
                        </a:lnTo>
                        <a:lnTo>
                          <a:pt x="87" y="80"/>
                        </a:lnTo>
                        <a:lnTo>
                          <a:pt x="111" y="90"/>
                        </a:lnTo>
                        <a:lnTo>
                          <a:pt x="139" y="98"/>
                        </a:lnTo>
                        <a:lnTo>
                          <a:pt x="139" y="92"/>
                        </a:lnTo>
                        <a:lnTo>
                          <a:pt x="113" y="84"/>
                        </a:lnTo>
                        <a:lnTo>
                          <a:pt x="89" y="73"/>
                        </a:lnTo>
                        <a:lnTo>
                          <a:pt x="68" y="59"/>
                        </a:lnTo>
                        <a:lnTo>
                          <a:pt x="49" y="44"/>
                        </a:lnTo>
                        <a:lnTo>
                          <a:pt x="34" y="31"/>
                        </a:lnTo>
                        <a:lnTo>
                          <a:pt x="21" y="17"/>
                        </a:lnTo>
                        <a:lnTo>
                          <a:pt x="11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 flipH="1">
                    <a:off x="6729480" y="29296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7" y="9"/>
                        </a:lnTo>
                        <a:lnTo>
                          <a:pt x="13" y="13"/>
                        </a:lnTo>
                        <a:lnTo>
                          <a:pt x="20" y="16"/>
                        </a:lnTo>
                        <a:lnTo>
                          <a:pt x="25" y="19"/>
                        </a:lnTo>
                        <a:lnTo>
                          <a:pt x="30" y="23"/>
                        </a:lnTo>
                        <a:lnTo>
                          <a:pt x="36" y="26"/>
                        </a:lnTo>
                        <a:lnTo>
                          <a:pt x="41" y="31"/>
                        </a:lnTo>
                        <a:lnTo>
                          <a:pt x="45" y="33"/>
                        </a:lnTo>
                        <a:lnTo>
                          <a:pt x="50" y="29"/>
                        </a:lnTo>
                        <a:lnTo>
                          <a:pt x="45" y="24"/>
                        </a:lnTo>
                        <a:lnTo>
                          <a:pt x="41" y="19"/>
                        </a:lnTo>
                        <a:lnTo>
                          <a:pt x="35" y="16"/>
                        </a:lnTo>
                        <a:lnTo>
                          <a:pt x="29" y="13"/>
                        </a:lnTo>
                        <a:lnTo>
                          <a:pt x="22" y="9"/>
                        </a:lnTo>
                        <a:lnTo>
                          <a:pt x="15" y="6"/>
                        </a:lnTo>
                        <a:lnTo>
                          <a:pt x="10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 flipH="1">
                    <a:off x="6739920" y="2913840"/>
                    <a:ext cx="144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91">
                        <a:moveTo>
                          <a:pt x="4" y="8"/>
                        </a:moveTo>
                        <a:lnTo>
                          <a:pt x="0" y="7"/>
                        </a:lnTo>
                        <a:lnTo>
                          <a:pt x="5" y="15"/>
                        </a:lnTo>
                        <a:lnTo>
                          <a:pt x="13" y="26"/>
                        </a:lnTo>
                        <a:lnTo>
                          <a:pt x="22" y="39"/>
                        </a:lnTo>
                        <a:lnTo>
                          <a:pt x="31" y="52"/>
                        </a:lnTo>
                        <a:lnTo>
                          <a:pt x="40" y="64"/>
                        </a:lnTo>
                        <a:lnTo>
                          <a:pt x="48" y="76"/>
                        </a:lnTo>
                        <a:lnTo>
                          <a:pt x="58" y="86"/>
                        </a:lnTo>
                        <a:lnTo>
                          <a:pt x="66" y="91"/>
                        </a:lnTo>
                        <a:lnTo>
                          <a:pt x="69" y="84"/>
                        </a:lnTo>
                        <a:lnTo>
                          <a:pt x="63" y="79"/>
                        </a:lnTo>
                        <a:lnTo>
                          <a:pt x="55" y="71"/>
                        </a:lnTo>
                        <a:lnTo>
                          <a:pt x="47" y="60"/>
                        </a:lnTo>
                        <a:lnTo>
                          <a:pt x="38" y="47"/>
                        </a:lnTo>
                        <a:lnTo>
                          <a:pt x="28" y="34"/>
                        </a:lnTo>
                        <a:lnTo>
                          <a:pt x="20" y="22"/>
                        </a:lnTo>
                        <a:lnTo>
                          <a:pt x="12" y="10"/>
                        </a:lnTo>
                        <a:lnTo>
                          <a:pt x="7" y="2"/>
                        </a:lnTo>
                        <a:lnTo>
                          <a:pt x="2" y="1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>
                    <a:off x="6752520" y="2908440"/>
                    <a:ext cx="14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7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6" y="11"/>
                        </a:lnTo>
                        <a:lnTo>
                          <a:pt x="13" y="16"/>
                        </a:lnTo>
                        <a:lnTo>
                          <a:pt x="21" y="22"/>
                        </a:lnTo>
                        <a:lnTo>
                          <a:pt x="31" y="27"/>
                        </a:lnTo>
                        <a:lnTo>
                          <a:pt x="41" y="32"/>
                        </a:lnTo>
                        <a:lnTo>
                          <a:pt x="51" y="36"/>
                        </a:lnTo>
                        <a:lnTo>
                          <a:pt x="60" y="37"/>
                        </a:lnTo>
                        <a:lnTo>
                          <a:pt x="68" y="37"/>
                        </a:lnTo>
                        <a:lnTo>
                          <a:pt x="66" y="30"/>
                        </a:lnTo>
                        <a:lnTo>
                          <a:pt x="60" y="30"/>
                        </a:lnTo>
                        <a:lnTo>
                          <a:pt x="51" y="29"/>
                        </a:lnTo>
                        <a:lnTo>
                          <a:pt x="43" y="26"/>
                        </a:lnTo>
                        <a:lnTo>
                          <a:pt x="34" y="20"/>
                        </a:lnTo>
                        <a:lnTo>
                          <a:pt x="26" y="15"/>
                        </a:lnTo>
                        <a:lnTo>
                          <a:pt x="18" y="9"/>
                        </a:lnTo>
                        <a:lnTo>
                          <a:pt x="11" y="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 flipH="1">
                    <a:off x="6765840" y="29016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40">
                        <a:moveTo>
                          <a:pt x="2" y="6"/>
                        </a:moveTo>
                        <a:lnTo>
                          <a:pt x="2" y="6"/>
                        </a:lnTo>
                        <a:lnTo>
                          <a:pt x="9" y="10"/>
                        </a:lnTo>
                        <a:lnTo>
                          <a:pt x="17" y="13"/>
                        </a:lnTo>
                        <a:lnTo>
                          <a:pt x="25" y="17"/>
                        </a:lnTo>
                        <a:lnTo>
                          <a:pt x="32" y="21"/>
                        </a:lnTo>
                        <a:lnTo>
                          <a:pt x="39" y="27"/>
                        </a:lnTo>
                        <a:lnTo>
                          <a:pt x="47" y="32"/>
                        </a:lnTo>
                        <a:lnTo>
                          <a:pt x="53" y="35"/>
                        </a:lnTo>
                        <a:lnTo>
                          <a:pt x="57" y="40"/>
                        </a:lnTo>
                        <a:lnTo>
                          <a:pt x="62" y="35"/>
                        </a:lnTo>
                        <a:lnTo>
                          <a:pt x="57" y="31"/>
                        </a:lnTo>
                        <a:lnTo>
                          <a:pt x="52" y="25"/>
                        </a:lnTo>
                        <a:lnTo>
                          <a:pt x="43" y="20"/>
                        </a:lnTo>
                        <a:lnTo>
                          <a:pt x="37" y="15"/>
                        </a:lnTo>
                        <a:lnTo>
                          <a:pt x="27" y="10"/>
                        </a:lnTo>
                        <a:lnTo>
                          <a:pt x="19" y="6"/>
                        </a:lnTo>
                        <a:lnTo>
                          <a:pt x="11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 flipH="1">
                    <a:off x="6778080" y="2900880"/>
                    <a:ext cx="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6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2" y="9"/>
                        </a:lnTo>
                        <a:lnTo>
                          <a:pt x="26" y="9"/>
                        </a:lnTo>
                        <a:lnTo>
                          <a:pt x="31" y="8"/>
                        </a:lnTo>
                        <a:lnTo>
                          <a:pt x="35" y="9"/>
                        </a:lnTo>
                        <a:lnTo>
                          <a:pt x="38" y="10"/>
                        </a:lnTo>
                        <a:lnTo>
                          <a:pt x="40" y="4"/>
                        </a:lnTo>
                        <a:lnTo>
                          <a:pt x="37" y="2"/>
                        </a:lnTo>
                        <a:lnTo>
                          <a:pt x="31" y="1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>
                    <a:off x="6787080" y="289728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4" y="10"/>
                        </a:lnTo>
                        <a:lnTo>
                          <a:pt x="14" y="14"/>
                        </a:lnTo>
                        <a:lnTo>
                          <a:pt x="22" y="18"/>
                        </a:lnTo>
                        <a:lnTo>
                          <a:pt x="32" y="22"/>
                        </a:lnTo>
                        <a:lnTo>
                          <a:pt x="42" y="25"/>
                        </a:lnTo>
                        <a:lnTo>
                          <a:pt x="53" y="27"/>
                        </a:lnTo>
                        <a:lnTo>
                          <a:pt x="62" y="29"/>
                        </a:lnTo>
                        <a:lnTo>
                          <a:pt x="70" y="27"/>
                        </a:lnTo>
                        <a:lnTo>
                          <a:pt x="70" y="21"/>
                        </a:lnTo>
                        <a:lnTo>
                          <a:pt x="62" y="19"/>
                        </a:lnTo>
                        <a:lnTo>
                          <a:pt x="53" y="21"/>
                        </a:lnTo>
                        <a:lnTo>
                          <a:pt x="45" y="18"/>
                        </a:lnTo>
                        <a:lnTo>
                          <a:pt x="34" y="15"/>
                        </a:lnTo>
                        <a:lnTo>
                          <a:pt x="24" y="11"/>
                        </a:lnTo>
                        <a:lnTo>
                          <a:pt x="16" y="7"/>
                        </a:lnTo>
                        <a:lnTo>
                          <a:pt x="9" y="3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 flipH="1">
                    <a:off x="6800040" y="2891160"/>
                    <a:ext cx="169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8">
                        <a:moveTo>
                          <a:pt x="0" y="6"/>
                        </a:moveTo>
                        <a:lnTo>
                          <a:pt x="0" y="6"/>
                        </a:lnTo>
                        <a:lnTo>
                          <a:pt x="12" y="12"/>
                        </a:lnTo>
                        <a:lnTo>
                          <a:pt x="25" y="18"/>
                        </a:lnTo>
                        <a:lnTo>
                          <a:pt x="38" y="23"/>
                        </a:lnTo>
                        <a:lnTo>
                          <a:pt x="48" y="26"/>
                        </a:lnTo>
                        <a:lnTo>
                          <a:pt x="58" y="28"/>
                        </a:lnTo>
                        <a:lnTo>
                          <a:pt x="66" y="32"/>
                        </a:lnTo>
                        <a:lnTo>
                          <a:pt x="72" y="35"/>
                        </a:lnTo>
                        <a:lnTo>
                          <a:pt x="77" y="38"/>
                        </a:lnTo>
                        <a:lnTo>
                          <a:pt x="81" y="33"/>
                        </a:lnTo>
                        <a:lnTo>
                          <a:pt x="77" y="28"/>
                        </a:lnTo>
                        <a:lnTo>
                          <a:pt x="69" y="25"/>
                        </a:lnTo>
                        <a:lnTo>
                          <a:pt x="61" y="21"/>
                        </a:lnTo>
                        <a:lnTo>
                          <a:pt x="50" y="19"/>
                        </a:lnTo>
                        <a:lnTo>
                          <a:pt x="40" y="16"/>
                        </a:lnTo>
                        <a:lnTo>
                          <a:pt x="27" y="11"/>
                        </a:lnTo>
                        <a:lnTo>
                          <a:pt x="15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H="1">
                    <a:off x="6817680" y="28782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73">
                        <a:moveTo>
                          <a:pt x="7" y="0"/>
                        </a:moveTo>
                        <a:lnTo>
                          <a:pt x="7" y="1"/>
                        </a:lnTo>
                        <a:lnTo>
                          <a:pt x="5" y="8"/>
                        </a:lnTo>
                        <a:lnTo>
                          <a:pt x="3" y="17"/>
                        </a:lnTo>
                        <a:lnTo>
                          <a:pt x="0" y="25"/>
                        </a:lnTo>
                        <a:lnTo>
                          <a:pt x="3" y="36"/>
                        </a:lnTo>
                        <a:lnTo>
                          <a:pt x="5" y="46"/>
                        </a:lnTo>
                        <a:lnTo>
                          <a:pt x="10" y="56"/>
                        </a:lnTo>
                        <a:lnTo>
                          <a:pt x="19" y="67"/>
                        </a:lnTo>
                        <a:lnTo>
                          <a:pt x="32" y="73"/>
                        </a:lnTo>
                        <a:lnTo>
                          <a:pt x="34" y="67"/>
                        </a:lnTo>
                        <a:lnTo>
                          <a:pt x="23" y="60"/>
                        </a:lnTo>
                        <a:lnTo>
                          <a:pt x="17" y="52"/>
                        </a:lnTo>
                        <a:lnTo>
                          <a:pt x="12" y="44"/>
                        </a:lnTo>
                        <a:lnTo>
                          <a:pt x="10" y="36"/>
                        </a:lnTo>
                        <a:lnTo>
                          <a:pt x="10" y="25"/>
                        </a:lnTo>
                        <a:lnTo>
                          <a:pt x="10" y="17"/>
                        </a:lnTo>
                        <a:lnTo>
                          <a:pt x="12" y="10"/>
                        </a:lnTo>
                        <a:lnTo>
                          <a:pt x="14" y="3"/>
                        </a:lnTo>
                        <a:lnTo>
                          <a:pt x="14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>
                    <a:off x="6802200" y="2873160"/>
                    <a:ext cx="20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4">
                        <a:moveTo>
                          <a:pt x="94" y="4"/>
                        </a:moveTo>
                        <a:lnTo>
                          <a:pt x="97" y="0"/>
                        </a:lnTo>
                        <a:lnTo>
                          <a:pt x="89" y="1"/>
                        </a:lnTo>
                        <a:lnTo>
                          <a:pt x="78" y="4"/>
                        </a:lnTo>
                        <a:lnTo>
                          <a:pt x="64" y="7"/>
                        </a:lnTo>
                        <a:lnTo>
                          <a:pt x="48" y="11"/>
                        </a:lnTo>
                        <a:lnTo>
                          <a:pt x="31" y="14"/>
                        </a:lnTo>
                        <a:lnTo>
                          <a:pt x="19" y="19"/>
                        </a:lnTo>
                        <a:lnTo>
                          <a:pt x="8" y="23"/>
                        </a:lnTo>
                        <a:lnTo>
                          <a:pt x="0" y="29"/>
                        </a:ln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21" y="25"/>
                        </a:lnTo>
                        <a:lnTo>
                          <a:pt x="34" y="21"/>
                        </a:lnTo>
                        <a:lnTo>
                          <a:pt x="48" y="17"/>
                        </a:lnTo>
                        <a:lnTo>
                          <a:pt x="64" y="14"/>
                        </a:lnTo>
                        <a:lnTo>
                          <a:pt x="78" y="11"/>
                        </a:lnTo>
                        <a:lnTo>
                          <a:pt x="89" y="8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97" y="7"/>
                        </a:lnTo>
                        <a:lnTo>
                          <a:pt x="99" y="6"/>
                        </a:lnTo>
                        <a:lnTo>
                          <a:pt x="101" y="4"/>
                        </a:lnTo>
                        <a:lnTo>
                          <a:pt x="99" y="1"/>
                        </a:lnTo>
                        <a:lnTo>
                          <a:pt x="97" y="0"/>
                        </a:lnTo>
                        <a:lnTo>
                          <a:pt x="94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H="1">
                    <a:off x="6793560" y="2868120"/>
                    <a:ext cx="9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46" y="0"/>
                        </a:moveTo>
                        <a:lnTo>
                          <a:pt x="46" y="0"/>
                        </a:lnTo>
                        <a:lnTo>
                          <a:pt x="39" y="1"/>
                        </a:lnTo>
                        <a:lnTo>
                          <a:pt x="31" y="2"/>
                        </a:lnTo>
                        <a:lnTo>
                          <a:pt x="23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5"/>
                        </a:lnTo>
                        <a:lnTo>
                          <a:pt x="0" y="23"/>
                        </a:lnTo>
                        <a:lnTo>
                          <a:pt x="0" y="29"/>
                        </a:lnTo>
                        <a:lnTo>
                          <a:pt x="7" y="29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12" y="17"/>
                        </a:lnTo>
                        <a:lnTo>
                          <a:pt x="18" y="14"/>
                        </a:lnTo>
                        <a:lnTo>
                          <a:pt x="25" y="11"/>
                        </a:lnTo>
                        <a:lnTo>
                          <a:pt x="31" y="9"/>
                        </a:lnTo>
                        <a:lnTo>
                          <a:pt x="39" y="8"/>
                        </a:lnTo>
                        <a:lnTo>
                          <a:pt x="46" y="7"/>
                        </a:lnTo>
                        <a:lnTo>
                          <a:pt x="46" y="7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>
                    <a:off x="6768360" y="2868120"/>
                    <a:ext cx="252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50">
                        <a:moveTo>
                          <a:pt x="117" y="41"/>
                        </a:moveTo>
                        <a:lnTo>
                          <a:pt x="120" y="42"/>
                        </a:lnTo>
                        <a:lnTo>
                          <a:pt x="109" y="37"/>
                        </a:lnTo>
                        <a:lnTo>
                          <a:pt x="95" y="30"/>
                        </a:lnTo>
                        <a:lnTo>
                          <a:pt x="78" y="22"/>
                        </a:lnTo>
                        <a:lnTo>
                          <a:pt x="60" y="15"/>
                        </a:lnTo>
                        <a:lnTo>
                          <a:pt x="41" y="8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23" y="10"/>
                        </a:lnTo>
                        <a:lnTo>
                          <a:pt x="39" y="15"/>
                        </a:lnTo>
                        <a:lnTo>
                          <a:pt x="57" y="22"/>
                        </a:lnTo>
                        <a:lnTo>
                          <a:pt x="76" y="29"/>
                        </a:lnTo>
                        <a:lnTo>
                          <a:pt x="93" y="37"/>
                        </a:lnTo>
                        <a:lnTo>
                          <a:pt x="107" y="44"/>
                        </a:lnTo>
                        <a:lnTo>
                          <a:pt x="115" y="49"/>
                        </a:lnTo>
                        <a:lnTo>
                          <a:pt x="117" y="50"/>
                        </a:lnTo>
                        <a:lnTo>
                          <a:pt x="115" y="49"/>
                        </a:lnTo>
                        <a:lnTo>
                          <a:pt x="118" y="49"/>
                        </a:lnTo>
                        <a:lnTo>
                          <a:pt x="121" y="47"/>
                        </a:lnTo>
                        <a:lnTo>
                          <a:pt x="122" y="45"/>
                        </a:lnTo>
                        <a:lnTo>
                          <a:pt x="120" y="42"/>
                        </a:lnTo>
                        <a:lnTo>
                          <a:pt x="117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6757560" y="2876040"/>
                    <a:ext cx="115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5">
                        <a:moveTo>
                          <a:pt x="53" y="8"/>
                        </a:moveTo>
                        <a:lnTo>
                          <a:pt x="54" y="8"/>
                        </a:lnTo>
                        <a:lnTo>
                          <a:pt x="53" y="8"/>
                        </a:lnTo>
                        <a:lnTo>
                          <a:pt x="49" y="7"/>
                        </a:lnTo>
                        <a:lnTo>
                          <a:pt x="43" y="6"/>
                        </a:lnTo>
                        <a:lnTo>
                          <a:pt x="36" y="5"/>
                        </a:lnTo>
                        <a:lnTo>
                          <a:pt x="27" y="4"/>
                        </a:lnTo>
                        <a:lnTo>
                          <a:pt x="17" y="3"/>
                        </a:lnTo>
                        <a:lnTo>
                          <a:pt x="8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8"/>
                        </a:lnTo>
                        <a:lnTo>
                          <a:pt x="17" y="9"/>
                        </a:lnTo>
                        <a:lnTo>
                          <a:pt x="27" y="11"/>
                        </a:lnTo>
                        <a:lnTo>
                          <a:pt x="36" y="12"/>
                        </a:lnTo>
                        <a:lnTo>
                          <a:pt x="43" y="13"/>
                        </a:lnTo>
                        <a:lnTo>
                          <a:pt x="49" y="14"/>
                        </a:lnTo>
                        <a:lnTo>
                          <a:pt x="53" y="15"/>
                        </a:lnTo>
                        <a:lnTo>
                          <a:pt x="54" y="15"/>
                        </a:lnTo>
                        <a:lnTo>
                          <a:pt x="55" y="15"/>
                        </a:lnTo>
                        <a:lnTo>
                          <a:pt x="54" y="15"/>
                        </a:lnTo>
                        <a:lnTo>
                          <a:pt x="57" y="14"/>
                        </a:lnTo>
                        <a:lnTo>
                          <a:pt x="58" y="12"/>
                        </a:lnTo>
                        <a:lnTo>
                          <a:pt x="57" y="9"/>
                        </a:lnTo>
                        <a:lnTo>
                          <a:pt x="54" y="8"/>
                        </a:lnTo>
                        <a:lnTo>
                          <a:pt x="53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 flipH="1">
                    <a:off x="6732000" y="2871360"/>
                    <a:ext cx="25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9">
                        <a:moveTo>
                          <a:pt x="126" y="0"/>
                        </a:moveTo>
                        <a:lnTo>
                          <a:pt x="125" y="0"/>
                        </a:lnTo>
                        <a:lnTo>
                          <a:pt x="113" y="4"/>
                        </a:lnTo>
                        <a:lnTo>
                          <a:pt x="98" y="7"/>
                        </a:lnTo>
                        <a:lnTo>
                          <a:pt x="81" y="12"/>
                        </a:lnTo>
                        <a:lnTo>
                          <a:pt x="64" y="15"/>
                        </a:lnTo>
                        <a:lnTo>
                          <a:pt x="44" y="20"/>
                        </a:lnTo>
                        <a:lnTo>
                          <a:pt x="27" y="24"/>
                        </a:lnTo>
                        <a:lnTo>
                          <a:pt x="13" y="28"/>
                        </a:lnTo>
                        <a:lnTo>
                          <a:pt x="0" y="32"/>
                        </a:lnTo>
                        <a:lnTo>
                          <a:pt x="2" y="39"/>
                        </a:lnTo>
                        <a:lnTo>
                          <a:pt x="15" y="35"/>
                        </a:lnTo>
                        <a:lnTo>
                          <a:pt x="29" y="31"/>
                        </a:lnTo>
                        <a:lnTo>
                          <a:pt x="46" y="27"/>
                        </a:lnTo>
                        <a:lnTo>
                          <a:pt x="64" y="22"/>
                        </a:lnTo>
                        <a:lnTo>
                          <a:pt x="81" y="19"/>
                        </a:lnTo>
                        <a:lnTo>
                          <a:pt x="98" y="14"/>
                        </a:lnTo>
                        <a:lnTo>
                          <a:pt x="113" y="10"/>
                        </a:lnTo>
                        <a:lnTo>
                          <a:pt x="127" y="7"/>
                        </a:lnTo>
                        <a:lnTo>
                          <a:pt x="126" y="7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 flipH="1">
                    <a:off x="6712920" y="286164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0">
                        <a:moveTo>
                          <a:pt x="87" y="0"/>
                        </a:moveTo>
                        <a:lnTo>
                          <a:pt x="87" y="0"/>
                        </a:lnTo>
                        <a:lnTo>
                          <a:pt x="77" y="6"/>
                        </a:lnTo>
                        <a:lnTo>
                          <a:pt x="67" y="13"/>
                        </a:lnTo>
                        <a:lnTo>
                          <a:pt x="55" y="21"/>
                        </a:lnTo>
                        <a:lnTo>
                          <a:pt x="44" y="29"/>
                        </a:lnTo>
                        <a:lnTo>
                          <a:pt x="32" y="37"/>
                        </a:lnTo>
                        <a:lnTo>
                          <a:pt x="22" y="44"/>
                        </a:lnTo>
                        <a:lnTo>
                          <a:pt x="10" y="50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12" y="57"/>
                        </a:lnTo>
                        <a:lnTo>
                          <a:pt x="24" y="51"/>
                        </a:lnTo>
                        <a:lnTo>
                          <a:pt x="37" y="44"/>
                        </a:lnTo>
                        <a:lnTo>
                          <a:pt x="48" y="36"/>
                        </a:lnTo>
                        <a:lnTo>
                          <a:pt x="60" y="28"/>
                        </a:lnTo>
                        <a:lnTo>
                          <a:pt x="71" y="20"/>
                        </a:lnTo>
                        <a:lnTo>
                          <a:pt x="82" y="13"/>
                        </a:lnTo>
                        <a:lnTo>
                          <a:pt x="90" y="7"/>
                        </a:lnTo>
                        <a:lnTo>
                          <a:pt x="90" y="7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>
                    <a:off x="6683400" y="2851920"/>
                    <a:ext cx="2916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7">
                        <a:moveTo>
                          <a:pt x="136" y="8"/>
                        </a:moveTo>
                        <a:lnTo>
                          <a:pt x="137" y="0"/>
                        </a:lnTo>
                        <a:lnTo>
                          <a:pt x="114" y="2"/>
                        </a:lnTo>
                        <a:lnTo>
                          <a:pt x="92" y="7"/>
                        </a:lnTo>
                        <a:lnTo>
                          <a:pt x="72" y="12"/>
                        </a:lnTo>
                        <a:lnTo>
                          <a:pt x="53" y="20"/>
                        </a:lnTo>
                        <a:lnTo>
                          <a:pt x="37" y="28"/>
                        </a:lnTo>
                        <a:lnTo>
                          <a:pt x="22" y="36"/>
                        </a:lnTo>
                        <a:lnTo>
                          <a:pt x="9" y="45"/>
                        </a:lnTo>
                        <a:lnTo>
                          <a:pt x="0" y="50"/>
                        </a:lnTo>
                        <a:lnTo>
                          <a:pt x="3" y="57"/>
                        </a:lnTo>
                        <a:lnTo>
                          <a:pt x="14" y="51"/>
                        </a:lnTo>
                        <a:lnTo>
                          <a:pt x="27" y="43"/>
                        </a:lnTo>
                        <a:lnTo>
                          <a:pt x="39" y="35"/>
                        </a:lnTo>
                        <a:lnTo>
                          <a:pt x="56" y="27"/>
                        </a:lnTo>
                        <a:lnTo>
                          <a:pt x="74" y="19"/>
                        </a:lnTo>
                        <a:lnTo>
                          <a:pt x="92" y="13"/>
                        </a:lnTo>
                        <a:lnTo>
                          <a:pt x="114" y="9"/>
                        </a:lnTo>
                        <a:lnTo>
                          <a:pt x="137" y="9"/>
                        </a:lnTo>
                        <a:lnTo>
                          <a:pt x="138" y="1"/>
                        </a:lnTo>
                        <a:lnTo>
                          <a:pt x="137" y="9"/>
                        </a:lnTo>
                        <a:lnTo>
                          <a:pt x="141" y="8"/>
                        </a:lnTo>
                        <a:lnTo>
                          <a:pt x="142" y="4"/>
                        </a:lnTo>
                        <a:lnTo>
                          <a:pt x="141" y="1"/>
                        </a:lnTo>
                        <a:lnTo>
                          <a:pt x="137" y="0"/>
                        </a:lnTo>
                        <a:lnTo>
                          <a:pt x="136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>
                    <a:off x="6683760" y="2851920"/>
                    <a:ext cx="190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2">
                        <a:moveTo>
                          <a:pt x="5" y="32"/>
                        </a:moveTo>
                        <a:lnTo>
                          <a:pt x="5" y="32"/>
                        </a:lnTo>
                        <a:lnTo>
                          <a:pt x="11" y="29"/>
                        </a:lnTo>
                        <a:lnTo>
                          <a:pt x="18" y="25"/>
                        </a:lnTo>
                        <a:lnTo>
                          <a:pt x="30" y="19"/>
                        </a:lnTo>
                        <a:lnTo>
                          <a:pt x="43" y="14"/>
                        </a:lnTo>
                        <a:lnTo>
                          <a:pt x="57" y="11"/>
                        </a:lnTo>
                        <a:lnTo>
                          <a:pt x="69" y="8"/>
                        </a:lnTo>
                        <a:lnTo>
                          <a:pt x="82" y="9"/>
                        </a:lnTo>
                        <a:lnTo>
                          <a:pt x="90" y="9"/>
                        </a:lnTo>
                        <a:lnTo>
                          <a:pt x="92" y="2"/>
                        </a:lnTo>
                        <a:lnTo>
                          <a:pt x="82" y="0"/>
                        </a:lnTo>
                        <a:lnTo>
                          <a:pt x="69" y="1"/>
                        </a:lnTo>
                        <a:lnTo>
                          <a:pt x="57" y="4"/>
                        </a:lnTo>
                        <a:lnTo>
                          <a:pt x="41" y="8"/>
                        </a:lnTo>
                        <a:lnTo>
                          <a:pt x="28" y="12"/>
                        </a:lnTo>
                        <a:lnTo>
                          <a:pt x="15" y="18"/>
                        </a:lnTo>
                        <a:lnTo>
                          <a:pt x="6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5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>
                    <a:off x="6702840" y="2847240"/>
                    <a:ext cx="338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60">
                        <a:moveTo>
                          <a:pt x="3" y="0"/>
                        </a:moveTo>
                        <a:lnTo>
                          <a:pt x="0" y="5"/>
                        </a:lnTo>
                        <a:lnTo>
                          <a:pt x="13" y="17"/>
                        </a:lnTo>
                        <a:lnTo>
                          <a:pt x="33" y="27"/>
                        </a:lnTo>
                        <a:lnTo>
                          <a:pt x="57" y="37"/>
                        </a:lnTo>
                        <a:lnTo>
                          <a:pt x="82" y="48"/>
                        </a:lnTo>
                        <a:lnTo>
                          <a:pt x="108" y="55"/>
                        </a:lnTo>
                        <a:lnTo>
                          <a:pt x="131" y="59"/>
                        </a:lnTo>
                        <a:lnTo>
                          <a:pt x="148" y="60"/>
                        </a:lnTo>
                        <a:lnTo>
                          <a:pt x="162" y="55"/>
                        </a:lnTo>
                        <a:lnTo>
                          <a:pt x="157" y="50"/>
                        </a:lnTo>
                        <a:lnTo>
                          <a:pt x="148" y="54"/>
                        </a:lnTo>
                        <a:lnTo>
                          <a:pt x="131" y="52"/>
                        </a:lnTo>
                        <a:lnTo>
                          <a:pt x="108" y="48"/>
                        </a:lnTo>
                        <a:lnTo>
                          <a:pt x="85" y="41"/>
                        </a:lnTo>
                        <a:lnTo>
                          <a:pt x="59" y="31"/>
                        </a:lnTo>
                        <a:lnTo>
                          <a:pt x="35" y="20"/>
                        </a:lnTo>
                        <a:lnTo>
                          <a:pt x="18" y="10"/>
                        </a:lnTo>
                        <a:lnTo>
                          <a:pt x="4" y="1"/>
                        </a:lnTo>
                        <a:lnTo>
                          <a:pt x="1" y="6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>
                    <a:off x="672984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26" y="18"/>
                        </a:moveTo>
                        <a:lnTo>
                          <a:pt x="27" y="10"/>
                        </a:lnTo>
                        <a:lnTo>
                          <a:pt x="2" y="0"/>
                        </a:lnTo>
                        <a:lnTo>
                          <a:pt x="0" y="6"/>
                        </a:lnTo>
                        <a:lnTo>
                          <a:pt x="25" y="17"/>
                        </a:lnTo>
                        <a:lnTo>
                          <a:pt x="26" y="9"/>
                        </a:lnTo>
                        <a:lnTo>
                          <a:pt x="25" y="17"/>
                        </a:lnTo>
                        <a:lnTo>
                          <a:pt x="28" y="17"/>
                        </a:lnTo>
                        <a:lnTo>
                          <a:pt x="30" y="14"/>
                        </a:lnTo>
                        <a:lnTo>
                          <a:pt x="30" y="11"/>
                        </a:lnTo>
                        <a:lnTo>
                          <a:pt x="27" y="10"/>
                        </a:lnTo>
                        <a:lnTo>
                          <a:pt x="2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H="1">
                    <a:off x="6730200" y="2847240"/>
                    <a:ext cx="61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">
                        <a:moveTo>
                          <a:pt x="4" y="0"/>
                        </a:moveTo>
                        <a:lnTo>
                          <a:pt x="3" y="6"/>
                        </a:lnTo>
                        <a:lnTo>
                          <a:pt x="14" y="12"/>
                        </a:lnTo>
                        <a:lnTo>
                          <a:pt x="22" y="16"/>
                        </a:lnTo>
                        <a:lnTo>
                          <a:pt x="28" y="17"/>
                        </a:lnTo>
                        <a:lnTo>
                          <a:pt x="30" y="18"/>
                        </a:lnTo>
                        <a:lnTo>
                          <a:pt x="30" y="9"/>
                        </a:lnTo>
                        <a:lnTo>
                          <a:pt x="28" y="10"/>
                        </a:lnTo>
                        <a:lnTo>
                          <a:pt x="24" y="9"/>
                        </a:lnTo>
                        <a:lnTo>
                          <a:pt x="16" y="5"/>
                        </a:lnTo>
                        <a:lnTo>
                          <a:pt x="7" y="0"/>
                        </a:lnTo>
                        <a:lnTo>
                          <a:pt x="6" y="6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3" y="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 flipH="1">
                    <a:off x="6734160" y="2846520"/>
                    <a:ext cx="8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5">
                        <a:moveTo>
                          <a:pt x="0" y="15"/>
                        </a:moveTo>
                        <a:lnTo>
                          <a:pt x="0" y="15"/>
                        </a:lnTo>
                        <a:lnTo>
                          <a:pt x="17" y="10"/>
                        </a:lnTo>
                        <a:lnTo>
                          <a:pt x="29" y="8"/>
                        </a:lnTo>
                        <a:lnTo>
                          <a:pt x="34" y="9"/>
                        </a:lnTo>
                        <a:lnTo>
                          <a:pt x="34" y="7"/>
                        </a:lnTo>
                        <a:lnTo>
                          <a:pt x="33" y="3"/>
                        </a:lnTo>
                        <a:lnTo>
                          <a:pt x="32" y="3"/>
                        </a:lnTo>
                        <a:lnTo>
                          <a:pt x="31" y="5"/>
                        </a:lnTo>
                        <a:lnTo>
                          <a:pt x="30" y="5"/>
                        </a:lnTo>
                        <a:lnTo>
                          <a:pt x="32" y="11"/>
                        </a:lnTo>
                        <a:lnTo>
                          <a:pt x="33" y="11"/>
                        </a:lnTo>
                        <a:lnTo>
                          <a:pt x="37" y="10"/>
                        </a:lnTo>
                        <a:lnTo>
                          <a:pt x="38" y="8"/>
                        </a:lnTo>
                        <a:lnTo>
                          <a:pt x="39" y="2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17" y="3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H="1">
                    <a:off x="6742440" y="2832120"/>
                    <a:ext cx="34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92">
                        <a:moveTo>
                          <a:pt x="0" y="4"/>
                        </a:moveTo>
                        <a:lnTo>
                          <a:pt x="0" y="5"/>
                        </a:lnTo>
                        <a:lnTo>
                          <a:pt x="10" y="16"/>
                        </a:lnTo>
                        <a:lnTo>
                          <a:pt x="25" y="31"/>
                        </a:lnTo>
                        <a:lnTo>
                          <a:pt x="45" y="47"/>
                        </a:lnTo>
                        <a:lnTo>
                          <a:pt x="68" y="62"/>
                        </a:lnTo>
                        <a:lnTo>
                          <a:pt x="93" y="76"/>
                        </a:lnTo>
                        <a:lnTo>
                          <a:pt x="118" y="86"/>
                        </a:lnTo>
                        <a:lnTo>
                          <a:pt x="145" y="92"/>
                        </a:lnTo>
                        <a:lnTo>
                          <a:pt x="168" y="91"/>
                        </a:lnTo>
                        <a:lnTo>
                          <a:pt x="168" y="84"/>
                        </a:lnTo>
                        <a:lnTo>
                          <a:pt x="145" y="85"/>
                        </a:lnTo>
                        <a:lnTo>
                          <a:pt x="121" y="79"/>
                        </a:lnTo>
                        <a:lnTo>
                          <a:pt x="95" y="69"/>
                        </a:lnTo>
                        <a:lnTo>
                          <a:pt x="72" y="55"/>
                        </a:lnTo>
                        <a:lnTo>
                          <a:pt x="49" y="40"/>
                        </a:lnTo>
                        <a:lnTo>
                          <a:pt x="30" y="24"/>
                        </a:lnTo>
                        <a:lnTo>
                          <a:pt x="15" y="12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>
                    <a:off x="6771600" y="2821320"/>
                    <a:ext cx="6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9">
                        <a:moveTo>
                          <a:pt x="21" y="3"/>
                        </a:moveTo>
                        <a:lnTo>
                          <a:pt x="23" y="1"/>
                        </a:lnTo>
                        <a:lnTo>
                          <a:pt x="17" y="6"/>
                        </a:lnTo>
                        <a:lnTo>
                          <a:pt x="8" y="18"/>
                        </a:lnTo>
                        <a:lnTo>
                          <a:pt x="0" y="38"/>
                        </a:lnTo>
                        <a:lnTo>
                          <a:pt x="4" y="59"/>
                        </a:lnTo>
                        <a:lnTo>
                          <a:pt x="11" y="56"/>
                        </a:lnTo>
                        <a:lnTo>
                          <a:pt x="7" y="38"/>
                        </a:lnTo>
                        <a:lnTo>
                          <a:pt x="15" y="23"/>
                        </a:lnTo>
                        <a:lnTo>
                          <a:pt x="24" y="10"/>
                        </a:lnTo>
                        <a:lnTo>
                          <a:pt x="28" y="6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29" y="3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3" y="1"/>
                        </a:lnTo>
                        <a:lnTo>
                          <a:pt x="21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>
                    <a:off x="6767640" y="2819880"/>
                    <a:ext cx="61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4"/>
                        </a:moveTo>
                        <a:lnTo>
                          <a:pt x="31" y="4"/>
                        </a:lnTo>
                        <a:lnTo>
                          <a:pt x="22" y="1"/>
                        </a:lnTo>
                        <a:lnTo>
                          <a:pt x="13" y="0"/>
                        </a:lnTo>
                        <a:lnTo>
                          <a:pt x="4" y="3"/>
                        </a:lnTo>
                        <a:lnTo>
                          <a:pt x="0" y="11"/>
                        </a:lnTo>
                        <a:lnTo>
                          <a:pt x="9" y="11"/>
                        </a:lnTo>
                        <a:lnTo>
                          <a:pt x="9" y="8"/>
                        </a:lnTo>
                        <a:lnTo>
                          <a:pt x="13" y="7"/>
                        </a:lnTo>
                        <a:lnTo>
                          <a:pt x="19" y="8"/>
                        </a:lnTo>
                        <a:lnTo>
                          <a:pt x="26" y="11"/>
                        </a:lnTo>
                        <a:lnTo>
                          <a:pt x="26" y="11"/>
                        </a:lnTo>
                        <a:lnTo>
                          <a:pt x="3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H="1">
                    <a:off x="6741360" y="2820960"/>
                    <a:ext cx="27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3">
                        <a:moveTo>
                          <a:pt x="129" y="26"/>
                        </a:moveTo>
                        <a:lnTo>
                          <a:pt x="128" y="26"/>
                        </a:lnTo>
                        <a:lnTo>
                          <a:pt x="124" y="25"/>
                        </a:lnTo>
                        <a:lnTo>
                          <a:pt x="110" y="22"/>
                        </a:lnTo>
                        <a:lnTo>
                          <a:pt x="91" y="20"/>
                        </a:lnTo>
                        <a:lnTo>
                          <a:pt x="69" y="15"/>
                        </a:lnTo>
                        <a:lnTo>
                          <a:pt x="48" y="12"/>
                        </a:lnTo>
                        <a:lnTo>
                          <a:pt x="27" y="7"/>
                        </a:lnTo>
                        <a:lnTo>
                          <a:pt x="13" y="4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1"/>
                        </a:lnTo>
                        <a:lnTo>
                          <a:pt x="27" y="14"/>
                        </a:lnTo>
                        <a:lnTo>
                          <a:pt x="48" y="19"/>
                        </a:lnTo>
                        <a:lnTo>
                          <a:pt x="69" y="22"/>
                        </a:lnTo>
                        <a:lnTo>
                          <a:pt x="91" y="27"/>
                        </a:lnTo>
                        <a:lnTo>
                          <a:pt x="110" y="29"/>
                        </a:lnTo>
                        <a:lnTo>
                          <a:pt x="124" y="31"/>
                        </a:lnTo>
                        <a:lnTo>
                          <a:pt x="128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31" y="31"/>
                        </a:lnTo>
                        <a:lnTo>
                          <a:pt x="132" y="29"/>
                        </a:lnTo>
                        <a:lnTo>
                          <a:pt x="131" y="27"/>
                        </a:lnTo>
                        <a:lnTo>
                          <a:pt x="128" y="26"/>
                        </a:lnTo>
                        <a:lnTo>
                          <a:pt x="129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 flipH="1">
                    <a:off x="6730560" y="282564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22">
                        <a:moveTo>
                          <a:pt x="58" y="12"/>
                        </a:move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5" y="11"/>
                        </a:lnTo>
                        <a:lnTo>
                          <a:pt x="36" y="9"/>
                        </a:lnTo>
                        <a:lnTo>
                          <a:pt x="25" y="7"/>
                        </a:lnTo>
                        <a:lnTo>
                          <a:pt x="17" y="4"/>
                        </a:lnTo>
                        <a:lnTo>
                          <a:pt x="9" y="2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2" y="8"/>
                        </a:lnTo>
                        <a:lnTo>
                          <a:pt x="7" y="9"/>
                        </a:lnTo>
                        <a:lnTo>
                          <a:pt x="15" y="11"/>
                        </a:lnTo>
                        <a:lnTo>
                          <a:pt x="25" y="14"/>
                        </a:lnTo>
                        <a:lnTo>
                          <a:pt x="36" y="16"/>
                        </a:lnTo>
                        <a:lnTo>
                          <a:pt x="45" y="18"/>
                        </a:lnTo>
                        <a:lnTo>
                          <a:pt x="52" y="19"/>
                        </a:lnTo>
                        <a:lnTo>
                          <a:pt x="58" y="22"/>
                        </a:lnTo>
                        <a:lnTo>
                          <a:pt x="58" y="22"/>
                        </a:lnTo>
                        <a:lnTo>
                          <a:pt x="5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 flipH="1">
                    <a:off x="6708960" y="282744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3">
                        <a:moveTo>
                          <a:pt x="102" y="5"/>
                        </a:moveTo>
                        <a:lnTo>
                          <a:pt x="102" y="5"/>
                        </a:lnTo>
                        <a:lnTo>
                          <a:pt x="93" y="2"/>
                        </a:lnTo>
                        <a:lnTo>
                          <a:pt x="81" y="0"/>
                        </a:lnTo>
                        <a:lnTo>
                          <a:pt x="66" y="0"/>
                        </a:lnTo>
                        <a:lnTo>
                          <a:pt x="50" y="1"/>
                        </a:lnTo>
                        <a:lnTo>
                          <a:pt x="34" y="1"/>
                        </a:lnTo>
                        <a:lnTo>
                          <a:pt x="19" y="3"/>
                        </a:lnTo>
                        <a:lnTo>
                          <a:pt x="7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19" y="10"/>
                        </a:lnTo>
                        <a:lnTo>
                          <a:pt x="34" y="10"/>
                        </a:lnTo>
                        <a:lnTo>
                          <a:pt x="50" y="10"/>
                        </a:lnTo>
                        <a:lnTo>
                          <a:pt x="66" y="9"/>
                        </a:lnTo>
                        <a:lnTo>
                          <a:pt x="81" y="9"/>
                        </a:lnTo>
                        <a:lnTo>
                          <a:pt x="93" y="9"/>
                        </a:lnTo>
                        <a:lnTo>
                          <a:pt x="98" y="11"/>
                        </a:lnTo>
                        <a:lnTo>
                          <a:pt x="98" y="11"/>
                        </a:lnTo>
                        <a:lnTo>
                          <a:pt x="10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H="1">
                    <a:off x="6684480" y="2826000"/>
                    <a:ext cx="248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1">
                        <a:moveTo>
                          <a:pt x="119" y="0"/>
                        </a:moveTo>
                        <a:lnTo>
                          <a:pt x="119" y="0"/>
                        </a:lnTo>
                        <a:lnTo>
                          <a:pt x="108" y="2"/>
                        </a:lnTo>
                        <a:lnTo>
                          <a:pt x="92" y="3"/>
                        </a:lnTo>
                        <a:lnTo>
                          <a:pt x="73" y="6"/>
                        </a:lnTo>
                        <a:lnTo>
                          <a:pt x="55" y="9"/>
                        </a:lnTo>
                        <a:lnTo>
                          <a:pt x="36" y="12"/>
                        </a:lnTo>
                        <a:lnTo>
                          <a:pt x="21" y="12"/>
                        </a:lnTo>
                        <a:lnTo>
                          <a:pt x="9" y="12"/>
                        </a:lnTo>
                        <a:lnTo>
                          <a:pt x="4" y="12"/>
                        </a:lnTo>
                        <a:lnTo>
                          <a:pt x="0" y="18"/>
                        </a:lnTo>
                        <a:lnTo>
                          <a:pt x="9" y="21"/>
                        </a:lnTo>
                        <a:lnTo>
                          <a:pt x="21" y="21"/>
                        </a:lnTo>
                        <a:lnTo>
                          <a:pt x="36" y="18"/>
                        </a:lnTo>
                        <a:lnTo>
                          <a:pt x="55" y="16"/>
                        </a:lnTo>
                        <a:lnTo>
                          <a:pt x="73" y="13"/>
                        </a:lnTo>
                        <a:lnTo>
                          <a:pt x="92" y="10"/>
                        </a:lnTo>
                        <a:lnTo>
                          <a:pt x="108" y="9"/>
                        </a:lnTo>
                        <a:lnTo>
                          <a:pt x="119" y="9"/>
                        </a:lnTo>
                        <a:lnTo>
                          <a:pt x="119" y="9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>
                    <a:off x="6662160" y="2826000"/>
                    <a:ext cx="219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1">
                        <a:moveTo>
                          <a:pt x="105" y="44"/>
                        </a:moveTo>
                        <a:lnTo>
                          <a:pt x="105" y="44"/>
                        </a:lnTo>
                        <a:lnTo>
                          <a:pt x="96" y="40"/>
                        </a:lnTo>
                        <a:lnTo>
                          <a:pt x="83" y="35"/>
                        </a:lnTo>
                        <a:lnTo>
                          <a:pt x="69" y="28"/>
                        </a:lnTo>
                        <a:lnTo>
                          <a:pt x="54" y="20"/>
                        </a:lnTo>
                        <a:lnTo>
                          <a:pt x="39" y="13"/>
                        </a:lnTo>
                        <a:lnTo>
                          <a:pt x="26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11" y="9"/>
                        </a:lnTo>
                        <a:lnTo>
                          <a:pt x="23" y="14"/>
                        </a:lnTo>
                        <a:lnTo>
                          <a:pt x="37" y="20"/>
                        </a:lnTo>
                        <a:lnTo>
                          <a:pt x="52" y="26"/>
                        </a:lnTo>
                        <a:lnTo>
                          <a:pt x="67" y="35"/>
                        </a:lnTo>
                        <a:lnTo>
                          <a:pt x="81" y="41"/>
                        </a:lnTo>
                        <a:lnTo>
                          <a:pt x="94" y="47"/>
                        </a:lnTo>
                        <a:lnTo>
                          <a:pt x="103" y="51"/>
                        </a:lnTo>
                        <a:lnTo>
                          <a:pt x="103" y="51"/>
                        </a:lnTo>
                        <a:lnTo>
                          <a:pt x="105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H="1">
                    <a:off x="6633000" y="2834280"/>
                    <a:ext cx="29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35">
                        <a:moveTo>
                          <a:pt x="144" y="28"/>
                        </a:moveTo>
                        <a:lnTo>
                          <a:pt x="144" y="28"/>
                        </a:lnTo>
                        <a:lnTo>
                          <a:pt x="129" y="23"/>
                        </a:lnTo>
                        <a:lnTo>
                          <a:pt x="108" y="18"/>
                        </a:lnTo>
                        <a:lnTo>
                          <a:pt x="87" y="15"/>
                        </a:lnTo>
                        <a:lnTo>
                          <a:pt x="67" y="11"/>
                        </a:lnTo>
                        <a:lnTo>
                          <a:pt x="46" y="8"/>
                        </a:lnTo>
                        <a:lnTo>
                          <a:pt x="26" y="5"/>
                        </a:lnTo>
                        <a:lnTo>
                          <a:pt x="11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1" y="9"/>
                        </a:lnTo>
                        <a:lnTo>
                          <a:pt x="26" y="12"/>
                        </a:lnTo>
                        <a:lnTo>
                          <a:pt x="46" y="15"/>
                        </a:lnTo>
                        <a:lnTo>
                          <a:pt x="67" y="18"/>
                        </a:lnTo>
                        <a:lnTo>
                          <a:pt x="87" y="22"/>
                        </a:lnTo>
                        <a:lnTo>
                          <a:pt x="108" y="25"/>
                        </a:lnTo>
                        <a:lnTo>
                          <a:pt x="127" y="30"/>
                        </a:lnTo>
                        <a:lnTo>
                          <a:pt x="142" y="35"/>
                        </a:lnTo>
                        <a:lnTo>
                          <a:pt x="142" y="35"/>
                        </a:lnTo>
                        <a:lnTo>
                          <a:pt x="144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H="1">
                    <a:off x="6602040" y="2840040"/>
                    <a:ext cx="31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86">
                        <a:moveTo>
                          <a:pt x="145" y="79"/>
                        </a:moveTo>
                        <a:lnTo>
                          <a:pt x="146" y="79"/>
                        </a:lnTo>
                        <a:lnTo>
                          <a:pt x="141" y="76"/>
                        </a:lnTo>
                        <a:lnTo>
                          <a:pt x="129" y="68"/>
                        </a:lnTo>
                        <a:lnTo>
                          <a:pt x="110" y="58"/>
                        </a:lnTo>
                        <a:lnTo>
                          <a:pt x="87" y="44"/>
                        </a:lnTo>
                        <a:lnTo>
                          <a:pt x="63" y="31"/>
                        </a:lnTo>
                        <a:lnTo>
                          <a:pt x="39" y="19"/>
                        </a:lnTo>
                        <a:lnTo>
                          <a:pt x="18" y="7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6" y="14"/>
                        </a:lnTo>
                        <a:lnTo>
                          <a:pt x="36" y="26"/>
                        </a:lnTo>
                        <a:lnTo>
                          <a:pt x="61" y="38"/>
                        </a:lnTo>
                        <a:lnTo>
                          <a:pt x="85" y="51"/>
                        </a:lnTo>
                        <a:lnTo>
                          <a:pt x="105" y="65"/>
                        </a:lnTo>
                        <a:lnTo>
                          <a:pt x="124" y="75"/>
                        </a:lnTo>
                        <a:lnTo>
                          <a:pt x="137" y="83"/>
                        </a:lnTo>
                        <a:lnTo>
                          <a:pt x="141" y="86"/>
                        </a:lnTo>
                        <a:lnTo>
                          <a:pt x="142" y="86"/>
                        </a:lnTo>
                        <a:lnTo>
                          <a:pt x="141" y="86"/>
                        </a:lnTo>
                        <a:lnTo>
                          <a:pt x="145" y="86"/>
                        </a:lnTo>
                        <a:lnTo>
                          <a:pt x="147" y="83"/>
                        </a:lnTo>
                        <a:lnTo>
                          <a:pt x="148" y="81"/>
                        </a:lnTo>
                        <a:lnTo>
                          <a:pt x="146" y="79"/>
                        </a:lnTo>
                        <a:lnTo>
                          <a:pt x="145" y="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 flipH="1">
                    <a:off x="6587280" y="28548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8">
                        <a:moveTo>
                          <a:pt x="76" y="26"/>
                        </a:moveTo>
                        <a:lnTo>
                          <a:pt x="74" y="21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72" y="28"/>
                        </a:lnTo>
                        <a:lnTo>
                          <a:pt x="69" y="24"/>
                        </a:lnTo>
                        <a:lnTo>
                          <a:pt x="72" y="28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3"/>
                        </a:lnTo>
                        <a:lnTo>
                          <a:pt x="74" y="21"/>
                        </a:lnTo>
                        <a:lnTo>
                          <a:pt x="7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3" y="152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3" y="145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3" y="1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H="1">
                    <a:off x="6772320" y="28213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2"/>
                        </a:move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 flipH="1">
                    <a:off x="6764040" y="282168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8">
                        <a:moveTo>
                          <a:pt x="45" y="31"/>
                        </a:moveTo>
                        <a:lnTo>
                          <a:pt x="44" y="30"/>
                        </a:lnTo>
                        <a:lnTo>
                          <a:pt x="39" y="28"/>
                        </a:lnTo>
                        <a:lnTo>
                          <a:pt x="36" y="25"/>
                        </a:lnTo>
                        <a:lnTo>
                          <a:pt x="29" y="21"/>
                        </a:lnTo>
                        <a:lnTo>
                          <a:pt x="23" y="16"/>
                        </a:lnTo>
                        <a:lnTo>
                          <a:pt x="16" y="12"/>
                        </a:lnTo>
                        <a:lnTo>
                          <a:pt x="10" y="6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6" y="10"/>
                        </a:lnTo>
                        <a:lnTo>
                          <a:pt x="12" y="16"/>
                        </a:lnTo>
                        <a:lnTo>
                          <a:pt x="18" y="23"/>
                        </a:lnTo>
                        <a:lnTo>
                          <a:pt x="24" y="28"/>
                        </a:lnTo>
                        <a:lnTo>
                          <a:pt x="31" y="32"/>
                        </a:lnTo>
                        <a:lnTo>
                          <a:pt x="37" y="35"/>
                        </a:lnTo>
                        <a:lnTo>
                          <a:pt x="39" y="37"/>
                        </a:lnTo>
                        <a:lnTo>
                          <a:pt x="40" y="38"/>
                        </a:lnTo>
                        <a:lnTo>
                          <a:pt x="4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6763680" y="28278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 flipH="1">
                    <a:off x="6753600" y="29142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 flipH="1">
                    <a:off x="6724080" y="2914200"/>
                    <a:ext cx="29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2">
                        <a:moveTo>
                          <a:pt x="142" y="25"/>
                        </a:moveTo>
                        <a:lnTo>
                          <a:pt x="142" y="25"/>
                        </a:lnTo>
                        <a:lnTo>
                          <a:pt x="130" y="21"/>
                        </a:lnTo>
                        <a:lnTo>
                          <a:pt x="114" y="16"/>
                        </a:lnTo>
                        <a:lnTo>
                          <a:pt x="95" y="13"/>
                        </a:lnTo>
                        <a:lnTo>
                          <a:pt x="73" y="9"/>
                        </a:lnTo>
                        <a:lnTo>
                          <a:pt x="51" y="7"/>
                        </a:lnTo>
                        <a:lnTo>
                          <a:pt x="30" y="4"/>
                        </a:lnTo>
                        <a:lnTo>
                          <a:pt x="13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3" y="9"/>
                        </a:lnTo>
                        <a:lnTo>
                          <a:pt x="30" y="10"/>
                        </a:lnTo>
                        <a:lnTo>
                          <a:pt x="51" y="14"/>
                        </a:lnTo>
                        <a:lnTo>
                          <a:pt x="73" y="16"/>
                        </a:lnTo>
                        <a:lnTo>
                          <a:pt x="95" y="20"/>
                        </a:lnTo>
                        <a:lnTo>
                          <a:pt x="114" y="23"/>
                        </a:lnTo>
                        <a:lnTo>
                          <a:pt x="128" y="28"/>
                        </a:lnTo>
                        <a:lnTo>
                          <a:pt x="137" y="32"/>
                        </a:lnTo>
                        <a:lnTo>
                          <a:pt x="137" y="32"/>
                        </a:lnTo>
                        <a:lnTo>
                          <a:pt x="142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H="1">
                    <a:off x="6705000" y="2918880"/>
                    <a:ext cx="19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3">
                        <a:moveTo>
                          <a:pt x="92" y="36"/>
                        </a:moveTo>
                        <a:lnTo>
                          <a:pt x="89" y="35"/>
                        </a:lnTo>
                        <a:lnTo>
                          <a:pt x="81" y="33"/>
                        </a:lnTo>
                        <a:lnTo>
                          <a:pt x="69" y="28"/>
                        </a:lnTo>
                        <a:lnTo>
                          <a:pt x="54" y="23"/>
                        </a:lnTo>
                        <a:lnTo>
                          <a:pt x="39" y="18"/>
                        </a:lnTo>
                        <a:lnTo>
                          <a:pt x="24" y="12"/>
                        </a:lnTo>
                        <a:lnTo>
                          <a:pt x="13" y="6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lnTo>
                          <a:pt x="11" y="13"/>
                        </a:lnTo>
                        <a:lnTo>
                          <a:pt x="22" y="19"/>
                        </a:lnTo>
                        <a:lnTo>
                          <a:pt x="37" y="25"/>
                        </a:lnTo>
                        <a:lnTo>
                          <a:pt x="52" y="30"/>
                        </a:lnTo>
                        <a:lnTo>
                          <a:pt x="67" y="35"/>
                        </a:lnTo>
                        <a:lnTo>
                          <a:pt x="78" y="39"/>
                        </a:lnTo>
                        <a:lnTo>
                          <a:pt x="87" y="42"/>
                        </a:lnTo>
                        <a:lnTo>
                          <a:pt x="90" y="43"/>
                        </a:lnTo>
                        <a:lnTo>
                          <a:pt x="92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H="1">
                    <a:off x="6704280" y="29257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 flipH="1">
                    <a:off x="6727320" y="2935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5" y="0"/>
                        </a:move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H="1">
                    <a:off x="6711840" y="293580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1">
                        <a:moveTo>
                          <a:pt x="68" y="24"/>
                        </a:moveTo>
                        <a:lnTo>
                          <a:pt x="70" y="24"/>
                        </a:lnTo>
                        <a:lnTo>
                          <a:pt x="67" y="23"/>
                        </a:lnTo>
                        <a:lnTo>
                          <a:pt x="63" y="22"/>
                        </a:lnTo>
                        <a:lnTo>
                          <a:pt x="55" y="18"/>
                        </a:lnTo>
                        <a:lnTo>
                          <a:pt x="45" y="15"/>
                        </a:lnTo>
                        <a:lnTo>
                          <a:pt x="35" y="10"/>
                        </a:lnTo>
                        <a:lnTo>
                          <a:pt x="24" y="7"/>
                        </a:lnTo>
                        <a:lnTo>
                          <a:pt x="13" y="4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11" y="10"/>
                        </a:lnTo>
                        <a:lnTo>
                          <a:pt x="21" y="14"/>
                        </a:lnTo>
                        <a:lnTo>
                          <a:pt x="33" y="17"/>
                        </a:lnTo>
                        <a:lnTo>
                          <a:pt x="43" y="22"/>
                        </a:lnTo>
                        <a:lnTo>
                          <a:pt x="52" y="25"/>
                        </a:lnTo>
                        <a:lnTo>
                          <a:pt x="60" y="29"/>
                        </a:lnTo>
                        <a:lnTo>
                          <a:pt x="65" y="30"/>
                        </a:lnTo>
                        <a:lnTo>
                          <a:pt x="67" y="31"/>
                        </a:lnTo>
                        <a:lnTo>
                          <a:pt x="68" y="31"/>
                        </a:lnTo>
                        <a:lnTo>
                          <a:pt x="67" y="31"/>
                        </a:lnTo>
                        <a:lnTo>
                          <a:pt x="71" y="31"/>
                        </a:lnTo>
                        <a:lnTo>
                          <a:pt x="72" y="29"/>
                        </a:lnTo>
                        <a:lnTo>
                          <a:pt x="72" y="25"/>
                        </a:lnTo>
                        <a:lnTo>
                          <a:pt x="70" y="24"/>
                        </a:lnTo>
                        <a:lnTo>
                          <a:pt x="68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 flipH="1">
                    <a:off x="6704280" y="294048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7">
                        <a:moveTo>
                          <a:pt x="41" y="14"/>
                        </a:moveTo>
                        <a:lnTo>
                          <a:pt x="41" y="1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1" y="17"/>
                        </a:lnTo>
                        <a:lnTo>
                          <a:pt x="4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 flipH="1">
                    <a:off x="6704280" y="29422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6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H="1">
                    <a:off x="6705000" y="289836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H="1">
                    <a:off x="6690240" y="2895480"/>
                    <a:ext cx="15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27">
                        <a:moveTo>
                          <a:pt x="73" y="0"/>
                        </a:moveTo>
                        <a:lnTo>
                          <a:pt x="66" y="3"/>
                        </a:lnTo>
                        <a:lnTo>
                          <a:pt x="59" y="6"/>
                        </a:lnTo>
                        <a:lnTo>
                          <a:pt x="52" y="11"/>
                        </a:lnTo>
                        <a:lnTo>
                          <a:pt x="44" y="14"/>
                        </a:lnTo>
                        <a:lnTo>
                          <a:pt x="36" y="18"/>
                        </a:lnTo>
                        <a:lnTo>
                          <a:pt x="25" y="18"/>
                        </a:lnTo>
                        <a:lnTo>
                          <a:pt x="14" y="18"/>
                        </a:lnTo>
                        <a:lnTo>
                          <a:pt x="2" y="14"/>
                        </a:lnTo>
                        <a:lnTo>
                          <a:pt x="0" y="21"/>
                        </a:lnTo>
                        <a:lnTo>
                          <a:pt x="14" y="25"/>
                        </a:lnTo>
                        <a:lnTo>
                          <a:pt x="25" y="27"/>
                        </a:lnTo>
                        <a:lnTo>
                          <a:pt x="36" y="25"/>
                        </a:lnTo>
                        <a:lnTo>
                          <a:pt x="46" y="21"/>
                        </a:lnTo>
                        <a:lnTo>
                          <a:pt x="54" y="18"/>
                        </a:lnTo>
                        <a:lnTo>
                          <a:pt x="63" y="13"/>
                        </a:lnTo>
                        <a:lnTo>
                          <a:pt x="68" y="10"/>
                        </a:lnTo>
                        <a:lnTo>
                          <a:pt x="73" y="7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H="1">
                    <a:off x="6689880" y="289548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H="1">
                    <a:off x="6589080" y="29422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0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4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 flipH="1">
                    <a:off x="6589080" y="2942280"/>
                    <a:ext cx="24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7">
                        <a:moveTo>
                          <a:pt x="5" y="37"/>
                        </a:moveTo>
                        <a:lnTo>
                          <a:pt x="7" y="37"/>
                        </a:lnTo>
                        <a:lnTo>
                          <a:pt x="13" y="34"/>
                        </a:lnTo>
                        <a:lnTo>
                          <a:pt x="28" y="30"/>
                        </a:lnTo>
                        <a:lnTo>
                          <a:pt x="47" y="25"/>
                        </a:lnTo>
                        <a:lnTo>
                          <a:pt x="66" y="20"/>
                        </a:lnTo>
                        <a:lnTo>
                          <a:pt x="86" y="15"/>
                        </a:lnTo>
                        <a:lnTo>
                          <a:pt x="102" y="12"/>
                        </a:lnTo>
                        <a:lnTo>
                          <a:pt x="114" y="10"/>
                        </a:lnTo>
                        <a:lnTo>
                          <a:pt x="118" y="0"/>
                        </a:lnTo>
                        <a:lnTo>
                          <a:pt x="118" y="10"/>
                        </a:lnTo>
                        <a:lnTo>
                          <a:pt x="114" y="3"/>
                        </a:lnTo>
                        <a:lnTo>
                          <a:pt x="102" y="5"/>
                        </a:lnTo>
                        <a:lnTo>
                          <a:pt x="86" y="8"/>
                        </a:lnTo>
                        <a:lnTo>
                          <a:pt x="66" y="13"/>
                        </a:lnTo>
                        <a:lnTo>
                          <a:pt x="45" y="18"/>
                        </a:lnTo>
                        <a:lnTo>
                          <a:pt x="26" y="23"/>
                        </a:lnTo>
                        <a:lnTo>
                          <a:pt x="11" y="27"/>
                        </a:lnTo>
                        <a:lnTo>
                          <a:pt x="2" y="30"/>
                        </a:lnTo>
                        <a:lnTo>
                          <a:pt x="3" y="30"/>
                        </a:lnTo>
                        <a:lnTo>
                          <a:pt x="2" y="30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3" y="37"/>
                        </a:lnTo>
                        <a:lnTo>
                          <a:pt x="7" y="37"/>
                        </a:lnTo>
                        <a:lnTo>
                          <a:pt x="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 flipH="1">
                    <a:off x="6612840" y="2948040"/>
                    <a:ext cx="27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9">
                        <a:moveTo>
                          <a:pt x="0" y="39"/>
                        </a:moveTo>
                        <a:lnTo>
                          <a:pt x="1" y="39"/>
                        </a:lnTo>
                        <a:lnTo>
                          <a:pt x="9" y="39"/>
                        </a:lnTo>
                        <a:lnTo>
                          <a:pt x="23" y="37"/>
                        </a:lnTo>
                        <a:lnTo>
                          <a:pt x="42" y="34"/>
                        </a:lnTo>
                        <a:lnTo>
                          <a:pt x="61" y="29"/>
                        </a:lnTo>
                        <a:lnTo>
                          <a:pt x="83" y="23"/>
                        </a:lnTo>
                        <a:lnTo>
                          <a:pt x="102" y="18"/>
                        </a:lnTo>
                        <a:lnTo>
                          <a:pt x="119" y="12"/>
                        </a:lnTo>
                        <a:lnTo>
                          <a:pt x="130" y="7"/>
                        </a:lnTo>
                        <a:lnTo>
                          <a:pt x="128" y="0"/>
                        </a:lnTo>
                        <a:lnTo>
                          <a:pt x="117" y="5"/>
                        </a:lnTo>
                        <a:lnTo>
                          <a:pt x="99" y="11"/>
                        </a:lnTo>
                        <a:lnTo>
                          <a:pt x="81" y="16"/>
                        </a:lnTo>
                        <a:lnTo>
                          <a:pt x="61" y="22"/>
                        </a:lnTo>
                        <a:lnTo>
                          <a:pt x="42" y="27"/>
                        </a:lnTo>
                        <a:lnTo>
                          <a:pt x="23" y="30"/>
                        </a:lnTo>
                        <a:lnTo>
                          <a:pt x="9" y="32"/>
                        </a:lnTo>
                        <a:lnTo>
                          <a:pt x="1" y="32"/>
                        </a:lnTo>
                        <a:lnTo>
                          <a:pt x="3" y="32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6639480" y="2953800"/>
                    <a:ext cx="313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6">
                        <a:moveTo>
                          <a:pt x="2" y="16"/>
                        </a:moveTo>
                        <a:lnTo>
                          <a:pt x="2" y="16"/>
                        </a:lnTo>
                        <a:lnTo>
                          <a:pt x="11" y="14"/>
                        </a:lnTo>
                        <a:lnTo>
                          <a:pt x="30" y="12"/>
                        </a:lnTo>
                        <a:lnTo>
                          <a:pt x="53" y="11"/>
                        </a:lnTo>
                        <a:lnTo>
                          <a:pt x="77" y="9"/>
                        </a:lnTo>
                        <a:lnTo>
                          <a:pt x="101" y="9"/>
                        </a:lnTo>
                        <a:lnTo>
                          <a:pt x="123" y="9"/>
                        </a:lnTo>
                        <a:lnTo>
                          <a:pt x="140" y="9"/>
                        </a:lnTo>
                        <a:lnTo>
                          <a:pt x="148" y="9"/>
                        </a:lnTo>
                        <a:lnTo>
                          <a:pt x="151" y="2"/>
                        </a:lnTo>
                        <a:lnTo>
                          <a:pt x="140" y="0"/>
                        </a:lnTo>
                        <a:lnTo>
                          <a:pt x="123" y="0"/>
                        </a:lnTo>
                        <a:lnTo>
                          <a:pt x="101" y="0"/>
                        </a:lnTo>
                        <a:lnTo>
                          <a:pt x="77" y="2"/>
                        </a:lnTo>
                        <a:lnTo>
                          <a:pt x="53" y="4"/>
                        </a:lnTo>
                        <a:lnTo>
                          <a:pt x="30" y="5"/>
                        </a:lnTo>
                        <a:lnTo>
                          <a:pt x="11" y="7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 flipH="1">
                    <a:off x="6670440" y="2953080"/>
                    <a:ext cx="22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28">
                        <a:moveTo>
                          <a:pt x="0" y="4"/>
                        </a:moveTo>
                        <a:lnTo>
                          <a:pt x="8" y="12"/>
                        </a:lnTo>
                        <a:lnTo>
                          <a:pt x="20" y="18"/>
                        </a:lnTo>
                        <a:lnTo>
                          <a:pt x="32" y="23"/>
                        </a:lnTo>
                        <a:lnTo>
                          <a:pt x="46" y="26"/>
                        </a:lnTo>
                        <a:lnTo>
                          <a:pt x="61" y="28"/>
                        </a:lnTo>
                        <a:lnTo>
                          <a:pt x="76" y="27"/>
                        </a:lnTo>
                        <a:lnTo>
                          <a:pt x="93" y="25"/>
                        </a:lnTo>
                        <a:lnTo>
                          <a:pt x="111" y="19"/>
                        </a:lnTo>
                        <a:lnTo>
                          <a:pt x="109" y="12"/>
                        </a:lnTo>
                        <a:lnTo>
                          <a:pt x="93" y="18"/>
                        </a:lnTo>
                        <a:lnTo>
                          <a:pt x="76" y="20"/>
                        </a:lnTo>
                        <a:lnTo>
                          <a:pt x="61" y="19"/>
                        </a:lnTo>
                        <a:lnTo>
                          <a:pt x="46" y="19"/>
                        </a:lnTo>
                        <a:lnTo>
                          <a:pt x="34" y="16"/>
                        </a:lnTo>
                        <a:lnTo>
                          <a:pt x="22" y="11"/>
                        </a:lnTo>
                        <a:lnTo>
                          <a:pt x="13" y="5"/>
                        </a:lnTo>
                        <a:lnTo>
                          <a:pt x="5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 flipH="1">
                    <a:off x="6693480" y="2952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5" y="1"/>
                        </a:move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 flipH="1">
                    <a:off x="6616080" y="293832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 flipH="1">
                    <a:off x="6618240" y="2938320"/>
                    <a:ext cx="655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50">
                        <a:moveTo>
                          <a:pt x="2" y="50"/>
                        </a:moveTo>
                        <a:lnTo>
                          <a:pt x="15" y="45"/>
                        </a:lnTo>
                        <a:lnTo>
                          <a:pt x="30" y="40"/>
                        </a:lnTo>
                        <a:lnTo>
                          <a:pt x="48" y="35"/>
                        </a:lnTo>
                        <a:lnTo>
                          <a:pt x="69" y="32"/>
                        </a:lnTo>
                        <a:lnTo>
                          <a:pt x="92" y="27"/>
                        </a:lnTo>
                        <a:lnTo>
                          <a:pt x="118" y="24"/>
                        </a:lnTo>
                        <a:lnTo>
                          <a:pt x="143" y="22"/>
                        </a:lnTo>
                        <a:lnTo>
                          <a:pt x="168" y="18"/>
                        </a:lnTo>
                        <a:lnTo>
                          <a:pt x="194" y="16"/>
                        </a:lnTo>
                        <a:lnTo>
                          <a:pt x="219" y="14"/>
                        </a:lnTo>
                        <a:lnTo>
                          <a:pt x="242" y="12"/>
                        </a:lnTo>
                        <a:lnTo>
                          <a:pt x="263" y="10"/>
                        </a:lnTo>
                        <a:lnTo>
                          <a:pt x="281" y="10"/>
                        </a:lnTo>
                        <a:lnTo>
                          <a:pt x="296" y="10"/>
                        </a:lnTo>
                        <a:lnTo>
                          <a:pt x="308" y="8"/>
                        </a:lnTo>
                        <a:lnTo>
                          <a:pt x="315" y="9"/>
                        </a:lnTo>
                        <a:lnTo>
                          <a:pt x="315" y="0"/>
                        </a:lnTo>
                        <a:lnTo>
                          <a:pt x="308" y="1"/>
                        </a:lnTo>
                        <a:lnTo>
                          <a:pt x="296" y="1"/>
                        </a:lnTo>
                        <a:lnTo>
                          <a:pt x="281" y="1"/>
                        </a:lnTo>
                        <a:lnTo>
                          <a:pt x="263" y="3"/>
                        </a:lnTo>
                        <a:lnTo>
                          <a:pt x="242" y="5"/>
                        </a:lnTo>
                        <a:lnTo>
                          <a:pt x="219" y="7"/>
                        </a:lnTo>
                        <a:lnTo>
                          <a:pt x="194" y="9"/>
                        </a:lnTo>
                        <a:lnTo>
                          <a:pt x="168" y="11"/>
                        </a:lnTo>
                        <a:lnTo>
                          <a:pt x="143" y="15"/>
                        </a:lnTo>
                        <a:lnTo>
                          <a:pt x="118" y="17"/>
                        </a:lnTo>
                        <a:lnTo>
                          <a:pt x="92" y="20"/>
                        </a:lnTo>
                        <a:lnTo>
                          <a:pt x="69" y="25"/>
                        </a:lnTo>
                        <a:lnTo>
                          <a:pt x="48" y="28"/>
                        </a:lnTo>
                        <a:lnTo>
                          <a:pt x="28" y="33"/>
                        </a:lnTo>
                        <a:lnTo>
                          <a:pt x="13" y="38"/>
                        </a:lnTo>
                        <a:lnTo>
                          <a:pt x="0" y="43"/>
                        </a:lnTo>
                        <a:lnTo>
                          <a:pt x="2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 flipH="1">
                    <a:off x="6683400" y="294660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 flipH="1">
                    <a:off x="6721560" y="2918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 flipH="1">
                    <a:off x="6713640" y="2918880"/>
                    <a:ext cx="75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">
                        <a:moveTo>
                          <a:pt x="37" y="7"/>
                        </a:moveTo>
                        <a:lnTo>
                          <a:pt x="32" y="4"/>
                        </a:lnTo>
                        <a:lnTo>
                          <a:pt x="31" y="4"/>
                        </a:lnTo>
                        <a:lnTo>
                          <a:pt x="25" y="4"/>
                        </a:lnTo>
                        <a:lnTo>
                          <a:pt x="15" y="4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15" y="11"/>
                        </a:lnTo>
                        <a:lnTo>
                          <a:pt x="25" y="13"/>
                        </a:lnTo>
                        <a:lnTo>
                          <a:pt x="31" y="11"/>
                        </a:lnTo>
                        <a:lnTo>
                          <a:pt x="35" y="11"/>
                        </a:lnTo>
                        <a:lnTo>
                          <a:pt x="30" y="7"/>
                        </a:lnTo>
                        <a:lnTo>
                          <a:pt x="35" y="11"/>
                        </a:lnTo>
                        <a:lnTo>
                          <a:pt x="37" y="8"/>
                        </a:lnTo>
                        <a:lnTo>
                          <a:pt x="37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3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 flipH="1">
                    <a:off x="6711120" y="2920320"/>
                    <a:ext cx="43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7">
                        <a:moveTo>
                          <a:pt x="22" y="18"/>
                        </a:moveTo>
                        <a:lnTo>
                          <a:pt x="15" y="15"/>
                        </a:lnTo>
                        <a:lnTo>
                          <a:pt x="10" y="9"/>
                        </a:lnTo>
                        <a:lnTo>
                          <a:pt x="8" y="3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4" y="12"/>
                        </a:lnTo>
                        <a:lnTo>
                          <a:pt x="10" y="22"/>
                        </a:lnTo>
                        <a:lnTo>
                          <a:pt x="22" y="27"/>
                        </a:lnTo>
                        <a:lnTo>
                          <a:pt x="2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 flipH="1">
                    <a:off x="6710040" y="292320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 flipH="1">
                    <a:off x="6802560" y="28731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 flipH="1">
                    <a:off x="6785640" y="2873160"/>
                    <a:ext cx="162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38">
                        <a:moveTo>
                          <a:pt x="75" y="31"/>
                        </a:moveTo>
                        <a:lnTo>
                          <a:pt x="76" y="31"/>
                        </a:lnTo>
                        <a:lnTo>
                          <a:pt x="74" y="30"/>
                        </a:lnTo>
                        <a:lnTo>
                          <a:pt x="67" y="27"/>
                        </a:lnTo>
                        <a:lnTo>
                          <a:pt x="57" y="22"/>
                        </a:lnTo>
                        <a:lnTo>
                          <a:pt x="44" y="17"/>
                        </a:lnTo>
                        <a:lnTo>
                          <a:pt x="31" y="12"/>
                        </a:lnTo>
                        <a:lnTo>
                          <a:pt x="19" y="6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6" y="9"/>
                        </a:lnTo>
                        <a:lnTo>
                          <a:pt x="16" y="13"/>
                        </a:lnTo>
                        <a:lnTo>
                          <a:pt x="29" y="19"/>
                        </a:lnTo>
                        <a:lnTo>
                          <a:pt x="42" y="24"/>
                        </a:lnTo>
                        <a:lnTo>
                          <a:pt x="54" y="29"/>
                        </a:lnTo>
                        <a:lnTo>
                          <a:pt x="65" y="34"/>
                        </a:lnTo>
                        <a:lnTo>
                          <a:pt x="72" y="37"/>
                        </a:lnTo>
                        <a:lnTo>
                          <a:pt x="74" y="38"/>
                        </a:lnTo>
                        <a:lnTo>
                          <a:pt x="75" y="38"/>
                        </a:lnTo>
                        <a:lnTo>
                          <a:pt x="74" y="38"/>
                        </a:lnTo>
                        <a:lnTo>
                          <a:pt x="77" y="38"/>
                        </a:lnTo>
                        <a:lnTo>
                          <a:pt x="78" y="36"/>
                        </a:lnTo>
                        <a:lnTo>
                          <a:pt x="78" y="32"/>
                        </a:lnTo>
                        <a:lnTo>
                          <a:pt x="76" y="31"/>
                        </a:lnTo>
                        <a:lnTo>
                          <a:pt x="75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 flipH="1">
                    <a:off x="6762240" y="2877840"/>
                    <a:ext cx="24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15">
                        <a:moveTo>
                          <a:pt x="117" y="0"/>
                        </a:moveTo>
                        <a:lnTo>
                          <a:pt x="108" y="0"/>
                        </a:lnTo>
                        <a:lnTo>
                          <a:pt x="96" y="1"/>
                        </a:lnTo>
                        <a:lnTo>
                          <a:pt x="79" y="1"/>
                        </a:lnTo>
                        <a:lnTo>
                          <a:pt x="62" y="4"/>
                        </a:lnTo>
                        <a:lnTo>
                          <a:pt x="44" y="5"/>
                        </a:lnTo>
                        <a:lnTo>
                          <a:pt x="26" y="6"/>
                        </a:lnTo>
                        <a:lnTo>
                          <a:pt x="11" y="7"/>
                        </a:lnTo>
                        <a:lnTo>
                          <a:pt x="0" y="8"/>
                        </a:lnTo>
                        <a:lnTo>
                          <a:pt x="0" y="15"/>
                        </a:lnTo>
                        <a:lnTo>
                          <a:pt x="11" y="14"/>
                        </a:lnTo>
                        <a:lnTo>
                          <a:pt x="26" y="13"/>
                        </a:lnTo>
                        <a:lnTo>
                          <a:pt x="44" y="12"/>
                        </a:lnTo>
                        <a:lnTo>
                          <a:pt x="62" y="11"/>
                        </a:lnTo>
                        <a:lnTo>
                          <a:pt x="79" y="11"/>
                        </a:lnTo>
                        <a:lnTo>
                          <a:pt x="96" y="11"/>
                        </a:lnTo>
                        <a:lnTo>
                          <a:pt x="108" y="9"/>
                        </a:lnTo>
                        <a:lnTo>
                          <a:pt x="117" y="9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 flipH="1">
                    <a:off x="6761520" y="28778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4" y="8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 flipH="1">
                    <a:off x="6775920" y="290124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1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 flipH="1">
                    <a:off x="6747840" y="2901240"/>
                    <a:ext cx="277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22">
                        <a:moveTo>
                          <a:pt x="133" y="15"/>
                        </a:moveTo>
                        <a:lnTo>
                          <a:pt x="133" y="15"/>
                        </a:lnTo>
                        <a:lnTo>
                          <a:pt x="122" y="13"/>
                        </a:lnTo>
                        <a:lnTo>
                          <a:pt x="107" y="11"/>
                        </a:lnTo>
                        <a:lnTo>
                          <a:pt x="88" y="8"/>
                        </a:lnTo>
                        <a:lnTo>
                          <a:pt x="67" y="6"/>
                        </a:lnTo>
                        <a:lnTo>
                          <a:pt x="47" y="4"/>
                        </a:lnTo>
                        <a:lnTo>
                          <a:pt x="27" y="3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1" y="10"/>
                        </a:lnTo>
                        <a:lnTo>
                          <a:pt x="27" y="10"/>
                        </a:lnTo>
                        <a:lnTo>
                          <a:pt x="47" y="11"/>
                        </a:lnTo>
                        <a:lnTo>
                          <a:pt x="67" y="13"/>
                        </a:lnTo>
                        <a:lnTo>
                          <a:pt x="88" y="15"/>
                        </a:lnTo>
                        <a:lnTo>
                          <a:pt x="107" y="18"/>
                        </a:lnTo>
                        <a:lnTo>
                          <a:pt x="122" y="20"/>
                        </a:lnTo>
                        <a:lnTo>
                          <a:pt x="131" y="22"/>
                        </a:lnTo>
                        <a:lnTo>
                          <a:pt x="131" y="22"/>
                        </a:lnTo>
                        <a:lnTo>
                          <a:pt x="13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 flipH="1">
                    <a:off x="6723720" y="2901240"/>
                    <a:ext cx="24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5">
                        <a:moveTo>
                          <a:pt x="118" y="0"/>
                        </a:moveTo>
                        <a:lnTo>
                          <a:pt x="118" y="0"/>
                        </a:lnTo>
                        <a:lnTo>
                          <a:pt x="106" y="3"/>
                        </a:lnTo>
                        <a:lnTo>
                          <a:pt x="91" y="5"/>
                        </a:lnTo>
                        <a:lnTo>
                          <a:pt x="74" y="7"/>
                        </a:lnTo>
                        <a:lnTo>
                          <a:pt x="55" y="11"/>
                        </a:lnTo>
                        <a:lnTo>
                          <a:pt x="38" y="14"/>
                        </a:lnTo>
                        <a:lnTo>
                          <a:pt x="23" y="17"/>
                        </a:lnTo>
                        <a:lnTo>
                          <a:pt x="10" y="15"/>
                        </a:lnTo>
                        <a:lnTo>
                          <a:pt x="2" y="15"/>
                        </a:lnTo>
                        <a:lnTo>
                          <a:pt x="0" y="22"/>
                        </a:lnTo>
                        <a:lnTo>
                          <a:pt x="10" y="25"/>
                        </a:lnTo>
                        <a:lnTo>
                          <a:pt x="23" y="23"/>
                        </a:lnTo>
                        <a:lnTo>
                          <a:pt x="38" y="21"/>
                        </a:lnTo>
                        <a:lnTo>
                          <a:pt x="55" y="18"/>
                        </a:lnTo>
                        <a:lnTo>
                          <a:pt x="74" y="14"/>
                        </a:lnTo>
                        <a:lnTo>
                          <a:pt x="91" y="12"/>
                        </a:lnTo>
                        <a:lnTo>
                          <a:pt x="106" y="10"/>
                        </a:lnTo>
                        <a:lnTo>
                          <a:pt x="118" y="10"/>
                        </a:lnTo>
                        <a:lnTo>
                          <a:pt x="118" y="10"/>
                        </a:lnTo>
                        <a:lnTo>
                          <a:pt x="1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 flipH="1">
                    <a:off x="6702480" y="2900880"/>
                    <a:ext cx="21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3">
                        <a:moveTo>
                          <a:pt x="105" y="5"/>
                        </a:moveTo>
                        <a:lnTo>
                          <a:pt x="105" y="5"/>
                        </a:lnTo>
                        <a:lnTo>
                          <a:pt x="96" y="2"/>
                        </a:lnTo>
                        <a:lnTo>
                          <a:pt x="86" y="0"/>
                        </a:lnTo>
                        <a:lnTo>
                          <a:pt x="72" y="0"/>
                        </a:lnTo>
                        <a:lnTo>
                          <a:pt x="58" y="0"/>
                        </a:lnTo>
                        <a:lnTo>
                          <a:pt x="42" y="2"/>
                        </a:lnTo>
                        <a:lnTo>
                          <a:pt x="27" y="3"/>
                        </a:lnTo>
                        <a:lnTo>
                          <a:pt x="13" y="3"/>
                        </a:lnTo>
                        <a:lnTo>
                          <a:pt x="0" y="3"/>
                        </a:lnTo>
                        <a:lnTo>
                          <a:pt x="0" y="13"/>
                        </a:lnTo>
                        <a:lnTo>
                          <a:pt x="13" y="13"/>
                        </a:lnTo>
                        <a:lnTo>
                          <a:pt x="27" y="10"/>
                        </a:lnTo>
                        <a:lnTo>
                          <a:pt x="42" y="9"/>
                        </a:lnTo>
                        <a:lnTo>
                          <a:pt x="58" y="9"/>
                        </a:lnTo>
                        <a:lnTo>
                          <a:pt x="72" y="9"/>
                        </a:lnTo>
                        <a:lnTo>
                          <a:pt x="86" y="9"/>
                        </a:lnTo>
                        <a:lnTo>
                          <a:pt x="96" y="9"/>
                        </a:lnTo>
                        <a:lnTo>
                          <a:pt x="103" y="11"/>
                        </a:lnTo>
                        <a:lnTo>
                          <a:pt x="103" y="11"/>
                        </a:lnTo>
                        <a:lnTo>
                          <a:pt x="10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 flipH="1">
                    <a:off x="6694200" y="2900880"/>
                    <a:ext cx="86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">
                        <a:moveTo>
                          <a:pt x="39" y="0"/>
                        </a:move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0" y="4"/>
                        </a:lnTo>
                        <a:lnTo>
                          <a:pt x="26" y="5"/>
                        </a:lnTo>
                        <a:lnTo>
                          <a:pt x="20" y="6"/>
                        </a:lnTo>
                        <a:lnTo>
                          <a:pt x="13" y="5"/>
                        </a:lnTo>
                        <a:lnTo>
                          <a:pt x="7" y="6"/>
                        </a:lnTo>
                        <a:lnTo>
                          <a:pt x="2" y="4"/>
                        </a:lnTo>
                        <a:lnTo>
                          <a:pt x="0" y="10"/>
                        </a:lnTo>
                        <a:lnTo>
                          <a:pt x="7" y="13"/>
                        </a:lnTo>
                        <a:lnTo>
                          <a:pt x="13" y="14"/>
                        </a:lnTo>
                        <a:lnTo>
                          <a:pt x="20" y="13"/>
                        </a:lnTo>
                        <a:lnTo>
                          <a:pt x="26" y="12"/>
                        </a:lnTo>
                        <a:lnTo>
                          <a:pt x="32" y="10"/>
                        </a:lnTo>
                        <a:lnTo>
                          <a:pt x="37" y="8"/>
                        </a:lnTo>
                        <a:lnTo>
                          <a:pt x="39" y="7"/>
                        </a:lnTo>
                        <a:lnTo>
                          <a:pt x="41" y="7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 flipH="1">
                    <a:off x="6693840" y="29008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7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H="1">
                    <a:off x="6705720" y="28670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6" y="5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H="1">
                    <a:off x="6705720" y="2866320"/>
                    <a:ext cx="16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6">
                        <a:moveTo>
                          <a:pt x="5" y="26"/>
                        </a:moveTo>
                        <a:lnTo>
                          <a:pt x="10" y="23"/>
                        </a:lnTo>
                        <a:lnTo>
                          <a:pt x="20" y="18"/>
                        </a:lnTo>
                        <a:lnTo>
                          <a:pt x="31" y="13"/>
                        </a:lnTo>
                        <a:lnTo>
                          <a:pt x="42" y="10"/>
                        </a:lnTo>
                        <a:lnTo>
                          <a:pt x="54" y="9"/>
                        </a:lnTo>
                        <a:lnTo>
                          <a:pt x="65" y="9"/>
                        </a:lnTo>
                        <a:lnTo>
                          <a:pt x="74" y="8"/>
                        </a:lnTo>
                        <a:lnTo>
                          <a:pt x="78" y="10"/>
                        </a:lnTo>
                        <a:lnTo>
                          <a:pt x="83" y="3"/>
                        </a:lnTo>
                        <a:lnTo>
                          <a:pt x="74" y="1"/>
                        </a:lnTo>
                        <a:lnTo>
                          <a:pt x="65" y="0"/>
                        </a:lnTo>
                        <a:lnTo>
                          <a:pt x="54" y="2"/>
                        </a:lnTo>
                        <a:lnTo>
                          <a:pt x="42" y="3"/>
                        </a:lnTo>
                        <a:lnTo>
                          <a:pt x="29" y="6"/>
                        </a:lnTo>
                        <a:lnTo>
                          <a:pt x="17" y="11"/>
                        </a:lnTo>
                        <a:lnTo>
                          <a:pt x="8" y="16"/>
                        </a:lnTo>
                        <a:lnTo>
                          <a:pt x="0" y="21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 flipH="1">
                    <a:off x="6722640" y="28702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 flipH="1">
                    <a:off x="6586920" y="2935800"/>
                    <a:ext cx="36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H="1">
                    <a:off x="6588000" y="2935440"/>
                    <a:ext cx="30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56">
                        <a:moveTo>
                          <a:pt x="7" y="54"/>
                        </a:moveTo>
                        <a:lnTo>
                          <a:pt x="7" y="43"/>
                        </a:lnTo>
                        <a:lnTo>
                          <a:pt x="17" y="35"/>
                        </a:lnTo>
                        <a:lnTo>
                          <a:pt x="36" y="26"/>
                        </a:lnTo>
                        <a:lnTo>
                          <a:pt x="60" y="18"/>
                        </a:lnTo>
                        <a:lnTo>
                          <a:pt x="86" y="14"/>
                        </a:lnTo>
                        <a:lnTo>
                          <a:pt x="112" y="10"/>
                        </a:lnTo>
                        <a:lnTo>
                          <a:pt x="134" y="9"/>
                        </a:lnTo>
                        <a:lnTo>
                          <a:pt x="146" y="9"/>
                        </a:lnTo>
                        <a:lnTo>
                          <a:pt x="146" y="2"/>
                        </a:lnTo>
                        <a:lnTo>
                          <a:pt x="134" y="0"/>
                        </a:lnTo>
                        <a:lnTo>
                          <a:pt x="112" y="3"/>
                        </a:lnTo>
                        <a:lnTo>
                          <a:pt x="86" y="7"/>
                        </a:lnTo>
                        <a:lnTo>
                          <a:pt x="60" y="11"/>
                        </a:lnTo>
                        <a:lnTo>
                          <a:pt x="33" y="19"/>
                        </a:lnTo>
                        <a:lnTo>
                          <a:pt x="13" y="29"/>
                        </a:lnTo>
                        <a:lnTo>
                          <a:pt x="0" y="41"/>
                        </a:lnTo>
                        <a:lnTo>
                          <a:pt x="0" y="56"/>
                        </a:lnTo>
                        <a:lnTo>
                          <a:pt x="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H="1">
                    <a:off x="6616440" y="2945880"/>
                    <a:ext cx="10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7" y="3"/>
                        </a:lnTo>
                        <a:lnTo>
                          <a:pt x="7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>
                    <a:off x="6687720" y="28468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4" y="7"/>
                        </a:moveTo>
                        <a:lnTo>
                          <a:pt x="7" y="5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H="1">
                    <a:off x="6687360" y="2846880"/>
                    <a:ext cx="154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0">
                        <a:moveTo>
                          <a:pt x="3" y="50"/>
                        </a:moveTo>
                        <a:lnTo>
                          <a:pt x="18" y="43"/>
                        </a:lnTo>
                        <a:lnTo>
                          <a:pt x="32" y="35"/>
                        </a:lnTo>
                        <a:lnTo>
                          <a:pt x="45" y="28"/>
                        </a:lnTo>
                        <a:lnTo>
                          <a:pt x="56" y="21"/>
                        </a:lnTo>
                        <a:lnTo>
                          <a:pt x="64" y="15"/>
                        </a:lnTo>
                        <a:lnTo>
                          <a:pt x="71" y="12"/>
                        </a:lnTo>
                        <a:lnTo>
                          <a:pt x="74" y="7"/>
                        </a:lnTo>
                        <a:lnTo>
                          <a:pt x="75" y="7"/>
                        </a:lnTo>
                        <a:lnTo>
                          <a:pt x="71" y="0"/>
                        </a:lnTo>
                        <a:lnTo>
                          <a:pt x="70" y="2"/>
                        </a:lnTo>
                        <a:lnTo>
                          <a:pt x="66" y="5"/>
                        </a:lnTo>
                        <a:lnTo>
                          <a:pt x="59" y="8"/>
                        </a:lnTo>
                        <a:lnTo>
                          <a:pt x="51" y="14"/>
                        </a:lnTo>
                        <a:lnTo>
                          <a:pt x="41" y="21"/>
                        </a:lnTo>
                        <a:lnTo>
                          <a:pt x="29" y="28"/>
                        </a:lnTo>
                        <a:lnTo>
                          <a:pt x="15" y="36"/>
                        </a:lnTo>
                        <a:lnTo>
                          <a:pt x="0" y="43"/>
                        </a:lnTo>
                        <a:lnTo>
                          <a:pt x="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 flipH="1">
                    <a:off x="6703560" y="285480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0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5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 flipH="1">
                    <a:off x="6698160" y="2903760"/>
                    <a:ext cx="1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 flipH="1">
                    <a:off x="6699240" y="2902680"/>
                    <a:ext cx="262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6">
                        <a:moveTo>
                          <a:pt x="0" y="10"/>
                        </a:moveTo>
                        <a:lnTo>
                          <a:pt x="9" y="10"/>
                        </a:lnTo>
                        <a:lnTo>
                          <a:pt x="25" y="10"/>
                        </a:lnTo>
                        <a:lnTo>
                          <a:pt x="44" y="11"/>
                        </a:lnTo>
                        <a:lnTo>
                          <a:pt x="65" y="12"/>
                        </a:lnTo>
                        <a:lnTo>
                          <a:pt x="84" y="13"/>
                        </a:lnTo>
                        <a:lnTo>
                          <a:pt x="103" y="14"/>
                        </a:lnTo>
                        <a:lnTo>
                          <a:pt x="119" y="16"/>
                        </a:lnTo>
                        <a:lnTo>
                          <a:pt x="128" y="16"/>
                        </a:lnTo>
                        <a:lnTo>
                          <a:pt x="128" y="7"/>
                        </a:lnTo>
                        <a:lnTo>
                          <a:pt x="119" y="7"/>
                        </a:lnTo>
                        <a:lnTo>
                          <a:pt x="103" y="7"/>
                        </a:lnTo>
                        <a:lnTo>
                          <a:pt x="84" y="6"/>
                        </a:lnTo>
                        <a:lnTo>
                          <a:pt x="65" y="5"/>
                        </a:lnTo>
                        <a:lnTo>
                          <a:pt x="44" y="4"/>
                        </a:lnTo>
                        <a:lnTo>
                          <a:pt x="25" y="3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 flipH="1">
                    <a:off x="6725520" y="2902680"/>
                    <a:ext cx="1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0">
                        <a:moveTo>
                          <a:pt x="5" y="0"/>
                        </a:move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2" y="8"/>
                        </a:lnTo>
                        <a:lnTo>
                          <a:pt x="5" y="1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 flipH="1">
                    <a:off x="6698520" y="29509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4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H="1">
                    <a:off x="6699240" y="2937600"/>
                    <a:ext cx="266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7">
                        <a:moveTo>
                          <a:pt x="0" y="5"/>
                        </a:moveTo>
                        <a:lnTo>
                          <a:pt x="13" y="21"/>
                        </a:lnTo>
                        <a:lnTo>
                          <a:pt x="31" y="36"/>
                        </a:lnTo>
                        <a:lnTo>
                          <a:pt x="50" y="47"/>
                        </a:lnTo>
                        <a:lnTo>
                          <a:pt x="70" y="58"/>
                        </a:lnTo>
                        <a:lnTo>
                          <a:pt x="88" y="66"/>
                        </a:lnTo>
                        <a:lnTo>
                          <a:pt x="105" y="71"/>
                        </a:lnTo>
                        <a:lnTo>
                          <a:pt x="118" y="75"/>
                        </a:lnTo>
                        <a:lnTo>
                          <a:pt x="127" y="77"/>
                        </a:lnTo>
                        <a:lnTo>
                          <a:pt x="127" y="70"/>
                        </a:lnTo>
                        <a:lnTo>
                          <a:pt x="120" y="68"/>
                        </a:lnTo>
                        <a:lnTo>
                          <a:pt x="108" y="64"/>
                        </a:lnTo>
                        <a:lnTo>
                          <a:pt x="91" y="59"/>
                        </a:lnTo>
                        <a:lnTo>
                          <a:pt x="72" y="51"/>
                        </a:lnTo>
                        <a:lnTo>
                          <a:pt x="53" y="40"/>
                        </a:lnTo>
                        <a:lnTo>
                          <a:pt x="35" y="29"/>
                        </a:lnTo>
                        <a:lnTo>
                          <a:pt x="18" y="16"/>
                        </a:lnTo>
                        <a:lnTo>
                          <a:pt x="6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 flipH="1">
                    <a:off x="6724440" y="2937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6" y="2"/>
                        </a:move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 flipH="1">
                    <a:off x="6706080" y="293976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H="1">
                    <a:off x="6707160" y="2927520"/>
                    <a:ext cx="33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72">
                        <a:moveTo>
                          <a:pt x="0" y="0"/>
                        </a:moveTo>
                        <a:lnTo>
                          <a:pt x="8" y="12"/>
                        </a:lnTo>
                        <a:lnTo>
                          <a:pt x="24" y="23"/>
                        </a:lnTo>
                        <a:lnTo>
                          <a:pt x="46" y="34"/>
                        </a:lnTo>
                        <a:lnTo>
                          <a:pt x="73" y="44"/>
                        </a:lnTo>
                        <a:lnTo>
                          <a:pt x="100" y="54"/>
                        </a:lnTo>
                        <a:lnTo>
                          <a:pt x="126" y="62"/>
                        </a:lnTo>
                        <a:lnTo>
                          <a:pt x="146" y="68"/>
                        </a:lnTo>
                        <a:lnTo>
                          <a:pt x="161" y="72"/>
                        </a:lnTo>
                        <a:lnTo>
                          <a:pt x="161" y="65"/>
                        </a:lnTo>
                        <a:lnTo>
                          <a:pt x="149" y="61"/>
                        </a:lnTo>
                        <a:lnTo>
                          <a:pt x="128" y="56"/>
                        </a:lnTo>
                        <a:lnTo>
                          <a:pt x="102" y="48"/>
                        </a:lnTo>
                        <a:lnTo>
                          <a:pt x="75" y="37"/>
                        </a:lnTo>
                        <a:lnTo>
                          <a:pt x="48" y="27"/>
                        </a:lnTo>
                        <a:lnTo>
                          <a:pt x="26" y="16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 flipH="1">
                    <a:off x="6738480" y="2926800"/>
                    <a:ext cx="18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6769080" y="290124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8" y="2"/>
                        </a:lnTo>
                        <a:lnTo>
                          <a:pt x="5" y="0"/>
                        </a:lnTo>
                        <a:lnTo>
                          <a:pt x="1" y="2"/>
                        </a:lnTo>
                        <a:lnTo>
                          <a:pt x="0" y="5"/>
                        </a:lnTo>
                        <a:lnTo>
                          <a:pt x="9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 flipH="1">
                    <a:off x="6762960" y="29023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39" y="45"/>
                        </a:moveTo>
                        <a:lnTo>
                          <a:pt x="22" y="26"/>
                        </a:lnTo>
                        <a:lnTo>
                          <a:pt x="13" y="13"/>
                        </a:lnTo>
                        <a:lnTo>
                          <a:pt x="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lnTo>
                          <a:pt x="6" y="15"/>
                        </a:lnTo>
                        <a:lnTo>
                          <a:pt x="15" y="31"/>
                        </a:lnTo>
                        <a:lnTo>
                          <a:pt x="35" y="52"/>
                        </a:lnTo>
                        <a:lnTo>
                          <a:pt x="39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 flipH="1">
                    <a:off x="6761520" y="291060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7"/>
                        </a:moveTo>
                        <a:lnTo>
                          <a:pt x="3" y="7"/>
                        </a:lnTo>
                        <a:lnTo>
                          <a:pt x="5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 flipH="1">
                    <a:off x="6745680" y="291456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9" y="4"/>
                        </a:move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9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>
                    <a:off x="6741720" y="2915640"/>
                    <a:ext cx="6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3"/>
                        </a:moveTo>
                        <a:lnTo>
                          <a:pt x="23" y="46"/>
                        </a:lnTo>
                        <a:lnTo>
                          <a:pt x="15" y="32"/>
                        </a:lnTo>
                        <a:lnTo>
                          <a:pt x="11" y="16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4" y="16"/>
                        </a:lnTo>
                        <a:lnTo>
                          <a:pt x="8" y="35"/>
                        </a:lnTo>
                        <a:lnTo>
                          <a:pt x="16" y="51"/>
                        </a:lnTo>
                        <a:lnTo>
                          <a:pt x="30" y="60"/>
                        </a:lnTo>
                        <a:lnTo>
                          <a:pt x="30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H="1">
                    <a:off x="6741360" y="29257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7"/>
                        </a:moveTo>
                        <a:lnTo>
                          <a:pt x="3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H="1">
                    <a:off x="6787440" y="287928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7"/>
                        </a:moveTo>
                        <a:lnTo>
                          <a:pt x="4" y="7"/>
                        </a:lnTo>
                        <a:lnTo>
                          <a:pt x="5" y="5"/>
                        </a:lnTo>
                        <a:lnTo>
                          <a:pt x="5" y="1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 flipH="1">
                    <a:off x="6787080" y="2878920"/>
                    <a:ext cx="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2" y="8"/>
                        </a:lnTo>
                        <a:lnTo>
                          <a:pt x="7" y="7"/>
                        </a:lnTo>
                        <a:lnTo>
                          <a:pt x="13" y="7"/>
                        </a:lnTo>
                        <a:lnTo>
                          <a:pt x="16" y="8"/>
                        </a:lnTo>
                        <a:lnTo>
                          <a:pt x="16" y="8"/>
                        </a:lnTo>
                        <a:lnTo>
                          <a:pt x="18" y="1"/>
                        </a:lnTo>
                        <a:lnTo>
                          <a:pt x="16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 flipH="1">
                    <a:off x="6786360" y="2878920"/>
                    <a:ext cx="61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">
                        <a:moveTo>
                          <a:pt x="30" y="0"/>
                        </a:moveTo>
                        <a:lnTo>
                          <a:pt x="16" y="2"/>
                        </a:lnTo>
                        <a:lnTo>
                          <a:pt x="7" y="4"/>
                        </a:lnTo>
                        <a:lnTo>
                          <a:pt x="7" y="8"/>
                        </a:lnTo>
                        <a:lnTo>
                          <a:pt x="9" y="8"/>
                        </a:lnTo>
                        <a:lnTo>
                          <a:pt x="7" y="1"/>
                        </a:lnTo>
                        <a:lnTo>
                          <a:pt x="0" y="6"/>
                        </a:lnTo>
                        <a:lnTo>
                          <a:pt x="7" y="10"/>
                        </a:lnTo>
                        <a:lnTo>
                          <a:pt x="16" y="9"/>
                        </a:lnTo>
                        <a:lnTo>
                          <a:pt x="30" y="9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 flipH="1">
                    <a:off x="6786360" y="2878920"/>
                    <a:ext cx="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9"/>
                        </a:moveTo>
                        <a:lnTo>
                          <a:pt x="3" y="8"/>
                        </a:lnTo>
                        <a:lnTo>
                          <a:pt x="5" y="5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>
                    <a:off x="6707880" y="28490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>
                    <a:off x="6701760" y="2849040"/>
                    <a:ext cx="54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7">
                        <a:moveTo>
                          <a:pt x="6" y="47"/>
                        </a:moveTo>
                        <a:lnTo>
                          <a:pt x="18" y="35"/>
                        </a:lnTo>
                        <a:lnTo>
                          <a:pt x="25" y="26"/>
                        </a:lnTo>
                        <a:lnTo>
                          <a:pt x="26" y="18"/>
                        </a:lnTo>
                        <a:lnTo>
                          <a:pt x="24" y="10"/>
                        </a:lnTo>
                        <a:lnTo>
                          <a:pt x="17" y="5"/>
                        </a:lnTo>
                        <a:lnTo>
                          <a:pt x="11" y="3"/>
                        </a:lnTo>
                        <a:lnTo>
                          <a:pt x="4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4" y="8"/>
                        </a:lnTo>
                        <a:lnTo>
                          <a:pt x="9" y="10"/>
                        </a:lnTo>
                        <a:lnTo>
                          <a:pt x="15" y="12"/>
                        </a:lnTo>
                        <a:lnTo>
                          <a:pt x="17" y="15"/>
                        </a:lnTo>
                        <a:lnTo>
                          <a:pt x="19" y="18"/>
                        </a:lnTo>
                        <a:lnTo>
                          <a:pt x="18" y="24"/>
                        </a:lnTo>
                        <a:lnTo>
                          <a:pt x="14" y="31"/>
                        </a:lnTo>
                        <a:lnTo>
                          <a:pt x="1" y="40"/>
                        </a:lnTo>
                        <a:lnTo>
                          <a:pt x="6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>
                    <a:off x="6706800" y="285660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7"/>
                        </a:lnTo>
                        <a:lnTo>
                          <a:pt x="7" y="7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H="1">
                    <a:off x="6600240" y="2859120"/>
                    <a:ext cx="10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3"/>
                        </a:move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0" y="7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 flipH="1">
                    <a:off x="6587280" y="2859480"/>
                    <a:ext cx="14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8">
                        <a:moveTo>
                          <a:pt x="61" y="22"/>
                        </a:moveTo>
                        <a:lnTo>
                          <a:pt x="61" y="22"/>
                        </a:lnTo>
                        <a:lnTo>
                          <a:pt x="53" y="22"/>
                        </a:lnTo>
                        <a:lnTo>
                          <a:pt x="46" y="19"/>
                        </a:lnTo>
                        <a:lnTo>
                          <a:pt x="36" y="16"/>
                        </a:lnTo>
                        <a:lnTo>
                          <a:pt x="26" y="11"/>
                        </a:lnTo>
                        <a:lnTo>
                          <a:pt x="17" y="7"/>
                        </a:lnTo>
                        <a:lnTo>
                          <a:pt x="11" y="2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6" y="9"/>
                        </a:lnTo>
                        <a:lnTo>
                          <a:pt x="14" y="14"/>
                        </a:lnTo>
                        <a:lnTo>
                          <a:pt x="23" y="18"/>
                        </a:lnTo>
                        <a:lnTo>
                          <a:pt x="34" y="23"/>
                        </a:lnTo>
                        <a:lnTo>
                          <a:pt x="44" y="26"/>
                        </a:lnTo>
                        <a:lnTo>
                          <a:pt x="53" y="28"/>
                        </a:lnTo>
                        <a:lnTo>
                          <a:pt x="61" y="28"/>
                        </a:lnTo>
                        <a:lnTo>
                          <a:pt x="68" y="26"/>
                        </a:lnTo>
                        <a:lnTo>
                          <a:pt x="6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 flipH="1">
                    <a:off x="6588000" y="28630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7"/>
                        </a:move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H="1">
                    <a:off x="6561000" y="2854080"/>
                    <a:ext cx="295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516">
                        <a:moveTo>
                          <a:pt x="3" y="483"/>
                        </a:moveTo>
                        <a:lnTo>
                          <a:pt x="4" y="493"/>
                        </a:lnTo>
                        <a:lnTo>
                          <a:pt x="3" y="504"/>
                        </a:lnTo>
                        <a:lnTo>
                          <a:pt x="1" y="512"/>
                        </a:lnTo>
                        <a:lnTo>
                          <a:pt x="0" y="515"/>
                        </a:lnTo>
                        <a:lnTo>
                          <a:pt x="11" y="516"/>
                        </a:lnTo>
                        <a:lnTo>
                          <a:pt x="24" y="515"/>
                        </a:lnTo>
                        <a:lnTo>
                          <a:pt x="39" y="514"/>
                        </a:lnTo>
                        <a:lnTo>
                          <a:pt x="54" y="513"/>
                        </a:lnTo>
                        <a:lnTo>
                          <a:pt x="68" y="512"/>
                        </a:lnTo>
                        <a:lnTo>
                          <a:pt x="79" y="509"/>
                        </a:lnTo>
                        <a:lnTo>
                          <a:pt x="87" y="508"/>
                        </a:lnTo>
                        <a:lnTo>
                          <a:pt x="90" y="508"/>
                        </a:lnTo>
                        <a:lnTo>
                          <a:pt x="93" y="478"/>
                        </a:lnTo>
                        <a:lnTo>
                          <a:pt x="97" y="435"/>
                        </a:lnTo>
                        <a:lnTo>
                          <a:pt x="100" y="381"/>
                        </a:lnTo>
                        <a:lnTo>
                          <a:pt x="105" y="320"/>
                        </a:lnTo>
                        <a:lnTo>
                          <a:pt x="109" y="255"/>
                        </a:lnTo>
                        <a:lnTo>
                          <a:pt x="115" y="191"/>
                        </a:lnTo>
                        <a:lnTo>
                          <a:pt x="121" y="129"/>
                        </a:lnTo>
                        <a:lnTo>
                          <a:pt x="128" y="73"/>
                        </a:lnTo>
                        <a:lnTo>
                          <a:pt x="128" y="73"/>
                        </a:lnTo>
                        <a:lnTo>
                          <a:pt x="129" y="68"/>
                        </a:lnTo>
                        <a:lnTo>
                          <a:pt x="129" y="63"/>
                        </a:lnTo>
                        <a:lnTo>
                          <a:pt x="130" y="60"/>
                        </a:lnTo>
                        <a:lnTo>
                          <a:pt x="130" y="55"/>
                        </a:lnTo>
                        <a:lnTo>
                          <a:pt x="133" y="39"/>
                        </a:lnTo>
                        <a:lnTo>
                          <a:pt x="137" y="24"/>
                        </a:lnTo>
                        <a:lnTo>
                          <a:pt x="140" y="12"/>
                        </a:lnTo>
                        <a:lnTo>
                          <a:pt x="143" y="0"/>
                        </a:lnTo>
                        <a:lnTo>
                          <a:pt x="22" y="0"/>
                        </a:lnTo>
                        <a:lnTo>
                          <a:pt x="8" y="29"/>
                        </a:lnTo>
                        <a:lnTo>
                          <a:pt x="8" y="84"/>
                        </a:lnTo>
                        <a:lnTo>
                          <a:pt x="15" y="177"/>
                        </a:lnTo>
                        <a:lnTo>
                          <a:pt x="23" y="273"/>
                        </a:lnTo>
                        <a:lnTo>
                          <a:pt x="25" y="334"/>
                        </a:lnTo>
                        <a:lnTo>
                          <a:pt x="21" y="371"/>
                        </a:lnTo>
                        <a:lnTo>
                          <a:pt x="15" y="416"/>
                        </a:lnTo>
                        <a:lnTo>
                          <a:pt x="8" y="457"/>
                        </a:lnTo>
                        <a:lnTo>
                          <a:pt x="3" y="4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H="1">
                    <a:off x="6588360" y="2945880"/>
                    <a:ext cx="2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7">
                        <a:moveTo>
                          <a:pt x="4" y="30"/>
                        </a:moveTo>
                        <a:lnTo>
                          <a:pt x="7" y="34"/>
                        </a:lnTo>
                        <a:lnTo>
                          <a:pt x="8" y="31"/>
                        </a:lnTo>
                        <a:lnTo>
                          <a:pt x="11" y="22"/>
                        </a:lnTo>
                        <a:lnTo>
                          <a:pt x="13" y="11"/>
                        </a:lnTo>
                        <a:lnTo>
                          <a:pt x="11" y="0"/>
                        </a:lnTo>
                        <a:lnTo>
                          <a:pt x="4" y="2"/>
                        </a:lnTo>
                        <a:lnTo>
                          <a:pt x="4" y="11"/>
                        </a:lnTo>
                        <a:lnTo>
                          <a:pt x="4" y="22"/>
                        </a:lnTo>
                        <a:lnTo>
                          <a:pt x="2" y="29"/>
                        </a:lnTo>
                        <a:lnTo>
                          <a:pt x="0" y="32"/>
                        </a:lnTo>
                        <a:lnTo>
                          <a:pt x="4" y="37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3" y="37"/>
                        </a:lnTo>
                        <a:lnTo>
                          <a:pt x="6" y="37"/>
                        </a:lnTo>
                        <a:lnTo>
                          <a:pt x="7" y="34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H="1">
                    <a:off x="6571080" y="2950200"/>
                    <a:ext cx="19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6">
                        <a:moveTo>
                          <a:pt x="86" y="3"/>
                        </a:moveTo>
                        <a:lnTo>
                          <a:pt x="90" y="0"/>
                        </a:lnTo>
                        <a:lnTo>
                          <a:pt x="87" y="0"/>
                        </a:lnTo>
                        <a:lnTo>
                          <a:pt x="79" y="1"/>
                        </a:lnTo>
                        <a:lnTo>
                          <a:pt x="68" y="3"/>
                        </a:lnTo>
                        <a:lnTo>
                          <a:pt x="54" y="4"/>
                        </a:lnTo>
                        <a:lnTo>
                          <a:pt x="39" y="6"/>
                        </a:lnTo>
                        <a:lnTo>
                          <a:pt x="24" y="7"/>
                        </a:lnTo>
                        <a:lnTo>
                          <a:pt x="11" y="7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11" y="16"/>
                        </a:lnTo>
                        <a:lnTo>
                          <a:pt x="24" y="14"/>
                        </a:lnTo>
                        <a:lnTo>
                          <a:pt x="39" y="12"/>
                        </a:lnTo>
                        <a:lnTo>
                          <a:pt x="54" y="11"/>
                        </a:lnTo>
                        <a:lnTo>
                          <a:pt x="68" y="10"/>
                        </a:lnTo>
                        <a:lnTo>
                          <a:pt x="79" y="8"/>
                        </a:lnTo>
                        <a:lnTo>
                          <a:pt x="87" y="7"/>
                        </a:lnTo>
                        <a:lnTo>
                          <a:pt x="90" y="7"/>
                        </a:lnTo>
                        <a:lnTo>
                          <a:pt x="93" y="3"/>
                        </a:lnTo>
                        <a:lnTo>
                          <a:pt x="90" y="7"/>
                        </a:lnTo>
                        <a:lnTo>
                          <a:pt x="92" y="6"/>
                        </a:lnTo>
                        <a:lnTo>
                          <a:pt x="93" y="3"/>
                        </a:lnTo>
                        <a:lnTo>
                          <a:pt x="92" y="1"/>
                        </a:lnTo>
                        <a:lnTo>
                          <a:pt x="90" y="0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H="1">
                    <a:off x="6562800" y="2867400"/>
                    <a:ext cx="936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9">
                        <a:moveTo>
                          <a:pt x="38" y="4"/>
                        </a:moveTo>
                        <a:lnTo>
                          <a:pt x="38" y="4"/>
                        </a:lnTo>
                        <a:lnTo>
                          <a:pt x="31" y="60"/>
                        </a:lnTo>
                        <a:lnTo>
                          <a:pt x="26" y="122"/>
                        </a:lnTo>
                        <a:lnTo>
                          <a:pt x="20" y="186"/>
                        </a:lnTo>
                        <a:lnTo>
                          <a:pt x="15" y="251"/>
                        </a:lnTo>
                        <a:lnTo>
                          <a:pt x="11" y="312"/>
                        </a:lnTo>
                        <a:lnTo>
                          <a:pt x="7" y="366"/>
                        </a:lnTo>
                        <a:lnTo>
                          <a:pt x="4" y="409"/>
                        </a:lnTo>
                        <a:lnTo>
                          <a:pt x="0" y="439"/>
                        </a:lnTo>
                        <a:lnTo>
                          <a:pt x="7" y="439"/>
                        </a:lnTo>
                        <a:lnTo>
                          <a:pt x="11" y="409"/>
                        </a:lnTo>
                        <a:lnTo>
                          <a:pt x="14" y="366"/>
                        </a:lnTo>
                        <a:lnTo>
                          <a:pt x="17" y="312"/>
                        </a:lnTo>
                        <a:lnTo>
                          <a:pt x="22" y="251"/>
                        </a:lnTo>
                        <a:lnTo>
                          <a:pt x="27" y="186"/>
                        </a:lnTo>
                        <a:lnTo>
                          <a:pt x="32" y="122"/>
                        </a:lnTo>
                        <a:lnTo>
                          <a:pt x="38" y="60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5" y="4"/>
                        </a:lnTo>
                        <a:lnTo>
                          <a:pt x="44" y="1"/>
                        </a:lnTo>
                        <a:lnTo>
                          <a:pt x="42" y="0"/>
                        </a:lnTo>
                        <a:lnTo>
                          <a:pt x="39" y="1"/>
                        </a:lnTo>
                        <a:lnTo>
                          <a:pt x="38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 flipH="1">
                    <a:off x="6562800" y="286740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 flipH="1">
                    <a:off x="6561720" y="2863440"/>
                    <a:ext cx="18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3" y="4"/>
                        </a:moveTo>
                        <a:lnTo>
                          <a:pt x="1" y="4"/>
                        </a:lnTo>
                        <a:lnTo>
                          <a:pt x="3" y="9"/>
                        </a:lnTo>
                        <a:lnTo>
                          <a:pt x="1" y="12"/>
                        </a:lnTo>
                        <a:lnTo>
                          <a:pt x="1" y="17"/>
                        </a:lnTo>
                        <a:lnTo>
                          <a:pt x="0" y="22"/>
                        </a:lnTo>
                        <a:lnTo>
                          <a:pt x="7" y="22"/>
                        </a:lnTo>
                        <a:lnTo>
                          <a:pt x="8" y="17"/>
                        </a:lnTo>
                        <a:lnTo>
                          <a:pt x="8" y="12"/>
                        </a:lnTo>
                        <a:lnTo>
                          <a:pt x="9" y="9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9" y="1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9">
                        <a:moveTo>
                          <a:pt x="16" y="9"/>
                        </a:moveTo>
                        <a:lnTo>
                          <a:pt x="12" y="4"/>
                        </a:lnTo>
                        <a:lnTo>
                          <a:pt x="10" y="16"/>
                        </a:lnTo>
                        <a:lnTo>
                          <a:pt x="6" y="28"/>
                        </a:lnTo>
                        <a:lnTo>
                          <a:pt x="3" y="43"/>
                        </a:lnTo>
                        <a:lnTo>
                          <a:pt x="0" y="59"/>
                        </a:lnTo>
                        <a:lnTo>
                          <a:pt x="6" y="59"/>
                        </a:lnTo>
                        <a:lnTo>
                          <a:pt x="10" y="43"/>
                        </a:lnTo>
                        <a:lnTo>
                          <a:pt x="13" y="28"/>
                        </a:lnTo>
                        <a:lnTo>
                          <a:pt x="17" y="16"/>
                        </a:lnTo>
                        <a:lnTo>
                          <a:pt x="19" y="4"/>
                        </a:lnTo>
                        <a:lnTo>
                          <a:pt x="16" y="0"/>
                        </a:lnTo>
                        <a:lnTo>
                          <a:pt x="19" y="4"/>
                        </a:lnTo>
                        <a:lnTo>
                          <a:pt x="18" y="2"/>
                        </a:lnTo>
                        <a:lnTo>
                          <a:pt x="16" y="1"/>
                        </a:lnTo>
                        <a:lnTo>
                          <a:pt x="13" y="2"/>
                        </a:lnTo>
                        <a:lnTo>
                          <a:pt x="12" y="4"/>
                        </a:lnTo>
                        <a:lnTo>
                          <a:pt x="16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H="1">
                    <a:off x="6560280" y="2853360"/>
                    <a:ext cx="25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9">
                        <a:moveTo>
                          <a:pt x="8" y="5"/>
                        </a:moveTo>
                        <a:lnTo>
                          <a:pt x="5" y="9"/>
                        </a:lnTo>
                        <a:lnTo>
                          <a:pt x="126" y="9"/>
                        </a:lnTo>
                        <a:lnTo>
                          <a:pt x="126" y="0"/>
                        </a:lnTo>
                        <a:lnTo>
                          <a:pt x="5" y="0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H="1">
                    <a:off x="6585120" y="2854080"/>
                    <a:ext cx="43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3">
                        <a:moveTo>
                          <a:pt x="7" y="31"/>
                        </a:moveTo>
                        <a:lnTo>
                          <a:pt x="7" y="31"/>
                        </a:lnTo>
                        <a:lnTo>
                          <a:pt x="21" y="2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2"/>
                        </a:lnTo>
                        <a:lnTo>
                          <a:pt x="3" y="33"/>
                        </a:lnTo>
                        <a:lnTo>
                          <a:pt x="6" y="33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>
                    <a:off x="6584040" y="2859480"/>
                    <a:ext cx="468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06">
                        <a:moveTo>
                          <a:pt x="25" y="306"/>
                        </a:moveTo>
                        <a:lnTo>
                          <a:pt x="25" y="306"/>
                        </a:lnTo>
                        <a:lnTo>
                          <a:pt x="22" y="245"/>
                        </a:lnTo>
                        <a:lnTo>
                          <a:pt x="14" y="149"/>
                        </a:lnTo>
                        <a:lnTo>
                          <a:pt x="7" y="5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0" y="56"/>
                        </a:lnTo>
                        <a:lnTo>
                          <a:pt x="7" y="149"/>
                        </a:lnTo>
                        <a:lnTo>
                          <a:pt x="15" y="245"/>
                        </a:lnTo>
                        <a:lnTo>
                          <a:pt x="18" y="306"/>
                        </a:lnTo>
                        <a:lnTo>
                          <a:pt x="18" y="306"/>
                        </a:lnTo>
                        <a:lnTo>
                          <a:pt x="25" y="30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H="1">
                    <a:off x="6584760" y="2917800"/>
                    <a:ext cx="5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52">
                        <a:moveTo>
                          <a:pt x="7" y="148"/>
                        </a:moveTo>
                        <a:lnTo>
                          <a:pt x="7" y="149"/>
                        </a:lnTo>
                        <a:lnTo>
                          <a:pt x="11" y="123"/>
                        </a:lnTo>
                        <a:lnTo>
                          <a:pt x="18" y="82"/>
                        </a:lnTo>
                        <a:lnTo>
                          <a:pt x="24" y="37"/>
                        </a:lnTo>
                        <a:lnTo>
                          <a:pt x="29" y="0"/>
                        </a:lnTo>
                        <a:lnTo>
                          <a:pt x="22" y="0"/>
                        </a:lnTo>
                        <a:lnTo>
                          <a:pt x="17" y="37"/>
                        </a:lnTo>
                        <a:lnTo>
                          <a:pt x="11" y="82"/>
                        </a:lnTo>
                        <a:lnTo>
                          <a:pt x="4" y="123"/>
                        </a:lnTo>
                        <a:lnTo>
                          <a:pt x="0" y="149"/>
                        </a:lnTo>
                        <a:lnTo>
                          <a:pt x="0" y="150"/>
                        </a:lnTo>
                        <a:lnTo>
                          <a:pt x="0" y="149"/>
                        </a:lnTo>
                        <a:lnTo>
                          <a:pt x="1" y="151"/>
                        </a:lnTo>
                        <a:lnTo>
                          <a:pt x="3" y="152"/>
                        </a:lnTo>
                        <a:lnTo>
                          <a:pt x="6" y="151"/>
                        </a:lnTo>
                        <a:lnTo>
                          <a:pt x="7" y="149"/>
                        </a:lnTo>
                        <a:lnTo>
                          <a:pt x="7" y="1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flipH="1">
                    <a:off x="6556680" y="2929680"/>
                    <a:ext cx="226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5">
                        <a:moveTo>
                          <a:pt x="55" y="95"/>
                        </a:moveTo>
                        <a:lnTo>
                          <a:pt x="67" y="94"/>
                        </a:lnTo>
                        <a:lnTo>
                          <a:pt x="77" y="92"/>
                        </a:lnTo>
                        <a:lnTo>
                          <a:pt x="87" y="87"/>
                        </a:lnTo>
                        <a:lnTo>
                          <a:pt x="95" y="81"/>
                        </a:lnTo>
                        <a:lnTo>
                          <a:pt x="102" y="73"/>
                        </a:lnTo>
                        <a:lnTo>
                          <a:pt x="106" y="65"/>
                        </a:lnTo>
                        <a:lnTo>
                          <a:pt x="110" y="56"/>
                        </a:lnTo>
                        <a:lnTo>
                          <a:pt x="111" y="47"/>
                        </a:lnTo>
                        <a:lnTo>
                          <a:pt x="110" y="38"/>
                        </a:lnTo>
                        <a:lnTo>
                          <a:pt x="106" y="29"/>
                        </a:lnTo>
                        <a:lnTo>
                          <a:pt x="102" y="21"/>
                        </a:lnTo>
                        <a:lnTo>
                          <a:pt x="95" y="14"/>
                        </a:lnTo>
                        <a:lnTo>
                          <a:pt x="87" y="8"/>
                        </a:lnTo>
                        <a:lnTo>
                          <a:pt x="77" y="3"/>
                        </a:lnTo>
                        <a:lnTo>
                          <a:pt x="67" y="1"/>
                        </a:lnTo>
                        <a:lnTo>
                          <a:pt x="55" y="0"/>
                        </a:lnTo>
                        <a:lnTo>
                          <a:pt x="44" y="1"/>
                        </a:lnTo>
                        <a:lnTo>
                          <a:pt x="35" y="3"/>
                        </a:lnTo>
                        <a:lnTo>
                          <a:pt x="24" y="8"/>
                        </a:lnTo>
                        <a:lnTo>
                          <a:pt x="16" y="14"/>
                        </a:lnTo>
                        <a:lnTo>
                          <a:pt x="9" y="21"/>
                        </a:lnTo>
                        <a:lnTo>
                          <a:pt x="5" y="29"/>
                        </a:lnTo>
                        <a:lnTo>
                          <a:pt x="1" y="38"/>
                        </a:lnTo>
                        <a:lnTo>
                          <a:pt x="0" y="47"/>
                        </a:lnTo>
                        <a:lnTo>
                          <a:pt x="1" y="56"/>
                        </a:lnTo>
                        <a:lnTo>
                          <a:pt x="5" y="65"/>
                        </a:lnTo>
                        <a:lnTo>
                          <a:pt x="9" y="73"/>
                        </a:lnTo>
                        <a:lnTo>
                          <a:pt x="16" y="81"/>
                        </a:lnTo>
                        <a:lnTo>
                          <a:pt x="24" y="87"/>
                        </a:lnTo>
                        <a:lnTo>
                          <a:pt x="35" y="92"/>
                        </a:lnTo>
                        <a:lnTo>
                          <a:pt x="44" y="94"/>
                        </a:lnTo>
                        <a:lnTo>
                          <a:pt x="55" y="95"/>
                        </a:lnTo>
                        <a:close/>
                      </a:path>
                    </a:pathLst>
                  </a:custGeom>
                  <a:solidFill>
                    <a:srgbClr val="d1a35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flipH="1">
                    <a:off x="6555600" y="2939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3">
                        <a:moveTo>
                          <a:pt x="51" y="0"/>
                        </a:moveTo>
                        <a:lnTo>
                          <a:pt x="51" y="0"/>
                        </a:lnTo>
                        <a:lnTo>
                          <a:pt x="51" y="9"/>
                        </a:lnTo>
                        <a:lnTo>
                          <a:pt x="48" y="17"/>
                        </a:lnTo>
                        <a:lnTo>
                          <a:pt x="43" y="24"/>
                        </a:lnTo>
                        <a:lnTo>
                          <a:pt x="37" y="32"/>
                        </a:lnTo>
                        <a:lnTo>
                          <a:pt x="29" y="37"/>
                        </a:lnTo>
                        <a:lnTo>
                          <a:pt x="21" y="41"/>
                        </a:lnTo>
                        <a:lnTo>
                          <a:pt x="12" y="44"/>
                        </a:lnTo>
                        <a:lnTo>
                          <a:pt x="0" y="44"/>
                        </a:lnTo>
                        <a:lnTo>
                          <a:pt x="0" y="53"/>
                        </a:lnTo>
                        <a:lnTo>
                          <a:pt x="12" y="51"/>
                        </a:lnTo>
                        <a:lnTo>
                          <a:pt x="24" y="48"/>
                        </a:lnTo>
                        <a:lnTo>
                          <a:pt x="34" y="44"/>
                        </a:lnTo>
                        <a:lnTo>
                          <a:pt x="42" y="37"/>
                        </a:lnTo>
                        <a:lnTo>
                          <a:pt x="50" y="29"/>
                        </a:lnTo>
                        <a:lnTo>
                          <a:pt x="55" y="20"/>
                        </a:lnTo>
                        <a:lnTo>
                          <a:pt x="58" y="9"/>
                        </a:lnTo>
                        <a:lnTo>
                          <a:pt x="60" y="0"/>
                        </a:lnTo>
                        <a:lnTo>
                          <a:pt x="60" y="0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 flipH="1">
                    <a:off x="6555600" y="292896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12" y="9"/>
                        </a:lnTo>
                        <a:lnTo>
                          <a:pt x="21" y="12"/>
                        </a:lnTo>
                        <a:lnTo>
                          <a:pt x="29" y="16"/>
                        </a:lnTo>
                        <a:lnTo>
                          <a:pt x="37" y="22"/>
                        </a:lnTo>
                        <a:lnTo>
                          <a:pt x="43" y="28"/>
                        </a:lnTo>
                        <a:lnTo>
                          <a:pt x="48" y="35"/>
                        </a:lnTo>
                        <a:lnTo>
                          <a:pt x="51" y="43"/>
                        </a:lnTo>
                        <a:lnTo>
                          <a:pt x="51" y="52"/>
                        </a:lnTo>
                        <a:lnTo>
                          <a:pt x="60" y="52"/>
                        </a:lnTo>
                        <a:lnTo>
                          <a:pt x="58" y="43"/>
                        </a:lnTo>
                        <a:lnTo>
                          <a:pt x="55" y="32"/>
                        </a:lnTo>
                        <a:lnTo>
                          <a:pt x="50" y="23"/>
                        </a:lnTo>
                        <a:lnTo>
                          <a:pt x="42" y="15"/>
                        </a:lnTo>
                        <a:lnTo>
                          <a:pt x="34" y="9"/>
                        </a:lnTo>
                        <a:lnTo>
                          <a:pt x="24" y="5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 flipH="1">
                    <a:off x="6568920" y="292896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2">
                        <a:moveTo>
                          <a:pt x="9" y="52"/>
                        </a:moveTo>
                        <a:lnTo>
                          <a:pt x="9" y="52"/>
                        </a:lnTo>
                        <a:lnTo>
                          <a:pt x="9" y="43"/>
                        </a:lnTo>
                        <a:lnTo>
                          <a:pt x="12" y="35"/>
                        </a:lnTo>
                        <a:lnTo>
                          <a:pt x="17" y="28"/>
                        </a:lnTo>
                        <a:lnTo>
                          <a:pt x="23" y="22"/>
                        </a:lnTo>
                        <a:lnTo>
                          <a:pt x="30" y="16"/>
                        </a:lnTo>
                        <a:lnTo>
                          <a:pt x="40" y="12"/>
                        </a:lnTo>
                        <a:lnTo>
                          <a:pt x="48" y="9"/>
                        </a:lnTo>
                        <a:lnTo>
                          <a:pt x="59" y="9"/>
                        </a:lnTo>
                        <a:lnTo>
                          <a:pt x="59" y="0"/>
                        </a:lnTo>
                        <a:lnTo>
                          <a:pt x="48" y="3"/>
                        </a:lnTo>
                        <a:lnTo>
                          <a:pt x="38" y="5"/>
                        </a:lnTo>
                        <a:lnTo>
                          <a:pt x="27" y="9"/>
                        </a:lnTo>
                        <a:lnTo>
                          <a:pt x="18" y="15"/>
                        </a:lnTo>
                        <a:lnTo>
                          <a:pt x="10" y="23"/>
                        </a:lnTo>
                        <a:lnTo>
                          <a:pt x="5" y="32"/>
                        </a:lnTo>
                        <a:lnTo>
                          <a:pt x="2" y="43"/>
                        </a:lnTo>
                        <a:lnTo>
                          <a:pt x="0" y="52"/>
                        </a:lnTo>
                        <a:lnTo>
                          <a:pt x="0" y="52"/>
                        </a:lnTo>
                        <a:lnTo>
                          <a:pt x="9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 flipH="1">
                    <a:off x="6568920" y="2939040"/>
                    <a:ext cx="122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53">
                        <a:moveTo>
                          <a:pt x="59" y="44"/>
                        </a:moveTo>
                        <a:lnTo>
                          <a:pt x="59" y="44"/>
                        </a:lnTo>
                        <a:lnTo>
                          <a:pt x="48" y="44"/>
                        </a:lnTo>
                        <a:lnTo>
                          <a:pt x="40" y="41"/>
                        </a:lnTo>
                        <a:lnTo>
                          <a:pt x="30" y="37"/>
                        </a:lnTo>
                        <a:lnTo>
                          <a:pt x="23" y="32"/>
                        </a:lnTo>
                        <a:lnTo>
                          <a:pt x="17" y="24"/>
                        </a:lnTo>
                        <a:lnTo>
                          <a:pt x="12" y="17"/>
                        </a:lnTo>
                        <a:lnTo>
                          <a:pt x="9" y="9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20"/>
                        </a:lnTo>
                        <a:lnTo>
                          <a:pt x="10" y="29"/>
                        </a:lnTo>
                        <a:lnTo>
                          <a:pt x="18" y="37"/>
                        </a:lnTo>
                        <a:lnTo>
                          <a:pt x="27" y="44"/>
                        </a:lnTo>
                        <a:lnTo>
                          <a:pt x="38" y="48"/>
                        </a:lnTo>
                        <a:lnTo>
                          <a:pt x="48" y="51"/>
                        </a:lnTo>
                        <a:lnTo>
                          <a:pt x="59" y="53"/>
                        </a:lnTo>
                        <a:lnTo>
                          <a:pt x="59" y="53"/>
                        </a:lnTo>
                        <a:lnTo>
                          <a:pt x="59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 flipH="1">
                    <a:off x="6589440" y="2949120"/>
                    <a:ext cx="7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1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flipH="1">
                    <a:off x="6571800" y="2947680"/>
                    <a:ext cx="172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">
                        <a:moveTo>
                          <a:pt x="85" y="4"/>
                        </a:moveTo>
                        <a:lnTo>
                          <a:pt x="85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flipH="1">
                    <a:off x="6571080" y="2947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 flipH="1">
                    <a:off x="6583680" y="294588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 flipH="1">
                    <a:off x="6574320" y="2945520"/>
                    <a:ext cx="9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9">
                        <a:moveTo>
                          <a:pt x="43" y="3"/>
                        </a:moveTo>
                        <a:lnTo>
                          <a:pt x="43" y="0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lnTo>
                          <a:pt x="43" y="7"/>
                        </a:lnTo>
                        <a:lnTo>
                          <a:pt x="4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 flipH="1">
                    <a:off x="6573960" y="2945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7"/>
                        </a:move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 flipH="1">
                    <a:off x="6477120" y="2847240"/>
                    <a:ext cx="946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01">
                        <a:moveTo>
                          <a:pt x="42" y="108"/>
                        </a:moveTo>
                        <a:lnTo>
                          <a:pt x="35" y="164"/>
                        </a:lnTo>
                        <a:lnTo>
                          <a:pt x="29" y="226"/>
                        </a:lnTo>
                        <a:lnTo>
                          <a:pt x="23" y="290"/>
                        </a:lnTo>
                        <a:lnTo>
                          <a:pt x="19" y="355"/>
                        </a:lnTo>
                        <a:lnTo>
                          <a:pt x="14" y="416"/>
                        </a:lnTo>
                        <a:lnTo>
                          <a:pt x="11" y="470"/>
                        </a:lnTo>
                        <a:lnTo>
                          <a:pt x="7" y="513"/>
                        </a:lnTo>
                        <a:lnTo>
                          <a:pt x="4" y="543"/>
                        </a:lnTo>
                        <a:lnTo>
                          <a:pt x="5" y="558"/>
                        </a:lnTo>
                        <a:lnTo>
                          <a:pt x="4" y="574"/>
                        </a:lnTo>
                        <a:lnTo>
                          <a:pt x="1" y="589"/>
                        </a:lnTo>
                        <a:lnTo>
                          <a:pt x="0" y="600"/>
                        </a:lnTo>
                        <a:lnTo>
                          <a:pt x="9" y="600"/>
                        </a:lnTo>
                        <a:lnTo>
                          <a:pt x="27" y="601"/>
                        </a:lnTo>
                        <a:lnTo>
                          <a:pt x="51" y="601"/>
                        </a:lnTo>
                        <a:lnTo>
                          <a:pt x="81" y="601"/>
                        </a:lnTo>
                        <a:lnTo>
                          <a:pt x="117" y="601"/>
                        </a:lnTo>
                        <a:lnTo>
                          <a:pt x="155" y="601"/>
                        </a:lnTo>
                        <a:lnTo>
                          <a:pt x="195" y="601"/>
                        </a:lnTo>
                        <a:lnTo>
                          <a:pt x="236" y="601"/>
                        </a:lnTo>
                        <a:lnTo>
                          <a:pt x="278" y="601"/>
                        </a:lnTo>
                        <a:lnTo>
                          <a:pt x="317" y="601"/>
                        </a:lnTo>
                        <a:lnTo>
                          <a:pt x="354" y="601"/>
                        </a:lnTo>
                        <a:lnTo>
                          <a:pt x="386" y="600"/>
                        </a:lnTo>
                        <a:lnTo>
                          <a:pt x="414" y="600"/>
                        </a:lnTo>
                        <a:lnTo>
                          <a:pt x="436" y="600"/>
                        </a:lnTo>
                        <a:lnTo>
                          <a:pt x="449" y="600"/>
                        </a:lnTo>
                        <a:lnTo>
                          <a:pt x="454" y="600"/>
                        </a:lnTo>
                        <a:lnTo>
                          <a:pt x="449" y="0"/>
                        </a:lnTo>
                        <a:lnTo>
                          <a:pt x="446" y="0"/>
                        </a:lnTo>
                        <a:lnTo>
                          <a:pt x="75" y="0"/>
                        </a:lnTo>
                        <a:lnTo>
                          <a:pt x="72" y="8"/>
                        </a:lnTo>
                        <a:lnTo>
                          <a:pt x="68" y="13"/>
                        </a:lnTo>
                        <a:lnTo>
                          <a:pt x="65" y="20"/>
                        </a:lnTo>
                        <a:lnTo>
                          <a:pt x="62" y="25"/>
                        </a:lnTo>
                        <a:lnTo>
                          <a:pt x="60" y="29"/>
                        </a:lnTo>
                        <a:lnTo>
                          <a:pt x="58" y="33"/>
                        </a:lnTo>
                        <a:lnTo>
                          <a:pt x="57" y="34"/>
                        </a:lnTo>
                        <a:lnTo>
                          <a:pt x="57" y="35"/>
                        </a:lnTo>
                        <a:lnTo>
                          <a:pt x="54" y="47"/>
                        </a:lnTo>
                        <a:lnTo>
                          <a:pt x="51" y="59"/>
                        </a:lnTo>
                        <a:lnTo>
                          <a:pt x="47" y="74"/>
                        </a:lnTo>
                        <a:lnTo>
                          <a:pt x="44" y="90"/>
                        </a:lnTo>
                        <a:lnTo>
                          <a:pt x="44" y="95"/>
                        </a:lnTo>
                        <a:lnTo>
                          <a:pt x="43" y="98"/>
                        </a:lnTo>
                        <a:lnTo>
                          <a:pt x="43" y="103"/>
                        </a:lnTo>
                        <a:lnTo>
                          <a:pt x="42" y="108"/>
                        </a:lnTo>
                        <a:lnTo>
                          <a:pt x="42" y="108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 flipH="1">
                    <a:off x="6477840" y="2851920"/>
                    <a:ext cx="84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5" h="67">
                        <a:moveTo>
                          <a:pt x="13" y="11"/>
                        </a:moveTo>
                        <a:lnTo>
                          <a:pt x="13" y="10"/>
                        </a:lnTo>
                        <a:lnTo>
                          <a:pt x="14" y="9"/>
                        </a:lnTo>
                        <a:lnTo>
                          <a:pt x="16" y="5"/>
                        </a:lnTo>
                        <a:lnTo>
                          <a:pt x="18" y="1"/>
                        </a:lnTo>
                        <a:lnTo>
                          <a:pt x="23" y="1"/>
                        </a:lnTo>
                        <a:lnTo>
                          <a:pt x="35" y="1"/>
                        </a:lnTo>
                        <a:lnTo>
                          <a:pt x="52" y="1"/>
                        </a:lnTo>
                        <a:lnTo>
                          <a:pt x="76" y="1"/>
                        </a:lnTo>
                        <a:lnTo>
                          <a:pt x="104" y="1"/>
                        </a:lnTo>
                        <a:lnTo>
                          <a:pt x="136" y="1"/>
                        </a:lnTo>
                        <a:lnTo>
                          <a:pt x="169" y="1"/>
                        </a:lnTo>
                        <a:lnTo>
                          <a:pt x="204" y="0"/>
                        </a:lnTo>
                        <a:lnTo>
                          <a:pt x="240" y="0"/>
                        </a:lnTo>
                        <a:lnTo>
                          <a:pt x="274" y="0"/>
                        </a:lnTo>
                        <a:lnTo>
                          <a:pt x="306" y="0"/>
                        </a:lnTo>
                        <a:lnTo>
                          <a:pt x="336" y="0"/>
                        </a:lnTo>
                        <a:lnTo>
                          <a:pt x="362" y="0"/>
                        </a:lnTo>
                        <a:lnTo>
                          <a:pt x="382" y="0"/>
                        </a:lnTo>
                        <a:lnTo>
                          <a:pt x="397" y="0"/>
                        </a:lnTo>
                        <a:lnTo>
                          <a:pt x="405" y="0"/>
                        </a:lnTo>
                        <a:lnTo>
                          <a:pt x="405" y="67"/>
                        </a:lnTo>
                        <a:lnTo>
                          <a:pt x="401" y="67"/>
                        </a:lnTo>
                        <a:lnTo>
                          <a:pt x="389" y="67"/>
                        </a:lnTo>
                        <a:lnTo>
                          <a:pt x="370" y="67"/>
                        </a:lnTo>
                        <a:lnTo>
                          <a:pt x="346" y="67"/>
                        </a:lnTo>
                        <a:lnTo>
                          <a:pt x="316" y="67"/>
                        </a:lnTo>
                        <a:lnTo>
                          <a:pt x="283" y="67"/>
                        </a:lnTo>
                        <a:lnTo>
                          <a:pt x="248" y="67"/>
                        </a:lnTo>
                        <a:lnTo>
                          <a:pt x="212" y="66"/>
                        </a:lnTo>
                        <a:lnTo>
                          <a:pt x="174" y="66"/>
                        </a:lnTo>
                        <a:lnTo>
                          <a:pt x="138" y="66"/>
                        </a:lnTo>
                        <a:lnTo>
                          <a:pt x="105" y="66"/>
                        </a:lnTo>
                        <a:lnTo>
                          <a:pt x="73" y="66"/>
                        </a:lnTo>
                        <a:lnTo>
                          <a:pt x="46" y="66"/>
                        </a:lnTo>
                        <a:lnTo>
                          <a:pt x="24" y="66"/>
                        </a:lnTo>
                        <a:lnTo>
                          <a:pt x="8" y="66"/>
                        </a:lnTo>
                        <a:lnTo>
                          <a:pt x="0" y="66"/>
                        </a:lnTo>
                        <a:lnTo>
                          <a:pt x="3" y="50"/>
                        </a:lnTo>
                        <a:lnTo>
                          <a:pt x="7" y="35"/>
                        </a:lnTo>
                        <a:lnTo>
                          <a:pt x="10" y="23"/>
                        </a:lnTo>
                        <a:lnTo>
                          <a:pt x="13" y="1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 flipH="1">
                    <a:off x="6558840" y="2851200"/>
                    <a:ext cx="21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9" y="0"/>
                        </a:move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1" y="11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7" y="17"/>
                        </a:lnTo>
                        <a:lnTo>
                          <a:pt x="7" y="15"/>
                        </a:lnTo>
                        <a:lnTo>
                          <a:pt x="8" y="15"/>
                        </a:lnTo>
                        <a:lnTo>
                          <a:pt x="11" y="1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13" y="6"/>
                        </a:lnTo>
                        <a:lnTo>
                          <a:pt x="13" y="3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 flipH="1">
                    <a:off x="6477120" y="2850840"/>
                    <a:ext cx="81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10">
                        <a:moveTo>
                          <a:pt x="392" y="5"/>
                        </a:moveTo>
                        <a:lnTo>
                          <a:pt x="387" y="0"/>
                        </a:lnTo>
                        <a:lnTo>
                          <a:pt x="379" y="0"/>
                        </a:lnTo>
                        <a:lnTo>
                          <a:pt x="364" y="0"/>
                        </a:lnTo>
                        <a:lnTo>
                          <a:pt x="344" y="0"/>
                        </a:lnTo>
                        <a:lnTo>
                          <a:pt x="318" y="0"/>
                        </a:lnTo>
                        <a:lnTo>
                          <a:pt x="288" y="0"/>
                        </a:lnTo>
                        <a:lnTo>
                          <a:pt x="256" y="0"/>
                        </a:lnTo>
                        <a:lnTo>
                          <a:pt x="222" y="0"/>
                        </a:lnTo>
                        <a:lnTo>
                          <a:pt x="186" y="0"/>
                        </a:lnTo>
                        <a:lnTo>
                          <a:pt x="151" y="1"/>
                        </a:lnTo>
                        <a:lnTo>
                          <a:pt x="118" y="1"/>
                        </a:lnTo>
                        <a:lnTo>
                          <a:pt x="86" y="1"/>
                        </a:lnTo>
                        <a:lnTo>
                          <a:pt x="58" y="1"/>
                        </a:lnTo>
                        <a:lnTo>
                          <a:pt x="34" y="1"/>
                        </a:lnTo>
                        <a:lnTo>
                          <a:pt x="17" y="1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  <a:lnTo>
                          <a:pt x="0" y="10"/>
                        </a:lnTo>
                        <a:lnTo>
                          <a:pt x="5" y="10"/>
                        </a:lnTo>
                        <a:lnTo>
                          <a:pt x="17" y="10"/>
                        </a:lnTo>
                        <a:lnTo>
                          <a:pt x="34" y="10"/>
                        </a:lnTo>
                        <a:lnTo>
                          <a:pt x="58" y="10"/>
                        </a:lnTo>
                        <a:lnTo>
                          <a:pt x="86" y="10"/>
                        </a:lnTo>
                        <a:lnTo>
                          <a:pt x="118" y="10"/>
                        </a:lnTo>
                        <a:lnTo>
                          <a:pt x="151" y="10"/>
                        </a:lnTo>
                        <a:lnTo>
                          <a:pt x="186" y="9"/>
                        </a:lnTo>
                        <a:lnTo>
                          <a:pt x="222" y="9"/>
                        </a:lnTo>
                        <a:lnTo>
                          <a:pt x="256" y="9"/>
                        </a:lnTo>
                        <a:lnTo>
                          <a:pt x="288" y="9"/>
                        </a:lnTo>
                        <a:lnTo>
                          <a:pt x="318" y="9"/>
                        </a:lnTo>
                        <a:lnTo>
                          <a:pt x="344" y="9"/>
                        </a:lnTo>
                        <a:lnTo>
                          <a:pt x="364" y="9"/>
                        </a:lnTo>
                        <a:lnTo>
                          <a:pt x="379" y="9"/>
                        </a:lnTo>
                        <a:lnTo>
                          <a:pt x="387" y="9"/>
                        </a:lnTo>
                        <a:lnTo>
                          <a:pt x="383" y="5"/>
                        </a:lnTo>
                        <a:lnTo>
                          <a:pt x="387" y="9"/>
                        </a:lnTo>
                        <a:lnTo>
                          <a:pt x="391" y="8"/>
                        </a:lnTo>
                        <a:lnTo>
                          <a:pt x="392" y="5"/>
                        </a:lnTo>
                        <a:lnTo>
                          <a:pt x="391" y="1"/>
                        </a:lnTo>
                        <a:lnTo>
                          <a:pt x="387" y="0"/>
                        </a:lnTo>
                        <a:lnTo>
                          <a:pt x="392" y="5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>
                    <a:off x="6477840" y="2851920"/>
                    <a:ext cx="2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72">
                        <a:moveTo>
                          <a:pt x="4" y="72"/>
                        </a:moveTo>
                        <a:lnTo>
                          <a:pt x="9" y="67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67"/>
                        </a:lnTo>
                        <a:lnTo>
                          <a:pt x="4" y="63"/>
                        </a:lnTo>
                        <a:lnTo>
                          <a:pt x="0" y="67"/>
                        </a:lnTo>
                        <a:lnTo>
                          <a:pt x="1" y="71"/>
                        </a:lnTo>
                        <a:lnTo>
                          <a:pt x="4" y="72"/>
                        </a:lnTo>
                        <a:lnTo>
                          <a:pt x="8" y="71"/>
                        </a:lnTo>
                        <a:lnTo>
                          <a:pt x="9" y="67"/>
                        </a:lnTo>
                        <a:lnTo>
                          <a:pt x="4" y="72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 flipH="1">
                    <a:off x="6478560" y="2863440"/>
                    <a:ext cx="856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0">
                        <a:moveTo>
                          <a:pt x="2" y="4"/>
                        </a:moveTo>
                        <a:lnTo>
                          <a:pt x="5" y="9"/>
                        </a:lnTo>
                        <a:lnTo>
                          <a:pt x="13" y="9"/>
                        </a:lnTo>
                        <a:lnTo>
                          <a:pt x="29" y="9"/>
                        </a:lnTo>
                        <a:lnTo>
                          <a:pt x="51" y="9"/>
                        </a:lnTo>
                        <a:lnTo>
                          <a:pt x="78" y="9"/>
                        </a:lnTo>
                        <a:lnTo>
                          <a:pt x="110" y="9"/>
                        </a:lnTo>
                        <a:lnTo>
                          <a:pt x="143" y="9"/>
                        </a:lnTo>
                        <a:lnTo>
                          <a:pt x="179" y="9"/>
                        </a:lnTo>
                        <a:lnTo>
                          <a:pt x="217" y="9"/>
                        </a:lnTo>
                        <a:lnTo>
                          <a:pt x="253" y="10"/>
                        </a:lnTo>
                        <a:lnTo>
                          <a:pt x="288" y="10"/>
                        </a:lnTo>
                        <a:lnTo>
                          <a:pt x="321" y="10"/>
                        </a:lnTo>
                        <a:lnTo>
                          <a:pt x="351" y="10"/>
                        </a:lnTo>
                        <a:lnTo>
                          <a:pt x="375" y="10"/>
                        </a:lnTo>
                        <a:lnTo>
                          <a:pt x="394" y="10"/>
                        </a:lnTo>
                        <a:lnTo>
                          <a:pt x="406" y="10"/>
                        </a:lnTo>
                        <a:lnTo>
                          <a:pt x="410" y="10"/>
                        </a:lnTo>
                        <a:lnTo>
                          <a:pt x="410" y="1"/>
                        </a:lnTo>
                        <a:lnTo>
                          <a:pt x="406" y="1"/>
                        </a:lnTo>
                        <a:lnTo>
                          <a:pt x="394" y="1"/>
                        </a:lnTo>
                        <a:lnTo>
                          <a:pt x="375" y="1"/>
                        </a:lnTo>
                        <a:lnTo>
                          <a:pt x="351" y="1"/>
                        </a:lnTo>
                        <a:lnTo>
                          <a:pt x="321" y="1"/>
                        </a:lnTo>
                        <a:lnTo>
                          <a:pt x="288" y="1"/>
                        </a:lnTo>
                        <a:lnTo>
                          <a:pt x="253" y="1"/>
                        </a:lnTo>
                        <a:lnTo>
                          <a:pt x="217" y="0"/>
                        </a:lnTo>
                        <a:lnTo>
                          <a:pt x="179" y="0"/>
                        </a:lnTo>
                        <a:lnTo>
                          <a:pt x="143" y="0"/>
                        </a:lnTo>
                        <a:lnTo>
                          <a:pt x="110" y="0"/>
                        </a:lnTo>
                        <a:lnTo>
                          <a:pt x="78" y="0"/>
                        </a:lnTo>
                        <a:lnTo>
                          <a:pt x="51" y="0"/>
                        </a:ln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8"/>
                        </a:lnTo>
                        <a:lnTo>
                          <a:pt x="5" y="9"/>
                        </a:lnTo>
                        <a:lnTo>
                          <a:pt x="2" y="4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 flipH="1">
                    <a:off x="6559200" y="2853360"/>
                    <a:ext cx="3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58">
                        <a:moveTo>
                          <a:pt x="12" y="1"/>
                        </a:moveTo>
                        <a:lnTo>
                          <a:pt x="12" y="3"/>
                        </a:lnTo>
                        <a:lnTo>
                          <a:pt x="10" y="15"/>
                        </a:lnTo>
                        <a:lnTo>
                          <a:pt x="6" y="27"/>
                        </a:lnTo>
                        <a:lnTo>
                          <a:pt x="3" y="42"/>
                        </a:lnTo>
                        <a:lnTo>
                          <a:pt x="0" y="58"/>
                        </a:lnTo>
                        <a:lnTo>
                          <a:pt x="6" y="58"/>
                        </a:lnTo>
                        <a:lnTo>
                          <a:pt x="10" y="42"/>
                        </a:lnTo>
                        <a:lnTo>
                          <a:pt x="13" y="27"/>
                        </a:lnTo>
                        <a:lnTo>
                          <a:pt x="17" y="15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9" y="3"/>
                        </a:lnTo>
                        <a:lnTo>
                          <a:pt x="18" y="1"/>
                        </a:lnTo>
                        <a:lnTo>
                          <a:pt x="16" y="0"/>
                        </a:lnTo>
                        <a:lnTo>
                          <a:pt x="13" y="1"/>
                        </a:lnTo>
                        <a:lnTo>
                          <a:pt x="12" y="3"/>
                        </a:lnTo>
                        <a:lnTo>
                          <a:pt x="12" y="1"/>
                        </a:lnTo>
                        <a:close/>
                      </a:path>
                    </a:pathLst>
                  </a:custGeom>
                  <a:solidFill>
                    <a:srgbClr val="0033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579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80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6" name="" descr=""/>
            <p:cNvPicPr/>
            <p:nvPr/>
          </p:nvPicPr>
          <p:blipFill>
            <a:blip r:embed="rId3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587" name=""/>
            <p:cNvCxnSpPr>
              <a:stCxn id="3586" idx="1"/>
              <a:endCxn id="3582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8" name=""/>
            <p:cNvCxnSpPr>
              <a:stCxn id="3586" idx="1"/>
              <a:endCxn id="3585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89" name=""/>
            <p:cNvCxnSpPr>
              <a:stCxn id="3586" idx="1"/>
              <a:endCxn id="3583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0" name=""/>
            <p:cNvCxnSpPr>
              <a:stCxn id="3582" idx="6"/>
              <a:endCxn id="3584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1" name=""/>
            <p:cNvCxnSpPr>
              <a:stCxn id="3582" idx="6"/>
              <a:endCxn id="3580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592" name=""/>
            <p:cNvCxnSpPr>
              <a:stCxn id="3582" idx="6"/>
              <a:endCxn id="3581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ervezeti egységek tervezése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Group Policy-k használ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7900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rvezzük meg a Default Domain és Default Domain Controller Policy-ke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nk külön objektumok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é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beállít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minisztratív sablon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szt vesz a telephelyek közti replikációb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GPO linkek lassítják a feldolgoz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ndokolt esetben használjunk szűrést vagy blokkolá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ibakeresés: gpresults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5" name=""/>
          <p:cNvGrpSpPr/>
          <p:nvPr/>
        </p:nvGrpSpPr>
        <p:grpSpPr>
          <a:xfrm>
            <a:off x="7714080" y="228600"/>
            <a:ext cx="921240" cy="1523160"/>
            <a:chOff x="7714080" y="228600"/>
            <a:chExt cx="921240" cy="1523160"/>
          </a:xfrm>
        </p:grpSpPr>
        <p:sp>
          <p:nvSpPr>
            <p:cNvPr id="3596" name=""/>
            <p:cNvSpPr/>
            <p:nvPr/>
          </p:nvSpPr>
          <p:spPr>
            <a:xfrm>
              <a:off x="8355960" y="117864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355960" y="15238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848720" y="7876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848720" y="152388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355960" y="787680"/>
              <a:ext cx="27936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7848720" y="1178640"/>
              <a:ext cx="276120" cy="22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02" name="" descr=""/>
            <p:cNvPicPr/>
            <p:nvPr/>
          </p:nvPicPr>
          <p:blipFill>
            <a:blip r:embed="rId1"/>
            <a:stretch/>
          </p:blipFill>
          <p:spPr>
            <a:xfrm>
              <a:off x="7893000" y="228600"/>
              <a:ext cx="442080" cy="417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603" name=""/>
            <p:cNvCxnSpPr>
              <a:stCxn id="3602" idx="1"/>
              <a:endCxn id="3598" idx="2"/>
            </p:cNvCxnSpPr>
            <p:nvPr/>
          </p:nvCxnSpPr>
          <p:spPr>
            <a:xfrm flipV="1" rot="10800000">
              <a:off x="7848000" y="438120"/>
              <a:ext cx="45000" cy="4633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4" name=""/>
            <p:cNvCxnSpPr>
              <a:stCxn id="3602" idx="1"/>
              <a:endCxn id="3601" idx="2"/>
            </p:cNvCxnSpPr>
            <p:nvPr/>
          </p:nvCxnSpPr>
          <p:spPr>
            <a:xfrm flipV="1" rot="10800000">
              <a:off x="7848000" y="438120"/>
              <a:ext cx="45000" cy="853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5" name=""/>
            <p:cNvCxnSpPr>
              <a:stCxn id="3602" idx="1"/>
              <a:endCxn id="3599" idx="2"/>
            </p:cNvCxnSpPr>
            <p:nvPr/>
          </p:nvCxnSpPr>
          <p:spPr>
            <a:xfrm flipV="1" rot="10800000">
              <a:off x="7848000" y="438840"/>
              <a:ext cx="45000" cy="1198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6" name=""/>
            <p:cNvCxnSpPr>
              <a:stCxn id="3598" idx="6"/>
              <a:endCxn id="3600" idx="2"/>
            </p:cNvCxnSpPr>
            <p:nvPr/>
          </p:nvCxnSpPr>
          <p:spPr>
            <a:xfrm>
              <a:off x="8124480" y="901800"/>
              <a:ext cx="23148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7" name=""/>
            <p:cNvCxnSpPr>
              <a:stCxn id="3598" idx="6"/>
              <a:endCxn id="3596" idx="2"/>
            </p:cNvCxnSpPr>
            <p:nvPr/>
          </p:nvCxnSpPr>
          <p:spPr>
            <a:xfrm>
              <a:off x="8124480" y="901800"/>
              <a:ext cx="231480" cy="3906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3608" name=""/>
            <p:cNvCxnSpPr>
              <a:stCxn id="3598" idx="6"/>
              <a:endCxn id="3597" idx="2"/>
            </p:cNvCxnSpPr>
            <p:nvPr/>
          </p:nvCxnSpPr>
          <p:spPr>
            <a:xfrm>
              <a:off x="8124480" y="901800"/>
              <a:ext cx="231480" cy="7362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3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kialakítás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511200" y="1949040"/>
            <a:ext cx="7789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topo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óg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 és kapcsolata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opológia biztosítja a  hatékony keresést és replikáci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lemz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 egy vagy több IP Subnet min. 10 MBps-os kapcsol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elephelyeket Site Link objektumok kapcsolják öss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határozzák meg a replikációs partn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onnection objektumok automatikusan jönnek létre és könnyen átszerkeszthető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1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12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3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4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3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replikációs topológia tervezési szempontjai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lapismerete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725040" y="2514600"/>
            <a:ext cx="737892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liensek megtalálják a „közeli” kiszolgáló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site vs. inter-site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plik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7" name=""/>
          <p:cNvGrpSpPr/>
          <p:nvPr/>
        </p:nvGrpSpPr>
        <p:grpSpPr>
          <a:xfrm>
            <a:off x="585720" y="3403440"/>
            <a:ext cx="7948440" cy="2921040"/>
            <a:chOff x="585720" y="3403440"/>
            <a:chExt cx="7948440" cy="2921040"/>
          </a:xfrm>
        </p:grpSpPr>
        <p:sp>
          <p:nvSpPr>
            <p:cNvPr id="3618" name=""/>
            <p:cNvSpPr/>
            <p:nvPr/>
          </p:nvSpPr>
          <p:spPr>
            <a:xfrm>
              <a:off x="5884560" y="5619600"/>
              <a:ext cx="26496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Replikációs költségek függvény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110400" y="5619600"/>
              <a:ext cx="27738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Logikai gyűr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585720" y="5619600"/>
              <a:ext cx="25246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apcsola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884560" y="51778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, SMT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110400" y="51778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585720" y="51778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ranszpo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884560" y="4736880"/>
              <a:ext cx="26496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Idő és költség alap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110400" y="4736880"/>
              <a:ext cx="27738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Folyamat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585720" y="4736880"/>
              <a:ext cx="252468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Ütem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5884560" y="4289400"/>
              <a:ext cx="26496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110400" y="4289400"/>
              <a:ext cx="277380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otify-Pu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585720" y="4289400"/>
              <a:ext cx="252468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ezdeményez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884560" y="3847680"/>
              <a:ext cx="2649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1:10 arányba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110400" y="3847680"/>
              <a:ext cx="27738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Ninc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85720" y="3847680"/>
              <a:ext cx="2524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Tömörí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884560" y="3403440"/>
              <a:ext cx="2649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ER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110400" y="3403440"/>
              <a:ext cx="27738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NTRA-SI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585720" y="3403440"/>
              <a:ext cx="252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85720" y="63244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8572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11040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884560" y="3403440"/>
              <a:ext cx="0" cy="292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8534160" y="3403440"/>
              <a:ext cx="0" cy="2921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85720" y="3403440"/>
              <a:ext cx="794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585720" y="38476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85720" y="42894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85720" y="4736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85720" y="517788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85720" y="3403440"/>
              <a:ext cx="2524680" cy="444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85720" y="5619600"/>
              <a:ext cx="7948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8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49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0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1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80880" y="2362320"/>
            <a:ext cx="2286000" cy="3045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367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372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379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39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39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39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304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867280"/>
            <a:ext cx="22860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5000" y="60199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02040" y="51814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5560" y="54100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4360" y="2895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53440" y="32004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9040" y="1676520"/>
            <a:ext cx="3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86560" y="35053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256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5480" y="380988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28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1640" y="571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64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9614600">
            <a:off x="1800" y="6091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ALHÁLÓZAT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222600">
            <a:off x="647280" y="419040"/>
            <a:ext cx="381240" cy="1676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8400" y="20628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LT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4480" y="639288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Tanszék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31520" y="639288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12600" y="46260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ze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44880" y="485460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isko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r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20574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0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47920" y="12952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10.0.1.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55360" y="206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ME Budap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2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elephelytervezés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Módszert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/>
          </p:nvPr>
        </p:nvSpPr>
        <p:spPr>
          <a:xfrm>
            <a:off x="511200" y="1949400"/>
            <a:ext cx="778968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tározzuk meg a telephely határ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helyek, IP Subnetek defini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ite Link-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, ütemezés, replikációs frekv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uk a szerver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GC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alább egy DNS szerver telephelyenkén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4" name=""/>
          <p:cNvGrpSpPr/>
          <p:nvPr/>
        </p:nvGrpSpPr>
        <p:grpSpPr>
          <a:xfrm>
            <a:off x="7620120" y="152280"/>
            <a:ext cx="1247760" cy="1584360"/>
            <a:chOff x="7620120" y="152280"/>
            <a:chExt cx="1247760" cy="1584360"/>
          </a:xfrm>
        </p:grpSpPr>
        <p:pic>
          <p:nvPicPr>
            <p:cNvPr id="3655" name="" descr=""/>
            <p:cNvPicPr/>
            <p:nvPr/>
          </p:nvPicPr>
          <p:blipFill>
            <a:blip r:embed="rId1"/>
            <a:stretch/>
          </p:blipFill>
          <p:spPr>
            <a:xfrm>
              <a:off x="8264520" y="152280"/>
              <a:ext cx="55728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6" name="" descr=""/>
            <p:cNvPicPr/>
            <p:nvPr/>
          </p:nvPicPr>
          <p:blipFill>
            <a:blip r:embed="rId2"/>
            <a:stretch/>
          </p:blipFill>
          <p:spPr>
            <a:xfrm>
              <a:off x="7620120" y="411120"/>
              <a:ext cx="51408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7" name="" descr=""/>
            <p:cNvPicPr/>
            <p:nvPr/>
          </p:nvPicPr>
          <p:blipFill>
            <a:blip r:embed="rId3"/>
            <a:stretch/>
          </p:blipFill>
          <p:spPr>
            <a:xfrm>
              <a:off x="8229600" y="944640"/>
              <a:ext cx="638280" cy="79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pire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42960" y="1627200"/>
            <a:ext cx="82152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Miért és hol érdemes beve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ze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tn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Együttélés más rendszerekkel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Az </a:t>
            </a:r>
            <a:r>
              <a:rPr b="0" lang="hu-HU" sz="3200" spc="-1" strike="noStrike">
                <a:solidFill>
                  <a:srgbClr val="0099cc"/>
                </a:solidFill>
                <a:latin typeface="Arial"/>
              </a:rPr>
              <a:t>Active Directory tartománytervezés elmélete és gyakor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ttérés forgatókönyv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0" name=""/>
          <p:cNvGrpSpPr/>
          <p:nvPr/>
        </p:nvGrpSpPr>
        <p:grpSpPr>
          <a:xfrm>
            <a:off x="1125000" y="1752480"/>
            <a:ext cx="4376520" cy="4497480"/>
            <a:chOff x="1125000" y="1752480"/>
            <a:chExt cx="4376520" cy="4497480"/>
          </a:xfrm>
        </p:grpSpPr>
        <p:grpSp>
          <p:nvGrpSpPr>
            <p:cNvPr id="3661" name=""/>
            <p:cNvGrpSpPr/>
            <p:nvPr/>
          </p:nvGrpSpPr>
          <p:grpSpPr>
            <a:xfrm>
              <a:off x="1125000" y="1752480"/>
              <a:ext cx="4376520" cy="4497480"/>
              <a:chOff x="1125000" y="1752480"/>
              <a:chExt cx="4376520" cy="4497480"/>
            </a:xfrm>
          </p:grpSpPr>
          <p:sp>
            <p:nvSpPr>
              <p:cNvPr id="3662" name=""/>
              <p:cNvSpPr/>
              <p:nvPr/>
            </p:nvSpPr>
            <p:spPr>
              <a:xfrm>
                <a:off x="1752480" y="1828800"/>
                <a:ext cx="0" cy="388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1752480" y="5410080"/>
                <a:ext cx="3124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4876920" y="1752480"/>
                <a:ext cx="0" cy="3962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125000" y="5790960"/>
                <a:ext cx="1547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eglévő környeze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4267800" y="5790960"/>
                <a:ext cx="123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indows 200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ative Mod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1752480" y="5410080"/>
                <a:ext cx="3124440" cy="457200"/>
              </a:xfrm>
              <a:prstGeom prst="leftRightArrow">
                <a:avLst>
                  <a:gd name="adj1" fmla="val 50000"/>
                  <a:gd name="adj2" fmla="val 136044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8" name=""/>
            <p:cNvSpPr/>
            <p:nvPr/>
          </p:nvSpPr>
          <p:spPr>
            <a:xfrm>
              <a:off x="2811240" y="5502240"/>
              <a:ext cx="80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4876920" y="5410080"/>
            <a:ext cx="3124080" cy="457200"/>
            <a:chOff x="4876920" y="5410080"/>
            <a:chExt cx="3124080" cy="457200"/>
          </a:xfrm>
        </p:grpSpPr>
        <p:sp>
          <p:nvSpPr>
            <p:cNvPr id="3670" name=""/>
            <p:cNvSpPr/>
            <p:nvPr/>
          </p:nvSpPr>
          <p:spPr>
            <a:xfrm>
              <a:off x="4876920" y="541008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1" name=""/>
            <p:cNvGrpSpPr/>
            <p:nvPr/>
          </p:nvGrpSpPr>
          <p:grpSpPr>
            <a:xfrm>
              <a:off x="4876920" y="5410080"/>
              <a:ext cx="3124080" cy="457200"/>
              <a:chOff x="4876920" y="5410080"/>
              <a:chExt cx="3124080" cy="457200"/>
            </a:xfrm>
          </p:grpSpPr>
          <p:sp>
            <p:nvSpPr>
              <p:cNvPr id="3672" name=""/>
              <p:cNvSpPr/>
              <p:nvPr/>
            </p:nvSpPr>
            <p:spPr>
              <a:xfrm>
                <a:off x="4876920" y="5410080"/>
                <a:ext cx="3124080" cy="457200"/>
              </a:xfrm>
              <a:prstGeom prst="leftRightArrow">
                <a:avLst>
                  <a:gd name="adj1" fmla="val 50000"/>
                  <a:gd name="adj2" fmla="val 136029"/>
                </a:avLst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935680" y="5499000"/>
                <a:ext cx="1172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Migráció utá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74" name=""/>
          <p:cNvGrpSpPr/>
          <p:nvPr/>
        </p:nvGrpSpPr>
        <p:grpSpPr>
          <a:xfrm>
            <a:off x="1752480" y="2819520"/>
            <a:ext cx="3124440" cy="457200"/>
            <a:chOff x="1752480" y="2819520"/>
            <a:chExt cx="3124440" cy="457200"/>
          </a:xfrm>
        </p:grpSpPr>
        <p:sp>
          <p:nvSpPr>
            <p:cNvPr id="3675" name=""/>
            <p:cNvSpPr/>
            <p:nvPr/>
          </p:nvSpPr>
          <p:spPr>
            <a:xfrm>
              <a:off x="1752480" y="281952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895480" y="2895840"/>
              <a:ext cx="81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1752480" y="3657600"/>
            <a:ext cx="3124440" cy="457200"/>
            <a:chOff x="1752480" y="3657600"/>
            <a:chExt cx="3124440" cy="457200"/>
          </a:xfrm>
        </p:grpSpPr>
        <p:grpSp>
          <p:nvGrpSpPr>
            <p:cNvPr id="3678" name=""/>
            <p:cNvGrpSpPr/>
            <p:nvPr/>
          </p:nvGrpSpPr>
          <p:grpSpPr>
            <a:xfrm>
              <a:off x="1752480" y="3657600"/>
              <a:ext cx="1600200" cy="457200"/>
              <a:chOff x="1752480" y="3657600"/>
              <a:chExt cx="1600200" cy="457200"/>
            </a:xfrm>
          </p:grpSpPr>
          <p:sp>
            <p:nvSpPr>
              <p:cNvPr id="3679" name=""/>
              <p:cNvSpPr/>
              <p:nvPr/>
            </p:nvSpPr>
            <p:spPr>
              <a:xfrm>
                <a:off x="1752480" y="3657600"/>
                <a:ext cx="1600200" cy="457200"/>
              </a:xfrm>
              <a:prstGeom prst="leftRightArrow">
                <a:avLst>
                  <a:gd name="adj1" fmla="val 50000"/>
                  <a:gd name="adj2" fmla="val 69676"/>
                </a:avLst>
              </a:prstGeom>
              <a:gradFill rotWithShape="0">
                <a:gsLst>
                  <a:gs pos="0">
                    <a:srgbClr val="755e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085840" y="3733560"/>
                <a:ext cx="81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3352680" y="3657600"/>
              <a:ext cx="1524240" cy="457200"/>
              <a:chOff x="3352680" y="3657600"/>
              <a:chExt cx="1524240" cy="457200"/>
            </a:xfrm>
          </p:grpSpPr>
          <p:sp>
            <p:nvSpPr>
              <p:cNvPr id="3682" name=""/>
              <p:cNvSpPr/>
              <p:nvPr/>
            </p:nvSpPr>
            <p:spPr>
              <a:xfrm>
                <a:off x="3352680" y="3657600"/>
                <a:ext cx="1524240" cy="457200"/>
              </a:xfrm>
              <a:prstGeom prst="leftRightArrow">
                <a:avLst>
                  <a:gd name="adj1" fmla="val 50000"/>
                  <a:gd name="adj2" fmla="val 66368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8a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668400" y="3755880"/>
                <a:ext cx="106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200" spc="-1" strike="noStrike">
                    <a:solidFill>
                      <a:srgbClr val="ffffff"/>
                    </a:solidFill>
                    <a:latin typeface="Arial"/>
                  </a:rPr>
                  <a:t>Átszervezé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84" name=""/>
          <p:cNvGrpSpPr/>
          <p:nvPr/>
        </p:nvGrpSpPr>
        <p:grpSpPr>
          <a:xfrm>
            <a:off x="1752480" y="4495680"/>
            <a:ext cx="3124440" cy="457200"/>
            <a:chOff x="1752480" y="4495680"/>
            <a:chExt cx="3124440" cy="457200"/>
          </a:xfrm>
        </p:grpSpPr>
        <p:sp>
          <p:nvSpPr>
            <p:cNvPr id="3685" name=""/>
            <p:cNvSpPr/>
            <p:nvPr/>
          </p:nvSpPr>
          <p:spPr>
            <a:xfrm>
              <a:off x="1752480" y="4495680"/>
              <a:ext cx="3124440" cy="457200"/>
            </a:xfrm>
            <a:prstGeom prst="leftRightArrow">
              <a:avLst>
                <a:gd name="adj1" fmla="val 50000"/>
                <a:gd name="adj2" fmla="val 136044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766600" y="459396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4876920" y="3048120"/>
            <a:ext cx="3200400" cy="1752480"/>
            <a:chOff x="4876920" y="3048120"/>
            <a:chExt cx="3200400" cy="1752480"/>
          </a:xfrm>
        </p:grpSpPr>
        <p:sp>
          <p:nvSpPr>
            <p:cNvPr id="3688" name=""/>
            <p:cNvSpPr/>
            <p:nvPr/>
          </p:nvSpPr>
          <p:spPr>
            <a:xfrm>
              <a:off x="4876920" y="3048120"/>
              <a:ext cx="3200400" cy="1752480"/>
            </a:xfrm>
            <a:prstGeom prst="leftRightArrow">
              <a:avLst>
                <a:gd name="adj1" fmla="val 50000"/>
                <a:gd name="adj2" fmla="val 36355"/>
              </a:avLst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8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916240" y="3755880"/>
              <a:ext cx="106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szervezé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Frissítés vagy folyamatos áttéré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219240" y="16668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frissít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725040" y="1144080"/>
            <a:ext cx="80550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és hely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gyorsabb, legegyszerűbb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infrastruktúra megmar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3" name=""/>
          <p:cNvGrpSpPr/>
          <p:nvPr/>
        </p:nvGrpSpPr>
        <p:grpSpPr>
          <a:xfrm>
            <a:off x="533520" y="4167360"/>
            <a:ext cx="3047400" cy="1831680"/>
            <a:chOff x="533520" y="4167360"/>
            <a:chExt cx="3047400" cy="1831680"/>
          </a:xfrm>
        </p:grpSpPr>
        <p:sp>
          <p:nvSpPr>
            <p:cNvPr id="3694" name=""/>
            <p:cNvSpPr/>
            <p:nvPr/>
          </p:nvSpPr>
          <p:spPr>
            <a:xfrm>
              <a:off x="1614240" y="4167360"/>
              <a:ext cx="914040" cy="6127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3352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60020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66880" y="5386320"/>
              <a:ext cx="914040" cy="6127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98" name=""/>
            <p:cNvCxnSpPr>
              <a:stCxn id="3695" idx="0"/>
              <a:endCxn id="3694" idx="3"/>
            </p:cNvCxnSpPr>
            <p:nvPr/>
          </p:nvCxnSpPr>
          <p:spPr>
            <a:xfrm flipV="1">
              <a:off x="990000" y="4689000"/>
              <a:ext cx="7578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699" name=""/>
            <p:cNvCxnSpPr>
              <a:stCxn id="3696" idx="0"/>
              <a:endCxn id="3694" idx="4"/>
            </p:cNvCxnSpPr>
            <p:nvPr/>
          </p:nvCxnSpPr>
          <p:spPr>
            <a:xfrm flipV="1">
              <a:off x="2057400" y="4779720"/>
              <a:ext cx="14400" cy="6069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0" name=""/>
            <p:cNvCxnSpPr>
              <a:stCxn id="3697" idx="0"/>
              <a:endCxn id="3694" idx="5"/>
            </p:cNvCxnSpPr>
            <p:nvPr/>
          </p:nvCxnSpPr>
          <p:spPr>
            <a:xfrm flipH="1" flipV="1">
              <a:off x="2394720" y="4689000"/>
              <a:ext cx="729000" cy="6976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  <p:sp>
        <p:nvSpPr>
          <p:cNvPr id="3701" name=""/>
          <p:cNvSpPr/>
          <p:nvPr/>
        </p:nvSpPr>
        <p:spPr>
          <a:xfrm>
            <a:off x="3124080" y="454824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Tartományfrissít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2" name=""/>
          <p:cNvGrpSpPr/>
          <p:nvPr/>
        </p:nvGrpSpPr>
        <p:grpSpPr>
          <a:xfrm>
            <a:off x="5410080" y="4167360"/>
            <a:ext cx="3200400" cy="1981080"/>
            <a:chOff x="5410080" y="4167360"/>
            <a:chExt cx="3200400" cy="1981080"/>
          </a:xfrm>
        </p:grpSpPr>
        <p:sp>
          <p:nvSpPr>
            <p:cNvPr id="3703" name=""/>
            <p:cNvSpPr/>
            <p:nvPr/>
          </p:nvSpPr>
          <p:spPr>
            <a:xfrm>
              <a:off x="6507000" y="416736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61976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514920" y="538632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410080" y="538632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07" name=""/>
            <p:cNvCxnSpPr>
              <a:stCxn id="3706" idx="0"/>
              <a:endCxn id="3703" idx="2"/>
            </p:cNvCxnSpPr>
            <p:nvPr/>
          </p:nvCxnSpPr>
          <p:spPr>
            <a:xfrm flipV="1">
              <a:off x="5905080" y="492876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8" name=""/>
            <p:cNvCxnSpPr>
              <a:stCxn id="3705" idx="0"/>
              <a:endCxn id="3703" idx="3"/>
            </p:cNvCxnSpPr>
            <p:nvPr/>
          </p:nvCxnSpPr>
          <p:spPr>
            <a:xfrm flipH="1" flipV="1">
              <a:off x="7002000" y="4928760"/>
              <a:ext cx="864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cxnSp>
          <p:nvCxnSpPr>
            <p:cNvPr id="3709" name=""/>
            <p:cNvCxnSpPr>
              <a:stCxn id="3704" idx="0"/>
              <a:endCxn id="3703" idx="4"/>
            </p:cNvCxnSpPr>
            <p:nvPr/>
          </p:nvCxnSpPr>
          <p:spPr>
            <a:xfrm flipH="1" flipV="1">
              <a:off x="7497000" y="492876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</p:grpSp>
    </p:spTree>
  </p:cSld>
  <p:transition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artomány frissítés fázisa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711" name=""/>
          <p:cNvGrpSpPr/>
          <p:nvPr/>
        </p:nvGrpSpPr>
        <p:grpSpPr>
          <a:xfrm>
            <a:off x="534960" y="1430280"/>
            <a:ext cx="8217360" cy="4592160"/>
            <a:chOff x="534960" y="1430280"/>
            <a:chExt cx="8217360" cy="4592160"/>
          </a:xfrm>
        </p:grpSpPr>
        <p:grpSp>
          <p:nvGrpSpPr>
            <p:cNvPr id="3712" name=""/>
            <p:cNvGrpSpPr/>
            <p:nvPr/>
          </p:nvGrpSpPr>
          <p:grpSpPr>
            <a:xfrm>
              <a:off x="534960" y="1430280"/>
              <a:ext cx="8217360" cy="4592160"/>
              <a:chOff x="534960" y="1430280"/>
              <a:chExt cx="8217360" cy="4592160"/>
            </a:xfrm>
          </p:grpSpPr>
          <p:grpSp>
            <p:nvGrpSpPr>
              <p:cNvPr id="3713" name=""/>
              <p:cNvGrpSpPr/>
              <p:nvPr/>
            </p:nvGrpSpPr>
            <p:grpSpPr>
              <a:xfrm>
                <a:off x="534960" y="1430280"/>
                <a:ext cx="8217360" cy="4592160"/>
                <a:chOff x="534960" y="1430280"/>
                <a:chExt cx="8217360" cy="4592160"/>
              </a:xfrm>
            </p:grpSpPr>
            <p:sp>
              <p:nvSpPr>
                <p:cNvPr id="3714" name=""/>
                <p:cNvSpPr/>
                <p:nvPr/>
              </p:nvSpPr>
              <p:spPr>
                <a:xfrm>
                  <a:off x="1557000" y="5087880"/>
                  <a:ext cx="6389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15" name=""/>
                <p:cNvGrpSpPr/>
                <p:nvPr/>
              </p:nvGrpSpPr>
              <p:grpSpPr>
                <a:xfrm>
                  <a:off x="534960" y="1430280"/>
                  <a:ext cx="8217360" cy="4592160"/>
                  <a:chOff x="534960" y="1430280"/>
                  <a:chExt cx="8217360" cy="4592160"/>
                </a:xfrm>
              </p:grpSpPr>
              <p:sp>
                <p:nvSpPr>
                  <p:cNvPr id="3716" name=""/>
                  <p:cNvSpPr/>
                  <p:nvPr/>
                </p:nvSpPr>
                <p:spPr>
                  <a:xfrm>
                    <a:off x="1557000" y="1506600"/>
                    <a:ext cx="0" cy="3886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946640" y="1430280"/>
                    <a:ext cx="0" cy="3962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534960" y="5441760"/>
                    <a:ext cx="18860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600" spc="-1" strike="noStrike">
                        <a:solidFill>
                          <a:srgbClr val="ffffff"/>
                        </a:solidFill>
                        <a:latin typeface="Arial"/>
                      </a:rPr>
                      <a:t>Meglévő környeze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239600" y="5441760"/>
                    <a:ext cx="151272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Windows 2000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Native Mode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1557000" y="5087880"/>
                    <a:ext cx="6389280" cy="457200"/>
                  </a:xfrm>
                  <a:prstGeom prst="leftRightArrow">
                    <a:avLst>
                      <a:gd name="adj1" fmla="val 50000"/>
                      <a:gd name="adj2" fmla="val 278202"/>
                    </a:avLst>
                  </a:prstGeom>
                  <a:gradFill rotWithShape="0">
                    <a:gsLst>
                      <a:gs pos="0">
                        <a:srgbClr val="757500"/>
                      </a:gs>
                      <a:gs pos="100000">
                        <a:srgbClr val="ffff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98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1531800" y="2496960"/>
                    <a:ext cx="6392520" cy="457200"/>
                  </a:xfrm>
                  <a:prstGeom prst="leftRightArrow">
                    <a:avLst>
                      <a:gd name="adj1" fmla="val 50000"/>
                      <a:gd name="adj2" fmla="val 278343"/>
                    </a:avLst>
                  </a:prstGeom>
                  <a:gradFill rotWithShape="0">
                    <a:gsLst>
                      <a:gs pos="0">
                        <a:srgbClr val="755e00"/>
                      </a:gs>
                      <a:gs pos="100000">
                        <a:srgbClr val="ffcc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9879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2" name=""/>
              <p:cNvSpPr/>
              <p:nvPr/>
            </p:nvSpPr>
            <p:spPr>
              <a:xfrm>
                <a:off x="4303800" y="2573280"/>
                <a:ext cx="915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Frissíté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3" name=""/>
            <p:cNvSpPr/>
            <p:nvPr/>
          </p:nvSpPr>
          <p:spPr>
            <a:xfrm>
              <a:off x="4326840" y="515448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Migráci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4" name=""/>
          <p:cNvSpPr/>
          <p:nvPr/>
        </p:nvSpPr>
        <p:spPr>
          <a:xfrm>
            <a:off x="1143000" y="3457440"/>
            <a:ext cx="838080" cy="6858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3366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5" name=""/>
          <p:cNvGrpSpPr/>
          <p:nvPr/>
        </p:nvGrpSpPr>
        <p:grpSpPr>
          <a:xfrm>
            <a:off x="2133720" y="2878200"/>
            <a:ext cx="2286000" cy="2013120"/>
            <a:chOff x="2133720" y="2878200"/>
            <a:chExt cx="2286000" cy="2013120"/>
          </a:xfrm>
        </p:grpSpPr>
        <p:sp>
          <p:nvSpPr>
            <p:cNvPr id="3726" name=""/>
            <p:cNvSpPr/>
            <p:nvPr/>
          </p:nvSpPr>
          <p:spPr>
            <a:xfrm>
              <a:off x="2971800" y="2878200"/>
              <a:ext cx="144792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133720" y="3639960"/>
              <a:ext cx="762120" cy="381240"/>
            </a:xfrm>
            <a:prstGeom prst="rightArrow">
              <a:avLst>
                <a:gd name="adj1" fmla="val 50000"/>
                <a:gd name="adj2" fmla="val 49976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971800" y="424980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frissítve, BDC-k NT4-en 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276720" y="3457440"/>
              <a:ext cx="83808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0" name=""/>
          <p:cNvGrpSpPr/>
          <p:nvPr/>
        </p:nvGrpSpPr>
        <p:grpSpPr>
          <a:xfrm>
            <a:off x="4343400" y="2878200"/>
            <a:ext cx="2209320" cy="2195640"/>
            <a:chOff x="4343400" y="2878200"/>
            <a:chExt cx="2209320" cy="2195640"/>
          </a:xfrm>
        </p:grpSpPr>
        <p:sp>
          <p:nvSpPr>
            <p:cNvPr id="3731" name=""/>
            <p:cNvSpPr/>
            <p:nvPr/>
          </p:nvSpPr>
          <p:spPr>
            <a:xfrm>
              <a:off x="510516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34340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181480" y="4249800"/>
              <a:ext cx="137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DC 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és az összes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BDC</a:t>
              </a: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 frissít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mixed mó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410080" y="3457440"/>
              <a:ext cx="837720" cy="6858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5" name=""/>
          <p:cNvGrpSpPr/>
          <p:nvPr/>
        </p:nvGrpSpPr>
        <p:grpSpPr>
          <a:xfrm>
            <a:off x="6553080" y="2878200"/>
            <a:ext cx="2133360" cy="1830600"/>
            <a:chOff x="6553080" y="2878200"/>
            <a:chExt cx="2133360" cy="1830600"/>
          </a:xfrm>
        </p:grpSpPr>
        <p:sp>
          <p:nvSpPr>
            <p:cNvPr id="3736" name=""/>
            <p:cNvSpPr/>
            <p:nvPr/>
          </p:nvSpPr>
          <p:spPr>
            <a:xfrm>
              <a:off x="7238880" y="2878200"/>
              <a:ext cx="144756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3366"/>
                  </a:solidFill>
                  <a:latin typeface="Arial"/>
                </a:rPr>
                <a:t>Us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553080" y="363996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9898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314840" y="424980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Átkapcsolás natív módb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xed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 mó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76964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ljes kompatíbilitás az NT4-es tartományokk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unkaállomásokra nincs kihatássa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kkor kapcsoljunk natív módba, 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BDC-t frissít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atíbili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rdver ig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iztos, hogy nem akarunk visszatérni a Windows NT 4.0 alapú tartományokho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ative-Mo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533520" y="1415520"/>
            <a:ext cx="761976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sak a Domain Admins tagjai kapcsolhatnak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szűnik az NT4 SAM replik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Új felhasználói csopor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local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másba ágyazási lehet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érdések…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42960" y="1219320"/>
            <a:ext cx="82152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ixed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Kerberos autent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nak OU-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űködik az IntelliMi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Multimaster replikáci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Native móddal kapcsolat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etB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NTL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 régi típusú trust-u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n PDC emulát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ID helyett GU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DC 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rissít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533520" y="1317240"/>
            <a:ext cx="80769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Átkapcso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xed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 átmásolódik az Active Directory-ba (ntds.d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indul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DC Em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olyamatos szinkronizálás a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4-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C-k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ovább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C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k telepíthető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 az összes DC off-line, akkor bármelyik BDC előléptethet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ID-ek nem változnak m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5328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z erőforrás tartomány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ábbi tervezési szempon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éret, sávszéles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minisztráció deleg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e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rissítés az erdőn bel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ön erdőbe hely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szerverzés egy külön erdőbe szervezeti egységké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445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450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457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4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475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1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83" name=""/>
            <p:cNvCxnSpPr>
              <a:endCxn id="477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4" name=""/>
            <p:cNvCxnSpPr>
              <a:endCxn id="480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5" name=""/>
            <p:cNvCxnSpPr>
              <a:endCxn id="478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6" name=""/>
            <p:cNvCxnSpPr>
              <a:stCxn id="477" idx="6"/>
              <a:endCxn id="479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7" name=""/>
            <p:cNvCxnSpPr>
              <a:stCxn id="477" idx="6"/>
              <a:endCxn id="475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488" name=""/>
            <p:cNvCxnSpPr>
              <a:stCxn id="477" idx="6"/>
              <a:endCxn id="476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489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491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7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499" name=""/>
            <p:cNvCxnSpPr>
              <a:endCxn id="493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0" name=""/>
            <p:cNvCxnSpPr>
              <a:endCxn id="496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1" name=""/>
            <p:cNvCxnSpPr>
              <a:endCxn id="494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2" name=""/>
            <p:cNvCxnSpPr>
              <a:stCxn id="493" idx="6"/>
              <a:endCxn id="495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3" name=""/>
            <p:cNvCxnSpPr>
              <a:stCxn id="493" idx="6"/>
              <a:endCxn id="491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04" name=""/>
            <p:cNvCxnSpPr>
              <a:stCxn id="493" idx="6"/>
              <a:endCxn id="492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506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2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14" name=""/>
            <p:cNvCxnSpPr>
              <a:endCxn id="508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5" name=""/>
            <p:cNvCxnSpPr>
              <a:endCxn id="511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6" name=""/>
            <p:cNvCxnSpPr>
              <a:endCxn id="509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7" name=""/>
            <p:cNvCxnSpPr>
              <a:stCxn id="508" idx="6"/>
              <a:endCxn id="510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8" name=""/>
            <p:cNvCxnSpPr>
              <a:stCxn id="508" idx="6"/>
              <a:endCxn id="506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19" name=""/>
            <p:cNvCxnSpPr>
              <a:stCxn id="508" idx="6"/>
              <a:endCxn id="507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20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521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7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29" name=""/>
            <p:cNvCxnSpPr>
              <a:endCxn id="523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0" name=""/>
            <p:cNvCxnSpPr>
              <a:endCxn id="526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1" name=""/>
            <p:cNvCxnSpPr>
              <a:endCxn id="524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5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3" name=""/>
            <p:cNvCxnSpPr>
              <a:stCxn id="523" idx="6"/>
              <a:endCxn id="521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34" name=""/>
            <p:cNvCxnSpPr>
              <a:stCxn id="523" idx="6"/>
              <a:endCxn id="522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536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42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44" name=""/>
            <p:cNvCxnSpPr>
              <a:endCxn id="538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5" name=""/>
            <p:cNvCxnSpPr>
              <a:endCxn id="541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6" name=""/>
            <p:cNvCxnSpPr>
              <a:endCxn id="539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7" name=""/>
            <p:cNvCxnSpPr>
              <a:stCxn id="538" idx="6"/>
              <a:endCxn id="540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8" name=""/>
            <p:cNvCxnSpPr>
              <a:stCxn id="538" idx="6"/>
              <a:endCxn id="536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49" name=""/>
            <p:cNvCxnSpPr>
              <a:stCxn id="538" idx="6"/>
              <a:endCxn id="537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550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551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7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59" name=""/>
            <p:cNvCxnSpPr>
              <a:endCxn id="553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0" name=""/>
            <p:cNvCxnSpPr>
              <a:endCxn id="556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1" name=""/>
            <p:cNvCxnSpPr>
              <a:endCxn id="554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2" name=""/>
            <p:cNvCxnSpPr>
              <a:stCxn id="553" idx="6"/>
              <a:endCxn id="555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3" name=""/>
            <p:cNvCxnSpPr>
              <a:stCxn id="553" idx="6"/>
              <a:endCxn id="551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64" name=""/>
            <p:cNvCxnSpPr>
              <a:stCxn id="553" idx="6"/>
              <a:endCxn id="552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565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571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575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579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586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2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594" name=""/>
            <p:cNvCxnSpPr>
              <a:endCxn id="588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5" name=""/>
            <p:cNvCxnSpPr>
              <a:endCxn id="591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6" name=""/>
            <p:cNvCxnSpPr>
              <a:endCxn id="589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7" name=""/>
            <p:cNvCxnSpPr>
              <a:stCxn id="588" idx="6"/>
              <a:endCxn id="590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8" name=""/>
            <p:cNvCxnSpPr>
              <a:stCxn id="588" idx="6"/>
              <a:endCxn id="586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599" name=""/>
            <p:cNvCxnSpPr>
              <a:stCxn id="588" idx="6"/>
              <a:endCxn id="587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00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munkaállomások és kiszolgálók friss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: W9x, NT4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llenőrizzük az alkalmazás kompatibilitás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változik az alapértelmezett biztonsá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iszolgálók fris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CPROMO előtt a RAS szerverekkel kezdjü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MRepl használatakor az Export szervert frissítsük utoljár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Tartomány átsz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lévő környezet érintetlen ma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lex trust-o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épésenkénti átté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őség az egységesítésre és konszolidáci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3276720" y="4800600"/>
            <a:ext cx="2971800" cy="60948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Átszervez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410080" y="4419720"/>
            <a:ext cx="3200400" cy="1981080"/>
            <a:chOff x="5410080" y="4419720"/>
            <a:chExt cx="3200400" cy="1981080"/>
          </a:xfrm>
        </p:grpSpPr>
        <p:sp>
          <p:nvSpPr>
            <p:cNvPr id="3755" name=""/>
            <p:cNvSpPr/>
            <p:nvPr/>
          </p:nvSpPr>
          <p:spPr>
            <a:xfrm>
              <a:off x="6507000" y="4419720"/>
              <a:ext cx="990360" cy="76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M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619760" y="5638680"/>
              <a:ext cx="99072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10080" y="5638680"/>
              <a:ext cx="990360" cy="7621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ES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758" name=""/>
            <p:cNvCxnSpPr>
              <a:stCxn id="3757" idx="0"/>
              <a:endCxn id="3755" idx="2"/>
            </p:cNvCxnSpPr>
            <p:nvPr/>
          </p:nvCxnSpPr>
          <p:spPr>
            <a:xfrm flipV="1">
              <a:off x="5905080" y="5181120"/>
              <a:ext cx="6022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3759" name=""/>
            <p:cNvCxnSpPr>
              <a:stCxn id="3756" idx="0"/>
              <a:endCxn id="3755" idx="4"/>
            </p:cNvCxnSpPr>
            <p:nvPr/>
          </p:nvCxnSpPr>
          <p:spPr>
            <a:xfrm flipH="1" flipV="1">
              <a:off x="7497000" y="5181120"/>
              <a:ext cx="61848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3760" name=""/>
          <p:cNvSpPr/>
          <p:nvPr/>
        </p:nvSpPr>
        <p:spPr>
          <a:xfrm>
            <a:off x="91440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53352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160020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666880" y="5638680"/>
            <a:ext cx="914400" cy="6127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S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4" name=""/>
          <p:cNvCxnSpPr>
            <a:stCxn id="3761" idx="0"/>
            <a:endCxn id="3760" idx="3"/>
          </p:cNvCxnSpPr>
          <p:nvPr/>
        </p:nvCxnSpPr>
        <p:spPr>
          <a:xfrm flipV="1">
            <a:off x="990720" y="4865040"/>
            <a:ext cx="5760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5" name=""/>
          <p:cNvCxnSpPr>
            <a:stCxn id="3762" idx="0"/>
            <a:endCxn id="3760" idx="4"/>
          </p:cNvCxnSpPr>
          <p:nvPr/>
        </p:nvCxnSpPr>
        <p:spPr>
          <a:xfrm flipH="1" flipV="1">
            <a:off x="1370880" y="4956120"/>
            <a:ext cx="68652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6" name=""/>
          <p:cNvCxnSpPr>
            <a:stCxn id="3763" idx="1"/>
            <a:endCxn id="3760" idx="5"/>
          </p:cNvCxnSpPr>
          <p:nvPr/>
        </p:nvCxnSpPr>
        <p:spPr>
          <a:xfrm flipH="1" flipV="1">
            <a:off x="1694880" y="4865040"/>
            <a:ext cx="110556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7" name=""/>
          <p:cNvSpPr/>
          <p:nvPr/>
        </p:nvSpPr>
        <p:spPr>
          <a:xfrm>
            <a:off x="2133720" y="4343400"/>
            <a:ext cx="914400" cy="612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MUD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68" name=""/>
          <p:cNvCxnSpPr>
            <a:stCxn id="3761" idx="7"/>
            <a:endCxn id="3767" idx="3"/>
          </p:cNvCxnSpPr>
          <p:nvPr/>
        </p:nvCxnSpPr>
        <p:spPr>
          <a:xfrm flipV="1">
            <a:off x="1314360" y="4865040"/>
            <a:ext cx="953280" cy="8643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69" name=""/>
          <p:cNvCxnSpPr>
            <a:endCxn id="3767" idx="4"/>
          </p:cNvCxnSpPr>
          <p:nvPr/>
        </p:nvCxnSpPr>
        <p:spPr>
          <a:xfrm flipV="1">
            <a:off x="2057400" y="4956120"/>
            <a:ext cx="534240" cy="682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0" name=""/>
          <p:cNvCxnSpPr>
            <a:stCxn id="3763" idx="0"/>
            <a:endCxn id="3767" idx="5"/>
          </p:cNvCxnSpPr>
          <p:nvPr/>
        </p:nvCxnSpPr>
        <p:spPr>
          <a:xfrm flipH="1" flipV="1">
            <a:off x="2914200" y="4865040"/>
            <a:ext cx="210240" cy="773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71" name=""/>
          <p:cNvCxnSpPr>
            <a:stCxn id="3760" idx="7"/>
            <a:endCxn id="3767" idx="1"/>
          </p:cNvCxnSpPr>
          <p:nvPr/>
        </p:nvCxnSpPr>
        <p:spPr>
          <a:xfrm>
            <a:off x="1695240" y="4433400"/>
            <a:ext cx="5720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</p:spTree>
  </p:cSld>
  <p:transition>
    <p:strips dir="r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"/>
          <p:cNvSpPr/>
          <p:nvPr/>
        </p:nvSpPr>
        <p:spPr>
          <a:xfrm>
            <a:off x="3170160" y="1117440"/>
            <a:ext cx="2838600" cy="269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153720" y="214200"/>
            <a:ext cx="87627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Átszervezési ut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1913040" y="5818320"/>
            <a:ext cx="1436760" cy="83160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381312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5808600" y="587844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805120" y="4678200"/>
            <a:ext cx="143676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4896000" y="4689360"/>
            <a:ext cx="1436400" cy="83196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2886120" y="5486400"/>
            <a:ext cx="355680" cy="355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967200" y="5413320"/>
            <a:ext cx="403200" cy="463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349800" y="6245280"/>
            <a:ext cx="450720" cy="6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5261040" y="6280200"/>
            <a:ext cx="546120" cy="6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 flipH="1">
            <a:off x="4797000" y="5424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 flipH="1">
            <a:off x="5022360" y="5532480"/>
            <a:ext cx="381240" cy="49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5" name="" descr=""/>
          <p:cNvPicPr/>
          <p:nvPr/>
        </p:nvPicPr>
        <p:blipFill>
          <a:blip r:embed="rId1"/>
          <a:stretch/>
        </p:blipFill>
        <p:spPr>
          <a:xfrm>
            <a:off x="2440080" y="6012000"/>
            <a:ext cx="345960" cy="355320"/>
          </a:xfrm>
          <a:prstGeom prst="rect">
            <a:avLst/>
          </a:prstGeom>
          <a:ln w="0">
            <a:noFill/>
          </a:ln>
        </p:spPr>
      </p:pic>
      <p:pic>
        <p:nvPicPr>
          <p:cNvPr id="3786" name="" descr=""/>
          <p:cNvPicPr/>
          <p:nvPr/>
        </p:nvPicPr>
        <p:blipFill>
          <a:blip r:embed="rId2"/>
          <a:stretch/>
        </p:blipFill>
        <p:spPr>
          <a:xfrm>
            <a:off x="5433840" y="4976640"/>
            <a:ext cx="346320" cy="355680"/>
          </a:xfrm>
          <a:prstGeom prst="rect">
            <a:avLst/>
          </a:prstGeom>
          <a:ln w="0">
            <a:noFill/>
          </a:ln>
        </p:spPr>
      </p:pic>
      <p:sp>
        <p:nvSpPr>
          <p:cNvPr id="3787" name=""/>
          <p:cNvSpPr/>
          <p:nvPr/>
        </p:nvSpPr>
        <p:spPr>
          <a:xfrm>
            <a:off x="1528200" y="5500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6185880" y="45259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9" name="" descr=""/>
          <p:cNvPicPr/>
          <p:nvPr/>
        </p:nvPicPr>
        <p:blipFill>
          <a:blip r:embed="rId3"/>
          <a:stretch/>
        </p:blipFill>
        <p:spPr>
          <a:xfrm>
            <a:off x="4290840" y="6168960"/>
            <a:ext cx="384480" cy="398520"/>
          </a:xfrm>
          <a:prstGeom prst="rect">
            <a:avLst/>
          </a:prstGeom>
          <a:ln w="0">
            <a:noFill/>
          </a:ln>
        </p:spPr>
      </p:pic>
      <p:pic>
        <p:nvPicPr>
          <p:cNvPr id="3790" name="" descr=""/>
          <p:cNvPicPr/>
          <p:nvPr/>
        </p:nvPicPr>
        <p:blipFill>
          <a:blip r:embed="rId4"/>
          <a:stretch/>
        </p:blipFill>
        <p:spPr>
          <a:xfrm>
            <a:off x="6323040" y="6137280"/>
            <a:ext cx="442800" cy="474480"/>
          </a:xfrm>
          <a:prstGeom prst="rect">
            <a:avLst/>
          </a:prstGeom>
          <a:ln w="0">
            <a:noFill/>
          </a:ln>
        </p:spPr>
      </p:pic>
      <p:pic>
        <p:nvPicPr>
          <p:cNvPr id="3791" name="" descr=""/>
          <p:cNvPicPr/>
          <p:nvPr/>
        </p:nvPicPr>
        <p:blipFill>
          <a:blip r:embed="rId5"/>
          <a:stretch/>
        </p:blipFill>
        <p:spPr>
          <a:xfrm>
            <a:off x="3225960" y="4875120"/>
            <a:ext cx="442800" cy="474840"/>
          </a:xfrm>
          <a:prstGeom prst="rect">
            <a:avLst/>
          </a:prstGeom>
          <a:ln w="0">
            <a:noFill/>
          </a:ln>
        </p:spPr>
      </p:pic>
      <p:grpSp>
        <p:nvGrpSpPr>
          <p:cNvPr id="3792" name=""/>
          <p:cNvGrpSpPr/>
          <p:nvPr/>
        </p:nvGrpSpPr>
        <p:grpSpPr>
          <a:xfrm>
            <a:off x="4243320" y="2077920"/>
            <a:ext cx="595440" cy="594000"/>
            <a:chOff x="4243320" y="2077920"/>
            <a:chExt cx="595440" cy="594000"/>
          </a:xfrm>
        </p:grpSpPr>
        <p:sp>
          <p:nvSpPr>
            <p:cNvPr id="3793" name=""/>
            <p:cNvSpPr/>
            <p:nvPr/>
          </p:nvSpPr>
          <p:spPr>
            <a:xfrm>
              <a:off x="4243320" y="207792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794" name="" descr=""/>
            <p:cNvPicPr/>
            <p:nvPr/>
          </p:nvPicPr>
          <p:blipFill>
            <a:blip r:embed="rId6"/>
            <a:stretch/>
          </p:blipFill>
          <p:spPr>
            <a:xfrm>
              <a:off x="4354560" y="2209680"/>
              <a:ext cx="345960" cy="3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5" name=""/>
          <p:cNvGrpSpPr/>
          <p:nvPr/>
        </p:nvGrpSpPr>
        <p:grpSpPr>
          <a:xfrm>
            <a:off x="2571840" y="2327400"/>
            <a:ext cx="3189240" cy="3681360"/>
            <a:chOff x="2571840" y="2327400"/>
            <a:chExt cx="3189240" cy="3681360"/>
          </a:xfrm>
        </p:grpSpPr>
        <p:sp>
          <p:nvSpPr>
            <p:cNvPr id="3796" name=""/>
            <p:cNvSpPr/>
            <p:nvPr/>
          </p:nvSpPr>
          <p:spPr>
            <a:xfrm>
              <a:off x="2571840" y="2398680"/>
              <a:ext cx="1608120" cy="3610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929120" y="2327400"/>
              <a:ext cx="831960" cy="2600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8" name=""/>
          <p:cNvGrpSpPr/>
          <p:nvPr/>
        </p:nvGrpSpPr>
        <p:grpSpPr>
          <a:xfrm>
            <a:off x="2909880" y="3726000"/>
            <a:ext cx="3468600" cy="2400120"/>
            <a:chOff x="2909880" y="3726000"/>
            <a:chExt cx="3468600" cy="2400120"/>
          </a:xfrm>
        </p:grpSpPr>
        <p:sp>
          <p:nvSpPr>
            <p:cNvPr id="3799" name=""/>
            <p:cNvSpPr/>
            <p:nvPr/>
          </p:nvSpPr>
          <p:spPr>
            <a:xfrm flipH="1">
              <a:off x="4478400" y="3726000"/>
              <a:ext cx="84240" cy="232884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H="1">
              <a:off x="2909880" y="3736800"/>
              <a:ext cx="1555920" cy="2389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716360" y="3726000"/>
              <a:ext cx="1662120" cy="23176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H="1">
              <a:off x="3218040" y="3747960"/>
              <a:ext cx="1033200" cy="108432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964040" y="3782880"/>
              <a:ext cx="1152720" cy="120348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4" name=""/>
          <p:cNvGrpSpPr/>
          <p:nvPr/>
        </p:nvGrpSpPr>
        <p:grpSpPr>
          <a:xfrm>
            <a:off x="3414600" y="3029040"/>
            <a:ext cx="3319560" cy="3146400"/>
            <a:chOff x="3414600" y="3029040"/>
            <a:chExt cx="3319560" cy="3146400"/>
          </a:xfrm>
        </p:grpSpPr>
        <p:sp>
          <p:nvSpPr>
            <p:cNvPr id="3805" name=""/>
            <p:cNvSpPr/>
            <p:nvPr/>
          </p:nvSpPr>
          <p:spPr>
            <a:xfrm>
              <a:off x="4290840" y="3041640"/>
              <a:ext cx="59544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6" name="" descr=""/>
            <p:cNvPicPr/>
            <p:nvPr/>
          </p:nvPicPr>
          <p:blipFill>
            <a:blip r:embed="rId7"/>
            <a:stretch/>
          </p:blipFill>
          <p:spPr>
            <a:xfrm>
              <a:off x="4384800" y="3130560"/>
              <a:ext cx="3841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7" name=""/>
            <p:cNvSpPr/>
            <p:nvPr/>
          </p:nvSpPr>
          <p:spPr>
            <a:xfrm>
              <a:off x="3602160" y="3029040"/>
              <a:ext cx="595080" cy="59364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014800" y="3054240"/>
              <a:ext cx="595440" cy="594000"/>
            </a:xfrm>
            <a:prstGeom prst="ellipse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09" name="" descr=""/>
            <p:cNvPicPr/>
            <p:nvPr/>
          </p:nvPicPr>
          <p:blipFill>
            <a:blip r:embed="rId8"/>
            <a:stretch/>
          </p:blipFill>
          <p:spPr>
            <a:xfrm>
              <a:off x="3676680" y="3160800"/>
              <a:ext cx="442800" cy="47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0" name="" descr=""/>
            <p:cNvPicPr/>
            <p:nvPr/>
          </p:nvPicPr>
          <p:blipFill>
            <a:blip r:embed="rId9"/>
            <a:stretch/>
          </p:blipFill>
          <p:spPr>
            <a:xfrm>
              <a:off x="5078520" y="3124080"/>
              <a:ext cx="44280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1" name=""/>
            <p:cNvSpPr/>
            <p:nvPr/>
          </p:nvSpPr>
          <p:spPr>
            <a:xfrm>
              <a:off x="3414600" y="3551400"/>
              <a:ext cx="408240" cy="13888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415120" y="3540240"/>
              <a:ext cx="1319040" cy="2492280"/>
            </a:xfrm>
            <a:custGeom>
              <a:avLst/>
              <a:gdLst/>
              <a:ahLst/>
              <a:rect l="l" t="t" r="r" b="b"/>
              <a:pathLst>
                <a:path w="524" h="1638">
                  <a:moveTo>
                    <a:pt x="449" y="1638"/>
                  </a:moveTo>
                  <a:cubicBezTo>
                    <a:pt x="486" y="1240"/>
                    <a:pt x="524" y="842"/>
                    <a:pt x="449" y="569"/>
                  </a:cubicBezTo>
                  <a:cubicBezTo>
                    <a:pt x="374" y="296"/>
                    <a:pt x="75" y="95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151160" y="3492360"/>
              <a:ext cx="265320" cy="2683080"/>
            </a:xfrm>
            <a:custGeom>
              <a:avLst/>
              <a:gdLst/>
              <a:ahLst/>
              <a:rect l="l" t="t" r="r" b="b"/>
              <a:pathLst>
                <a:path w="1013" h="2274">
                  <a:moveTo>
                    <a:pt x="3" y="2274"/>
                  </a:moveTo>
                  <a:cubicBezTo>
                    <a:pt x="1" y="1659"/>
                    <a:pt x="0" y="1045"/>
                    <a:pt x="168" y="666"/>
                  </a:cubicBezTo>
                  <a:cubicBezTo>
                    <a:pt x="336" y="287"/>
                    <a:pt x="674" y="143"/>
                    <a:pt x="1013" y="0"/>
                  </a:cubicBezTo>
                </a:path>
              </a:pathLst>
            </a:custGeom>
            <a:noFill/>
            <a:ln cap="rnd" w="38160">
              <a:solidFill>
                <a:srgbClr val="ffff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4" name=""/>
          <p:cNvSpPr/>
          <p:nvPr/>
        </p:nvSpPr>
        <p:spPr>
          <a:xfrm>
            <a:off x="5826960" y="1046160"/>
            <a:ext cx="231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atív módb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dőn belül, erdők között...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változik a SI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762120" y="2362320"/>
            <a:ext cx="1371600" cy="91440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7" name=""/>
          <p:cNvGrpSpPr/>
          <p:nvPr/>
        </p:nvGrpSpPr>
        <p:grpSpPr>
          <a:xfrm>
            <a:off x="685800" y="4343400"/>
            <a:ext cx="1676520" cy="2286000"/>
            <a:chOff x="685800" y="4343400"/>
            <a:chExt cx="1676520" cy="2286000"/>
          </a:xfrm>
        </p:grpSpPr>
        <p:sp>
          <p:nvSpPr>
            <p:cNvPr id="3818" name=""/>
            <p:cNvSpPr/>
            <p:nvPr/>
          </p:nvSpPr>
          <p:spPr>
            <a:xfrm>
              <a:off x="1371600" y="434340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5800" y="5638680"/>
              <a:ext cx="990720" cy="99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006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20" name=""/>
            <p:cNvCxnSpPr>
              <a:stCxn id="3819" idx="0"/>
              <a:endCxn id="3818" idx="2"/>
            </p:cNvCxnSpPr>
            <p:nvPr/>
          </p:nvCxnSpPr>
          <p:spPr>
            <a:xfrm flipV="1">
              <a:off x="1180800" y="5333760"/>
              <a:ext cx="19116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821" name=""/>
          <p:cNvSpPr/>
          <p:nvPr/>
        </p:nvSpPr>
        <p:spPr>
          <a:xfrm>
            <a:off x="6858000" y="2133720"/>
            <a:ext cx="990720" cy="990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617220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3" name=""/>
          <p:cNvCxnSpPr>
            <a:stCxn id="3822" idx="0"/>
            <a:endCxn id="3821" idx="2"/>
          </p:cNvCxnSpPr>
          <p:nvPr/>
        </p:nvCxnSpPr>
        <p:spPr>
          <a:xfrm flipV="1">
            <a:off x="6667200" y="3123360"/>
            <a:ext cx="19116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4" name=""/>
          <p:cNvSpPr/>
          <p:nvPr/>
        </p:nvSpPr>
        <p:spPr>
          <a:xfrm>
            <a:off x="7467480" y="34290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5" name=""/>
          <p:cNvCxnSpPr>
            <a:stCxn id="3824" idx="0"/>
            <a:endCxn id="3821" idx="4"/>
          </p:cNvCxnSpPr>
          <p:nvPr/>
        </p:nvCxnSpPr>
        <p:spPr>
          <a:xfrm flipH="1" flipV="1">
            <a:off x="7848000" y="3123360"/>
            <a:ext cx="11484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26" name=""/>
          <p:cNvSpPr/>
          <p:nvPr/>
        </p:nvSpPr>
        <p:spPr>
          <a:xfrm>
            <a:off x="5486400" y="4800600"/>
            <a:ext cx="990720" cy="99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5100"/>
              </a:gs>
              <a:gs pos="100000">
                <a:srgbClr val="00b0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7" name=""/>
          <p:cNvCxnSpPr>
            <a:stCxn id="3826" idx="0"/>
            <a:endCxn id="3822" idx="2"/>
          </p:cNvCxnSpPr>
          <p:nvPr/>
        </p:nvCxnSpPr>
        <p:spPr>
          <a:xfrm flipV="1">
            <a:off x="5981400" y="4419360"/>
            <a:ext cx="1911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828" name=""/>
          <p:cNvGrpSpPr/>
          <p:nvPr/>
        </p:nvGrpSpPr>
        <p:grpSpPr>
          <a:xfrm>
            <a:off x="990720" y="2514600"/>
            <a:ext cx="657000" cy="3946680"/>
            <a:chOff x="990720" y="2514600"/>
            <a:chExt cx="657000" cy="3946680"/>
          </a:xfrm>
        </p:grpSpPr>
        <p:pic>
          <p:nvPicPr>
            <p:cNvPr id="3829" name="" descr=""/>
            <p:cNvPicPr/>
            <p:nvPr/>
          </p:nvPicPr>
          <p:blipFill>
            <a:blip r:embed="rId1"/>
            <a:stretch/>
          </p:blipFill>
          <p:spPr>
            <a:xfrm>
              <a:off x="1219320" y="251460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0" name="" descr=""/>
            <p:cNvPicPr/>
            <p:nvPr/>
          </p:nvPicPr>
          <p:blipFill>
            <a:blip r:embed="rId2"/>
            <a:stretch/>
          </p:blipFill>
          <p:spPr>
            <a:xfrm>
              <a:off x="990720" y="6019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1" name=""/>
          <p:cNvGrpSpPr/>
          <p:nvPr/>
        </p:nvGrpSpPr>
        <p:grpSpPr>
          <a:xfrm>
            <a:off x="3505320" y="1143000"/>
            <a:ext cx="2224080" cy="5715000"/>
            <a:chOff x="3505320" y="1143000"/>
            <a:chExt cx="2224080" cy="5715000"/>
          </a:xfrm>
        </p:grpSpPr>
        <p:sp>
          <p:nvSpPr>
            <p:cNvPr id="3832" name=""/>
            <p:cNvSpPr/>
            <p:nvPr/>
          </p:nvSpPr>
          <p:spPr>
            <a:xfrm>
              <a:off x="4572000" y="1600200"/>
              <a:ext cx="0" cy="52578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505320" y="1143000"/>
              <a:ext cx="222408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est Bound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34" name="" descr=""/>
          <p:cNvPicPr/>
          <p:nvPr/>
        </p:nvPicPr>
        <p:blipFill>
          <a:blip r:embed="rId3"/>
          <a:stretch/>
        </p:blipFill>
        <p:spPr>
          <a:xfrm>
            <a:off x="5715000" y="5257800"/>
            <a:ext cx="428760" cy="441360"/>
          </a:xfrm>
          <a:prstGeom prst="rect">
            <a:avLst/>
          </a:prstGeom>
          <a:ln w="0">
            <a:noFill/>
          </a:ln>
        </p:spPr>
      </p:pic>
      <p:grpSp>
        <p:nvGrpSpPr>
          <p:cNvPr id="3835" name=""/>
          <p:cNvGrpSpPr/>
          <p:nvPr/>
        </p:nvGrpSpPr>
        <p:grpSpPr>
          <a:xfrm>
            <a:off x="6095880" y="2590920"/>
            <a:ext cx="1881720" cy="3340440"/>
            <a:chOff x="6095880" y="2590920"/>
            <a:chExt cx="1881720" cy="3340440"/>
          </a:xfrm>
        </p:grpSpPr>
        <p:pic>
          <p:nvPicPr>
            <p:cNvPr id="3836" name="" descr=""/>
            <p:cNvPicPr/>
            <p:nvPr/>
          </p:nvPicPr>
          <p:blipFill>
            <a:blip r:embed="rId4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7" name=""/>
            <p:cNvSpPr/>
            <p:nvPr/>
          </p:nvSpPr>
          <p:spPr>
            <a:xfrm flipV="1">
              <a:off x="6095880" y="3047760"/>
              <a:ext cx="1295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265440" y="4984920"/>
              <a:ext cx="1712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rdőn belü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ctive Directory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Migration To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veTre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1447920" y="2590920"/>
            <a:ext cx="6143400" cy="3504960"/>
            <a:chOff x="1447920" y="2590920"/>
            <a:chExt cx="6143400" cy="3504960"/>
          </a:xfrm>
        </p:grpSpPr>
        <p:grpSp>
          <p:nvGrpSpPr>
            <p:cNvPr id="3840" name=""/>
            <p:cNvGrpSpPr/>
            <p:nvPr/>
          </p:nvGrpSpPr>
          <p:grpSpPr>
            <a:xfrm>
              <a:off x="1447920" y="2819520"/>
              <a:ext cx="5333760" cy="3276360"/>
              <a:chOff x="1447920" y="2819520"/>
              <a:chExt cx="5333760" cy="3276360"/>
            </a:xfrm>
          </p:grpSpPr>
          <p:sp>
            <p:nvSpPr>
              <p:cNvPr id="3841" name=""/>
              <p:cNvSpPr/>
              <p:nvPr/>
            </p:nvSpPr>
            <p:spPr>
              <a:xfrm>
                <a:off x="1752480" y="2819520"/>
                <a:ext cx="5029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V="1">
                <a:off x="1447920" y="2971800"/>
                <a:ext cx="5333760" cy="3124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1668960" y="3581280"/>
                <a:ext cx="29390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Erdők között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ctive Directory Migration Too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lonePrincip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844" name="" descr=""/>
            <p:cNvPicPr/>
            <p:nvPr/>
          </p:nvPicPr>
          <p:blipFill>
            <a:blip r:embed="rId5"/>
            <a:stretch/>
          </p:blipFill>
          <p:spPr>
            <a:xfrm>
              <a:off x="7162920" y="2590920"/>
              <a:ext cx="428400" cy="4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5" name=""/>
          <p:cNvSpPr/>
          <p:nvPr/>
        </p:nvSpPr>
        <p:spPr>
          <a:xfrm>
            <a:off x="286560" y="16714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iindul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7695720" y="16714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gálla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382680" y="32004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T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124560" y="4572000"/>
            <a:ext cx="139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elrissítet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artomány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"/>
          <p:cNvSpPr/>
          <p:nvPr/>
        </p:nvSpPr>
        <p:spPr>
          <a:xfrm>
            <a:off x="1219320" y="1676520"/>
            <a:ext cx="6172200" cy="4495680"/>
          </a:xfrm>
          <a:prstGeom prst="rect">
            <a:avLst/>
          </a:prstGeom>
          <a:solidFill>
            <a:srgbClr val="93a7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42600" y="228240"/>
            <a:ext cx="82422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Mozgatás vagy klónozás?</a:t>
            </a:r>
            <a:br>
              <a:rPr sz="4400"/>
            </a:b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A SIDHistory AP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5627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119160" y="152280"/>
            <a:ext cx="89056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takarítás az áttérés utá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293760" y="1528920"/>
            <a:ext cx="8850240" cy="44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t csak az átszervezésre használju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térés után megmarad a régi SID a hozzáférési listá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assít, mert növekszik a Security Token mé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akarítsuk ki 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history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ejegyzés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rissítsük fel az erőforrás listá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Directory Migration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Internet Security &amp; Acceleration Server 2000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z Active Directory-val integrált tűzfal és gyorsítótá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836640" y="2470320"/>
            <a:ext cx="83073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jes értékű tűzf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d kívülről eredő támadásoktól, biztosítja az Internet-kapcsolat rendelkezésre állá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vállalati szinten skálázható gyorsítótá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elentős költség- és sávszélesség-megtakarítást biztos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tékony központi felügy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állalat valamennyi Internet-kijáratát és a felhasználók Internet használatát egységes házirend alapján, egyszerre felügy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Biztonsági szolgáltatáso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857" name="" descr=""/>
          <p:cNvPicPr/>
          <p:nvPr/>
        </p:nvPicPr>
        <p:blipFill>
          <a:blip r:embed="rId1"/>
          <a:stretch/>
        </p:blipFill>
        <p:spPr>
          <a:xfrm>
            <a:off x="7856640" y="928800"/>
            <a:ext cx="768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858" name=""/>
          <p:cNvGrpSpPr/>
          <p:nvPr/>
        </p:nvGrpSpPr>
        <p:grpSpPr>
          <a:xfrm>
            <a:off x="1524240" y="1217160"/>
            <a:ext cx="2347920" cy="1975320"/>
            <a:chOff x="1524240" y="1217160"/>
            <a:chExt cx="2347920" cy="1975320"/>
          </a:xfrm>
        </p:grpSpPr>
        <p:grpSp>
          <p:nvGrpSpPr>
            <p:cNvPr id="3859" name=""/>
            <p:cNvGrpSpPr/>
            <p:nvPr/>
          </p:nvGrpSpPr>
          <p:grpSpPr>
            <a:xfrm>
              <a:off x="1524240" y="1217160"/>
              <a:ext cx="2347920" cy="1580040"/>
              <a:chOff x="1524240" y="1217160"/>
              <a:chExt cx="2347920" cy="1580040"/>
            </a:xfrm>
          </p:grpSpPr>
          <p:sp>
            <p:nvSpPr>
              <p:cNvPr id="3860" name=""/>
              <p:cNvSpPr/>
              <p:nvPr/>
            </p:nvSpPr>
            <p:spPr>
              <a:xfrm rot="441000">
                <a:off x="1598760" y="1352160"/>
                <a:ext cx="2198520" cy="13096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609200" y="1828080"/>
                <a:ext cx="2062440" cy="39852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3083040" y="2172960"/>
                <a:ext cx="333720" cy="152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3403440" y="2219400"/>
                <a:ext cx="275040" cy="12564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249360" y="2428560"/>
                <a:ext cx="233280" cy="8784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252960" y="2430360"/>
                <a:ext cx="227160" cy="7812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308760" y="243432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272040" y="244152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400560" y="2469240"/>
                <a:ext cx="28440" cy="972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384000" y="2480760"/>
                <a:ext cx="2628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410280" y="247356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71" name=""/>
              <p:cNvGrpSpPr/>
              <p:nvPr/>
            </p:nvGrpSpPr>
            <p:grpSpPr>
              <a:xfrm>
                <a:off x="3318120" y="2217600"/>
                <a:ext cx="257760" cy="252000"/>
                <a:chOff x="3318120" y="2217600"/>
                <a:chExt cx="257760" cy="252000"/>
              </a:xfrm>
            </p:grpSpPr>
            <p:grpSp>
              <p:nvGrpSpPr>
                <p:cNvPr id="3872" name=""/>
                <p:cNvGrpSpPr/>
                <p:nvPr/>
              </p:nvGrpSpPr>
              <p:grpSpPr>
                <a:xfrm>
                  <a:off x="3318120" y="2342160"/>
                  <a:ext cx="257760" cy="127440"/>
                  <a:chOff x="3318120" y="2342160"/>
                  <a:chExt cx="257760" cy="127440"/>
                </a:xfrm>
              </p:grpSpPr>
              <p:sp>
                <p:nvSpPr>
                  <p:cNvPr id="3873" name=""/>
                  <p:cNvSpPr/>
                  <p:nvPr/>
                </p:nvSpPr>
                <p:spPr>
                  <a:xfrm>
                    <a:off x="3486960" y="237672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3318120" y="2342160"/>
                    <a:ext cx="257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3318120" y="2383560"/>
                    <a:ext cx="1688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3406320" y="241416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3408120" y="242964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3406320" y="241380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3412440" y="242244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3456000" y="244620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3428640" y="242568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3322440" y="23994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3322440" y="24066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3322440" y="241308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3407040" y="2432160"/>
                    <a:ext cx="66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6" name=""/>
                <p:cNvSpPr/>
                <p:nvPr/>
              </p:nvSpPr>
              <p:spPr>
                <a:xfrm>
                  <a:off x="3363480" y="2340000"/>
                  <a:ext cx="17244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3365280" y="2341440"/>
                  <a:ext cx="16740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3407040" y="235548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3359880" y="2356920"/>
                  <a:ext cx="14004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3393360" y="2217600"/>
                  <a:ext cx="17496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3502440" y="224928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3346560" y="2218680"/>
                  <a:ext cx="19116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3346560" y="2233440"/>
                  <a:ext cx="15624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3358800" y="224748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3366720" y="225648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6" name=""/>
              <p:cNvSpPr/>
              <p:nvPr/>
            </p:nvSpPr>
            <p:spPr>
              <a:xfrm>
                <a:off x="2473920" y="1772280"/>
                <a:ext cx="251280" cy="4680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V="1">
                <a:off x="2283480" y="1791000"/>
                <a:ext cx="322920" cy="166680"/>
              </a:xfrm>
              <a:prstGeom prst="line">
                <a:avLst/>
              </a:prstGeom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2718000" y="1533240"/>
                <a:ext cx="219600" cy="344520"/>
                <a:chOff x="2718000" y="1533240"/>
                <a:chExt cx="219600" cy="3445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2718720" y="153324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2721960" y="178956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2814120" y="155340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2718000" y="158328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2731320" y="182268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2729160" y="159732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2731320" y="180972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2731320" y="179676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2731320" y="178380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2731320" y="17708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2732400" y="164700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2725560" y="162288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2730240" y="163116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2730960" y="165816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2730960" y="168408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2730960" y="171576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2750400" y="164592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2740320" y="164808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2735640" y="169488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2735640" y="172620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2778840" y="17096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2780280" y="174132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2734560" y="166572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2778120" y="168012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3" name=""/>
              <p:cNvGrpSpPr/>
              <p:nvPr/>
            </p:nvGrpSpPr>
            <p:grpSpPr>
              <a:xfrm>
                <a:off x="2380320" y="1453680"/>
                <a:ext cx="219600" cy="344520"/>
                <a:chOff x="2380320" y="1453680"/>
                <a:chExt cx="219600" cy="344520"/>
              </a:xfrm>
            </p:grpSpPr>
            <p:sp>
              <p:nvSpPr>
                <p:cNvPr id="3924" name=""/>
                <p:cNvSpPr/>
                <p:nvPr/>
              </p:nvSpPr>
              <p:spPr>
                <a:xfrm>
                  <a:off x="2381040" y="1453680"/>
                  <a:ext cx="218520" cy="7380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2384280" y="1710000"/>
                  <a:ext cx="212040" cy="8820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2476440" y="1473840"/>
                  <a:ext cx="123480" cy="31572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2380320" y="1503720"/>
                  <a:ext cx="97560" cy="2840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2393640" y="1743120"/>
                  <a:ext cx="673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2391480" y="1517760"/>
                  <a:ext cx="10800" cy="576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393640" y="173016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2393640" y="1717200"/>
                  <a:ext cx="67320" cy="176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2393640" y="170424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2393640" y="1691280"/>
                  <a:ext cx="673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2394720" y="1567440"/>
                  <a:ext cx="66600" cy="12060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2387880" y="1543320"/>
                  <a:ext cx="76320" cy="2106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2392560" y="1551600"/>
                  <a:ext cx="68040" cy="11952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2393280" y="1578600"/>
                  <a:ext cx="6552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2393280" y="1604520"/>
                  <a:ext cx="66240" cy="140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2393280" y="1636200"/>
                  <a:ext cx="63000" cy="144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2412720" y="1566360"/>
                  <a:ext cx="25920" cy="1332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2402640" y="1568520"/>
                  <a:ext cx="48240" cy="100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2397960" y="1615320"/>
                  <a:ext cx="58320" cy="2520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2397960" y="1646640"/>
                  <a:ext cx="58320" cy="280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2441160" y="163008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2442600" y="1661760"/>
                  <a:ext cx="9000" cy="504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2396880" y="1586160"/>
                  <a:ext cx="59400" cy="2628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2440440" y="1600560"/>
                  <a:ext cx="9000" cy="468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8" name=""/>
              <p:cNvGrpSpPr/>
              <p:nvPr/>
            </p:nvGrpSpPr>
            <p:grpSpPr>
              <a:xfrm>
                <a:off x="3030840" y="1939320"/>
                <a:ext cx="19080" cy="26640"/>
                <a:chOff x="3030840" y="1939320"/>
                <a:chExt cx="19080" cy="26640"/>
              </a:xfrm>
            </p:grpSpPr>
            <p:sp>
              <p:nvSpPr>
                <p:cNvPr id="3949" name=""/>
                <p:cNvSpPr/>
                <p:nvPr/>
              </p:nvSpPr>
              <p:spPr>
                <a:xfrm>
                  <a:off x="3030840" y="1939320"/>
                  <a:ext cx="19080" cy="26640"/>
                </a:xfrm>
                <a:prstGeom prst="ellipse">
                  <a:avLst/>
                </a:prstGeom>
                <a:solidFill>
                  <a:srgbClr val="ff7c8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H="1">
                  <a:off x="3038760" y="1939320"/>
                  <a:ext cx="10440" cy="26640"/>
                </a:xfrm>
                <a:custGeom>
                  <a:avLst/>
                  <a:gdLst>
                    <a:gd name="textAreaLeft" fmla="*/ 3960 w 10440"/>
                    <a:gd name="textAreaRight" fmla="*/ 6840 w 10440"/>
                    <a:gd name="textAreaTop" fmla="*/ 2160 h 26640"/>
                    <a:gd name="textAreaBottom" fmla="*/ 24480 h 2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8000" y="2583"/>
                        <a:pt x="14400" y="5080"/>
                        <a:pt x="14400" y="10800"/>
                      </a:cubicBezTo>
                      <a:cubicBezTo>
                        <a:pt x="14400" y="16520"/>
                        <a:pt x="18000" y="19017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1" name=""/>
              <p:cNvGrpSpPr/>
              <p:nvPr/>
            </p:nvGrpSpPr>
            <p:grpSpPr>
              <a:xfrm>
                <a:off x="3056760" y="1871640"/>
                <a:ext cx="152640" cy="93240"/>
                <a:chOff x="3056760" y="1871640"/>
                <a:chExt cx="152640" cy="93240"/>
              </a:xfrm>
            </p:grpSpPr>
            <p:sp>
              <p:nvSpPr>
                <p:cNvPr id="3952" name=""/>
                <p:cNvSpPr/>
                <p:nvPr/>
              </p:nvSpPr>
              <p:spPr>
                <a:xfrm>
                  <a:off x="311400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305676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305676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5" name=""/>
              <p:cNvGrpSpPr/>
              <p:nvPr/>
            </p:nvGrpSpPr>
            <p:grpSpPr>
              <a:xfrm>
                <a:off x="2941920" y="1924920"/>
                <a:ext cx="152640" cy="93240"/>
                <a:chOff x="2941920" y="1924920"/>
                <a:chExt cx="152640" cy="93240"/>
              </a:xfrm>
            </p:grpSpPr>
            <p:sp>
              <p:nvSpPr>
                <p:cNvPr id="3956" name=""/>
                <p:cNvSpPr/>
                <p:nvPr/>
              </p:nvSpPr>
              <p:spPr>
                <a:xfrm>
                  <a:off x="299916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29419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294192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2826720" y="1978200"/>
                <a:ext cx="153000" cy="92880"/>
                <a:chOff x="2826720" y="1978200"/>
                <a:chExt cx="153000" cy="9288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288396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282672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282672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3" name=""/>
              <p:cNvGrpSpPr/>
              <p:nvPr/>
            </p:nvGrpSpPr>
            <p:grpSpPr>
              <a:xfrm>
                <a:off x="2712600" y="2031120"/>
                <a:ext cx="152640" cy="92880"/>
                <a:chOff x="2712600" y="2031120"/>
                <a:chExt cx="152640" cy="92880"/>
              </a:xfrm>
            </p:grpSpPr>
            <p:sp>
              <p:nvSpPr>
                <p:cNvPr id="3964" name=""/>
                <p:cNvSpPr/>
                <p:nvPr/>
              </p:nvSpPr>
              <p:spPr>
                <a:xfrm>
                  <a:off x="2769840" y="204444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27126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2712600" y="203112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7" name=""/>
              <p:cNvGrpSpPr/>
              <p:nvPr/>
            </p:nvGrpSpPr>
            <p:grpSpPr>
              <a:xfrm>
                <a:off x="3056760" y="1818720"/>
                <a:ext cx="152640" cy="93240"/>
                <a:chOff x="3056760" y="1818720"/>
                <a:chExt cx="152640" cy="93240"/>
              </a:xfrm>
            </p:grpSpPr>
            <p:sp>
              <p:nvSpPr>
                <p:cNvPr id="3968" name=""/>
                <p:cNvSpPr/>
                <p:nvPr/>
              </p:nvSpPr>
              <p:spPr>
                <a:xfrm>
                  <a:off x="311400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305676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305676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1" name=""/>
              <p:cNvGrpSpPr/>
              <p:nvPr/>
            </p:nvGrpSpPr>
            <p:grpSpPr>
              <a:xfrm>
                <a:off x="2941920" y="1871640"/>
                <a:ext cx="152640" cy="93240"/>
                <a:chOff x="2941920" y="1871640"/>
                <a:chExt cx="152640" cy="93240"/>
              </a:xfrm>
            </p:grpSpPr>
            <p:sp>
              <p:nvSpPr>
                <p:cNvPr id="3972" name=""/>
                <p:cNvSpPr/>
                <p:nvPr/>
              </p:nvSpPr>
              <p:spPr>
                <a:xfrm>
                  <a:off x="299916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29419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294192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5" name=""/>
              <p:cNvGrpSpPr/>
              <p:nvPr/>
            </p:nvGrpSpPr>
            <p:grpSpPr>
              <a:xfrm>
                <a:off x="2826720" y="1924920"/>
                <a:ext cx="153000" cy="93240"/>
                <a:chOff x="2826720" y="1924920"/>
                <a:chExt cx="153000" cy="93240"/>
              </a:xfrm>
            </p:grpSpPr>
            <p:sp>
              <p:nvSpPr>
                <p:cNvPr id="3976" name=""/>
                <p:cNvSpPr/>
                <p:nvPr/>
              </p:nvSpPr>
              <p:spPr>
                <a:xfrm>
                  <a:off x="288396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282672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282672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9" name=""/>
              <p:cNvGrpSpPr/>
              <p:nvPr/>
            </p:nvGrpSpPr>
            <p:grpSpPr>
              <a:xfrm>
                <a:off x="2712600" y="1978200"/>
                <a:ext cx="152640" cy="92880"/>
                <a:chOff x="2712600" y="1978200"/>
                <a:chExt cx="152640" cy="92880"/>
              </a:xfrm>
            </p:grpSpPr>
            <p:sp>
              <p:nvSpPr>
                <p:cNvPr id="3980" name=""/>
                <p:cNvSpPr/>
                <p:nvPr/>
              </p:nvSpPr>
              <p:spPr>
                <a:xfrm>
                  <a:off x="2769840" y="1991520"/>
                  <a:ext cx="9540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27126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2712600" y="1978200"/>
                  <a:ext cx="15264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3" name=""/>
              <p:cNvGrpSpPr/>
              <p:nvPr/>
            </p:nvGrpSpPr>
            <p:grpSpPr>
              <a:xfrm>
                <a:off x="3056760" y="1765080"/>
                <a:ext cx="152640" cy="93240"/>
                <a:chOff x="3056760" y="1765080"/>
                <a:chExt cx="152640" cy="93240"/>
              </a:xfrm>
            </p:grpSpPr>
            <p:sp>
              <p:nvSpPr>
                <p:cNvPr id="3984" name=""/>
                <p:cNvSpPr/>
                <p:nvPr/>
              </p:nvSpPr>
              <p:spPr>
                <a:xfrm>
                  <a:off x="311400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305676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305676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7" name=""/>
              <p:cNvGrpSpPr/>
              <p:nvPr/>
            </p:nvGrpSpPr>
            <p:grpSpPr>
              <a:xfrm>
                <a:off x="2941920" y="1818720"/>
                <a:ext cx="152640" cy="93240"/>
                <a:chOff x="2941920" y="1818720"/>
                <a:chExt cx="152640" cy="93240"/>
              </a:xfrm>
            </p:grpSpPr>
            <p:sp>
              <p:nvSpPr>
                <p:cNvPr id="3988" name=""/>
                <p:cNvSpPr/>
                <p:nvPr/>
              </p:nvSpPr>
              <p:spPr>
                <a:xfrm>
                  <a:off x="299916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29419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294192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1" name=""/>
              <p:cNvGrpSpPr/>
              <p:nvPr/>
            </p:nvGrpSpPr>
            <p:grpSpPr>
              <a:xfrm>
                <a:off x="2826720" y="1871640"/>
                <a:ext cx="153000" cy="93240"/>
                <a:chOff x="2826720" y="1871640"/>
                <a:chExt cx="153000" cy="9324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288396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82672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282672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5" name=""/>
              <p:cNvGrpSpPr/>
              <p:nvPr/>
            </p:nvGrpSpPr>
            <p:grpSpPr>
              <a:xfrm>
                <a:off x="2712600" y="1924920"/>
                <a:ext cx="152640" cy="93240"/>
                <a:chOff x="2712600" y="1924920"/>
                <a:chExt cx="152640" cy="93240"/>
              </a:xfrm>
            </p:grpSpPr>
            <p:sp>
              <p:nvSpPr>
                <p:cNvPr id="3996" name=""/>
                <p:cNvSpPr/>
                <p:nvPr/>
              </p:nvSpPr>
              <p:spPr>
                <a:xfrm>
                  <a:off x="2769840" y="19382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27126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2712600" y="19249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9" name=""/>
              <p:cNvGrpSpPr/>
              <p:nvPr/>
            </p:nvGrpSpPr>
            <p:grpSpPr>
              <a:xfrm>
                <a:off x="3056760" y="1711800"/>
                <a:ext cx="152640" cy="93240"/>
                <a:chOff x="3056760" y="1711800"/>
                <a:chExt cx="152640" cy="93240"/>
              </a:xfrm>
            </p:grpSpPr>
            <p:sp>
              <p:nvSpPr>
                <p:cNvPr id="4000" name=""/>
                <p:cNvSpPr/>
                <p:nvPr/>
              </p:nvSpPr>
              <p:spPr>
                <a:xfrm>
                  <a:off x="311400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305676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305676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2941920" y="1765080"/>
                <a:ext cx="152640" cy="93240"/>
                <a:chOff x="2941920" y="1765080"/>
                <a:chExt cx="152640" cy="9324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299916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29419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294192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2826720" y="1818720"/>
                <a:ext cx="153000" cy="93240"/>
                <a:chOff x="2826720" y="1818720"/>
                <a:chExt cx="153000" cy="9324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288396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282672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282672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1" name=""/>
              <p:cNvGrpSpPr/>
              <p:nvPr/>
            </p:nvGrpSpPr>
            <p:grpSpPr>
              <a:xfrm>
                <a:off x="2712600" y="1871640"/>
                <a:ext cx="152640" cy="93240"/>
                <a:chOff x="2712600" y="1871640"/>
                <a:chExt cx="152640" cy="93240"/>
              </a:xfrm>
            </p:grpSpPr>
            <p:sp>
              <p:nvSpPr>
                <p:cNvPr id="4012" name=""/>
                <p:cNvSpPr/>
                <p:nvPr/>
              </p:nvSpPr>
              <p:spPr>
                <a:xfrm>
                  <a:off x="2769840" y="18849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27126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2712600" y="18716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3056760" y="1658880"/>
                <a:ext cx="152640" cy="93240"/>
                <a:chOff x="3056760" y="1658880"/>
                <a:chExt cx="152640" cy="9324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311400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305676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305676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9" name=""/>
              <p:cNvGrpSpPr/>
              <p:nvPr/>
            </p:nvGrpSpPr>
            <p:grpSpPr>
              <a:xfrm>
                <a:off x="2941920" y="1711800"/>
                <a:ext cx="152640" cy="93240"/>
                <a:chOff x="2941920" y="1711800"/>
                <a:chExt cx="152640" cy="93240"/>
              </a:xfrm>
            </p:grpSpPr>
            <p:sp>
              <p:nvSpPr>
                <p:cNvPr id="4020" name=""/>
                <p:cNvSpPr/>
                <p:nvPr/>
              </p:nvSpPr>
              <p:spPr>
                <a:xfrm>
                  <a:off x="2999160" y="172512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29419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2941920" y="171180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3" name=""/>
              <p:cNvGrpSpPr/>
              <p:nvPr/>
            </p:nvGrpSpPr>
            <p:grpSpPr>
              <a:xfrm>
                <a:off x="2826720" y="1765080"/>
                <a:ext cx="153000" cy="93240"/>
                <a:chOff x="2826720" y="1765080"/>
                <a:chExt cx="153000" cy="9324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2883960" y="177840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282672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2826720" y="176508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2712600" y="1818720"/>
                <a:ext cx="152640" cy="93240"/>
                <a:chOff x="2712600" y="1818720"/>
                <a:chExt cx="152640" cy="9324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2769840" y="183204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27126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2712600" y="181872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1" name=""/>
              <p:cNvGrpSpPr/>
              <p:nvPr/>
            </p:nvGrpSpPr>
            <p:grpSpPr>
              <a:xfrm>
                <a:off x="3056760" y="1605240"/>
                <a:ext cx="152640" cy="93240"/>
                <a:chOff x="3056760" y="1605240"/>
                <a:chExt cx="152640" cy="93240"/>
              </a:xfrm>
            </p:grpSpPr>
            <p:sp>
              <p:nvSpPr>
                <p:cNvPr id="4032" name=""/>
                <p:cNvSpPr/>
                <p:nvPr/>
              </p:nvSpPr>
              <p:spPr>
                <a:xfrm>
                  <a:off x="3114000" y="161856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3056760" y="16452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3056760" y="160524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5" name=""/>
              <p:cNvGrpSpPr/>
              <p:nvPr/>
            </p:nvGrpSpPr>
            <p:grpSpPr>
              <a:xfrm>
                <a:off x="2941920" y="1658880"/>
                <a:ext cx="152640" cy="93240"/>
                <a:chOff x="2941920" y="1658880"/>
                <a:chExt cx="152640" cy="93240"/>
              </a:xfrm>
            </p:grpSpPr>
            <p:sp>
              <p:nvSpPr>
                <p:cNvPr id="4036" name=""/>
                <p:cNvSpPr/>
                <p:nvPr/>
              </p:nvSpPr>
              <p:spPr>
                <a:xfrm>
                  <a:off x="2999160" y="16722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2941920" y="16988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2941920" y="16588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2826720" y="1711800"/>
                <a:ext cx="153000" cy="93240"/>
                <a:chOff x="2826720" y="1711800"/>
                <a:chExt cx="153000" cy="9324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2883960" y="172512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2826720" y="175176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2826720" y="171180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3" name=""/>
              <p:cNvGrpSpPr/>
              <p:nvPr/>
            </p:nvGrpSpPr>
            <p:grpSpPr>
              <a:xfrm>
                <a:off x="2712600" y="1765080"/>
                <a:ext cx="152640" cy="93240"/>
                <a:chOff x="2712600" y="1765080"/>
                <a:chExt cx="152640" cy="93240"/>
              </a:xfrm>
            </p:grpSpPr>
            <p:sp>
              <p:nvSpPr>
                <p:cNvPr id="4044" name=""/>
                <p:cNvSpPr/>
                <p:nvPr/>
              </p:nvSpPr>
              <p:spPr>
                <a:xfrm>
                  <a:off x="2769840" y="1778400"/>
                  <a:ext cx="9540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2712600" y="180504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2712600" y="1765080"/>
                  <a:ext cx="15264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7" name=""/>
              <p:cNvGrpSpPr/>
              <p:nvPr/>
            </p:nvGrpSpPr>
            <p:grpSpPr>
              <a:xfrm>
                <a:off x="2597400" y="2084760"/>
                <a:ext cx="153000" cy="93240"/>
                <a:chOff x="2597400" y="2084760"/>
                <a:chExt cx="153000" cy="93240"/>
              </a:xfrm>
            </p:grpSpPr>
            <p:sp>
              <p:nvSpPr>
                <p:cNvPr id="4048" name=""/>
                <p:cNvSpPr/>
                <p:nvPr/>
              </p:nvSpPr>
              <p:spPr>
                <a:xfrm>
                  <a:off x="2654640" y="209808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2597400" y="212472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2597400" y="208476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1" name=""/>
              <p:cNvGrpSpPr/>
              <p:nvPr/>
            </p:nvGrpSpPr>
            <p:grpSpPr>
              <a:xfrm>
                <a:off x="2597400" y="2031120"/>
                <a:ext cx="153000" cy="92880"/>
                <a:chOff x="2597400" y="2031120"/>
                <a:chExt cx="153000" cy="92880"/>
              </a:xfrm>
            </p:grpSpPr>
            <p:sp>
              <p:nvSpPr>
                <p:cNvPr id="4052" name=""/>
                <p:cNvSpPr/>
                <p:nvPr/>
              </p:nvSpPr>
              <p:spPr>
                <a:xfrm>
                  <a:off x="2654640" y="204444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2597400" y="207072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2597400" y="203112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5" name=""/>
              <p:cNvGrpSpPr/>
              <p:nvPr/>
            </p:nvGrpSpPr>
            <p:grpSpPr>
              <a:xfrm>
                <a:off x="2597400" y="1978200"/>
                <a:ext cx="153000" cy="92880"/>
                <a:chOff x="2597400" y="1978200"/>
                <a:chExt cx="153000" cy="92880"/>
              </a:xfrm>
            </p:grpSpPr>
            <p:sp>
              <p:nvSpPr>
                <p:cNvPr id="4056" name=""/>
                <p:cNvSpPr/>
                <p:nvPr/>
              </p:nvSpPr>
              <p:spPr>
                <a:xfrm>
                  <a:off x="2654640" y="1991520"/>
                  <a:ext cx="95760" cy="7956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2597400" y="2017800"/>
                  <a:ext cx="57240" cy="52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2597400" y="1978200"/>
                  <a:ext cx="153000" cy="5292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9" name=""/>
              <p:cNvGrpSpPr/>
              <p:nvPr/>
            </p:nvGrpSpPr>
            <p:grpSpPr>
              <a:xfrm>
                <a:off x="2597400" y="1924920"/>
                <a:ext cx="153000" cy="93240"/>
                <a:chOff x="2597400" y="1924920"/>
                <a:chExt cx="153000" cy="93240"/>
              </a:xfrm>
            </p:grpSpPr>
            <p:sp>
              <p:nvSpPr>
                <p:cNvPr id="4060" name=""/>
                <p:cNvSpPr/>
                <p:nvPr/>
              </p:nvSpPr>
              <p:spPr>
                <a:xfrm>
                  <a:off x="2654640" y="19382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2597400" y="19648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2597400" y="19249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3" name=""/>
              <p:cNvGrpSpPr/>
              <p:nvPr/>
            </p:nvGrpSpPr>
            <p:grpSpPr>
              <a:xfrm>
                <a:off x="2597400" y="1871640"/>
                <a:ext cx="153000" cy="93240"/>
                <a:chOff x="2597400" y="1871640"/>
                <a:chExt cx="153000" cy="93240"/>
              </a:xfrm>
            </p:grpSpPr>
            <p:sp>
              <p:nvSpPr>
                <p:cNvPr id="4064" name=""/>
                <p:cNvSpPr/>
                <p:nvPr/>
              </p:nvSpPr>
              <p:spPr>
                <a:xfrm>
                  <a:off x="2654640" y="188496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2597400" y="191160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2597400" y="187164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7" name=""/>
              <p:cNvGrpSpPr/>
              <p:nvPr/>
            </p:nvGrpSpPr>
            <p:grpSpPr>
              <a:xfrm>
                <a:off x="2597400" y="1818720"/>
                <a:ext cx="153000" cy="93240"/>
                <a:chOff x="2597400" y="1818720"/>
                <a:chExt cx="153000" cy="93240"/>
              </a:xfrm>
            </p:grpSpPr>
            <p:sp>
              <p:nvSpPr>
                <p:cNvPr id="4068" name=""/>
                <p:cNvSpPr/>
                <p:nvPr/>
              </p:nvSpPr>
              <p:spPr>
                <a:xfrm>
                  <a:off x="2654640" y="1832040"/>
                  <a:ext cx="95760" cy="79920"/>
                </a:xfrm>
                <a:custGeom>
                  <a:avLst/>
                  <a:gdLst/>
                  <a:ahLst/>
                  <a:rect l="l" t="t" r="r" b="b"/>
                  <a:pathLst>
                    <a:path w="240" h="288">
                      <a:moveTo>
                        <a:pt x="0" y="144"/>
                      </a:moveTo>
                      <a:lnTo>
                        <a:pt x="0" y="288"/>
                      </a:lnTo>
                      <a:lnTo>
                        <a:pt x="240" y="144"/>
                      </a:lnTo>
                      <a:lnTo>
                        <a:pt x="240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2597400" y="1858680"/>
                  <a:ext cx="57240" cy="53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144" y="48"/>
                      </a:moveTo>
                      <a:lnTo>
                        <a:pt x="144" y="192"/>
                      </a:lnTo>
                      <a:lnTo>
                        <a:pt x="0" y="144"/>
                      </a:lnTo>
                      <a:lnTo>
                        <a:pt x="0" y="0"/>
                      </a:lnTo>
                      <a:lnTo>
                        <a:pt x="144" y="48"/>
                      </a:lnTo>
                      <a:close/>
                    </a:path>
                  </a:pathLst>
                </a:custGeom>
                <a:solidFill>
                  <a:srgbClr val="ff7c8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2597400" y="1818720"/>
                  <a:ext cx="153000" cy="53280"/>
                </a:xfrm>
                <a:custGeom>
                  <a:avLst/>
                  <a:gdLst/>
                  <a:ahLst/>
                  <a:rect l="l" t="t" r="r" b="b"/>
                  <a:pathLst>
                    <a:path w="384" h="192">
                      <a:moveTo>
                        <a:pt x="0" y="144"/>
                      </a:moveTo>
                      <a:lnTo>
                        <a:pt x="240" y="0"/>
                      </a:lnTo>
                      <a:lnTo>
                        <a:pt x="384" y="48"/>
                      </a:lnTo>
                      <a:lnTo>
                        <a:pt x="144" y="192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505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1" name=""/>
              <p:cNvGrpSpPr/>
              <p:nvPr/>
            </p:nvGrpSpPr>
            <p:grpSpPr>
              <a:xfrm>
                <a:off x="1695600" y="1419840"/>
                <a:ext cx="612000" cy="572400"/>
                <a:chOff x="1695600" y="1419840"/>
                <a:chExt cx="612000" cy="572400"/>
              </a:xfrm>
            </p:grpSpPr>
            <p:grpSp>
              <p:nvGrpSpPr>
                <p:cNvPr id="4072" name=""/>
                <p:cNvGrpSpPr/>
                <p:nvPr/>
              </p:nvGrpSpPr>
              <p:grpSpPr>
                <a:xfrm>
                  <a:off x="2129040" y="1753920"/>
                  <a:ext cx="19080" cy="26280"/>
                  <a:chOff x="2129040" y="1753920"/>
                  <a:chExt cx="19080" cy="2628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>
                    <a:off x="2129040" y="1753920"/>
                    <a:ext cx="19080" cy="2628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>
                    <a:off x="2136960" y="1753920"/>
                    <a:ext cx="10440" cy="26280"/>
                  </a:xfrm>
                  <a:custGeom>
                    <a:avLst/>
                    <a:gdLst>
                      <a:gd name="textAreaLeft" fmla="*/ 3960 w 10440"/>
                      <a:gd name="textAreaRight" fmla="*/ 6840 w 10440"/>
                      <a:gd name="textAreaTop" fmla="*/ 2160 h 26280"/>
                      <a:gd name="textAreaBottom" fmla="*/ 24120 h 26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5" name=""/>
                <p:cNvGrpSpPr/>
                <p:nvPr/>
              </p:nvGrpSpPr>
              <p:grpSpPr>
                <a:xfrm>
                  <a:off x="2154600" y="1686240"/>
                  <a:ext cx="153000" cy="92880"/>
                  <a:chOff x="2154600" y="1686240"/>
                  <a:chExt cx="153000" cy="92880"/>
                </a:xfrm>
              </p:grpSpPr>
              <p:sp>
                <p:nvSpPr>
                  <p:cNvPr id="4076" name=""/>
                  <p:cNvSpPr/>
                  <p:nvPr/>
                </p:nvSpPr>
                <p:spPr>
                  <a:xfrm>
                    <a:off x="2211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2154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2154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9" name=""/>
                <p:cNvGrpSpPr/>
                <p:nvPr/>
              </p:nvGrpSpPr>
              <p:grpSpPr>
                <a:xfrm>
                  <a:off x="2039760" y="1739160"/>
                  <a:ext cx="153000" cy="93240"/>
                  <a:chOff x="2039760" y="1739160"/>
                  <a:chExt cx="153000" cy="93240"/>
                </a:xfrm>
              </p:grpSpPr>
              <p:sp>
                <p:nvSpPr>
                  <p:cNvPr id="4080" name=""/>
                  <p:cNvSpPr/>
                  <p:nvPr/>
                </p:nvSpPr>
                <p:spPr>
                  <a:xfrm>
                    <a:off x="209700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203976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203976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3" name=""/>
                <p:cNvGrpSpPr/>
                <p:nvPr/>
              </p:nvGrpSpPr>
              <p:grpSpPr>
                <a:xfrm>
                  <a:off x="1924920" y="1792440"/>
                  <a:ext cx="153000" cy="93240"/>
                  <a:chOff x="1924920" y="1792440"/>
                  <a:chExt cx="153000" cy="93240"/>
                </a:xfrm>
              </p:grpSpPr>
              <p:sp>
                <p:nvSpPr>
                  <p:cNvPr id="4084" name=""/>
                  <p:cNvSpPr/>
                  <p:nvPr/>
                </p:nvSpPr>
                <p:spPr>
                  <a:xfrm>
                    <a:off x="198216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192492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192492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7" name=""/>
                <p:cNvGrpSpPr/>
                <p:nvPr/>
              </p:nvGrpSpPr>
              <p:grpSpPr>
                <a:xfrm>
                  <a:off x="1810080" y="1845720"/>
                  <a:ext cx="153000" cy="92880"/>
                  <a:chOff x="1810080" y="1845720"/>
                  <a:chExt cx="153000" cy="92880"/>
                </a:xfrm>
              </p:grpSpPr>
              <p:sp>
                <p:nvSpPr>
                  <p:cNvPr id="4088" name=""/>
                  <p:cNvSpPr/>
                  <p:nvPr/>
                </p:nvSpPr>
                <p:spPr>
                  <a:xfrm>
                    <a:off x="186732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181008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181008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1" name=""/>
                <p:cNvGrpSpPr/>
                <p:nvPr/>
              </p:nvGrpSpPr>
              <p:grpSpPr>
                <a:xfrm>
                  <a:off x="2154600" y="1632600"/>
                  <a:ext cx="153000" cy="93240"/>
                  <a:chOff x="2154600" y="1632600"/>
                  <a:chExt cx="153000" cy="93240"/>
                </a:xfrm>
              </p:grpSpPr>
              <p:sp>
                <p:nvSpPr>
                  <p:cNvPr id="4092" name=""/>
                  <p:cNvSpPr/>
                  <p:nvPr/>
                </p:nvSpPr>
                <p:spPr>
                  <a:xfrm>
                    <a:off x="2211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154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154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5" name=""/>
                <p:cNvGrpSpPr/>
                <p:nvPr/>
              </p:nvGrpSpPr>
              <p:grpSpPr>
                <a:xfrm>
                  <a:off x="2039760" y="1686240"/>
                  <a:ext cx="153000" cy="92880"/>
                  <a:chOff x="2039760" y="1686240"/>
                  <a:chExt cx="153000" cy="92880"/>
                </a:xfrm>
              </p:grpSpPr>
              <p:sp>
                <p:nvSpPr>
                  <p:cNvPr id="4096" name=""/>
                  <p:cNvSpPr/>
                  <p:nvPr/>
                </p:nvSpPr>
                <p:spPr>
                  <a:xfrm>
                    <a:off x="209700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203976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03976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9" name=""/>
                <p:cNvGrpSpPr/>
                <p:nvPr/>
              </p:nvGrpSpPr>
              <p:grpSpPr>
                <a:xfrm>
                  <a:off x="1924920" y="1739160"/>
                  <a:ext cx="153000" cy="93240"/>
                  <a:chOff x="1924920" y="1739160"/>
                  <a:chExt cx="153000" cy="93240"/>
                </a:xfrm>
              </p:grpSpPr>
              <p:sp>
                <p:nvSpPr>
                  <p:cNvPr id="4100" name=""/>
                  <p:cNvSpPr/>
                  <p:nvPr/>
                </p:nvSpPr>
                <p:spPr>
                  <a:xfrm>
                    <a:off x="198216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192492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192492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3" name=""/>
                <p:cNvGrpSpPr/>
                <p:nvPr/>
              </p:nvGrpSpPr>
              <p:grpSpPr>
                <a:xfrm>
                  <a:off x="1810080" y="1792440"/>
                  <a:ext cx="153000" cy="93240"/>
                  <a:chOff x="1810080" y="1792440"/>
                  <a:chExt cx="153000" cy="93240"/>
                </a:xfrm>
              </p:grpSpPr>
              <p:sp>
                <p:nvSpPr>
                  <p:cNvPr id="4104" name=""/>
                  <p:cNvSpPr/>
                  <p:nvPr/>
                </p:nvSpPr>
                <p:spPr>
                  <a:xfrm>
                    <a:off x="186732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181008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181008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7" name=""/>
                <p:cNvGrpSpPr/>
                <p:nvPr/>
              </p:nvGrpSpPr>
              <p:grpSpPr>
                <a:xfrm>
                  <a:off x="2154600" y="1579320"/>
                  <a:ext cx="153000" cy="93240"/>
                  <a:chOff x="2154600" y="1579320"/>
                  <a:chExt cx="153000" cy="93240"/>
                </a:xfrm>
              </p:grpSpPr>
              <p:sp>
                <p:nvSpPr>
                  <p:cNvPr id="4108" name=""/>
                  <p:cNvSpPr/>
                  <p:nvPr/>
                </p:nvSpPr>
                <p:spPr>
                  <a:xfrm>
                    <a:off x="221184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215460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215460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1" name=""/>
                <p:cNvGrpSpPr/>
                <p:nvPr/>
              </p:nvGrpSpPr>
              <p:grpSpPr>
                <a:xfrm>
                  <a:off x="2039760" y="1632600"/>
                  <a:ext cx="153000" cy="93240"/>
                  <a:chOff x="2039760" y="1632600"/>
                  <a:chExt cx="153000" cy="93240"/>
                </a:xfrm>
              </p:grpSpPr>
              <p:sp>
                <p:nvSpPr>
                  <p:cNvPr id="4112" name=""/>
                  <p:cNvSpPr/>
                  <p:nvPr/>
                </p:nvSpPr>
                <p:spPr>
                  <a:xfrm>
                    <a:off x="209700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203976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203976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5" name=""/>
                <p:cNvGrpSpPr/>
                <p:nvPr/>
              </p:nvGrpSpPr>
              <p:grpSpPr>
                <a:xfrm>
                  <a:off x="1924920" y="1686240"/>
                  <a:ext cx="153000" cy="92880"/>
                  <a:chOff x="1924920" y="1686240"/>
                  <a:chExt cx="153000" cy="92880"/>
                </a:xfrm>
              </p:grpSpPr>
              <p:sp>
                <p:nvSpPr>
                  <p:cNvPr id="4116" name=""/>
                  <p:cNvSpPr/>
                  <p:nvPr/>
                </p:nvSpPr>
                <p:spPr>
                  <a:xfrm>
                    <a:off x="198216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192492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192492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"/>
                <p:cNvGrpSpPr/>
                <p:nvPr/>
              </p:nvGrpSpPr>
              <p:grpSpPr>
                <a:xfrm>
                  <a:off x="1810080" y="1739160"/>
                  <a:ext cx="153000" cy="93240"/>
                  <a:chOff x="1810080" y="1739160"/>
                  <a:chExt cx="153000" cy="93240"/>
                </a:xfrm>
              </p:grpSpPr>
              <p:sp>
                <p:nvSpPr>
                  <p:cNvPr id="4120" name=""/>
                  <p:cNvSpPr/>
                  <p:nvPr/>
                </p:nvSpPr>
                <p:spPr>
                  <a:xfrm>
                    <a:off x="186732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181008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181008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3" name=""/>
                <p:cNvGrpSpPr/>
                <p:nvPr/>
              </p:nvGrpSpPr>
              <p:grpSpPr>
                <a:xfrm>
                  <a:off x="2154600" y="1526400"/>
                  <a:ext cx="153000" cy="92880"/>
                  <a:chOff x="2154600" y="1526400"/>
                  <a:chExt cx="153000" cy="92880"/>
                </a:xfrm>
              </p:grpSpPr>
              <p:sp>
                <p:nvSpPr>
                  <p:cNvPr id="4124" name=""/>
                  <p:cNvSpPr/>
                  <p:nvPr/>
                </p:nvSpPr>
                <p:spPr>
                  <a:xfrm>
                    <a:off x="221184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215460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215460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7" name=""/>
                <p:cNvGrpSpPr/>
                <p:nvPr/>
              </p:nvGrpSpPr>
              <p:grpSpPr>
                <a:xfrm>
                  <a:off x="2039760" y="1579320"/>
                  <a:ext cx="153000" cy="93240"/>
                  <a:chOff x="2039760" y="1579320"/>
                  <a:chExt cx="153000" cy="9324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>
                    <a:off x="209700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03976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203976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1" name=""/>
                <p:cNvGrpSpPr/>
                <p:nvPr/>
              </p:nvGrpSpPr>
              <p:grpSpPr>
                <a:xfrm>
                  <a:off x="1924920" y="1632600"/>
                  <a:ext cx="153000" cy="93240"/>
                  <a:chOff x="1924920" y="1632600"/>
                  <a:chExt cx="153000" cy="93240"/>
                </a:xfrm>
              </p:grpSpPr>
              <p:sp>
                <p:nvSpPr>
                  <p:cNvPr id="4132" name=""/>
                  <p:cNvSpPr/>
                  <p:nvPr/>
                </p:nvSpPr>
                <p:spPr>
                  <a:xfrm>
                    <a:off x="198216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192492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192492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5" name=""/>
                <p:cNvGrpSpPr/>
                <p:nvPr/>
              </p:nvGrpSpPr>
              <p:grpSpPr>
                <a:xfrm>
                  <a:off x="1810080" y="1686240"/>
                  <a:ext cx="153000" cy="92880"/>
                  <a:chOff x="1810080" y="1686240"/>
                  <a:chExt cx="153000" cy="92880"/>
                </a:xfrm>
              </p:grpSpPr>
              <p:sp>
                <p:nvSpPr>
                  <p:cNvPr id="4136" name=""/>
                  <p:cNvSpPr/>
                  <p:nvPr/>
                </p:nvSpPr>
                <p:spPr>
                  <a:xfrm>
                    <a:off x="186732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181008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181008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9" name=""/>
                <p:cNvGrpSpPr/>
                <p:nvPr/>
              </p:nvGrpSpPr>
              <p:grpSpPr>
                <a:xfrm>
                  <a:off x="2154600" y="1473120"/>
                  <a:ext cx="153000" cy="93240"/>
                  <a:chOff x="2154600" y="1473120"/>
                  <a:chExt cx="153000" cy="93240"/>
                </a:xfrm>
              </p:grpSpPr>
              <p:sp>
                <p:nvSpPr>
                  <p:cNvPr id="4140" name=""/>
                  <p:cNvSpPr/>
                  <p:nvPr/>
                </p:nvSpPr>
                <p:spPr>
                  <a:xfrm>
                    <a:off x="221184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215460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215460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3" name=""/>
                <p:cNvGrpSpPr/>
                <p:nvPr/>
              </p:nvGrpSpPr>
              <p:grpSpPr>
                <a:xfrm>
                  <a:off x="2039760" y="1526400"/>
                  <a:ext cx="153000" cy="92880"/>
                  <a:chOff x="2039760" y="1526400"/>
                  <a:chExt cx="153000" cy="92880"/>
                </a:xfrm>
              </p:grpSpPr>
              <p:sp>
                <p:nvSpPr>
                  <p:cNvPr id="4144" name=""/>
                  <p:cNvSpPr/>
                  <p:nvPr/>
                </p:nvSpPr>
                <p:spPr>
                  <a:xfrm>
                    <a:off x="209700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203976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203976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7" name=""/>
                <p:cNvGrpSpPr/>
                <p:nvPr/>
              </p:nvGrpSpPr>
              <p:grpSpPr>
                <a:xfrm>
                  <a:off x="1924920" y="1579320"/>
                  <a:ext cx="153000" cy="93240"/>
                  <a:chOff x="1924920" y="1579320"/>
                  <a:chExt cx="153000" cy="9324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198216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192492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192492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1" name=""/>
                <p:cNvGrpSpPr/>
                <p:nvPr/>
              </p:nvGrpSpPr>
              <p:grpSpPr>
                <a:xfrm>
                  <a:off x="1810080" y="1632600"/>
                  <a:ext cx="153000" cy="93240"/>
                  <a:chOff x="1810080" y="1632600"/>
                  <a:chExt cx="153000" cy="93240"/>
                </a:xfrm>
              </p:grpSpPr>
              <p:sp>
                <p:nvSpPr>
                  <p:cNvPr id="4152" name=""/>
                  <p:cNvSpPr/>
                  <p:nvPr/>
                </p:nvSpPr>
                <p:spPr>
                  <a:xfrm>
                    <a:off x="186732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181008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181008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2154600" y="1419840"/>
                  <a:ext cx="153000" cy="93240"/>
                  <a:chOff x="2154600" y="1419840"/>
                  <a:chExt cx="153000" cy="9324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>
                    <a:off x="2211840" y="14331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2154600" y="14598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2154600" y="14198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9" name=""/>
                <p:cNvGrpSpPr/>
                <p:nvPr/>
              </p:nvGrpSpPr>
              <p:grpSpPr>
                <a:xfrm>
                  <a:off x="2039760" y="1473120"/>
                  <a:ext cx="153000" cy="93240"/>
                  <a:chOff x="2039760" y="1473120"/>
                  <a:chExt cx="153000" cy="93240"/>
                </a:xfrm>
              </p:grpSpPr>
              <p:sp>
                <p:nvSpPr>
                  <p:cNvPr id="4160" name=""/>
                  <p:cNvSpPr/>
                  <p:nvPr/>
                </p:nvSpPr>
                <p:spPr>
                  <a:xfrm>
                    <a:off x="2097000" y="14864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2039760" y="15130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2039760" y="14731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3" name=""/>
                <p:cNvGrpSpPr/>
                <p:nvPr/>
              </p:nvGrpSpPr>
              <p:grpSpPr>
                <a:xfrm>
                  <a:off x="1924920" y="1526400"/>
                  <a:ext cx="153000" cy="92880"/>
                  <a:chOff x="1924920" y="1526400"/>
                  <a:chExt cx="153000" cy="92880"/>
                </a:xfrm>
              </p:grpSpPr>
              <p:sp>
                <p:nvSpPr>
                  <p:cNvPr id="4164" name=""/>
                  <p:cNvSpPr/>
                  <p:nvPr/>
                </p:nvSpPr>
                <p:spPr>
                  <a:xfrm>
                    <a:off x="1982160" y="153972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1924920" y="156600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1924920" y="152640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7" name=""/>
                <p:cNvGrpSpPr/>
                <p:nvPr/>
              </p:nvGrpSpPr>
              <p:grpSpPr>
                <a:xfrm>
                  <a:off x="1810080" y="1579320"/>
                  <a:ext cx="153000" cy="93240"/>
                  <a:chOff x="1810080" y="1579320"/>
                  <a:chExt cx="153000" cy="9324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>
                    <a:off x="1867320" y="159264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1810080" y="161928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1810080" y="157932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1" name=""/>
                <p:cNvGrpSpPr/>
                <p:nvPr/>
              </p:nvGrpSpPr>
              <p:grpSpPr>
                <a:xfrm>
                  <a:off x="1695600" y="1899000"/>
                  <a:ext cx="153000" cy="93240"/>
                  <a:chOff x="1695600" y="1899000"/>
                  <a:chExt cx="153000" cy="93240"/>
                </a:xfrm>
              </p:grpSpPr>
              <p:sp>
                <p:nvSpPr>
                  <p:cNvPr id="4172" name=""/>
                  <p:cNvSpPr/>
                  <p:nvPr/>
                </p:nvSpPr>
                <p:spPr>
                  <a:xfrm>
                    <a:off x="1752840" y="19123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1695600" y="19389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1695600" y="18990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5" name=""/>
                <p:cNvGrpSpPr/>
                <p:nvPr/>
              </p:nvGrpSpPr>
              <p:grpSpPr>
                <a:xfrm>
                  <a:off x="1695600" y="1845720"/>
                  <a:ext cx="153000" cy="92880"/>
                  <a:chOff x="1695600" y="1845720"/>
                  <a:chExt cx="153000" cy="92880"/>
                </a:xfrm>
              </p:grpSpPr>
              <p:sp>
                <p:nvSpPr>
                  <p:cNvPr id="4176" name=""/>
                  <p:cNvSpPr/>
                  <p:nvPr/>
                </p:nvSpPr>
                <p:spPr>
                  <a:xfrm>
                    <a:off x="1752840" y="185904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1695600" y="188532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1695600" y="184572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9" name=""/>
                <p:cNvGrpSpPr/>
                <p:nvPr/>
              </p:nvGrpSpPr>
              <p:grpSpPr>
                <a:xfrm>
                  <a:off x="1695600" y="1792440"/>
                  <a:ext cx="153000" cy="93240"/>
                  <a:chOff x="1695600" y="1792440"/>
                  <a:chExt cx="153000" cy="9324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>
                    <a:off x="1752840" y="180576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1695600" y="183240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1695600" y="179244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3" name=""/>
                <p:cNvGrpSpPr/>
                <p:nvPr/>
              </p:nvGrpSpPr>
              <p:grpSpPr>
                <a:xfrm>
                  <a:off x="1695600" y="1739160"/>
                  <a:ext cx="153000" cy="93240"/>
                  <a:chOff x="1695600" y="1739160"/>
                  <a:chExt cx="153000" cy="93240"/>
                </a:xfrm>
              </p:grpSpPr>
              <p:sp>
                <p:nvSpPr>
                  <p:cNvPr id="4184" name=""/>
                  <p:cNvSpPr/>
                  <p:nvPr/>
                </p:nvSpPr>
                <p:spPr>
                  <a:xfrm>
                    <a:off x="1752840" y="175248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1695600" y="177912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1695600" y="173916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7" name=""/>
                <p:cNvGrpSpPr/>
                <p:nvPr/>
              </p:nvGrpSpPr>
              <p:grpSpPr>
                <a:xfrm>
                  <a:off x="1695600" y="1686240"/>
                  <a:ext cx="153000" cy="92880"/>
                  <a:chOff x="1695600" y="1686240"/>
                  <a:chExt cx="153000" cy="92880"/>
                </a:xfrm>
              </p:grpSpPr>
              <p:sp>
                <p:nvSpPr>
                  <p:cNvPr id="4188" name=""/>
                  <p:cNvSpPr/>
                  <p:nvPr/>
                </p:nvSpPr>
                <p:spPr>
                  <a:xfrm>
                    <a:off x="1752840" y="1699560"/>
                    <a:ext cx="957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1695600" y="1725840"/>
                    <a:ext cx="572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1695600" y="1686240"/>
                    <a:ext cx="15300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120" bIns="6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1" name=""/>
                <p:cNvGrpSpPr/>
                <p:nvPr/>
              </p:nvGrpSpPr>
              <p:grpSpPr>
                <a:xfrm>
                  <a:off x="1695600" y="1632600"/>
                  <a:ext cx="153000" cy="93240"/>
                  <a:chOff x="1695600" y="1632600"/>
                  <a:chExt cx="153000" cy="932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>
                    <a:off x="1752840" y="1645920"/>
                    <a:ext cx="9576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1695600" y="1672560"/>
                    <a:ext cx="572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1695600" y="1632600"/>
                    <a:ext cx="153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5" name=""/>
              <p:cNvGrpSpPr/>
              <p:nvPr/>
            </p:nvGrpSpPr>
            <p:grpSpPr>
              <a:xfrm>
                <a:off x="1990800" y="1591560"/>
                <a:ext cx="258840" cy="406440"/>
                <a:chOff x="1990800" y="1591560"/>
                <a:chExt cx="258840" cy="406440"/>
              </a:xfrm>
            </p:grpSpPr>
            <p:sp>
              <p:nvSpPr>
                <p:cNvPr id="4196" name=""/>
                <p:cNvSpPr/>
                <p:nvPr/>
              </p:nvSpPr>
              <p:spPr>
                <a:xfrm>
                  <a:off x="1991520" y="1591560"/>
                  <a:ext cx="257760" cy="871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1995480" y="1893960"/>
                  <a:ext cx="250200" cy="10404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2104200" y="1615680"/>
                  <a:ext cx="145440" cy="372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1990800" y="1650960"/>
                  <a:ext cx="114840" cy="33516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2006640" y="1932840"/>
                  <a:ext cx="79200" cy="201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2003760" y="1667160"/>
                  <a:ext cx="12600" cy="684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400" bIns="-41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2006640" y="191736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2006640" y="1902240"/>
                  <a:ext cx="79200" cy="20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2006640" y="188748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2006640" y="1872000"/>
                  <a:ext cx="79200" cy="20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2007720" y="1725480"/>
                  <a:ext cx="78840" cy="14256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1999440" y="1697400"/>
                  <a:ext cx="90000" cy="24840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2005200" y="1706760"/>
                  <a:ext cx="80280" cy="14076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2005920" y="1739160"/>
                  <a:ext cx="7704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2005920" y="1769400"/>
                  <a:ext cx="78120" cy="169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2005920" y="1806840"/>
                  <a:ext cx="74520" cy="17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2028960" y="1724400"/>
                  <a:ext cx="30600" cy="1584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2017080" y="1726920"/>
                  <a:ext cx="56880" cy="118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2011680" y="1782000"/>
                  <a:ext cx="68760" cy="298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2011680" y="1819440"/>
                  <a:ext cx="68760" cy="33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2062440" y="17996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2064240" y="1837080"/>
                  <a:ext cx="10440" cy="57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2010240" y="1748160"/>
                  <a:ext cx="69840" cy="309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2061720" y="1764720"/>
                  <a:ext cx="10440" cy="540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20" name=""/>
              <p:cNvSpPr/>
              <p:nvPr/>
            </p:nvSpPr>
            <p:spPr>
              <a:xfrm>
                <a:off x="2945880" y="2371320"/>
                <a:ext cx="233280" cy="8820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2949480" y="2373480"/>
                <a:ext cx="227160" cy="7776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005280" y="2377440"/>
                <a:ext cx="127800" cy="33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2968560" y="2384640"/>
                <a:ext cx="132840" cy="421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097080" y="2412360"/>
                <a:ext cx="28800" cy="100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080520" y="242388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106800" y="2416680"/>
                <a:ext cx="49320" cy="2304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7" name=""/>
              <p:cNvGrpSpPr/>
              <p:nvPr/>
            </p:nvGrpSpPr>
            <p:grpSpPr>
              <a:xfrm>
                <a:off x="3014280" y="2160720"/>
                <a:ext cx="258120" cy="252000"/>
                <a:chOff x="3014280" y="2160720"/>
                <a:chExt cx="258120" cy="252000"/>
              </a:xfrm>
            </p:grpSpPr>
            <p:grpSp>
              <p:nvGrpSpPr>
                <p:cNvPr id="4228" name=""/>
                <p:cNvGrpSpPr/>
                <p:nvPr/>
              </p:nvGrpSpPr>
              <p:grpSpPr>
                <a:xfrm>
                  <a:off x="3014280" y="2285280"/>
                  <a:ext cx="258120" cy="127440"/>
                  <a:chOff x="3014280" y="2285280"/>
                  <a:chExt cx="258120" cy="127440"/>
                </a:xfrm>
              </p:grpSpPr>
              <p:sp>
                <p:nvSpPr>
                  <p:cNvPr id="4229" name=""/>
                  <p:cNvSpPr/>
                  <p:nvPr/>
                </p:nvSpPr>
                <p:spPr>
                  <a:xfrm>
                    <a:off x="3183480" y="2319840"/>
                    <a:ext cx="889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3014280" y="2285280"/>
                    <a:ext cx="2581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3014280" y="2326680"/>
                    <a:ext cx="169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3102840" y="2357280"/>
                    <a:ext cx="662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3104280" y="2372760"/>
                    <a:ext cx="637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3102480" y="2356920"/>
                    <a:ext cx="6588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3108600" y="2365560"/>
                    <a:ext cx="51480" cy="118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3152520" y="2389320"/>
                    <a:ext cx="9720" cy="18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3124800" y="2368800"/>
                    <a:ext cx="15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9800" bIns="-19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3018600" y="23425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3018600" y="234972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3018600" y="2356200"/>
                    <a:ext cx="68040" cy="169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3103200" y="2375280"/>
                    <a:ext cx="67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42" name=""/>
                <p:cNvSpPr/>
                <p:nvPr/>
              </p:nvSpPr>
              <p:spPr>
                <a:xfrm>
                  <a:off x="3059640" y="2283120"/>
                  <a:ext cx="172800" cy="6552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3" name=""/>
                <p:cNvSpPr/>
                <p:nvPr/>
              </p:nvSpPr>
              <p:spPr>
                <a:xfrm>
                  <a:off x="3061440" y="2284560"/>
                  <a:ext cx="167760" cy="5796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3103200" y="2298600"/>
                  <a:ext cx="87120" cy="316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5" name=""/>
                <p:cNvSpPr/>
                <p:nvPr/>
              </p:nvSpPr>
              <p:spPr>
                <a:xfrm>
                  <a:off x="3056040" y="2300040"/>
                  <a:ext cx="140400" cy="352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6" name=""/>
                <p:cNvSpPr/>
                <p:nvPr/>
              </p:nvSpPr>
              <p:spPr>
                <a:xfrm>
                  <a:off x="3089520" y="2160720"/>
                  <a:ext cx="175320" cy="1458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7" name=""/>
                <p:cNvSpPr/>
                <p:nvPr/>
              </p:nvSpPr>
              <p:spPr>
                <a:xfrm>
                  <a:off x="3198960" y="2192400"/>
                  <a:ext cx="35280" cy="14184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8" name=""/>
                <p:cNvSpPr/>
                <p:nvPr/>
              </p:nvSpPr>
              <p:spPr>
                <a:xfrm>
                  <a:off x="3042720" y="2161800"/>
                  <a:ext cx="191520" cy="48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3042720" y="2176560"/>
                  <a:ext cx="156600" cy="1584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0" name=""/>
                <p:cNvSpPr/>
                <p:nvPr/>
              </p:nvSpPr>
              <p:spPr>
                <a:xfrm>
                  <a:off x="3054960" y="2190600"/>
                  <a:ext cx="131760" cy="1299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1" name=""/>
                <p:cNvSpPr/>
                <p:nvPr/>
              </p:nvSpPr>
              <p:spPr>
                <a:xfrm>
                  <a:off x="3062880" y="2199600"/>
                  <a:ext cx="115560" cy="111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2" name=""/>
              <p:cNvSpPr/>
              <p:nvPr/>
            </p:nvSpPr>
            <p:spPr>
              <a:xfrm>
                <a:off x="2914920" y="1770120"/>
                <a:ext cx="257400" cy="871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919240" y="2072520"/>
                <a:ext cx="249840" cy="1040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027600" y="1794240"/>
                <a:ext cx="145440" cy="372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913840" y="1829520"/>
                <a:ext cx="114840" cy="334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930400" y="2111760"/>
                <a:ext cx="78840" cy="201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927160" y="1845720"/>
                <a:ext cx="12960" cy="720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930400" y="209628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2930400" y="208116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930400" y="2066040"/>
                <a:ext cx="78840" cy="20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2930400" y="2050920"/>
                <a:ext cx="78840" cy="19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2931120" y="1904040"/>
                <a:ext cx="79200" cy="1425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923200" y="1875960"/>
                <a:ext cx="90000" cy="24840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928600" y="1885680"/>
                <a:ext cx="80640" cy="141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929320" y="1917720"/>
                <a:ext cx="7740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929320" y="1947960"/>
                <a:ext cx="78480" cy="169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929320" y="1985400"/>
                <a:ext cx="74520" cy="176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952360" y="1903320"/>
                <a:ext cx="30600" cy="15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2940120" y="1905840"/>
                <a:ext cx="57240" cy="11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934720" y="1960560"/>
                <a:ext cx="68760" cy="3024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934720" y="1998000"/>
                <a:ext cx="68760" cy="33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986200" y="197820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987640" y="2015640"/>
                <a:ext cx="10440" cy="57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933640" y="1926720"/>
                <a:ext cx="69840" cy="306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985120" y="19436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 flipV="1">
              <a:off x="1538280" y="2496960"/>
              <a:ext cx="552600" cy="6955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3798720" y="960480"/>
            <a:ext cx="1743120" cy="617400"/>
          </a:xfrm>
          <a:prstGeom prst="wedgeRoundRectCallout">
            <a:avLst>
              <a:gd name="adj1" fmla="val -54282"/>
              <a:gd name="adj2" fmla="val 99615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Virtuális magánhálóz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7396200" y="2620800"/>
            <a:ext cx="1339920" cy="392400"/>
          </a:xfrm>
          <a:prstGeom prst="wedgeRoundRectCallout">
            <a:avLst>
              <a:gd name="adj1" fmla="val -8055"/>
              <a:gd name="adj2" fmla="val -29007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Riasz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5116680" y="1838160"/>
            <a:ext cx="1955520" cy="843120"/>
          </a:xfrm>
          <a:prstGeom prst="wedgeRoundRectCallout">
            <a:avLst>
              <a:gd name="adj1" fmla="val -52351"/>
              <a:gd name="adj2" fmla="val 976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Kiszolgálók publikálása az Internet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0" name=""/>
          <p:cNvGrpSpPr/>
          <p:nvPr/>
        </p:nvGrpSpPr>
        <p:grpSpPr>
          <a:xfrm>
            <a:off x="316080" y="1895400"/>
            <a:ext cx="1028520" cy="1346040"/>
            <a:chOff x="316080" y="1895400"/>
            <a:chExt cx="1028520" cy="1346040"/>
          </a:xfrm>
        </p:grpSpPr>
        <p:sp>
          <p:nvSpPr>
            <p:cNvPr id="4281" name=""/>
            <p:cNvSpPr/>
            <p:nvPr/>
          </p:nvSpPr>
          <p:spPr>
            <a:xfrm flipH="1" flipV="1">
              <a:off x="987120" y="2796840"/>
              <a:ext cx="42840" cy="444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2" name=""/>
            <p:cNvGrpSpPr/>
            <p:nvPr/>
          </p:nvGrpSpPr>
          <p:grpSpPr>
            <a:xfrm>
              <a:off x="316080" y="1895400"/>
              <a:ext cx="1028520" cy="941400"/>
              <a:chOff x="316080" y="1895400"/>
              <a:chExt cx="1028520" cy="941400"/>
            </a:xfrm>
          </p:grpSpPr>
          <p:sp>
            <p:nvSpPr>
              <p:cNvPr id="4283" name=""/>
              <p:cNvSpPr/>
              <p:nvPr/>
            </p:nvSpPr>
            <p:spPr>
              <a:xfrm flipH="1">
                <a:off x="609480" y="255888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H="1">
                <a:off x="616680" y="2565360"/>
                <a:ext cx="716040" cy="24624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754200" y="2577960"/>
                <a:ext cx="403200" cy="10656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flipH="1">
                <a:off x="853200" y="2600280"/>
                <a:ext cx="419400" cy="13356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H="1">
                <a:off x="777240" y="2687760"/>
                <a:ext cx="90360" cy="316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H="1">
                <a:off x="838080" y="2724120"/>
                <a:ext cx="82800" cy="3168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H="1">
                <a:off x="682560" y="2701800"/>
                <a:ext cx="155520" cy="7308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0" name=""/>
              <p:cNvGrpSpPr/>
              <p:nvPr/>
            </p:nvGrpSpPr>
            <p:grpSpPr>
              <a:xfrm>
                <a:off x="316080" y="2287440"/>
                <a:ext cx="812160" cy="401400"/>
                <a:chOff x="316080" y="2287440"/>
                <a:chExt cx="812160" cy="401400"/>
              </a:xfrm>
            </p:grpSpPr>
            <p:sp>
              <p:nvSpPr>
                <p:cNvPr id="4291" name=""/>
                <p:cNvSpPr/>
                <p:nvPr/>
              </p:nvSpPr>
              <p:spPr>
                <a:xfrm flipH="1">
                  <a:off x="316080" y="2396160"/>
                  <a:ext cx="280080" cy="292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3" y="191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H="1">
                  <a:off x="315720" y="2287440"/>
                  <a:ext cx="811800" cy="259560"/>
                </a:xfrm>
                <a:custGeom>
                  <a:avLst/>
                  <a:gdLst/>
                  <a:ahLst/>
                  <a:rect l="l" t="t" r="r" b="b"/>
                  <a:pathLst>
                    <a:path w="1054" h="374">
                      <a:moveTo>
                        <a:pt x="691" y="374"/>
                      </a:moveTo>
                      <a:lnTo>
                        <a:pt x="0" y="191"/>
                      </a:lnTo>
                      <a:lnTo>
                        <a:pt x="363" y="0"/>
                      </a:lnTo>
                      <a:lnTo>
                        <a:pt x="1054" y="157"/>
                      </a:lnTo>
                      <a:lnTo>
                        <a:pt x="691" y="374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H="1">
                  <a:off x="596160" y="2418480"/>
                  <a:ext cx="532080" cy="27036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H="1">
                  <a:off x="640800" y="2514240"/>
                  <a:ext cx="208440" cy="1310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H="1">
                  <a:off x="644040" y="2562840"/>
                  <a:ext cx="200880" cy="47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642240" y="2512800"/>
                  <a:ext cx="207720" cy="80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H="1">
                  <a:off x="668880" y="2540160"/>
                  <a:ext cx="162360" cy="374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H="1">
                  <a:off x="662040" y="2615040"/>
                  <a:ext cx="31320" cy="612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H="1">
                  <a:off x="731160" y="2550240"/>
                  <a:ext cx="48960" cy="24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240" bIns="-324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H="1">
                  <a:off x="899280" y="246852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H="1">
                  <a:off x="899280" y="2490840"/>
                  <a:ext cx="214560" cy="5364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>
                  <a:off x="899280" y="2511360"/>
                  <a:ext cx="214560" cy="54000"/>
                </a:xfrm>
                <a:prstGeom prst="line">
                  <a:avLst/>
                </a:prstGeom>
                <a:ln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H="1">
                  <a:off x="636480" y="2571120"/>
                  <a:ext cx="211680" cy="81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4" name=""/>
              <p:cNvSpPr/>
              <p:nvPr/>
            </p:nvSpPr>
            <p:spPr>
              <a:xfrm flipH="1">
                <a:off x="441360" y="2281320"/>
                <a:ext cx="544320" cy="206280"/>
              </a:xfrm>
              <a:custGeom>
                <a:avLst/>
                <a:gdLst/>
                <a:ahLst/>
                <a:rect l="l" t="t" r="r" b="b"/>
                <a:pathLst>
                  <a:path w="707" h="298">
                    <a:moveTo>
                      <a:pt x="0" y="163"/>
                    </a:moveTo>
                    <a:lnTo>
                      <a:pt x="303" y="0"/>
                    </a:lnTo>
                    <a:lnTo>
                      <a:pt x="707" y="116"/>
                    </a:lnTo>
                    <a:lnTo>
                      <a:pt x="707" y="138"/>
                    </a:lnTo>
                    <a:lnTo>
                      <a:pt x="417" y="298"/>
                    </a:lnTo>
                    <a:lnTo>
                      <a:pt x="0" y="188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452520" y="2286000"/>
                <a:ext cx="527040" cy="182520"/>
              </a:xfrm>
              <a:custGeom>
                <a:avLst/>
                <a:gdLst/>
                <a:ahLst/>
                <a:rect l="l" t="t" r="r" b="b"/>
                <a:pathLst>
                  <a:path w="685" h="264">
                    <a:moveTo>
                      <a:pt x="0" y="158"/>
                    </a:moveTo>
                    <a:lnTo>
                      <a:pt x="409" y="264"/>
                    </a:lnTo>
                    <a:lnTo>
                      <a:pt x="685" y="110"/>
                    </a:lnTo>
                    <a:lnTo>
                      <a:pt x="297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flipH="1">
                <a:off x="572400" y="2330280"/>
                <a:ext cx="274680" cy="98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H="1">
                <a:off x="555480" y="2333520"/>
                <a:ext cx="441360" cy="1112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H="1">
                <a:off x="339840" y="1895400"/>
                <a:ext cx="552240" cy="4590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flipH="1">
                <a:off x="436680" y="1996920"/>
                <a:ext cx="110880" cy="44640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flipH="1">
                <a:off x="435960" y="1900080"/>
                <a:ext cx="603000" cy="15264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c0c0c0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545400" y="1946160"/>
                <a:ext cx="493560" cy="4986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flipH="1">
                <a:off x="583560" y="1989000"/>
                <a:ext cx="415800" cy="40968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324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flipH="1">
                <a:off x="611280" y="2017800"/>
                <a:ext cx="363600" cy="3524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3240">
                <a:solidFill>
                  <a:srgbClr val="003366"/>
                </a:solidFill>
                <a:round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rot="20821200">
                <a:off x="523800" y="2012760"/>
                <a:ext cx="5238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500" spc="-1" strike="noStrike">
                    <a:solidFill>
                      <a:srgbClr val="ffffff"/>
                    </a:solidFill>
                    <a:latin typeface="Courier New"/>
                  </a:rPr>
                  <a:t>$./ping _</a:t>
                </a:r>
                <a:endParaRPr b="0" lang="en-US" sz="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15" name=""/>
          <p:cNvGrpSpPr/>
          <p:nvPr/>
        </p:nvGrpSpPr>
        <p:grpSpPr>
          <a:xfrm>
            <a:off x="1615320" y="2946600"/>
            <a:ext cx="7529040" cy="3875040"/>
            <a:chOff x="1615320" y="2946600"/>
            <a:chExt cx="7529040" cy="3875040"/>
          </a:xfrm>
        </p:grpSpPr>
        <p:grpSp>
          <p:nvGrpSpPr>
            <p:cNvPr id="4316" name=""/>
            <p:cNvGrpSpPr/>
            <p:nvPr/>
          </p:nvGrpSpPr>
          <p:grpSpPr>
            <a:xfrm>
              <a:off x="1615320" y="2946600"/>
              <a:ext cx="7529040" cy="3875040"/>
              <a:chOff x="1615320" y="2946600"/>
              <a:chExt cx="7529040" cy="3875040"/>
            </a:xfrm>
          </p:grpSpPr>
          <p:sp>
            <p:nvSpPr>
              <p:cNvPr id="4317" name=""/>
              <p:cNvSpPr/>
              <p:nvPr/>
            </p:nvSpPr>
            <p:spPr>
              <a:xfrm rot="471000">
                <a:off x="1780920" y="3424320"/>
                <a:ext cx="7197480" cy="291924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8" name=""/>
              <p:cNvGrpSpPr/>
              <p:nvPr/>
            </p:nvGrpSpPr>
            <p:grpSpPr>
              <a:xfrm>
                <a:off x="1649520" y="4078440"/>
                <a:ext cx="7099200" cy="1725480"/>
                <a:chOff x="1649520" y="4078440"/>
                <a:chExt cx="7099200" cy="1725480"/>
              </a:xfrm>
            </p:grpSpPr>
            <p:sp>
              <p:nvSpPr>
                <p:cNvPr id="4319" name=""/>
                <p:cNvSpPr/>
                <p:nvPr/>
              </p:nvSpPr>
              <p:spPr>
                <a:xfrm>
                  <a:off x="1649520" y="4078440"/>
                  <a:ext cx="7076880" cy="1350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V="1">
                  <a:off x="6872400" y="5258880"/>
                  <a:ext cx="1050840" cy="4813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V="1">
                  <a:off x="7881840" y="5407200"/>
                  <a:ext cx="866880" cy="396720"/>
                </a:xfrm>
                <a:prstGeom prst="line">
                  <a:avLst/>
                </a:prstGeom>
                <a:ln w="5724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2" name=""/>
              <p:cNvGrpSpPr/>
              <p:nvPr/>
            </p:nvGrpSpPr>
            <p:grpSpPr>
              <a:xfrm>
                <a:off x="6440400" y="5221440"/>
                <a:ext cx="1983960" cy="1120320"/>
                <a:chOff x="6440400" y="5221440"/>
                <a:chExt cx="1983960" cy="1120320"/>
              </a:xfrm>
            </p:grpSpPr>
            <p:grpSp>
              <p:nvGrpSpPr>
                <p:cNvPr id="4323" name=""/>
                <p:cNvGrpSpPr/>
                <p:nvPr/>
              </p:nvGrpSpPr>
              <p:grpSpPr>
                <a:xfrm>
                  <a:off x="7396200" y="5400720"/>
                  <a:ext cx="1028160" cy="941040"/>
                  <a:chOff x="7396200" y="5400720"/>
                  <a:chExt cx="1028160" cy="941040"/>
                </a:xfrm>
              </p:grpSpPr>
              <p:sp>
                <p:nvSpPr>
                  <p:cNvPr id="4324" name=""/>
                  <p:cNvSpPr/>
                  <p:nvPr/>
                </p:nvSpPr>
                <p:spPr>
                  <a:xfrm>
                    <a:off x="7396200" y="6063840"/>
                    <a:ext cx="734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7407360" y="6069960"/>
                    <a:ext cx="71532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7583040" y="6083280"/>
                    <a:ext cx="4024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7467120" y="610488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7872480" y="619236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7820280" y="622872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7901640" y="620712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1" name=""/>
                  <p:cNvGrpSpPr/>
                  <p:nvPr/>
                </p:nvGrpSpPr>
                <p:grpSpPr>
                  <a:xfrm>
                    <a:off x="7612560" y="5400720"/>
                    <a:ext cx="811800" cy="793800"/>
                    <a:chOff x="7612560" y="5400720"/>
                    <a:chExt cx="811800" cy="793800"/>
                  </a:xfrm>
                </p:grpSpPr>
                <p:grpSp>
                  <p:nvGrpSpPr>
                    <p:cNvPr id="4332" name=""/>
                    <p:cNvGrpSpPr/>
                    <p:nvPr/>
                  </p:nvGrpSpPr>
                  <p:grpSpPr>
                    <a:xfrm>
                      <a:off x="7612560" y="5793120"/>
                      <a:ext cx="811800" cy="401400"/>
                      <a:chOff x="7612560" y="5793120"/>
                      <a:chExt cx="811800" cy="401400"/>
                    </a:xfrm>
                  </p:grpSpPr>
                  <p:sp>
                    <p:nvSpPr>
                      <p:cNvPr id="4333" name=""/>
                      <p:cNvSpPr/>
                      <p:nvPr/>
                    </p:nvSpPr>
                    <p:spPr>
                      <a:xfrm>
                        <a:off x="8144280" y="590184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4" name=""/>
                      <p:cNvSpPr/>
                      <p:nvPr/>
                    </p:nvSpPr>
                    <p:spPr>
                      <a:xfrm>
                        <a:off x="7612920" y="5793120"/>
                        <a:ext cx="81108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1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5" name=""/>
                      <p:cNvSpPr/>
                      <p:nvPr/>
                    </p:nvSpPr>
                    <p:spPr>
                      <a:xfrm>
                        <a:off x="7612560" y="592416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32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6" name=""/>
                      <p:cNvSpPr/>
                      <p:nvPr/>
                    </p:nvSpPr>
                    <p:spPr>
                      <a:xfrm>
                        <a:off x="7890840" y="601956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7" name=""/>
                      <p:cNvSpPr/>
                      <p:nvPr/>
                    </p:nvSpPr>
                    <p:spPr>
                      <a:xfrm>
                        <a:off x="7895520" y="606816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8" name=""/>
                      <p:cNvSpPr/>
                      <p:nvPr/>
                    </p:nvSpPr>
                    <p:spPr>
                      <a:xfrm>
                        <a:off x="7890120" y="601848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39" name=""/>
                      <p:cNvSpPr/>
                      <p:nvPr/>
                    </p:nvSpPr>
                    <p:spPr>
                      <a:xfrm>
                        <a:off x="7909560" y="604548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0" name=""/>
                      <p:cNvSpPr/>
                      <p:nvPr/>
                    </p:nvSpPr>
                    <p:spPr>
                      <a:xfrm>
                        <a:off x="8047080" y="612036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1" name=""/>
                      <p:cNvSpPr/>
                      <p:nvPr/>
                    </p:nvSpPr>
                    <p:spPr>
                      <a:xfrm>
                        <a:off x="7960320" y="605592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2" name=""/>
                      <p:cNvSpPr/>
                      <p:nvPr/>
                    </p:nvSpPr>
                    <p:spPr>
                      <a:xfrm>
                        <a:off x="7626960" y="59738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3" name=""/>
                      <p:cNvSpPr/>
                      <p:nvPr/>
                    </p:nvSpPr>
                    <p:spPr>
                      <a:xfrm>
                        <a:off x="7626960" y="599616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4" name=""/>
                      <p:cNvSpPr/>
                      <p:nvPr/>
                    </p:nvSpPr>
                    <p:spPr>
                      <a:xfrm>
                        <a:off x="7626960" y="601704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45" name=""/>
                      <p:cNvSpPr/>
                      <p:nvPr/>
                    </p:nvSpPr>
                    <p:spPr>
                      <a:xfrm>
                        <a:off x="7892640" y="607644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7755120" y="5785920"/>
                      <a:ext cx="54324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>
                      <a:off x="7760880" y="579060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8" name=""/>
                    <p:cNvSpPr/>
                    <p:nvPr/>
                  </p:nvSpPr>
                  <p:spPr>
                    <a:xfrm>
                      <a:off x="7892280" y="583488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9" name=""/>
                    <p:cNvSpPr/>
                    <p:nvPr/>
                  </p:nvSpPr>
                  <p:spPr>
                    <a:xfrm>
                      <a:off x="7743960" y="5839200"/>
                      <a:ext cx="4410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0" name=""/>
                    <p:cNvSpPr/>
                    <p:nvPr/>
                  </p:nvSpPr>
                  <p:spPr>
                    <a:xfrm>
                      <a:off x="7849080" y="5400720"/>
                      <a:ext cx="55116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>
                      <a:off x="8193240" y="550152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2" name=""/>
                    <p:cNvSpPr/>
                    <p:nvPr/>
                  </p:nvSpPr>
                  <p:spPr>
                    <a:xfrm>
                      <a:off x="7701840" y="540504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3" name=""/>
                    <p:cNvSpPr/>
                    <p:nvPr/>
                  </p:nvSpPr>
                  <p:spPr>
                    <a:xfrm>
                      <a:off x="7701840" y="545148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4" name=""/>
                    <p:cNvSpPr/>
                    <p:nvPr/>
                  </p:nvSpPr>
                  <p:spPr>
                    <a:xfrm>
                      <a:off x="7740360" y="549468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5" name=""/>
                    <p:cNvSpPr/>
                    <p:nvPr/>
                  </p:nvSpPr>
                  <p:spPr>
                    <a:xfrm>
                      <a:off x="7765560" y="5523120"/>
                      <a:ext cx="36396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56" name=""/>
                <p:cNvGrpSpPr/>
                <p:nvPr/>
              </p:nvGrpSpPr>
              <p:grpSpPr>
                <a:xfrm>
                  <a:off x="6440400" y="5221440"/>
                  <a:ext cx="1028160" cy="941040"/>
                  <a:chOff x="6440400" y="5221440"/>
                  <a:chExt cx="1028160" cy="941040"/>
                </a:xfrm>
              </p:grpSpPr>
              <p:sp>
                <p:nvSpPr>
                  <p:cNvPr id="4357" name=""/>
                  <p:cNvSpPr/>
                  <p:nvPr/>
                </p:nvSpPr>
                <p:spPr>
                  <a:xfrm>
                    <a:off x="6440400" y="5884560"/>
                    <a:ext cx="73512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66">
                        <a:moveTo>
                          <a:pt x="872" y="178"/>
                        </a:moveTo>
                        <a:lnTo>
                          <a:pt x="872" y="246"/>
                        </a:lnTo>
                        <a:lnTo>
                          <a:pt x="682" y="366"/>
                        </a:lnTo>
                        <a:lnTo>
                          <a:pt x="0" y="170"/>
                        </a:lnTo>
                        <a:lnTo>
                          <a:pt x="0" y="142"/>
                        </a:lnTo>
                        <a:lnTo>
                          <a:pt x="230" y="0"/>
                        </a:lnTo>
                        <a:lnTo>
                          <a:pt x="872" y="178"/>
                        </a:lnTo>
                        <a:close/>
                      </a:path>
                    </a:pathLst>
                  </a:custGeom>
                  <a:blipFill rotWithShape="0">
                    <a:blip r:embed="rId37"/>
                    <a:srcRect/>
                    <a:stretch/>
                  </a:blip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6451560" y="5890680"/>
                    <a:ext cx="71568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24">
                        <a:moveTo>
                          <a:pt x="848" y="174"/>
                        </a:moveTo>
                        <a:lnTo>
                          <a:pt x="216" y="0"/>
                        </a:lnTo>
                        <a:lnTo>
                          <a:pt x="0" y="134"/>
                        </a:lnTo>
                        <a:lnTo>
                          <a:pt x="666" y="324"/>
                        </a:lnTo>
                        <a:lnTo>
                          <a:pt x="848" y="174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6627240" y="5904000"/>
                    <a:ext cx="40284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138">
                        <a:moveTo>
                          <a:pt x="0" y="12"/>
                        </a:moveTo>
                        <a:lnTo>
                          <a:pt x="456" y="138"/>
                        </a:lnTo>
                        <a:lnTo>
                          <a:pt x="477" y="125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6511320" y="5925600"/>
                    <a:ext cx="418680" cy="13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177">
                        <a:moveTo>
                          <a:pt x="0" y="66"/>
                        </a:moveTo>
                        <a:lnTo>
                          <a:pt x="21" y="73"/>
                        </a:lnTo>
                        <a:lnTo>
                          <a:pt x="45" y="61"/>
                        </a:lnTo>
                        <a:lnTo>
                          <a:pt x="60" y="66"/>
                        </a:lnTo>
                        <a:lnTo>
                          <a:pt x="45" y="80"/>
                        </a:lnTo>
                        <a:lnTo>
                          <a:pt x="344" y="163"/>
                        </a:lnTo>
                        <a:lnTo>
                          <a:pt x="360" y="151"/>
                        </a:lnTo>
                        <a:lnTo>
                          <a:pt x="386" y="158"/>
                        </a:lnTo>
                        <a:lnTo>
                          <a:pt x="370" y="170"/>
                        </a:lnTo>
                        <a:lnTo>
                          <a:pt x="396" y="177"/>
                        </a:lnTo>
                        <a:lnTo>
                          <a:pt x="496" y="106"/>
                        </a:lnTo>
                        <a:lnTo>
                          <a:pt x="11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6916680" y="6013080"/>
                    <a:ext cx="90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44">
                        <a:moveTo>
                          <a:pt x="40" y="0"/>
                        </a:moveTo>
                        <a:lnTo>
                          <a:pt x="107" y="17"/>
                        </a:lnTo>
                        <a:lnTo>
                          <a:pt x="69" y="43"/>
                        </a:lnTo>
                        <a:lnTo>
                          <a:pt x="0" y="25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6864480" y="6049440"/>
                    <a:ext cx="813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2">
                        <a:moveTo>
                          <a:pt x="21" y="7"/>
                        </a:moveTo>
                        <a:lnTo>
                          <a:pt x="46" y="11"/>
                        </a:lnTo>
                        <a:lnTo>
                          <a:pt x="60" y="0"/>
                        </a:lnTo>
                        <a:lnTo>
                          <a:pt x="84" y="8"/>
                        </a:lnTo>
                        <a:lnTo>
                          <a:pt x="72" y="19"/>
                        </a:lnTo>
                        <a:lnTo>
                          <a:pt x="96" y="25"/>
                        </a:lnTo>
                        <a:lnTo>
                          <a:pt x="77" y="41"/>
                        </a:lnTo>
                        <a:lnTo>
                          <a:pt x="0" y="21"/>
                        </a:lnTo>
                        <a:lnTo>
                          <a:pt x="21" y="7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6946200" y="6027840"/>
                    <a:ext cx="15516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97">
                        <a:moveTo>
                          <a:pt x="101" y="0"/>
                        </a:moveTo>
                        <a:lnTo>
                          <a:pt x="185" y="22"/>
                        </a:lnTo>
                        <a:lnTo>
                          <a:pt x="83" y="97"/>
                        </a:lnTo>
                        <a:lnTo>
                          <a:pt x="0" y="74"/>
                        </a:lnTo>
                        <a:lnTo>
                          <a:pt x="101" y="0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64" name=""/>
                  <p:cNvGrpSpPr/>
                  <p:nvPr/>
                </p:nvGrpSpPr>
                <p:grpSpPr>
                  <a:xfrm>
                    <a:off x="6656760" y="5221440"/>
                    <a:ext cx="811800" cy="793800"/>
                    <a:chOff x="6656760" y="5221440"/>
                    <a:chExt cx="811800" cy="793800"/>
                  </a:xfrm>
                </p:grpSpPr>
                <p:grpSp>
                  <p:nvGrpSpPr>
                    <p:cNvPr id="4365" name=""/>
                    <p:cNvGrpSpPr/>
                    <p:nvPr/>
                  </p:nvGrpSpPr>
                  <p:grpSpPr>
                    <a:xfrm>
                      <a:off x="6656760" y="5613840"/>
                      <a:ext cx="811800" cy="401400"/>
                      <a:chOff x="6656760" y="5613840"/>
                      <a:chExt cx="811800" cy="401400"/>
                    </a:xfrm>
                  </p:grpSpPr>
                  <p:sp>
                    <p:nvSpPr>
                      <p:cNvPr id="4366" name=""/>
                      <p:cNvSpPr/>
                      <p:nvPr/>
                    </p:nvSpPr>
                    <p:spPr>
                      <a:xfrm>
                        <a:off x="7188480" y="5722560"/>
                        <a:ext cx="280080" cy="29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422">
                            <a:moveTo>
                              <a:pt x="3" y="212"/>
                            </a:moveTo>
                            <a:lnTo>
                              <a:pt x="364" y="0"/>
                            </a:lnTo>
                            <a:lnTo>
                              <a:pt x="363" y="191"/>
                            </a:lnTo>
                            <a:lnTo>
                              <a:pt x="0" y="422"/>
                            </a:lnTo>
                          </a:path>
                        </a:pathLst>
                      </a:custGeom>
                      <a:blipFill rotWithShape="0">
                        <a:blip r:embed="rId38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7" name=""/>
                      <p:cNvSpPr/>
                      <p:nvPr/>
                    </p:nvSpPr>
                    <p:spPr>
                      <a:xfrm>
                        <a:off x="6657120" y="5613840"/>
                        <a:ext cx="811440" cy="25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4" h="374">
                            <a:moveTo>
                              <a:pt x="691" y="374"/>
                            </a:moveTo>
                            <a:lnTo>
                              <a:pt x="0" y="191"/>
                            </a:lnTo>
                            <a:lnTo>
                              <a:pt x="363" y="0"/>
                            </a:lnTo>
                            <a:lnTo>
                              <a:pt x="1054" y="157"/>
                            </a:lnTo>
                            <a:lnTo>
                              <a:pt x="691" y="374"/>
                            </a:lnTo>
                          </a:path>
                        </a:pathLst>
                      </a:custGeom>
                      <a:blipFill rotWithShape="0">
                        <a:blip r:embed="rId39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8" name=""/>
                      <p:cNvSpPr/>
                      <p:nvPr/>
                    </p:nvSpPr>
                    <p:spPr>
                      <a:xfrm>
                        <a:off x="6656760" y="5744880"/>
                        <a:ext cx="531720" cy="27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0" h="390">
                            <a:moveTo>
                              <a:pt x="0" y="5"/>
                            </a:moveTo>
                            <a:lnTo>
                              <a:pt x="0" y="192"/>
                            </a:lnTo>
                            <a:lnTo>
                              <a:pt x="690" y="390"/>
                            </a:lnTo>
                            <a:lnTo>
                              <a:pt x="690" y="185"/>
                            </a:lnTo>
                            <a:lnTo>
                              <a:pt x="4" y="0"/>
                            </a:lnTo>
                          </a:path>
                        </a:pathLst>
                      </a:custGeom>
                      <a:blipFill rotWithShape="0">
                        <a:blip r:embed="rId40"/>
                        <a:srcRect/>
                        <a:stretch/>
                      </a:blip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9" name=""/>
                      <p:cNvSpPr/>
                      <p:nvPr/>
                    </p:nvSpPr>
                    <p:spPr>
                      <a:xfrm>
                        <a:off x="6935400" y="5840280"/>
                        <a:ext cx="2084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189">
                            <a:moveTo>
                              <a:pt x="0" y="0"/>
                            </a:moveTo>
                            <a:lnTo>
                              <a:pt x="271" y="73"/>
                            </a:lnTo>
                            <a:lnTo>
                              <a:pt x="271" y="189"/>
                            </a:lnTo>
                            <a:lnTo>
                              <a:pt x="0" y="11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edede"/>
                          </a:gs>
                          <a:gs pos="100000">
                            <a:srgbClr val="b2b2b2"/>
                          </a:gs>
                        </a:gsLst>
                        <a:lin ang="13500000"/>
                      </a:gradFill>
                      <a:ln cap="rnd"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0" name=""/>
                      <p:cNvSpPr/>
                      <p:nvPr/>
                    </p:nvSpPr>
                    <p:spPr>
                      <a:xfrm>
                        <a:off x="6940080" y="5888880"/>
                        <a:ext cx="200880" cy="4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1" h="69">
                            <a:moveTo>
                              <a:pt x="0" y="0"/>
                            </a:moveTo>
                            <a:lnTo>
                              <a:pt x="261" y="6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1" name=""/>
                      <p:cNvSpPr/>
                      <p:nvPr/>
                    </p:nvSpPr>
                    <p:spPr>
                      <a:xfrm>
                        <a:off x="6934680" y="5839200"/>
                        <a:ext cx="2077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0" h="116">
                            <a:moveTo>
                              <a:pt x="0" y="116"/>
                            </a:moveTo>
                            <a:lnTo>
                              <a:pt x="1" y="0"/>
                            </a:lnTo>
                            <a:lnTo>
                              <a:pt x="270" y="7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2" name=""/>
                      <p:cNvSpPr/>
                      <p:nvPr/>
                    </p:nvSpPr>
                    <p:spPr>
                      <a:xfrm>
                        <a:off x="6953760" y="5866200"/>
                        <a:ext cx="162360" cy="3708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3" name=""/>
                      <p:cNvSpPr/>
                      <p:nvPr/>
                    </p:nvSpPr>
                    <p:spPr>
                      <a:xfrm>
                        <a:off x="7091640" y="5941080"/>
                        <a:ext cx="31320" cy="612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4" name=""/>
                      <p:cNvSpPr/>
                      <p:nvPr/>
                    </p:nvSpPr>
                    <p:spPr>
                      <a:xfrm>
                        <a:off x="7004520" y="5876640"/>
                        <a:ext cx="4896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35">
                            <a:moveTo>
                              <a:pt x="0" y="0"/>
                            </a:moveTo>
                            <a:lnTo>
                              <a:pt x="1" y="18"/>
                            </a:lnTo>
                            <a:lnTo>
                              <a:pt x="64" y="35"/>
                            </a:lnTo>
                            <a:lnTo>
                              <a:pt x="64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77777"/>
                      </a:solidFill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3240" bIns="-324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5" name=""/>
                      <p:cNvSpPr/>
                      <p:nvPr/>
                    </p:nvSpPr>
                    <p:spPr>
                      <a:xfrm>
                        <a:off x="6671160" y="57945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6" name=""/>
                      <p:cNvSpPr/>
                      <p:nvPr/>
                    </p:nvSpPr>
                    <p:spPr>
                      <a:xfrm>
                        <a:off x="6671160" y="5816880"/>
                        <a:ext cx="214560" cy="5364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7" name=""/>
                      <p:cNvSpPr/>
                      <p:nvPr/>
                    </p:nvSpPr>
                    <p:spPr>
                      <a:xfrm>
                        <a:off x="6671160" y="5837760"/>
                        <a:ext cx="214560" cy="54000"/>
                      </a:xfrm>
                      <a:prstGeom prst="line">
                        <a:avLst/>
                      </a:prstGeom>
                      <a:ln w="3240">
                        <a:solidFill>
                          <a:srgbClr val="0033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8" name=""/>
                      <p:cNvSpPr/>
                      <p:nvPr/>
                    </p:nvSpPr>
                    <p:spPr>
                      <a:xfrm>
                        <a:off x="6936840" y="5897160"/>
                        <a:ext cx="211680" cy="8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5" h="117">
                            <a:moveTo>
                              <a:pt x="0" y="40"/>
                            </a:moveTo>
                            <a:lnTo>
                              <a:pt x="275" y="117"/>
                            </a:lnTo>
                            <a:lnTo>
                              <a:pt x="27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33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tIns="27360" bIns="2736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6799320" y="5606640"/>
                      <a:ext cx="54360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7" h="298">
                          <a:moveTo>
                            <a:pt x="0" y="163"/>
                          </a:moveTo>
                          <a:lnTo>
                            <a:pt x="303" y="0"/>
                          </a:lnTo>
                          <a:lnTo>
                            <a:pt x="707" y="116"/>
                          </a:lnTo>
                          <a:lnTo>
                            <a:pt x="707" y="138"/>
                          </a:lnTo>
                          <a:lnTo>
                            <a:pt x="417" y="298"/>
                          </a:lnTo>
                          <a:lnTo>
                            <a:pt x="0" y="188"/>
                          </a:lnTo>
                          <a:lnTo>
                            <a:pt x="0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>
                      <a:off x="6805080" y="5611320"/>
                      <a:ext cx="52740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5" h="264">
                          <a:moveTo>
                            <a:pt x="0" y="158"/>
                          </a:moveTo>
                          <a:lnTo>
                            <a:pt x="409" y="264"/>
                          </a:lnTo>
                          <a:lnTo>
                            <a:pt x="685" y="110"/>
                          </a:lnTo>
                          <a:lnTo>
                            <a:pt x="297" y="0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1" name=""/>
                    <p:cNvSpPr/>
                    <p:nvPr/>
                  </p:nvSpPr>
                  <p:spPr>
                    <a:xfrm>
                      <a:off x="6936840" y="5655600"/>
                      <a:ext cx="274320" cy="99720"/>
                    </a:xfrm>
                    <a:prstGeom prst="ellipse">
                      <a:avLst/>
                    </a:pr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6788160" y="5659920"/>
                      <a:ext cx="44136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6" h="180">
                          <a:moveTo>
                            <a:pt x="0" y="0"/>
                          </a:moveTo>
                          <a:lnTo>
                            <a:pt x="20" y="36"/>
                          </a:lnTo>
                          <a:lnTo>
                            <a:pt x="574" y="180"/>
                          </a:lnTo>
                          <a:lnTo>
                            <a:pt x="646" y="158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6893640" y="5221440"/>
                      <a:ext cx="551520" cy="45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" h="746">
                          <a:moveTo>
                            <a:pt x="620" y="746"/>
                          </a:moveTo>
                          <a:lnTo>
                            <a:pt x="808" y="525"/>
                          </a:lnTo>
                          <a:lnTo>
                            <a:pt x="808" y="106"/>
                          </a:lnTo>
                          <a:lnTo>
                            <a:pt x="336" y="0"/>
                          </a:lnTo>
                          <a:lnTo>
                            <a:pt x="0" y="48"/>
                          </a:ln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4" name=""/>
                    <p:cNvSpPr/>
                    <p:nvPr/>
                  </p:nvSpPr>
                  <p:spPr>
                    <a:xfrm>
                      <a:off x="7237440" y="5322240"/>
                      <a:ext cx="110880" cy="44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44">
                          <a:moveTo>
                            <a:pt x="0" y="644"/>
                          </a:moveTo>
                          <a:lnTo>
                            <a:pt x="0" y="79"/>
                          </a:lnTo>
                          <a:lnTo>
                            <a:pt x="144" y="0"/>
                          </a:lnTo>
                          <a:lnTo>
                            <a:pt x="144" y="554"/>
                          </a:lnTo>
                          <a:lnTo>
                            <a:pt x="0" y="644"/>
                          </a:ln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5" name=""/>
                    <p:cNvSpPr/>
                    <p:nvPr/>
                  </p:nvSpPr>
                  <p:spPr>
                    <a:xfrm>
                      <a:off x="6746040" y="5225760"/>
                      <a:ext cx="602280" cy="15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2" h="219">
                          <a:moveTo>
                            <a:pt x="638" y="219"/>
                          </a:moveTo>
                          <a:lnTo>
                            <a:pt x="0" y="67"/>
                          </a:lnTo>
                          <a:lnTo>
                            <a:pt x="160" y="0"/>
                          </a:lnTo>
                          <a:lnTo>
                            <a:pt x="782" y="139"/>
                          </a:lnTo>
                          <a:lnTo>
                            <a:pt x="638" y="219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6746040" y="5272200"/>
                      <a:ext cx="492120" cy="49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2" h="754">
                          <a:moveTo>
                            <a:pt x="671" y="753"/>
                          </a:moveTo>
                          <a:lnTo>
                            <a:pt x="671" y="160"/>
                          </a:lnTo>
                          <a:lnTo>
                            <a:pt x="0" y="0"/>
                          </a:lnTo>
                          <a:lnTo>
                            <a:pt x="0" y="578"/>
                          </a:lnTo>
                          <a:lnTo>
                            <a:pt x="671" y="753"/>
                          </a:ln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>
                      <a:off x="6784560" y="5315400"/>
                      <a:ext cx="415080" cy="40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549">
                          <a:moveTo>
                            <a:pt x="490" y="548"/>
                          </a:moveTo>
                          <a:lnTo>
                            <a:pt x="490" y="117"/>
                          </a:lnTo>
                          <a:lnTo>
                            <a:pt x="0" y="0"/>
                          </a:lnTo>
                          <a:lnTo>
                            <a:pt x="0" y="424"/>
                          </a:lnTo>
                          <a:lnTo>
                            <a:pt x="490" y="548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>
                      <a:off x="6809760" y="5343840"/>
                      <a:ext cx="36432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2" h="592">
                          <a:moveTo>
                            <a:pt x="0" y="0"/>
                          </a:moveTo>
                          <a:lnTo>
                            <a:pt x="0" y="454"/>
                          </a:lnTo>
                          <a:lnTo>
                            <a:pt x="542" y="592"/>
                          </a:lnTo>
                          <a:lnTo>
                            <a:pt x="542" y="1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3240">
                      <a:solidFill>
                        <a:srgbClr val="003366"/>
                      </a:solidFill>
                      <a:round/>
                    </a:ln>
                    <a:effectLst>
                      <a:outerShdw dist="17819" dir="2700000" blurRad="0" rotWithShape="0">
                        <a:srgbClr val="000099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389" name=""/>
            <p:cNvSpPr/>
            <p:nvPr/>
          </p:nvSpPr>
          <p:spPr>
            <a:xfrm>
              <a:off x="7175160" y="4675320"/>
              <a:ext cx="182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hálóza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4354560" y="2870280"/>
            <a:ext cx="2060640" cy="1712880"/>
            <a:chOff x="4354560" y="2870280"/>
            <a:chExt cx="2060640" cy="1712880"/>
          </a:xfrm>
        </p:grpSpPr>
        <p:sp>
          <p:nvSpPr>
            <p:cNvPr id="4391" name=""/>
            <p:cNvSpPr/>
            <p:nvPr/>
          </p:nvSpPr>
          <p:spPr>
            <a:xfrm>
              <a:off x="4954680" y="3997440"/>
              <a:ext cx="792000" cy="147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V="1">
              <a:off x="4354560" y="4057560"/>
              <a:ext cx="1017720" cy="5256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3" name=""/>
            <p:cNvGrpSpPr/>
            <p:nvPr/>
          </p:nvGrpSpPr>
          <p:grpSpPr>
            <a:xfrm>
              <a:off x="5722920" y="3244680"/>
              <a:ext cx="692280" cy="1085760"/>
              <a:chOff x="5722920" y="3244680"/>
              <a:chExt cx="692280" cy="1085760"/>
            </a:xfrm>
          </p:grpSpPr>
          <p:sp>
            <p:nvSpPr>
              <p:cNvPr id="4394" name=""/>
              <p:cNvSpPr/>
              <p:nvPr/>
            </p:nvSpPr>
            <p:spPr>
              <a:xfrm>
                <a:off x="5725080" y="3244680"/>
                <a:ext cx="68904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735880" y="4052520"/>
                <a:ext cx="66852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026400" y="3309120"/>
                <a:ext cx="38880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722920" y="340308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765400" y="4156920"/>
                <a:ext cx="21240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758200" y="344700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765400" y="411552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5765400" y="4074840"/>
                <a:ext cx="21240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765400" y="4034880"/>
                <a:ext cx="21240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765400" y="3993480"/>
                <a:ext cx="21240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768640" y="3602880"/>
                <a:ext cx="210600" cy="3808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746680" y="352764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5762160" y="355284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5763960" y="3638880"/>
                <a:ext cx="20664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5763960" y="3720240"/>
                <a:ext cx="208800" cy="45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763960" y="381996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5825160" y="360000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5793120" y="360612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5778720" y="375372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5778720" y="385344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5914800" y="380088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5919480" y="390024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5775120" y="366300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5913000" y="370764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8" name=""/>
            <p:cNvGrpSpPr/>
            <p:nvPr/>
          </p:nvGrpSpPr>
          <p:grpSpPr>
            <a:xfrm>
              <a:off x="4659480" y="2994120"/>
              <a:ext cx="691560" cy="1085760"/>
              <a:chOff x="4659480" y="2994120"/>
              <a:chExt cx="691560" cy="1085760"/>
            </a:xfrm>
          </p:grpSpPr>
          <p:sp>
            <p:nvSpPr>
              <p:cNvPr id="4419" name=""/>
              <p:cNvSpPr/>
              <p:nvPr/>
            </p:nvSpPr>
            <p:spPr>
              <a:xfrm>
                <a:off x="4661640" y="2994120"/>
                <a:ext cx="688680" cy="23256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672440" y="3801960"/>
                <a:ext cx="668160" cy="27792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962600" y="3058560"/>
                <a:ext cx="388440" cy="9943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4659480" y="3152520"/>
                <a:ext cx="307440" cy="8953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4701960" y="3906000"/>
                <a:ext cx="212040" cy="54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4694760" y="3196440"/>
                <a:ext cx="34200" cy="1908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4701960" y="386460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4701960" y="3823920"/>
                <a:ext cx="212040" cy="55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4701960" y="3784320"/>
                <a:ext cx="212040" cy="55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4701960" y="3742920"/>
                <a:ext cx="212040" cy="54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4705200" y="3352320"/>
                <a:ext cx="210600" cy="380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683240" y="3276720"/>
                <a:ext cx="240840" cy="66348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698720" y="3302280"/>
                <a:ext cx="214560" cy="3765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700520" y="3388320"/>
                <a:ext cx="2062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700520" y="3469680"/>
                <a:ext cx="208800" cy="450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700520" y="3569040"/>
                <a:ext cx="199080" cy="460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761720" y="3349440"/>
                <a:ext cx="81720" cy="4284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729680" y="3355560"/>
                <a:ext cx="152280" cy="316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714920" y="3503160"/>
                <a:ext cx="183600" cy="802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4714920" y="3602520"/>
                <a:ext cx="184320" cy="889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4851360" y="3549960"/>
                <a:ext cx="2952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4856040" y="36496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711680" y="3412080"/>
                <a:ext cx="186840" cy="82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4849560" y="3456720"/>
                <a:ext cx="28440" cy="151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43" name=""/>
            <p:cNvSpPr/>
            <p:nvPr/>
          </p:nvSpPr>
          <p:spPr>
            <a:xfrm>
              <a:off x="5367240" y="287028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M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5343480" y="3471840"/>
            <a:ext cx="1927080" cy="1803240"/>
            <a:chOff x="5343480" y="3471840"/>
            <a:chExt cx="1927080" cy="1803240"/>
          </a:xfrm>
        </p:grpSpPr>
        <p:grpSp>
          <p:nvGrpSpPr>
            <p:cNvPr id="4445" name=""/>
            <p:cNvGrpSpPr/>
            <p:nvPr/>
          </p:nvGrpSpPr>
          <p:grpSpPr>
            <a:xfrm>
              <a:off x="6708600" y="4524120"/>
              <a:ext cx="60120" cy="83520"/>
              <a:chOff x="6708600" y="4524120"/>
              <a:chExt cx="60120" cy="83520"/>
            </a:xfrm>
          </p:grpSpPr>
          <p:sp>
            <p:nvSpPr>
              <p:cNvPr id="4446" name=""/>
              <p:cNvSpPr/>
              <p:nvPr/>
            </p:nvSpPr>
            <p:spPr>
              <a:xfrm>
                <a:off x="6708600" y="4524120"/>
                <a:ext cx="60120" cy="83520"/>
              </a:xfrm>
              <a:prstGeom prst="ellipse">
                <a:avLst/>
              </a:prstGeom>
              <a:solidFill>
                <a:srgbClr val="ff7c8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H="1">
                <a:off x="6736320" y="4524120"/>
                <a:ext cx="32400" cy="83520"/>
              </a:xfrm>
              <a:custGeom>
                <a:avLst/>
                <a:gdLst>
                  <a:gd name="textAreaLeft" fmla="*/ 14400 w 32400"/>
                  <a:gd name="textAreaRight" fmla="*/ 21960 w 32400"/>
                  <a:gd name="textAreaTop" fmla="*/ 7200 h 83520"/>
                  <a:gd name="textAreaBottom" fmla="*/ 76320 h 8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000" y="2583"/>
                      <a:pt x="14400" y="5080"/>
                      <a:pt x="14400" y="10800"/>
                    </a:cubicBezTo>
                    <a:cubicBezTo>
                      <a:pt x="14400" y="16520"/>
                      <a:pt x="18000" y="19017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48" name=""/>
            <p:cNvGrpSpPr/>
            <p:nvPr/>
          </p:nvGrpSpPr>
          <p:grpSpPr>
            <a:xfrm>
              <a:off x="6788880" y="4310640"/>
              <a:ext cx="481680" cy="293400"/>
              <a:chOff x="6788880" y="4310640"/>
              <a:chExt cx="481680" cy="293400"/>
            </a:xfrm>
          </p:grpSpPr>
          <p:sp>
            <p:nvSpPr>
              <p:cNvPr id="4449" name=""/>
              <p:cNvSpPr/>
              <p:nvPr/>
            </p:nvSpPr>
            <p:spPr>
              <a:xfrm>
                <a:off x="69692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7888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7888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2" name=""/>
            <p:cNvGrpSpPr/>
            <p:nvPr/>
          </p:nvGrpSpPr>
          <p:grpSpPr>
            <a:xfrm>
              <a:off x="6427440" y="4478400"/>
              <a:ext cx="481680" cy="293400"/>
              <a:chOff x="6427440" y="4478400"/>
              <a:chExt cx="481680" cy="293400"/>
            </a:xfrm>
          </p:grpSpPr>
          <p:sp>
            <p:nvSpPr>
              <p:cNvPr id="4453" name=""/>
              <p:cNvSpPr/>
              <p:nvPr/>
            </p:nvSpPr>
            <p:spPr>
              <a:xfrm>
                <a:off x="660780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42744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42744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6066000" y="4646160"/>
              <a:ext cx="481680" cy="293400"/>
              <a:chOff x="6066000" y="4646160"/>
              <a:chExt cx="481680" cy="293400"/>
            </a:xfrm>
          </p:grpSpPr>
          <p:sp>
            <p:nvSpPr>
              <p:cNvPr id="4457" name=""/>
              <p:cNvSpPr/>
              <p:nvPr/>
            </p:nvSpPr>
            <p:spPr>
              <a:xfrm>
                <a:off x="624636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06600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06600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0" name=""/>
            <p:cNvGrpSpPr/>
            <p:nvPr/>
          </p:nvGrpSpPr>
          <p:grpSpPr>
            <a:xfrm>
              <a:off x="5704560" y="4813920"/>
              <a:ext cx="481680" cy="293400"/>
              <a:chOff x="5704560" y="4813920"/>
              <a:chExt cx="481680" cy="293400"/>
            </a:xfrm>
          </p:grpSpPr>
          <p:sp>
            <p:nvSpPr>
              <p:cNvPr id="4461" name=""/>
              <p:cNvSpPr/>
              <p:nvPr/>
            </p:nvSpPr>
            <p:spPr>
              <a:xfrm>
                <a:off x="588492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570456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570456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4" name=""/>
            <p:cNvGrpSpPr/>
            <p:nvPr/>
          </p:nvGrpSpPr>
          <p:grpSpPr>
            <a:xfrm>
              <a:off x="6788880" y="4142880"/>
              <a:ext cx="481680" cy="293400"/>
              <a:chOff x="6788880" y="4142880"/>
              <a:chExt cx="481680" cy="293400"/>
            </a:xfrm>
          </p:grpSpPr>
          <p:sp>
            <p:nvSpPr>
              <p:cNvPr id="4465" name=""/>
              <p:cNvSpPr/>
              <p:nvPr/>
            </p:nvSpPr>
            <p:spPr>
              <a:xfrm>
                <a:off x="69692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7888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7888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6427440" y="4310640"/>
              <a:ext cx="481680" cy="293400"/>
              <a:chOff x="6427440" y="4310640"/>
              <a:chExt cx="481680" cy="293400"/>
            </a:xfrm>
          </p:grpSpPr>
          <p:sp>
            <p:nvSpPr>
              <p:cNvPr id="4469" name=""/>
              <p:cNvSpPr/>
              <p:nvPr/>
            </p:nvSpPr>
            <p:spPr>
              <a:xfrm>
                <a:off x="660780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42744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42744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6066000" y="4478400"/>
              <a:ext cx="481680" cy="293400"/>
              <a:chOff x="6066000" y="4478400"/>
              <a:chExt cx="481680" cy="293400"/>
            </a:xfrm>
          </p:grpSpPr>
          <p:sp>
            <p:nvSpPr>
              <p:cNvPr id="4473" name=""/>
              <p:cNvSpPr/>
              <p:nvPr/>
            </p:nvSpPr>
            <p:spPr>
              <a:xfrm>
                <a:off x="624636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06600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06600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6" name=""/>
            <p:cNvGrpSpPr/>
            <p:nvPr/>
          </p:nvGrpSpPr>
          <p:grpSpPr>
            <a:xfrm>
              <a:off x="5704560" y="4646160"/>
              <a:ext cx="481680" cy="293400"/>
              <a:chOff x="5704560" y="4646160"/>
              <a:chExt cx="481680" cy="293400"/>
            </a:xfrm>
          </p:grpSpPr>
          <p:sp>
            <p:nvSpPr>
              <p:cNvPr id="4477" name=""/>
              <p:cNvSpPr/>
              <p:nvPr/>
            </p:nvSpPr>
            <p:spPr>
              <a:xfrm>
                <a:off x="588492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70456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570456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6788880" y="3975120"/>
              <a:ext cx="481680" cy="293400"/>
              <a:chOff x="6788880" y="3975120"/>
              <a:chExt cx="481680" cy="293400"/>
            </a:xfrm>
          </p:grpSpPr>
          <p:sp>
            <p:nvSpPr>
              <p:cNvPr id="4481" name=""/>
              <p:cNvSpPr/>
              <p:nvPr/>
            </p:nvSpPr>
            <p:spPr>
              <a:xfrm>
                <a:off x="696924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78888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78888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4" name=""/>
            <p:cNvGrpSpPr/>
            <p:nvPr/>
          </p:nvGrpSpPr>
          <p:grpSpPr>
            <a:xfrm>
              <a:off x="6427440" y="4142880"/>
              <a:ext cx="481680" cy="293400"/>
              <a:chOff x="6427440" y="4142880"/>
              <a:chExt cx="481680" cy="293400"/>
            </a:xfrm>
          </p:grpSpPr>
          <p:sp>
            <p:nvSpPr>
              <p:cNvPr id="4485" name=""/>
              <p:cNvSpPr/>
              <p:nvPr/>
            </p:nvSpPr>
            <p:spPr>
              <a:xfrm>
                <a:off x="660780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42744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42744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88" name=""/>
            <p:cNvGrpSpPr/>
            <p:nvPr/>
          </p:nvGrpSpPr>
          <p:grpSpPr>
            <a:xfrm>
              <a:off x="6066000" y="4310640"/>
              <a:ext cx="481680" cy="293400"/>
              <a:chOff x="6066000" y="4310640"/>
              <a:chExt cx="481680" cy="293400"/>
            </a:xfrm>
          </p:grpSpPr>
          <p:sp>
            <p:nvSpPr>
              <p:cNvPr id="4489" name=""/>
              <p:cNvSpPr/>
              <p:nvPr/>
            </p:nvSpPr>
            <p:spPr>
              <a:xfrm>
                <a:off x="624636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06600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06600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2" name=""/>
            <p:cNvGrpSpPr/>
            <p:nvPr/>
          </p:nvGrpSpPr>
          <p:grpSpPr>
            <a:xfrm>
              <a:off x="5704560" y="4478400"/>
              <a:ext cx="481680" cy="293400"/>
              <a:chOff x="5704560" y="4478400"/>
              <a:chExt cx="481680" cy="293400"/>
            </a:xfrm>
          </p:grpSpPr>
          <p:sp>
            <p:nvSpPr>
              <p:cNvPr id="4493" name=""/>
              <p:cNvSpPr/>
              <p:nvPr/>
            </p:nvSpPr>
            <p:spPr>
              <a:xfrm>
                <a:off x="588492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70456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70456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6" name=""/>
            <p:cNvGrpSpPr/>
            <p:nvPr/>
          </p:nvGrpSpPr>
          <p:grpSpPr>
            <a:xfrm>
              <a:off x="6788880" y="3807360"/>
              <a:ext cx="481680" cy="293400"/>
              <a:chOff x="6788880" y="3807360"/>
              <a:chExt cx="481680" cy="293400"/>
            </a:xfrm>
          </p:grpSpPr>
          <p:sp>
            <p:nvSpPr>
              <p:cNvPr id="4497" name=""/>
              <p:cNvSpPr/>
              <p:nvPr/>
            </p:nvSpPr>
            <p:spPr>
              <a:xfrm>
                <a:off x="696924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78888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78888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"/>
            <p:cNvGrpSpPr/>
            <p:nvPr/>
          </p:nvGrpSpPr>
          <p:grpSpPr>
            <a:xfrm>
              <a:off x="6427440" y="3975120"/>
              <a:ext cx="481680" cy="293400"/>
              <a:chOff x="6427440" y="3975120"/>
              <a:chExt cx="481680" cy="293400"/>
            </a:xfrm>
          </p:grpSpPr>
          <p:sp>
            <p:nvSpPr>
              <p:cNvPr id="4501" name=""/>
              <p:cNvSpPr/>
              <p:nvPr/>
            </p:nvSpPr>
            <p:spPr>
              <a:xfrm>
                <a:off x="660780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42744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42744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6066000" y="4142880"/>
              <a:ext cx="481680" cy="293400"/>
              <a:chOff x="6066000" y="4142880"/>
              <a:chExt cx="481680" cy="293400"/>
            </a:xfrm>
          </p:grpSpPr>
          <p:sp>
            <p:nvSpPr>
              <p:cNvPr id="4505" name=""/>
              <p:cNvSpPr/>
              <p:nvPr/>
            </p:nvSpPr>
            <p:spPr>
              <a:xfrm>
                <a:off x="624636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06600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06600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8" name=""/>
            <p:cNvGrpSpPr/>
            <p:nvPr/>
          </p:nvGrpSpPr>
          <p:grpSpPr>
            <a:xfrm>
              <a:off x="5704560" y="4310640"/>
              <a:ext cx="481680" cy="293400"/>
              <a:chOff x="5704560" y="4310640"/>
              <a:chExt cx="481680" cy="293400"/>
            </a:xfrm>
          </p:grpSpPr>
          <p:sp>
            <p:nvSpPr>
              <p:cNvPr id="4509" name=""/>
              <p:cNvSpPr/>
              <p:nvPr/>
            </p:nvSpPr>
            <p:spPr>
              <a:xfrm>
                <a:off x="588492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70456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70456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2" name=""/>
            <p:cNvGrpSpPr/>
            <p:nvPr/>
          </p:nvGrpSpPr>
          <p:grpSpPr>
            <a:xfrm>
              <a:off x="6788880" y="3639600"/>
              <a:ext cx="481680" cy="293400"/>
              <a:chOff x="6788880" y="3639600"/>
              <a:chExt cx="481680" cy="293400"/>
            </a:xfrm>
          </p:grpSpPr>
          <p:sp>
            <p:nvSpPr>
              <p:cNvPr id="4513" name=""/>
              <p:cNvSpPr/>
              <p:nvPr/>
            </p:nvSpPr>
            <p:spPr>
              <a:xfrm>
                <a:off x="696924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678888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78888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6427440" y="3807360"/>
              <a:ext cx="481680" cy="293400"/>
              <a:chOff x="6427440" y="3807360"/>
              <a:chExt cx="481680" cy="293400"/>
            </a:xfrm>
          </p:grpSpPr>
          <p:sp>
            <p:nvSpPr>
              <p:cNvPr id="4517" name=""/>
              <p:cNvSpPr/>
              <p:nvPr/>
            </p:nvSpPr>
            <p:spPr>
              <a:xfrm>
                <a:off x="660780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42744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42744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0" name=""/>
            <p:cNvGrpSpPr/>
            <p:nvPr/>
          </p:nvGrpSpPr>
          <p:grpSpPr>
            <a:xfrm>
              <a:off x="6066000" y="3975120"/>
              <a:ext cx="481680" cy="293400"/>
              <a:chOff x="6066000" y="3975120"/>
              <a:chExt cx="481680" cy="293400"/>
            </a:xfrm>
          </p:grpSpPr>
          <p:sp>
            <p:nvSpPr>
              <p:cNvPr id="4521" name=""/>
              <p:cNvSpPr/>
              <p:nvPr/>
            </p:nvSpPr>
            <p:spPr>
              <a:xfrm>
                <a:off x="624636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606600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06600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4" name=""/>
            <p:cNvGrpSpPr/>
            <p:nvPr/>
          </p:nvGrpSpPr>
          <p:grpSpPr>
            <a:xfrm>
              <a:off x="5704560" y="4142880"/>
              <a:ext cx="481680" cy="293400"/>
              <a:chOff x="5704560" y="4142880"/>
              <a:chExt cx="481680" cy="293400"/>
            </a:xfrm>
          </p:grpSpPr>
          <p:sp>
            <p:nvSpPr>
              <p:cNvPr id="4525" name=""/>
              <p:cNvSpPr/>
              <p:nvPr/>
            </p:nvSpPr>
            <p:spPr>
              <a:xfrm>
                <a:off x="588492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570456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70456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6788880" y="3471840"/>
              <a:ext cx="481680" cy="293400"/>
              <a:chOff x="6788880" y="3471840"/>
              <a:chExt cx="481680" cy="293400"/>
            </a:xfrm>
          </p:grpSpPr>
          <p:sp>
            <p:nvSpPr>
              <p:cNvPr id="4529" name=""/>
              <p:cNvSpPr/>
              <p:nvPr/>
            </p:nvSpPr>
            <p:spPr>
              <a:xfrm>
                <a:off x="6969240" y="35136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788880" y="35974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788880" y="34718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2" name=""/>
            <p:cNvGrpSpPr/>
            <p:nvPr/>
          </p:nvGrpSpPr>
          <p:grpSpPr>
            <a:xfrm>
              <a:off x="6427440" y="3639600"/>
              <a:ext cx="481680" cy="293400"/>
              <a:chOff x="6427440" y="3639600"/>
              <a:chExt cx="481680" cy="293400"/>
            </a:xfrm>
          </p:grpSpPr>
          <p:sp>
            <p:nvSpPr>
              <p:cNvPr id="4533" name=""/>
              <p:cNvSpPr/>
              <p:nvPr/>
            </p:nvSpPr>
            <p:spPr>
              <a:xfrm>
                <a:off x="6607800" y="36813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427440" y="37652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427440" y="36396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6" name=""/>
            <p:cNvGrpSpPr/>
            <p:nvPr/>
          </p:nvGrpSpPr>
          <p:grpSpPr>
            <a:xfrm>
              <a:off x="6066000" y="3807360"/>
              <a:ext cx="481680" cy="293400"/>
              <a:chOff x="6066000" y="3807360"/>
              <a:chExt cx="481680" cy="293400"/>
            </a:xfrm>
          </p:grpSpPr>
          <p:sp>
            <p:nvSpPr>
              <p:cNvPr id="4537" name=""/>
              <p:cNvSpPr/>
              <p:nvPr/>
            </p:nvSpPr>
            <p:spPr>
              <a:xfrm>
                <a:off x="6246360" y="38491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066000" y="39330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6066000" y="38073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5704560" y="3975120"/>
              <a:ext cx="481680" cy="293400"/>
              <a:chOff x="5704560" y="3975120"/>
              <a:chExt cx="481680" cy="293400"/>
            </a:xfrm>
          </p:grpSpPr>
          <p:sp>
            <p:nvSpPr>
              <p:cNvPr id="4541" name=""/>
              <p:cNvSpPr/>
              <p:nvPr/>
            </p:nvSpPr>
            <p:spPr>
              <a:xfrm>
                <a:off x="5884920" y="40168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5704560" y="41007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5704560" y="39751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4" name=""/>
            <p:cNvGrpSpPr/>
            <p:nvPr/>
          </p:nvGrpSpPr>
          <p:grpSpPr>
            <a:xfrm>
              <a:off x="5343480" y="4981680"/>
              <a:ext cx="481680" cy="293400"/>
              <a:chOff x="5343480" y="4981680"/>
              <a:chExt cx="481680" cy="293400"/>
            </a:xfrm>
          </p:grpSpPr>
          <p:sp>
            <p:nvSpPr>
              <p:cNvPr id="4545" name=""/>
              <p:cNvSpPr/>
              <p:nvPr/>
            </p:nvSpPr>
            <p:spPr>
              <a:xfrm>
                <a:off x="5523840" y="50234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5343480" y="51073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5343480" y="49816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8" name=""/>
            <p:cNvGrpSpPr/>
            <p:nvPr/>
          </p:nvGrpSpPr>
          <p:grpSpPr>
            <a:xfrm>
              <a:off x="5343480" y="4813920"/>
              <a:ext cx="481680" cy="293400"/>
              <a:chOff x="5343480" y="4813920"/>
              <a:chExt cx="481680" cy="293400"/>
            </a:xfrm>
          </p:grpSpPr>
          <p:sp>
            <p:nvSpPr>
              <p:cNvPr id="4549" name=""/>
              <p:cNvSpPr/>
              <p:nvPr/>
            </p:nvSpPr>
            <p:spPr>
              <a:xfrm>
                <a:off x="5523840" y="485568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5343480" y="493956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343480" y="481392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5343480" y="4646160"/>
              <a:ext cx="481680" cy="293400"/>
              <a:chOff x="5343480" y="4646160"/>
              <a:chExt cx="481680" cy="293400"/>
            </a:xfrm>
          </p:grpSpPr>
          <p:sp>
            <p:nvSpPr>
              <p:cNvPr id="4553" name=""/>
              <p:cNvSpPr/>
              <p:nvPr/>
            </p:nvSpPr>
            <p:spPr>
              <a:xfrm>
                <a:off x="5523840" y="468792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5343480" y="477180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343480" y="464616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6" name=""/>
            <p:cNvGrpSpPr/>
            <p:nvPr/>
          </p:nvGrpSpPr>
          <p:grpSpPr>
            <a:xfrm>
              <a:off x="5343480" y="4478400"/>
              <a:ext cx="481680" cy="293400"/>
              <a:chOff x="5343480" y="4478400"/>
              <a:chExt cx="481680" cy="293400"/>
            </a:xfrm>
          </p:grpSpPr>
          <p:sp>
            <p:nvSpPr>
              <p:cNvPr id="4557" name=""/>
              <p:cNvSpPr/>
              <p:nvPr/>
            </p:nvSpPr>
            <p:spPr>
              <a:xfrm>
                <a:off x="5523840" y="452016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343480" y="460404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343480" y="447840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0" name=""/>
            <p:cNvGrpSpPr/>
            <p:nvPr/>
          </p:nvGrpSpPr>
          <p:grpSpPr>
            <a:xfrm>
              <a:off x="5343480" y="4310640"/>
              <a:ext cx="481680" cy="293400"/>
              <a:chOff x="5343480" y="4310640"/>
              <a:chExt cx="481680" cy="293400"/>
            </a:xfrm>
          </p:grpSpPr>
          <p:sp>
            <p:nvSpPr>
              <p:cNvPr id="4561" name=""/>
              <p:cNvSpPr/>
              <p:nvPr/>
            </p:nvSpPr>
            <p:spPr>
              <a:xfrm>
                <a:off x="5523840" y="435240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5343480" y="443628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343480" y="431064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5343480" y="4142880"/>
              <a:ext cx="481680" cy="293400"/>
              <a:chOff x="5343480" y="4142880"/>
              <a:chExt cx="481680" cy="293400"/>
            </a:xfrm>
          </p:grpSpPr>
          <p:sp>
            <p:nvSpPr>
              <p:cNvPr id="4565" name=""/>
              <p:cNvSpPr/>
              <p:nvPr/>
            </p:nvSpPr>
            <p:spPr>
              <a:xfrm>
                <a:off x="5523840" y="4184640"/>
                <a:ext cx="300960" cy="25128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144"/>
                    </a:moveTo>
                    <a:lnTo>
                      <a:pt x="0" y="288"/>
                    </a:lnTo>
                    <a:lnTo>
                      <a:pt x="240" y="144"/>
                    </a:lnTo>
                    <a:lnTo>
                      <a:pt x="240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343480" y="4268520"/>
                <a:ext cx="180360" cy="167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144" y="48"/>
                    </a:moveTo>
                    <a:lnTo>
                      <a:pt x="144" y="192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f7c8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343480" y="4142880"/>
                <a:ext cx="481680" cy="167760"/>
              </a:xfrm>
              <a:custGeom>
                <a:avLst/>
                <a:gdLst/>
                <a:ahLst/>
                <a:rect l="l" t="t" r="r" b="b"/>
                <a:pathLst>
                  <a:path w="384" h="192">
                    <a:moveTo>
                      <a:pt x="0" y="144"/>
                    </a:moveTo>
                    <a:lnTo>
                      <a:pt x="240" y="0"/>
                    </a:lnTo>
                    <a:lnTo>
                      <a:pt x="384" y="48"/>
                    </a:lnTo>
                    <a:lnTo>
                      <a:pt x="144" y="19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505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68" name=""/>
          <p:cNvGrpSpPr/>
          <p:nvPr/>
        </p:nvGrpSpPr>
        <p:grpSpPr>
          <a:xfrm>
            <a:off x="2532240" y="2887560"/>
            <a:ext cx="2288160" cy="2219760"/>
            <a:chOff x="2532240" y="2887560"/>
            <a:chExt cx="2288160" cy="2219760"/>
          </a:xfrm>
        </p:grpSpPr>
        <p:sp>
          <p:nvSpPr>
            <p:cNvPr id="4569" name=""/>
            <p:cNvSpPr/>
            <p:nvPr/>
          </p:nvSpPr>
          <p:spPr>
            <a:xfrm>
              <a:off x="3196440" y="470844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Kü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0" name=""/>
            <p:cNvGrpSpPr/>
            <p:nvPr/>
          </p:nvGrpSpPr>
          <p:grpSpPr>
            <a:xfrm>
              <a:off x="2532240" y="2887560"/>
              <a:ext cx="1926720" cy="1822680"/>
              <a:chOff x="2532240" y="2887560"/>
              <a:chExt cx="1926720" cy="1822680"/>
            </a:xfrm>
          </p:grpSpPr>
          <p:grpSp>
            <p:nvGrpSpPr>
              <p:cNvPr id="4571" name=""/>
              <p:cNvGrpSpPr/>
              <p:nvPr/>
            </p:nvGrpSpPr>
            <p:grpSpPr>
              <a:xfrm>
                <a:off x="2532240" y="2887560"/>
                <a:ext cx="1926720" cy="1803240"/>
                <a:chOff x="2532240" y="2887560"/>
                <a:chExt cx="1926720" cy="1803240"/>
              </a:xfrm>
            </p:grpSpPr>
            <p:grpSp>
              <p:nvGrpSpPr>
                <p:cNvPr id="4572" name=""/>
                <p:cNvGrpSpPr/>
                <p:nvPr/>
              </p:nvGrpSpPr>
              <p:grpSpPr>
                <a:xfrm>
                  <a:off x="3897000" y="3939840"/>
                  <a:ext cx="60120" cy="83520"/>
                  <a:chOff x="3897000" y="3939840"/>
                  <a:chExt cx="60120" cy="83520"/>
                </a:xfrm>
              </p:grpSpPr>
              <p:sp>
                <p:nvSpPr>
                  <p:cNvPr id="4573" name=""/>
                  <p:cNvSpPr/>
                  <p:nvPr/>
                </p:nvSpPr>
                <p:spPr>
                  <a:xfrm>
                    <a:off x="3897000" y="3939840"/>
                    <a:ext cx="60120" cy="8352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4" name=""/>
                  <p:cNvSpPr/>
                  <p:nvPr/>
                </p:nvSpPr>
                <p:spPr>
                  <a:xfrm flipH="1">
                    <a:off x="3924720" y="3939840"/>
                    <a:ext cx="32400" cy="83520"/>
                  </a:xfrm>
                  <a:custGeom>
                    <a:avLst/>
                    <a:gdLst>
                      <a:gd name="textAreaLeft" fmla="*/ 14400 w 32400"/>
                      <a:gd name="textAreaRight" fmla="*/ 21960 w 32400"/>
                      <a:gd name="textAreaTop" fmla="*/ 7200 h 83520"/>
                      <a:gd name="textAreaBottom" fmla="*/ 76320 h 83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8000" y="2583"/>
                          <a:pt x="14400" y="5080"/>
                          <a:pt x="14400" y="10800"/>
                        </a:cubicBezTo>
                        <a:cubicBezTo>
                          <a:pt x="14400" y="16520"/>
                          <a:pt x="18000" y="19017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5" name=""/>
                <p:cNvGrpSpPr/>
                <p:nvPr/>
              </p:nvGrpSpPr>
              <p:grpSpPr>
                <a:xfrm>
                  <a:off x="3977280" y="3726360"/>
                  <a:ext cx="481680" cy="293400"/>
                  <a:chOff x="3977280" y="3726360"/>
                  <a:chExt cx="481680" cy="293400"/>
                </a:xfrm>
              </p:grpSpPr>
              <p:sp>
                <p:nvSpPr>
                  <p:cNvPr id="4576" name=""/>
                  <p:cNvSpPr/>
                  <p:nvPr/>
                </p:nvSpPr>
                <p:spPr>
                  <a:xfrm>
                    <a:off x="415764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7" name=""/>
                  <p:cNvSpPr/>
                  <p:nvPr/>
                </p:nvSpPr>
                <p:spPr>
                  <a:xfrm>
                    <a:off x="397728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8" name=""/>
                  <p:cNvSpPr/>
                  <p:nvPr/>
                </p:nvSpPr>
                <p:spPr>
                  <a:xfrm>
                    <a:off x="397728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9" name=""/>
                <p:cNvGrpSpPr/>
                <p:nvPr/>
              </p:nvGrpSpPr>
              <p:grpSpPr>
                <a:xfrm>
                  <a:off x="3615840" y="3894120"/>
                  <a:ext cx="481680" cy="293400"/>
                  <a:chOff x="3615840" y="3894120"/>
                  <a:chExt cx="481680" cy="293400"/>
                </a:xfrm>
              </p:grpSpPr>
              <p:sp>
                <p:nvSpPr>
                  <p:cNvPr id="4580" name=""/>
                  <p:cNvSpPr/>
                  <p:nvPr/>
                </p:nvSpPr>
                <p:spPr>
                  <a:xfrm>
                    <a:off x="37962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36158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>
                    <a:off x="36158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3" name=""/>
                <p:cNvGrpSpPr/>
                <p:nvPr/>
              </p:nvGrpSpPr>
              <p:grpSpPr>
                <a:xfrm>
                  <a:off x="3254760" y="4061880"/>
                  <a:ext cx="481680" cy="293400"/>
                  <a:chOff x="3254760" y="4061880"/>
                  <a:chExt cx="481680" cy="293400"/>
                </a:xfrm>
              </p:grpSpPr>
              <p:sp>
                <p:nvSpPr>
                  <p:cNvPr id="4584" name=""/>
                  <p:cNvSpPr/>
                  <p:nvPr/>
                </p:nvSpPr>
                <p:spPr>
                  <a:xfrm>
                    <a:off x="343512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5" name=""/>
                  <p:cNvSpPr/>
                  <p:nvPr/>
                </p:nvSpPr>
                <p:spPr>
                  <a:xfrm>
                    <a:off x="325476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>
                    <a:off x="325476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7" name=""/>
                <p:cNvGrpSpPr/>
                <p:nvPr/>
              </p:nvGrpSpPr>
              <p:grpSpPr>
                <a:xfrm>
                  <a:off x="2893320" y="4229640"/>
                  <a:ext cx="481680" cy="293400"/>
                  <a:chOff x="2893320" y="4229640"/>
                  <a:chExt cx="481680" cy="293400"/>
                </a:xfrm>
              </p:grpSpPr>
              <p:sp>
                <p:nvSpPr>
                  <p:cNvPr id="4588" name=""/>
                  <p:cNvSpPr/>
                  <p:nvPr/>
                </p:nvSpPr>
                <p:spPr>
                  <a:xfrm>
                    <a:off x="307368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>
                    <a:off x="289332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0" name=""/>
                  <p:cNvSpPr/>
                  <p:nvPr/>
                </p:nvSpPr>
                <p:spPr>
                  <a:xfrm>
                    <a:off x="289332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1" name=""/>
                <p:cNvGrpSpPr/>
                <p:nvPr/>
              </p:nvGrpSpPr>
              <p:grpSpPr>
                <a:xfrm>
                  <a:off x="3977280" y="3558600"/>
                  <a:ext cx="481680" cy="293400"/>
                  <a:chOff x="3977280" y="3558600"/>
                  <a:chExt cx="481680" cy="29340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415764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397728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97728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5" name=""/>
                <p:cNvGrpSpPr/>
                <p:nvPr/>
              </p:nvGrpSpPr>
              <p:grpSpPr>
                <a:xfrm>
                  <a:off x="3615840" y="3726360"/>
                  <a:ext cx="481680" cy="293400"/>
                  <a:chOff x="3615840" y="3726360"/>
                  <a:chExt cx="481680" cy="293400"/>
                </a:xfrm>
              </p:grpSpPr>
              <p:sp>
                <p:nvSpPr>
                  <p:cNvPr id="4596" name=""/>
                  <p:cNvSpPr/>
                  <p:nvPr/>
                </p:nvSpPr>
                <p:spPr>
                  <a:xfrm>
                    <a:off x="37962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36158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36158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9" name=""/>
                <p:cNvGrpSpPr/>
                <p:nvPr/>
              </p:nvGrpSpPr>
              <p:grpSpPr>
                <a:xfrm>
                  <a:off x="3254760" y="3894120"/>
                  <a:ext cx="481680" cy="293400"/>
                  <a:chOff x="3254760" y="3894120"/>
                  <a:chExt cx="481680" cy="293400"/>
                </a:xfrm>
              </p:grpSpPr>
              <p:sp>
                <p:nvSpPr>
                  <p:cNvPr id="4600" name=""/>
                  <p:cNvSpPr/>
                  <p:nvPr/>
                </p:nvSpPr>
                <p:spPr>
                  <a:xfrm>
                    <a:off x="343512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325476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325476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3" name=""/>
                <p:cNvGrpSpPr/>
                <p:nvPr/>
              </p:nvGrpSpPr>
              <p:grpSpPr>
                <a:xfrm>
                  <a:off x="2893320" y="4061880"/>
                  <a:ext cx="481680" cy="293400"/>
                  <a:chOff x="2893320" y="4061880"/>
                  <a:chExt cx="481680" cy="293400"/>
                </a:xfrm>
              </p:grpSpPr>
              <p:sp>
                <p:nvSpPr>
                  <p:cNvPr id="4604" name=""/>
                  <p:cNvSpPr/>
                  <p:nvPr/>
                </p:nvSpPr>
                <p:spPr>
                  <a:xfrm>
                    <a:off x="307368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289332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289332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7" name=""/>
                <p:cNvGrpSpPr/>
                <p:nvPr/>
              </p:nvGrpSpPr>
              <p:grpSpPr>
                <a:xfrm>
                  <a:off x="3977280" y="3390840"/>
                  <a:ext cx="481680" cy="293400"/>
                  <a:chOff x="3977280" y="3390840"/>
                  <a:chExt cx="481680" cy="293400"/>
                </a:xfrm>
              </p:grpSpPr>
              <p:sp>
                <p:nvSpPr>
                  <p:cNvPr id="4608" name=""/>
                  <p:cNvSpPr/>
                  <p:nvPr/>
                </p:nvSpPr>
                <p:spPr>
                  <a:xfrm>
                    <a:off x="415764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397728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397728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1" name=""/>
                <p:cNvGrpSpPr/>
                <p:nvPr/>
              </p:nvGrpSpPr>
              <p:grpSpPr>
                <a:xfrm>
                  <a:off x="3615840" y="3558600"/>
                  <a:ext cx="481680" cy="293400"/>
                  <a:chOff x="3615840" y="3558600"/>
                  <a:chExt cx="481680" cy="293400"/>
                </a:xfrm>
              </p:grpSpPr>
              <p:sp>
                <p:nvSpPr>
                  <p:cNvPr id="4612" name=""/>
                  <p:cNvSpPr/>
                  <p:nvPr/>
                </p:nvSpPr>
                <p:spPr>
                  <a:xfrm>
                    <a:off x="37962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36158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36158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5" name=""/>
                <p:cNvGrpSpPr/>
                <p:nvPr/>
              </p:nvGrpSpPr>
              <p:grpSpPr>
                <a:xfrm>
                  <a:off x="3254760" y="3726360"/>
                  <a:ext cx="481680" cy="293400"/>
                  <a:chOff x="3254760" y="3726360"/>
                  <a:chExt cx="481680" cy="293400"/>
                </a:xfrm>
              </p:grpSpPr>
              <p:sp>
                <p:nvSpPr>
                  <p:cNvPr id="4616" name=""/>
                  <p:cNvSpPr/>
                  <p:nvPr/>
                </p:nvSpPr>
                <p:spPr>
                  <a:xfrm>
                    <a:off x="343512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325476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325476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9" name=""/>
                <p:cNvGrpSpPr/>
                <p:nvPr/>
              </p:nvGrpSpPr>
              <p:grpSpPr>
                <a:xfrm>
                  <a:off x="2893320" y="3894120"/>
                  <a:ext cx="481680" cy="293400"/>
                  <a:chOff x="2893320" y="3894120"/>
                  <a:chExt cx="481680" cy="293400"/>
                </a:xfrm>
              </p:grpSpPr>
              <p:sp>
                <p:nvSpPr>
                  <p:cNvPr id="4620" name=""/>
                  <p:cNvSpPr/>
                  <p:nvPr/>
                </p:nvSpPr>
                <p:spPr>
                  <a:xfrm>
                    <a:off x="307368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289332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289332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3" name=""/>
                <p:cNvGrpSpPr/>
                <p:nvPr/>
              </p:nvGrpSpPr>
              <p:grpSpPr>
                <a:xfrm>
                  <a:off x="3977280" y="3223080"/>
                  <a:ext cx="481680" cy="293400"/>
                  <a:chOff x="3977280" y="3223080"/>
                  <a:chExt cx="481680" cy="293400"/>
                </a:xfrm>
              </p:grpSpPr>
              <p:sp>
                <p:nvSpPr>
                  <p:cNvPr id="4624" name=""/>
                  <p:cNvSpPr/>
                  <p:nvPr/>
                </p:nvSpPr>
                <p:spPr>
                  <a:xfrm>
                    <a:off x="415764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397728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397728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7" name=""/>
                <p:cNvGrpSpPr/>
                <p:nvPr/>
              </p:nvGrpSpPr>
              <p:grpSpPr>
                <a:xfrm>
                  <a:off x="3615840" y="3390840"/>
                  <a:ext cx="481680" cy="293400"/>
                  <a:chOff x="3615840" y="3390840"/>
                  <a:chExt cx="481680" cy="293400"/>
                </a:xfrm>
              </p:grpSpPr>
              <p:sp>
                <p:nvSpPr>
                  <p:cNvPr id="4628" name=""/>
                  <p:cNvSpPr/>
                  <p:nvPr/>
                </p:nvSpPr>
                <p:spPr>
                  <a:xfrm>
                    <a:off x="379620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361584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361584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1" name=""/>
                <p:cNvGrpSpPr/>
                <p:nvPr/>
              </p:nvGrpSpPr>
              <p:grpSpPr>
                <a:xfrm>
                  <a:off x="3254760" y="3558600"/>
                  <a:ext cx="481680" cy="293400"/>
                  <a:chOff x="3254760" y="3558600"/>
                  <a:chExt cx="481680" cy="293400"/>
                </a:xfrm>
              </p:grpSpPr>
              <p:sp>
                <p:nvSpPr>
                  <p:cNvPr id="4632" name=""/>
                  <p:cNvSpPr/>
                  <p:nvPr/>
                </p:nvSpPr>
                <p:spPr>
                  <a:xfrm>
                    <a:off x="343512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325476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325476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5" name=""/>
                <p:cNvGrpSpPr/>
                <p:nvPr/>
              </p:nvGrpSpPr>
              <p:grpSpPr>
                <a:xfrm>
                  <a:off x="2893320" y="3726360"/>
                  <a:ext cx="481680" cy="293400"/>
                  <a:chOff x="2893320" y="3726360"/>
                  <a:chExt cx="481680" cy="293400"/>
                </a:xfrm>
              </p:grpSpPr>
              <p:sp>
                <p:nvSpPr>
                  <p:cNvPr id="4636" name=""/>
                  <p:cNvSpPr/>
                  <p:nvPr/>
                </p:nvSpPr>
                <p:spPr>
                  <a:xfrm>
                    <a:off x="307368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89332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289332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9" name=""/>
                <p:cNvGrpSpPr/>
                <p:nvPr/>
              </p:nvGrpSpPr>
              <p:grpSpPr>
                <a:xfrm>
                  <a:off x="3977280" y="3055320"/>
                  <a:ext cx="481680" cy="293400"/>
                  <a:chOff x="3977280" y="3055320"/>
                  <a:chExt cx="481680" cy="293400"/>
                </a:xfrm>
              </p:grpSpPr>
              <p:sp>
                <p:nvSpPr>
                  <p:cNvPr id="4640" name=""/>
                  <p:cNvSpPr/>
                  <p:nvPr/>
                </p:nvSpPr>
                <p:spPr>
                  <a:xfrm>
                    <a:off x="415764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97728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97728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3" name=""/>
                <p:cNvGrpSpPr/>
                <p:nvPr/>
              </p:nvGrpSpPr>
              <p:grpSpPr>
                <a:xfrm>
                  <a:off x="3615840" y="3223080"/>
                  <a:ext cx="481680" cy="293400"/>
                  <a:chOff x="3615840" y="3223080"/>
                  <a:chExt cx="481680" cy="293400"/>
                </a:xfrm>
              </p:grpSpPr>
              <p:sp>
                <p:nvSpPr>
                  <p:cNvPr id="4644" name=""/>
                  <p:cNvSpPr/>
                  <p:nvPr/>
                </p:nvSpPr>
                <p:spPr>
                  <a:xfrm>
                    <a:off x="379620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61584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61584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7" name=""/>
                <p:cNvGrpSpPr/>
                <p:nvPr/>
              </p:nvGrpSpPr>
              <p:grpSpPr>
                <a:xfrm>
                  <a:off x="3254760" y="3390840"/>
                  <a:ext cx="481680" cy="293400"/>
                  <a:chOff x="3254760" y="3390840"/>
                  <a:chExt cx="481680" cy="293400"/>
                </a:xfrm>
              </p:grpSpPr>
              <p:sp>
                <p:nvSpPr>
                  <p:cNvPr id="4648" name=""/>
                  <p:cNvSpPr/>
                  <p:nvPr/>
                </p:nvSpPr>
                <p:spPr>
                  <a:xfrm>
                    <a:off x="343512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325476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325476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1" name=""/>
                <p:cNvGrpSpPr/>
                <p:nvPr/>
              </p:nvGrpSpPr>
              <p:grpSpPr>
                <a:xfrm>
                  <a:off x="2893320" y="3558600"/>
                  <a:ext cx="481680" cy="293400"/>
                  <a:chOff x="2893320" y="3558600"/>
                  <a:chExt cx="481680" cy="293400"/>
                </a:xfrm>
              </p:grpSpPr>
              <p:sp>
                <p:nvSpPr>
                  <p:cNvPr id="4652" name=""/>
                  <p:cNvSpPr/>
                  <p:nvPr/>
                </p:nvSpPr>
                <p:spPr>
                  <a:xfrm>
                    <a:off x="307368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289332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289332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5" name=""/>
                <p:cNvGrpSpPr/>
                <p:nvPr/>
              </p:nvGrpSpPr>
              <p:grpSpPr>
                <a:xfrm>
                  <a:off x="3977280" y="2887560"/>
                  <a:ext cx="481680" cy="293400"/>
                  <a:chOff x="3977280" y="2887560"/>
                  <a:chExt cx="481680" cy="293400"/>
                </a:xfrm>
              </p:grpSpPr>
              <p:sp>
                <p:nvSpPr>
                  <p:cNvPr id="4656" name=""/>
                  <p:cNvSpPr/>
                  <p:nvPr/>
                </p:nvSpPr>
                <p:spPr>
                  <a:xfrm>
                    <a:off x="4157640" y="29293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3977280" y="30132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977280" y="28875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9" name=""/>
                <p:cNvGrpSpPr/>
                <p:nvPr/>
              </p:nvGrpSpPr>
              <p:grpSpPr>
                <a:xfrm>
                  <a:off x="3615840" y="3055320"/>
                  <a:ext cx="481680" cy="293400"/>
                  <a:chOff x="3615840" y="3055320"/>
                  <a:chExt cx="481680" cy="293400"/>
                </a:xfrm>
              </p:grpSpPr>
              <p:sp>
                <p:nvSpPr>
                  <p:cNvPr id="4660" name=""/>
                  <p:cNvSpPr/>
                  <p:nvPr/>
                </p:nvSpPr>
                <p:spPr>
                  <a:xfrm>
                    <a:off x="3796200" y="30970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3615840" y="31809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3615840" y="30553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3" name=""/>
                <p:cNvGrpSpPr/>
                <p:nvPr/>
              </p:nvGrpSpPr>
              <p:grpSpPr>
                <a:xfrm>
                  <a:off x="3254760" y="3223080"/>
                  <a:ext cx="481680" cy="293400"/>
                  <a:chOff x="3254760" y="3223080"/>
                  <a:chExt cx="481680" cy="293400"/>
                </a:xfrm>
              </p:grpSpPr>
              <p:sp>
                <p:nvSpPr>
                  <p:cNvPr id="4664" name=""/>
                  <p:cNvSpPr/>
                  <p:nvPr/>
                </p:nvSpPr>
                <p:spPr>
                  <a:xfrm>
                    <a:off x="3435120" y="32648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3254760" y="33487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3254760" y="32230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2893320" y="3390840"/>
                  <a:ext cx="481680" cy="293400"/>
                  <a:chOff x="2893320" y="3390840"/>
                  <a:chExt cx="481680" cy="293400"/>
                </a:xfrm>
              </p:grpSpPr>
              <p:sp>
                <p:nvSpPr>
                  <p:cNvPr id="4668" name=""/>
                  <p:cNvSpPr/>
                  <p:nvPr/>
                </p:nvSpPr>
                <p:spPr>
                  <a:xfrm>
                    <a:off x="3073680" y="34326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2893320" y="35164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2893320" y="33908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1" name=""/>
                <p:cNvGrpSpPr/>
                <p:nvPr/>
              </p:nvGrpSpPr>
              <p:grpSpPr>
                <a:xfrm>
                  <a:off x="2532240" y="4397400"/>
                  <a:ext cx="481680" cy="293400"/>
                  <a:chOff x="2532240" y="4397400"/>
                  <a:chExt cx="481680" cy="293400"/>
                </a:xfrm>
              </p:grpSpPr>
              <p:sp>
                <p:nvSpPr>
                  <p:cNvPr id="4672" name=""/>
                  <p:cNvSpPr/>
                  <p:nvPr/>
                </p:nvSpPr>
                <p:spPr>
                  <a:xfrm>
                    <a:off x="2712600" y="44391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2532240" y="45230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2532240" y="43974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2532240" y="4229640"/>
                  <a:ext cx="481680" cy="293400"/>
                  <a:chOff x="2532240" y="4229640"/>
                  <a:chExt cx="481680" cy="293400"/>
                </a:xfrm>
              </p:grpSpPr>
              <p:sp>
                <p:nvSpPr>
                  <p:cNvPr id="4676" name=""/>
                  <p:cNvSpPr/>
                  <p:nvPr/>
                </p:nvSpPr>
                <p:spPr>
                  <a:xfrm>
                    <a:off x="2712600" y="427140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2532240" y="435528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2532240" y="422964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9" name=""/>
                <p:cNvGrpSpPr/>
                <p:nvPr/>
              </p:nvGrpSpPr>
              <p:grpSpPr>
                <a:xfrm>
                  <a:off x="2532240" y="4061880"/>
                  <a:ext cx="481680" cy="293400"/>
                  <a:chOff x="2532240" y="4061880"/>
                  <a:chExt cx="481680" cy="293400"/>
                </a:xfrm>
              </p:grpSpPr>
              <p:sp>
                <p:nvSpPr>
                  <p:cNvPr id="4680" name=""/>
                  <p:cNvSpPr/>
                  <p:nvPr/>
                </p:nvSpPr>
                <p:spPr>
                  <a:xfrm>
                    <a:off x="2712600" y="410364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2532240" y="418752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2532240" y="406188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3" name=""/>
                <p:cNvGrpSpPr/>
                <p:nvPr/>
              </p:nvGrpSpPr>
              <p:grpSpPr>
                <a:xfrm>
                  <a:off x="2532240" y="3894120"/>
                  <a:ext cx="481680" cy="293400"/>
                  <a:chOff x="2532240" y="3894120"/>
                  <a:chExt cx="481680" cy="293400"/>
                </a:xfrm>
              </p:grpSpPr>
              <p:sp>
                <p:nvSpPr>
                  <p:cNvPr id="4684" name=""/>
                  <p:cNvSpPr/>
                  <p:nvPr/>
                </p:nvSpPr>
                <p:spPr>
                  <a:xfrm>
                    <a:off x="2712600" y="393588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2532240" y="401976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2532240" y="389412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7" name=""/>
                <p:cNvGrpSpPr/>
                <p:nvPr/>
              </p:nvGrpSpPr>
              <p:grpSpPr>
                <a:xfrm>
                  <a:off x="2532240" y="3726360"/>
                  <a:ext cx="481680" cy="293400"/>
                  <a:chOff x="2532240" y="3726360"/>
                  <a:chExt cx="481680" cy="29340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2712600" y="376812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2532240" y="385200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2532240" y="372636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1" name=""/>
                <p:cNvGrpSpPr/>
                <p:nvPr/>
              </p:nvGrpSpPr>
              <p:grpSpPr>
                <a:xfrm>
                  <a:off x="2532240" y="3558600"/>
                  <a:ext cx="481680" cy="293400"/>
                  <a:chOff x="2532240" y="3558600"/>
                  <a:chExt cx="481680" cy="293400"/>
                </a:xfrm>
              </p:grpSpPr>
              <p:sp>
                <p:nvSpPr>
                  <p:cNvPr id="4692" name=""/>
                  <p:cNvSpPr/>
                  <p:nvPr/>
                </p:nvSpPr>
                <p:spPr>
                  <a:xfrm>
                    <a:off x="2712600" y="3600360"/>
                    <a:ext cx="300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88">
                        <a:moveTo>
                          <a:pt x="0" y="144"/>
                        </a:moveTo>
                        <a:lnTo>
                          <a:pt x="0" y="288"/>
                        </a:lnTo>
                        <a:lnTo>
                          <a:pt x="240" y="144"/>
                        </a:lnTo>
                        <a:lnTo>
                          <a:pt x="240" y="0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2532240" y="3684240"/>
                    <a:ext cx="18036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92">
                        <a:moveTo>
                          <a:pt x="144" y="48"/>
                        </a:moveTo>
                        <a:lnTo>
                          <a:pt x="144" y="192"/>
                        </a:lnTo>
                        <a:lnTo>
                          <a:pt x="0" y="144"/>
                        </a:lnTo>
                        <a:lnTo>
                          <a:pt x="0" y="0"/>
                        </a:lnTo>
                        <a:lnTo>
                          <a:pt x="144" y="48"/>
                        </a:lnTo>
                        <a:close/>
                      </a:path>
                    </a:pathLst>
                  </a:custGeom>
                  <a:solidFill>
                    <a:srgbClr val="ff7c8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2532240" y="3558600"/>
                    <a:ext cx="481680" cy="1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192">
                        <a:moveTo>
                          <a:pt x="0" y="144"/>
                        </a:moveTo>
                        <a:lnTo>
                          <a:pt x="240" y="0"/>
                        </a:lnTo>
                        <a:lnTo>
                          <a:pt x="384" y="48"/>
                        </a:lnTo>
                        <a:lnTo>
                          <a:pt x="144" y="192"/>
                        </a:lnTo>
                        <a:lnTo>
                          <a:pt x="0" y="144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5" name=""/>
              <p:cNvGrpSpPr/>
              <p:nvPr/>
            </p:nvGrpSpPr>
            <p:grpSpPr>
              <a:xfrm>
                <a:off x="3462120" y="3429000"/>
                <a:ext cx="815400" cy="1281240"/>
                <a:chOff x="3462120" y="3429000"/>
                <a:chExt cx="815400" cy="1281240"/>
              </a:xfrm>
            </p:grpSpPr>
            <p:sp>
              <p:nvSpPr>
                <p:cNvPr id="4696" name=""/>
                <p:cNvSpPr/>
                <p:nvPr/>
              </p:nvSpPr>
              <p:spPr>
                <a:xfrm>
                  <a:off x="3464640" y="34290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3477600" y="43822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3819600" y="35049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3462120" y="36158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3512160" y="45050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3503520" y="36676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3512160" y="4456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3512160" y="44082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3512160" y="43614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512160" y="4312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516120" y="38516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3489840" y="37627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3508560" y="37926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3510360" y="38941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3510360" y="39902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3510360" y="41076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3582720" y="38480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3544920" y="38556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3527640" y="40294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>
                  <a:off x="3527640" y="41468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>
                  <a:off x="3688200" y="40849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>
                  <a:off x="3693960" y="42022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3523680" y="39222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3686040" y="39751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20" name=""/>
          <p:cNvSpPr/>
          <p:nvPr/>
        </p:nvSpPr>
        <p:spPr>
          <a:xfrm>
            <a:off x="3241800" y="5356080"/>
            <a:ext cx="2076480" cy="830520"/>
          </a:xfrm>
          <a:prstGeom prst="wedgeRoundRectCallout">
            <a:avLst>
              <a:gd name="adj1" fmla="val 38226"/>
              <a:gd name="adj2" fmla="val -124759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Hálózati forgalom szűrése, belső címek elrejt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5097600" y="6240600"/>
            <a:ext cx="2479680" cy="617400"/>
          </a:xfrm>
          <a:prstGeom prst="wedgeRoundRectCallout">
            <a:avLst>
              <a:gd name="adj1" fmla="val 65430"/>
              <a:gd name="adj2" fmla="val -13714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Alkalmazások forgalmának szűr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72880" y="4748040"/>
            <a:ext cx="1403640" cy="814680"/>
          </a:xfrm>
          <a:prstGeom prst="wedgeRoundRectCallout">
            <a:avLst>
              <a:gd name="adj1" fmla="val 81449"/>
              <a:gd name="adj2" fmla="val -118810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Behatolási kísérlet érzékelé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1407960" y="5624640"/>
            <a:ext cx="1339920" cy="392040"/>
          </a:xfrm>
          <a:prstGeom prst="wedgeRoundRectCallout">
            <a:avLst>
              <a:gd name="adj1" fmla="val 110782"/>
              <a:gd name="adj2" fmla="val -359717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3366"/>
                </a:solidFill>
                <a:latin typeface="Arial"/>
              </a:rPr>
              <a:t>Naplóz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4" name=""/>
          <p:cNvGrpSpPr/>
          <p:nvPr/>
        </p:nvGrpSpPr>
        <p:grpSpPr>
          <a:xfrm>
            <a:off x="5220360" y="3990960"/>
            <a:ext cx="1936080" cy="1613160"/>
            <a:chOff x="5220360" y="3990960"/>
            <a:chExt cx="1936080" cy="1613160"/>
          </a:xfrm>
        </p:grpSpPr>
        <p:sp>
          <p:nvSpPr>
            <p:cNvPr id="4725" name=""/>
            <p:cNvSpPr/>
            <p:nvPr/>
          </p:nvSpPr>
          <p:spPr>
            <a:xfrm>
              <a:off x="5220360" y="520524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Belső tűzf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6" name=""/>
            <p:cNvGrpSpPr/>
            <p:nvPr/>
          </p:nvGrpSpPr>
          <p:grpSpPr>
            <a:xfrm>
              <a:off x="6340320" y="3990960"/>
              <a:ext cx="816120" cy="1281240"/>
              <a:chOff x="6340320" y="3990960"/>
              <a:chExt cx="816120" cy="1281240"/>
            </a:xfrm>
          </p:grpSpPr>
          <p:sp>
            <p:nvSpPr>
              <p:cNvPr id="4727" name=""/>
              <p:cNvSpPr/>
              <p:nvPr/>
            </p:nvSpPr>
            <p:spPr>
              <a:xfrm>
                <a:off x="6342840" y="39909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355800" y="494424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698160" y="406692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4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6340320" y="41778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6390360" y="50670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6381720" y="42296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390360" y="501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6390360" y="49701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6390360" y="4923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6390360" y="4874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394320" y="441360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6368040" y="43246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386760" y="43545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6388560" y="44560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6388560" y="45522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388560" y="46695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6460920" y="44100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423120" y="44175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6405840" y="45914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6405840" y="47088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6566400" y="46468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6572160" y="47642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6401880" y="44841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6564600" y="45370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51" name=""/>
          <p:cNvGrpSpPr/>
          <p:nvPr/>
        </p:nvGrpSpPr>
        <p:grpSpPr>
          <a:xfrm>
            <a:off x="424080" y="2860200"/>
            <a:ext cx="1692000" cy="1778040"/>
            <a:chOff x="424080" y="2860200"/>
            <a:chExt cx="1692000" cy="1778040"/>
          </a:xfrm>
        </p:grpSpPr>
        <p:grpSp>
          <p:nvGrpSpPr>
            <p:cNvPr id="4752" name=""/>
            <p:cNvGrpSpPr/>
            <p:nvPr/>
          </p:nvGrpSpPr>
          <p:grpSpPr>
            <a:xfrm>
              <a:off x="424080" y="2860200"/>
              <a:ext cx="1692000" cy="1778040"/>
              <a:chOff x="424080" y="2860200"/>
              <a:chExt cx="1692000" cy="1778040"/>
            </a:xfrm>
          </p:grpSpPr>
          <p:sp>
            <p:nvSpPr>
              <p:cNvPr id="4753" name=""/>
              <p:cNvSpPr/>
              <p:nvPr/>
            </p:nvSpPr>
            <p:spPr>
              <a:xfrm rot="1236600">
                <a:off x="612720" y="313704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>
                <a:off x="1038240" y="319068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rot="1236600">
                <a:off x="1035000" y="314424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rot="1236600">
                <a:off x="764280" y="314424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V="1" rot="1237200">
                <a:off x="583200" y="365508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 rot="1237200">
                <a:off x="572400" y="384768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 rot="1237200">
                <a:off x="747720" y="3263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 rot="1237200">
                <a:off x="928800" y="304236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 rot="1237200">
                <a:off x="648720" y="350388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rot="1236600">
                <a:off x="615240" y="313200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rot="1236600">
                <a:off x="731880" y="3586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rot="1236600">
                <a:off x="1514160" y="348480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rot="1236600">
                <a:off x="1127520" y="402876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rot="1236600">
                <a:off x="1529640" y="411588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67" name=""/>
            <p:cNvSpPr/>
            <p:nvPr/>
          </p:nvSpPr>
          <p:spPr>
            <a:xfrm>
              <a:off x="688680" y="365112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8" name=""/>
          <p:cNvGrpSpPr/>
          <p:nvPr/>
        </p:nvGrpSpPr>
        <p:grpSpPr>
          <a:xfrm>
            <a:off x="180000" y="2975040"/>
            <a:ext cx="4926240" cy="3329640"/>
            <a:chOff x="180000" y="2975040"/>
            <a:chExt cx="4926240" cy="3329640"/>
          </a:xfrm>
        </p:grpSpPr>
        <p:sp>
          <p:nvSpPr>
            <p:cNvPr id="4769" name=""/>
            <p:cNvSpPr/>
            <p:nvPr/>
          </p:nvSpPr>
          <p:spPr>
            <a:xfrm rot="471000">
              <a:off x="309240" y="3780000"/>
              <a:ext cx="4667040" cy="221616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204920" y="2975040"/>
              <a:ext cx="239760" cy="7808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1" name=""/>
            <p:cNvGrpSpPr/>
            <p:nvPr/>
          </p:nvGrpSpPr>
          <p:grpSpPr>
            <a:xfrm>
              <a:off x="1166760" y="3187800"/>
              <a:ext cx="816120" cy="1280880"/>
              <a:chOff x="1166760" y="3187800"/>
              <a:chExt cx="816120" cy="1280880"/>
            </a:xfrm>
          </p:grpSpPr>
          <p:sp>
            <p:nvSpPr>
              <p:cNvPr id="4772" name=""/>
              <p:cNvSpPr/>
              <p:nvPr/>
            </p:nvSpPr>
            <p:spPr>
              <a:xfrm>
                <a:off x="1169280" y="3187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182240" y="4140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524600" y="3263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166760" y="3374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216800" y="4263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208160" y="3426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216800" y="4214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216800" y="4167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216800" y="4119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216800" y="407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220760" y="3610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194480" y="3521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213200" y="3551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215000" y="3652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215000" y="3748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215000" y="3866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287360" y="3606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249560" y="3614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232280" y="3788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232280" y="3905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1392840" y="3843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1398600" y="3961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1228320" y="3681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1391040" y="3733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96" name=""/>
            <p:cNvSpPr/>
            <p:nvPr/>
          </p:nvSpPr>
          <p:spPr>
            <a:xfrm flipH="1" flipV="1">
              <a:off x="1774800" y="4300560"/>
              <a:ext cx="2679840" cy="64440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 flipH="1">
              <a:off x="3565440" y="48704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 flipH="1">
              <a:off x="2790720" y="466740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9" name=""/>
            <p:cNvGrpSpPr/>
            <p:nvPr/>
          </p:nvGrpSpPr>
          <p:grpSpPr>
            <a:xfrm>
              <a:off x="2033640" y="4834080"/>
              <a:ext cx="1028160" cy="941040"/>
              <a:chOff x="2033640" y="4834080"/>
              <a:chExt cx="1028160" cy="941040"/>
            </a:xfrm>
          </p:grpSpPr>
          <p:sp>
            <p:nvSpPr>
              <p:cNvPr id="4800" name=""/>
              <p:cNvSpPr/>
              <p:nvPr/>
            </p:nvSpPr>
            <p:spPr>
              <a:xfrm>
                <a:off x="2033640" y="549720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044800" y="550332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220480" y="551664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104560" y="5538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509920" y="5625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457720" y="5662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539080" y="5640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07" name=""/>
              <p:cNvGrpSpPr/>
              <p:nvPr/>
            </p:nvGrpSpPr>
            <p:grpSpPr>
              <a:xfrm>
                <a:off x="2250000" y="4834080"/>
                <a:ext cx="811800" cy="793800"/>
                <a:chOff x="2250000" y="4834080"/>
                <a:chExt cx="811800" cy="793800"/>
              </a:xfrm>
            </p:grpSpPr>
            <p:grpSp>
              <p:nvGrpSpPr>
                <p:cNvPr id="4808" name=""/>
                <p:cNvGrpSpPr/>
                <p:nvPr/>
              </p:nvGrpSpPr>
              <p:grpSpPr>
                <a:xfrm>
                  <a:off x="2250000" y="5226480"/>
                  <a:ext cx="811800" cy="401400"/>
                  <a:chOff x="2250000" y="5226480"/>
                  <a:chExt cx="811800" cy="401400"/>
                </a:xfrm>
              </p:grpSpPr>
              <p:sp>
                <p:nvSpPr>
                  <p:cNvPr id="4809" name=""/>
                  <p:cNvSpPr/>
                  <p:nvPr/>
                </p:nvSpPr>
                <p:spPr>
                  <a:xfrm>
                    <a:off x="2781720" y="5335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>
                    <a:off x="2250360" y="522648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2250000" y="5357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2528280" y="5452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>
                    <a:off x="2532960" y="5501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>
                    <a:off x="2527560" y="5451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>
                    <a:off x="2547000" y="5478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2684520" y="5553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2597760" y="5489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2264400" y="5407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2264400" y="5429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>
                    <a:off x="2264400" y="5450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2530080" y="5509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22" name=""/>
                <p:cNvSpPr/>
                <p:nvPr/>
              </p:nvSpPr>
              <p:spPr>
                <a:xfrm>
                  <a:off x="2392560" y="521928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2398320" y="5223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2529720" y="5268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2381400" y="527256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2486520" y="483408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2830680" y="4934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2339280" y="4838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2339280" y="4884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2377800" y="4928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2403000" y="495648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2" name=""/>
            <p:cNvGrpSpPr/>
            <p:nvPr/>
          </p:nvGrpSpPr>
          <p:grpSpPr>
            <a:xfrm>
              <a:off x="2665440" y="5018040"/>
              <a:ext cx="1028160" cy="941040"/>
              <a:chOff x="2665440" y="5018040"/>
              <a:chExt cx="1028160" cy="941040"/>
            </a:xfrm>
          </p:grpSpPr>
          <p:sp>
            <p:nvSpPr>
              <p:cNvPr id="4833" name=""/>
              <p:cNvSpPr/>
              <p:nvPr/>
            </p:nvSpPr>
            <p:spPr>
              <a:xfrm>
                <a:off x="2665440" y="56811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676600" y="56872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852280" y="57006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736360" y="57222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3141720" y="58096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3089520" y="58460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3170880" y="58244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0" name=""/>
              <p:cNvGrpSpPr/>
              <p:nvPr/>
            </p:nvGrpSpPr>
            <p:grpSpPr>
              <a:xfrm>
                <a:off x="2881800" y="5018040"/>
                <a:ext cx="811800" cy="793800"/>
                <a:chOff x="2881800" y="5018040"/>
                <a:chExt cx="811800" cy="793800"/>
              </a:xfrm>
            </p:grpSpPr>
            <p:grpSp>
              <p:nvGrpSpPr>
                <p:cNvPr id="4841" name=""/>
                <p:cNvGrpSpPr/>
                <p:nvPr/>
              </p:nvGrpSpPr>
              <p:grpSpPr>
                <a:xfrm>
                  <a:off x="2881800" y="5410440"/>
                  <a:ext cx="811800" cy="401400"/>
                  <a:chOff x="2881800" y="5410440"/>
                  <a:chExt cx="811800" cy="401400"/>
                </a:xfrm>
              </p:grpSpPr>
              <p:sp>
                <p:nvSpPr>
                  <p:cNvPr id="4842" name=""/>
                  <p:cNvSpPr/>
                  <p:nvPr/>
                </p:nvSpPr>
                <p:spPr>
                  <a:xfrm>
                    <a:off x="3413520" y="55191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2882160" y="54104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>
                    <a:off x="2881800" y="55414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>
                    <a:off x="3160080" y="56368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>
                    <a:off x="3164760" y="56854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>
                    <a:off x="3159360" y="56358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>
                    <a:off x="3178800" y="56628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>
                    <a:off x="3316320" y="57376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>
                    <a:off x="3229560" y="56732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1" name=""/>
                  <p:cNvSpPr/>
                  <p:nvPr/>
                </p:nvSpPr>
                <p:spPr>
                  <a:xfrm>
                    <a:off x="2896200" y="55911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2" name=""/>
                  <p:cNvSpPr/>
                  <p:nvPr/>
                </p:nvSpPr>
                <p:spPr>
                  <a:xfrm>
                    <a:off x="2896200" y="56134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3" name=""/>
                  <p:cNvSpPr/>
                  <p:nvPr/>
                </p:nvSpPr>
                <p:spPr>
                  <a:xfrm>
                    <a:off x="2896200" y="5634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>
                    <a:off x="3161880" y="56937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55" name=""/>
                <p:cNvSpPr/>
                <p:nvPr/>
              </p:nvSpPr>
              <p:spPr>
                <a:xfrm>
                  <a:off x="3024360" y="54032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>
                  <a:off x="3030120" y="54079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>
                  <a:off x="3161520" y="54522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>
                  <a:off x="3013200" y="54565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>
                  <a:off x="3118320" y="50180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>
                  <a:off x="3462480" y="51188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>
                  <a:off x="2971080" y="50223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>
                  <a:off x="2971080" y="50688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>
                  <a:off x="3009600" y="51120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4" name=""/>
                <p:cNvSpPr/>
                <p:nvPr/>
              </p:nvSpPr>
              <p:spPr>
                <a:xfrm>
                  <a:off x="3034800" y="51404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5" name=""/>
          <p:cNvGrpSpPr/>
          <p:nvPr/>
        </p:nvGrpSpPr>
        <p:grpSpPr>
          <a:xfrm>
            <a:off x="4397400" y="3035160"/>
            <a:ext cx="4680000" cy="2189520"/>
            <a:chOff x="4397400" y="3035160"/>
            <a:chExt cx="4680000" cy="2189520"/>
          </a:xfrm>
        </p:grpSpPr>
        <p:sp>
          <p:nvSpPr>
            <p:cNvPr id="4866" name=""/>
            <p:cNvSpPr/>
            <p:nvPr/>
          </p:nvSpPr>
          <p:spPr>
            <a:xfrm rot="471000">
              <a:off x="5370480" y="327312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H="1" flipV="1">
              <a:off x="6415200" y="3548160"/>
              <a:ext cx="237168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H="1">
              <a:off x="8229600" y="411804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 flipH="1">
              <a:off x="7454880" y="391464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0" name=""/>
            <p:cNvGrpSpPr/>
            <p:nvPr/>
          </p:nvGrpSpPr>
          <p:grpSpPr>
            <a:xfrm>
              <a:off x="7567560" y="3941640"/>
              <a:ext cx="1028160" cy="941040"/>
              <a:chOff x="7567560" y="3941640"/>
              <a:chExt cx="1028160" cy="941040"/>
            </a:xfrm>
          </p:grpSpPr>
          <p:sp>
            <p:nvSpPr>
              <p:cNvPr id="4871" name=""/>
              <p:cNvSpPr/>
              <p:nvPr/>
            </p:nvSpPr>
            <p:spPr>
              <a:xfrm>
                <a:off x="7567560" y="460476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578720" y="461088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754400" y="462420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638480" y="4645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8043840" y="4733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991640" y="4769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8073360" y="4748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8" name=""/>
              <p:cNvGrpSpPr/>
              <p:nvPr/>
            </p:nvGrpSpPr>
            <p:grpSpPr>
              <a:xfrm>
                <a:off x="7783920" y="3941640"/>
                <a:ext cx="811800" cy="793800"/>
                <a:chOff x="7783920" y="3941640"/>
                <a:chExt cx="811800" cy="793800"/>
              </a:xfrm>
            </p:grpSpPr>
            <p:grpSp>
              <p:nvGrpSpPr>
                <p:cNvPr id="4879" name=""/>
                <p:cNvGrpSpPr/>
                <p:nvPr/>
              </p:nvGrpSpPr>
              <p:grpSpPr>
                <a:xfrm>
                  <a:off x="7783920" y="4334040"/>
                  <a:ext cx="811800" cy="401400"/>
                  <a:chOff x="7783920" y="4334040"/>
                  <a:chExt cx="811800" cy="401400"/>
                </a:xfrm>
              </p:grpSpPr>
              <p:sp>
                <p:nvSpPr>
                  <p:cNvPr id="4880" name=""/>
                  <p:cNvSpPr/>
                  <p:nvPr/>
                </p:nvSpPr>
                <p:spPr>
                  <a:xfrm>
                    <a:off x="8315640" y="4442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>
                    <a:off x="7784280" y="433404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2" name=""/>
                  <p:cNvSpPr/>
                  <p:nvPr/>
                </p:nvSpPr>
                <p:spPr>
                  <a:xfrm>
                    <a:off x="7783920" y="4465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1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8062560" y="4560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>
                    <a:off x="8067240" y="4609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>
                    <a:off x="8061840" y="4559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8080920" y="4586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>
                    <a:off x="8218800" y="4661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8" name=""/>
                  <p:cNvSpPr/>
                  <p:nvPr/>
                </p:nvSpPr>
                <p:spPr>
                  <a:xfrm>
                    <a:off x="8131680" y="4596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9" name=""/>
                  <p:cNvSpPr/>
                  <p:nvPr/>
                </p:nvSpPr>
                <p:spPr>
                  <a:xfrm>
                    <a:off x="7798320" y="4514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>
                    <a:off x="7798320" y="4537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>
                    <a:off x="7798320" y="4557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>
                    <a:off x="8064000" y="4617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93" name=""/>
                <p:cNvSpPr/>
                <p:nvPr/>
              </p:nvSpPr>
              <p:spPr>
                <a:xfrm>
                  <a:off x="7926480" y="432684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4" name=""/>
                <p:cNvSpPr/>
                <p:nvPr/>
              </p:nvSpPr>
              <p:spPr>
                <a:xfrm>
                  <a:off x="7932240" y="4331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8064000" y="4375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7915320" y="438012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8020800" y="394164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8364600" y="4042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7873200" y="3945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7873200" y="3992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7911720" y="4035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7936920" y="406404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3" name=""/>
            <p:cNvGrpSpPr/>
            <p:nvPr/>
          </p:nvGrpSpPr>
          <p:grpSpPr>
            <a:xfrm>
              <a:off x="6899400" y="3751200"/>
              <a:ext cx="1028160" cy="941040"/>
              <a:chOff x="6899400" y="3751200"/>
              <a:chExt cx="1028160" cy="941040"/>
            </a:xfrm>
          </p:grpSpPr>
          <p:sp>
            <p:nvSpPr>
              <p:cNvPr id="4904" name=""/>
              <p:cNvSpPr/>
              <p:nvPr/>
            </p:nvSpPr>
            <p:spPr>
              <a:xfrm>
                <a:off x="6899400" y="441432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910560" y="442044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086240" y="443376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970320" y="445536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375680" y="454284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323480" y="457920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404840" y="455760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11" name=""/>
              <p:cNvGrpSpPr/>
              <p:nvPr/>
            </p:nvGrpSpPr>
            <p:grpSpPr>
              <a:xfrm>
                <a:off x="7115760" y="3751200"/>
                <a:ext cx="811800" cy="793800"/>
                <a:chOff x="7115760" y="3751200"/>
                <a:chExt cx="811800" cy="793800"/>
              </a:xfrm>
            </p:grpSpPr>
            <p:grpSp>
              <p:nvGrpSpPr>
                <p:cNvPr id="4912" name=""/>
                <p:cNvGrpSpPr/>
                <p:nvPr/>
              </p:nvGrpSpPr>
              <p:grpSpPr>
                <a:xfrm>
                  <a:off x="7115760" y="4143600"/>
                  <a:ext cx="811800" cy="401400"/>
                  <a:chOff x="7115760" y="4143600"/>
                  <a:chExt cx="811800" cy="401400"/>
                </a:xfrm>
              </p:grpSpPr>
              <p:sp>
                <p:nvSpPr>
                  <p:cNvPr id="4913" name=""/>
                  <p:cNvSpPr/>
                  <p:nvPr/>
                </p:nvSpPr>
                <p:spPr>
                  <a:xfrm>
                    <a:off x="7647480" y="425232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2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7116120" y="414360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2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7115760" y="427464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2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7394040" y="437004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7398720" y="441864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8" name=""/>
                  <p:cNvSpPr/>
                  <p:nvPr/>
                </p:nvSpPr>
                <p:spPr>
                  <a:xfrm>
                    <a:off x="7393320" y="436896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"/>
                  <p:cNvSpPr/>
                  <p:nvPr/>
                </p:nvSpPr>
                <p:spPr>
                  <a:xfrm>
                    <a:off x="7412760" y="439596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>
                    <a:off x="7550280" y="447084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>
                    <a:off x="7463520" y="440640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7130160" y="43243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>
                    <a:off x="7130160" y="434664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>
                    <a:off x="7130160" y="436752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>
                    <a:off x="7395840" y="442692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26" name=""/>
                <p:cNvSpPr/>
                <p:nvPr/>
              </p:nvSpPr>
              <p:spPr>
                <a:xfrm>
                  <a:off x="7258320" y="413640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7264080" y="414108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7395480" y="418536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7247160" y="418968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>
                  <a:off x="7352280" y="375120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7696440" y="385200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7205040" y="375552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7205040" y="380196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7243560" y="384516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7268760" y="387360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6" name=""/>
            <p:cNvSpPr/>
            <p:nvPr/>
          </p:nvSpPr>
          <p:spPr>
            <a:xfrm flipH="1">
              <a:off x="4397400" y="3538440"/>
              <a:ext cx="2038320" cy="14097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00"/>
                </a:solidFill>
                <a:latin typeface="Arial"/>
              </a:rPr>
              <a:t>Gyorsító tá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1964880" y="744480"/>
            <a:ext cx="71787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s cég eseté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gy kiszolgál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el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9" name=""/>
          <p:cNvGrpSpPr/>
          <p:nvPr/>
        </p:nvGrpSpPr>
        <p:grpSpPr>
          <a:xfrm>
            <a:off x="303480" y="1387080"/>
            <a:ext cx="1692000" cy="1778040"/>
            <a:chOff x="303480" y="1387080"/>
            <a:chExt cx="1692000" cy="1778040"/>
          </a:xfrm>
        </p:grpSpPr>
        <p:grpSp>
          <p:nvGrpSpPr>
            <p:cNvPr id="4940" name=""/>
            <p:cNvGrpSpPr/>
            <p:nvPr/>
          </p:nvGrpSpPr>
          <p:grpSpPr>
            <a:xfrm>
              <a:off x="303480" y="1387080"/>
              <a:ext cx="1692000" cy="1778040"/>
              <a:chOff x="303480" y="1387080"/>
              <a:chExt cx="1692000" cy="1778040"/>
            </a:xfrm>
          </p:grpSpPr>
          <p:sp>
            <p:nvSpPr>
              <p:cNvPr id="4941" name=""/>
              <p:cNvSpPr/>
              <p:nvPr/>
            </p:nvSpPr>
            <p:spPr>
              <a:xfrm rot="1236600">
                <a:off x="492120" y="1663920"/>
                <a:ext cx="1311480" cy="1312200"/>
              </a:xfrm>
              <a:prstGeom prst="ellipse">
                <a:avLst/>
              </a:prstGeom>
              <a:gradFill rotWithShape="0">
                <a:gsLst>
                  <a:gs pos="0">
                    <a:srgbClr val="8ea4c4"/>
                  </a:gs>
                  <a:gs pos="100000">
                    <a:srgbClr val="0738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917640" y="1717560"/>
                <a:ext cx="453600" cy="1199520"/>
              </a:xfrm>
              <a:prstGeom prst="line">
                <a:avLst/>
              </a:prstGeom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rot="1236600">
                <a:off x="914400" y="1671120"/>
                <a:ext cx="4647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rot="1236600">
                <a:off x="643680" y="1671120"/>
                <a:ext cx="1008360" cy="1302480"/>
              </a:xfrm>
              <a:prstGeom prst="ellipse">
                <a:avLst/>
              </a:pr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 rot="1237200">
                <a:off x="462600" y="2181960"/>
                <a:ext cx="1299960" cy="46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79" y="8359"/>
                    </a:moveTo>
                    <a:arcTo wR="10800" hR="10800" stAng="-10016204" swAng="92964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79" y="8359"/>
                    </a:moveTo>
                    <a:arcTo wR="10800" hR="10800" stAng="-10016204" swAng="9296499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 rot="1237200">
                <a:off x="451800" y="2374560"/>
                <a:ext cx="1189440" cy="46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9" y="4456"/>
                    </a:moveTo>
                    <a:arcTo wR="10800" hR="10800" stAng="-8641711" swAng="63258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9" y="4456"/>
                    </a:moveTo>
                    <a:arcTo wR="10800" hR="10800" stAng="-8641711" swAng="6325837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 rot="1237200">
                <a:off x="627120" y="179064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0" y="6177"/>
                    </a:moveTo>
                    <a:arcTo wR="10800" hR="10800" stAng="-9279297" swAng="7526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0" y="6177"/>
                    </a:moveTo>
                    <a:arcTo wR="10800" hR="10800" stAng="-9279297" swAng="7526321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 rot="1237200">
                <a:off x="808200" y="1569240"/>
                <a:ext cx="1110960" cy="412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7" y="4557"/>
                    </a:moveTo>
                    <a:arcTo wR="10800" hR="10800" stAng="-8681169" swAng="63049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7" y="4557"/>
                    </a:moveTo>
                    <a:arcTo wR="10800" hR="10800" stAng="-8681169" swAng="6304902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 rot="1237200">
                <a:off x="528120" y="2030760"/>
                <a:ext cx="13003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4" y="9375"/>
                    </a:moveTo>
                    <a:arcTo wR="10800" hR="10800" stAng="-10345170" swAng="98667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4" y="9375"/>
                    </a:moveTo>
                    <a:arcTo wR="10800" hR="10800" stAng="-10345170" swAng="9866756"/>
                  </a:path>
                </a:pathLst>
              </a:custGeom>
              <a:noFill/>
              <a:ln w="3240">
                <a:solidFill>
                  <a:srgbClr val="81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rot="1236600">
                <a:off x="494640" y="1658880"/>
                <a:ext cx="1311480" cy="1312200"/>
              </a:xfrm>
              <a:prstGeom prst="ellipse">
                <a:avLst/>
              </a:prstGeom>
              <a:noFill/>
              <a:ln w="12600">
                <a:solidFill>
                  <a:srgbClr val="0738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rot="1236600">
                <a:off x="611280" y="211356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rot="1236600">
                <a:off x="1393560" y="2011680"/>
                <a:ext cx="11700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rot="1236600">
                <a:off x="1006920" y="2555640"/>
                <a:ext cx="116280" cy="14652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rot="1236600">
                <a:off x="1409040" y="2642760"/>
                <a:ext cx="116280" cy="146880"/>
              </a:xfrm>
              <a:prstGeom prst="irregularSeal2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5" name=""/>
            <p:cNvSpPr/>
            <p:nvPr/>
          </p:nvSpPr>
          <p:spPr>
            <a:xfrm>
              <a:off x="568080" y="2178000"/>
              <a:ext cx="1165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1522440" y="3268800"/>
            <a:ext cx="816120" cy="1280880"/>
            <a:chOff x="1522440" y="3268800"/>
            <a:chExt cx="816120" cy="1280880"/>
          </a:xfrm>
        </p:grpSpPr>
        <p:sp>
          <p:nvSpPr>
            <p:cNvPr id="4957" name=""/>
            <p:cNvSpPr/>
            <p:nvPr/>
          </p:nvSpPr>
          <p:spPr>
            <a:xfrm>
              <a:off x="1524960" y="326880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37920" y="422172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880280" y="3344760"/>
              <a:ext cx="45828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22440" y="345564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72480" y="43444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3840" y="350748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72480" y="4295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72480" y="424800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2480" y="42008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2480" y="415188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6440" y="3691440"/>
              <a:ext cx="24840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50160" y="360252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68880" y="363240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70680" y="373392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70680" y="38296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70680" y="39470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43040" y="368784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605240" y="369540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587960" y="386928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587960" y="398664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748520" y="392472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54280" y="404208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584000" y="376200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46720" y="38145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1" name=""/>
          <p:cNvGrpSpPr/>
          <p:nvPr/>
        </p:nvGrpSpPr>
        <p:grpSpPr>
          <a:xfrm>
            <a:off x="1874880" y="3354480"/>
            <a:ext cx="815400" cy="1280880"/>
            <a:chOff x="1874880" y="3354480"/>
            <a:chExt cx="815400" cy="1280880"/>
          </a:xfrm>
        </p:grpSpPr>
        <p:sp>
          <p:nvSpPr>
            <p:cNvPr id="4982" name=""/>
            <p:cNvSpPr/>
            <p:nvPr/>
          </p:nvSpPr>
          <p:spPr>
            <a:xfrm>
              <a:off x="1877400" y="335448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90360" y="430740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232360" y="3430440"/>
              <a:ext cx="457920" cy="117288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74880" y="3541320"/>
              <a:ext cx="362520" cy="105588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924920" y="443016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916280" y="359316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924920" y="4381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924920" y="433368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924920" y="428652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924920" y="4237560"/>
              <a:ext cx="250200" cy="64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928880" y="3777120"/>
              <a:ext cx="248040" cy="44892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902600" y="368820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921320" y="371808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923120" y="381960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23120" y="391536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23120" y="403272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995480" y="377352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957680" y="378108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940400" y="395496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940400" y="407232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100960" y="401040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106720" y="412776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936440" y="384768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098800" y="390024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6" name=""/>
          <p:cNvGrpSpPr/>
          <p:nvPr/>
        </p:nvGrpSpPr>
        <p:grpSpPr>
          <a:xfrm>
            <a:off x="2216160" y="3440160"/>
            <a:ext cx="816120" cy="1281240"/>
            <a:chOff x="2216160" y="3440160"/>
            <a:chExt cx="816120" cy="1281240"/>
          </a:xfrm>
        </p:grpSpPr>
        <p:sp>
          <p:nvSpPr>
            <p:cNvPr id="5007" name=""/>
            <p:cNvSpPr/>
            <p:nvPr/>
          </p:nvSpPr>
          <p:spPr>
            <a:xfrm>
              <a:off x="2218680" y="3440160"/>
              <a:ext cx="81216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231640" y="4393440"/>
              <a:ext cx="78804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574000" y="3516120"/>
              <a:ext cx="45828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216160" y="362700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266200" y="451620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257560" y="367884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66200" y="4467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266200" y="441936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266200" y="437256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266200" y="432360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270160" y="3862800"/>
              <a:ext cx="24840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243880" y="377388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262600" y="380376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264400" y="390528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264400" y="400140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264400" y="411876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336760" y="385920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298960" y="386676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281680" y="404064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281680" y="415800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442240" y="409608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448000" y="421344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277720" y="393336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440440" y="398628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4065480" y="4817880"/>
            <a:ext cx="5011920" cy="2189520"/>
            <a:chOff x="4065480" y="4817880"/>
            <a:chExt cx="5011920" cy="2189520"/>
          </a:xfrm>
        </p:grpSpPr>
        <p:sp>
          <p:nvSpPr>
            <p:cNvPr id="5032" name=""/>
            <p:cNvSpPr/>
            <p:nvPr/>
          </p:nvSpPr>
          <p:spPr>
            <a:xfrm rot="471000">
              <a:off x="5370480" y="5055840"/>
              <a:ext cx="3606840" cy="171288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 flipH="1" flipV="1">
              <a:off x="6183360" y="5367240"/>
              <a:ext cx="2347920" cy="5731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H="1">
              <a:off x="7974000" y="5937120"/>
              <a:ext cx="519120" cy="34308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H="1">
              <a:off x="7199280" y="5734080"/>
              <a:ext cx="519120" cy="34272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6" name=""/>
            <p:cNvGrpSpPr/>
            <p:nvPr/>
          </p:nvGrpSpPr>
          <p:grpSpPr>
            <a:xfrm>
              <a:off x="7311960" y="5761080"/>
              <a:ext cx="1028160" cy="941040"/>
              <a:chOff x="7311960" y="5761080"/>
              <a:chExt cx="1028160" cy="941040"/>
            </a:xfrm>
          </p:grpSpPr>
          <p:sp>
            <p:nvSpPr>
              <p:cNvPr id="5037" name=""/>
              <p:cNvSpPr/>
              <p:nvPr/>
            </p:nvSpPr>
            <p:spPr>
              <a:xfrm>
                <a:off x="7311960" y="6424200"/>
                <a:ext cx="73512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7323120" y="6430320"/>
                <a:ext cx="71568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7498800" y="6443640"/>
                <a:ext cx="40284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7382880" y="646524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7788240" y="655272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7736040" y="658908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7817760" y="656748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4" name=""/>
              <p:cNvGrpSpPr/>
              <p:nvPr/>
            </p:nvGrpSpPr>
            <p:grpSpPr>
              <a:xfrm>
                <a:off x="7528320" y="5761080"/>
                <a:ext cx="811800" cy="793800"/>
                <a:chOff x="7528320" y="5761080"/>
                <a:chExt cx="811800" cy="793800"/>
              </a:xfrm>
            </p:grpSpPr>
            <p:grpSp>
              <p:nvGrpSpPr>
                <p:cNvPr id="5045" name=""/>
                <p:cNvGrpSpPr/>
                <p:nvPr/>
              </p:nvGrpSpPr>
              <p:grpSpPr>
                <a:xfrm>
                  <a:off x="7528320" y="6153480"/>
                  <a:ext cx="811800" cy="401400"/>
                  <a:chOff x="7528320" y="6153480"/>
                  <a:chExt cx="811800" cy="401400"/>
                </a:xfrm>
              </p:grpSpPr>
              <p:sp>
                <p:nvSpPr>
                  <p:cNvPr id="5046" name=""/>
                  <p:cNvSpPr/>
                  <p:nvPr/>
                </p:nvSpPr>
                <p:spPr>
                  <a:xfrm>
                    <a:off x="8060040" y="626220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3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7528680" y="6153480"/>
                    <a:ext cx="81144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39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7528320" y="628452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0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7806960" y="637992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0" name=""/>
                  <p:cNvSpPr/>
                  <p:nvPr/>
                </p:nvSpPr>
                <p:spPr>
                  <a:xfrm>
                    <a:off x="7811640" y="642852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7806240" y="637884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7825320" y="640584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7963200" y="648072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876080" y="641628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542720" y="63342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542720" y="635652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542720" y="637740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7808400" y="643680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9" name=""/>
                <p:cNvSpPr/>
                <p:nvPr/>
              </p:nvSpPr>
              <p:spPr>
                <a:xfrm>
                  <a:off x="7670880" y="6146280"/>
                  <a:ext cx="54360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7676640" y="615096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>
                  <a:off x="7808400" y="619524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7659720" y="6199560"/>
                  <a:ext cx="44136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7765200" y="5761080"/>
                  <a:ext cx="55152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>
                  <a:off x="8109000" y="586188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42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7617600" y="576540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7617600" y="581184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7656120" y="585504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7681320" y="5883480"/>
                  <a:ext cx="36432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69" name=""/>
            <p:cNvGrpSpPr/>
            <p:nvPr/>
          </p:nvGrpSpPr>
          <p:grpSpPr>
            <a:xfrm>
              <a:off x="6643800" y="5570640"/>
              <a:ext cx="1028160" cy="941040"/>
              <a:chOff x="6643800" y="5570640"/>
              <a:chExt cx="1028160" cy="941040"/>
            </a:xfrm>
          </p:grpSpPr>
          <p:sp>
            <p:nvSpPr>
              <p:cNvPr id="5070" name=""/>
              <p:cNvSpPr/>
              <p:nvPr/>
            </p:nvSpPr>
            <p:spPr>
              <a:xfrm>
                <a:off x="6643800" y="62337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5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654960" y="62398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830640" y="62532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714720" y="62748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120080" y="63622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067880" y="63986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149240" y="63770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7" name=""/>
              <p:cNvGrpSpPr/>
              <p:nvPr/>
            </p:nvGrpSpPr>
            <p:grpSpPr>
              <a:xfrm>
                <a:off x="6860160" y="5570640"/>
                <a:ext cx="811800" cy="793800"/>
                <a:chOff x="6860160" y="5570640"/>
                <a:chExt cx="811800" cy="793800"/>
              </a:xfrm>
            </p:grpSpPr>
            <p:grpSp>
              <p:nvGrpSpPr>
                <p:cNvPr id="5078" name=""/>
                <p:cNvGrpSpPr/>
                <p:nvPr/>
              </p:nvGrpSpPr>
              <p:grpSpPr>
                <a:xfrm>
                  <a:off x="6860160" y="5963040"/>
                  <a:ext cx="811800" cy="401400"/>
                  <a:chOff x="6860160" y="5963040"/>
                  <a:chExt cx="811800" cy="401400"/>
                </a:xfrm>
              </p:grpSpPr>
              <p:sp>
                <p:nvSpPr>
                  <p:cNvPr id="5079" name=""/>
                  <p:cNvSpPr/>
                  <p:nvPr/>
                </p:nvSpPr>
                <p:spPr>
                  <a:xfrm>
                    <a:off x="7391880" y="60717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4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0" name=""/>
                  <p:cNvSpPr/>
                  <p:nvPr/>
                </p:nvSpPr>
                <p:spPr>
                  <a:xfrm>
                    <a:off x="6860520" y="59630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4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>
                    <a:off x="6860160" y="60940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4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>
                    <a:off x="7138440" y="61894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>
                    <a:off x="7143120" y="62380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>
                    <a:off x="7137720" y="61884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5" name=""/>
                  <p:cNvSpPr/>
                  <p:nvPr/>
                </p:nvSpPr>
                <p:spPr>
                  <a:xfrm>
                    <a:off x="7157160" y="62154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7294680" y="62902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7207920" y="62258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>
                    <a:off x="6874560" y="61437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>
                    <a:off x="6874560" y="61660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6874560" y="61869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7140240" y="62463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92" name=""/>
                <p:cNvSpPr/>
                <p:nvPr/>
              </p:nvSpPr>
              <p:spPr>
                <a:xfrm>
                  <a:off x="7002720" y="59558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7008480" y="59605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7139880" y="60048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6991560" y="60091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7096680" y="55706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7440840" y="56714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6949440" y="55749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6949440" y="56214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6987960" y="56646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7013160" y="56930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02" name=""/>
            <p:cNvSpPr/>
            <p:nvPr/>
          </p:nvSpPr>
          <p:spPr>
            <a:xfrm flipH="1" flipV="1">
              <a:off x="4065480" y="4855680"/>
              <a:ext cx="2098800" cy="514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5570640" y="2836800"/>
            <a:ext cx="849240" cy="2752920"/>
            <a:chOff x="5570640" y="2836800"/>
            <a:chExt cx="849240" cy="2752920"/>
          </a:xfrm>
        </p:grpSpPr>
        <p:grpSp>
          <p:nvGrpSpPr>
            <p:cNvPr id="5104" name=""/>
            <p:cNvGrpSpPr/>
            <p:nvPr/>
          </p:nvGrpSpPr>
          <p:grpSpPr>
            <a:xfrm>
              <a:off x="5603760" y="4308480"/>
              <a:ext cx="816120" cy="1281240"/>
              <a:chOff x="5603760" y="4308480"/>
              <a:chExt cx="816120" cy="1281240"/>
            </a:xfrm>
          </p:grpSpPr>
          <p:sp>
            <p:nvSpPr>
              <p:cNvPr id="5105" name=""/>
              <p:cNvSpPr/>
              <p:nvPr/>
            </p:nvSpPr>
            <p:spPr>
              <a:xfrm>
                <a:off x="5606280" y="43084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619240" y="52617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961600" y="43844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3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603760" y="44953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653800" y="53845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645160" y="45471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653800" y="5335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653800" y="52876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5653800" y="52408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653800" y="51919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5657760" y="47311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5631480" y="46422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5650200" y="46720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5652000" y="47736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5652000" y="48697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652000" y="49870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724360" y="47275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686560" y="47350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669280" y="49089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669280" y="50263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829840" y="49644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835600" y="50817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5665320" y="48016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828040" y="48546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9" name=""/>
            <p:cNvGrpSpPr/>
            <p:nvPr/>
          </p:nvGrpSpPr>
          <p:grpSpPr>
            <a:xfrm>
              <a:off x="5570640" y="2836800"/>
              <a:ext cx="815400" cy="1281240"/>
              <a:chOff x="5570640" y="2836800"/>
              <a:chExt cx="815400" cy="1281240"/>
            </a:xfrm>
          </p:grpSpPr>
          <p:sp>
            <p:nvSpPr>
              <p:cNvPr id="5130" name=""/>
              <p:cNvSpPr/>
              <p:nvPr/>
            </p:nvSpPr>
            <p:spPr>
              <a:xfrm>
                <a:off x="5573160" y="283680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5586120" y="379008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5928120" y="291276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4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5570640" y="302364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5620680" y="39128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5612040" y="3075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5620680" y="3864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5620680" y="3816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5620680" y="37692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5620680" y="37202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5624640" y="325944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5598360" y="3170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5617080" y="3200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5618880" y="3301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5618880" y="33980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5618880" y="35154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5691240" y="3255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5653440" y="3263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5636160" y="3437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5636160" y="3554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5796720" y="3492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5802480" y="3610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5632200" y="3330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5794560" y="33829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54" name=""/>
          <p:cNvGrpSpPr/>
          <p:nvPr/>
        </p:nvGrpSpPr>
        <p:grpSpPr>
          <a:xfrm>
            <a:off x="5913360" y="2916360"/>
            <a:ext cx="863280" cy="2759040"/>
            <a:chOff x="5913360" y="2916360"/>
            <a:chExt cx="863280" cy="2759040"/>
          </a:xfrm>
        </p:grpSpPr>
        <p:grpSp>
          <p:nvGrpSpPr>
            <p:cNvPr id="5155" name=""/>
            <p:cNvGrpSpPr/>
            <p:nvPr/>
          </p:nvGrpSpPr>
          <p:grpSpPr>
            <a:xfrm>
              <a:off x="5913360" y="2916360"/>
              <a:ext cx="816120" cy="1280880"/>
              <a:chOff x="5913360" y="2916360"/>
              <a:chExt cx="816120" cy="1280880"/>
            </a:xfrm>
          </p:grpSpPr>
          <p:sp>
            <p:nvSpPr>
              <p:cNvPr id="5156" name=""/>
              <p:cNvSpPr/>
              <p:nvPr/>
            </p:nvSpPr>
            <p:spPr>
              <a:xfrm>
                <a:off x="5915880" y="291636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5928840" y="386928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271200" y="299232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5913360" y="310320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5963400" y="399204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5954760" y="31550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963400" y="3943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5963400" y="38955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5963400" y="38484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963400" y="379944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967360" y="333900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941080" y="32500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959800" y="32799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961600" y="33814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961600" y="347724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5961600" y="359460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033960" y="33354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5996160" y="33429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5978880" y="35168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5978880" y="36342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139440" y="35722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145200" y="36896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5974920" y="34095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137640" y="346212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0" name=""/>
            <p:cNvGrpSpPr/>
            <p:nvPr/>
          </p:nvGrpSpPr>
          <p:grpSpPr>
            <a:xfrm>
              <a:off x="5961240" y="4394160"/>
              <a:ext cx="815400" cy="1281240"/>
              <a:chOff x="5961240" y="4394160"/>
              <a:chExt cx="815400" cy="1281240"/>
            </a:xfrm>
          </p:grpSpPr>
          <p:sp>
            <p:nvSpPr>
              <p:cNvPr id="5181" name=""/>
              <p:cNvSpPr/>
              <p:nvPr/>
            </p:nvSpPr>
            <p:spPr>
              <a:xfrm>
                <a:off x="5963760" y="439416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976720" y="534744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318720" y="447012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961240" y="458100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011280" y="547020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02640" y="463284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011280" y="5421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11280" y="537336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011280" y="53265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011280" y="527760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015240" y="481680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988960" y="472788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007680" y="475776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009480" y="485928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009480" y="495540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009480" y="507276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81840" y="481320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044040" y="482076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026760" y="499464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026760" y="511200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187320" y="505008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193080" y="516744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022800" y="488736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185160" y="49402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5" name=""/>
          <p:cNvSpPr/>
          <p:nvPr/>
        </p:nvSpPr>
        <p:spPr>
          <a:xfrm>
            <a:off x="1965240" y="1227240"/>
            <a:ext cx="7167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nagy sávszélesség kell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ö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1965240" y="1682640"/>
            <a:ext cx="7167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 kiterjedt a hálózat, akkor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ierarc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1965240" y="2124000"/>
            <a:ext cx="71676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77720" indent="-4777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 Narrow"/>
              </a:rPr>
              <a:t>A tömb és a hierarchia </a:t>
            </a:r>
            <a:r>
              <a:rPr b="1" lang="hu-HU" sz="3200" spc="-1" strike="noStrike">
                <a:solidFill>
                  <a:srgbClr val="ffff00"/>
                </a:solidFill>
                <a:latin typeface="Arial Narrow"/>
              </a:rPr>
              <a:t>kombinálhat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4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5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8" name=""/>
          <p:cNvGrpSpPr/>
          <p:nvPr/>
        </p:nvGrpSpPr>
        <p:grpSpPr>
          <a:xfrm>
            <a:off x="6573240" y="4816440"/>
            <a:ext cx="2493720" cy="1922760"/>
            <a:chOff x="6573240" y="4816440"/>
            <a:chExt cx="2493720" cy="1922760"/>
          </a:xfrm>
        </p:grpSpPr>
        <p:sp>
          <p:nvSpPr>
            <p:cNvPr id="5209" name=""/>
            <p:cNvSpPr/>
            <p:nvPr/>
          </p:nvSpPr>
          <p:spPr>
            <a:xfrm>
              <a:off x="6777000" y="4816440"/>
              <a:ext cx="1066680" cy="64296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0" name=""/>
            <p:cNvGrpSpPr/>
            <p:nvPr/>
          </p:nvGrpSpPr>
          <p:grpSpPr>
            <a:xfrm>
              <a:off x="6573240" y="4937040"/>
              <a:ext cx="2493720" cy="1802160"/>
              <a:chOff x="6573240" y="4937040"/>
              <a:chExt cx="2493720" cy="1802160"/>
            </a:xfrm>
          </p:grpSpPr>
          <p:sp>
            <p:nvSpPr>
              <p:cNvPr id="5211" name=""/>
              <p:cNvSpPr/>
              <p:nvPr/>
            </p:nvSpPr>
            <p:spPr>
              <a:xfrm rot="471000">
                <a:off x="6638760" y="5460480"/>
                <a:ext cx="236232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12" name=""/>
              <p:cNvGrpSpPr/>
              <p:nvPr/>
            </p:nvGrpSpPr>
            <p:grpSpPr>
              <a:xfrm>
                <a:off x="7356600" y="4937040"/>
                <a:ext cx="815400" cy="1281240"/>
                <a:chOff x="7356600" y="4937040"/>
                <a:chExt cx="815400" cy="1281240"/>
              </a:xfrm>
            </p:grpSpPr>
            <p:sp>
              <p:nvSpPr>
                <p:cNvPr id="5213" name=""/>
                <p:cNvSpPr/>
                <p:nvPr/>
              </p:nvSpPr>
              <p:spPr>
                <a:xfrm>
                  <a:off x="7359120" y="493704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7372080" y="589032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7714080" y="501300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7356600" y="5123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>
                  <a:off x="7406640" y="6013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>
                  <a:off x="7398000" y="5175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7406640" y="5964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>
                  <a:off x="7406640" y="5916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>
                  <a:off x="7406640" y="5869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7406640" y="5820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7410600" y="535968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7384320" y="5270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7403040" y="5300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7404840" y="5402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7404840" y="5498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7404840" y="5615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7477200" y="5356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7439400" y="5363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7422120" y="5537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7422120" y="5654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7582680" y="5592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7588440" y="5710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7418160" y="5430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7580520" y="5483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7" name=""/>
              <p:cNvGrpSpPr/>
              <p:nvPr/>
            </p:nvGrpSpPr>
            <p:grpSpPr>
              <a:xfrm>
                <a:off x="7707240" y="5018040"/>
                <a:ext cx="816120" cy="1281240"/>
                <a:chOff x="7707240" y="5018040"/>
                <a:chExt cx="816120" cy="1281240"/>
              </a:xfrm>
            </p:grpSpPr>
            <p:sp>
              <p:nvSpPr>
                <p:cNvPr id="5238" name=""/>
                <p:cNvSpPr/>
                <p:nvPr/>
              </p:nvSpPr>
              <p:spPr>
                <a:xfrm>
                  <a:off x="7709760" y="501804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7722720" y="597132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8065080" y="509400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7707240" y="520488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7757280" y="609408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7748640" y="525672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7757280" y="6045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7757280" y="599724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757280" y="59504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757280" y="590148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7761240" y="544068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7734960" y="535176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7753680" y="538164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7755480" y="548316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7755480" y="557928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7755480" y="569664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7827840" y="543708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7790040" y="544464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7772760" y="561852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7772760" y="573588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7933320" y="567396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7939080" y="579132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7768800" y="551124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7931520" y="556416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62" name=""/>
          <p:cNvGrpSpPr/>
          <p:nvPr/>
        </p:nvGrpSpPr>
        <p:grpSpPr>
          <a:xfrm>
            <a:off x="4152600" y="4786200"/>
            <a:ext cx="2493360" cy="1975680"/>
            <a:chOff x="4152600" y="4786200"/>
            <a:chExt cx="2493360" cy="1975680"/>
          </a:xfrm>
        </p:grpSpPr>
        <p:sp>
          <p:nvSpPr>
            <p:cNvPr id="5263" name=""/>
            <p:cNvSpPr/>
            <p:nvPr/>
          </p:nvSpPr>
          <p:spPr>
            <a:xfrm flipH="1">
              <a:off x="5204880" y="4786200"/>
              <a:ext cx="1187640" cy="5810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4" name=""/>
            <p:cNvGrpSpPr/>
            <p:nvPr/>
          </p:nvGrpSpPr>
          <p:grpSpPr>
            <a:xfrm>
              <a:off x="4152600" y="4959360"/>
              <a:ext cx="2493360" cy="1802520"/>
              <a:chOff x="4152600" y="4959360"/>
              <a:chExt cx="2493360" cy="1802520"/>
            </a:xfrm>
          </p:grpSpPr>
          <p:sp>
            <p:nvSpPr>
              <p:cNvPr id="5265" name=""/>
              <p:cNvSpPr/>
              <p:nvPr/>
            </p:nvSpPr>
            <p:spPr>
              <a:xfrm rot="471000">
                <a:off x="4218120" y="5483160"/>
                <a:ext cx="2361960" cy="1122480"/>
              </a:xfrm>
              <a:prstGeom prst="ellipse">
                <a:avLst/>
              </a:prstGeom>
              <a:gradFill rotWithShape="0">
                <a:gsLst>
                  <a:gs pos="0">
                    <a:srgbClr val="005100"/>
                  </a:gs>
                  <a:gs pos="100000">
                    <a:srgbClr val="00b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66" name=""/>
              <p:cNvGrpSpPr/>
              <p:nvPr/>
            </p:nvGrpSpPr>
            <p:grpSpPr>
              <a:xfrm>
                <a:off x="4935600" y="4959360"/>
                <a:ext cx="815400" cy="1281240"/>
                <a:chOff x="4935600" y="4959360"/>
                <a:chExt cx="815400" cy="1281240"/>
              </a:xfrm>
            </p:grpSpPr>
            <p:sp>
              <p:nvSpPr>
                <p:cNvPr id="5267" name=""/>
                <p:cNvSpPr/>
                <p:nvPr/>
              </p:nvSpPr>
              <p:spPr>
                <a:xfrm>
                  <a:off x="4938120" y="495936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4951080" y="591264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5293080" y="503532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4935600" y="5146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4985640" y="6035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4977000" y="5198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985640" y="5986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4985640" y="5938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4985640" y="5891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4985640" y="5842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>
                  <a:off x="4989600" y="538200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4963320" y="5293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982040" y="5322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4983840" y="5424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4983840" y="5520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4983840" y="5637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5056200" y="5378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5018400" y="5385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5001120" y="5559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5001120" y="5677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5161680" y="5615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5167440" y="5732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4997160" y="5452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5159520" y="5505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1" name=""/>
              <p:cNvGrpSpPr/>
              <p:nvPr/>
            </p:nvGrpSpPr>
            <p:grpSpPr>
              <a:xfrm>
                <a:off x="5286240" y="5040360"/>
                <a:ext cx="816120" cy="1281240"/>
                <a:chOff x="5286240" y="5040360"/>
                <a:chExt cx="816120" cy="1281240"/>
              </a:xfrm>
            </p:grpSpPr>
            <p:sp>
              <p:nvSpPr>
                <p:cNvPr id="5292" name=""/>
                <p:cNvSpPr/>
                <p:nvPr/>
              </p:nvSpPr>
              <p:spPr>
                <a:xfrm>
                  <a:off x="5288760" y="5040360"/>
                  <a:ext cx="81216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5301720" y="5993640"/>
                  <a:ext cx="78804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5644080" y="5116320"/>
                  <a:ext cx="45828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5286240" y="522720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5336280" y="611640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5327640" y="527904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5336280" y="6067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5336280" y="601956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5336280" y="597276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5336280" y="59238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5340240" y="5463000"/>
                  <a:ext cx="24840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5313960" y="537408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5332680" y="540396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5334480" y="550548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5334480" y="560160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5334480" y="571896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5406840" y="545940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5369040" y="546696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>
                  <a:off x="5351760" y="564084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5351760" y="575820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5512320" y="569628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5518080" y="581364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5347800" y="553356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5510520" y="558648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6" name=""/>
          <p:cNvGrpSpPr/>
          <p:nvPr/>
        </p:nvGrpSpPr>
        <p:grpSpPr>
          <a:xfrm>
            <a:off x="5123160" y="3043080"/>
            <a:ext cx="3369600" cy="2052720"/>
            <a:chOff x="5123160" y="3043080"/>
            <a:chExt cx="3369600" cy="2052720"/>
          </a:xfrm>
        </p:grpSpPr>
        <p:sp>
          <p:nvSpPr>
            <p:cNvPr id="5317" name=""/>
            <p:cNvSpPr/>
            <p:nvPr/>
          </p:nvSpPr>
          <p:spPr>
            <a:xfrm rot="471000">
              <a:off x="5211360" y="3368160"/>
              <a:ext cx="3192480" cy="1516320"/>
            </a:xfrm>
            <a:prstGeom prst="ellipse">
              <a:avLst/>
            </a:prstGeom>
            <a:gradFill rotWithShape="0">
              <a:gsLst>
                <a:gs pos="0">
                  <a:srgbClr val="005100"/>
                </a:gs>
                <a:gs pos="100000">
                  <a:srgbClr val="00b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8" name=""/>
            <p:cNvGrpSpPr/>
            <p:nvPr/>
          </p:nvGrpSpPr>
          <p:grpSpPr>
            <a:xfrm>
              <a:off x="5913360" y="3043080"/>
              <a:ext cx="816120" cy="1281240"/>
              <a:chOff x="5913360" y="3043080"/>
              <a:chExt cx="816120" cy="1281240"/>
            </a:xfrm>
          </p:grpSpPr>
          <p:sp>
            <p:nvSpPr>
              <p:cNvPr id="5319" name=""/>
              <p:cNvSpPr/>
              <p:nvPr/>
            </p:nvSpPr>
            <p:spPr>
              <a:xfrm>
                <a:off x="5915880" y="304308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928840" y="39963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271200" y="3119040"/>
                <a:ext cx="45828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913360" y="322992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963400" y="41191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954760" y="32817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963400" y="4070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963400" y="40222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963400" y="3975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963400" y="39265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967360" y="3465720"/>
                <a:ext cx="24840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941080" y="33768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959800" y="34066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961600" y="35082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961600" y="36043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961600" y="37216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033960" y="34621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996160" y="34696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978880" y="36435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978880" y="37609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139440" y="36990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145200" y="38163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974920" y="35362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6137640" y="35892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43" name=""/>
            <p:cNvGrpSpPr/>
            <p:nvPr/>
          </p:nvGrpSpPr>
          <p:grpSpPr>
            <a:xfrm>
              <a:off x="6265800" y="3133800"/>
              <a:ext cx="816120" cy="1280880"/>
              <a:chOff x="6265800" y="3133800"/>
              <a:chExt cx="816120" cy="1280880"/>
            </a:xfrm>
          </p:grpSpPr>
          <p:sp>
            <p:nvSpPr>
              <p:cNvPr id="5344" name=""/>
              <p:cNvSpPr/>
              <p:nvPr/>
            </p:nvSpPr>
            <p:spPr>
              <a:xfrm>
                <a:off x="6268320" y="313380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6281280" y="408672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6623640" y="320976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6265800" y="332064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6315840" y="42094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6307200" y="337248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6315840" y="4160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6315840" y="411300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6315840" y="40658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6315840" y="401688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319800" y="355644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6293520" y="346752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6312240" y="349740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314040" y="359892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314040" y="36946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6314040" y="38120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386400" y="355284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6348600" y="356040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331320" y="373428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6331320" y="385164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6491880" y="378972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6497640" y="390708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6327360" y="362700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6490080" y="36795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68" name=""/>
            <p:cNvGrpSpPr/>
            <p:nvPr/>
          </p:nvGrpSpPr>
          <p:grpSpPr>
            <a:xfrm>
              <a:off x="6620040" y="3220920"/>
              <a:ext cx="815400" cy="1281240"/>
              <a:chOff x="6620040" y="3220920"/>
              <a:chExt cx="815400" cy="1281240"/>
            </a:xfrm>
          </p:grpSpPr>
          <p:sp>
            <p:nvSpPr>
              <p:cNvPr id="5369" name=""/>
              <p:cNvSpPr/>
              <p:nvPr/>
            </p:nvSpPr>
            <p:spPr>
              <a:xfrm>
                <a:off x="6622560" y="322092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6635520" y="4174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6977520" y="329688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6620040" y="340776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6670080" y="4296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6661440" y="345960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6670080" y="4248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6670080" y="420012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6670080" y="4153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6670080" y="410436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6674040" y="364356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6647760" y="355464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6666480" y="358452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6668280" y="368604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6668280" y="3782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6668280" y="3899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6740640" y="363996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6702840" y="364752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6685560" y="382140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6685560" y="393876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6846120" y="38768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6851880" y="399420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6681600" y="371412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6843960" y="3767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93" name=""/>
            <p:cNvGrpSpPr/>
            <p:nvPr/>
          </p:nvGrpSpPr>
          <p:grpSpPr>
            <a:xfrm>
              <a:off x="6975360" y="3311640"/>
              <a:ext cx="816120" cy="1280880"/>
              <a:chOff x="6975360" y="3311640"/>
              <a:chExt cx="816120" cy="1280880"/>
            </a:xfrm>
          </p:grpSpPr>
          <p:sp>
            <p:nvSpPr>
              <p:cNvPr id="5394" name=""/>
              <p:cNvSpPr/>
              <p:nvPr/>
            </p:nvSpPr>
            <p:spPr>
              <a:xfrm>
                <a:off x="6977880" y="3311640"/>
                <a:ext cx="81216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6990840" y="4264560"/>
                <a:ext cx="78804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7333200" y="3387600"/>
                <a:ext cx="45828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6975360" y="349848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7025400" y="438732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016760" y="35503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7025400" y="4338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7025400" y="42908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7025400" y="42436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7025400" y="419472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7029360" y="3734280"/>
                <a:ext cx="24840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7003080" y="36453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7021800" y="36752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7023600" y="37767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7023600" y="387252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7023600" y="398988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7095960" y="37306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7058160" y="37382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7040880" y="39121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7040880" y="40294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7201440" y="39675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7207200" y="40849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7036920" y="38048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7199640" y="385740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ímtár alapú felügyel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307360" cy="20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tMeetingen videózni hétvégén lehet, de akkor is csak 56 kbs-s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rendszermérnökök, de ők is csak a saját gépeikről ftp-zhetne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533160" y="3144600"/>
            <a:ext cx="5678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gvalósítás eszköze a házir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kalmazás, felhasználó, csoporttagság, IP cím, időszak, elérendő kiszolgálók neve/címe, tartalom típ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rot="16200000">
            <a:off x="6287040" y="3180240"/>
            <a:ext cx="681120" cy="1419480"/>
          </a:xfrm>
          <a:prstGeom prst="parallelogram">
            <a:avLst>
              <a:gd name="adj" fmla="val 53144"/>
            </a:avLst>
          </a:prstGeom>
          <a:solidFill>
            <a:srgbClr val="edba9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rot="16200000">
            <a:off x="5889600" y="3261960"/>
            <a:ext cx="407880" cy="351000"/>
          </a:xfrm>
          <a:prstGeom prst="parallelogram">
            <a:avLst>
              <a:gd name="adj" fmla="val 23332"/>
            </a:avLst>
          </a:prstGeom>
          <a:solidFill>
            <a:srgbClr val="376a87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 rot="16200000">
            <a:off x="6240600" y="3349440"/>
            <a:ext cx="401400" cy="347400"/>
          </a:xfrm>
          <a:prstGeom prst="parallelogram">
            <a:avLst>
              <a:gd name="adj" fmla="val 22478"/>
            </a:avLst>
          </a:prstGeom>
          <a:solidFill>
            <a:srgbClr val="498db3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 rot="16200000">
            <a:off x="6584760" y="3431880"/>
            <a:ext cx="417600" cy="360360"/>
          </a:xfrm>
          <a:prstGeom prst="parallelogram">
            <a:avLst>
              <a:gd name="adj" fmla="val 25698"/>
            </a:avLst>
          </a:prstGeom>
          <a:solidFill>
            <a:srgbClr val="2b536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 rot="16200000">
            <a:off x="6946920" y="3521160"/>
            <a:ext cx="417600" cy="366480"/>
          </a:xfrm>
          <a:prstGeom prst="parallelogram">
            <a:avLst>
              <a:gd name="adj" fmla="val 25269"/>
            </a:avLst>
          </a:prstGeom>
          <a:solidFill>
            <a:srgbClr val="90bad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 rot="16200000">
            <a:off x="4898880" y="5176800"/>
            <a:ext cx="426960" cy="347400"/>
          </a:xfrm>
          <a:prstGeom prst="parallelogram">
            <a:avLst>
              <a:gd name="adj" fmla="val 25126"/>
            </a:avLst>
          </a:prstGeom>
          <a:solidFill>
            <a:srgbClr val="2a5166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 rot="16200000">
            <a:off x="5042520" y="536760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00b0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 rot="16200000">
            <a:off x="5251320" y="526248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 rot="16200000">
            <a:off x="6285600" y="3497760"/>
            <a:ext cx="684000" cy="1419480"/>
          </a:xfrm>
          <a:prstGeom prst="parallelogram">
            <a:avLst>
              <a:gd name="adj" fmla="val 53130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 rot="16200000">
            <a:off x="5042520" y="56818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rot="16200000">
            <a:off x="7463520" y="5660280"/>
            <a:ext cx="493920" cy="704880"/>
          </a:xfrm>
          <a:prstGeom prst="parallelogram">
            <a:avLst>
              <a:gd name="adj" fmla="val 36653"/>
            </a:avLst>
          </a:prstGeom>
          <a:solidFill>
            <a:srgbClr val="ffff00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rot="16200000">
            <a:off x="7319880" y="5154480"/>
            <a:ext cx="426960" cy="347760"/>
          </a:xfrm>
          <a:prstGeom prst="parallelogram">
            <a:avLst>
              <a:gd name="adj" fmla="val 25100"/>
            </a:avLst>
          </a:prstGeom>
          <a:solidFill>
            <a:srgbClr val="96bed4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 rot="16200000">
            <a:off x="7463520" y="5345280"/>
            <a:ext cx="493560" cy="704880"/>
          </a:xfrm>
          <a:prstGeom prst="parallelogram">
            <a:avLst>
              <a:gd name="adj" fmla="val 36653"/>
            </a:avLst>
          </a:prstGeom>
          <a:solidFill>
            <a:srgbClr val="ce6c22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rot="16200000">
            <a:off x="7672320" y="5240160"/>
            <a:ext cx="426960" cy="353880"/>
          </a:xfrm>
          <a:prstGeom prst="parallelogram">
            <a:avLst>
              <a:gd name="adj" fmla="val 26013"/>
            </a:avLst>
          </a:prstGeom>
          <a:solidFill>
            <a:srgbClr val="0000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>
            <a:off x="547560" y="4957920"/>
            <a:ext cx="56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Arial Narrow"/>
              </a:rPr>
              <a:t>nagyvállalati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,</a:t>
            </a:r>
            <a:br>
              <a:rPr sz="2400"/>
            </a:b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>
            <a:off x="544680" y="495936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tö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>
            <a:off x="552600" y="4967280"/>
            <a:ext cx="567828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93880" indent="-4143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u-HU" sz="24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és</a:t>
            </a:r>
            <a:br>
              <a:rPr sz="2400"/>
            </a:br>
            <a:r>
              <a:rPr b="1" lang="hu-HU" sz="2400" spc="-1" strike="noStrike">
                <a:solidFill>
                  <a:srgbClr val="90bad2"/>
                </a:solidFill>
                <a:latin typeface="Arial Narrow"/>
              </a:rPr>
              <a:t>egyedi kiszolgáló</a:t>
            </a: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 szi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5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5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5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5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5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5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5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5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63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63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64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66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6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69" name=""/>
            <p:cNvCxnSpPr>
              <a:endCxn id="66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0" name=""/>
            <p:cNvCxnSpPr>
              <a:endCxn id="66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1" name=""/>
            <p:cNvCxnSpPr>
              <a:endCxn id="66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2" name=""/>
            <p:cNvCxnSpPr>
              <a:stCxn id="663" idx="6"/>
              <a:endCxn id="66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3" name=""/>
            <p:cNvCxnSpPr>
              <a:stCxn id="663" idx="6"/>
              <a:endCxn id="66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74" name=""/>
            <p:cNvCxnSpPr>
              <a:stCxn id="663" idx="6"/>
              <a:endCxn id="66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67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67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8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685" name=""/>
            <p:cNvCxnSpPr>
              <a:endCxn id="67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6" name=""/>
            <p:cNvCxnSpPr>
              <a:endCxn id="68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7" name=""/>
            <p:cNvCxnSpPr>
              <a:endCxn id="68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8" name=""/>
            <p:cNvCxnSpPr>
              <a:stCxn id="679" idx="6"/>
              <a:endCxn id="68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89" name=""/>
            <p:cNvCxnSpPr>
              <a:stCxn id="679" idx="6"/>
              <a:endCxn id="67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690" name=""/>
            <p:cNvCxnSpPr>
              <a:stCxn id="679" idx="6"/>
              <a:endCxn id="67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69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9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00" name=""/>
            <p:cNvCxnSpPr>
              <a:endCxn id="69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1" name=""/>
            <p:cNvCxnSpPr>
              <a:endCxn id="69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2" name=""/>
            <p:cNvCxnSpPr>
              <a:endCxn id="69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3" name=""/>
            <p:cNvCxnSpPr>
              <a:stCxn id="694" idx="6"/>
              <a:endCxn id="69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4" name=""/>
            <p:cNvCxnSpPr>
              <a:stCxn id="694" idx="6"/>
              <a:endCxn id="69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05" name=""/>
            <p:cNvCxnSpPr>
              <a:stCxn id="694" idx="6"/>
              <a:endCxn id="69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0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70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15" name=""/>
            <p:cNvCxnSpPr>
              <a:endCxn id="70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6" name=""/>
            <p:cNvCxnSpPr>
              <a:endCxn id="71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7" name=""/>
            <p:cNvCxnSpPr>
              <a:endCxn id="71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8" name=""/>
            <p:cNvCxnSpPr>
              <a:stCxn id="709" idx="6"/>
              <a:endCxn id="71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19" name=""/>
            <p:cNvCxnSpPr>
              <a:stCxn id="709" idx="6"/>
              <a:endCxn id="70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20" name=""/>
            <p:cNvCxnSpPr>
              <a:stCxn id="709" idx="6"/>
              <a:endCxn id="70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2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72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30" name=""/>
            <p:cNvCxnSpPr>
              <a:endCxn id="72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1" name=""/>
            <p:cNvCxnSpPr>
              <a:endCxn id="72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2" name=""/>
            <p:cNvCxnSpPr>
              <a:endCxn id="72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3" name=""/>
            <p:cNvCxnSpPr>
              <a:stCxn id="724" idx="6"/>
              <a:endCxn id="72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4" name=""/>
            <p:cNvCxnSpPr>
              <a:stCxn id="724" idx="6"/>
              <a:endCxn id="72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35" name=""/>
            <p:cNvCxnSpPr>
              <a:stCxn id="724" idx="6"/>
              <a:endCxn id="72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73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73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4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45" name=""/>
            <p:cNvCxnSpPr>
              <a:endCxn id="73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6" name=""/>
            <p:cNvCxnSpPr>
              <a:endCxn id="74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7" name=""/>
            <p:cNvCxnSpPr>
              <a:endCxn id="74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8" name=""/>
            <p:cNvCxnSpPr>
              <a:stCxn id="739" idx="6"/>
              <a:endCxn id="74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49" name=""/>
            <p:cNvCxnSpPr>
              <a:stCxn id="739" idx="6"/>
              <a:endCxn id="73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50" name=""/>
            <p:cNvCxnSpPr>
              <a:stCxn id="739" idx="6"/>
              <a:endCxn id="73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75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75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76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76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77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78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8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8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788" name=""/>
            <p:cNvCxnSpPr>
              <a:endCxn id="78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89" name=""/>
            <p:cNvCxnSpPr>
              <a:endCxn id="78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0" name=""/>
            <p:cNvCxnSpPr>
              <a:endCxn id="78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1" name=""/>
            <p:cNvCxnSpPr>
              <a:stCxn id="782" idx="6"/>
              <a:endCxn id="78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2" name=""/>
            <p:cNvCxnSpPr>
              <a:stCxn id="782" idx="6"/>
              <a:endCxn id="78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793" name=""/>
            <p:cNvCxnSpPr>
              <a:stCxn id="782" idx="6"/>
              <a:endCxn id="78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79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9988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70476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98920" y="122076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l jön elő a biztonság kérdés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ndszer fizikai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lhasználók hiteles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álózati forgalom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ok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0" name=""/>
          <p:cNvGrpSpPr/>
          <p:nvPr/>
        </p:nvGrpSpPr>
        <p:grpSpPr>
          <a:xfrm>
            <a:off x="244440" y="4389480"/>
            <a:ext cx="2365560" cy="2317680"/>
            <a:chOff x="244440" y="4389480"/>
            <a:chExt cx="2365560" cy="2317680"/>
          </a:xfrm>
        </p:grpSpPr>
        <p:grpSp>
          <p:nvGrpSpPr>
            <p:cNvPr id="5441" name=""/>
            <p:cNvGrpSpPr/>
            <p:nvPr/>
          </p:nvGrpSpPr>
          <p:grpSpPr>
            <a:xfrm>
              <a:off x="244440" y="4389480"/>
              <a:ext cx="2365560" cy="2317680"/>
              <a:chOff x="244440" y="4389480"/>
              <a:chExt cx="2365560" cy="2317680"/>
            </a:xfrm>
          </p:grpSpPr>
          <p:grpSp>
            <p:nvGrpSpPr>
              <p:cNvPr id="5442" name=""/>
              <p:cNvGrpSpPr/>
              <p:nvPr/>
            </p:nvGrpSpPr>
            <p:grpSpPr>
              <a:xfrm>
                <a:off x="244440" y="4389480"/>
                <a:ext cx="2365560" cy="2317680"/>
                <a:chOff x="244440" y="4389480"/>
                <a:chExt cx="2365560" cy="2317680"/>
              </a:xfrm>
            </p:grpSpPr>
            <p:sp>
              <p:nvSpPr>
                <p:cNvPr id="5443" name=""/>
                <p:cNvSpPr/>
                <p:nvPr/>
              </p:nvSpPr>
              <p:spPr>
                <a:xfrm>
                  <a:off x="244440" y="4389480"/>
                  <a:ext cx="2365560" cy="231768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>
                  <a:off x="304920" y="4462560"/>
                  <a:ext cx="2255760" cy="21700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5" name=""/>
              <p:cNvGrpSpPr/>
              <p:nvPr/>
            </p:nvGrpSpPr>
            <p:grpSpPr>
              <a:xfrm>
                <a:off x="2157480" y="4457880"/>
                <a:ext cx="377640" cy="459720"/>
                <a:chOff x="2157480" y="4457880"/>
                <a:chExt cx="377640" cy="459720"/>
              </a:xfrm>
            </p:grpSpPr>
            <p:sp>
              <p:nvSpPr>
                <p:cNvPr id="5446" name=""/>
                <p:cNvSpPr/>
                <p:nvPr/>
              </p:nvSpPr>
              <p:spPr>
                <a:xfrm>
                  <a:off x="2157480" y="4484880"/>
                  <a:ext cx="377640" cy="378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>
                  <a:off x="2167560" y="4457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66"/>
                      </a:solidFill>
                      <a:latin typeface="Arial Black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8" name=""/>
            <p:cNvGrpSpPr/>
            <p:nvPr/>
          </p:nvGrpSpPr>
          <p:grpSpPr>
            <a:xfrm>
              <a:off x="1502280" y="4883040"/>
              <a:ext cx="815400" cy="1281240"/>
              <a:chOff x="1502280" y="4883040"/>
              <a:chExt cx="815400" cy="1281240"/>
            </a:xfrm>
          </p:grpSpPr>
          <p:sp>
            <p:nvSpPr>
              <p:cNvPr id="5449" name=""/>
              <p:cNvSpPr/>
              <p:nvPr/>
            </p:nvSpPr>
            <p:spPr>
              <a:xfrm flipH="1">
                <a:off x="1503000" y="488304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 flipH="1">
                <a:off x="1514520" y="583632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>
                <a:off x="1502280" y="4959000"/>
                <a:ext cx="457920" cy="117324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H="1">
                <a:off x="1954800" y="5069880"/>
                <a:ext cx="362520" cy="105624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2017440" y="595908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 flipH="1">
                <a:off x="2235960" y="512172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>
                <a:off x="2017440" y="5910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H="1">
                <a:off x="2017440" y="586224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H="1">
                <a:off x="2017440" y="581544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2017440" y="576648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>
                <a:off x="2015280" y="5305680"/>
                <a:ext cx="248040" cy="44928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H="1">
                <a:off x="2005560" y="521676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H="1">
                <a:off x="2017800" y="524664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H="1">
                <a:off x="2026080" y="534816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2023200" y="544428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H="1">
                <a:off x="2034720" y="556164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 flipH="1">
                <a:off x="2100600" y="530208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H="1">
                <a:off x="2055240" y="530964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H="1">
                <a:off x="2035440" y="548352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 flipH="1">
                <a:off x="2034720" y="560088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 flipH="1">
                <a:off x="2057040" y="553896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052000" y="565632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H="1">
                <a:off x="2035800" y="537624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H="1">
                <a:off x="2059920" y="542916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473" name=""/>
          <p:cNvGrpSpPr/>
          <p:nvPr/>
        </p:nvGrpSpPr>
        <p:grpSpPr>
          <a:xfrm>
            <a:off x="6654960" y="4421160"/>
            <a:ext cx="1848960" cy="2044440"/>
            <a:chOff x="6654960" y="4421160"/>
            <a:chExt cx="1848960" cy="2044440"/>
          </a:xfrm>
        </p:grpSpPr>
        <p:grpSp>
          <p:nvGrpSpPr>
            <p:cNvPr id="5474" name=""/>
            <p:cNvGrpSpPr/>
            <p:nvPr/>
          </p:nvGrpSpPr>
          <p:grpSpPr>
            <a:xfrm>
              <a:off x="6654960" y="4421160"/>
              <a:ext cx="1848960" cy="2044440"/>
              <a:chOff x="6654960" y="4421160"/>
              <a:chExt cx="1848960" cy="2044440"/>
            </a:xfrm>
          </p:grpSpPr>
          <p:grpSp>
            <p:nvGrpSpPr>
              <p:cNvPr id="5475" name=""/>
              <p:cNvGrpSpPr/>
              <p:nvPr/>
            </p:nvGrpSpPr>
            <p:grpSpPr>
              <a:xfrm>
                <a:off x="6654960" y="5524560"/>
                <a:ext cx="1028160" cy="941040"/>
                <a:chOff x="6654960" y="5524560"/>
                <a:chExt cx="1028160" cy="941040"/>
              </a:xfrm>
            </p:grpSpPr>
            <p:sp>
              <p:nvSpPr>
                <p:cNvPr id="5476" name=""/>
                <p:cNvSpPr/>
                <p:nvPr/>
              </p:nvSpPr>
              <p:spPr>
                <a:xfrm>
                  <a:off x="6654960" y="6187680"/>
                  <a:ext cx="73476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6666120" y="6193800"/>
                  <a:ext cx="71532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6841800" y="6207120"/>
                  <a:ext cx="40248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6725880" y="62287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7131240" y="63162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>
                  <a:off x="7079040" y="63525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7160400" y="63309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"/>
                <p:cNvGrpSpPr/>
                <p:nvPr/>
              </p:nvGrpSpPr>
              <p:grpSpPr>
                <a:xfrm>
                  <a:off x="6871320" y="5524560"/>
                  <a:ext cx="811800" cy="793800"/>
                  <a:chOff x="6871320" y="5524560"/>
                  <a:chExt cx="811800" cy="793800"/>
                </a:xfrm>
              </p:grpSpPr>
              <p:grpSp>
                <p:nvGrpSpPr>
                  <p:cNvPr id="5484" name=""/>
                  <p:cNvGrpSpPr/>
                  <p:nvPr/>
                </p:nvGrpSpPr>
                <p:grpSpPr>
                  <a:xfrm>
                    <a:off x="6871320" y="5916960"/>
                    <a:ext cx="811800" cy="401400"/>
                    <a:chOff x="6871320" y="5916960"/>
                    <a:chExt cx="811800" cy="401400"/>
                  </a:xfrm>
                </p:grpSpPr>
                <p:sp>
                  <p:nvSpPr>
                    <p:cNvPr id="5485" name=""/>
                    <p:cNvSpPr/>
                    <p:nvPr/>
                  </p:nvSpPr>
                  <p:spPr>
                    <a:xfrm>
                      <a:off x="7403040" y="60256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6" name=""/>
                    <p:cNvSpPr/>
                    <p:nvPr/>
                  </p:nvSpPr>
                  <p:spPr>
                    <a:xfrm>
                      <a:off x="6871680" y="5916960"/>
                      <a:ext cx="81108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4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7" name=""/>
                    <p:cNvSpPr/>
                    <p:nvPr/>
                  </p:nvSpPr>
                  <p:spPr>
                    <a:xfrm>
                      <a:off x="6871320" y="60480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5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8" name=""/>
                    <p:cNvSpPr/>
                    <p:nvPr/>
                  </p:nvSpPr>
                  <p:spPr>
                    <a:xfrm>
                      <a:off x="7149600" y="61434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9" name=""/>
                    <p:cNvSpPr/>
                    <p:nvPr/>
                  </p:nvSpPr>
                  <p:spPr>
                    <a:xfrm>
                      <a:off x="7154280" y="61920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0" name=""/>
                    <p:cNvSpPr/>
                    <p:nvPr/>
                  </p:nvSpPr>
                  <p:spPr>
                    <a:xfrm>
                      <a:off x="7148880" y="61423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1" name=""/>
                    <p:cNvSpPr/>
                    <p:nvPr/>
                  </p:nvSpPr>
                  <p:spPr>
                    <a:xfrm>
                      <a:off x="7168320" y="61693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2" name=""/>
                    <p:cNvSpPr/>
                    <p:nvPr/>
                  </p:nvSpPr>
                  <p:spPr>
                    <a:xfrm>
                      <a:off x="7305840" y="62442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3" name=""/>
                    <p:cNvSpPr/>
                    <p:nvPr/>
                  </p:nvSpPr>
                  <p:spPr>
                    <a:xfrm>
                      <a:off x="7219080" y="61797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4" name=""/>
                    <p:cNvSpPr/>
                    <p:nvPr/>
                  </p:nvSpPr>
                  <p:spPr>
                    <a:xfrm>
                      <a:off x="6885720" y="60976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5" name=""/>
                    <p:cNvSpPr/>
                    <p:nvPr/>
                  </p:nvSpPr>
                  <p:spPr>
                    <a:xfrm>
                      <a:off x="6885720" y="61200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6" name=""/>
                    <p:cNvSpPr/>
                    <p:nvPr/>
                  </p:nvSpPr>
                  <p:spPr>
                    <a:xfrm>
                      <a:off x="6885720" y="61408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7" name=""/>
                    <p:cNvSpPr/>
                    <p:nvPr/>
                  </p:nvSpPr>
                  <p:spPr>
                    <a:xfrm>
                      <a:off x="7151400" y="62002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8" name=""/>
                  <p:cNvSpPr/>
                  <p:nvPr/>
                </p:nvSpPr>
                <p:spPr>
                  <a:xfrm>
                    <a:off x="7013880" y="5909760"/>
                    <a:ext cx="54324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>
                    <a:off x="7019640" y="59144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>
                    <a:off x="7151040" y="59587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>
                    <a:off x="7002720" y="5963040"/>
                    <a:ext cx="4410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>
                    <a:off x="7107840" y="5524560"/>
                    <a:ext cx="55116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>
                    <a:off x="7452000" y="56253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>
                    <a:off x="6960600" y="55288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>
                    <a:off x="6960600" y="55753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6999120" y="56185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>
                    <a:off x="7024320" y="5646960"/>
                    <a:ext cx="363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08" name=""/>
              <p:cNvGrpSpPr/>
              <p:nvPr/>
            </p:nvGrpSpPr>
            <p:grpSpPr>
              <a:xfrm>
                <a:off x="6700680" y="4421160"/>
                <a:ext cx="1028160" cy="941040"/>
                <a:chOff x="6700680" y="4421160"/>
                <a:chExt cx="1028160" cy="94104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6700680" y="5084280"/>
                  <a:ext cx="735120" cy="277920"/>
                </a:xfrm>
                <a:custGeom>
                  <a:avLst/>
                  <a:gdLst/>
                  <a:ahLst/>
                  <a:rect l="l" t="t" r="r" b="b"/>
                  <a:pathLst>
                    <a:path w="872" h="366">
                      <a:moveTo>
                        <a:pt x="872" y="178"/>
                      </a:moveTo>
                      <a:lnTo>
                        <a:pt x="872" y="246"/>
                      </a:lnTo>
                      <a:lnTo>
                        <a:pt x="682" y="366"/>
                      </a:lnTo>
                      <a:lnTo>
                        <a:pt x="0" y="170"/>
                      </a:lnTo>
                      <a:lnTo>
                        <a:pt x="0" y="142"/>
                      </a:lnTo>
                      <a:lnTo>
                        <a:pt x="230" y="0"/>
                      </a:lnTo>
                      <a:lnTo>
                        <a:pt x="872" y="178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6711840" y="5090400"/>
                  <a:ext cx="715680" cy="245880"/>
                </a:xfrm>
                <a:custGeom>
                  <a:avLst/>
                  <a:gdLst/>
                  <a:ahLst/>
                  <a:rect l="l" t="t" r="r" b="b"/>
                  <a:pathLst>
                    <a:path w="848" h="324">
                      <a:moveTo>
                        <a:pt x="848" y="174"/>
                      </a:moveTo>
                      <a:lnTo>
                        <a:pt x="216" y="0"/>
                      </a:lnTo>
                      <a:lnTo>
                        <a:pt x="0" y="134"/>
                      </a:lnTo>
                      <a:lnTo>
                        <a:pt x="666" y="324"/>
                      </a:lnTo>
                      <a:lnTo>
                        <a:pt x="848" y="174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6887520" y="5103720"/>
                  <a:ext cx="402840" cy="105480"/>
                </a:xfrm>
                <a:custGeom>
                  <a:avLst/>
                  <a:gdLst/>
                  <a:ahLst/>
                  <a:rect l="l" t="t" r="r" b="b"/>
                  <a:pathLst>
                    <a:path w="477" h="138">
                      <a:moveTo>
                        <a:pt x="0" y="12"/>
                      </a:moveTo>
                      <a:lnTo>
                        <a:pt x="456" y="138"/>
                      </a:lnTo>
                      <a:lnTo>
                        <a:pt x="477" y="12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6771600" y="5125320"/>
                  <a:ext cx="418680" cy="133920"/>
                </a:xfrm>
                <a:custGeom>
                  <a:avLst/>
                  <a:gdLst/>
                  <a:ahLst/>
                  <a:rect l="l" t="t" r="r" b="b"/>
                  <a:pathLst>
                    <a:path w="496" h="177">
                      <a:moveTo>
                        <a:pt x="0" y="66"/>
                      </a:moveTo>
                      <a:lnTo>
                        <a:pt x="21" y="73"/>
                      </a:lnTo>
                      <a:lnTo>
                        <a:pt x="45" y="61"/>
                      </a:lnTo>
                      <a:lnTo>
                        <a:pt x="60" y="66"/>
                      </a:lnTo>
                      <a:lnTo>
                        <a:pt x="45" y="80"/>
                      </a:lnTo>
                      <a:lnTo>
                        <a:pt x="344" y="163"/>
                      </a:lnTo>
                      <a:lnTo>
                        <a:pt x="360" y="151"/>
                      </a:lnTo>
                      <a:lnTo>
                        <a:pt x="386" y="158"/>
                      </a:lnTo>
                      <a:lnTo>
                        <a:pt x="370" y="170"/>
                      </a:lnTo>
                      <a:lnTo>
                        <a:pt x="396" y="177"/>
                      </a:lnTo>
                      <a:lnTo>
                        <a:pt x="496" y="106"/>
                      </a:lnTo>
                      <a:lnTo>
                        <a:pt x="11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7176960" y="5212800"/>
                  <a:ext cx="90360" cy="3276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40" y="0"/>
                      </a:moveTo>
                      <a:lnTo>
                        <a:pt x="107" y="17"/>
                      </a:lnTo>
                      <a:lnTo>
                        <a:pt x="69" y="43"/>
                      </a:lnTo>
                      <a:lnTo>
                        <a:pt x="0" y="25"/>
                      </a:lnTo>
                      <a:lnTo>
                        <a:pt x="4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>
                  <a:off x="7124760" y="5249160"/>
                  <a:ext cx="81360" cy="31320"/>
                </a:xfrm>
                <a:custGeom>
                  <a:avLst/>
                  <a:gdLst/>
                  <a:ahLst/>
                  <a:rect l="l" t="t" r="r" b="b"/>
                  <a:pathLst>
                    <a:path w="97" h="42">
                      <a:moveTo>
                        <a:pt x="21" y="7"/>
                      </a:moveTo>
                      <a:lnTo>
                        <a:pt x="46" y="11"/>
                      </a:lnTo>
                      <a:lnTo>
                        <a:pt x="60" y="0"/>
                      </a:lnTo>
                      <a:lnTo>
                        <a:pt x="84" y="8"/>
                      </a:lnTo>
                      <a:lnTo>
                        <a:pt x="72" y="19"/>
                      </a:lnTo>
                      <a:lnTo>
                        <a:pt x="96" y="25"/>
                      </a:lnTo>
                      <a:lnTo>
                        <a:pt x="77" y="41"/>
                      </a:lnTo>
                      <a:lnTo>
                        <a:pt x="0" y="21"/>
                      </a:lnTo>
                      <a:lnTo>
                        <a:pt x="21" y="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>
                  <a:off x="7206480" y="5227560"/>
                  <a:ext cx="155160" cy="73800"/>
                </a:xfrm>
                <a:custGeom>
                  <a:avLst/>
                  <a:gdLst/>
                  <a:ahLst/>
                  <a:rect l="l" t="t" r="r" b="b"/>
                  <a:pathLst>
                    <a:path w="185" h="97">
                      <a:moveTo>
                        <a:pt x="101" y="0"/>
                      </a:moveTo>
                      <a:lnTo>
                        <a:pt x="185" y="22"/>
                      </a:lnTo>
                      <a:lnTo>
                        <a:pt x="83" y="97"/>
                      </a:lnTo>
                      <a:lnTo>
                        <a:pt x="0" y="74"/>
                      </a:lnTo>
                      <a:lnTo>
                        <a:pt x="10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16" name=""/>
                <p:cNvGrpSpPr/>
                <p:nvPr/>
              </p:nvGrpSpPr>
              <p:grpSpPr>
                <a:xfrm>
                  <a:off x="6917040" y="4421160"/>
                  <a:ext cx="811800" cy="793800"/>
                  <a:chOff x="6917040" y="4421160"/>
                  <a:chExt cx="811800" cy="793800"/>
                </a:xfrm>
              </p:grpSpPr>
              <p:grpSp>
                <p:nvGrpSpPr>
                  <p:cNvPr id="5517" name=""/>
                  <p:cNvGrpSpPr/>
                  <p:nvPr/>
                </p:nvGrpSpPr>
                <p:grpSpPr>
                  <a:xfrm>
                    <a:off x="6917040" y="4813560"/>
                    <a:ext cx="811800" cy="401400"/>
                    <a:chOff x="6917040" y="4813560"/>
                    <a:chExt cx="811800" cy="401400"/>
                  </a:xfrm>
                </p:grpSpPr>
                <p:sp>
                  <p:nvSpPr>
                    <p:cNvPr id="5518" name=""/>
                    <p:cNvSpPr/>
                    <p:nvPr/>
                  </p:nvSpPr>
                  <p:spPr>
                    <a:xfrm>
                      <a:off x="7448760" y="4922280"/>
                      <a:ext cx="28008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422">
                          <a:moveTo>
                            <a:pt x="3" y="212"/>
                          </a:moveTo>
                          <a:lnTo>
                            <a:pt x="364" y="0"/>
                          </a:lnTo>
                          <a:lnTo>
                            <a:pt x="363" y="191"/>
                          </a:lnTo>
                          <a:lnTo>
                            <a:pt x="0" y="422"/>
                          </a:lnTo>
                        </a:path>
                      </a:pathLst>
                    </a:custGeom>
                    <a:blipFill rotWithShape="0">
                      <a:blip r:embed="rId11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9" name=""/>
                    <p:cNvSpPr/>
                    <p:nvPr/>
                  </p:nvSpPr>
                  <p:spPr>
                    <a:xfrm>
                      <a:off x="6917400" y="4813560"/>
                      <a:ext cx="811440" cy="25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4" h="374">
                          <a:moveTo>
                            <a:pt x="691" y="374"/>
                          </a:moveTo>
                          <a:lnTo>
                            <a:pt x="0" y="191"/>
                          </a:lnTo>
                          <a:lnTo>
                            <a:pt x="363" y="0"/>
                          </a:lnTo>
                          <a:lnTo>
                            <a:pt x="1054" y="157"/>
                          </a:lnTo>
                          <a:lnTo>
                            <a:pt x="691" y="374"/>
                          </a:lnTo>
                        </a:path>
                      </a:pathLst>
                    </a:custGeom>
                    <a:blipFill rotWithShape="0">
                      <a:blip r:embed="rId12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0" name=""/>
                    <p:cNvSpPr/>
                    <p:nvPr/>
                  </p:nvSpPr>
                  <p:spPr>
                    <a:xfrm>
                      <a:off x="6917040" y="4944600"/>
                      <a:ext cx="53172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390">
                          <a:moveTo>
                            <a:pt x="0" y="5"/>
                          </a:moveTo>
                          <a:lnTo>
                            <a:pt x="0" y="192"/>
                          </a:lnTo>
                          <a:lnTo>
                            <a:pt x="690" y="390"/>
                          </a:lnTo>
                          <a:lnTo>
                            <a:pt x="690" y="185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blipFill rotWithShape="0">
                      <a:blip r:embed="rId13"/>
                      <a:srcRect/>
                      <a:stretch/>
                    </a:blip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1" name=""/>
                    <p:cNvSpPr/>
                    <p:nvPr/>
                  </p:nvSpPr>
                  <p:spPr>
                    <a:xfrm>
                      <a:off x="7195680" y="5040000"/>
                      <a:ext cx="20844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189">
                          <a:moveTo>
                            <a:pt x="0" y="0"/>
                          </a:moveTo>
                          <a:lnTo>
                            <a:pt x="271" y="73"/>
                          </a:lnTo>
                          <a:lnTo>
                            <a:pt x="271" y="189"/>
                          </a:lnTo>
                          <a:lnTo>
                            <a:pt x="0" y="11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edede"/>
                        </a:gs>
                        <a:gs pos="100000">
                          <a:srgbClr val="b2b2b2"/>
                        </a:gs>
                      </a:gsLst>
                      <a:lin ang="13500000"/>
                    </a:gradFill>
                    <a:ln cap="rnd"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2" name=""/>
                    <p:cNvSpPr/>
                    <p:nvPr/>
                  </p:nvSpPr>
                  <p:spPr>
                    <a:xfrm>
                      <a:off x="7200360" y="5088600"/>
                      <a:ext cx="2008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69">
                          <a:moveTo>
                            <a:pt x="0" y="0"/>
                          </a:moveTo>
                          <a:lnTo>
                            <a:pt x="261" y="69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3" name=""/>
                    <p:cNvSpPr/>
                    <p:nvPr/>
                  </p:nvSpPr>
                  <p:spPr>
                    <a:xfrm>
                      <a:off x="7194960" y="5038920"/>
                      <a:ext cx="20772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116">
                          <a:moveTo>
                            <a:pt x="0" y="116"/>
                          </a:moveTo>
                          <a:lnTo>
                            <a:pt x="1" y="0"/>
                          </a:lnTo>
                          <a:lnTo>
                            <a:pt x="270" y="7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4" name=""/>
                    <p:cNvSpPr/>
                    <p:nvPr/>
                  </p:nvSpPr>
                  <p:spPr>
                    <a:xfrm>
                      <a:off x="7214040" y="5065920"/>
                      <a:ext cx="162360" cy="3708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5" name=""/>
                    <p:cNvSpPr/>
                    <p:nvPr/>
                  </p:nvSpPr>
                  <p:spPr>
                    <a:xfrm>
                      <a:off x="7351920" y="5140800"/>
                      <a:ext cx="31320" cy="612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6" name=""/>
                    <p:cNvSpPr/>
                    <p:nvPr/>
                  </p:nvSpPr>
                  <p:spPr>
                    <a:xfrm>
                      <a:off x="7264800" y="5076360"/>
                      <a:ext cx="489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5">
                          <a:moveTo>
                            <a:pt x="0" y="0"/>
                          </a:moveTo>
                          <a:lnTo>
                            <a:pt x="1" y="18"/>
                          </a:lnTo>
                          <a:lnTo>
                            <a:pt x="64" y="35"/>
                          </a:lnTo>
                          <a:lnTo>
                            <a:pt x="64" y="1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77777"/>
                    </a:solidFill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3240" bIns="-324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7" name=""/>
                    <p:cNvSpPr/>
                    <p:nvPr/>
                  </p:nvSpPr>
                  <p:spPr>
                    <a:xfrm>
                      <a:off x="6931440" y="49942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8" name=""/>
                    <p:cNvSpPr/>
                    <p:nvPr/>
                  </p:nvSpPr>
                  <p:spPr>
                    <a:xfrm>
                      <a:off x="6931440" y="5016600"/>
                      <a:ext cx="214560" cy="5364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9" name=""/>
                    <p:cNvSpPr/>
                    <p:nvPr/>
                  </p:nvSpPr>
                  <p:spPr>
                    <a:xfrm>
                      <a:off x="6931440" y="5037480"/>
                      <a:ext cx="214560" cy="54000"/>
                    </a:xfrm>
                    <a:prstGeom prst="line">
                      <a:avLst/>
                    </a:prstGeom>
                    <a:ln w="3240">
                      <a:solidFill>
                        <a:srgbClr val="0033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0" name=""/>
                    <p:cNvSpPr/>
                    <p:nvPr/>
                  </p:nvSpPr>
                  <p:spPr>
                    <a:xfrm>
                      <a:off x="7197120" y="5096880"/>
                      <a:ext cx="2116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17">
                          <a:moveTo>
                            <a:pt x="0" y="40"/>
                          </a:moveTo>
                          <a:lnTo>
                            <a:pt x="275" y="117"/>
                          </a:lnTo>
                          <a:lnTo>
                            <a:pt x="275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33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27360" bIns="2736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31" name=""/>
                  <p:cNvSpPr/>
                  <p:nvPr/>
                </p:nvSpPr>
                <p:spPr>
                  <a:xfrm>
                    <a:off x="7059600" y="4806360"/>
                    <a:ext cx="54360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298">
                        <a:moveTo>
                          <a:pt x="0" y="163"/>
                        </a:moveTo>
                        <a:lnTo>
                          <a:pt x="303" y="0"/>
                        </a:lnTo>
                        <a:lnTo>
                          <a:pt x="707" y="116"/>
                        </a:lnTo>
                        <a:lnTo>
                          <a:pt x="707" y="138"/>
                        </a:lnTo>
                        <a:lnTo>
                          <a:pt x="417" y="298"/>
                        </a:lnTo>
                        <a:lnTo>
                          <a:pt x="0" y="188"/>
                        </a:lnTo>
                        <a:lnTo>
                          <a:pt x="0" y="163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2" name=""/>
                  <p:cNvSpPr/>
                  <p:nvPr/>
                </p:nvSpPr>
                <p:spPr>
                  <a:xfrm>
                    <a:off x="7065360" y="4811040"/>
                    <a:ext cx="5274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264">
                        <a:moveTo>
                          <a:pt x="0" y="158"/>
                        </a:moveTo>
                        <a:lnTo>
                          <a:pt x="409" y="264"/>
                        </a:lnTo>
                        <a:lnTo>
                          <a:pt x="685" y="110"/>
                        </a:lnTo>
                        <a:lnTo>
                          <a:pt x="297" y="0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3" name=""/>
                  <p:cNvSpPr/>
                  <p:nvPr/>
                </p:nvSpPr>
                <p:spPr>
                  <a:xfrm>
                    <a:off x="7197120" y="4855320"/>
                    <a:ext cx="274320" cy="99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7048440" y="4859640"/>
                    <a:ext cx="441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7153920" y="4421160"/>
                    <a:ext cx="55152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7497720" y="4521960"/>
                    <a:ext cx="110880" cy="44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1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7006320" y="4425480"/>
                    <a:ext cx="60228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7006320" y="4471920"/>
                    <a:ext cx="492120" cy="4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9" name=""/>
                  <p:cNvSpPr/>
                  <p:nvPr/>
                </p:nvSpPr>
                <p:spPr>
                  <a:xfrm>
                    <a:off x="7044840" y="4515120"/>
                    <a:ext cx="41508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>
                    <a:off x="7070040" y="4543560"/>
                    <a:ext cx="36432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stretch/>
                  </a:blipFill>
                  <a:ln w="3240">
                    <a:solidFill>
                      <a:srgbClr val="003366"/>
                    </a:solidFill>
                    <a:round/>
                  </a:ln>
                  <a:effectLst>
                    <a:outerShdw dist="17819" dir="2700000" blurRad="0" rotWithShape="0">
                      <a:srgbClr val="000099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41" name=""/>
              <p:cNvSpPr/>
              <p:nvPr/>
            </p:nvSpPr>
            <p:spPr>
              <a:xfrm>
                <a:off x="7926840" y="4789440"/>
                <a:ext cx="57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ff0000"/>
                    </a:solidFill>
                    <a:latin typeface="Arial Black"/>
                  </a:rPr>
                  <a:t>?</a:t>
                </a: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42" name=""/>
            <p:cNvGrpSpPr/>
            <p:nvPr/>
          </p:nvGrpSpPr>
          <p:grpSpPr>
            <a:xfrm>
              <a:off x="7859520" y="4441680"/>
              <a:ext cx="377640" cy="459720"/>
              <a:chOff x="7859520" y="4441680"/>
              <a:chExt cx="377640" cy="459720"/>
            </a:xfrm>
          </p:grpSpPr>
          <p:sp>
            <p:nvSpPr>
              <p:cNvPr id="5543" name=""/>
              <p:cNvSpPr/>
              <p:nvPr/>
            </p:nvSpPr>
            <p:spPr>
              <a:xfrm>
                <a:off x="7859520" y="446868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7869600" y="444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45" name=""/>
          <p:cNvGrpSpPr/>
          <p:nvPr/>
        </p:nvGrpSpPr>
        <p:grpSpPr>
          <a:xfrm>
            <a:off x="2811240" y="4889520"/>
            <a:ext cx="3779640" cy="555480"/>
            <a:chOff x="2811240" y="4889520"/>
            <a:chExt cx="3779640" cy="555480"/>
          </a:xfrm>
        </p:grpSpPr>
        <p:sp>
          <p:nvSpPr>
            <p:cNvPr id="5546" name=""/>
            <p:cNvSpPr/>
            <p:nvPr/>
          </p:nvSpPr>
          <p:spPr>
            <a:xfrm flipH="1">
              <a:off x="2811240" y="5445000"/>
              <a:ext cx="3779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"/>
            <p:cNvGrpSpPr/>
            <p:nvPr/>
          </p:nvGrpSpPr>
          <p:grpSpPr>
            <a:xfrm>
              <a:off x="4467240" y="4889520"/>
              <a:ext cx="377640" cy="459720"/>
              <a:chOff x="4467240" y="4889520"/>
              <a:chExt cx="377640" cy="459720"/>
            </a:xfrm>
          </p:grpSpPr>
          <p:sp>
            <p:nvSpPr>
              <p:cNvPr id="5548" name=""/>
              <p:cNvSpPr/>
              <p:nvPr/>
            </p:nvSpPr>
            <p:spPr>
              <a:xfrm>
                <a:off x="4467240" y="491652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4477320" y="4889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50" name=""/>
          <p:cNvGrpSpPr/>
          <p:nvPr/>
        </p:nvGrpSpPr>
        <p:grpSpPr>
          <a:xfrm>
            <a:off x="573120" y="5048280"/>
            <a:ext cx="573120" cy="877680"/>
            <a:chOff x="573120" y="5048280"/>
            <a:chExt cx="573120" cy="877680"/>
          </a:xfrm>
        </p:grpSpPr>
        <p:sp>
          <p:nvSpPr>
            <p:cNvPr id="5551" name=""/>
            <p:cNvSpPr/>
            <p:nvPr/>
          </p:nvSpPr>
          <p:spPr>
            <a:xfrm>
              <a:off x="573120" y="5048280"/>
              <a:ext cx="573120" cy="877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52" name=""/>
            <p:cNvGrpSpPr/>
            <p:nvPr/>
          </p:nvGrpSpPr>
          <p:grpSpPr>
            <a:xfrm>
              <a:off x="672840" y="5349960"/>
              <a:ext cx="377640" cy="459720"/>
              <a:chOff x="672840" y="5349960"/>
              <a:chExt cx="377640" cy="459720"/>
            </a:xfrm>
          </p:grpSpPr>
          <p:sp>
            <p:nvSpPr>
              <p:cNvPr id="5553" name=""/>
              <p:cNvSpPr/>
              <p:nvPr/>
            </p:nvSpPr>
            <p:spPr>
              <a:xfrm>
                <a:off x="672840" y="5376960"/>
                <a:ext cx="377640" cy="37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682920" y="5349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Arial Black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erverszobába csak nekünk nincs kulcs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ootolható CD-k és floppy meghajtó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belezett gép a tartományvezérlő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apértelmezett telepítés minden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amba kiszolgálónk felé titkosítás nélkül hitelesítjük magun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incs naplózás, mert úgysem olvassuk, úgy meg csak foglalja a hel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rendszer fizikai védelme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228600" y="158220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„Security by obscurity” jellegű megoldás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szolgálóinkat jól zárjuk el a külvilágt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ffline üzemmódú gépeket tényleg tartsuk kikapcsol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a szükséges szolgáltatásokat telepítsük és futtass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lenőrizük a hálózati szolgáltatások kötés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szletesen audit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Security Configuration Edit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mi látunk másokat, mások is látnak mink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. számhábor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kor támadhatna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jelentkezés sor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lózati forgalom eset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s akkor is, ha semmit nem csinál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mes Internet kapcsolat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rlátozzuk az Internetes kapcsolat hálózati konfiguráció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gerősebb hitelesítési módszert válassz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üljük a telnet, ftp és a többi clear-text hitelesítést használó szolgálta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publikus adatot csak erősen titkosítva küldjünk vagy fogadj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asználjunk hálózati forgalom ellenőrző eszközö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igwam.sztaki.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az az „extranet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ég a partnereivel az Interneten tartja a kapcsolat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dealeri hálózat vagy eBusiness az Interneten, st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pikusan webes alkalmazást használ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ol kell a biztonsá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atlakozó partnerek hitel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itelesítése (ld. trójai fal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tmenő (HTTP) forgalom titkos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ás a nyilvános kulcsú infrastruktúra (PKI)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apja a Windows 2000 Certificate Services (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itkosított forgalom egy kiszolgáló oldali bizonyítványt használó IIS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k hitelesítése a bizonyítványuk ellenőrzés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9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570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4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5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596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597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8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599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9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3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4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25" name=""/>
          <p:cNvGrpSpPr/>
          <p:nvPr/>
        </p:nvGrpSpPr>
        <p:grpSpPr>
          <a:xfrm>
            <a:off x="3390840" y="2143080"/>
            <a:ext cx="662400" cy="714960"/>
            <a:chOff x="3390840" y="2143080"/>
            <a:chExt cx="662400" cy="714960"/>
          </a:xfrm>
        </p:grpSpPr>
        <p:sp>
          <p:nvSpPr>
            <p:cNvPr id="5626" name=""/>
            <p:cNvSpPr/>
            <p:nvPr/>
          </p:nvSpPr>
          <p:spPr>
            <a:xfrm>
              <a:off x="3681360" y="254808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815640" y="252432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843720" y="241956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3558240" y="238608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3677040" y="231048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390840" y="214308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453480" y="220572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5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5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636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0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1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662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663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9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0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692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1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02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6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7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28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29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30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6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7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8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9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0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1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2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3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4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5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6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7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8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9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0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1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2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3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4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55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56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7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758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65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841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846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853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0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871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77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79" name=""/>
            <p:cNvCxnSpPr>
              <a:endCxn id="873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0" name=""/>
            <p:cNvCxnSpPr>
              <a:endCxn id="876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1" name=""/>
            <p:cNvCxnSpPr>
              <a:endCxn id="874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2" name=""/>
            <p:cNvCxnSpPr>
              <a:stCxn id="873" idx="6"/>
              <a:endCxn id="875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3" name=""/>
            <p:cNvCxnSpPr>
              <a:stCxn id="873" idx="6"/>
              <a:endCxn id="871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84" name=""/>
            <p:cNvCxnSpPr>
              <a:stCxn id="873" idx="6"/>
              <a:endCxn id="872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885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887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895" name=""/>
            <p:cNvCxnSpPr>
              <a:endCxn id="889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6" name=""/>
            <p:cNvCxnSpPr>
              <a:endCxn id="892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7" name=""/>
            <p:cNvCxnSpPr>
              <a:endCxn id="890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8" name=""/>
            <p:cNvCxnSpPr>
              <a:stCxn id="889" idx="6"/>
              <a:endCxn id="891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899" name=""/>
            <p:cNvCxnSpPr>
              <a:stCxn id="889" idx="6"/>
              <a:endCxn id="887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00" name=""/>
            <p:cNvCxnSpPr>
              <a:stCxn id="889" idx="6"/>
              <a:endCxn id="888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902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08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10" name=""/>
            <p:cNvCxnSpPr>
              <a:endCxn id="904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1" name=""/>
            <p:cNvCxnSpPr>
              <a:endCxn id="907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2" name=""/>
            <p:cNvCxnSpPr>
              <a:endCxn id="905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3" name=""/>
            <p:cNvCxnSpPr>
              <a:stCxn id="904" idx="6"/>
              <a:endCxn id="906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4" name=""/>
            <p:cNvCxnSpPr>
              <a:stCxn id="904" idx="6"/>
              <a:endCxn id="902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15" name=""/>
            <p:cNvCxnSpPr>
              <a:stCxn id="904" idx="6"/>
              <a:endCxn id="903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16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917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23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25" name=""/>
            <p:cNvCxnSpPr>
              <a:endCxn id="919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6" name=""/>
            <p:cNvCxnSpPr>
              <a:endCxn id="922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7" name=""/>
            <p:cNvCxnSpPr>
              <a:endCxn id="920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8" name=""/>
            <p:cNvCxnSpPr>
              <a:stCxn id="919" idx="6"/>
              <a:endCxn id="921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29" name=""/>
            <p:cNvCxnSpPr>
              <a:stCxn id="919" idx="6"/>
              <a:endCxn id="917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30" name=""/>
            <p:cNvCxnSpPr>
              <a:stCxn id="919" idx="6"/>
              <a:endCxn id="918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31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932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38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40" name=""/>
            <p:cNvCxnSpPr>
              <a:endCxn id="934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1" name=""/>
            <p:cNvCxnSpPr>
              <a:endCxn id="937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2" name=""/>
            <p:cNvCxnSpPr>
              <a:endCxn id="935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3" name=""/>
            <p:cNvCxnSpPr>
              <a:stCxn id="934" idx="6"/>
              <a:endCxn id="936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4" name=""/>
            <p:cNvCxnSpPr>
              <a:stCxn id="934" idx="6"/>
              <a:endCxn id="932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45" name=""/>
            <p:cNvCxnSpPr>
              <a:stCxn id="934" idx="6"/>
              <a:endCxn id="933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946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947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53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55" name=""/>
            <p:cNvCxnSpPr>
              <a:endCxn id="949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6" name=""/>
            <p:cNvCxnSpPr>
              <a:endCxn id="952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7" name=""/>
            <p:cNvCxnSpPr>
              <a:endCxn id="950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8" name=""/>
            <p:cNvCxnSpPr>
              <a:stCxn id="949" idx="6"/>
              <a:endCxn id="951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59" name=""/>
            <p:cNvCxnSpPr>
              <a:stCxn id="949" idx="6"/>
              <a:endCxn id="947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60" name=""/>
            <p:cNvCxnSpPr>
              <a:stCxn id="949" idx="6"/>
              <a:endCxn id="948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961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967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971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975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985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989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990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998" name=""/>
            <p:cNvCxnSpPr>
              <a:endCxn id="992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999" name=""/>
            <p:cNvCxnSpPr>
              <a:endCxn id="995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0" name=""/>
            <p:cNvCxnSpPr>
              <a:endCxn id="993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1" name=""/>
            <p:cNvCxnSpPr>
              <a:stCxn id="992" idx="6"/>
              <a:endCxn id="994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2" name=""/>
            <p:cNvCxnSpPr>
              <a:stCxn id="992" idx="6"/>
              <a:endCxn id="990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003" name=""/>
            <p:cNvCxnSpPr>
              <a:stCxn id="992" idx="6"/>
              <a:endCxn id="991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004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391160" y="554040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1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2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3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037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38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040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3348000" y="3000240"/>
            <a:ext cx="4680" cy="7272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8" name=""/>
          <p:cNvGrpSpPr/>
          <p:nvPr/>
        </p:nvGrpSpPr>
        <p:grpSpPr>
          <a:xfrm>
            <a:off x="2989440" y="1736640"/>
            <a:ext cx="815400" cy="1281240"/>
            <a:chOff x="2989440" y="1736640"/>
            <a:chExt cx="815400" cy="1281240"/>
          </a:xfrm>
        </p:grpSpPr>
        <p:sp>
          <p:nvSpPr>
            <p:cNvPr id="5769" name=""/>
            <p:cNvSpPr/>
            <p:nvPr/>
          </p:nvSpPr>
          <p:spPr>
            <a:xfrm>
              <a:off x="2991960" y="1736640"/>
              <a:ext cx="811800" cy="274320"/>
            </a:xfrm>
            <a:custGeom>
              <a:avLst/>
              <a:gdLst/>
              <a:ahLst/>
              <a:rect l="l" t="t" r="r" b="b"/>
              <a:pathLst>
                <a:path w="1291" h="449">
                  <a:moveTo>
                    <a:pt x="0" y="307"/>
                  </a:moveTo>
                  <a:lnTo>
                    <a:pt x="577" y="448"/>
                  </a:lnTo>
                  <a:lnTo>
                    <a:pt x="1290" y="127"/>
                  </a:lnTo>
                  <a:lnTo>
                    <a:pt x="727" y="0"/>
                  </a:lnTo>
                  <a:lnTo>
                    <a:pt x="0" y="307"/>
                  </a:lnTo>
                </a:path>
              </a:pathLst>
            </a:custGeom>
            <a:solidFill>
              <a:srgbClr val="c0c0c0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004920" y="2689920"/>
              <a:ext cx="787680" cy="327960"/>
            </a:xfrm>
            <a:custGeom>
              <a:avLst/>
              <a:gdLst/>
              <a:ahLst/>
              <a:rect l="l" t="t" r="r" b="b"/>
              <a:pathLst>
                <a:path w="1252" h="536">
                  <a:moveTo>
                    <a:pt x="0" y="292"/>
                  </a:moveTo>
                  <a:lnTo>
                    <a:pt x="0" y="370"/>
                  </a:lnTo>
                  <a:lnTo>
                    <a:pt x="567" y="535"/>
                  </a:lnTo>
                  <a:lnTo>
                    <a:pt x="1251" y="92"/>
                  </a:lnTo>
                  <a:lnTo>
                    <a:pt x="1251" y="0"/>
                  </a:lnTo>
                </a:path>
              </a:pathLst>
            </a:custGeom>
            <a:solidFill>
              <a:srgbClr val="969696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346920" y="1812600"/>
              <a:ext cx="457920" cy="1173240"/>
            </a:xfrm>
            <a:custGeom>
              <a:avLst/>
              <a:gdLst/>
              <a:ahLst/>
              <a:rect l="l" t="t" r="r" b="b"/>
              <a:pathLst>
                <a:path w="729" h="1916">
                  <a:moveTo>
                    <a:pt x="0" y="328"/>
                  </a:moveTo>
                  <a:lnTo>
                    <a:pt x="4" y="1915"/>
                  </a:lnTo>
                  <a:lnTo>
                    <a:pt x="728" y="1456"/>
                  </a:lnTo>
                  <a:lnTo>
                    <a:pt x="728" y="0"/>
                  </a:lnTo>
                  <a:lnTo>
                    <a:pt x="0" y="328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989440" y="1923480"/>
              <a:ext cx="362520" cy="1056240"/>
            </a:xfrm>
            <a:custGeom>
              <a:avLst/>
              <a:gdLst/>
              <a:ahLst/>
              <a:rect l="l" t="t" r="r" b="b"/>
              <a:pathLst>
                <a:path w="577" h="1728">
                  <a:moveTo>
                    <a:pt x="576" y="140"/>
                  </a:moveTo>
                  <a:lnTo>
                    <a:pt x="576" y="1727"/>
                  </a:lnTo>
                  <a:lnTo>
                    <a:pt x="0" y="1568"/>
                  </a:lnTo>
                  <a:lnTo>
                    <a:pt x="0" y="0"/>
                  </a:lnTo>
                  <a:lnTo>
                    <a:pt x="576" y="140"/>
                  </a:lnTo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b2b2b2"/>
                </a:gs>
              </a:gsLst>
              <a:lin ang="5400000"/>
            </a:gra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039480" y="2812680"/>
              <a:ext cx="250200" cy="637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030840" y="1975320"/>
              <a:ext cx="40320" cy="22320"/>
            </a:xfrm>
            <a:prstGeom prst="ellipse">
              <a:avLst/>
            </a:prstGeom>
            <a:solidFill>
              <a:srgbClr val="00b00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039480" y="2764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039480" y="2715840"/>
              <a:ext cx="250200" cy="6552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039480" y="266904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039480" y="2620080"/>
              <a:ext cx="250200" cy="6480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043440" y="2159280"/>
              <a:ext cx="248040" cy="449280"/>
            </a:xfrm>
            <a:custGeom>
              <a:avLst/>
              <a:gdLst/>
              <a:ahLst/>
              <a:rect l="l" t="t" r="r" b="b"/>
              <a:pathLst>
                <a:path w="397" h="733">
                  <a:moveTo>
                    <a:pt x="0" y="628"/>
                  </a:moveTo>
                  <a:lnTo>
                    <a:pt x="396" y="732"/>
                  </a:lnTo>
                  <a:lnTo>
                    <a:pt x="396" y="0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017160" y="2070360"/>
              <a:ext cx="284040" cy="782640"/>
            </a:xfrm>
            <a:custGeom>
              <a:avLst/>
              <a:gdLst/>
              <a:ahLst/>
              <a:rect l="l" t="t" r="r" b="b"/>
              <a:pathLst>
                <a:path w="453" h="1278">
                  <a:moveTo>
                    <a:pt x="452" y="105"/>
                  </a:moveTo>
                  <a:lnTo>
                    <a:pt x="0" y="0"/>
                  </a:lnTo>
                  <a:lnTo>
                    <a:pt x="0" y="1277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3035880" y="2100240"/>
              <a:ext cx="253080" cy="444240"/>
            </a:xfrm>
            <a:custGeom>
              <a:avLst/>
              <a:gdLst/>
              <a:ahLst/>
              <a:rect l="l" t="t" r="r" b="b"/>
              <a:pathLst>
                <a:path w="402" h="726">
                  <a:moveTo>
                    <a:pt x="401" y="96"/>
                  </a:moveTo>
                  <a:lnTo>
                    <a:pt x="0" y="0"/>
                  </a:lnTo>
                  <a:lnTo>
                    <a:pt x="0" y="725"/>
                  </a:lnTo>
                </a:path>
              </a:pathLst>
            </a:custGeom>
            <a:noFill/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037680" y="2201760"/>
              <a:ext cx="24336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037680" y="2297880"/>
              <a:ext cx="246240" cy="5328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037680" y="2415240"/>
              <a:ext cx="234720" cy="5436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110040" y="2155680"/>
              <a:ext cx="96480" cy="5040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0" y="0"/>
                  </a:moveTo>
                  <a:lnTo>
                    <a:pt x="0" y="48"/>
                  </a:lnTo>
                  <a:lnTo>
                    <a:pt x="151" y="81"/>
                  </a:lnTo>
                  <a:lnTo>
                    <a:pt x="151" y="33"/>
                  </a:lnTo>
                  <a:lnTo>
                    <a:pt x="0" y="0"/>
                  </a:lnTo>
                </a:path>
              </a:pathLst>
            </a:custGeom>
            <a:solidFill>
              <a:srgbClr val="a9a9a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072240" y="2163240"/>
              <a:ext cx="179640" cy="37440"/>
            </a:xfrm>
            <a:prstGeom prst="line">
              <a:avLst/>
            </a:prstGeom>
            <a:ln w="64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054960" y="2337120"/>
              <a:ext cx="216360" cy="94680"/>
            </a:xfrm>
            <a:custGeom>
              <a:avLst/>
              <a:gdLst/>
              <a:ahLst/>
              <a:rect l="l" t="t" r="r" b="b"/>
              <a:pathLst>
                <a:path w="351" h="183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2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3054960" y="2454480"/>
              <a:ext cx="217440" cy="10512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215520" y="2392560"/>
              <a:ext cx="3456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221280" y="2509920"/>
              <a:ext cx="33840" cy="1872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15"/>
                  </a:moveTo>
                  <a:lnTo>
                    <a:pt x="0" y="0"/>
                  </a:lnTo>
                  <a:lnTo>
                    <a:pt x="53" y="16"/>
                  </a:lnTo>
                  <a:lnTo>
                    <a:pt x="53" y="31"/>
                  </a:lnTo>
                  <a:lnTo>
                    <a:pt x="0" y="15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051000" y="2229840"/>
              <a:ext cx="220320" cy="97560"/>
            </a:xfrm>
            <a:custGeom>
              <a:avLst/>
              <a:gdLst/>
              <a:ahLst/>
              <a:rect l="l" t="t" r="r" b="b"/>
              <a:pathLst>
                <a:path w="351" h="182">
                  <a:moveTo>
                    <a:pt x="0" y="85"/>
                  </a:moveTo>
                  <a:lnTo>
                    <a:pt x="0" y="0"/>
                  </a:lnTo>
                  <a:lnTo>
                    <a:pt x="350" y="93"/>
                  </a:lnTo>
                  <a:lnTo>
                    <a:pt x="350" y="181"/>
                  </a:lnTo>
                  <a:lnTo>
                    <a:pt x="0" y="85"/>
                  </a:lnTo>
                </a:path>
              </a:pathLst>
            </a:custGeom>
            <a:solidFill>
              <a:srgbClr val="b2b2b2"/>
            </a:solidFill>
            <a:ln cap="rnd" w="64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213360" y="2282760"/>
              <a:ext cx="33480" cy="1764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14"/>
                  </a:moveTo>
                  <a:lnTo>
                    <a:pt x="0" y="0"/>
                  </a:lnTo>
                  <a:lnTo>
                    <a:pt x="53" y="15"/>
                  </a:lnTo>
                  <a:lnTo>
                    <a:pt x="53" y="29"/>
                  </a:lnTo>
                  <a:lnTo>
                    <a:pt x="0" y="14"/>
                  </a:lnTo>
                </a:path>
              </a:pathLst>
            </a:custGeom>
            <a:solidFill>
              <a:srgbClr val="00b000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3" name=""/>
          <p:cNvSpPr/>
          <p:nvPr/>
        </p:nvSpPr>
        <p:spPr>
          <a:xfrm>
            <a:off x="1404000" y="186840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oot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tandalon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ff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4" name=""/>
          <p:cNvGrpSpPr/>
          <p:nvPr/>
        </p:nvGrpSpPr>
        <p:grpSpPr>
          <a:xfrm>
            <a:off x="3159000" y="2071800"/>
            <a:ext cx="4749480" cy="2141280"/>
            <a:chOff x="3159000" y="2071800"/>
            <a:chExt cx="4749480" cy="2141280"/>
          </a:xfrm>
        </p:grpSpPr>
        <p:grpSp>
          <p:nvGrpSpPr>
            <p:cNvPr id="5795" name=""/>
            <p:cNvGrpSpPr/>
            <p:nvPr/>
          </p:nvGrpSpPr>
          <p:grpSpPr>
            <a:xfrm>
              <a:off x="3159000" y="2071800"/>
              <a:ext cx="2381400" cy="2141280"/>
              <a:chOff x="3159000" y="2071800"/>
              <a:chExt cx="2381400" cy="2141280"/>
            </a:xfrm>
          </p:grpSpPr>
          <p:sp>
            <p:nvSpPr>
              <p:cNvPr id="5796" name=""/>
              <p:cNvSpPr/>
              <p:nvPr/>
            </p:nvSpPr>
            <p:spPr>
              <a:xfrm>
                <a:off x="3159000" y="2071800"/>
                <a:ext cx="2381400" cy="214128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797" name=""/>
              <p:cNvGrpSpPr/>
              <p:nvPr/>
            </p:nvGrpSpPr>
            <p:grpSpPr>
              <a:xfrm>
                <a:off x="3924360" y="2809800"/>
                <a:ext cx="815400" cy="1281240"/>
                <a:chOff x="3924360" y="2809800"/>
                <a:chExt cx="815400" cy="1281240"/>
              </a:xfrm>
            </p:grpSpPr>
            <p:sp>
              <p:nvSpPr>
                <p:cNvPr id="5798" name=""/>
                <p:cNvSpPr/>
                <p:nvPr/>
              </p:nvSpPr>
              <p:spPr>
                <a:xfrm>
                  <a:off x="3926880" y="2809800"/>
                  <a:ext cx="811800" cy="27432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c0c0c0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9" name=""/>
                <p:cNvSpPr/>
                <p:nvPr/>
              </p:nvSpPr>
              <p:spPr>
                <a:xfrm>
                  <a:off x="3939840" y="3763080"/>
                  <a:ext cx="787680" cy="3279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0" name=""/>
                <p:cNvSpPr/>
                <p:nvPr/>
              </p:nvSpPr>
              <p:spPr>
                <a:xfrm>
                  <a:off x="4281840" y="2885760"/>
                  <a:ext cx="457920" cy="11732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1" name=""/>
                <p:cNvSpPr/>
                <p:nvPr/>
              </p:nvSpPr>
              <p:spPr>
                <a:xfrm>
                  <a:off x="3924360" y="2996640"/>
                  <a:ext cx="362520" cy="105624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3974400" y="3885840"/>
                  <a:ext cx="250200" cy="637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3965760" y="3048480"/>
                  <a:ext cx="40320" cy="22320"/>
                </a:xfrm>
                <a:prstGeom prst="ellipse">
                  <a:avLst/>
                </a:prstGeom>
                <a:solidFill>
                  <a:srgbClr val="00b000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3974400" y="3837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3974400" y="3789000"/>
                  <a:ext cx="250200" cy="6552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3974400" y="374220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3974400" y="3693240"/>
                  <a:ext cx="250200" cy="6480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3978360" y="3232440"/>
                  <a:ext cx="248040" cy="44928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>
                  <a:off x="3952080" y="3143520"/>
                  <a:ext cx="284040" cy="78264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>
                  <a:off x="3970800" y="3173400"/>
                  <a:ext cx="253080" cy="44424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>
                  <a:off x="3972600" y="3274920"/>
                  <a:ext cx="24336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>
                  <a:off x="3972600" y="3371040"/>
                  <a:ext cx="246240" cy="5328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3972600" y="3488400"/>
                  <a:ext cx="234720" cy="5436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>
                  <a:off x="4044960" y="3228840"/>
                  <a:ext cx="96480" cy="5040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4007160" y="3236400"/>
                  <a:ext cx="179640" cy="37440"/>
                </a:xfrm>
                <a:prstGeom prst="line">
                  <a:avLst/>
                </a:prstGeom>
                <a:ln w="64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3989880" y="3410280"/>
                  <a:ext cx="216360" cy="9468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3989880" y="3527640"/>
                  <a:ext cx="217440" cy="10512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4150440" y="3465720"/>
                  <a:ext cx="3456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4156200" y="3583080"/>
                  <a:ext cx="33840" cy="1872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53" y="16"/>
                      </a:lnTo>
                      <a:lnTo>
                        <a:pt x="53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0" name=""/>
                <p:cNvSpPr/>
                <p:nvPr/>
              </p:nvSpPr>
              <p:spPr>
                <a:xfrm>
                  <a:off x="3985920" y="3303000"/>
                  <a:ext cx="220320" cy="97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648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1" name=""/>
                <p:cNvSpPr/>
                <p:nvPr/>
              </p:nvSpPr>
              <p:spPr>
                <a:xfrm>
                  <a:off x="4148280" y="3355920"/>
                  <a:ext cx="33480" cy="17640"/>
                </a:xfrm>
                <a:custGeom>
                  <a:avLst/>
                  <a:gdLst/>
                  <a:ahLst/>
                  <a:rect l="l" t="t" r="r" b="b"/>
                  <a:pathLst>
                    <a:path w="54" h="30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53" y="15"/>
                      </a:lnTo>
                      <a:lnTo>
                        <a:pt x="53" y="29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00b000"/>
                </a:solidFill>
                <a:ln cap="rnd" w="1260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2" name=""/>
            <p:cNvSpPr/>
            <p:nvPr/>
          </p:nvSpPr>
          <p:spPr>
            <a:xfrm>
              <a:off x="4996800" y="2346480"/>
              <a:ext cx="2911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Subordinate CA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(Issue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Enterprise (AD integrált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3" name=""/>
          <p:cNvSpPr/>
          <p:nvPr/>
        </p:nvSpPr>
        <p:spPr>
          <a:xfrm flipH="1">
            <a:off x="3347640" y="3701880"/>
            <a:ext cx="590760" cy="50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4341960" y="3336840"/>
            <a:ext cx="662400" cy="714960"/>
            <a:chOff x="4341960" y="3336840"/>
            <a:chExt cx="662400" cy="714960"/>
          </a:xfrm>
        </p:grpSpPr>
        <p:sp>
          <p:nvSpPr>
            <p:cNvPr id="5825" name=""/>
            <p:cNvSpPr/>
            <p:nvPr/>
          </p:nvSpPr>
          <p:spPr>
            <a:xfrm>
              <a:off x="4632480" y="3741840"/>
              <a:ext cx="200880" cy="309960"/>
            </a:xfrm>
            <a:custGeom>
              <a:avLst/>
              <a:gdLst/>
              <a:ahLst/>
              <a:rect l="l" t="t" r="r" b="b"/>
              <a:pathLst>
                <a:path w="598" h="920">
                  <a:moveTo>
                    <a:pt x="391" y="214"/>
                  </a:moveTo>
                  <a:lnTo>
                    <a:pt x="346" y="190"/>
                  </a:lnTo>
                  <a:lnTo>
                    <a:pt x="291" y="153"/>
                  </a:lnTo>
                  <a:lnTo>
                    <a:pt x="241" y="109"/>
                  </a:lnTo>
                  <a:lnTo>
                    <a:pt x="198" y="59"/>
                  </a:lnTo>
                  <a:lnTo>
                    <a:pt x="163" y="0"/>
                  </a:lnTo>
                  <a:lnTo>
                    <a:pt x="165" y="43"/>
                  </a:lnTo>
                  <a:lnTo>
                    <a:pt x="172" y="119"/>
                  </a:lnTo>
                  <a:lnTo>
                    <a:pt x="179" y="185"/>
                  </a:lnTo>
                  <a:lnTo>
                    <a:pt x="189" y="241"/>
                  </a:lnTo>
                  <a:lnTo>
                    <a:pt x="204" y="283"/>
                  </a:lnTo>
                  <a:lnTo>
                    <a:pt x="226" y="324"/>
                  </a:lnTo>
                  <a:lnTo>
                    <a:pt x="254" y="359"/>
                  </a:lnTo>
                  <a:lnTo>
                    <a:pt x="284" y="389"/>
                  </a:lnTo>
                  <a:lnTo>
                    <a:pt x="312" y="415"/>
                  </a:lnTo>
                  <a:lnTo>
                    <a:pt x="335" y="433"/>
                  </a:lnTo>
                  <a:lnTo>
                    <a:pt x="352" y="445"/>
                  </a:lnTo>
                  <a:lnTo>
                    <a:pt x="357" y="449"/>
                  </a:lnTo>
                  <a:lnTo>
                    <a:pt x="76" y="413"/>
                  </a:lnTo>
                  <a:lnTo>
                    <a:pt x="0" y="661"/>
                  </a:lnTo>
                  <a:lnTo>
                    <a:pt x="14" y="691"/>
                  </a:lnTo>
                  <a:lnTo>
                    <a:pt x="29" y="722"/>
                  </a:lnTo>
                  <a:lnTo>
                    <a:pt x="47" y="754"/>
                  </a:lnTo>
                  <a:lnTo>
                    <a:pt x="68" y="786"/>
                  </a:lnTo>
                  <a:lnTo>
                    <a:pt x="95" y="820"/>
                  </a:lnTo>
                  <a:lnTo>
                    <a:pt x="129" y="854"/>
                  </a:lnTo>
                  <a:lnTo>
                    <a:pt x="172" y="886"/>
                  </a:lnTo>
                  <a:lnTo>
                    <a:pt x="223" y="920"/>
                  </a:lnTo>
                  <a:lnTo>
                    <a:pt x="315" y="652"/>
                  </a:lnTo>
                  <a:lnTo>
                    <a:pt x="598" y="688"/>
                  </a:lnTo>
                  <a:lnTo>
                    <a:pt x="591" y="685"/>
                  </a:lnTo>
                  <a:lnTo>
                    <a:pt x="574" y="673"/>
                  </a:lnTo>
                  <a:lnTo>
                    <a:pt x="546" y="655"/>
                  </a:lnTo>
                  <a:lnTo>
                    <a:pt x="516" y="631"/>
                  </a:lnTo>
                  <a:lnTo>
                    <a:pt x="484" y="601"/>
                  </a:lnTo>
                  <a:lnTo>
                    <a:pt x="455" y="565"/>
                  </a:lnTo>
                  <a:lnTo>
                    <a:pt x="431" y="525"/>
                  </a:lnTo>
                  <a:lnTo>
                    <a:pt x="415" y="483"/>
                  </a:lnTo>
                  <a:lnTo>
                    <a:pt x="406" y="430"/>
                  </a:lnTo>
                  <a:lnTo>
                    <a:pt x="401" y="365"/>
                  </a:lnTo>
                  <a:lnTo>
                    <a:pt x="397" y="290"/>
                  </a:lnTo>
                  <a:lnTo>
                    <a:pt x="391" y="2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4766760" y="3718080"/>
              <a:ext cx="237600" cy="199800"/>
            </a:xfrm>
            <a:custGeom>
              <a:avLst/>
              <a:gdLst/>
              <a:ahLst/>
              <a:rect l="l" t="t" r="r" b="b"/>
              <a:pathLst>
                <a:path w="713" h="584">
                  <a:moveTo>
                    <a:pt x="0" y="277"/>
                  </a:moveTo>
                  <a:lnTo>
                    <a:pt x="17" y="302"/>
                  </a:lnTo>
                  <a:lnTo>
                    <a:pt x="36" y="329"/>
                  </a:lnTo>
                  <a:lnTo>
                    <a:pt x="59" y="353"/>
                  </a:lnTo>
                  <a:lnTo>
                    <a:pt x="83" y="379"/>
                  </a:lnTo>
                  <a:lnTo>
                    <a:pt x="110" y="403"/>
                  </a:lnTo>
                  <a:lnTo>
                    <a:pt x="140" y="427"/>
                  </a:lnTo>
                  <a:lnTo>
                    <a:pt x="172" y="449"/>
                  </a:lnTo>
                  <a:lnTo>
                    <a:pt x="205" y="470"/>
                  </a:lnTo>
                  <a:lnTo>
                    <a:pt x="241" y="490"/>
                  </a:lnTo>
                  <a:lnTo>
                    <a:pt x="277" y="510"/>
                  </a:lnTo>
                  <a:lnTo>
                    <a:pt x="316" y="526"/>
                  </a:lnTo>
                  <a:lnTo>
                    <a:pt x="354" y="542"/>
                  </a:lnTo>
                  <a:lnTo>
                    <a:pt x="394" y="555"/>
                  </a:lnTo>
                  <a:lnTo>
                    <a:pt x="434" y="567"/>
                  </a:lnTo>
                  <a:lnTo>
                    <a:pt x="475" y="576"/>
                  </a:lnTo>
                  <a:lnTo>
                    <a:pt x="516" y="584"/>
                  </a:lnTo>
                  <a:lnTo>
                    <a:pt x="455" y="308"/>
                  </a:lnTo>
                  <a:lnTo>
                    <a:pt x="713" y="190"/>
                  </a:lnTo>
                  <a:lnTo>
                    <a:pt x="707" y="189"/>
                  </a:lnTo>
                  <a:lnTo>
                    <a:pt x="687" y="187"/>
                  </a:lnTo>
                  <a:lnTo>
                    <a:pt x="657" y="183"/>
                  </a:lnTo>
                  <a:lnTo>
                    <a:pt x="620" y="175"/>
                  </a:lnTo>
                  <a:lnTo>
                    <a:pt x="579" y="166"/>
                  </a:lnTo>
                  <a:lnTo>
                    <a:pt x="533" y="152"/>
                  </a:lnTo>
                  <a:lnTo>
                    <a:pt x="491" y="134"/>
                  </a:lnTo>
                  <a:lnTo>
                    <a:pt x="451" y="111"/>
                  </a:lnTo>
                  <a:lnTo>
                    <a:pt x="427" y="91"/>
                  </a:lnTo>
                  <a:lnTo>
                    <a:pt x="405" y="66"/>
                  </a:lnTo>
                  <a:lnTo>
                    <a:pt x="384" y="35"/>
                  </a:lnTo>
                  <a:lnTo>
                    <a:pt x="367" y="0"/>
                  </a:lnTo>
                  <a:lnTo>
                    <a:pt x="215" y="69"/>
                  </a:lnTo>
                  <a:lnTo>
                    <a:pt x="275" y="344"/>
                  </a:lnTo>
                  <a:lnTo>
                    <a:pt x="242" y="347"/>
                  </a:lnTo>
                  <a:lnTo>
                    <a:pt x="205" y="345"/>
                  </a:lnTo>
                  <a:lnTo>
                    <a:pt x="168" y="339"/>
                  </a:lnTo>
                  <a:lnTo>
                    <a:pt x="130" y="329"/>
                  </a:lnTo>
                  <a:lnTo>
                    <a:pt x="94" y="316"/>
                  </a:lnTo>
                  <a:lnTo>
                    <a:pt x="59" y="302"/>
                  </a:lnTo>
                  <a:lnTo>
                    <a:pt x="27" y="288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4794840" y="3613320"/>
              <a:ext cx="86400" cy="8100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241" y="241"/>
                  </a:moveTo>
                  <a:lnTo>
                    <a:pt x="215" y="208"/>
                  </a:lnTo>
                  <a:lnTo>
                    <a:pt x="188" y="174"/>
                  </a:lnTo>
                  <a:lnTo>
                    <a:pt x="159" y="140"/>
                  </a:lnTo>
                  <a:lnTo>
                    <a:pt x="128" y="107"/>
                  </a:lnTo>
                  <a:lnTo>
                    <a:pt x="96" y="77"/>
                  </a:lnTo>
                  <a:lnTo>
                    <a:pt x="65" y="48"/>
                  </a:lnTo>
                  <a:lnTo>
                    <a:pt x="32" y="22"/>
                  </a:lnTo>
                  <a:lnTo>
                    <a:pt x="0" y="0"/>
                  </a:lnTo>
                  <a:lnTo>
                    <a:pt x="14" y="26"/>
                  </a:lnTo>
                  <a:lnTo>
                    <a:pt x="30" y="51"/>
                  </a:lnTo>
                  <a:lnTo>
                    <a:pt x="45" y="77"/>
                  </a:lnTo>
                  <a:lnTo>
                    <a:pt x="59" y="104"/>
                  </a:lnTo>
                  <a:lnTo>
                    <a:pt x="74" y="128"/>
                  </a:lnTo>
                  <a:lnTo>
                    <a:pt x="88" y="151"/>
                  </a:lnTo>
                  <a:lnTo>
                    <a:pt x="101" y="169"/>
                  </a:lnTo>
                  <a:lnTo>
                    <a:pt x="114" y="185"/>
                  </a:lnTo>
                  <a:lnTo>
                    <a:pt x="127" y="195"/>
                  </a:lnTo>
                  <a:lnTo>
                    <a:pt x="141" y="206"/>
                  </a:lnTo>
                  <a:lnTo>
                    <a:pt x="156" y="214"/>
                  </a:lnTo>
                  <a:lnTo>
                    <a:pt x="173" y="220"/>
                  </a:lnTo>
                  <a:lnTo>
                    <a:pt x="191" y="226"/>
                  </a:lnTo>
                  <a:lnTo>
                    <a:pt x="208" y="233"/>
                  </a:lnTo>
                  <a:lnTo>
                    <a:pt x="225" y="237"/>
                  </a:lnTo>
                  <a:lnTo>
                    <a:pt x="241" y="24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4509360" y="3579840"/>
              <a:ext cx="243000" cy="386640"/>
            </a:xfrm>
            <a:custGeom>
              <a:avLst/>
              <a:gdLst/>
              <a:ahLst/>
              <a:rect l="l" t="t" r="r" b="b"/>
              <a:pathLst>
                <a:path w="713" h="1135">
                  <a:moveTo>
                    <a:pt x="356" y="1135"/>
                  </a:moveTo>
                  <a:lnTo>
                    <a:pt x="432" y="887"/>
                  </a:lnTo>
                  <a:lnTo>
                    <a:pt x="713" y="923"/>
                  </a:lnTo>
                  <a:lnTo>
                    <a:pt x="708" y="919"/>
                  </a:lnTo>
                  <a:lnTo>
                    <a:pt x="691" y="907"/>
                  </a:lnTo>
                  <a:lnTo>
                    <a:pt x="668" y="889"/>
                  </a:lnTo>
                  <a:lnTo>
                    <a:pt x="640" y="863"/>
                  </a:lnTo>
                  <a:lnTo>
                    <a:pt x="610" y="833"/>
                  </a:lnTo>
                  <a:lnTo>
                    <a:pt x="582" y="798"/>
                  </a:lnTo>
                  <a:lnTo>
                    <a:pt x="560" y="757"/>
                  </a:lnTo>
                  <a:lnTo>
                    <a:pt x="545" y="715"/>
                  </a:lnTo>
                  <a:lnTo>
                    <a:pt x="535" y="659"/>
                  </a:lnTo>
                  <a:lnTo>
                    <a:pt x="528" y="593"/>
                  </a:lnTo>
                  <a:lnTo>
                    <a:pt x="521" y="517"/>
                  </a:lnTo>
                  <a:lnTo>
                    <a:pt x="519" y="474"/>
                  </a:lnTo>
                  <a:lnTo>
                    <a:pt x="516" y="438"/>
                  </a:lnTo>
                  <a:lnTo>
                    <a:pt x="512" y="377"/>
                  </a:lnTo>
                  <a:lnTo>
                    <a:pt x="502" y="317"/>
                  </a:lnTo>
                  <a:lnTo>
                    <a:pt x="485" y="259"/>
                  </a:lnTo>
                  <a:lnTo>
                    <a:pt x="462" y="202"/>
                  </a:lnTo>
                  <a:lnTo>
                    <a:pt x="438" y="152"/>
                  </a:lnTo>
                  <a:lnTo>
                    <a:pt x="411" y="102"/>
                  </a:lnTo>
                  <a:lnTo>
                    <a:pt x="382" y="51"/>
                  </a:lnTo>
                  <a:lnTo>
                    <a:pt x="350" y="0"/>
                  </a:lnTo>
                  <a:lnTo>
                    <a:pt x="319" y="40"/>
                  </a:lnTo>
                  <a:lnTo>
                    <a:pt x="283" y="77"/>
                  </a:lnTo>
                  <a:lnTo>
                    <a:pt x="243" y="110"/>
                  </a:lnTo>
                  <a:lnTo>
                    <a:pt x="200" y="139"/>
                  </a:lnTo>
                  <a:lnTo>
                    <a:pt x="153" y="162"/>
                  </a:lnTo>
                  <a:lnTo>
                    <a:pt x="103" y="180"/>
                  </a:lnTo>
                  <a:lnTo>
                    <a:pt x="53" y="194"/>
                  </a:lnTo>
                  <a:lnTo>
                    <a:pt x="0" y="201"/>
                  </a:lnTo>
                  <a:lnTo>
                    <a:pt x="16" y="242"/>
                  </a:lnTo>
                  <a:lnTo>
                    <a:pt x="31" y="285"/>
                  </a:lnTo>
                  <a:lnTo>
                    <a:pt x="42" y="329"/>
                  </a:lnTo>
                  <a:lnTo>
                    <a:pt x="52" y="371"/>
                  </a:lnTo>
                  <a:lnTo>
                    <a:pt x="63" y="493"/>
                  </a:lnTo>
                  <a:lnTo>
                    <a:pt x="65" y="610"/>
                  </a:lnTo>
                  <a:lnTo>
                    <a:pt x="67" y="668"/>
                  </a:lnTo>
                  <a:lnTo>
                    <a:pt x="76" y="723"/>
                  </a:lnTo>
                  <a:lnTo>
                    <a:pt x="94" y="779"/>
                  </a:lnTo>
                  <a:lnTo>
                    <a:pt x="122" y="837"/>
                  </a:lnTo>
                  <a:lnTo>
                    <a:pt x="159" y="899"/>
                  </a:lnTo>
                  <a:lnTo>
                    <a:pt x="211" y="967"/>
                  </a:lnTo>
                  <a:lnTo>
                    <a:pt x="276" y="1046"/>
                  </a:lnTo>
                  <a:lnTo>
                    <a:pt x="356" y="11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628160" y="3504240"/>
              <a:ext cx="294840" cy="332640"/>
            </a:xfrm>
            <a:custGeom>
              <a:avLst/>
              <a:gdLst/>
              <a:ahLst/>
              <a:rect l="l" t="t" r="r" b="b"/>
              <a:pathLst>
                <a:path w="870" h="976">
                  <a:moveTo>
                    <a:pt x="734" y="557"/>
                  </a:moveTo>
                  <a:lnTo>
                    <a:pt x="718" y="553"/>
                  </a:lnTo>
                  <a:lnTo>
                    <a:pt x="701" y="549"/>
                  </a:lnTo>
                  <a:lnTo>
                    <a:pt x="684" y="542"/>
                  </a:lnTo>
                  <a:lnTo>
                    <a:pt x="666" y="536"/>
                  </a:lnTo>
                  <a:lnTo>
                    <a:pt x="649" y="530"/>
                  </a:lnTo>
                  <a:lnTo>
                    <a:pt x="634" y="522"/>
                  </a:lnTo>
                  <a:lnTo>
                    <a:pt x="620" y="511"/>
                  </a:lnTo>
                  <a:lnTo>
                    <a:pt x="607" y="501"/>
                  </a:lnTo>
                  <a:lnTo>
                    <a:pt x="594" y="485"/>
                  </a:lnTo>
                  <a:lnTo>
                    <a:pt x="581" y="467"/>
                  </a:lnTo>
                  <a:lnTo>
                    <a:pt x="567" y="444"/>
                  </a:lnTo>
                  <a:lnTo>
                    <a:pt x="552" y="420"/>
                  </a:lnTo>
                  <a:lnTo>
                    <a:pt x="538" y="393"/>
                  </a:lnTo>
                  <a:lnTo>
                    <a:pt x="523" y="367"/>
                  </a:lnTo>
                  <a:lnTo>
                    <a:pt x="507" y="342"/>
                  </a:lnTo>
                  <a:lnTo>
                    <a:pt x="493" y="316"/>
                  </a:lnTo>
                  <a:lnTo>
                    <a:pt x="468" y="284"/>
                  </a:lnTo>
                  <a:lnTo>
                    <a:pt x="441" y="253"/>
                  </a:lnTo>
                  <a:lnTo>
                    <a:pt x="414" y="222"/>
                  </a:lnTo>
                  <a:lnTo>
                    <a:pt x="386" y="195"/>
                  </a:lnTo>
                  <a:lnTo>
                    <a:pt x="358" y="171"/>
                  </a:lnTo>
                  <a:lnTo>
                    <a:pt x="333" y="148"/>
                  </a:lnTo>
                  <a:lnTo>
                    <a:pt x="312" y="129"/>
                  </a:lnTo>
                  <a:lnTo>
                    <a:pt x="294" y="117"/>
                  </a:lnTo>
                  <a:lnTo>
                    <a:pt x="247" y="80"/>
                  </a:lnTo>
                  <a:lnTo>
                    <a:pt x="242" y="78"/>
                  </a:lnTo>
                  <a:lnTo>
                    <a:pt x="227" y="69"/>
                  </a:lnTo>
                  <a:lnTo>
                    <a:pt x="206" y="57"/>
                  </a:lnTo>
                  <a:lnTo>
                    <a:pt x="180" y="44"/>
                  </a:lnTo>
                  <a:lnTo>
                    <a:pt x="152" y="30"/>
                  </a:lnTo>
                  <a:lnTo>
                    <a:pt x="124" y="17"/>
                  </a:lnTo>
                  <a:lnTo>
                    <a:pt x="99" y="6"/>
                  </a:lnTo>
                  <a:lnTo>
                    <a:pt x="77" y="0"/>
                  </a:lnTo>
                  <a:lnTo>
                    <a:pt x="68" y="58"/>
                  </a:lnTo>
                  <a:lnTo>
                    <a:pt x="50" y="117"/>
                  </a:lnTo>
                  <a:lnTo>
                    <a:pt x="27" y="171"/>
                  </a:lnTo>
                  <a:lnTo>
                    <a:pt x="0" y="218"/>
                  </a:lnTo>
                  <a:lnTo>
                    <a:pt x="32" y="269"/>
                  </a:lnTo>
                  <a:lnTo>
                    <a:pt x="61" y="320"/>
                  </a:lnTo>
                  <a:lnTo>
                    <a:pt x="88" y="370"/>
                  </a:lnTo>
                  <a:lnTo>
                    <a:pt x="112" y="420"/>
                  </a:lnTo>
                  <a:lnTo>
                    <a:pt x="135" y="477"/>
                  </a:lnTo>
                  <a:lnTo>
                    <a:pt x="152" y="535"/>
                  </a:lnTo>
                  <a:lnTo>
                    <a:pt x="162" y="595"/>
                  </a:lnTo>
                  <a:lnTo>
                    <a:pt x="166" y="656"/>
                  </a:lnTo>
                  <a:lnTo>
                    <a:pt x="169" y="692"/>
                  </a:lnTo>
                  <a:lnTo>
                    <a:pt x="204" y="751"/>
                  </a:lnTo>
                  <a:lnTo>
                    <a:pt x="247" y="801"/>
                  </a:lnTo>
                  <a:lnTo>
                    <a:pt x="297" y="845"/>
                  </a:lnTo>
                  <a:lnTo>
                    <a:pt x="352" y="882"/>
                  </a:lnTo>
                  <a:lnTo>
                    <a:pt x="397" y="906"/>
                  </a:lnTo>
                  <a:lnTo>
                    <a:pt x="424" y="917"/>
                  </a:lnTo>
                  <a:lnTo>
                    <a:pt x="456" y="931"/>
                  </a:lnTo>
                  <a:lnTo>
                    <a:pt x="491" y="945"/>
                  </a:lnTo>
                  <a:lnTo>
                    <a:pt x="527" y="958"/>
                  </a:lnTo>
                  <a:lnTo>
                    <a:pt x="565" y="968"/>
                  </a:lnTo>
                  <a:lnTo>
                    <a:pt x="602" y="974"/>
                  </a:lnTo>
                  <a:lnTo>
                    <a:pt x="639" y="976"/>
                  </a:lnTo>
                  <a:lnTo>
                    <a:pt x="672" y="973"/>
                  </a:lnTo>
                  <a:lnTo>
                    <a:pt x="612" y="698"/>
                  </a:lnTo>
                  <a:lnTo>
                    <a:pt x="764" y="629"/>
                  </a:lnTo>
                  <a:lnTo>
                    <a:pt x="870" y="580"/>
                  </a:lnTo>
                  <a:lnTo>
                    <a:pt x="860" y="579"/>
                  </a:lnTo>
                  <a:lnTo>
                    <a:pt x="846" y="577"/>
                  </a:lnTo>
                  <a:lnTo>
                    <a:pt x="831" y="576"/>
                  </a:lnTo>
                  <a:lnTo>
                    <a:pt x="809" y="571"/>
                  </a:lnTo>
                  <a:lnTo>
                    <a:pt x="786" y="567"/>
                  </a:lnTo>
                  <a:lnTo>
                    <a:pt x="760" y="563"/>
                  </a:lnTo>
                  <a:lnTo>
                    <a:pt x="734" y="5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341960" y="3336840"/>
              <a:ext cx="315360" cy="309960"/>
            </a:xfrm>
            <a:custGeom>
              <a:avLst/>
              <a:gdLst/>
              <a:ahLst/>
              <a:rect l="l" t="t" r="r" b="b"/>
              <a:pathLst>
                <a:path w="916" h="914">
                  <a:moveTo>
                    <a:pt x="913" y="492"/>
                  </a:moveTo>
                  <a:lnTo>
                    <a:pt x="916" y="457"/>
                  </a:lnTo>
                  <a:lnTo>
                    <a:pt x="915" y="410"/>
                  </a:lnTo>
                  <a:lnTo>
                    <a:pt x="908" y="365"/>
                  </a:lnTo>
                  <a:lnTo>
                    <a:pt x="897" y="321"/>
                  </a:lnTo>
                  <a:lnTo>
                    <a:pt x="882" y="279"/>
                  </a:lnTo>
                  <a:lnTo>
                    <a:pt x="861" y="239"/>
                  </a:lnTo>
                  <a:lnTo>
                    <a:pt x="839" y="201"/>
                  </a:lnTo>
                  <a:lnTo>
                    <a:pt x="812" y="167"/>
                  </a:lnTo>
                  <a:lnTo>
                    <a:pt x="782" y="135"/>
                  </a:lnTo>
                  <a:lnTo>
                    <a:pt x="749" y="104"/>
                  </a:lnTo>
                  <a:lnTo>
                    <a:pt x="715" y="78"/>
                  </a:lnTo>
                  <a:lnTo>
                    <a:pt x="677" y="55"/>
                  </a:lnTo>
                  <a:lnTo>
                    <a:pt x="636" y="35"/>
                  </a:lnTo>
                  <a:lnTo>
                    <a:pt x="595" y="20"/>
                  </a:lnTo>
                  <a:lnTo>
                    <a:pt x="551" y="9"/>
                  </a:lnTo>
                  <a:lnTo>
                    <a:pt x="504" y="1"/>
                  </a:lnTo>
                  <a:lnTo>
                    <a:pt x="457" y="0"/>
                  </a:lnTo>
                  <a:lnTo>
                    <a:pt x="366" y="9"/>
                  </a:lnTo>
                  <a:lnTo>
                    <a:pt x="280" y="35"/>
                  </a:lnTo>
                  <a:lnTo>
                    <a:pt x="202" y="78"/>
                  </a:lnTo>
                  <a:lnTo>
                    <a:pt x="135" y="135"/>
                  </a:lnTo>
                  <a:lnTo>
                    <a:pt x="78" y="201"/>
                  </a:lnTo>
                  <a:lnTo>
                    <a:pt x="37" y="279"/>
                  </a:lnTo>
                  <a:lnTo>
                    <a:pt x="10" y="365"/>
                  </a:lnTo>
                  <a:lnTo>
                    <a:pt x="0" y="457"/>
                  </a:lnTo>
                  <a:lnTo>
                    <a:pt x="10" y="549"/>
                  </a:lnTo>
                  <a:lnTo>
                    <a:pt x="37" y="636"/>
                  </a:lnTo>
                  <a:lnTo>
                    <a:pt x="79" y="716"/>
                  </a:lnTo>
                  <a:lnTo>
                    <a:pt x="135" y="785"/>
                  </a:lnTo>
                  <a:lnTo>
                    <a:pt x="203" y="842"/>
                  </a:lnTo>
                  <a:lnTo>
                    <a:pt x="280" y="884"/>
                  </a:lnTo>
                  <a:lnTo>
                    <a:pt x="366" y="907"/>
                  </a:lnTo>
                  <a:lnTo>
                    <a:pt x="457" y="914"/>
                  </a:lnTo>
                  <a:lnTo>
                    <a:pt x="486" y="911"/>
                  </a:lnTo>
                  <a:lnTo>
                    <a:pt x="539" y="904"/>
                  </a:lnTo>
                  <a:lnTo>
                    <a:pt x="589" y="890"/>
                  </a:lnTo>
                  <a:lnTo>
                    <a:pt x="639" y="872"/>
                  </a:lnTo>
                  <a:lnTo>
                    <a:pt x="686" y="849"/>
                  </a:lnTo>
                  <a:lnTo>
                    <a:pt x="729" y="820"/>
                  </a:lnTo>
                  <a:lnTo>
                    <a:pt x="769" y="787"/>
                  </a:lnTo>
                  <a:lnTo>
                    <a:pt x="805" y="750"/>
                  </a:lnTo>
                  <a:lnTo>
                    <a:pt x="836" y="710"/>
                  </a:lnTo>
                  <a:lnTo>
                    <a:pt x="863" y="663"/>
                  </a:lnTo>
                  <a:lnTo>
                    <a:pt x="886" y="609"/>
                  </a:lnTo>
                  <a:lnTo>
                    <a:pt x="904" y="550"/>
                  </a:lnTo>
                  <a:lnTo>
                    <a:pt x="913" y="492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404600" y="3399480"/>
              <a:ext cx="190080" cy="190080"/>
            </a:xfrm>
            <a:custGeom>
              <a:avLst/>
              <a:gdLst/>
              <a:ahLst/>
              <a:rect l="l" t="t" r="r" b="b"/>
              <a:pathLst>
                <a:path w="563" h="562">
                  <a:moveTo>
                    <a:pt x="0" y="282"/>
                  </a:moveTo>
                  <a:lnTo>
                    <a:pt x="6" y="225"/>
                  </a:lnTo>
                  <a:lnTo>
                    <a:pt x="23" y="172"/>
                  </a:lnTo>
                  <a:lnTo>
                    <a:pt x="47" y="124"/>
                  </a:lnTo>
                  <a:lnTo>
                    <a:pt x="83" y="83"/>
                  </a:lnTo>
                  <a:lnTo>
                    <a:pt x="124" y="49"/>
                  </a:lnTo>
                  <a:lnTo>
                    <a:pt x="171" y="23"/>
                  </a:lnTo>
                  <a:lnTo>
                    <a:pt x="225" y="7"/>
                  </a:lnTo>
                  <a:lnTo>
                    <a:pt x="281" y="0"/>
                  </a:lnTo>
                  <a:lnTo>
                    <a:pt x="338" y="7"/>
                  </a:lnTo>
                  <a:lnTo>
                    <a:pt x="392" y="23"/>
                  </a:lnTo>
                  <a:lnTo>
                    <a:pt x="438" y="49"/>
                  </a:lnTo>
                  <a:lnTo>
                    <a:pt x="481" y="83"/>
                  </a:lnTo>
                  <a:lnTo>
                    <a:pt x="515" y="124"/>
                  </a:lnTo>
                  <a:lnTo>
                    <a:pt x="542" y="172"/>
                  </a:lnTo>
                  <a:lnTo>
                    <a:pt x="558" y="225"/>
                  </a:lnTo>
                  <a:lnTo>
                    <a:pt x="563" y="282"/>
                  </a:lnTo>
                  <a:lnTo>
                    <a:pt x="558" y="338"/>
                  </a:lnTo>
                  <a:lnTo>
                    <a:pt x="542" y="390"/>
                  </a:lnTo>
                  <a:lnTo>
                    <a:pt x="515" y="437"/>
                  </a:lnTo>
                  <a:lnTo>
                    <a:pt x="481" y="478"/>
                  </a:lnTo>
                  <a:lnTo>
                    <a:pt x="438" y="514"/>
                  </a:lnTo>
                  <a:lnTo>
                    <a:pt x="392" y="541"/>
                  </a:lnTo>
                  <a:lnTo>
                    <a:pt x="338" y="556"/>
                  </a:lnTo>
                  <a:lnTo>
                    <a:pt x="281" y="562"/>
                  </a:lnTo>
                  <a:lnTo>
                    <a:pt x="225" y="556"/>
                  </a:lnTo>
                  <a:lnTo>
                    <a:pt x="171" y="541"/>
                  </a:lnTo>
                  <a:lnTo>
                    <a:pt x="124" y="514"/>
                  </a:lnTo>
                  <a:lnTo>
                    <a:pt x="83" y="478"/>
                  </a:lnTo>
                  <a:lnTo>
                    <a:pt x="47" y="437"/>
                  </a:lnTo>
                  <a:lnTo>
                    <a:pt x="23" y="390"/>
                  </a:lnTo>
                  <a:lnTo>
                    <a:pt x="6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32" name="" descr=""/>
          <p:cNvPicPr/>
          <p:nvPr/>
        </p:nvPicPr>
        <p:blipFill>
          <a:blip r:embed="rId3"/>
          <a:stretch/>
        </p:blipFill>
        <p:spPr>
          <a:xfrm>
            <a:off x="3075120" y="1679400"/>
            <a:ext cx="799920" cy="2505240"/>
          </a:xfrm>
          <a:prstGeom prst="rect">
            <a:avLst/>
          </a:prstGeom>
          <a:ln w="0">
            <a:noFill/>
          </a:ln>
        </p:spPr>
      </p:pic>
      <p:grpSp>
        <p:nvGrpSpPr>
          <p:cNvPr id="5833" name=""/>
          <p:cNvGrpSpPr/>
          <p:nvPr/>
        </p:nvGrpSpPr>
        <p:grpSpPr>
          <a:xfrm>
            <a:off x="5950080" y="5340240"/>
            <a:ext cx="2133360" cy="941040"/>
            <a:chOff x="5950080" y="5340240"/>
            <a:chExt cx="2133360" cy="941040"/>
          </a:xfrm>
        </p:grpSpPr>
        <p:grpSp>
          <p:nvGrpSpPr>
            <p:cNvPr id="5834" name=""/>
            <p:cNvGrpSpPr/>
            <p:nvPr/>
          </p:nvGrpSpPr>
          <p:grpSpPr>
            <a:xfrm>
              <a:off x="5950080" y="5340240"/>
              <a:ext cx="1028160" cy="941040"/>
              <a:chOff x="5950080" y="5340240"/>
              <a:chExt cx="1028160" cy="941040"/>
            </a:xfrm>
          </p:grpSpPr>
          <p:sp>
            <p:nvSpPr>
              <p:cNvPr id="5835" name=""/>
              <p:cNvSpPr/>
              <p:nvPr/>
            </p:nvSpPr>
            <p:spPr>
              <a:xfrm>
                <a:off x="5950080" y="6003360"/>
                <a:ext cx="734760" cy="27792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5961240" y="6009480"/>
                <a:ext cx="715320" cy="2458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136920" y="6022800"/>
                <a:ext cx="402480" cy="105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021000" y="6044400"/>
                <a:ext cx="418680" cy="133920"/>
              </a:xfrm>
              <a:custGeom>
                <a:avLst/>
                <a:gdLst/>
                <a:ahLst/>
                <a:rect l="l" t="t" r="r" b="b"/>
                <a:pathLst>
                  <a:path w="496" h="177">
                    <a:moveTo>
                      <a:pt x="0" y="66"/>
                    </a:moveTo>
                    <a:lnTo>
                      <a:pt x="21" y="73"/>
                    </a:lnTo>
                    <a:lnTo>
                      <a:pt x="45" y="61"/>
                    </a:lnTo>
                    <a:lnTo>
                      <a:pt x="60" y="66"/>
                    </a:lnTo>
                    <a:lnTo>
                      <a:pt x="45" y="80"/>
                    </a:lnTo>
                    <a:lnTo>
                      <a:pt x="344" y="163"/>
                    </a:lnTo>
                    <a:lnTo>
                      <a:pt x="360" y="151"/>
                    </a:lnTo>
                    <a:lnTo>
                      <a:pt x="386" y="158"/>
                    </a:lnTo>
                    <a:lnTo>
                      <a:pt x="370" y="170"/>
                    </a:lnTo>
                    <a:lnTo>
                      <a:pt x="396" y="177"/>
                    </a:lnTo>
                    <a:lnTo>
                      <a:pt x="496" y="106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26360" y="6131880"/>
                <a:ext cx="90360" cy="3276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374160" y="6168240"/>
                <a:ext cx="81360" cy="3132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455520" y="6146640"/>
                <a:ext cx="155160" cy="73800"/>
              </a:xfrm>
              <a:custGeom>
                <a:avLst/>
                <a:gdLst/>
                <a:ahLst/>
                <a:rect l="l" t="t" r="r" b="b"/>
                <a:pathLst>
                  <a:path w="185" h="97">
                    <a:moveTo>
                      <a:pt x="101" y="0"/>
                    </a:moveTo>
                    <a:lnTo>
                      <a:pt x="185" y="22"/>
                    </a:lnTo>
                    <a:lnTo>
                      <a:pt x="83" y="97"/>
                    </a:lnTo>
                    <a:lnTo>
                      <a:pt x="0" y="74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42" name=""/>
              <p:cNvGrpSpPr/>
              <p:nvPr/>
            </p:nvGrpSpPr>
            <p:grpSpPr>
              <a:xfrm>
                <a:off x="6166440" y="5340240"/>
                <a:ext cx="811800" cy="793800"/>
                <a:chOff x="6166440" y="5340240"/>
                <a:chExt cx="811800" cy="793800"/>
              </a:xfrm>
            </p:grpSpPr>
            <p:grpSp>
              <p:nvGrpSpPr>
                <p:cNvPr id="5843" name=""/>
                <p:cNvGrpSpPr/>
                <p:nvPr/>
              </p:nvGrpSpPr>
              <p:grpSpPr>
                <a:xfrm>
                  <a:off x="6166440" y="5732640"/>
                  <a:ext cx="811800" cy="401400"/>
                  <a:chOff x="6166440" y="5732640"/>
                  <a:chExt cx="811800" cy="401400"/>
                </a:xfrm>
              </p:grpSpPr>
              <p:sp>
                <p:nvSpPr>
                  <p:cNvPr id="5844" name=""/>
                  <p:cNvSpPr/>
                  <p:nvPr/>
                </p:nvSpPr>
                <p:spPr>
                  <a:xfrm>
                    <a:off x="6698160" y="5841360"/>
                    <a:ext cx="28008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3" y="191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6166800" y="5732640"/>
                    <a:ext cx="811080" cy="25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4" h="374">
                        <a:moveTo>
                          <a:pt x="691" y="374"/>
                        </a:moveTo>
                        <a:lnTo>
                          <a:pt x="0" y="191"/>
                        </a:lnTo>
                        <a:lnTo>
                          <a:pt x="363" y="0"/>
                        </a:lnTo>
                        <a:lnTo>
                          <a:pt x="1054" y="157"/>
                        </a:lnTo>
                        <a:lnTo>
                          <a:pt x="691" y="374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6166440" y="5863680"/>
                    <a:ext cx="53172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>
                    <a:off x="6444720" y="5959080"/>
                    <a:ext cx="2084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cap="rnd"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>
                    <a:off x="6449400" y="6007680"/>
                    <a:ext cx="200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6444000" y="5958000"/>
                    <a:ext cx="20772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6463440" y="5985000"/>
                    <a:ext cx="162360" cy="3708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1" name=""/>
                  <p:cNvSpPr/>
                  <p:nvPr/>
                </p:nvSpPr>
                <p:spPr>
                  <a:xfrm>
                    <a:off x="6600960" y="6059880"/>
                    <a:ext cx="31320" cy="612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6514200" y="5995440"/>
                    <a:ext cx="489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3240" bIns="-324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6180840" y="59133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>
                    <a:off x="6180840" y="5935680"/>
                    <a:ext cx="214560" cy="5364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6180840" y="5956560"/>
                    <a:ext cx="214560" cy="54000"/>
                  </a:xfrm>
                  <a:prstGeom prst="line">
                    <a:avLst/>
                  </a:prstGeom>
                  <a:ln w="32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6446520" y="6015960"/>
                    <a:ext cx="2116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3240">
                    <a:solidFill>
                      <a:srgbClr val="0033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7" name=""/>
                <p:cNvSpPr/>
                <p:nvPr/>
              </p:nvSpPr>
              <p:spPr>
                <a:xfrm>
                  <a:off x="6309000" y="5725440"/>
                  <a:ext cx="543240" cy="206280"/>
                </a:xfrm>
                <a:custGeom>
                  <a:avLst/>
                  <a:gdLst/>
                  <a:ahLst/>
                  <a:rect l="l" t="t" r="r" b="b"/>
                  <a:pathLst>
                    <a:path w="707" h="298">
                      <a:moveTo>
                        <a:pt x="0" y="163"/>
                      </a:moveTo>
                      <a:lnTo>
                        <a:pt x="303" y="0"/>
                      </a:lnTo>
                      <a:lnTo>
                        <a:pt x="707" y="116"/>
                      </a:lnTo>
                      <a:lnTo>
                        <a:pt x="707" y="138"/>
                      </a:lnTo>
                      <a:lnTo>
                        <a:pt x="417" y="298"/>
                      </a:lnTo>
                      <a:lnTo>
                        <a:pt x="0" y="188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6314760" y="5730120"/>
                  <a:ext cx="527400" cy="182520"/>
                </a:xfrm>
                <a:custGeom>
                  <a:avLst/>
                  <a:gdLst/>
                  <a:ahLst/>
                  <a:rect l="l" t="t" r="r" b="b"/>
                  <a:pathLst>
                    <a:path w="685" h="264">
                      <a:moveTo>
                        <a:pt x="0" y="158"/>
                      </a:moveTo>
                      <a:lnTo>
                        <a:pt x="409" y="264"/>
                      </a:lnTo>
                      <a:lnTo>
                        <a:pt x="685" y="110"/>
                      </a:lnTo>
                      <a:lnTo>
                        <a:pt x="297" y="0"/>
                      </a:lnTo>
                      <a:lnTo>
                        <a:pt x="0" y="15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6446160" y="5774400"/>
                  <a:ext cx="274320" cy="9972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6297840" y="5778720"/>
                  <a:ext cx="441000" cy="1108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6402960" y="5340240"/>
                  <a:ext cx="551160" cy="45900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6747120" y="5441040"/>
                  <a:ext cx="110880" cy="4467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6255720" y="5344560"/>
                  <a:ext cx="602280" cy="15192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c0c0c0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6255720" y="5391000"/>
                  <a:ext cx="492120" cy="4986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>
                  <a:off x="6294240" y="5434200"/>
                  <a:ext cx="415080" cy="4093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3240">
                  <a:solidFill>
                    <a:srgbClr val="0033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6319440" y="5462640"/>
                  <a:ext cx="363960" cy="352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w="3240">
                  <a:solidFill>
                    <a:srgbClr val="003366"/>
                  </a:solidFill>
                  <a:round/>
                </a:ln>
                <a:effectLst>
                  <a:outerShdw dist="17819" dir="2700000" blurRad="0" rotWithShape="0">
                    <a:srgbClr val="0000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7" name=""/>
            <p:cNvSpPr/>
            <p:nvPr/>
          </p:nvSpPr>
          <p:spPr>
            <a:xfrm>
              <a:off x="7067520" y="551988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-1800" y="5129280"/>
            <a:ext cx="2338200" cy="1280880"/>
            <a:chOff x="-1800" y="5129280"/>
            <a:chExt cx="2338200" cy="1280880"/>
          </a:xfrm>
        </p:grpSpPr>
        <p:sp>
          <p:nvSpPr>
            <p:cNvPr id="5869" name=""/>
            <p:cNvSpPr/>
            <p:nvPr/>
          </p:nvSpPr>
          <p:spPr>
            <a:xfrm>
              <a:off x="-1800" y="5345280"/>
              <a:ext cx="14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eb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lkalmazá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70" name=""/>
            <p:cNvGrpSpPr/>
            <p:nvPr/>
          </p:nvGrpSpPr>
          <p:grpSpPr>
            <a:xfrm>
              <a:off x="1521000" y="5129280"/>
              <a:ext cx="815400" cy="1280880"/>
              <a:chOff x="1521000" y="5129280"/>
              <a:chExt cx="815400" cy="1280880"/>
            </a:xfrm>
          </p:grpSpPr>
          <p:sp>
            <p:nvSpPr>
              <p:cNvPr id="5871" name=""/>
              <p:cNvSpPr/>
              <p:nvPr/>
            </p:nvSpPr>
            <p:spPr>
              <a:xfrm>
                <a:off x="1523520" y="5129280"/>
                <a:ext cx="811800" cy="274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c0c0c0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1536480" y="6082200"/>
                <a:ext cx="787680" cy="3279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1878480" y="5205240"/>
                <a:ext cx="457920" cy="117288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1521000" y="5316120"/>
                <a:ext cx="362520" cy="105588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1571040" y="6204960"/>
                <a:ext cx="250200" cy="637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1562400" y="5367960"/>
                <a:ext cx="40320" cy="22320"/>
              </a:xfrm>
              <a:prstGeom prst="ellipse">
                <a:avLst/>
              </a:prstGeom>
              <a:solidFill>
                <a:srgbClr val="00b000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1571040" y="6156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1571040" y="6108480"/>
                <a:ext cx="250200" cy="6552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1571040" y="6061320"/>
                <a:ext cx="250200" cy="6480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1571040" y="6012360"/>
                <a:ext cx="250200" cy="64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1575000" y="5551920"/>
                <a:ext cx="248040" cy="4489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1548720" y="546300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1567440" y="5492880"/>
                <a:ext cx="253080" cy="44424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1569240" y="5594400"/>
                <a:ext cx="24336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569240" y="5690160"/>
                <a:ext cx="246240" cy="5328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1569240" y="5807520"/>
                <a:ext cx="234720" cy="5436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1641600" y="5548320"/>
                <a:ext cx="96480" cy="504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1603800" y="5555880"/>
                <a:ext cx="179640" cy="37440"/>
              </a:xfrm>
              <a:prstGeom prst="line">
                <a:avLst/>
              </a:prstGeom>
              <a:ln w="64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1586520" y="5729760"/>
                <a:ext cx="216360" cy="946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1586520" y="5847120"/>
                <a:ext cx="217440" cy="1051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1747080" y="578520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752840" y="5902560"/>
                <a:ext cx="33840" cy="18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1582560" y="5622480"/>
                <a:ext cx="220320" cy="975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1744920" y="567504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00b000"/>
              </a:solidFill>
              <a:ln cap="rnd" w="1260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95" name=""/>
          <p:cNvGrpSpPr/>
          <p:nvPr/>
        </p:nvGrpSpPr>
        <p:grpSpPr>
          <a:xfrm>
            <a:off x="1077840" y="3638520"/>
            <a:ext cx="2611440" cy="1495080"/>
            <a:chOff x="1077840" y="3638520"/>
            <a:chExt cx="2611440" cy="1495080"/>
          </a:xfrm>
        </p:grpSpPr>
        <p:sp>
          <p:nvSpPr>
            <p:cNvPr id="5896" name=""/>
            <p:cNvSpPr/>
            <p:nvPr/>
          </p:nvSpPr>
          <p:spPr>
            <a:xfrm flipV="1">
              <a:off x="2414520" y="3944520"/>
              <a:ext cx="1274760" cy="1189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1077840" y="3638520"/>
              <a:ext cx="2006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Kiszolgáló oldali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hu-HU" sz="2000" spc="-1" strike="noStrike">
                  <a:solidFill>
                    <a:srgbClr val="ffffff"/>
                  </a:solidFill>
                  <a:latin typeface="Arial"/>
                </a:rPr>
                <a:t>a HTTPS-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4773600" y="3817800"/>
            <a:ext cx="2822400" cy="1420560"/>
            <a:chOff x="4773600" y="3817800"/>
            <a:chExt cx="2822400" cy="1420560"/>
          </a:xfrm>
        </p:grpSpPr>
        <p:sp>
          <p:nvSpPr>
            <p:cNvPr id="5899" name=""/>
            <p:cNvSpPr/>
            <p:nvPr/>
          </p:nvSpPr>
          <p:spPr>
            <a:xfrm flipH="1" flipV="1">
              <a:off x="4773600" y="3995280"/>
              <a:ext cx="1316160" cy="124308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645880" y="3817800"/>
              <a:ext cx="1950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Ügyfél oldali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zonyítvány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 hitelesítéshe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tonságos extranet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ig használjunk CA hierarchi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 CA élettartama és kulcshossza duplája legyen az alatta lévő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leg használjunk hardveres kulcstá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ntsük le a Root CA bizonyítvány tár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oot CA legyen kikapcsolva és elzár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ikapcsolt Root CA CRL-je és bizonyítványa publikálható az alatta lévő CA webszerveré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bizonyítványokat kiadó web SSL-lel működjö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 integráció esetén a nyilvános kulcsok és a CRL az AD-ban (LDAP) is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ape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0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-mail olyan, mint egy képes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pikus kérdések belső vagy külső levelezésben egyará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ényleg ő küldte ezt a level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módosítottá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tos, hogy nem olvasták máso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/>
          </p:nvPr>
        </p:nvSpPr>
        <p:spPr>
          <a:xfrm>
            <a:off x="228600" y="1476000"/>
            <a:ext cx="868680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Tényleg ő küldte ezt a level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módosítottá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gitális aláír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Biztos, hogy nem olvasták más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 kell hozzá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utlook vagy Outlook Ex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ctive Directory jó, ha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228240" y="64296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5 perces titkosítási tanfoly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228600" y="2274840"/>
            <a:ext cx="8686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érintett témakörö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metriku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yilvános kulcsú titkos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ális aláí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zonyít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immetrikus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380880" y="1924200"/>
            <a:ext cx="8415360" cy="30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kulc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van, melyet a kommunikáció megkezdése előtt kicserélnek a fel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visszafejtés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ugyanazt a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j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ES, RC2, RC4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4153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ás néven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szimmetri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den kommunikáló félhe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ké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kulcs tarto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yilvános kulcs (bárki ismerhe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ivát kulcs (csak ő isme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itkosításhoz és a dekódoláshoz </a:t>
            </a: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más-más kulcsot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használun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Jól ismert algoritmu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ffie-Hellman, 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13" name=""/>
          <p:cNvGrpSpPr/>
          <p:nvPr/>
        </p:nvGrpSpPr>
        <p:grpSpPr>
          <a:xfrm>
            <a:off x="6446880" y="4786200"/>
            <a:ext cx="1023840" cy="1644480"/>
            <a:chOff x="6446880" y="4786200"/>
            <a:chExt cx="1023840" cy="1644480"/>
          </a:xfrm>
        </p:grpSpPr>
        <p:sp>
          <p:nvSpPr>
            <p:cNvPr id="5914" name=""/>
            <p:cNvSpPr/>
            <p:nvPr/>
          </p:nvSpPr>
          <p:spPr>
            <a:xfrm>
              <a:off x="6446880" y="5046480"/>
              <a:ext cx="571320" cy="1287360"/>
            </a:xfrm>
            <a:custGeom>
              <a:avLst/>
              <a:gdLst/>
              <a:ahLst/>
              <a:rect l="l" t="t" r="r" b="b"/>
              <a:pathLst>
                <a:path w="720" h="1623">
                  <a:moveTo>
                    <a:pt x="341" y="1218"/>
                  </a:moveTo>
                  <a:lnTo>
                    <a:pt x="308" y="1245"/>
                  </a:lnTo>
                  <a:lnTo>
                    <a:pt x="290" y="1267"/>
                  </a:lnTo>
                  <a:lnTo>
                    <a:pt x="285" y="1285"/>
                  </a:lnTo>
                  <a:lnTo>
                    <a:pt x="288" y="1299"/>
                  </a:lnTo>
                  <a:lnTo>
                    <a:pt x="296" y="1311"/>
                  </a:lnTo>
                  <a:lnTo>
                    <a:pt x="306" y="1317"/>
                  </a:lnTo>
                  <a:lnTo>
                    <a:pt x="316" y="1322"/>
                  </a:lnTo>
                  <a:lnTo>
                    <a:pt x="319" y="1323"/>
                  </a:lnTo>
                  <a:lnTo>
                    <a:pt x="286" y="1445"/>
                  </a:lnTo>
                  <a:lnTo>
                    <a:pt x="88" y="1623"/>
                  </a:lnTo>
                  <a:lnTo>
                    <a:pt x="0" y="1558"/>
                  </a:lnTo>
                  <a:lnTo>
                    <a:pt x="120" y="891"/>
                  </a:lnTo>
                  <a:lnTo>
                    <a:pt x="84" y="865"/>
                  </a:lnTo>
                  <a:lnTo>
                    <a:pt x="70" y="779"/>
                  </a:lnTo>
                  <a:lnTo>
                    <a:pt x="29" y="748"/>
                  </a:lnTo>
                  <a:lnTo>
                    <a:pt x="81" y="355"/>
                  </a:lnTo>
                  <a:lnTo>
                    <a:pt x="179" y="190"/>
                  </a:lnTo>
                  <a:lnTo>
                    <a:pt x="606" y="0"/>
                  </a:lnTo>
                  <a:lnTo>
                    <a:pt x="720" y="87"/>
                  </a:lnTo>
                  <a:lnTo>
                    <a:pt x="603" y="523"/>
                  </a:lnTo>
                  <a:lnTo>
                    <a:pt x="527" y="681"/>
                  </a:lnTo>
                  <a:lnTo>
                    <a:pt x="446" y="776"/>
                  </a:lnTo>
                  <a:lnTo>
                    <a:pt x="423" y="886"/>
                  </a:lnTo>
                  <a:lnTo>
                    <a:pt x="379" y="927"/>
                  </a:lnTo>
                  <a:lnTo>
                    <a:pt x="356" y="956"/>
                  </a:lnTo>
                  <a:lnTo>
                    <a:pt x="348" y="974"/>
                  </a:lnTo>
                  <a:lnTo>
                    <a:pt x="350" y="986"/>
                  </a:lnTo>
                  <a:lnTo>
                    <a:pt x="361" y="991"/>
                  </a:lnTo>
                  <a:lnTo>
                    <a:pt x="372" y="994"/>
                  </a:lnTo>
                  <a:lnTo>
                    <a:pt x="383" y="992"/>
                  </a:lnTo>
                  <a:lnTo>
                    <a:pt x="387" y="992"/>
                  </a:lnTo>
                  <a:lnTo>
                    <a:pt x="361" y="1116"/>
                  </a:lnTo>
                  <a:lnTo>
                    <a:pt x="309" y="1178"/>
                  </a:lnTo>
                  <a:lnTo>
                    <a:pt x="341" y="1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521" y="434"/>
                  </a:moveTo>
                  <a:lnTo>
                    <a:pt x="616" y="34"/>
                  </a:lnTo>
                  <a:lnTo>
                    <a:pt x="569" y="0"/>
                  </a:lnTo>
                  <a:lnTo>
                    <a:pt x="178" y="174"/>
                  </a:lnTo>
                  <a:lnTo>
                    <a:pt x="91" y="293"/>
                  </a:lnTo>
                  <a:lnTo>
                    <a:pt x="32" y="655"/>
                  </a:lnTo>
                  <a:lnTo>
                    <a:pt x="63" y="678"/>
                  </a:lnTo>
                  <a:lnTo>
                    <a:pt x="70" y="754"/>
                  </a:lnTo>
                  <a:lnTo>
                    <a:pt x="122" y="792"/>
                  </a:lnTo>
                  <a:lnTo>
                    <a:pt x="0" y="1466"/>
                  </a:lnTo>
                  <a:lnTo>
                    <a:pt x="47" y="1501"/>
                  </a:lnTo>
                  <a:lnTo>
                    <a:pt x="188" y="1373"/>
                  </a:lnTo>
                  <a:lnTo>
                    <a:pt x="209" y="1278"/>
                  </a:lnTo>
                  <a:lnTo>
                    <a:pt x="206" y="1278"/>
                  </a:lnTo>
                  <a:lnTo>
                    <a:pt x="198" y="1276"/>
                  </a:lnTo>
                  <a:lnTo>
                    <a:pt x="188" y="1273"/>
                  </a:lnTo>
                  <a:lnTo>
                    <a:pt x="180" y="1263"/>
                  </a:lnTo>
                  <a:lnTo>
                    <a:pt x="177" y="1250"/>
                  </a:lnTo>
                  <a:lnTo>
                    <a:pt x="183" y="1229"/>
                  </a:lnTo>
                  <a:lnTo>
                    <a:pt x="200" y="1199"/>
                  </a:lnTo>
                  <a:lnTo>
                    <a:pt x="233" y="1160"/>
                  </a:lnTo>
                  <a:lnTo>
                    <a:pt x="205" y="1123"/>
                  </a:lnTo>
                  <a:lnTo>
                    <a:pt x="271" y="1044"/>
                  </a:lnTo>
                  <a:lnTo>
                    <a:pt x="288" y="945"/>
                  </a:lnTo>
                  <a:lnTo>
                    <a:pt x="284" y="944"/>
                  </a:lnTo>
                  <a:lnTo>
                    <a:pt x="277" y="941"/>
                  </a:lnTo>
                  <a:lnTo>
                    <a:pt x="269" y="935"/>
                  </a:lnTo>
                  <a:lnTo>
                    <a:pt x="264" y="925"/>
                  </a:lnTo>
                  <a:lnTo>
                    <a:pt x="261" y="911"/>
                  </a:lnTo>
                  <a:lnTo>
                    <a:pt x="266" y="892"/>
                  </a:lnTo>
                  <a:lnTo>
                    <a:pt x="281" y="870"/>
                  </a:lnTo>
                  <a:lnTo>
                    <a:pt x="309" y="842"/>
                  </a:lnTo>
                  <a:lnTo>
                    <a:pt x="337" y="705"/>
                  </a:lnTo>
                  <a:lnTo>
                    <a:pt x="421" y="624"/>
                  </a:lnTo>
                  <a:lnTo>
                    <a:pt x="521" y="434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6481800" y="5100480"/>
              <a:ext cx="488880" cy="1190520"/>
            </a:xfrm>
            <a:custGeom>
              <a:avLst/>
              <a:gdLst/>
              <a:ahLst/>
              <a:rect l="l" t="t" r="r" b="b"/>
              <a:pathLst>
                <a:path w="616" h="1501">
                  <a:moveTo>
                    <a:pt x="47" y="1501"/>
                  </a:moveTo>
                  <a:lnTo>
                    <a:pt x="0" y="1466"/>
                  </a:lnTo>
                  <a:lnTo>
                    <a:pt x="122" y="792"/>
                  </a:lnTo>
                  <a:lnTo>
                    <a:pt x="70" y="754"/>
                  </a:lnTo>
                  <a:lnTo>
                    <a:pt x="63" y="678"/>
                  </a:lnTo>
                  <a:lnTo>
                    <a:pt x="32" y="655"/>
                  </a:lnTo>
                  <a:lnTo>
                    <a:pt x="91" y="293"/>
                  </a:lnTo>
                  <a:lnTo>
                    <a:pt x="178" y="174"/>
                  </a:lnTo>
                  <a:lnTo>
                    <a:pt x="569" y="0"/>
                  </a:lnTo>
                  <a:lnTo>
                    <a:pt x="616" y="34"/>
                  </a:lnTo>
                  <a:lnTo>
                    <a:pt x="235" y="216"/>
                  </a:lnTo>
                  <a:lnTo>
                    <a:pt x="148" y="335"/>
                  </a:lnTo>
                  <a:lnTo>
                    <a:pt x="94" y="701"/>
                  </a:lnTo>
                  <a:lnTo>
                    <a:pt x="182" y="764"/>
                  </a:lnTo>
                  <a:lnTo>
                    <a:pt x="47" y="150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6727680" y="5279760"/>
              <a:ext cx="87480" cy="9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6" y="121"/>
                  </a:moveTo>
                  <a:lnTo>
                    <a:pt x="41" y="117"/>
                  </a:lnTo>
                  <a:lnTo>
                    <a:pt x="54" y="104"/>
                  </a:lnTo>
                  <a:lnTo>
                    <a:pt x="72" y="85"/>
                  </a:lnTo>
                  <a:lnTo>
                    <a:pt x="90" y="64"/>
                  </a:lnTo>
                  <a:lnTo>
                    <a:pt x="102" y="43"/>
                  </a:lnTo>
                  <a:lnTo>
                    <a:pt x="108" y="23"/>
                  </a:lnTo>
                  <a:lnTo>
                    <a:pt x="101" y="8"/>
                  </a:lnTo>
                  <a:lnTo>
                    <a:pt x="77" y="0"/>
                  </a:lnTo>
                  <a:lnTo>
                    <a:pt x="77" y="4"/>
                  </a:lnTo>
                  <a:lnTo>
                    <a:pt x="75" y="12"/>
                  </a:lnTo>
                  <a:lnTo>
                    <a:pt x="71" y="24"/>
                  </a:lnTo>
                  <a:lnTo>
                    <a:pt x="64" y="39"/>
                  </a:lnTo>
                  <a:lnTo>
                    <a:pt x="55" y="55"/>
                  </a:lnTo>
                  <a:lnTo>
                    <a:pt x="41" y="72"/>
                  </a:lnTo>
                  <a:lnTo>
                    <a:pt x="23" y="84"/>
                  </a:lnTo>
                  <a:lnTo>
                    <a:pt x="0" y="95"/>
                  </a:lnTo>
                  <a:lnTo>
                    <a:pt x="36" y="121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6561000" y="5694120"/>
              <a:ext cx="123840" cy="561960"/>
            </a:xfrm>
            <a:custGeom>
              <a:avLst/>
              <a:gdLst/>
              <a:ahLst/>
              <a:rect l="l" t="t" r="r" b="b"/>
              <a:pathLst>
                <a:path w="157" h="708">
                  <a:moveTo>
                    <a:pt x="131" y="13"/>
                  </a:moveTo>
                  <a:lnTo>
                    <a:pt x="0" y="708"/>
                  </a:lnTo>
                  <a:lnTo>
                    <a:pt x="28" y="680"/>
                  </a:lnTo>
                  <a:lnTo>
                    <a:pt x="157" y="0"/>
                  </a:lnTo>
                  <a:lnTo>
                    <a:pt x="131" y="13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6778800" y="5081400"/>
              <a:ext cx="504720" cy="1349280"/>
            </a:xfrm>
            <a:custGeom>
              <a:avLst/>
              <a:gdLst/>
              <a:ahLst/>
              <a:rect l="l" t="t" r="r" b="b"/>
              <a:pathLst>
                <a:path w="636" h="1701">
                  <a:moveTo>
                    <a:pt x="589" y="1226"/>
                  </a:moveTo>
                  <a:lnTo>
                    <a:pt x="570" y="1264"/>
                  </a:lnTo>
                  <a:lnTo>
                    <a:pt x="565" y="1292"/>
                  </a:lnTo>
                  <a:lnTo>
                    <a:pt x="567" y="1311"/>
                  </a:lnTo>
                  <a:lnTo>
                    <a:pt x="576" y="1323"/>
                  </a:lnTo>
                  <a:lnTo>
                    <a:pt x="589" y="1329"/>
                  </a:lnTo>
                  <a:lnTo>
                    <a:pt x="601" y="1331"/>
                  </a:lnTo>
                  <a:lnTo>
                    <a:pt x="612" y="1331"/>
                  </a:lnTo>
                  <a:lnTo>
                    <a:pt x="615" y="1331"/>
                  </a:lnTo>
                  <a:lnTo>
                    <a:pt x="636" y="1454"/>
                  </a:lnTo>
                  <a:lnTo>
                    <a:pt x="534" y="1701"/>
                  </a:lnTo>
                  <a:lnTo>
                    <a:pt x="428" y="1680"/>
                  </a:lnTo>
                  <a:lnTo>
                    <a:pt x="250" y="1025"/>
                  </a:lnTo>
                  <a:lnTo>
                    <a:pt x="205" y="1016"/>
                  </a:lnTo>
                  <a:lnTo>
                    <a:pt x="157" y="944"/>
                  </a:lnTo>
                  <a:lnTo>
                    <a:pt x="106" y="935"/>
                  </a:lnTo>
                  <a:lnTo>
                    <a:pt x="0" y="541"/>
                  </a:lnTo>
                  <a:lnTo>
                    <a:pt x="21" y="354"/>
                  </a:lnTo>
                  <a:lnTo>
                    <a:pt x="327" y="0"/>
                  </a:lnTo>
                  <a:lnTo>
                    <a:pt x="447" y="21"/>
                  </a:lnTo>
                  <a:lnTo>
                    <a:pt x="529" y="486"/>
                  </a:lnTo>
                  <a:lnTo>
                    <a:pt x="528" y="663"/>
                  </a:lnTo>
                  <a:lnTo>
                    <a:pt x="495" y="781"/>
                  </a:lnTo>
                  <a:lnTo>
                    <a:pt x="522" y="891"/>
                  </a:lnTo>
                  <a:lnTo>
                    <a:pt x="500" y="945"/>
                  </a:lnTo>
                  <a:lnTo>
                    <a:pt x="491" y="982"/>
                  </a:lnTo>
                  <a:lnTo>
                    <a:pt x="492" y="1003"/>
                  </a:lnTo>
                  <a:lnTo>
                    <a:pt x="499" y="1012"/>
                  </a:lnTo>
                  <a:lnTo>
                    <a:pt x="510" y="1012"/>
                  </a:lnTo>
                  <a:lnTo>
                    <a:pt x="522" y="1008"/>
                  </a:lnTo>
                  <a:lnTo>
                    <a:pt x="531" y="1004"/>
                  </a:lnTo>
                  <a:lnTo>
                    <a:pt x="535" y="1001"/>
                  </a:lnTo>
                  <a:lnTo>
                    <a:pt x="563" y="1125"/>
                  </a:lnTo>
                  <a:lnTo>
                    <a:pt x="543" y="1204"/>
                  </a:lnTo>
                  <a:lnTo>
                    <a:pt x="589" y="1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6807240" y="5136840"/>
              <a:ext cx="436680" cy="1254240"/>
            </a:xfrm>
            <a:custGeom>
              <a:avLst/>
              <a:gdLst/>
              <a:ahLst/>
              <a:rect l="l" t="t" r="r" b="b"/>
              <a:pathLst>
                <a:path w="550" h="1579">
                  <a:moveTo>
                    <a:pt x="448" y="412"/>
                  </a:moveTo>
                  <a:lnTo>
                    <a:pt x="363" y="10"/>
                  </a:lnTo>
                  <a:lnTo>
                    <a:pt x="306" y="0"/>
                  </a:lnTo>
                  <a:lnTo>
                    <a:pt x="28" y="324"/>
                  </a:lnTo>
                  <a:lnTo>
                    <a:pt x="0" y="469"/>
                  </a:lnTo>
                  <a:lnTo>
                    <a:pt x="101" y="820"/>
                  </a:lnTo>
                  <a:lnTo>
                    <a:pt x="139" y="828"/>
                  </a:lnTo>
                  <a:lnTo>
                    <a:pt x="179" y="894"/>
                  </a:lnTo>
                  <a:lnTo>
                    <a:pt x="242" y="906"/>
                  </a:lnTo>
                  <a:lnTo>
                    <a:pt x="420" y="1568"/>
                  </a:lnTo>
                  <a:lnTo>
                    <a:pt x="477" y="1579"/>
                  </a:lnTo>
                  <a:lnTo>
                    <a:pt x="550" y="1404"/>
                  </a:lnTo>
                  <a:lnTo>
                    <a:pt x="529" y="1309"/>
                  </a:lnTo>
                  <a:lnTo>
                    <a:pt x="525" y="1310"/>
                  </a:lnTo>
                  <a:lnTo>
                    <a:pt x="517" y="1312"/>
                  </a:lnTo>
                  <a:lnTo>
                    <a:pt x="507" y="1312"/>
                  </a:lnTo>
                  <a:lnTo>
                    <a:pt x="495" y="1307"/>
                  </a:lnTo>
                  <a:lnTo>
                    <a:pt x="487" y="1296"/>
                  </a:lnTo>
                  <a:lnTo>
                    <a:pt x="484" y="1274"/>
                  </a:lnTo>
                  <a:lnTo>
                    <a:pt x="487" y="1241"/>
                  </a:lnTo>
                  <a:lnTo>
                    <a:pt x="500" y="1191"/>
                  </a:lnTo>
                  <a:lnTo>
                    <a:pt x="457" y="1170"/>
                  </a:lnTo>
                  <a:lnTo>
                    <a:pt x="484" y="1071"/>
                  </a:lnTo>
                  <a:lnTo>
                    <a:pt x="456" y="974"/>
                  </a:lnTo>
                  <a:lnTo>
                    <a:pt x="453" y="974"/>
                  </a:lnTo>
                  <a:lnTo>
                    <a:pt x="446" y="974"/>
                  </a:lnTo>
                  <a:lnTo>
                    <a:pt x="435" y="972"/>
                  </a:lnTo>
                  <a:lnTo>
                    <a:pt x="425" y="966"/>
                  </a:lnTo>
                  <a:lnTo>
                    <a:pt x="418" y="955"/>
                  </a:lnTo>
                  <a:lnTo>
                    <a:pt x="415" y="936"/>
                  </a:lnTo>
                  <a:lnTo>
                    <a:pt x="418" y="909"/>
                  </a:lnTo>
                  <a:lnTo>
                    <a:pt x="431" y="872"/>
                  </a:lnTo>
                  <a:lnTo>
                    <a:pt x="399" y="735"/>
                  </a:lnTo>
                  <a:lnTo>
                    <a:pt x="440" y="626"/>
                  </a:lnTo>
                  <a:lnTo>
                    <a:pt x="448" y="412"/>
                  </a:lnTo>
                  <a:close/>
                </a:path>
              </a:pathLst>
            </a:custGeom>
            <a:solidFill>
              <a:srgbClr val="ffd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6807240" y="5136840"/>
              <a:ext cx="377640" cy="1254240"/>
            </a:xfrm>
            <a:custGeom>
              <a:avLst/>
              <a:gdLst/>
              <a:ahLst/>
              <a:rect l="l" t="t" r="r" b="b"/>
              <a:pathLst>
                <a:path w="477" h="1579">
                  <a:moveTo>
                    <a:pt x="477" y="1579"/>
                  </a:moveTo>
                  <a:lnTo>
                    <a:pt x="420" y="1568"/>
                  </a:lnTo>
                  <a:lnTo>
                    <a:pt x="242" y="906"/>
                  </a:lnTo>
                  <a:lnTo>
                    <a:pt x="179" y="894"/>
                  </a:lnTo>
                  <a:lnTo>
                    <a:pt x="139" y="828"/>
                  </a:lnTo>
                  <a:lnTo>
                    <a:pt x="101" y="820"/>
                  </a:lnTo>
                  <a:lnTo>
                    <a:pt x="0" y="469"/>
                  </a:lnTo>
                  <a:lnTo>
                    <a:pt x="28" y="324"/>
                  </a:lnTo>
                  <a:lnTo>
                    <a:pt x="306" y="0"/>
                  </a:lnTo>
                  <a:lnTo>
                    <a:pt x="363" y="10"/>
                  </a:lnTo>
                  <a:lnTo>
                    <a:pt x="97" y="337"/>
                  </a:lnTo>
                  <a:lnTo>
                    <a:pt x="69" y="482"/>
                  </a:lnTo>
                  <a:lnTo>
                    <a:pt x="176" y="835"/>
                  </a:lnTo>
                  <a:lnTo>
                    <a:pt x="283" y="856"/>
                  </a:lnTo>
                  <a:lnTo>
                    <a:pt x="477" y="1579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6973920" y="5357520"/>
              <a:ext cx="55440" cy="10332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43" y="130"/>
                  </a:moveTo>
                  <a:lnTo>
                    <a:pt x="46" y="124"/>
                  </a:lnTo>
                  <a:lnTo>
                    <a:pt x="53" y="106"/>
                  </a:lnTo>
                  <a:lnTo>
                    <a:pt x="61" y="82"/>
                  </a:lnTo>
                  <a:lnTo>
                    <a:pt x="68" y="56"/>
                  </a:lnTo>
                  <a:lnTo>
                    <a:pt x="70" y="30"/>
                  </a:lnTo>
                  <a:lnTo>
                    <a:pt x="66" y="11"/>
                  </a:lnTo>
                  <a:lnTo>
                    <a:pt x="54" y="0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5"/>
                  </a:lnTo>
                  <a:lnTo>
                    <a:pt x="33" y="28"/>
                  </a:lnTo>
                  <a:lnTo>
                    <a:pt x="34" y="45"/>
                  </a:lnTo>
                  <a:lnTo>
                    <a:pt x="33" y="64"/>
                  </a:lnTo>
                  <a:lnTo>
                    <a:pt x="27" y="83"/>
                  </a:lnTo>
                  <a:lnTo>
                    <a:pt x="17" y="103"/>
                  </a:lnTo>
                  <a:lnTo>
                    <a:pt x="0" y="121"/>
                  </a:lnTo>
                  <a:lnTo>
                    <a:pt x="43" y="130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067520" y="5779800"/>
              <a:ext cx="150840" cy="561960"/>
            </a:xfrm>
            <a:custGeom>
              <a:avLst/>
              <a:gdLst/>
              <a:ahLst/>
              <a:rect l="l" t="t" r="r" b="b"/>
              <a:pathLst>
                <a:path w="191" h="708">
                  <a:moveTo>
                    <a:pt x="0" y="24"/>
                  </a:moveTo>
                  <a:lnTo>
                    <a:pt x="179" y="708"/>
                  </a:lnTo>
                  <a:lnTo>
                    <a:pt x="191" y="671"/>
                  </a:lnTo>
                  <a:lnTo>
                    <a:pt x="19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bf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6716880" y="4786200"/>
              <a:ext cx="753840" cy="555480"/>
            </a:xfrm>
            <a:custGeom>
              <a:avLst/>
              <a:gdLst/>
              <a:ahLst/>
              <a:rect l="l" t="t" r="r" b="b"/>
              <a:pathLst>
                <a:path w="949" h="701">
                  <a:moveTo>
                    <a:pt x="393" y="0"/>
                  </a:moveTo>
                  <a:lnTo>
                    <a:pt x="364" y="0"/>
                  </a:lnTo>
                  <a:lnTo>
                    <a:pt x="336" y="2"/>
                  </a:lnTo>
                  <a:lnTo>
                    <a:pt x="309" y="5"/>
                  </a:lnTo>
                  <a:lnTo>
                    <a:pt x="281" y="8"/>
                  </a:lnTo>
                  <a:lnTo>
                    <a:pt x="253" y="13"/>
                  </a:lnTo>
                  <a:lnTo>
                    <a:pt x="228" y="18"/>
                  </a:lnTo>
                  <a:lnTo>
                    <a:pt x="202" y="25"/>
                  </a:lnTo>
                  <a:lnTo>
                    <a:pt x="176" y="32"/>
                  </a:lnTo>
                  <a:lnTo>
                    <a:pt x="152" y="40"/>
                  </a:lnTo>
                  <a:lnTo>
                    <a:pt x="128" y="50"/>
                  </a:lnTo>
                  <a:lnTo>
                    <a:pt x="105" y="60"/>
                  </a:lnTo>
                  <a:lnTo>
                    <a:pt x="82" y="70"/>
                  </a:lnTo>
                  <a:lnTo>
                    <a:pt x="60" y="82"/>
                  </a:lnTo>
                  <a:lnTo>
                    <a:pt x="39" y="94"/>
                  </a:lnTo>
                  <a:lnTo>
                    <a:pt x="19" y="107"/>
                  </a:lnTo>
                  <a:lnTo>
                    <a:pt x="0" y="121"/>
                  </a:lnTo>
                  <a:lnTo>
                    <a:pt x="26" y="141"/>
                  </a:lnTo>
                  <a:lnTo>
                    <a:pt x="44" y="128"/>
                  </a:lnTo>
                  <a:lnTo>
                    <a:pt x="62" y="116"/>
                  </a:lnTo>
                  <a:lnTo>
                    <a:pt x="81" y="105"/>
                  </a:lnTo>
                  <a:lnTo>
                    <a:pt x="100" y="94"/>
                  </a:lnTo>
                  <a:lnTo>
                    <a:pt x="121" y="85"/>
                  </a:lnTo>
                  <a:lnTo>
                    <a:pt x="142" y="76"/>
                  </a:lnTo>
                  <a:lnTo>
                    <a:pt x="163" y="67"/>
                  </a:lnTo>
                  <a:lnTo>
                    <a:pt x="185" y="60"/>
                  </a:lnTo>
                  <a:lnTo>
                    <a:pt x="208" y="53"/>
                  </a:lnTo>
                  <a:lnTo>
                    <a:pt x="231" y="47"/>
                  </a:lnTo>
                  <a:lnTo>
                    <a:pt x="256" y="41"/>
                  </a:lnTo>
                  <a:lnTo>
                    <a:pt x="280" y="38"/>
                  </a:lnTo>
                  <a:lnTo>
                    <a:pt x="304" y="35"/>
                  </a:lnTo>
                  <a:lnTo>
                    <a:pt x="329" y="32"/>
                  </a:lnTo>
                  <a:lnTo>
                    <a:pt x="355" y="30"/>
                  </a:lnTo>
                  <a:lnTo>
                    <a:pt x="381" y="30"/>
                  </a:lnTo>
                  <a:lnTo>
                    <a:pt x="412" y="31"/>
                  </a:lnTo>
                  <a:lnTo>
                    <a:pt x="443" y="33"/>
                  </a:lnTo>
                  <a:lnTo>
                    <a:pt x="475" y="37"/>
                  </a:lnTo>
                  <a:lnTo>
                    <a:pt x="505" y="41"/>
                  </a:lnTo>
                  <a:lnTo>
                    <a:pt x="533" y="47"/>
                  </a:lnTo>
                  <a:lnTo>
                    <a:pt x="561" y="55"/>
                  </a:lnTo>
                  <a:lnTo>
                    <a:pt x="589" y="63"/>
                  </a:lnTo>
                  <a:lnTo>
                    <a:pt x="615" y="74"/>
                  </a:lnTo>
                  <a:lnTo>
                    <a:pt x="642" y="85"/>
                  </a:lnTo>
                  <a:lnTo>
                    <a:pt x="666" y="97"/>
                  </a:lnTo>
                  <a:lnTo>
                    <a:pt x="690" y="111"/>
                  </a:lnTo>
                  <a:lnTo>
                    <a:pt x="712" y="124"/>
                  </a:lnTo>
                  <a:lnTo>
                    <a:pt x="734" y="139"/>
                  </a:lnTo>
                  <a:lnTo>
                    <a:pt x="753" y="156"/>
                  </a:lnTo>
                  <a:lnTo>
                    <a:pt x="773" y="173"/>
                  </a:lnTo>
                  <a:lnTo>
                    <a:pt x="790" y="190"/>
                  </a:lnTo>
                  <a:lnTo>
                    <a:pt x="816" y="215"/>
                  </a:lnTo>
                  <a:lnTo>
                    <a:pt x="839" y="242"/>
                  </a:lnTo>
                  <a:lnTo>
                    <a:pt x="858" y="271"/>
                  </a:lnTo>
                  <a:lnTo>
                    <a:pt x="874" y="301"/>
                  </a:lnTo>
                  <a:lnTo>
                    <a:pt x="887" y="331"/>
                  </a:lnTo>
                  <a:lnTo>
                    <a:pt x="896" y="363"/>
                  </a:lnTo>
                  <a:lnTo>
                    <a:pt x="902" y="396"/>
                  </a:lnTo>
                  <a:lnTo>
                    <a:pt x="904" y="430"/>
                  </a:lnTo>
                  <a:lnTo>
                    <a:pt x="902" y="466"/>
                  </a:lnTo>
                  <a:lnTo>
                    <a:pt x="895" y="500"/>
                  </a:lnTo>
                  <a:lnTo>
                    <a:pt x="885" y="535"/>
                  </a:lnTo>
                  <a:lnTo>
                    <a:pt x="870" y="567"/>
                  </a:lnTo>
                  <a:lnTo>
                    <a:pt x="851" y="598"/>
                  </a:lnTo>
                  <a:lnTo>
                    <a:pt x="829" y="627"/>
                  </a:lnTo>
                  <a:lnTo>
                    <a:pt x="805" y="655"/>
                  </a:lnTo>
                  <a:lnTo>
                    <a:pt x="776" y="681"/>
                  </a:lnTo>
                  <a:lnTo>
                    <a:pt x="803" y="701"/>
                  </a:lnTo>
                  <a:lnTo>
                    <a:pt x="835" y="672"/>
                  </a:lnTo>
                  <a:lnTo>
                    <a:pt x="864" y="641"/>
                  </a:lnTo>
                  <a:lnTo>
                    <a:pt x="889" y="607"/>
                  </a:lnTo>
                  <a:lnTo>
                    <a:pt x="910" y="572"/>
                  </a:lnTo>
                  <a:lnTo>
                    <a:pt x="927" y="536"/>
                  </a:lnTo>
                  <a:lnTo>
                    <a:pt x="939" y="498"/>
                  </a:lnTo>
                  <a:lnTo>
                    <a:pt x="947" y="459"/>
                  </a:lnTo>
                  <a:lnTo>
                    <a:pt x="949" y="418"/>
                  </a:lnTo>
                  <a:lnTo>
                    <a:pt x="947" y="376"/>
                  </a:lnTo>
                  <a:lnTo>
                    <a:pt x="938" y="334"/>
                  </a:lnTo>
                  <a:lnTo>
                    <a:pt x="924" y="294"/>
                  </a:lnTo>
                  <a:lnTo>
                    <a:pt x="905" y="256"/>
                  </a:lnTo>
                  <a:lnTo>
                    <a:pt x="882" y="219"/>
                  </a:lnTo>
                  <a:lnTo>
                    <a:pt x="855" y="184"/>
                  </a:lnTo>
                  <a:lnTo>
                    <a:pt x="822" y="152"/>
                  </a:lnTo>
                  <a:lnTo>
                    <a:pt x="787" y="122"/>
                  </a:lnTo>
                  <a:lnTo>
                    <a:pt x="746" y="96"/>
                  </a:lnTo>
                  <a:lnTo>
                    <a:pt x="704" y="71"/>
                  </a:lnTo>
                  <a:lnTo>
                    <a:pt x="658" y="51"/>
                  </a:lnTo>
                  <a:lnTo>
                    <a:pt x="609" y="33"/>
                  </a:lnTo>
                  <a:lnTo>
                    <a:pt x="559" y="18"/>
                  </a:lnTo>
                  <a:lnTo>
                    <a:pt x="505" y="8"/>
                  </a:lnTo>
                  <a:lnTo>
                    <a:pt x="449" y="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6945480" y="5327280"/>
              <a:ext cx="407880" cy="122400"/>
            </a:xfrm>
            <a:custGeom>
              <a:avLst/>
              <a:gdLst/>
              <a:ahLst/>
              <a:rect l="l" t="t" r="r" b="b"/>
              <a:pathLst>
                <a:path w="515" h="156">
                  <a:moveTo>
                    <a:pt x="462" y="22"/>
                  </a:moveTo>
                  <a:lnTo>
                    <a:pt x="445" y="33"/>
                  </a:lnTo>
                  <a:lnTo>
                    <a:pt x="426" y="45"/>
                  </a:lnTo>
                  <a:lnTo>
                    <a:pt x="408" y="55"/>
                  </a:lnTo>
                  <a:lnTo>
                    <a:pt x="389" y="65"/>
                  </a:lnTo>
                  <a:lnTo>
                    <a:pt x="369" y="74"/>
                  </a:lnTo>
                  <a:lnTo>
                    <a:pt x="348" y="83"/>
                  </a:lnTo>
                  <a:lnTo>
                    <a:pt x="327" y="90"/>
                  </a:lnTo>
                  <a:lnTo>
                    <a:pt x="305" y="98"/>
                  </a:lnTo>
                  <a:lnTo>
                    <a:pt x="283" y="104"/>
                  </a:lnTo>
                  <a:lnTo>
                    <a:pt x="260" y="110"/>
                  </a:lnTo>
                  <a:lnTo>
                    <a:pt x="237" y="114"/>
                  </a:lnTo>
                  <a:lnTo>
                    <a:pt x="214" y="119"/>
                  </a:lnTo>
                  <a:lnTo>
                    <a:pt x="190" y="121"/>
                  </a:lnTo>
                  <a:lnTo>
                    <a:pt x="166" y="123"/>
                  </a:lnTo>
                  <a:lnTo>
                    <a:pt x="142" y="126"/>
                  </a:lnTo>
                  <a:lnTo>
                    <a:pt x="116" y="126"/>
                  </a:lnTo>
                  <a:lnTo>
                    <a:pt x="100" y="123"/>
                  </a:lnTo>
                  <a:lnTo>
                    <a:pt x="86" y="116"/>
                  </a:lnTo>
                  <a:lnTo>
                    <a:pt x="72" y="107"/>
                  </a:lnTo>
                  <a:lnTo>
                    <a:pt x="60" y="97"/>
                  </a:lnTo>
                  <a:lnTo>
                    <a:pt x="47" y="85"/>
                  </a:lnTo>
                  <a:lnTo>
                    <a:pt x="34" y="76"/>
                  </a:lnTo>
                  <a:lnTo>
                    <a:pt x="22" y="67"/>
                  </a:lnTo>
                  <a:lnTo>
                    <a:pt x="7" y="62"/>
                  </a:lnTo>
                  <a:lnTo>
                    <a:pt x="2" y="73"/>
                  </a:lnTo>
                  <a:lnTo>
                    <a:pt x="0" y="100"/>
                  </a:lnTo>
                  <a:lnTo>
                    <a:pt x="2" y="131"/>
                  </a:lnTo>
                  <a:lnTo>
                    <a:pt x="15" y="150"/>
                  </a:lnTo>
                  <a:lnTo>
                    <a:pt x="15" y="150"/>
                  </a:lnTo>
                  <a:lnTo>
                    <a:pt x="25" y="151"/>
                  </a:lnTo>
                  <a:lnTo>
                    <a:pt x="37" y="152"/>
                  </a:lnTo>
                  <a:lnTo>
                    <a:pt x="48" y="153"/>
                  </a:lnTo>
                  <a:lnTo>
                    <a:pt x="59" y="154"/>
                  </a:lnTo>
                  <a:lnTo>
                    <a:pt x="70" y="154"/>
                  </a:lnTo>
                  <a:lnTo>
                    <a:pt x="82" y="156"/>
                  </a:lnTo>
                  <a:lnTo>
                    <a:pt x="93" y="156"/>
                  </a:lnTo>
                  <a:lnTo>
                    <a:pt x="105" y="156"/>
                  </a:lnTo>
                  <a:lnTo>
                    <a:pt x="135" y="154"/>
                  </a:lnTo>
                  <a:lnTo>
                    <a:pt x="165" y="153"/>
                  </a:lnTo>
                  <a:lnTo>
                    <a:pt x="195" y="150"/>
                  </a:lnTo>
                  <a:lnTo>
                    <a:pt x="223" y="146"/>
                  </a:lnTo>
                  <a:lnTo>
                    <a:pt x="252" y="141"/>
                  </a:lnTo>
                  <a:lnTo>
                    <a:pt x="280" y="135"/>
                  </a:lnTo>
                  <a:lnTo>
                    <a:pt x="306" y="127"/>
                  </a:lnTo>
                  <a:lnTo>
                    <a:pt x="333" y="119"/>
                  </a:lnTo>
                  <a:lnTo>
                    <a:pt x="359" y="110"/>
                  </a:lnTo>
                  <a:lnTo>
                    <a:pt x="384" y="99"/>
                  </a:lnTo>
                  <a:lnTo>
                    <a:pt x="408" y="88"/>
                  </a:lnTo>
                  <a:lnTo>
                    <a:pt x="432" y="76"/>
                  </a:lnTo>
                  <a:lnTo>
                    <a:pt x="454" y="63"/>
                  </a:lnTo>
                  <a:lnTo>
                    <a:pt x="476" y="50"/>
                  </a:lnTo>
                  <a:lnTo>
                    <a:pt x="495" y="35"/>
                  </a:lnTo>
                  <a:lnTo>
                    <a:pt x="515" y="20"/>
                  </a:lnTo>
                  <a:lnTo>
                    <a:pt x="488" y="0"/>
                  </a:lnTo>
                  <a:lnTo>
                    <a:pt x="481" y="6"/>
                  </a:lnTo>
                  <a:lnTo>
                    <a:pt x="476" y="10"/>
                  </a:lnTo>
                  <a:lnTo>
                    <a:pt x="469" y="16"/>
                  </a:lnTo>
                  <a:lnTo>
                    <a:pt x="4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6586560" y="4883040"/>
              <a:ext cx="150840" cy="312480"/>
            </a:xfrm>
            <a:custGeom>
              <a:avLst/>
              <a:gdLst/>
              <a:ahLst/>
              <a:rect l="l" t="t" r="r" b="b"/>
              <a:pathLst>
                <a:path w="191" h="394">
                  <a:moveTo>
                    <a:pt x="44" y="286"/>
                  </a:moveTo>
                  <a:lnTo>
                    <a:pt x="46" y="251"/>
                  </a:lnTo>
                  <a:lnTo>
                    <a:pt x="52" y="217"/>
                  </a:lnTo>
                  <a:lnTo>
                    <a:pt x="63" y="183"/>
                  </a:lnTo>
                  <a:lnTo>
                    <a:pt x="77" y="151"/>
                  </a:lnTo>
                  <a:lnTo>
                    <a:pt x="95" y="121"/>
                  </a:lnTo>
                  <a:lnTo>
                    <a:pt x="116" y="92"/>
                  </a:lnTo>
                  <a:lnTo>
                    <a:pt x="141" y="65"/>
                  </a:lnTo>
                  <a:lnTo>
                    <a:pt x="168" y="38"/>
                  </a:lnTo>
                  <a:lnTo>
                    <a:pt x="174" y="33"/>
                  </a:lnTo>
                  <a:lnTo>
                    <a:pt x="180" y="29"/>
                  </a:lnTo>
                  <a:lnTo>
                    <a:pt x="186" y="24"/>
                  </a:lnTo>
                  <a:lnTo>
                    <a:pt x="191" y="20"/>
                  </a:lnTo>
                  <a:lnTo>
                    <a:pt x="165" y="0"/>
                  </a:lnTo>
                  <a:lnTo>
                    <a:pt x="128" y="30"/>
                  </a:lnTo>
                  <a:lnTo>
                    <a:pt x="96" y="62"/>
                  </a:lnTo>
                  <a:lnTo>
                    <a:pt x="68" y="97"/>
                  </a:lnTo>
                  <a:lnTo>
                    <a:pt x="44" y="134"/>
                  </a:lnTo>
                  <a:lnTo>
                    <a:pt x="25" y="172"/>
                  </a:lnTo>
                  <a:lnTo>
                    <a:pt x="12" y="212"/>
                  </a:lnTo>
                  <a:lnTo>
                    <a:pt x="2" y="255"/>
                  </a:lnTo>
                  <a:lnTo>
                    <a:pt x="0" y="297"/>
                  </a:lnTo>
                  <a:lnTo>
                    <a:pt x="1" y="323"/>
                  </a:lnTo>
                  <a:lnTo>
                    <a:pt x="5" y="347"/>
                  </a:lnTo>
                  <a:lnTo>
                    <a:pt x="9" y="371"/>
                  </a:lnTo>
                  <a:lnTo>
                    <a:pt x="15" y="394"/>
                  </a:lnTo>
                  <a:lnTo>
                    <a:pt x="58" y="373"/>
                  </a:lnTo>
                  <a:lnTo>
                    <a:pt x="52" y="351"/>
                  </a:lnTo>
                  <a:lnTo>
                    <a:pt x="47" y="330"/>
                  </a:lnTo>
                  <a:lnTo>
                    <a:pt x="45" y="308"/>
                  </a:lnTo>
                  <a:lnTo>
                    <a:pt x="44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661080" y="4922640"/>
              <a:ext cx="79560" cy="106200"/>
            </a:xfrm>
            <a:custGeom>
              <a:avLst/>
              <a:gdLst/>
              <a:ahLst/>
              <a:rect l="l" t="t" r="r" b="b"/>
              <a:pathLst>
                <a:path w="100" h="135">
                  <a:moveTo>
                    <a:pt x="0" y="135"/>
                  </a:moveTo>
                  <a:lnTo>
                    <a:pt x="9" y="117"/>
                  </a:lnTo>
                  <a:lnTo>
                    <a:pt x="18" y="101"/>
                  </a:lnTo>
                  <a:lnTo>
                    <a:pt x="29" y="84"/>
                  </a:lnTo>
                  <a:lnTo>
                    <a:pt x="40" y="69"/>
                  </a:lnTo>
                  <a:lnTo>
                    <a:pt x="53" y="53"/>
                  </a:lnTo>
                  <a:lnTo>
                    <a:pt x="67" y="38"/>
                  </a:lnTo>
                  <a:lnTo>
                    <a:pt x="80" y="24"/>
                  </a:lnTo>
                  <a:lnTo>
                    <a:pt x="95" y="10"/>
                  </a:lnTo>
                  <a:lnTo>
                    <a:pt x="97" y="9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100" y="7"/>
                  </a:lnTo>
                  <a:lnTo>
                    <a:pt x="90" y="0"/>
                  </a:lnTo>
                  <a:lnTo>
                    <a:pt x="77" y="12"/>
                  </a:lnTo>
                  <a:lnTo>
                    <a:pt x="63" y="26"/>
                  </a:lnTo>
                  <a:lnTo>
                    <a:pt x="50" y="41"/>
                  </a:lnTo>
                  <a:lnTo>
                    <a:pt x="39" y="58"/>
                  </a:lnTo>
                  <a:lnTo>
                    <a:pt x="27" y="76"/>
                  </a:lnTo>
                  <a:lnTo>
                    <a:pt x="17" y="94"/>
                  </a:lnTo>
                  <a:lnTo>
                    <a:pt x="8" y="11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6732720" y="4905000"/>
              <a:ext cx="27000" cy="223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0"/>
                  </a:moveTo>
                  <a:lnTo>
                    <a:pt x="20" y="0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0" y="21"/>
                  </a:lnTo>
                  <a:lnTo>
                    <a:pt x="10" y="28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7" y="15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6750000" y="4822560"/>
              <a:ext cx="409680" cy="92160"/>
            </a:xfrm>
            <a:custGeom>
              <a:avLst/>
              <a:gdLst/>
              <a:ahLst/>
              <a:rect l="l" t="t" r="r" b="b"/>
              <a:pathLst>
                <a:path w="518" h="115">
                  <a:moveTo>
                    <a:pt x="363" y="7"/>
                  </a:moveTo>
                  <a:lnTo>
                    <a:pt x="384" y="7"/>
                  </a:lnTo>
                  <a:lnTo>
                    <a:pt x="404" y="8"/>
                  </a:lnTo>
                  <a:lnTo>
                    <a:pt x="423" y="9"/>
                  </a:lnTo>
                  <a:lnTo>
                    <a:pt x="443" y="12"/>
                  </a:lnTo>
                  <a:lnTo>
                    <a:pt x="462" y="15"/>
                  </a:lnTo>
                  <a:lnTo>
                    <a:pt x="481" y="17"/>
                  </a:lnTo>
                  <a:lnTo>
                    <a:pt x="499" y="21"/>
                  </a:lnTo>
                  <a:lnTo>
                    <a:pt x="518" y="25"/>
                  </a:lnTo>
                  <a:lnTo>
                    <a:pt x="499" y="20"/>
                  </a:lnTo>
                  <a:lnTo>
                    <a:pt x="478" y="15"/>
                  </a:lnTo>
                  <a:lnTo>
                    <a:pt x="457" y="9"/>
                  </a:lnTo>
                  <a:lnTo>
                    <a:pt x="434" y="6"/>
                  </a:lnTo>
                  <a:lnTo>
                    <a:pt x="408" y="2"/>
                  </a:lnTo>
                  <a:lnTo>
                    <a:pt x="382" y="1"/>
                  </a:lnTo>
                  <a:lnTo>
                    <a:pt x="354" y="0"/>
                  </a:lnTo>
                  <a:lnTo>
                    <a:pt x="325" y="0"/>
                  </a:lnTo>
                  <a:lnTo>
                    <a:pt x="295" y="2"/>
                  </a:lnTo>
                  <a:lnTo>
                    <a:pt x="263" y="6"/>
                  </a:lnTo>
                  <a:lnTo>
                    <a:pt x="231" y="10"/>
                  </a:lnTo>
                  <a:lnTo>
                    <a:pt x="196" y="19"/>
                  </a:lnTo>
                  <a:lnTo>
                    <a:pt x="161" y="28"/>
                  </a:lnTo>
                  <a:lnTo>
                    <a:pt x="125" y="39"/>
                  </a:lnTo>
                  <a:lnTo>
                    <a:pt x="87" y="53"/>
                  </a:lnTo>
                  <a:lnTo>
                    <a:pt x="48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0" y="75"/>
                  </a:lnTo>
                  <a:lnTo>
                    <a:pt x="34" y="78"/>
                  </a:lnTo>
                  <a:lnTo>
                    <a:pt x="27" y="83"/>
                  </a:lnTo>
                  <a:lnTo>
                    <a:pt x="19" y="90"/>
                  </a:lnTo>
                  <a:lnTo>
                    <a:pt x="10" y="97"/>
                  </a:lnTo>
                  <a:lnTo>
                    <a:pt x="0" y="105"/>
                  </a:lnTo>
                  <a:lnTo>
                    <a:pt x="13" y="115"/>
                  </a:lnTo>
                  <a:lnTo>
                    <a:pt x="30" y="103"/>
                  </a:lnTo>
                  <a:lnTo>
                    <a:pt x="49" y="91"/>
                  </a:lnTo>
                  <a:lnTo>
                    <a:pt x="67" y="81"/>
                  </a:lnTo>
                  <a:lnTo>
                    <a:pt x="87" y="70"/>
                  </a:lnTo>
                  <a:lnTo>
                    <a:pt x="108" y="60"/>
                  </a:lnTo>
                  <a:lnTo>
                    <a:pt x="128" y="52"/>
                  </a:lnTo>
                  <a:lnTo>
                    <a:pt x="149" y="44"/>
                  </a:lnTo>
                  <a:lnTo>
                    <a:pt x="171" y="36"/>
                  </a:lnTo>
                  <a:lnTo>
                    <a:pt x="194" y="29"/>
                  </a:lnTo>
                  <a:lnTo>
                    <a:pt x="217" y="23"/>
                  </a:lnTo>
                  <a:lnTo>
                    <a:pt x="240" y="19"/>
                  </a:lnTo>
                  <a:lnTo>
                    <a:pt x="264" y="15"/>
                  </a:lnTo>
                  <a:lnTo>
                    <a:pt x="288" y="12"/>
                  </a:lnTo>
                  <a:lnTo>
                    <a:pt x="313" y="9"/>
                  </a:lnTo>
                  <a:lnTo>
                    <a:pt x="338" y="7"/>
                  </a:lnTo>
                  <a:lnTo>
                    <a:pt x="3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759720" y="4829040"/>
              <a:ext cx="480960" cy="92160"/>
            </a:xfrm>
            <a:custGeom>
              <a:avLst/>
              <a:gdLst/>
              <a:ahLst/>
              <a:rect l="l" t="t" r="r" b="b"/>
              <a:pathLst>
                <a:path w="606" h="118">
                  <a:moveTo>
                    <a:pt x="0" y="108"/>
                  </a:moveTo>
                  <a:lnTo>
                    <a:pt x="13" y="118"/>
                  </a:lnTo>
                  <a:lnTo>
                    <a:pt x="24" y="109"/>
                  </a:lnTo>
                  <a:lnTo>
                    <a:pt x="36" y="100"/>
                  </a:lnTo>
                  <a:lnTo>
                    <a:pt x="48" y="93"/>
                  </a:lnTo>
                  <a:lnTo>
                    <a:pt x="61" y="85"/>
                  </a:lnTo>
                  <a:lnTo>
                    <a:pt x="75" y="78"/>
                  </a:lnTo>
                  <a:lnTo>
                    <a:pt x="90" y="70"/>
                  </a:lnTo>
                  <a:lnTo>
                    <a:pt x="105" y="65"/>
                  </a:lnTo>
                  <a:lnTo>
                    <a:pt x="121" y="58"/>
                  </a:lnTo>
                  <a:lnTo>
                    <a:pt x="137" y="52"/>
                  </a:lnTo>
                  <a:lnTo>
                    <a:pt x="154" y="47"/>
                  </a:lnTo>
                  <a:lnTo>
                    <a:pt x="172" y="41"/>
                  </a:lnTo>
                  <a:lnTo>
                    <a:pt x="190" y="38"/>
                  </a:lnTo>
                  <a:lnTo>
                    <a:pt x="210" y="33"/>
                  </a:lnTo>
                  <a:lnTo>
                    <a:pt x="230" y="30"/>
                  </a:lnTo>
                  <a:lnTo>
                    <a:pt x="251" y="28"/>
                  </a:lnTo>
                  <a:lnTo>
                    <a:pt x="273" y="25"/>
                  </a:lnTo>
                  <a:lnTo>
                    <a:pt x="275" y="25"/>
                  </a:lnTo>
                  <a:lnTo>
                    <a:pt x="281" y="23"/>
                  </a:lnTo>
                  <a:lnTo>
                    <a:pt x="292" y="22"/>
                  </a:lnTo>
                  <a:lnTo>
                    <a:pt x="305" y="20"/>
                  </a:lnTo>
                  <a:lnTo>
                    <a:pt x="321" y="17"/>
                  </a:lnTo>
                  <a:lnTo>
                    <a:pt x="341" y="16"/>
                  </a:lnTo>
                  <a:lnTo>
                    <a:pt x="363" y="15"/>
                  </a:lnTo>
                  <a:lnTo>
                    <a:pt x="386" y="15"/>
                  </a:lnTo>
                  <a:lnTo>
                    <a:pt x="411" y="15"/>
                  </a:lnTo>
                  <a:lnTo>
                    <a:pt x="439" y="17"/>
                  </a:lnTo>
                  <a:lnTo>
                    <a:pt x="465" y="21"/>
                  </a:lnTo>
                  <a:lnTo>
                    <a:pt x="494" y="27"/>
                  </a:lnTo>
                  <a:lnTo>
                    <a:pt x="523" y="35"/>
                  </a:lnTo>
                  <a:lnTo>
                    <a:pt x="551" y="45"/>
                  </a:lnTo>
                  <a:lnTo>
                    <a:pt x="578" y="58"/>
                  </a:lnTo>
                  <a:lnTo>
                    <a:pt x="606" y="74"/>
                  </a:lnTo>
                  <a:lnTo>
                    <a:pt x="606" y="66"/>
                  </a:lnTo>
                  <a:lnTo>
                    <a:pt x="605" y="65"/>
                  </a:lnTo>
                  <a:lnTo>
                    <a:pt x="599" y="61"/>
                  </a:lnTo>
                  <a:lnTo>
                    <a:pt x="591" y="56"/>
                  </a:lnTo>
                  <a:lnTo>
                    <a:pt x="580" y="51"/>
                  </a:lnTo>
                  <a:lnTo>
                    <a:pt x="566" y="43"/>
                  </a:lnTo>
                  <a:lnTo>
                    <a:pt x="548" y="35"/>
                  </a:lnTo>
                  <a:lnTo>
                    <a:pt x="528" y="27"/>
                  </a:lnTo>
                  <a:lnTo>
                    <a:pt x="505" y="18"/>
                  </a:lnTo>
                  <a:lnTo>
                    <a:pt x="486" y="14"/>
                  </a:lnTo>
                  <a:lnTo>
                    <a:pt x="468" y="10"/>
                  </a:lnTo>
                  <a:lnTo>
                    <a:pt x="449" y="8"/>
                  </a:lnTo>
                  <a:lnTo>
                    <a:pt x="430" y="5"/>
                  </a:lnTo>
                  <a:lnTo>
                    <a:pt x="410" y="2"/>
                  </a:lnTo>
                  <a:lnTo>
                    <a:pt x="391" y="1"/>
                  </a:lnTo>
                  <a:lnTo>
                    <a:pt x="371" y="0"/>
                  </a:lnTo>
                  <a:lnTo>
                    <a:pt x="350" y="0"/>
                  </a:lnTo>
                  <a:lnTo>
                    <a:pt x="325" y="0"/>
                  </a:lnTo>
                  <a:lnTo>
                    <a:pt x="300" y="2"/>
                  </a:lnTo>
                  <a:lnTo>
                    <a:pt x="275" y="5"/>
                  </a:lnTo>
                  <a:lnTo>
                    <a:pt x="251" y="8"/>
                  </a:lnTo>
                  <a:lnTo>
                    <a:pt x="227" y="12"/>
                  </a:lnTo>
                  <a:lnTo>
                    <a:pt x="204" y="16"/>
                  </a:lnTo>
                  <a:lnTo>
                    <a:pt x="181" y="22"/>
                  </a:lnTo>
                  <a:lnTo>
                    <a:pt x="158" y="29"/>
                  </a:lnTo>
                  <a:lnTo>
                    <a:pt x="136" y="37"/>
                  </a:lnTo>
                  <a:lnTo>
                    <a:pt x="115" y="45"/>
                  </a:lnTo>
                  <a:lnTo>
                    <a:pt x="95" y="53"/>
                  </a:lnTo>
                  <a:lnTo>
                    <a:pt x="74" y="63"/>
                  </a:lnTo>
                  <a:lnTo>
                    <a:pt x="54" y="74"/>
                  </a:lnTo>
                  <a:lnTo>
                    <a:pt x="36" y="84"/>
                  </a:lnTo>
                  <a:lnTo>
                    <a:pt x="17" y="96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6740640" y="4914720"/>
              <a:ext cx="28440" cy="2052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18"/>
                  </a:moveTo>
                  <a:lnTo>
                    <a:pt x="14" y="28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6" y="1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816600" y="4889160"/>
              <a:ext cx="520920" cy="381240"/>
            </a:xfrm>
            <a:custGeom>
              <a:avLst/>
              <a:gdLst/>
              <a:ahLst/>
              <a:rect l="l" t="t" r="r" b="b"/>
              <a:pathLst>
                <a:path w="654" h="481">
                  <a:moveTo>
                    <a:pt x="0" y="84"/>
                  </a:moveTo>
                  <a:lnTo>
                    <a:pt x="41" y="113"/>
                  </a:lnTo>
                  <a:lnTo>
                    <a:pt x="53" y="105"/>
                  </a:lnTo>
                  <a:lnTo>
                    <a:pt x="64" y="98"/>
                  </a:lnTo>
                  <a:lnTo>
                    <a:pt x="76" y="91"/>
                  </a:lnTo>
                  <a:lnTo>
                    <a:pt x="88" y="85"/>
                  </a:lnTo>
                  <a:lnTo>
                    <a:pt x="101" y="78"/>
                  </a:lnTo>
                  <a:lnTo>
                    <a:pt x="115" y="74"/>
                  </a:lnTo>
                  <a:lnTo>
                    <a:pt x="129" y="68"/>
                  </a:lnTo>
                  <a:lnTo>
                    <a:pt x="142" y="63"/>
                  </a:lnTo>
                  <a:lnTo>
                    <a:pt x="156" y="59"/>
                  </a:lnTo>
                  <a:lnTo>
                    <a:pt x="171" y="55"/>
                  </a:lnTo>
                  <a:lnTo>
                    <a:pt x="186" y="52"/>
                  </a:lnTo>
                  <a:lnTo>
                    <a:pt x="202" y="50"/>
                  </a:lnTo>
                  <a:lnTo>
                    <a:pt x="217" y="47"/>
                  </a:lnTo>
                  <a:lnTo>
                    <a:pt x="233" y="46"/>
                  </a:lnTo>
                  <a:lnTo>
                    <a:pt x="250" y="45"/>
                  </a:lnTo>
                  <a:lnTo>
                    <a:pt x="266" y="45"/>
                  </a:lnTo>
                  <a:lnTo>
                    <a:pt x="299" y="46"/>
                  </a:lnTo>
                  <a:lnTo>
                    <a:pt x="331" y="50"/>
                  </a:lnTo>
                  <a:lnTo>
                    <a:pt x="363" y="57"/>
                  </a:lnTo>
                  <a:lnTo>
                    <a:pt x="392" y="65"/>
                  </a:lnTo>
                  <a:lnTo>
                    <a:pt x="421" y="75"/>
                  </a:lnTo>
                  <a:lnTo>
                    <a:pt x="448" y="86"/>
                  </a:lnTo>
                  <a:lnTo>
                    <a:pt x="472" y="100"/>
                  </a:lnTo>
                  <a:lnTo>
                    <a:pt x="496" y="116"/>
                  </a:lnTo>
                  <a:lnTo>
                    <a:pt x="517" y="134"/>
                  </a:lnTo>
                  <a:lnTo>
                    <a:pt x="535" y="153"/>
                  </a:lnTo>
                  <a:lnTo>
                    <a:pt x="551" y="173"/>
                  </a:lnTo>
                  <a:lnTo>
                    <a:pt x="565" y="195"/>
                  </a:lnTo>
                  <a:lnTo>
                    <a:pt x="576" y="217"/>
                  </a:lnTo>
                  <a:lnTo>
                    <a:pt x="584" y="240"/>
                  </a:lnTo>
                  <a:lnTo>
                    <a:pt x="590" y="264"/>
                  </a:lnTo>
                  <a:lnTo>
                    <a:pt x="591" y="289"/>
                  </a:lnTo>
                  <a:lnTo>
                    <a:pt x="590" y="312"/>
                  </a:lnTo>
                  <a:lnTo>
                    <a:pt x="585" y="334"/>
                  </a:lnTo>
                  <a:lnTo>
                    <a:pt x="578" y="356"/>
                  </a:lnTo>
                  <a:lnTo>
                    <a:pt x="569" y="377"/>
                  </a:lnTo>
                  <a:lnTo>
                    <a:pt x="557" y="398"/>
                  </a:lnTo>
                  <a:lnTo>
                    <a:pt x="543" y="416"/>
                  </a:lnTo>
                  <a:lnTo>
                    <a:pt x="527" y="435"/>
                  </a:lnTo>
                  <a:lnTo>
                    <a:pt x="509" y="451"/>
                  </a:lnTo>
                  <a:lnTo>
                    <a:pt x="550" y="481"/>
                  </a:lnTo>
                  <a:lnTo>
                    <a:pt x="573" y="460"/>
                  </a:lnTo>
                  <a:lnTo>
                    <a:pt x="594" y="437"/>
                  </a:lnTo>
                  <a:lnTo>
                    <a:pt x="611" y="414"/>
                  </a:lnTo>
                  <a:lnTo>
                    <a:pt x="626" y="388"/>
                  </a:lnTo>
                  <a:lnTo>
                    <a:pt x="638" y="362"/>
                  </a:lnTo>
                  <a:lnTo>
                    <a:pt x="647" y="335"/>
                  </a:lnTo>
                  <a:lnTo>
                    <a:pt x="652" y="307"/>
                  </a:lnTo>
                  <a:lnTo>
                    <a:pt x="654" y="278"/>
                  </a:lnTo>
                  <a:lnTo>
                    <a:pt x="653" y="255"/>
                  </a:lnTo>
                  <a:lnTo>
                    <a:pt x="649" y="232"/>
                  </a:lnTo>
                  <a:lnTo>
                    <a:pt x="644" y="210"/>
                  </a:lnTo>
                  <a:lnTo>
                    <a:pt x="637" y="188"/>
                  </a:lnTo>
                  <a:lnTo>
                    <a:pt x="626" y="167"/>
                  </a:lnTo>
                  <a:lnTo>
                    <a:pt x="615" y="148"/>
                  </a:lnTo>
                  <a:lnTo>
                    <a:pt x="601" y="128"/>
                  </a:lnTo>
                  <a:lnTo>
                    <a:pt x="586" y="110"/>
                  </a:lnTo>
                  <a:lnTo>
                    <a:pt x="572" y="97"/>
                  </a:lnTo>
                  <a:lnTo>
                    <a:pt x="557" y="85"/>
                  </a:lnTo>
                  <a:lnTo>
                    <a:pt x="541" y="75"/>
                  </a:lnTo>
                  <a:lnTo>
                    <a:pt x="524" y="65"/>
                  </a:lnTo>
                  <a:lnTo>
                    <a:pt x="507" y="54"/>
                  </a:lnTo>
                  <a:lnTo>
                    <a:pt x="489" y="45"/>
                  </a:lnTo>
                  <a:lnTo>
                    <a:pt x="470" y="37"/>
                  </a:lnTo>
                  <a:lnTo>
                    <a:pt x="451" y="30"/>
                  </a:lnTo>
                  <a:lnTo>
                    <a:pt x="431" y="23"/>
                  </a:lnTo>
                  <a:lnTo>
                    <a:pt x="410" y="17"/>
                  </a:lnTo>
                  <a:lnTo>
                    <a:pt x="389" y="12"/>
                  </a:lnTo>
                  <a:lnTo>
                    <a:pt x="367" y="8"/>
                  </a:lnTo>
                  <a:lnTo>
                    <a:pt x="345" y="5"/>
                  </a:lnTo>
                  <a:lnTo>
                    <a:pt x="323" y="2"/>
                  </a:lnTo>
                  <a:lnTo>
                    <a:pt x="300" y="0"/>
                  </a:lnTo>
                  <a:lnTo>
                    <a:pt x="277" y="0"/>
                  </a:lnTo>
                  <a:lnTo>
                    <a:pt x="257" y="0"/>
                  </a:lnTo>
                  <a:lnTo>
                    <a:pt x="237" y="1"/>
                  </a:lnTo>
                  <a:lnTo>
                    <a:pt x="217" y="4"/>
                  </a:lnTo>
                  <a:lnTo>
                    <a:pt x="199" y="6"/>
                  </a:lnTo>
                  <a:lnTo>
                    <a:pt x="179" y="9"/>
                  </a:lnTo>
                  <a:lnTo>
                    <a:pt x="161" y="13"/>
                  </a:lnTo>
                  <a:lnTo>
                    <a:pt x="142" y="17"/>
                  </a:lnTo>
                  <a:lnTo>
                    <a:pt x="125" y="23"/>
                  </a:lnTo>
                  <a:lnTo>
                    <a:pt x="108" y="29"/>
                  </a:lnTo>
                  <a:lnTo>
                    <a:pt x="91" y="35"/>
                  </a:lnTo>
                  <a:lnTo>
                    <a:pt x="75" y="42"/>
                  </a:lnTo>
                  <a:lnTo>
                    <a:pt x="58" y="50"/>
                  </a:lnTo>
                  <a:lnTo>
                    <a:pt x="43" y="58"/>
                  </a:lnTo>
                  <a:lnTo>
                    <a:pt x="28" y="66"/>
                  </a:lnTo>
                  <a:lnTo>
                    <a:pt x="13" y="75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67680" y="5094000"/>
              <a:ext cx="87120" cy="192240"/>
            </a:xfrm>
            <a:custGeom>
              <a:avLst/>
              <a:gdLst/>
              <a:ahLst/>
              <a:rect l="l" t="t" r="r" b="b"/>
              <a:pathLst>
                <a:path w="109" h="242">
                  <a:moveTo>
                    <a:pt x="0" y="234"/>
                  </a:moveTo>
                  <a:lnTo>
                    <a:pt x="10" y="242"/>
                  </a:lnTo>
                  <a:lnTo>
                    <a:pt x="32" y="221"/>
                  </a:lnTo>
                  <a:lnTo>
                    <a:pt x="51" y="200"/>
                  </a:lnTo>
                  <a:lnTo>
                    <a:pt x="69" y="175"/>
                  </a:lnTo>
                  <a:lnTo>
                    <a:pt x="83" y="151"/>
                  </a:lnTo>
                  <a:lnTo>
                    <a:pt x="94" y="126"/>
                  </a:lnTo>
                  <a:lnTo>
                    <a:pt x="102" y="98"/>
                  </a:lnTo>
                  <a:lnTo>
                    <a:pt x="107" y="70"/>
                  </a:lnTo>
                  <a:lnTo>
                    <a:pt x="109" y="43"/>
                  </a:lnTo>
                  <a:lnTo>
                    <a:pt x="109" y="32"/>
                  </a:lnTo>
                  <a:lnTo>
                    <a:pt x="108" y="21"/>
                  </a:lnTo>
                  <a:lnTo>
                    <a:pt x="107" y="11"/>
                  </a:lnTo>
                  <a:lnTo>
                    <a:pt x="104" y="0"/>
                  </a:lnTo>
                  <a:lnTo>
                    <a:pt x="103" y="20"/>
                  </a:lnTo>
                  <a:lnTo>
                    <a:pt x="101" y="45"/>
                  </a:lnTo>
                  <a:lnTo>
                    <a:pt x="95" y="74"/>
                  </a:lnTo>
                  <a:lnTo>
                    <a:pt x="87" y="105"/>
                  </a:lnTo>
                  <a:lnTo>
                    <a:pt x="73" y="137"/>
                  </a:lnTo>
                  <a:lnTo>
                    <a:pt x="55" y="171"/>
                  </a:lnTo>
                  <a:lnTo>
                    <a:pt x="31" y="20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700680" y="4870080"/>
              <a:ext cx="582840" cy="273240"/>
            </a:xfrm>
            <a:custGeom>
              <a:avLst/>
              <a:gdLst/>
              <a:ahLst/>
              <a:rect l="l" t="t" r="r" b="b"/>
              <a:pathLst>
                <a:path w="734" h="343">
                  <a:moveTo>
                    <a:pt x="402" y="0"/>
                  </a:moveTo>
                  <a:lnTo>
                    <a:pt x="381" y="0"/>
                  </a:lnTo>
                  <a:lnTo>
                    <a:pt x="361" y="1"/>
                  </a:lnTo>
                  <a:lnTo>
                    <a:pt x="341" y="3"/>
                  </a:lnTo>
                  <a:lnTo>
                    <a:pt x="322" y="6"/>
                  </a:lnTo>
                  <a:lnTo>
                    <a:pt x="302" y="9"/>
                  </a:lnTo>
                  <a:lnTo>
                    <a:pt x="284" y="14"/>
                  </a:lnTo>
                  <a:lnTo>
                    <a:pt x="265" y="18"/>
                  </a:lnTo>
                  <a:lnTo>
                    <a:pt x="247" y="23"/>
                  </a:lnTo>
                  <a:lnTo>
                    <a:pt x="229" y="29"/>
                  </a:lnTo>
                  <a:lnTo>
                    <a:pt x="212" y="36"/>
                  </a:lnTo>
                  <a:lnTo>
                    <a:pt x="195" y="43"/>
                  </a:lnTo>
                  <a:lnTo>
                    <a:pt x="179" y="51"/>
                  </a:lnTo>
                  <a:lnTo>
                    <a:pt x="164" y="59"/>
                  </a:lnTo>
                  <a:lnTo>
                    <a:pt x="149" y="68"/>
                  </a:lnTo>
                  <a:lnTo>
                    <a:pt x="134" y="77"/>
                  </a:lnTo>
                  <a:lnTo>
                    <a:pt x="120" y="86"/>
                  </a:lnTo>
                  <a:lnTo>
                    <a:pt x="114" y="91"/>
                  </a:lnTo>
                  <a:lnTo>
                    <a:pt x="108" y="96"/>
                  </a:lnTo>
                  <a:lnTo>
                    <a:pt x="103" y="100"/>
                  </a:lnTo>
                  <a:lnTo>
                    <a:pt x="97" y="105"/>
                  </a:lnTo>
                  <a:lnTo>
                    <a:pt x="96" y="106"/>
                  </a:lnTo>
                  <a:lnTo>
                    <a:pt x="96" y="107"/>
                  </a:lnTo>
                  <a:lnTo>
                    <a:pt x="95" y="108"/>
                  </a:lnTo>
                  <a:lnTo>
                    <a:pt x="93" y="109"/>
                  </a:lnTo>
                  <a:lnTo>
                    <a:pt x="73" y="129"/>
                  </a:lnTo>
                  <a:lnTo>
                    <a:pt x="54" y="151"/>
                  </a:lnTo>
                  <a:lnTo>
                    <a:pt x="38" y="174"/>
                  </a:lnTo>
                  <a:lnTo>
                    <a:pt x="25" y="197"/>
                  </a:lnTo>
                  <a:lnTo>
                    <a:pt x="14" y="222"/>
                  </a:lnTo>
                  <a:lnTo>
                    <a:pt x="7" y="248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4" y="333"/>
                  </a:lnTo>
                  <a:lnTo>
                    <a:pt x="5" y="343"/>
                  </a:lnTo>
                  <a:lnTo>
                    <a:pt x="24" y="334"/>
                  </a:lnTo>
                  <a:lnTo>
                    <a:pt x="24" y="332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23" y="324"/>
                  </a:lnTo>
                  <a:lnTo>
                    <a:pt x="24" y="296"/>
                  </a:lnTo>
                  <a:lnTo>
                    <a:pt x="30" y="269"/>
                  </a:lnTo>
                  <a:lnTo>
                    <a:pt x="38" y="243"/>
                  </a:lnTo>
                  <a:lnTo>
                    <a:pt x="50" y="218"/>
                  </a:lnTo>
                  <a:lnTo>
                    <a:pt x="64" y="194"/>
                  </a:lnTo>
                  <a:lnTo>
                    <a:pt x="80" y="171"/>
                  </a:lnTo>
                  <a:lnTo>
                    <a:pt x="98" y="149"/>
                  </a:lnTo>
                  <a:lnTo>
                    <a:pt x="120" y="128"/>
                  </a:lnTo>
                  <a:lnTo>
                    <a:pt x="127" y="122"/>
                  </a:lnTo>
                  <a:lnTo>
                    <a:pt x="134" y="118"/>
                  </a:lnTo>
                  <a:lnTo>
                    <a:pt x="141" y="112"/>
                  </a:lnTo>
                  <a:lnTo>
                    <a:pt x="148" y="107"/>
                  </a:lnTo>
                  <a:lnTo>
                    <a:pt x="161" y="98"/>
                  </a:lnTo>
                  <a:lnTo>
                    <a:pt x="176" y="89"/>
                  </a:lnTo>
                  <a:lnTo>
                    <a:pt x="191" y="81"/>
                  </a:lnTo>
                  <a:lnTo>
                    <a:pt x="206" y="73"/>
                  </a:lnTo>
                  <a:lnTo>
                    <a:pt x="223" y="65"/>
                  </a:lnTo>
                  <a:lnTo>
                    <a:pt x="239" y="58"/>
                  </a:lnTo>
                  <a:lnTo>
                    <a:pt x="256" y="52"/>
                  </a:lnTo>
                  <a:lnTo>
                    <a:pt x="273" y="46"/>
                  </a:lnTo>
                  <a:lnTo>
                    <a:pt x="290" y="40"/>
                  </a:lnTo>
                  <a:lnTo>
                    <a:pt x="309" y="36"/>
                  </a:lnTo>
                  <a:lnTo>
                    <a:pt x="327" y="32"/>
                  </a:lnTo>
                  <a:lnTo>
                    <a:pt x="347" y="29"/>
                  </a:lnTo>
                  <a:lnTo>
                    <a:pt x="365" y="27"/>
                  </a:lnTo>
                  <a:lnTo>
                    <a:pt x="385" y="24"/>
                  </a:lnTo>
                  <a:lnTo>
                    <a:pt x="405" y="23"/>
                  </a:lnTo>
                  <a:lnTo>
                    <a:pt x="425" y="23"/>
                  </a:lnTo>
                  <a:lnTo>
                    <a:pt x="448" y="23"/>
                  </a:lnTo>
                  <a:lnTo>
                    <a:pt x="471" y="25"/>
                  </a:lnTo>
                  <a:lnTo>
                    <a:pt x="493" y="28"/>
                  </a:lnTo>
                  <a:lnTo>
                    <a:pt x="515" y="31"/>
                  </a:lnTo>
                  <a:lnTo>
                    <a:pt x="537" y="35"/>
                  </a:lnTo>
                  <a:lnTo>
                    <a:pt x="558" y="40"/>
                  </a:lnTo>
                  <a:lnTo>
                    <a:pt x="579" y="46"/>
                  </a:lnTo>
                  <a:lnTo>
                    <a:pt x="599" y="53"/>
                  </a:lnTo>
                  <a:lnTo>
                    <a:pt x="618" y="60"/>
                  </a:lnTo>
                  <a:lnTo>
                    <a:pt x="637" y="68"/>
                  </a:lnTo>
                  <a:lnTo>
                    <a:pt x="655" y="77"/>
                  </a:lnTo>
                  <a:lnTo>
                    <a:pt x="672" y="88"/>
                  </a:lnTo>
                  <a:lnTo>
                    <a:pt x="689" y="98"/>
                  </a:lnTo>
                  <a:lnTo>
                    <a:pt x="705" y="108"/>
                  </a:lnTo>
                  <a:lnTo>
                    <a:pt x="720" y="120"/>
                  </a:lnTo>
                  <a:lnTo>
                    <a:pt x="734" y="133"/>
                  </a:lnTo>
                  <a:lnTo>
                    <a:pt x="720" y="118"/>
                  </a:lnTo>
                  <a:lnTo>
                    <a:pt x="705" y="104"/>
                  </a:lnTo>
                  <a:lnTo>
                    <a:pt x="689" y="90"/>
                  </a:lnTo>
                  <a:lnTo>
                    <a:pt x="672" y="77"/>
                  </a:lnTo>
                  <a:lnTo>
                    <a:pt x="653" y="66"/>
                  </a:lnTo>
                  <a:lnTo>
                    <a:pt x="634" y="55"/>
                  </a:lnTo>
                  <a:lnTo>
                    <a:pt x="614" y="45"/>
                  </a:lnTo>
                  <a:lnTo>
                    <a:pt x="593" y="36"/>
                  </a:lnTo>
                  <a:lnTo>
                    <a:pt x="572" y="28"/>
                  </a:lnTo>
                  <a:lnTo>
                    <a:pt x="550" y="21"/>
                  </a:lnTo>
                  <a:lnTo>
                    <a:pt x="526" y="15"/>
                  </a:lnTo>
                  <a:lnTo>
                    <a:pt x="502" y="9"/>
                  </a:lnTo>
                  <a:lnTo>
                    <a:pt x="478" y="6"/>
                  </a:lnTo>
                  <a:lnTo>
                    <a:pt x="453" y="2"/>
                  </a:lnTo>
                  <a:lnTo>
                    <a:pt x="428" y="1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6651720" y="4930560"/>
              <a:ext cx="98280" cy="196920"/>
            </a:xfrm>
            <a:custGeom>
              <a:avLst/>
              <a:gdLst/>
              <a:ahLst/>
              <a:rect l="l" t="t" r="r" b="b"/>
              <a:pathLst>
                <a:path w="123" h="248">
                  <a:moveTo>
                    <a:pt x="4" y="241"/>
                  </a:moveTo>
                  <a:lnTo>
                    <a:pt x="13" y="248"/>
                  </a:lnTo>
                  <a:lnTo>
                    <a:pt x="13" y="242"/>
                  </a:lnTo>
                  <a:lnTo>
                    <a:pt x="15" y="225"/>
                  </a:lnTo>
                  <a:lnTo>
                    <a:pt x="19" y="201"/>
                  </a:lnTo>
                  <a:lnTo>
                    <a:pt x="27" y="168"/>
                  </a:lnTo>
                  <a:lnTo>
                    <a:pt x="40" y="131"/>
                  </a:lnTo>
                  <a:lnTo>
                    <a:pt x="60" y="91"/>
                  </a:lnTo>
                  <a:lnTo>
                    <a:pt x="88" y="51"/>
                  </a:lnTo>
                  <a:lnTo>
                    <a:pt x="123" y="10"/>
                  </a:lnTo>
                  <a:lnTo>
                    <a:pt x="108" y="0"/>
                  </a:lnTo>
                  <a:lnTo>
                    <a:pt x="93" y="14"/>
                  </a:lnTo>
                  <a:lnTo>
                    <a:pt x="80" y="28"/>
                  </a:lnTo>
                  <a:lnTo>
                    <a:pt x="66" y="43"/>
                  </a:lnTo>
                  <a:lnTo>
                    <a:pt x="53" y="59"/>
                  </a:lnTo>
                  <a:lnTo>
                    <a:pt x="42" y="74"/>
                  </a:lnTo>
                  <a:lnTo>
                    <a:pt x="31" y="91"/>
                  </a:lnTo>
                  <a:lnTo>
                    <a:pt x="22" y="107"/>
                  </a:lnTo>
                  <a:lnTo>
                    <a:pt x="13" y="125"/>
                  </a:lnTo>
                  <a:lnTo>
                    <a:pt x="6" y="151"/>
                  </a:lnTo>
                  <a:lnTo>
                    <a:pt x="1" y="180"/>
                  </a:lnTo>
                  <a:lnTo>
                    <a:pt x="0" y="210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737400" y="4927320"/>
              <a:ext cx="14400" cy="11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1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6700680" y="4956120"/>
              <a:ext cx="149400" cy="20304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23" y="217"/>
                  </a:moveTo>
                  <a:lnTo>
                    <a:pt x="20" y="224"/>
                  </a:lnTo>
                  <a:lnTo>
                    <a:pt x="12" y="236"/>
                  </a:lnTo>
                  <a:lnTo>
                    <a:pt x="4" y="250"/>
                  </a:lnTo>
                  <a:lnTo>
                    <a:pt x="0" y="257"/>
                  </a:lnTo>
                  <a:lnTo>
                    <a:pt x="89" y="206"/>
                  </a:lnTo>
                  <a:lnTo>
                    <a:pt x="91" y="182"/>
                  </a:lnTo>
                  <a:lnTo>
                    <a:pt x="98" y="157"/>
                  </a:lnTo>
                  <a:lnTo>
                    <a:pt x="106" y="133"/>
                  </a:lnTo>
                  <a:lnTo>
                    <a:pt x="118" y="109"/>
                  </a:lnTo>
                  <a:lnTo>
                    <a:pt x="131" y="87"/>
                  </a:lnTo>
                  <a:lnTo>
                    <a:pt x="149" y="66"/>
                  </a:lnTo>
                  <a:lnTo>
                    <a:pt x="167" y="46"/>
                  </a:lnTo>
                  <a:lnTo>
                    <a:pt x="189" y="29"/>
                  </a:lnTo>
                  <a:lnTo>
                    <a:pt x="148" y="0"/>
                  </a:lnTo>
                  <a:lnTo>
                    <a:pt x="141" y="5"/>
                  </a:lnTo>
                  <a:lnTo>
                    <a:pt x="134" y="11"/>
                  </a:lnTo>
                  <a:lnTo>
                    <a:pt x="127" y="15"/>
                  </a:lnTo>
                  <a:lnTo>
                    <a:pt x="120" y="21"/>
                  </a:lnTo>
                  <a:lnTo>
                    <a:pt x="98" y="42"/>
                  </a:lnTo>
                  <a:lnTo>
                    <a:pt x="80" y="64"/>
                  </a:lnTo>
                  <a:lnTo>
                    <a:pt x="64" y="87"/>
                  </a:lnTo>
                  <a:lnTo>
                    <a:pt x="50" y="111"/>
                  </a:lnTo>
                  <a:lnTo>
                    <a:pt x="38" y="136"/>
                  </a:lnTo>
                  <a:lnTo>
                    <a:pt x="30" y="162"/>
                  </a:lnTo>
                  <a:lnTo>
                    <a:pt x="24" y="189"/>
                  </a:lnTo>
                  <a:lnTo>
                    <a:pt x="23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6948360" y="5246640"/>
              <a:ext cx="306360" cy="160200"/>
            </a:xfrm>
            <a:custGeom>
              <a:avLst/>
              <a:gdLst/>
              <a:ahLst/>
              <a:rect l="l" t="t" r="r" b="b"/>
              <a:pathLst>
                <a:path w="386" h="202">
                  <a:moveTo>
                    <a:pt x="0" y="168"/>
                  </a:moveTo>
                  <a:lnTo>
                    <a:pt x="22" y="194"/>
                  </a:lnTo>
                  <a:lnTo>
                    <a:pt x="38" y="202"/>
                  </a:lnTo>
                  <a:lnTo>
                    <a:pt x="49" y="198"/>
                  </a:lnTo>
                  <a:lnTo>
                    <a:pt x="57" y="184"/>
                  </a:lnTo>
                  <a:lnTo>
                    <a:pt x="63" y="166"/>
                  </a:lnTo>
                  <a:lnTo>
                    <a:pt x="69" y="147"/>
                  </a:lnTo>
                  <a:lnTo>
                    <a:pt x="78" y="133"/>
                  </a:lnTo>
                  <a:lnTo>
                    <a:pt x="90" y="128"/>
                  </a:lnTo>
                  <a:lnTo>
                    <a:pt x="110" y="129"/>
                  </a:lnTo>
                  <a:lnTo>
                    <a:pt x="129" y="128"/>
                  </a:lnTo>
                  <a:lnTo>
                    <a:pt x="148" y="126"/>
                  </a:lnTo>
                  <a:lnTo>
                    <a:pt x="167" y="124"/>
                  </a:lnTo>
                  <a:lnTo>
                    <a:pt x="186" y="122"/>
                  </a:lnTo>
                  <a:lnTo>
                    <a:pt x="204" y="118"/>
                  </a:lnTo>
                  <a:lnTo>
                    <a:pt x="222" y="114"/>
                  </a:lnTo>
                  <a:lnTo>
                    <a:pt x="239" y="108"/>
                  </a:lnTo>
                  <a:lnTo>
                    <a:pt x="256" y="102"/>
                  </a:lnTo>
                  <a:lnTo>
                    <a:pt x="273" y="96"/>
                  </a:lnTo>
                  <a:lnTo>
                    <a:pt x="290" y="90"/>
                  </a:lnTo>
                  <a:lnTo>
                    <a:pt x="306" y="81"/>
                  </a:lnTo>
                  <a:lnTo>
                    <a:pt x="321" y="73"/>
                  </a:lnTo>
                  <a:lnTo>
                    <a:pt x="336" y="65"/>
                  </a:lnTo>
                  <a:lnTo>
                    <a:pt x="349" y="56"/>
                  </a:lnTo>
                  <a:lnTo>
                    <a:pt x="363" y="47"/>
                  </a:lnTo>
                  <a:lnTo>
                    <a:pt x="369" y="42"/>
                  </a:lnTo>
                  <a:lnTo>
                    <a:pt x="375" y="38"/>
                  </a:lnTo>
                  <a:lnTo>
                    <a:pt x="381" y="34"/>
                  </a:lnTo>
                  <a:lnTo>
                    <a:pt x="386" y="30"/>
                  </a:lnTo>
                  <a:lnTo>
                    <a:pt x="345" y="0"/>
                  </a:lnTo>
                  <a:lnTo>
                    <a:pt x="333" y="9"/>
                  </a:lnTo>
                  <a:lnTo>
                    <a:pt x="322" y="18"/>
                  </a:lnTo>
                  <a:lnTo>
                    <a:pt x="309" y="26"/>
                  </a:lnTo>
                  <a:lnTo>
                    <a:pt x="295" y="34"/>
                  </a:lnTo>
                  <a:lnTo>
                    <a:pt x="281" y="41"/>
                  </a:lnTo>
                  <a:lnTo>
                    <a:pt x="268" y="48"/>
                  </a:lnTo>
                  <a:lnTo>
                    <a:pt x="253" y="55"/>
                  </a:lnTo>
                  <a:lnTo>
                    <a:pt x="238" y="60"/>
                  </a:lnTo>
                  <a:lnTo>
                    <a:pt x="222" y="65"/>
                  </a:lnTo>
                  <a:lnTo>
                    <a:pt x="205" y="70"/>
                  </a:lnTo>
                  <a:lnTo>
                    <a:pt x="189" y="73"/>
                  </a:lnTo>
                  <a:lnTo>
                    <a:pt x="172" y="77"/>
                  </a:lnTo>
                  <a:lnTo>
                    <a:pt x="155" y="79"/>
                  </a:lnTo>
                  <a:lnTo>
                    <a:pt x="137" y="81"/>
                  </a:lnTo>
                  <a:lnTo>
                    <a:pt x="120" y="83"/>
                  </a:lnTo>
                  <a:lnTo>
                    <a:pt x="102" y="83"/>
                  </a:lnTo>
                  <a:lnTo>
                    <a:pt x="98" y="84"/>
                  </a:lnTo>
                  <a:lnTo>
                    <a:pt x="88" y="86"/>
                  </a:lnTo>
                  <a:lnTo>
                    <a:pt x="74" y="91"/>
                  </a:lnTo>
                  <a:lnTo>
                    <a:pt x="57" y="98"/>
                  </a:lnTo>
                  <a:lnTo>
                    <a:pt x="40" y="109"/>
                  </a:lnTo>
                  <a:lnTo>
                    <a:pt x="22" y="124"/>
                  </a:lnTo>
                  <a:lnTo>
                    <a:pt x="10" y="14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6620040" y="4809960"/>
              <a:ext cx="796680" cy="617400"/>
            </a:xfrm>
            <a:custGeom>
              <a:avLst/>
              <a:gdLst/>
              <a:ahLst/>
              <a:rect l="l" t="t" r="r" b="b"/>
              <a:pathLst>
                <a:path w="1002" h="778">
                  <a:moveTo>
                    <a:pt x="1002" y="377"/>
                  </a:moveTo>
                  <a:lnTo>
                    <a:pt x="1001" y="347"/>
                  </a:lnTo>
                  <a:lnTo>
                    <a:pt x="996" y="318"/>
                  </a:lnTo>
                  <a:lnTo>
                    <a:pt x="988" y="289"/>
                  </a:lnTo>
                  <a:lnTo>
                    <a:pt x="978" y="262"/>
                  </a:lnTo>
                  <a:lnTo>
                    <a:pt x="965" y="234"/>
                  </a:lnTo>
                  <a:lnTo>
                    <a:pt x="949" y="209"/>
                  </a:lnTo>
                  <a:lnTo>
                    <a:pt x="932" y="183"/>
                  </a:lnTo>
                  <a:lnTo>
                    <a:pt x="911" y="160"/>
                  </a:lnTo>
                  <a:lnTo>
                    <a:pt x="894" y="143"/>
                  </a:lnTo>
                  <a:lnTo>
                    <a:pt x="874" y="126"/>
                  </a:lnTo>
                  <a:lnTo>
                    <a:pt x="855" y="109"/>
                  </a:lnTo>
                  <a:lnTo>
                    <a:pt x="833" y="94"/>
                  </a:lnTo>
                  <a:lnTo>
                    <a:pt x="811" y="81"/>
                  </a:lnTo>
                  <a:lnTo>
                    <a:pt x="787" y="67"/>
                  </a:lnTo>
                  <a:lnTo>
                    <a:pt x="763" y="55"/>
                  </a:lnTo>
                  <a:lnTo>
                    <a:pt x="736" y="44"/>
                  </a:lnTo>
                  <a:lnTo>
                    <a:pt x="710" y="33"/>
                  </a:lnTo>
                  <a:lnTo>
                    <a:pt x="682" y="25"/>
                  </a:lnTo>
                  <a:lnTo>
                    <a:pt x="654" y="17"/>
                  </a:lnTo>
                  <a:lnTo>
                    <a:pt x="626" y="11"/>
                  </a:lnTo>
                  <a:lnTo>
                    <a:pt x="596" y="7"/>
                  </a:lnTo>
                  <a:lnTo>
                    <a:pt x="564" y="3"/>
                  </a:lnTo>
                  <a:lnTo>
                    <a:pt x="533" y="1"/>
                  </a:lnTo>
                  <a:lnTo>
                    <a:pt x="502" y="0"/>
                  </a:lnTo>
                  <a:lnTo>
                    <a:pt x="476" y="0"/>
                  </a:lnTo>
                  <a:lnTo>
                    <a:pt x="450" y="2"/>
                  </a:lnTo>
                  <a:lnTo>
                    <a:pt x="425" y="5"/>
                  </a:lnTo>
                  <a:lnTo>
                    <a:pt x="401" y="8"/>
                  </a:lnTo>
                  <a:lnTo>
                    <a:pt x="377" y="11"/>
                  </a:lnTo>
                  <a:lnTo>
                    <a:pt x="352" y="17"/>
                  </a:lnTo>
                  <a:lnTo>
                    <a:pt x="329" y="23"/>
                  </a:lnTo>
                  <a:lnTo>
                    <a:pt x="306" y="30"/>
                  </a:lnTo>
                  <a:lnTo>
                    <a:pt x="284" y="37"/>
                  </a:lnTo>
                  <a:lnTo>
                    <a:pt x="263" y="46"/>
                  </a:lnTo>
                  <a:lnTo>
                    <a:pt x="242" y="55"/>
                  </a:lnTo>
                  <a:lnTo>
                    <a:pt x="221" y="64"/>
                  </a:lnTo>
                  <a:lnTo>
                    <a:pt x="202" y="75"/>
                  </a:lnTo>
                  <a:lnTo>
                    <a:pt x="183" y="86"/>
                  </a:lnTo>
                  <a:lnTo>
                    <a:pt x="165" y="98"/>
                  </a:lnTo>
                  <a:lnTo>
                    <a:pt x="147" y="111"/>
                  </a:lnTo>
                  <a:lnTo>
                    <a:pt x="142" y="115"/>
                  </a:lnTo>
                  <a:lnTo>
                    <a:pt x="136" y="120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97" y="156"/>
                  </a:lnTo>
                  <a:lnTo>
                    <a:pt x="72" y="183"/>
                  </a:lnTo>
                  <a:lnTo>
                    <a:pt x="51" y="212"/>
                  </a:lnTo>
                  <a:lnTo>
                    <a:pt x="33" y="242"/>
                  </a:lnTo>
                  <a:lnTo>
                    <a:pt x="19" y="274"/>
                  </a:lnTo>
                  <a:lnTo>
                    <a:pt x="8" y="308"/>
                  </a:lnTo>
                  <a:lnTo>
                    <a:pt x="2" y="342"/>
                  </a:lnTo>
                  <a:lnTo>
                    <a:pt x="0" y="377"/>
                  </a:lnTo>
                  <a:lnTo>
                    <a:pt x="1" y="399"/>
                  </a:lnTo>
                  <a:lnTo>
                    <a:pt x="3" y="421"/>
                  </a:lnTo>
                  <a:lnTo>
                    <a:pt x="8" y="442"/>
                  </a:lnTo>
                  <a:lnTo>
                    <a:pt x="14" y="464"/>
                  </a:lnTo>
                  <a:lnTo>
                    <a:pt x="30" y="456"/>
                  </a:lnTo>
                  <a:lnTo>
                    <a:pt x="105" y="419"/>
                  </a:lnTo>
                  <a:lnTo>
                    <a:pt x="104" y="409"/>
                  </a:lnTo>
                  <a:lnTo>
                    <a:pt x="101" y="399"/>
                  </a:lnTo>
                  <a:lnTo>
                    <a:pt x="100" y="388"/>
                  </a:lnTo>
                  <a:lnTo>
                    <a:pt x="100" y="377"/>
                  </a:lnTo>
                  <a:lnTo>
                    <a:pt x="101" y="350"/>
                  </a:lnTo>
                  <a:lnTo>
                    <a:pt x="107" y="324"/>
                  </a:lnTo>
                  <a:lnTo>
                    <a:pt x="114" y="298"/>
                  </a:lnTo>
                  <a:lnTo>
                    <a:pt x="125" y="273"/>
                  </a:lnTo>
                  <a:lnTo>
                    <a:pt x="138" y="250"/>
                  </a:lnTo>
                  <a:lnTo>
                    <a:pt x="154" y="227"/>
                  </a:lnTo>
                  <a:lnTo>
                    <a:pt x="173" y="205"/>
                  </a:lnTo>
                  <a:lnTo>
                    <a:pt x="193" y="185"/>
                  </a:lnTo>
                  <a:lnTo>
                    <a:pt x="197" y="181"/>
                  </a:lnTo>
                  <a:lnTo>
                    <a:pt x="203" y="176"/>
                  </a:lnTo>
                  <a:lnTo>
                    <a:pt x="208" y="172"/>
                  </a:lnTo>
                  <a:lnTo>
                    <a:pt x="214" y="167"/>
                  </a:lnTo>
                  <a:lnTo>
                    <a:pt x="220" y="162"/>
                  </a:lnTo>
                  <a:lnTo>
                    <a:pt x="234" y="153"/>
                  </a:lnTo>
                  <a:lnTo>
                    <a:pt x="249" y="144"/>
                  </a:lnTo>
                  <a:lnTo>
                    <a:pt x="264" y="135"/>
                  </a:lnTo>
                  <a:lnTo>
                    <a:pt x="279" y="127"/>
                  </a:lnTo>
                  <a:lnTo>
                    <a:pt x="295" y="119"/>
                  </a:lnTo>
                  <a:lnTo>
                    <a:pt x="312" y="112"/>
                  </a:lnTo>
                  <a:lnTo>
                    <a:pt x="329" y="105"/>
                  </a:lnTo>
                  <a:lnTo>
                    <a:pt x="347" y="99"/>
                  </a:lnTo>
                  <a:lnTo>
                    <a:pt x="365" y="94"/>
                  </a:lnTo>
                  <a:lnTo>
                    <a:pt x="384" y="90"/>
                  </a:lnTo>
                  <a:lnTo>
                    <a:pt x="402" y="85"/>
                  </a:lnTo>
                  <a:lnTo>
                    <a:pt x="422" y="82"/>
                  </a:lnTo>
                  <a:lnTo>
                    <a:pt x="441" y="79"/>
                  </a:lnTo>
                  <a:lnTo>
                    <a:pt x="461" y="77"/>
                  </a:lnTo>
                  <a:lnTo>
                    <a:pt x="481" y="76"/>
                  </a:lnTo>
                  <a:lnTo>
                    <a:pt x="502" y="76"/>
                  </a:lnTo>
                  <a:lnTo>
                    <a:pt x="528" y="77"/>
                  </a:lnTo>
                  <a:lnTo>
                    <a:pt x="553" y="78"/>
                  </a:lnTo>
                  <a:lnTo>
                    <a:pt x="578" y="82"/>
                  </a:lnTo>
                  <a:lnTo>
                    <a:pt x="602" y="85"/>
                  </a:lnTo>
                  <a:lnTo>
                    <a:pt x="626" y="91"/>
                  </a:lnTo>
                  <a:lnTo>
                    <a:pt x="650" y="97"/>
                  </a:lnTo>
                  <a:lnTo>
                    <a:pt x="672" y="104"/>
                  </a:lnTo>
                  <a:lnTo>
                    <a:pt x="693" y="112"/>
                  </a:lnTo>
                  <a:lnTo>
                    <a:pt x="714" y="121"/>
                  </a:lnTo>
                  <a:lnTo>
                    <a:pt x="734" y="131"/>
                  </a:lnTo>
                  <a:lnTo>
                    <a:pt x="753" y="142"/>
                  </a:lnTo>
                  <a:lnTo>
                    <a:pt x="772" y="153"/>
                  </a:lnTo>
                  <a:lnTo>
                    <a:pt x="789" y="166"/>
                  </a:lnTo>
                  <a:lnTo>
                    <a:pt x="805" y="180"/>
                  </a:lnTo>
                  <a:lnTo>
                    <a:pt x="820" y="194"/>
                  </a:lnTo>
                  <a:lnTo>
                    <a:pt x="834" y="209"/>
                  </a:lnTo>
                  <a:lnTo>
                    <a:pt x="849" y="227"/>
                  </a:lnTo>
                  <a:lnTo>
                    <a:pt x="863" y="247"/>
                  </a:lnTo>
                  <a:lnTo>
                    <a:pt x="874" y="266"/>
                  </a:lnTo>
                  <a:lnTo>
                    <a:pt x="885" y="287"/>
                  </a:lnTo>
                  <a:lnTo>
                    <a:pt x="892" y="309"/>
                  </a:lnTo>
                  <a:lnTo>
                    <a:pt x="897" y="331"/>
                  </a:lnTo>
                  <a:lnTo>
                    <a:pt x="901" y="354"/>
                  </a:lnTo>
                  <a:lnTo>
                    <a:pt x="902" y="377"/>
                  </a:lnTo>
                  <a:lnTo>
                    <a:pt x="900" y="406"/>
                  </a:lnTo>
                  <a:lnTo>
                    <a:pt x="895" y="434"/>
                  </a:lnTo>
                  <a:lnTo>
                    <a:pt x="886" y="461"/>
                  </a:lnTo>
                  <a:lnTo>
                    <a:pt x="874" y="487"/>
                  </a:lnTo>
                  <a:lnTo>
                    <a:pt x="859" y="513"/>
                  </a:lnTo>
                  <a:lnTo>
                    <a:pt x="842" y="536"/>
                  </a:lnTo>
                  <a:lnTo>
                    <a:pt x="821" y="559"/>
                  </a:lnTo>
                  <a:lnTo>
                    <a:pt x="798" y="580"/>
                  </a:lnTo>
                  <a:lnTo>
                    <a:pt x="797" y="581"/>
                  </a:lnTo>
                  <a:lnTo>
                    <a:pt x="794" y="583"/>
                  </a:lnTo>
                  <a:lnTo>
                    <a:pt x="788" y="588"/>
                  </a:lnTo>
                  <a:lnTo>
                    <a:pt x="780" y="595"/>
                  </a:lnTo>
                  <a:lnTo>
                    <a:pt x="770" y="602"/>
                  </a:lnTo>
                  <a:lnTo>
                    <a:pt x="757" y="608"/>
                  </a:lnTo>
                  <a:lnTo>
                    <a:pt x="742" y="618"/>
                  </a:lnTo>
                  <a:lnTo>
                    <a:pt x="725" y="626"/>
                  </a:lnTo>
                  <a:lnTo>
                    <a:pt x="705" y="635"/>
                  </a:lnTo>
                  <a:lnTo>
                    <a:pt x="684" y="643"/>
                  </a:lnTo>
                  <a:lnTo>
                    <a:pt x="660" y="651"/>
                  </a:lnTo>
                  <a:lnTo>
                    <a:pt x="634" y="659"/>
                  </a:lnTo>
                  <a:lnTo>
                    <a:pt x="605" y="665"/>
                  </a:lnTo>
                  <a:lnTo>
                    <a:pt x="574" y="671"/>
                  </a:lnTo>
                  <a:lnTo>
                    <a:pt x="541" y="674"/>
                  </a:lnTo>
                  <a:lnTo>
                    <a:pt x="506" y="675"/>
                  </a:lnTo>
                  <a:lnTo>
                    <a:pt x="503" y="675"/>
                  </a:lnTo>
                  <a:lnTo>
                    <a:pt x="496" y="676"/>
                  </a:lnTo>
                  <a:lnTo>
                    <a:pt x="488" y="681"/>
                  </a:lnTo>
                  <a:lnTo>
                    <a:pt x="479" y="687"/>
                  </a:lnTo>
                  <a:lnTo>
                    <a:pt x="470" y="698"/>
                  </a:lnTo>
                  <a:lnTo>
                    <a:pt x="462" y="714"/>
                  </a:lnTo>
                  <a:lnTo>
                    <a:pt x="458" y="736"/>
                  </a:lnTo>
                  <a:lnTo>
                    <a:pt x="460" y="765"/>
                  </a:lnTo>
                  <a:lnTo>
                    <a:pt x="462" y="766"/>
                  </a:lnTo>
                  <a:lnTo>
                    <a:pt x="470" y="767"/>
                  </a:lnTo>
                  <a:lnTo>
                    <a:pt x="481" y="770"/>
                  </a:lnTo>
                  <a:lnTo>
                    <a:pt x="498" y="773"/>
                  </a:lnTo>
                  <a:lnTo>
                    <a:pt x="517" y="776"/>
                  </a:lnTo>
                  <a:lnTo>
                    <a:pt x="541" y="777"/>
                  </a:lnTo>
                  <a:lnTo>
                    <a:pt x="568" y="778"/>
                  </a:lnTo>
                  <a:lnTo>
                    <a:pt x="597" y="777"/>
                  </a:lnTo>
                  <a:lnTo>
                    <a:pt x="628" y="773"/>
                  </a:lnTo>
                  <a:lnTo>
                    <a:pt x="661" y="767"/>
                  </a:lnTo>
                  <a:lnTo>
                    <a:pt x="696" y="759"/>
                  </a:lnTo>
                  <a:lnTo>
                    <a:pt x="733" y="747"/>
                  </a:lnTo>
                  <a:lnTo>
                    <a:pt x="770" y="732"/>
                  </a:lnTo>
                  <a:lnTo>
                    <a:pt x="806" y="711"/>
                  </a:lnTo>
                  <a:lnTo>
                    <a:pt x="844" y="686"/>
                  </a:lnTo>
                  <a:lnTo>
                    <a:pt x="881" y="656"/>
                  </a:lnTo>
                  <a:lnTo>
                    <a:pt x="873" y="629"/>
                  </a:lnTo>
                  <a:lnTo>
                    <a:pt x="902" y="603"/>
                  </a:lnTo>
                  <a:lnTo>
                    <a:pt x="927" y="575"/>
                  </a:lnTo>
                  <a:lnTo>
                    <a:pt x="949" y="545"/>
                  </a:lnTo>
                  <a:lnTo>
                    <a:pt x="968" y="514"/>
                  </a:lnTo>
                  <a:lnTo>
                    <a:pt x="983" y="482"/>
                  </a:lnTo>
                  <a:lnTo>
                    <a:pt x="993" y="447"/>
                  </a:lnTo>
                  <a:lnTo>
                    <a:pt x="1000" y="413"/>
                  </a:lnTo>
                  <a:lnTo>
                    <a:pt x="1002" y="377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299360" y="5074920"/>
              <a:ext cx="63360" cy="220680"/>
            </a:xfrm>
            <a:custGeom>
              <a:avLst/>
              <a:gdLst/>
              <a:ahLst/>
              <a:rect l="l" t="t" r="r" b="b"/>
              <a:pathLst>
                <a:path w="80" h="278">
                  <a:moveTo>
                    <a:pt x="8" y="278"/>
                  </a:moveTo>
                  <a:lnTo>
                    <a:pt x="3" y="277"/>
                  </a:lnTo>
                  <a:lnTo>
                    <a:pt x="0" y="270"/>
                  </a:lnTo>
                  <a:lnTo>
                    <a:pt x="0" y="256"/>
                  </a:lnTo>
                  <a:lnTo>
                    <a:pt x="7" y="231"/>
                  </a:lnTo>
                  <a:lnTo>
                    <a:pt x="35" y="201"/>
                  </a:lnTo>
                  <a:lnTo>
                    <a:pt x="54" y="171"/>
                  </a:lnTo>
                  <a:lnTo>
                    <a:pt x="65" y="142"/>
                  </a:lnTo>
                  <a:lnTo>
                    <a:pt x="70" y="114"/>
                  </a:lnTo>
                  <a:lnTo>
                    <a:pt x="71" y="88"/>
                  </a:lnTo>
                  <a:lnTo>
                    <a:pt x="69" y="64"/>
                  </a:lnTo>
                  <a:lnTo>
                    <a:pt x="67" y="42"/>
                  </a:lnTo>
                  <a:lnTo>
                    <a:pt x="65" y="23"/>
                  </a:lnTo>
                  <a:lnTo>
                    <a:pt x="65" y="14"/>
                  </a:lnTo>
                  <a:lnTo>
                    <a:pt x="65" y="6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80" y="60"/>
                  </a:lnTo>
                  <a:lnTo>
                    <a:pt x="80" y="106"/>
                  </a:lnTo>
                  <a:lnTo>
                    <a:pt x="76" y="147"/>
                  </a:lnTo>
                  <a:lnTo>
                    <a:pt x="67" y="182"/>
                  </a:lnTo>
                  <a:lnTo>
                    <a:pt x="54" y="213"/>
                  </a:lnTo>
                  <a:lnTo>
                    <a:pt x="39" y="239"/>
                  </a:lnTo>
                  <a:lnTo>
                    <a:pt x="23" y="261"/>
                  </a:lnTo>
                  <a:lnTo>
                    <a:pt x="8" y="278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6983280" y="4937040"/>
              <a:ext cx="451080" cy="495360"/>
            </a:xfrm>
            <a:custGeom>
              <a:avLst/>
              <a:gdLst/>
              <a:ahLst/>
              <a:rect l="l" t="t" r="r" b="b"/>
              <a:pathLst>
                <a:path w="568" h="624">
                  <a:moveTo>
                    <a:pt x="414" y="471"/>
                  </a:moveTo>
                  <a:lnTo>
                    <a:pt x="443" y="445"/>
                  </a:lnTo>
                  <a:lnTo>
                    <a:pt x="468" y="417"/>
                  </a:lnTo>
                  <a:lnTo>
                    <a:pt x="491" y="387"/>
                  </a:lnTo>
                  <a:lnTo>
                    <a:pt x="510" y="355"/>
                  </a:lnTo>
                  <a:lnTo>
                    <a:pt x="525" y="323"/>
                  </a:lnTo>
                  <a:lnTo>
                    <a:pt x="536" y="288"/>
                  </a:lnTo>
                  <a:lnTo>
                    <a:pt x="543" y="253"/>
                  </a:lnTo>
                  <a:lnTo>
                    <a:pt x="545" y="217"/>
                  </a:lnTo>
                  <a:lnTo>
                    <a:pt x="544" y="187"/>
                  </a:lnTo>
                  <a:lnTo>
                    <a:pt x="539" y="158"/>
                  </a:lnTo>
                  <a:lnTo>
                    <a:pt x="531" y="129"/>
                  </a:lnTo>
                  <a:lnTo>
                    <a:pt x="521" y="102"/>
                  </a:lnTo>
                  <a:lnTo>
                    <a:pt x="508" y="74"/>
                  </a:lnTo>
                  <a:lnTo>
                    <a:pt x="492" y="49"/>
                  </a:lnTo>
                  <a:lnTo>
                    <a:pt x="475" y="23"/>
                  </a:lnTo>
                  <a:lnTo>
                    <a:pt x="454" y="0"/>
                  </a:lnTo>
                  <a:lnTo>
                    <a:pt x="480" y="25"/>
                  </a:lnTo>
                  <a:lnTo>
                    <a:pt x="503" y="52"/>
                  </a:lnTo>
                  <a:lnTo>
                    <a:pt x="522" y="81"/>
                  </a:lnTo>
                  <a:lnTo>
                    <a:pt x="538" y="111"/>
                  </a:lnTo>
                  <a:lnTo>
                    <a:pt x="551" y="141"/>
                  </a:lnTo>
                  <a:lnTo>
                    <a:pt x="560" y="173"/>
                  </a:lnTo>
                  <a:lnTo>
                    <a:pt x="566" y="206"/>
                  </a:lnTo>
                  <a:lnTo>
                    <a:pt x="568" y="240"/>
                  </a:lnTo>
                  <a:lnTo>
                    <a:pt x="566" y="276"/>
                  </a:lnTo>
                  <a:lnTo>
                    <a:pt x="559" y="310"/>
                  </a:lnTo>
                  <a:lnTo>
                    <a:pt x="549" y="345"/>
                  </a:lnTo>
                  <a:lnTo>
                    <a:pt x="534" y="377"/>
                  </a:lnTo>
                  <a:lnTo>
                    <a:pt x="515" y="408"/>
                  </a:lnTo>
                  <a:lnTo>
                    <a:pt x="493" y="437"/>
                  </a:lnTo>
                  <a:lnTo>
                    <a:pt x="469" y="465"/>
                  </a:lnTo>
                  <a:lnTo>
                    <a:pt x="440" y="491"/>
                  </a:lnTo>
                  <a:lnTo>
                    <a:pt x="438" y="493"/>
                  </a:lnTo>
                  <a:lnTo>
                    <a:pt x="432" y="499"/>
                  </a:lnTo>
                  <a:lnTo>
                    <a:pt x="422" y="507"/>
                  </a:lnTo>
                  <a:lnTo>
                    <a:pt x="408" y="519"/>
                  </a:lnTo>
                  <a:lnTo>
                    <a:pt x="390" y="531"/>
                  </a:lnTo>
                  <a:lnTo>
                    <a:pt x="369" y="545"/>
                  </a:lnTo>
                  <a:lnTo>
                    <a:pt x="344" y="559"/>
                  </a:lnTo>
                  <a:lnTo>
                    <a:pt x="316" y="574"/>
                  </a:lnTo>
                  <a:lnTo>
                    <a:pt x="286" y="588"/>
                  </a:lnTo>
                  <a:lnTo>
                    <a:pt x="251" y="599"/>
                  </a:lnTo>
                  <a:lnTo>
                    <a:pt x="216" y="610"/>
                  </a:lnTo>
                  <a:lnTo>
                    <a:pt x="177" y="618"/>
                  </a:lnTo>
                  <a:lnTo>
                    <a:pt x="136" y="622"/>
                  </a:lnTo>
                  <a:lnTo>
                    <a:pt x="92" y="624"/>
                  </a:lnTo>
                  <a:lnTo>
                    <a:pt x="48" y="620"/>
                  </a:lnTo>
                  <a:lnTo>
                    <a:pt x="0" y="611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10" y="580"/>
                  </a:lnTo>
                  <a:lnTo>
                    <a:pt x="21" y="581"/>
                  </a:lnTo>
                  <a:lnTo>
                    <a:pt x="37" y="583"/>
                  </a:lnTo>
                  <a:lnTo>
                    <a:pt x="56" y="583"/>
                  </a:lnTo>
                  <a:lnTo>
                    <a:pt x="79" y="584"/>
                  </a:lnTo>
                  <a:lnTo>
                    <a:pt x="104" y="583"/>
                  </a:lnTo>
                  <a:lnTo>
                    <a:pt x="132" y="581"/>
                  </a:lnTo>
                  <a:lnTo>
                    <a:pt x="163" y="576"/>
                  </a:lnTo>
                  <a:lnTo>
                    <a:pt x="195" y="571"/>
                  </a:lnTo>
                  <a:lnTo>
                    <a:pt x="230" y="563"/>
                  </a:lnTo>
                  <a:lnTo>
                    <a:pt x="265" y="551"/>
                  </a:lnTo>
                  <a:lnTo>
                    <a:pt x="301" y="536"/>
                  </a:lnTo>
                  <a:lnTo>
                    <a:pt x="339" y="519"/>
                  </a:lnTo>
                  <a:lnTo>
                    <a:pt x="376" y="497"/>
                  </a:lnTo>
                  <a:lnTo>
                    <a:pt x="414" y="471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043760" y="5074920"/>
              <a:ext cx="318960" cy="308160"/>
            </a:xfrm>
            <a:custGeom>
              <a:avLst/>
              <a:gdLst/>
              <a:ahLst/>
              <a:rect l="l" t="t" r="r" b="b"/>
              <a:pathLst>
                <a:path w="402" h="389">
                  <a:moveTo>
                    <a:pt x="322" y="286"/>
                  </a:moveTo>
                  <a:lnTo>
                    <a:pt x="338" y="270"/>
                  </a:lnTo>
                  <a:lnTo>
                    <a:pt x="354" y="248"/>
                  </a:lnTo>
                  <a:lnTo>
                    <a:pt x="370" y="223"/>
                  </a:lnTo>
                  <a:lnTo>
                    <a:pt x="385" y="191"/>
                  </a:lnTo>
                  <a:lnTo>
                    <a:pt x="396" y="155"/>
                  </a:lnTo>
                  <a:lnTo>
                    <a:pt x="402" y="112"/>
                  </a:lnTo>
                  <a:lnTo>
                    <a:pt x="402" y="64"/>
                  </a:lnTo>
                  <a:lnTo>
                    <a:pt x="396" y="8"/>
                  </a:lnTo>
                  <a:lnTo>
                    <a:pt x="387" y="0"/>
                  </a:lnTo>
                  <a:lnTo>
                    <a:pt x="387" y="1"/>
                  </a:lnTo>
                  <a:lnTo>
                    <a:pt x="387" y="6"/>
                  </a:lnTo>
                  <a:lnTo>
                    <a:pt x="387" y="14"/>
                  </a:lnTo>
                  <a:lnTo>
                    <a:pt x="387" y="23"/>
                  </a:lnTo>
                  <a:lnTo>
                    <a:pt x="390" y="34"/>
                  </a:lnTo>
                  <a:lnTo>
                    <a:pt x="391" y="44"/>
                  </a:lnTo>
                  <a:lnTo>
                    <a:pt x="392" y="55"/>
                  </a:lnTo>
                  <a:lnTo>
                    <a:pt x="392" y="66"/>
                  </a:lnTo>
                  <a:lnTo>
                    <a:pt x="390" y="93"/>
                  </a:lnTo>
                  <a:lnTo>
                    <a:pt x="385" y="121"/>
                  </a:lnTo>
                  <a:lnTo>
                    <a:pt x="377" y="149"/>
                  </a:lnTo>
                  <a:lnTo>
                    <a:pt x="366" y="174"/>
                  </a:lnTo>
                  <a:lnTo>
                    <a:pt x="352" y="198"/>
                  </a:lnTo>
                  <a:lnTo>
                    <a:pt x="334" y="223"/>
                  </a:lnTo>
                  <a:lnTo>
                    <a:pt x="315" y="244"/>
                  </a:lnTo>
                  <a:lnTo>
                    <a:pt x="293" y="265"/>
                  </a:lnTo>
                  <a:lnTo>
                    <a:pt x="292" y="266"/>
                  </a:lnTo>
                  <a:lnTo>
                    <a:pt x="287" y="269"/>
                  </a:lnTo>
                  <a:lnTo>
                    <a:pt x="281" y="273"/>
                  </a:lnTo>
                  <a:lnTo>
                    <a:pt x="272" y="279"/>
                  </a:lnTo>
                  <a:lnTo>
                    <a:pt x="261" y="286"/>
                  </a:lnTo>
                  <a:lnTo>
                    <a:pt x="247" y="294"/>
                  </a:lnTo>
                  <a:lnTo>
                    <a:pt x="232" y="302"/>
                  </a:lnTo>
                  <a:lnTo>
                    <a:pt x="213" y="311"/>
                  </a:lnTo>
                  <a:lnTo>
                    <a:pt x="194" y="319"/>
                  </a:lnTo>
                  <a:lnTo>
                    <a:pt x="173" y="329"/>
                  </a:lnTo>
                  <a:lnTo>
                    <a:pt x="150" y="337"/>
                  </a:lnTo>
                  <a:lnTo>
                    <a:pt x="125" y="345"/>
                  </a:lnTo>
                  <a:lnTo>
                    <a:pt x="99" y="352"/>
                  </a:lnTo>
                  <a:lnTo>
                    <a:pt x="72" y="357"/>
                  </a:lnTo>
                  <a:lnTo>
                    <a:pt x="43" y="362"/>
                  </a:lnTo>
                  <a:lnTo>
                    <a:pt x="13" y="364"/>
                  </a:lnTo>
                  <a:lnTo>
                    <a:pt x="10" y="365"/>
                  </a:lnTo>
                  <a:lnTo>
                    <a:pt x="4" y="369"/>
                  </a:lnTo>
                  <a:lnTo>
                    <a:pt x="0" y="377"/>
                  </a:lnTo>
                  <a:lnTo>
                    <a:pt x="1" y="389"/>
                  </a:lnTo>
                  <a:lnTo>
                    <a:pt x="4" y="389"/>
                  </a:lnTo>
                  <a:lnTo>
                    <a:pt x="8" y="389"/>
                  </a:lnTo>
                  <a:lnTo>
                    <a:pt x="18" y="389"/>
                  </a:lnTo>
                  <a:lnTo>
                    <a:pt x="29" y="387"/>
                  </a:lnTo>
                  <a:lnTo>
                    <a:pt x="43" y="386"/>
                  </a:lnTo>
                  <a:lnTo>
                    <a:pt x="60" y="384"/>
                  </a:lnTo>
                  <a:lnTo>
                    <a:pt x="80" y="382"/>
                  </a:lnTo>
                  <a:lnTo>
                    <a:pt x="102" y="377"/>
                  </a:lnTo>
                  <a:lnTo>
                    <a:pt x="125" y="371"/>
                  </a:lnTo>
                  <a:lnTo>
                    <a:pt x="150" y="365"/>
                  </a:lnTo>
                  <a:lnTo>
                    <a:pt x="177" y="356"/>
                  </a:lnTo>
                  <a:lnTo>
                    <a:pt x="204" y="347"/>
                  </a:lnTo>
                  <a:lnTo>
                    <a:pt x="233" y="334"/>
                  </a:lnTo>
                  <a:lnTo>
                    <a:pt x="262" y="321"/>
                  </a:lnTo>
                  <a:lnTo>
                    <a:pt x="292" y="304"/>
                  </a:lnTo>
                  <a:lnTo>
                    <a:pt x="322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6678720" y="5240160"/>
              <a:ext cx="195120" cy="165240"/>
            </a:xfrm>
            <a:custGeom>
              <a:avLst/>
              <a:gdLst/>
              <a:ahLst/>
              <a:rect l="l" t="t" r="r" b="b"/>
              <a:pathLst>
                <a:path w="247" h="207">
                  <a:moveTo>
                    <a:pt x="146" y="207"/>
                  </a:moveTo>
                  <a:lnTo>
                    <a:pt x="140" y="204"/>
                  </a:lnTo>
                  <a:lnTo>
                    <a:pt x="125" y="196"/>
                  </a:lnTo>
                  <a:lnTo>
                    <a:pt x="103" y="183"/>
                  </a:lnTo>
                  <a:lnTo>
                    <a:pt x="78" y="167"/>
                  </a:lnTo>
                  <a:lnTo>
                    <a:pt x="51" y="150"/>
                  </a:lnTo>
                  <a:lnTo>
                    <a:pt x="28" y="132"/>
                  </a:lnTo>
                  <a:lnTo>
                    <a:pt x="10" y="117"/>
                  </a:lnTo>
                  <a:lnTo>
                    <a:pt x="0" y="103"/>
                  </a:lnTo>
                  <a:lnTo>
                    <a:pt x="3" y="99"/>
                  </a:lnTo>
                  <a:lnTo>
                    <a:pt x="10" y="86"/>
                  </a:lnTo>
                  <a:lnTo>
                    <a:pt x="21" y="69"/>
                  </a:lnTo>
                  <a:lnTo>
                    <a:pt x="39" y="49"/>
                  </a:lnTo>
                  <a:lnTo>
                    <a:pt x="62" y="30"/>
                  </a:lnTo>
                  <a:lnTo>
                    <a:pt x="90" y="14"/>
                  </a:lnTo>
                  <a:lnTo>
                    <a:pt x="126" y="2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8" y="8"/>
                  </a:lnTo>
                  <a:lnTo>
                    <a:pt x="188" y="17"/>
                  </a:lnTo>
                  <a:lnTo>
                    <a:pt x="201" y="27"/>
                  </a:lnTo>
                  <a:lnTo>
                    <a:pt x="214" y="38"/>
                  </a:lnTo>
                  <a:lnTo>
                    <a:pt x="226" y="48"/>
                  </a:lnTo>
                  <a:lnTo>
                    <a:pt x="238" y="56"/>
                  </a:lnTo>
                  <a:lnTo>
                    <a:pt x="247" y="62"/>
                  </a:lnTo>
                  <a:lnTo>
                    <a:pt x="168" y="159"/>
                  </a:lnTo>
                  <a:lnTo>
                    <a:pt x="146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6726240" y="5275080"/>
              <a:ext cx="112680" cy="85680"/>
            </a:xfrm>
            <a:custGeom>
              <a:avLst/>
              <a:gdLst/>
              <a:ahLst/>
              <a:rect l="l" t="t" r="r" b="b"/>
              <a:pathLst>
                <a:path w="143" h="109">
                  <a:moveTo>
                    <a:pt x="143" y="43"/>
                  </a:moveTo>
                  <a:lnTo>
                    <a:pt x="86" y="109"/>
                  </a:lnTo>
                  <a:lnTo>
                    <a:pt x="82" y="106"/>
                  </a:lnTo>
                  <a:lnTo>
                    <a:pt x="73" y="101"/>
                  </a:lnTo>
                  <a:lnTo>
                    <a:pt x="60" y="93"/>
                  </a:lnTo>
                  <a:lnTo>
                    <a:pt x="45" y="83"/>
                  </a:lnTo>
                  <a:lnTo>
                    <a:pt x="29" y="73"/>
                  </a:lnTo>
                  <a:lnTo>
                    <a:pt x="15" y="64"/>
                  </a:lnTo>
                  <a:lnTo>
                    <a:pt x="5" y="56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1"/>
                  </a:lnTo>
                  <a:lnTo>
                    <a:pt x="8" y="31"/>
                  </a:lnTo>
                  <a:lnTo>
                    <a:pt x="17" y="22"/>
                  </a:lnTo>
                  <a:lnTo>
                    <a:pt x="27" y="12"/>
                  </a:lnTo>
                  <a:lnTo>
                    <a:pt x="40" y="5"/>
                  </a:lnTo>
                  <a:lnTo>
                    <a:pt x="57" y="0"/>
                  </a:lnTo>
                  <a:lnTo>
                    <a:pt x="78" y="2"/>
                  </a:lnTo>
                  <a:lnTo>
                    <a:pt x="79" y="3"/>
                  </a:lnTo>
                  <a:lnTo>
                    <a:pt x="83" y="6"/>
                  </a:lnTo>
                  <a:lnTo>
                    <a:pt x="89" y="11"/>
                  </a:lnTo>
                  <a:lnTo>
                    <a:pt x="97" y="18"/>
                  </a:lnTo>
                  <a:lnTo>
                    <a:pt x="108" y="25"/>
                  </a:lnTo>
                  <a:lnTo>
                    <a:pt x="118" y="31"/>
                  </a:lnTo>
                  <a:lnTo>
                    <a:pt x="131" y="37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59b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6726240" y="5311440"/>
              <a:ext cx="69840" cy="5580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89" y="58"/>
                  </a:moveTo>
                  <a:lnTo>
                    <a:pt x="86" y="56"/>
                  </a:lnTo>
                  <a:lnTo>
                    <a:pt x="76" y="51"/>
                  </a:lnTo>
                  <a:lnTo>
                    <a:pt x="63" y="43"/>
                  </a:lnTo>
                  <a:lnTo>
                    <a:pt x="48" y="34"/>
                  </a:lnTo>
                  <a:lnTo>
                    <a:pt x="32" y="24"/>
                  </a:lnTo>
                  <a:lnTo>
                    <a:pt x="18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12" y="16"/>
                  </a:lnTo>
                  <a:lnTo>
                    <a:pt x="23" y="25"/>
                  </a:lnTo>
                  <a:lnTo>
                    <a:pt x="38" y="38"/>
                  </a:lnTo>
                  <a:lnTo>
                    <a:pt x="53" y="49"/>
                  </a:lnTo>
                  <a:lnTo>
                    <a:pt x="66" y="60"/>
                  </a:lnTo>
                  <a:lnTo>
                    <a:pt x="78" y="66"/>
                  </a:lnTo>
                  <a:lnTo>
                    <a:pt x="85" y="70"/>
                  </a:lnTo>
                  <a:lnTo>
                    <a:pt x="89" y="58"/>
                  </a:lnTo>
                  <a:close/>
                </a:path>
              </a:pathLst>
            </a:custGeom>
            <a:solidFill>
              <a:srgbClr val="006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805800" y="5303520"/>
              <a:ext cx="2520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20"/>
                  </a:moveTo>
                  <a:lnTo>
                    <a:pt x="27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6647040" y="4836960"/>
              <a:ext cx="412560" cy="334800"/>
            </a:xfrm>
            <a:custGeom>
              <a:avLst/>
              <a:gdLst/>
              <a:ahLst/>
              <a:rect l="l" t="t" r="r" b="b"/>
              <a:pathLst>
                <a:path w="520" h="423">
                  <a:moveTo>
                    <a:pt x="30" y="407"/>
                  </a:moveTo>
                  <a:lnTo>
                    <a:pt x="30" y="405"/>
                  </a:lnTo>
                  <a:lnTo>
                    <a:pt x="28" y="399"/>
                  </a:lnTo>
                  <a:lnTo>
                    <a:pt x="27" y="389"/>
                  </a:lnTo>
                  <a:lnTo>
                    <a:pt x="25" y="375"/>
                  </a:lnTo>
                  <a:lnTo>
                    <a:pt x="23" y="359"/>
                  </a:lnTo>
                  <a:lnTo>
                    <a:pt x="23" y="340"/>
                  </a:lnTo>
                  <a:lnTo>
                    <a:pt x="25" y="320"/>
                  </a:lnTo>
                  <a:lnTo>
                    <a:pt x="28" y="298"/>
                  </a:lnTo>
                  <a:lnTo>
                    <a:pt x="34" y="275"/>
                  </a:lnTo>
                  <a:lnTo>
                    <a:pt x="42" y="249"/>
                  </a:lnTo>
                  <a:lnTo>
                    <a:pt x="53" y="225"/>
                  </a:lnTo>
                  <a:lnTo>
                    <a:pt x="68" y="200"/>
                  </a:lnTo>
                  <a:lnTo>
                    <a:pt x="88" y="176"/>
                  </a:lnTo>
                  <a:lnTo>
                    <a:pt x="111" y="152"/>
                  </a:lnTo>
                  <a:lnTo>
                    <a:pt x="140" y="129"/>
                  </a:lnTo>
                  <a:lnTo>
                    <a:pt x="174" y="109"/>
                  </a:lnTo>
                  <a:lnTo>
                    <a:pt x="175" y="108"/>
                  </a:lnTo>
                  <a:lnTo>
                    <a:pt x="179" y="104"/>
                  </a:lnTo>
                  <a:lnTo>
                    <a:pt x="185" y="99"/>
                  </a:lnTo>
                  <a:lnTo>
                    <a:pt x="193" y="94"/>
                  </a:lnTo>
                  <a:lnTo>
                    <a:pt x="204" y="87"/>
                  </a:lnTo>
                  <a:lnTo>
                    <a:pt x="218" y="79"/>
                  </a:lnTo>
                  <a:lnTo>
                    <a:pt x="234" y="71"/>
                  </a:lnTo>
                  <a:lnTo>
                    <a:pt x="254" y="61"/>
                  </a:lnTo>
                  <a:lnTo>
                    <a:pt x="276" y="53"/>
                  </a:lnTo>
                  <a:lnTo>
                    <a:pt x="301" y="45"/>
                  </a:lnTo>
                  <a:lnTo>
                    <a:pt x="329" y="38"/>
                  </a:lnTo>
                  <a:lnTo>
                    <a:pt x="361" y="31"/>
                  </a:lnTo>
                  <a:lnTo>
                    <a:pt x="395" y="27"/>
                  </a:lnTo>
                  <a:lnTo>
                    <a:pt x="434" y="23"/>
                  </a:lnTo>
                  <a:lnTo>
                    <a:pt x="475" y="22"/>
                  </a:lnTo>
                  <a:lnTo>
                    <a:pt x="520" y="23"/>
                  </a:lnTo>
                  <a:lnTo>
                    <a:pt x="477" y="7"/>
                  </a:lnTo>
                  <a:lnTo>
                    <a:pt x="475" y="7"/>
                  </a:lnTo>
                  <a:lnTo>
                    <a:pt x="468" y="5"/>
                  </a:lnTo>
                  <a:lnTo>
                    <a:pt x="458" y="4"/>
                  </a:lnTo>
                  <a:lnTo>
                    <a:pt x="443" y="2"/>
                  </a:lnTo>
                  <a:lnTo>
                    <a:pt x="425" y="0"/>
                  </a:lnTo>
                  <a:lnTo>
                    <a:pt x="404" y="0"/>
                  </a:lnTo>
                  <a:lnTo>
                    <a:pt x="379" y="2"/>
                  </a:lnTo>
                  <a:lnTo>
                    <a:pt x="352" y="5"/>
                  </a:lnTo>
                  <a:lnTo>
                    <a:pt x="323" y="11"/>
                  </a:lnTo>
                  <a:lnTo>
                    <a:pt x="291" y="19"/>
                  </a:lnTo>
                  <a:lnTo>
                    <a:pt x="257" y="30"/>
                  </a:lnTo>
                  <a:lnTo>
                    <a:pt x="222" y="45"/>
                  </a:lnTo>
                  <a:lnTo>
                    <a:pt x="185" y="65"/>
                  </a:lnTo>
                  <a:lnTo>
                    <a:pt x="145" y="88"/>
                  </a:lnTo>
                  <a:lnTo>
                    <a:pt x="106" y="117"/>
                  </a:lnTo>
                  <a:lnTo>
                    <a:pt x="67" y="151"/>
                  </a:lnTo>
                  <a:lnTo>
                    <a:pt x="64" y="155"/>
                  </a:lnTo>
                  <a:lnTo>
                    <a:pt x="54" y="166"/>
                  </a:lnTo>
                  <a:lnTo>
                    <a:pt x="43" y="187"/>
                  </a:lnTo>
                  <a:lnTo>
                    <a:pt x="29" y="215"/>
                  </a:lnTo>
                  <a:lnTo>
                    <a:pt x="16" y="253"/>
                  </a:lnTo>
                  <a:lnTo>
                    <a:pt x="6" y="300"/>
                  </a:lnTo>
                  <a:lnTo>
                    <a:pt x="0" y="356"/>
                  </a:lnTo>
                  <a:lnTo>
                    <a:pt x="3" y="423"/>
                  </a:lnTo>
                  <a:lnTo>
                    <a:pt x="30" y="4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yilvános kulcsú titkosítás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49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676520" cy="1385640"/>
          </a:xfrm>
          <a:prstGeom prst="rect">
            <a:avLst/>
          </a:prstGeom>
          <a:ln w="0">
            <a:noFill/>
          </a:ln>
        </p:spPr>
      </p:pic>
      <p:pic>
        <p:nvPicPr>
          <p:cNvPr id="5950" name="" descr=""/>
          <p:cNvPicPr/>
          <p:nvPr/>
        </p:nvPicPr>
        <p:blipFill>
          <a:blip r:embed="rId2"/>
          <a:stretch/>
        </p:blipFill>
        <p:spPr>
          <a:xfrm>
            <a:off x="7162920" y="1752480"/>
            <a:ext cx="1508040" cy="1246320"/>
          </a:xfrm>
          <a:prstGeom prst="rect">
            <a:avLst/>
          </a:prstGeom>
          <a:ln w="0">
            <a:noFill/>
          </a:ln>
        </p:spPr>
      </p:pic>
      <p:grpSp>
        <p:nvGrpSpPr>
          <p:cNvPr id="5951" name=""/>
          <p:cNvGrpSpPr/>
          <p:nvPr/>
        </p:nvGrpSpPr>
        <p:grpSpPr>
          <a:xfrm>
            <a:off x="219240" y="2813040"/>
            <a:ext cx="1785960" cy="1236240"/>
            <a:chOff x="219240" y="2813040"/>
            <a:chExt cx="1785960" cy="1236240"/>
          </a:xfrm>
        </p:grpSpPr>
        <p:grpSp>
          <p:nvGrpSpPr>
            <p:cNvPr id="5952" name=""/>
            <p:cNvGrpSpPr/>
            <p:nvPr/>
          </p:nvGrpSpPr>
          <p:grpSpPr>
            <a:xfrm>
              <a:off x="219240" y="2813040"/>
              <a:ext cx="627840" cy="926640"/>
              <a:chOff x="219240" y="2813040"/>
              <a:chExt cx="627840" cy="926640"/>
            </a:xfrm>
          </p:grpSpPr>
          <p:sp>
            <p:nvSpPr>
              <p:cNvPr id="5953" name=""/>
              <p:cNvSpPr/>
              <p:nvPr/>
            </p:nvSpPr>
            <p:spPr>
              <a:xfrm rot="21528000">
                <a:off x="243360" y="2819160"/>
                <a:ext cx="594360" cy="90792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09" y="0"/>
                    </a:moveTo>
                    <a:lnTo>
                      <a:pt x="111" y="0"/>
                    </a:lnTo>
                    <a:lnTo>
                      <a:pt x="129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09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21" y="57"/>
                    </a:lnTo>
                    <a:lnTo>
                      <a:pt x="21" y="68"/>
                    </a:lnTo>
                    <a:lnTo>
                      <a:pt x="9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1" y="132"/>
                    </a:lnTo>
                    <a:lnTo>
                      <a:pt x="21" y="145"/>
                    </a:lnTo>
                    <a:lnTo>
                      <a:pt x="49" y="145"/>
                    </a:lnTo>
                    <a:lnTo>
                      <a:pt x="57" y="160"/>
                    </a:lnTo>
                    <a:lnTo>
                      <a:pt x="73" y="161"/>
                    </a:lnTo>
                    <a:lnTo>
                      <a:pt x="74" y="193"/>
                    </a:lnTo>
                    <a:lnTo>
                      <a:pt x="84" y="193"/>
                    </a:lnTo>
                    <a:lnTo>
                      <a:pt x="88" y="198"/>
                    </a:lnTo>
                    <a:lnTo>
                      <a:pt x="88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4" y="409"/>
                    </a:lnTo>
                    <a:lnTo>
                      <a:pt x="184" y="397"/>
                    </a:lnTo>
                    <a:lnTo>
                      <a:pt x="205" y="387"/>
                    </a:lnTo>
                    <a:lnTo>
                      <a:pt x="184" y="379"/>
                    </a:lnTo>
                    <a:lnTo>
                      <a:pt x="187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4" y="326"/>
                    </a:lnTo>
                    <a:lnTo>
                      <a:pt x="184" y="313"/>
                    </a:lnTo>
                    <a:lnTo>
                      <a:pt x="205" y="299"/>
                    </a:lnTo>
                    <a:lnTo>
                      <a:pt x="184" y="285"/>
                    </a:lnTo>
                    <a:lnTo>
                      <a:pt x="184" y="272"/>
                    </a:lnTo>
                    <a:lnTo>
                      <a:pt x="205" y="255"/>
                    </a:lnTo>
                    <a:lnTo>
                      <a:pt x="208" y="228"/>
                    </a:lnTo>
                    <a:lnTo>
                      <a:pt x="232" y="228"/>
                    </a:lnTo>
                    <a:lnTo>
                      <a:pt x="232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69" y="53"/>
                    </a:lnTo>
                    <a:lnTo>
                      <a:pt x="262" y="43"/>
                    </a:lnTo>
                    <a:lnTo>
                      <a:pt x="247" y="43"/>
                    </a:lnTo>
                    <a:lnTo>
                      <a:pt x="209" y="0"/>
                    </a:lnTo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 rot="21528000">
                <a:off x="228600" y="2825280"/>
                <a:ext cx="594720" cy="908280"/>
              </a:xfrm>
              <a:custGeom>
                <a:avLst/>
                <a:gdLst/>
                <a:ahLst/>
                <a:rect l="l" t="t" r="r" b="b"/>
                <a:pathLst>
                  <a:path w="329" h="453">
                    <a:moveTo>
                      <a:pt x="210" y="0"/>
                    </a:moveTo>
                    <a:lnTo>
                      <a:pt x="111" y="0"/>
                    </a:lnTo>
                    <a:lnTo>
                      <a:pt x="130" y="17"/>
                    </a:lnTo>
                    <a:lnTo>
                      <a:pt x="187" y="17"/>
                    </a:lnTo>
                    <a:lnTo>
                      <a:pt x="209" y="44"/>
                    </a:lnTo>
                    <a:lnTo>
                      <a:pt x="110" y="44"/>
                    </a:lnTo>
                    <a:lnTo>
                      <a:pt x="130" y="17"/>
                    </a:lnTo>
                    <a:lnTo>
                      <a:pt x="111" y="0"/>
                    </a:lnTo>
                    <a:lnTo>
                      <a:pt x="76" y="43"/>
                    </a:lnTo>
                    <a:lnTo>
                      <a:pt x="58" y="43"/>
                    </a:lnTo>
                    <a:lnTo>
                      <a:pt x="51" y="57"/>
                    </a:lnTo>
                    <a:lnTo>
                      <a:pt x="22" y="57"/>
                    </a:lnTo>
                    <a:lnTo>
                      <a:pt x="21" y="68"/>
                    </a:lnTo>
                    <a:lnTo>
                      <a:pt x="10" y="68"/>
                    </a:lnTo>
                    <a:lnTo>
                      <a:pt x="0" y="68"/>
                    </a:lnTo>
                    <a:lnTo>
                      <a:pt x="0" y="131"/>
                    </a:lnTo>
                    <a:lnTo>
                      <a:pt x="22" y="132"/>
                    </a:lnTo>
                    <a:lnTo>
                      <a:pt x="22" y="144"/>
                    </a:lnTo>
                    <a:lnTo>
                      <a:pt x="50" y="144"/>
                    </a:lnTo>
                    <a:lnTo>
                      <a:pt x="58" y="160"/>
                    </a:lnTo>
                    <a:lnTo>
                      <a:pt x="73" y="161"/>
                    </a:lnTo>
                    <a:lnTo>
                      <a:pt x="75" y="193"/>
                    </a:lnTo>
                    <a:lnTo>
                      <a:pt x="85" y="193"/>
                    </a:lnTo>
                    <a:lnTo>
                      <a:pt x="87" y="196"/>
                    </a:lnTo>
                    <a:lnTo>
                      <a:pt x="87" y="230"/>
                    </a:lnTo>
                    <a:lnTo>
                      <a:pt x="106" y="230"/>
                    </a:lnTo>
                    <a:lnTo>
                      <a:pt x="105" y="423"/>
                    </a:lnTo>
                    <a:lnTo>
                      <a:pt x="149" y="452"/>
                    </a:lnTo>
                    <a:lnTo>
                      <a:pt x="205" y="418"/>
                    </a:lnTo>
                    <a:lnTo>
                      <a:pt x="185" y="409"/>
                    </a:lnTo>
                    <a:lnTo>
                      <a:pt x="185" y="397"/>
                    </a:lnTo>
                    <a:lnTo>
                      <a:pt x="205" y="387"/>
                    </a:lnTo>
                    <a:lnTo>
                      <a:pt x="185" y="378"/>
                    </a:lnTo>
                    <a:lnTo>
                      <a:pt x="188" y="375"/>
                    </a:lnTo>
                    <a:lnTo>
                      <a:pt x="205" y="367"/>
                    </a:lnTo>
                    <a:lnTo>
                      <a:pt x="208" y="343"/>
                    </a:lnTo>
                    <a:lnTo>
                      <a:pt x="211" y="340"/>
                    </a:lnTo>
                    <a:lnTo>
                      <a:pt x="185" y="326"/>
                    </a:lnTo>
                    <a:lnTo>
                      <a:pt x="185" y="313"/>
                    </a:lnTo>
                    <a:lnTo>
                      <a:pt x="205" y="299"/>
                    </a:lnTo>
                    <a:lnTo>
                      <a:pt x="185" y="285"/>
                    </a:lnTo>
                    <a:lnTo>
                      <a:pt x="185" y="272"/>
                    </a:lnTo>
                    <a:lnTo>
                      <a:pt x="205" y="255"/>
                    </a:lnTo>
                    <a:lnTo>
                      <a:pt x="209" y="228"/>
                    </a:lnTo>
                    <a:lnTo>
                      <a:pt x="233" y="228"/>
                    </a:lnTo>
                    <a:lnTo>
                      <a:pt x="233" y="192"/>
                    </a:lnTo>
                    <a:lnTo>
                      <a:pt x="247" y="192"/>
                    </a:lnTo>
                    <a:lnTo>
                      <a:pt x="247" y="159"/>
                    </a:lnTo>
                    <a:lnTo>
                      <a:pt x="263" y="159"/>
                    </a:lnTo>
                    <a:lnTo>
                      <a:pt x="270" y="144"/>
                    </a:lnTo>
                    <a:lnTo>
                      <a:pt x="303" y="144"/>
                    </a:lnTo>
                    <a:lnTo>
                      <a:pt x="303" y="130"/>
                    </a:lnTo>
                    <a:lnTo>
                      <a:pt x="328" y="130"/>
                    </a:lnTo>
                    <a:lnTo>
                      <a:pt x="328" y="67"/>
                    </a:lnTo>
                    <a:lnTo>
                      <a:pt x="303" y="67"/>
                    </a:lnTo>
                    <a:lnTo>
                      <a:pt x="303" y="57"/>
                    </a:lnTo>
                    <a:lnTo>
                      <a:pt x="276" y="57"/>
                    </a:lnTo>
                    <a:lnTo>
                      <a:pt x="270" y="53"/>
                    </a:lnTo>
                    <a:lnTo>
                      <a:pt x="263" y="43"/>
                    </a:lnTo>
                    <a:lnTo>
                      <a:pt x="247" y="43"/>
                    </a:lnTo>
                    <a:lnTo>
                      <a:pt x="210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55" name=""/>
              <p:cNvGrpSpPr/>
              <p:nvPr/>
            </p:nvGrpSpPr>
            <p:grpSpPr>
              <a:xfrm>
                <a:off x="279720" y="2967840"/>
                <a:ext cx="455760" cy="108000"/>
                <a:chOff x="279720" y="2967840"/>
                <a:chExt cx="455760" cy="108000"/>
              </a:xfrm>
            </p:grpSpPr>
            <p:sp>
              <p:nvSpPr>
                <p:cNvPr id="5956" name=""/>
                <p:cNvSpPr/>
                <p:nvPr/>
              </p:nvSpPr>
              <p:spPr>
                <a:xfrm rot="21528000">
                  <a:off x="314640" y="2971800"/>
                  <a:ext cx="419400" cy="99360"/>
                </a:xfrm>
                <a:custGeom>
                  <a:avLst/>
                  <a:gdLst/>
                  <a:ahLst/>
                  <a:rect l="l" t="t" r="r" b="b"/>
                  <a:pathLst>
                    <a:path w="232" h="50">
                      <a:moveTo>
                        <a:pt x="231" y="25"/>
                      </a:moveTo>
                      <a:lnTo>
                        <a:pt x="21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08" y="2"/>
                      </a:lnTo>
                      <a:lnTo>
                        <a:pt x="226" y="25"/>
                      </a:lnTo>
                      <a:lnTo>
                        <a:pt x="208" y="47"/>
                      </a:lnTo>
                      <a:lnTo>
                        <a:pt x="212" y="49"/>
                      </a:lnTo>
                      <a:lnTo>
                        <a:pt x="231" y="25"/>
                      </a:lnTo>
                    </a:path>
                  </a:pathLst>
                </a:custGeom>
                <a:solidFill>
                  <a:srgbClr val="3165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 rot="21528000">
                  <a:off x="280440" y="2972520"/>
                  <a:ext cx="417600" cy="97560"/>
                </a:xfrm>
                <a:custGeom>
                  <a:avLst/>
                  <a:gdLst/>
                  <a:ahLst/>
                  <a:rect l="l" t="t" r="r" b="b"/>
                  <a:pathLst>
                    <a:path w="231" h="49">
                      <a:moveTo>
                        <a:pt x="0" y="22"/>
                      </a:moveTo>
                      <a:lnTo>
                        <a:pt x="20" y="48"/>
                      </a:lnTo>
                      <a:lnTo>
                        <a:pt x="230" y="48"/>
                      </a:lnTo>
                      <a:lnTo>
                        <a:pt x="228" y="45"/>
                      </a:lnTo>
                      <a:lnTo>
                        <a:pt x="22" y="45"/>
                      </a:lnTo>
                      <a:lnTo>
                        <a:pt x="3" y="22"/>
                      </a:lnTo>
                      <a:lnTo>
                        <a:pt x="21" y="1"/>
                      </a:lnTo>
                      <a:lnTo>
                        <a:pt x="17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8" name=""/>
              <p:cNvSpPr/>
              <p:nvPr/>
            </p:nvSpPr>
            <p:spPr>
              <a:xfrm rot="21528000">
                <a:off x="264960" y="2953440"/>
                <a:ext cx="50112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rot="21528000">
                <a:off x="324720" y="2933280"/>
                <a:ext cx="390240" cy="3204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264240" y="3085200"/>
                <a:ext cx="504720" cy="648720"/>
                <a:chOff x="264240" y="3085200"/>
                <a:chExt cx="504720" cy="648720"/>
              </a:xfrm>
            </p:grpSpPr>
            <p:sp>
              <p:nvSpPr>
                <p:cNvPr id="5961" name=""/>
                <p:cNvSpPr/>
                <p:nvPr/>
              </p:nvSpPr>
              <p:spPr>
                <a:xfrm rot="21528000">
                  <a:off x="537840" y="3215160"/>
                  <a:ext cx="30600" cy="494640"/>
                </a:xfrm>
                <a:custGeom>
                  <a:avLst/>
                  <a:gdLst/>
                  <a:ahLst/>
                  <a:rect l="l" t="t" r="r" b="b"/>
                  <a:pathLst>
                    <a:path w="17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16" y="242"/>
                      </a:lnTo>
                      <a:lnTo>
                        <a:pt x="16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 rot="21528000">
                  <a:off x="467280" y="3231000"/>
                  <a:ext cx="30600" cy="480600"/>
                </a:xfrm>
                <a:custGeom>
                  <a:avLst/>
                  <a:gdLst/>
                  <a:ahLst/>
                  <a:rect l="l" t="t" r="r" b="b"/>
                  <a:pathLst>
                    <a:path w="17" h="240">
                      <a:moveTo>
                        <a:pt x="5" y="0"/>
                      </a:moveTo>
                      <a:lnTo>
                        <a:pt x="0" y="235"/>
                      </a:lnTo>
                      <a:lnTo>
                        <a:pt x="16" y="239"/>
                      </a:lnTo>
                      <a:lnTo>
                        <a:pt x="16" y="19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63" name=""/>
                <p:cNvGrpSpPr/>
                <p:nvPr/>
              </p:nvGrpSpPr>
              <p:grpSpPr>
                <a:xfrm>
                  <a:off x="264240" y="3085200"/>
                  <a:ext cx="504720" cy="648720"/>
                  <a:chOff x="264240" y="3085200"/>
                  <a:chExt cx="504720" cy="648720"/>
                </a:xfrm>
              </p:grpSpPr>
              <p:sp>
                <p:nvSpPr>
                  <p:cNvPr id="5964" name=""/>
                  <p:cNvSpPr/>
                  <p:nvPr/>
                </p:nvSpPr>
                <p:spPr>
                  <a:xfrm rot="21528000">
                    <a:off x="264240" y="3090240"/>
                    <a:ext cx="50400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5" name=""/>
                  <p:cNvSpPr/>
                  <p:nvPr/>
                </p:nvSpPr>
                <p:spPr>
                  <a:xfrm rot="21528000">
                    <a:off x="361440" y="3150000"/>
                    <a:ext cx="303480" cy="32040"/>
                  </a:xfrm>
                  <a:prstGeom prst="rect">
                    <a:avLst/>
                  </a:pr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6" name=""/>
                  <p:cNvSpPr/>
                  <p:nvPr/>
                </p:nvSpPr>
                <p:spPr>
                  <a:xfrm rot="21528000">
                    <a:off x="469080" y="3230640"/>
                    <a:ext cx="32040" cy="50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1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0" y="30"/>
                        </a:lnTo>
                        <a:lnTo>
                          <a:pt x="10" y="245"/>
                        </a:lnTo>
                        <a:lnTo>
                          <a:pt x="15" y="250"/>
                        </a:lnTo>
                        <a:lnTo>
                          <a:pt x="17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7" name=""/>
                  <p:cNvSpPr/>
                  <p:nvPr/>
                </p:nvSpPr>
                <p:spPr>
                  <a:xfrm rot="21528000">
                    <a:off x="380880" y="3212280"/>
                    <a:ext cx="2653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5">
                        <a:moveTo>
                          <a:pt x="121" y="34"/>
                        </a:moveTo>
                        <a:lnTo>
                          <a:pt x="131" y="26"/>
                        </a:lnTo>
                        <a:lnTo>
                          <a:pt x="131" y="3"/>
                        </a:lnTo>
                        <a:lnTo>
                          <a:pt x="146" y="3"/>
                        </a:lnTo>
                        <a:lnTo>
                          <a:pt x="146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lnTo>
                          <a:pt x="82" y="3"/>
                        </a:lnTo>
                        <a:lnTo>
                          <a:pt x="89" y="10"/>
                        </a:lnTo>
                        <a:lnTo>
                          <a:pt x="118" y="10"/>
                        </a:lnTo>
                        <a:lnTo>
                          <a:pt x="121" y="34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8" name=""/>
                  <p:cNvSpPr/>
                  <p:nvPr/>
                </p:nvSpPr>
                <p:spPr>
                  <a:xfrm rot="21528000">
                    <a:off x="315720" y="3115800"/>
                    <a:ext cx="398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17">
                        <a:moveTo>
                          <a:pt x="220" y="0"/>
                        </a:moveTo>
                        <a:lnTo>
                          <a:pt x="0" y="0"/>
                        </a:lnTo>
                        <a:lnTo>
                          <a:pt x="2" y="16"/>
                        </a:lnTo>
                        <a:lnTo>
                          <a:pt x="218" y="16"/>
                        </a:lnTo>
                        <a:lnTo>
                          <a:pt x="220" y="0"/>
                        </a:lnTo>
                      </a:path>
                    </a:pathLst>
                  </a:custGeom>
                  <a:solidFill>
                    <a:srgbClr val="3165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69" name=""/>
            <p:cNvSpPr/>
            <p:nvPr/>
          </p:nvSpPr>
          <p:spPr>
            <a:xfrm>
              <a:off x="669240" y="3429000"/>
              <a:ext cx="133596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086600" y="2666880"/>
            <a:ext cx="1752480" cy="1001520"/>
            <a:chOff x="7086600" y="2666880"/>
            <a:chExt cx="1752480" cy="1001520"/>
          </a:xfrm>
        </p:grpSpPr>
        <p:grpSp>
          <p:nvGrpSpPr>
            <p:cNvPr id="5971" name=""/>
            <p:cNvGrpSpPr/>
            <p:nvPr/>
          </p:nvGrpSpPr>
          <p:grpSpPr>
            <a:xfrm>
              <a:off x="8305920" y="2666880"/>
              <a:ext cx="533160" cy="885600"/>
              <a:chOff x="8305920" y="2666880"/>
              <a:chExt cx="533160" cy="885600"/>
            </a:xfrm>
          </p:grpSpPr>
          <p:pic>
            <p:nvPicPr>
              <p:cNvPr id="59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05920" y="2666880"/>
                <a:ext cx="53316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3" name=""/>
              <p:cNvSpPr/>
              <p:nvPr/>
            </p:nvSpPr>
            <p:spPr>
              <a:xfrm>
                <a:off x="8366400" y="2785680"/>
                <a:ext cx="44964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4" name=""/>
            <p:cNvSpPr/>
            <p:nvPr/>
          </p:nvSpPr>
          <p:spPr>
            <a:xfrm>
              <a:off x="7086600" y="30481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5" name=""/>
          <p:cNvSpPr/>
          <p:nvPr/>
        </p:nvSpPr>
        <p:spPr>
          <a:xfrm>
            <a:off x="6172200" y="1523880"/>
            <a:ext cx="12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6" name=""/>
          <p:cNvSpPr/>
          <p:nvPr/>
        </p:nvSpPr>
        <p:spPr>
          <a:xfrm>
            <a:off x="1754640" y="1523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7" name=""/>
          <p:cNvGrpSpPr/>
          <p:nvPr/>
        </p:nvGrpSpPr>
        <p:grpSpPr>
          <a:xfrm>
            <a:off x="1905120" y="2541600"/>
            <a:ext cx="2175120" cy="1126800"/>
            <a:chOff x="1905120" y="2541600"/>
            <a:chExt cx="2175120" cy="1126800"/>
          </a:xfrm>
        </p:grpSpPr>
        <p:sp>
          <p:nvSpPr>
            <p:cNvPr id="5978" name=""/>
            <p:cNvSpPr/>
            <p:nvPr/>
          </p:nvSpPr>
          <p:spPr>
            <a:xfrm>
              <a:off x="2299320" y="3048120"/>
              <a:ext cx="178092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79" name=""/>
            <p:cNvGrpSpPr/>
            <p:nvPr/>
          </p:nvGrpSpPr>
          <p:grpSpPr>
            <a:xfrm>
              <a:off x="1905120" y="2541600"/>
              <a:ext cx="486720" cy="761760"/>
              <a:chOff x="1905120" y="2541600"/>
              <a:chExt cx="486720" cy="761760"/>
            </a:xfrm>
          </p:grpSpPr>
          <p:sp>
            <p:nvSpPr>
              <p:cNvPr id="5980" name=""/>
              <p:cNvSpPr/>
              <p:nvPr/>
            </p:nvSpPr>
            <p:spPr>
              <a:xfrm>
                <a:off x="1905120" y="254160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1916640" y="254520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2" name=""/>
              <p:cNvGrpSpPr/>
              <p:nvPr/>
            </p:nvGrpSpPr>
            <p:grpSpPr>
              <a:xfrm>
                <a:off x="1983600" y="2666880"/>
                <a:ext cx="362160" cy="87120"/>
                <a:chOff x="1983600" y="2666880"/>
                <a:chExt cx="362160" cy="87120"/>
              </a:xfrm>
            </p:grpSpPr>
            <p:sp>
              <p:nvSpPr>
                <p:cNvPr id="5983" name=""/>
                <p:cNvSpPr/>
                <p:nvPr/>
              </p:nvSpPr>
              <p:spPr>
                <a:xfrm>
                  <a:off x="198360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2010240" y="26668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5" name=""/>
              <p:cNvSpPr/>
              <p:nvPr/>
            </p:nvSpPr>
            <p:spPr>
              <a:xfrm>
                <a:off x="1954440" y="2653560"/>
                <a:ext cx="403200" cy="36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1994400" y="2636640"/>
                <a:ext cx="315000" cy="50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7" name=""/>
              <p:cNvGrpSpPr/>
              <p:nvPr/>
            </p:nvGrpSpPr>
            <p:grpSpPr>
              <a:xfrm>
                <a:off x="1954440" y="2765880"/>
                <a:ext cx="405360" cy="535680"/>
                <a:chOff x="1954440" y="2765880"/>
                <a:chExt cx="405360" cy="535680"/>
              </a:xfrm>
            </p:grpSpPr>
            <p:sp>
              <p:nvSpPr>
                <p:cNvPr id="5988" name=""/>
                <p:cNvSpPr/>
                <p:nvPr/>
              </p:nvSpPr>
              <p:spPr>
                <a:xfrm>
                  <a:off x="2138040" y="28699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2196360" y="28807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90" name=""/>
                <p:cNvGrpSpPr/>
                <p:nvPr/>
              </p:nvGrpSpPr>
              <p:grpSpPr>
                <a:xfrm>
                  <a:off x="1954440" y="2765880"/>
                  <a:ext cx="405360" cy="535680"/>
                  <a:chOff x="1954440" y="2765880"/>
                  <a:chExt cx="405360" cy="535680"/>
                </a:xfrm>
              </p:grpSpPr>
              <p:sp>
                <p:nvSpPr>
                  <p:cNvPr id="5991" name=""/>
                  <p:cNvSpPr/>
                  <p:nvPr/>
                </p:nvSpPr>
                <p:spPr>
                  <a:xfrm>
                    <a:off x="1954440" y="2765880"/>
                    <a:ext cx="40536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>
                    <a:off x="2036880" y="2814480"/>
                    <a:ext cx="247320" cy="9000"/>
                  </a:xfrm>
                  <a:prstGeom prst="rect">
                    <a:avLst/>
                  </a:pr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>
                    <a:off x="2173680" y="28818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>
                    <a:off x="2054160" y="28659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5" name=""/>
                  <p:cNvSpPr/>
                  <p:nvPr/>
                </p:nvSpPr>
                <p:spPr>
                  <a:xfrm>
                    <a:off x="2000520" y="278532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6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996" name=""/>
          <p:cNvSpPr/>
          <p:nvPr/>
        </p:nvSpPr>
        <p:spPr>
          <a:xfrm>
            <a:off x="1676520" y="5410080"/>
            <a:ext cx="1218960" cy="838440"/>
          </a:xfrm>
          <a:prstGeom prst="rightArrowCallout">
            <a:avLst>
              <a:gd name="adj1" fmla="val 25002"/>
              <a:gd name="adj2" fmla="val 25000"/>
              <a:gd name="adj3" fmla="val 24231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7" name=""/>
          <p:cNvGrpSpPr/>
          <p:nvPr/>
        </p:nvGrpSpPr>
        <p:grpSpPr>
          <a:xfrm>
            <a:off x="381600" y="5257800"/>
            <a:ext cx="990000" cy="1143000"/>
            <a:chOff x="381600" y="5257800"/>
            <a:chExt cx="990000" cy="1143000"/>
          </a:xfrm>
        </p:grpSpPr>
        <p:sp>
          <p:nvSpPr>
            <p:cNvPr id="5998" name=""/>
            <p:cNvSpPr/>
            <p:nvPr/>
          </p:nvSpPr>
          <p:spPr>
            <a:xfrm>
              <a:off x="457200" y="525780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81600" y="5486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0" name=""/>
          <p:cNvGrpSpPr/>
          <p:nvPr/>
        </p:nvGrpSpPr>
        <p:grpSpPr>
          <a:xfrm>
            <a:off x="3276720" y="5257800"/>
            <a:ext cx="930240" cy="1066680"/>
            <a:chOff x="3276720" y="5257800"/>
            <a:chExt cx="930240" cy="1066680"/>
          </a:xfrm>
        </p:grpSpPr>
        <p:sp>
          <p:nvSpPr>
            <p:cNvPr id="6001" name=""/>
            <p:cNvSpPr/>
            <p:nvPr/>
          </p:nvSpPr>
          <p:spPr>
            <a:xfrm>
              <a:off x="3276720" y="5257800"/>
              <a:ext cx="91440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276720" y="5257800"/>
              <a:ext cx="93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*#$fjda^j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u53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040720" y="2286000"/>
            <a:ext cx="1999440" cy="1153800"/>
            <a:chOff x="5040720" y="2286000"/>
            <a:chExt cx="1999440" cy="1153800"/>
          </a:xfrm>
        </p:grpSpPr>
        <p:sp>
          <p:nvSpPr>
            <p:cNvPr id="6004" name=""/>
            <p:cNvSpPr/>
            <p:nvPr/>
          </p:nvSpPr>
          <p:spPr>
            <a:xfrm>
              <a:off x="5040720" y="281952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5" name=""/>
            <p:cNvGrpSpPr/>
            <p:nvPr/>
          </p:nvGrpSpPr>
          <p:grpSpPr>
            <a:xfrm>
              <a:off x="6553080" y="2286000"/>
              <a:ext cx="487080" cy="761760"/>
              <a:chOff x="6553080" y="2286000"/>
              <a:chExt cx="487080" cy="761760"/>
            </a:xfrm>
          </p:grpSpPr>
          <p:sp>
            <p:nvSpPr>
              <p:cNvPr id="6006" name=""/>
              <p:cNvSpPr/>
              <p:nvPr/>
            </p:nvSpPr>
            <p:spPr>
              <a:xfrm>
                <a:off x="6553080" y="2286000"/>
                <a:ext cx="47556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6564600" y="2289600"/>
                <a:ext cx="47556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08" name=""/>
              <p:cNvGrpSpPr/>
              <p:nvPr/>
            </p:nvGrpSpPr>
            <p:grpSpPr>
              <a:xfrm>
                <a:off x="6631560" y="2411280"/>
                <a:ext cx="362160" cy="87120"/>
                <a:chOff x="6631560" y="2411280"/>
                <a:chExt cx="362160" cy="8712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663156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58200" y="241128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6602400" y="239796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6642360" y="238104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13" name=""/>
              <p:cNvGrpSpPr/>
              <p:nvPr/>
            </p:nvGrpSpPr>
            <p:grpSpPr>
              <a:xfrm>
                <a:off x="6602400" y="2510280"/>
                <a:ext cx="405720" cy="535680"/>
                <a:chOff x="6602400" y="2510280"/>
                <a:chExt cx="405720" cy="53568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6786360" y="261432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844320" y="262512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6" name=""/>
                <p:cNvGrpSpPr/>
                <p:nvPr/>
              </p:nvGrpSpPr>
              <p:grpSpPr>
                <a:xfrm>
                  <a:off x="6602400" y="2510280"/>
                  <a:ext cx="405720" cy="535680"/>
                  <a:chOff x="6602400" y="2510280"/>
                  <a:chExt cx="405720" cy="535680"/>
                </a:xfrm>
              </p:grpSpPr>
              <p:sp>
                <p:nvSpPr>
                  <p:cNvPr id="6017" name=""/>
                  <p:cNvSpPr/>
                  <p:nvPr/>
                </p:nvSpPr>
                <p:spPr>
                  <a:xfrm>
                    <a:off x="6602400" y="251028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6684840" y="255888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6821640" y="262620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>
                    <a:off x="6702480" y="261036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>
                    <a:off x="6648480" y="252972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022" name=""/>
          <p:cNvSpPr/>
          <p:nvPr/>
        </p:nvSpPr>
        <p:spPr>
          <a:xfrm>
            <a:off x="6095880" y="5410080"/>
            <a:ext cx="1219320" cy="838440"/>
          </a:xfrm>
          <a:prstGeom prst="rightArrowCallout">
            <a:avLst>
              <a:gd name="adj1" fmla="val 25002"/>
              <a:gd name="adj2" fmla="val 25000"/>
              <a:gd name="adj3" fmla="val 24238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3" name=""/>
          <p:cNvGrpSpPr/>
          <p:nvPr/>
        </p:nvGrpSpPr>
        <p:grpSpPr>
          <a:xfrm>
            <a:off x="7543800" y="5181480"/>
            <a:ext cx="914400" cy="1143000"/>
            <a:chOff x="7543800" y="5181480"/>
            <a:chExt cx="914400" cy="1143000"/>
          </a:xfrm>
        </p:grpSpPr>
        <p:sp>
          <p:nvSpPr>
            <p:cNvPr id="6024" name=""/>
            <p:cNvSpPr/>
            <p:nvPr/>
          </p:nvSpPr>
          <p:spPr>
            <a:xfrm>
              <a:off x="7543800" y="5181480"/>
              <a:ext cx="914400" cy="114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7544520" y="5410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it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4267080" y="5791320"/>
            <a:ext cx="175284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5105520" y="4343400"/>
            <a:ext cx="1828800" cy="925200"/>
            <a:chOff x="5105520" y="4343400"/>
            <a:chExt cx="1828800" cy="925200"/>
          </a:xfrm>
        </p:grpSpPr>
        <p:grpSp>
          <p:nvGrpSpPr>
            <p:cNvPr id="6028" name=""/>
            <p:cNvGrpSpPr/>
            <p:nvPr/>
          </p:nvGrpSpPr>
          <p:grpSpPr>
            <a:xfrm>
              <a:off x="6400800" y="4343400"/>
              <a:ext cx="533520" cy="885600"/>
              <a:chOff x="6400800" y="4343400"/>
              <a:chExt cx="533520" cy="885600"/>
            </a:xfrm>
          </p:grpSpPr>
          <p:pic>
            <p:nvPicPr>
              <p:cNvPr id="60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00800" y="43434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0" name=""/>
              <p:cNvSpPr/>
              <p:nvPr/>
            </p:nvSpPr>
            <p:spPr>
              <a:xfrm>
                <a:off x="6461280" y="44622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1" name=""/>
            <p:cNvSpPr/>
            <p:nvPr/>
          </p:nvSpPr>
          <p:spPr>
            <a:xfrm>
              <a:off x="5105520" y="4648320"/>
              <a:ext cx="17524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privá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2" name=""/>
          <p:cNvGrpSpPr/>
          <p:nvPr/>
        </p:nvGrpSpPr>
        <p:grpSpPr>
          <a:xfrm>
            <a:off x="240120" y="4419720"/>
            <a:ext cx="2228040" cy="772560"/>
            <a:chOff x="240120" y="4419720"/>
            <a:chExt cx="2228040" cy="772560"/>
          </a:xfrm>
        </p:grpSpPr>
        <p:grpSp>
          <p:nvGrpSpPr>
            <p:cNvPr id="6033" name=""/>
            <p:cNvGrpSpPr/>
            <p:nvPr/>
          </p:nvGrpSpPr>
          <p:grpSpPr>
            <a:xfrm>
              <a:off x="1981080" y="4419720"/>
              <a:ext cx="487080" cy="761400"/>
              <a:chOff x="1981080" y="4419720"/>
              <a:chExt cx="487080" cy="761400"/>
            </a:xfrm>
          </p:grpSpPr>
          <p:sp>
            <p:nvSpPr>
              <p:cNvPr id="6034" name=""/>
              <p:cNvSpPr/>
              <p:nvPr/>
            </p:nvSpPr>
            <p:spPr>
              <a:xfrm>
                <a:off x="1981080" y="4419720"/>
                <a:ext cx="475560" cy="75636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1992600" y="4423320"/>
                <a:ext cx="475560" cy="75780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6" name=""/>
              <p:cNvGrpSpPr/>
              <p:nvPr/>
            </p:nvGrpSpPr>
            <p:grpSpPr>
              <a:xfrm>
                <a:off x="2059560" y="4545000"/>
                <a:ext cx="362160" cy="86760"/>
                <a:chOff x="2059560" y="4545000"/>
                <a:chExt cx="362160" cy="86760"/>
              </a:xfrm>
            </p:grpSpPr>
            <p:sp>
              <p:nvSpPr>
                <p:cNvPr id="6037" name=""/>
                <p:cNvSpPr/>
                <p:nvPr/>
              </p:nvSpPr>
              <p:spPr>
                <a:xfrm>
                  <a:off x="205956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>
                  <a:off x="2086200" y="4545000"/>
                  <a:ext cx="335520" cy="8676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9" name=""/>
              <p:cNvSpPr/>
              <p:nvPr/>
            </p:nvSpPr>
            <p:spPr>
              <a:xfrm>
                <a:off x="2030400" y="4531680"/>
                <a:ext cx="40356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2070360" y="4514760"/>
                <a:ext cx="31536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1" name=""/>
              <p:cNvGrpSpPr/>
              <p:nvPr/>
            </p:nvGrpSpPr>
            <p:grpSpPr>
              <a:xfrm>
                <a:off x="2030400" y="4644000"/>
                <a:ext cx="405720" cy="535320"/>
                <a:chOff x="2030400" y="4644000"/>
                <a:chExt cx="405720" cy="535320"/>
              </a:xfrm>
            </p:grpSpPr>
            <p:sp>
              <p:nvSpPr>
                <p:cNvPr id="6042" name=""/>
                <p:cNvSpPr/>
                <p:nvPr/>
              </p:nvSpPr>
              <p:spPr>
                <a:xfrm>
                  <a:off x="2214360" y="474804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>
                  <a:off x="2272320" y="4758840"/>
                  <a:ext cx="9720" cy="40356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44" name=""/>
                <p:cNvGrpSpPr/>
                <p:nvPr/>
              </p:nvGrpSpPr>
              <p:grpSpPr>
                <a:xfrm>
                  <a:off x="2030400" y="4644000"/>
                  <a:ext cx="405720" cy="535320"/>
                  <a:chOff x="2030400" y="4644000"/>
                  <a:chExt cx="405720" cy="535320"/>
                </a:xfrm>
              </p:grpSpPr>
              <p:sp>
                <p:nvSpPr>
                  <p:cNvPr id="6045" name=""/>
                  <p:cNvSpPr/>
                  <p:nvPr/>
                </p:nvSpPr>
                <p:spPr>
                  <a:xfrm>
                    <a:off x="2030400" y="4644000"/>
                    <a:ext cx="4057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>
                    <a:off x="2112840" y="469260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7" name=""/>
                  <p:cNvSpPr/>
                  <p:nvPr/>
                </p:nvSpPr>
                <p:spPr>
                  <a:xfrm>
                    <a:off x="2249640" y="4759920"/>
                    <a:ext cx="30960" cy="41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8" name=""/>
                  <p:cNvSpPr/>
                  <p:nvPr/>
                </p:nvSpPr>
                <p:spPr>
                  <a:xfrm>
                    <a:off x="2130480" y="474408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9" name=""/>
                  <p:cNvSpPr/>
                  <p:nvPr/>
                </p:nvSpPr>
                <p:spPr>
                  <a:xfrm>
                    <a:off x="2076480" y="4663440"/>
                    <a:ext cx="319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050" name=""/>
            <p:cNvSpPr/>
            <p:nvPr/>
          </p:nvSpPr>
          <p:spPr>
            <a:xfrm>
              <a:off x="240120" y="4572000"/>
              <a:ext cx="1768680" cy="6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2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3200" spc="-1" strike="noStrike" baseline="-18000">
                  <a:solidFill>
                    <a:srgbClr val="ffffff"/>
                  </a:solidFill>
                  <a:latin typeface="Arial"/>
                </a:rPr>
                <a:t>a-nyilváno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6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1" name="PlaceHolder 1"/>
          <p:cNvSpPr>
            <a:spLocks noGrp="1"/>
          </p:cNvSpPr>
          <p:nvPr>
            <p:ph type="title"/>
          </p:nvPr>
        </p:nvSpPr>
        <p:spPr>
          <a:xfrm>
            <a:off x="272880" y="71280"/>
            <a:ext cx="8686800" cy="12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Digitális aláírás</a:t>
            </a:r>
            <a:br>
              <a:rPr sz="48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52" name="" descr=""/>
          <p:cNvPicPr/>
          <p:nvPr/>
        </p:nvPicPr>
        <p:blipFill>
          <a:blip r:embed="rId1"/>
          <a:stretch/>
        </p:blipFill>
        <p:spPr>
          <a:xfrm>
            <a:off x="304920" y="1346040"/>
            <a:ext cx="1676160" cy="1386000"/>
          </a:xfrm>
          <a:prstGeom prst="rect">
            <a:avLst/>
          </a:prstGeom>
          <a:ln w="0">
            <a:noFill/>
          </a:ln>
        </p:spPr>
      </p:pic>
      <p:pic>
        <p:nvPicPr>
          <p:cNvPr id="6053" name="" descr=""/>
          <p:cNvPicPr/>
          <p:nvPr/>
        </p:nvPicPr>
        <p:blipFill>
          <a:blip r:embed="rId2"/>
          <a:stretch/>
        </p:blipFill>
        <p:spPr>
          <a:xfrm>
            <a:off x="7315200" y="1498680"/>
            <a:ext cx="1508040" cy="1245960"/>
          </a:xfrm>
          <a:prstGeom prst="rect">
            <a:avLst/>
          </a:prstGeom>
          <a:ln w="0">
            <a:noFill/>
          </a:ln>
        </p:spPr>
      </p:pic>
      <p:sp>
        <p:nvSpPr>
          <p:cNvPr id="6054" name=""/>
          <p:cNvSpPr/>
          <p:nvPr/>
        </p:nvSpPr>
        <p:spPr>
          <a:xfrm>
            <a:off x="6324480" y="13460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5" name=""/>
          <p:cNvSpPr/>
          <p:nvPr/>
        </p:nvSpPr>
        <p:spPr>
          <a:xfrm>
            <a:off x="1906920" y="13460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6" name=""/>
          <p:cNvGrpSpPr/>
          <p:nvPr/>
        </p:nvGrpSpPr>
        <p:grpSpPr>
          <a:xfrm>
            <a:off x="458280" y="3124080"/>
            <a:ext cx="1028160" cy="914400"/>
            <a:chOff x="458280" y="3124080"/>
            <a:chExt cx="1028160" cy="914400"/>
          </a:xfrm>
        </p:grpSpPr>
        <p:sp>
          <p:nvSpPr>
            <p:cNvPr id="6057" name=""/>
            <p:cNvSpPr/>
            <p:nvPr/>
          </p:nvSpPr>
          <p:spPr>
            <a:xfrm>
              <a:off x="533520" y="312408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458280" y="33069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Előlép-</a:t>
              </a:r>
              <a:br>
                <a:rPr sz="2000"/>
              </a:br>
              <a:r>
                <a:rPr b="1" lang="hu-HU" sz="2000" spc="-1" strike="noStrike">
                  <a:solidFill>
                    <a:srgbClr val="003366"/>
                  </a:solidFill>
                  <a:latin typeface="Arial"/>
                </a:rPr>
                <a:t>teté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9" name=""/>
          <p:cNvGrpSpPr/>
          <p:nvPr/>
        </p:nvGrpSpPr>
        <p:grpSpPr>
          <a:xfrm>
            <a:off x="1905120" y="4317840"/>
            <a:ext cx="1672200" cy="2311560"/>
            <a:chOff x="1905120" y="4317840"/>
            <a:chExt cx="1672200" cy="2311560"/>
          </a:xfrm>
        </p:grpSpPr>
        <p:sp>
          <p:nvSpPr>
            <p:cNvPr id="6060" name=""/>
            <p:cNvSpPr/>
            <p:nvPr/>
          </p:nvSpPr>
          <p:spPr>
            <a:xfrm>
              <a:off x="1905120" y="5791320"/>
              <a:ext cx="1218960" cy="838080"/>
            </a:xfrm>
            <a:prstGeom prst="rightArrowCallout">
              <a:avLst>
                <a:gd name="adj1" fmla="val 25002"/>
                <a:gd name="adj2" fmla="val 25000"/>
                <a:gd name="adj3" fmla="val 24241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526120" y="4317840"/>
              <a:ext cx="1051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privá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2" name=""/>
            <p:cNvGrpSpPr/>
            <p:nvPr/>
          </p:nvGrpSpPr>
          <p:grpSpPr>
            <a:xfrm>
              <a:off x="2133720" y="4738680"/>
              <a:ext cx="486720" cy="761760"/>
              <a:chOff x="2133720" y="4738680"/>
              <a:chExt cx="486720" cy="761760"/>
            </a:xfrm>
          </p:grpSpPr>
          <p:sp>
            <p:nvSpPr>
              <p:cNvPr id="6063" name=""/>
              <p:cNvSpPr/>
              <p:nvPr/>
            </p:nvSpPr>
            <p:spPr>
              <a:xfrm>
                <a:off x="2133720" y="4738680"/>
                <a:ext cx="475200" cy="756720"/>
              </a:xfrm>
              <a:custGeom>
                <a:avLst/>
                <a:gdLst/>
                <a:ahLst/>
                <a:rect l="l" t="t" r="r" b="b"/>
                <a:pathLst>
                  <a:path w="882" h="1720">
                    <a:moveTo>
                      <a:pt x="317" y="0"/>
                    </a:moveTo>
                    <a:lnTo>
                      <a:pt x="583" y="0"/>
                    </a:lnTo>
                    <a:lnTo>
                      <a:pt x="533" y="66"/>
                    </a:lnTo>
                    <a:lnTo>
                      <a:pt x="377" y="66"/>
                    </a:lnTo>
                    <a:lnTo>
                      <a:pt x="319" y="171"/>
                    </a:lnTo>
                    <a:lnTo>
                      <a:pt x="586" y="171"/>
                    </a:lnTo>
                    <a:lnTo>
                      <a:pt x="532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5" y="221"/>
                    </a:lnTo>
                    <a:lnTo>
                      <a:pt x="824" y="221"/>
                    </a:lnTo>
                    <a:lnTo>
                      <a:pt x="825" y="260"/>
                    </a:lnTo>
                    <a:lnTo>
                      <a:pt x="855" y="261"/>
                    </a:lnTo>
                    <a:lnTo>
                      <a:pt x="882" y="261"/>
                    </a:lnTo>
                    <a:lnTo>
                      <a:pt x="882" y="501"/>
                    </a:lnTo>
                    <a:lnTo>
                      <a:pt x="824" y="502"/>
                    </a:lnTo>
                    <a:lnTo>
                      <a:pt x="823" y="553"/>
                    </a:lnTo>
                    <a:lnTo>
                      <a:pt x="748" y="553"/>
                    </a:lnTo>
                    <a:lnTo>
                      <a:pt x="726" y="613"/>
                    </a:lnTo>
                    <a:lnTo>
                      <a:pt x="685" y="614"/>
                    </a:lnTo>
                    <a:lnTo>
                      <a:pt x="682" y="735"/>
                    </a:lnTo>
                    <a:lnTo>
                      <a:pt x="654" y="735"/>
                    </a:lnTo>
                    <a:lnTo>
                      <a:pt x="645" y="754"/>
                    </a:lnTo>
                    <a:lnTo>
                      <a:pt x="645" y="876"/>
                    </a:lnTo>
                    <a:lnTo>
                      <a:pt x="595" y="877"/>
                    </a:lnTo>
                    <a:lnTo>
                      <a:pt x="598" y="1609"/>
                    </a:lnTo>
                    <a:lnTo>
                      <a:pt x="481" y="1720"/>
                    </a:lnTo>
                    <a:lnTo>
                      <a:pt x="331" y="1593"/>
                    </a:lnTo>
                    <a:lnTo>
                      <a:pt x="385" y="1557"/>
                    </a:lnTo>
                    <a:lnTo>
                      <a:pt x="385" y="1514"/>
                    </a:lnTo>
                    <a:lnTo>
                      <a:pt x="331" y="1476"/>
                    </a:lnTo>
                    <a:lnTo>
                      <a:pt x="385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2" y="1305"/>
                    </a:lnTo>
                    <a:lnTo>
                      <a:pt x="316" y="1296"/>
                    </a:lnTo>
                    <a:lnTo>
                      <a:pt x="386" y="1241"/>
                    </a:lnTo>
                    <a:lnTo>
                      <a:pt x="386" y="1194"/>
                    </a:lnTo>
                    <a:lnTo>
                      <a:pt x="330" y="1138"/>
                    </a:lnTo>
                    <a:lnTo>
                      <a:pt x="385" y="1088"/>
                    </a:lnTo>
                    <a:lnTo>
                      <a:pt x="385" y="1039"/>
                    </a:lnTo>
                    <a:lnTo>
                      <a:pt x="331" y="975"/>
                    </a:lnTo>
                    <a:lnTo>
                      <a:pt x="321" y="871"/>
                    </a:lnTo>
                    <a:lnTo>
                      <a:pt x="256" y="871"/>
                    </a:lnTo>
                    <a:lnTo>
                      <a:pt x="256" y="730"/>
                    </a:lnTo>
                    <a:lnTo>
                      <a:pt x="217" y="730"/>
                    </a:lnTo>
                    <a:lnTo>
                      <a:pt x="217" y="608"/>
                    </a:lnTo>
                    <a:lnTo>
                      <a:pt x="174" y="608"/>
                    </a:lnTo>
                    <a:lnTo>
                      <a:pt x="154" y="549"/>
                    </a:lnTo>
                    <a:lnTo>
                      <a:pt x="67" y="549"/>
                    </a:lnTo>
                    <a:lnTo>
                      <a:pt x="67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6" y="255"/>
                    </a:lnTo>
                    <a:lnTo>
                      <a:pt x="66" y="220"/>
                    </a:lnTo>
                    <a:lnTo>
                      <a:pt x="140" y="220"/>
                    </a:lnTo>
                    <a:lnTo>
                      <a:pt x="157" y="204"/>
                    </a:lnTo>
                    <a:lnTo>
                      <a:pt x="175" y="165"/>
                    </a:lnTo>
                    <a:lnTo>
                      <a:pt x="217" y="165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2145240" y="4742280"/>
                <a:ext cx="475200" cy="758160"/>
              </a:xfrm>
              <a:custGeom>
                <a:avLst/>
                <a:gdLst/>
                <a:ahLst/>
                <a:rect l="l" t="t" r="r" b="b"/>
                <a:pathLst>
                  <a:path w="883" h="1721">
                    <a:moveTo>
                      <a:pt x="316" y="0"/>
                    </a:moveTo>
                    <a:lnTo>
                      <a:pt x="583" y="0"/>
                    </a:lnTo>
                    <a:lnTo>
                      <a:pt x="532" y="66"/>
                    </a:lnTo>
                    <a:lnTo>
                      <a:pt x="377" y="66"/>
                    </a:lnTo>
                    <a:lnTo>
                      <a:pt x="318" y="171"/>
                    </a:lnTo>
                    <a:lnTo>
                      <a:pt x="586" y="171"/>
                    </a:lnTo>
                    <a:lnTo>
                      <a:pt x="531" y="67"/>
                    </a:lnTo>
                    <a:lnTo>
                      <a:pt x="583" y="1"/>
                    </a:lnTo>
                    <a:lnTo>
                      <a:pt x="677" y="164"/>
                    </a:lnTo>
                    <a:lnTo>
                      <a:pt x="727" y="165"/>
                    </a:lnTo>
                    <a:lnTo>
                      <a:pt x="744" y="221"/>
                    </a:lnTo>
                    <a:lnTo>
                      <a:pt x="823" y="221"/>
                    </a:lnTo>
                    <a:lnTo>
                      <a:pt x="824" y="260"/>
                    </a:lnTo>
                    <a:lnTo>
                      <a:pt x="854" y="261"/>
                    </a:lnTo>
                    <a:lnTo>
                      <a:pt x="883" y="261"/>
                    </a:lnTo>
                    <a:lnTo>
                      <a:pt x="883" y="502"/>
                    </a:lnTo>
                    <a:lnTo>
                      <a:pt x="823" y="503"/>
                    </a:lnTo>
                    <a:lnTo>
                      <a:pt x="822" y="553"/>
                    </a:lnTo>
                    <a:lnTo>
                      <a:pt x="747" y="553"/>
                    </a:lnTo>
                    <a:lnTo>
                      <a:pt x="726" y="613"/>
                    </a:lnTo>
                    <a:lnTo>
                      <a:pt x="684" y="614"/>
                    </a:lnTo>
                    <a:lnTo>
                      <a:pt x="681" y="736"/>
                    </a:lnTo>
                    <a:lnTo>
                      <a:pt x="654" y="736"/>
                    </a:lnTo>
                    <a:lnTo>
                      <a:pt x="646" y="746"/>
                    </a:lnTo>
                    <a:lnTo>
                      <a:pt x="646" y="877"/>
                    </a:lnTo>
                    <a:lnTo>
                      <a:pt x="595" y="877"/>
                    </a:lnTo>
                    <a:lnTo>
                      <a:pt x="598" y="1610"/>
                    </a:lnTo>
                    <a:lnTo>
                      <a:pt x="481" y="1721"/>
                    </a:lnTo>
                    <a:lnTo>
                      <a:pt x="331" y="1593"/>
                    </a:lnTo>
                    <a:lnTo>
                      <a:pt x="384" y="1557"/>
                    </a:lnTo>
                    <a:lnTo>
                      <a:pt x="384" y="1515"/>
                    </a:lnTo>
                    <a:lnTo>
                      <a:pt x="331" y="1476"/>
                    </a:lnTo>
                    <a:lnTo>
                      <a:pt x="384" y="1443"/>
                    </a:lnTo>
                    <a:lnTo>
                      <a:pt x="376" y="1430"/>
                    </a:lnTo>
                    <a:lnTo>
                      <a:pt x="330" y="1400"/>
                    </a:lnTo>
                    <a:lnTo>
                      <a:pt x="321" y="1305"/>
                    </a:lnTo>
                    <a:lnTo>
                      <a:pt x="315" y="1297"/>
                    </a:lnTo>
                    <a:lnTo>
                      <a:pt x="385" y="1241"/>
                    </a:lnTo>
                    <a:lnTo>
                      <a:pt x="385" y="1194"/>
                    </a:lnTo>
                    <a:lnTo>
                      <a:pt x="330" y="1138"/>
                    </a:lnTo>
                    <a:lnTo>
                      <a:pt x="384" y="1089"/>
                    </a:lnTo>
                    <a:lnTo>
                      <a:pt x="384" y="1039"/>
                    </a:lnTo>
                    <a:lnTo>
                      <a:pt x="331" y="975"/>
                    </a:lnTo>
                    <a:lnTo>
                      <a:pt x="320" y="871"/>
                    </a:lnTo>
                    <a:lnTo>
                      <a:pt x="256" y="871"/>
                    </a:lnTo>
                    <a:lnTo>
                      <a:pt x="256" y="731"/>
                    </a:lnTo>
                    <a:lnTo>
                      <a:pt x="218" y="731"/>
                    </a:lnTo>
                    <a:lnTo>
                      <a:pt x="218" y="608"/>
                    </a:lnTo>
                    <a:lnTo>
                      <a:pt x="173" y="608"/>
                    </a:lnTo>
                    <a:lnTo>
                      <a:pt x="154" y="549"/>
                    </a:lnTo>
                    <a:lnTo>
                      <a:pt x="66" y="549"/>
                    </a:lnTo>
                    <a:lnTo>
                      <a:pt x="66" y="497"/>
                    </a:lnTo>
                    <a:lnTo>
                      <a:pt x="0" y="497"/>
                    </a:lnTo>
                    <a:lnTo>
                      <a:pt x="0" y="255"/>
                    </a:lnTo>
                    <a:lnTo>
                      <a:pt x="65" y="255"/>
                    </a:lnTo>
                    <a:lnTo>
                      <a:pt x="65" y="220"/>
                    </a:lnTo>
                    <a:lnTo>
                      <a:pt x="139" y="220"/>
                    </a:lnTo>
                    <a:lnTo>
                      <a:pt x="157" y="204"/>
                    </a:lnTo>
                    <a:lnTo>
                      <a:pt x="174" y="165"/>
                    </a:lnTo>
                    <a:lnTo>
                      <a:pt x="218" y="165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2212200" y="4863960"/>
                <a:ext cx="362160" cy="87120"/>
                <a:chOff x="2212200" y="4863960"/>
                <a:chExt cx="362160" cy="8712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221220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4" h="197">
                      <a:moveTo>
                        <a:pt x="0" y="102"/>
                      </a:moveTo>
                      <a:lnTo>
                        <a:pt x="54" y="0"/>
                      </a:lnTo>
                      <a:lnTo>
                        <a:pt x="624" y="0"/>
                      </a:lnTo>
                      <a:lnTo>
                        <a:pt x="619" y="7"/>
                      </a:lnTo>
                      <a:lnTo>
                        <a:pt x="61" y="7"/>
                      </a:lnTo>
                      <a:lnTo>
                        <a:pt x="10" y="102"/>
                      </a:lnTo>
                      <a:lnTo>
                        <a:pt x="60" y="191"/>
                      </a:lnTo>
                      <a:lnTo>
                        <a:pt x="50" y="197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2238840" y="4863960"/>
                  <a:ext cx="335520" cy="87120"/>
                </a:xfrm>
                <a:custGeom>
                  <a:avLst/>
                  <a:gdLst/>
                  <a:ahLst/>
                  <a:rect l="l" t="t" r="r" b="b"/>
                  <a:pathLst>
                    <a:path w="625" h="197">
                      <a:moveTo>
                        <a:pt x="625" y="94"/>
                      </a:moveTo>
                      <a:lnTo>
                        <a:pt x="570" y="197"/>
                      </a:lnTo>
                      <a:lnTo>
                        <a:pt x="0" y="197"/>
                      </a:lnTo>
                      <a:lnTo>
                        <a:pt x="5" y="189"/>
                      </a:lnTo>
                      <a:lnTo>
                        <a:pt x="564" y="189"/>
                      </a:lnTo>
                      <a:lnTo>
                        <a:pt x="614" y="94"/>
                      </a:lnTo>
                      <a:lnTo>
                        <a:pt x="565" y="6"/>
                      </a:lnTo>
                      <a:lnTo>
                        <a:pt x="574" y="0"/>
                      </a:lnTo>
                      <a:lnTo>
                        <a:pt x="625" y="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8" name=""/>
              <p:cNvSpPr/>
              <p:nvPr/>
            </p:nvSpPr>
            <p:spPr>
              <a:xfrm>
                <a:off x="2183040" y="4850640"/>
                <a:ext cx="403200" cy="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2223000" y="4833720"/>
                <a:ext cx="315000" cy="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70" name=""/>
              <p:cNvGrpSpPr/>
              <p:nvPr/>
            </p:nvGrpSpPr>
            <p:grpSpPr>
              <a:xfrm>
                <a:off x="2183040" y="4962960"/>
                <a:ext cx="405360" cy="535680"/>
                <a:chOff x="2183040" y="4962960"/>
                <a:chExt cx="405360" cy="535680"/>
              </a:xfrm>
            </p:grpSpPr>
            <p:sp>
              <p:nvSpPr>
                <p:cNvPr id="6071" name=""/>
                <p:cNvSpPr/>
                <p:nvPr/>
              </p:nvSpPr>
              <p:spPr>
                <a:xfrm>
                  <a:off x="2366640" y="5067000"/>
                  <a:ext cx="10440" cy="413280"/>
                </a:xfrm>
                <a:custGeom>
                  <a:avLst/>
                  <a:gdLst/>
                  <a:ahLst/>
                  <a:rect l="l" t="t" r="r" b="b"/>
                  <a:pathLst>
                    <a:path w="19" h="940">
                      <a:moveTo>
                        <a:pt x="19" y="0"/>
                      </a:moveTo>
                      <a:lnTo>
                        <a:pt x="18" y="940"/>
                      </a:lnTo>
                      <a:lnTo>
                        <a:pt x="2" y="925"/>
                      </a:lnTo>
                      <a:lnTo>
                        <a:pt x="0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>
                  <a:off x="2424960" y="5077800"/>
                  <a:ext cx="9720" cy="403920"/>
                </a:xfrm>
                <a:custGeom>
                  <a:avLst/>
                  <a:gdLst/>
                  <a:ahLst/>
                  <a:rect l="l" t="t" r="r" b="b"/>
                  <a:pathLst>
                    <a:path w="17" h="917">
                      <a:moveTo>
                        <a:pt x="14" y="0"/>
                      </a:moveTo>
                      <a:lnTo>
                        <a:pt x="17" y="901"/>
                      </a:lnTo>
                      <a:lnTo>
                        <a:pt x="2" y="917"/>
                      </a:lnTo>
                      <a:lnTo>
                        <a:pt x="0" y="7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73" name=""/>
                <p:cNvGrpSpPr/>
                <p:nvPr/>
              </p:nvGrpSpPr>
              <p:grpSpPr>
                <a:xfrm>
                  <a:off x="2183040" y="4962960"/>
                  <a:ext cx="405360" cy="535680"/>
                  <a:chOff x="2183040" y="4962960"/>
                  <a:chExt cx="405360" cy="53568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2183040" y="4962960"/>
                    <a:ext cx="40536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2265480" y="5011560"/>
                    <a:ext cx="247320" cy="900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2402280" y="5078880"/>
                    <a:ext cx="30960" cy="4197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54">
                        <a:moveTo>
                          <a:pt x="57" y="0"/>
                        </a:moveTo>
                        <a:lnTo>
                          <a:pt x="44" y="62"/>
                        </a:lnTo>
                        <a:lnTo>
                          <a:pt x="21" y="115"/>
                        </a:lnTo>
                        <a:lnTo>
                          <a:pt x="21" y="936"/>
                        </a:lnTo>
                        <a:lnTo>
                          <a:pt x="4" y="954"/>
                        </a:lnTo>
                        <a:lnTo>
                          <a:pt x="0" y="10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2282760" y="5063040"/>
                    <a:ext cx="216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2" h="143">
                        <a:moveTo>
                          <a:pt x="67" y="143"/>
                        </a:moveTo>
                        <a:lnTo>
                          <a:pt x="41" y="111"/>
                        </a:lnTo>
                        <a:lnTo>
                          <a:pt x="41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402" y="0"/>
                        </a:lnTo>
                        <a:lnTo>
                          <a:pt x="391" y="16"/>
                        </a:lnTo>
                        <a:lnTo>
                          <a:pt x="174" y="16"/>
                        </a:lnTo>
                        <a:lnTo>
                          <a:pt x="156" y="43"/>
                        </a:lnTo>
                        <a:lnTo>
                          <a:pt x="76" y="43"/>
                        </a:lnTo>
                        <a:lnTo>
                          <a:pt x="67" y="14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2229120" y="4982400"/>
                    <a:ext cx="319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20">
                        <a:moveTo>
                          <a:pt x="0" y="1"/>
                        </a:moveTo>
                        <a:lnTo>
                          <a:pt x="594" y="0"/>
                        </a:lnTo>
                        <a:lnTo>
                          <a:pt x="588" y="19"/>
                        </a:lnTo>
                        <a:lnTo>
                          <a:pt x="5" y="2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079" name=""/>
          <p:cNvGrpSpPr/>
          <p:nvPr/>
        </p:nvGrpSpPr>
        <p:grpSpPr>
          <a:xfrm>
            <a:off x="5172120" y="4254480"/>
            <a:ext cx="2219400" cy="2298600"/>
            <a:chOff x="5172120" y="4254480"/>
            <a:chExt cx="2219400" cy="2298600"/>
          </a:xfrm>
        </p:grpSpPr>
        <p:sp>
          <p:nvSpPr>
            <p:cNvPr id="6080" name=""/>
            <p:cNvSpPr/>
            <p:nvPr/>
          </p:nvSpPr>
          <p:spPr>
            <a:xfrm>
              <a:off x="6172200" y="5715000"/>
              <a:ext cx="1219320" cy="838080"/>
            </a:xfrm>
            <a:prstGeom prst="rightArrowCallout">
              <a:avLst>
                <a:gd name="adj1" fmla="val 25002"/>
                <a:gd name="adj2" fmla="val 25000"/>
                <a:gd name="adj3" fmla="val 24248"/>
                <a:gd name="adj4" fmla="val 66667"/>
              </a:avLst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1" name=""/>
            <p:cNvGrpSpPr/>
            <p:nvPr/>
          </p:nvGrpSpPr>
          <p:grpSpPr>
            <a:xfrm>
              <a:off x="6348240" y="4572000"/>
              <a:ext cx="533520" cy="885600"/>
              <a:chOff x="6348240" y="4572000"/>
              <a:chExt cx="533520" cy="885600"/>
            </a:xfrm>
          </p:grpSpPr>
          <p:pic>
            <p:nvPicPr>
              <p:cNvPr id="60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48240" y="4572000"/>
                <a:ext cx="53352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3" name=""/>
              <p:cNvSpPr/>
              <p:nvPr/>
            </p:nvSpPr>
            <p:spPr>
              <a:xfrm>
                <a:off x="6408720" y="4690800"/>
                <a:ext cx="450000" cy="23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4" name=""/>
            <p:cNvSpPr/>
            <p:nvPr/>
          </p:nvSpPr>
          <p:spPr>
            <a:xfrm>
              <a:off x="5172120" y="4254480"/>
              <a:ext cx="17524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hu-HU" sz="2400" spc="-1" strike="noStrike" baseline="-18000">
                  <a:solidFill>
                    <a:srgbClr val="ffffff"/>
                  </a:solidFill>
                  <a:latin typeface="Arial"/>
                </a:rPr>
                <a:t>b-nyilván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5" name=""/>
          <p:cNvSpPr/>
          <p:nvPr/>
        </p:nvSpPr>
        <p:spPr>
          <a:xfrm rot="5400000">
            <a:off x="304200" y="4647960"/>
            <a:ext cx="990720" cy="838440"/>
          </a:xfrm>
          <a:prstGeom prst="right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6" name=""/>
          <p:cNvSpPr/>
          <p:nvPr/>
        </p:nvSpPr>
        <p:spPr>
          <a:xfrm>
            <a:off x="228600" y="572688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7" name=""/>
          <p:cNvGrpSpPr/>
          <p:nvPr/>
        </p:nvGrpSpPr>
        <p:grpSpPr>
          <a:xfrm>
            <a:off x="3505320" y="5610600"/>
            <a:ext cx="2514600" cy="1122840"/>
            <a:chOff x="3505320" y="5610600"/>
            <a:chExt cx="2514600" cy="1122840"/>
          </a:xfrm>
        </p:grpSpPr>
        <p:sp>
          <p:nvSpPr>
            <p:cNvPr id="6088" name=""/>
            <p:cNvSpPr/>
            <p:nvPr/>
          </p:nvSpPr>
          <p:spPr>
            <a:xfrm>
              <a:off x="4800600" y="6172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505320" y="5610600"/>
              <a:ext cx="1234800" cy="1122840"/>
            </a:xfrm>
            <a:custGeom>
              <a:avLst/>
              <a:gdLst>
                <a:gd name="textAreaLeft" fmla="*/ 281880 w 1234800"/>
                <a:gd name="textAreaRight" fmla="*/ 952920 w 1234800"/>
                <a:gd name="textAreaTop" fmla="*/ 256320 h 1122840"/>
                <a:gd name="textAreaBottom" fmla="*/ 866520 h 11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DcF</a:t>
              </a:r>
              <a:br>
                <a:rPr sz="2000"/>
              </a:b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dsa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0" name=""/>
          <p:cNvGrpSpPr/>
          <p:nvPr/>
        </p:nvGrpSpPr>
        <p:grpSpPr>
          <a:xfrm>
            <a:off x="1676520" y="2984400"/>
            <a:ext cx="7048800" cy="914400"/>
            <a:chOff x="1676520" y="2984400"/>
            <a:chExt cx="7048800" cy="914400"/>
          </a:xfrm>
        </p:grpSpPr>
        <p:sp>
          <p:nvSpPr>
            <p:cNvPr id="6091" name=""/>
            <p:cNvSpPr/>
            <p:nvPr/>
          </p:nvSpPr>
          <p:spPr>
            <a:xfrm>
              <a:off x="1676520" y="351792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2" name=""/>
            <p:cNvGrpSpPr/>
            <p:nvPr/>
          </p:nvGrpSpPr>
          <p:grpSpPr>
            <a:xfrm>
              <a:off x="7697160" y="2984400"/>
              <a:ext cx="1028160" cy="914400"/>
              <a:chOff x="7697160" y="2984400"/>
              <a:chExt cx="1028160" cy="914400"/>
            </a:xfrm>
          </p:grpSpPr>
          <p:sp>
            <p:nvSpPr>
              <p:cNvPr id="6093" name=""/>
              <p:cNvSpPr/>
              <p:nvPr/>
            </p:nvSpPr>
            <p:spPr>
              <a:xfrm>
                <a:off x="7772400" y="298440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07932" dir="189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7697160" y="3167280"/>
                <a:ext cx="1028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Előlép-</a:t>
                </a:r>
                <a:br>
                  <a:rPr sz="2000"/>
                </a:br>
                <a:r>
                  <a:rPr b="1" lang="hu-HU" sz="2000" spc="-1" strike="noStrike">
                    <a:solidFill>
                      <a:srgbClr val="003366"/>
                    </a:solidFill>
                    <a:latin typeface="Arial"/>
                  </a:rPr>
                  <a:t>teté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5" name=""/>
          <p:cNvSpPr/>
          <p:nvPr/>
        </p:nvSpPr>
        <p:spPr>
          <a:xfrm>
            <a:off x="7696080" y="5495400"/>
            <a:ext cx="1235160" cy="1122120"/>
          </a:xfrm>
          <a:custGeom>
            <a:avLst/>
            <a:gdLst>
              <a:gd name="textAreaLeft" fmla="*/ 281880 w 1235160"/>
              <a:gd name="textAreaRight" fmla="*/ 953280 w 1235160"/>
              <a:gd name="textAreaTop" fmla="*/ 255960 h 1122120"/>
              <a:gd name="textAreaBottom" fmla="*/ 866160 h 112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 érté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"/>
          <p:cNvSpPr/>
          <p:nvPr/>
        </p:nvSpPr>
        <p:spPr>
          <a:xfrm>
            <a:off x="8336520" y="4896000"/>
            <a:ext cx="8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Arial"/>
              </a:rPr>
              <a:t>=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"/>
          <p:cNvSpPr/>
          <p:nvPr/>
        </p:nvSpPr>
        <p:spPr>
          <a:xfrm rot="5400000">
            <a:off x="7731000" y="4246560"/>
            <a:ext cx="990720" cy="838080"/>
          </a:xfrm>
          <a:prstGeom prst="rightArrowCallout">
            <a:avLst>
              <a:gd name="adj1" fmla="val 25002"/>
              <a:gd name="adj2" fmla="val 25000"/>
              <a:gd name="adj3" fmla="val 19702"/>
              <a:gd name="adj4" fmla="val 6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izonyítvány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ertificate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415360" cy="18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természetes személy azonosságát és tulajdonságait egy </a:t>
            </a: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yilvános kulcshoz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ö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tific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hority (CA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ja al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ondoljunk az útlevél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0" name=""/>
          <p:cNvSpPr/>
          <p:nvPr/>
        </p:nvSpPr>
        <p:spPr>
          <a:xfrm>
            <a:off x="5900760" y="3127320"/>
            <a:ext cx="2041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nyilvános kulc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1" name=""/>
          <p:cNvSpPr/>
          <p:nvPr/>
        </p:nvSpPr>
        <p:spPr>
          <a:xfrm>
            <a:off x="1197000" y="3713040"/>
            <a:ext cx="1447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iállító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2" name=""/>
          <p:cNvGrpSpPr/>
          <p:nvPr/>
        </p:nvGrpSpPr>
        <p:grpSpPr>
          <a:xfrm>
            <a:off x="2673360" y="2909880"/>
            <a:ext cx="3376440" cy="3430440"/>
            <a:chOff x="2673360" y="2909880"/>
            <a:chExt cx="3376440" cy="3430440"/>
          </a:xfrm>
        </p:grpSpPr>
        <p:sp>
          <p:nvSpPr>
            <p:cNvPr id="6103" name=""/>
            <p:cNvSpPr/>
            <p:nvPr/>
          </p:nvSpPr>
          <p:spPr>
            <a:xfrm>
              <a:off x="2936520" y="6003720"/>
              <a:ext cx="604440" cy="336600"/>
            </a:xfrm>
            <a:custGeom>
              <a:avLst/>
              <a:gdLst/>
              <a:ahLst/>
              <a:rect l="l" t="t" r="r" b="b"/>
              <a:pathLst>
                <a:path w="381" h="212">
                  <a:moveTo>
                    <a:pt x="243" y="0"/>
                  </a:moveTo>
                  <a:lnTo>
                    <a:pt x="50" y="18"/>
                  </a:lnTo>
                  <a:lnTo>
                    <a:pt x="30" y="33"/>
                  </a:lnTo>
                  <a:lnTo>
                    <a:pt x="19" y="48"/>
                  </a:lnTo>
                  <a:lnTo>
                    <a:pt x="7" y="66"/>
                  </a:lnTo>
                  <a:lnTo>
                    <a:pt x="0" y="95"/>
                  </a:lnTo>
                  <a:lnTo>
                    <a:pt x="0" y="129"/>
                  </a:lnTo>
                  <a:lnTo>
                    <a:pt x="7" y="146"/>
                  </a:lnTo>
                  <a:lnTo>
                    <a:pt x="19" y="166"/>
                  </a:lnTo>
                  <a:lnTo>
                    <a:pt x="39" y="183"/>
                  </a:lnTo>
                  <a:lnTo>
                    <a:pt x="62" y="198"/>
                  </a:lnTo>
                  <a:lnTo>
                    <a:pt x="86" y="205"/>
                  </a:lnTo>
                  <a:lnTo>
                    <a:pt x="108" y="209"/>
                  </a:lnTo>
                  <a:lnTo>
                    <a:pt x="135" y="211"/>
                  </a:lnTo>
                  <a:lnTo>
                    <a:pt x="132" y="209"/>
                  </a:lnTo>
                  <a:lnTo>
                    <a:pt x="283" y="195"/>
                  </a:lnTo>
                  <a:lnTo>
                    <a:pt x="380" y="0"/>
                  </a:lnTo>
                  <a:lnTo>
                    <a:pt x="243" y="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73360" y="2909880"/>
              <a:ext cx="3376440" cy="3427200"/>
            </a:xfrm>
            <a:custGeom>
              <a:avLst/>
              <a:gdLst/>
              <a:ahLst/>
              <a:rect l="l" t="t" r="r" b="b"/>
              <a:pathLst>
                <a:path w="2127" h="2159">
                  <a:moveTo>
                    <a:pt x="133" y="5"/>
                  </a:moveTo>
                  <a:lnTo>
                    <a:pt x="118" y="8"/>
                  </a:lnTo>
                  <a:lnTo>
                    <a:pt x="100" y="17"/>
                  </a:lnTo>
                  <a:lnTo>
                    <a:pt x="76" y="37"/>
                  </a:lnTo>
                  <a:lnTo>
                    <a:pt x="45" y="66"/>
                  </a:lnTo>
                  <a:lnTo>
                    <a:pt x="22" y="97"/>
                  </a:lnTo>
                  <a:lnTo>
                    <a:pt x="9" y="130"/>
                  </a:lnTo>
                  <a:lnTo>
                    <a:pt x="3" y="159"/>
                  </a:lnTo>
                  <a:lnTo>
                    <a:pt x="0" y="197"/>
                  </a:lnTo>
                  <a:lnTo>
                    <a:pt x="0" y="233"/>
                  </a:lnTo>
                  <a:lnTo>
                    <a:pt x="4" y="264"/>
                  </a:lnTo>
                  <a:lnTo>
                    <a:pt x="9" y="296"/>
                  </a:lnTo>
                  <a:lnTo>
                    <a:pt x="15" y="323"/>
                  </a:lnTo>
                  <a:lnTo>
                    <a:pt x="36" y="397"/>
                  </a:lnTo>
                  <a:lnTo>
                    <a:pt x="67" y="479"/>
                  </a:lnTo>
                  <a:lnTo>
                    <a:pt x="112" y="568"/>
                  </a:lnTo>
                  <a:lnTo>
                    <a:pt x="158" y="671"/>
                  </a:lnTo>
                  <a:lnTo>
                    <a:pt x="202" y="760"/>
                  </a:lnTo>
                  <a:lnTo>
                    <a:pt x="241" y="850"/>
                  </a:lnTo>
                  <a:lnTo>
                    <a:pt x="287" y="957"/>
                  </a:lnTo>
                  <a:lnTo>
                    <a:pt x="324" y="1095"/>
                  </a:lnTo>
                  <a:lnTo>
                    <a:pt x="350" y="1214"/>
                  </a:lnTo>
                  <a:lnTo>
                    <a:pt x="377" y="1364"/>
                  </a:lnTo>
                  <a:lnTo>
                    <a:pt x="389" y="1524"/>
                  </a:lnTo>
                  <a:lnTo>
                    <a:pt x="409" y="1668"/>
                  </a:lnTo>
                  <a:lnTo>
                    <a:pt x="409" y="1746"/>
                  </a:lnTo>
                  <a:lnTo>
                    <a:pt x="409" y="1848"/>
                  </a:lnTo>
                  <a:lnTo>
                    <a:pt x="409" y="1914"/>
                  </a:lnTo>
                  <a:lnTo>
                    <a:pt x="403" y="1976"/>
                  </a:lnTo>
                  <a:lnTo>
                    <a:pt x="382" y="2039"/>
                  </a:lnTo>
                  <a:lnTo>
                    <a:pt x="369" y="2077"/>
                  </a:lnTo>
                  <a:lnTo>
                    <a:pt x="350" y="2111"/>
                  </a:lnTo>
                  <a:lnTo>
                    <a:pt x="331" y="2133"/>
                  </a:lnTo>
                  <a:lnTo>
                    <a:pt x="320" y="2146"/>
                  </a:lnTo>
                  <a:lnTo>
                    <a:pt x="306" y="2158"/>
                  </a:lnTo>
                  <a:lnTo>
                    <a:pt x="494" y="2140"/>
                  </a:lnTo>
                  <a:lnTo>
                    <a:pt x="861" y="2093"/>
                  </a:lnTo>
                  <a:lnTo>
                    <a:pt x="1163" y="2057"/>
                  </a:lnTo>
                  <a:lnTo>
                    <a:pt x="1512" y="2022"/>
                  </a:lnTo>
                  <a:lnTo>
                    <a:pt x="1771" y="2010"/>
                  </a:lnTo>
                  <a:lnTo>
                    <a:pt x="1970" y="2016"/>
                  </a:lnTo>
                  <a:lnTo>
                    <a:pt x="2022" y="2016"/>
                  </a:lnTo>
                  <a:lnTo>
                    <a:pt x="2055" y="2010"/>
                  </a:lnTo>
                  <a:lnTo>
                    <a:pt x="2074" y="1979"/>
                  </a:lnTo>
                  <a:lnTo>
                    <a:pt x="2094" y="1947"/>
                  </a:lnTo>
                  <a:lnTo>
                    <a:pt x="2109" y="1897"/>
                  </a:lnTo>
                  <a:lnTo>
                    <a:pt x="2118" y="1839"/>
                  </a:lnTo>
                  <a:lnTo>
                    <a:pt x="2126" y="1783"/>
                  </a:lnTo>
                  <a:lnTo>
                    <a:pt x="2126" y="1699"/>
                  </a:lnTo>
                  <a:lnTo>
                    <a:pt x="2122" y="1635"/>
                  </a:lnTo>
                  <a:lnTo>
                    <a:pt x="2118" y="1530"/>
                  </a:lnTo>
                  <a:lnTo>
                    <a:pt x="2099" y="1417"/>
                  </a:lnTo>
                  <a:lnTo>
                    <a:pt x="2067" y="1271"/>
                  </a:lnTo>
                  <a:lnTo>
                    <a:pt x="2028" y="1137"/>
                  </a:lnTo>
                  <a:lnTo>
                    <a:pt x="1996" y="1017"/>
                  </a:lnTo>
                  <a:lnTo>
                    <a:pt x="1945" y="886"/>
                  </a:lnTo>
                  <a:lnTo>
                    <a:pt x="1893" y="766"/>
                  </a:lnTo>
                  <a:lnTo>
                    <a:pt x="1848" y="653"/>
                  </a:lnTo>
                  <a:lnTo>
                    <a:pt x="1776" y="491"/>
                  </a:lnTo>
                  <a:lnTo>
                    <a:pt x="1739" y="396"/>
                  </a:lnTo>
                  <a:lnTo>
                    <a:pt x="1715" y="332"/>
                  </a:lnTo>
                  <a:lnTo>
                    <a:pt x="1702" y="282"/>
                  </a:lnTo>
                  <a:lnTo>
                    <a:pt x="1696" y="235"/>
                  </a:lnTo>
                  <a:lnTo>
                    <a:pt x="1696" y="194"/>
                  </a:lnTo>
                  <a:lnTo>
                    <a:pt x="1725" y="49"/>
                  </a:lnTo>
                  <a:lnTo>
                    <a:pt x="1739" y="19"/>
                  </a:lnTo>
                  <a:lnTo>
                    <a:pt x="154" y="0"/>
                  </a:lnTo>
                  <a:lnTo>
                    <a:pt x="133" y="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849400" y="3068640"/>
              <a:ext cx="279000" cy="223560"/>
            </a:xfrm>
            <a:custGeom>
              <a:avLst/>
              <a:gdLst/>
              <a:ahLst/>
              <a:rect l="l" t="t" r="r" b="b"/>
              <a:pathLst>
                <a:path w="176" h="141">
                  <a:moveTo>
                    <a:pt x="175" y="10"/>
                  </a:moveTo>
                  <a:lnTo>
                    <a:pt x="130" y="128"/>
                  </a:lnTo>
                  <a:lnTo>
                    <a:pt x="83" y="140"/>
                  </a:lnTo>
                  <a:lnTo>
                    <a:pt x="61" y="138"/>
                  </a:lnTo>
                  <a:lnTo>
                    <a:pt x="39" y="130"/>
                  </a:lnTo>
                  <a:lnTo>
                    <a:pt x="22" y="116"/>
                  </a:lnTo>
                  <a:lnTo>
                    <a:pt x="10" y="103"/>
                  </a:lnTo>
                  <a:lnTo>
                    <a:pt x="3" y="85"/>
                  </a:lnTo>
                  <a:lnTo>
                    <a:pt x="0" y="69"/>
                  </a:lnTo>
                  <a:lnTo>
                    <a:pt x="0" y="48"/>
                  </a:lnTo>
                  <a:lnTo>
                    <a:pt x="7" y="34"/>
                  </a:lnTo>
                  <a:lnTo>
                    <a:pt x="20" y="22"/>
                  </a:lnTo>
                  <a:lnTo>
                    <a:pt x="36" y="12"/>
                  </a:lnTo>
                  <a:lnTo>
                    <a:pt x="55" y="7"/>
                  </a:lnTo>
                  <a:lnTo>
                    <a:pt x="72" y="4"/>
                  </a:lnTo>
                  <a:lnTo>
                    <a:pt x="90" y="1"/>
                  </a:lnTo>
                  <a:lnTo>
                    <a:pt x="103" y="1"/>
                  </a:lnTo>
                  <a:lnTo>
                    <a:pt x="122" y="0"/>
                  </a:lnTo>
                  <a:lnTo>
                    <a:pt x="175" y="10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957400" y="3054240"/>
              <a:ext cx="19620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0" y="15"/>
                  </a:moveTo>
                  <a:lnTo>
                    <a:pt x="22" y="29"/>
                  </a:lnTo>
                  <a:lnTo>
                    <a:pt x="33" y="45"/>
                  </a:lnTo>
                  <a:lnTo>
                    <a:pt x="39" y="59"/>
                  </a:lnTo>
                  <a:lnTo>
                    <a:pt x="39" y="81"/>
                  </a:lnTo>
                  <a:lnTo>
                    <a:pt x="35" y="99"/>
                  </a:lnTo>
                  <a:lnTo>
                    <a:pt x="22" y="116"/>
                  </a:lnTo>
                  <a:lnTo>
                    <a:pt x="123" y="97"/>
                  </a:lnTo>
                  <a:lnTo>
                    <a:pt x="114" y="0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904840" y="2911320"/>
              <a:ext cx="2823840" cy="380880"/>
            </a:xfrm>
            <a:custGeom>
              <a:avLst/>
              <a:gdLst/>
              <a:ahLst/>
              <a:rect l="l" t="t" r="r" b="b"/>
              <a:pathLst>
                <a:path w="1779" h="240">
                  <a:moveTo>
                    <a:pt x="1683" y="18"/>
                  </a:moveTo>
                  <a:lnTo>
                    <a:pt x="0" y="0"/>
                  </a:lnTo>
                  <a:lnTo>
                    <a:pt x="47" y="7"/>
                  </a:lnTo>
                  <a:lnTo>
                    <a:pt x="63" y="12"/>
                  </a:lnTo>
                  <a:lnTo>
                    <a:pt x="82" y="19"/>
                  </a:lnTo>
                  <a:lnTo>
                    <a:pt x="94" y="30"/>
                  </a:lnTo>
                  <a:lnTo>
                    <a:pt x="108" y="46"/>
                  </a:lnTo>
                  <a:lnTo>
                    <a:pt x="114" y="65"/>
                  </a:lnTo>
                  <a:lnTo>
                    <a:pt x="119" y="84"/>
                  </a:lnTo>
                  <a:lnTo>
                    <a:pt x="120" y="105"/>
                  </a:lnTo>
                  <a:lnTo>
                    <a:pt x="121" y="122"/>
                  </a:lnTo>
                  <a:lnTo>
                    <a:pt x="119" y="146"/>
                  </a:lnTo>
                  <a:lnTo>
                    <a:pt x="114" y="170"/>
                  </a:lnTo>
                  <a:lnTo>
                    <a:pt x="102" y="192"/>
                  </a:lnTo>
                  <a:lnTo>
                    <a:pt x="85" y="212"/>
                  </a:lnTo>
                  <a:lnTo>
                    <a:pt x="62" y="226"/>
                  </a:lnTo>
                  <a:lnTo>
                    <a:pt x="43" y="239"/>
                  </a:lnTo>
                  <a:lnTo>
                    <a:pt x="154" y="227"/>
                  </a:lnTo>
                  <a:lnTo>
                    <a:pt x="277" y="209"/>
                  </a:lnTo>
                  <a:lnTo>
                    <a:pt x="471" y="198"/>
                  </a:lnTo>
                  <a:lnTo>
                    <a:pt x="631" y="186"/>
                  </a:lnTo>
                  <a:lnTo>
                    <a:pt x="825" y="186"/>
                  </a:lnTo>
                  <a:lnTo>
                    <a:pt x="1038" y="192"/>
                  </a:lnTo>
                  <a:lnTo>
                    <a:pt x="1301" y="198"/>
                  </a:lnTo>
                  <a:lnTo>
                    <a:pt x="1554" y="215"/>
                  </a:lnTo>
                  <a:lnTo>
                    <a:pt x="1657" y="233"/>
                  </a:lnTo>
                  <a:lnTo>
                    <a:pt x="1687" y="237"/>
                  </a:lnTo>
                  <a:lnTo>
                    <a:pt x="1718" y="238"/>
                  </a:lnTo>
                  <a:lnTo>
                    <a:pt x="1741" y="233"/>
                  </a:lnTo>
                  <a:lnTo>
                    <a:pt x="1759" y="215"/>
                  </a:lnTo>
                  <a:lnTo>
                    <a:pt x="1770" y="193"/>
                  </a:lnTo>
                  <a:lnTo>
                    <a:pt x="1777" y="175"/>
                  </a:lnTo>
                  <a:lnTo>
                    <a:pt x="1778" y="153"/>
                  </a:lnTo>
                  <a:lnTo>
                    <a:pt x="1774" y="116"/>
                  </a:lnTo>
                  <a:lnTo>
                    <a:pt x="1766" y="92"/>
                  </a:lnTo>
                  <a:lnTo>
                    <a:pt x="1753" y="68"/>
                  </a:lnTo>
                  <a:lnTo>
                    <a:pt x="1741" y="51"/>
                  </a:lnTo>
                  <a:lnTo>
                    <a:pt x="1727" y="39"/>
                  </a:lnTo>
                  <a:lnTo>
                    <a:pt x="1707" y="25"/>
                  </a:lnTo>
                  <a:lnTo>
                    <a:pt x="1683" y="18"/>
                  </a:lnTo>
                </a:path>
              </a:pathLst>
            </a:cu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cap="rnd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8" name=""/>
          <p:cNvSpPr/>
          <p:nvPr/>
        </p:nvSpPr>
        <p:spPr>
          <a:xfrm>
            <a:off x="2784600" y="3292560"/>
            <a:ext cx="277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Zoltan Szalont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9" name=""/>
          <p:cNvSpPr/>
          <p:nvPr/>
        </p:nvSpPr>
        <p:spPr>
          <a:xfrm>
            <a:off x="3313080" y="4548240"/>
            <a:ext cx="2365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Before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After: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0" name=""/>
          <p:cNvSpPr/>
          <p:nvPr/>
        </p:nvSpPr>
        <p:spPr>
          <a:xfrm>
            <a:off x="3365640" y="5776920"/>
            <a:ext cx="25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gned:  Cg6&amp;^78#@d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1" name=""/>
          <p:cNvSpPr/>
          <p:nvPr/>
        </p:nvSpPr>
        <p:spPr>
          <a:xfrm>
            <a:off x="3159000" y="4233960"/>
            <a:ext cx="268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ial Number:  294837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2" name=""/>
          <p:cNvSpPr/>
          <p:nvPr/>
        </p:nvSpPr>
        <p:spPr>
          <a:xfrm>
            <a:off x="3094200" y="3902040"/>
            <a:ext cx="231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ject’s Public ke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3" name=""/>
          <p:cNvGrpSpPr/>
          <p:nvPr/>
        </p:nvGrpSpPr>
        <p:grpSpPr>
          <a:xfrm>
            <a:off x="5216400" y="3887640"/>
            <a:ext cx="752400" cy="366480"/>
            <a:chOff x="5216400" y="3887640"/>
            <a:chExt cx="752400" cy="366480"/>
          </a:xfrm>
        </p:grpSpPr>
        <p:sp>
          <p:nvSpPr>
            <p:cNvPr id="6114" name=""/>
            <p:cNvSpPr/>
            <p:nvPr/>
          </p:nvSpPr>
          <p:spPr>
            <a:xfrm>
              <a:off x="5216400" y="3887640"/>
              <a:ext cx="747720" cy="358560"/>
            </a:xfrm>
            <a:custGeom>
              <a:avLst/>
              <a:gdLst/>
              <a:ahLst/>
              <a:rect l="l" t="t" r="r" b="b"/>
              <a:pathLst>
                <a:path w="471" h="226">
                  <a:moveTo>
                    <a:pt x="0" y="81"/>
                  </a:moveTo>
                  <a:lnTo>
                    <a:pt x="0" y="149"/>
                  </a:lnTo>
                  <a:lnTo>
                    <a:pt x="17" y="136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9" y="135"/>
                  </a:lnTo>
                  <a:lnTo>
                    <a:pt x="0" y="149"/>
                  </a:lnTo>
                  <a:lnTo>
                    <a:pt x="44" y="172"/>
                  </a:lnTo>
                  <a:lnTo>
                    <a:pt x="44" y="186"/>
                  </a:lnTo>
                  <a:lnTo>
                    <a:pt x="60" y="190"/>
                  </a:lnTo>
                  <a:lnTo>
                    <a:pt x="60" y="210"/>
                  </a:lnTo>
                  <a:lnTo>
                    <a:pt x="70" y="210"/>
                  </a:lnTo>
                  <a:lnTo>
                    <a:pt x="71" y="218"/>
                  </a:lnTo>
                  <a:lnTo>
                    <a:pt x="71" y="225"/>
                  </a:lnTo>
                  <a:lnTo>
                    <a:pt x="137" y="225"/>
                  </a:lnTo>
                  <a:lnTo>
                    <a:pt x="137" y="210"/>
                  </a:lnTo>
                  <a:lnTo>
                    <a:pt x="150" y="210"/>
                  </a:lnTo>
                  <a:lnTo>
                    <a:pt x="150" y="191"/>
                  </a:lnTo>
                  <a:lnTo>
                    <a:pt x="168" y="186"/>
                  </a:lnTo>
                  <a:lnTo>
                    <a:pt x="168" y="175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206" y="164"/>
                  </a:lnTo>
                  <a:lnTo>
                    <a:pt x="240" y="164"/>
                  </a:lnTo>
                  <a:lnTo>
                    <a:pt x="240" y="152"/>
                  </a:lnTo>
                  <a:lnTo>
                    <a:pt x="440" y="153"/>
                  </a:lnTo>
                  <a:lnTo>
                    <a:pt x="470" y="123"/>
                  </a:lnTo>
                  <a:lnTo>
                    <a:pt x="435" y="85"/>
                  </a:lnTo>
                  <a:lnTo>
                    <a:pt x="425" y="99"/>
                  </a:lnTo>
                  <a:lnTo>
                    <a:pt x="413" y="99"/>
                  </a:lnTo>
                  <a:lnTo>
                    <a:pt x="403" y="85"/>
                  </a:lnTo>
                  <a:lnTo>
                    <a:pt x="394" y="99"/>
                  </a:lnTo>
                  <a:lnTo>
                    <a:pt x="390" y="96"/>
                  </a:lnTo>
                  <a:lnTo>
                    <a:pt x="382" y="85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40" y="99"/>
                  </a:lnTo>
                  <a:lnTo>
                    <a:pt x="326" y="99"/>
                  </a:lnTo>
                  <a:lnTo>
                    <a:pt x="310" y="85"/>
                  </a:lnTo>
                  <a:lnTo>
                    <a:pt x="298" y="99"/>
                  </a:lnTo>
                  <a:lnTo>
                    <a:pt x="284" y="99"/>
                  </a:lnTo>
                  <a:lnTo>
                    <a:pt x="266" y="85"/>
                  </a:lnTo>
                  <a:lnTo>
                    <a:pt x="237" y="82"/>
                  </a:lnTo>
                  <a:lnTo>
                    <a:pt x="237" y="66"/>
                  </a:lnTo>
                  <a:lnTo>
                    <a:pt x="200" y="66"/>
                  </a:lnTo>
                  <a:lnTo>
                    <a:pt x="200" y="55"/>
                  </a:lnTo>
                  <a:lnTo>
                    <a:pt x="165" y="55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6" y="17"/>
                  </a:lnTo>
                  <a:lnTo>
                    <a:pt x="136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0" y="17"/>
                  </a:lnTo>
                  <a:lnTo>
                    <a:pt x="60" y="36"/>
                  </a:lnTo>
                  <a:lnTo>
                    <a:pt x="56" y="40"/>
                  </a:lnTo>
                  <a:lnTo>
                    <a:pt x="44" y="44"/>
                  </a:lnTo>
                  <a:lnTo>
                    <a:pt x="44" y="55"/>
                  </a:lnTo>
                  <a:lnTo>
                    <a:pt x="0" y="81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221080" y="3897000"/>
              <a:ext cx="747720" cy="357120"/>
            </a:xfrm>
            <a:custGeom>
              <a:avLst/>
              <a:gdLst/>
              <a:ahLst/>
              <a:rect l="l" t="t" r="r" b="b"/>
              <a:pathLst>
                <a:path w="471" h="225">
                  <a:moveTo>
                    <a:pt x="0" y="80"/>
                  </a:moveTo>
                  <a:lnTo>
                    <a:pt x="0" y="148"/>
                  </a:lnTo>
                  <a:lnTo>
                    <a:pt x="17" y="135"/>
                  </a:lnTo>
                  <a:lnTo>
                    <a:pt x="17" y="96"/>
                  </a:lnTo>
                  <a:lnTo>
                    <a:pt x="47" y="81"/>
                  </a:lnTo>
                  <a:lnTo>
                    <a:pt x="47" y="149"/>
                  </a:lnTo>
                  <a:lnTo>
                    <a:pt x="17" y="135"/>
                  </a:lnTo>
                  <a:lnTo>
                    <a:pt x="0" y="148"/>
                  </a:lnTo>
                  <a:lnTo>
                    <a:pt x="44" y="172"/>
                  </a:lnTo>
                  <a:lnTo>
                    <a:pt x="44" y="185"/>
                  </a:lnTo>
                  <a:lnTo>
                    <a:pt x="59" y="189"/>
                  </a:lnTo>
                  <a:lnTo>
                    <a:pt x="59" y="209"/>
                  </a:lnTo>
                  <a:lnTo>
                    <a:pt x="70" y="209"/>
                  </a:lnTo>
                  <a:lnTo>
                    <a:pt x="70" y="217"/>
                  </a:lnTo>
                  <a:lnTo>
                    <a:pt x="70" y="224"/>
                  </a:lnTo>
                  <a:lnTo>
                    <a:pt x="136" y="224"/>
                  </a:lnTo>
                  <a:lnTo>
                    <a:pt x="136" y="209"/>
                  </a:lnTo>
                  <a:lnTo>
                    <a:pt x="150" y="208"/>
                  </a:lnTo>
                  <a:lnTo>
                    <a:pt x="150" y="190"/>
                  </a:lnTo>
                  <a:lnTo>
                    <a:pt x="166" y="184"/>
                  </a:lnTo>
                  <a:lnTo>
                    <a:pt x="168" y="174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3" y="164"/>
                  </a:lnTo>
                  <a:lnTo>
                    <a:pt x="240" y="164"/>
                  </a:lnTo>
                  <a:lnTo>
                    <a:pt x="240" y="151"/>
                  </a:lnTo>
                  <a:lnTo>
                    <a:pt x="440" y="152"/>
                  </a:lnTo>
                  <a:lnTo>
                    <a:pt x="470" y="122"/>
                  </a:lnTo>
                  <a:lnTo>
                    <a:pt x="434" y="84"/>
                  </a:lnTo>
                  <a:lnTo>
                    <a:pt x="425" y="97"/>
                  </a:lnTo>
                  <a:lnTo>
                    <a:pt x="413" y="97"/>
                  </a:lnTo>
                  <a:lnTo>
                    <a:pt x="403" y="84"/>
                  </a:lnTo>
                  <a:lnTo>
                    <a:pt x="393" y="97"/>
                  </a:lnTo>
                  <a:lnTo>
                    <a:pt x="390" y="96"/>
                  </a:lnTo>
                  <a:lnTo>
                    <a:pt x="382" y="83"/>
                  </a:lnTo>
                  <a:lnTo>
                    <a:pt x="356" y="82"/>
                  </a:lnTo>
                  <a:lnTo>
                    <a:pt x="354" y="80"/>
                  </a:lnTo>
                  <a:lnTo>
                    <a:pt x="339" y="98"/>
                  </a:lnTo>
                  <a:lnTo>
                    <a:pt x="326" y="98"/>
                  </a:lnTo>
                  <a:lnTo>
                    <a:pt x="310" y="83"/>
                  </a:lnTo>
                  <a:lnTo>
                    <a:pt x="297" y="97"/>
                  </a:lnTo>
                  <a:lnTo>
                    <a:pt x="283" y="97"/>
                  </a:lnTo>
                  <a:lnTo>
                    <a:pt x="265" y="84"/>
                  </a:lnTo>
                  <a:lnTo>
                    <a:pt x="237" y="81"/>
                  </a:lnTo>
                  <a:lnTo>
                    <a:pt x="237" y="65"/>
                  </a:lnTo>
                  <a:lnTo>
                    <a:pt x="199" y="65"/>
                  </a:lnTo>
                  <a:lnTo>
                    <a:pt x="199" y="56"/>
                  </a:lnTo>
                  <a:lnTo>
                    <a:pt x="165" y="56"/>
                  </a:lnTo>
                  <a:lnTo>
                    <a:pt x="165" y="44"/>
                  </a:lnTo>
                  <a:lnTo>
                    <a:pt x="150" y="39"/>
                  </a:lnTo>
                  <a:lnTo>
                    <a:pt x="150" y="17"/>
                  </a:lnTo>
                  <a:lnTo>
                    <a:pt x="135" y="1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9" y="16"/>
                  </a:lnTo>
                  <a:lnTo>
                    <a:pt x="59" y="16"/>
                  </a:lnTo>
                  <a:lnTo>
                    <a:pt x="59" y="35"/>
                  </a:lnTo>
                  <a:lnTo>
                    <a:pt x="55" y="40"/>
                  </a:lnTo>
                  <a:lnTo>
                    <a:pt x="44" y="44"/>
                  </a:lnTo>
                  <a:lnTo>
                    <a:pt x="44" y="56"/>
                  </a:lnTo>
                  <a:lnTo>
                    <a:pt x="0" y="80"/>
                  </a:lnTo>
                </a:path>
              </a:pathLst>
            </a:cu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6" name=""/>
            <p:cNvGrpSpPr/>
            <p:nvPr/>
          </p:nvGrpSpPr>
          <p:grpSpPr>
            <a:xfrm>
              <a:off x="5341680" y="3949560"/>
              <a:ext cx="76320" cy="269640"/>
              <a:chOff x="5341680" y="3949560"/>
              <a:chExt cx="76320" cy="269640"/>
            </a:xfrm>
          </p:grpSpPr>
          <p:sp>
            <p:nvSpPr>
              <p:cNvPr id="6117" name=""/>
              <p:cNvSpPr/>
              <p:nvPr/>
            </p:nvSpPr>
            <p:spPr>
              <a:xfrm>
                <a:off x="5341680" y="3949560"/>
                <a:ext cx="76320" cy="249120"/>
              </a:xfrm>
              <a:custGeom>
                <a:avLst/>
                <a:gdLst/>
                <a:ahLst/>
                <a:rect l="l" t="t" r="r" b="b"/>
                <a:pathLst>
                  <a:path w="48" h="157">
                    <a:moveTo>
                      <a:pt x="23" y="0"/>
                    </a:moveTo>
                    <a:lnTo>
                      <a:pt x="0" y="14"/>
                    </a:lnTo>
                    <a:lnTo>
                      <a:pt x="0" y="156"/>
                    </a:lnTo>
                    <a:lnTo>
                      <a:pt x="1" y="155"/>
                    </a:lnTo>
                    <a:lnTo>
                      <a:pt x="1" y="15"/>
                    </a:lnTo>
                    <a:lnTo>
                      <a:pt x="23" y="2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23" y="0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341680" y="3968280"/>
                <a:ext cx="76320" cy="25092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22" y="157"/>
                    </a:moveTo>
                    <a:lnTo>
                      <a:pt x="47" y="143"/>
                    </a:lnTo>
                    <a:lnTo>
                      <a:pt x="47" y="0"/>
                    </a:lnTo>
                    <a:lnTo>
                      <a:pt x="46" y="2"/>
                    </a:lnTo>
                    <a:lnTo>
                      <a:pt x="46" y="142"/>
                    </a:lnTo>
                    <a:lnTo>
                      <a:pt x="22" y="154"/>
                    </a:lnTo>
                    <a:lnTo>
                      <a:pt x="0" y="142"/>
                    </a:lnTo>
                    <a:lnTo>
                      <a:pt x="0" y="144"/>
                    </a:lnTo>
                    <a:lnTo>
                      <a:pt x="22" y="157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9" name=""/>
            <p:cNvSpPr/>
            <p:nvPr/>
          </p:nvSpPr>
          <p:spPr>
            <a:xfrm>
              <a:off x="5319360" y="3925440"/>
              <a:ext cx="25560" cy="3016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302080" y="3955680"/>
              <a:ext cx="25200" cy="23328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21" name=""/>
            <p:cNvGrpSpPr/>
            <p:nvPr/>
          </p:nvGrpSpPr>
          <p:grpSpPr>
            <a:xfrm>
              <a:off x="5437080" y="3925440"/>
              <a:ext cx="530280" cy="301680"/>
              <a:chOff x="5437080" y="3925440"/>
              <a:chExt cx="530280" cy="301680"/>
            </a:xfrm>
          </p:grpSpPr>
          <p:sp>
            <p:nvSpPr>
              <p:cNvPr id="6122" name=""/>
              <p:cNvSpPr/>
              <p:nvPr/>
            </p:nvSpPr>
            <p:spPr>
              <a:xfrm>
                <a:off x="5545080" y="406512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56" h="17">
                    <a:moveTo>
                      <a:pt x="0" y="16"/>
                    </a:moveTo>
                    <a:lnTo>
                      <a:pt x="255" y="16"/>
                    </a:lnTo>
                    <a:lnTo>
                      <a:pt x="252" y="0"/>
                    </a:lnTo>
                    <a:lnTo>
                      <a:pt x="8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559120" y="4109760"/>
                <a:ext cx="393840" cy="27000"/>
              </a:xfrm>
              <a:custGeom>
                <a:avLst/>
                <a:gdLst/>
                <a:ahLst/>
                <a:rect l="l" t="t" r="r" b="b"/>
                <a:pathLst>
                  <a:path w="248" h="17">
                    <a:moveTo>
                      <a:pt x="0" y="16"/>
                    </a:moveTo>
                    <a:lnTo>
                      <a:pt x="242" y="16"/>
                    </a:lnTo>
                    <a:lnTo>
                      <a:pt x="247" y="0"/>
                    </a:lnTo>
                    <a:lnTo>
                      <a:pt x="20" y="0"/>
                    </a:lnTo>
                    <a:lnTo>
                      <a:pt x="0" y="16"/>
                    </a:lnTo>
                  </a:path>
                </a:pathLst>
              </a:cu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24" name=""/>
              <p:cNvGrpSpPr/>
              <p:nvPr/>
            </p:nvGrpSpPr>
            <p:grpSpPr>
              <a:xfrm>
                <a:off x="5437080" y="3925440"/>
                <a:ext cx="530280" cy="301680"/>
                <a:chOff x="5437080" y="3925440"/>
                <a:chExt cx="530280" cy="301680"/>
              </a:xfrm>
            </p:grpSpPr>
            <p:sp>
              <p:nvSpPr>
                <p:cNvPr id="6125" name=""/>
                <p:cNvSpPr/>
                <p:nvPr/>
              </p:nvSpPr>
              <p:spPr>
                <a:xfrm>
                  <a:off x="5437080" y="3925440"/>
                  <a:ext cx="25200" cy="30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5487840" y="3990600"/>
                  <a:ext cx="25200" cy="179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5559120" y="4093920"/>
                  <a:ext cx="408240" cy="27000"/>
                </a:xfrm>
                <a:custGeom>
                  <a:avLst/>
                  <a:gdLst/>
                  <a:ahLst/>
                  <a:rect l="l" t="t" r="r" b="b"/>
                  <a:pathLst>
                    <a:path w="257" h="17">
                      <a:moveTo>
                        <a:pt x="0" y="16"/>
                      </a:moveTo>
                      <a:lnTo>
                        <a:pt x="16" y="12"/>
                      </a:lnTo>
                      <a:lnTo>
                        <a:pt x="30" y="7"/>
                      </a:lnTo>
                      <a:lnTo>
                        <a:pt x="251" y="7"/>
                      </a:lnTo>
                      <a:lnTo>
                        <a:pt x="256" y="1"/>
                      </a:lnTo>
                      <a:lnTo>
                        <a:pt x="26" y="0"/>
                      </a:lnTo>
                      <a:lnTo>
                        <a:pt x="0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8" name=""/>
                <p:cNvSpPr/>
                <p:nvPr/>
              </p:nvSpPr>
              <p:spPr>
                <a:xfrm>
                  <a:off x="5543280" y="400320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1" y="16"/>
                      </a:moveTo>
                      <a:lnTo>
                        <a:pt x="24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" y="96"/>
                      </a:lnTo>
                      <a:lnTo>
                        <a:pt x="3" y="43"/>
                      </a:lnTo>
                      <a:lnTo>
                        <a:pt x="9" y="38"/>
                      </a:lnTo>
                      <a:lnTo>
                        <a:pt x="9" y="19"/>
                      </a:lnTo>
                      <a:lnTo>
                        <a:pt x="31" y="16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9" name=""/>
                <p:cNvSpPr/>
                <p:nvPr/>
              </p:nvSpPr>
              <p:spPr>
                <a:xfrm>
                  <a:off x="5457600" y="3962160"/>
                  <a:ext cx="27000" cy="237960"/>
                </a:xfrm>
                <a:custGeom>
                  <a:avLst/>
                  <a:gdLst/>
                  <a:ahLst/>
                  <a:rect l="l" t="t" r="r" b="b"/>
                  <a:pathLst>
                    <a:path w="17" h="150">
                      <a:moveTo>
                        <a:pt x="0" y="0"/>
                      </a:moveTo>
                      <a:lnTo>
                        <a:pt x="0" y="149"/>
                      </a:lnTo>
                      <a:lnTo>
                        <a:pt x="16" y="147"/>
                      </a:lnTo>
                      <a:lnTo>
                        <a:pt x="16" y="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56a00"/>
                    </a:gs>
                    <a:gs pos="100000">
                      <a:srgbClr val="ffe7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30" name=""/>
          <p:cNvSpPr/>
          <p:nvPr/>
        </p:nvSpPr>
        <p:spPr>
          <a:xfrm flipH="1" rot="16200000">
            <a:off x="5134320" y="3969000"/>
            <a:ext cx="49536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"/>
          <p:cNvSpPr/>
          <p:nvPr/>
        </p:nvSpPr>
        <p:spPr>
          <a:xfrm>
            <a:off x="3456000" y="5200560"/>
            <a:ext cx="226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Email     Client Authent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2333520" y="3886200"/>
            <a:ext cx="638280" cy="195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3" name=""/>
          <p:cNvSpPr/>
          <p:nvPr/>
        </p:nvSpPr>
        <p:spPr>
          <a:xfrm flipH="1">
            <a:off x="5788080" y="5467320"/>
            <a:ext cx="804960" cy="3906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4" name=""/>
          <p:cNvSpPr/>
          <p:nvPr/>
        </p:nvSpPr>
        <p:spPr>
          <a:xfrm>
            <a:off x="685800" y="5562360"/>
            <a:ext cx="1809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ővítmény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5" name=""/>
          <p:cNvSpPr/>
          <p:nvPr/>
        </p:nvSpPr>
        <p:spPr>
          <a:xfrm flipV="1">
            <a:off x="2328840" y="5373360"/>
            <a:ext cx="1136520" cy="3063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6" name=""/>
          <p:cNvSpPr/>
          <p:nvPr/>
        </p:nvSpPr>
        <p:spPr>
          <a:xfrm>
            <a:off x="762120" y="3048120"/>
            <a:ext cx="1698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ulajdonos személ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7" name=""/>
          <p:cNvSpPr/>
          <p:nvPr/>
        </p:nvSpPr>
        <p:spPr>
          <a:xfrm>
            <a:off x="2048040" y="3425760"/>
            <a:ext cx="722160" cy="237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8" name=""/>
          <p:cNvSpPr/>
          <p:nvPr/>
        </p:nvSpPr>
        <p:spPr>
          <a:xfrm flipH="1">
            <a:off x="5499000" y="3517920"/>
            <a:ext cx="41616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9" name=""/>
          <p:cNvSpPr/>
          <p:nvPr/>
        </p:nvSpPr>
        <p:spPr>
          <a:xfrm>
            <a:off x="6553080" y="4419720"/>
            <a:ext cx="206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dig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0" name=""/>
          <p:cNvSpPr/>
          <p:nvPr/>
        </p:nvSpPr>
        <p:spPr>
          <a:xfrm>
            <a:off x="2967120" y="3586320"/>
            <a:ext cx="267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suer: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rv01.w2ksec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1" name=""/>
          <p:cNvSpPr/>
          <p:nvPr/>
        </p:nvSpPr>
        <p:spPr>
          <a:xfrm flipH="1">
            <a:off x="5557680" y="4648320"/>
            <a:ext cx="919440" cy="2570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2" name=""/>
          <p:cNvSpPr/>
          <p:nvPr/>
        </p:nvSpPr>
        <p:spPr>
          <a:xfrm>
            <a:off x="6702480" y="5141880"/>
            <a:ext cx="22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CA digitális aláírá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"/>
          <p:cNvSpPr/>
          <p:nvPr/>
        </p:nvSpPr>
        <p:spPr>
          <a:xfrm>
            <a:off x="1349280" y="4530600"/>
            <a:ext cx="1447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 ad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4" name=""/>
          <p:cNvSpPr/>
          <p:nvPr/>
        </p:nvSpPr>
        <p:spPr>
          <a:xfrm flipV="1">
            <a:off x="2514600" y="4456080"/>
            <a:ext cx="704880" cy="1922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6477120" y="3962520"/>
            <a:ext cx="206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ttől érvén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 flipH="1">
            <a:off x="5567400" y="4218120"/>
            <a:ext cx="877680" cy="37944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 -- Microsoft 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D80D6-54BB-429A-9F58-1E668E3897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4622760" y="736560"/>
            <a:ext cx="4051440" cy="4140360"/>
          </a:xfrm>
          <a:custGeom>
            <a:avLst/>
            <a:gdLst/>
            <a:ahLst/>
            <a:rect l="l" t="t" r="r" b="b"/>
            <a:pathLst>
              <a:path w="2552" h="2608">
                <a:moveTo>
                  <a:pt x="400" y="1264"/>
                </a:moveTo>
                <a:cubicBezTo>
                  <a:pt x="368" y="1128"/>
                  <a:pt x="216" y="912"/>
                  <a:pt x="256" y="736"/>
                </a:cubicBezTo>
                <a:cubicBezTo>
                  <a:pt x="296" y="560"/>
                  <a:pt x="448" y="328"/>
                  <a:pt x="640" y="208"/>
                </a:cubicBezTo>
                <a:cubicBezTo>
                  <a:pt x="832" y="88"/>
                  <a:pt x="1128" y="0"/>
                  <a:pt x="1408" y="16"/>
                </a:cubicBezTo>
                <a:cubicBezTo>
                  <a:pt x="1688" y="32"/>
                  <a:pt x="2136" y="152"/>
                  <a:pt x="2320" y="304"/>
                </a:cubicBezTo>
                <a:cubicBezTo>
                  <a:pt x="2504" y="456"/>
                  <a:pt x="2552" y="736"/>
                  <a:pt x="2512" y="928"/>
                </a:cubicBezTo>
                <a:cubicBezTo>
                  <a:pt x="2472" y="1120"/>
                  <a:pt x="2240" y="1328"/>
                  <a:pt x="2080" y="1456"/>
                </a:cubicBezTo>
                <a:cubicBezTo>
                  <a:pt x="1920" y="1584"/>
                  <a:pt x="1656" y="1584"/>
                  <a:pt x="1552" y="1696"/>
                </a:cubicBezTo>
                <a:cubicBezTo>
                  <a:pt x="1448" y="1808"/>
                  <a:pt x="1504" y="2000"/>
                  <a:pt x="1456" y="2128"/>
                </a:cubicBezTo>
                <a:cubicBezTo>
                  <a:pt x="1408" y="2256"/>
                  <a:pt x="1424" y="2392"/>
                  <a:pt x="1264" y="2464"/>
                </a:cubicBezTo>
                <a:cubicBezTo>
                  <a:pt x="1104" y="2536"/>
                  <a:pt x="696" y="2608"/>
                  <a:pt x="496" y="2560"/>
                </a:cubicBezTo>
                <a:cubicBezTo>
                  <a:pt x="296" y="2512"/>
                  <a:pt x="128" y="2312"/>
                  <a:pt x="64" y="2176"/>
                </a:cubicBezTo>
                <a:cubicBezTo>
                  <a:pt x="0" y="2040"/>
                  <a:pt x="48" y="1848"/>
                  <a:pt x="112" y="1744"/>
                </a:cubicBezTo>
                <a:cubicBezTo>
                  <a:pt x="176" y="1640"/>
                  <a:pt x="400" y="1632"/>
                  <a:pt x="448" y="1552"/>
                </a:cubicBezTo>
                <a:cubicBezTo>
                  <a:pt x="496" y="1472"/>
                  <a:pt x="432" y="1400"/>
                  <a:pt x="400" y="1264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14480" y="622440"/>
            <a:ext cx="5715000" cy="6057720"/>
          </a:xfrm>
          <a:custGeom>
            <a:avLst/>
            <a:gdLst/>
            <a:ahLst/>
            <a:rect l="l" t="t" r="r" b="b"/>
            <a:pathLst>
              <a:path w="3600" h="3816">
                <a:moveTo>
                  <a:pt x="360" y="376"/>
                </a:moveTo>
                <a:cubicBezTo>
                  <a:pt x="200" y="496"/>
                  <a:pt x="120" y="592"/>
                  <a:pt x="72" y="760"/>
                </a:cubicBezTo>
                <a:cubicBezTo>
                  <a:pt x="24" y="928"/>
                  <a:pt x="0" y="1200"/>
                  <a:pt x="72" y="1384"/>
                </a:cubicBezTo>
                <a:cubicBezTo>
                  <a:pt x="144" y="1568"/>
                  <a:pt x="480" y="1680"/>
                  <a:pt x="504" y="1864"/>
                </a:cubicBezTo>
                <a:cubicBezTo>
                  <a:pt x="528" y="2048"/>
                  <a:pt x="280" y="2288"/>
                  <a:pt x="216" y="2488"/>
                </a:cubicBezTo>
                <a:cubicBezTo>
                  <a:pt x="152" y="2688"/>
                  <a:pt x="80" y="2864"/>
                  <a:pt x="120" y="3064"/>
                </a:cubicBezTo>
                <a:cubicBezTo>
                  <a:pt x="160" y="3264"/>
                  <a:pt x="264" y="3576"/>
                  <a:pt x="456" y="3688"/>
                </a:cubicBezTo>
                <a:cubicBezTo>
                  <a:pt x="648" y="3800"/>
                  <a:pt x="1080" y="3760"/>
                  <a:pt x="1272" y="3736"/>
                </a:cubicBezTo>
                <a:cubicBezTo>
                  <a:pt x="1464" y="3712"/>
                  <a:pt x="1496" y="3552"/>
                  <a:pt x="1608" y="3544"/>
                </a:cubicBezTo>
                <a:cubicBezTo>
                  <a:pt x="1720" y="3536"/>
                  <a:pt x="1832" y="3648"/>
                  <a:pt x="1944" y="3688"/>
                </a:cubicBezTo>
                <a:cubicBezTo>
                  <a:pt x="2056" y="3728"/>
                  <a:pt x="2072" y="3768"/>
                  <a:pt x="2280" y="3784"/>
                </a:cubicBezTo>
                <a:cubicBezTo>
                  <a:pt x="2488" y="3800"/>
                  <a:pt x="2976" y="3816"/>
                  <a:pt x="3192" y="3784"/>
                </a:cubicBezTo>
                <a:cubicBezTo>
                  <a:pt x="3408" y="3752"/>
                  <a:pt x="3552" y="3736"/>
                  <a:pt x="3576" y="3592"/>
                </a:cubicBezTo>
                <a:cubicBezTo>
                  <a:pt x="3600" y="3448"/>
                  <a:pt x="3488" y="3192"/>
                  <a:pt x="3336" y="2920"/>
                </a:cubicBezTo>
                <a:cubicBezTo>
                  <a:pt x="3184" y="2648"/>
                  <a:pt x="2728" y="2216"/>
                  <a:pt x="2664" y="1960"/>
                </a:cubicBezTo>
                <a:cubicBezTo>
                  <a:pt x="2600" y="1704"/>
                  <a:pt x="2904" y="1600"/>
                  <a:pt x="2952" y="1384"/>
                </a:cubicBezTo>
                <a:cubicBezTo>
                  <a:pt x="3000" y="1168"/>
                  <a:pt x="3080" y="872"/>
                  <a:pt x="2952" y="664"/>
                </a:cubicBezTo>
                <a:cubicBezTo>
                  <a:pt x="2824" y="456"/>
                  <a:pt x="2504" y="240"/>
                  <a:pt x="2184" y="136"/>
                </a:cubicBezTo>
                <a:cubicBezTo>
                  <a:pt x="1864" y="32"/>
                  <a:pt x="1336" y="0"/>
                  <a:pt x="1032" y="40"/>
                </a:cubicBezTo>
                <a:cubicBezTo>
                  <a:pt x="728" y="80"/>
                  <a:pt x="520" y="256"/>
                  <a:pt x="360" y="376"/>
                </a:cubicBezTo>
                <a:close/>
              </a:path>
            </a:pathLst>
          </a:custGeom>
          <a:gradFill rotWithShape="0">
            <a:gsLst>
              <a:gs pos="0">
                <a:srgbClr val="2f4675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33520" y="4114800"/>
            <a:ext cx="1963440" cy="22096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0880" y="977760"/>
            <a:ext cx="4267440" cy="267984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>
                  <a:alpha val="5019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990720"/>
            <a:ext cx="3276720" cy="20574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48120" y="4114800"/>
            <a:ext cx="2438280" cy="2089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352680"/>
            <a:ext cx="1981080" cy="124488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162920" y="3429000"/>
            <a:ext cx="1981080" cy="12445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1600200" y="3581280"/>
            <a:ext cx="22860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3505320" y="3505320"/>
            <a:ext cx="76176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6324480" y="3048120"/>
            <a:ext cx="304920" cy="3808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7619760" y="297180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648320" y="2057040"/>
            <a:ext cx="53316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990720" y="1371600"/>
            <a:ext cx="1676160" cy="9907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209680" y="990720"/>
            <a:ext cx="457200" cy="13716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666880" y="1142640"/>
            <a:ext cx="914400" cy="12193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666880" y="2362320"/>
            <a:ext cx="1828800" cy="45720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666880" y="2362320"/>
            <a:ext cx="533520" cy="121896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447920" y="2362320"/>
            <a:ext cx="1218960" cy="106668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380880" y="2209680"/>
            <a:ext cx="2286000" cy="15264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666880" y="1828800"/>
            <a:ext cx="1752840" cy="533520"/>
          </a:xfrm>
          <a:prstGeom prst="line">
            <a:avLst/>
          </a:prstGeom>
          <a:ln w="1260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33520" y="4343400"/>
            <a:ext cx="1600200" cy="1981080"/>
            <a:chOff x="533520" y="4343400"/>
            <a:chExt cx="1600200" cy="1981080"/>
          </a:xfrm>
        </p:grpSpPr>
        <p:sp>
          <p:nvSpPr>
            <p:cNvPr id="1070" name=""/>
            <p:cNvSpPr/>
            <p:nvPr/>
          </p:nvSpPr>
          <p:spPr>
            <a:xfrm flipV="1">
              <a:off x="1447920" y="4419720"/>
              <a:ext cx="685800" cy="8380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990720" y="4343400"/>
              <a:ext cx="45720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533520" y="5257800"/>
              <a:ext cx="9144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47920" y="5257800"/>
              <a:ext cx="228600" cy="10666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257440" y="1066680"/>
            <a:ext cx="3200760" cy="1981440"/>
            <a:chOff x="5257440" y="1066680"/>
            <a:chExt cx="3200760" cy="1981440"/>
          </a:xfrm>
        </p:grpSpPr>
        <p:sp>
          <p:nvSpPr>
            <p:cNvPr id="1075" name=""/>
            <p:cNvSpPr/>
            <p:nvPr/>
          </p:nvSpPr>
          <p:spPr>
            <a:xfrm flipH="1" flipV="1">
              <a:off x="6248160" y="1066680"/>
              <a:ext cx="609480" cy="9144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6858000" y="1294920"/>
              <a:ext cx="106668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5638320" y="1294920"/>
              <a:ext cx="12193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257440" y="1981080"/>
              <a:ext cx="1600200" cy="3049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858000" y="1981080"/>
              <a:ext cx="228600" cy="106704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858000" y="1828440"/>
              <a:ext cx="1600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334120" y="3352320"/>
            <a:ext cx="1371600" cy="685800"/>
            <a:chOff x="5334120" y="3352320"/>
            <a:chExt cx="1371600" cy="685800"/>
          </a:xfrm>
        </p:grpSpPr>
        <p:sp>
          <p:nvSpPr>
            <p:cNvPr id="1082" name=""/>
            <p:cNvSpPr/>
            <p:nvPr/>
          </p:nvSpPr>
          <p:spPr>
            <a:xfrm flipH="1" flipV="1">
              <a:off x="5334120" y="3428640"/>
              <a:ext cx="380880" cy="6094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5715000" y="3352320"/>
              <a:ext cx="304920" cy="6858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5715000" y="3809520"/>
              <a:ext cx="9907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438280" y="5562720"/>
            <a:ext cx="99072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648320" y="4419360"/>
            <a:ext cx="38088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181480" y="4572000"/>
            <a:ext cx="2438640" cy="1295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373040" y="1176480"/>
            <a:ext cx="2283120" cy="1955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30080" y="5097600"/>
            <a:ext cx="68760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563840" y="509760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122480" y="4311720"/>
            <a:ext cx="687240" cy="588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447920" y="3123720"/>
            <a:ext cx="0" cy="12193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3657240" y="3124080"/>
            <a:ext cx="609480" cy="99072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943600" y="1143000"/>
            <a:ext cx="1752480" cy="1501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61040" y="3444840"/>
            <a:ext cx="1060560" cy="90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91320" y="2590920"/>
            <a:ext cx="152280" cy="83808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7" name=""/>
          <p:cNvGraphicFramePr/>
          <p:nvPr/>
        </p:nvGraphicFramePr>
        <p:xfrm>
          <a:off x="2286000" y="1066680"/>
          <a:ext cx="5047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504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9" name=""/>
          <p:cNvGrpSpPr/>
          <p:nvPr/>
        </p:nvGrpSpPr>
        <p:grpSpPr>
          <a:xfrm>
            <a:off x="2268000" y="1752480"/>
            <a:ext cx="627120" cy="1142640"/>
            <a:chOff x="2268000" y="1752480"/>
            <a:chExt cx="627120" cy="1142640"/>
          </a:xfrm>
        </p:grpSpPr>
        <p:sp>
          <p:nvSpPr>
            <p:cNvPr id="1100" name=""/>
            <p:cNvSpPr/>
            <p:nvPr/>
          </p:nvSpPr>
          <p:spPr>
            <a:xfrm>
              <a:off x="270756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0756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6232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62320" y="272448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07560" y="217368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62320" y="246600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06" name=""/>
            <p:cNvGraphicFramePr/>
            <p:nvPr/>
          </p:nvGraphicFramePr>
          <p:xfrm>
            <a:off x="2393280" y="1752480"/>
            <a:ext cx="29808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3280" y="175248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08" name=""/>
            <p:cNvCxnSpPr>
              <a:endCxn id="1102" idx="2"/>
            </p:cNvCxnSpPr>
            <p:nvPr/>
          </p:nvCxnSpPr>
          <p:spPr>
            <a:xfrm flipV="1" rot="10800000">
              <a:off x="2361600" y="190908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09" name=""/>
            <p:cNvCxnSpPr>
              <a:endCxn id="1105" idx="2"/>
            </p:cNvCxnSpPr>
            <p:nvPr/>
          </p:nvCxnSpPr>
          <p:spPr>
            <a:xfrm flipV="1" rot="10800000">
              <a:off x="2361600" y="190872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0" name=""/>
            <p:cNvCxnSpPr>
              <a:endCxn id="1103" idx="2"/>
            </p:cNvCxnSpPr>
            <p:nvPr/>
          </p:nvCxnSpPr>
          <p:spPr>
            <a:xfrm flipV="1" rot="10800000">
              <a:off x="2361600" y="190908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1" name=""/>
            <p:cNvCxnSpPr>
              <a:stCxn id="1102" idx="6"/>
              <a:endCxn id="1104" idx="2"/>
            </p:cNvCxnSpPr>
            <p:nvPr/>
          </p:nvCxnSpPr>
          <p:spPr>
            <a:xfrm>
              <a:off x="2549520" y="225900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2" name=""/>
            <p:cNvCxnSpPr>
              <a:stCxn id="1102" idx="6"/>
              <a:endCxn id="1100" idx="2"/>
            </p:cNvCxnSpPr>
            <p:nvPr/>
          </p:nvCxnSpPr>
          <p:spPr>
            <a:xfrm>
              <a:off x="2549520" y="225900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13" name=""/>
            <p:cNvCxnSpPr>
              <a:stCxn id="1102" idx="6"/>
              <a:endCxn id="1101" idx="2"/>
            </p:cNvCxnSpPr>
            <p:nvPr/>
          </p:nvCxnSpPr>
          <p:spPr>
            <a:xfrm>
              <a:off x="2549520" y="225900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14" name=""/>
          <p:cNvSpPr/>
          <p:nvPr/>
        </p:nvSpPr>
        <p:spPr>
          <a:xfrm flipH="1">
            <a:off x="2514240" y="1219320"/>
            <a:ext cx="4267080" cy="0"/>
          </a:xfrm>
          <a:prstGeom prst="line">
            <a:avLst/>
          </a:prstGeom>
          <a:ln w="5724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333440" y="4419720"/>
            <a:ext cx="250920" cy="456840"/>
            <a:chOff x="1333440" y="4419720"/>
            <a:chExt cx="250920" cy="456840"/>
          </a:xfrm>
        </p:grpSpPr>
        <p:sp>
          <p:nvSpPr>
            <p:cNvPr id="1116" name=""/>
            <p:cNvSpPr/>
            <p:nvPr/>
          </p:nvSpPr>
          <p:spPr>
            <a:xfrm>
              <a:off x="150948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50948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37160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480852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09480" y="4588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371600" y="470520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22" name=""/>
            <p:cNvGraphicFramePr/>
            <p:nvPr/>
          </p:nvGraphicFramePr>
          <p:xfrm>
            <a:off x="1383840" y="4419720"/>
            <a:ext cx="118800" cy="12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3840" y="441972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24" name=""/>
            <p:cNvCxnSpPr>
              <a:endCxn id="1118" idx="2"/>
            </p:cNvCxnSpPr>
            <p:nvPr/>
          </p:nvCxnSpPr>
          <p:spPr>
            <a:xfrm flipV="1" rot="10800000">
              <a:off x="1370880" y="448236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5" name=""/>
            <p:cNvCxnSpPr>
              <a:endCxn id="1121" idx="2"/>
            </p:cNvCxnSpPr>
            <p:nvPr/>
          </p:nvCxnSpPr>
          <p:spPr>
            <a:xfrm flipV="1" rot="10800000">
              <a:off x="1370880" y="448164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6" name=""/>
            <p:cNvCxnSpPr>
              <a:endCxn id="1119" idx="2"/>
            </p:cNvCxnSpPr>
            <p:nvPr/>
          </p:nvCxnSpPr>
          <p:spPr>
            <a:xfrm flipV="1" rot="10800000">
              <a:off x="1370880" y="448164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7" name=""/>
            <p:cNvCxnSpPr>
              <a:stCxn id="1118" idx="6"/>
              <a:endCxn id="1120" idx="2"/>
            </p:cNvCxnSpPr>
            <p:nvPr/>
          </p:nvCxnSpPr>
          <p:spPr>
            <a:xfrm>
              <a:off x="1446480" y="462204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8" name=""/>
            <p:cNvCxnSpPr>
              <a:stCxn id="1118" idx="6"/>
              <a:endCxn id="1116" idx="2"/>
            </p:cNvCxnSpPr>
            <p:nvPr/>
          </p:nvCxnSpPr>
          <p:spPr>
            <a:xfrm>
              <a:off x="1446480" y="462204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29" name=""/>
            <p:cNvCxnSpPr>
              <a:stCxn id="1118" idx="6"/>
              <a:endCxn id="1117" idx="2"/>
            </p:cNvCxnSpPr>
            <p:nvPr/>
          </p:nvCxnSpPr>
          <p:spPr>
            <a:xfrm>
              <a:off x="1446480" y="462240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30" name=""/>
          <p:cNvGrpSpPr/>
          <p:nvPr/>
        </p:nvGrpSpPr>
        <p:grpSpPr>
          <a:xfrm>
            <a:off x="1790640" y="5181480"/>
            <a:ext cx="250920" cy="456840"/>
            <a:chOff x="1790640" y="5181480"/>
            <a:chExt cx="250920" cy="456840"/>
          </a:xfrm>
        </p:grpSpPr>
        <p:sp>
          <p:nvSpPr>
            <p:cNvPr id="1131" name=""/>
            <p:cNvSpPr/>
            <p:nvPr/>
          </p:nvSpPr>
          <p:spPr>
            <a:xfrm>
              <a:off x="196668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96668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288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288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6668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88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37" name=""/>
            <p:cNvGraphicFramePr/>
            <p:nvPr/>
          </p:nvGraphicFramePr>
          <p:xfrm>
            <a:off x="1841040" y="5181480"/>
            <a:ext cx="118800" cy="125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4104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39" name=""/>
            <p:cNvCxnSpPr>
              <a:endCxn id="1133" idx="2"/>
            </p:cNvCxnSpPr>
            <p:nvPr/>
          </p:nvCxnSpPr>
          <p:spPr>
            <a:xfrm flipV="1" rot="10800000">
              <a:off x="182808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0" name=""/>
            <p:cNvCxnSpPr>
              <a:endCxn id="1136" idx="2"/>
            </p:cNvCxnSpPr>
            <p:nvPr/>
          </p:nvCxnSpPr>
          <p:spPr>
            <a:xfrm flipV="1" rot="10800000">
              <a:off x="182808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1" name=""/>
            <p:cNvCxnSpPr>
              <a:endCxn id="1134" idx="2"/>
            </p:cNvCxnSpPr>
            <p:nvPr/>
          </p:nvCxnSpPr>
          <p:spPr>
            <a:xfrm flipV="1" rot="10800000">
              <a:off x="182808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2" name=""/>
            <p:cNvCxnSpPr>
              <a:stCxn id="1133" idx="6"/>
              <a:endCxn id="1135" idx="2"/>
            </p:cNvCxnSpPr>
            <p:nvPr/>
          </p:nvCxnSpPr>
          <p:spPr>
            <a:xfrm>
              <a:off x="190368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3" name=""/>
            <p:cNvCxnSpPr>
              <a:stCxn id="1133" idx="6"/>
              <a:endCxn id="1131" idx="2"/>
            </p:cNvCxnSpPr>
            <p:nvPr/>
          </p:nvCxnSpPr>
          <p:spPr>
            <a:xfrm>
              <a:off x="190368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44" name=""/>
            <p:cNvCxnSpPr>
              <a:stCxn id="1133" idx="6"/>
              <a:endCxn id="1132" idx="2"/>
            </p:cNvCxnSpPr>
            <p:nvPr/>
          </p:nvCxnSpPr>
          <p:spPr>
            <a:xfrm>
              <a:off x="190368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45" name=""/>
          <p:cNvGrpSpPr/>
          <p:nvPr/>
        </p:nvGrpSpPr>
        <p:grpSpPr>
          <a:xfrm>
            <a:off x="952560" y="5181480"/>
            <a:ext cx="250920" cy="456840"/>
            <a:chOff x="952560" y="5181480"/>
            <a:chExt cx="250920" cy="456840"/>
          </a:xfrm>
        </p:grpSpPr>
        <p:sp>
          <p:nvSpPr>
            <p:cNvPr id="1146" name=""/>
            <p:cNvSpPr/>
            <p:nvPr/>
          </p:nvSpPr>
          <p:spPr>
            <a:xfrm>
              <a:off x="112860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2860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99072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90720" y="557028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28600" y="5349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990720" y="5466960"/>
              <a:ext cx="74880" cy="680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52" name=""/>
            <p:cNvGraphicFramePr/>
            <p:nvPr/>
          </p:nvGraphicFramePr>
          <p:xfrm>
            <a:off x="1002960" y="5181480"/>
            <a:ext cx="118800" cy="12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02960" y="5181480"/>
                      <a:ext cx="118800" cy="1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54" name=""/>
            <p:cNvCxnSpPr>
              <a:endCxn id="1148" idx="2"/>
            </p:cNvCxnSpPr>
            <p:nvPr/>
          </p:nvCxnSpPr>
          <p:spPr>
            <a:xfrm flipV="1" rot="10800000">
              <a:off x="990000" y="5244120"/>
              <a:ext cx="12960" cy="1404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5" name=""/>
            <p:cNvCxnSpPr>
              <a:endCxn id="1151" idx="2"/>
            </p:cNvCxnSpPr>
            <p:nvPr/>
          </p:nvCxnSpPr>
          <p:spPr>
            <a:xfrm flipV="1" rot="10800000">
              <a:off x="990000" y="5243400"/>
              <a:ext cx="12960" cy="2566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6" name=""/>
            <p:cNvCxnSpPr>
              <a:endCxn id="1149" idx="2"/>
            </p:cNvCxnSpPr>
            <p:nvPr/>
          </p:nvCxnSpPr>
          <p:spPr>
            <a:xfrm flipV="1" rot="10800000">
              <a:off x="990000" y="5243400"/>
              <a:ext cx="12960" cy="36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7" name=""/>
            <p:cNvCxnSpPr>
              <a:stCxn id="1148" idx="6"/>
              <a:endCxn id="1150" idx="2"/>
            </p:cNvCxnSpPr>
            <p:nvPr/>
          </p:nvCxnSpPr>
          <p:spPr>
            <a:xfrm>
              <a:off x="1065600" y="5383800"/>
              <a:ext cx="6336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8" name=""/>
            <p:cNvCxnSpPr>
              <a:stCxn id="1148" idx="6"/>
              <a:endCxn id="1146" idx="2"/>
            </p:cNvCxnSpPr>
            <p:nvPr/>
          </p:nvCxnSpPr>
          <p:spPr>
            <a:xfrm>
              <a:off x="1065600" y="5383800"/>
              <a:ext cx="63360" cy="11700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59" name=""/>
            <p:cNvCxnSpPr>
              <a:stCxn id="1148" idx="6"/>
              <a:endCxn id="1147" idx="2"/>
            </p:cNvCxnSpPr>
            <p:nvPr/>
          </p:nvCxnSpPr>
          <p:spPr>
            <a:xfrm>
              <a:off x="1065600" y="5384160"/>
              <a:ext cx="63360" cy="221040"/>
            </a:xfrm>
            <a:prstGeom prst="bentConnector3">
              <a:avLst>
                <a:gd name="adj1" fmla="val 49714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60" name=""/>
          <p:cNvGrpSpPr/>
          <p:nvPr/>
        </p:nvGrpSpPr>
        <p:grpSpPr>
          <a:xfrm>
            <a:off x="6611400" y="1447920"/>
            <a:ext cx="627120" cy="1142640"/>
            <a:chOff x="6611400" y="1447920"/>
            <a:chExt cx="627120" cy="1142640"/>
          </a:xfrm>
        </p:grpSpPr>
        <p:sp>
          <p:nvSpPr>
            <p:cNvPr id="1161" name=""/>
            <p:cNvSpPr/>
            <p:nvPr/>
          </p:nvSpPr>
          <p:spPr>
            <a:xfrm>
              <a:off x="705096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5096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0572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705720" y="2419920"/>
              <a:ext cx="187560" cy="1706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050960" y="186912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705720" y="2161440"/>
              <a:ext cx="187560" cy="1702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67" name=""/>
            <p:cNvGraphicFramePr/>
            <p:nvPr/>
          </p:nvGraphicFramePr>
          <p:xfrm>
            <a:off x="6736680" y="1447920"/>
            <a:ext cx="298080" cy="314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736680" y="1447920"/>
                      <a:ext cx="29808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69" name=""/>
            <p:cNvCxnSpPr>
              <a:endCxn id="1163" idx="2"/>
            </p:cNvCxnSpPr>
            <p:nvPr/>
          </p:nvCxnSpPr>
          <p:spPr>
            <a:xfrm flipV="1" rot="10800000">
              <a:off x="6705000" y="1604520"/>
              <a:ext cx="31680" cy="3495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0" name=""/>
            <p:cNvCxnSpPr>
              <a:endCxn id="1166" idx="2"/>
            </p:cNvCxnSpPr>
            <p:nvPr/>
          </p:nvCxnSpPr>
          <p:spPr>
            <a:xfrm flipV="1" rot="10800000">
              <a:off x="6705000" y="1604160"/>
              <a:ext cx="31680" cy="64080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1" name=""/>
            <p:cNvCxnSpPr>
              <a:endCxn id="1164" idx="2"/>
            </p:cNvCxnSpPr>
            <p:nvPr/>
          </p:nvCxnSpPr>
          <p:spPr>
            <a:xfrm flipV="1" rot="10800000">
              <a:off x="6705000" y="1604520"/>
              <a:ext cx="31680" cy="9010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2" name=""/>
            <p:cNvCxnSpPr>
              <a:stCxn id="1163" idx="6"/>
              <a:endCxn id="1165" idx="2"/>
            </p:cNvCxnSpPr>
            <p:nvPr/>
          </p:nvCxnSpPr>
          <p:spPr>
            <a:xfrm>
              <a:off x="6892920" y="1954440"/>
              <a:ext cx="15804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3" name=""/>
            <p:cNvCxnSpPr>
              <a:stCxn id="1163" idx="6"/>
              <a:endCxn id="1161" idx="2"/>
            </p:cNvCxnSpPr>
            <p:nvPr/>
          </p:nvCxnSpPr>
          <p:spPr>
            <a:xfrm>
              <a:off x="6892920" y="1954440"/>
              <a:ext cx="158040" cy="29196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74" name=""/>
            <p:cNvCxnSpPr>
              <a:stCxn id="1163" idx="6"/>
              <a:endCxn id="1162" idx="2"/>
            </p:cNvCxnSpPr>
            <p:nvPr/>
          </p:nvCxnSpPr>
          <p:spPr>
            <a:xfrm>
              <a:off x="6892920" y="1954440"/>
              <a:ext cx="158040" cy="5515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grpSp>
        <p:nvGrpSpPr>
          <p:cNvPr id="1175" name=""/>
          <p:cNvGrpSpPr/>
          <p:nvPr/>
        </p:nvGrpSpPr>
        <p:grpSpPr>
          <a:xfrm>
            <a:off x="5660280" y="3733920"/>
            <a:ext cx="359640" cy="533160"/>
            <a:chOff x="5660280" y="3733920"/>
            <a:chExt cx="359640" cy="533160"/>
          </a:xfrm>
        </p:grpSpPr>
        <p:sp>
          <p:nvSpPr>
            <p:cNvPr id="1176" name=""/>
            <p:cNvSpPr/>
            <p:nvPr/>
          </p:nvSpPr>
          <p:spPr>
            <a:xfrm>
              <a:off x="591264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1264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1500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15000" y="41875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12640" y="393048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4066920"/>
              <a:ext cx="107280" cy="79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182" name=""/>
            <p:cNvGraphicFramePr/>
            <p:nvPr/>
          </p:nvGraphicFramePr>
          <p:xfrm>
            <a:off x="5732640" y="3733920"/>
            <a:ext cx="170640" cy="14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32640" y="3733920"/>
                      <a:ext cx="170640" cy="1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184" name=""/>
            <p:cNvCxnSpPr>
              <a:endCxn id="1178" idx="2"/>
            </p:cNvCxnSpPr>
            <p:nvPr/>
          </p:nvCxnSpPr>
          <p:spPr>
            <a:xfrm flipV="1" rot="10800000">
              <a:off x="5714280" y="3807000"/>
              <a:ext cx="18360" cy="1634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5" name=""/>
            <p:cNvCxnSpPr>
              <a:endCxn id="1181" idx="2"/>
            </p:cNvCxnSpPr>
            <p:nvPr/>
          </p:nvCxnSpPr>
          <p:spPr>
            <a:xfrm flipV="1" rot="10800000">
              <a:off x="5714280" y="3807000"/>
              <a:ext cx="18360" cy="29952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6" name=""/>
            <p:cNvCxnSpPr>
              <a:endCxn id="1179" idx="2"/>
            </p:cNvCxnSpPr>
            <p:nvPr/>
          </p:nvCxnSpPr>
          <p:spPr>
            <a:xfrm flipV="1" rot="10800000">
              <a:off x="5714280" y="3806280"/>
              <a:ext cx="18360" cy="42084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7" name=""/>
            <p:cNvCxnSpPr>
              <a:stCxn id="1178" idx="6"/>
              <a:endCxn id="1180" idx="2"/>
            </p:cNvCxnSpPr>
            <p:nvPr/>
          </p:nvCxnSpPr>
          <p:spPr>
            <a:xfrm>
              <a:off x="5822280" y="3970080"/>
              <a:ext cx="9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8" name=""/>
            <p:cNvCxnSpPr>
              <a:stCxn id="1178" idx="6"/>
              <a:endCxn id="1176" idx="2"/>
            </p:cNvCxnSpPr>
            <p:nvPr/>
          </p:nvCxnSpPr>
          <p:spPr>
            <a:xfrm>
              <a:off x="5822280" y="3970080"/>
              <a:ext cx="90720" cy="13644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189" name=""/>
            <p:cNvCxnSpPr>
              <a:stCxn id="1178" idx="6"/>
              <a:endCxn id="1177" idx="2"/>
            </p:cNvCxnSpPr>
            <p:nvPr/>
          </p:nvCxnSpPr>
          <p:spPr>
            <a:xfrm>
              <a:off x="5822280" y="3970440"/>
              <a:ext cx="90720" cy="257760"/>
            </a:xfrm>
            <a:prstGeom prst="bentConnector3">
              <a:avLst>
                <a:gd name="adj1" fmla="val 498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sp>
        <p:nvSpPr>
          <p:cNvPr id="1190" name=""/>
          <p:cNvSpPr/>
          <p:nvPr/>
        </p:nvSpPr>
        <p:spPr>
          <a:xfrm>
            <a:off x="3886200" y="4800600"/>
            <a:ext cx="814320" cy="60660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402000" y="5483160"/>
            <a:ext cx="444600" cy="70812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114800" y="5638680"/>
            <a:ext cx="1062000" cy="509760"/>
          </a:xfrm>
          <a:prstGeom prst="ellipse">
            <a:avLst/>
          </a:prstGeom>
          <a:gradFill rotWithShape="0">
            <a:gsLst>
              <a:gs pos="0">
                <a:srgbClr val="001c00"/>
              </a:gs>
              <a:gs pos="100000">
                <a:srgbClr val="00b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3809880" y="5409720"/>
            <a:ext cx="22860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571640" y="5334120"/>
            <a:ext cx="152280" cy="304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4038480" y="4876920"/>
            <a:ext cx="685800" cy="533160"/>
            <a:chOff x="4038480" y="4876920"/>
            <a:chExt cx="685800" cy="533160"/>
          </a:xfrm>
        </p:grpSpPr>
        <p:sp>
          <p:nvSpPr>
            <p:cNvPr id="1196" name=""/>
            <p:cNvSpPr/>
            <p:nvPr/>
          </p:nvSpPr>
          <p:spPr>
            <a:xfrm>
              <a:off x="4038480" y="4876920"/>
              <a:ext cx="22860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67080" y="5105520"/>
              <a:ext cx="7632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67080" y="5105520"/>
              <a:ext cx="457200" cy="759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3428640" y="5562720"/>
            <a:ext cx="381240" cy="380880"/>
            <a:chOff x="3428640" y="5562720"/>
            <a:chExt cx="381240" cy="380880"/>
          </a:xfrm>
        </p:grpSpPr>
        <p:sp>
          <p:nvSpPr>
            <p:cNvPr id="1200" name=""/>
            <p:cNvSpPr/>
            <p:nvPr/>
          </p:nvSpPr>
          <p:spPr>
            <a:xfrm flipH="1">
              <a:off x="3581280" y="5562720"/>
              <a:ext cx="152640" cy="30456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1280" y="5867280"/>
              <a:ext cx="228600" cy="7632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 flipV="1">
              <a:off x="3428640" y="5638320"/>
              <a:ext cx="15228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4267080" y="5714640"/>
            <a:ext cx="762120" cy="381240"/>
            <a:chOff x="4267080" y="5714640"/>
            <a:chExt cx="762120" cy="381240"/>
          </a:xfrm>
        </p:grpSpPr>
        <p:sp>
          <p:nvSpPr>
            <p:cNvPr id="1204" name=""/>
            <p:cNvSpPr/>
            <p:nvPr/>
          </p:nvSpPr>
          <p:spPr>
            <a:xfrm>
              <a:off x="4267080" y="5715000"/>
              <a:ext cx="45720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419720" y="5867280"/>
              <a:ext cx="30456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724280" y="5714640"/>
              <a:ext cx="304920" cy="15228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24280" y="5867280"/>
              <a:ext cx="304920" cy="228600"/>
            </a:xfrm>
            <a:prstGeom prst="line">
              <a:avLst/>
            </a:prstGeom>
            <a:ln w="12600">
              <a:solidFill>
                <a:srgbClr val="ffff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8" name=""/>
          <p:cNvSpPr/>
          <p:nvPr/>
        </p:nvSpPr>
        <p:spPr>
          <a:xfrm flipV="1">
            <a:off x="914400" y="487692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76160" y="4800600"/>
            <a:ext cx="228600" cy="380880"/>
          </a:xfrm>
          <a:prstGeom prst="line">
            <a:avLst/>
          </a:prstGeom>
          <a:ln w="38160">
            <a:solidFill>
              <a:srgbClr val="66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5"/>
          <a:stretch/>
        </p:blipFill>
        <p:spPr>
          <a:xfrm>
            <a:off x="9144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"/>
          <p:cNvPicPr/>
          <p:nvPr/>
        </p:nvPicPr>
        <p:blipFill>
          <a:blip r:embed="rId16"/>
          <a:stretch/>
        </p:blipFill>
        <p:spPr>
          <a:xfrm>
            <a:off x="1600200" y="83808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17"/>
          <a:stretch/>
        </p:blipFill>
        <p:spPr>
          <a:xfrm>
            <a:off x="3048120" y="914400"/>
            <a:ext cx="434880" cy="99072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18"/>
          <a:stretch/>
        </p:blipFill>
        <p:spPr>
          <a:xfrm>
            <a:off x="3581280" y="1066680"/>
            <a:ext cx="435240" cy="9907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9"/>
          <a:stretch/>
        </p:blipFill>
        <p:spPr>
          <a:xfrm>
            <a:off x="4114800" y="12193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20"/>
          <a:stretch/>
        </p:blipFill>
        <p:spPr>
          <a:xfrm>
            <a:off x="441972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"/>
          <p:cNvPicPr/>
          <p:nvPr/>
        </p:nvPicPr>
        <p:blipFill>
          <a:blip r:embed="rId21"/>
          <a:stretch/>
        </p:blipFill>
        <p:spPr>
          <a:xfrm>
            <a:off x="7162920" y="533520"/>
            <a:ext cx="434880" cy="990360"/>
          </a:xfrm>
          <a:prstGeom prst="rect">
            <a:avLst/>
          </a:prstGeom>
          <a:ln w="0">
            <a:noFill/>
          </a:ln>
        </p:spPr>
      </p:pic>
      <p:pic>
        <p:nvPicPr>
          <p:cNvPr id="1217" name="" descr=""/>
          <p:cNvPicPr/>
          <p:nvPr/>
        </p:nvPicPr>
        <p:blipFill>
          <a:blip r:embed="rId22"/>
          <a:stretch/>
        </p:blipFill>
        <p:spPr>
          <a:xfrm>
            <a:off x="7772400" y="762120"/>
            <a:ext cx="434880" cy="990360"/>
          </a:xfrm>
          <a:prstGeom prst="rect">
            <a:avLst/>
          </a:prstGeom>
          <a:ln w="0">
            <a:noFill/>
          </a:ln>
        </p:spPr>
      </p:pic>
      <p:grpSp>
        <p:nvGrpSpPr>
          <p:cNvPr id="1218" name=""/>
          <p:cNvGrpSpPr/>
          <p:nvPr/>
        </p:nvGrpSpPr>
        <p:grpSpPr>
          <a:xfrm>
            <a:off x="3931200" y="4648320"/>
            <a:ext cx="716760" cy="1294920"/>
            <a:chOff x="3931200" y="4648320"/>
            <a:chExt cx="716760" cy="1294920"/>
          </a:xfrm>
        </p:grpSpPr>
        <p:sp>
          <p:nvSpPr>
            <p:cNvPr id="1219" name=""/>
            <p:cNvSpPr/>
            <p:nvPr/>
          </p:nvSpPr>
          <p:spPr>
            <a:xfrm>
              <a:off x="443340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43340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3848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038480" y="5749920"/>
              <a:ext cx="214560" cy="1933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33400" y="51256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038480" y="5456880"/>
              <a:ext cx="214560" cy="1929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225" name=""/>
            <p:cNvGraphicFramePr/>
            <p:nvPr/>
          </p:nvGraphicFramePr>
          <p:xfrm>
            <a:off x="4073760" y="4648320"/>
            <a:ext cx="340920" cy="356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2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073760" y="4648320"/>
                      <a:ext cx="340920" cy="35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227" name=""/>
            <p:cNvCxnSpPr>
              <a:endCxn id="1221" idx="2"/>
            </p:cNvCxnSpPr>
            <p:nvPr/>
          </p:nvCxnSpPr>
          <p:spPr>
            <a:xfrm flipV="1" rot="10800000">
              <a:off x="4037760" y="4825800"/>
              <a:ext cx="36000" cy="3963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8" name=""/>
            <p:cNvCxnSpPr>
              <a:endCxn id="1224" idx="2"/>
            </p:cNvCxnSpPr>
            <p:nvPr/>
          </p:nvCxnSpPr>
          <p:spPr>
            <a:xfrm flipV="1" rot="10800000">
              <a:off x="4037760" y="4826520"/>
              <a:ext cx="36000" cy="72648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29" name=""/>
            <p:cNvCxnSpPr>
              <a:endCxn id="1222" idx="2"/>
            </p:cNvCxnSpPr>
            <p:nvPr/>
          </p:nvCxnSpPr>
          <p:spPr>
            <a:xfrm flipV="1" rot="10800000">
              <a:off x="4037760" y="4826520"/>
              <a:ext cx="36000" cy="1020960"/>
            </a:xfrm>
            <a:prstGeom prst="bentConnector3">
              <a:avLst>
                <a:gd name="adj1" fmla="val 4000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0" name=""/>
            <p:cNvCxnSpPr>
              <a:stCxn id="1221" idx="6"/>
              <a:endCxn id="1223" idx="2"/>
            </p:cNvCxnSpPr>
            <p:nvPr/>
          </p:nvCxnSpPr>
          <p:spPr>
            <a:xfrm>
              <a:off x="4253040" y="5222520"/>
              <a:ext cx="180720" cy="1080"/>
            </a:xfrm>
            <a:prstGeom prst="bentConnector2">
              <a:avLst/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1" name=""/>
            <p:cNvCxnSpPr>
              <a:stCxn id="1221" idx="6"/>
              <a:endCxn id="1219" idx="2"/>
            </p:cNvCxnSpPr>
            <p:nvPr/>
          </p:nvCxnSpPr>
          <p:spPr>
            <a:xfrm>
              <a:off x="4253040" y="5222880"/>
              <a:ext cx="180720" cy="33048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  <p:cxnSp>
          <p:nvCxnSpPr>
            <p:cNvPr id="1232" name=""/>
            <p:cNvCxnSpPr>
              <a:stCxn id="1221" idx="6"/>
              <a:endCxn id="1220" idx="2"/>
            </p:cNvCxnSpPr>
            <p:nvPr/>
          </p:nvCxnSpPr>
          <p:spPr>
            <a:xfrm>
              <a:off x="4253040" y="5222520"/>
              <a:ext cx="180720" cy="625320"/>
            </a:xfrm>
            <a:prstGeom prst="bentConnector3">
              <a:avLst>
                <a:gd name="adj1" fmla="val 49900"/>
              </a:avLst>
            </a:prstGeom>
            <a:ln w="12600">
              <a:solidFill>
                <a:srgbClr val="ffffff"/>
              </a:solidFill>
              <a:miter/>
            </a:ln>
          </p:spPr>
        </p:cxnSp>
      </p:grpSp>
      <p:pic>
        <p:nvPicPr>
          <p:cNvPr id="1233" name="" descr=""/>
          <p:cNvPicPr/>
          <p:nvPr/>
        </p:nvPicPr>
        <p:blipFill>
          <a:blip r:embed="rId25"/>
          <a:stretch/>
        </p:blipFill>
        <p:spPr>
          <a:xfrm>
            <a:off x="914400" y="3962520"/>
            <a:ext cx="268200" cy="609480"/>
          </a:xfrm>
          <a:prstGeom prst="rect">
            <a:avLst/>
          </a:prstGeom>
          <a:ln w="0">
            <a:noFill/>
          </a:ln>
        </p:spPr>
      </p:pic>
      <p:pic>
        <p:nvPicPr>
          <p:cNvPr id="1234" name="" descr=""/>
          <p:cNvPicPr/>
          <p:nvPr/>
        </p:nvPicPr>
        <p:blipFill>
          <a:blip r:embed="rId26"/>
          <a:stretch/>
        </p:blipFill>
        <p:spPr>
          <a:xfrm>
            <a:off x="609480" y="4800600"/>
            <a:ext cx="268560" cy="609480"/>
          </a:xfrm>
          <a:prstGeom prst="rect">
            <a:avLst/>
          </a:prstGeom>
          <a:ln w="0">
            <a:noFill/>
          </a:ln>
        </p:spPr>
      </p:pic>
      <p:pic>
        <p:nvPicPr>
          <p:cNvPr id="1235" name="" descr=""/>
          <p:cNvPicPr/>
          <p:nvPr/>
        </p:nvPicPr>
        <p:blipFill>
          <a:blip r:embed="rId27"/>
          <a:stretch/>
        </p:blipFill>
        <p:spPr>
          <a:xfrm>
            <a:off x="2057400" y="4724280"/>
            <a:ext cx="268200" cy="60984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8"/>
          <a:stretch/>
        </p:blipFill>
        <p:spPr>
          <a:xfrm>
            <a:off x="6324480" y="3505320"/>
            <a:ext cx="268560" cy="6094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457560" y="243828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76160" y="411480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1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427920" y="63244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714640" y="4572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szeged.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49240" y="685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elt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-3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3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676160" y="5791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tansz2.bme.h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59000" y="154080"/>
            <a:ext cx="95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375920" y="1440"/>
            <a:ext cx="172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omain Na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899800" y="1440"/>
            <a:ext cx="149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60480" y="53496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PDC Emul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9720" y="37353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5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517120" y="45734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345920" y="35830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708240" y="327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232120" y="382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470720" y="1440"/>
            <a:ext cx="94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FSMO-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 flipV="1">
            <a:off x="5181120" y="5257800"/>
            <a:ext cx="16002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781680" y="57150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391160" y="553716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Site Link-ek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Object-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4952880" y="4571640"/>
            <a:ext cx="182880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648320" y="1555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Arial"/>
              </a:rPr>
              <a:t>Tranzitív Trust-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952880" y="609480"/>
            <a:ext cx="1526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181480" y="609480"/>
            <a:ext cx="685800" cy="236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29"/>
          <a:stretch/>
        </p:blipFill>
        <p:spPr>
          <a:xfrm>
            <a:off x="8001000" y="4952880"/>
            <a:ext cx="469800" cy="56988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30"/>
          <a:stretch/>
        </p:blipFill>
        <p:spPr>
          <a:xfrm>
            <a:off x="3124080" y="53341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64" name="" descr=""/>
          <p:cNvPicPr/>
          <p:nvPr/>
        </p:nvPicPr>
        <p:blipFill>
          <a:blip r:embed="rId31"/>
          <a:stretch/>
        </p:blipFill>
        <p:spPr>
          <a:xfrm>
            <a:off x="2590920" y="51814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32"/>
          <a:stretch/>
        </p:blipFill>
        <p:spPr>
          <a:xfrm>
            <a:off x="3581280" y="43434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33"/>
          <a:stretch/>
        </p:blipFill>
        <p:spPr>
          <a:xfrm>
            <a:off x="3200400" y="365760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34"/>
          <a:stretch/>
        </p:blipFill>
        <p:spPr>
          <a:xfrm>
            <a:off x="1905120" y="33526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35"/>
          <a:stretch/>
        </p:blipFill>
        <p:spPr>
          <a:xfrm>
            <a:off x="1752480" y="38862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69" name="" descr=""/>
          <p:cNvPicPr/>
          <p:nvPr/>
        </p:nvPicPr>
        <p:blipFill>
          <a:blip r:embed="rId36"/>
          <a:stretch/>
        </p:blipFill>
        <p:spPr>
          <a:xfrm>
            <a:off x="4495680" y="2286000"/>
            <a:ext cx="303480" cy="374760"/>
          </a:xfrm>
          <a:prstGeom prst="rect">
            <a:avLst/>
          </a:prstGeom>
          <a:ln w="0">
            <a:noFill/>
          </a:ln>
        </p:spPr>
      </p:pic>
      <p:pic>
        <p:nvPicPr>
          <p:cNvPr id="1270" name="" descr=""/>
          <p:cNvPicPr/>
          <p:nvPr/>
        </p:nvPicPr>
        <p:blipFill>
          <a:blip r:embed="rId37"/>
          <a:stretch/>
        </p:blipFill>
        <p:spPr>
          <a:xfrm>
            <a:off x="5181480" y="21337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1" name="" descr=""/>
          <p:cNvPicPr/>
          <p:nvPr/>
        </p:nvPicPr>
        <p:blipFill>
          <a:blip r:embed="rId38"/>
          <a:stretch/>
        </p:blipFill>
        <p:spPr>
          <a:xfrm>
            <a:off x="4800600" y="4876920"/>
            <a:ext cx="303120" cy="37440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39"/>
          <a:stretch/>
        </p:blipFill>
        <p:spPr>
          <a:xfrm>
            <a:off x="4952880" y="3962520"/>
            <a:ext cx="303480" cy="37440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40"/>
          <a:stretch/>
        </p:blipFill>
        <p:spPr>
          <a:xfrm>
            <a:off x="6019920" y="3124080"/>
            <a:ext cx="303120" cy="37476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41"/>
          <a:stretch/>
        </p:blipFill>
        <p:spPr>
          <a:xfrm>
            <a:off x="6324480" y="2666880"/>
            <a:ext cx="303480" cy="37476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5868000" y="6451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DNS zón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 flipV="1">
            <a:off x="5029200" y="6400440"/>
            <a:ext cx="8380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651200" y="129708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RID Ma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ztonságos levelezés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epítsük fel a High Encryption Pack-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nternet Explorer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elp</a:t>
            </a:r>
            <a:r>
              <a:rPr b="0" lang="hu-HU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bout: 128 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grált tartománynál telepítési gondok lehet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úl hosszú a SID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ocal Administrator-t használ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sak ismert CA-tól kérjünk bizonyítványt magunk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itkosított levélhez kell a partner nyilvános kulcsa (bizonyítvány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őbb ő küldjön nekünk egy aláírt levelet és tegyük őt a helyi kontaktok köz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Megoldá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 ne csak névvel és jelszóval jelentkezhessen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xtensible Authentication Protocol (EA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martCard használata bejelentkezésh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erberos Key Distribution Center (KDC) PKI alapú hitelesítésre is ad ki jeg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jelentkezéshez speciális célú bizonyítvány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terprise CA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martCard User” sab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1" name=""/>
          <p:cNvGrpSpPr/>
          <p:nvPr/>
        </p:nvGrpSpPr>
        <p:grpSpPr>
          <a:xfrm>
            <a:off x="2844720" y="5905440"/>
            <a:ext cx="3802320" cy="834840"/>
            <a:chOff x="2844720" y="5905440"/>
            <a:chExt cx="3802320" cy="834840"/>
          </a:xfrm>
        </p:grpSpPr>
        <p:sp>
          <p:nvSpPr>
            <p:cNvPr id="6152" name=""/>
            <p:cNvSpPr/>
            <p:nvPr/>
          </p:nvSpPr>
          <p:spPr>
            <a:xfrm>
              <a:off x="2844720" y="5905440"/>
              <a:ext cx="3398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913120" y="6006960"/>
              <a:ext cx="373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ki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GT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mely a felhasználó nyilvános kulcsával lett titkosítv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4" name=""/>
          <p:cNvGrpSpPr/>
          <p:nvPr/>
        </p:nvGrpSpPr>
        <p:grpSpPr>
          <a:xfrm>
            <a:off x="2362320" y="2019240"/>
            <a:ext cx="4419360" cy="3504960"/>
            <a:chOff x="2362320" y="2019240"/>
            <a:chExt cx="4419360" cy="3504960"/>
          </a:xfrm>
        </p:grpSpPr>
        <p:sp>
          <p:nvSpPr>
            <p:cNvPr id="6155" name=""/>
            <p:cNvSpPr/>
            <p:nvPr/>
          </p:nvSpPr>
          <p:spPr>
            <a:xfrm flipH="1">
              <a:off x="2362320" y="3466800"/>
              <a:ext cx="2209680" cy="205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4572000" y="354312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8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S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rt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rd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dekódolja a TGT-t a felhasználó privát kulcsával. Az LSA bejelentkezteti a felhasználót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57" name="" descr=""/>
            <p:cNvPicPr/>
            <p:nvPr/>
          </p:nvPicPr>
          <p:blipFill>
            <a:blip r:embed="rId1"/>
            <a:stretch/>
          </p:blipFill>
          <p:spPr>
            <a:xfrm>
              <a:off x="4572000" y="2019240"/>
              <a:ext cx="1828800" cy="13716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3366"/>
              </a:outerShdw>
            </a:effectLst>
          </p:spPr>
        </p:pic>
      </p:grpSp>
      <p:grpSp>
        <p:nvGrpSpPr>
          <p:cNvPr id="6158" name=""/>
          <p:cNvGrpSpPr/>
          <p:nvPr/>
        </p:nvGrpSpPr>
        <p:grpSpPr>
          <a:xfrm>
            <a:off x="515880" y="1808280"/>
            <a:ext cx="2141640" cy="2421000"/>
            <a:chOff x="515880" y="1808280"/>
            <a:chExt cx="2141640" cy="2421000"/>
          </a:xfrm>
        </p:grpSpPr>
        <p:sp>
          <p:nvSpPr>
            <p:cNvPr id="6159" name=""/>
            <p:cNvSpPr/>
            <p:nvPr/>
          </p:nvSpPr>
          <p:spPr>
            <a:xfrm>
              <a:off x="2176560" y="180828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15880" y="3391200"/>
              <a:ext cx="72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 meg-adás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6161" name=""/>
            <p:cNvGraphicFramePr/>
            <p:nvPr/>
          </p:nvGraphicFramePr>
          <p:xfrm>
            <a:off x="1209600" y="3203640"/>
            <a:ext cx="1447920" cy="1025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61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09600" y="3203640"/>
                      <a:ext cx="1447920" cy="10256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3366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6163" name=""/>
          <p:cNvGrpSpPr/>
          <p:nvPr/>
        </p:nvGrpSpPr>
        <p:grpSpPr>
          <a:xfrm>
            <a:off x="6781680" y="2779560"/>
            <a:ext cx="1922760" cy="2820960"/>
            <a:chOff x="6781680" y="2779560"/>
            <a:chExt cx="1922760" cy="2820960"/>
          </a:xfrm>
        </p:grpSpPr>
        <p:grpSp>
          <p:nvGrpSpPr>
            <p:cNvPr id="6164" name=""/>
            <p:cNvGrpSpPr/>
            <p:nvPr/>
          </p:nvGrpSpPr>
          <p:grpSpPr>
            <a:xfrm>
              <a:off x="6781680" y="2779560"/>
              <a:ext cx="1447920" cy="1449360"/>
              <a:chOff x="6781680" y="2779560"/>
              <a:chExt cx="1447920" cy="1449360"/>
            </a:xfrm>
          </p:grpSpPr>
          <p:sp>
            <p:nvSpPr>
              <p:cNvPr id="616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68db1"/>
                  </a:gs>
                  <a:gs pos="50000">
                    <a:srgbClr val="66ccff"/>
                  </a:gs>
                  <a:gs pos="100000">
                    <a:srgbClr val="468db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00ff66"/>
                  </a:gs>
                  <a:gs pos="100000">
                    <a:srgbClr val="00b14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ff00cc"/>
                  </a:gs>
                  <a:gs pos="100000">
                    <a:srgbClr val="b1008d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781680" y="2779560"/>
                <a:ext cx="1447920" cy="144936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7396200" y="3039840"/>
                <a:ext cx="209520" cy="214200"/>
              </a:xfrm>
              <a:prstGeom prst="ellipse">
                <a:avLst/>
              </a:prstGeom>
              <a:gradFill rotWithShape="0">
                <a:gsLst>
                  <a:gs pos="0">
                    <a:srgbClr val="979700"/>
                  </a:gs>
                  <a:gs pos="100000">
                    <a:srgbClr val="ffff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7450200" y="3430440"/>
                <a:ext cx="2109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e701"/>
                  </a:gs>
                  <a:gs pos="100000">
                    <a:srgbClr val="b1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7121520" y="3821040"/>
                <a:ext cx="2095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742320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7500960" y="3259080"/>
                <a:ext cx="5544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7556400" y="3649320"/>
                <a:ext cx="247680" cy="157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281360" y="3649320"/>
                <a:ext cx="27468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7716960" y="3821040"/>
                <a:ext cx="21096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33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527600" y="3657600"/>
                <a:ext cx="19080" cy="168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5" name=""/>
            <p:cNvSpPr/>
            <p:nvPr/>
          </p:nvSpPr>
          <p:spPr>
            <a:xfrm flipV="1">
              <a:off x="7086600" y="4228920"/>
              <a:ext cx="0" cy="1371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7180200" y="4457520"/>
              <a:ext cx="1524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bizonyítvány ellenőrzése az AD alapjá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7" name=""/>
          <p:cNvSpPr/>
          <p:nvPr/>
        </p:nvSpPr>
        <p:spPr>
          <a:xfrm>
            <a:off x="1092240" y="1333440"/>
            <a:ext cx="1219320" cy="60984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Olvas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8" name=""/>
          <p:cNvGrpSpPr/>
          <p:nvPr/>
        </p:nvGrpSpPr>
        <p:grpSpPr>
          <a:xfrm>
            <a:off x="506520" y="1501920"/>
            <a:ext cx="2244600" cy="1113480"/>
            <a:chOff x="506520" y="1501920"/>
            <a:chExt cx="2244600" cy="1113480"/>
          </a:xfrm>
        </p:grpSpPr>
        <p:sp>
          <p:nvSpPr>
            <p:cNvPr id="6189" name=""/>
            <p:cNvSpPr/>
            <p:nvPr/>
          </p:nvSpPr>
          <p:spPr>
            <a:xfrm>
              <a:off x="506520" y="2095200"/>
              <a:ext cx="181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kártya előhív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IN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0" name=""/>
            <p:cNvGrpSpPr/>
            <p:nvPr/>
          </p:nvGrpSpPr>
          <p:grpSpPr>
            <a:xfrm>
              <a:off x="2065320" y="1501920"/>
              <a:ext cx="685800" cy="380520"/>
              <a:chOff x="2065320" y="1501920"/>
              <a:chExt cx="685800" cy="380520"/>
            </a:xfrm>
          </p:grpSpPr>
          <p:sp>
            <p:nvSpPr>
              <p:cNvPr id="6191" name=""/>
              <p:cNvSpPr/>
              <p:nvPr/>
            </p:nvSpPr>
            <p:spPr>
              <a:xfrm>
                <a:off x="2065320" y="1501920"/>
                <a:ext cx="685800" cy="380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e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rot="16173000">
                <a:off x="2147040" y="1647360"/>
                <a:ext cx="107640" cy="11916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193" name=""/>
          <p:cNvGrpSpPr/>
          <p:nvPr/>
        </p:nvGrpSpPr>
        <p:grpSpPr>
          <a:xfrm>
            <a:off x="1996920" y="1942920"/>
            <a:ext cx="2422800" cy="3628440"/>
            <a:chOff x="1996920" y="1942920"/>
            <a:chExt cx="2422800" cy="3628440"/>
          </a:xfrm>
        </p:grpSpPr>
        <p:sp>
          <p:nvSpPr>
            <p:cNvPr id="6194" name=""/>
            <p:cNvSpPr/>
            <p:nvPr/>
          </p:nvSpPr>
          <p:spPr>
            <a:xfrm flipV="1">
              <a:off x="1996920" y="4728600"/>
              <a:ext cx="809640" cy="842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V="1">
              <a:off x="2790720" y="1942920"/>
              <a:ext cx="0" cy="281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895480" y="2095200"/>
              <a:ext cx="1524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4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éri a kártyától a bizonyítvány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7" name=""/>
          <p:cNvGrpSpPr/>
          <p:nvPr/>
        </p:nvGrpSpPr>
        <p:grpSpPr>
          <a:xfrm>
            <a:off x="762120" y="3848040"/>
            <a:ext cx="1739880" cy="2463840"/>
            <a:chOff x="762120" y="3848040"/>
            <a:chExt cx="1739880" cy="2463840"/>
          </a:xfrm>
        </p:grpSpPr>
        <p:sp>
          <p:nvSpPr>
            <p:cNvPr id="6198" name=""/>
            <p:cNvSpPr/>
            <p:nvPr/>
          </p:nvSpPr>
          <p:spPr>
            <a:xfrm>
              <a:off x="1905120" y="384804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762120" y="4457520"/>
              <a:ext cx="1234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GINA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átadja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N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z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a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762120" y="5448240"/>
              <a:ext cx="173988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S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1" name=""/>
          <p:cNvGrpSpPr/>
          <p:nvPr/>
        </p:nvGrpSpPr>
        <p:grpSpPr>
          <a:xfrm>
            <a:off x="2509920" y="5143680"/>
            <a:ext cx="5892840" cy="1282680"/>
            <a:chOff x="2509920" y="5143680"/>
            <a:chExt cx="5892840" cy="1282680"/>
          </a:xfrm>
        </p:grpSpPr>
        <p:sp>
          <p:nvSpPr>
            <p:cNvPr id="6202" name=""/>
            <p:cNvSpPr/>
            <p:nvPr/>
          </p:nvSpPr>
          <p:spPr>
            <a:xfrm>
              <a:off x="2666880" y="5727960"/>
              <a:ext cx="3589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200400" y="5143680"/>
              <a:ext cx="304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 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elküldi a bizonyítványt a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DC</a:t>
              </a:r>
              <a:r>
                <a:rPr b="1" lang="hu-HU" sz="1400" spc="-1" strike="noStrike">
                  <a:solidFill>
                    <a:srgbClr val="ffffff"/>
                  </a:solidFill>
                  <a:latin typeface="Arial"/>
                </a:rPr>
                <a:t>-ne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H="1">
              <a:off x="2509920" y="5448600"/>
              <a:ext cx="296640" cy="863640"/>
            </a:xfrm>
            <a:prstGeom prst="rect">
              <a:avLst/>
            </a:prstGeom>
            <a:gradFill rotWithShape="0">
              <a:gsLst>
                <a:gs pos="0">
                  <a:srgbClr val="756a00"/>
                </a:gs>
                <a:gs pos="100000">
                  <a:srgbClr val="ffe70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be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5" name=""/>
            <p:cNvGrpSpPr/>
            <p:nvPr/>
          </p:nvGrpSpPr>
          <p:grpSpPr>
            <a:xfrm>
              <a:off x="6357600" y="5600880"/>
              <a:ext cx="2045160" cy="825480"/>
              <a:chOff x="6357600" y="5600880"/>
              <a:chExt cx="2045160" cy="825480"/>
            </a:xfrm>
          </p:grpSpPr>
          <p:sp>
            <p:nvSpPr>
              <p:cNvPr id="6206" name=""/>
              <p:cNvSpPr/>
              <p:nvPr/>
            </p:nvSpPr>
            <p:spPr>
              <a:xfrm flipH="1">
                <a:off x="6357240" y="5600880"/>
                <a:ext cx="30492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Kerbero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662880" y="5600880"/>
                <a:ext cx="1739880" cy="825480"/>
              </a:xfrm>
              <a:prstGeom prst="rect">
                <a:avLst/>
              </a:prstGeom>
              <a:gradFill rotWithShape="0">
                <a:gsLst>
                  <a:gs pos="0">
                    <a:srgbClr val="756a00"/>
                  </a:gs>
                  <a:gs pos="100000">
                    <a:srgbClr val="ffe701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D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Hogy működi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6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6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6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Bejelentkezés SmartCard-dal</a:t>
            </a:r>
            <a:br>
              <a:rPr sz="4400"/>
            </a:br>
            <a:r>
              <a:rPr b="0" lang="hu-HU" sz="3200" spc="-1" strike="noStrike">
                <a:solidFill>
                  <a:srgbClr val="ffcc00"/>
                </a:solidFill>
                <a:latin typeface="Arial"/>
              </a:rPr>
              <a:t>Tanács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nem Windows 2000-es megoldások nem PKI alapú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rtomány jelszót tárolnak titkosí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Windows 2000 privát kulcsot tárol a kártyá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CL-es olvasót használj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SmartCard User” sablont külön engedélyezni kell a CA-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felelő Crypto Service Providert (CSP) használjuk a bizonyítvány igénylések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bb bizonyítvány esetén csak az első használható bejelentkezés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T4 tartományok vs. A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34960" y="2263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ók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20" y="51595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őforrás 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5480" y="3352680"/>
            <a:ext cx="1295640" cy="60984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90324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49320" y="3065400"/>
            <a:ext cx="696960" cy="696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4920" y="421164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251000" y="4211640"/>
            <a:ext cx="69840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198520" y="4260960"/>
            <a:ext cx="696960" cy="698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7" name=""/>
          <p:cNvCxnSpPr>
            <a:stCxn id="1284" idx="0"/>
            <a:endCxn id="1282" idx="4"/>
          </p:cNvCxnSpPr>
          <p:nvPr/>
        </p:nvCxnSpPr>
        <p:spPr>
          <a:xfrm flipV="1">
            <a:off x="65412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5" idx="0"/>
            <a:endCxn id="1282" idx="4"/>
          </p:cNvCxnSpPr>
          <p:nvPr/>
        </p:nvCxnSpPr>
        <p:spPr>
          <a:xfrm flipH="1" flipV="1">
            <a:off x="1252080" y="3762000"/>
            <a:ext cx="3484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5" idx="0"/>
            <a:endCxn id="1283" idx="4"/>
          </p:cNvCxnSpPr>
          <p:nvPr/>
        </p:nvCxnSpPr>
        <p:spPr>
          <a:xfrm flipV="1">
            <a:off x="1600200" y="3762000"/>
            <a:ext cx="59868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0" name=""/>
          <p:cNvCxnSpPr>
            <a:stCxn id="1286" idx="0"/>
            <a:endCxn id="1283" idx="4"/>
          </p:cNvCxnSpPr>
          <p:nvPr/>
        </p:nvCxnSpPr>
        <p:spPr>
          <a:xfrm flipH="1" flipV="1">
            <a:off x="2197800" y="3761640"/>
            <a:ext cx="35028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1" name=""/>
          <p:cNvCxnSpPr>
            <a:stCxn id="1286" idx="0"/>
            <a:endCxn id="1282" idx="4"/>
          </p:cNvCxnSpPr>
          <p:nvPr/>
        </p:nvCxnSpPr>
        <p:spPr>
          <a:xfrm flipH="1" flipV="1">
            <a:off x="1251720" y="3761640"/>
            <a:ext cx="1296360" cy="4993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2" name=""/>
          <p:cNvCxnSpPr>
            <a:stCxn id="1284" idx="0"/>
            <a:endCxn id="1283" idx="4"/>
          </p:cNvCxnSpPr>
          <p:nvPr/>
        </p:nvCxnSpPr>
        <p:spPr>
          <a:xfrm flipV="1">
            <a:off x="654120" y="3762000"/>
            <a:ext cx="1545120" cy="450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1152360" y="2965320"/>
            <a:ext cx="263520" cy="60480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2048040" y="3014640"/>
            <a:ext cx="264960" cy="60480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>
            <a:off x="504720" y="4162320"/>
            <a:ext cx="263520" cy="6033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4"/>
          <a:stretch/>
        </p:blipFill>
        <p:spPr>
          <a:xfrm>
            <a:off x="1450800" y="4162320"/>
            <a:ext cx="263880" cy="6033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2448000" y="4211640"/>
            <a:ext cx="263520" cy="60480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4955400" y="21114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ctive Directory erd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5576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0" name="" descr=""/>
          <p:cNvPicPr/>
          <p:nvPr/>
        </p:nvPicPr>
        <p:blipFill>
          <a:blip r:embed="rId6"/>
          <a:stretch/>
        </p:blipFill>
        <p:spPr>
          <a:xfrm>
            <a:off x="4964040" y="274320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52322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2322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0068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0068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2322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0068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7"/>
          <a:stretch/>
        </p:blipFill>
        <p:spPr>
          <a:xfrm>
            <a:off x="5027760" y="3201840"/>
            <a:ext cx="19512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08" name=""/>
          <p:cNvCxnSpPr>
            <a:stCxn id="1307" idx="1"/>
            <a:endCxn id="1303" idx="2"/>
          </p:cNvCxnSpPr>
          <p:nvPr/>
        </p:nvCxnSpPr>
        <p:spPr>
          <a:xfrm flipV="1" rot="10800000">
            <a:off x="5006160" y="3295440"/>
            <a:ext cx="21600" cy="2116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09" name=""/>
          <p:cNvCxnSpPr>
            <a:stCxn id="1307" idx="1"/>
            <a:endCxn id="1306" idx="2"/>
          </p:cNvCxnSpPr>
          <p:nvPr/>
        </p:nvCxnSpPr>
        <p:spPr>
          <a:xfrm flipV="1" rot="10800000">
            <a:off x="5006160" y="329544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0" name=""/>
          <p:cNvCxnSpPr>
            <a:stCxn id="1307" idx="1"/>
            <a:endCxn id="1304" idx="2"/>
          </p:cNvCxnSpPr>
          <p:nvPr/>
        </p:nvCxnSpPr>
        <p:spPr>
          <a:xfrm flipV="1" rot="10800000">
            <a:off x="5006160" y="3295440"/>
            <a:ext cx="21600" cy="545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1" name=""/>
          <p:cNvCxnSpPr>
            <a:stCxn id="1303" idx="6"/>
            <a:endCxn id="1305" idx="2"/>
          </p:cNvCxnSpPr>
          <p:nvPr/>
        </p:nvCxnSpPr>
        <p:spPr>
          <a:xfrm>
            <a:off x="51307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2" name=""/>
          <p:cNvCxnSpPr>
            <a:stCxn id="1303" idx="6"/>
            <a:endCxn id="1301" idx="2"/>
          </p:cNvCxnSpPr>
          <p:nvPr/>
        </p:nvCxnSpPr>
        <p:spPr>
          <a:xfrm>
            <a:off x="51307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13" name=""/>
          <p:cNvCxnSpPr>
            <a:stCxn id="1303" idx="6"/>
            <a:endCxn id="1302" idx="2"/>
          </p:cNvCxnSpPr>
          <p:nvPr/>
        </p:nvCxnSpPr>
        <p:spPr>
          <a:xfrm>
            <a:off x="51307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387684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8"/>
          <a:stretch/>
        </p:blipFill>
        <p:spPr>
          <a:xfrm>
            <a:off x="4282920" y="4132440"/>
            <a:ext cx="341640" cy="3603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45496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5496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3257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3257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5496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257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9"/>
          <a:stretch/>
        </p:blipFill>
        <p:spPr>
          <a:xfrm>
            <a:off x="43466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23" name=""/>
          <p:cNvCxnSpPr>
            <a:stCxn id="1322" idx="1"/>
            <a:endCxn id="1318" idx="2"/>
          </p:cNvCxnSpPr>
          <p:nvPr/>
        </p:nvCxnSpPr>
        <p:spPr>
          <a:xfrm flipV="1" rot="10800000">
            <a:off x="43250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4" name=""/>
          <p:cNvCxnSpPr>
            <a:stCxn id="1322" idx="1"/>
            <a:endCxn id="1321" idx="2"/>
          </p:cNvCxnSpPr>
          <p:nvPr/>
        </p:nvCxnSpPr>
        <p:spPr>
          <a:xfrm flipV="1" rot="10800000">
            <a:off x="43250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5" name=""/>
          <p:cNvCxnSpPr>
            <a:stCxn id="1322" idx="1"/>
            <a:endCxn id="1319" idx="2"/>
          </p:cNvCxnSpPr>
          <p:nvPr/>
        </p:nvCxnSpPr>
        <p:spPr>
          <a:xfrm flipV="1" rot="10800000">
            <a:off x="43250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6" name=""/>
          <p:cNvCxnSpPr>
            <a:stCxn id="1318" idx="6"/>
            <a:endCxn id="1320" idx="2"/>
          </p:cNvCxnSpPr>
          <p:nvPr/>
        </p:nvCxnSpPr>
        <p:spPr>
          <a:xfrm>
            <a:off x="44481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7" name=""/>
          <p:cNvCxnSpPr>
            <a:stCxn id="1318" idx="6"/>
            <a:endCxn id="1316" idx="2"/>
          </p:cNvCxnSpPr>
          <p:nvPr/>
        </p:nvCxnSpPr>
        <p:spPr>
          <a:xfrm>
            <a:off x="44481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28" name=""/>
          <p:cNvCxnSpPr>
            <a:stCxn id="1318" idx="6"/>
            <a:endCxn id="1317" idx="2"/>
          </p:cNvCxnSpPr>
          <p:nvPr/>
        </p:nvCxnSpPr>
        <p:spPr>
          <a:xfrm>
            <a:off x="44481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29" name=""/>
          <p:cNvSpPr/>
          <p:nvPr/>
        </p:nvSpPr>
        <p:spPr>
          <a:xfrm>
            <a:off x="5237280" y="4218120"/>
            <a:ext cx="11635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0"/>
          <a:stretch/>
        </p:blipFill>
        <p:spPr>
          <a:xfrm>
            <a:off x="56437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59101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101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686560" y="484488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686560" y="5176800"/>
            <a:ext cx="1220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9101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686560" y="5021280"/>
            <a:ext cx="1220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1"/>
          <a:stretch/>
        </p:blipFill>
        <p:spPr>
          <a:xfrm>
            <a:off x="57070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38" name=""/>
          <p:cNvCxnSpPr>
            <a:stCxn id="1337" idx="1"/>
            <a:endCxn id="1333" idx="2"/>
          </p:cNvCxnSpPr>
          <p:nvPr/>
        </p:nvCxnSpPr>
        <p:spPr>
          <a:xfrm flipV="1" rot="10800000">
            <a:off x="5685840" y="4683600"/>
            <a:ext cx="20880" cy="212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39" name=""/>
          <p:cNvCxnSpPr>
            <a:stCxn id="1337" idx="1"/>
            <a:endCxn id="1336" idx="2"/>
          </p:cNvCxnSpPr>
          <p:nvPr/>
        </p:nvCxnSpPr>
        <p:spPr>
          <a:xfrm flipV="1" rot="10800000">
            <a:off x="5685840" y="468432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0" name=""/>
          <p:cNvCxnSpPr>
            <a:stCxn id="1337" idx="1"/>
            <a:endCxn id="1334" idx="2"/>
          </p:cNvCxnSpPr>
          <p:nvPr/>
        </p:nvCxnSpPr>
        <p:spPr>
          <a:xfrm flipV="1" rot="10800000">
            <a:off x="5685840" y="4683600"/>
            <a:ext cx="20880" cy="54540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1" name=""/>
          <p:cNvCxnSpPr>
            <a:stCxn id="1333" idx="6"/>
            <a:endCxn id="1335" idx="2"/>
          </p:cNvCxnSpPr>
          <p:nvPr/>
        </p:nvCxnSpPr>
        <p:spPr>
          <a:xfrm>
            <a:off x="58086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2" name=""/>
          <p:cNvCxnSpPr>
            <a:stCxn id="1333" idx="6"/>
            <a:endCxn id="1331" idx="2"/>
          </p:cNvCxnSpPr>
          <p:nvPr/>
        </p:nvCxnSpPr>
        <p:spPr>
          <a:xfrm>
            <a:off x="58086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3" name=""/>
          <p:cNvCxnSpPr>
            <a:stCxn id="1333" idx="6"/>
            <a:endCxn id="1332" idx="2"/>
          </p:cNvCxnSpPr>
          <p:nvPr/>
        </p:nvCxnSpPr>
        <p:spPr>
          <a:xfrm>
            <a:off x="58086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44" name=""/>
          <p:cNvCxnSpPr>
            <a:stCxn id="1299" idx="4"/>
            <a:endCxn id="1330" idx="0"/>
          </p:cNvCxnSpPr>
          <p:nvPr/>
        </p:nvCxnSpPr>
        <p:spPr>
          <a:xfrm>
            <a:off x="57229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45" name=""/>
          <p:cNvCxnSpPr>
            <a:stCxn id="1299" idx="2"/>
            <a:endCxn id="1315" idx="0"/>
          </p:cNvCxnSpPr>
          <p:nvPr/>
        </p:nvCxnSpPr>
        <p:spPr>
          <a:xfrm flipH="1">
            <a:off x="4454280" y="3944520"/>
            <a:ext cx="1036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346" name=""/>
          <p:cNvSpPr/>
          <p:nvPr/>
        </p:nvSpPr>
        <p:spPr>
          <a:xfrm>
            <a:off x="7234200" y="2828880"/>
            <a:ext cx="116532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2"/>
          <a:stretch/>
        </p:blipFill>
        <p:spPr>
          <a:xfrm>
            <a:off x="7640640" y="274320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7908840" y="3632040"/>
            <a:ext cx="12240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908840" y="3787920"/>
            <a:ext cx="12240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683480" y="34560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683480" y="3787920"/>
            <a:ext cx="123840" cy="10296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908840" y="34560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83480" y="3632040"/>
            <a:ext cx="123840" cy="1018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7704000" y="3201840"/>
            <a:ext cx="1954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55" name=""/>
          <p:cNvCxnSpPr>
            <a:stCxn id="1354" idx="1"/>
            <a:endCxn id="1350" idx="2"/>
          </p:cNvCxnSpPr>
          <p:nvPr/>
        </p:nvCxnSpPr>
        <p:spPr>
          <a:xfrm flipV="1" rot="10800000">
            <a:off x="7682760" y="3295440"/>
            <a:ext cx="20880" cy="2116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6" name=""/>
          <p:cNvCxnSpPr>
            <a:stCxn id="1354" idx="1"/>
            <a:endCxn id="1353" idx="2"/>
          </p:cNvCxnSpPr>
          <p:nvPr/>
        </p:nvCxnSpPr>
        <p:spPr>
          <a:xfrm flipV="1" rot="10800000">
            <a:off x="7682760" y="3295440"/>
            <a:ext cx="20880" cy="38808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7" name=""/>
          <p:cNvCxnSpPr>
            <a:stCxn id="1354" idx="1"/>
            <a:endCxn id="1351" idx="2"/>
          </p:cNvCxnSpPr>
          <p:nvPr/>
        </p:nvCxnSpPr>
        <p:spPr>
          <a:xfrm flipV="1" rot="10800000">
            <a:off x="7682760" y="3295440"/>
            <a:ext cx="20880" cy="545040"/>
          </a:xfrm>
          <a:prstGeom prst="bentConnector3">
            <a:avLst>
              <a:gd name="adj1" fmla="val 40526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8" name=""/>
          <p:cNvCxnSpPr>
            <a:stCxn id="1350" idx="6"/>
            <a:endCxn id="1352" idx="2"/>
          </p:cNvCxnSpPr>
          <p:nvPr/>
        </p:nvCxnSpPr>
        <p:spPr>
          <a:xfrm>
            <a:off x="7807320" y="350640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59" name=""/>
          <p:cNvCxnSpPr>
            <a:stCxn id="1350" idx="6"/>
            <a:endCxn id="1348" idx="2"/>
          </p:cNvCxnSpPr>
          <p:nvPr/>
        </p:nvCxnSpPr>
        <p:spPr>
          <a:xfrm>
            <a:off x="7807320" y="3506760"/>
            <a:ext cx="102240" cy="17712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60" name=""/>
          <p:cNvCxnSpPr>
            <a:stCxn id="1350" idx="6"/>
            <a:endCxn id="1349" idx="2"/>
          </p:cNvCxnSpPr>
          <p:nvPr/>
        </p:nvCxnSpPr>
        <p:spPr>
          <a:xfrm>
            <a:off x="7807320" y="350676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61" name=""/>
          <p:cNvSpPr/>
          <p:nvPr/>
        </p:nvSpPr>
        <p:spPr>
          <a:xfrm>
            <a:off x="655308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2" name="" descr=""/>
          <p:cNvPicPr/>
          <p:nvPr/>
        </p:nvPicPr>
        <p:blipFill>
          <a:blip r:embed="rId14"/>
          <a:stretch/>
        </p:blipFill>
        <p:spPr>
          <a:xfrm>
            <a:off x="695952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722628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22628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00236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00236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22628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00236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5"/>
          <a:stretch/>
        </p:blipFill>
        <p:spPr>
          <a:xfrm>
            <a:off x="702324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70" name=""/>
          <p:cNvCxnSpPr>
            <a:stCxn id="1369" idx="1"/>
            <a:endCxn id="1365" idx="2"/>
          </p:cNvCxnSpPr>
          <p:nvPr/>
        </p:nvCxnSpPr>
        <p:spPr>
          <a:xfrm flipV="1" rot="10800000">
            <a:off x="700164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1" name=""/>
          <p:cNvCxnSpPr>
            <a:stCxn id="1369" idx="1"/>
            <a:endCxn id="1368" idx="2"/>
          </p:cNvCxnSpPr>
          <p:nvPr/>
        </p:nvCxnSpPr>
        <p:spPr>
          <a:xfrm flipV="1" rot="10800000">
            <a:off x="700164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2" name=""/>
          <p:cNvCxnSpPr>
            <a:stCxn id="1369" idx="1"/>
            <a:endCxn id="1366" idx="2"/>
          </p:cNvCxnSpPr>
          <p:nvPr/>
        </p:nvCxnSpPr>
        <p:spPr>
          <a:xfrm flipV="1" rot="10800000">
            <a:off x="700164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3" name=""/>
          <p:cNvCxnSpPr>
            <a:stCxn id="1365" idx="6"/>
            <a:endCxn id="1367" idx="2"/>
          </p:cNvCxnSpPr>
          <p:nvPr/>
        </p:nvCxnSpPr>
        <p:spPr>
          <a:xfrm>
            <a:off x="712476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4" name=""/>
          <p:cNvCxnSpPr>
            <a:stCxn id="1365" idx="6"/>
            <a:endCxn id="1363" idx="2"/>
          </p:cNvCxnSpPr>
          <p:nvPr/>
        </p:nvCxnSpPr>
        <p:spPr>
          <a:xfrm>
            <a:off x="712476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75" name=""/>
          <p:cNvCxnSpPr>
            <a:stCxn id="1365" idx="6"/>
            <a:endCxn id="1364" idx="2"/>
          </p:cNvCxnSpPr>
          <p:nvPr/>
        </p:nvCxnSpPr>
        <p:spPr>
          <a:xfrm>
            <a:off x="712476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1376" name=""/>
          <p:cNvSpPr/>
          <p:nvPr/>
        </p:nvSpPr>
        <p:spPr>
          <a:xfrm>
            <a:off x="7913520" y="4218120"/>
            <a:ext cx="1163880" cy="11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56a00"/>
              </a:gs>
              <a:gs pos="100000">
                <a:srgbClr val="ffe70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6"/>
          <a:stretch/>
        </p:blipFill>
        <p:spPr>
          <a:xfrm>
            <a:off x="8319960" y="4132440"/>
            <a:ext cx="341280" cy="36036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8586720" y="5021280"/>
            <a:ext cx="12384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8586720" y="517680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8362800" y="484488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362800" y="5176800"/>
            <a:ext cx="12240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8586720" y="4844880"/>
            <a:ext cx="123840" cy="103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8362800" y="5021280"/>
            <a:ext cx="122400" cy="1015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7"/>
          <a:stretch/>
        </p:blipFill>
        <p:spPr>
          <a:xfrm>
            <a:off x="8383680" y="4591080"/>
            <a:ext cx="193680" cy="189000"/>
          </a:xfrm>
          <a:prstGeom prst="rect">
            <a:avLst/>
          </a:prstGeom>
          <a:ln w="0">
            <a:noFill/>
          </a:ln>
        </p:spPr>
      </p:pic>
      <p:cxnSp>
        <p:nvCxnSpPr>
          <p:cNvPr id="1385" name=""/>
          <p:cNvCxnSpPr>
            <a:stCxn id="1384" idx="1"/>
            <a:endCxn id="1380" idx="2"/>
          </p:cNvCxnSpPr>
          <p:nvPr/>
        </p:nvCxnSpPr>
        <p:spPr>
          <a:xfrm flipV="1" rot="10800000">
            <a:off x="8362080" y="4683600"/>
            <a:ext cx="21600" cy="21204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6" name=""/>
          <p:cNvCxnSpPr>
            <a:stCxn id="1384" idx="1"/>
            <a:endCxn id="1383" idx="2"/>
          </p:cNvCxnSpPr>
          <p:nvPr/>
        </p:nvCxnSpPr>
        <p:spPr>
          <a:xfrm flipV="1" rot="10800000">
            <a:off x="8362080" y="4684320"/>
            <a:ext cx="21600" cy="38808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7" name=""/>
          <p:cNvCxnSpPr>
            <a:stCxn id="1384" idx="1"/>
            <a:endCxn id="1381" idx="2"/>
          </p:cNvCxnSpPr>
          <p:nvPr/>
        </p:nvCxnSpPr>
        <p:spPr>
          <a:xfrm flipV="1" rot="10800000">
            <a:off x="8362080" y="4683600"/>
            <a:ext cx="21600" cy="545400"/>
          </a:xfrm>
          <a:prstGeom prst="bentConnector3">
            <a:avLst>
              <a:gd name="adj1" fmla="val 40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8" name=""/>
          <p:cNvCxnSpPr>
            <a:stCxn id="1380" idx="6"/>
            <a:endCxn id="1382" idx="2"/>
          </p:cNvCxnSpPr>
          <p:nvPr/>
        </p:nvCxnSpPr>
        <p:spPr>
          <a:xfrm>
            <a:off x="8485200" y="4895640"/>
            <a:ext cx="102240" cy="1080"/>
          </a:xfrm>
          <a:prstGeom prst="bentConnector2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89" name=""/>
          <p:cNvCxnSpPr>
            <a:stCxn id="1380" idx="6"/>
            <a:endCxn id="1378" idx="2"/>
          </p:cNvCxnSpPr>
          <p:nvPr/>
        </p:nvCxnSpPr>
        <p:spPr>
          <a:xfrm>
            <a:off x="8485200" y="4895640"/>
            <a:ext cx="102240" cy="17676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0" name=""/>
          <p:cNvCxnSpPr>
            <a:stCxn id="1380" idx="6"/>
            <a:endCxn id="1379" idx="2"/>
          </p:cNvCxnSpPr>
          <p:nvPr/>
        </p:nvCxnSpPr>
        <p:spPr>
          <a:xfrm>
            <a:off x="8485200" y="4896000"/>
            <a:ext cx="102240" cy="334080"/>
          </a:xfrm>
          <a:prstGeom prst="bentConnector3">
            <a:avLst>
              <a:gd name="adj1" fmla="val 49823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1391" name=""/>
          <p:cNvCxnSpPr>
            <a:stCxn id="1346" idx="4"/>
            <a:endCxn id="1377" idx="0"/>
          </p:cNvCxnSpPr>
          <p:nvPr/>
        </p:nvCxnSpPr>
        <p:spPr>
          <a:xfrm>
            <a:off x="8399520" y="3944520"/>
            <a:ext cx="9288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2" name=""/>
          <p:cNvCxnSpPr>
            <a:stCxn id="1346" idx="2"/>
            <a:endCxn id="1362" idx="0"/>
          </p:cNvCxnSpPr>
          <p:nvPr/>
        </p:nvCxnSpPr>
        <p:spPr>
          <a:xfrm flipH="1">
            <a:off x="7130160" y="3944520"/>
            <a:ext cx="104040" cy="1882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1393" name=""/>
          <p:cNvCxnSpPr>
            <a:stCxn id="1300" idx="3"/>
            <a:endCxn id="1347" idx="1"/>
          </p:cNvCxnSpPr>
          <p:nvPr/>
        </p:nvCxnSpPr>
        <p:spPr>
          <a:xfrm>
            <a:off x="5307120" y="2923920"/>
            <a:ext cx="233424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94" name=""/>
          <p:cNvSpPr/>
          <p:nvPr/>
        </p:nvSpPr>
        <p:spPr>
          <a:xfrm>
            <a:off x="1371600" y="312408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5257800" y="3581280"/>
            <a:ext cx="3505320" cy="762120"/>
            <a:chOff x="5257800" y="3581280"/>
            <a:chExt cx="3505320" cy="762120"/>
          </a:xfrm>
        </p:grpSpPr>
        <p:sp>
          <p:nvSpPr>
            <p:cNvPr id="1396" name=""/>
            <p:cNvSpPr/>
            <p:nvPr/>
          </p:nvSpPr>
          <p:spPr>
            <a:xfrm>
              <a:off x="5257800" y="3581280"/>
              <a:ext cx="3505320" cy="762120"/>
            </a:xfrm>
            <a:prstGeom prst="parallelogram">
              <a:avLst>
                <a:gd name="adj" fmla="val 114986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6095880" y="3657600"/>
              <a:ext cx="1523520" cy="475920"/>
              <a:chOff x="6095880" y="3657600"/>
              <a:chExt cx="1523520" cy="475920"/>
            </a:xfrm>
          </p:grpSpPr>
          <p:sp>
            <p:nvSpPr>
              <p:cNvPr id="1398" name=""/>
              <p:cNvSpPr/>
              <p:nvPr/>
            </p:nvSpPr>
            <p:spPr>
              <a:xfrm flipV="1">
                <a:off x="6095880" y="3657600"/>
                <a:ext cx="761760" cy="47592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95880" y="394308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57640" y="3943080"/>
                <a:ext cx="38124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857640" y="3657600"/>
                <a:ext cx="761760" cy="1900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857640" y="3657600"/>
                <a:ext cx="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190560" y="4133520"/>
                <a:ext cx="104832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7238880" y="3847320"/>
                <a:ext cx="380520" cy="2854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05" name=""/>
          <p:cNvGrpSpPr/>
          <p:nvPr/>
        </p:nvGrpSpPr>
        <p:grpSpPr>
          <a:xfrm>
            <a:off x="5257800" y="2666880"/>
            <a:ext cx="3505320" cy="1676160"/>
            <a:chOff x="5257800" y="2666880"/>
            <a:chExt cx="3505320" cy="1676160"/>
          </a:xfrm>
        </p:grpSpPr>
        <p:sp>
          <p:nvSpPr>
            <p:cNvPr id="1406" name=""/>
            <p:cNvSpPr/>
            <p:nvPr/>
          </p:nvSpPr>
          <p:spPr>
            <a:xfrm flipH="1">
              <a:off x="6172200" y="266688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5257800" y="266688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86600" y="266688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86600" y="266688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5410080" y="2362320"/>
            <a:ext cx="3505320" cy="761760"/>
            <a:chOff x="5410080" y="2362320"/>
            <a:chExt cx="3505320" cy="761760"/>
          </a:xfrm>
        </p:grpSpPr>
        <p:sp>
          <p:nvSpPr>
            <p:cNvPr id="1411" name=""/>
            <p:cNvSpPr/>
            <p:nvPr/>
          </p:nvSpPr>
          <p:spPr>
            <a:xfrm>
              <a:off x="5410080" y="2362320"/>
              <a:ext cx="3505320" cy="761760"/>
            </a:xfrm>
            <a:prstGeom prst="parallelogram">
              <a:avLst>
                <a:gd name="adj" fmla="val 115040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858000" y="243828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43600" y="2743200"/>
              <a:ext cx="7621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8000" y="2743200"/>
              <a:ext cx="457200" cy="15228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315200" y="2895480"/>
              <a:ext cx="457200" cy="15264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96080" y="2590920"/>
              <a:ext cx="533520" cy="228600"/>
            </a:xfrm>
            <a:prstGeom prst="ellipse">
              <a:avLst/>
            </a:prstGeom>
            <a:gradFill rotWithShape="0">
              <a:gsLst>
                <a:gs pos="0">
                  <a:srgbClr val="001c00"/>
                </a:gs>
                <a:gs pos="100000">
                  <a:srgbClr val="00b000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477120" y="2590560"/>
              <a:ext cx="457200" cy="15228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705720" y="2819520"/>
              <a:ext cx="1522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15200" y="28195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20120" y="2590920"/>
              <a:ext cx="15228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62920" y="2666880"/>
              <a:ext cx="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629400" y="2895480"/>
              <a:ext cx="685800" cy="763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7696080" y="2819160"/>
              <a:ext cx="152640" cy="7596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5410080" y="1447920"/>
            <a:ext cx="3505320" cy="1676160"/>
            <a:chOff x="5410080" y="1447920"/>
            <a:chExt cx="3505320" cy="1676160"/>
          </a:xfrm>
        </p:grpSpPr>
        <p:sp>
          <p:nvSpPr>
            <p:cNvPr id="1425" name=""/>
            <p:cNvSpPr/>
            <p:nvPr/>
          </p:nvSpPr>
          <p:spPr>
            <a:xfrm flipH="1">
              <a:off x="6324480" y="1447920"/>
              <a:ext cx="91440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410080" y="1447920"/>
              <a:ext cx="182880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38880" y="1447920"/>
              <a:ext cx="1676520" cy="914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238880" y="1447920"/>
              <a:ext cx="838440" cy="1676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9" name="PlaceHolder 1"/>
          <p:cNvSpPr>
            <a:spLocks noGrp="1"/>
          </p:cNvSpPr>
          <p:nvPr>
            <p:ph/>
          </p:nvPr>
        </p:nvSpPr>
        <p:spPr>
          <a:xfrm>
            <a:off x="228240" y="1790640"/>
            <a:ext cx="746748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dő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tartomány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rvezeti egység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NS névté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CP/IP, DDNS/DH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lephelyek, link-ek, replikáci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GC kiszolgál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SMO szerepkörö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etezés: AD adatbázis, intra/intersite replikáció, kliensek hálózati forgal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ctive Directory tartományt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5562720" y="1066680"/>
            <a:ext cx="3504960" cy="762120"/>
            <a:chOff x="5562720" y="1066680"/>
            <a:chExt cx="3504960" cy="762120"/>
          </a:xfrm>
        </p:grpSpPr>
        <p:sp>
          <p:nvSpPr>
            <p:cNvPr id="1432" name=""/>
            <p:cNvSpPr/>
            <p:nvPr/>
          </p:nvSpPr>
          <p:spPr>
            <a:xfrm>
              <a:off x="5562720" y="1066680"/>
              <a:ext cx="3504960" cy="762120"/>
            </a:xfrm>
            <a:prstGeom prst="parallelogram">
              <a:avLst>
                <a:gd name="adj" fmla="val 114974"/>
              </a:avLst>
            </a:prstGeom>
            <a:gradFill rotWithShape="0">
              <a:gsLst>
                <a:gs pos="0">
                  <a:srgbClr val="175e75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934320" y="1219320"/>
              <a:ext cx="685800" cy="152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248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91520" y="1523880"/>
              <a:ext cx="685800" cy="152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6629400" y="1371240"/>
              <a:ext cx="38088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7543440" y="1371240"/>
              <a:ext cx="228600" cy="152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2:18:16Z</dcterms:created>
  <dc:creator>Nagymáté Péter</dc:creator>
  <dc:description/>
  <dc:language>en-US</dc:language>
  <cp:lastModifiedBy>Nagymáté Péter</cp:lastModifiedBy>
  <dcterms:modified xsi:type="dcterms:W3CDTF">2004-02-26T12:44:14Z</dcterms:modified>
  <cp:revision>4</cp:revision>
  <dc:subject/>
  <dc:title>1. dia</dc:title>
</cp:coreProperties>
</file>