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20E-1CF6-4B42-AA36-DDCB3F29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539-B795-4F94-9F09-E3DD4475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636-AF0E-457E-AE26-27C63F58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B40-D5E9-4532-84F8-C36649FA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F449-B060-4A32-8822-1260E8A1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ED65-66A8-42E2-A081-4997B349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48C3-543E-4A24-8B63-FC6E2A71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95E3-C1AE-423C-9C64-9AA6FB99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3A6C-0E42-4D89-A53F-2095F6A0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D05-E7CD-49C1-B8B5-89563D1A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7DEF-A118-4E66-A703-61AF69AD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80A-65D7-4061-90CB-B5BA7836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5F83-BC82-4630-ABC8-764A52C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8A03-FB3E-4163-BB86-C9AD9237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7DDC-5546-447F-B2BA-6740F7DA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A8AF-510C-403B-AC1F-7B598688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8E6D-B9CA-4B6B-8867-D0BAE6D6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318-9A2C-4977-AE20-C5E94703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31E-ED91-4570-A99A-3ECF7EBD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53D-7EA6-4C05-84F1-B2B3A1F5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E48-FC80-4219-B888-6FEA4055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D11-FDF9-40A9-A01D-B46C8B1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D55-7C21-4F34-BD02-8C4B3219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512-1635-4EE1-A561-5F616364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AEE5-12FA-4633-BCC7-0E0475F16561}" type="slidenum">
              <a:rPr b="0" lang="hu-H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1B25-AA5F-43D3-9861-468F751DBBE1}" type="slidenum">
              <a:rPr b="0" lang="hu-H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álózato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PSe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PSec a titkosításra épülő védelmi szolgáltatások és biztonsági protokollok együtte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iztosítja az adatintegritást, az eredet hiteleségét, az adat titkosságát és az adatáramlás titkosságá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alábbi biztonsági szolgáltatásokat kínál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Biztonsági tulajdonság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yilvános kulcsú tanúsítványon alapuló hiteles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lőmegosztott kulcson alapuló hiteles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yilvános kulcsú kriptográf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adatok sértetlenségének védelme hash függvényekk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ulcskezelé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adatok védelme titkosításs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GMP,TC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GMP olyan protokoll , amelynek segítségével az IP állomások közlik a velül szomszédos csoportos küldést alkalmazó útválasztókkal , mely csoportos küldési csoportok tagj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TCP összeköttetés alapú, megbízható kapcsolatot biztosít az alkalmazások számára. Főbb funkció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TCP vételi ablak méretének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ésleltetett visszaigazol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zelektív visszaigazolá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CP időbélyege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PMTU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em működő átjáró felismer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CP csomag újraküld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D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Olyan kapcsolat nélküli datagram szolgáltatás biztosító TCP kiegészítés, amely sem a kézbesítést, sem a csomagok megfelelő sorrendjét nem garantál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iről lesz szó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lapfogalm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Windows TCP/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H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ou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apfogalm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álozati model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LAN – Local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WAN – Wide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AN – Metropolitan Area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erver - Cl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eer to Pe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AC add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P cím  (IPv4 és IPv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etma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HCP és Boo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oute , Gate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éhány fontosabb protokol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AppleTalk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Mac-en használt szállítási protoko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DLC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A Hewlett Pakard JetDirect kártyával bővített lézernyomtatóinak eléréséhez szükség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etBEUI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Kis kiterjedésű hálózatok protokollja útvonalválasztóval (router) nem továbbítható. Tulajdonságait automatikusan állítja b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WLink IPX/SPX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kompatibilis protokoll: A Netware hálózatokban használható </a:t>
            </a: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IPX/SPX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al kompatibilis száll protoko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NWLink NetBIOS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: A Novell és NT kiszolgálók közötti kapcsolattartást teszi lehetővé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Point To Point Tunneling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 (</a:t>
            </a: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PPTP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): Interneten keresztül létesít kapcsolato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ahoma"/>
              </a:rPr>
              <a:t>TCP/IP</a:t>
            </a: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 protokoll: Transmission Control Protocol/Internet Protocol. A nagyméretű hálózatokon használt protokoll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ndows TCP/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Windows TCP/IP központi elemekből (pl. ARP, IP, TCP protokolok), szolgáltatásokból (DHCP, DNS stb.) és a köztük lévő csatolófelületbő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satolófelületek: TDI (transport Driver Interface) és az NDIS (network Driver Interface Specifi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NDOWS TCP/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windows hálózati protokolljai az NDIS segítségével komunikál a hálózati csatolók driverei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központi komponensek és a T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dress Resolution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Control Message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Protocol Secu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Group Management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ímfeloldási protokoll végzi a kimenő csomagok MAC címének meghatározását az IP címek alapj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kifelé tartó IP-datagramhoz csatolni kell a forrás és a cél MAC cím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cél meghatározásához az ARP broadcast üzenetet küld ki, és válaszkor feljegyzik a IP és Mac címeket egy táblázat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gyorsító tárban az élettartam 10 perc. A tár tartalmát az ARP –a  paranccsal  lehet kiírat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Tahoma"/>
              </a:rPr>
              <a:t>Internet Protocol 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eladata a csomagok címzése és továbbítá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inden csomag tartalmazza a forrás és a cél IP címé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MAC címektől eltérően a csomagban lévő IP címek a datagram teljes élete alatt állandóak maradn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P réteg alapfunkciói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ás: Ez az elsődleges funkció, az IP fejlécet megvizsgálva és az útvonal táblával összehasonlítva eldönti hogy a csomagot a felső rétegek vagy a hálózati csatoló felé kell továbbítania, esetleg egyszerűen eldobhatja az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IP cím ütközés érzékelése: A gép ARP broadcast üzenetek formájában kiküldi a beállított IP címe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CM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ICMP segítségével az IP kommunikációt használó állomások és útválasztók hibákat jelezhetnek, és korlátozott adatcserét is folytathatnak  a vezérlésrő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következő feladatokra használjá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ézbesítési problémák jelz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ó táblák felépítése és karbantart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Útválasztó felderí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PMTU Path Maximum Transmission Unit (útvonal legnagyobb átviteli egysége) meghatározá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lérhetőségi problémák felderíté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z IP útválasztó ICMP üzenet formájában jelzi a túlterheltséget a küldő állomásn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1:19:00Z</dcterms:created>
  <dc:creator>Nagymáté Péter</dc:creator>
  <dc:description/>
  <dc:language>en-US</dc:language>
  <cp:lastModifiedBy>Nagymáté Péter</cp:lastModifiedBy>
  <dcterms:modified xsi:type="dcterms:W3CDTF">2003-11-18T14:19:57Z</dcterms:modified>
  <cp:revision>4</cp:revision>
  <dc:subject/>
  <dc:title>Hálózatok</dc:title>
</cp:coreProperties>
</file>