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6.png" ContentType="image/png"/>
  <Override PartName="/ppt/media/image18.png" ContentType="image/png"/>
  <Override PartName="/ppt/media/image58.jpeg" ContentType="image/jpeg"/>
  <Override PartName="/ppt/media/image55.png" ContentType="image/png"/>
  <Override PartName="/ppt/media/image53.jpeg" ContentType="image/jpeg"/>
  <Override PartName="/ppt/media/image23.png" ContentType="image/png"/>
  <Override PartName="/ppt/media/image52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56.jpeg" ContentType="image/jpeg"/>
  <Override PartName="/ppt/media/image33.png" ContentType="image/png"/>
  <Override PartName="/ppt/media/image3.png" ContentType="image/png"/>
  <Override PartName="/ppt/media/image26.png" ContentType="image/png"/>
  <Override PartName="/ppt/media/image66.wmf" ContentType="image/x-wmf"/>
  <Override PartName="/ppt/media/image31.png" ContentType="image/png"/>
  <Override PartName="/ppt/media/image32.png" ContentType="image/png"/>
  <Override PartName="/ppt/media/image2.png" ContentType="image/png"/>
  <Override PartName="/ppt/media/image67.png" ContentType="image/png"/>
  <Override PartName="/ppt/media/image30.png" ContentType="image/png"/>
  <Override PartName="/ppt/media/image28.png" ContentType="image/png"/>
  <Override PartName="/ppt/media/image65.png" ContentType="image/png"/>
  <Override PartName="/ppt/media/image15.jpeg" ContentType="image/jpeg"/>
  <Override PartName="/ppt/media/image60.jpeg" ContentType="image/jpeg"/>
  <Override PartName="/ppt/media/image64.png" ContentType="image/png"/>
  <Override PartName="/ppt/media/image25.png" ContentType="image/png"/>
  <Override PartName="/ppt/media/image62.png" ContentType="image/png"/>
  <Override PartName="/ppt/media/image27.png" ContentType="image/png"/>
  <Override PartName="/ppt/media/image11.jpeg" ContentType="image/jpeg"/>
  <Override PartName="/ppt/media/image24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6.jpeg" ContentType="image/jpeg"/>
  <Override PartName="/ppt/media/image10.png" ContentType="image/png"/>
  <Override PartName="/ppt/media/image47.png" ContentType="image/png"/>
  <Override PartName="/ppt/media/image63.jpeg" ContentType="image/jpeg"/>
  <Override PartName="/ppt/media/image29.png" ContentType="image/png"/>
  <Override PartName="/ppt/media/image36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4.jpeg" ContentType="image/jpeg"/>
  <Override PartName="/ppt/media/image54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61.wmf" ContentType="image/x-wmf"/>
  <Override PartName="/ppt/media/image39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57.jpeg" ContentType="image/jpe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49.png" ContentType="image/png"/>
  <Override PartName="/ppt/media/image50.png" ContentType="image/png"/>
  <Override PartName="/ppt/media/image5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9280" y="1423800"/>
            <a:ext cx="8785440" cy="25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79280" y="4163400"/>
            <a:ext cx="8785440" cy="25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9280" y="1423800"/>
            <a:ext cx="4287240" cy="25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440" y="1423800"/>
            <a:ext cx="4287240" cy="25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79280" y="4163400"/>
            <a:ext cx="4287240" cy="25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440" y="4163400"/>
            <a:ext cx="4287240" cy="25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423800"/>
            <a:ext cx="2828520" cy="25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9640" y="1423800"/>
            <a:ext cx="2828520" cy="25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0000" y="1423800"/>
            <a:ext cx="2828520" cy="25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79280" y="4163400"/>
            <a:ext cx="2828520" cy="25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9640" y="4163400"/>
            <a:ext cx="2828520" cy="25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0000" y="4163400"/>
            <a:ext cx="2828520" cy="25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79280" y="1423800"/>
            <a:ext cx="8785440" cy="52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9280" y="1423800"/>
            <a:ext cx="8785440" cy="52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9280" y="1423800"/>
            <a:ext cx="4287240" cy="52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423800"/>
            <a:ext cx="4287240" cy="52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70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79280" y="188640"/>
            <a:ext cx="8785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9280" y="1423800"/>
            <a:ext cx="4287240" cy="25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1440" y="1423800"/>
            <a:ext cx="4287240" cy="52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79280" y="4163400"/>
            <a:ext cx="4287240" cy="25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79280" y="1423800"/>
            <a:ext cx="8785440" cy="52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423800"/>
            <a:ext cx="4287240" cy="52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423800"/>
            <a:ext cx="4287240" cy="25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1440" y="4163400"/>
            <a:ext cx="4287240" cy="25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9280" y="1423800"/>
            <a:ext cx="4287240" cy="25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1440" y="1423800"/>
            <a:ext cx="4287240" cy="25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79280" y="4163400"/>
            <a:ext cx="8785440" cy="25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9280" y="1423800"/>
            <a:ext cx="8785440" cy="25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79280" y="4163400"/>
            <a:ext cx="8785440" cy="25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1423800"/>
            <a:ext cx="4287240" cy="25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1440" y="1423800"/>
            <a:ext cx="4287240" cy="25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79280" y="4163400"/>
            <a:ext cx="4287240" cy="25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81440" y="4163400"/>
            <a:ext cx="4287240" cy="25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9280" y="1423800"/>
            <a:ext cx="2828520" cy="25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149640" y="1423800"/>
            <a:ext cx="2828520" cy="25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0000" y="1423800"/>
            <a:ext cx="2828520" cy="25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79280" y="4163400"/>
            <a:ext cx="2828520" cy="25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149640" y="4163400"/>
            <a:ext cx="2828520" cy="25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0000" y="4163400"/>
            <a:ext cx="2828520" cy="25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9280" y="1423800"/>
            <a:ext cx="8785440" cy="52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79280" y="1423800"/>
            <a:ext cx="4287240" cy="52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440" y="1423800"/>
            <a:ext cx="4287240" cy="52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70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79280" y="188640"/>
            <a:ext cx="8785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423800"/>
            <a:ext cx="4287240" cy="25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423800"/>
            <a:ext cx="4287240" cy="52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79280" y="4163400"/>
            <a:ext cx="4287240" cy="25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1423800"/>
            <a:ext cx="4287240" cy="52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423800"/>
            <a:ext cx="4287240" cy="25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440" y="4163400"/>
            <a:ext cx="4287240" cy="25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1423800"/>
            <a:ext cx="4287240" cy="25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440" y="1423800"/>
            <a:ext cx="4287240" cy="25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79280" y="4163400"/>
            <a:ext cx="8785440" cy="25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V="1">
            <a:off x="0" y="6668280"/>
            <a:ext cx="9144000" cy="189000"/>
          </a:xfrm>
          <a:prstGeom prst="rect">
            <a:avLst/>
          </a:prstGeom>
          <a:gradFill rotWithShape="0">
            <a:gsLst>
              <a:gs pos="0">
                <a:srgbClr val="0871b8"/>
              </a:gs>
              <a:gs pos="100000">
                <a:srgbClr val="000099">
                  <a:alpha val="9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701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79280" y="1423800"/>
            <a:ext cx="8785440" cy="52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e701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01080" y="6345360"/>
            <a:ext cx="934920" cy="468360"/>
            <a:chOff x="8101080" y="6345360"/>
            <a:chExt cx="934920" cy="468360"/>
          </a:xfrm>
        </p:grpSpPr>
        <p:sp>
          <p:nvSpPr>
            <p:cNvPr id="4" name=""/>
            <p:cNvSpPr/>
            <p:nvPr/>
          </p:nvSpPr>
          <p:spPr>
            <a:xfrm>
              <a:off x="8101080" y="6345360"/>
              <a:ext cx="934920" cy="468360"/>
            </a:xfrm>
            <a:prstGeom prst="flowChartAlternateProcess">
              <a:avLst/>
            </a:prstGeom>
            <a:solidFill>
              <a:srgbClr val="0871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" name=""/>
            <p:cNvGrpSpPr/>
            <p:nvPr/>
          </p:nvGrpSpPr>
          <p:grpSpPr>
            <a:xfrm>
              <a:off x="8136360" y="6381720"/>
              <a:ext cx="863640" cy="396000"/>
              <a:chOff x="8136360" y="6381720"/>
              <a:chExt cx="863640" cy="396000"/>
            </a:xfrm>
          </p:grpSpPr>
          <p:sp>
            <p:nvSpPr>
              <p:cNvPr id="6" name=""/>
              <p:cNvSpPr/>
              <p:nvPr/>
            </p:nvSpPr>
            <p:spPr>
              <a:xfrm>
                <a:off x="8136360" y="6381720"/>
                <a:ext cx="863640" cy="396000"/>
              </a:xfrm>
              <a:prstGeom prst="flowChartAlternateProcess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8172360" y="6417360"/>
                <a:ext cx="785160" cy="328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8" name=""/>
          <p:cNvSpPr/>
          <p:nvPr/>
        </p:nvSpPr>
        <p:spPr>
          <a:xfrm flipV="1">
            <a:off x="0" y="-720"/>
            <a:ext cx="9144000" cy="189000"/>
          </a:xfrm>
          <a:prstGeom prst="rect">
            <a:avLst/>
          </a:prstGeom>
          <a:gradFill rotWithShape="0">
            <a:gsLst>
              <a:gs pos="0">
                <a:srgbClr val="000099">
                  <a:alpha val="90196"/>
                </a:srgbClr>
              </a:gs>
              <a:gs pos="100000">
                <a:srgbClr val="0871b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701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0" y="6668280"/>
            <a:ext cx="9144000" cy="189000"/>
          </a:xfrm>
          <a:prstGeom prst="rect">
            <a:avLst/>
          </a:prstGeom>
          <a:gradFill rotWithShape="0">
            <a:gsLst>
              <a:gs pos="0">
                <a:srgbClr val="ffe701"/>
              </a:gs>
              <a:gs pos="100000">
                <a:srgbClr val="000099">
                  <a:alpha val="9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0" y="-720"/>
            <a:ext cx="2268360" cy="189000"/>
          </a:xfrm>
          <a:prstGeom prst="rect">
            <a:avLst/>
          </a:prstGeom>
          <a:solidFill>
            <a:srgbClr val="ffe7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79280" y="44280"/>
            <a:ext cx="1871640" cy="936720"/>
            <a:chOff x="179280" y="44280"/>
            <a:chExt cx="1871640" cy="936720"/>
          </a:xfrm>
        </p:grpSpPr>
        <p:sp>
          <p:nvSpPr>
            <p:cNvPr id="49" name=""/>
            <p:cNvSpPr/>
            <p:nvPr/>
          </p:nvSpPr>
          <p:spPr>
            <a:xfrm>
              <a:off x="179280" y="44280"/>
              <a:ext cx="1871640" cy="936720"/>
            </a:xfrm>
            <a:prstGeom prst="flowChartAlternateProcess">
              <a:avLst/>
            </a:prstGeom>
            <a:solidFill>
              <a:srgbClr val="ffe7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"/>
            <p:cNvGrpSpPr/>
            <p:nvPr/>
          </p:nvGrpSpPr>
          <p:grpSpPr>
            <a:xfrm>
              <a:off x="250920" y="115920"/>
              <a:ext cx="1728720" cy="792000"/>
              <a:chOff x="250920" y="115920"/>
              <a:chExt cx="1728720" cy="792000"/>
            </a:xfrm>
          </p:grpSpPr>
          <p:sp>
            <p:nvSpPr>
              <p:cNvPr id="51" name=""/>
              <p:cNvSpPr/>
              <p:nvPr/>
            </p:nvSpPr>
            <p:spPr>
              <a:xfrm>
                <a:off x="250920" y="115920"/>
                <a:ext cx="1728720" cy="792000"/>
              </a:xfrm>
              <a:prstGeom prst="flowChartAlternateProcess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28320" y="183960"/>
                <a:ext cx="1571400" cy="657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3" name=""/>
          <p:cNvSpPr/>
          <p:nvPr/>
        </p:nvSpPr>
        <p:spPr>
          <a:xfrm flipV="1">
            <a:off x="2195640" y="-720"/>
            <a:ext cx="6948360" cy="189000"/>
          </a:xfrm>
          <a:prstGeom prst="rect">
            <a:avLst/>
          </a:prstGeom>
          <a:gradFill rotWithShape="0">
            <a:gsLst>
              <a:gs pos="0">
                <a:srgbClr val="000099">
                  <a:alpha val="90196"/>
                </a:srgbClr>
              </a:gs>
              <a:gs pos="100000">
                <a:srgbClr val="ffe7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7.png"/><Relationship Id="rId18" Type="http://schemas.openxmlformats.org/officeDocument/2006/relationships/image" Target="../media/image7.png"/><Relationship Id="rId19" Type="http://schemas.openxmlformats.org/officeDocument/2006/relationships/image" Target="../media/image8.png"/><Relationship Id="rId20" Type="http://schemas.openxmlformats.org/officeDocument/2006/relationships/image" Target="../media/image9.png"/><Relationship Id="rId21" Type="http://schemas.openxmlformats.org/officeDocument/2006/relationships/image" Target="../media/image10.png"/><Relationship Id="rId22" Type="http://schemas.openxmlformats.org/officeDocument/2006/relationships/image" Target="../media/image11.jpeg"/><Relationship Id="rId23" Type="http://schemas.openxmlformats.org/officeDocument/2006/relationships/image" Target="../media/image12.jpeg"/><Relationship Id="rId24" Type="http://schemas.openxmlformats.org/officeDocument/2006/relationships/oleObject" Target="../embeddings/oleObject1.bin"/><Relationship Id="rId25" Type="http://schemas.openxmlformats.org/officeDocument/2006/relationships/image" Target="../media/image13.png"/><Relationship Id="rId26" Type="http://schemas.openxmlformats.org/officeDocument/2006/relationships/image" Target="../media/image14.jpeg"/><Relationship Id="rId27" Type="http://schemas.openxmlformats.org/officeDocument/2006/relationships/image" Target="../media/image15.jpeg"/><Relationship Id="rId28" Type="http://schemas.openxmlformats.org/officeDocument/2006/relationships/image" Target="../media/image16.jpeg"/><Relationship Id="rId29" Type="http://schemas.openxmlformats.org/officeDocument/2006/relationships/image" Target="../media/image17.png"/><Relationship Id="rId30" Type="http://schemas.openxmlformats.org/officeDocument/2006/relationships/image" Target="../media/image17.png"/><Relationship Id="rId31" Type="http://schemas.openxmlformats.org/officeDocument/2006/relationships/image" Target="../media/image18.png"/><Relationship Id="rId32" Type="http://schemas.openxmlformats.org/officeDocument/2006/relationships/image" Target="../media/image19.png"/><Relationship Id="rId33" Type="http://schemas.openxmlformats.org/officeDocument/2006/relationships/image" Target="../media/image20.png"/><Relationship Id="rId34" Type="http://schemas.openxmlformats.org/officeDocument/2006/relationships/image" Target="../media/image21.png"/><Relationship Id="rId35" Type="http://schemas.openxmlformats.org/officeDocument/2006/relationships/image" Target="../media/image20.png"/><Relationship Id="rId36" Type="http://schemas.openxmlformats.org/officeDocument/2006/relationships/image" Target="../media/image22.png"/><Relationship Id="rId37" Type="http://schemas.openxmlformats.org/officeDocument/2006/relationships/image" Target="../media/image23.png"/><Relationship Id="rId38" Type="http://schemas.openxmlformats.org/officeDocument/2006/relationships/image" Target="../media/image20.png"/><Relationship Id="rId39" Type="http://schemas.openxmlformats.org/officeDocument/2006/relationships/image" Target="../media/image24.png"/><Relationship Id="rId40" Type="http://schemas.openxmlformats.org/officeDocument/2006/relationships/image" Target="../media/image25.png"/><Relationship Id="rId4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0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0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7.png"/><Relationship Id="rId11" Type="http://schemas.openxmlformats.org/officeDocument/2006/relationships/image" Target="../media/image28.png"/><Relationship Id="rId12" Type="http://schemas.openxmlformats.org/officeDocument/2006/relationships/image" Target="../media/image29.png"/><Relationship Id="rId13" Type="http://schemas.openxmlformats.org/officeDocument/2006/relationships/image" Target="../media/image29.png"/><Relationship Id="rId14" Type="http://schemas.openxmlformats.org/officeDocument/2006/relationships/image" Target="../media/image30.png"/><Relationship Id="rId15" Type="http://schemas.openxmlformats.org/officeDocument/2006/relationships/image" Target="../media/image31.png"/><Relationship Id="rId16" Type="http://schemas.openxmlformats.org/officeDocument/2006/relationships/image" Target="../media/image29.png"/><Relationship Id="rId17" Type="http://schemas.openxmlformats.org/officeDocument/2006/relationships/image" Target="../media/image29.png"/><Relationship Id="rId18" Type="http://schemas.openxmlformats.org/officeDocument/2006/relationships/image" Target="../media/image32.png"/><Relationship Id="rId19" Type="http://schemas.openxmlformats.org/officeDocument/2006/relationships/image" Target="../media/image33.png"/><Relationship Id="rId20" Type="http://schemas.openxmlformats.org/officeDocument/2006/relationships/image" Target="../media/image29.png"/><Relationship Id="rId21" Type="http://schemas.openxmlformats.org/officeDocument/2006/relationships/image" Target="../media/image29.png"/><Relationship Id="rId22" Type="http://schemas.openxmlformats.org/officeDocument/2006/relationships/image" Target="../media/image27.png"/><Relationship Id="rId23" Type="http://schemas.openxmlformats.org/officeDocument/2006/relationships/image" Target="../media/image30.png"/><Relationship Id="rId24" Type="http://schemas.openxmlformats.org/officeDocument/2006/relationships/image" Target="../media/image29.png"/><Relationship Id="rId25" Type="http://schemas.openxmlformats.org/officeDocument/2006/relationships/image" Target="../media/image29.png"/><Relationship Id="rId26" Type="http://schemas.openxmlformats.org/officeDocument/2006/relationships/image" Target="../media/image32.png"/><Relationship Id="rId27" Type="http://schemas.openxmlformats.org/officeDocument/2006/relationships/image" Target="../media/image33.png"/><Relationship Id="rId28" Type="http://schemas.openxmlformats.org/officeDocument/2006/relationships/image" Target="../media/image34.png"/><Relationship Id="rId29" Type="http://schemas.openxmlformats.org/officeDocument/2006/relationships/image" Target="../media/image35.png"/><Relationship Id="rId30" Type="http://schemas.openxmlformats.org/officeDocument/2006/relationships/image" Target="../media/image28.png"/><Relationship Id="rId31" Type="http://schemas.openxmlformats.org/officeDocument/2006/relationships/image" Target="../media/image29.png"/><Relationship Id="rId32" Type="http://schemas.openxmlformats.org/officeDocument/2006/relationships/image" Target="../media/image29.png"/><Relationship Id="rId33" Type="http://schemas.openxmlformats.org/officeDocument/2006/relationships/image" Target="../media/image28.png"/><Relationship Id="rId34" Type="http://schemas.openxmlformats.org/officeDocument/2006/relationships/image" Target="../media/image29.png"/><Relationship Id="rId35" Type="http://schemas.openxmlformats.org/officeDocument/2006/relationships/image" Target="../media/image29.png"/><Relationship Id="rId36" Type="http://schemas.openxmlformats.org/officeDocument/2006/relationships/image" Target="../media/image31.png"/><Relationship Id="rId37" Type="http://schemas.openxmlformats.org/officeDocument/2006/relationships/image" Target="../media/image27.png"/><Relationship Id="rId38" Type="http://schemas.openxmlformats.org/officeDocument/2006/relationships/image" Target="../media/image28.png"/><Relationship Id="rId39" Type="http://schemas.openxmlformats.org/officeDocument/2006/relationships/image" Target="../media/image29.png"/><Relationship Id="rId40" Type="http://schemas.openxmlformats.org/officeDocument/2006/relationships/image" Target="../media/image29.png"/><Relationship Id="rId41" Type="http://schemas.openxmlformats.org/officeDocument/2006/relationships/image" Target="../media/image30.png"/><Relationship Id="rId42" Type="http://schemas.openxmlformats.org/officeDocument/2006/relationships/image" Target="../media/image29.png"/><Relationship Id="rId43" Type="http://schemas.openxmlformats.org/officeDocument/2006/relationships/image" Target="../media/image29.png"/><Relationship Id="rId44" Type="http://schemas.openxmlformats.org/officeDocument/2006/relationships/image" Target="../media/image31.png"/><Relationship Id="rId45" Type="http://schemas.openxmlformats.org/officeDocument/2006/relationships/image" Target="../media/image27.png"/><Relationship Id="rId46" Type="http://schemas.openxmlformats.org/officeDocument/2006/relationships/image" Target="../media/image27.png"/><Relationship Id="rId47" Type="http://schemas.openxmlformats.org/officeDocument/2006/relationships/image" Target="../media/image28.png"/><Relationship Id="rId48" Type="http://schemas.openxmlformats.org/officeDocument/2006/relationships/image" Target="../media/image28.png"/><Relationship Id="rId49" Type="http://schemas.openxmlformats.org/officeDocument/2006/relationships/image" Target="../media/image30.png"/><Relationship Id="rId50" Type="http://schemas.openxmlformats.org/officeDocument/2006/relationships/image" Target="../media/image29.png"/><Relationship Id="rId51" Type="http://schemas.openxmlformats.org/officeDocument/2006/relationships/image" Target="../media/image29.png"/><Relationship Id="rId52" Type="http://schemas.openxmlformats.org/officeDocument/2006/relationships/image" Target="../media/image29.png"/><Relationship Id="rId53" Type="http://schemas.openxmlformats.org/officeDocument/2006/relationships/image" Target="../media/image29.png"/><Relationship Id="rId54" Type="http://schemas.openxmlformats.org/officeDocument/2006/relationships/image" Target="../media/image34.png"/><Relationship Id="rId55" Type="http://schemas.openxmlformats.org/officeDocument/2006/relationships/image" Target="../media/image36.png"/><Relationship Id="rId56" Type="http://schemas.openxmlformats.org/officeDocument/2006/relationships/image" Target="../media/image36.png"/><Relationship Id="rId57" Type="http://schemas.openxmlformats.org/officeDocument/2006/relationships/image" Target="../media/image32.png"/><Relationship Id="rId58" Type="http://schemas.openxmlformats.org/officeDocument/2006/relationships/image" Target="../media/image29.png"/><Relationship Id="rId59" Type="http://schemas.openxmlformats.org/officeDocument/2006/relationships/image" Target="../media/image29.png"/><Relationship Id="rId60" Type="http://schemas.openxmlformats.org/officeDocument/2006/relationships/image" Target="../media/image37.png"/><Relationship Id="rId61" Type="http://schemas.openxmlformats.org/officeDocument/2006/relationships/image" Target="../media/image33.png"/><Relationship Id="rId62" Type="http://schemas.openxmlformats.org/officeDocument/2006/relationships/image" Target="../media/image35.png"/><Relationship Id="rId63" Type="http://schemas.openxmlformats.org/officeDocument/2006/relationships/image" Target="../media/image38.png"/><Relationship Id="rId64" Type="http://schemas.openxmlformats.org/officeDocument/2006/relationships/image" Target="../media/image39.png"/><Relationship Id="rId65" Type="http://schemas.openxmlformats.org/officeDocument/2006/relationships/image" Target="../media/image40.png"/><Relationship Id="rId66" Type="http://schemas.openxmlformats.org/officeDocument/2006/relationships/image" Target="../media/image40.png"/><Relationship Id="rId67" Type="http://schemas.openxmlformats.org/officeDocument/2006/relationships/image" Target="../media/image41.png"/><Relationship Id="rId68" Type="http://schemas.openxmlformats.org/officeDocument/2006/relationships/image" Target="../media/image38.png"/><Relationship Id="rId69" Type="http://schemas.openxmlformats.org/officeDocument/2006/relationships/image" Target="../media/image29.png"/><Relationship Id="rId70" Type="http://schemas.openxmlformats.org/officeDocument/2006/relationships/image" Target="../media/image29.png"/><Relationship Id="rId71" Type="http://schemas.openxmlformats.org/officeDocument/2006/relationships/image" Target="../media/image29.png"/><Relationship Id="rId72" Type="http://schemas.openxmlformats.org/officeDocument/2006/relationships/image" Target="../media/image29.png"/><Relationship Id="rId73" Type="http://schemas.openxmlformats.org/officeDocument/2006/relationships/image" Target="../media/image32.png"/><Relationship Id="rId74" Type="http://schemas.openxmlformats.org/officeDocument/2006/relationships/image" Target="../media/image29.png"/><Relationship Id="rId75" Type="http://schemas.openxmlformats.org/officeDocument/2006/relationships/image" Target="../media/image29.png"/><Relationship Id="rId76" Type="http://schemas.openxmlformats.org/officeDocument/2006/relationships/image" Target="../media/image42.png"/><Relationship Id="rId77" Type="http://schemas.openxmlformats.org/officeDocument/2006/relationships/image" Target="../media/image43.png"/><Relationship Id="rId78" Type="http://schemas.openxmlformats.org/officeDocument/2006/relationships/image" Target="../media/image43.png"/><Relationship Id="rId79" Type="http://schemas.openxmlformats.org/officeDocument/2006/relationships/image" Target="../media/image44.png"/><Relationship Id="rId80" Type="http://schemas.openxmlformats.org/officeDocument/2006/relationships/image" Target="../media/image33.png"/><Relationship Id="rId81" Type="http://schemas.openxmlformats.org/officeDocument/2006/relationships/image" Target="../media/image35.png"/><Relationship Id="rId82" Type="http://schemas.openxmlformats.org/officeDocument/2006/relationships/image" Target="../media/image39.png"/><Relationship Id="rId83" Type="http://schemas.openxmlformats.org/officeDocument/2006/relationships/image" Target="../media/image45.png"/><Relationship Id="rId84" Type="http://schemas.openxmlformats.org/officeDocument/2006/relationships/image" Target="../media/image46.png"/><Relationship Id="rId8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50.png"/><Relationship Id="rId6" Type="http://schemas.openxmlformats.org/officeDocument/2006/relationships/image" Target="../media/image50.png"/><Relationship Id="rId7" Type="http://schemas.openxmlformats.org/officeDocument/2006/relationships/image" Target="../media/image50.png"/><Relationship Id="rId8" Type="http://schemas.openxmlformats.org/officeDocument/2006/relationships/image" Target="../media/image51.png"/><Relationship Id="rId9" Type="http://schemas.openxmlformats.org/officeDocument/2006/relationships/image" Target="../media/image27.png"/><Relationship Id="rId10" Type="http://schemas.openxmlformats.org/officeDocument/2006/relationships/image" Target="../media/image29.png"/><Relationship Id="rId11" Type="http://schemas.openxmlformats.org/officeDocument/2006/relationships/image" Target="../media/image29.png"/><Relationship Id="rId12" Type="http://schemas.openxmlformats.org/officeDocument/2006/relationships/image" Target="../media/image31.png"/><Relationship Id="rId13" Type="http://schemas.openxmlformats.org/officeDocument/2006/relationships/image" Target="../media/image29.png"/><Relationship Id="rId14" Type="http://schemas.openxmlformats.org/officeDocument/2006/relationships/image" Target="../media/image29.png"/><Relationship Id="rId15" Type="http://schemas.openxmlformats.org/officeDocument/2006/relationships/image" Target="../media/image52.png"/><Relationship Id="rId1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47.png"/><Relationship Id="rId3" Type="http://schemas.openxmlformats.org/officeDocument/2006/relationships/image" Target="../media/image53.jpeg"/><Relationship Id="rId4" Type="http://schemas.openxmlformats.org/officeDocument/2006/relationships/image" Target="../media/image53.jpeg"/><Relationship Id="rId5" Type="http://schemas.openxmlformats.org/officeDocument/2006/relationships/image" Target="../media/image53.jpeg"/><Relationship Id="rId6" Type="http://schemas.openxmlformats.org/officeDocument/2006/relationships/image" Target="../media/image31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image" Target="../media/image27.png"/><Relationship Id="rId11" Type="http://schemas.openxmlformats.org/officeDocument/2006/relationships/image" Target="../media/image29.png"/><Relationship Id="rId12" Type="http://schemas.openxmlformats.org/officeDocument/2006/relationships/image" Target="../media/image29.png"/><Relationship Id="rId13" Type="http://schemas.openxmlformats.org/officeDocument/2006/relationships/image" Target="../media/image31.png"/><Relationship Id="rId14" Type="http://schemas.openxmlformats.org/officeDocument/2006/relationships/image" Target="../media/image29.png"/><Relationship Id="rId15" Type="http://schemas.openxmlformats.org/officeDocument/2006/relationships/image" Target="../media/image29.png"/><Relationship Id="rId16" Type="http://schemas.openxmlformats.org/officeDocument/2006/relationships/image" Target="../media/image33.png"/><Relationship Id="rId1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47.png"/><Relationship Id="rId3" Type="http://schemas.openxmlformats.org/officeDocument/2006/relationships/image" Target="../media/image46.png"/><Relationship Id="rId4" Type="http://schemas.openxmlformats.org/officeDocument/2006/relationships/image" Target="../media/image33.png"/><Relationship Id="rId5" Type="http://schemas.openxmlformats.org/officeDocument/2006/relationships/image" Target="../media/image47.png"/><Relationship Id="rId6" Type="http://schemas.openxmlformats.org/officeDocument/2006/relationships/image" Target="../media/image53.jpeg"/><Relationship Id="rId7" Type="http://schemas.openxmlformats.org/officeDocument/2006/relationships/image" Target="../media/image53.jpeg"/><Relationship Id="rId8" Type="http://schemas.openxmlformats.org/officeDocument/2006/relationships/image" Target="../media/image53.jpeg"/><Relationship Id="rId9" Type="http://schemas.openxmlformats.org/officeDocument/2006/relationships/image" Target="../media/image54.png"/><Relationship Id="rId10" Type="http://schemas.openxmlformats.org/officeDocument/2006/relationships/image" Target="../media/image31.png"/><Relationship Id="rId11" Type="http://schemas.openxmlformats.org/officeDocument/2006/relationships/image" Target="../media/image31.png"/><Relationship Id="rId12" Type="http://schemas.openxmlformats.org/officeDocument/2006/relationships/image" Target="../media/image31.png"/><Relationship Id="rId13" Type="http://schemas.openxmlformats.org/officeDocument/2006/relationships/image" Target="../media/image31.png"/><Relationship Id="rId14" Type="http://schemas.openxmlformats.org/officeDocument/2006/relationships/image" Target="../media/image31.png"/><Relationship Id="rId15" Type="http://schemas.openxmlformats.org/officeDocument/2006/relationships/image" Target="../media/image31.png"/><Relationship Id="rId16" Type="http://schemas.openxmlformats.org/officeDocument/2006/relationships/image" Target="../media/image31.png"/><Relationship Id="rId17" Type="http://schemas.openxmlformats.org/officeDocument/2006/relationships/image" Target="../media/image31.png"/><Relationship Id="rId18" Type="http://schemas.openxmlformats.org/officeDocument/2006/relationships/image" Target="../media/image31.png"/><Relationship Id="rId19" Type="http://schemas.openxmlformats.org/officeDocument/2006/relationships/image" Target="../media/image27.png"/><Relationship Id="rId20" Type="http://schemas.openxmlformats.org/officeDocument/2006/relationships/image" Target="../media/image33.png"/><Relationship Id="rId21" Type="http://schemas.openxmlformats.org/officeDocument/2006/relationships/image" Target="../media/image35.png"/><Relationship Id="rId22" Type="http://schemas.openxmlformats.org/officeDocument/2006/relationships/image" Target="../media/image31.png"/><Relationship Id="rId23" Type="http://schemas.openxmlformats.org/officeDocument/2006/relationships/image" Target="../media/image29.png"/><Relationship Id="rId24" Type="http://schemas.openxmlformats.org/officeDocument/2006/relationships/image" Target="../media/image29.png"/><Relationship Id="rId25" Type="http://schemas.openxmlformats.org/officeDocument/2006/relationships/image" Target="../media/image29.png"/><Relationship Id="rId26" Type="http://schemas.openxmlformats.org/officeDocument/2006/relationships/image" Target="../media/image29.png"/><Relationship Id="rId27" Type="http://schemas.openxmlformats.org/officeDocument/2006/relationships/image" Target="../media/image29.png"/><Relationship Id="rId28" Type="http://schemas.openxmlformats.org/officeDocument/2006/relationships/image" Target="../media/image29.png"/><Relationship Id="rId29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58.jpeg"/><Relationship Id="rId5" Type="http://schemas.openxmlformats.org/officeDocument/2006/relationships/image" Target="../media/image59.jpeg"/><Relationship Id="rId6" Type="http://schemas.openxmlformats.org/officeDocument/2006/relationships/image" Target="../media/image46.png"/><Relationship Id="rId7" Type="http://schemas.openxmlformats.org/officeDocument/2006/relationships/image" Target="../media/image52.png"/><Relationship Id="rId8" Type="http://schemas.openxmlformats.org/officeDocument/2006/relationships/image" Target="../media/image27.png"/><Relationship Id="rId9" Type="http://schemas.openxmlformats.org/officeDocument/2006/relationships/image" Target="../media/image33.png"/><Relationship Id="rId10" Type="http://schemas.openxmlformats.org/officeDocument/2006/relationships/image" Target="../media/image31.png"/><Relationship Id="rId11" Type="http://schemas.openxmlformats.org/officeDocument/2006/relationships/image" Target="../media/image29.png"/><Relationship Id="rId12" Type="http://schemas.openxmlformats.org/officeDocument/2006/relationships/image" Target="../media/image29.png"/><Relationship Id="rId13" Type="http://schemas.openxmlformats.org/officeDocument/2006/relationships/image" Target="../media/image29.png"/><Relationship Id="rId14" Type="http://schemas.openxmlformats.org/officeDocument/2006/relationships/image" Target="../media/image29.png"/><Relationship Id="rId15" Type="http://schemas.openxmlformats.org/officeDocument/2006/relationships/image" Target="../media/image29.png"/><Relationship Id="rId16" Type="http://schemas.openxmlformats.org/officeDocument/2006/relationships/image" Target="../media/image29.png"/><Relationship Id="rId17" Type="http://schemas.openxmlformats.org/officeDocument/2006/relationships/image" Target="../media/image39.png"/><Relationship Id="rId18" Type="http://schemas.openxmlformats.org/officeDocument/2006/relationships/image" Target="../media/image35.png"/><Relationship Id="rId19" Type="http://schemas.openxmlformats.org/officeDocument/2006/relationships/image" Target="../media/image27.png"/><Relationship Id="rId20" Type="http://schemas.openxmlformats.org/officeDocument/2006/relationships/image" Target="../media/image33.png"/><Relationship Id="rId21" Type="http://schemas.openxmlformats.org/officeDocument/2006/relationships/image" Target="../media/image31.png"/><Relationship Id="rId22" Type="http://schemas.openxmlformats.org/officeDocument/2006/relationships/image" Target="../media/image29.png"/><Relationship Id="rId23" Type="http://schemas.openxmlformats.org/officeDocument/2006/relationships/image" Target="../media/image29.png"/><Relationship Id="rId24" Type="http://schemas.openxmlformats.org/officeDocument/2006/relationships/image" Target="../media/image29.png"/><Relationship Id="rId25" Type="http://schemas.openxmlformats.org/officeDocument/2006/relationships/image" Target="../media/image29.png"/><Relationship Id="rId26" Type="http://schemas.openxmlformats.org/officeDocument/2006/relationships/image" Target="../media/image29.png"/><Relationship Id="rId27" Type="http://schemas.openxmlformats.org/officeDocument/2006/relationships/image" Target="../media/image29.png"/><Relationship Id="rId28" Type="http://schemas.openxmlformats.org/officeDocument/2006/relationships/image" Target="../media/image39.png"/><Relationship Id="rId29" Type="http://schemas.openxmlformats.org/officeDocument/2006/relationships/image" Target="../media/image35.png"/><Relationship Id="rId30" Type="http://schemas.openxmlformats.org/officeDocument/2006/relationships/image" Target="../media/image46.png"/><Relationship Id="rId3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1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6.wmf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://www.microsoft.com/presspass/features/2001/oct01/10-03securityqa.asp" TargetMode="External"/><Relationship Id="rId2" Type="http://schemas.openxmlformats.org/officeDocument/2006/relationships/hyperlink" Target="http://www.microsoft.com/presspass/features/2001/oct01/10-03securityqa.asp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hyperlink" Target="http://download.microsoft.com/download/xml/security/1.0/nt5/en-us/mssecure.cab" TargetMode="External"/><Relationship Id="rId2" Type="http://schemas.openxmlformats.org/officeDocument/2006/relationships/hyperlink" Target="http://www.microsoft.com/technet/security/current.asp" TargetMode="External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hyperlink" Target="http://www.microsoft.com/solutions/idc/" TargetMode="External"/><Relationship Id="rId2" Type="http://schemas.openxmlformats.org/officeDocument/2006/relationships/hyperlink" Target="http://www.microsoft.com/solutions/idc/" TargetMode="External"/><Relationship Id="rId3" Type="http://schemas.openxmlformats.org/officeDocument/2006/relationships/hyperlink" Target="http://www.microsoft.com/security" TargetMode="External"/><Relationship Id="rId4" Type="http://schemas.openxmlformats.org/officeDocument/2006/relationships/hyperlink" Target="http://www.microsoft.com/technet/itsolutions/security" TargetMode="External"/><Relationship Id="rId5" Type="http://schemas.openxmlformats.org/officeDocument/2006/relationships/hyperlink" Target="http://www.microsoft.com/business/solutions/default.asp" TargetMode="External"/><Relationship Id="rId6" Type="http://schemas.openxmlformats.org/officeDocument/2006/relationships/hyperlink" Target="http://www.securityfocus.com/" TargetMode="External"/><Relationship Id="rId7" Type="http://schemas.openxmlformats.org/officeDocument/2006/relationships/hyperlink" Target="http://www.rsasecurity.com/" TargetMode="External"/><Relationship Id="rId8" Type="http://schemas.openxmlformats.org/officeDocument/2006/relationships/hyperlink" Target="http://www.rsasecurity.com/" TargetMode="External"/><Relationship Id="rId9" Type="http://schemas.openxmlformats.org/officeDocument/2006/relationships/hyperlink" Target="http://www.rsasecurity.com/" TargetMode="External"/><Relationship Id="rId10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e701"/>
                </a:solidFill>
                <a:latin typeface="Arial"/>
              </a:rPr>
              <a:t>TechNet Szeminárium előadások 2002 tavasz</a:t>
            </a:r>
            <a:endParaRPr b="1" lang="en-US" sz="4000" spc="-1" strike="noStrike">
              <a:solidFill>
                <a:srgbClr val="ffe701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50920" y="1424160"/>
          <a:ext cx="8713800" cy="4952880"/>
        </p:xfrm>
        <a:graphic>
          <a:graphicData uri="http://schemas.openxmlformats.org/drawingml/2006/table">
            <a:tbl>
              <a:tblPr/>
              <a:tblGrid>
                <a:gridCol w="1728720"/>
                <a:gridCol w="69850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2. 02. 20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QL Server adatbázisok adminisztrációj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66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2. 03. 06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ndows alapú webes alkalmazáso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66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2. 03. 20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ztonságos Window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66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2. 04. 03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állalati szintű projektmenedzsm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66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2. 04. 17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Üzemeltetői konferenc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66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2. 05. 08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Windows .NET Server technikai újdonsága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66"/>
                    </a:solidFill>
                  </a:tcPr>
                </a:tc>
              </a:tr>
            </a:tbl>
          </a:graphicData>
        </a:graphic>
      </p:graphicFrame>
      <p:grpSp>
        <p:nvGrpSpPr>
          <p:cNvPr id="93" name=""/>
          <p:cNvGrpSpPr/>
          <p:nvPr/>
        </p:nvGrpSpPr>
        <p:grpSpPr>
          <a:xfrm>
            <a:off x="250920" y="1413000"/>
            <a:ext cx="8713800" cy="1641240"/>
            <a:chOff x="250920" y="1413000"/>
            <a:chExt cx="8713800" cy="1641240"/>
          </a:xfrm>
        </p:grpSpPr>
        <p:sp>
          <p:nvSpPr>
            <p:cNvPr id="94" name=""/>
            <p:cNvSpPr/>
            <p:nvPr/>
          </p:nvSpPr>
          <p:spPr>
            <a:xfrm>
              <a:off x="250920" y="1413000"/>
              <a:ext cx="1728720" cy="1641240"/>
            </a:xfrm>
            <a:prstGeom prst="rect">
              <a:avLst/>
            </a:prstGeom>
            <a:solidFill>
              <a:srgbClr val="00b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979640" y="1413000"/>
              <a:ext cx="6985080" cy="1641240"/>
            </a:xfrm>
            <a:prstGeom prst="rect">
              <a:avLst/>
            </a:pr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250920" y="3919680"/>
            <a:ext cx="8713800" cy="2460240"/>
            <a:chOff x="250920" y="3919680"/>
            <a:chExt cx="8713800" cy="2460240"/>
          </a:xfrm>
        </p:grpSpPr>
        <p:sp>
          <p:nvSpPr>
            <p:cNvPr id="97" name=""/>
            <p:cNvSpPr/>
            <p:nvPr/>
          </p:nvSpPr>
          <p:spPr>
            <a:xfrm>
              <a:off x="250920" y="3919680"/>
              <a:ext cx="1728720" cy="2460240"/>
            </a:xfrm>
            <a:prstGeom prst="rect">
              <a:avLst/>
            </a:prstGeom>
            <a:solidFill>
              <a:srgbClr val="00b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979640" y="3919680"/>
              <a:ext cx="6985080" cy="2460240"/>
            </a:xfrm>
            <a:prstGeom prst="rect">
              <a:avLst/>
            </a:pr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701"/>
                </a:solidFill>
                <a:latin typeface="Arial"/>
              </a:rPr>
              <a:t>Microsoft Systems Architecture</a:t>
            </a:r>
            <a:endParaRPr b="1" lang="en-US" sz="44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05920" y="2639880"/>
            <a:ext cx="152280" cy="3919680"/>
          </a:xfrm>
          <a:custGeom>
            <a:avLst/>
            <a:gdLst>
              <a:gd name="textAreaLeft" fmla="*/ 0 w 152280"/>
              <a:gd name="textAreaRight" fmla="*/ 55080 w 152280"/>
              <a:gd name="textAreaTop" fmla="*/ 101880 h 3919680"/>
              <a:gd name="textAreaBottom" fmla="*/ 3817800 h 391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415000" y="3852720"/>
            <a:ext cx="729000" cy="15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-Busines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frastr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uktú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42840" y="3325680"/>
            <a:ext cx="76320" cy="3221280"/>
          </a:xfrm>
          <a:custGeom>
            <a:avLst/>
            <a:gdLst>
              <a:gd name="textAreaLeft" fmla="*/ 48960 w 76320"/>
              <a:gd name="textAreaRight" fmla="*/ 76320 w 76320"/>
              <a:gd name="textAreaTop" fmla="*/ 83880 h 3221280"/>
              <a:gd name="textAreaBottom" fmla="*/ 3137400 h 322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16200000">
            <a:off x="-101520" y="4684320"/>
            <a:ext cx="136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Rendsze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rhitektú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492200" y="2625840"/>
            <a:ext cx="6249960" cy="7840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536840" y="2687760"/>
            <a:ext cx="2644560" cy="6634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617720" y="2825640"/>
            <a:ext cx="247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  <a:ea typeface="Arial"/>
              </a:rPr>
              <a:t>Fejlesztő eszközö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1492200" y="3397320"/>
            <a:ext cx="6249960" cy="8888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2797200" y="3541680"/>
            <a:ext cx="1165320" cy="5796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051720" y="3701520"/>
            <a:ext cx="66384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Arial"/>
              </a:rPr>
              <a:t>Címtá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4033800" y="3541680"/>
            <a:ext cx="1165320" cy="5796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048200" y="3701520"/>
            <a:ext cx="113976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Arial"/>
              </a:rPr>
              <a:t>Biztonsá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6"/>
          <a:stretch/>
        </p:blipFill>
        <p:spPr>
          <a:xfrm>
            <a:off x="5276880" y="3540240"/>
            <a:ext cx="1165320" cy="5778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5246640" y="3698640"/>
            <a:ext cx="122724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Arial"/>
              </a:rPr>
              <a:t>Mobilitá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7"/>
          <a:stretch/>
        </p:blipFill>
        <p:spPr>
          <a:xfrm>
            <a:off x="6485040" y="3540240"/>
            <a:ext cx="1168200" cy="5810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458040" y="3619440"/>
            <a:ext cx="122220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xtranet/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8"/>
          <a:stretch/>
        </p:blipFill>
        <p:spPr>
          <a:xfrm>
            <a:off x="1558800" y="3540240"/>
            <a:ext cx="1166760" cy="5778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691280" y="3695400"/>
            <a:ext cx="9367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Arial"/>
              </a:rPr>
              <a:t>Felügyel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9">
            <a:lum bright="-12000"/>
          </a:blip>
          <a:stretch/>
        </p:blipFill>
        <p:spPr>
          <a:xfrm>
            <a:off x="1492200" y="1725480"/>
            <a:ext cx="6249960" cy="9176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668600" y="1752480"/>
            <a:ext cx="17017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-Business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frastru</a:t>
            </a:r>
            <a:r>
              <a:rPr b="1" lang="hu-HU" sz="1200" spc="-1" strike="noStrike">
                <a:solidFill>
                  <a:srgbClr val="ffffff"/>
                </a:solidFill>
                <a:latin typeface="Arial"/>
              </a:rPr>
              <a:t>ktú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52920" y="1749600"/>
            <a:ext cx="111600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Arial"/>
              </a:rPr>
              <a:t>Kapcsolódóügyfele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24360" y="1749600"/>
            <a:ext cx="15415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Arial"/>
              </a:rPr>
              <a:t>Integrálódó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1" lang="hu-HU" sz="1200" spc="-1" strike="noStrike">
                <a:solidFill>
                  <a:srgbClr val="ffffff"/>
                </a:solidFill>
                <a:latin typeface="Arial"/>
              </a:rPr>
              <a:t>üzeleti p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rtner</a:t>
            </a:r>
            <a:r>
              <a:rPr b="1" lang="hu-HU" sz="1200" spc="-1" strike="noStrike">
                <a:solidFill>
                  <a:srgbClr val="ffffff"/>
                </a:solidFill>
                <a:latin typeface="Arial"/>
              </a:rPr>
              <a:t>e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275520" y="1749600"/>
            <a:ext cx="146196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Arial"/>
              </a:rPr>
              <a:t>Hatékony munkatársa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0"/>
          <a:srcRect l="20003" t="54003" r="69004" b="30003"/>
          <a:stretch/>
        </p:blipFill>
        <p:spPr>
          <a:xfrm>
            <a:off x="1508040" y="2103480"/>
            <a:ext cx="730440" cy="5191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576800" y="2268360"/>
            <a:ext cx="583200" cy="1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800" spc="-1" strike="noStrike">
                <a:solidFill>
                  <a:srgbClr val="003366"/>
                </a:solidFill>
                <a:latin typeface="Arial Narrow"/>
              </a:rPr>
              <a:t>Feljeszté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1"/>
          <a:srcRect l="20003" t="54003" r="69004" b="30003"/>
          <a:stretch/>
        </p:blipFill>
        <p:spPr>
          <a:xfrm>
            <a:off x="2152800" y="2103480"/>
            <a:ext cx="730080" cy="5191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206440" y="2224440"/>
            <a:ext cx="6289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800" spc="-1" strike="noStrike">
                <a:solidFill>
                  <a:srgbClr val="003366"/>
                </a:solidFill>
                <a:latin typeface="Arial Narrow"/>
              </a:rPr>
              <a:t>Rendszer</a:t>
            </a:r>
            <a:br>
              <a:rPr sz="800"/>
            </a:br>
            <a:r>
              <a:rPr b="1" lang="en-US" sz="800" spc="-1" strike="noStrike">
                <a:solidFill>
                  <a:srgbClr val="003366"/>
                </a:solidFill>
                <a:latin typeface="Arial Narrow"/>
              </a:rPr>
              <a:t>Arhite</a:t>
            </a:r>
            <a:r>
              <a:rPr b="1" lang="hu-HU" sz="800" spc="-1" strike="noStrike">
                <a:solidFill>
                  <a:srgbClr val="003366"/>
                </a:solidFill>
                <a:latin typeface="Arial Narrow"/>
              </a:rPr>
              <a:t>ktúra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2"/>
          <a:srcRect l="20003" t="54003" r="69004" b="30003"/>
          <a:stretch/>
        </p:blipFill>
        <p:spPr>
          <a:xfrm>
            <a:off x="3503520" y="2103480"/>
            <a:ext cx="730440" cy="5191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612600" y="2219400"/>
            <a:ext cx="4885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3366"/>
                </a:solidFill>
                <a:latin typeface="Arial Narrow"/>
              </a:rPr>
              <a:t>Interne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3366"/>
                </a:solidFill>
                <a:latin typeface="Arial Narrow"/>
              </a:rPr>
              <a:t>Biz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3"/>
          <a:srcRect l="20003" t="54003" r="69004" b="30003"/>
          <a:stretch/>
        </p:blipFill>
        <p:spPr>
          <a:xfrm>
            <a:off x="4863960" y="2103480"/>
            <a:ext cx="728640" cy="5191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792680" y="2246040"/>
            <a:ext cx="852480" cy="1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800" spc="-1" strike="noStrike">
                <a:solidFill>
                  <a:srgbClr val="003366"/>
                </a:solidFill>
                <a:latin typeface="Arial Narrow"/>
              </a:rPr>
              <a:t>Beszállítók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4"/>
          <a:srcRect l="20003" t="54003" r="69004" b="30003"/>
          <a:stretch/>
        </p:blipFill>
        <p:spPr>
          <a:xfrm>
            <a:off x="6313320" y="2103480"/>
            <a:ext cx="730440" cy="5191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6436800" y="2219400"/>
            <a:ext cx="4579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800" spc="-1" strike="noStrike">
                <a:solidFill>
                  <a:srgbClr val="003366"/>
                </a:solidFill>
                <a:latin typeface="Arial Narrow"/>
              </a:rPr>
              <a:t>Céges </a:t>
            </a:r>
            <a:br>
              <a:rPr sz="800"/>
            </a:br>
            <a:r>
              <a:rPr b="1" lang="hu-HU" sz="800" spc="-1" strike="noStrike">
                <a:solidFill>
                  <a:srgbClr val="003366"/>
                </a:solidFill>
                <a:latin typeface="Arial Narrow"/>
              </a:rPr>
              <a:t>p</a:t>
            </a:r>
            <a:r>
              <a:rPr b="1" lang="en-US" sz="800" spc="-1" strike="noStrike">
                <a:solidFill>
                  <a:srgbClr val="003366"/>
                </a:solidFill>
                <a:latin typeface="Arial Narrow"/>
              </a:rPr>
              <a:t>ort</a:t>
            </a:r>
            <a:r>
              <a:rPr b="1" lang="hu-HU" sz="800" spc="-1" strike="noStrike">
                <a:solidFill>
                  <a:srgbClr val="003366"/>
                </a:solidFill>
                <a:latin typeface="Arial Narrow"/>
              </a:rPr>
              <a:t>á</a:t>
            </a:r>
            <a:r>
              <a:rPr b="1" lang="en-US" sz="800" spc="-1" strike="noStrike">
                <a:solidFill>
                  <a:srgbClr val="003366"/>
                </a:solidFill>
                <a:latin typeface="Arial Narrow"/>
              </a:rPr>
              <a:t>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5"/>
          <a:srcRect l="20003" t="54003" r="69004" b="30003"/>
          <a:stretch/>
        </p:blipFill>
        <p:spPr>
          <a:xfrm>
            <a:off x="5543640" y="2103480"/>
            <a:ext cx="730080" cy="5191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5676120" y="2246040"/>
            <a:ext cx="442440" cy="1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3366"/>
                </a:solidFill>
                <a:latin typeface="Arial Narrow"/>
              </a:rPr>
              <a:t>HIP</a:t>
            </a:r>
            <a:r>
              <a:rPr b="1" lang="hu-HU" sz="800" spc="-1" strike="noStrike">
                <a:solidFill>
                  <a:srgbClr val="003366"/>
                </a:solidFill>
                <a:latin typeface="Arial Narrow"/>
              </a:rPr>
              <a:t>A</a:t>
            </a:r>
            <a:r>
              <a:rPr b="1" lang="en-US" sz="800" spc="-1" strike="noStrike">
                <a:solidFill>
                  <a:srgbClr val="003366"/>
                </a:solidFill>
                <a:latin typeface="Arial Narrow"/>
              </a:rPr>
              <a:t>A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6"/>
          <a:srcRect l="20003" t="54003" r="69004" b="30003"/>
          <a:stretch/>
        </p:blipFill>
        <p:spPr>
          <a:xfrm>
            <a:off x="6997680" y="2103480"/>
            <a:ext cx="730440" cy="5191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6994800" y="2207520"/>
            <a:ext cx="7218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900" spc="-1" strike="noStrike">
                <a:solidFill>
                  <a:srgbClr val="003366"/>
                </a:solidFill>
                <a:latin typeface="Arial Narrow"/>
              </a:rPr>
              <a:t>Üzleti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66"/>
                </a:solidFill>
                <a:latin typeface="Arial Narrow"/>
              </a:rPr>
              <a:t>Intelligenc</a:t>
            </a:r>
            <a:r>
              <a:rPr b="1" lang="hu-HU" sz="900" spc="-1" strike="noStrike">
                <a:solidFill>
                  <a:srgbClr val="003366"/>
                </a:solidFill>
                <a:latin typeface="Arial Narrow"/>
              </a:rPr>
              <a:t>ia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315120" y="1757520"/>
            <a:ext cx="0" cy="853920"/>
          </a:xfrm>
          <a:prstGeom prst="line">
            <a:avLst/>
          </a:prstGeom>
          <a:ln cap="rnd" w="19080">
            <a:solidFill>
              <a:srgbClr val="f5c565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69000" y="1757520"/>
            <a:ext cx="0" cy="868320"/>
          </a:xfrm>
          <a:prstGeom prst="line">
            <a:avLst/>
          </a:prstGeom>
          <a:ln cap="rnd" w="19080">
            <a:solidFill>
              <a:srgbClr val="f5c565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514680" y="1757520"/>
            <a:ext cx="0" cy="828360"/>
          </a:xfrm>
          <a:prstGeom prst="line">
            <a:avLst/>
          </a:prstGeom>
          <a:ln cap="rnd" w="19080">
            <a:solidFill>
              <a:srgbClr val="f5c565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7"/>
          <a:srcRect l="20003" t="54003" r="69004" b="30003"/>
          <a:stretch/>
        </p:blipFill>
        <p:spPr>
          <a:xfrm>
            <a:off x="2803680" y="2103480"/>
            <a:ext cx="730080" cy="5191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2865600" y="2268360"/>
            <a:ext cx="598320" cy="1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800" spc="-1" strike="noStrike">
                <a:solidFill>
                  <a:srgbClr val="003366"/>
                </a:solidFill>
                <a:latin typeface="Arial Narrow"/>
              </a:rPr>
              <a:t>Felügylee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8"/>
          <a:srcRect l="20003" t="54003" r="69004" b="30003"/>
          <a:stretch/>
        </p:blipFill>
        <p:spPr>
          <a:xfrm>
            <a:off x="4178160" y="2103480"/>
            <a:ext cx="730440" cy="5191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4208400" y="2219400"/>
            <a:ext cx="636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3366"/>
                </a:solidFill>
                <a:latin typeface="Arial Narrow"/>
              </a:rPr>
              <a:t>Internet Biz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800" spc="-1" strike="noStrike">
                <a:solidFill>
                  <a:srgbClr val="003366"/>
                </a:solidFill>
                <a:latin typeface="Arial Narrow"/>
              </a:rPr>
              <a:t>Keresk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9"/>
          <a:stretch/>
        </p:blipFill>
        <p:spPr>
          <a:xfrm>
            <a:off x="1492200" y="4246560"/>
            <a:ext cx="6249960" cy="11714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0">
            <a:lum contrast="18000"/>
          </a:blip>
          <a:stretch/>
        </p:blipFill>
        <p:spPr>
          <a:xfrm>
            <a:off x="1552680" y="4465800"/>
            <a:ext cx="1531800" cy="8776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1"/>
          <a:stretch/>
        </p:blipFill>
        <p:spPr>
          <a:xfrm>
            <a:off x="6445080" y="4483080"/>
            <a:ext cx="554040" cy="7412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2"/>
          <a:stretch/>
        </p:blipFill>
        <p:spPr>
          <a:xfrm>
            <a:off x="5315040" y="4483080"/>
            <a:ext cx="554040" cy="7412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3"/>
          <a:stretch/>
        </p:blipFill>
        <p:spPr>
          <a:xfrm>
            <a:off x="5884920" y="4489560"/>
            <a:ext cx="544320" cy="734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0" name=""/>
          <p:cNvGraphicFramePr/>
          <p:nvPr/>
        </p:nvGraphicFramePr>
        <p:xfrm>
          <a:off x="4746600" y="4483080"/>
          <a:ext cx="554040" cy="74124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4746600" y="4483080"/>
                    <a:ext cx="55404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2" name="" descr=""/>
          <p:cNvPicPr/>
          <p:nvPr/>
        </p:nvPicPr>
        <p:blipFill>
          <a:blip r:embed="rId26"/>
          <a:stretch/>
        </p:blipFill>
        <p:spPr>
          <a:xfrm>
            <a:off x="4176720" y="4483080"/>
            <a:ext cx="554040" cy="7412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7"/>
          <a:stretch/>
        </p:blipFill>
        <p:spPr>
          <a:xfrm>
            <a:off x="3606840" y="4484520"/>
            <a:ext cx="554040" cy="7398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8"/>
          <a:stretch/>
        </p:blipFill>
        <p:spPr>
          <a:xfrm>
            <a:off x="3038400" y="4481640"/>
            <a:ext cx="554040" cy="742680"/>
          </a:xfrm>
          <a:prstGeom prst="rect">
            <a:avLst/>
          </a:prstGeom>
          <a:ln w="0">
            <a:noFill/>
          </a:ln>
        </p:spPr>
      </p:pic>
      <p:grpSp>
        <p:nvGrpSpPr>
          <p:cNvPr id="175" name=""/>
          <p:cNvGrpSpPr/>
          <p:nvPr/>
        </p:nvGrpSpPr>
        <p:grpSpPr>
          <a:xfrm>
            <a:off x="7029360" y="4381560"/>
            <a:ext cx="638280" cy="441000"/>
            <a:chOff x="7029360" y="4381560"/>
            <a:chExt cx="638280" cy="441000"/>
          </a:xfrm>
        </p:grpSpPr>
        <p:pic>
          <p:nvPicPr>
            <p:cNvPr id="176" name="" descr=""/>
            <p:cNvPicPr/>
            <p:nvPr/>
          </p:nvPicPr>
          <p:blipFill>
            <a:blip r:embed="rId29"/>
            <a:stretch/>
          </p:blipFill>
          <p:spPr>
            <a:xfrm>
              <a:off x="7029360" y="4381560"/>
              <a:ext cx="638280" cy="44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7086600" y="4447440"/>
              <a:ext cx="5191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900" spc="-1" strike="noStrike">
                  <a:solidFill>
                    <a:srgbClr val="003366"/>
                  </a:solidFill>
                  <a:latin typeface="Arial Narrow"/>
                </a:rPr>
                <a:t>Egyéb </a:t>
              </a:r>
              <a:br>
                <a:rPr sz="900"/>
              </a:br>
              <a:r>
                <a:rPr b="1" lang="hu-HU" sz="900" spc="-1" strike="noStrike">
                  <a:solidFill>
                    <a:srgbClr val="003366"/>
                  </a:solidFill>
                  <a:latin typeface="Arial Narrow"/>
                </a:rPr>
                <a:t>gyártók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7023240" y="4842000"/>
            <a:ext cx="637920" cy="441000"/>
            <a:chOff x="7023240" y="4842000"/>
            <a:chExt cx="637920" cy="441000"/>
          </a:xfrm>
        </p:grpSpPr>
        <p:pic>
          <p:nvPicPr>
            <p:cNvPr id="179" name="" descr=""/>
            <p:cNvPicPr/>
            <p:nvPr/>
          </p:nvPicPr>
          <p:blipFill>
            <a:blip r:embed="rId30"/>
            <a:stretch/>
          </p:blipFill>
          <p:spPr>
            <a:xfrm>
              <a:off x="7023240" y="4842000"/>
              <a:ext cx="637920" cy="44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7032240" y="4961520"/>
              <a:ext cx="6120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3366"/>
                  </a:solidFill>
                  <a:latin typeface="Arial Narrow"/>
                </a:rPr>
                <a:t>Partner</a:t>
              </a:r>
              <a:r>
                <a:rPr b="1" lang="hu-HU" sz="900" spc="-1" strike="noStrike">
                  <a:solidFill>
                    <a:srgbClr val="003366"/>
                  </a:solidFill>
                  <a:latin typeface="Arial Narrow"/>
                </a:rPr>
                <a:t>ek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 rot="16200000">
            <a:off x="-1159920" y="3952440"/>
            <a:ext cx="4887720" cy="420840"/>
          </a:xfrm>
          <a:prstGeom prst="rect">
            <a:avLst/>
          </a:prstGeom>
          <a:gradFill rotWithShape="0">
            <a:gsLst>
              <a:gs pos="0">
                <a:srgbClr val="2f5e75"/>
              </a:gs>
              <a:gs pos="50000">
                <a:srgbClr val="66ccff"/>
              </a:gs>
              <a:gs pos="100000">
                <a:srgbClr val="2f5e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zolgáltatás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737480" y="1725480"/>
            <a:ext cx="515880" cy="4892760"/>
          </a:xfrm>
          <a:prstGeom prst="rect">
            <a:avLst/>
          </a:prstGeom>
          <a:gradFill rotWithShape="0">
            <a:gsLst>
              <a:gs pos="0">
                <a:srgbClr val="5e7575"/>
              </a:gs>
              <a:gs pos="50000">
                <a:srgbClr val="ccffff"/>
              </a:gs>
              <a:gs pos="100000">
                <a:srgbClr val="5e75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 flipV="1" rot="16200000">
            <a:off x="7183440" y="4070520"/>
            <a:ext cx="1933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871b8"/>
                </a:solidFill>
                <a:latin typeface="Arial"/>
              </a:rPr>
              <a:t>Támogatá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31"/>
          <a:stretch/>
        </p:blipFill>
        <p:spPr>
          <a:xfrm>
            <a:off x="1506600" y="5416560"/>
            <a:ext cx="6248160" cy="11970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2">
            <a:lum contrast="12000"/>
          </a:blip>
          <a:stretch/>
        </p:blipFill>
        <p:spPr>
          <a:xfrm>
            <a:off x="1539720" y="5445000"/>
            <a:ext cx="1638360" cy="10526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2806560" y="545148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33"/>
          <a:stretch/>
        </p:blipFill>
        <p:spPr>
          <a:xfrm>
            <a:off x="6364440" y="5786280"/>
            <a:ext cx="1223640" cy="5050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6926400" y="5672160"/>
            <a:ext cx="282600" cy="363600"/>
          </a:xfrm>
          <a:prstGeom prst="can">
            <a:avLst>
              <a:gd name="adj" fmla="val 20120"/>
            </a:avLst>
          </a:prstGeom>
          <a:gradFill rotWithShape="0">
            <a:gsLst>
              <a:gs pos="0">
                <a:srgbClr val="000000"/>
              </a:gs>
              <a:gs pos="50000">
                <a:srgbClr val="333333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027920" y="5857920"/>
            <a:ext cx="282600" cy="363600"/>
          </a:xfrm>
          <a:prstGeom prst="can">
            <a:avLst>
              <a:gd name="adj" fmla="val 20120"/>
            </a:avLst>
          </a:prstGeom>
          <a:gradFill rotWithShape="0">
            <a:gsLst>
              <a:gs pos="0">
                <a:srgbClr val="000000"/>
              </a:gs>
              <a:gs pos="50000">
                <a:srgbClr val="333333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34"/>
          <a:stretch/>
        </p:blipFill>
        <p:spPr>
          <a:xfrm>
            <a:off x="6651720" y="5489640"/>
            <a:ext cx="298440" cy="8031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5"/>
          <a:stretch/>
        </p:blipFill>
        <p:spPr>
          <a:xfrm>
            <a:off x="3695760" y="5797440"/>
            <a:ext cx="1231920" cy="5079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6"/>
          <a:stretch/>
        </p:blipFill>
        <p:spPr>
          <a:xfrm>
            <a:off x="3654360" y="5925960"/>
            <a:ext cx="654120" cy="2955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7"/>
          <a:stretch/>
        </p:blipFill>
        <p:spPr>
          <a:xfrm>
            <a:off x="4233960" y="5784840"/>
            <a:ext cx="687240" cy="414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8"/>
          <a:stretch/>
        </p:blipFill>
        <p:spPr>
          <a:xfrm>
            <a:off x="5054760" y="5772240"/>
            <a:ext cx="1231920" cy="5079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9"/>
          <a:stretch/>
        </p:blipFill>
        <p:spPr>
          <a:xfrm>
            <a:off x="5394240" y="5499000"/>
            <a:ext cx="304920" cy="7002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0"/>
          <a:stretch/>
        </p:blipFill>
        <p:spPr>
          <a:xfrm>
            <a:off x="5684760" y="5797440"/>
            <a:ext cx="582840" cy="41616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6638760" y="6269040"/>
            <a:ext cx="735120" cy="2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Arial"/>
              </a:rPr>
              <a:t>Tároló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148000" y="6269040"/>
            <a:ext cx="1032480" cy="2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Arial"/>
              </a:rPr>
              <a:t>Kiszolgáló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09600" y="6254640"/>
            <a:ext cx="726120" cy="2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Arial"/>
              </a:rPr>
              <a:t>Hálóz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795040" y="6269040"/>
            <a:ext cx="785520" cy="2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Arial"/>
              </a:rPr>
              <a:t>Szoftv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370960" y="5402160"/>
            <a:ext cx="221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crosoft 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701"/>
                </a:solidFill>
                <a:latin typeface="Arial"/>
              </a:rPr>
              <a:t>MSA IDC </a:t>
            </a:r>
            <a:r>
              <a:rPr b="1" lang="hu-HU" sz="4400" spc="-1" strike="noStrike">
                <a:solidFill>
                  <a:srgbClr val="ffe701"/>
                </a:solidFill>
                <a:latin typeface="Arial"/>
              </a:rPr>
              <a:t>tervezési célok</a:t>
            </a:r>
            <a:endParaRPr b="1" lang="en-US" sz="4400" spc="-1" strike="noStrike">
              <a:solidFill>
                <a:srgbClr val="ffe701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449280" y="1293840"/>
          <a:ext cx="8142120" cy="5226120"/>
        </p:xfrm>
        <a:graphic>
          <a:graphicData uri="http://schemas.openxmlformats.org/drawingml/2006/table">
            <a:tbl>
              <a:tblPr/>
              <a:tblGrid>
                <a:gridCol w="3157560"/>
                <a:gridCol w="4984560"/>
              </a:tblGrid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7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ztonságossá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7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apvető tervezési szempo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7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kálázhatósá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7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lfelé és oldalr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7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ndelkezésre állá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7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incs egypontos hibalehetősé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7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gbízhatósá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7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nzisztens viselkedé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7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nedzselhetősé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7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ejétől a végéi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7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zabványossá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7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kiépített infrastruktúra egység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7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ámogathatósá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7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gész megoldáské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7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lementáci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7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yorsan megoldhat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3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7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ljesítmén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7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7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skálázhatósággal összhangba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7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NET-re kész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7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7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e701"/>
                </a:solidFill>
                <a:latin typeface="Arial"/>
              </a:rPr>
              <a:t>Az MSA 4 megoldást tartalmaz</a:t>
            </a:r>
            <a:endParaRPr b="1" lang="en-US" sz="44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0" y="5400360"/>
            <a:ext cx="9144000" cy="12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Kulcs partnerek termékei az alkotóeleme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Compaq, Unisys / Nortel, Cisco / EMC / ComVault, Veritas / NetIQ, XTremesof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84200" y="2384280"/>
            <a:ext cx="8472600" cy="28544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4803840" y="4043520"/>
            <a:ext cx="1520640" cy="63648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5502240" y="3898800"/>
            <a:ext cx="351000" cy="455760"/>
          </a:xfrm>
          <a:prstGeom prst="can">
            <a:avLst>
              <a:gd name="adj" fmla="val 20120"/>
            </a:avLst>
          </a:prstGeom>
          <a:gradFill rotWithShape="0">
            <a:gsLst>
              <a:gs pos="0">
                <a:srgbClr val="000000"/>
              </a:gs>
              <a:gs pos="50000">
                <a:srgbClr val="333333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627520" y="4133880"/>
            <a:ext cx="351000" cy="455760"/>
          </a:xfrm>
          <a:prstGeom prst="can">
            <a:avLst>
              <a:gd name="adj" fmla="val 20120"/>
            </a:avLst>
          </a:prstGeom>
          <a:gradFill rotWithShape="0">
            <a:gsLst>
              <a:gs pos="0">
                <a:srgbClr val="000000"/>
              </a:gs>
              <a:gs pos="50000">
                <a:srgbClr val="333333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5160960" y="3668760"/>
            <a:ext cx="371520" cy="10126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4"/>
          <a:stretch/>
        </p:blipFill>
        <p:spPr>
          <a:xfrm>
            <a:off x="2197080" y="4471920"/>
            <a:ext cx="1531800" cy="6447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5"/>
          <a:stretch/>
        </p:blipFill>
        <p:spPr>
          <a:xfrm>
            <a:off x="2147760" y="4633920"/>
            <a:ext cx="811440" cy="3762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6"/>
          <a:stretch/>
        </p:blipFill>
        <p:spPr>
          <a:xfrm>
            <a:off x="2867040" y="4456080"/>
            <a:ext cx="855720" cy="5256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7"/>
          <a:stretch/>
        </p:blipFill>
        <p:spPr>
          <a:xfrm>
            <a:off x="7269120" y="3208320"/>
            <a:ext cx="1533600" cy="6415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8"/>
          <a:stretch/>
        </p:blipFill>
        <p:spPr>
          <a:xfrm>
            <a:off x="7578720" y="2894040"/>
            <a:ext cx="378000" cy="8859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9"/>
          <a:stretch/>
        </p:blipFill>
        <p:spPr>
          <a:xfrm>
            <a:off x="7974000" y="3240000"/>
            <a:ext cx="722160" cy="5238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5382360" y="4159080"/>
            <a:ext cx="1857240" cy="7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Tárolók,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AS, SAN,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witching Gear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388560" y="3419640"/>
            <a:ext cx="15768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indow</a:t>
            </a: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s 2000</a:t>
            </a:r>
            <a:br>
              <a:rPr sz="1600"/>
            </a:b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Servere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181320" y="4114800"/>
            <a:ext cx="1595520" cy="9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Hálózat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1600"/>
            </a:b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Útválasztók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,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witche</a:t>
            </a: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, </a:t>
            </a:r>
            <a:br>
              <a:rPr sz="1600"/>
            </a:b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Tűzfalak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0"/>
          <a:stretch/>
        </p:blipFill>
        <p:spPr>
          <a:xfrm>
            <a:off x="2311560" y="2957400"/>
            <a:ext cx="2203200" cy="943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11"/>
          <a:stretch/>
        </p:blipFill>
        <p:spPr>
          <a:xfrm rot="20755200">
            <a:off x="2885760" y="3263400"/>
            <a:ext cx="887400" cy="288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12"/>
          <a:stretch/>
        </p:blipFill>
        <p:spPr>
          <a:xfrm>
            <a:off x="3665520" y="3000240"/>
            <a:ext cx="285840" cy="2984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13"/>
          <a:stretch/>
        </p:blipFill>
        <p:spPr>
          <a:xfrm>
            <a:off x="3589200" y="3040200"/>
            <a:ext cx="285840" cy="2984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14"/>
          <a:stretch/>
        </p:blipFill>
        <p:spPr>
          <a:xfrm rot="844200">
            <a:off x="2885760" y="3648240"/>
            <a:ext cx="887400" cy="284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15"/>
          <a:stretch/>
        </p:blipFill>
        <p:spPr>
          <a:xfrm>
            <a:off x="2795760" y="3170160"/>
            <a:ext cx="237960" cy="5191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16"/>
          <a:stretch/>
        </p:blipFill>
        <p:spPr>
          <a:xfrm>
            <a:off x="3613320" y="3510000"/>
            <a:ext cx="285480" cy="29844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17"/>
          <a:stretch/>
        </p:blipFill>
        <p:spPr>
          <a:xfrm>
            <a:off x="3537000" y="3549600"/>
            <a:ext cx="285840" cy="29844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18"/>
          <a:stretch/>
        </p:blipFill>
        <p:spPr>
          <a:xfrm>
            <a:off x="3052800" y="3732120"/>
            <a:ext cx="512640" cy="288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19"/>
          <a:stretch/>
        </p:blipFill>
        <p:spPr>
          <a:xfrm>
            <a:off x="2833560" y="3708360"/>
            <a:ext cx="311400" cy="730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0"/>
          <a:stretch/>
        </p:blipFill>
        <p:spPr>
          <a:xfrm>
            <a:off x="6103800" y="2525760"/>
            <a:ext cx="285840" cy="2984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1"/>
          <a:stretch/>
        </p:blipFill>
        <p:spPr>
          <a:xfrm>
            <a:off x="6027840" y="2565360"/>
            <a:ext cx="285480" cy="2984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2"/>
          <a:stretch/>
        </p:blipFill>
        <p:spPr>
          <a:xfrm>
            <a:off x="4443480" y="2222640"/>
            <a:ext cx="2203560" cy="94284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3"/>
          <a:stretch/>
        </p:blipFill>
        <p:spPr>
          <a:xfrm rot="844200">
            <a:off x="5017680" y="2913120"/>
            <a:ext cx="887400" cy="284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4"/>
          <a:stretch/>
        </p:blipFill>
        <p:spPr>
          <a:xfrm>
            <a:off x="5745240" y="2774880"/>
            <a:ext cx="285840" cy="2984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5"/>
          <a:stretch/>
        </p:blipFill>
        <p:spPr>
          <a:xfrm>
            <a:off x="5668920" y="2814480"/>
            <a:ext cx="285840" cy="29844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6"/>
          <a:stretch/>
        </p:blipFill>
        <p:spPr>
          <a:xfrm>
            <a:off x="5186520" y="2997360"/>
            <a:ext cx="510840" cy="2700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7"/>
          <a:stretch/>
        </p:blipFill>
        <p:spPr>
          <a:xfrm>
            <a:off x="4965840" y="2973240"/>
            <a:ext cx="311040" cy="7308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8"/>
          <a:srcRect l="73670" t="-8057" r="0" b="0"/>
          <a:stretch/>
        </p:blipFill>
        <p:spPr>
          <a:xfrm>
            <a:off x="5472000" y="2384280"/>
            <a:ext cx="393840" cy="2232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9"/>
          <a:srcRect l="10105" t="30476" r="69712" b="33531"/>
          <a:stretch/>
        </p:blipFill>
        <p:spPr>
          <a:xfrm>
            <a:off x="5343480" y="2246400"/>
            <a:ext cx="190440" cy="2523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0"/>
          <a:stretch/>
        </p:blipFill>
        <p:spPr>
          <a:xfrm>
            <a:off x="5097600" y="2682720"/>
            <a:ext cx="995400" cy="2700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1"/>
          <a:stretch/>
        </p:blipFill>
        <p:spPr>
          <a:xfrm>
            <a:off x="6114960" y="2525760"/>
            <a:ext cx="285840" cy="2984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32"/>
          <a:stretch/>
        </p:blipFill>
        <p:spPr>
          <a:xfrm>
            <a:off x="6039000" y="2565360"/>
            <a:ext cx="285480" cy="29844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3"/>
          <a:stretch/>
        </p:blipFill>
        <p:spPr>
          <a:xfrm rot="20755200">
            <a:off x="5018040" y="2528640"/>
            <a:ext cx="887400" cy="284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34"/>
          <a:stretch/>
        </p:blipFill>
        <p:spPr>
          <a:xfrm>
            <a:off x="5797440" y="2265480"/>
            <a:ext cx="285840" cy="29844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5"/>
          <a:stretch/>
        </p:blipFill>
        <p:spPr>
          <a:xfrm>
            <a:off x="5721480" y="2305080"/>
            <a:ext cx="285480" cy="2984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6"/>
          <a:stretch/>
        </p:blipFill>
        <p:spPr>
          <a:xfrm>
            <a:off x="4927680" y="2435400"/>
            <a:ext cx="237960" cy="518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7"/>
          <a:stretch/>
        </p:blipFill>
        <p:spPr>
          <a:xfrm>
            <a:off x="284040" y="3638520"/>
            <a:ext cx="2203560" cy="94284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8"/>
          <a:stretch/>
        </p:blipFill>
        <p:spPr>
          <a:xfrm rot="20755200">
            <a:off x="858600" y="3944520"/>
            <a:ext cx="887400" cy="2880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39"/>
          <a:stretch/>
        </p:blipFill>
        <p:spPr>
          <a:xfrm>
            <a:off x="1638360" y="3681360"/>
            <a:ext cx="285840" cy="29844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40"/>
          <a:stretch/>
        </p:blipFill>
        <p:spPr>
          <a:xfrm>
            <a:off x="1562040" y="3720960"/>
            <a:ext cx="285840" cy="29844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41"/>
          <a:stretch/>
        </p:blipFill>
        <p:spPr>
          <a:xfrm rot="844200">
            <a:off x="858960" y="4329000"/>
            <a:ext cx="887400" cy="288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42"/>
          <a:stretch/>
        </p:blipFill>
        <p:spPr>
          <a:xfrm>
            <a:off x="1585800" y="4191120"/>
            <a:ext cx="285840" cy="29844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43"/>
          <a:stretch/>
        </p:blipFill>
        <p:spPr>
          <a:xfrm>
            <a:off x="1509840" y="4230720"/>
            <a:ext cx="285480" cy="29844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44"/>
          <a:stretch/>
        </p:blipFill>
        <p:spPr>
          <a:xfrm>
            <a:off x="768240" y="3851280"/>
            <a:ext cx="238320" cy="5191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45"/>
          <a:stretch/>
        </p:blipFill>
        <p:spPr>
          <a:xfrm>
            <a:off x="7750080" y="1496880"/>
            <a:ext cx="1219320" cy="86688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46"/>
          <a:stretch/>
        </p:blipFill>
        <p:spPr>
          <a:xfrm>
            <a:off x="6388200" y="1496880"/>
            <a:ext cx="1218960" cy="86688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47"/>
          <a:stretch/>
        </p:blipFill>
        <p:spPr>
          <a:xfrm>
            <a:off x="8267760" y="1914480"/>
            <a:ext cx="482400" cy="2232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48"/>
          <a:stretch/>
        </p:blipFill>
        <p:spPr>
          <a:xfrm rot="20444400">
            <a:off x="8246880" y="1802880"/>
            <a:ext cx="403200" cy="2232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49"/>
          <a:stretch/>
        </p:blipFill>
        <p:spPr>
          <a:xfrm rot="1155000">
            <a:off x="8247240" y="2025360"/>
            <a:ext cx="403200" cy="2232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50"/>
          <a:stretch/>
        </p:blipFill>
        <p:spPr>
          <a:xfrm>
            <a:off x="8742240" y="1835280"/>
            <a:ext cx="204840" cy="16164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51"/>
          <a:stretch/>
        </p:blipFill>
        <p:spPr>
          <a:xfrm>
            <a:off x="8688240" y="1855800"/>
            <a:ext cx="204840" cy="1620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52"/>
          <a:stretch/>
        </p:blipFill>
        <p:spPr>
          <a:xfrm>
            <a:off x="8602560" y="1623960"/>
            <a:ext cx="204840" cy="16200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53"/>
          <a:stretch/>
        </p:blipFill>
        <p:spPr>
          <a:xfrm>
            <a:off x="8548560" y="1644480"/>
            <a:ext cx="204840" cy="1620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4"/>
          <a:srcRect l="76395" t="-1422" r="5132" b="-14218"/>
          <a:stretch/>
        </p:blipFill>
        <p:spPr>
          <a:xfrm rot="1451400">
            <a:off x="7848360" y="1611000"/>
            <a:ext cx="288720" cy="1908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55"/>
          <a:srcRect l="-8057" t="0" r="0" b="73670"/>
          <a:stretch/>
        </p:blipFill>
        <p:spPr>
          <a:xfrm rot="1879200">
            <a:off x="8075160" y="1623600"/>
            <a:ext cx="23760" cy="31284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56"/>
          <a:srcRect l="-8057" t="1665" r="-3791" b="83999"/>
          <a:stretch/>
        </p:blipFill>
        <p:spPr>
          <a:xfrm>
            <a:off x="8234280" y="1635120"/>
            <a:ext cx="23760" cy="16992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57"/>
          <a:stretch/>
        </p:blipFill>
        <p:spPr>
          <a:xfrm>
            <a:off x="8204040" y="2154240"/>
            <a:ext cx="536760" cy="223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58"/>
          <a:stretch/>
        </p:blipFill>
        <p:spPr>
          <a:xfrm>
            <a:off x="8602560" y="2046240"/>
            <a:ext cx="204840" cy="16200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59"/>
          <a:stretch/>
        </p:blipFill>
        <p:spPr>
          <a:xfrm>
            <a:off x="8548560" y="2066760"/>
            <a:ext cx="204840" cy="16200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60"/>
          <a:stretch/>
        </p:blipFill>
        <p:spPr>
          <a:xfrm rot="19153200">
            <a:off x="8050320" y="1936440"/>
            <a:ext cx="28440" cy="2667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61"/>
          <a:stretch/>
        </p:blipFill>
        <p:spPr>
          <a:xfrm>
            <a:off x="8074080" y="1623960"/>
            <a:ext cx="326880" cy="5868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62"/>
          <a:srcRect l="10105" t="30476" r="69712" b="33531"/>
          <a:stretch/>
        </p:blipFill>
        <p:spPr>
          <a:xfrm>
            <a:off x="7834320" y="1805040"/>
            <a:ext cx="198360" cy="20160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63"/>
          <a:srcRect l="0" t="13720" r="0" b="0"/>
          <a:stretch/>
        </p:blipFill>
        <p:spPr>
          <a:xfrm>
            <a:off x="8136000" y="1778040"/>
            <a:ext cx="169920" cy="30492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64"/>
          <a:srcRect l="36250" t="35339" r="36250" b="35339"/>
          <a:stretch/>
        </p:blipFill>
        <p:spPr>
          <a:xfrm>
            <a:off x="8129520" y="2108160"/>
            <a:ext cx="290520" cy="1764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65"/>
          <a:stretch/>
        </p:blipFill>
        <p:spPr>
          <a:xfrm>
            <a:off x="6632640" y="1914480"/>
            <a:ext cx="482400" cy="2232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66"/>
          <a:stretch/>
        </p:blipFill>
        <p:spPr>
          <a:xfrm rot="1155000">
            <a:off x="6713280" y="1801440"/>
            <a:ext cx="403200" cy="237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67"/>
          <a:stretch/>
        </p:blipFill>
        <p:spPr>
          <a:xfrm rot="20444400">
            <a:off x="6713280" y="2023920"/>
            <a:ext cx="403200" cy="2412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68"/>
          <a:srcRect l="0" t="13720" r="0" b="0"/>
          <a:stretch/>
        </p:blipFill>
        <p:spPr>
          <a:xfrm>
            <a:off x="7077240" y="1778040"/>
            <a:ext cx="168120" cy="30492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69"/>
          <a:stretch/>
        </p:blipFill>
        <p:spPr>
          <a:xfrm>
            <a:off x="6583320" y="1623960"/>
            <a:ext cx="203400" cy="16200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70"/>
          <a:stretch/>
        </p:blipFill>
        <p:spPr>
          <a:xfrm>
            <a:off x="6529320" y="1644480"/>
            <a:ext cx="203400" cy="16200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71"/>
          <a:stretch/>
        </p:blipFill>
        <p:spPr>
          <a:xfrm>
            <a:off x="6477120" y="1833480"/>
            <a:ext cx="204840" cy="1634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72"/>
          <a:stretch/>
        </p:blipFill>
        <p:spPr>
          <a:xfrm>
            <a:off x="6423120" y="1854360"/>
            <a:ext cx="204840" cy="16344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73"/>
          <a:stretch/>
        </p:blipFill>
        <p:spPr>
          <a:xfrm>
            <a:off x="6634080" y="2154240"/>
            <a:ext cx="536760" cy="2232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74"/>
          <a:stretch/>
        </p:blipFill>
        <p:spPr>
          <a:xfrm>
            <a:off x="6583320" y="2044800"/>
            <a:ext cx="203400" cy="16344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75"/>
          <a:stretch/>
        </p:blipFill>
        <p:spPr>
          <a:xfrm>
            <a:off x="6529320" y="2065320"/>
            <a:ext cx="203400" cy="16344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76"/>
          <a:srcRect l="5132" t="-1422" r="76395" b="-14218"/>
          <a:stretch/>
        </p:blipFill>
        <p:spPr>
          <a:xfrm rot="20148000">
            <a:off x="7245360" y="1611360"/>
            <a:ext cx="289080" cy="1908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77"/>
          <a:srcRect l="0" t="0" r="-8057" b="73670"/>
          <a:stretch/>
        </p:blipFill>
        <p:spPr>
          <a:xfrm rot="19720200">
            <a:off x="7315200" y="1628640"/>
            <a:ext cx="23760" cy="31464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78"/>
          <a:srcRect l="-3791" t="1665" r="-8057" b="83999"/>
          <a:stretch/>
        </p:blipFill>
        <p:spPr>
          <a:xfrm>
            <a:off x="7161120" y="1635120"/>
            <a:ext cx="23760" cy="16992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79"/>
          <a:stretch/>
        </p:blipFill>
        <p:spPr>
          <a:xfrm rot="2446200">
            <a:off x="7268760" y="1945800"/>
            <a:ext cx="30240" cy="26676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80"/>
          <a:stretch/>
        </p:blipFill>
        <p:spPr>
          <a:xfrm>
            <a:off x="6983280" y="1623960"/>
            <a:ext cx="325440" cy="5868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81"/>
          <a:srcRect l="10105" t="30476" r="69712" b="33531"/>
          <a:stretch/>
        </p:blipFill>
        <p:spPr>
          <a:xfrm>
            <a:off x="7321680" y="1805040"/>
            <a:ext cx="198360" cy="20160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82"/>
          <a:srcRect l="36250" t="35339" r="36250" b="35339"/>
          <a:stretch/>
        </p:blipFill>
        <p:spPr>
          <a:xfrm>
            <a:off x="6910560" y="2108160"/>
            <a:ext cx="290520" cy="17640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83"/>
          <a:stretch/>
        </p:blipFill>
        <p:spPr>
          <a:xfrm>
            <a:off x="7488360" y="1665360"/>
            <a:ext cx="382320" cy="49536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84"/>
          <a:stretch/>
        </p:blipFill>
        <p:spPr>
          <a:xfrm>
            <a:off x="7389720" y="1325520"/>
            <a:ext cx="622440" cy="34308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208080" y="3044880"/>
            <a:ext cx="13176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partment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ta Cen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932120" y="2438280"/>
            <a:ext cx="13176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nterprise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ta Cen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716280" y="1817640"/>
            <a:ext cx="13176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rnet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ta Cen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408640" y="1085760"/>
            <a:ext cx="13176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ost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ta Cen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551640" y="4383000"/>
            <a:ext cx="2262240" cy="9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ft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ver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enedzsment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Biztonság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,</a:t>
            </a:r>
            <a:br>
              <a:rPr sz="1600"/>
            </a:b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Címtár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701"/>
                </a:solidFill>
                <a:latin typeface="Arial"/>
              </a:rPr>
              <a:t>Departmental Data Center</a:t>
            </a:r>
            <a:endParaRPr b="1" lang="en-US" sz="44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9280" y="1423800"/>
            <a:ext cx="8785440" cy="52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Egy osztály </a:t>
            </a:r>
            <a:r>
              <a:rPr b="1" lang="hu-HU" sz="2400" spc="-1" strike="noStrike">
                <a:solidFill>
                  <a:srgbClr val="ffe701"/>
                </a:solidFill>
                <a:latin typeface="Arial"/>
              </a:rPr>
              <a:t>alap IT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 infrastruktúráj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Osztályok közötti </a:t>
            </a:r>
            <a:r>
              <a:rPr b="1" lang="hu-HU" sz="2400" spc="-1" strike="noStrike">
                <a:solidFill>
                  <a:srgbClr val="ffe701"/>
                </a:solidFill>
                <a:latin typeface="Arial"/>
              </a:rPr>
              <a:t>együttműködést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 tesz lehetővé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Más nagyvállalati adatközpontok szolgáltatásaira épülh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Példák: emberi erőforrás osztály, tervezés, könyvelé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4869000" y="3500280"/>
            <a:ext cx="3790800" cy="329580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5207040" y="4208400"/>
            <a:ext cx="3029040" cy="73332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211720" y="5081760"/>
            <a:ext cx="3029040" cy="7333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4"/>
          <a:stretch/>
        </p:blipFill>
        <p:spPr>
          <a:xfrm>
            <a:off x="5108400" y="3683160"/>
            <a:ext cx="1270080" cy="77148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5"/>
          <a:stretch/>
        </p:blipFill>
        <p:spPr>
          <a:xfrm>
            <a:off x="7130880" y="3683160"/>
            <a:ext cx="1270080" cy="77148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6"/>
          <a:stretch/>
        </p:blipFill>
        <p:spPr>
          <a:xfrm>
            <a:off x="5051520" y="5627520"/>
            <a:ext cx="1270080" cy="77184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7"/>
          <a:stretch/>
        </p:blipFill>
        <p:spPr>
          <a:xfrm>
            <a:off x="7130880" y="5613480"/>
            <a:ext cx="1270080" cy="77148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8"/>
          <a:stretch/>
        </p:blipFill>
        <p:spPr>
          <a:xfrm>
            <a:off x="5576760" y="4424400"/>
            <a:ext cx="2479680" cy="150480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5195880" y="4356000"/>
            <a:ext cx="165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Munkaállomá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946920" y="4370400"/>
            <a:ext cx="150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Munkaállomá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207040" y="5281560"/>
            <a:ext cx="150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Munkaállomá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975360" y="5281560"/>
            <a:ext cx="150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Munkaállomá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114960" y="5813280"/>
            <a:ext cx="1262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Intranet</a:t>
            </a:r>
            <a:r>
              <a:rPr b="1" lang="hu-HU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kiszolgáló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9"/>
          <a:stretch/>
        </p:blipFill>
        <p:spPr>
          <a:xfrm>
            <a:off x="914400" y="4651200"/>
            <a:ext cx="2031840" cy="87012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1320840" y="5253120"/>
            <a:ext cx="104436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1306440" y="4860720"/>
            <a:ext cx="1015920" cy="231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0"/>
          <a:stretch/>
        </p:blipFill>
        <p:spPr>
          <a:xfrm>
            <a:off x="2200320" y="4576680"/>
            <a:ext cx="426960" cy="44928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11"/>
          <a:stretch/>
        </p:blipFill>
        <p:spPr>
          <a:xfrm>
            <a:off x="2035080" y="4626000"/>
            <a:ext cx="426960" cy="44928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12"/>
          <a:stretch/>
        </p:blipFill>
        <p:spPr>
          <a:xfrm>
            <a:off x="1085760" y="4478400"/>
            <a:ext cx="541440" cy="118728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13"/>
          <a:stretch/>
        </p:blipFill>
        <p:spPr>
          <a:xfrm>
            <a:off x="2192400" y="5062680"/>
            <a:ext cx="426960" cy="44928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14"/>
          <a:stretch/>
        </p:blipFill>
        <p:spPr>
          <a:xfrm>
            <a:off x="2027160" y="5111640"/>
            <a:ext cx="426960" cy="44928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15"/>
          <a:stretch/>
        </p:blipFill>
        <p:spPr>
          <a:xfrm>
            <a:off x="3141720" y="4137120"/>
            <a:ext cx="1819080" cy="180000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1083600" y="3860640"/>
            <a:ext cx="16390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mental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a Cen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79280" y="288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701"/>
                </a:solidFill>
                <a:latin typeface="Arial"/>
              </a:rPr>
              <a:t>Enterprise Data Center</a:t>
            </a:r>
            <a:endParaRPr b="1" lang="en-US" sz="44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79280" y="892080"/>
            <a:ext cx="8785440" cy="20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601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hu-HU" sz="2400" spc="-1" strike="noStrike">
                <a:solidFill>
                  <a:srgbClr val="ffe701"/>
                </a:solidFill>
                <a:latin typeface="Arial"/>
              </a:rPr>
              <a:t>nagyvállalatok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 és osztályaik átfogó számítástechnikai rendsze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Hálózat, címtár, biztonság, adatmentés és más </a:t>
            </a:r>
            <a:r>
              <a:rPr b="1" lang="hu-HU" sz="2400" spc="-1" strike="noStrike">
                <a:solidFill>
                  <a:srgbClr val="ffe701"/>
                </a:solidFill>
                <a:latin typeface="Arial"/>
              </a:rPr>
              <a:t>infrastrukturális alapszolgáltatáso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Belső kommunikáció és adatcse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Több, egymással összekapcsolt </a:t>
            </a:r>
            <a:r>
              <a:rPr b="1" lang="hu-HU" sz="2400" spc="-1" strike="noStrike">
                <a:solidFill>
                  <a:srgbClr val="ffe701"/>
                </a:solidFill>
                <a:latin typeface="Arial"/>
              </a:rPr>
              <a:t>telephe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Önellátó funkciók, mint pl.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R, ERP, CRM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, belső vásárlá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3141720" y="4594320"/>
            <a:ext cx="1819080" cy="180000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5353200" y="3662280"/>
            <a:ext cx="3790800" cy="329580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3"/>
          <a:stretch/>
        </p:blipFill>
        <p:spPr>
          <a:xfrm>
            <a:off x="7343640" y="5407200"/>
            <a:ext cx="1533600" cy="132696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4"/>
          <a:stretch/>
        </p:blipFill>
        <p:spPr>
          <a:xfrm>
            <a:off x="7350120" y="3875040"/>
            <a:ext cx="1533600" cy="132732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5"/>
          <a:stretch/>
        </p:blipFill>
        <p:spPr>
          <a:xfrm>
            <a:off x="5565600" y="5398920"/>
            <a:ext cx="1533600" cy="132732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6851520" y="4486320"/>
            <a:ext cx="682920" cy="0"/>
          </a:xfrm>
          <a:prstGeom prst="line">
            <a:avLst/>
          </a:prstGeom>
          <a:ln w="2844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357960" y="4894200"/>
            <a:ext cx="0" cy="682560"/>
          </a:xfrm>
          <a:prstGeom prst="line">
            <a:avLst/>
          </a:prstGeom>
          <a:ln w="2844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699240" y="4813200"/>
            <a:ext cx="566640" cy="522360"/>
          </a:xfrm>
          <a:prstGeom prst="line">
            <a:avLst/>
          </a:prstGeom>
          <a:ln w="2844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6"/>
          <a:stretch/>
        </p:blipFill>
        <p:spPr>
          <a:xfrm>
            <a:off x="5653080" y="4297320"/>
            <a:ext cx="439920" cy="96516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7"/>
          <a:stretch/>
        </p:blipFill>
        <p:spPr>
          <a:xfrm>
            <a:off x="5970600" y="4297320"/>
            <a:ext cx="439560" cy="9651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8"/>
          <a:stretch/>
        </p:blipFill>
        <p:spPr>
          <a:xfrm>
            <a:off x="6288120" y="4297320"/>
            <a:ext cx="439560" cy="96516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9"/>
          <a:stretch/>
        </p:blipFill>
        <p:spPr>
          <a:xfrm>
            <a:off x="6603840" y="4297320"/>
            <a:ext cx="439920" cy="96516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5506920" y="3897360"/>
            <a:ext cx="1668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Enterprise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Intranet </a:t>
            </a:r>
            <a:r>
              <a:rPr b="1" lang="hu-HU" sz="1200" spc="-1" strike="noStrike">
                <a:solidFill>
                  <a:srgbClr val="ffffff"/>
                </a:solidFill>
                <a:latin typeface="Verdana"/>
              </a:rPr>
              <a:t>kiszolgáló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176120" y="4151160"/>
            <a:ext cx="14608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terpris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a Cen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0"/>
          <a:stretch/>
        </p:blipFill>
        <p:spPr>
          <a:xfrm>
            <a:off x="914400" y="5108400"/>
            <a:ext cx="2031840" cy="870120"/>
          </a:xfrm>
          <a:prstGeom prst="rect">
            <a:avLst/>
          </a:prstGeom>
          <a:ln w="0">
            <a:noFill/>
          </a:ln>
        </p:spPr>
      </p:pic>
      <p:grpSp>
        <p:nvGrpSpPr>
          <p:cNvPr id="342" name=""/>
          <p:cNvGrpSpPr/>
          <p:nvPr/>
        </p:nvGrpSpPr>
        <p:grpSpPr>
          <a:xfrm>
            <a:off x="1306440" y="5140440"/>
            <a:ext cx="1058760" cy="463320"/>
            <a:chOff x="1306440" y="5140440"/>
            <a:chExt cx="1058760" cy="463320"/>
          </a:xfrm>
        </p:grpSpPr>
        <p:sp>
          <p:nvSpPr>
            <p:cNvPr id="343" name=""/>
            <p:cNvSpPr/>
            <p:nvPr/>
          </p:nvSpPr>
          <p:spPr>
            <a:xfrm>
              <a:off x="1320840" y="5532480"/>
              <a:ext cx="1044360" cy="71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1306440" y="5140440"/>
              <a:ext cx="1015920" cy="231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2035080" y="4919760"/>
            <a:ext cx="591840" cy="498240"/>
            <a:chOff x="2035080" y="4919760"/>
            <a:chExt cx="591840" cy="498240"/>
          </a:xfrm>
        </p:grpSpPr>
        <p:pic>
          <p:nvPicPr>
            <p:cNvPr id="346" name="" descr=""/>
            <p:cNvPicPr/>
            <p:nvPr/>
          </p:nvPicPr>
          <p:blipFill>
            <a:blip r:embed="rId11"/>
            <a:stretch/>
          </p:blipFill>
          <p:spPr>
            <a:xfrm>
              <a:off x="2199600" y="4919760"/>
              <a:ext cx="427320" cy="44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" descr=""/>
            <p:cNvPicPr/>
            <p:nvPr/>
          </p:nvPicPr>
          <p:blipFill>
            <a:blip r:embed="rId12"/>
            <a:stretch/>
          </p:blipFill>
          <p:spPr>
            <a:xfrm>
              <a:off x="2035080" y="4969440"/>
              <a:ext cx="427320" cy="448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8" name="" descr=""/>
          <p:cNvPicPr/>
          <p:nvPr/>
        </p:nvPicPr>
        <p:blipFill>
          <a:blip r:embed="rId13"/>
          <a:stretch/>
        </p:blipFill>
        <p:spPr>
          <a:xfrm>
            <a:off x="907920" y="4719600"/>
            <a:ext cx="541440" cy="118764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 flipV="1">
            <a:off x="1816200" y="5675040"/>
            <a:ext cx="761760" cy="114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2306520" y="5342040"/>
            <a:ext cx="591840" cy="498240"/>
            <a:chOff x="2306520" y="5342040"/>
            <a:chExt cx="591840" cy="498240"/>
          </a:xfrm>
        </p:grpSpPr>
        <p:pic>
          <p:nvPicPr>
            <p:cNvPr id="351" name="" descr=""/>
            <p:cNvPicPr/>
            <p:nvPr/>
          </p:nvPicPr>
          <p:blipFill>
            <a:blip r:embed="rId14"/>
            <a:stretch/>
          </p:blipFill>
          <p:spPr>
            <a:xfrm>
              <a:off x="2471040" y="5342040"/>
              <a:ext cx="427320" cy="44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2" name="" descr=""/>
            <p:cNvPicPr/>
            <p:nvPr/>
          </p:nvPicPr>
          <p:blipFill>
            <a:blip r:embed="rId15"/>
            <a:stretch/>
          </p:blipFill>
          <p:spPr>
            <a:xfrm>
              <a:off x="2306520" y="5391720"/>
              <a:ext cx="427320" cy="448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53" name="" descr=""/>
          <p:cNvPicPr/>
          <p:nvPr/>
        </p:nvPicPr>
        <p:blipFill>
          <a:blip r:embed="rId16"/>
          <a:stretch/>
        </p:blipFill>
        <p:spPr>
          <a:xfrm>
            <a:off x="1479600" y="5722920"/>
            <a:ext cx="614160" cy="14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1782720" y="4037040"/>
            <a:ext cx="1819440" cy="180036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>
            <a:off x="3252960" y="3327480"/>
            <a:ext cx="5568840" cy="350820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3479760" y="3517920"/>
            <a:ext cx="1397160" cy="3085920"/>
          </a:xfrm>
          <a:prstGeom prst="rect">
            <a:avLst/>
          </a:prstGeom>
          <a:solidFill>
            <a:srgbClr val="376a95">
              <a:alpha val="43000"/>
            </a:srgbClr>
          </a:solidFill>
          <a:ln w="936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79280" y="-3996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701"/>
                </a:solidFill>
                <a:latin typeface="Arial"/>
              </a:rPr>
              <a:t>Internet Data Center</a:t>
            </a:r>
            <a:endParaRPr b="1" lang="en-US" sz="44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58560" y="835200"/>
            <a:ext cx="8785080" cy="24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Széleskörű e-business funkciókat támogató web alapú infrastruktúra a külvilággal történő kapcsolódáshoz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Teljeskörű, skálázható, web alapú IT infrastruktúr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 három legfontosabb szempont: biztonság, rendelkezésre állás és megbízhatósá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Példák: online boltok, céges- vagy ügyfélkapcsolati webhelyek, fórumok, stb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4178160" y="3848040"/>
            <a:ext cx="393840" cy="2197080"/>
            <a:chOff x="4178160" y="3848040"/>
            <a:chExt cx="393840" cy="2197080"/>
          </a:xfrm>
        </p:grpSpPr>
        <p:sp>
          <p:nvSpPr>
            <p:cNvPr id="360" name=""/>
            <p:cNvSpPr/>
            <p:nvPr/>
          </p:nvSpPr>
          <p:spPr>
            <a:xfrm>
              <a:off x="4191120" y="3848040"/>
              <a:ext cx="0" cy="2197080"/>
            </a:xfrm>
            <a:prstGeom prst="line">
              <a:avLst/>
            </a:prstGeom>
            <a:ln w="2844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178160" y="4863960"/>
              <a:ext cx="393840" cy="0"/>
            </a:xfrm>
            <a:prstGeom prst="line">
              <a:avLst/>
            </a:prstGeom>
            <a:ln w="2844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62" name="" descr=""/>
          <p:cNvPicPr/>
          <p:nvPr/>
        </p:nvPicPr>
        <p:blipFill>
          <a:blip r:embed="rId3"/>
          <a:stretch/>
        </p:blipFill>
        <p:spPr>
          <a:xfrm>
            <a:off x="3438360" y="3598920"/>
            <a:ext cx="1519560" cy="70020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4"/>
          <a:stretch/>
        </p:blipFill>
        <p:spPr>
          <a:xfrm>
            <a:off x="3441600" y="3830760"/>
            <a:ext cx="1490760" cy="35532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5"/>
          <a:stretch/>
        </p:blipFill>
        <p:spPr>
          <a:xfrm>
            <a:off x="4857840" y="3429000"/>
            <a:ext cx="3790800" cy="329580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6"/>
          <a:stretch/>
        </p:blipFill>
        <p:spPr>
          <a:xfrm>
            <a:off x="6848640" y="5173560"/>
            <a:ext cx="1533240" cy="132732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7"/>
          <a:stretch/>
        </p:blipFill>
        <p:spPr>
          <a:xfrm>
            <a:off x="6854760" y="3641760"/>
            <a:ext cx="1533600" cy="132696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8"/>
          <a:stretch/>
        </p:blipFill>
        <p:spPr>
          <a:xfrm>
            <a:off x="5070600" y="5165640"/>
            <a:ext cx="1533240" cy="132732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9"/>
          <a:srcRect l="25710" t="31339" r="25148" b="12195"/>
          <a:stretch/>
        </p:blipFill>
        <p:spPr>
          <a:xfrm>
            <a:off x="5010120" y="3625920"/>
            <a:ext cx="1704960" cy="14684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6356520" y="4253040"/>
            <a:ext cx="682560" cy="0"/>
          </a:xfrm>
          <a:prstGeom prst="line">
            <a:avLst/>
          </a:prstGeom>
          <a:ln w="2844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862600" y="4660920"/>
            <a:ext cx="0" cy="682560"/>
          </a:xfrm>
          <a:prstGeom prst="line">
            <a:avLst/>
          </a:prstGeom>
          <a:ln w="2844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203880" y="4579920"/>
            <a:ext cx="566640" cy="522360"/>
          </a:xfrm>
          <a:prstGeom prst="line">
            <a:avLst/>
          </a:prstGeom>
          <a:ln w="2844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011560" y="3664080"/>
            <a:ext cx="1668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Enterprise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Intranet </a:t>
            </a:r>
            <a:r>
              <a:rPr b="1" lang="hu-HU" sz="1200" spc="-1" strike="noStrike">
                <a:solidFill>
                  <a:srgbClr val="ffffff"/>
                </a:solidFill>
                <a:latin typeface="Verdana"/>
              </a:rPr>
              <a:t>kiszolgáló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572000" y="4851360"/>
            <a:ext cx="685800" cy="0"/>
          </a:xfrm>
          <a:prstGeom prst="line">
            <a:avLst/>
          </a:prstGeom>
          <a:ln w="2844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10"/>
          <a:stretch/>
        </p:blipFill>
        <p:spPr>
          <a:xfrm>
            <a:off x="4470480" y="4429080"/>
            <a:ext cx="431640" cy="94464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11"/>
          <a:stretch/>
        </p:blipFill>
        <p:spPr>
          <a:xfrm>
            <a:off x="3753000" y="5537160"/>
            <a:ext cx="330120" cy="72396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12"/>
          <a:stretch/>
        </p:blipFill>
        <p:spPr>
          <a:xfrm>
            <a:off x="3994200" y="5537160"/>
            <a:ext cx="330120" cy="72396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13"/>
          <a:stretch/>
        </p:blipFill>
        <p:spPr>
          <a:xfrm>
            <a:off x="4235400" y="5537160"/>
            <a:ext cx="330120" cy="72396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14"/>
          <a:stretch/>
        </p:blipFill>
        <p:spPr>
          <a:xfrm>
            <a:off x="4475160" y="5537160"/>
            <a:ext cx="330120" cy="72396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15"/>
          <a:stretch/>
        </p:blipFill>
        <p:spPr>
          <a:xfrm>
            <a:off x="5157720" y="4064040"/>
            <a:ext cx="439920" cy="96516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16"/>
          <a:stretch/>
        </p:blipFill>
        <p:spPr>
          <a:xfrm>
            <a:off x="5475240" y="4064040"/>
            <a:ext cx="439920" cy="96516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17"/>
          <a:stretch/>
        </p:blipFill>
        <p:spPr>
          <a:xfrm>
            <a:off x="5792760" y="4064040"/>
            <a:ext cx="439920" cy="96516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18"/>
          <a:stretch/>
        </p:blipFill>
        <p:spPr>
          <a:xfrm>
            <a:off x="6108840" y="4064040"/>
            <a:ext cx="439560" cy="96516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3513240" y="4222800"/>
            <a:ext cx="166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Külső gyűrű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665520" y="4641840"/>
            <a:ext cx="102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Céges tűzf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479760" y="5315040"/>
            <a:ext cx="166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eb </a:t>
            </a: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szolgáltatáso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327480" y="6216480"/>
            <a:ext cx="16682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ternet Data Cent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91840" y="3760920"/>
            <a:ext cx="14608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ernet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a Cen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9"/>
          <a:stretch/>
        </p:blipFill>
        <p:spPr>
          <a:xfrm>
            <a:off x="393840" y="4543560"/>
            <a:ext cx="1984320" cy="84924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1149480" y="4635360"/>
            <a:ext cx="507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654120" y="4699080"/>
            <a:ext cx="1511280" cy="520200"/>
            <a:chOff x="654120" y="4699080"/>
            <a:chExt cx="1511280" cy="520200"/>
          </a:xfrm>
        </p:grpSpPr>
        <p:sp>
          <p:nvSpPr>
            <p:cNvPr id="391" name=""/>
            <p:cNvSpPr/>
            <p:nvPr/>
          </p:nvSpPr>
          <p:spPr>
            <a:xfrm>
              <a:off x="654120" y="4965480"/>
              <a:ext cx="1511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66720" y="4965480"/>
              <a:ext cx="949320" cy="253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flipV="1">
              <a:off x="666720" y="4699080"/>
              <a:ext cx="996840" cy="266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149480" y="5257800"/>
            <a:ext cx="520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20"/>
          <a:stretch/>
        </p:blipFill>
        <p:spPr>
          <a:xfrm>
            <a:off x="863640" y="5210280"/>
            <a:ext cx="411120" cy="9828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21"/>
          <a:srcRect l="9836" t="30898" r="69197" b="33569"/>
          <a:stretch/>
        </p:blipFill>
        <p:spPr>
          <a:xfrm>
            <a:off x="984240" y="4464000"/>
            <a:ext cx="314280" cy="39996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22"/>
          <a:stretch/>
        </p:blipFill>
        <p:spPr>
          <a:xfrm>
            <a:off x="501480" y="4581360"/>
            <a:ext cx="366840" cy="804960"/>
          </a:xfrm>
          <a:prstGeom prst="rect">
            <a:avLst/>
          </a:prstGeom>
          <a:ln w="0">
            <a:noFill/>
          </a:ln>
        </p:spPr>
      </p:pic>
      <p:grpSp>
        <p:nvGrpSpPr>
          <p:cNvPr id="398" name=""/>
          <p:cNvGrpSpPr/>
          <p:nvPr/>
        </p:nvGrpSpPr>
        <p:grpSpPr>
          <a:xfrm>
            <a:off x="1542960" y="4454640"/>
            <a:ext cx="486000" cy="409320"/>
            <a:chOff x="1542960" y="4454640"/>
            <a:chExt cx="486000" cy="409320"/>
          </a:xfrm>
        </p:grpSpPr>
        <p:pic>
          <p:nvPicPr>
            <p:cNvPr id="399" name="" descr=""/>
            <p:cNvPicPr/>
            <p:nvPr/>
          </p:nvPicPr>
          <p:blipFill>
            <a:blip r:embed="rId23"/>
            <a:stretch/>
          </p:blipFill>
          <p:spPr>
            <a:xfrm>
              <a:off x="1677960" y="4454640"/>
              <a:ext cx="351000" cy="36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" descr=""/>
            <p:cNvPicPr/>
            <p:nvPr/>
          </p:nvPicPr>
          <p:blipFill>
            <a:blip r:embed="rId24"/>
            <a:stretch/>
          </p:blipFill>
          <p:spPr>
            <a:xfrm>
              <a:off x="1542960" y="4495320"/>
              <a:ext cx="351000" cy="368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01" name=""/>
          <p:cNvGrpSpPr/>
          <p:nvPr/>
        </p:nvGrpSpPr>
        <p:grpSpPr>
          <a:xfrm>
            <a:off x="1962000" y="4746600"/>
            <a:ext cx="486000" cy="409320"/>
            <a:chOff x="1962000" y="4746600"/>
            <a:chExt cx="486000" cy="409320"/>
          </a:xfrm>
        </p:grpSpPr>
        <p:pic>
          <p:nvPicPr>
            <p:cNvPr id="402" name="" descr=""/>
            <p:cNvPicPr/>
            <p:nvPr/>
          </p:nvPicPr>
          <p:blipFill>
            <a:blip r:embed="rId25"/>
            <a:stretch/>
          </p:blipFill>
          <p:spPr>
            <a:xfrm>
              <a:off x="2097000" y="4746600"/>
              <a:ext cx="351000" cy="36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3" name="" descr=""/>
            <p:cNvPicPr/>
            <p:nvPr/>
          </p:nvPicPr>
          <p:blipFill>
            <a:blip r:embed="rId26"/>
            <a:stretch/>
          </p:blipFill>
          <p:spPr>
            <a:xfrm>
              <a:off x="1962000" y="4787280"/>
              <a:ext cx="351000" cy="368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04" name=""/>
          <p:cNvGrpSpPr/>
          <p:nvPr/>
        </p:nvGrpSpPr>
        <p:grpSpPr>
          <a:xfrm>
            <a:off x="1542960" y="5064120"/>
            <a:ext cx="486000" cy="409320"/>
            <a:chOff x="1542960" y="5064120"/>
            <a:chExt cx="486000" cy="409320"/>
          </a:xfrm>
        </p:grpSpPr>
        <p:pic>
          <p:nvPicPr>
            <p:cNvPr id="405" name="" descr=""/>
            <p:cNvPicPr/>
            <p:nvPr/>
          </p:nvPicPr>
          <p:blipFill>
            <a:blip r:embed="rId27"/>
            <a:stretch/>
          </p:blipFill>
          <p:spPr>
            <a:xfrm>
              <a:off x="1677960" y="5064120"/>
              <a:ext cx="351000" cy="36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6" name="" descr=""/>
            <p:cNvPicPr/>
            <p:nvPr/>
          </p:nvPicPr>
          <p:blipFill>
            <a:blip r:embed="rId28"/>
            <a:stretch/>
          </p:blipFill>
          <p:spPr>
            <a:xfrm>
              <a:off x="1542960" y="5104800"/>
              <a:ext cx="351000" cy="3686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79280" y="-259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701"/>
                </a:solidFill>
                <a:latin typeface="Arial"/>
              </a:rPr>
              <a:t>Hosted Data Center</a:t>
            </a:r>
            <a:endParaRPr b="1" lang="en-US" sz="44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79280" y="960120"/>
            <a:ext cx="8785440" cy="16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A legmagasabb szintű rendelkezésre állásra tervezett (g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o-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fürtözé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vi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zionálás és elosztott rendszerek felügyele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Cégek ezreit, felhasználók millióit tudja kiszolgálni egy ilyen rendsz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Példák: nagy kiterjedésű cégek központi felügyelettel, szolgáltató cége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3251160" y="2879640"/>
            <a:ext cx="6058080" cy="404676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2"/>
          <a:stretch/>
        </p:blipFill>
        <p:spPr>
          <a:xfrm>
            <a:off x="6365880" y="3079800"/>
            <a:ext cx="2587680" cy="162072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3"/>
          <a:stretch/>
        </p:blipFill>
        <p:spPr>
          <a:xfrm>
            <a:off x="6365880" y="5070600"/>
            <a:ext cx="2587680" cy="162072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4"/>
          <a:stretch/>
        </p:blipFill>
        <p:spPr>
          <a:xfrm>
            <a:off x="3524400" y="3079800"/>
            <a:ext cx="2587320" cy="162072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5"/>
          <a:stretch/>
        </p:blipFill>
        <p:spPr>
          <a:xfrm>
            <a:off x="3538440" y="5073480"/>
            <a:ext cx="2587680" cy="162108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/>
          <p:nvPr/>
        </p:nvSpPr>
        <p:spPr>
          <a:xfrm>
            <a:off x="6324480" y="4908600"/>
            <a:ext cx="457200" cy="444600"/>
          </a:xfrm>
          <a:prstGeom prst="line">
            <a:avLst/>
          </a:prstGeom>
          <a:ln w="2844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6318360" y="4343400"/>
            <a:ext cx="469800" cy="571680"/>
          </a:xfrm>
          <a:prstGeom prst="line">
            <a:avLst/>
          </a:prstGeom>
          <a:ln w="2844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H="1" flipV="1">
            <a:off x="5668560" y="4374720"/>
            <a:ext cx="668520" cy="546120"/>
          </a:xfrm>
          <a:prstGeom prst="line">
            <a:avLst/>
          </a:prstGeom>
          <a:ln w="2844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5715000" y="4908600"/>
            <a:ext cx="596880" cy="469800"/>
          </a:xfrm>
          <a:prstGeom prst="line">
            <a:avLst/>
          </a:prstGeom>
          <a:ln w="2844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6"/>
          <a:stretch/>
        </p:blipFill>
        <p:spPr>
          <a:xfrm>
            <a:off x="5326200" y="4413240"/>
            <a:ext cx="1747800" cy="87804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5194440" y="4680000"/>
            <a:ext cx="207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HD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7"/>
          <a:stretch/>
        </p:blipFill>
        <p:spPr>
          <a:xfrm>
            <a:off x="2443320" y="4030560"/>
            <a:ext cx="1819080" cy="180036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1020600" y="3639960"/>
            <a:ext cx="14608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sted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a Cen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460520" y="4540320"/>
            <a:ext cx="546120" cy="952560"/>
          </a:xfrm>
          <a:prstGeom prst="ellipse">
            <a:avLst/>
          </a:prstGeom>
          <a:gradFill rotWithShape="0">
            <a:gsLst>
              <a:gs pos="0">
                <a:srgbClr val="ffe701">
                  <a:alpha val="52156"/>
                </a:srgbClr>
              </a:gs>
              <a:gs pos="100000">
                <a:srgbClr val="a99900">
                  <a:alpha val="46274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8"/>
          <a:stretch/>
        </p:blipFill>
        <p:spPr>
          <a:xfrm>
            <a:off x="1846440" y="4448160"/>
            <a:ext cx="1527120" cy="112860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/>
          <p:nvPr/>
        </p:nvSpPr>
        <p:spPr>
          <a:xfrm flipH="1">
            <a:off x="2476080" y="5429160"/>
            <a:ext cx="405000" cy="138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009880" y="5060880"/>
            <a:ext cx="439560" cy="45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2000160" y="4476240"/>
            <a:ext cx="335160" cy="4510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1004400" y="4464000"/>
            <a:ext cx="1343160" cy="32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2343240" y="4781160"/>
            <a:ext cx="982440" cy="474840"/>
            <a:chOff x="2343240" y="4781160"/>
            <a:chExt cx="982440" cy="474840"/>
          </a:xfrm>
        </p:grpSpPr>
        <p:sp>
          <p:nvSpPr>
            <p:cNvPr id="429" name=""/>
            <p:cNvSpPr/>
            <p:nvPr/>
          </p:nvSpPr>
          <p:spPr>
            <a:xfrm>
              <a:off x="2343240" y="5024520"/>
              <a:ext cx="982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351160" y="5024520"/>
              <a:ext cx="617040" cy="231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2351160" y="4781160"/>
              <a:ext cx="648000" cy="243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2449440" y="4464000"/>
            <a:ext cx="0" cy="482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9"/>
          <a:stretch/>
        </p:blipFill>
        <p:spPr>
          <a:xfrm>
            <a:off x="2292480" y="4429080"/>
            <a:ext cx="374400" cy="8892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10"/>
          <a:stretch/>
        </p:blipFill>
        <p:spPr>
          <a:xfrm>
            <a:off x="2309760" y="4680000"/>
            <a:ext cx="290520" cy="638280"/>
          </a:xfrm>
          <a:prstGeom prst="rect">
            <a:avLst/>
          </a:prstGeom>
          <a:ln w="0">
            <a:noFill/>
          </a:ln>
        </p:spPr>
      </p:pic>
      <p:grpSp>
        <p:nvGrpSpPr>
          <p:cNvPr id="435" name=""/>
          <p:cNvGrpSpPr/>
          <p:nvPr/>
        </p:nvGrpSpPr>
        <p:grpSpPr>
          <a:xfrm>
            <a:off x="2746440" y="4537080"/>
            <a:ext cx="442800" cy="372960"/>
            <a:chOff x="2746440" y="4537080"/>
            <a:chExt cx="442800" cy="372960"/>
          </a:xfrm>
        </p:grpSpPr>
        <p:pic>
          <p:nvPicPr>
            <p:cNvPr id="436" name="" descr=""/>
            <p:cNvPicPr/>
            <p:nvPr/>
          </p:nvPicPr>
          <p:blipFill>
            <a:blip r:embed="rId11"/>
            <a:stretch/>
          </p:blipFill>
          <p:spPr>
            <a:xfrm>
              <a:off x="2869560" y="4537080"/>
              <a:ext cx="319680" cy="33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7" name="" descr=""/>
            <p:cNvPicPr/>
            <p:nvPr/>
          </p:nvPicPr>
          <p:blipFill>
            <a:blip r:embed="rId12"/>
            <a:stretch/>
          </p:blipFill>
          <p:spPr>
            <a:xfrm>
              <a:off x="2746440" y="4574160"/>
              <a:ext cx="319680" cy="335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8" name=""/>
          <p:cNvGrpSpPr/>
          <p:nvPr/>
        </p:nvGrpSpPr>
        <p:grpSpPr>
          <a:xfrm>
            <a:off x="3025800" y="4829040"/>
            <a:ext cx="442800" cy="373320"/>
            <a:chOff x="3025800" y="4829040"/>
            <a:chExt cx="442800" cy="373320"/>
          </a:xfrm>
        </p:grpSpPr>
        <p:pic>
          <p:nvPicPr>
            <p:cNvPr id="439" name="" descr=""/>
            <p:cNvPicPr/>
            <p:nvPr/>
          </p:nvPicPr>
          <p:blipFill>
            <a:blip r:embed="rId13"/>
            <a:stretch/>
          </p:blipFill>
          <p:spPr>
            <a:xfrm>
              <a:off x="3148920" y="4829040"/>
              <a:ext cx="319680" cy="33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0" name="" descr=""/>
            <p:cNvPicPr/>
            <p:nvPr/>
          </p:nvPicPr>
          <p:blipFill>
            <a:blip r:embed="rId14"/>
            <a:stretch/>
          </p:blipFill>
          <p:spPr>
            <a:xfrm>
              <a:off x="3025800" y="4866120"/>
              <a:ext cx="319680" cy="336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1" name=""/>
          <p:cNvGrpSpPr/>
          <p:nvPr/>
        </p:nvGrpSpPr>
        <p:grpSpPr>
          <a:xfrm>
            <a:off x="2746440" y="5146560"/>
            <a:ext cx="442800" cy="373320"/>
            <a:chOff x="2746440" y="5146560"/>
            <a:chExt cx="442800" cy="373320"/>
          </a:xfrm>
        </p:grpSpPr>
        <p:pic>
          <p:nvPicPr>
            <p:cNvPr id="442" name="" descr=""/>
            <p:cNvPicPr/>
            <p:nvPr/>
          </p:nvPicPr>
          <p:blipFill>
            <a:blip r:embed="rId15"/>
            <a:stretch/>
          </p:blipFill>
          <p:spPr>
            <a:xfrm>
              <a:off x="2869560" y="5146560"/>
              <a:ext cx="319680" cy="33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3" name="" descr=""/>
            <p:cNvPicPr/>
            <p:nvPr/>
          </p:nvPicPr>
          <p:blipFill>
            <a:blip r:embed="rId16"/>
            <a:stretch/>
          </p:blipFill>
          <p:spPr>
            <a:xfrm>
              <a:off x="2746440" y="5183640"/>
              <a:ext cx="319680" cy="336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44" name="" descr=""/>
          <p:cNvPicPr/>
          <p:nvPr/>
        </p:nvPicPr>
        <p:blipFill>
          <a:blip r:embed="rId17"/>
          <a:srcRect l="36184" t="35792" r="35853" b="35320"/>
          <a:stretch/>
        </p:blipFill>
        <p:spPr>
          <a:xfrm>
            <a:off x="2235240" y="5391000"/>
            <a:ext cx="401760" cy="31284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/>
          <p:cNvPicPr/>
          <p:nvPr/>
        </p:nvPicPr>
        <p:blipFill>
          <a:blip r:embed="rId18"/>
          <a:srcRect l="10006" t="31345" r="69197" b="33569"/>
          <a:stretch/>
        </p:blipFill>
        <p:spPr>
          <a:xfrm>
            <a:off x="1862280" y="4819680"/>
            <a:ext cx="355320" cy="44928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19"/>
          <a:stretch/>
        </p:blipFill>
        <p:spPr>
          <a:xfrm>
            <a:off x="103320" y="4460760"/>
            <a:ext cx="1527120" cy="112896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 flipH="1">
            <a:off x="987480" y="5226120"/>
            <a:ext cx="341280" cy="239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08040" y="5442120"/>
            <a:ext cx="439560" cy="158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H="1" flipV="1">
            <a:off x="1112400" y="4451400"/>
            <a:ext cx="274680" cy="4255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120600" y="4789080"/>
            <a:ext cx="858960" cy="474840"/>
            <a:chOff x="120600" y="4789080"/>
            <a:chExt cx="858960" cy="474840"/>
          </a:xfrm>
        </p:grpSpPr>
        <p:sp>
          <p:nvSpPr>
            <p:cNvPr id="451" name=""/>
            <p:cNvSpPr/>
            <p:nvPr/>
          </p:nvSpPr>
          <p:spPr>
            <a:xfrm flipH="1">
              <a:off x="120600" y="5032440"/>
              <a:ext cx="8589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433080" y="5032440"/>
              <a:ext cx="539640" cy="231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 flipV="1">
              <a:off x="406080" y="4789080"/>
              <a:ext cx="566640" cy="243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4" name=""/>
          <p:cNvSpPr/>
          <p:nvPr/>
        </p:nvSpPr>
        <p:spPr>
          <a:xfrm>
            <a:off x="973080" y="4476600"/>
            <a:ext cx="0" cy="482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20"/>
          <a:stretch/>
        </p:blipFill>
        <p:spPr>
          <a:xfrm>
            <a:off x="816120" y="4441680"/>
            <a:ext cx="374400" cy="8892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21"/>
          <a:stretch/>
        </p:blipFill>
        <p:spPr>
          <a:xfrm>
            <a:off x="833400" y="4705200"/>
            <a:ext cx="290520" cy="638280"/>
          </a:xfrm>
          <a:prstGeom prst="rect">
            <a:avLst/>
          </a:prstGeom>
          <a:ln w="0">
            <a:noFill/>
          </a:ln>
        </p:spPr>
      </p:pic>
      <p:grpSp>
        <p:nvGrpSpPr>
          <p:cNvPr id="457" name=""/>
          <p:cNvGrpSpPr/>
          <p:nvPr/>
        </p:nvGrpSpPr>
        <p:grpSpPr>
          <a:xfrm>
            <a:off x="290520" y="4549680"/>
            <a:ext cx="442800" cy="373320"/>
            <a:chOff x="290520" y="4549680"/>
            <a:chExt cx="442800" cy="373320"/>
          </a:xfrm>
        </p:grpSpPr>
        <p:pic>
          <p:nvPicPr>
            <p:cNvPr id="458" name="" descr=""/>
            <p:cNvPicPr/>
            <p:nvPr/>
          </p:nvPicPr>
          <p:blipFill>
            <a:blip r:embed="rId22"/>
            <a:stretch/>
          </p:blipFill>
          <p:spPr>
            <a:xfrm>
              <a:off x="413640" y="4549680"/>
              <a:ext cx="319680" cy="33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9" name="" descr=""/>
            <p:cNvPicPr/>
            <p:nvPr/>
          </p:nvPicPr>
          <p:blipFill>
            <a:blip r:embed="rId23"/>
            <a:stretch/>
          </p:blipFill>
          <p:spPr>
            <a:xfrm>
              <a:off x="290520" y="4586760"/>
              <a:ext cx="319680" cy="336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0" name=""/>
          <p:cNvGrpSpPr/>
          <p:nvPr/>
        </p:nvGrpSpPr>
        <p:grpSpPr>
          <a:xfrm>
            <a:off x="0" y="4867200"/>
            <a:ext cx="442800" cy="372960"/>
            <a:chOff x="0" y="4867200"/>
            <a:chExt cx="442800" cy="372960"/>
          </a:xfrm>
        </p:grpSpPr>
        <p:pic>
          <p:nvPicPr>
            <p:cNvPr id="461" name="" descr=""/>
            <p:cNvPicPr/>
            <p:nvPr/>
          </p:nvPicPr>
          <p:blipFill>
            <a:blip r:embed="rId24"/>
            <a:stretch/>
          </p:blipFill>
          <p:spPr>
            <a:xfrm>
              <a:off x="123120" y="4867200"/>
              <a:ext cx="319680" cy="33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2" name="" descr=""/>
            <p:cNvPicPr/>
            <p:nvPr/>
          </p:nvPicPr>
          <p:blipFill>
            <a:blip r:embed="rId25"/>
            <a:stretch/>
          </p:blipFill>
          <p:spPr>
            <a:xfrm>
              <a:off x="0" y="4904280"/>
              <a:ext cx="319680" cy="335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3" name=""/>
          <p:cNvGrpSpPr/>
          <p:nvPr/>
        </p:nvGrpSpPr>
        <p:grpSpPr>
          <a:xfrm>
            <a:off x="290520" y="5159520"/>
            <a:ext cx="442800" cy="372960"/>
            <a:chOff x="290520" y="5159520"/>
            <a:chExt cx="442800" cy="372960"/>
          </a:xfrm>
        </p:grpSpPr>
        <p:pic>
          <p:nvPicPr>
            <p:cNvPr id="464" name="" descr=""/>
            <p:cNvPicPr/>
            <p:nvPr/>
          </p:nvPicPr>
          <p:blipFill>
            <a:blip r:embed="rId26"/>
            <a:stretch/>
          </p:blipFill>
          <p:spPr>
            <a:xfrm>
              <a:off x="413640" y="5159520"/>
              <a:ext cx="319680" cy="33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" name="" descr=""/>
            <p:cNvPicPr/>
            <p:nvPr/>
          </p:nvPicPr>
          <p:blipFill>
            <a:blip r:embed="rId27"/>
            <a:stretch/>
          </p:blipFill>
          <p:spPr>
            <a:xfrm>
              <a:off x="290520" y="5196600"/>
              <a:ext cx="319680" cy="335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6" name="" descr=""/>
          <p:cNvPicPr/>
          <p:nvPr/>
        </p:nvPicPr>
        <p:blipFill>
          <a:blip r:embed="rId28"/>
          <a:srcRect l="36184" t="35792" r="35853" b="35320"/>
          <a:stretch/>
        </p:blipFill>
        <p:spPr>
          <a:xfrm>
            <a:off x="835200" y="5396040"/>
            <a:ext cx="401400" cy="312480"/>
          </a:xfrm>
          <a:prstGeom prst="rect">
            <a:avLst/>
          </a:prstGeom>
          <a:ln w="0">
            <a:noFill/>
          </a:ln>
        </p:spPr>
      </p:pic>
      <p:pic>
        <p:nvPicPr>
          <p:cNvPr id="467" name="" descr=""/>
          <p:cNvPicPr/>
          <p:nvPr/>
        </p:nvPicPr>
        <p:blipFill>
          <a:blip r:embed="rId29"/>
          <a:srcRect l="10006" t="31345" r="69197" b="33569"/>
          <a:stretch/>
        </p:blipFill>
        <p:spPr>
          <a:xfrm>
            <a:off x="1224000" y="4832280"/>
            <a:ext cx="355680" cy="44928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30"/>
          <a:stretch/>
        </p:blipFill>
        <p:spPr>
          <a:xfrm>
            <a:off x="1214280" y="4167360"/>
            <a:ext cx="1032120" cy="47592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/>
          <p:nvPr/>
        </p:nvSpPr>
        <p:spPr>
          <a:xfrm>
            <a:off x="1473120" y="4552920"/>
            <a:ext cx="546120" cy="952560"/>
          </a:xfrm>
          <a:prstGeom prst="ellipse">
            <a:avLst/>
          </a:prstGeom>
          <a:noFill/>
          <a:ln w="2844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e701"/>
                </a:solidFill>
                <a:latin typeface="Arial"/>
              </a:rPr>
              <a:t>Az MSA IDC felépítése</a:t>
            </a:r>
            <a:endParaRPr b="1" lang="en-US" sz="4400" spc="-1" strike="noStrike">
              <a:solidFill>
                <a:srgbClr val="ffe701"/>
              </a:solidFill>
              <a:latin typeface="Arial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e701"/>
                </a:solidFill>
                <a:latin typeface="Arial"/>
              </a:rPr>
              <a:t>Napirend</a:t>
            </a:r>
            <a:endParaRPr b="1" lang="en-US" sz="44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79280" y="1423800"/>
            <a:ext cx="8785440" cy="52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66ccff"/>
                </a:solidFill>
                <a:latin typeface="Arial"/>
              </a:rPr>
              <a:t>A Microsoft Solutions Offering (MSO) áttekinté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66ccff"/>
                </a:solidFill>
                <a:latin typeface="Arial"/>
              </a:rPr>
              <a:t>A Microsoft Solution Architecture Internet Datacenter (MSA IDC) nevű megoldás áttekinté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z MSA IDC biztonsági kérdése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biztonsági CD-krő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e701"/>
                </a:solidFill>
                <a:latin typeface="Arial"/>
              </a:rPr>
              <a:t>Az MSA biztonsága</a:t>
            </a:r>
            <a:br>
              <a:rPr sz="4000"/>
            </a:br>
            <a:r>
              <a:rPr b="1" lang="hu-HU" sz="3200" spc="-1" strike="noStrike">
                <a:solidFill>
                  <a:srgbClr val="66ccff"/>
                </a:solidFill>
                <a:latin typeface="Arial"/>
              </a:rPr>
              <a:t>Áttekintés</a:t>
            </a: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79280" y="1423800"/>
            <a:ext cx="8785440" cy="52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acker 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technikák és eszközö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tive Directory 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és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roup Policy Obje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ktumok tervezé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indows 2000 Server 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megerősíté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z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IS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 megerősíté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lkalmazások biztonsága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jánlások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SA Server 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tűzfal tervezé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e701"/>
                </a:solidFill>
                <a:latin typeface="Arial"/>
              </a:rPr>
              <a:t>Biztonságos Windows</a:t>
            </a:r>
            <a:endParaRPr b="1" lang="en-US" sz="44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Szalontay Zoltán</a:t>
            </a:r>
            <a:br>
              <a:rPr sz="3200"/>
            </a:b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vezető rendszermérnö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66ccff"/>
                </a:solidFill>
                <a:latin typeface="Arial"/>
              </a:rPr>
              <a:t>Microsoft Magyarorszá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79280" y="1314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701"/>
                </a:solidFill>
                <a:latin typeface="Arial"/>
              </a:rPr>
              <a:t>Hacker </a:t>
            </a:r>
            <a:r>
              <a:rPr b="1" lang="hu-HU" sz="4400" spc="-1" strike="noStrike">
                <a:solidFill>
                  <a:srgbClr val="ffe701"/>
                </a:solidFill>
                <a:latin typeface="Arial"/>
              </a:rPr>
              <a:t>technikák és eszközök</a:t>
            </a:r>
            <a:endParaRPr b="1" lang="en-US" sz="44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58560" y="1106280"/>
            <a:ext cx="8180280" cy="52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Szkennerek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(FScan, Superscan, nmap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fe701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ing Sweep (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z alhálózat aktív eszközeihez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fe701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CP / UDP Port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szkennere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z alkalmazásokhoz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fe701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nner Grabbing (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z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S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-t azonosítj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nial of Service 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(DoS) támadáso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fe701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murf (ICMP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támadá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fe701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elosztot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nial of Service – Tribe Flood Net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Kiskaput kihasználó támadások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(Back Orifice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Trójai falovak (I Love You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es támadások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URL String 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támadások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ffer 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túlcsordulások, pl. Netmeeting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Session eltérítés 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unt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ra, Achilles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Jelszó próbálgatás (L0phtCrack/lc3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e701"/>
                </a:solidFill>
                <a:latin typeface="Arial"/>
              </a:rPr>
              <a:t>Tipikus támadási pontok</a:t>
            </a:r>
            <a:endParaRPr b="1" lang="en-US" sz="44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79280" y="1423800"/>
            <a:ext cx="8785440" cy="52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Elfogadott és meghirdetett biztonsági házirend hiány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Gyenge, könnyen kitalálható vagy közkézen forgó jelszava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Rosszul konfigurált tűzfalak, útválasztók és egyéb eszközö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Rosszul kiadott fájl- és könyvtár jogosultságo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z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ministrator 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fiók fölösleges használat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Teszt fiókok fölöslegesen magas privilégiuma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 belső hálózatra csatlakoztatott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Auto-answer”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 üzemmódú modeme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 hálózat auditálásának és monitorozásának hiány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Hibajavítások alkalmazása nem rendsze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e701"/>
                </a:solidFill>
                <a:latin typeface="Arial"/>
              </a:rPr>
              <a:t>Az MSA biztonsága</a:t>
            </a:r>
            <a:br>
              <a:rPr sz="4000"/>
            </a:br>
            <a:r>
              <a:rPr b="1" lang="hu-HU" sz="3200" spc="-1" strike="noStrike">
                <a:solidFill>
                  <a:srgbClr val="66ccff"/>
                </a:solidFill>
                <a:latin typeface="Arial"/>
              </a:rPr>
              <a:t>Áttekintés</a:t>
            </a: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79280" y="1423800"/>
            <a:ext cx="8785440" cy="52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Hacker </a:t>
            </a:r>
            <a:r>
              <a:rPr b="1" lang="hu-HU" sz="3200" spc="-1" strike="noStrike">
                <a:solidFill>
                  <a:srgbClr val="66ccff"/>
                </a:solidFill>
                <a:latin typeface="Arial"/>
              </a:rPr>
              <a:t>technikák és eszközö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tive Directory 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és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roup Policy Obje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ktumok tervezé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indows 2000 Server 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megerősíté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z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IS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 megerősíté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lkalmazások biztonsága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jánlások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SA Server 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tűzfal tervezé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378000" y="1131840"/>
            <a:ext cx="8345160" cy="532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279360" y="457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701"/>
                </a:solidFill>
                <a:latin typeface="Arial"/>
              </a:rPr>
              <a:t>Active Directory </a:t>
            </a:r>
            <a:r>
              <a:rPr b="1" lang="hu-HU" sz="4400" spc="-1" strike="noStrike">
                <a:solidFill>
                  <a:srgbClr val="ffe701"/>
                </a:solidFill>
                <a:latin typeface="Arial"/>
              </a:rPr>
              <a:t>tervezés</a:t>
            </a:r>
            <a:endParaRPr b="1" lang="en-US" sz="4400" spc="-1" strike="noStrike">
              <a:solidFill>
                <a:srgbClr val="ffe701"/>
              </a:solidFill>
              <a:latin typeface="Arial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1"/>
          <a:stretch/>
        </p:blipFill>
        <p:spPr>
          <a:xfrm>
            <a:off x="507960" y="1278000"/>
            <a:ext cx="8042400" cy="501336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/>
          <p:nvPr/>
        </p:nvSpPr>
        <p:spPr>
          <a:xfrm>
            <a:off x="8534520" y="3672000"/>
            <a:ext cx="0" cy="10587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79280" y="1728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701"/>
                </a:solidFill>
                <a:latin typeface="Arial"/>
              </a:rPr>
              <a:t>Organizational Unit </a:t>
            </a:r>
            <a:r>
              <a:rPr b="1" lang="hu-HU" sz="4400" spc="-1" strike="noStrike">
                <a:solidFill>
                  <a:srgbClr val="ffe701"/>
                </a:solidFill>
                <a:latin typeface="Arial"/>
              </a:rPr>
              <a:t>tervezés</a:t>
            </a:r>
            <a:endParaRPr b="1" lang="en-US" sz="4400" spc="-1" strike="noStrike">
              <a:solidFill>
                <a:srgbClr val="ffe701"/>
              </a:solidFill>
              <a:latin typeface="Arial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692280" y="1062000"/>
            <a:ext cx="7808760" cy="5500800"/>
            <a:chOff x="692280" y="1062000"/>
            <a:chExt cx="7808760" cy="5500800"/>
          </a:xfrm>
        </p:grpSpPr>
        <p:sp>
          <p:nvSpPr>
            <p:cNvPr id="488" name=""/>
            <p:cNvSpPr/>
            <p:nvPr/>
          </p:nvSpPr>
          <p:spPr>
            <a:xfrm>
              <a:off x="692280" y="1062000"/>
              <a:ext cx="7808760" cy="550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89" name="" descr=""/>
            <p:cNvPicPr/>
            <p:nvPr/>
          </p:nvPicPr>
          <p:blipFill>
            <a:blip r:embed="rId1"/>
            <a:stretch/>
          </p:blipFill>
          <p:spPr>
            <a:xfrm>
              <a:off x="1668600" y="1206360"/>
              <a:ext cx="4967280" cy="52326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e701"/>
                </a:solidFill>
                <a:latin typeface="Arial"/>
              </a:rPr>
              <a:t>Az MSA biztonsága</a:t>
            </a:r>
            <a:br>
              <a:rPr sz="4000"/>
            </a:br>
            <a:r>
              <a:rPr b="1" lang="hu-HU" sz="3200" spc="-1" strike="noStrike">
                <a:solidFill>
                  <a:srgbClr val="66ccff"/>
                </a:solidFill>
                <a:latin typeface="Arial"/>
              </a:rPr>
              <a:t>Áttekintés</a:t>
            </a: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79280" y="1423800"/>
            <a:ext cx="8785440" cy="52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Hacker </a:t>
            </a:r>
            <a:r>
              <a:rPr b="1" lang="hu-HU" sz="3200" spc="-1" strike="noStrike">
                <a:solidFill>
                  <a:srgbClr val="66ccff"/>
                </a:solidFill>
                <a:latin typeface="Arial"/>
              </a:rPr>
              <a:t>technikák és eszközö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Active Directory </a:t>
            </a:r>
            <a:r>
              <a:rPr b="1" lang="hu-HU" sz="3200" spc="-1" strike="noStrike">
                <a:solidFill>
                  <a:srgbClr val="66ccff"/>
                </a:solidFill>
                <a:latin typeface="Arial"/>
              </a:rPr>
              <a:t>és </a:t>
            </a: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Group Policy Obje</a:t>
            </a:r>
            <a:r>
              <a:rPr b="1" lang="hu-HU" sz="3200" spc="-1" strike="noStrike">
                <a:solidFill>
                  <a:srgbClr val="66ccff"/>
                </a:solidFill>
                <a:latin typeface="Arial"/>
              </a:rPr>
              <a:t>ktumok tervezé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indows 2000 Server 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megerősíté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z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IS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 megerősíté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lkalmazások biztonsága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jánlások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SA Server 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tűzfal tervezé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79280" y="50616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701"/>
                </a:solidFill>
                <a:latin typeface="Arial"/>
              </a:rPr>
              <a:t>Windows 2000 </a:t>
            </a:r>
            <a:r>
              <a:rPr b="1" lang="hu-HU" sz="4400" spc="-1" strike="noStrike">
                <a:solidFill>
                  <a:srgbClr val="ffe701"/>
                </a:solidFill>
                <a:latin typeface="Arial"/>
              </a:rPr>
              <a:t>megerősítése</a:t>
            </a:r>
            <a:br>
              <a:rPr sz="4400"/>
            </a:br>
            <a:r>
              <a:rPr b="1" lang="hu-HU" sz="3600" spc="-1" strike="noStrike">
                <a:solidFill>
                  <a:srgbClr val="66ccff"/>
                </a:solidFill>
                <a:latin typeface="Arial"/>
              </a:rPr>
              <a:t>Hálózati és helyi erőforrások</a:t>
            </a:r>
            <a:endParaRPr b="1" lang="en-US" sz="36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79280" y="2069640"/>
            <a:ext cx="878544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legfrissebb szervizcsomagok és frissítések alkalmazás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480" indent="-29664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csak alapos tesztelés után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9360" indent="-27936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CP/IP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beállítások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MZ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kiszolgálói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480" indent="-296640">
              <a:lnSpc>
                <a:spcPct val="90000"/>
              </a:lnSpc>
              <a:spcBef>
                <a:spcPts val="624"/>
              </a:spcBef>
              <a:buClr>
                <a:srgbClr val="ffe701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500" spc="-1" strike="noStrike">
                <a:solidFill>
                  <a:srgbClr val="ffffff"/>
                </a:solidFill>
                <a:latin typeface="Arial"/>
              </a:rPr>
              <a:t>biztonsági sablonban vannak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279360" indent="-27936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IP csomagszűrők alkalmazás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(IPSec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9360" indent="-27936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tBIOS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letiltása 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MZ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kiszolgálói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9360" indent="-27936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fájlrendszer levédé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480" indent="-296640">
              <a:lnSpc>
                <a:spcPct val="90000"/>
              </a:lnSpc>
              <a:spcBef>
                <a:spcPts val="624"/>
              </a:spcBef>
              <a:buClr>
                <a:srgbClr val="ffe701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NTFS, XCACLS, </a:t>
            </a:r>
            <a:r>
              <a:rPr b="0" lang="hu-HU" sz="2500" spc="-1" strike="noStrike">
                <a:solidFill>
                  <a:srgbClr val="ffffff"/>
                </a:solidFill>
                <a:latin typeface="Arial"/>
              </a:rPr>
              <a:t>alapértelmezett ($) megosztások letiltása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79280" y="4075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701"/>
                </a:solidFill>
                <a:latin typeface="Arial"/>
              </a:rPr>
              <a:t>Windows 2000 </a:t>
            </a:r>
            <a:r>
              <a:rPr b="1" lang="hu-HU" sz="4400" spc="-1" strike="noStrike">
                <a:solidFill>
                  <a:srgbClr val="ffe701"/>
                </a:solidFill>
                <a:latin typeface="Arial"/>
              </a:rPr>
              <a:t>megerősítése</a:t>
            </a:r>
            <a:br>
              <a:rPr sz="4400"/>
            </a:br>
            <a:r>
              <a:rPr b="1" lang="hu-HU" sz="3600" spc="-1" strike="noStrike">
                <a:solidFill>
                  <a:srgbClr val="66ccff"/>
                </a:solidFill>
                <a:latin typeface="Arial"/>
              </a:rPr>
              <a:t>Helyi és tartományi felhasználók</a:t>
            </a:r>
            <a:endParaRPr b="1" lang="en-US" sz="36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79280" y="1836360"/>
            <a:ext cx="8785440" cy="48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Ne ugyanazt a helyi fiókot használjuk mindenho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Nevezzük át az „Administrator”-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nevekben ne használjuk az „admin”-t vagy a cég nevé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Erős jelszavakat használjun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701"/>
                </a:solidFill>
                <a:latin typeface="Arial"/>
              </a:rPr>
              <a:t>Windows 2000 </a:t>
            </a:r>
            <a:r>
              <a:rPr b="1" lang="hu-HU" sz="4400" spc="-1" strike="noStrike">
                <a:solidFill>
                  <a:srgbClr val="ffe701"/>
                </a:solidFill>
                <a:latin typeface="Arial"/>
              </a:rPr>
              <a:t>megerősítése</a:t>
            </a:r>
            <a:br>
              <a:rPr sz="4400"/>
            </a:br>
            <a:r>
              <a:rPr b="1" lang="hu-HU" sz="3600" spc="-1" strike="noStrike">
                <a:solidFill>
                  <a:srgbClr val="66ccff"/>
                </a:solidFill>
                <a:latin typeface="Arial"/>
              </a:rPr>
              <a:t>Házirendekkel érjük el a biztonságot</a:t>
            </a:r>
            <a:endParaRPr b="1" lang="en-US" sz="36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79280" y="1398600"/>
            <a:ext cx="8785440" cy="524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7840" indent="-267840">
              <a:spcBef>
                <a:spcPts val="799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Default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omain Polic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62760" indent="-284760">
              <a:spcBef>
                <a:spcPts val="700"/>
              </a:spcBef>
              <a:buClr>
                <a:srgbClr val="ffe701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jelszóval kapcsolatos beállításo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nem lehet felülbíráln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2760" indent="-284760">
              <a:spcBef>
                <a:spcPts val="700"/>
              </a:spcBef>
              <a:buClr>
                <a:srgbClr val="ffe701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fiókok zárolása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kísérletek száma és a zárolás időtartam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2760" indent="-284760">
              <a:spcBef>
                <a:spcPts val="700"/>
              </a:spcBef>
              <a:buClr>
                <a:srgbClr val="ffe701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uditálási házire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és napló méret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10MB, 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7840" indent="-267840">
              <a:spcBef>
                <a:spcPts val="799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Default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omain Controller Polic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62760" indent="-284760">
              <a:spcBef>
                <a:spcPts val="700"/>
              </a:spcBef>
              <a:buClr>
                <a:srgbClr val="ffe701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Default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main 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licy 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nem módosítja az auditálási beállítások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2760" indent="-284760">
              <a:spcBef>
                <a:spcPts val="700"/>
              </a:spcBef>
              <a:buClr>
                <a:srgbClr val="ffe701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módosítsuk a biztonsági beállításokat és tiltsuk le a fölösleges szervizeket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e701"/>
                </a:solidFill>
                <a:latin typeface="Arial"/>
              </a:rPr>
              <a:t>Windows 2000 </a:t>
            </a:r>
            <a:r>
              <a:rPr b="1" lang="hu-HU" sz="4000" spc="-1" strike="noStrike">
                <a:solidFill>
                  <a:srgbClr val="ffe701"/>
                </a:solidFill>
                <a:latin typeface="Arial"/>
              </a:rPr>
              <a:t>megerősítése</a:t>
            </a:r>
            <a:br>
              <a:rPr sz="4000"/>
            </a:br>
            <a:r>
              <a:rPr b="1" lang="hu-HU" sz="3200" spc="-1" strike="noStrike">
                <a:solidFill>
                  <a:srgbClr val="66ccff"/>
                </a:solidFill>
                <a:latin typeface="Arial"/>
              </a:rPr>
              <a:t>Kiszolgáló specifikus házirendek</a:t>
            </a: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79280" y="1423800"/>
            <a:ext cx="8785440" cy="52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Felhasználói jogo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e701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gon locally - Administra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e701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ess from the network – Authenticated Us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Biztonsági beállítások 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gistry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értéke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e701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trict Access to Anonymous Account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e701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TLMv2 – Cluster Servers (Q27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9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Szervizek letiltás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ert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sseng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ows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nt Spool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pbook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k Schedul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HCP Cli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l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e701"/>
                </a:solidFill>
                <a:latin typeface="Arial"/>
              </a:rPr>
              <a:t>Napirend</a:t>
            </a:r>
            <a:endParaRPr b="1" lang="en-US" sz="44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9280" y="1423800"/>
            <a:ext cx="8785440" cy="52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Microsoft Solutions Offering (MSO) áttekinté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Microsoft Solution Architecture Internet Datacenter (MSA IDC) nevű megoldás áttekinté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z MSA IDC biztonsági kérdése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biztonsági CD-krő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79280" y="14580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e701"/>
                </a:solidFill>
                <a:latin typeface="Arial"/>
              </a:rPr>
              <a:t>Alapértelmezés szerinti</a:t>
            </a:r>
            <a:br>
              <a:rPr sz="4000"/>
            </a:br>
            <a:r>
              <a:rPr b="1" lang="hu-HU" sz="4000" spc="-1" strike="noStrike">
                <a:solidFill>
                  <a:srgbClr val="ffe701"/>
                </a:solidFill>
                <a:latin typeface="Arial"/>
              </a:rPr>
              <a:t>biztonsági sablonok</a:t>
            </a:r>
            <a:endParaRPr b="1" lang="en-US" sz="40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79280" y="1584360"/>
            <a:ext cx="8785440" cy="524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70000"/>
              </a:lnSpc>
              <a:spcBef>
                <a:spcPts val="700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%SystemRoot%\Security\Templates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\*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f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9360" indent="-279360">
              <a:lnSpc>
                <a:spcPct val="70000"/>
              </a:lnSpc>
              <a:spcBef>
                <a:spcPts val="799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lap sablono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0480" indent="-296640">
              <a:lnSpc>
                <a:spcPct val="70000"/>
              </a:lnSpc>
              <a:spcBef>
                <a:spcPts val="624"/>
              </a:spcBef>
              <a:buClr>
                <a:srgbClr val="ffe701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Basicwk – Windows 2000 Pro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690480" indent="-296640">
              <a:lnSpc>
                <a:spcPct val="70000"/>
              </a:lnSpc>
              <a:spcBef>
                <a:spcPts val="624"/>
              </a:spcBef>
              <a:buClr>
                <a:srgbClr val="ffe701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Basicsv – Windows 2000 Server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690480" indent="-296640">
              <a:lnSpc>
                <a:spcPct val="70000"/>
              </a:lnSpc>
              <a:spcBef>
                <a:spcPts val="624"/>
              </a:spcBef>
              <a:buClr>
                <a:srgbClr val="ffe701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Basicdc – Windows 2000 Domain Controller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279360" indent="-279360">
              <a:lnSpc>
                <a:spcPct val="70000"/>
              </a:lnSpc>
              <a:spcBef>
                <a:spcPts val="799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Járulékos sablonok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z alapra telepítendő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0480" indent="-296640">
              <a:lnSpc>
                <a:spcPct val="70000"/>
              </a:lnSpc>
              <a:spcBef>
                <a:spcPts val="624"/>
              </a:spcBef>
              <a:buClr>
                <a:srgbClr val="ffe701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urews – Windows 2000 Workstation </a:t>
            </a:r>
            <a:r>
              <a:rPr b="0" lang="hu-HU" sz="2500" spc="-1" strike="noStrike">
                <a:solidFill>
                  <a:srgbClr val="ffffff"/>
                </a:solidFill>
                <a:latin typeface="Arial"/>
              </a:rPr>
              <a:t>vagy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690480" indent="-296640">
              <a:lnSpc>
                <a:spcPct val="70000"/>
              </a:lnSpc>
              <a:spcBef>
                <a:spcPts val="624"/>
              </a:spcBef>
              <a:buClr>
                <a:srgbClr val="ffe701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uredc – Windows 2000 Domain Controller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690480" indent="-296640">
              <a:lnSpc>
                <a:spcPct val="70000"/>
              </a:lnSpc>
              <a:spcBef>
                <a:spcPts val="624"/>
              </a:spcBef>
              <a:buClr>
                <a:srgbClr val="ffe701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Hisecwks – Windows 2000 Workstation </a:t>
            </a:r>
            <a:r>
              <a:rPr b="0" lang="hu-HU" sz="2500" spc="-1" strike="noStrike">
                <a:solidFill>
                  <a:srgbClr val="ffffff"/>
                </a:solidFill>
                <a:latin typeface="Arial"/>
              </a:rPr>
              <a:t>vagy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690480" indent="-296640">
              <a:lnSpc>
                <a:spcPct val="70000"/>
              </a:lnSpc>
              <a:spcBef>
                <a:spcPts val="624"/>
              </a:spcBef>
              <a:buClr>
                <a:srgbClr val="ffe701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Hissecdc – Windows 2000 Domain Controller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279360" indent="-279360">
              <a:lnSpc>
                <a:spcPct val="70000"/>
              </a:lnSpc>
              <a:spcBef>
                <a:spcPts val="799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isecwk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0480" indent="-296640">
              <a:lnSpc>
                <a:spcPct val="70000"/>
              </a:lnSpc>
              <a:spcBef>
                <a:spcPts val="624"/>
              </a:spcBef>
              <a:buClr>
                <a:srgbClr val="ffe701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500" spc="-1" strike="noStrike">
                <a:solidFill>
                  <a:srgbClr val="ffffff"/>
                </a:solidFill>
                <a:latin typeface="Arial"/>
              </a:rPr>
              <a:t>Windows 2000 Serverr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690480" indent="-296640">
              <a:lnSpc>
                <a:spcPct val="70000"/>
              </a:lnSpc>
              <a:spcBef>
                <a:spcPts val="624"/>
              </a:spcBef>
              <a:buClr>
                <a:srgbClr val="ffe701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500" spc="-1" strike="noStrike">
                <a:solidFill>
                  <a:srgbClr val="ffffff"/>
                </a:solidFill>
                <a:latin typeface="Arial"/>
              </a:rPr>
              <a:t>minden kiszolgáló Windows 2000 kell, hogy legyen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690480" indent="-296640">
              <a:lnSpc>
                <a:spcPct val="70000"/>
              </a:lnSpc>
              <a:spcBef>
                <a:spcPts val="624"/>
              </a:spcBef>
              <a:buClr>
                <a:srgbClr val="ffe701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500" spc="-1" strike="noStrike">
                <a:solidFill>
                  <a:srgbClr val="ffffff"/>
                </a:solidFill>
                <a:latin typeface="Arial"/>
              </a:rPr>
              <a:t>lebutítja a P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ower users </a:t>
            </a:r>
            <a:r>
              <a:rPr b="0" lang="hu-HU" sz="2500" spc="-1" strike="noStrike">
                <a:solidFill>
                  <a:srgbClr val="ffffff"/>
                </a:solidFill>
                <a:latin typeface="Arial"/>
              </a:rPr>
              <a:t>csoportot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e701"/>
                </a:solidFill>
                <a:latin typeface="Arial"/>
              </a:rPr>
              <a:t>Az MSA biztonsága</a:t>
            </a:r>
            <a:br>
              <a:rPr sz="4000"/>
            </a:br>
            <a:r>
              <a:rPr b="1" lang="hu-HU" sz="3200" spc="-1" strike="noStrike">
                <a:solidFill>
                  <a:srgbClr val="66ccff"/>
                </a:solidFill>
                <a:latin typeface="Arial"/>
              </a:rPr>
              <a:t>Áttekintés</a:t>
            </a: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79280" y="1423800"/>
            <a:ext cx="8785440" cy="52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Hacker </a:t>
            </a:r>
            <a:r>
              <a:rPr b="1" lang="hu-HU" sz="3200" spc="-1" strike="noStrike">
                <a:solidFill>
                  <a:srgbClr val="66ccff"/>
                </a:solidFill>
                <a:latin typeface="Arial"/>
              </a:rPr>
              <a:t>technikák és eszközö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Active Directory </a:t>
            </a:r>
            <a:r>
              <a:rPr b="1" lang="hu-HU" sz="3200" spc="-1" strike="noStrike">
                <a:solidFill>
                  <a:srgbClr val="66ccff"/>
                </a:solidFill>
                <a:latin typeface="Arial"/>
              </a:rPr>
              <a:t>és </a:t>
            </a: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Group Policy Obje</a:t>
            </a:r>
            <a:r>
              <a:rPr b="1" lang="hu-HU" sz="3200" spc="-1" strike="noStrike">
                <a:solidFill>
                  <a:srgbClr val="66ccff"/>
                </a:solidFill>
                <a:latin typeface="Arial"/>
              </a:rPr>
              <a:t>ktumok tervezé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66ccff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Windows 2000 Server </a:t>
            </a:r>
            <a:r>
              <a:rPr b="1" lang="hu-HU" sz="3200" spc="-1" strike="noStrike">
                <a:solidFill>
                  <a:srgbClr val="66ccff"/>
                </a:solidFill>
                <a:latin typeface="Arial"/>
              </a:rPr>
              <a:t>megerősíté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z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IS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 megerősíté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lkalmazások biztonsága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jánlások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SA Server 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tűzfal tervezé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e701"/>
                </a:solidFill>
                <a:latin typeface="Arial"/>
              </a:rPr>
              <a:t>Az </a:t>
            </a:r>
            <a:r>
              <a:rPr b="1" lang="en-US" sz="4400" spc="-1" strike="noStrike">
                <a:solidFill>
                  <a:srgbClr val="ffe701"/>
                </a:solidFill>
                <a:latin typeface="Arial"/>
              </a:rPr>
              <a:t>IIS</a:t>
            </a:r>
            <a:r>
              <a:rPr b="1" lang="hu-HU" sz="4400" spc="-1" strike="noStrike">
                <a:solidFill>
                  <a:srgbClr val="ffe701"/>
                </a:solidFill>
                <a:latin typeface="Arial"/>
              </a:rPr>
              <a:t> megerősítése</a:t>
            </a:r>
            <a:endParaRPr b="1" lang="en-US" sz="44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79280" y="1500120"/>
            <a:ext cx="8964720" cy="524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lkalmazzuk a legfrissebb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IS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javítások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e701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t Fix Checking To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Tiltsuk le a könyvtárak tallózásá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Ellenőrizzük a virtuális könyvtárak jogosultságai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Védjük le az IIS naplóit és auditáljun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Tiltsuk le vagy töröljük a minta alkalmazások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Töröljük ki a nem használt szkript megfeleltetéseket (script mapping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Szedjük le a szülő könyvtárat („..”) a pathró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701"/>
                </a:solidFill>
                <a:latin typeface="Arial"/>
              </a:rPr>
              <a:t>Néhány perc szünet…</a:t>
            </a:r>
            <a:endParaRPr b="1" lang="en-US" sz="4400" spc="-1" strike="noStrike">
              <a:solidFill>
                <a:srgbClr val="ffe701"/>
              </a:solidFill>
              <a:latin typeface="Arial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838080" y="1271520"/>
            <a:ext cx="7391520" cy="496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e701"/>
                </a:solidFill>
                <a:latin typeface="Arial"/>
              </a:rPr>
              <a:t>Az MSA biztonsága</a:t>
            </a:r>
            <a:br>
              <a:rPr sz="4000"/>
            </a:br>
            <a:r>
              <a:rPr b="1" lang="hu-HU" sz="3200" spc="-1" strike="noStrike">
                <a:solidFill>
                  <a:srgbClr val="66ccff"/>
                </a:solidFill>
                <a:latin typeface="Arial"/>
              </a:rPr>
              <a:t>Áttekintés</a:t>
            </a: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79280" y="1423800"/>
            <a:ext cx="8785440" cy="52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Hacker </a:t>
            </a:r>
            <a:r>
              <a:rPr b="1" lang="hu-HU" sz="3200" spc="-1" strike="noStrike">
                <a:solidFill>
                  <a:srgbClr val="66ccff"/>
                </a:solidFill>
                <a:latin typeface="Arial"/>
              </a:rPr>
              <a:t>technikák és eszközö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Active Directory </a:t>
            </a:r>
            <a:r>
              <a:rPr b="1" lang="hu-HU" sz="3200" spc="-1" strike="noStrike">
                <a:solidFill>
                  <a:srgbClr val="66ccff"/>
                </a:solidFill>
                <a:latin typeface="Arial"/>
              </a:rPr>
              <a:t>és </a:t>
            </a: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Group Policy Obje</a:t>
            </a:r>
            <a:r>
              <a:rPr b="1" lang="hu-HU" sz="3200" spc="-1" strike="noStrike">
                <a:solidFill>
                  <a:srgbClr val="66ccff"/>
                </a:solidFill>
                <a:latin typeface="Arial"/>
              </a:rPr>
              <a:t>ktumok tervezé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66ccff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Windows 2000 Server </a:t>
            </a:r>
            <a:r>
              <a:rPr b="1" lang="hu-HU" sz="3200" spc="-1" strike="noStrike">
                <a:solidFill>
                  <a:srgbClr val="66ccff"/>
                </a:solidFill>
                <a:latin typeface="Arial"/>
              </a:rPr>
              <a:t>megerősíté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66ccff"/>
                </a:solidFill>
                <a:latin typeface="Arial"/>
              </a:rPr>
              <a:t>Az </a:t>
            </a: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IIS</a:t>
            </a:r>
            <a:r>
              <a:rPr b="1" lang="hu-HU" sz="3200" spc="-1" strike="noStrike">
                <a:solidFill>
                  <a:srgbClr val="66ccff"/>
                </a:solidFill>
                <a:latin typeface="Arial"/>
              </a:rPr>
              <a:t> megerősíté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lkalmazások biztonsága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jánlások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SA Server 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tűzfal tervezé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e701"/>
                </a:solidFill>
                <a:latin typeface="Arial"/>
              </a:rPr>
              <a:t>Alkalmazások biztonsága</a:t>
            </a:r>
            <a:br>
              <a:rPr sz="4000"/>
            </a:br>
            <a:r>
              <a:rPr b="1" lang="hu-HU" sz="3200" spc="-1" strike="noStrike">
                <a:solidFill>
                  <a:srgbClr val="66ccff"/>
                </a:solidFill>
                <a:latin typeface="Arial"/>
              </a:rPr>
              <a:t>Hasznos tanácsok (1/2)</a:t>
            </a: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79280" y="1612800"/>
            <a:ext cx="878544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Használjunk adat titkosítás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Erős jelszavakat írjunk elő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Tiltsuk le a cookiek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z SSL-es oldalaknak legyen élettartamu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HTML és ASP oldalak ne tartalmazzanak bizalmas információ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z állapotot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QL Server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ben tárolju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Ellenőrizzük a bevitt adatok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e701"/>
                </a:solidFill>
                <a:latin typeface="Arial"/>
              </a:rPr>
              <a:t>Alkalmazások biztonsága</a:t>
            </a:r>
            <a:br>
              <a:rPr sz="4000"/>
            </a:br>
            <a:r>
              <a:rPr b="1" lang="hu-HU" sz="3200" spc="-1" strike="noStrike">
                <a:solidFill>
                  <a:srgbClr val="66ccff"/>
                </a:solidFill>
                <a:latin typeface="Arial"/>
              </a:rPr>
              <a:t>Hasznos tanácsok (2/2)</a:t>
            </a: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79280" y="1612440"/>
            <a:ext cx="8785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z üzleti logikai funckiókat tegyük COM komponensekb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fejlesztők ne írhassanak az éles rendszerb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Használjunk „source control” eszközök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Ne használjunk ftp-t és telnet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e701"/>
                </a:solidFill>
                <a:latin typeface="Arial"/>
              </a:rPr>
              <a:t>Az MSA biztonsága</a:t>
            </a:r>
            <a:br>
              <a:rPr sz="4000"/>
            </a:br>
            <a:r>
              <a:rPr b="1" lang="hu-HU" sz="3200" spc="-1" strike="noStrike">
                <a:solidFill>
                  <a:srgbClr val="66ccff"/>
                </a:solidFill>
                <a:latin typeface="Arial"/>
              </a:rPr>
              <a:t>Áttekintés</a:t>
            </a: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79280" y="1423800"/>
            <a:ext cx="8785440" cy="52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Hacker </a:t>
            </a:r>
            <a:r>
              <a:rPr b="1" lang="hu-HU" sz="3200" spc="-1" strike="noStrike">
                <a:solidFill>
                  <a:srgbClr val="66ccff"/>
                </a:solidFill>
                <a:latin typeface="Arial"/>
              </a:rPr>
              <a:t>technikák és eszközö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Active Directory </a:t>
            </a:r>
            <a:r>
              <a:rPr b="1" lang="hu-HU" sz="3200" spc="-1" strike="noStrike">
                <a:solidFill>
                  <a:srgbClr val="66ccff"/>
                </a:solidFill>
                <a:latin typeface="Arial"/>
              </a:rPr>
              <a:t>és </a:t>
            </a: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Group Policy Obje</a:t>
            </a:r>
            <a:r>
              <a:rPr b="1" lang="hu-HU" sz="3200" spc="-1" strike="noStrike">
                <a:solidFill>
                  <a:srgbClr val="66ccff"/>
                </a:solidFill>
                <a:latin typeface="Arial"/>
              </a:rPr>
              <a:t>ktumok tervezé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66ccff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Windows 2000 Server </a:t>
            </a:r>
            <a:r>
              <a:rPr b="1" lang="hu-HU" sz="3200" spc="-1" strike="noStrike">
                <a:solidFill>
                  <a:srgbClr val="66ccff"/>
                </a:solidFill>
                <a:latin typeface="Arial"/>
              </a:rPr>
              <a:t>megerősíté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66ccff"/>
                </a:solidFill>
                <a:latin typeface="Arial"/>
              </a:rPr>
              <a:t>Az </a:t>
            </a: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IIS</a:t>
            </a:r>
            <a:r>
              <a:rPr b="1" lang="hu-HU" sz="3200" spc="-1" strike="noStrike">
                <a:solidFill>
                  <a:srgbClr val="66ccff"/>
                </a:solidFill>
                <a:latin typeface="Arial"/>
              </a:rPr>
              <a:t> megerősíté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66ccff"/>
                </a:solidFill>
                <a:latin typeface="Arial"/>
              </a:rPr>
              <a:t>Alkalmazások biztonsága </a:t>
            </a: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(</a:t>
            </a:r>
            <a:r>
              <a:rPr b="1" lang="hu-HU" sz="3200" spc="-1" strike="noStrike">
                <a:solidFill>
                  <a:srgbClr val="66ccff"/>
                </a:solidFill>
                <a:latin typeface="Arial"/>
              </a:rPr>
              <a:t>ajánlások</a:t>
            </a: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SA Server 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tűzfal tervezé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e701"/>
                </a:solidFill>
                <a:latin typeface="Arial"/>
              </a:rPr>
              <a:t>Külső </a:t>
            </a:r>
            <a:r>
              <a:rPr b="1" lang="en-US" sz="4400" spc="-1" strike="noStrike">
                <a:solidFill>
                  <a:srgbClr val="ffe701"/>
                </a:solidFill>
                <a:latin typeface="Arial"/>
              </a:rPr>
              <a:t>ISA Server </a:t>
            </a:r>
            <a:r>
              <a:rPr b="1" lang="hu-HU" sz="4400" spc="-1" strike="noStrike">
                <a:solidFill>
                  <a:srgbClr val="ffe701"/>
                </a:solidFill>
                <a:latin typeface="Arial"/>
              </a:rPr>
              <a:t>k</a:t>
            </a:r>
            <a:r>
              <a:rPr b="1" lang="en-US" sz="4400" spc="-1" strike="noStrike">
                <a:solidFill>
                  <a:srgbClr val="ffe701"/>
                </a:solidFill>
                <a:latin typeface="Arial"/>
              </a:rPr>
              <a:t>onfigur</a:t>
            </a:r>
            <a:r>
              <a:rPr b="1" lang="hu-HU" sz="4400" spc="-1" strike="noStrike">
                <a:solidFill>
                  <a:srgbClr val="ffe701"/>
                </a:solidFill>
                <a:latin typeface="Arial"/>
              </a:rPr>
              <a:t>áció</a:t>
            </a:r>
            <a:endParaRPr b="1" lang="en-US" sz="44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79280" y="1349280"/>
            <a:ext cx="8785440" cy="524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Hálózati konfiguráció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több hálókártyá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statikus útvonalak minden belső VLAN-ho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Telepítési opció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ndalone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mód (nem címtár integrál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tegr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ált mód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tűzfal és gyorsítótár egyb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T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konfiguráci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e701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szervizcsomagok és egyéb javítások (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SAHF63</a:t>
            </a: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SA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tűzfal konfiguráció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nincs statikus szűrő (pl. webcat miat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b Publis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2 db IIS NLBS farmot publikálnak a hosts fájljaik alapjá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ver Publis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79280" y="252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e701"/>
                </a:solidFill>
                <a:latin typeface="Arial"/>
              </a:rPr>
              <a:t>Szűrés állapot alapján </a:t>
            </a:r>
            <a:r>
              <a:rPr b="1" lang="en-US" sz="4400" spc="-1" strike="noStrike">
                <a:solidFill>
                  <a:srgbClr val="ffe701"/>
                </a:solidFill>
                <a:latin typeface="Arial"/>
              </a:rPr>
              <a:t>SecureNAT</a:t>
            </a:r>
            <a:r>
              <a:rPr b="1" lang="hu-HU" sz="4400" spc="-1" strike="noStrike">
                <a:solidFill>
                  <a:srgbClr val="ffe701"/>
                </a:solidFill>
                <a:latin typeface="Arial"/>
              </a:rPr>
              <a:t> esetén</a:t>
            </a:r>
            <a:endParaRPr b="1" lang="en-US" sz="4400" spc="-1" strike="noStrike">
              <a:solidFill>
                <a:srgbClr val="ffe701"/>
              </a:solidFill>
              <a:latin typeface="Arial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0" y="1633680"/>
            <a:ext cx="9144000" cy="523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e701"/>
                </a:solidFill>
                <a:latin typeface="Arial"/>
              </a:rPr>
              <a:t>Mi az MSO?</a:t>
            </a:r>
            <a:endParaRPr b="1" lang="en-US" sz="44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423800"/>
            <a:ext cx="8964720" cy="52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Microsoft termékek és technológiák integrációja az ügyfelek problémáinak megoldásár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Microsoft Consulting Services (MCS) tervezi és az MCS, valamint minősített partnerei valósíthatják me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megoldás egy keretrendszer, amelyet a Prescriptive Architecture Guide (PAG) definiá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Mitől más ez, mintha dobozokból raknánk össze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e701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hardver is szerepel a csomagb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e701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integrált tesztelés,  dokumentáció, felügyelet, szolgáltatás és támogatá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e701"/>
                </a:solidFill>
                <a:latin typeface="Arial"/>
              </a:rPr>
              <a:t>Web publikálás SSL híd nélkül</a:t>
            </a:r>
            <a:endParaRPr b="1" lang="en-US" sz="44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79280" y="1423800"/>
            <a:ext cx="8785440" cy="52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Egy ISA NLBS farm mögött van két IIS NLBS far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IIS NLBS „Single affinity” eseté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NAT miatt a source IP minden esetben az ISA belső cí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minden SSL csomag az egyik farmhoz me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IIS NLBS „No affinity” eseté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minden SSL csomag más IIS Serverhez me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mindig újra kell építeni az SSL kapcsolatot (session key) – óriási terhel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701"/>
                </a:solidFill>
                <a:latin typeface="Arial"/>
              </a:rPr>
              <a:t>Web </a:t>
            </a:r>
            <a:r>
              <a:rPr b="1" lang="hu-HU" sz="4400" spc="-1" strike="noStrike">
                <a:solidFill>
                  <a:srgbClr val="ffe701"/>
                </a:solidFill>
                <a:latin typeface="Arial"/>
              </a:rPr>
              <a:t>publikálás</a:t>
            </a:r>
            <a:r>
              <a:rPr b="1" lang="en-US" sz="4400" spc="-1" strike="noStrike">
                <a:solidFill>
                  <a:srgbClr val="ffe701"/>
                </a:solidFill>
                <a:latin typeface="Arial"/>
              </a:rPr>
              <a:t> SSL</a:t>
            </a:r>
            <a:r>
              <a:rPr b="1" lang="hu-HU" sz="4400" spc="-1" strike="noStrike">
                <a:solidFill>
                  <a:srgbClr val="ffe701"/>
                </a:solidFill>
                <a:latin typeface="Arial"/>
              </a:rPr>
              <a:t> híddal</a:t>
            </a:r>
            <a:endParaRPr b="1" lang="en-US" sz="44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01760" y="3965040"/>
            <a:ext cx="8742240" cy="28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Levenni az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IS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-ről az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SSL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okozta terhelés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tanusítványt minden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SA Server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re fel kell tenn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z átmenő adatokat az ISA így már ellenőrizhet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L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harveres gyorsítókártya javasol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Cipher, Rainbow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, Atall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1285920" y="1479600"/>
            <a:ext cx="6586560" cy="222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e701"/>
                </a:solidFill>
                <a:latin typeface="Arial"/>
              </a:rPr>
              <a:t>Belső tűzfal</a:t>
            </a:r>
            <a:endParaRPr b="1" lang="en-US" sz="44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79280" y="1423800"/>
            <a:ext cx="8964720" cy="52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belső kiszolgálók védelméhez egy újabb</a:t>
            </a:r>
            <a:br>
              <a:rPr sz="2800"/>
            </a:b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réteget a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480" indent="-29664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isco PIX, ISA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9360" indent="-27936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tBIOS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-t le kell tiltani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(netbios.sys), hogy az AD-hoz szükséges SMB portot (445) átengedhes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9360" indent="-27936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Hardveres terhelés elosztás szükséges a belülről kifelé menő forgalom egyenletes elosztásához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480" indent="-29664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BigIP, Local Dir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480" indent="-29664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default gateway csak egy leh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480" indent="-29664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z NLBS egyszerre csak egy adapterhez köthető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480" indent="-29664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.NET Serverben már többhöz is leh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9360" indent="-27936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Szűrés állapot alapjá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9360" indent="-27936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Még magasabb szinten naplózhatun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79280" y="4489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e701"/>
                </a:solidFill>
                <a:latin typeface="Arial"/>
              </a:rPr>
              <a:t>Belső tűzfal tervezés</a:t>
            </a:r>
            <a:br>
              <a:rPr sz="4400"/>
            </a:br>
            <a:r>
              <a:rPr b="1" lang="hu-HU" sz="3600" spc="-1" strike="noStrike">
                <a:solidFill>
                  <a:srgbClr val="66ccff"/>
                </a:solidFill>
                <a:latin typeface="Arial"/>
              </a:rPr>
              <a:t>Az alkalmazások által használt portok</a:t>
            </a:r>
            <a:endParaRPr b="1" lang="en-US" sz="3600" spc="-1" strike="noStrike">
              <a:solidFill>
                <a:srgbClr val="ffe701"/>
              </a:solidFill>
              <a:latin typeface="Arial"/>
            </a:endParaRPr>
          </a:p>
        </p:txBody>
      </p:sp>
      <p:graphicFrame>
        <p:nvGraphicFramePr>
          <p:cNvPr id="528" name=""/>
          <p:cNvGraphicFramePr/>
          <p:nvPr/>
        </p:nvGraphicFramePr>
        <p:xfrm>
          <a:off x="568440" y="2143080"/>
          <a:ext cx="8082000" cy="2795760"/>
        </p:xfrm>
        <a:graphic>
          <a:graphicData uri="http://schemas.openxmlformats.org/drawingml/2006/table">
            <a:tbl>
              <a:tblPr/>
              <a:tblGrid>
                <a:gridCol w="2265120"/>
                <a:gridCol w="1005120"/>
                <a:gridCol w="1828800"/>
                <a:gridCol w="29829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to</a:t>
                      </a: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l</a:t>
                      </a: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in</a:t>
                      </a: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íci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r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to</a:t>
                      </a: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l</a:t>
                      </a: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gjegyzé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cc"/>
                    </a:solidFill>
                  </a:tcPr>
                </a:tc>
              </a:tr>
              <a:tr h="184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kalmazás</a:t>
                      </a:r>
                      <a:br>
                        <a:rPr sz="2400"/>
                      </a:b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SQL Server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3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C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z IIS-ek a VLAN12 SQL-einek IP címét DNS-sel kapják me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79280" y="30276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e701"/>
                </a:solidFill>
                <a:latin typeface="Arial"/>
              </a:rPr>
              <a:t>Belső tűzfal tervezés</a:t>
            </a:r>
            <a:br>
              <a:rPr sz="4400"/>
            </a:br>
            <a:r>
              <a:rPr b="1" lang="hu-HU" sz="3600" spc="-1" strike="noStrike">
                <a:solidFill>
                  <a:srgbClr val="66ccff"/>
                </a:solidFill>
                <a:latin typeface="Arial"/>
              </a:rPr>
              <a:t>A címtár</a:t>
            </a:r>
            <a:r>
              <a:rPr b="1" lang="hu-HU" sz="4400" spc="-1" strike="noStrike">
                <a:solidFill>
                  <a:srgbClr val="ffe701"/>
                </a:solidFill>
                <a:latin typeface="Arial"/>
              </a:rPr>
              <a:t> </a:t>
            </a:r>
            <a:r>
              <a:rPr b="1" lang="hu-HU" sz="3600" spc="-1" strike="noStrike">
                <a:solidFill>
                  <a:srgbClr val="66ccff"/>
                </a:solidFill>
                <a:latin typeface="Arial"/>
              </a:rPr>
              <a:t>által használt portok</a:t>
            </a:r>
            <a:endParaRPr b="1" lang="en-US" sz="3600" spc="-1" strike="noStrike">
              <a:solidFill>
                <a:srgbClr val="ffe701"/>
              </a:solidFill>
              <a:latin typeface="Arial"/>
            </a:endParaRPr>
          </a:p>
        </p:txBody>
      </p:sp>
      <p:graphicFrame>
        <p:nvGraphicFramePr>
          <p:cNvPr id="530" name=""/>
          <p:cNvGraphicFramePr/>
          <p:nvPr/>
        </p:nvGraphicFramePr>
        <p:xfrm>
          <a:off x="179280" y="1671480"/>
          <a:ext cx="8785440" cy="4997520"/>
        </p:xfrm>
        <a:graphic>
          <a:graphicData uri="http://schemas.openxmlformats.org/drawingml/2006/table">
            <a:tbl>
              <a:tblPr/>
              <a:tblGrid>
                <a:gridCol w="4102200"/>
                <a:gridCol w="1204920"/>
                <a:gridCol w="3478320"/>
              </a:tblGrid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tokoll definíci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r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tokol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cc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erber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D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T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D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CP Endpoint Mapp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C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DA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CP, UD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B Direct Hos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C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NS Quer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D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TDS (más port: Q280132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2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C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e701"/>
                </a:solidFill>
                <a:latin typeface="Arial"/>
              </a:rPr>
              <a:t>Belső tűzfal tervezés</a:t>
            </a:r>
            <a:br>
              <a:rPr sz="4400"/>
            </a:br>
            <a:r>
              <a:rPr b="1" lang="hu-HU" sz="3600" spc="-1" strike="noStrike">
                <a:solidFill>
                  <a:srgbClr val="66ccff"/>
                </a:solidFill>
                <a:latin typeface="Arial"/>
              </a:rPr>
              <a:t>A felügyelet által használt portok</a:t>
            </a:r>
            <a:endParaRPr b="1" lang="en-US" sz="3600" spc="-1" strike="noStrike">
              <a:solidFill>
                <a:srgbClr val="ffe701"/>
              </a:solidFill>
              <a:latin typeface="Arial"/>
            </a:endParaRPr>
          </a:p>
        </p:txBody>
      </p:sp>
      <p:graphicFrame>
        <p:nvGraphicFramePr>
          <p:cNvPr id="532" name=""/>
          <p:cNvGraphicFramePr/>
          <p:nvPr/>
        </p:nvGraphicFramePr>
        <p:xfrm>
          <a:off x="193680" y="1595520"/>
          <a:ext cx="8785080" cy="4635360"/>
        </p:xfrm>
        <a:graphic>
          <a:graphicData uri="http://schemas.openxmlformats.org/drawingml/2006/table">
            <a:tbl>
              <a:tblPr/>
              <a:tblGrid>
                <a:gridCol w="4101840"/>
                <a:gridCol w="1204920"/>
                <a:gridCol w="3478320"/>
              </a:tblGrid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tokoll definíci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r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tokol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cc"/>
                    </a:solidFill>
                  </a:tcPr>
                </a:tc>
              </a:tr>
              <a:tr h="17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p Manager Ag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97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99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99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RP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C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M Ag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7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C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plication Center Serv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4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4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C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rminal Servic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8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C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e701"/>
                </a:solidFill>
                <a:latin typeface="Arial"/>
              </a:rPr>
              <a:t>Split-split DNS konfiguráció</a:t>
            </a:r>
            <a:endParaRPr b="1" lang="en-US" sz="4400" spc="-1" strike="noStrike">
              <a:solidFill>
                <a:srgbClr val="ffe701"/>
              </a:solidFill>
              <a:latin typeface="Arial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776160" y="1231920"/>
            <a:ext cx="7593120" cy="543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e701"/>
                </a:solidFill>
                <a:latin typeface="Arial"/>
              </a:rPr>
              <a:t>Napirend</a:t>
            </a:r>
            <a:endParaRPr b="1" lang="en-US" sz="44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79280" y="1423800"/>
            <a:ext cx="8785440" cy="52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66ccff"/>
                </a:solidFill>
                <a:latin typeface="Arial"/>
              </a:rPr>
              <a:t>A Microsoft Solutions Offering (MSO) áttekinté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66ccff"/>
                </a:solidFill>
                <a:latin typeface="Arial"/>
              </a:rPr>
              <a:t>A Microsoft Solution Architecture Internet Datacenter (MSA IDC) nevű megoldás áttekinté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66ccff"/>
                </a:solidFill>
                <a:latin typeface="Arial"/>
              </a:rPr>
              <a:t>Az MSA IDC biztonsági kérdése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biztonsági CD-krő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e701"/>
                </a:solidFill>
                <a:latin typeface="Arial"/>
              </a:rPr>
              <a:t>Az előzmények</a:t>
            </a:r>
            <a:endParaRPr b="1" lang="en-US" sz="44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79280" y="1423800"/>
            <a:ext cx="8785440" cy="52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2001. nyarának elején a Microsoft Magyarország elérkezettnek látta az időt egy rendszeresen megjelenő biztonsági CD kiadványr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Biztonsági eszközlészlet C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Ezzel egyidőben a Microsoft Corporation is meghirdetett egy programot (STPP), melynek szintén része egy biztonsági C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Security Toolkit C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két CD nem pont ugyanazt a feladatot tölti b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e701"/>
                </a:solidFill>
                <a:latin typeface="Arial"/>
              </a:rPr>
              <a:t>Strategic Technology Protection Program (STPP)</a:t>
            </a:r>
            <a:endParaRPr b="1" lang="en-US" sz="40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79280" y="1423800"/>
            <a:ext cx="8785440" cy="52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Get secu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vírusfertőzésekkel kapcsolatos támogatá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1-866-PC SAFETY (1-866-727-2338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ingyenesen rendelhető biztonsági C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Security Toolkit C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W2K SP3 elsődleges célja a biztonság fokozá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Stay secu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Security Toolkit CD rendszeresen megjeleni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Windows 2000 kumulatív javítások kéthavon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IT rendszerek biztonságával foglalkozó esemény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menedzselhető biztonsá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nagyvállalati eszközök, automatikus frissítés, stb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 u="sng">
                <a:solidFill>
                  <a:srgbClr val="66ccff"/>
                </a:solidFill>
                <a:uFillTx/>
                <a:latin typeface="Arial"/>
                <a:hlinkClick r:id="rId1"/>
              </a:rPr>
              <a:t>http</a:t>
            </a:r>
            <a:r>
              <a:rPr b="1" lang="hu-HU" sz="28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://www.microsoft.com/presspass/features/2001/oct01/10-03securityqa.as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e701"/>
                </a:solidFill>
                <a:latin typeface="Arial"/>
              </a:rPr>
              <a:t>Milyen megoldások készülnek?</a:t>
            </a:r>
            <a:endParaRPr b="1" lang="en-US" sz="44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9280" y="1423800"/>
            <a:ext cx="4316400" cy="52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Business Intelligen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Data Warehous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Developm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HIPA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Internet Busines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Intrane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Managem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8320" y="1423800"/>
            <a:ext cx="4316400" cy="52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MS Systems Architectu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Mobile Communic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Office productivi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Platfor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Project collabor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Supplier enablem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1280" y="4470480"/>
            <a:ext cx="3326040" cy="652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495680" y="1362240"/>
            <a:ext cx="3326040" cy="1046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1280" y="2392200"/>
            <a:ext cx="3326040" cy="652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66760" y="5894280"/>
            <a:ext cx="887724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HIPAA: Health Insurance Portability and Accountability A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e701"/>
                </a:solidFill>
                <a:latin typeface="Arial"/>
              </a:rPr>
              <a:t>Security Toolkit CD</a:t>
            </a:r>
            <a:endParaRPr b="1" lang="en-US" sz="44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79280" y="1423800"/>
            <a:ext cx="8785440" cy="52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ngol és magyar változ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Milyen operációs rendszerhez jó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Windows NT 4.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Windows 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munkaállomásokhoz és kiszolgálókhoz egyará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Felteszi az összes ismert javítás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később leszedhető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Speciális eszközö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IIS lockdown to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URLSc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hfnetchk.ex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qchain.ex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e701"/>
                </a:solidFill>
                <a:latin typeface="Arial"/>
              </a:rPr>
              <a:t>IIS lockdown tool v2.1</a:t>
            </a:r>
            <a:endParaRPr b="1" lang="en-US" sz="44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79280" y="1423800"/>
            <a:ext cx="8785440" cy="52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Telepítéskor sablonok alapján állíthatjuk be az IIS biztonságá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most már OWA sablon is van és működik is ;-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telepítés során napló és a metabaseről másolat készü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Újbóli futtatáskor visszaállítja az eredeti állapoto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e701"/>
                </a:solidFill>
                <a:latin typeface="Arial"/>
              </a:rPr>
              <a:t>URLScan.dll</a:t>
            </a:r>
            <a:endParaRPr b="1" lang="en-US" sz="44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79280" y="1423800"/>
            <a:ext cx="8785440" cy="52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z IIS lockdown tool is felteszi, de függetlenül is használható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ISAPI szűrő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%windir%\system32\inetsrv\UrlScan\urlscan.ini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 alapján szű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HTTP request módjá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HTTP kérésben lévő fejlécekre (request head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fájl kiterjesztés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gyanús URL kódolás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nem ASCII karakterek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dott karaktersorozat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z URLScan.log-ba naplózza a letiltott kéréseke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e701"/>
                </a:solidFill>
                <a:latin typeface="Arial"/>
              </a:rPr>
              <a:t>hfnetchk.exe</a:t>
            </a:r>
            <a:br>
              <a:rPr sz="4000"/>
            </a:br>
            <a:r>
              <a:rPr b="1" lang="hu-HU" sz="3200" spc="-1" strike="noStrike">
                <a:solidFill>
                  <a:srgbClr val="66ccff"/>
                </a:solidFill>
                <a:latin typeface="Arial"/>
              </a:rPr>
              <a:t>Shavlik Technologies</a:t>
            </a: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79280" y="1423800"/>
            <a:ext cx="8785440" cy="52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Leellenőrzi, hogy egy adott gépen fent vannak-e a legfrissebb javításo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e701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Windows NT4, Windows 2000, Windows XP, IE, IIS, 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Nem minden termék javításait ellenőrz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e701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pl.: Exchange, Office n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Több távoli gépen is futtatható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e701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gy fájlban kell felsorolni az IP címek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Egy XML fájlban van a javítások leíró információj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e701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minden javítás megjelenésekor frissül az XML fáj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e701"/>
                </a:solidFill>
                <a:latin typeface="Arial"/>
              </a:rPr>
              <a:t>hfnetchk.exe kérdések</a:t>
            </a:r>
            <a:endParaRPr b="1" lang="en-US" sz="44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79280" y="1423800"/>
            <a:ext cx="8785440" cy="52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Mit csináljunk, ha nincs Internet kapcsolatunk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66ccff"/>
                </a:solidFill>
                <a:uFillTx/>
                <a:latin typeface="Arial"/>
                <a:hlinkClick r:id="rId1"/>
              </a:rPr>
              <a:t>http://download.microsoft.com/download/xml/security/1.0/nt5/en-us/mssecure.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Honnét tölthetők le a javítások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http://www.microsoft.com/technet/security/current.as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Miért nem mutatja ki, hogy kell egy javítás, ha tudom, hogy kell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függőségek lehetnek az egyes javítások és a szervizcsomagok közöt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Minden javasolt javítást tegyek fel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célszerű egyesével végigolvasni a problémák leírását és csak tesztelés után feltenni a javítá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e701"/>
                </a:solidFill>
                <a:latin typeface="Arial"/>
              </a:rPr>
              <a:t>qchain.exe</a:t>
            </a:r>
            <a:endParaRPr b="1" lang="en-US" sz="44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79280" y="1423800"/>
            <a:ext cx="8785440" cy="52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Több javítás újraindítás nélküli, egyszerre történő telepítését teszi lehetővé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javításokat „-z –m” opciókkal kell telepíten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e701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silent” és „no reboot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e701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nem minden javításnak van ilyen opciója, pl.: ISA ;-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javítások telepítése után jöhet a qchain.ex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e701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meggátolja, hogy egy régebbi javítás felülírjon egy újabb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Csak szigorú tesztelést követően szabad éles gépen alkalmazni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e701"/>
                </a:solidFill>
                <a:latin typeface="Arial"/>
              </a:rPr>
              <a:t>qcheck.exe</a:t>
            </a:r>
            <a:endParaRPr b="1" lang="en-US" sz="44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79280" y="1423800"/>
            <a:ext cx="8785440" cy="52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Kilistázza a telepített javítások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Nem minden javítás jelenik me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pl.: SP1 előtt ISA javítások ;-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z ISA javítások a jövőben rendesen regisztrálják maguk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le lehet őket szed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Control Panelben látszanak, stb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Nem mentesít a telepítési napló vezetése alól!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e701"/>
                </a:solidFill>
                <a:latin typeface="Arial"/>
              </a:rPr>
              <a:t>Biztonsági eszközkészlet CD</a:t>
            </a:r>
            <a:endParaRPr b="1" lang="en-US" sz="44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79280" y="1423800"/>
            <a:ext cx="8785440" cy="52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lapvetően munkaállomások védelmére készül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Funkció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legfrissebb biztonsági javítások telepíté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különböző biztonsági szintekhez tartozó beállítás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biztonsági eszközök telepítése, futtatá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gyéb információk, szolgáltatás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1. változat – 2001. ősz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Windows 2000-he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ha magyar változathoz használjuk, hozzunk létre egy Administrators csoportot és tegyük bele a Rendszergazdá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2. változat – 2002. elej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Windows 2000-hez és Windows XP-he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ngol vagy magyar változathoz 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e701"/>
                </a:solidFill>
                <a:latin typeface="Arial"/>
              </a:rPr>
              <a:t>Biztonsági eszközkészlet CD</a:t>
            </a:r>
            <a:br>
              <a:rPr sz="4000"/>
            </a:br>
            <a:r>
              <a:rPr b="1" lang="hu-HU" sz="3200" spc="-1" strike="noStrike">
                <a:solidFill>
                  <a:srgbClr val="66ccff"/>
                </a:solidFill>
                <a:latin typeface="Arial"/>
              </a:rPr>
              <a:t>Telepítés</a:t>
            </a: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pic>
        <p:nvPicPr>
          <p:cNvPr id="558" name="" descr=""/>
          <p:cNvPicPr/>
          <p:nvPr/>
        </p:nvPicPr>
        <p:blipFill>
          <a:blip r:embed="rId1"/>
          <a:stretch/>
        </p:blipFill>
        <p:spPr>
          <a:xfrm>
            <a:off x="291960" y="1406520"/>
            <a:ext cx="7596360" cy="510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e701"/>
                </a:solidFill>
                <a:latin typeface="Arial"/>
              </a:rPr>
              <a:t>Biztonsági eszközkészlet CD</a:t>
            </a:r>
            <a:br>
              <a:rPr sz="4000"/>
            </a:br>
            <a:r>
              <a:rPr b="1" lang="hu-HU" sz="3200" spc="-1" strike="noStrike">
                <a:solidFill>
                  <a:srgbClr val="66ccff"/>
                </a:solidFill>
                <a:latin typeface="Arial"/>
              </a:rPr>
              <a:t>Biztonsági beállítások</a:t>
            </a: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79280" y="1670040"/>
            <a:ext cx="8785440" cy="49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Munkaállomás kiemelt funkciókka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e701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rős jelszavak, fiók kizárás, CRTL+Alt-Del kötelező, leállításhoz be kell jelentkezni, sikertelen bejelentkezést naplózza, helyileg csak az Administrators és a Power Users tagjai jelentkezhetnek be, erős hitelesítés, floppy és CD használat csak helyileg, aláírt meghajtók, registry és NTFS ACL vizsgál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Munkaállomás tűzfal nélkü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Munkaállomás tűzfal mögöt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Otthoni számítógép Internet hozzáféréss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Otthoni számítógép Internet hozzáférés nélkü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9280" y="27756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e701"/>
                </a:solidFill>
                <a:latin typeface="Arial"/>
              </a:rPr>
              <a:t>A partnerek szepere, avagy a Solution Ecosystem</a:t>
            </a:r>
            <a:endParaRPr b="1" lang="en-US" sz="40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9280" y="1576440"/>
            <a:ext cx="8785440" cy="524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Microsoft partnereinek szerepét definiálja egy megoldás megvalósítása sorá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Egy partner például kiindulhat az MSA-ból, de egy konkrét (vertikális) megoldásból 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z ecosystem definiálja a Microsoft technológiákra épülő megoldás-fejlesztés életciklusát 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e701"/>
                </a:solidFill>
                <a:latin typeface="Arial"/>
              </a:rPr>
              <a:t>További információ</a:t>
            </a:r>
            <a:br>
              <a:rPr sz="4000"/>
            </a:br>
            <a:r>
              <a:rPr b="1" lang="hu-HU" sz="3200" spc="-1" strike="noStrike">
                <a:solidFill>
                  <a:srgbClr val="66ccff"/>
                </a:solidFill>
                <a:latin typeface="Arial"/>
              </a:rPr>
              <a:t>Weboldalak</a:t>
            </a: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79280" y="1423800"/>
            <a:ext cx="8785440" cy="52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Microsof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0480" indent="-29664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MSA ID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804960" indent="223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66ccff"/>
                </a:solidFill>
                <a:uFillTx/>
                <a:latin typeface="Arial"/>
                <a:hlinkClick r:id="rId1"/>
              </a:rPr>
              <a:t>http</a:t>
            </a:r>
            <a:r>
              <a:rPr b="0" lang="hu-HU" sz="24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://www.microsoft.com/solutions/idc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480" indent="-29664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biztonsá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804960" indent="223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ccff"/>
                </a:solidFill>
                <a:uFillTx/>
                <a:latin typeface="Arial"/>
                <a:hlinkClick r:id="rId3"/>
              </a:rPr>
              <a:t>www.microsoft.com/secu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04960" indent="223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ccff"/>
                </a:solidFill>
                <a:uFillTx/>
                <a:latin typeface="Arial"/>
                <a:hlinkClick r:id="rId4"/>
              </a:rPr>
              <a:t>www.microsoft.com/technet/itsolutions/secu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480" indent="-29664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hfnetchk FA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804960" indent="223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ccff"/>
                </a:solidFill>
                <a:uFillTx/>
                <a:latin typeface="Arial"/>
                <a:hlinkClick r:id="rId5"/>
              </a:rPr>
              <a:t>http://www.microsoft.com/business/solutions/default.as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9360" indent="-27936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Egyé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0480" indent="-29664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ccff"/>
                </a:solidFill>
                <a:uFillTx/>
                <a:latin typeface="Arial"/>
                <a:hlinkClick r:id="rId6"/>
              </a:rPr>
              <a:t>www.securityfocus.c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480" indent="-29664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ccff"/>
                </a:solidFill>
                <a:uFillTx/>
                <a:latin typeface="Arial"/>
                <a:hlinkClick r:id="rId7"/>
              </a:rPr>
              <a:t>http://</a:t>
            </a:r>
            <a:r>
              <a:rPr b="0" lang="en-US" sz="2800" spc="-1" strike="noStrike" u="sng">
                <a:solidFill>
                  <a:srgbClr val="66ccff"/>
                </a:solidFill>
                <a:uFillTx/>
                <a:latin typeface="Arial"/>
                <a:hlinkClick r:id="rId8"/>
              </a:rPr>
              <a:t>www.rsasecurity.com</a:t>
            </a:r>
            <a:r>
              <a:rPr b="0" lang="en-US" sz="2800" spc="-1" strike="noStrike" u="sng">
                <a:solidFill>
                  <a:srgbClr val="66ccff"/>
                </a:solidFill>
                <a:uFillTx/>
                <a:latin typeface="Arial"/>
                <a:hlinkClick r:id="rId9"/>
              </a:rPr>
              <a:t>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e701"/>
                </a:solidFill>
                <a:latin typeface="Arial"/>
              </a:rPr>
              <a:t>További információ</a:t>
            </a:r>
            <a:br>
              <a:rPr sz="4000"/>
            </a:br>
            <a:r>
              <a:rPr b="1" lang="hu-HU" sz="3200" spc="-1" strike="noStrike">
                <a:solidFill>
                  <a:srgbClr val="66ccff"/>
                </a:solidFill>
                <a:latin typeface="Arial"/>
              </a:rPr>
              <a:t>Könyvek</a:t>
            </a: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79280" y="1423800"/>
            <a:ext cx="8785440" cy="52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ichael Howard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igning Secure Web-Based Applications for Microsoft Windows 2000 (ISBN: 0-7356-0753-2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oel Scambray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acking Exposed Second Edition (ISBN: 0-07-212748-1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Joel Scambray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: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Hacking Exposed Windows 2000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(ISBN: 0-07-219262-3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743400" y="2924280"/>
            <a:ext cx="7787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e701"/>
                </a:solidFill>
                <a:latin typeface="Arial"/>
              </a:rPr>
              <a:t>where</a:t>
            </a:r>
            <a:r>
              <a:rPr b="1" lang="hu-HU" sz="4400" spc="-1" strike="noStrike">
                <a:solidFill>
                  <a:srgbClr val="66ccff"/>
                </a:solidFill>
                <a:latin typeface="Arial"/>
              </a:rPr>
              <a:t>do</a:t>
            </a:r>
            <a:r>
              <a:rPr b="1" lang="hu-HU" sz="4400" spc="-1" strike="noStrike">
                <a:solidFill>
                  <a:srgbClr val="ffe701"/>
                </a:solidFill>
                <a:latin typeface="Arial"/>
              </a:rPr>
              <a:t>you</a:t>
            </a:r>
            <a:r>
              <a:rPr b="1" lang="hu-HU" sz="4400" spc="-1" strike="noStrike">
                <a:solidFill>
                  <a:srgbClr val="66ccff"/>
                </a:solidFill>
                <a:latin typeface="Arial"/>
              </a:rPr>
              <a:t>want</a:t>
            </a:r>
            <a:r>
              <a:rPr b="1" lang="hu-HU" sz="4400" spc="-1" strike="noStrike">
                <a:solidFill>
                  <a:srgbClr val="ffe701"/>
                </a:solidFill>
                <a:latin typeface="Arial"/>
              </a:rPr>
              <a:t>to</a:t>
            </a:r>
            <a:r>
              <a:rPr b="1" lang="hu-HU" sz="4400" spc="-1" strike="noStrike">
                <a:solidFill>
                  <a:srgbClr val="66ccff"/>
                </a:solidFill>
                <a:latin typeface="Arial"/>
              </a:rPr>
              <a:t>go</a:t>
            </a:r>
            <a:r>
              <a:rPr b="1" lang="hu-HU" sz="4400" spc="-1" strike="noStrike">
                <a:solidFill>
                  <a:srgbClr val="ffe701"/>
                </a:solidFill>
                <a:latin typeface="Arial"/>
              </a:rPr>
              <a:t>today</a:t>
            </a:r>
            <a:r>
              <a:rPr b="1" lang="hu-HU" sz="4400" spc="-1" strike="noStrike">
                <a:solidFill>
                  <a:srgbClr val="66ccff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e701"/>
                </a:solidFill>
                <a:latin typeface="Arial"/>
              </a:rPr>
              <a:t>Az MSA IDC felépítése</a:t>
            </a:r>
            <a:endParaRPr b="1" lang="en-US" sz="4400" spc="-1" strike="noStrike">
              <a:solidFill>
                <a:srgbClr val="ffe701"/>
              </a:solidFill>
              <a:latin typeface="Arial"/>
            </a:endParaRPr>
          </a:p>
        </p:txBody>
      </p:sp>
      <p:pic>
        <p:nvPicPr>
          <p:cNvPr id="5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e701"/>
                </a:solidFill>
                <a:latin typeface="Arial"/>
              </a:rPr>
              <a:t>Mi az MSA?</a:t>
            </a:r>
            <a:endParaRPr b="1" lang="en-US" sz="44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9280" y="1423800"/>
            <a:ext cx="8785440" cy="52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Solution Architectu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Miből áll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hard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dobozos szoft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plumbing” avagy integrációs kó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dokumentum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Egy konkrét megvalósítás a standard megoldáson alapul, de az ügyfél igényei szerint testre szabjá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701"/>
                </a:solidFill>
                <a:latin typeface="Arial"/>
              </a:rPr>
              <a:t>MSA IDC </a:t>
            </a:r>
            <a:r>
              <a:rPr b="1" lang="hu-HU" sz="4400" spc="-1" strike="noStrike">
                <a:solidFill>
                  <a:srgbClr val="ffe701"/>
                </a:solidFill>
                <a:latin typeface="Arial"/>
              </a:rPr>
              <a:t>dokumentumok</a:t>
            </a:r>
            <a:endParaRPr b="1" lang="en-US" sz="44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9280" y="1423800"/>
            <a:ext cx="8964720" cy="52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Architecture Gu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z MSA IDC arhitektúráját és tervezési szompontjait írja 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criptive Architecture Gu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gy MSA IDC-nek megfelelő megoldás kiépítésének útmutató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perations Gu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z MSA IDC üzemeltetési útmutató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rvices Gu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megoldás teljes életciklusát (tervezés, implementáció, üzemeltetés) felölelő üzemeltetési és támogatási útmutat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pport Gu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megoldás támogatási ajánl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e701"/>
                </a:solidFill>
                <a:latin typeface="Arial"/>
              </a:rPr>
              <a:t>Napirend</a:t>
            </a:r>
            <a:endParaRPr b="1" lang="en-US" sz="44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9280" y="1423800"/>
            <a:ext cx="8785440" cy="52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66ccff"/>
                </a:solidFill>
                <a:latin typeface="Arial"/>
              </a:rPr>
              <a:t>A Microsoft Solutions Offering (MSO) áttekinté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Microsoft Solution Architecture Internet Datacenter (MSA IDC) nevű megoldás áttekinté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z MSA IDC biztonsági kérdése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biztonsági CD-krő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2T10:18:38Z</dcterms:created>
  <dc:creator>Szalontay Zoltán</dc:creator>
  <dc:description/>
  <dc:language>en-US</dc:language>
  <cp:lastModifiedBy>Szalontay Zoltán</cp:lastModifiedBy>
  <dcterms:modified xsi:type="dcterms:W3CDTF">2002-03-18T10:53:02Z</dcterms:modified>
  <cp:revision>419</cp:revision>
  <dc:subject/>
  <dc:title>2002. 03. 20 TechNet - Biztonságos Windows</dc:title>
</cp:coreProperties>
</file>