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3.xml" ContentType="application/vnd.openxmlformats-officedocument.presentationml.notesSlide+xml"/>
  <Override PartName="/ppt/notesSlides/_rels/notesSlide4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79000" y="701640"/>
            <a:ext cx="4627800" cy="347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2E05C-64D4-47F0-8358-093BFFFF4E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787D4-EAE0-4E1A-B053-14162E3911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401400" y="4408560"/>
            <a:ext cx="61880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88E9E-4D86-4E40-AB3A-CF927E6A7E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0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 txBox="1"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49289-45C5-41B2-86DE-0D290B6FEB9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13" name="PlaceHolder 2"/>
          <p:cNvSpPr>
            <a:spLocks noGrp="1"/>
          </p:cNvSpPr>
          <p:nvPr>
            <p:ph type="body"/>
          </p:nvPr>
        </p:nvSpPr>
        <p:spPr>
          <a:xfrm>
            <a:off x="929880" y="4410000"/>
            <a:ext cx="512460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596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140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596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140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504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3.wmf"/><Relationship Id="rId13" Type="http://schemas.openxmlformats.org/officeDocument/2006/relationships/image" Target="../media/image7.wmf"/><Relationship Id="rId14" Type="http://schemas.openxmlformats.org/officeDocument/2006/relationships/image" Target="../media/image3.wmf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5.xml"/><Relationship Id="rId19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3.wmf"/><Relationship Id="rId14" Type="http://schemas.openxmlformats.org/officeDocument/2006/relationships/image" Target="../media/image7.wmf"/><Relationship Id="rId15" Type="http://schemas.openxmlformats.org/officeDocument/2006/relationships/image" Target="../media/image3.wmf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510552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alontay Zoltán, Tarsoly Baláz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szermérnökö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crosoft Magyarorsz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ff"/>
                </a:solidFill>
                <a:latin typeface="Arial"/>
              </a:rPr>
              <a:t>A Windows 2000 együttműködése más rendszerekke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447920" y="2057400"/>
            <a:ext cx="3657600" cy="259092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1219320"/>
            <a:ext cx="36576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31240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3276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972880" y="312408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: ‘John Smith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3581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69280" y="3429000"/>
            <a:ext cx="19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ail Alias: ‘jsmith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19520" y="3886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2160" y="373392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cture: key=smithj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66880" y="228600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90920" y="2819520"/>
            <a:ext cx="1143000" cy="3045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90920" y="4038480"/>
            <a:ext cx="11430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2438280"/>
            <a:ext cx="11430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1676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6400" y="304812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rectory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924360" y="2362320"/>
            <a:ext cx="2781360" cy="583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990680" y="3556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4952520" y="3962520"/>
            <a:ext cx="175284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876920" y="2438280"/>
            <a:ext cx="18288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35680" y="190512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bjektum létrehoz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3124080"/>
            <a:ext cx="1742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inkronizál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7680" y="44956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ivatkoz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51814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éz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29400" y="1676520"/>
            <a:ext cx="1371600" cy="99036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P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datbáz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629400" y="4419720"/>
            <a:ext cx="1371600" cy="99036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QL</a:t>
            </a:r>
            <a:br>
              <a:rPr sz="1600"/>
            </a:b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datbáz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29400" y="3073320"/>
            <a:ext cx="1371600" cy="99072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57600" y="51814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atalóg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133720" y="457200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86200" y="457200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02280" y="47498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étrehoz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64280" y="61736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lav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73960" y="61736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lav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16240" y="53863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Mas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95360" y="2643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Mas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17400" y="40147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e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91040" y="3860640"/>
            <a:ext cx="1790640" cy="787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ihívás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: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zemantik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4952880" y="1219320"/>
            <a:ext cx="3429000" cy="342900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0720" y="1219320"/>
            <a:ext cx="3581280" cy="342900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76520" y="26668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52480" y="2743200"/>
            <a:ext cx="9144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289548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752480" y="3124080"/>
            <a:ext cx="9144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76520" y="32767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752480" y="3505320"/>
            <a:ext cx="914400" cy="3045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76520" y="36576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48120" y="26668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124080" y="2743200"/>
            <a:ext cx="9144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48120" y="289548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24080" y="3124080"/>
            <a:ext cx="9144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48120" y="32767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3505320"/>
            <a:ext cx="914400" cy="3045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48120" y="36576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95480" y="2362320"/>
            <a:ext cx="11430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23880" y="2362320"/>
            <a:ext cx="11430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cou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1752480"/>
            <a:ext cx="11430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133720" y="205704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3123720" y="20570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867280" y="1600200"/>
            <a:ext cx="11430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19920" y="190512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95880" y="1981080"/>
            <a:ext cx="9144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19920" y="21337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95880" y="2362320"/>
            <a:ext cx="914400" cy="3045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19920" y="25146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95880" y="2743200"/>
            <a:ext cx="9144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19920" y="289548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95880" y="3124080"/>
            <a:ext cx="9144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19920" y="32767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5880" y="3505320"/>
            <a:ext cx="914400" cy="3045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9920" y="36576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5880" y="3886200"/>
            <a:ext cx="9144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r 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19920" y="403848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25146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216320" y="3352680"/>
            <a:ext cx="1117800" cy="237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573080" y="2666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07280" y="46483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ímtá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640840" y="46483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ímtá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ihívás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: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Belső felépít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415360" cy="96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ülönböző címtárak különböző módon tárolják az objektumo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A címtárak </a:t>
            </a:r>
            <a:r>
              <a:rPr b="1" lang="en-US" sz="4400" spc="-1" strike="noStrike">
                <a:solidFill>
                  <a:srgbClr val="fccf00"/>
                </a:solidFill>
                <a:latin typeface="Arial"/>
              </a:rPr>
              <a:t>Nirv</a:t>
            </a: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ánája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77640" y="4711680"/>
            <a:ext cx="8415000" cy="96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ímtárak címtára, ahol az összes nehéz kérdést belül megoldjá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1996920"/>
            <a:ext cx="6000480" cy="241956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1185" dir="307803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427120" y="2700360"/>
            <a:ext cx="1143000" cy="609480"/>
          </a:xfrm>
          <a:prstGeom prst="hexagon">
            <a:avLst>
              <a:gd name="adj" fmla="val 18754"/>
              <a:gd name="vf" fmla="val 11547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32280" y="3500280"/>
            <a:ext cx="1143000" cy="6098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80200" y="2719440"/>
            <a:ext cx="1143000" cy="60948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81280" y="2990880"/>
            <a:ext cx="1791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48080" y="3333600"/>
            <a:ext cx="476280" cy="476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067360" y="3200040"/>
            <a:ext cx="57132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67000" y="1276200"/>
            <a:ext cx="6019560" cy="5144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057560" y="17906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4952880" y="1790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39000" y="217332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a Direc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 flipV="1">
            <a:off x="6076800" y="1504440"/>
            <a:ext cx="343080" cy="419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1542960"/>
            <a:ext cx="1981080" cy="13716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81600" y="1676520"/>
            <a:ext cx="1981080" cy="13716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valóság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: Model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l 1/4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-360" y="3962160"/>
            <a:ext cx="8839080" cy="2387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menedzsment alkalmazásokból egyszerre több címtárhoz férünk hozz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+)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Könnyű karbantar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-)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átjárás a címtárak között, nincs  központi hozzáfér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477120" y="1066680"/>
            <a:ext cx="1523880" cy="76212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imtár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77120" y="1981080"/>
            <a:ext cx="1523880" cy="76212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ímtár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477120" y="2971800"/>
            <a:ext cx="1523880" cy="76212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ímtár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05280" y="1790640"/>
            <a:ext cx="1981080" cy="13716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ímtár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érési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lület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95280" y="1676520"/>
            <a:ext cx="2210040" cy="137160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kalmaz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kript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05320" y="2610000"/>
            <a:ext cx="361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05320" y="2381400"/>
            <a:ext cx="361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05320" y="2133720"/>
            <a:ext cx="361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886360" y="2800440"/>
            <a:ext cx="666720" cy="399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62680" y="234324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valóság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: Model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l 2/4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-360" y="3962520"/>
            <a:ext cx="8839080" cy="2332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p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t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inkroniz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+)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változások egyik oldalról a másikra repülnek, konzisztens adatbázi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-)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központi hozzáfér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ncs tulajdonság szintű szinkr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971800" y="27432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00400" y="3048120"/>
            <a:ext cx="28195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581280" y="2362320"/>
            <a:ext cx="1981440" cy="10666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onn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95280" y="2438280"/>
            <a:ext cx="1905120" cy="9144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943600" y="2438280"/>
            <a:ext cx="1905120" cy="9144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95280" y="1447920"/>
            <a:ext cx="190512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43600" y="1447920"/>
            <a:ext cx="190512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0968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36232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701028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676520" y="2286000"/>
            <a:ext cx="5611680" cy="106668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valóság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: Model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l 3/4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-360" y="4419720"/>
            <a:ext cx="8915400" cy="1948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1720" indent="-5317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ímtá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r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ók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+)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legteljesebb megoldás, központi hozzáfér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ulajdonság szintű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inkr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-)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 legbonyolultabb megvalósí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133720" y="2514600"/>
            <a:ext cx="1523880" cy="60948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52480" y="1295280"/>
            <a:ext cx="5639040" cy="6098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419720" y="1905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572000" y="1905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0080" y="2514600"/>
            <a:ext cx="1524240" cy="60948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09880" y="2514600"/>
            <a:ext cx="1524240" cy="609480"/>
          </a:xfrm>
          <a:prstGeom prst="ellipse">
            <a:avLst/>
          </a:prstGeom>
          <a:solidFill>
            <a:srgbClr val="fccf00"/>
          </a:soli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28960" y="333360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124600" y="333360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77120" y="3200400"/>
            <a:ext cx="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2514600" y="32000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24200" y="3505320"/>
            <a:ext cx="1143000" cy="609480"/>
          </a:xfrm>
          <a:prstGeom prst="hexagon">
            <a:avLst>
              <a:gd name="adj" fmla="val 18754"/>
              <a:gd name="vf" fmla="val 11547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19480" y="3505320"/>
            <a:ext cx="114300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14760" y="3505320"/>
            <a:ext cx="1143000" cy="60948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67280" y="3505320"/>
            <a:ext cx="1143000" cy="6094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valóság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: Model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l 4/4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-360" y="3695760"/>
            <a:ext cx="8839080" cy="2332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1720" indent="-5317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ímtár konszolid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+) 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ncs szükség szinkronizáció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séges belső felép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-)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 kell cserélni a meglévő címtárakat;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ozzá kell nyúlni a meglévő alkalmazásho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219320" y="1447920"/>
            <a:ext cx="190476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133720" y="20574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286000" y="205704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43600" y="1447920"/>
            <a:ext cx="190512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10280" y="20574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781680" y="205704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81280" y="1447920"/>
            <a:ext cx="190512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9568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464832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19320" y="2438280"/>
            <a:ext cx="6553080" cy="9144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t csinál a Microsoft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560" y="4172040"/>
            <a:ext cx="8839080" cy="2332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1720" indent="-5317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 Services Interf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423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onzisztens hozzáférést biztosí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T-DS, Active Directory, LDAP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alapú címtárakho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DS 4.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5.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423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alap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553080" y="1905120"/>
            <a:ext cx="1371600" cy="6858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62520" y="1905120"/>
            <a:ext cx="1981080" cy="13716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1905120"/>
            <a:ext cx="2209680" cy="137160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kalmaz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kript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29000" y="2590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5943600" y="1599840"/>
            <a:ext cx="60948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943600" y="2285640"/>
            <a:ext cx="60948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943600" y="2971800"/>
            <a:ext cx="6094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53080" y="1143000"/>
            <a:ext cx="1371600" cy="6858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T-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3429000"/>
            <a:ext cx="1371600" cy="6858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53080" y="2666880"/>
            <a:ext cx="1371600" cy="6858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NDS,</a:t>
            </a:r>
            <a:br>
              <a:rPr sz="1600"/>
            </a:b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Binde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43600" y="2743200"/>
            <a:ext cx="6094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"/>
          <p:cNvGrpSpPr/>
          <p:nvPr/>
        </p:nvGrpSpPr>
        <p:grpSpPr>
          <a:xfrm>
            <a:off x="352440" y="4495680"/>
            <a:ext cx="8575560" cy="1295640"/>
            <a:chOff x="352440" y="4495680"/>
            <a:chExt cx="8575560" cy="1295640"/>
          </a:xfrm>
        </p:grpSpPr>
        <p:sp>
          <p:nvSpPr>
            <p:cNvPr id="649" name=""/>
            <p:cNvSpPr/>
            <p:nvPr/>
          </p:nvSpPr>
          <p:spPr>
            <a:xfrm>
              <a:off x="352440" y="4495680"/>
              <a:ext cx="8575560" cy="129564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172f4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Windows 2000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9040" y="5334120"/>
              <a:ext cx="2095560" cy="4064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Bindery mod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73280" y="5334120"/>
              <a:ext cx="2043000" cy="40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cc3300"/>
                  </a:solidFill>
                  <a:latin typeface="Arial"/>
                </a:rPr>
                <a:t>NDS mod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78200" y="5334120"/>
              <a:ext cx="2044800" cy="40644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NTDS mod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81680" y="5334120"/>
              <a:ext cx="2062440" cy="40644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0046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LDAP mod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9040" y="4962600"/>
              <a:ext cx="8433000" cy="31752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75462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Active Directory Services Interface (ADSI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34080" y="4572000"/>
              <a:ext cx="4000320" cy="317520"/>
            </a:xfrm>
            <a:prstGeom prst="rect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75462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ADSI-kompatíbilis alkalmazás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19040" y="6032520"/>
            <a:ext cx="8408520" cy="749160"/>
            <a:chOff x="419040" y="6032520"/>
            <a:chExt cx="8408520" cy="749160"/>
          </a:xfrm>
        </p:grpSpPr>
        <p:grpSp>
          <p:nvGrpSpPr>
            <p:cNvPr id="657" name=""/>
            <p:cNvGrpSpPr/>
            <p:nvPr/>
          </p:nvGrpSpPr>
          <p:grpSpPr>
            <a:xfrm>
              <a:off x="419040" y="6032520"/>
              <a:ext cx="2095200" cy="749160"/>
              <a:chOff x="419040" y="6032520"/>
              <a:chExt cx="2095200" cy="749160"/>
            </a:xfrm>
          </p:grpSpPr>
          <p:sp>
            <p:nvSpPr>
              <p:cNvPr id="658" name=""/>
              <p:cNvSpPr/>
              <p:nvPr/>
            </p:nvSpPr>
            <p:spPr>
              <a:xfrm>
                <a:off x="419040" y="6032520"/>
                <a:ext cx="2095200" cy="749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ffffff"/>
                    </a:solidFill>
                    <a:latin typeface="Arial"/>
                  </a:rPr>
                  <a:t>NetWare 3.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4600" y="6095880"/>
                <a:ext cx="1055880" cy="3175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fffff"/>
                    </a:solidFill>
                    <a:latin typeface="Arial"/>
                  </a:rPr>
                  <a:t>Bindery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2571840" y="6032520"/>
              <a:ext cx="2045880" cy="749160"/>
              <a:chOff x="2571840" y="6032520"/>
              <a:chExt cx="2045880" cy="749160"/>
            </a:xfrm>
          </p:grpSpPr>
          <p:sp>
            <p:nvSpPr>
              <p:cNvPr id="661" name=""/>
              <p:cNvSpPr/>
              <p:nvPr/>
            </p:nvSpPr>
            <p:spPr>
              <a:xfrm>
                <a:off x="2571840" y="6032520"/>
                <a:ext cx="2045880" cy="749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cc3300"/>
                    </a:solidFill>
                    <a:latin typeface="Arial"/>
                  </a:rPr>
                  <a:t>NetWare 4.1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448440" y="6070680"/>
                <a:ext cx="1055520" cy="317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cc3300"/>
                    </a:solidFill>
                    <a:latin typeface="Arial"/>
                  </a:rPr>
                  <a:t>ND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4676760" y="6032520"/>
              <a:ext cx="2045880" cy="749160"/>
              <a:chOff x="4676760" y="6032520"/>
              <a:chExt cx="2045880" cy="749160"/>
            </a:xfrm>
          </p:grpSpPr>
          <p:sp>
            <p:nvSpPr>
              <p:cNvPr id="664" name=""/>
              <p:cNvSpPr/>
              <p:nvPr/>
            </p:nvSpPr>
            <p:spPr>
              <a:xfrm>
                <a:off x="4676760" y="6032520"/>
                <a:ext cx="2045880" cy="74916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ffffff"/>
                    </a:solidFill>
                    <a:latin typeface="Arial"/>
                  </a:rPr>
                  <a:t>Windows 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53360" y="6070680"/>
                <a:ext cx="1055520" cy="31716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fffff"/>
                    </a:solidFill>
                    <a:latin typeface="Arial"/>
                  </a:rPr>
                  <a:t>NTD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1680" y="6032520"/>
              <a:ext cx="2045880" cy="749160"/>
              <a:chOff x="6781680" y="6032520"/>
              <a:chExt cx="2045880" cy="74916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1680" y="6032520"/>
                <a:ext cx="2045880" cy="74916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0046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ffffff"/>
                    </a:solidFill>
                    <a:latin typeface="Arial"/>
                  </a:rPr>
                  <a:t>Unix, Not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658280" y="6070680"/>
                <a:ext cx="1055520" cy="31716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0046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fffff"/>
                    </a:solidFill>
                    <a:latin typeface="Arial"/>
                  </a:rPr>
                  <a:t>LDA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programozható címtá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3209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séges programozási felület különböző címtárszolgáltatások és az azokat használó alkalmazások szám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árki írhat címtárszolgáltatást (ADSI Service Provide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árki írhat a címtárat igénybe vevő üzleti vagy felügyeleti alkalmazá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5918040"/>
            <a:ext cx="91440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t csinál a Microsoft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? 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305920" cy="222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 Connector (AD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-mail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özpontú szinkronizáci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Syn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Általános szinkronizációs felül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971800" y="27432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00400" y="3048120"/>
            <a:ext cx="28195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133720"/>
            <a:ext cx="1981440" cy="14475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Sy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295280" y="2438280"/>
            <a:ext cx="1905120" cy="9144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43600" y="2438280"/>
            <a:ext cx="1905120" cy="9144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é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295280" y="1447920"/>
            <a:ext cx="190512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lkalmazás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943600" y="1447920"/>
            <a:ext cx="190512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lkalmazás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0968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36232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01028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Önök  egy sorozatot látnak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93800"/>
            <a:ext cx="9144000" cy="607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ctive Directory, a Windows 2000 új címt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Felhasználó és szoftver menedz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Biztonsági szolgáltatások a Windows 2000-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 Windows 2000 infrastruktúrális szolgáltatása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 Windows 2000 mint alkalmazás kiszolgá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 Windows 2000 telepítése és üzembehelye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NetWare és UNIX környezet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t csinál a Microsoft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19040" y="3562200"/>
            <a:ext cx="8305920" cy="2963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soft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jó néhány konnektort fog szállíta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ét címtár összekötésének egyszerű módj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e Directory Connector (ADC)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hange 5.X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-hez és más 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mail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ndszerekhe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DS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inkronizáci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Novellnek nincs ehhez hasonló termé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62240" y="262908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390840" y="2933640"/>
            <a:ext cx="28195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72080" y="2324160"/>
            <a:ext cx="1981080" cy="8762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C 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Sy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486080" y="2324160"/>
            <a:ext cx="1904760" cy="9144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34040" y="2324160"/>
            <a:ext cx="1905120" cy="9144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hang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DS,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t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486080" y="1333440"/>
            <a:ext cx="1904760" cy="6098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lkalmazás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34040" y="1333440"/>
            <a:ext cx="1905120" cy="6098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lkalmazás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00480" y="194328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2552760" y="194328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48440" y="194328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7201080" y="194328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t csinál a Microsoft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? 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8915400" cy="2222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1720" indent="-531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üttműködé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‘meta directory’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égekkel azért, hogy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 Directory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gyen a központi tárol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423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ocor - MetaConn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9920" indent="-423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cf00"/>
                </a:solidFill>
                <a:latin typeface="Arial"/>
              </a:rPr>
              <a:t>Zoomit – VIA</a:t>
            </a:r>
            <a:r>
              <a:rPr b="1" lang="hu-HU" sz="2400" spc="-1" strike="noStrike">
                <a:solidFill>
                  <a:srgbClr val="fccf00"/>
                </a:solidFill>
                <a:latin typeface="Arial"/>
              </a:rPr>
              <a:t> 2.0 </a:t>
            </a:r>
            <a:r>
              <a:rPr b="1" lang="hu-HU" sz="2400" spc="-1" strike="noStrike">
                <a:solidFill>
                  <a:srgbClr val="fccf00"/>
                </a:solidFill>
                <a:latin typeface="Wingdings"/>
                <a:ea typeface="Wingdings"/>
              </a:rPr>
              <a:t></a:t>
            </a:r>
            <a:r>
              <a:rPr b="1" lang="hu-HU" sz="2400" spc="-1" strike="noStrike">
                <a:solidFill>
                  <a:srgbClr val="fccf00"/>
                </a:solidFill>
                <a:latin typeface="Arial"/>
              </a:rPr>
              <a:t> Microsoft Metadirectory Services 2.1 (M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676520" y="2286000"/>
            <a:ext cx="5611680" cy="106668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33720" y="2514600"/>
            <a:ext cx="1523880" cy="60948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752480" y="1295280"/>
            <a:ext cx="5639040" cy="6098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19720" y="1905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4572000" y="1905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2514600"/>
            <a:ext cx="1524240" cy="60948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3920" y="2457360"/>
            <a:ext cx="1523880" cy="762120"/>
          </a:xfrm>
          <a:prstGeom prst="ellipse">
            <a:avLst/>
          </a:prstGeom>
          <a:solidFill>
            <a:srgbClr val="fccf00"/>
          </a:soli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ctive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Dire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28960" y="333360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24600" y="333360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77120" y="3200400"/>
            <a:ext cx="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2514600" y="320004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24200" y="3505320"/>
            <a:ext cx="1143000" cy="609480"/>
          </a:xfrm>
          <a:prstGeom prst="hexagon">
            <a:avLst>
              <a:gd name="adj" fmla="val 18754"/>
              <a:gd name="vf" fmla="val 11547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19480" y="3505320"/>
            <a:ext cx="114300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14760" y="3505320"/>
            <a:ext cx="1143000" cy="60948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867280" y="3505320"/>
            <a:ext cx="1143000" cy="6094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t csinál a Microsoft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? 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4560" y="4419360"/>
            <a:ext cx="8839080" cy="2437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26320" indent="-5263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crosoft termékek integrációja 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v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6320" indent="-52632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vezető szoftver gyártók alkalmazásainak portolás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-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219320" y="1447920"/>
            <a:ext cx="190476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133720" y="205740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943600" y="1447920"/>
            <a:ext cx="190512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81280" y="1447920"/>
            <a:ext cx="1905120" cy="6094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72000" y="20574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143000" y="3429000"/>
            <a:ext cx="6553080" cy="68580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38280" y="2438280"/>
            <a:ext cx="1905120" cy="6098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P &amp; Ba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724280" y="2438280"/>
            <a:ext cx="1905120" cy="6098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934320" y="2057400"/>
            <a:ext cx="0" cy="1523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429000" y="3048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15000" y="3048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7010280" y="304920"/>
            <a:ext cx="1676520" cy="876240"/>
          </a:xfrm>
          <a:prstGeom prst="downArrowCallout">
            <a:avLst>
              <a:gd name="adj1" fmla="val 26098"/>
              <a:gd name="adj2" fmla="val 17397"/>
              <a:gd name="adj3" fmla="val 16667"/>
              <a:gd name="adj4" fmla="val 68843"/>
            </a:avLst>
          </a:prstGeom>
          <a:gradFill rotWithShape="0">
            <a:gsLst>
              <a:gs pos="0">
                <a:srgbClr val="007155"/>
              </a:gs>
              <a:gs pos="50000">
                <a:srgbClr val="00cc99"/>
              </a:gs>
              <a:gs pos="100000">
                <a:srgbClr val="007155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ccf00"/>
                </a:solidFill>
                <a:latin typeface="Arial"/>
              </a:rPr>
              <a:t>Microsoft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VI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971640"/>
            <a:ext cx="1447920" cy="7617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8720" y="1200240"/>
            <a:ext cx="1285560" cy="3373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476600" y="14479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86600" y="971640"/>
            <a:ext cx="1447920" cy="761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393320" y="12002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 Ap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715160" y="1467000"/>
            <a:ext cx="304920" cy="457200"/>
          </a:xfrm>
          <a:prstGeom prst="upDownArrow">
            <a:avLst>
              <a:gd name="adj1" fmla="val 50000"/>
              <a:gd name="adj2" fmla="val 29849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315200" y="1581120"/>
            <a:ext cx="1066680" cy="121932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971640"/>
            <a:ext cx="1447920" cy="761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63560" y="12002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P, Ba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76200" y="1467000"/>
            <a:ext cx="304920" cy="457200"/>
          </a:xfrm>
          <a:prstGeom prst="upDownArrow">
            <a:avLst>
              <a:gd name="adj1" fmla="val 50000"/>
              <a:gd name="adj2" fmla="val 29849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14400" y="1581120"/>
            <a:ext cx="1066680" cy="121932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916560" y="20383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666880" y="1276200"/>
            <a:ext cx="3962520" cy="2667240"/>
          </a:xfrm>
          <a:prstGeom prst="ellipse">
            <a:avLst/>
          </a:prstGeom>
          <a:gradFill rotWithShape="0">
            <a:gsLst>
              <a:gs pos="0">
                <a:srgbClr val="30517c"/>
              </a:gs>
              <a:gs pos="100000">
                <a:srgbClr val="16253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54840" y="31924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19435800">
            <a:off x="2971800" y="2418840"/>
            <a:ext cx="3544920" cy="457200"/>
          </a:xfrm>
          <a:prstGeom prst="leftRightArrow">
            <a:avLst>
              <a:gd name="adj1" fmla="val 50000"/>
              <a:gd name="adj2" fmla="val 154353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 rot="2164200">
            <a:off x="2666880" y="2418120"/>
            <a:ext cx="3544920" cy="457560"/>
          </a:xfrm>
          <a:prstGeom prst="leftRightArrow">
            <a:avLst>
              <a:gd name="adj1" fmla="val 50000"/>
              <a:gd name="adj2" fmla="val 154231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81280" y="1352520"/>
            <a:ext cx="2133720" cy="1981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105080" y="211464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17360" y="2082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6019920" y="933120"/>
            <a:ext cx="1523160" cy="1981440"/>
            <a:chOff x="6019920" y="933120"/>
            <a:chExt cx="1523160" cy="1981440"/>
          </a:xfrm>
        </p:grpSpPr>
        <p:sp>
          <p:nvSpPr>
            <p:cNvPr id="750" name=""/>
            <p:cNvSpPr/>
            <p:nvPr/>
          </p:nvSpPr>
          <p:spPr>
            <a:xfrm flipH="1" flipV="1" rot="18312000">
              <a:off x="5675760" y="1770480"/>
              <a:ext cx="2210040" cy="304920"/>
            </a:xfrm>
            <a:prstGeom prst="rightArrow">
              <a:avLst>
                <a:gd name="adj1" fmla="val 50000"/>
                <a:gd name="adj2" fmla="val 181198"/>
              </a:avLst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19930200">
              <a:off x="6247080" y="1685520"/>
              <a:ext cx="1081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677880" y="3105000"/>
            <a:ext cx="1447920" cy="7621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985680" y="32958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211400" y="361944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0160" y="3714840"/>
            <a:ext cx="1067040" cy="121896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40960" y="417204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675800" y="844560"/>
            <a:ext cx="5816160" cy="4257720"/>
            <a:chOff x="1675800" y="844560"/>
            <a:chExt cx="5816160" cy="4257720"/>
          </a:xfrm>
        </p:grpSpPr>
        <p:grpSp>
          <p:nvGrpSpPr>
            <p:cNvPr id="758" name=""/>
            <p:cNvGrpSpPr/>
            <p:nvPr/>
          </p:nvGrpSpPr>
          <p:grpSpPr>
            <a:xfrm>
              <a:off x="5842080" y="1946160"/>
              <a:ext cx="1649880" cy="3156120"/>
              <a:chOff x="5842080" y="1946160"/>
              <a:chExt cx="1649880" cy="3156120"/>
            </a:xfrm>
          </p:grpSpPr>
          <p:sp>
            <p:nvSpPr>
              <p:cNvPr id="759" name=""/>
              <p:cNvSpPr/>
              <p:nvPr/>
            </p:nvSpPr>
            <p:spPr>
              <a:xfrm flipH="1" rot="3993600">
                <a:off x="5028480" y="3335040"/>
                <a:ext cx="3276000" cy="378000"/>
              </a:xfrm>
              <a:prstGeom prst="leftArrow">
                <a:avLst>
                  <a:gd name="adj1" fmla="val 24667"/>
                  <a:gd name="adj2" fmla="val 75713"/>
                </a:avLst>
              </a:prstGeom>
              <a:gradFill rotWithShape="0">
                <a:gsLst>
                  <a:gs pos="0">
                    <a:srgbClr val="525252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2262600">
                <a:off x="6118920" y="3376080"/>
                <a:ext cx="1137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dd User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rovis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802160" y="1946160"/>
              <a:ext cx="1649880" cy="3156120"/>
              <a:chOff x="1802160" y="1946160"/>
              <a:chExt cx="1649880" cy="3156120"/>
            </a:xfrm>
          </p:grpSpPr>
          <p:sp>
            <p:nvSpPr>
              <p:cNvPr id="762" name=""/>
              <p:cNvSpPr/>
              <p:nvPr/>
            </p:nvSpPr>
            <p:spPr>
              <a:xfrm rot="17606400">
                <a:off x="988920" y="3335040"/>
                <a:ext cx="3276000" cy="378000"/>
              </a:xfrm>
              <a:prstGeom prst="leftArrow">
                <a:avLst>
                  <a:gd name="adj1" fmla="val 26787"/>
                  <a:gd name="adj2" fmla="val 78602"/>
                </a:avLst>
              </a:prstGeom>
              <a:gradFill rotWithShape="0">
                <a:gsLst>
                  <a:gs pos="0">
                    <a:srgbClr val="525252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9215600">
                <a:off x="2050920" y="3357000"/>
                <a:ext cx="935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reat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Mailbox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1675800" y="844560"/>
              <a:ext cx="1802160" cy="2256120"/>
              <a:chOff x="1675800" y="844560"/>
              <a:chExt cx="1802160" cy="2256120"/>
            </a:xfrm>
          </p:grpSpPr>
          <p:sp>
            <p:nvSpPr>
              <p:cNvPr id="765" name=""/>
              <p:cNvSpPr/>
              <p:nvPr/>
            </p:nvSpPr>
            <p:spPr>
              <a:xfrm flipV="1" rot="3288000">
                <a:off x="1346040" y="1743480"/>
                <a:ext cx="2438280" cy="457560"/>
              </a:xfrm>
              <a:prstGeom prst="leftArrow">
                <a:avLst>
                  <a:gd name="adj1" fmla="val 24102"/>
                  <a:gd name="adj2" fmla="val 110303"/>
                </a:avLst>
              </a:pr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467000">
                <a:off x="2014560" y="1834920"/>
                <a:ext cx="1406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dd User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Grant Right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7" name=""/>
          <p:cNvSpPr/>
          <p:nvPr/>
        </p:nvSpPr>
        <p:spPr>
          <a:xfrm>
            <a:off x="7106040" y="4572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User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3520" y="3962520"/>
            <a:ext cx="268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Üzleti szabály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áci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datok integritá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940520" y="2838600"/>
            <a:ext cx="667080" cy="76176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197840" y="2838600"/>
            <a:ext cx="666720" cy="761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178760" y="3200400"/>
            <a:ext cx="1447560" cy="7621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106040" y="3429000"/>
            <a:ext cx="1576800" cy="3373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96080" y="3676680"/>
            <a:ext cx="304920" cy="380880"/>
          </a:xfrm>
          <a:prstGeom prst="upDownArrow">
            <a:avLst>
              <a:gd name="adj1" fmla="val 50000"/>
              <a:gd name="adj2" fmla="val 24866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7330320" y="3733920"/>
            <a:ext cx="1066680" cy="121896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637400" y="41911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55800" y="30481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999920" y="3048120"/>
            <a:ext cx="596880" cy="3373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-533520" y="5486400"/>
            <a:ext cx="10287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OOMIT technol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ógi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Active Direc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50608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Üzleti logika a címtárba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64680" cy="4768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éldá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a felhasználót a munkaügy inaktív állapotba helyezi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kkor zárjuk ki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ctive Directory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bó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és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hange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bő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a felhasználó egy fejlesztő mérnö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juk hozzá fiókját a 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AD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ndszerhez és vegyük fel a CAD news disztribúciós listá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a felhasználó új telephelyre kerül, akkor a telephely specifikus beállítások maguktól módosulja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164520" y="2590920"/>
            <a:ext cx="2631240" cy="1159560"/>
            <a:chOff x="164520" y="2590920"/>
            <a:chExt cx="2631240" cy="1159560"/>
          </a:xfrm>
        </p:grpSpPr>
        <p:grpSp>
          <p:nvGrpSpPr>
            <p:cNvPr id="782" name=""/>
            <p:cNvGrpSpPr/>
            <p:nvPr/>
          </p:nvGrpSpPr>
          <p:grpSpPr>
            <a:xfrm>
              <a:off x="1704960" y="2994120"/>
              <a:ext cx="725760" cy="482400"/>
              <a:chOff x="1704960" y="2994120"/>
              <a:chExt cx="725760" cy="482400"/>
            </a:xfrm>
          </p:grpSpPr>
          <p:sp>
            <p:nvSpPr>
              <p:cNvPr id="783" name=""/>
              <p:cNvSpPr/>
              <p:nvPr/>
            </p:nvSpPr>
            <p:spPr>
              <a:xfrm>
                <a:off x="1704960" y="2994120"/>
                <a:ext cx="725760" cy="48240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2006280" y="3116160"/>
                <a:ext cx="6948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073600" y="3116160"/>
                <a:ext cx="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084400" y="3118680"/>
                <a:ext cx="58680" cy="68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2127240" y="3182760"/>
                <a:ext cx="1260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146320" y="3192480"/>
                <a:ext cx="53640" cy="79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07520" y="3269880"/>
                <a:ext cx="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200320" y="3257640"/>
                <a:ext cx="71640" cy="78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1963440" y="3192480"/>
                <a:ext cx="33120" cy="67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2032200" y="3189960"/>
                <a:ext cx="4392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2019240" y="3269880"/>
                <a:ext cx="1044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027520" y="3262320"/>
                <a:ext cx="5364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1898280" y="3269880"/>
                <a:ext cx="619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1960200" y="3267360"/>
                <a:ext cx="468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1964880" y="3341880"/>
                <a:ext cx="4716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017440" y="3336120"/>
                <a:ext cx="1800" cy="6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012760" y="3333600"/>
                <a:ext cx="637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2189880" y="3346920"/>
                <a:ext cx="17280" cy="5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2243880" y="3338640"/>
                <a:ext cx="33120" cy="57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272320" y="3338640"/>
                <a:ext cx="284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1850400" y="3338640"/>
                <a:ext cx="4608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898280" y="3333600"/>
                <a:ext cx="288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052000" y="30992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982160" y="3165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052000" y="3165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121840" y="3165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938960" y="32425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008440" y="324252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106000" y="32425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175840" y="32425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879560" y="332136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934640" y="332136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5960" y="33213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244600" y="332136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92960" y="33213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188800" y="33213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941840" y="338616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996920" y="33861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054880" y="338616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62880" y="338616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17960" y="338616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276280" y="33861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818000" y="33861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873080" y="33861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164520" y="2590920"/>
              <a:ext cx="1660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Más címtára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Yellow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pag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lektornikus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ereskedel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Portál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09920" y="3200400"/>
              <a:ext cx="28584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5105520" y="4876920"/>
            <a:ext cx="987480" cy="788760"/>
            <a:chOff x="5105520" y="4876920"/>
            <a:chExt cx="987480" cy="788760"/>
          </a:xfrm>
        </p:grpSpPr>
        <p:sp>
          <p:nvSpPr>
            <p:cNvPr id="830" name=""/>
            <p:cNvSpPr/>
            <p:nvPr/>
          </p:nvSpPr>
          <p:spPr>
            <a:xfrm>
              <a:off x="5105520" y="4876920"/>
              <a:ext cx="987480" cy="7887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31" name="" descr=""/>
            <p:cNvPicPr/>
            <p:nvPr/>
          </p:nvPicPr>
          <p:blipFill>
            <a:blip r:embed="rId2"/>
            <a:stretch/>
          </p:blipFill>
          <p:spPr>
            <a:xfrm>
              <a:off x="5167800" y="4917240"/>
              <a:ext cx="884880" cy="70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2" name=""/>
          <p:cNvSpPr/>
          <p:nvPr/>
        </p:nvSpPr>
        <p:spPr>
          <a:xfrm>
            <a:off x="5745240" y="5670720"/>
            <a:ext cx="181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eea564"/>
                </a:solidFill>
                <a:latin typeface="Arial"/>
              </a:rPr>
              <a:t>Exchange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5334120" y="5715000"/>
            <a:ext cx="487080" cy="387360"/>
            <a:chOff x="5334120" y="5715000"/>
            <a:chExt cx="487080" cy="387360"/>
          </a:xfrm>
        </p:grpSpPr>
        <p:sp>
          <p:nvSpPr>
            <p:cNvPr id="834" name=""/>
            <p:cNvSpPr/>
            <p:nvPr/>
          </p:nvSpPr>
          <p:spPr>
            <a:xfrm>
              <a:off x="5334120" y="5715000"/>
              <a:ext cx="487080" cy="387360"/>
            </a:xfrm>
            <a:prstGeom prst="can">
              <a:avLst>
                <a:gd name="adj" fmla="val 13791"/>
              </a:avLst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5536440" y="5812920"/>
              <a:ext cx="46800" cy="5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81440" y="5812920"/>
              <a:ext cx="0" cy="5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588640" y="5815080"/>
              <a:ext cx="39240" cy="5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5617440" y="5866560"/>
              <a:ext cx="8280" cy="6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30400" y="5874480"/>
              <a:ext cx="36000" cy="6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671440" y="5936400"/>
              <a:ext cx="0" cy="6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666760" y="5926320"/>
              <a:ext cx="47880" cy="6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5507640" y="5874480"/>
              <a:ext cx="22320" cy="5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5553720" y="5872320"/>
              <a:ext cx="29520" cy="6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544720" y="5936400"/>
              <a:ext cx="6840" cy="51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50480" y="5930280"/>
              <a:ext cx="36000" cy="61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463720" y="5936400"/>
              <a:ext cx="41400" cy="57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5505120" y="5934240"/>
              <a:ext cx="3240" cy="6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508720" y="5994360"/>
              <a:ext cx="31680" cy="51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544000" y="5989680"/>
              <a:ext cx="1080" cy="5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40760" y="5987880"/>
              <a:ext cx="42480" cy="57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5659560" y="5998320"/>
              <a:ext cx="1152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5695560" y="5991480"/>
              <a:ext cx="22320" cy="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15000" y="5991480"/>
              <a:ext cx="19080" cy="51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431680" y="5991480"/>
              <a:ext cx="30960" cy="50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464080" y="5987880"/>
              <a:ext cx="1800" cy="59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567040" y="579924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520240" y="585252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567040" y="585252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613840" y="585252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91080" y="591444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37880" y="5914440"/>
              <a:ext cx="2700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603400" y="591444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650200" y="591444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51480" y="5977800"/>
              <a:ext cx="2772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88200" y="5977800"/>
              <a:ext cx="2772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69560" y="597780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696280" y="5977800"/>
              <a:ext cx="2772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27440" y="597780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658840" y="597780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492880" y="6030000"/>
              <a:ext cx="2700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29960" y="603000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68840" y="6030000"/>
              <a:ext cx="2772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641560" y="6030000"/>
              <a:ext cx="2772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678640" y="6030000"/>
              <a:ext cx="2772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17520" y="603000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09720" y="603000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46800" y="6030000"/>
              <a:ext cx="27360" cy="32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 flipH="1" flipV="1">
            <a:off x="5486040" y="4191120"/>
            <a:ext cx="15228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089000" y="1104840"/>
            <a:ext cx="6752520" cy="1676520"/>
            <a:chOff x="1089000" y="1104840"/>
            <a:chExt cx="6752520" cy="1676520"/>
          </a:xfrm>
        </p:grpSpPr>
        <p:pic>
          <p:nvPicPr>
            <p:cNvPr id="880" name="" descr=""/>
            <p:cNvPicPr/>
            <p:nvPr/>
          </p:nvPicPr>
          <p:blipFill>
            <a:blip r:embed="rId3"/>
            <a:stretch/>
          </p:blipFill>
          <p:spPr>
            <a:xfrm>
              <a:off x="5969160" y="1155600"/>
              <a:ext cx="35856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4"/>
            <a:stretch/>
          </p:blipFill>
          <p:spPr>
            <a:xfrm>
              <a:off x="5969160" y="2232000"/>
              <a:ext cx="3571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" descr=""/>
            <p:cNvPicPr/>
            <p:nvPr/>
          </p:nvPicPr>
          <p:blipFill>
            <a:blip r:embed="rId5"/>
            <a:stretch/>
          </p:blipFill>
          <p:spPr>
            <a:xfrm>
              <a:off x="5969160" y="1693800"/>
              <a:ext cx="358560" cy="50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3" name=""/>
            <p:cNvGrpSpPr/>
            <p:nvPr/>
          </p:nvGrpSpPr>
          <p:grpSpPr>
            <a:xfrm>
              <a:off x="1089000" y="1155600"/>
              <a:ext cx="858600" cy="1039680"/>
              <a:chOff x="1089000" y="1155600"/>
              <a:chExt cx="858600" cy="1039680"/>
            </a:xfrm>
          </p:grpSpPr>
          <p:pic>
            <p:nvPicPr>
              <p:cNvPr id="88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469160" y="1155600"/>
                <a:ext cx="406800" cy="58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089000" y="1378440"/>
                <a:ext cx="406800" cy="58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540440" y="1607760"/>
                <a:ext cx="40716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87" name="" descr=""/>
            <p:cNvPicPr/>
            <p:nvPr/>
          </p:nvPicPr>
          <p:blipFill>
            <a:blip r:embed="rId9"/>
            <a:stretch/>
          </p:blipFill>
          <p:spPr>
            <a:xfrm>
              <a:off x="3660840" y="1119240"/>
              <a:ext cx="37476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10"/>
            <a:stretch/>
          </p:blipFill>
          <p:spPr>
            <a:xfrm>
              <a:off x="3660840" y="1549440"/>
              <a:ext cx="37620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11"/>
            <a:stretch/>
          </p:blipFill>
          <p:spPr>
            <a:xfrm>
              <a:off x="3660840" y="1982880"/>
              <a:ext cx="37476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1838160" y="1135080"/>
              <a:ext cx="1648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Felhaszn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Fiók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Jogosultsá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29200" y="1104840"/>
              <a:ext cx="1952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Ügyfele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gmt profi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lózati paramé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320880" y="1125360"/>
              <a:ext cx="15206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Kiszolg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zolgáltatá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Nyomtat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Megosztá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95480" y="2152800"/>
              <a:ext cx="628920" cy="62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91080" y="21906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5448240" y="2342880"/>
              <a:ext cx="362160" cy="36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6084720" y="3886200"/>
            <a:ext cx="3238560" cy="1257120"/>
            <a:chOff x="6084720" y="3886200"/>
            <a:chExt cx="3238560" cy="1257120"/>
          </a:xfrm>
        </p:grpSpPr>
        <p:sp>
          <p:nvSpPr>
            <p:cNvPr id="897" name=""/>
            <p:cNvSpPr/>
            <p:nvPr/>
          </p:nvSpPr>
          <p:spPr>
            <a:xfrm>
              <a:off x="6921720" y="4753080"/>
              <a:ext cx="326160" cy="161640"/>
            </a:xfrm>
            <a:prstGeom prst="ellipse">
              <a:avLst/>
            </a:prstGeom>
            <a:solidFill>
              <a:srgbClr val="305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41720" y="4795920"/>
              <a:ext cx="250560" cy="161640"/>
            </a:xfrm>
            <a:prstGeom prst="ellipse">
              <a:avLst/>
            </a:prstGeom>
            <a:solidFill>
              <a:srgbClr val="305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44600" y="4798440"/>
              <a:ext cx="2602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" y="13946"/>
                  </a:moveTo>
                  <a:arcTo wR="10800" hR="10800" stAng="9783789" swAng="8155038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" y="13946"/>
                  </a:moveTo>
                  <a:arcTo wR="10800" hR="10800" stAng="9783789" swAng="8155038"/>
                </a:path>
              </a:pathLst>
            </a:custGeom>
            <a:solidFill>
              <a:srgbClr val="30517c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37360" y="4803840"/>
              <a:ext cx="240840" cy="11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7" y="217"/>
                  </a:moveTo>
                  <a:arcTo wR="10800" hR="10800" stAng="-6089883" swAng="797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7" y="217"/>
                  </a:moveTo>
                  <a:arcTo wR="10800" hR="10800" stAng="-6089883" swAng="7977590"/>
                </a:path>
              </a:pathLst>
            </a:custGeom>
            <a:solidFill>
              <a:srgbClr val="30517c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6084720" y="3886200"/>
              <a:ext cx="3238560" cy="1257120"/>
              <a:chOff x="6084720" y="3886200"/>
              <a:chExt cx="3238560" cy="1257120"/>
            </a:xfrm>
          </p:grpSpPr>
          <p:sp>
            <p:nvSpPr>
              <p:cNvPr id="902" name=""/>
              <p:cNvSpPr/>
              <p:nvPr/>
            </p:nvSpPr>
            <p:spPr>
              <a:xfrm>
                <a:off x="6666120" y="4893480"/>
                <a:ext cx="169200" cy="12924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715440" y="4951080"/>
                <a:ext cx="253800" cy="14184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894000" y="4973760"/>
                <a:ext cx="381600" cy="16956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7311240" y="4925880"/>
                <a:ext cx="68760" cy="3600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174440" y="4881600"/>
                <a:ext cx="239400" cy="12564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151040" y="4908240"/>
                <a:ext cx="239760" cy="20844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800400" y="4846680"/>
                <a:ext cx="488880" cy="20844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669360" y="4885920"/>
                <a:ext cx="236520" cy="14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489" y="19564"/>
                    </a:moveTo>
                    <a:arcTo wR="10800" hR="10800" stAng="7545457" swAng="76015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489" y="19564"/>
                    </a:moveTo>
                    <a:arcTo wR="10800" hR="10800" stAng="7545457" swAng="7601544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715440" y="4951440"/>
                <a:ext cx="2696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08" y="20471"/>
                    </a:moveTo>
                    <a:arcTo wR="10800" hR="10800" stAng="3813963" swAng="70192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08" y="20471"/>
                    </a:moveTo>
                    <a:arcTo wR="10800" hR="10800" stAng="3813963" swAng="7019227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904080" y="5001120"/>
                <a:ext cx="358560" cy="1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751" y="16843"/>
                    </a:moveTo>
                    <a:arcTo wR="10800" hR="10800" stAng="2041560" swAng="82109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751" y="16843"/>
                    </a:moveTo>
                    <a:arcTo wR="10800" hR="10800" stAng="2041560" swAng="8210910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140960" y="4881240"/>
                <a:ext cx="272520" cy="12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106" y="2032"/>
                    </a:moveTo>
                    <a:arcTo wR="10800" hR="10800" stAng="-3256509" swAng="547106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106" y="2032"/>
                    </a:moveTo>
                    <a:arcTo wR="10800" hR="10800" stAng="-3256509" swAng="5471066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141320" y="492156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39" y="7366"/>
                    </a:moveTo>
                    <a:arcTo wR="10800" hR="10800" stAng="-1112428" swAng="75908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39" y="7366"/>
                    </a:moveTo>
                    <a:arcTo wR="10800" hR="10800" stAng="-1112428" swAng="7590869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4" name=""/>
              <p:cNvGrpSpPr/>
              <p:nvPr/>
            </p:nvGrpSpPr>
            <p:grpSpPr>
              <a:xfrm>
                <a:off x="6084720" y="3886200"/>
                <a:ext cx="3238560" cy="1243440"/>
                <a:chOff x="6084720" y="3886200"/>
                <a:chExt cx="3238560" cy="124344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6971040" y="4608360"/>
                  <a:ext cx="0" cy="224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6" name=""/>
                <p:cNvGrpSpPr/>
                <p:nvPr/>
              </p:nvGrpSpPr>
              <p:grpSpPr>
                <a:xfrm>
                  <a:off x="6084720" y="3886200"/>
                  <a:ext cx="3238560" cy="1243440"/>
                  <a:chOff x="6084720" y="3886200"/>
                  <a:chExt cx="3238560" cy="1243440"/>
                </a:xfrm>
              </p:grpSpPr>
              <p:pic>
                <p:nvPicPr>
                  <p:cNvPr id="9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21720" y="4267440"/>
                    <a:ext cx="34776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8" name=""/>
                  <p:cNvSpPr/>
                  <p:nvPr/>
                </p:nvSpPr>
                <p:spPr>
                  <a:xfrm>
                    <a:off x="6923520" y="4754160"/>
                    <a:ext cx="32328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08" y="7526"/>
                        </a:moveTo>
                        <a:arcTo wR="10800" hR="10800" stAng="-9741069" swAng="861472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08" y="7526"/>
                        </a:moveTo>
                        <a:arcTo wR="10800" hR="10800" stAng="-9741069" swAng="8614725"/>
                      </a:path>
                    </a:pathLst>
                  </a:custGeom>
                  <a:solidFill>
                    <a:srgbClr val="30517c"/>
                  </a:solidFill>
                  <a:ln w="20520">
                    <a:solidFill>
                      <a:srgbClr val="6c8f9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6707880" y="4853160"/>
                    <a:ext cx="740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Internet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7206840" y="4220640"/>
                    <a:ext cx="2116440" cy="73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174600" indent="-1746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400" spc="-1" strike="noStrike">
                        <a:solidFill>
                          <a:srgbClr val="eea564"/>
                        </a:solidFill>
                        <a:latin typeface="Arial"/>
                      </a:rPr>
                      <a:t>Tűzfal szolgáltatás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174600" indent="-174600">
                      <a:lnSpc>
                        <a:spcPct val="100000"/>
                      </a:lnSpc>
                      <a:buClr>
                        <a:srgbClr val="fccf0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400" spc="-1" strike="noStrike">
                        <a:solidFill>
                          <a:srgbClr val="ffffff"/>
                        </a:solidFill>
                        <a:latin typeface="Arial"/>
                      </a:rPr>
                      <a:t>Konfiguráció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174600" indent="-174600">
                      <a:lnSpc>
                        <a:spcPct val="100000"/>
                      </a:lnSpc>
                      <a:buClr>
                        <a:srgbClr val="fccf0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VPN </a:t>
                    </a:r>
                    <a:r>
                      <a:rPr b="1" lang="hu-HU" sz="1400" spc="-1" strike="noStrike">
                        <a:solidFill>
                          <a:srgbClr val="ffffff"/>
                        </a:solidFill>
                        <a:latin typeface="Arial"/>
                      </a:rPr>
                      <a:t>beállítások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6084720" y="3886200"/>
                    <a:ext cx="313920" cy="3211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22" name=""/>
                  <p:cNvGrpSpPr/>
                  <p:nvPr/>
                </p:nvGrpSpPr>
                <p:grpSpPr>
                  <a:xfrm>
                    <a:off x="6246000" y="4306320"/>
                    <a:ext cx="472320" cy="342360"/>
                    <a:chOff x="6246000" y="4306320"/>
                    <a:chExt cx="472320" cy="342360"/>
                  </a:xfrm>
                </p:grpSpPr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6246000" y="4306320"/>
                      <a:ext cx="472320" cy="342360"/>
                    </a:xfrm>
                    <a:prstGeom prst="can">
                      <a:avLst>
                        <a:gd name="adj" fmla="val 13791"/>
                      </a:avLst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 flipH="1">
                      <a:off x="6442200" y="4393080"/>
                      <a:ext cx="45360" cy="47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6485760" y="4393080"/>
                      <a:ext cx="0" cy="47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>
                      <a:off x="6492960" y="4394880"/>
                      <a:ext cx="38160" cy="486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 flipH="1">
                      <a:off x="6521040" y="4440240"/>
                      <a:ext cx="7920" cy="57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6533280" y="4447080"/>
                      <a:ext cx="34920" cy="56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6572880" y="4501800"/>
                      <a:ext cx="0" cy="57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6568560" y="4493160"/>
                      <a:ext cx="46440" cy="55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 flipH="1">
                      <a:off x="6414120" y="4447080"/>
                      <a:ext cx="21600" cy="47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 flipH="1">
                      <a:off x="6458760" y="4445280"/>
                      <a:ext cx="28440" cy="54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 flipH="1">
                      <a:off x="6450480" y="4501800"/>
                      <a:ext cx="6840" cy="45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6455880" y="4496760"/>
                      <a:ext cx="34920" cy="54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 flipH="1">
                      <a:off x="6372000" y="4501800"/>
                      <a:ext cx="40320" cy="51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 flipH="1">
                      <a:off x="6412320" y="4500360"/>
                      <a:ext cx="2880" cy="54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 flipH="1">
                      <a:off x="6415200" y="4553280"/>
                      <a:ext cx="30600" cy="45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6449400" y="4548960"/>
                      <a:ext cx="1080" cy="49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6446160" y="4547520"/>
                      <a:ext cx="41400" cy="51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flipH="1">
                      <a:off x="6561000" y="4556520"/>
                      <a:ext cx="11160" cy="38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flipH="1">
                      <a:off x="6596640" y="4550760"/>
                      <a:ext cx="21600" cy="40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6615360" y="4550760"/>
                      <a:ext cx="18360" cy="460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 flipH="1">
                      <a:off x="6340320" y="4550760"/>
                      <a:ext cx="29880" cy="43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6372000" y="4547520"/>
                      <a:ext cx="1800" cy="52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6471720" y="438084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>
                      <a:off x="6426360" y="442800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6471720" y="442800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6517080" y="442800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6398280" y="448272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6443640" y="4482720"/>
                      <a:ext cx="2628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6507000" y="448272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6552360" y="448272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6359760" y="4538520"/>
                      <a:ext cx="2700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6395400" y="4538520"/>
                      <a:ext cx="2700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>
                      <a:off x="6474240" y="453852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6597360" y="4538520"/>
                      <a:ext cx="2700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6433560" y="453852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>
                      <a:off x="6560640" y="453852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6400080" y="4584600"/>
                      <a:ext cx="2628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6436080" y="458460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6473520" y="4584600"/>
                      <a:ext cx="2700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6544080" y="4584600"/>
                      <a:ext cx="2700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6580080" y="4584600"/>
                      <a:ext cx="2700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6617880" y="458460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6319440" y="458460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6355440" y="4584600"/>
                      <a:ext cx="26640" cy="284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7" name=""/>
                  <p:cNvSpPr/>
                  <p:nvPr/>
                </p:nvSpPr>
                <p:spPr>
                  <a:xfrm>
                    <a:off x="6712560" y="4479840"/>
                    <a:ext cx="203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68" name=""/>
          <p:cNvGrpSpPr/>
          <p:nvPr/>
        </p:nvGrpSpPr>
        <p:grpSpPr>
          <a:xfrm>
            <a:off x="6381720" y="2759040"/>
            <a:ext cx="2718720" cy="1179720"/>
            <a:chOff x="6381720" y="2759040"/>
            <a:chExt cx="2718720" cy="1179720"/>
          </a:xfrm>
        </p:grpSpPr>
        <p:sp>
          <p:nvSpPr>
            <p:cNvPr id="969" name=""/>
            <p:cNvSpPr/>
            <p:nvPr/>
          </p:nvSpPr>
          <p:spPr>
            <a:xfrm>
              <a:off x="7043400" y="2759040"/>
              <a:ext cx="2057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Hálózati eszközö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onfiguráci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Biztonsá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0" name="" descr=""/>
            <p:cNvPicPr/>
            <p:nvPr/>
          </p:nvPicPr>
          <p:blipFill>
            <a:blip r:embed="rId13"/>
            <a:stretch/>
          </p:blipFill>
          <p:spPr>
            <a:xfrm>
              <a:off x="6759720" y="2990880"/>
              <a:ext cx="36504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/>
            <p:nvPr/>
          </p:nvSpPr>
          <p:spPr>
            <a:xfrm>
              <a:off x="6381720" y="3448080"/>
              <a:ext cx="36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6719760" y="3532320"/>
              <a:ext cx="487440" cy="406440"/>
              <a:chOff x="6719760" y="3532320"/>
              <a:chExt cx="487440" cy="406440"/>
            </a:xfrm>
          </p:grpSpPr>
          <p:sp>
            <p:nvSpPr>
              <p:cNvPr id="973" name=""/>
              <p:cNvSpPr/>
              <p:nvPr/>
            </p:nvSpPr>
            <p:spPr>
              <a:xfrm>
                <a:off x="6719760" y="3532320"/>
                <a:ext cx="48744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6922440" y="363528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967440" y="363528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974640" y="363744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7003440" y="369108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016400" y="369936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057080" y="376452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052400" y="3754080"/>
                <a:ext cx="4824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6893280" y="369936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6939720" y="369756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6930720" y="376452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936120" y="375840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6849360" y="376452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6891120" y="376236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6894720" y="382536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929640" y="382068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926400" y="3818520"/>
                <a:ext cx="428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7045200" y="382932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7081560" y="382248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101000" y="382248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6817320" y="382248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849720" y="381852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52680" y="3620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90588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95268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99984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87672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923520" y="374148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8904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3620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83712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87420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95556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0822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9130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0444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878880" y="386280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91560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95484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02756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06428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0352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79572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83244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7" name=""/>
          <p:cNvGrpSpPr/>
          <p:nvPr/>
        </p:nvGrpSpPr>
        <p:grpSpPr>
          <a:xfrm>
            <a:off x="203760" y="3581280"/>
            <a:ext cx="2521800" cy="2467440"/>
            <a:chOff x="203760" y="3581280"/>
            <a:chExt cx="2521800" cy="2467440"/>
          </a:xfrm>
        </p:grpSpPr>
        <p:grpSp>
          <p:nvGrpSpPr>
            <p:cNvPr id="1018" name=""/>
            <p:cNvGrpSpPr/>
            <p:nvPr/>
          </p:nvGrpSpPr>
          <p:grpSpPr>
            <a:xfrm>
              <a:off x="1977840" y="4784400"/>
              <a:ext cx="487440" cy="406440"/>
              <a:chOff x="1977840" y="4784400"/>
              <a:chExt cx="487440" cy="406440"/>
            </a:xfrm>
          </p:grpSpPr>
          <p:sp>
            <p:nvSpPr>
              <p:cNvPr id="1019" name=""/>
              <p:cNvSpPr/>
              <p:nvPr/>
            </p:nvSpPr>
            <p:spPr>
              <a:xfrm>
                <a:off x="1977840" y="4784400"/>
                <a:ext cx="48744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2180520" y="488736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25520" y="488736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32720" y="488952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2261520" y="494316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274480" y="495144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315160" y="501660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310480" y="5006160"/>
                <a:ext cx="4824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2151360" y="495144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2197800" y="494964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2188800" y="501660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194200" y="501048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2107440" y="501660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2149200" y="501444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2152800" y="507744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187720" y="507276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184480" y="5070600"/>
                <a:ext cx="428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2303280" y="508140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2339640" y="507456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359080" y="507456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2075400" y="507456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07800" y="507060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210760" y="48729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163960" y="49287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210760" y="49287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257920" y="49287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134800" y="49935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181600" y="499356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247120" y="49935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294280" y="49935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095200" y="5060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132280" y="5060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213640" y="5060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340360" y="5060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171160" y="5060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302560" y="5060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136960" y="511488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173680" y="5114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212920" y="5114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285640" y="5114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322360" y="5114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361600" y="5114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053800" y="5114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090520" y="5114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3" name=""/>
            <p:cNvSpPr/>
            <p:nvPr/>
          </p:nvSpPr>
          <p:spPr>
            <a:xfrm>
              <a:off x="203760" y="4889160"/>
              <a:ext cx="19501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a564"/>
                  </a:solidFill>
                  <a:latin typeface="Arial"/>
                </a:rPr>
                <a:t>E-Mail S</a:t>
              </a: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zervere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Postafiók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Címlis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Disztribúciós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lis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401920" y="3581280"/>
              <a:ext cx="32364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65" name="" descr=""/>
            <p:cNvPicPr/>
            <p:nvPr/>
          </p:nvPicPr>
          <p:blipFill>
            <a:blip r:embed="rId14"/>
            <a:stretch/>
          </p:blipFill>
          <p:spPr>
            <a:xfrm>
              <a:off x="2027160" y="4033800"/>
              <a:ext cx="511200" cy="71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ímtárak egymás köz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819520" y="2666880"/>
            <a:ext cx="3448080" cy="14893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3274200" y="2971800"/>
            <a:ext cx="2699640" cy="988920"/>
            <a:chOff x="3274200" y="2971800"/>
            <a:chExt cx="2699640" cy="988920"/>
          </a:xfrm>
        </p:grpSpPr>
        <p:grpSp>
          <p:nvGrpSpPr>
            <p:cNvPr id="1069" name=""/>
            <p:cNvGrpSpPr/>
            <p:nvPr/>
          </p:nvGrpSpPr>
          <p:grpSpPr>
            <a:xfrm>
              <a:off x="3683160" y="3324240"/>
              <a:ext cx="690480" cy="458640"/>
              <a:chOff x="3683160" y="3324240"/>
              <a:chExt cx="690480" cy="458640"/>
            </a:xfrm>
          </p:grpSpPr>
          <p:sp>
            <p:nvSpPr>
              <p:cNvPr id="1070" name=""/>
              <p:cNvSpPr/>
              <p:nvPr/>
            </p:nvSpPr>
            <p:spPr>
              <a:xfrm>
                <a:off x="3683160" y="3324240"/>
                <a:ext cx="690480" cy="4586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3970080" y="3440160"/>
                <a:ext cx="66240" cy="6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033800" y="3440160"/>
                <a:ext cx="0" cy="6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044240" y="3442680"/>
                <a:ext cx="55800" cy="65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4084920" y="3503520"/>
                <a:ext cx="11880" cy="77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103280" y="3512880"/>
                <a:ext cx="51120" cy="75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161240" y="3586320"/>
                <a:ext cx="0" cy="77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154400" y="3574440"/>
                <a:ext cx="6804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3929040" y="3512880"/>
                <a:ext cx="3168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3994560" y="3510720"/>
                <a:ext cx="41760" cy="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>
                <a:off x="3982320" y="3586320"/>
                <a:ext cx="1008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989880" y="3579120"/>
                <a:ext cx="51120" cy="7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>
                <a:off x="3866760" y="3586320"/>
                <a:ext cx="58680" cy="68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>
                <a:off x="3926160" y="3584160"/>
                <a:ext cx="4320" cy="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3930840" y="3655080"/>
                <a:ext cx="446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980520" y="3649320"/>
                <a:ext cx="180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975840" y="3647160"/>
                <a:ext cx="60480" cy="68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4144320" y="3659400"/>
                <a:ext cx="16560" cy="51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H="1">
                <a:off x="4195800" y="3651840"/>
                <a:ext cx="31680" cy="5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222800" y="3651840"/>
                <a:ext cx="27000" cy="61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3821400" y="3651840"/>
                <a:ext cx="43920" cy="5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867120" y="3647160"/>
                <a:ext cx="2520" cy="7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013280" y="342396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946680" y="348732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013280" y="348732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079520" y="348732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905640" y="35604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971880" y="3560400"/>
                <a:ext cx="3816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064760" y="35604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131360" y="35604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849480" y="363564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901680" y="363564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016880" y="363564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196520" y="363564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957120" y="363564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143240" y="363564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908520" y="3697200"/>
                <a:ext cx="3816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960720" y="36972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016160" y="36972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118760" y="36972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171320" y="36972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226760" y="36972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790440" y="36972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843000" y="3697200"/>
                <a:ext cx="39240" cy="381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7c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114" name="" descr=""/>
            <p:cNvPicPr/>
            <p:nvPr/>
          </p:nvPicPr>
          <p:blipFill>
            <a:blip r:embed="rId15"/>
            <a:stretch/>
          </p:blipFill>
          <p:spPr>
            <a:xfrm>
              <a:off x="4262400" y="3718080"/>
              <a:ext cx="38916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3274200" y="2971800"/>
              <a:ext cx="154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ctive Directo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14880" y="3073320"/>
              <a:ext cx="85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cf00"/>
                  </a:solidFill>
                  <a:latin typeface="Arial"/>
                </a:rPr>
                <a:t>V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07200" y="327996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4648320" y="4267080"/>
            <a:ext cx="0" cy="2590920"/>
          </a:xfrm>
          <a:prstGeom prst="line">
            <a:avLst/>
          </a:prstGeom>
          <a:ln w="57240">
            <a:solidFill>
              <a:srgbClr val="fcc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648320" y="6629400"/>
            <a:ext cx="4190760" cy="0"/>
          </a:xfrm>
          <a:prstGeom prst="line">
            <a:avLst/>
          </a:prstGeom>
          <a:ln w="76320">
            <a:solidFill>
              <a:srgbClr val="fcc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380880" y="6629400"/>
            <a:ext cx="4267440" cy="0"/>
          </a:xfrm>
          <a:prstGeom prst="line">
            <a:avLst/>
          </a:prstGeom>
          <a:ln w="76320">
            <a:solidFill>
              <a:srgbClr val="fcc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629400" y="6172200"/>
            <a:ext cx="191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TEGR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39520" y="6172200"/>
            <a:ext cx="279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ÜTTMŰKÖD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ímtárak együttműködése mások szerin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41536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ovell megoldá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DS portolása minden fellelhető operációs rendszer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zzel még mindig nem fedtük le az alkalmazásokat (SAP,..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 van a nem operációs rendszerekhez kötődő „címtár-szerű” címtárakkal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 van ha változik az NDS alatt az operációs rendsz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4381560" y="19432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390840" y="2019240"/>
            <a:ext cx="1981440" cy="5335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SRV.D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NDS for NT 2.0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361440" y="4346640"/>
            <a:ext cx="8502840" cy="2277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cseréli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MSRV.DLL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Átirányítja a hitelesítési és authorizációs forgalmat az NDS-he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Microsoft és egyéb gyártók menedzsment eszközeire támaszkod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333440" y="1181160"/>
            <a:ext cx="1600200" cy="83808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181160" y="1333440"/>
            <a:ext cx="1600200" cy="8384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390840" y="1206360"/>
            <a:ext cx="1981440" cy="7113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dows NT-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lapú kiszolgá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390840" y="3086280"/>
            <a:ext cx="1981440" cy="1066680"/>
          </a:xfrm>
          <a:prstGeom prst="rect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 NT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ity Account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r (SAM) </a:t>
            </a:r>
            <a:br>
              <a:rPr sz="1600"/>
            </a:b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datbáz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028880" y="1486080"/>
            <a:ext cx="1600200" cy="83808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Hálóza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Ügyfel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29080" y="17146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781360" y="1562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33640" y="14097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3390840" y="2019240"/>
            <a:ext cx="4800600" cy="2133720"/>
            <a:chOff x="3390840" y="2019240"/>
            <a:chExt cx="4800600" cy="2133720"/>
          </a:xfrm>
        </p:grpSpPr>
        <p:sp>
          <p:nvSpPr>
            <p:cNvPr id="1138" name=""/>
            <p:cNvSpPr/>
            <p:nvPr/>
          </p:nvSpPr>
          <p:spPr>
            <a:xfrm>
              <a:off x="3390840" y="2019240"/>
              <a:ext cx="1981440" cy="533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Novell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SAMSRV.DLL</a:t>
              </a: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-j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210360" y="2019240"/>
              <a:ext cx="1981080" cy="533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Novell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DS for NT</a:t>
              </a: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-j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210360" y="3086280"/>
              <a:ext cx="1981080" cy="106668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vell Directory Service (ND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372280" y="224784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201080" y="255276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152960" y="2514600"/>
              <a:ext cx="45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NDS for Windows 2000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361440" y="4308480"/>
            <a:ext cx="8782200" cy="2277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egy olyan .dll, amit le lehetne cserél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hange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2000 és a többi kiszolgáló az Active Directory egyedi képességeit kihasználjá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vell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indult az AD szinkronizáció irányáb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3543480" y="3029040"/>
            <a:ext cx="1672920" cy="1112760"/>
            <a:chOff x="3543480" y="3029040"/>
            <a:chExt cx="1672920" cy="1112760"/>
          </a:xfrm>
        </p:grpSpPr>
        <p:sp>
          <p:nvSpPr>
            <p:cNvPr id="1147" name=""/>
            <p:cNvSpPr/>
            <p:nvPr/>
          </p:nvSpPr>
          <p:spPr>
            <a:xfrm>
              <a:off x="3543480" y="3029040"/>
              <a:ext cx="1672920" cy="1112760"/>
            </a:xfrm>
            <a:prstGeom prst="can">
              <a:avLst>
                <a:gd name="adj" fmla="val 13791"/>
              </a:avLst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250520" y="3305160"/>
              <a:ext cx="161640" cy="15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406760" y="3305160"/>
              <a:ext cx="0" cy="15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30520" y="3309840"/>
              <a:ext cx="136080" cy="15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4520520" y="3457440"/>
              <a:ext cx="39240" cy="250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73440" y="3481200"/>
              <a:ext cx="124920" cy="18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714560" y="3659040"/>
              <a:ext cx="0" cy="188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98720" y="3630600"/>
              <a:ext cx="164880" cy="18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4152240" y="3481200"/>
              <a:ext cx="7596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4311000" y="3474720"/>
              <a:ext cx="101160" cy="17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4281120" y="3659040"/>
              <a:ext cx="25200" cy="14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98760" y="3641400"/>
              <a:ext cx="124920" cy="176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4001760" y="3659040"/>
              <a:ext cx="142560" cy="16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4144680" y="3652560"/>
              <a:ext cx="10800" cy="17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4155480" y="3824280"/>
              <a:ext cx="109080" cy="147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276440" y="3811320"/>
              <a:ext cx="4320" cy="16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65280" y="3806640"/>
              <a:ext cx="147240" cy="16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4673160" y="3836880"/>
              <a:ext cx="4104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4798800" y="3817800"/>
              <a:ext cx="75600" cy="13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863960" y="3817800"/>
              <a:ext cx="6444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890160" y="3817800"/>
              <a:ext cx="10620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001760" y="3806640"/>
              <a:ext cx="7560" cy="171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355640" y="3265200"/>
              <a:ext cx="9504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95440" y="3417840"/>
              <a:ext cx="95040" cy="932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355640" y="3417840"/>
              <a:ext cx="95040" cy="932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517640" y="3417840"/>
              <a:ext cx="95040" cy="932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95360" y="3595680"/>
              <a:ext cx="95040" cy="932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255920" y="3595680"/>
              <a:ext cx="93240" cy="932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481280" y="3595680"/>
              <a:ext cx="94680" cy="932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641480" y="3595680"/>
              <a:ext cx="95040" cy="932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958920" y="3778200"/>
              <a:ext cx="95040" cy="914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086000" y="3778200"/>
              <a:ext cx="94680" cy="914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365360" y="3778200"/>
              <a:ext cx="94680" cy="914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00240" y="3778200"/>
              <a:ext cx="95040" cy="914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671720" y="3778200"/>
              <a:ext cx="95040" cy="914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01840" y="3927240"/>
              <a:ext cx="9324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228920" y="3927240"/>
              <a:ext cx="9468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362120" y="3927240"/>
              <a:ext cx="9504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613040" y="3927240"/>
              <a:ext cx="9468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40120" y="3927240"/>
              <a:ext cx="9324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73320" y="3927240"/>
              <a:ext cx="9504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16000" y="3927240"/>
              <a:ext cx="9504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943080" y="3927240"/>
              <a:ext cx="95040" cy="9180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19200" y="3778200"/>
              <a:ext cx="95040" cy="91440"/>
            </a:xfrm>
            <a:prstGeom prst="ellipse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1" name=""/>
          <p:cNvSpPr/>
          <p:nvPr/>
        </p:nvSpPr>
        <p:spPr>
          <a:xfrm>
            <a:off x="1333440" y="1123920"/>
            <a:ext cx="1600200" cy="83808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181160" y="1276200"/>
            <a:ext cx="1600200" cy="8384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390840" y="1149480"/>
            <a:ext cx="1981440" cy="7110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lapú kiszolgá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619440" y="188604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028880" y="1428840"/>
            <a:ext cx="1600200" cy="83808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Hálóza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ügyfel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629080" y="165744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81360" y="1504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933640" y="1352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000680" y="188604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381560" y="188604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762440" y="188604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143680" y="188604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65080" y="32274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1028880" y="3200400"/>
            <a:ext cx="2495520" cy="704880"/>
            <a:chOff x="1028880" y="3200400"/>
            <a:chExt cx="2495520" cy="704880"/>
          </a:xfrm>
        </p:grpSpPr>
        <p:sp>
          <p:nvSpPr>
            <p:cNvPr id="1205" name=""/>
            <p:cNvSpPr/>
            <p:nvPr/>
          </p:nvSpPr>
          <p:spPr>
            <a:xfrm>
              <a:off x="1028880" y="3200400"/>
              <a:ext cx="1600200" cy="704880"/>
            </a:xfrm>
            <a:prstGeom prst="rect">
              <a:avLst/>
            </a:prstGeom>
            <a:gradFill rotWithShape="0">
              <a:gsLst>
                <a:gs pos="0">
                  <a:srgbClr val="273d65"/>
                </a:gs>
                <a:gs pos="100000">
                  <a:srgbClr val="5686d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chan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629080" y="3581280"/>
              <a:ext cx="895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862360" y="32623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390840" y="1962000"/>
            <a:ext cx="4800600" cy="2133720"/>
            <a:chOff x="3390840" y="1962000"/>
            <a:chExt cx="4800600" cy="2133720"/>
          </a:xfrm>
        </p:grpSpPr>
        <p:grpSp>
          <p:nvGrpSpPr>
            <p:cNvPr id="1209" name=""/>
            <p:cNvGrpSpPr/>
            <p:nvPr/>
          </p:nvGrpSpPr>
          <p:grpSpPr>
            <a:xfrm>
              <a:off x="3695760" y="2038320"/>
              <a:ext cx="2513880" cy="457200"/>
              <a:chOff x="3695760" y="2038320"/>
              <a:chExt cx="2513880" cy="457200"/>
            </a:xfrm>
          </p:grpSpPr>
          <p:sp>
            <p:nvSpPr>
              <p:cNvPr id="1210" name=""/>
              <p:cNvSpPr/>
              <p:nvPr/>
            </p:nvSpPr>
            <p:spPr>
              <a:xfrm>
                <a:off x="3695760" y="2038320"/>
                <a:ext cx="2513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695760" y="2152800"/>
                <a:ext cx="2513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695760" y="2266920"/>
                <a:ext cx="2513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695760" y="2381400"/>
                <a:ext cx="2513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695760" y="2495520"/>
                <a:ext cx="2513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3390840" y="2495520"/>
              <a:ext cx="45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467160" y="196200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210360" y="1962000"/>
              <a:ext cx="1981080" cy="533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Novell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DS for Win2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210360" y="3029040"/>
              <a:ext cx="1981080" cy="106668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vell Directory Service (ND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201080" y="24955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772080" y="2495520"/>
              <a:ext cx="45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48040" y="196200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52960" y="2495520"/>
              <a:ext cx="45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29280" y="1962000"/>
              <a:ext cx="304560" cy="533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33840" y="2495520"/>
              <a:ext cx="45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610160" y="196200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915080" y="2495520"/>
              <a:ext cx="45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991040" y="1962000"/>
              <a:ext cx="304920" cy="533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S-DirSync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78000" y="1415520"/>
            <a:ext cx="7851600" cy="3938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461880" indent="-4618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s NDS közötti szinkroniz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348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ét irányú szinkronizáci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2400" indent="-3924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elhasználók, csoportok, OU-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348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özponti adminisztráció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S Admi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on keresztü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348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ülön snap-in a szinkronizációho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4348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SM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t helyettesí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ről lesz szó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618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frastruktúrális együttműködés NetWare és UNIX rendszerekk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ctive Directory együttműködése más címtárakk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200 DNS együttműködése más DNS rendszerekk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ulajdonság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377640" y="1415520"/>
            <a:ext cx="8994600" cy="5193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461880" indent="-4618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észleges szinkroniz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3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inkronizáció egy adott OU szinten és nem a teljes címtárb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öbbszörös szinkroniz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3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bb NDS f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3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t „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 store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cs új komponones (NLM)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Ware 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rver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tékony szinkroniz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34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USN alapú működ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N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230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evezetés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-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 D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, mint loká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üttműköd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Főbb jellemzők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361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truktúrál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lhasználóbarát nev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fogadot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egtöbb alkalmazás támogat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terneten vagy intraneten használhat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elsődleges névfeloldá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Történelem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77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sőként használt névfelold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OSTS.TX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strukturál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DNS tervezési célja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ierarchikus névrendsz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osztott adat és adminisztráci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szerű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ővíthető adattípu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orlátlan adatbázismér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fogadható teljesítmé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Áttekintés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osztott adatbáz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FC 1034 és 103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ierarchikus névrendszer, mint pl. a fájlrendsz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e fordítv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:\DATA\SALES\FILES.X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ERVER.NORTHERN.COMPANY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Gyökér (ROOT): ‘.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terNic felelős a gyökér karbantartásáé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NS fastruktúráj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781440" y="117792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544840" y="210672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822840" y="211932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187960" y="210672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405080" y="3121200"/>
            <a:ext cx="865080" cy="42516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271680" y="3046320"/>
            <a:ext cx="86544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232000" y="424800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308400" y="526248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504800" y="5237280"/>
            <a:ext cx="865440" cy="42516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3232080" y="1440000"/>
            <a:ext cx="588960" cy="68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208400" y="164160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622760" y="1503360"/>
            <a:ext cx="712800" cy="63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2043000" y="2506680"/>
            <a:ext cx="565200" cy="61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322800" y="2443320"/>
            <a:ext cx="199800" cy="63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2846520" y="3421080"/>
            <a:ext cx="588960" cy="82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984480" y="3433680"/>
            <a:ext cx="551160" cy="763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2171880" y="4637160"/>
            <a:ext cx="31248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049560" y="4613400"/>
            <a:ext cx="399960" cy="677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272120" y="421164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Terminológia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769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1. Domain Name Space és Resource Rec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évrendszer: fordított fa, hierarhik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source Records: Információ a lekérdezések kiszolgálásáho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2. Name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source Record-okat tárolja vagy mutatót tárol más szerverhe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3. Resol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liens processz, ami elküldi a DNS lekérdezé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solver lehet DNS kliens vagy DNS sz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Terminológia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71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4. Domain és Subdom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.,  .com, .</a:t>
            </a: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microsoft.com, dev.microsoft.com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compaq.c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5. FQDN (Fully Qualified Domain Nam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ngedélyezett nev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ax 63 karakter (az FQD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-Z, 0-9, ‘-’ és ‘.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6. Zóna (zóna fáj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dminisztratív csoportosít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NS adatbázis (egy szervernek több zónája is lehe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Zóna egy szövegfáj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NS zóná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21280" y="147960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884320" y="2408400"/>
            <a:ext cx="865440" cy="42516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162320" y="2421000"/>
            <a:ext cx="86544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527800" y="2408400"/>
            <a:ext cx="865080" cy="42516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44560" y="3422520"/>
            <a:ext cx="86544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611520" y="334800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71840" y="454968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48240" y="556416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844640" y="5538960"/>
            <a:ext cx="865080" cy="42516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3571920" y="1741320"/>
            <a:ext cx="588960" cy="68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548240" y="194328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962600" y="1805040"/>
            <a:ext cx="712800" cy="63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2382840" y="2808360"/>
            <a:ext cx="565200" cy="61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662280" y="2744640"/>
            <a:ext cx="200160" cy="640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3186000" y="3722760"/>
            <a:ext cx="588960" cy="82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324320" y="3735360"/>
            <a:ext cx="550800" cy="763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2511000" y="4938840"/>
            <a:ext cx="31284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389400" y="4915080"/>
            <a:ext cx="399960" cy="67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611600" y="4513320"/>
            <a:ext cx="86544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745080" y="1120680"/>
            <a:ext cx="1670040" cy="1136880"/>
          </a:xfrm>
          <a:custGeom>
            <a:avLst/>
            <a:gdLst/>
            <a:ahLst/>
            <a:rect l="l" t="t" r="r" b="b"/>
            <a:pathLst>
              <a:path w="1052" h="716">
                <a:moveTo>
                  <a:pt x="1" y="336"/>
                </a:moveTo>
                <a:cubicBezTo>
                  <a:pt x="2" y="454"/>
                  <a:pt x="331" y="714"/>
                  <a:pt x="506" y="715"/>
                </a:cubicBezTo>
                <a:cubicBezTo>
                  <a:pt x="681" y="716"/>
                  <a:pt x="1052" y="462"/>
                  <a:pt x="1051" y="344"/>
                </a:cubicBezTo>
                <a:cubicBezTo>
                  <a:pt x="1050" y="226"/>
                  <a:pt x="676" y="10"/>
                  <a:pt x="498" y="5"/>
                </a:cubicBezTo>
                <a:cubicBezTo>
                  <a:pt x="320" y="0"/>
                  <a:pt x="0" y="218"/>
                  <a:pt x="1" y="3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432160" y="2049480"/>
            <a:ext cx="1670040" cy="1136520"/>
          </a:xfrm>
          <a:custGeom>
            <a:avLst/>
            <a:gdLst/>
            <a:ahLst/>
            <a:rect l="l" t="t" r="r" b="b"/>
            <a:pathLst>
              <a:path w="1052" h="716">
                <a:moveTo>
                  <a:pt x="1" y="336"/>
                </a:moveTo>
                <a:cubicBezTo>
                  <a:pt x="2" y="454"/>
                  <a:pt x="331" y="714"/>
                  <a:pt x="506" y="715"/>
                </a:cubicBezTo>
                <a:cubicBezTo>
                  <a:pt x="681" y="716"/>
                  <a:pt x="1052" y="462"/>
                  <a:pt x="1051" y="344"/>
                </a:cubicBezTo>
                <a:cubicBezTo>
                  <a:pt x="1050" y="226"/>
                  <a:pt x="676" y="10"/>
                  <a:pt x="498" y="5"/>
                </a:cubicBezTo>
                <a:cubicBezTo>
                  <a:pt x="320" y="0"/>
                  <a:pt x="0" y="218"/>
                  <a:pt x="1" y="3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Terminológia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7. Delegálás és autori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 szerver több zónáért lehet felelő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OA (Start Of Authority) rekord jelz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8. Zónák delegálhatók az elosztott kezeléshe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ubdomain rekordokkal külön zóna fájlb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osztás növeli a teljesítményt és egyszerűsíti a kezelé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szülő domain-nek ismernie kell autoritással rendelkező szervereket a delegált zónákhoz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 NS és egy A rekord marad a szülő zónáb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zeket „glue” rekordoknak szokták nevez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üttműködés NetWare-e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5241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Ügyféloldal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okásos IPX és CSNW támoga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Windows 2000 és NetWare 5 egy hálózatban és csak IP-t használunk, akkor NetWare ügyfél kizárólag a Novelltő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legfrissebb fut Windows 2000 ala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erver oldal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SNW (IP vagy IPX), FPNW, ahogy azt már megszokt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SMNW megszű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Zónák delegációj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113360" y="148752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876400" y="2416320"/>
            <a:ext cx="865440" cy="42516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154400" y="2428920"/>
            <a:ext cx="86544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519880" y="2416320"/>
            <a:ext cx="865080" cy="42516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736640" y="3430440"/>
            <a:ext cx="86544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603600" y="335592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563920" y="455760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639960" y="5572080"/>
            <a:ext cx="86544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836720" y="5546880"/>
            <a:ext cx="865080" cy="42516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3564000" y="1749600"/>
            <a:ext cx="588960" cy="68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540320" y="195120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954680" y="1812960"/>
            <a:ext cx="712800" cy="638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2374920" y="2816280"/>
            <a:ext cx="565200" cy="61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654360" y="2752560"/>
            <a:ext cx="200160" cy="640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3178080" y="3730680"/>
            <a:ext cx="588960" cy="826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316400" y="3743280"/>
            <a:ext cx="550800" cy="763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2503080" y="4946760"/>
            <a:ext cx="31284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81480" y="4923000"/>
            <a:ext cx="399960" cy="677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603680" y="4521240"/>
            <a:ext cx="865080" cy="425520"/>
          </a:xfrm>
          <a:prstGeom prst="ellipse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736800" y="1128600"/>
            <a:ext cx="1670400" cy="1136880"/>
          </a:xfrm>
          <a:custGeom>
            <a:avLst/>
            <a:gdLst/>
            <a:ahLst/>
            <a:rect l="l" t="t" r="r" b="b"/>
            <a:pathLst>
              <a:path w="1052" h="716">
                <a:moveTo>
                  <a:pt x="1" y="336"/>
                </a:moveTo>
                <a:cubicBezTo>
                  <a:pt x="2" y="454"/>
                  <a:pt x="331" y="714"/>
                  <a:pt x="506" y="715"/>
                </a:cubicBezTo>
                <a:cubicBezTo>
                  <a:pt x="681" y="716"/>
                  <a:pt x="1052" y="462"/>
                  <a:pt x="1051" y="344"/>
                </a:cubicBezTo>
                <a:cubicBezTo>
                  <a:pt x="1050" y="226"/>
                  <a:pt x="676" y="10"/>
                  <a:pt x="498" y="5"/>
                </a:cubicBezTo>
                <a:cubicBezTo>
                  <a:pt x="320" y="0"/>
                  <a:pt x="0" y="218"/>
                  <a:pt x="1" y="3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424240" y="2057400"/>
            <a:ext cx="1670040" cy="1136520"/>
          </a:xfrm>
          <a:custGeom>
            <a:avLst/>
            <a:gdLst/>
            <a:ahLst/>
            <a:rect l="l" t="t" r="r" b="b"/>
            <a:pathLst>
              <a:path w="1052" h="716">
                <a:moveTo>
                  <a:pt x="1" y="336"/>
                </a:moveTo>
                <a:cubicBezTo>
                  <a:pt x="2" y="454"/>
                  <a:pt x="331" y="714"/>
                  <a:pt x="506" y="715"/>
                </a:cubicBezTo>
                <a:cubicBezTo>
                  <a:pt x="681" y="716"/>
                  <a:pt x="1052" y="462"/>
                  <a:pt x="1051" y="344"/>
                </a:cubicBezTo>
                <a:cubicBezTo>
                  <a:pt x="1050" y="226"/>
                  <a:pt x="676" y="10"/>
                  <a:pt x="498" y="5"/>
                </a:cubicBezTo>
                <a:cubicBezTo>
                  <a:pt x="320" y="0"/>
                  <a:pt x="0" y="218"/>
                  <a:pt x="1" y="3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112920" y="3008160"/>
            <a:ext cx="3286440" cy="2075040"/>
          </a:xfrm>
          <a:custGeom>
            <a:avLst/>
            <a:gdLst/>
            <a:ahLst/>
            <a:rect l="l" t="t" r="r" b="b"/>
            <a:pathLst>
              <a:path w="1052" h="716">
                <a:moveTo>
                  <a:pt x="1" y="336"/>
                </a:moveTo>
                <a:cubicBezTo>
                  <a:pt x="2" y="454"/>
                  <a:pt x="331" y="714"/>
                  <a:pt x="506" y="715"/>
                </a:cubicBezTo>
                <a:cubicBezTo>
                  <a:pt x="681" y="716"/>
                  <a:pt x="1052" y="462"/>
                  <a:pt x="1051" y="344"/>
                </a:cubicBezTo>
                <a:cubicBezTo>
                  <a:pt x="1050" y="226"/>
                  <a:pt x="676" y="10"/>
                  <a:pt x="498" y="5"/>
                </a:cubicBezTo>
                <a:cubicBezTo>
                  <a:pt x="320" y="0"/>
                  <a:pt x="0" y="218"/>
                  <a:pt x="1" y="3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71520" y="4098960"/>
            <a:ext cx="2509920" cy="2112840"/>
          </a:xfrm>
          <a:custGeom>
            <a:avLst/>
            <a:gdLst/>
            <a:ahLst/>
            <a:rect l="l" t="t" r="r" b="b"/>
            <a:pathLst>
              <a:path w="1052" h="716">
                <a:moveTo>
                  <a:pt x="1" y="336"/>
                </a:moveTo>
                <a:cubicBezTo>
                  <a:pt x="2" y="454"/>
                  <a:pt x="331" y="714"/>
                  <a:pt x="506" y="715"/>
                </a:cubicBezTo>
                <a:cubicBezTo>
                  <a:pt x="681" y="716"/>
                  <a:pt x="1052" y="462"/>
                  <a:pt x="1051" y="344"/>
                </a:cubicBezTo>
                <a:cubicBezTo>
                  <a:pt x="1050" y="226"/>
                  <a:pt x="676" y="10"/>
                  <a:pt x="498" y="5"/>
                </a:cubicBezTo>
                <a:cubicBezTo>
                  <a:pt x="320" y="0"/>
                  <a:pt x="0" y="218"/>
                  <a:pt x="1" y="3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475080" y="5315040"/>
            <a:ext cx="1670040" cy="1136520"/>
          </a:xfrm>
          <a:custGeom>
            <a:avLst/>
            <a:gdLst/>
            <a:ahLst/>
            <a:rect l="l" t="t" r="r" b="b"/>
            <a:pathLst>
              <a:path w="1052" h="716">
                <a:moveTo>
                  <a:pt x="1" y="336"/>
                </a:moveTo>
                <a:cubicBezTo>
                  <a:pt x="2" y="454"/>
                  <a:pt x="331" y="714"/>
                  <a:pt x="506" y="715"/>
                </a:cubicBezTo>
                <a:cubicBezTo>
                  <a:pt x="681" y="716"/>
                  <a:pt x="1052" y="462"/>
                  <a:pt x="1051" y="344"/>
                </a:cubicBezTo>
                <a:cubicBezTo>
                  <a:pt x="1050" y="226"/>
                  <a:pt x="676" y="10"/>
                  <a:pt x="498" y="5"/>
                </a:cubicBezTo>
                <a:cubicBezTo>
                  <a:pt x="320" y="0"/>
                  <a:pt x="0" y="218"/>
                  <a:pt x="1" y="3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Szerverek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sődle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Zónafájl mester példányát tárolj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Változtatások csak az elsődleges szerver fájljaiban lehetsége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ásodlag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ásik szervertől kapja a zónafájlt, ami lehet elsődleges vagy másodlag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es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a szerver, amely a másodlagosnak adja a zónafájl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gy másodlagos szervernek lehet több mester szervere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ache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em felelős zónákért, csak gyors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orwar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Lekérdezések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92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ormál és inverz lekérdez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egtöbbször IP címet kérdezün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nverz lekérdezés egy IP címhez tartozó tulajdonságé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em használ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yakran összekevert a Reverse lekérdezéss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sak a megkérdezett DNS szerver tud válaszol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ordított lekérdezés (reverse lookup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ormál lekérdezés, 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342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peciális domain: in-addr.arpa (PTR rekor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echNet: Q164213 Description of DNS Reverse Looku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Lekérdezések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15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kurzí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Általában a kliens kérdezi így a szerve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ervernek válaszolnia ke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klienst nem küldheti másik szerverhe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teratí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Általában szerverek egymás köz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a a lekérdezésre nincs meg a tulajdonság (IP cím), akkor a legközelebbi autoritást (DNS szerver) adja vissz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orwar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a egy szerver nem találja a host-ot, akkor átadja  a kérést a másik szervern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8" name=""/>
          <p:cNvGraphicFramePr/>
          <p:nvPr/>
        </p:nvGraphicFramePr>
        <p:xfrm>
          <a:off x="2490840" y="3317760"/>
          <a:ext cx="87624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0840" y="3317760"/>
                    <a:ext cx="8762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233280" y="1908000"/>
          <a:ext cx="495360" cy="49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3280" y="1908000"/>
                    <a:ext cx="495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2" name=""/>
          <p:cNvGraphicFramePr/>
          <p:nvPr/>
        </p:nvGraphicFramePr>
        <p:xfrm>
          <a:off x="7066080" y="1501920"/>
          <a:ext cx="876240" cy="876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66080" y="1501920"/>
                    <a:ext cx="8762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4" name=""/>
          <p:cNvGraphicFramePr/>
          <p:nvPr/>
        </p:nvGraphicFramePr>
        <p:xfrm>
          <a:off x="6913440" y="4729320"/>
          <a:ext cx="876600" cy="876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3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913440" y="4729320"/>
                    <a:ext cx="8766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6" name=""/>
          <p:cNvSpPr/>
          <p:nvPr/>
        </p:nvSpPr>
        <p:spPr>
          <a:xfrm>
            <a:off x="785880" y="4334040"/>
            <a:ext cx="264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44680" indent="-54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ns1.microsof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4680" indent="-54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crosoft.co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34160" y="2392200"/>
            <a:ext cx="2409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44680" indent="-54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root-servers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4680" indent="-54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., com, net, 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802480" y="5803920"/>
            <a:ext cx="3125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44680" indent="-54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ns4.moswest.msn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4680" indent="-54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sn.co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3373560" y="1648080"/>
            <a:ext cx="3178080" cy="1410840"/>
            <a:chOff x="3373560" y="1648080"/>
            <a:chExt cx="3178080" cy="1410840"/>
          </a:xfrm>
        </p:grpSpPr>
        <p:sp>
          <p:nvSpPr>
            <p:cNvPr id="1340" name=""/>
            <p:cNvSpPr/>
            <p:nvPr/>
          </p:nvSpPr>
          <p:spPr>
            <a:xfrm flipV="1">
              <a:off x="3373560" y="1848960"/>
              <a:ext cx="3178080" cy="120996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rot="20365800">
              <a:off x="3587760" y="2075040"/>
              <a:ext cx="2503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) www.msn.com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566880" y="2121120"/>
            <a:ext cx="3095640" cy="1537200"/>
            <a:chOff x="3566880" y="2121120"/>
            <a:chExt cx="3095640" cy="1537200"/>
          </a:xfrm>
        </p:grpSpPr>
        <p:sp>
          <p:nvSpPr>
            <p:cNvPr id="1343" name=""/>
            <p:cNvSpPr/>
            <p:nvPr/>
          </p:nvSpPr>
          <p:spPr>
            <a:xfrm flipH="1">
              <a:off x="3566880" y="2365200"/>
              <a:ext cx="3095640" cy="116856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20365800">
              <a:off x="3875040" y="2538360"/>
              <a:ext cx="2503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)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Próbáld meg a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ns4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-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5" name=""/>
          <p:cNvGrpSpPr/>
          <p:nvPr/>
        </p:nvGrpSpPr>
        <p:grpSpPr>
          <a:xfrm>
            <a:off x="3575160" y="3645720"/>
            <a:ext cx="3097080" cy="1224720"/>
            <a:chOff x="3575160" y="3645720"/>
            <a:chExt cx="3097080" cy="1224720"/>
          </a:xfrm>
        </p:grpSpPr>
        <p:sp>
          <p:nvSpPr>
            <p:cNvPr id="1346" name=""/>
            <p:cNvSpPr/>
            <p:nvPr/>
          </p:nvSpPr>
          <p:spPr>
            <a:xfrm>
              <a:off x="3575160" y="3903840"/>
              <a:ext cx="3097080" cy="9666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1007400">
              <a:off x="3928680" y="3998520"/>
              <a:ext cx="2503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) www.msn.com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3479400" y="4118760"/>
            <a:ext cx="3041640" cy="1184760"/>
            <a:chOff x="3479400" y="4118760"/>
            <a:chExt cx="3041640" cy="1184760"/>
          </a:xfrm>
        </p:grpSpPr>
        <p:sp>
          <p:nvSpPr>
            <p:cNvPr id="1349" name=""/>
            <p:cNvSpPr/>
            <p:nvPr/>
          </p:nvSpPr>
          <p:spPr>
            <a:xfrm flipH="1" flipV="1">
              <a:off x="3479400" y="4377960"/>
              <a:ext cx="3041640" cy="92556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1007400">
              <a:off x="3801600" y="4471560"/>
              <a:ext cx="2503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) 207.68.142.5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1" name=""/>
          <p:cNvGrpSpPr/>
          <p:nvPr/>
        </p:nvGrpSpPr>
        <p:grpSpPr>
          <a:xfrm>
            <a:off x="224280" y="2978640"/>
            <a:ext cx="2208960" cy="1012320"/>
            <a:chOff x="224280" y="2978640"/>
            <a:chExt cx="2208960" cy="1012320"/>
          </a:xfrm>
        </p:grpSpPr>
        <p:sp>
          <p:nvSpPr>
            <p:cNvPr id="1352" name=""/>
            <p:cNvSpPr/>
            <p:nvPr/>
          </p:nvSpPr>
          <p:spPr>
            <a:xfrm flipH="1" flipV="1">
              <a:off x="514440" y="3441240"/>
              <a:ext cx="1684080" cy="53676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1007400">
              <a:off x="235080" y="3286080"/>
              <a:ext cx="2187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) 207.68.142.5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426600" y="2380320"/>
            <a:ext cx="2478600" cy="1129320"/>
            <a:chOff x="426600" y="2380320"/>
            <a:chExt cx="2478600" cy="1129320"/>
          </a:xfrm>
        </p:grpSpPr>
        <p:sp>
          <p:nvSpPr>
            <p:cNvPr id="1355" name=""/>
            <p:cNvSpPr/>
            <p:nvPr/>
          </p:nvSpPr>
          <p:spPr>
            <a:xfrm>
              <a:off x="676440" y="2938320"/>
              <a:ext cx="1731960" cy="5652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059600">
              <a:off x="428400" y="2746080"/>
              <a:ext cx="2474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) www.msn.com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57" name=""/>
          <p:cNvGraphicFramePr/>
          <p:nvPr/>
        </p:nvGraphicFramePr>
        <p:xfrm>
          <a:off x="2811600" y="3706920"/>
          <a:ext cx="628560" cy="628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11600" y="3706920"/>
                    <a:ext cx="6285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9" name=""/>
          <p:cNvGraphicFramePr/>
          <p:nvPr/>
        </p:nvGraphicFramePr>
        <p:xfrm>
          <a:off x="7480440" y="1816200"/>
          <a:ext cx="628560" cy="628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0440" y="1816200"/>
                    <a:ext cx="6285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1" name=""/>
          <p:cNvGraphicFramePr/>
          <p:nvPr/>
        </p:nvGraphicFramePr>
        <p:xfrm>
          <a:off x="7639200" y="1897200"/>
          <a:ext cx="628560" cy="628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6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639200" y="1897200"/>
                    <a:ext cx="6285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3" name=""/>
          <p:cNvGraphicFramePr/>
          <p:nvPr/>
        </p:nvGraphicFramePr>
        <p:xfrm>
          <a:off x="7278840" y="5075280"/>
          <a:ext cx="628560" cy="628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6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278840" y="5075280"/>
                    <a:ext cx="6285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ekurzív DNS lekérdez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228600" y="304920"/>
            <a:ext cx="8001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omain Name System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Caching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085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é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jesítmény növelé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álózati sávszélesség igény csökkenté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 a kliens, mind a szerver rendelkezik cache-s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an szerver mely csak cache-s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TL (Time To Live) mondja meg, hogy meddig kell cache-sel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gatív cache-sel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UI nem mutatj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ache only” konfiguráci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N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230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Bevezetés a </a:t>
            </a:r>
            <a:r>
              <a:rPr b="1" lang="en-US" sz="3200" spc="-1" strike="noStrike">
                <a:solidFill>
                  <a:srgbClr val="5686dc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-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 D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, mint loká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üttműköd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380880" y="1410840"/>
            <a:ext cx="8415360" cy="230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e Directory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tegr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Upd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od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ámogat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esol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3" name=""/>
          <p:cNvGraphicFramePr/>
          <p:nvPr/>
        </p:nvGraphicFramePr>
        <p:xfrm>
          <a:off x="2374920" y="2430360"/>
          <a:ext cx="87624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4920" y="2430360"/>
                    <a:ext cx="8762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5" name=""/>
          <p:cNvSpPr/>
          <p:nvPr/>
        </p:nvSpPr>
        <p:spPr>
          <a:xfrm>
            <a:off x="1833480" y="4479840"/>
            <a:ext cx="1906560" cy="970200"/>
          </a:xfrm>
          <a:prstGeom prst="rect">
            <a:avLst/>
          </a:prstGeom>
          <a:gradFill rotWithShape="0">
            <a:gsLst>
              <a:gs pos="0">
                <a:srgbClr val="385891"/>
              </a:gs>
              <a:gs pos="100000">
                <a:srgbClr val="5686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089760" y="4479840"/>
            <a:ext cx="1906560" cy="970200"/>
          </a:xfrm>
          <a:prstGeom prst="rect">
            <a:avLst/>
          </a:prstGeom>
          <a:gradFill rotWithShape="0">
            <a:gsLst>
              <a:gs pos="0">
                <a:srgbClr val="385891"/>
              </a:gs>
              <a:gs pos="100000">
                <a:srgbClr val="5686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7" name=""/>
          <p:cNvGraphicFramePr/>
          <p:nvPr/>
        </p:nvGraphicFramePr>
        <p:xfrm>
          <a:off x="6551640" y="2432160"/>
          <a:ext cx="876240" cy="87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1640" y="2432160"/>
                    <a:ext cx="8762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9" name=""/>
          <p:cNvSpPr/>
          <p:nvPr/>
        </p:nvSpPr>
        <p:spPr>
          <a:xfrm>
            <a:off x="3956040" y="6135840"/>
            <a:ext cx="213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44680" indent="-54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óna fájl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6031080" y="5562720"/>
            <a:ext cx="979200" cy="798480"/>
          </a:xfrm>
          <a:prstGeom prst="line">
            <a:avLst/>
          </a:prstGeom>
          <a:ln w="38160">
            <a:solidFill>
              <a:srgbClr val="fcc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H="1" flipV="1">
            <a:off x="2833560" y="5595840"/>
            <a:ext cx="1044720" cy="725760"/>
          </a:xfrm>
          <a:prstGeom prst="line">
            <a:avLst/>
          </a:prstGeom>
          <a:ln w="38160">
            <a:solidFill>
              <a:srgbClr val="fcc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522360" y="2144880"/>
            <a:ext cx="1755720" cy="723600"/>
            <a:chOff x="522360" y="2144880"/>
            <a:chExt cx="1755720" cy="723600"/>
          </a:xfrm>
        </p:grpSpPr>
        <p:sp>
          <p:nvSpPr>
            <p:cNvPr id="1383" name=""/>
            <p:cNvSpPr/>
            <p:nvPr/>
          </p:nvSpPr>
          <p:spPr>
            <a:xfrm>
              <a:off x="949320" y="2868480"/>
              <a:ext cx="1328760" cy="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22360" y="2144880"/>
              <a:ext cx="17287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)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Frissítést ka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3457440" y="2054160"/>
            <a:ext cx="2816280" cy="444600"/>
            <a:chOff x="3457440" y="2054160"/>
            <a:chExt cx="2816280" cy="444600"/>
          </a:xfrm>
        </p:grpSpPr>
        <p:sp>
          <p:nvSpPr>
            <p:cNvPr id="1386" name=""/>
            <p:cNvSpPr/>
            <p:nvPr/>
          </p:nvSpPr>
          <p:spPr>
            <a:xfrm>
              <a:off x="3457440" y="2496960"/>
              <a:ext cx="2816280" cy="18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692520" y="2054160"/>
              <a:ext cx="2252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) NOTIF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8" name=""/>
          <p:cNvGrpSpPr/>
          <p:nvPr/>
        </p:nvGrpSpPr>
        <p:grpSpPr>
          <a:xfrm>
            <a:off x="3424320" y="2658960"/>
            <a:ext cx="3082320" cy="411120"/>
            <a:chOff x="3424320" y="2658960"/>
            <a:chExt cx="3082320" cy="411120"/>
          </a:xfrm>
        </p:grpSpPr>
        <p:sp>
          <p:nvSpPr>
            <p:cNvPr id="1389" name=""/>
            <p:cNvSpPr/>
            <p:nvPr/>
          </p:nvSpPr>
          <p:spPr>
            <a:xfrm flipH="1">
              <a:off x="3424320" y="3068640"/>
              <a:ext cx="3082320" cy="144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13400" y="2658960"/>
              <a:ext cx="2430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) IXFR/AXF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1" name=""/>
          <p:cNvGrpSpPr/>
          <p:nvPr/>
        </p:nvGrpSpPr>
        <p:grpSpPr>
          <a:xfrm>
            <a:off x="7035840" y="3378240"/>
            <a:ext cx="2107800" cy="966600"/>
            <a:chOff x="7035840" y="3378240"/>
            <a:chExt cx="2107800" cy="966600"/>
          </a:xfrm>
        </p:grpSpPr>
        <p:sp>
          <p:nvSpPr>
            <p:cNvPr id="1392" name=""/>
            <p:cNvSpPr/>
            <p:nvPr/>
          </p:nvSpPr>
          <p:spPr>
            <a:xfrm>
              <a:off x="7042680" y="3378240"/>
              <a:ext cx="1440" cy="9666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035840" y="3444840"/>
              <a:ext cx="2107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)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iírja a zónafájlb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2786040" y="3378240"/>
            <a:ext cx="2166480" cy="966600"/>
            <a:chOff x="2786040" y="3378240"/>
            <a:chExt cx="2166480" cy="966600"/>
          </a:xfrm>
        </p:grpSpPr>
        <p:sp>
          <p:nvSpPr>
            <p:cNvPr id="1395" name=""/>
            <p:cNvSpPr/>
            <p:nvPr/>
          </p:nvSpPr>
          <p:spPr>
            <a:xfrm>
              <a:off x="2786040" y="3378240"/>
              <a:ext cx="1440" cy="9666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856240" y="3443400"/>
              <a:ext cx="2096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)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iírja a zónafájlb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br>
              <a:rPr sz="4800"/>
            </a:br>
            <a:r>
              <a:rPr b="1" lang="en-US" sz="3600" spc="-1" strike="noStrike">
                <a:solidFill>
                  <a:srgbClr val="eea564"/>
                </a:solidFill>
                <a:latin typeface="Arial"/>
              </a:rPr>
              <a:t>Active Directory integr</a:t>
            </a: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áció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br>
              <a:rPr sz="4800"/>
            </a:br>
            <a:r>
              <a:rPr b="1" lang="en-US" sz="3600" spc="-1" strike="noStrike">
                <a:solidFill>
                  <a:srgbClr val="eea564"/>
                </a:solidFill>
                <a:latin typeface="Arial"/>
              </a:rPr>
              <a:t>Active Directory integr</a:t>
            </a: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áció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15360" cy="4317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hagyomány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z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ón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gle-master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elv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nem megy a Primary, nincs friss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-integr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ált DNS több mesterpéldánnyal rendelkez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gas rendelkezésre állás a DNS adatbázis írásakor és olvasásak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kell külön replikációs mechanizmust kiépíte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üttműködés UNIX-a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415360" cy="5313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Ügyféloldal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am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NFS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(Services for UNIX 2.0 – RTM utá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gyfé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eea564"/>
                </a:solidFill>
                <a:latin typeface="Arial"/>
              </a:rPr>
              <a:t>Gateway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(nincs szükség NFS-re a munkaállomás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erver oldal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am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F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0" name=""/>
          <p:cNvGraphicFramePr/>
          <p:nvPr/>
        </p:nvGraphicFramePr>
        <p:xfrm>
          <a:off x="2004840" y="2190600"/>
          <a:ext cx="876600" cy="87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4840" y="2190600"/>
                    <a:ext cx="8766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2" name=""/>
          <p:cNvGrpSpPr/>
          <p:nvPr/>
        </p:nvGrpSpPr>
        <p:grpSpPr>
          <a:xfrm>
            <a:off x="272880" y="1905120"/>
            <a:ext cx="1728720" cy="723600"/>
            <a:chOff x="272880" y="1905120"/>
            <a:chExt cx="1728720" cy="723600"/>
          </a:xfrm>
        </p:grpSpPr>
        <p:sp>
          <p:nvSpPr>
            <p:cNvPr id="1403" name=""/>
            <p:cNvSpPr/>
            <p:nvPr/>
          </p:nvSpPr>
          <p:spPr>
            <a:xfrm>
              <a:off x="539640" y="2628720"/>
              <a:ext cx="1328760" cy="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72880" y="1905120"/>
              <a:ext cx="17287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)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Frissítést ka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2846520" y="4309920"/>
            <a:ext cx="2454120" cy="444600"/>
            <a:chOff x="2846520" y="4309920"/>
            <a:chExt cx="2454120" cy="444600"/>
          </a:xfrm>
        </p:grpSpPr>
        <p:sp>
          <p:nvSpPr>
            <p:cNvPr id="1406" name=""/>
            <p:cNvSpPr/>
            <p:nvPr/>
          </p:nvSpPr>
          <p:spPr>
            <a:xfrm>
              <a:off x="2846520" y="4753080"/>
              <a:ext cx="2454120" cy="144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80000" y="4309920"/>
              <a:ext cx="2414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) ADS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repliká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6877080" y="3003480"/>
            <a:ext cx="2300400" cy="1101240"/>
            <a:chOff x="6877080" y="3003480"/>
            <a:chExt cx="2300400" cy="1101240"/>
          </a:xfrm>
        </p:grpSpPr>
        <p:sp>
          <p:nvSpPr>
            <p:cNvPr id="1409" name=""/>
            <p:cNvSpPr/>
            <p:nvPr/>
          </p:nvSpPr>
          <p:spPr>
            <a:xfrm flipV="1">
              <a:off x="6877080" y="3139560"/>
              <a:ext cx="1800" cy="96516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45480" y="3003480"/>
              <a:ext cx="22320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)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Olvas az AD-bó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2416320" y="3138480"/>
            <a:ext cx="2155680" cy="966600"/>
            <a:chOff x="2416320" y="3138480"/>
            <a:chExt cx="2155680" cy="966600"/>
          </a:xfrm>
        </p:grpSpPr>
        <p:sp>
          <p:nvSpPr>
            <p:cNvPr id="1412" name=""/>
            <p:cNvSpPr/>
            <p:nvPr/>
          </p:nvSpPr>
          <p:spPr>
            <a:xfrm>
              <a:off x="2416320" y="3138480"/>
              <a:ext cx="1440" cy="9666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479680" y="3278160"/>
              <a:ext cx="2092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544680" indent="-54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)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iír az AD-b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839880" y="3336840"/>
            <a:ext cx="2025720" cy="1816200"/>
            <a:chOff x="839880" y="3336840"/>
            <a:chExt cx="2025720" cy="1816200"/>
          </a:xfrm>
        </p:grpSpPr>
        <p:sp>
          <p:nvSpPr>
            <p:cNvPr id="1415" name=""/>
            <p:cNvSpPr/>
            <p:nvPr/>
          </p:nvSpPr>
          <p:spPr>
            <a:xfrm>
              <a:off x="839880" y="3336840"/>
              <a:ext cx="2025720" cy="1816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8665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AD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919520" y="4329360"/>
              <a:ext cx="939960" cy="812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85154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N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5295960" y="3335400"/>
            <a:ext cx="2025720" cy="1816200"/>
            <a:chOff x="5295960" y="3335400"/>
            <a:chExt cx="2025720" cy="1816200"/>
          </a:xfrm>
        </p:grpSpPr>
        <p:sp>
          <p:nvSpPr>
            <p:cNvPr id="1418" name=""/>
            <p:cNvSpPr/>
            <p:nvPr/>
          </p:nvSpPr>
          <p:spPr>
            <a:xfrm>
              <a:off x="5295960" y="3335400"/>
              <a:ext cx="2025720" cy="1816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8665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AD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375600" y="4327920"/>
              <a:ext cx="939960" cy="812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85154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N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063960" y="5816520"/>
            <a:ext cx="301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44680" indent="-54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ary” z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ón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 flipV="1">
            <a:off x="2463840" y="5275080"/>
            <a:ext cx="603360" cy="563400"/>
          </a:xfrm>
          <a:prstGeom prst="line">
            <a:avLst/>
          </a:prstGeom>
          <a:ln w="38160">
            <a:solidFill>
              <a:srgbClr val="fcc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6122880" y="5275080"/>
            <a:ext cx="727200" cy="563400"/>
          </a:xfrm>
          <a:prstGeom prst="line">
            <a:avLst/>
          </a:prstGeom>
          <a:ln w="38160">
            <a:solidFill>
              <a:srgbClr val="fcc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6585120" y="2192400"/>
          <a:ext cx="876240" cy="87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85120" y="2192400"/>
                    <a:ext cx="8762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br>
              <a:rPr sz="4800"/>
            </a:br>
            <a:r>
              <a:rPr b="1" lang="en-US" sz="3600" spc="-1" strike="noStrike">
                <a:solidFill>
                  <a:srgbClr val="eea564"/>
                </a:solidFill>
                <a:latin typeface="Arial"/>
              </a:rPr>
              <a:t>Active Directory </a:t>
            </a: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integráció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br>
              <a:rPr sz="4800"/>
            </a:br>
            <a:r>
              <a:rPr b="1" lang="en-US" sz="3600" spc="-1" strike="noStrike">
                <a:solidFill>
                  <a:srgbClr val="eea564"/>
                </a:solidFill>
                <a:latin typeface="Arial"/>
              </a:rPr>
              <a:t>Active Directory integr</a:t>
            </a: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áció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42720" y="1854360"/>
            <a:ext cx="8415000" cy="4414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S repli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áció „lazán csatolt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replikák között időlegesen eltérések tapasztalhatók, de ezek megszűnn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évszintű ütközé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ét host azonos nevet jegyez be.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Az első ny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ulajdonság-szintű ütköz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ét host más és más címet jegyez be egy adott rekordhoz.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Az utolsó ny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br>
              <a:rPr sz="4800"/>
            </a:br>
            <a:r>
              <a:rPr b="1" lang="en-US" sz="3600" spc="-1" strike="noStrike">
                <a:solidFill>
                  <a:srgbClr val="eea564"/>
                </a:solidFill>
                <a:latin typeface="Arial"/>
              </a:rPr>
              <a:t>D</a:t>
            </a: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inamikus frissítés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415360" cy="525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C 2136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on alap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ügyfél felfedezi a zónáért felelős kiszolgáló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ügyfél küld egy dinamikus frissítést végző csomagot az elsődleges kiszolgálóho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elsődleges kiszolgáló feldolgozza a frissíté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lyen szolgáltatások használnak dinamikus frissíté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C (Netlog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2000 compu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2000 DHCP 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Titkosított dinamikus frissítés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415360" cy="2894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ET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ft-skwan-gss-tsig-04.tx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ak AD integrált zónákkal működ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Zónánként adható m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en zónának van ACL-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Karakter támogatás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164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85000"/>
              </a:lnSpc>
              <a:spcBef>
                <a:spcPts val="7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DNS által használható karakterkészletet 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FC 1123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abályozz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FC 95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5000"/>
              </a:lnSpc>
              <a:spcBef>
                <a:spcPts val="7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’-’Z’, ‘a’-’z’, ‘0’-’9’, ‘-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5000"/>
              </a:lnSpc>
              <a:spcBef>
                <a:spcPts val="7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RV RR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_’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5000"/>
              </a:lnSpc>
              <a:spcBef>
                <a:spcPts val="7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X RR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*’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5000"/>
              </a:lnSpc>
              <a:spcBef>
                <a:spcPts val="7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code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arakter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5000"/>
              </a:lnSpc>
              <a:spcBef>
                <a:spcPts val="7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TF-8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ódolá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FC 204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85000"/>
              </a:lnSpc>
              <a:spcBef>
                <a:spcPts val="7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ft-skwan-utf8-dns-00.tx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5000"/>
              </a:lnSpc>
              <a:spcBef>
                <a:spcPts val="7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elterjedt resolverek nem támogatják az UTF-8 karakterek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Resolver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415360" cy="5011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2000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ervi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namikus frissí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kordokat cache-eli a TTL függvényéb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gat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 cach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-el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űködi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nP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ártyákkal 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válaszok sebességétől függően állítja be a kiszolgálók sorrendjé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evesebb lekérdezés, kevesebb time-out, gyorsabb válaszid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CONFIG /REGISTERD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N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230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Bevezetés a </a:t>
            </a:r>
            <a:r>
              <a:rPr b="1" lang="en-US" sz="3200" spc="-1" strike="noStrike">
                <a:solidFill>
                  <a:srgbClr val="5686dc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-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86dc"/>
                </a:solidFill>
                <a:latin typeface="Arial"/>
              </a:rPr>
              <a:t>Windows 2000 D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, mint loká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üttműköd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NS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, mint szerviz lokáto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209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LOGON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DC-k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RV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ekordokat regisztrá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raft-ietf-dnsind-rfc2052bis-*.tx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service&gt;.&lt;protocol&gt;.&lt;domain&gt;  IN SRV  &lt;priority&gt; &lt;weight&gt; &lt;port&gt; &lt;host&g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ldap._tcp.corp.example.com.  IN SRV      10 100 389 ntdsdc0.corp.example.co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NS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, mint szerviz lokáto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536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éb dinamikusan regisztrált rekord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phely specifik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ldap._tcp.&lt;site&gt;._sites.&lt;domain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_ldap._tcp.redmond._sites.corp.exa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erepkör specifik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ldap._tcp.&lt;role&gt;._msdcs.&lt;domain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_ldap._tcp.gc._msdcs.corp.exa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_ldap._tcp.pdc._msdcs.corp.exa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ljes lista egy adott DC-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a564"/>
                </a:solidFill>
                <a:latin typeface="Arial"/>
              </a:rPr>
              <a:t>%systemroot%\system32\config\netlogon.d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ügyfelek az SRV rekordokat kérdezik le, hogy megtalálják a tartományvezérlők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N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230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Bevezetés a </a:t>
            </a:r>
            <a:r>
              <a:rPr b="1" lang="en-US" sz="3200" spc="-1" strike="noStrike">
                <a:solidFill>
                  <a:srgbClr val="5686dc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-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686dc"/>
                </a:solidFill>
                <a:latin typeface="Arial"/>
              </a:rPr>
              <a:t>Windows 2000 D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5686dc"/>
                </a:solidFill>
                <a:latin typeface="Arial"/>
              </a:rPr>
              <a:t>DNS</a:t>
            </a: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, mint loká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üttműköd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79640" y="3570120"/>
            <a:ext cx="3027600" cy="1377000"/>
            <a:chOff x="-179640" y="3570120"/>
            <a:chExt cx="3027600" cy="13770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1940040" y="3570120"/>
              <a:ext cx="511200" cy="71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"/>
            <p:cNvGrpSpPr/>
            <p:nvPr/>
          </p:nvGrpSpPr>
          <p:grpSpPr>
            <a:xfrm>
              <a:off x="1787400" y="4359240"/>
              <a:ext cx="487440" cy="406440"/>
              <a:chOff x="1787400" y="4359240"/>
              <a:chExt cx="487440" cy="406440"/>
            </a:xfrm>
          </p:grpSpPr>
          <p:sp>
            <p:nvSpPr>
              <p:cNvPr id="58" name=""/>
              <p:cNvSpPr/>
              <p:nvPr/>
            </p:nvSpPr>
            <p:spPr>
              <a:xfrm>
                <a:off x="1787400" y="4359240"/>
                <a:ext cx="48744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1990080" y="446220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35080" y="446220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042280" y="446436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2071080" y="451800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084040" y="452628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124720" y="459144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120040" y="4581000"/>
                <a:ext cx="4824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1960920" y="452628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007360" y="452448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1998360" y="459144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03760" y="458532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1917000" y="459144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1958760" y="458928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1962360" y="465228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97280" y="464760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94040" y="4645440"/>
                <a:ext cx="428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2112840" y="465624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2149200" y="464940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168640" y="464940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1884960" y="464940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17360" y="464544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020320" y="4447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73520" y="45036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020320" y="45036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67480" y="45036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944360" y="45684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91160" y="456840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056680" y="45684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3840" y="45684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0476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4184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2320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14992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8072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112120" y="46350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46520" y="468972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8324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2248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9520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13192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17116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6336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00080" y="4689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-179640" y="4000680"/>
              <a:ext cx="2226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Hálózati kiszolg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Migráci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Szinkronizáci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Single Sign-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467080" y="3879360"/>
              <a:ext cx="38088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31040" y="2400480"/>
            <a:ext cx="2631240" cy="1159560"/>
            <a:chOff x="131040" y="2400480"/>
            <a:chExt cx="2631240" cy="1159560"/>
          </a:xfrm>
        </p:grpSpPr>
        <p:grpSp>
          <p:nvGrpSpPr>
            <p:cNvPr id="105" name=""/>
            <p:cNvGrpSpPr/>
            <p:nvPr/>
          </p:nvGrpSpPr>
          <p:grpSpPr>
            <a:xfrm>
              <a:off x="1671480" y="2803680"/>
              <a:ext cx="725760" cy="482400"/>
              <a:chOff x="1671480" y="2803680"/>
              <a:chExt cx="725760" cy="482400"/>
            </a:xfrm>
          </p:grpSpPr>
          <p:sp>
            <p:nvSpPr>
              <p:cNvPr id="106" name=""/>
              <p:cNvSpPr/>
              <p:nvPr/>
            </p:nvSpPr>
            <p:spPr>
              <a:xfrm>
                <a:off x="1671480" y="2803680"/>
                <a:ext cx="725760" cy="48240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1972800" y="2925720"/>
                <a:ext cx="6948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40120" y="2925720"/>
                <a:ext cx="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50920" y="2928240"/>
                <a:ext cx="58680" cy="68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093760" y="2992320"/>
                <a:ext cx="1260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12840" y="3002040"/>
                <a:ext cx="53640" cy="79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74040" y="3079440"/>
                <a:ext cx="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66840" y="3067200"/>
                <a:ext cx="71640" cy="78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929960" y="3002040"/>
                <a:ext cx="33120" cy="67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1998720" y="2999520"/>
                <a:ext cx="4392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985760" y="3079440"/>
                <a:ext cx="1044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94040" y="3071880"/>
                <a:ext cx="5364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864800" y="3079440"/>
                <a:ext cx="619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1926720" y="3076920"/>
                <a:ext cx="468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1931400" y="3151440"/>
                <a:ext cx="4716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83960" y="3145680"/>
                <a:ext cx="1800" cy="6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979280" y="3143160"/>
                <a:ext cx="637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156400" y="3156480"/>
                <a:ext cx="17280" cy="5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210400" y="3148200"/>
                <a:ext cx="33120" cy="57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238840" y="3148200"/>
                <a:ext cx="284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816920" y="3148200"/>
                <a:ext cx="4608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64800" y="3143160"/>
                <a:ext cx="288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18520" y="290880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48680" y="29750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18520" y="29750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88360" y="29750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905480" y="30520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74960" y="305208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72520" y="30520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142360" y="30520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46080" y="31309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01160" y="31309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22480" y="31309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11120" y="31309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959480" y="31309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55320" y="31309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08360" y="319572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63440" y="31957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21400" y="31957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129400" y="31957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84480" y="319572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42800" y="31957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84520" y="31957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39600" y="319572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131040" y="2400480"/>
              <a:ext cx="1660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Más címtára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Yellow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pag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lektornikus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ereskedel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Portál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76440" y="3009960"/>
              <a:ext cx="28584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438360" y="4362480"/>
            <a:ext cx="3105720" cy="2319840"/>
            <a:chOff x="3438360" y="4362480"/>
            <a:chExt cx="3105720" cy="2319840"/>
          </a:xfrm>
        </p:grpSpPr>
        <p:grpSp>
          <p:nvGrpSpPr>
            <p:cNvPr id="153" name=""/>
            <p:cNvGrpSpPr/>
            <p:nvPr/>
          </p:nvGrpSpPr>
          <p:grpSpPr>
            <a:xfrm>
              <a:off x="3438360" y="4637160"/>
              <a:ext cx="987480" cy="826920"/>
              <a:chOff x="3438360" y="4637160"/>
              <a:chExt cx="987480" cy="826920"/>
            </a:xfrm>
          </p:grpSpPr>
          <p:sp>
            <p:nvSpPr>
              <p:cNvPr id="154" name=""/>
              <p:cNvSpPr/>
              <p:nvPr/>
            </p:nvSpPr>
            <p:spPr>
              <a:xfrm>
                <a:off x="3438360" y="4637160"/>
                <a:ext cx="987480" cy="82692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00640" y="4679280"/>
                <a:ext cx="884880" cy="744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" name=""/>
            <p:cNvSpPr/>
            <p:nvPr/>
          </p:nvSpPr>
          <p:spPr>
            <a:xfrm>
              <a:off x="4256280" y="5522760"/>
              <a:ext cx="22878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a564"/>
                  </a:solidFill>
                  <a:latin typeface="Arial"/>
                </a:rPr>
                <a:t>A</a:t>
              </a: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lkalmazás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rver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onfig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ngle Sign-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lkalmazás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specifikus informáci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691080" y="5584680"/>
              <a:ext cx="487080" cy="406440"/>
              <a:chOff x="3691080" y="5584680"/>
              <a:chExt cx="487080" cy="406440"/>
            </a:xfrm>
          </p:grpSpPr>
          <p:sp>
            <p:nvSpPr>
              <p:cNvPr id="158" name=""/>
              <p:cNvSpPr/>
              <p:nvPr/>
            </p:nvSpPr>
            <p:spPr>
              <a:xfrm>
                <a:off x="3691080" y="5584680"/>
                <a:ext cx="48708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3893400" y="568764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38400" y="568764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945600" y="568980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3974400" y="574344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87360" y="575172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028400" y="581688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23720" y="5806440"/>
                <a:ext cx="4788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3864600" y="575172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3910680" y="574992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3901680" y="581688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907440" y="581076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820680" y="581688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862080" y="581472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3865680" y="587772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00960" y="587304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897720" y="5870880"/>
                <a:ext cx="4248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4016520" y="588168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4052520" y="587484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071960" y="587484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3788640" y="587484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1040" y="587088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24000" y="56732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877200" y="57290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924000" y="57290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70800" y="57290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848040" y="57938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94840" y="579384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60360" y="57938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07160" y="57938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08440" y="58604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845160" y="58604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926520" y="58604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53240" y="58604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84400" y="58604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15800" y="586044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49840" y="591516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86920" y="591516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925800" y="5915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98520" y="5915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035600" y="591516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074480" y="591516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66680" y="591516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03760" y="5915160"/>
                <a:ext cx="2736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 flipV="1">
              <a:off x="4552920" y="4362480"/>
              <a:ext cx="0" cy="32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089000" y="1104840"/>
            <a:ext cx="6752520" cy="1676520"/>
            <a:chOff x="1089000" y="1104840"/>
            <a:chExt cx="6752520" cy="1676520"/>
          </a:xfrm>
        </p:grpSpPr>
        <p:pic>
          <p:nvPicPr>
            <p:cNvPr id="204" name="" descr=""/>
            <p:cNvPicPr/>
            <p:nvPr/>
          </p:nvPicPr>
          <p:blipFill>
            <a:blip r:embed="rId4"/>
            <a:stretch/>
          </p:blipFill>
          <p:spPr>
            <a:xfrm>
              <a:off x="5969160" y="1155600"/>
              <a:ext cx="35856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5969160" y="2232000"/>
              <a:ext cx="3571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6"/>
            <a:stretch/>
          </p:blipFill>
          <p:spPr>
            <a:xfrm>
              <a:off x="5969160" y="1693800"/>
              <a:ext cx="358560" cy="50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7" name=""/>
            <p:cNvGrpSpPr/>
            <p:nvPr/>
          </p:nvGrpSpPr>
          <p:grpSpPr>
            <a:xfrm>
              <a:off x="1089000" y="1155600"/>
              <a:ext cx="858600" cy="1039680"/>
              <a:chOff x="1089000" y="1155600"/>
              <a:chExt cx="858600" cy="1039680"/>
            </a:xfrm>
          </p:grpSpPr>
          <p:pic>
            <p:nvPicPr>
              <p:cNvPr id="20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469160" y="1155600"/>
                <a:ext cx="406800" cy="58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089000" y="1378440"/>
                <a:ext cx="406800" cy="58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540440" y="1607760"/>
                <a:ext cx="40716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1" name="" descr=""/>
            <p:cNvPicPr/>
            <p:nvPr/>
          </p:nvPicPr>
          <p:blipFill>
            <a:blip r:embed="rId10"/>
            <a:stretch/>
          </p:blipFill>
          <p:spPr>
            <a:xfrm>
              <a:off x="3660840" y="1119240"/>
              <a:ext cx="37476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1"/>
            <a:stretch/>
          </p:blipFill>
          <p:spPr>
            <a:xfrm>
              <a:off x="3660840" y="1549440"/>
              <a:ext cx="37620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2"/>
            <a:stretch/>
          </p:blipFill>
          <p:spPr>
            <a:xfrm>
              <a:off x="3660840" y="1982880"/>
              <a:ext cx="37476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838160" y="1135080"/>
              <a:ext cx="1648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Felhaszn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Fiók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Jogosultsá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29200" y="1104840"/>
              <a:ext cx="1952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Ügyfele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gmt profi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lózati paramé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20880" y="1125360"/>
              <a:ext cx="15206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Kiszolg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zolgáltatá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Nyomtat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Megosztá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152800"/>
              <a:ext cx="628920" cy="62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91080" y="21906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448240" y="2342880"/>
              <a:ext cx="362160" cy="36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848200" y="4076640"/>
            <a:ext cx="3280320" cy="1492200"/>
            <a:chOff x="5848200" y="4076640"/>
            <a:chExt cx="3280320" cy="1492200"/>
          </a:xfrm>
        </p:grpSpPr>
        <p:sp>
          <p:nvSpPr>
            <p:cNvPr id="221" name=""/>
            <p:cNvSpPr/>
            <p:nvPr/>
          </p:nvSpPr>
          <p:spPr>
            <a:xfrm>
              <a:off x="6711840" y="5105520"/>
              <a:ext cx="336600" cy="191880"/>
            </a:xfrm>
            <a:prstGeom prst="ellipse">
              <a:avLst/>
            </a:prstGeom>
            <a:solidFill>
              <a:srgbClr val="305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26080" y="5156280"/>
              <a:ext cx="258840" cy="191880"/>
            </a:xfrm>
            <a:prstGeom prst="ellipse">
              <a:avLst/>
            </a:prstGeom>
            <a:solidFill>
              <a:srgbClr val="305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29320" y="5159520"/>
              <a:ext cx="269280" cy="16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" y="13946"/>
                  </a:moveTo>
                  <a:arcTo wR="10800" hR="10800" stAng="9783789" swAng="8155038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" y="13946"/>
                  </a:moveTo>
                  <a:arcTo wR="10800" hR="10800" stAng="9783789" swAng="8155038"/>
                </a:path>
              </a:pathLst>
            </a:custGeom>
            <a:solidFill>
              <a:srgbClr val="30517c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4320" y="5165640"/>
              <a:ext cx="248760" cy="14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7" y="217"/>
                  </a:moveTo>
                  <a:arcTo wR="10800" hR="10800" stAng="-6089883" swAng="797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7" y="217"/>
                  </a:moveTo>
                  <a:arcTo wR="10800" hR="10800" stAng="-6089883" swAng="7977590"/>
                </a:path>
              </a:pathLst>
            </a:custGeom>
            <a:solidFill>
              <a:srgbClr val="30517c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848200" y="4076640"/>
              <a:ext cx="3280320" cy="1492200"/>
              <a:chOff x="5848200" y="4076640"/>
              <a:chExt cx="3280320" cy="1492200"/>
            </a:xfrm>
          </p:grpSpPr>
          <p:sp>
            <p:nvSpPr>
              <p:cNvPr id="226" name=""/>
              <p:cNvSpPr/>
              <p:nvPr/>
            </p:nvSpPr>
            <p:spPr>
              <a:xfrm>
                <a:off x="6448320" y="5272200"/>
                <a:ext cx="174600" cy="15372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99080" y="5340240"/>
                <a:ext cx="262080" cy="16848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83400" y="5367240"/>
                <a:ext cx="393840" cy="20160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7113600" y="5309640"/>
                <a:ext cx="71280" cy="4284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72480" y="5257800"/>
                <a:ext cx="247320" cy="14940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948360" y="5289480"/>
                <a:ext cx="247680" cy="24768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586560" y="5216400"/>
                <a:ext cx="504720" cy="247680"/>
              </a:xfrm>
              <a:prstGeom prst="ellipse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51560" y="5263200"/>
                <a:ext cx="24408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489" y="19564"/>
                    </a:moveTo>
                    <a:arcTo wR="10800" hR="10800" stAng="7545457" swAng="76015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489" y="19564"/>
                    </a:moveTo>
                    <a:arcTo wR="10800" hR="10800" stAng="7545457" swAng="7601544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99080" y="5340960"/>
                <a:ext cx="278280" cy="16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08" y="20471"/>
                    </a:moveTo>
                    <a:arcTo wR="10800" hR="10800" stAng="3813963" swAng="70192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08" y="20471"/>
                    </a:moveTo>
                    <a:arcTo wR="10800" hR="10800" stAng="3813963" swAng="7019227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93840" y="5399280"/>
                <a:ext cx="370080" cy="16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751" y="16843"/>
                    </a:moveTo>
                    <a:arcTo wR="10800" hR="10800" stAng="2041560" swAng="82109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751" y="16843"/>
                    </a:moveTo>
                    <a:arcTo wR="10800" hR="10800" stAng="2041560" swAng="8210910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37560" y="5257800"/>
                <a:ext cx="281880" cy="15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106" y="2032"/>
                    </a:moveTo>
                    <a:arcTo wR="10800" hR="10800" stAng="-3256509" swAng="547106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106" y="2032"/>
                    </a:moveTo>
                    <a:arcTo wR="10800" hR="10800" stAng="-3256509" swAng="5471066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938280" y="5305320"/>
                <a:ext cx="259200" cy="22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039" y="7366"/>
                    </a:moveTo>
                    <a:arcTo wR="10800" hR="10800" stAng="-1112428" swAng="75908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039" y="7366"/>
                    </a:moveTo>
                    <a:arcTo wR="10800" hR="10800" stAng="-1112428" swAng="7590869"/>
                  </a:path>
                </a:pathLst>
              </a:custGeom>
              <a:solidFill>
                <a:srgbClr val="30517c"/>
              </a:solidFill>
              <a:ln w="2052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5848200" y="4076640"/>
                <a:ext cx="3280320" cy="1424160"/>
                <a:chOff x="5848200" y="4076640"/>
                <a:chExt cx="3280320" cy="14241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6762600" y="4933800"/>
                  <a:ext cx="0" cy="266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0" name=""/>
                <p:cNvGrpSpPr/>
                <p:nvPr/>
              </p:nvGrpSpPr>
              <p:grpSpPr>
                <a:xfrm>
                  <a:off x="5848200" y="4076640"/>
                  <a:ext cx="3280320" cy="1424160"/>
                  <a:chOff x="5848200" y="4076640"/>
                  <a:chExt cx="3280320" cy="1424160"/>
                </a:xfrm>
              </p:grpSpPr>
              <p:pic>
                <p:nvPicPr>
                  <p:cNvPr id="24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11840" y="4529160"/>
                    <a:ext cx="358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2" name=""/>
                  <p:cNvSpPr/>
                  <p:nvPr/>
                </p:nvSpPr>
                <p:spPr>
                  <a:xfrm>
                    <a:off x="6714000" y="5106960"/>
                    <a:ext cx="33372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08" y="7526"/>
                        </a:moveTo>
                        <a:arcTo wR="10800" hR="10800" stAng="-9741069" swAng="861472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08" y="7526"/>
                        </a:moveTo>
                        <a:arcTo wR="10800" hR="10800" stAng="-9741069" swAng="8614725"/>
                      </a:path>
                    </a:pathLst>
                  </a:custGeom>
                  <a:solidFill>
                    <a:srgbClr val="30517c"/>
                  </a:solidFill>
                  <a:ln w="20520">
                    <a:solidFill>
                      <a:srgbClr val="6c8f9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6491160" y="5224320"/>
                    <a:ext cx="740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Internet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012080" y="4473720"/>
                    <a:ext cx="2116440" cy="73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174600" indent="-174600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400" spc="-1" strike="noStrike">
                        <a:solidFill>
                          <a:srgbClr val="eea564"/>
                        </a:solidFill>
                        <a:latin typeface="Arial"/>
                      </a:rPr>
                      <a:t>Tűzfal szolgáltatás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174600" indent="-174600">
                      <a:lnSpc>
                        <a:spcPct val="100000"/>
                      </a:lnSpc>
                      <a:buClr>
                        <a:srgbClr val="fccf0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400" spc="-1" strike="noStrike">
                        <a:solidFill>
                          <a:srgbClr val="ffffff"/>
                        </a:solidFill>
                        <a:latin typeface="Arial"/>
                      </a:rPr>
                      <a:t>Konfiguráció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174600" indent="-174600">
                      <a:lnSpc>
                        <a:spcPct val="100000"/>
                      </a:lnSpc>
                      <a:buClr>
                        <a:srgbClr val="fccf00"/>
                      </a:buClr>
                      <a:buSzPct val="7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VPN </a:t>
                    </a:r>
                    <a:r>
                      <a:rPr b="1" lang="hu-HU" sz="1400" spc="-1" strike="noStrike">
                        <a:solidFill>
                          <a:srgbClr val="ffffff"/>
                        </a:solidFill>
                        <a:latin typeface="Arial"/>
                      </a:rPr>
                      <a:t>beállítások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5848200" y="4076640"/>
                    <a:ext cx="324000" cy="3812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6014880" y="4575240"/>
                    <a:ext cx="487440" cy="406440"/>
                    <a:chOff x="6014880" y="4575240"/>
                    <a:chExt cx="487440" cy="40644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6014880" y="4575240"/>
                      <a:ext cx="487440" cy="406440"/>
                    </a:xfrm>
                    <a:prstGeom prst="can">
                      <a:avLst>
                        <a:gd name="adj" fmla="val 13791"/>
                      </a:avLst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H="1">
                      <a:off x="6217560" y="4678200"/>
                      <a:ext cx="46800" cy="55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6262560" y="4678200"/>
                      <a:ext cx="0" cy="55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269760" y="4680360"/>
                      <a:ext cx="39240" cy="57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flipH="1">
                      <a:off x="6298560" y="4734000"/>
                      <a:ext cx="8280" cy="69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6311520" y="4742280"/>
                      <a:ext cx="36000" cy="66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352200" y="4807440"/>
                      <a:ext cx="0" cy="69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347520" y="4797000"/>
                      <a:ext cx="48240" cy="66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 flipH="1">
                      <a:off x="6188400" y="4742280"/>
                      <a:ext cx="22320" cy="56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>
                      <a:off x="6234840" y="4740480"/>
                      <a:ext cx="29520" cy="64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 flipH="1">
                      <a:off x="6225840" y="4807440"/>
                      <a:ext cx="6840" cy="53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6231240" y="4801320"/>
                      <a:ext cx="36000" cy="640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>
                      <a:off x="6144480" y="4807440"/>
                      <a:ext cx="41400" cy="608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flipH="1">
                      <a:off x="6186240" y="4805280"/>
                      <a:ext cx="3240" cy="64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 flipH="1">
                      <a:off x="6189840" y="4868280"/>
                      <a:ext cx="31680" cy="53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6224760" y="4863600"/>
                      <a:ext cx="1080" cy="58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6221520" y="4861440"/>
                      <a:ext cx="42840" cy="608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 flipH="1">
                      <a:off x="6340320" y="4872240"/>
                      <a:ext cx="11520" cy="45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>
                      <a:off x="6376680" y="4865400"/>
                      <a:ext cx="22320" cy="48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396120" y="4865400"/>
                      <a:ext cx="19080" cy="547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 flipH="1">
                      <a:off x="6112440" y="4865400"/>
                      <a:ext cx="30960" cy="52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6144840" y="4861440"/>
                      <a:ext cx="1800" cy="62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6247800" y="46638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6201000" y="47196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6247800" y="47196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6294960" y="47196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6171840" y="47844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6218640" y="4784400"/>
                      <a:ext cx="2700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6284160" y="47844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6331320" y="47844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613224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616932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625068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637740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620820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6339600" y="485100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6174000" y="4905720"/>
                      <a:ext cx="2700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621072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624996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632268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635940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639864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609084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6127560" y="4905720"/>
                      <a:ext cx="27720" cy="338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5e46"/>
                        </a:gs>
                        <a:gs pos="50000">
                          <a:srgbClr val="00cc99"/>
                        </a:gs>
                        <a:gs pos="100000">
                          <a:srgbClr val="005e46"/>
                        </a:gs>
                      </a:gsLst>
                      <a:lin ang="10800000"/>
                    </a:gra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>
                    <a:off x="6496200" y="4781520"/>
                    <a:ext cx="2095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92" name=""/>
          <p:cNvGrpSpPr/>
          <p:nvPr/>
        </p:nvGrpSpPr>
        <p:grpSpPr>
          <a:xfrm>
            <a:off x="6381720" y="2759040"/>
            <a:ext cx="2718720" cy="1179720"/>
            <a:chOff x="6381720" y="2759040"/>
            <a:chExt cx="2718720" cy="1179720"/>
          </a:xfrm>
        </p:grpSpPr>
        <p:sp>
          <p:nvSpPr>
            <p:cNvPr id="293" name=""/>
            <p:cNvSpPr/>
            <p:nvPr/>
          </p:nvSpPr>
          <p:spPr>
            <a:xfrm>
              <a:off x="7043400" y="2759040"/>
              <a:ext cx="2057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Hálózati eszközö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onfiguráci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Biztonsá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14"/>
            <a:stretch/>
          </p:blipFill>
          <p:spPr>
            <a:xfrm>
              <a:off x="6759720" y="2990880"/>
              <a:ext cx="36504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381720" y="3448080"/>
              <a:ext cx="36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6719760" y="3532320"/>
              <a:ext cx="487440" cy="406440"/>
              <a:chOff x="6719760" y="3532320"/>
              <a:chExt cx="487440" cy="406440"/>
            </a:xfrm>
          </p:grpSpPr>
          <p:sp>
            <p:nvSpPr>
              <p:cNvPr id="297" name=""/>
              <p:cNvSpPr/>
              <p:nvPr/>
            </p:nvSpPr>
            <p:spPr>
              <a:xfrm>
                <a:off x="6719760" y="3532320"/>
                <a:ext cx="48744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6922440" y="363528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67440" y="363528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974640" y="363744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7003440" y="369108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16400" y="369936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57080" y="376452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052400" y="3754080"/>
                <a:ext cx="4824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6893280" y="369936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6939720" y="369756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6930720" y="376452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936120" y="375840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6849360" y="376452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891120" y="376236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6894720" y="382536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929640" y="382068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926400" y="3818520"/>
                <a:ext cx="428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7045200" y="382932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7081560" y="382248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101000" y="382248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6817320" y="382248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49720" y="381852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952680" y="36208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90588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95268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999840" y="36766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87672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923520" y="374148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98904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036200" y="37414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83712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87420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95556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0822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9130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4480" y="380808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78880" y="386280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91560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5484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02756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06428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10352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9572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832440" y="386280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659520" y="4172040"/>
            <a:ext cx="2521800" cy="2467440"/>
            <a:chOff x="659520" y="4172040"/>
            <a:chExt cx="2521800" cy="2467440"/>
          </a:xfrm>
        </p:grpSpPr>
        <p:grpSp>
          <p:nvGrpSpPr>
            <p:cNvPr id="342" name=""/>
            <p:cNvGrpSpPr/>
            <p:nvPr/>
          </p:nvGrpSpPr>
          <p:grpSpPr>
            <a:xfrm>
              <a:off x="2433600" y="5375160"/>
              <a:ext cx="487440" cy="406440"/>
              <a:chOff x="2433600" y="5375160"/>
              <a:chExt cx="487440" cy="406440"/>
            </a:xfrm>
          </p:grpSpPr>
          <p:sp>
            <p:nvSpPr>
              <p:cNvPr id="343" name=""/>
              <p:cNvSpPr/>
              <p:nvPr/>
            </p:nvSpPr>
            <p:spPr>
              <a:xfrm>
                <a:off x="2433600" y="5375160"/>
                <a:ext cx="487440" cy="40644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36280" y="5478120"/>
                <a:ext cx="4680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681280" y="5478120"/>
                <a:ext cx="0" cy="5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688480" y="5480280"/>
                <a:ext cx="39240" cy="57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2717280" y="5533920"/>
                <a:ext cx="828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730240" y="5542200"/>
                <a:ext cx="36000" cy="66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70920" y="5607360"/>
                <a:ext cx="0" cy="6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66240" y="5596920"/>
                <a:ext cx="4824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2607120" y="5542200"/>
                <a:ext cx="22320" cy="5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653560" y="5540400"/>
                <a:ext cx="2952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2644560" y="5607360"/>
                <a:ext cx="684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49960" y="5601240"/>
                <a:ext cx="36000" cy="64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2563200" y="5607360"/>
                <a:ext cx="4140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2604960" y="5605200"/>
                <a:ext cx="32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608560" y="5668200"/>
                <a:ext cx="31680" cy="5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43480" y="5663520"/>
                <a:ext cx="1080" cy="5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640240" y="5661360"/>
                <a:ext cx="42840" cy="60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2759040" y="5672160"/>
                <a:ext cx="11520" cy="4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2795400" y="5665320"/>
                <a:ext cx="22320" cy="4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14840" y="5665320"/>
                <a:ext cx="19080" cy="5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2531160" y="5665320"/>
                <a:ext cx="30960" cy="5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563560" y="5661360"/>
                <a:ext cx="1800" cy="6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66520" y="54637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619720" y="55195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66520" y="55195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713680" y="55195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590560" y="55843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360" y="558432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702880" y="55843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750040" y="55843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55096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58804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6940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79612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62692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758320" y="565092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592720" y="5705640"/>
                <a:ext cx="2700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62944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66868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74140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77812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1736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0956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546280" y="5705640"/>
                <a:ext cx="27720" cy="33840"/>
              </a:xfrm>
              <a:prstGeom prst="ellipse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659520" y="5479920"/>
              <a:ext cx="19501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a564"/>
                  </a:solidFill>
                  <a:latin typeface="Arial"/>
                </a:rPr>
                <a:t>E-Mail S</a:t>
              </a: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zervere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Postafiók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Címlis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Disztribúciós</a:t>
              </a:r>
              <a:br>
                <a:rPr sz="1400"/>
              </a:b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lis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857680" y="4172040"/>
              <a:ext cx="32364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9" name="" descr=""/>
            <p:cNvPicPr/>
            <p:nvPr/>
          </p:nvPicPr>
          <p:blipFill>
            <a:blip r:embed="rId15"/>
            <a:stretch/>
          </p:blipFill>
          <p:spPr>
            <a:xfrm>
              <a:off x="2482920" y="4624560"/>
              <a:ext cx="511200" cy="71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smerős dia...  Címtára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38120" y="2057040"/>
            <a:ext cx="8325000" cy="2286360"/>
            <a:chOff x="438120" y="2057040"/>
            <a:chExt cx="8325000" cy="2286360"/>
          </a:xfrm>
        </p:grpSpPr>
        <p:sp>
          <p:nvSpPr>
            <p:cNvPr id="392" name=""/>
            <p:cNvSpPr/>
            <p:nvPr/>
          </p:nvSpPr>
          <p:spPr>
            <a:xfrm>
              <a:off x="2666880" y="2685960"/>
              <a:ext cx="3619800" cy="16574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3157560" y="3432240"/>
              <a:ext cx="725400" cy="482400"/>
              <a:chOff x="3157560" y="3432240"/>
              <a:chExt cx="725400" cy="482400"/>
            </a:xfrm>
          </p:grpSpPr>
          <p:sp>
            <p:nvSpPr>
              <p:cNvPr id="394" name=""/>
              <p:cNvSpPr/>
              <p:nvPr/>
            </p:nvSpPr>
            <p:spPr>
              <a:xfrm>
                <a:off x="3157560" y="3432240"/>
                <a:ext cx="725400" cy="482400"/>
              </a:xfrm>
              <a:prstGeom prst="can">
                <a:avLst>
                  <a:gd name="adj" fmla="val 13791"/>
                </a:avLst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3458520" y="3554280"/>
                <a:ext cx="6948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25840" y="3554280"/>
                <a:ext cx="0" cy="66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37000" y="3556800"/>
                <a:ext cx="58680" cy="68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3579840" y="3620880"/>
                <a:ext cx="1260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98920" y="3630600"/>
                <a:ext cx="53640" cy="79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659760" y="3708000"/>
                <a:ext cx="0" cy="8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52920" y="3695760"/>
                <a:ext cx="71640" cy="78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415680" y="3630600"/>
                <a:ext cx="33120" cy="67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3484800" y="3628080"/>
                <a:ext cx="4392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3471480" y="3708000"/>
                <a:ext cx="1044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79760" y="3700440"/>
                <a:ext cx="53640" cy="75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3350880" y="3708000"/>
                <a:ext cx="619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3412440" y="3705480"/>
                <a:ext cx="4680" cy="7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3417480" y="3780000"/>
                <a:ext cx="4716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470040" y="3774240"/>
                <a:ext cx="1800" cy="6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465000" y="3771720"/>
                <a:ext cx="63720" cy="7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3642120" y="3785040"/>
                <a:ext cx="17280" cy="54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3696120" y="3776760"/>
                <a:ext cx="33120" cy="57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24560" y="3776760"/>
                <a:ext cx="28440" cy="64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3302640" y="3776760"/>
                <a:ext cx="46080" cy="6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350880" y="3771720"/>
                <a:ext cx="2880" cy="7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504240" y="353736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434400" y="360360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504240" y="360360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574080" y="360360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391200" y="36806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461040" y="368064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558600" y="36806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628440" y="368064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32160" y="37594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387240" y="37594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508200" y="3759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696840" y="37594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445560" y="3759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641040" y="37594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94080" y="3824280"/>
                <a:ext cx="4032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49160" y="38242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507120" y="38242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15480" y="38242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70560" y="3824280"/>
                <a:ext cx="4140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28520" y="38242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270600" y="38242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325320" y="3824280"/>
                <a:ext cx="41040" cy="39960"/>
              </a:xfrm>
              <a:prstGeom prst="ellipse">
                <a:avLst/>
              </a:prstGeom>
              <a:gradFill rotWithShape="0">
                <a:gsLst>
                  <a:gs pos="0">
                    <a:srgbClr val="162539"/>
                  </a:gs>
                  <a:gs pos="50000">
                    <a:srgbClr val="30517c"/>
                  </a:gs>
                  <a:gs pos="100000">
                    <a:srgbClr val="16253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438" name="" descr=""/>
            <p:cNvPicPr/>
            <p:nvPr/>
          </p:nvPicPr>
          <p:blipFill>
            <a:blip r:embed="rId16"/>
            <a:stretch/>
          </p:blipFill>
          <p:spPr>
            <a:xfrm>
              <a:off x="3736800" y="3825720"/>
              <a:ext cx="40824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089160" y="290664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recto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981760" y="2190600"/>
              <a:ext cx="2781360" cy="857520"/>
            </a:xfrm>
            <a:prstGeom prst="line">
              <a:avLst/>
            </a:prstGeom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438120" y="2057040"/>
              <a:ext cx="2781360" cy="857160"/>
            </a:xfrm>
            <a:prstGeom prst="line">
              <a:avLst/>
            </a:prstGeom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51360" y="2854440"/>
              <a:ext cx="19335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eea564"/>
                  </a:solidFill>
                  <a:latin typeface="Arial"/>
                </a:rPr>
                <a:t>Központi MGMT</a:t>
              </a:r>
              <a:r>
                <a:rPr b="1" lang="en-US" sz="1400" spc="-1" strike="noStrike">
                  <a:solidFill>
                    <a:srgbClr val="eea564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Felhasználó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rőforrás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Biztonsá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leg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áció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cc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NS együttműködés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A problémák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3494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égi DNS-ek nem támogatják az SRV rekordokat és a dinamikus frissíté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 nem meg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cprom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og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2K DHCP Server megoldhatja, de mi van, ha statikus az IP cím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DNS együttműködés szintje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763120" cy="4474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2000 DNS a roo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UNIX DNS (bind) a roo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ét root és forwarderek használat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2000 DNS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-nek delegálunk egy  altartományt (A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indows 2000 DNS-nek delegáljuk a _tcp,  stb. altartományok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zt NE tegyü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Windows 2000 D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NS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ntegráció</a:t>
            </a:r>
            <a:br>
              <a:rPr sz="4800"/>
            </a:br>
            <a:r>
              <a:rPr b="1" lang="en-US" sz="3600" spc="-1" strike="noStrike">
                <a:solidFill>
                  <a:srgbClr val="eea564"/>
                </a:solidFill>
                <a:latin typeface="Arial"/>
              </a:rPr>
              <a:t>Windows 2000 </a:t>
            </a: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DNS a </a:t>
            </a:r>
            <a:r>
              <a:rPr b="1" lang="en-US" sz="3600" spc="-1" strike="noStrike">
                <a:solidFill>
                  <a:srgbClr val="eea564"/>
                </a:solidFill>
                <a:latin typeface="Arial"/>
              </a:rPr>
              <a:t>root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800600" y="1724040"/>
            <a:ext cx="4324320" cy="500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94200" indent="-3942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em függünk a meglévő DNS kiszolgálóktól (lecseréltük ők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em kell tesztelni az AD integráció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öbb mesterpéldányos replikáció AD integráció eseté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övidebb FQD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4200" indent="-3942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átrányo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ehet, hogy le kell cserélni a meglévő DNS kiszolgáló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polit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1219320" y="2815920"/>
            <a:ext cx="823680" cy="46044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2347920" y="2813040"/>
            <a:ext cx="14400" cy="175896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H="1" flipV="1">
            <a:off x="2677680" y="2831760"/>
            <a:ext cx="1055880" cy="4446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2038320" y="2232000"/>
            <a:ext cx="627120" cy="582480"/>
            <a:chOff x="2038320" y="2232000"/>
            <a:chExt cx="627120" cy="582480"/>
          </a:xfrm>
        </p:grpSpPr>
        <p:sp>
          <p:nvSpPr>
            <p:cNvPr id="1454" name=""/>
            <p:cNvSpPr/>
            <p:nvPr/>
          </p:nvSpPr>
          <p:spPr>
            <a:xfrm>
              <a:off x="2038320" y="2232000"/>
              <a:ext cx="627120" cy="5824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2132280" y="261576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2197440" y="261972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2262240" y="2618280"/>
              <a:ext cx="3420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 flipV="1">
              <a:off x="2299320" y="2622600"/>
              <a:ext cx="20880" cy="8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2389680" y="2618280"/>
              <a:ext cx="1692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 flipV="1">
              <a:off x="2407680" y="2621160"/>
              <a:ext cx="37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 flipV="1">
              <a:off x="2486520" y="2618280"/>
              <a:ext cx="208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2488680" y="2621160"/>
              <a:ext cx="7812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 flipV="1">
              <a:off x="2405160" y="247860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 flipV="1">
              <a:off x="2403720" y="247860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2295720" y="247860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2218680" y="247860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 flipV="1">
              <a:off x="2352240" y="2338920"/>
              <a:ext cx="46080" cy="8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2297880" y="2332440"/>
              <a:ext cx="54360" cy="9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324880" y="2282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270880" y="24242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375280" y="24242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189160" y="2565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458080" y="2565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69800" y="2565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379240" y="2565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10528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54376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29284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35836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41920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48112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16756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22948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2057400" y="4572000"/>
            <a:ext cx="627120" cy="584280"/>
            <a:chOff x="2057400" y="4572000"/>
            <a:chExt cx="627120" cy="584280"/>
          </a:xfrm>
        </p:grpSpPr>
        <p:sp>
          <p:nvSpPr>
            <p:cNvPr id="1485" name=""/>
            <p:cNvSpPr/>
            <p:nvPr/>
          </p:nvSpPr>
          <p:spPr>
            <a:xfrm>
              <a:off x="2057400" y="457200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2151360" y="495684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2216520" y="496116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2281320" y="495972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 flipV="1">
              <a:off x="2318400" y="496332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>
              <a:off x="2408760" y="495972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 flipV="1">
              <a:off x="2426760" y="496188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 flipV="1">
              <a:off x="2505600" y="495972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 flipV="1">
              <a:off x="2507760" y="496188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 flipV="1">
              <a:off x="2424240" y="481932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 flipV="1">
              <a:off x="2422800" y="481932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2314800" y="481932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2237760" y="481932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 flipV="1">
              <a:off x="2371320" y="467964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2316960" y="467316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343960" y="4623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289960" y="4764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394360" y="4764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208240" y="49060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477160" y="49060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88880" y="49060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98320" y="49060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12436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56284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1192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7744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3828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50020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18664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856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914400" y="3276720"/>
            <a:ext cx="627120" cy="583920"/>
            <a:chOff x="914400" y="3276720"/>
            <a:chExt cx="627120" cy="583920"/>
          </a:xfrm>
        </p:grpSpPr>
        <p:sp>
          <p:nvSpPr>
            <p:cNvPr id="1516" name=""/>
            <p:cNvSpPr/>
            <p:nvPr/>
          </p:nvSpPr>
          <p:spPr>
            <a:xfrm>
              <a:off x="914400" y="3276720"/>
              <a:ext cx="627120" cy="5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1008360" y="366120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1073520" y="366552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138320" y="366408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1175400" y="366768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1265760" y="366408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 flipV="1">
              <a:off x="1283760" y="366660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1362600" y="366408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1364760" y="366660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1281240" y="352404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279800" y="352404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V="1">
              <a:off x="1171800" y="352404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1094760" y="352404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1228320" y="338436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1173960" y="337788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200960" y="3327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146960" y="346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251360" y="346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6524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3416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14588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25532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98136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41984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16892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23444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29528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3572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04364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10556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3429000" y="3276720"/>
            <a:ext cx="625320" cy="583920"/>
            <a:chOff x="3429000" y="3276720"/>
            <a:chExt cx="625320" cy="583920"/>
          </a:xfrm>
        </p:grpSpPr>
        <p:sp>
          <p:nvSpPr>
            <p:cNvPr id="1547" name=""/>
            <p:cNvSpPr/>
            <p:nvPr/>
          </p:nvSpPr>
          <p:spPr>
            <a:xfrm>
              <a:off x="3429000" y="3276720"/>
              <a:ext cx="625320" cy="5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3522960" y="3661200"/>
              <a:ext cx="817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3587760" y="366552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3652560" y="366408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 flipV="1">
              <a:off x="3689280" y="366768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3779280" y="366408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 flipV="1">
              <a:off x="3798000" y="3666600"/>
              <a:ext cx="367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 flipV="1">
              <a:off x="3875760" y="366408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 flipV="1">
              <a:off x="3878640" y="3666600"/>
              <a:ext cx="777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3795120" y="3524040"/>
              <a:ext cx="7776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 flipV="1">
              <a:off x="3793680" y="352404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3685680" y="352404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V="1">
              <a:off x="3609000" y="3524040"/>
              <a:ext cx="7884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 flipV="1">
              <a:off x="3742200" y="338436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V="1">
              <a:off x="3687840" y="3377880"/>
              <a:ext cx="5400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714840" y="3327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660840" y="346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765240" y="346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57948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84768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65976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6884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9596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9330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6828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74832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8088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87036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55788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6198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7" name=""/>
          <p:cNvSpPr/>
          <p:nvPr/>
        </p:nvSpPr>
        <p:spPr>
          <a:xfrm>
            <a:off x="1838880" y="190800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uto.hu (Windows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600" y="396252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zerviz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670840" y="472428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ales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814920" y="335268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ktg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803160" y="2097000"/>
            <a:ext cx="3616560" cy="3270240"/>
          </a:xfrm>
          <a:custGeom>
            <a:avLst/>
            <a:gdLst/>
            <a:ahLst/>
            <a:rect l="l" t="t" r="r" b="b"/>
            <a:pathLst>
              <a:path w="2278" h="2060">
                <a:moveTo>
                  <a:pt x="620" y="136"/>
                </a:moveTo>
                <a:cubicBezTo>
                  <a:pt x="602" y="205"/>
                  <a:pt x="538" y="252"/>
                  <a:pt x="471" y="267"/>
                </a:cubicBezTo>
                <a:cubicBezTo>
                  <a:pt x="430" y="295"/>
                  <a:pt x="386" y="294"/>
                  <a:pt x="341" y="311"/>
                </a:cubicBezTo>
                <a:cubicBezTo>
                  <a:pt x="329" y="316"/>
                  <a:pt x="318" y="323"/>
                  <a:pt x="306" y="328"/>
                </a:cubicBezTo>
                <a:cubicBezTo>
                  <a:pt x="297" y="332"/>
                  <a:pt x="288" y="334"/>
                  <a:pt x="279" y="337"/>
                </a:cubicBezTo>
                <a:cubicBezTo>
                  <a:pt x="173" y="410"/>
                  <a:pt x="325" y="309"/>
                  <a:pt x="227" y="363"/>
                </a:cubicBezTo>
                <a:cubicBezTo>
                  <a:pt x="189" y="384"/>
                  <a:pt x="155" y="415"/>
                  <a:pt x="122" y="442"/>
                </a:cubicBezTo>
                <a:cubicBezTo>
                  <a:pt x="113" y="450"/>
                  <a:pt x="104" y="458"/>
                  <a:pt x="96" y="468"/>
                </a:cubicBezTo>
                <a:cubicBezTo>
                  <a:pt x="83" y="484"/>
                  <a:pt x="61" y="520"/>
                  <a:pt x="61" y="520"/>
                </a:cubicBezTo>
                <a:cubicBezTo>
                  <a:pt x="50" y="558"/>
                  <a:pt x="33" y="595"/>
                  <a:pt x="26" y="634"/>
                </a:cubicBezTo>
                <a:cubicBezTo>
                  <a:pt x="16" y="692"/>
                  <a:pt x="15" y="751"/>
                  <a:pt x="0" y="808"/>
                </a:cubicBezTo>
                <a:cubicBezTo>
                  <a:pt x="3" y="898"/>
                  <a:pt x="4" y="989"/>
                  <a:pt x="9" y="1079"/>
                </a:cubicBezTo>
                <a:cubicBezTo>
                  <a:pt x="18" y="1248"/>
                  <a:pt x="95" y="1419"/>
                  <a:pt x="183" y="1559"/>
                </a:cubicBezTo>
                <a:cubicBezTo>
                  <a:pt x="220" y="1618"/>
                  <a:pt x="263" y="1677"/>
                  <a:pt x="323" y="1716"/>
                </a:cubicBezTo>
                <a:cubicBezTo>
                  <a:pt x="367" y="1780"/>
                  <a:pt x="429" y="1822"/>
                  <a:pt x="498" y="1856"/>
                </a:cubicBezTo>
                <a:cubicBezTo>
                  <a:pt x="509" y="1861"/>
                  <a:pt x="521" y="1861"/>
                  <a:pt x="533" y="1864"/>
                </a:cubicBezTo>
                <a:cubicBezTo>
                  <a:pt x="556" y="1870"/>
                  <a:pt x="602" y="1882"/>
                  <a:pt x="602" y="1882"/>
                </a:cubicBezTo>
                <a:cubicBezTo>
                  <a:pt x="699" y="1943"/>
                  <a:pt x="837" y="2002"/>
                  <a:pt x="951" y="2022"/>
                </a:cubicBezTo>
                <a:cubicBezTo>
                  <a:pt x="1048" y="2060"/>
                  <a:pt x="1136" y="2041"/>
                  <a:pt x="1239" y="2022"/>
                </a:cubicBezTo>
                <a:cubicBezTo>
                  <a:pt x="1289" y="2001"/>
                  <a:pt x="1352" y="1982"/>
                  <a:pt x="1397" y="1952"/>
                </a:cubicBezTo>
                <a:cubicBezTo>
                  <a:pt x="1438" y="1924"/>
                  <a:pt x="1470" y="1892"/>
                  <a:pt x="1510" y="1864"/>
                </a:cubicBezTo>
                <a:cubicBezTo>
                  <a:pt x="1538" y="1783"/>
                  <a:pt x="1603" y="1694"/>
                  <a:pt x="1667" y="1638"/>
                </a:cubicBezTo>
                <a:cubicBezTo>
                  <a:pt x="1693" y="1616"/>
                  <a:pt x="1717" y="1579"/>
                  <a:pt x="1746" y="1559"/>
                </a:cubicBezTo>
                <a:cubicBezTo>
                  <a:pt x="1796" y="1524"/>
                  <a:pt x="1848" y="1494"/>
                  <a:pt x="1894" y="1454"/>
                </a:cubicBezTo>
                <a:cubicBezTo>
                  <a:pt x="1941" y="1414"/>
                  <a:pt x="1985" y="1370"/>
                  <a:pt x="2034" y="1332"/>
                </a:cubicBezTo>
                <a:cubicBezTo>
                  <a:pt x="2059" y="1313"/>
                  <a:pt x="2090" y="1302"/>
                  <a:pt x="2112" y="1280"/>
                </a:cubicBezTo>
                <a:cubicBezTo>
                  <a:pt x="2163" y="1229"/>
                  <a:pt x="2139" y="1247"/>
                  <a:pt x="2182" y="1219"/>
                </a:cubicBezTo>
                <a:cubicBezTo>
                  <a:pt x="2241" y="1130"/>
                  <a:pt x="2260" y="1106"/>
                  <a:pt x="2278" y="1000"/>
                </a:cubicBezTo>
                <a:cubicBezTo>
                  <a:pt x="2274" y="942"/>
                  <a:pt x="2278" y="866"/>
                  <a:pt x="2252" y="808"/>
                </a:cubicBezTo>
                <a:cubicBezTo>
                  <a:pt x="2207" y="706"/>
                  <a:pt x="2120" y="663"/>
                  <a:pt x="2034" y="599"/>
                </a:cubicBezTo>
                <a:cubicBezTo>
                  <a:pt x="1995" y="570"/>
                  <a:pt x="1959" y="541"/>
                  <a:pt x="1920" y="512"/>
                </a:cubicBezTo>
                <a:cubicBezTo>
                  <a:pt x="1874" y="478"/>
                  <a:pt x="1817" y="418"/>
                  <a:pt x="1763" y="390"/>
                </a:cubicBezTo>
                <a:cubicBezTo>
                  <a:pt x="1728" y="372"/>
                  <a:pt x="1724" y="373"/>
                  <a:pt x="1693" y="346"/>
                </a:cubicBezTo>
                <a:cubicBezTo>
                  <a:pt x="1660" y="318"/>
                  <a:pt x="1634" y="283"/>
                  <a:pt x="1597" y="259"/>
                </a:cubicBezTo>
                <a:cubicBezTo>
                  <a:pt x="1565" y="207"/>
                  <a:pt x="1589" y="238"/>
                  <a:pt x="1510" y="180"/>
                </a:cubicBezTo>
                <a:cubicBezTo>
                  <a:pt x="1463" y="145"/>
                  <a:pt x="1407" y="97"/>
                  <a:pt x="1353" y="75"/>
                </a:cubicBezTo>
                <a:cubicBezTo>
                  <a:pt x="1297" y="53"/>
                  <a:pt x="1259" y="39"/>
                  <a:pt x="1205" y="23"/>
                </a:cubicBezTo>
                <a:cubicBezTo>
                  <a:pt x="1187" y="18"/>
                  <a:pt x="1152" y="6"/>
                  <a:pt x="1152" y="6"/>
                </a:cubicBezTo>
                <a:cubicBezTo>
                  <a:pt x="869" y="13"/>
                  <a:pt x="916" y="0"/>
                  <a:pt x="759" y="32"/>
                </a:cubicBezTo>
                <a:cubicBezTo>
                  <a:pt x="729" y="47"/>
                  <a:pt x="700" y="57"/>
                  <a:pt x="672" y="75"/>
                </a:cubicBezTo>
                <a:cubicBezTo>
                  <a:pt x="651" y="138"/>
                  <a:pt x="680" y="58"/>
                  <a:pt x="637" y="145"/>
                </a:cubicBezTo>
                <a:cubicBezTo>
                  <a:pt x="633" y="153"/>
                  <a:pt x="637" y="175"/>
                  <a:pt x="629" y="171"/>
                </a:cubicBezTo>
                <a:cubicBezTo>
                  <a:pt x="618" y="165"/>
                  <a:pt x="623" y="148"/>
                  <a:pt x="620" y="1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NS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ntegráció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1., Két root, forwarderek használata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552240" y="4419360"/>
            <a:ext cx="8591400" cy="2391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94200" indent="-39420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8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egtarthatjuk a meglévő DNS kiszolgálót (nincs politik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8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egtarthatjuk a létező tartomány struktúránk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8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gységes névté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4200" indent="-39420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átrányo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720" indent="-342720">
              <a:lnSpc>
                <a:spcPct val="8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em használhatunk </a:t>
            </a:r>
            <a:r>
              <a:rPr b="1" lang="hu-HU" sz="2000" spc="-1" strike="noStrike">
                <a:solidFill>
                  <a:srgbClr val="eea564"/>
                </a:solidFill>
                <a:latin typeface="Arial"/>
              </a:rPr>
              <a:t>egyező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hostneveket, pl. www.szerviz.auto.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3600" y="2209680"/>
            <a:ext cx="4482000" cy="2090160"/>
            <a:chOff x="3600" y="2209680"/>
            <a:chExt cx="4482000" cy="2090160"/>
          </a:xfrm>
        </p:grpSpPr>
        <p:sp>
          <p:nvSpPr>
            <p:cNvPr id="1585" name=""/>
            <p:cNvSpPr/>
            <p:nvPr/>
          </p:nvSpPr>
          <p:spPr>
            <a:xfrm>
              <a:off x="1988280" y="2438280"/>
              <a:ext cx="24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uto.hu (Windows 2000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600" y="3962520"/>
              <a:ext cx="164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szerviz.auto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518560" y="3352680"/>
              <a:ext cx="147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sales.auto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V="1">
              <a:off x="1143000" y="2819520"/>
              <a:ext cx="228600" cy="45720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 flipV="1">
              <a:off x="1980720" y="2819520"/>
              <a:ext cx="228600" cy="45720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0" name=""/>
            <p:cNvGrpSpPr/>
            <p:nvPr/>
          </p:nvGrpSpPr>
          <p:grpSpPr>
            <a:xfrm>
              <a:off x="1371600" y="2209680"/>
              <a:ext cx="627120" cy="582840"/>
              <a:chOff x="1371600" y="2209680"/>
              <a:chExt cx="627120" cy="582840"/>
            </a:xfrm>
          </p:grpSpPr>
          <p:sp>
            <p:nvSpPr>
              <p:cNvPr id="1591" name=""/>
              <p:cNvSpPr/>
              <p:nvPr/>
            </p:nvSpPr>
            <p:spPr>
              <a:xfrm>
                <a:off x="1371600" y="2209680"/>
                <a:ext cx="627120" cy="5828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V="1">
                <a:off x="1465560" y="2593440"/>
                <a:ext cx="82080" cy="90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1530720" y="2597760"/>
                <a:ext cx="20880" cy="86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1595520" y="2595960"/>
                <a:ext cx="34200" cy="87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H="1" flipV="1">
                <a:off x="1632600" y="2599920"/>
                <a:ext cx="20880" cy="83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1722960" y="2595960"/>
                <a:ext cx="16920" cy="87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 flipV="1">
                <a:off x="1740960" y="2599200"/>
                <a:ext cx="37080" cy="8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 flipV="1">
                <a:off x="1819800" y="2595960"/>
                <a:ext cx="20880" cy="87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 flipV="1">
                <a:off x="1821960" y="2599200"/>
                <a:ext cx="78120" cy="8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 flipV="1">
                <a:off x="1738440" y="2456280"/>
                <a:ext cx="7812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 flipV="1">
                <a:off x="1737000" y="2456280"/>
                <a:ext cx="108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1629000" y="2456280"/>
                <a:ext cx="36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>
                <a:off x="1551960" y="2456280"/>
                <a:ext cx="792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 flipV="1">
                <a:off x="1685520" y="2316600"/>
                <a:ext cx="46080" cy="8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>
                <a:off x="1631160" y="2310120"/>
                <a:ext cx="54360" cy="9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658160" y="226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604160" y="240192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708560" y="240192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522440" y="25430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791360" y="25430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603080" y="25430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712520" y="25430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438560" y="26841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877040" y="26841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626120" y="26841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691640" y="26841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752480" y="26841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814400" y="26841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500840" y="26841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562760" y="26841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1905120" y="3276720"/>
              <a:ext cx="627120" cy="583920"/>
              <a:chOff x="1905120" y="3276720"/>
              <a:chExt cx="627120" cy="583920"/>
            </a:xfrm>
          </p:grpSpPr>
          <p:sp>
            <p:nvSpPr>
              <p:cNvPr id="1622" name=""/>
              <p:cNvSpPr/>
              <p:nvPr/>
            </p:nvSpPr>
            <p:spPr>
              <a:xfrm>
                <a:off x="1905120" y="3276720"/>
                <a:ext cx="627120" cy="583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V="1">
                <a:off x="1999080" y="3661200"/>
                <a:ext cx="82080" cy="90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2064240" y="3665520"/>
                <a:ext cx="20880" cy="86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V="1">
                <a:off x="2129040" y="3664080"/>
                <a:ext cx="3420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 flipV="1">
                <a:off x="2166120" y="3667680"/>
                <a:ext cx="20880" cy="83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2256480" y="3664080"/>
                <a:ext cx="1692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 flipV="1">
                <a:off x="2274480" y="3666600"/>
                <a:ext cx="37080" cy="8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H="1" flipV="1">
                <a:off x="2353320" y="3664080"/>
                <a:ext cx="2088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 flipV="1">
                <a:off x="2355480" y="3666600"/>
                <a:ext cx="78120" cy="8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 flipV="1">
                <a:off x="2271960" y="3524040"/>
                <a:ext cx="7812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 flipV="1">
                <a:off x="2270520" y="3524040"/>
                <a:ext cx="108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2162520" y="3524040"/>
                <a:ext cx="36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2085480" y="3524040"/>
                <a:ext cx="792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H="1" flipV="1">
                <a:off x="2219040" y="3384360"/>
                <a:ext cx="46080" cy="8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V="1">
                <a:off x="2164680" y="3377880"/>
                <a:ext cx="54360" cy="9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191680" y="33278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137680" y="346932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242080" y="346932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055960" y="361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324880" y="361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136600" y="361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246040" y="361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97208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41056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15964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22516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28600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34792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03436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09628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2" name=""/>
            <p:cNvGrpSpPr/>
            <p:nvPr/>
          </p:nvGrpSpPr>
          <p:grpSpPr>
            <a:xfrm>
              <a:off x="838080" y="3276720"/>
              <a:ext cx="627120" cy="583920"/>
              <a:chOff x="838080" y="3276720"/>
              <a:chExt cx="627120" cy="583920"/>
            </a:xfrm>
          </p:grpSpPr>
          <p:sp>
            <p:nvSpPr>
              <p:cNvPr id="1653" name=""/>
              <p:cNvSpPr/>
              <p:nvPr/>
            </p:nvSpPr>
            <p:spPr>
              <a:xfrm>
                <a:off x="838080" y="3276720"/>
                <a:ext cx="627120" cy="5839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932040" y="3661200"/>
                <a:ext cx="82080" cy="90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997200" y="3665520"/>
                <a:ext cx="20880" cy="86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1062000" y="3664080"/>
                <a:ext cx="3420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H="1" flipV="1">
                <a:off x="1099080" y="3667680"/>
                <a:ext cx="20880" cy="83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1189440" y="3664080"/>
                <a:ext cx="1692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 flipV="1">
                <a:off x="1207440" y="3666600"/>
                <a:ext cx="37080" cy="8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 flipV="1">
                <a:off x="1286280" y="3664080"/>
                <a:ext cx="2088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 flipV="1">
                <a:off x="1288440" y="3666600"/>
                <a:ext cx="78120" cy="8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H="1" flipV="1">
                <a:off x="1204920" y="3524040"/>
                <a:ext cx="7812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 flipV="1">
                <a:off x="1203480" y="3524040"/>
                <a:ext cx="108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1095480" y="3524040"/>
                <a:ext cx="36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1018440" y="3524040"/>
                <a:ext cx="792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 flipV="1">
                <a:off x="1152000" y="3384360"/>
                <a:ext cx="46080" cy="8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1097640" y="3377880"/>
                <a:ext cx="54360" cy="9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124640" y="33278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070640" y="346932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175040" y="346932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988920" y="361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257840" y="361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9560" y="361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179000" y="36104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90504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34352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09260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15812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896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28088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96732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029240" y="3752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3" name=""/>
          <p:cNvGrpSpPr/>
          <p:nvPr/>
        </p:nvGrpSpPr>
        <p:grpSpPr>
          <a:xfrm>
            <a:off x="4495680" y="2209680"/>
            <a:ext cx="2210040" cy="381240"/>
            <a:chOff x="4495680" y="2209680"/>
            <a:chExt cx="2210040" cy="381240"/>
          </a:xfrm>
        </p:grpSpPr>
        <p:sp>
          <p:nvSpPr>
            <p:cNvPr id="1684" name=""/>
            <p:cNvSpPr/>
            <p:nvPr/>
          </p:nvSpPr>
          <p:spPr>
            <a:xfrm>
              <a:off x="4495680" y="2590920"/>
              <a:ext cx="22100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954320" y="2209680"/>
              <a:ext cx="93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forward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4572000" y="2286000"/>
            <a:ext cx="4648320" cy="1650960"/>
            <a:chOff x="4572000" y="2286000"/>
            <a:chExt cx="4648320" cy="1650960"/>
          </a:xfrm>
        </p:grpSpPr>
        <p:sp>
          <p:nvSpPr>
            <p:cNvPr id="1687" name=""/>
            <p:cNvSpPr/>
            <p:nvPr/>
          </p:nvSpPr>
          <p:spPr>
            <a:xfrm>
              <a:off x="7696080" y="342900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bolt.auto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396200" y="2438280"/>
              <a:ext cx="15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uto.hu (UNIX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6477120" y="2895480"/>
              <a:ext cx="228600" cy="45720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 flipV="1">
              <a:off x="7314840" y="2895480"/>
              <a:ext cx="228600" cy="457200"/>
            </a:xfrm>
            <a:prstGeom prst="line">
              <a:avLst/>
            </a:prstGeom>
            <a:ln w="2556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91" name=""/>
            <p:cNvGrpSpPr/>
            <p:nvPr/>
          </p:nvGrpSpPr>
          <p:grpSpPr>
            <a:xfrm>
              <a:off x="6705720" y="2286000"/>
              <a:ext cx="627120" cy="582480"/>
              <a:chOff x="6705720" y="2286000"/>
              <a:chExt cx="627120" cy="582480"/>
            </a:xfrm>
          </p:grpSpPr>
          <p:sp>
            <p:nvSpPr>
              <p:cNvPr id="1692" name=""/>
              <p:cNvSpPr/>
              <p:nvPr/>
            </p:nvSpPr>
            <p:spPr>
              <a:xfrm>
                <a:off x="6705720" y="2286000"/>
                <a:ext cx="627120" cy="582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6799680" y="2669760"/>
                <a:ext cx="82080" cy="90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6864840" y="2673720"/>
                <a:ext cx="20880" cy="86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6929640" y="2672280"/>
                <a:ext cx="34200" cy="87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 flipV="1">
                <a:off x="6966720" y="2676600"/>
                <a:ext cx="20880" cy="8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7057080" y="2672280"/>
                <a:ext cx="16920" cy="87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 flipV="1">
                <a:off x="7075080" y="2675160"/>
                <a:ext cx="37080" cy="8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7153920" y="2672280"/>
                <a:ext cx="20880" cy="87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 flipV="1">
                <a:off x="7156080" y="2675160"/>
                <a:ext cx="78120" cy="8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7072560" y="2532600"/>
                <a:ext cx="7812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 flipV="1">
                <a:off x="7071120" y="2532600"/>
                <a:ext cx="108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6963120" y="2532600"/>
                <a:ext cx="36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6886080" y="2532600"/>
                <a:ext cx="792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 flipV="1">
                <a:off x="7019640" y="2392920"/>
                <a:ext cx="46080" cy="8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6965280" y="2386440"/>
                <a:ext cx="54360" cy="9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992280" y="233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8280" y="24782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042680" y="247824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856560" y="26190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125480" y="26190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937200" y="26190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046640" y="26190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772680" y="27604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211160" y="27604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960240" y="27604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025760" y="27604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086600" y="27604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148520" y="27604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834960" y="27604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896880" y="27604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2" name=""/>
            <p:cNvGrpSpPr/>
            <p:nvPr/>
          </p:nvGrpSpPr>
          <p:grpSpPr>
            <a:xfrm>
              <a:off x="7238880" y="3352680"/>
              <a:ext cx="627120" cy="584280"/>
              <a:chOff x="7238880" y="3352680"/>
              <a:chExt cx="627120" cy="584280"/>
            </a:xfrm>
          </p:grpSpPr>
          <p:sp>
            <p:nvSpPr>
              <p:cNvPr id="1723" name=""/>
              <p:cNvSpPr/>
              <p:nvPr/>
            </p:nvSpPr>
            <p:spPr>
              <a:xfrm>
                <a:off x="7238880" y="3352680"/>
                <a:ext cx="627120" cy="58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V="1">
                <a:off x="7332840" y="3737520"/>
                <a:ext cx="82080" cy="90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V="1">
                <a:off x="7398000" y="3741840"/>
                <a:ext cx="20880" cy="86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V="1">
                <a:off x="7462800" y="3740400"/>
                <a:ext cx="3420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 flipV="1">
                <a:off x="7499880" y="3744000"/>
                <a:ext cx="20880" cy="83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7590240" y="3740400"/>
                <a:ext cx="1692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 flipV="1">
                <a:off x="7608240" y="3742560"/>
                <a:ext cx="37080" cy="8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 flipV="1">
                <a:off x="7687080" y="3740400"/>
                <a:ext cx="2088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 flipV="1">
                <a:off x="7689240" y="3742560"/>
                <a:ext cx="78120" cy="8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 flipV="1">
                <a:off x="7605720" y="3600000"/>
                <a:ext cx="7812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 flipV="1">
                <a:off x="7604280" y="3600000"/>
                <a:ext cx="108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V="1">
                <a:off x="7496280" y="3600000"/>
                <a:ext cx="36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7419240" y="3600000"/>
                <a:ext cx="792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 flipV="1">
                <a:off x="7552800" y="3460320"/>
                <a:ext cx="46080" cy="8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7498440" y="3453840"/>
                <a:ext cx="54360" cy="9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525440" y="34038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471440" y="3545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575840" y="3545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389720" y="368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658640" y="368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470360" y="368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579800" y="368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30584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74432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49340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55892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61976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68168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36812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43004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6172200" y="3352680"/>
              <a:ext cx="627120" cy="584280"/>
              <a:chOff x="6172200" y="3352680"/>
              <a:chExt cx="627120" cy="584280"/>
            </a:xfrm>
          </p:grpSpPr>
          <p:sp>
            <p:nvSpPr>
              <p:cNvPr id="1754" name=""/>
              <p:cNvSpPr/>
              <p:nvPr/>
            </p:nvSpPr>
            <p:spPr>
              <a:xfrm>
                <a:off x="6172200" y="3352680"/>
                <a:ext cx="627120" cy="5842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1e0e1e"/>
                  </a:gs>
                  <a:gs pos="100000">
                    <a:srgbClr val="743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V="1">
                <a:off x="6266160" y="3737520"/>
                <a:ext cx="82080" cy="90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6331320" y="3741840"/>
                <a:ext cx="20880" cy="86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V="1">
                <a:off x="6396120" y="3740400"/>
                <a:ext cx="3420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H="1" flipV="1">
                <a:off x="6433200" y="3744000"/>
                <a:ext cx="20880" cy="83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V="1">
                <a:off x="6523560" y="3740400"/>
                <a:ext cx="1692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 flipV="1">
                <a:off x="6541560" y="3742560"/>
                <a:ext cx="37080" cy="8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 flipV="1">
                <a:off x="6620400" y="3740400"/>
                <a:ext cx="20880" cy="8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 flipV="1">
                <a:off x="6622560" y="3742560"/>
                <a:ext cx="78120" cy="8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 flipV="1">
                <a:off x="6539040" y="3600000"/>
                <a:ext cx="7812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H="1" flipV="1">
                <a:off x="6537600" y="3600000"/>
                <a:ext cx="108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6429600" y="3600000"/>
                <a:ext cx="36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V="1">
                <a:off x="6352560" y="3600000"/>
                <a:ext cx="79200" cy="86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 flipV="1">
                <a:off x="6486120" y="3460320"/>
                <a:ext cx="46080" cy="8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V="1">
                <a:off x="6431760" y="3453840"/>
                <a:ext cx="54360" cy="9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458760" y="34038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404760" y="3545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509160" y="354528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3040" y="368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591960" y="368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403680" y="368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513120" y="368676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23916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67764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42672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49224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55308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661500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30144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6363360" y="3828600"/>
                <a:ext cx="55800" cy="5508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4" name=""/>
            <p:cNvSpPr/>
            <p:nvPr/>
          </p:nvSpPr>
          <p:spPr>
            <a:xfrm>
              <a:off x="4572000" y="34290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szerviz.auto.h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5" name=""/>
          <p:cNvSpPr/>
          <p:nvPr/>
        </p:nvSpPr>
        <p:spPr>
          <a:xfrm>
            <a:off x="1204920" y="3546360"/>
            <a:ext cx="5362560" cy="970200"/>
          </a:xfrm>
          <a:custGeom>
            <a:avLst/>
            <a:gdLst/>
            <a:ahLst/>
            <a:rect l="l" t="t" r="r" b="b"/>
            <a:pathLst>
              <a:path w="3378" h="611">
                <a:moveTo>
                  <a:pt x="0" y="70"/>
                </a:moveTo>
                <a:cubicBezTo>
                  <a:pt x="49" y="46"/>
                  <a:pt x="92" y="25"/>
                  <a:pt x="140" y="0"/>
                </a:cubicBezTo>
                <a:cubicBezTo>
                  <a:pt x="232" y="16"/>
                  <a:pt x="228" y="2"/>
                  <a:pt x="288" y="44"/>
                </a:cubicBezTo>
                <a:cubicBezTo>
                  <a:pt x="357" y="92"/>
                  <a:pt x="370" y="160"/>
                  <a:pt x="410" y="227"/>
                </a:cubicBezTo>
                <a:cubicBezTo>
                  <a:pt x="474" y="333"/>
                  <a:pt x="564" y="448"/>
                  <a:pt x="690" y="480"/>
                </a:cubicBezTo>
                <a:cubicBezTo>
                  <a:pt x="747" y="520"/>
                  <a:pt x="838" y="531"/>
                  <a:pt x="908" y="541"/>
                </a:cubicBezTo>
                <a:cubicBezTo>
                  <a:pt x="1047" y="560"/>
                  <a:pt x="1190" y="571"/>
                  <a:pt x="1327" y="602"/>
                </a:cubicBezTo>
                <a:cubicBezTo>
                  <a:pt x="1721" y="598"/>
                  <a:pt x="2094" y="611"/>
                  <a:pt x="2479" y="567"/>
                </a:cubicBezTo>
                <a:cubicBezTo>
                  <a:pt x="2549" y="545"/>
                  <a:pt x="2619" y="530"/>
                  <a:pt x="2688" y="506"/>
                </a:cubicBezTo>
                <a:cubicBezTo>
                  <a:pt x="2719" y="495"/>
                  <a:pt x="2752" y="496"/>
                  <a:pt x="2784" y="489"/>
                </a:cubicBezTo>
                <a:cubicBezTo>
                  <a:pt x="2870" y="471"/>
                  <a:pt x="2973" y="463"/>
                  <a:pt x="3055" y="428"/>
                </a:cubicBezTo>
                <a:cubicBezTo>
                  <a:pt x="3114" y="403"/>
                  <a:pt x="3157" y="369"/>
                  <a:pt x="3212" y="341"/>
                </a:cubicBezTo>
                <a:cubicBezTo>
                  <a:pt x="3228" y="333"/>
                  <a:pt x="3259" y="319"/>
                  <a:pt x="3273" y="306"/>
                </a:cubicBezTo>
                <a:cubicBezTo>
                  <a:pt x="3289" y="292"/>
                  <a:pt x="3302" y="277"/>
                  <a:pt x="3317" y="262"/>
                </a:cubicBezTo>
                <a:cubicBezTo>
                  <a:pt x="3332" y="247"/>
                  <a:pt x="3352" y="210"/>
                  <a:pt x="3352" y="210"/>
                </a:cubicBezTo>
                <a:cubicBezTo>
                  <a:pt x="3363" y="172"/>
                  <a:pt x="3378" y="136"/>
                  <a:pt x="3378" y="96"/>
                </a:cubicBezTo>
              </a:path>
            </a:pathLst>
          </a:custGeom>
          <a:noFill/>
          <a:ln w="2844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84200" y="1951200"/>
            <a:ext cx="2359080" cy="2260440"/>
          </a:xfrm>
          <a:custGeom>
            <a:avLst/>
            <a:gdLst/>
            <a:ahLst/>
            <a:rect l="l" t="t" r="r" b="b"/>
            <a:pathLst>
              <a:path w="1486" h="1424">
                <a:moveTo>
                  <a:pt x="576" y="10"/>
                </a:moveTo>
                <a:cubicBezTo>
                  <a:pt x="546" y="56"/>
                  <a:pt x="523" y="105"/>
                  <a:pt x="480" y="141"/>
                </a:cubicBezTo>
                <a:cubicBezTo>
                  <a:pt x="458" y="159"/>
                  <a:pt x="429" y="171"/>
                  <a:pt x="411" y="194"/>
                </a:cubicBezTo>
                <a:cubicBezTo>
                  <a:pt x="402" y="205"/>
                  <a:pt x="394" y="218"/>
                  <a:pt x="384" y="228"/>
                </a:cubicBezTo>
                <a:cubicBezTo>
                  <a:pt x="352" y="259"/>
                  <a:pt x="344" y="235"/>
                  <a:pt x="315" y="290"/>
                </a:cubicBezTo>
                <a:cubicBezTo>
                  <a:pt x="287" y="342"/>
                  <a:pt x="233" y="423"/>
                  <a:pt x="192" y="464"/>
                </a:cubicBezTo>
                <a:cubicBezTo>
                  <a:pt x="166" y="490"/>
                  <a:pt x="135" y="512"/>
                  <a:pt x="114" y="543"/>
                </a:cubicBezTo>
                <a:cubicBezTo>
                  <a:pt x="73" y="604"/>
                  <a:pt x="96" y="584"/>
                  <a:pt x="53" y="612"/>
                </a:cubicBezTo>
                <a:cubicBezTo>
                  <a:pt x="31" y="678"/>
                  <a:pt x="60" y="600"/>
                  <a:pt x="27" y="665"/>
                </a:cubicBezTo>
                <a:cubicBezTo>
                  <a:pt x="12" y="695"/>
                  <a:pt x="11" y="730"/>
                  <a:pt x="0" y="761"/>
                </a:cubicBezTo>
                <a:cubicBezTo>
                  <a:pt x="7" y="909"/>
                  <a:pt x="17" y="1000"/>
                  <a:pt x="62" y="1136"/>
                </a:cubicBezTo>
                <a:cubicBezTo>
                  <a:pt x="80" y="1189"/>
                  <a:pt x="121" y="1252"/>
                  <a:pt x="175" y="1276"/>
                </a:cubicBezTo>
                <a:cubicBezTo>
                  <a:pt x="246" y="1307"/>
                  <a:pt x="251" y="1306"/>
                  <a:pt x="306" y="1319"/>
                </a:cubicBezTo>
                <a:cubicBezTo>
                  <a:pt x="416" y="1376"/>
                  <a:pt x="543" y="1386"/>
                  <a:pt x="664" y="1398"/>
                </a:cubicBezTo>
                <a:cubicBezTo>
                  <a:pt x="722" y="1410"/>
                  <a:pt x="780" y="1412"/>
                  <a:pt x="838" y="1424"/>
                </a:cubicBezTo>
                <a:cubicBezTo>
                  <a:pt x="949" y="1421"/>
                  <a:pt x="1059" y="1420"/>
                  <a:pt x="1170" y="1415"/>
                </a:cubicBezTo>
                <a:cubicBezTo>
                  <a:pt x="1250" y="1411"/>
                  <a:pt x="1325" y="1344"/>
                  <a:pt x="1397" y="1319"/>
                </a:cubicBezTo>
                <a:cubicBezTo>
                  <a:pt x="1445" y="1255"/>
                  <a:pt x="1468" y="1213"/>
                  <a:pt x="1484" y="1136"/>
                </a:cubicBezTo>
                <a:cubicBezTo>
                  <a:pt x="1481" y="1087"/>
                  <a:pt x="1486" y="1036"/>
                  <a:pt x="1475" y="988"/>
                </a:cubicBezTo>
                <a:cubicBezTo>
                  <a:pt x="1470" y="967"/>
                  <a:pt x="1452" y="953"/>
                  <a:pt x="1440" y="935"/>
                </a:cubicBezTo>
                <a:cubicBezTo>
                  <a:pt x="1413" y="894"/>
                  <a:pt x="1383" y="857"/>
                  <a:pt x="1362" y="813"/>
                </a:cubicBezTo>
                <a:cubicBezTo>
                  <a:pt x="1345" y="731"/>
                  <a:pt x="1302" y="661"/>
                  <a:pt x="1266" y="586"/>
                </a:cubicBezTo>
                <a:cubicBezTo>
                  <a:pt x="1243" y="538"/>
                  <a:pt x="1229" y="479"/>
                  <a:pt x="1214" y="429"/>
                </a:cubicBezTo>
                <a:cubicBezTo>
                  <a:pt x="1198" y="376"/>
                  <a:pt x="1174" y="323"/>
                  <a:pt x="1152" y="272"/>
                </a:cubicBezTo>
                <a:cubicBezTo>
                  <a:pt x="1143" y="252"/>
                  <a:pt x="1138" y="229"/>
                  <a:pt x="1126" y="211"/>
                </a:cubicBezTo>
                <a:cubicBezTo>
                  <a:pt x="1113" y="192"/>
                  <a:pt x="1100" y="174"/>
                  <a:pt x="1083" y="159"/>
                </a:cubicBezTo>
                <a:cubicBezTo>
                  <a:pt x="1067" y="145"/>
                  <a:pt x="1045" y="139"/>
                  <a:pt x="1030" y="124"/>
                </a:cubicBezTo>
                <a:cubicBezTo>
                  <a:pt x="1007" y="99"/>
                  <a:pt x="1021" y="108"/>
                  <a:pt x="987" y="98"/>
                </a:cubicBezTo>
                <a:cubicBezTo>
                  <a:pt x="860" y="0"/>
                  <a:pt x="732" y="10"/>
                  <a:pt x="576" y="1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021360" y="2160720"/>
            <a:ext cx="2117880" cy="2235240"/>
          </a:xfrm>
          <a:custGeom>
            <a:avLst/>
            <a:gdLst/>
            <a:ahLst/>
            <a:rect l="l" t="t" r="r" b="b"/>
            <a:pathLst>
              <a:path w="1334" h="1408">
                <a:moveTo>
                  <a:pt x="501" y="27"/>
                </a:moveTo>
                <a:cubicBezTo>
                  <a:pt x="421" y="107"/>
                  <a:pt x="378" y="188"/>
                  <a:pt x="318" y="280"/>
                </a:cubicBezTo>
                <a:cubicBezTo>
                  <a:pt x="308" y="321"/>
                  <a:pt x="267" y="416"/>
                  <a:pt x="239" y="446"/>
                </a:cubicBezTo>
                <a:cubicBezTo>
                  <a:pt x="227" y="482"/>
                  <a:pt x="219" y="503"/>
                  <a:pt x="187" y="524"/>
                </a:cubicBezTo>
                <a:cubicBezTo>
                  <a:pt x="174" y="543"/>
                  <a:pt x="156" y="557"/>
                  <a:pt x="143" y="576"/>
                </a:cubicBezTo>
                <a:cubicBezTo>
                  <a:pt x="138" y="584"/>
                  <a:pt x="139" y="595"/>
                  <a:pt x="134" y="603"/>
                </a:cubicBezTo>
                <a:cubicBezTo>
                  <a:pt x="124" y="616"/>
                  <a:pt x="111" y="626"/>
                  <a:pt x="99" y="638"/>
                </a:cubicBezTo>
                <a:cubicBezTo>
                  <a:pt x="82" y="680"/>
                  <a:pt x="55" y="710"/>
                  <a:pt x="38" y="751"/>
                </a:cubicBezTo>
                <a:cubicBezTo>
                  <a:pt x="20" y="792"/>
                  <a:pt x="18" y="839"/>
                  <a:pt x="3" y="882"/>
                </a:cubicBezTo>
                <a:cubicBezTo>
                  <a:pt x="6" y="937"/>
                  <a:pt x="0" y="1031"/>
                  <a:pt x="30" y="1091"/>
                </a:cubicBezTo>
                <a:cubicBezTo>
                  <a:pt x="85" y="1201"/>
                  <a:pt x="195" y="1299"/>
                  <a:pt x="318" y="1318"/>
                </a:cubicBezTo>
                <a:cubicBezTo>
                  <a:pt x="381" y="1340"/>
                  <a:pt x="422" y="1346"/>
                  <a:pt x="492" y="1353"/>
                </a:cubicBezTo>
                <a:cubicBezTo>
                  <a:pt x="681" y="1350"/>
                  <a:pt x="884" y="1408"/>
                  <a:pt x="1059" y="1336"/>
                </a:cubicBezTo>
                <a:cubicBezTo>
                  <a:pt x="1137" y="1304"/>
                  <a:pt x="1192" y="1254"/>
                  <a:pt x="1251" y="1196"/>
                </a:cubicBezTo>
                <a:cubicBezTo>
                  <a:pt x="1272" y="1175"/>
                  <a:pt x="1304" y="1126"/>
                  <a:pt x="1304" y="1126"/>
                </a:cubicBezTo>
                <a:cubicBezTo>
                  <a:pt x="1324" y="1032"/>
                  <a:pt x="1334" y="907"/>
                  <a:pt x="1243" y="847"/>
                </a:cubicBezTo>
                <a:cubicBezTo>
                  <a:pt x="1213" y="805"/>
                  <a:pt x="1191" y="760"/>
                  <a:pt x="1155" y="725"/>
                </a:cubicBezTo>
                <a:cubicBezTo>
                  <a:pt x="1129" y="674"/>
                  <a:pt x="1108" y="616"/>
                  <a:pt x="1077" y="568"/>
                </a:cubicBezTo>
                <a:cubicBezTo>
                  <a:pt x="1057" y="472"/>
                  <a:pt x="1046" y="378"/>
                  <a:pt x="1033" y="280"/>
                </a:cubicBezTo>
                <a:cubicBezTo>
                  <a:pt x="1030" y="258"/>
                  <a:pt x="1018" y="203"/>
                  <a:pt x="1007" y="184"/>
                </a:cubicBezTo>
                <a:cubicBezTo>
                  <a:pt x="1001" y="173"/>
                  <a:pt x="988" y="168"/>
                  <a:pt x="981" y="158"/>
                </a:cubicBezTo>
                <a:cubicBezTo>
                  <a:pt x="921" y="81"/>
                  <a:pt x="930" y="84"/>
                  <a:pt x="832" y="35"/>
                </a:cubicBezTo>
                <a:cubicBezTo>
                  <a:pt x="780" y="9"/>
                  <a:pt x="705" y="8"/>
                  <a:pt x="649" y="0"/>
                </a:cubicBezTo>
                <a:cubicBezTo>
                  <a:pt x="614" y="3"/>
                  <a:pt x="578" y="2"/>
                  <a:pt x="544" y="9"/>
                </a:cubicBezTo>
                <a:cubicBezTo>
                  <a:pt x="523" y="13"/>
                  <a:pt x="506" y="30"/>
                  <a:pt x="492" y="44"/>
                </a:cubicBezTo>
                <a:cubicBezTo>
                  <a:pt x="486" y="50"/>
                  <a:pt x="471" y="69"/>
                  <a:pt x="475" y="62"/>
                </a:cubicBezTo>
                <a:cubicBezTo>
                  <a:pt x="482" y="49"/>
                  <a:pt x="492" y="39"/>
                  <a:pt x="501" y="27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7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NS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ntegráció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2., Delegált altartomány az AD számára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5028840" y="2209320"/>
            <a:ext cx="4132440" cy="4180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81960" indent="-3819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em kell hozzányúlni a meglévő DNS-ekhez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meglévő DNS-eknek semmi közük az AD-hoz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1960" indent="-3819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átrányo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osszú az FQD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unkció nélküli hozzáadott tag a névb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névtér nem standard és be van vasal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orp. vs .lo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2846160" y="211464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uto.hu (UNIX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841480" y="43243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ktg.corp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V="1">
            <a:off x="1981080" y="2666880"/>
            <a:ext cx="228600" cy="4572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 flipV="1">
            <a:off x="2307960" y="3714840"/>
            <a:ext cx="228600" cy="4572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2209680" y="2057400"/>
            <a:ext cx="627120" cy="582480"/>
            <a:chOff x="2209680" y="2057400"/>
            <a:chExt cx="627120" cy="582480"/>
          </a:xfrm>
        </p:grpSpPr>
        <p:sp>
          <p:nvSpPr>
            <p:cNvPr id="1795" name=""/>
            <p:cNvSpPr/>
            <p:nvPr/>
          </p:nvSpPr>
          <p:spPr>
            <a:xfrm>
              <a:off x="2209680" y="2057400"/>
              <a:ext cx="627120" cy="5824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2303640" y="244116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2368800" y="244512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2433600" y="2443680"/>
              <a:ext cx="3420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 flipV="1">
              <a:off x="2470680" y="2448000"/>
              <a:ext cx="20880" cy="8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2561040" y="2443680"/>
              <a:ext cx="1692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 flipV="1">
              <a:off x="2579040" y="2446560"/>
              <a:ext cx="37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 flipV="1">
              <a:off x="2657880" y="2443680"/>
              <a:ext cx="208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 flipV="1">
              <a:off x="2660040" y="2446560"/>
              <a:ext cx="7812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 flipV="1">
              <a:off x="2576520" y="230400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 flipV="1">
              <a:off x="2575080" y="230400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2467080" y="230400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V="1">
              <a:off x="2390040" y="230400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 flipV="1">
              <a:off x="2523600" y="2164320"/>
              <a:ext cx="46080" cy="8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2469240" y="2157840"/>
              <a:ext cx="54360" cy="9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496240" y="2108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442240" y="22496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546640" y="22496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360520" y="23904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629440" y="23904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441160" y="23904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550600" y="23904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276640" y="25318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715120" y="25318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464200" y="25318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529720" y="25318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590560" y="25318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652480" y="25318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338920" y="25318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400840" y="25318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5" name=""/>
          <p:cNvGrpSpPr/>
          <p:nvPr/>
        </p:nvGrpSpPr>
        <p:grpSpPr>
          <a:xfrm>
            <a:off x="2232000" y="4172040"/>
            <a:ext cx="627120" cy="584280"/>
            <a:chOff x="2232000" y="4172040"/>
            <a:chExt cx="627120" cy="584280"/>
          </a:xfrm>
        </p:grpSpPr>
        <p:sp>
          <p:nvSpPr>
            <p:cNvPr id="1826" name=""/>
            <p:cNvSpPr/>
            <p:nvPr/>
          </p:nvSpPr>
          <p:spPr>
            <a:xfrm>
              <a:off x="2232000" y="417204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V="1">
              <a:off x="2325960" y="455688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2391120" y="456120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2455920" y="455976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 flipV="1">
              <a:off x="2493000" y="456336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V="1">
              <a:off x="2583360" y="455976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 flipV="1">
              <a:off x="2601360" y="456192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 flipV="1">
              <a:off x="2680200" y="455976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 flipV="1">
              <a:off x="2682360" y="456192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 flipV="1">
              <a:off x="2598840" y="441936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 flipV="1">
              <a:off x="2597400" y="441936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V="1">
              <a:off x="2489400" y="441936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V="1">
              <a:off x="2412360" y="441936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 flipV="1">
              <a:off x="2545920" y="427968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2491560" y="427320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518560" y="4223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464560" y="43646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568960" y="43646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382840" y="4506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651760" y="4506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463480" y="4506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572920" y="4506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29896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73744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48652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55204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61288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67480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36124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42316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1676520" y="3124080"/>
            <a:ext cx="627120" cy="584280"/>
            <a:chOff x="1676520" y="3124080"/>
            <a:chExt cx="627120" cy="584280"/>
          </a:xfrm>
        </p:grpSpPr>
        <p:sp>
          <p:nvSpPr>
            <p:cNvPr id="1857" name=""/>
            <p:cNvSpPr/>
            <p:nvPr/>
          </p:nvSpPr>
          <p:spPr>
            <a:xfrm>
              <a:off x="1676520" y="312408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1770480" y="350892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1835640" y="351324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1900440" y="351180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 flipV="1">
              <a:off x="1937520" y="351540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V="1">
              <a:off x="2027880" y="351180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 flipV="1">
              <a:off x="2045880" y="351396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 flipV="1">
              <a:off x="2124720" y="351180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 flipV="1">
              <a:off x="2126880" y="351396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 flipV="1">
              <a:off x="2043360" y="337140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 flipV="1">
              <a:off x="2041920" y="337140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1933920" y="337140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856880" y="337140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 flipV="1">
              <a:off x="1990440" y="323172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1936080" y="322524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963080" y="31752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909080" y="3316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013480" y="3316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27360" y="3458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096280" y="3458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908000" y="3458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017440" y="3458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743480" y="3600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181960" y="3600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931040" y="3600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96560" y="3600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057400" y="3600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119320" y="3600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05760" y="3600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867680" y="3600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1165320" y="4172040"/>
            <a:ext cx="627120" cy="584280"/>
            <a:chOff x="1165320" y="4172040"/>
            <a:chExt cx="627120" cy="584280"/>
          </a:xfrm>
        </p:grpSpPr>
        <p:sp>
          <p:nvSpPr>
            <p:cNvPr id="1888" name=""/>
            <p:cNvSpPr/>
            <p:nvPr/>
          </p:nvSpPr>
          <p:spPr>
            <a:xfrm>
              <a:off x="1165320" y="417204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1259280" y="455688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1324440" y="456120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1389240" y="455976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 flipV="1">
              <a:off x="1426320" y="456336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1516680" y="455976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 flipV="1">
              <a:off x="1534680" y="456192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 flipV="1">
              <a:off x="1613520" y="455976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 flipV="1">
              <a:off x="1615680" y="456192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 flipV="1">
              <a:off x="1532160" y="441936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 flipV="1">
              <a:off x="1530720" y="441936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1422720" y="441936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1345680" y="441936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 flipV="1">
              <a:off x="1479240" y="427968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1424880" y="427320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451880" y="4223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397880" y="43646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502280" y="43646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316160" y="4506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585080" y="4506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396800" y="4506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506240" y="4506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23228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67076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41984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48536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54620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60812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29456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356480" y="46479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8" name=""/>
          <p:cNvSpPr/>
          <p:nvPr/>
        </p:nvSpPr>
        <p:spPr>
          <a:xfrm flipV="1">
            <a:off x="1469880" y="3714840"/>
            <a:ext cx="228600" cy="4572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6320" y="3048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orp.auto.hu</a:t>
            </a:r>
            <a:br>
              <a:rPr sz="1600"/>
            </a:b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(Windows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555480" y="485784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zerviz.corp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74840" y="3073320"/>
            <a:ext cx="2781000" cy="2538360"/>
          </a:xfrm>
          <a:custGeom>
            <a:avLst/>
            <a:gdLst/>
            <a:ahLst/>
            <a:rect l="l" t="t" r="r" b="b"/>
            <a:pathLst>
              <a:path w="1752" h="1599">
                <a:moveTo>
                  <a:pt x="390" y="481"/>
                </a:moveTo>
                <a:cubicBezTo>
                  <a:pt x="377" y="501"/>
                  <a:pt x="369" y="523"/>
                  <a:pt x="356" y="543"/>
                </a:cubicBezTo>
                <a:cubicBezTo>
                  <a:pt x="321" y="595"/>
                  <a:pt x="272" y="642"/>
                  <a:pt x="233" y="691"/>
                </a:cubicBezTo>
                <a:cubicBezTo>
                  <a:pt x="208" y="722"/>
                  <a:pt x="189" y="756"/>
                  <a:pt x="164" y="787"/>
                </a:cubicBezTo>
                <a:cubicBezTo>
                  <a:pt x="149" y="806"/>
                  <a:pt x="126" y="820"/>
                  <a:pt x="111" y="839"/>
                </a:cubicBezTo>
                <a:cubicBezTo>
                  <a:pt x="90" y="864"/>
                  <a:pt x="82" y="894"/>
                  <a:pt x="59" y="918"/>
                </a:cubicBezTo>
                <a:cubicBezTo>
                  <a:pt x="56" y="930"/>
                  <a:pt x="54" y="942"/>
                  <a:pt x="50" y="953"/>
                </a:cubicBezTo>
                <a:cubicBezTo>
                  <a:pt x="45" y="965"/>
                  <a:pt x="37" y="976"/>
                  <a:pt x="33" y="988"/>
                </a:cubicBezTo>
                <a:cubicBezTo>
                  <a:pt x="19" y="1034"/>
                  <a:pt x="14" y="1089"/>
                  <a:pt x="6" y="1136"/>
                </a:cubicBezTo>
                <a:cubicBezTo>
                  <a:pt x="14" y="1301"/>
                  <a:pt x="0" y="1428"/>
                  <a:pt x="155" y="1520"/>
                </a:cubicBezTo>
                <a:cubicBezTo>
                  <a:pt x="207" y="1551"/>
                  <a:pt x="278" y="1572"/>
                  <a:pt x="338" y="1581"/>
                </a:cubicBezTo>
                <a:cubicBezTo>
                  <a:pt x="385" y="1588"/>
                  <a:pt x="478" y="1599"/>
                  <a:pt x="478" y="1599"/>
                </a:cubicBezTo>
                <a:cubicBezTo>
                  <a:pt x="846" y="1592"/>
                  <a:pt x="1180" y="1584"/>
                  <a:pt x="1534" y="1503"/>
                </a:cubicBezTo>
                <a:cubicBezTo>
                  <a:pt x="1567" y="1486"/>
                  <a:pt x="1593" y="1476"/>
                  <a:pt x="1630" y="1468"/>
                </a:cubicBezTo>
                <a:cubicBezTo>
                  <a:pt x="1643" y="1455"/>
                  <a:pt x="1661" y="1447"/>
                  <a:pt x="1673" y="1433"/>
                </a:cubicBezTo>
                <a:cubicBezTo>
                  <a:pt x="1687" y="1417"/>
                  <a:pt x="1693" y="1395"/>
                  <a:pt x="1708" y="1380"/>
                </a:cubicBezTo>
                <a:cubicBezTo>
                  <a:pt x="1714" y="1374"/>
                  <a:pt x="1720" y="1369"/>
                  <a:pt x="1726" y="1363"/>
                </a:cubicBezTo>
                <a:cubicBezTo>
                  <a:pt x="1735" y="1334"/>
                  <a:pt x="1742" y="1305"/>
                  <a:pt x="1752" y="1276"/>
                </a:cubicBezTo>
                <a:cubicBezTo>
                  <a:pt x="1745" y="1186"/>
                  <a:pt x="1740" y="1096"/>
                  <a:pt x="1700" y="1014"/>
                </a:cubicBezTo>
                <a:cubicBezTo>
                  <a:pt x="1689" y="961"/>
                  <a:pt x="1671" y="917"/>
                  <a:pt x="1638" y="874"/>
                </a:cubicBezTo>
                <a:cubicBezTo>
                  <a:pt x="1615" y="798"/>
                  <a:pt x="1648" y="893"/>
                  <a:pt x="1612" y="831"/>
                </a:cubicBezTo>
                <a:cubicBezTo>
                  <a:pt x="1607" y="823"/>
                  <a:pt x="1608" y="812"/>
                  <a:pt x="1604" y="804"/>
                </a:cubicBezTo>
                <a:cubicBezTo>
                  <a:pt x="1587" y="770"/>
                  <a:pt x="1562" y="741"/>
                  <a:pt x="1542" y="708"/>
                </a:cubicBezTo>
                <a:cubicBezTo>
                  <a:pt x="1499" y="636"/>
                  <a:pt x="1446" y="557"/>
                  <a:pt x="1385" y="499"/>
                </a:cubicBezTo>
                <a:cubicBezTo>
                  <a:pt x="1375" y="468"/>
                  <a:pt x="1356" y="458"/>
                  <a:pt x="1342" y="429"/>
                </a:cubicBezTo>
                <a:cubicBezTo>
                  <a:pt x="1319" y="384"/>
                  <a:pt x="1349" y="420"/>
                  <a:pt x="1316" y="385"/>
                </a:cubicBezTo>
                <a:cubicBezTo>
                  <a:pt x="1299" y="337"/>
                  <a:pt x="1264" y="306"/>
                  <a:pt x="1237" y="263"/>
                </a:cubicBezTo>
                <a:cubicBezTo>
                  <a:pt x="1181" y="172"/>
                  <a:pt x="1152" y="131"/>
                  <a:pt x="1062" y="80"/>
                </a:cubicBezTo>
                <a:cubicBezTo>
                  <a:pt x="1005" y="48"/>
                  <a:pt x="967" y="17"/>
                  <a:pt x="905" y="1"/>
                </a:cubicBezTo>
                <a:cubicBezTo>
                  <a:pt x="859" y="4"/>
                  <a:pt x="811" y="0"/>
                  <a:pt x="766" y="10"/>
                </a:cubicBezTo>
                <a:cubicBezTo>
                  <a:pt x="761" y="11"/>
                  <a:pt x="694" y="74"/>
                  <a:pt x="687" y="80"/>
                </a:cubicBezTo>
                <a:cubicBezTo>
                  <a:pt x="655" y="107"/>
                  <a:pt x="632" y="140"/>
                  <a:pt x="600" y="167"/>
                </a:cubicBezTo>
                <a:cubicBezTo>
                  <a:pt x="554" y="206"/>
                  <a:pt x="506" y="239"/>
                  <a:pt x="486" y="298"/>
                </a:cubicBezTo>
                <a:cubicBezTo>
                  <a:pt x="474" y="333"/>
                  <a:pt x="463" y="372"/>
                  <a:pt x="443" y="403"/>
                </a:cubicBezTo>
                <a:cubicBezTo>
                  <a:pt x="434" y="418"/>
                  <a:pt x="373" y="475"/>
                  <a:pt x="373" y="490"/>
                </a:cubicBezTo>
                <a:cubicBezTo>
                  <a:pt x="373" y="496"/>
                  <a:pt x="384" y="484"/>
                  <a:pt x="390" y="481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H="1" flipV="1">
            <a:off x="2819160" y="2590920"/>
            <a:ext cx="228600" cy="4572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2743200" y="3048120"/>
            <a:ext cx="627120" cy="583920"/>
            <a:chOff x="2743200" y="3048120"/>
            <a:chExt cx="627120" cy="583920"/>
          </a:xfrm>
        </p:grpSpPr>
        <p:sp>
          <p:nvSpPr>
            <p:cNvPr id="1924" name=""/>
            <p:cNvSpPr/>
            <p:nvPr/>
          </p:nvSpPr>
          <p:spPr>
            <a:xfrm>
              <a:off x="2743200" y="3048120"/>
              <a:ext cx="627120" cy="5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2837160" y="343260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2902320" y="343692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2967120" y="343548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 flipV="1">
              <a:off x="3004200" y="343908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3094560" y="343548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 flipV="1">
              <a:off x="3112560" y="343800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H="1" flipV="1">
              <a:off x="3191400" y="343548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 flipV="1">
              <a:off x="3193560" y="343800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 flipV="1">
              <a:off x="3110040" y="329544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H="1" flipV="1">
              <a:off x="3108600" y="329544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3000600" y="329544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2923560" y="329544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 flipV="1">
              <a:off x="3057120" y="315576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3002760" y="314928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29760" y="30992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75760" y="32407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80160" y="32407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894040" y="3381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162960" y="3381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974680" y="3381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084120" y="3381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810160" y="3523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248640" y="3523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997720" y="3523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063240" y="3523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124080" y="3523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186000" y="3523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872440" y="3523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934360" y="3523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4" name=""/>
          <p:cNvSpPr/>
          <p:nvPr/>
        </p:nvSpPr>
        <p:spPr>
          <a:xfrm>
            <a:off x="3200400" y="2971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unix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933560" y="1728720"/>
            <a:ext cx="1862280" cy="2374920"/>
          </a:xfrm>
          <a:custGeom>
            <a:avLst/>
            <a:gdLst/>
            <a:ahLst/>
            <a:rect l="l" t="t" r="r" b="b"/>
            <a:pathLst>
              <a:path w="1173" h="1496">
                <a:moveTo>
                  <a:pt x="21" y="211"/>
                </a:moveTo>
                <a:cubicBezTo>
                  <a:pt x="27" y="322"/>
                  <a:pt x="32" y="432"/>
                  <a:pt x="39" y="543"/>
                </a:cubicBezTo>
                <a:cubicBezTo>
                  <a:pt x="46" y="642"/>
                  <a:pt x="114" y="805"/>
                  <a:pt x="178" y="883"/>
                </a:cubicBezTo>
                <a:cubicBezTo>
                  <a:pt x="214" y="926"/>
                  <a:pt x="284" y="998"/>
                  <a:pt x="309" y="1049"/>
                </a:cubicBezTo>
                <a:cubicBezTo>
                  <a:pt x="335" y="1101"/>
                  <a:pt x="369" y="1135"/>
                  <a:pt x="405" y="1180"/>
                </a:cubicBezTo>
                <a:cubicBezTo>
                  <a:pt x="453" y="1240"/>
                  <a:pt x="491" y="1303"/>
                  <a:pt x="562" y="1337"/>
                </a:cubicBezTo>
                <a:cubicBezTo>
                  <a:pt x="643" y="1418"/>
                  <a:pt x="752" y="1449"/>
                  <a:pt x="859" y="1477"/>
                </a:cubicBezTo>
                <a:cubicBezTo>
                  <a:pt x="927" y="1470"/>
                  <a:pt x="1019" y="1496"/>
                  <a:pt x="1060" y="1442"/>
                </a:cubicBezTo>
                <a:cubicBezTo>
                  <a:pt x="1080" y="1415"/>
                  <a:pt x="1094" y="1384"/>
                  <a:pt x="1112" y="1355"/>
                </a:cubicBezTo>
                <a:cubicBezTo>
                  <a:pt x="1118" y="1346"/>
                  <a:pt x="1130" y="1328"/>
                  <a:pt x="1130" y="1328"/>
                </a:cubicBezTo>
                <a:cubicBezTo>
                  <a:pt x="1137" y="1307"/>
                  <a:pt x="1150" y="1288"/>
                  <a:pt x="1156" y="1267"/>
                </a:cubicBezTo>
                <a:cubicBezTo>
                  <a:pt x="1163" y="1241"/>
                  <a:pt x="1171" y="1137"/>
                  <a:pt x="1173" y="1119"/>
                </a:cubicBezTo>
                <a:cubicBezTo>
                  <a:pt x="1170" y="1093"/>
                  <a:pt x="1171" y="1066"/>
                  <a:pt x="1165" y="1040"/>
                </a:cubicBezTo>
                <a:cubicBezTo>
                  <a:pt x="1154" y="994"/>
                  <a:pt x="1102" y="969"/>
                  <a:pt x="1069" y="936"/>
                </a:cubicBezTo>
                <a:cubicBezTo>
                  <a:pt x="1060" y="927"/>
                  <a:pt x="1059" y="911"/>
                  <a:pt x="1051" y="901"/>
                </a:cubicBezTo>
                <a:cubicBezTo>
                  <a:pt x="1028" y="872"/>
                  <a:pt x="994" y="853"/>
                  <a:pt x="973" y="822"/>
                </a:cubicBezTo>
                <a:cubicBezTo>
                  <a:pt x="944" y="779"/>
                  <a:pt x="915" y="733"/>
                  <a:pt x="885" y="691"/>
                </a:cubicBezTo>
                <a:cubicBezTo>
                  <a:pt x="878" y="681"/>
                  <a:pt x="865" y="676"/>
                  <a:pt x="859" y="665"/>
                </a:cubicBezTo>
                <a:cubicBezTo>
                  <a:pt x="839" y="631"/>
                  <a:pt x="824" y="595"/>
                  <a:pt x="807" y="560"/>
                </a:cubicBezTo>
                <a:cubicBezTo>
                  <a:pt x="787" y="520"/>
                  <a:pt x="781" y="472"/>
                  <a:pt x="763" y="430"/>
                </a:cubicBezTo>
                <a:cubicBezTo>
                  <a:pt x="737" y="369"/>
                  <a:pt x="708" y="315"/>
                  <a:pt x="667" y="264"/>
                </a:cubicBezTo>
                <a:cubicBezTo>
                  <a:pt x="634" y="222"/>
                  <a:pt x="622" y="187"/>
                  <a:pt x="580" y="159"/>
                </a:cubicBezTo>
                <a:cubicBezTo>
                  <a:pt x="550" y="116"/>
                  <a:pt x="571" y="139"/>
                  <a:pt x="510" y="98"/>
                </a:cubicBezTo>
                <a:cubicBezTo>
                  <a:pt x="414" y="33"/>
                  <a:pt x="385" y="23"/>
                  <a:pt x="266" y="2"/>
                </a:cubicBezTo>
                <a:cubicBezTo>
                  <a:pt x="164" y="14"/>
                  <a:pt x="128" y="0"/>
                  <a:pt x="65" y="63"/>
                </a:cubicBezTo>
                <a:cubicBezTo>
                  <a:pt x="49" y="109"/>
                  <a:pt x="28" y="148"/>
                  <a:pt x="13" y="194"/>
                </a:cubicBezTo>
                <a:cubicBezTo>
                  <a:pt x="10" y="203"/>
                  <a:pt x="0" y="212"/>
                  <a:pt x="4" y="220"/>
                </a:cubicBezTo>
                <a:cubicBezTo>
                  <a:pt x="7" y="226"/>
                  <a:pt x="15" y="214"/>
                  <a:pt x="21" y="211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 flipV="1">
            <a:off x="2362320" y="3124080"/>
            <a:ext cx="690480" cy="13716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2057400" y="4495680"/>
            <a:ext cx="627120" cy="584280"/>
            <a:chOff x="2057400" y="4495680"/>
            <a:chExt cx="627120" cy="584280"/>
          </a:xfrm>
        </p:grpSpPr>
        <p:sp>
          <p:nvSpPr>
            <p:cNvPr id="1958" name=""/>
            <p:cNvSpPr/>
            <p:nvPr/>
          </p:nvSpPr>
          <p:spPr>
            <a:xfrm>
              <a:off x="2057400" y="449568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2151360" y="488052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2216520" y="488484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2281320" y="488340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 flipV="1">
              <a:off x="2318400" y="488700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408760" y="488340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 flipV="1">
              <a:off x="2426760" y="488556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 flipV="1">
              <a:off x="2505600" y="488340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 flipV="1">
              <a:off x="2507760" y="488556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H="1" flipV="1">
              <a:off x="2424240" y="474300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 flipV="1">
              <a:off x="2422800" y="474300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2314800" y="474300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2237760" y="474300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H="1" flipV="1">
              <a:off x="2371320" y="460332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2316960" y="459684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343960" y="45468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289960" y="4688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394360" y="4688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208240" y="4829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477160" y="4829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288880" y="4829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398320" y="4829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124360" y="4971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562840" y="4971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311920" y="4971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377440" y="4971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438280" y="4971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500200" y="4971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186640" y="4971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248560" y="4971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7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NS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ntegráció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3., A _tcp, stb. altartományok delegációja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5028840" y="2209680"/>
            <a:ext cx="4132440" cy="398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81960" indent="-3819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meglévő DNS-eken csak delegálni k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1960" indent="-38196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átrányo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ézimunka - nehéz menedzs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inden AD altartományra meg kell csináln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5760" indent="-342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AD működik, de az automatikus regisztráció n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3122640" y="259560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uto.hu (UNIX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743200" y="47242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_tcp.corp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1523880" y="3147480"/>
            <a:ext cx="962280" cy="20484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2209680" y="3119400"/>
            <a:ext cx="615960" cy="12240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2486160" y="2538360"/>
            <a:ext cx="626760" cy="582840"/>
            <a:chOff x="2486160" y="2538360"/>
            <a:chExt cx="626760" cy="582840"/>
          </a:xfrm>
        </p:grpSpPr>
        <p:sp>
          <p:nvSpPr>
            <p:cNvPr id="1995" name=""/>
            <p:cNvSpPr/>
            <p:nvPr/>
          </p:nvSpPr>
          <p:spPr>
            <a:xfrm>
              <a:off x="2486160" y="2538360"/>
              <a:ext cx="626760" cy="582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2580120" y="292212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V="1">
              <a:off x="2645280" y="292644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2710080" y="2924640"/>
              <a:ext cx="3420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 flipV="1">
              <a:off x="2747160" y="292860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2837160" y="2924640"/>
              <a:ext cx="1692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H="1" flipV="1">
              <a:off x="2855880" y="2927880"/>
              <a:ext cx="3672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 flipV="1">
              <a:off x="2934000" y="2924640"/>
              <a:ext cx="208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 flipV="1">
              <a:off x="2936160" y="2927880"/>
              <a:ext cx="7812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 flipV="1">
              <a:off x="2852640" y="278496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 flipV="1">
              <a:off x="2851560" y="278496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2743200" y="278496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2666520" y="278496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 flipV="1">
              <a:off x="2800080" y="2645280"/>
              <a:ext cx="46080" cy="8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V="1">
              <a:off x="2745720" y="2638800"/>
              <a:ext cx="54000" cy="9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772360" y="2589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718360" y="2730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823120" y="2730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637000" y="28717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905920" y="28717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717280" y="28717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826720" y="28717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553120" y="3012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991240" y="3012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740680" y="3012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806200" y="3012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867040" y="3012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928600" y="3012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615400" y="3012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677320" y="3012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1905120" y="4343400"/>
            <a:ext cx="627120" cy="584280"/>
            <a:chOff x="1905120" y="4343400"/>
            <a:chExt cx="627120" cy="584280"/>
          </a:xfrm>
        </p:grpSpPr>
        <p:sp>
          <p:nvSpPr>
            <p:cNvPr id="2026" name=""/>
            <p:cNvSpPr/>
            <p:nvPr/>
          </p:nvSpPr>
          <p:spPr>
            <a:xfrm>
              <a:off x="1905120" y="434340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1999080" y="472824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2064240" y="473256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2129040" y="473112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2166120" y="473472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2256480" y="473112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H="1" flipV="1">
              <a:off x="2274480" y="473328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 flipV="1">
              <a:off x="2353320" y="473112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 flipV="1">
              <a:off x="2355480" y="473328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H="1" flipV="1">
              <a:off x="2271960" y="459072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 flipV="1">
              <a:off x="2270520" y="459072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V="1">
              <a:off x="2162520" y="459072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2085480" y="459072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 flipV="1">
              <a:off x="2219040" y="445104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2164680" y="444456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191680" y="43945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137680" y="4536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242080" y="4536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055960" y="4677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324880" y="4677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136600" y="4677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246040" y="4677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972080" y="481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410560" y="481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159640" y="481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225160" y="481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286000" y="481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347920" y="481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034360" y="481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096280" y="481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6" name=""/>
          <p:cNvGrpSpPr/>
          <p:nvPr/>
        </p:nvGrpSpPr>
        <p:grpSpPr>
          <a:xfrm>
            <a:off x="1201680" y="3352680"/>
            <a:ext cx="627120" cy="584280"/>
            <a:chOff x="1201680" y="3352680"/>
            <a:chExt cx="627120" cy="584280"/>
          </a:xfrm>
        </p:grpSpPr>
        <p:sp>
          <p:nvSpPr>
            <p:cNvPr id="2057" name=""/>
            <p:cNvSpPr/>
            <p:nvPr/>
          </p:nvSpPr>
          <p:spPr>
            <a:xfrm>
              <a:off x="1201680" y="335268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V="1">
              <a:off x="1295640" y="373752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V="1">
              <a:off x="1360800" y="374184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1425600" y="374040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 flipV="1">
              <a:off x="1462680" y="374400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V="1">
              <a:off x="1553040" y="374040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 flipV="1">
              <a:off x="1571040" y="374256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 flipV="1">
              <a:off x="1649880" y="374040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 flipV="1">
              <a:off x="1652040" y="374256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 flipV="1">
              <a:off x="1568520" y="360000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 flipV="1">
              <a:off x="1567080" y="360000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V="1">
              <a:off x="1459080" y="360000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1382040" y="360000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 flipV="1">
              <a:off x="1515600" y="346032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1461240" y="345384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488240" y="34038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434240" y="3545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538640" y="3545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352520" y="3686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621440" y="3686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433160" y="3686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542600" y="3686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26864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70712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45620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52172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58256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64448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33092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39284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1752480" y="4267080"/>
            <a:ext cx="627120" cy="584280"/>
            <a:chOff x="1752480" y="4267080"/>
            <a:chExt cx="627120" cy="584280"/>
          </a:xfrm>
        </p:grpSpPr>
        <p:sp>
          <p:nvSpPr>
            <p:cNvPr id="2088" name=""/>
            <p:cNvSpPr/>
            <p:nvPr/>
          </p:nvSpPr>
          <p:spPr>
            <a:xfrm>
              <a:off x="1752480" y="426708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1846440" y="465192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1911600" y="465624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1976400" y="465480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 flipV="1">
              <a:off x="2013480" y="465840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2103840" y="465480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 flipV="1">
              <a:off x="2121840" y="465696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 flipV="1">
              <a:off x="2200680" y="465480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 flipV="1">
              <a:off x="2202840" y="465696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 flipV="1">
              <a:off x="2119320" y="451440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 flipV="1">
              <a:off x="2117880" y="451440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2009880" y="451440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V="1">
              <a:off x="1932840" y="451440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 flipV="1">
              <a:off x="2066400" y="437472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2012040" y="436824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039040" y="43182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985040" y="4459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089440" y="44596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903320" y="4601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172240" y="4601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983960" y="4601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093400" y="46011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819440" y="4743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257920" y="4743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007000" y="4743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072520" y="4743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133360" y="4743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195280" y="4743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881720" y="4743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943640" y="4743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8" name=""/>
          <p:cNvSpPr/>
          <p:nvPr/>
        </p:nvSpPr>
        <p:spPr>
          <a:xfrm flipV="1">
            <a:off x="2057400" y="3123720"/>
            <a:ext cx="609480" cy="11430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0" y="2971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zerviz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2590920" y="4419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_udp.corp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 flipV="1">
            <a:off x="3124080" y="3123720"/>
            <a:ext cx="609840" cy="2286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3429000" y="3352680"/>
            <a:ext cx="627120" cy="584280"/>
            <a:chOff x="3429000" y="3352680"/>
            <a:chExt cx="627120" cy="584280"/>
          </a:xfrm>
        </p:grpSpPr>
        <p:sp>
          <p:nvSpPr>
            <p:cNvPr id="2123" name=""/>
            <p:cNvSpPr/>
            <p:nvPr/>
          </p:nvSpPr>
          <p:spPr>
            <a:xfrm>
              <a:off x="3429000" y="335268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V="1">
              <a:off x="3522960" y="373752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V="1">
              <a:off x="3588120" y="374184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V="1">
              <a:off x="3652920" y="374040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H="1" flipV="1">
              <a:off x="3690000" y="374400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V="1">
              <a:off x="3780360" y="374040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 flipV="1">
              <a:off x="3798360" y="374256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 flipV="1">
              <a:off x="3877200" y="374040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 flipV="1">
              <a:off x="3879360" y="374256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 flipV="1">
              <a:off x="3795840" y="360000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 flipV="1">
              <a:off x="3794400" y="360000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V="1">
              <a:off x="3686400" y="360000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V="1">
              <a:off x="3609360" y="360000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 flipV="1">
              <a:off x="3742920" y="346032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3688560" y="345384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15560" y="34038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661560" y="3545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65960" y="3545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579840" y="3686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848760" y="3686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660480" y="3686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769920" y="3686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49596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93444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68352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74904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80988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87180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55824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620160" y="3828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3" name=""/>
          <p:cNvSpPr/>
          <p:nvPr/>
        </p:nvSpPr>
        <p:spPr>
          <a:xfrm>
            <a:off x="3809880" y="3124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ales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2971800" y="49975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tb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590920" y="4191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Windows 200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941400" y="2343240"/>
            <a:ext cx="3270240" cy="1868400"/>
          </a:xfrm>
          <a:custGeom>
            <a:avLst/>
            <a:gdLst/>
            <a:ahLst/>
            <a:rect l="l" t="t" r="r" b="b"/>
            <a:pathLst>
              <a:path w="2060" h="1177">
                <a:moveTo>
                  <a:pt x="1056" y="60"/>
                </a:moveTo>
                <a:cubicBezTo>
                  <a:pt x="1029" y="77"/>
                  <a:pt x="979" y="111"/>
                  <a:pt x="960" y="130"/>
                </a:cubicBezTo>
                <a:cubicBezTo>
                  <a:pt x="915" y="175"/>
                  <a:pt x="867" y="228"/>
                  <a:pt x="803" y="243"/>
                </a:cubicBezTo>
                <a:cubicBezTo>
                  <a:pt x="723" y="284"/>
                  <a:pt x="622" y="298"/>
                  <a:pt x="533" y="313"/>
                </a:cubicBezTo>
                <a:cubicBezTo>
                  <a:pt x="506" y="331"/>
                  <a:pt x="481" y="333"/>
                  <a:pt x="454" y="348"/>
                </a:cubicBezTo>
                <a:cubicBezTo>
                  <a:pt x="365" y="398"/>
                  <a:pt x="435" y="372"/>
                  <a:pt x="376" y="392"/>
                </a:cubicBezTo>
                <a:cubicBezTo>
                  <a:pt x="339" y="426"/>
                  <a:pt x="294" y="450"/>
                  <a:pt x="254" y="479"/>
                </a:cubicBezTo>
                <a:cubicBezTo>
                  <a:pt x="193" y="523"/>
                  <a:pt x="135" y="576"/>
                  <a:pt x="88" y="636"/>
                </a:cubicBezTo>
                <a:cubicBezTo>
                  <a:pt x="62" y="669"/>
                  <a:pt x="43" y="703"/>
                  <a:pt x="27" y="741"/>
                </a:cubicBezTo>
                <a:cubicBezTo>
                  <a:pt x="20" y="758"/>
                  <a:pt x="15" y="776"/>
                  <a:pt x="9" y="793"/>
                </a:cubicBezTo>
                <a:cubicBezTo>
                  <a:pt x="6" y="802"/>
                  <a:pt x="0" y="819"/>
                  <a:pt x="0" y="819"/>
                </a:cubicBezTo>
                <a:cubicBezTo>
                  <a:pt x="21" y="939"/>
                  <a:pt x="60" y="1067"/>
                  <a:pt x="192" y="1107"/>
                </a:cubicBezTo>
                <a:cubicBezTo>
                  <a:pt x="237" y="1137"/>
                  <a:pt x="288" y="1146"/>
                  <a:pt x="341" y="1160"/>
                </a:cubicBezTo>
                <a:cubicBezTo>
                  <a:pt x="367" y="1167"/>
                  <a:pt x="419" y="1177"/>
                  <a:pt x="419" y="1177"/>
                </a:cubicBezTo>
                <a:cubicBezTo>
                  <a:pt x="560" y="1167"/>
                  <a:pt x="565" y="1176"/>
                  <a:pt x="664" y="1107"/>
                </a:cubicBezTo>
                <a:cubicBezTo>
                  <a:pt x="709" y="1038"/>
                  <a:pt x="650" y="1121"/>
                  <a:pt x="707" y="1064"/>
                </a:cubicBezTo>
                <a:cubicBezTo>
                  <a:pt x="732" y="1039"/>
                  <a:pt x="755" y="1004"/>
                  <a:pt x="777" y="976"/>
                </a:cubicBezTo>
                <a:cubicBezTo>
                  <a:pt x="867" y="863"/>
                  <a:pt x="934" y="792"/>
                  <a:pt x="1083" y="767"/>
                </a:cubicBezTo>
                <a:cubicBezTo>
                  <a:pt x="1127" y="770"/>
                  <a:pt x="1171" y="767"/>
                  <a:pt x="1214" y="776"/>
                </a:cubicBezTo>
                <a:cubicBezTo>
                  <a:pt x="1229" y="779"/>
                  <a:pt x="1253" y="808"/>
                  <a:pt x="1266" y="819"/>
                </a:cubicBezTo>
                <a:cubicBezTo>
                  <a:pt x="1305" y="850"/>
                  <a:pt x="1323" y="871"/>
                  <a:pt x="1353" y="915"/>
                </a:cubicBezTo>
                <a:cubicBezTo>
                  <a:pt x="1367" y="936"/>
                  <a:pt x="1396" y="941"/>
                  <a:pt x="1414" y="959"/>
                </a:cubicBezTo>
                <a:cubicBezTo>
                  <a:pt x="1452" y="997"/>
                  <a:pt x="1479" y="1022"/>
                  <a:pt x="1528" y="1046"/>
                </a:cubicBezTo>
                <a:cubicBezTo>
                  <a:pt x="1599" y="1117"/>
                  <a:pt x="1729" y="1142"/>
                  <a:pt x="1824" y="1151"/>
                </a:cubicBezTo>
                <a:cubicBezTo>
                  <a:pt x="1983" y="1141"/>
                  <a:pt x="1930" y="1161"/>
                  <a:pt x="2008" y="1107"/>
                </a:cubicBezTo>
                <a:cubicBezTo>
                  <a:pt x="2018" y="1092"/>
                  <a:pt x="2035" y="1081"/>
                  <a:pt x="2043" y="1064"/>
                </a:cubicBezTo>
                <a:cubicBezTo>
                  <a:pt x="2048" y="1055"/>
                  <a:pt x="2060" y="976"/>
                  <a:pt x="2060" y="976"/>
                </a:cubicBezTo>
                <a:cubicBezTo>
                  <a:pt x="2057" y="921"/>
                  <a:pt x="2058" y="866"/>
                  <a:pt x="2051" y="811"/>
                </a:cubicBezTo>
                <a:cubicBezTo>
                  <a:pt x="2046" y="774"/>
                  <a:pt x="2013" y="720"/>
                  <a:pt x="1999" y="688"/>
                </a:cubicBezTo>
                <a:cubicBezTo>
                  <a:pt x="1969" y="620"/>
                  <a:pt x="1945" y="551"/>
                  <a:pt x="1903" y="488"/>
                </a:cubicBezTo>
                <a:cubicBezTo>
                  <a:pt x="1811" y="347"/>
                  <a:pt x="1886" y="489"/>
                  <a:pt x="1816" y="348"/>
                </a:cubicBezTo>
                <a:cubicBezTo>
                  <a:pt x="1805" y="326"/>
                  <a:pt x="1783" y="310"/>
                  <a:pt x="1772" y="287"/>
                </a:cubicBezTo>
                <a:cubicBezTo>
                  <a:pt x="1737" y="214"/>
                  <a:pt x="1654" y="93"/>
                  <a:pt x="1580" y="51"/>
                </a:cubicBezTo>
                <a:cubicBezTo>
                  <a:pt x="1532" y="24"/>
                  <a:pt x="1477" y="15"/>
                  <a:pt x="1423" y="8"/>
                </a:cubicBezTo>
                <a:cubicBezTo>
                  <a:pt x="1188" y="15"/>
                  <a:pt x="1216" y="0"/>
                  <a:pt x="1083" y="34"/>
                </a:cubicBezTo>
                <a:cubicBezTo>
                  <a:pt x="1076" y="41"/>
                  <a:pt x="986" y="106"/>
                  <a:pt x="1056" y="60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655640" y="4100400"/>
            <a:ext cx="1527120" cy="1359000"/>
          </a:xfrm>
          <a:custGeom>
            <a:avLst/>
            <a:gdLst/>
            <a:ahLst/>
            <a:rect l="l" t="t" r="r" b="b"/>
            <a:pathLst>
              <a:path w="962" h="856">
                <a:moveTo>
                  <a:pt x="65" y="175"/>
                </a:moveTo>
                <a:cubicBezTo>
                  <a:pt x="52" y="217"/>
                  <a:pt x="41" y="258"/>
                  <a:pt x="22" y="297"/>
                </a:cubicBezTo>
                <a:cubicBezTo>
                  <a:pt x="5" y="379"/>
                  <a:pt x="0" y="471"/>
                  <a:pt x="30" y="550"/>
                </a:cubicBezTo>
                <a:cubicBezTo>
                  <a:pt x="71" y="660"/>
                  <a:pt x="179" y="739"/>
                  <a:pt x="275" y="794"/>
                </a:cubicBezTo>
                <a:cubicBezTo>
                  <a:pt x="302" y="809"/>
                  <a:pt x="304" y="820"/>
                  <a:pt x="336" y="829"/>
                </a:cubicBezTo>
                <a:cubicBezTo>
                  <a:pt x="369" y="839"/>
                  <a:pt x="437" y="849"/>
                  <a:pt x="476" y="856"/>
                </a:cubicBezTo>
                <a:cubicBezTo>
                  <a:pt x="551" y="853"/>
                  <a:pt x="627" y="852"/>
                  <a:pt x="702" y="847"/>
                </a:cubicBezTo>
                <a:cubicBezTo>
                  <a:pt x="761" y="843"/>
                  <a:pt x="805" y="790"/>
                  <a:pt x="851" y="760"/>
                </a:cubicBezTo>
                <a:cubicBezTo>
                  <a:pt x="861" y="744"/>
                  <a:pt x="877" y="733"/>
                  <a:pt x="886" y="716"/>
                </a:cubicBezTo>
                <a:cubicBezTo>
                  <a:pt x="915" y="659"/>
                  <a:pt x="927" y="601"/>
                  <a:pt x="947" y="541"/>
                </a:cubicBezTo>
                <a:cubicBezTo>
                  <a:pt x="962" y="438"/>
                  <a:pt x="961" y="476"/>
                  <a:pt x="947" y="323"/>
                </a:cubicBezTo>
                <a:cubicBezTo>
                  <a:pt x="935" y="186"/>
                  <a:pt x="877" y="137"/>
                  <a:pt x="772" y="61"/>
                </a:cubicBezTo>
                <a:cubicBezTo>
                  <a:pt x="753" y="47"/>
                  <a:pt x="725" y="51"/>
                  <a:pt x="702" y="44"/>
                </a:cubicBezTo>
                <a:cubicBezTo>
                  <a:pt x="643" y="26"/>
                  <a:pt x="580" y="10"/>
                  <a:pt x="519" y="0"/>
                </a:cubicBezTo>
                <a:cubicBezTo>
                  <a:pt x="402" y="6"/>
                  <a:pt x="348" y="10"/>
                  <a:pt x="249" y="35"/>
                </a:cubicBezTo>
                <a:cubicBezTo>
                  <a:pt x="222" y="53"/>
                  <a:pt x="198" y="56"/>
                  <a:pt x="170" y="70"/>
                </a:cubicBezTo>
                <a:cubicBezTo>
                  <a:pt x="109" y="102"/>
                  <a:pt x="178" y="78"/>
                  <a:pt x="118" y="96"/>
                </a:cubicBezTo>
                <a:cubicBezTo>
                  <a:pt x="98" y="125"/>
                  <a:pt x="65" y="137"/>
                  <a:pt x="65" y="175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NS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ntegráció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4., Nincs Windows 2000 DNS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753080" y="1905120"/>
            <a:ext cx="4132080" cy="445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55600">
              <a:lnSpc>
                <a:spcPct val="90000"/>
              </a:lnSpc>
              <a:spcBef>
                <a:spcPts val="675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ncs nagy politikai változá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55600">
              <a:lnSpc>
                <a:spcPct val="90000"/>
              </a:lnSpc>
              <a:spcBef>
                <a:spcPts val="675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olytonos névté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átrány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55600">
              <a:lnSpc>
                <a:spcPct val="90000"/>
              </a:lnSpc>
              <a:spcBef>
                <a:spcPts val="675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dinamikus frissítésnél nincs redundanci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55600">
              <a:lnSpc>
                <a:spcPct val="90000"/>
              </a:lnSpc>
              <a:spcBef>
                <a:spcPts val="675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SRV RR-t (RFC 2052) támogatnia kell a bind-na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55600">
              <a:lnSpc>
                <a:spcPct val="90000"/>
              </a:lnSpc>
              <a:spcBef>
                <a:spcPts val="675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a nincs DDNS (RFC 2136), akkor kézzel kell felvenni a gépeket a DNS-be (munkaállomások is!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55600">
              <a:lnSpc>
                <a:spcPct val="90000"/>
              </a:lnSpc>
              <a:spcBef>
                <a:spcPts val="675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crosoft DHCP Server együttműködést (ld. DDNS) nekünk kell leteszteln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1219320" y="2815920"/>
            <a:ext cx="823680" cy="46044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2347920" y="2813040"/>
            <a:ext cx="14400" cy="175896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 flipV="1">
            <a:off x="2677680" y="2831760"/>
            <a:ext cx="1055880" cy="444600"/>
          </a:xfrm>
          <a:prstGeom prst="line">
            <a:avLst/>
          </a:prstGeom>
          <a:ln w="25560">
            <a:solidFill>
              <a:srgbClr val="5686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2038320" y="2232000"/>
            <a:ext cx="627120" cy="582480"/>
            <a:chOff x="2038320" y="2232000"/>
            <a:chExt cx="627120" cy="582480"/>
          </a:xfrm>
        </p:grpSpPr>
        <p:sp>
          <p:nvSpPr>
            <p:cNvPr id="2164" name=""/>
            <p:cNvSpPr/>
            <p:nvPr/>
          </p:nvSpPr>
          <p:spPr>
            <a:xfrm>
              <a:off x="2038320" y="2232000"/>
              <a:ext cx="627120" cy="5824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>
              <a:off x="2132280" y="261576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2197440" y="261972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2262240" y="2618280"/>
              <a:ext cx="3420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 flipV="1">
              <a:off x="2299320" y="2622600"/>
              <a:ext cx="20880" cy="8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2389680" y="2618280"/>
              <a:ext cx="1692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2407680" y="2621160"/>
              <a:ext cx="37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 flipV="1">
              <a:off x="2486520" y="2618280"/>
              <a:ext cx="208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 flipV="1">
              <a:off x="2488680" y="2621160"/>
              <a:ext cx="7812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 flipV="1">
              <a:off x="2405160" y="247860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H="1" flipV="1">
              <a:off x="2403720" y="247860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2295720" y="247860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2218680" y="247860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 flipV="1">
              <a:off x="2352240" y="2338920"/>
              <a:ext cx="46080" cy="8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>
              <a:off x="2297880" y="2332440"/>
              <a:ext cx="54360" cy="9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324880" y="228276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270880" y="24242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375280" y="24242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189160" y="2565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458080" y="2565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269800" y="2565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379240" y="25650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10528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54376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29284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35836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41920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48112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16756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229480" y="27064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2057400" y="4572000"/>
            <a:ext cx="627120" cy="584280"/>
            <a:chOff x="2057400" y="4572000"/>
            <a:chExt cx="627120" cy="584280"/>
          </a:xfrm>
        </p:grpSpPr>
        <p:sp>
          <p:nvSpPr>
            <p:cNvPr id="2195" name=""/>
            <p:cNvSpPr/>
            <p:nvPr/>
          </p:nvSpPr>
          <p:spPr>
            <a:xfrm>
              <a:off x="2057400" y="4572000"/>
              <a:ext cx="627120" cy="584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V="1">
              <a:off x="2151360" y="495684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2216520" y="496116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V="1">
              <a:off x="2281320" y="495972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 flipV="1">
              <a:off x="2318400" y="496332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V="1">
              <a:off x="2408760" y="495972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H="1" flipV="1">
              <a:off x="2426760" y="496188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 flipV="1">
              <a:off x="2505600" y="495972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 flipV="1">
              <a:off x="2507760" y="496188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 flipV="1">
              <a:off x="2424240" y="481932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H="1" flipV="1">
              <a:off x="2422800" y="481932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2314800" y="481932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2237760" y="481932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 flipV="1">
              <a:off x="2371320" y="467964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V="1">
              <a:off x="2316960" y="467316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343960" y="46231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289960" y="4764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394360" y="476460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208240" y="49060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477160" y="49060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288880" y="49060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398320" y="49060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12436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56284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31192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37744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43828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50020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18664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248560" y="50479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5" name=""/>
          <p:cNvGrpSpPr/>
          <p:nvPr/>
        </p:nvGrpSpPr>
        <p:grpSpPr>
          <a:xfrm>
            <a:off x="914400" y="3276720"/>
            <a:ext cx="627120" cy="583920"/>
            <a:chOff x="914400" y="3276720"/>
            <a:chExt cx="627120" cy="583920"/>
          </a:xfrm>
        </p:grpSpPr>
        <p:sp>
          <p:nvSpPr>
            <p:cNvPr id="2226" name=""/>
            <p:cNvSpPr/>
            <p:nvPr/>
          </p:nvSpPr>
          <p:spPr>
            <a:xfrm>
              <a:off x="914400" y="3276720"/>
              <a:ext cx="627120" cy="5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1008360" y="3661200"/>
              <a:ext cx="8208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1073520" y="366552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1138320" y="366408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 flipV="1">
              <a:off x="1175400" y="366768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1265760" y="366408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H="1" flipV="1">
              <a:off x="1283760" y="3666600"/>
              <a:ext cx="3708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H="1" flipV="1">
              <a:off x="1362600" y="366408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 flipV="1">
              <a:off x="1364760" y="3666600"/>
              <a:ext cx="781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1281240" y="3524040"/>
              <a:ext cx="7812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 flipV="1">
              <a:off x="1279800" y="352404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V="1">
              <a:off x="1171800" y="352404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1094760" y="3524040"/>
              <a:ext cx="792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 flipV="1">
              <a:off x="1228320" y="338436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V="1">
              <a:off x="1173960" y="3377880"/>
              <a:ext cx="5436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00960" y="3327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146960" y="346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251360" y="346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06524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33416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14588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25532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98136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41984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16892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23444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29528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3572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04364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10556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429000" y="3276720"/>
            <a:ext cx="625320" cy="583920"/>
            <a:chOff x="3429000" y="3276720"/>
            <a:chExt cx="625320" cy="583920"/>
          </a:xfrm>
        </p:grpSpPr>
        <p:sp>
          <p:nvSpPr>
            <p:cNvPr id="2257" name=""/>
            <p:cNvSpPr/>
            <p:nvPr/>
          </p:nvSpPr>
          <p:spPr>
            <a:xfrm>
              <a:off x="3429000" y="3276720"/>
              <a:ext cx="625320" cy="5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3522960" y="3661200"/>
              <a:ext cx="817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3587760" y="3665520"/>
              <a:ext cx="20880" cy="8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V="1">
              <a:off x="3652560" y="3664080"/>
              <a:ext cx="3420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H="1" flipV="1">
              <a:off x="3689280" y="3667680"/>
              <a:ext cx="208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3779280" y="3664080"/>
              <a:ext cx="1692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H="1" flipV="1">
              <a:off x="3798000" y="3666600"/>
              <a:ext cx="3672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H="1" flipV="1">
              <a:off x="3875760" y="3664080"/>
              <a:ext cx="20880" cy="8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H="1" flipV="1">
              <a:off x="3878640" y="3666600"/>
              <a:ext cx="777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 flipV="1">
              <a:off x="3795120" y="3524040"/>
              <a:ext cx="7776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H="1" flipV="1">
              <a:off x="3793680" y="3524040"/>
              <a:ext cx="108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3685680" y="3524040"/>
              <a:ext cx="360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3609000" y="3524040"/>
              <a:ext cx="78840" cy="8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H="1" flipV="1">
              <a:off x="3742200" y="3384360"/>
              <a:ext cx="46080" cy="8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V="1">
              <a:off x="3687840" y="3377880"/>
              <a:ext cx="54000" cy="9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714840" y="33278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660840" y="346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765240" y="346932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57948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84768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65976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768840" y="361044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49596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9330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6828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74832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8088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87036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55788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619800" y="3752280"/>
              <a:ext cx="55800" cy="55080"/>
            </a:xfrm>
            <a:prstGeom prst="ellipse">
              <a:avLst/>
            </a:prstGeom>
            <a:gradFill rotWithShape="0">
              <a:gsLst>
                <a:gs pos="0">
                  <a:srgbClr val="162339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7" name=""/>
          <p:cNvSpPr/>
          <p:nvPr/>
        </p:nvSpPr>
        <p:spPr>
          <a:xfrm>
            <a:off x="1836720" y="190800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uto.hu (UNIX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3600" y="396252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zerviz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670840" y="472428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ales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814920" y="335268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ktg.auto.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803160" y="2097000"/>
            <a:ext cx="3616560" cy="3270240"/>
          </a:xfrm>
          <a:custGeom>
            <a:avLst/>
            <a:gdLst/>
            <a:ahLst/>
            <a:rect l="l" t="t" r="r" b="b"/>
            <a:pathLst>
              <a:path w="2278" h="2060">
                <a:moveTo>
                  <a:pt x="620" y="136"/>
                </a:moveTo>
                <a:cubicBezTo>
                  <a:pt x="602" y="205"/>
                  <a:pt x="538" y="252"/>
                  <a:pt x="471" y="267"/>
                </a:cubicBezTo>
                <a:cubicBezTo>
                  <a:pt x="430" y="295"/>
                  <a:pt x="386" y="294"/>
                  <a:pt x="341" y="311"/>
                </a:cubicBezTo>
                <a:cubicBezTo>
                  <a:pt x="329" y="316"/>
                  <a:pt x="318" y="323"/>
                  <a:pt x="306" y="328"/>
                </a:cubicBezTo>
                <a:cubicBezTo>
                  <a:pt x="297" y="332"/>
                  <a:pt x="288" y="334"/>
                  <a:pt x="279" y="337"/>
                </a:cubicBezTo>
                <a:cubicBezTo>
                  <a:pt x="173" y="410"/>
                  <a:pt x="325" y="309"/>
                  <a:pt x="227" y="363"/>
                </a:cubicBezTo>
                <a:cubicBezTo>
                  <a:pt x="189" y="384"/>
                  <a:pt x="155" y="415"/>
                  <a:pt x="122" y="442"/>
                </a:cubicBezTo>
                <a:cubicBezTo>
                  <a:pt x="113" y="450"/>
                  <a:pt x="104" y="458"/>
                  <a:pt x="96" y="468"/>
                </a:cubicBezTo>
                <a:cubicBezTo>
                  <a:pt x="83" y="484"/>
                  <a:pt x="61" y="520"/>
                  <a:pt x="61" y="520"/>
                </a:cubicBezTo>
                <a:cubicBezTo>
                  <a:pt x="50" y="558"/>
                  <a:pt x="33" y="595"/>
                  <a:pt x="26" y="634"/>
                </a:cubicBezTo>
                <a:cubicBezTo>
                  <a:pt x="16" y="692"/>
                  <a:pt x="15" y="751"/>
                  <a:pt x="0" y="808"/>
                </a:cubicBezTo>
                <a:cubicBezTo>
                  <a:pt x="3" y="898"/>
                  <a:pt x="4" y="989"/>
                  <a:pt x="9" y="1079"/>
                </a:cubicBezTo>
                <a:cubicBezTo>
                  <a:pt x="18" y="1248"/>
                  <a:pt x="95" y="1419"/>
                  <a:pt x="183" y="1559"/>
                </a:cubicBezTo>
                <a:cubicBezTo>
                  <a:pt x="220" y="1618"/>
                  <a:pt x="263" y="1677"/>
                  <a:pt x="323" y="1716"/>
                </a:cubicBezTo>
                <a:cubicBezTo>
                  <a:pt x="367" y="1780"/>
                  <a:pt x="429" y="1822"/>
                  <a:pt x="498" y="1856"/>
                </a:cubicBezTo>
                <a:cubicBezTo>
                  <a:pt x="509" y="1861"/>
                  <a:pt x="521" y="1861"/>
                  <a:pt x="533" y="1864"/>
                </a:cubicBezTo>
                <a:cubicBezTo>
                  <a:pt x="556" y="1870"/>
                  <a:pt x="602" y="1882"/>
                  <a:pt x="602" y="1882"/>
                </a:cubicBezTo>
                <a:cubicBezTo>
                  <a:pt x="699" y="1943"/>
                  <a:pt x="837" y="2002"/>
                  <a:pt x="951" y="2022"/>
                </a:cubicBezTo>
                <a:cubicBezTo>
                  <a:pt x="1048" y="2060"/>
                  <a:pt x="1136" y="2041"/>
                  <a:pt x="1239" y="2022"/>
                </a:cubicBezTo>
                <a:cubicBezTo>
                  <a:pt x="1289" y="2001"/>
                  <a:pt x="1352" y="1982"/>
                  <a:pt x="1397" y="1952"/>
                </a:cubicBezTo>
                <a:cubicBezTo>
                  <a:pt x="1438" y="1924"/>
                  <a:pt x="1470" y="1892"/>
                  <a:pt x="1510" y="1864"/>
                </a:cubicBezTo>
                <a:cubicBezTo>
                  <a:pt x="1538" y="1783"/>
                  <a:pt x="1603" y="1694"/>
                  <a:pt x="1667" y="1638"/>
                </a:cubicBezTo>
                <a:cubicBezTo>
                  <a:pt x="1693" y="1616"/>
                  <a:pt x="1717" y="1579"/>
                  <a:pt x="1746" y="1559"/>
                </a:cubicBezTo>
                <a:cubicBezTo>
                  <a:pt x="1796" y="1524"/>
                  <a:pt x="1848" y="1494"/>
                  <a:pt x="1894" y="1454"/>
                </a:cubicBezTo>
                <a:cubicBezTo>
                  <a:pt x="1941" y="1414"/>
                  <a:pt x="1985" y="1370"/>
                  <a:pt x="2034" y="1332"/>
                </a:cubicBezTo>
                <a:cubicBezTo>
                  <a:pt x="2059" y="1313"/>
                  <a:pt x="2090" y="1302"/>
                  <a:pt x="2112" y="1280"/>
                </a:cubicBezTo>
                <a:cubicBezTo>
                  <a:pt x="2163" y="1229"/>
                  <a:pt x="2139" y="1247"/>
                  <a:pt x="2182" y="1219"/>
                </a:cubicBezTo>
                <a:cubicBezTo>
                  <a:pt x="2241" y="1130"/>
                  <a:pt x="2260" y="1106"/>
                  <a:pt x="2278" y="1000"/>
                </a:cubicBezTo>
                <a:cubicBezTo>
                  <a:pt x="2274" y="942"/>
                  <a:pt x="2278" y="866"/>
                  <a:pt x="2252" y="808"/>
                </a:cubicBezTo>
                <a:cubicBezTo>
                  <a:pt x="2207" y="706"/>
                  <a:pt x="2120" y="663"/>
                  <a:pt x="2034" y="599"/>
                </a:cubicBezTo>
                <a:cubicBezTo>
                  <a:pt x="1995" y="570"/>
                  <a:pt x="1959" y="541"/>
                  <a:pt x="1920" y="512"/>
                </a:cubicBezTo>
                <a:cubicBezTo>
                  <a:pt x="1874" y="478"/>
                  <a:pt x="1817" y="418"/>
                  <a:pt x="1763" y="390"/>
                </a:cubicBezTo>
                <a:cubicBezTo>
                  <a:pt x="1728" y="372"/>
                  <a:pt x="1724" y="373"/>
                  <a:pt x="1693" y="346"/>
                </a:cubicBezTo>
                <a:cubicBezTo>
                  <a:pt x="1660" y="318"/>
                  <a:pt x="1634" y="283"/>
                  <a:pt x="1597" y="259"/>
                </a:cubicBezTo>
                <a:cubicBezTo>
                  <a:pt x="1565" y="207"/>
                  <a:pt x="1589" y="238"/>
                  <a:pt x="1510" y="180"/>
                </a:cubicBezTo>
                <a:cubicBezTo>
                  <a:pt x="1463" y="145"/>
                  <a:pt x="1407" y="97"/>
                  <a:pt x="1353" y="75"/>
                </a:cubicBezTo>
                <a:cubicBezTo>
                  <a:pt x="1297" y="53"/>
                  <a:pt x="1259" y="39"/>
                  <a:pt x="1205" y="23"/>
                </a:cubicBezTo>
                <a:cubicBezTo>
                  <a:pt x="1187" y="18"/>
                  <a:pt x="1152" y="6"/>
                  <a:pt x="1152" y="6"/>
                </a:cubicBezTo>
                <a:cubicBezTo>
                  <a:pt x="869" y="13"/>
                  <a:pt x="916" y="0"/>
                  <a:pt x="759" y="32"/>
                </a:cubicBezTo>
                <a:cubicBezTo>
                  <a:pt x="729" y="47"/>
                  <a:pt x="700" y="57"/>
                  <a:pt x="672" y="75"/>
                </a:cubicBezTo>
                <a:cubicBezTo>
                  <a:pt x="651" y="138"/>
                  <a:pt x="680" y="58"/>
                  <a:pt x="637" y="145"/>
                </a:cubicBezTo>
                <a:cubicBezTo>
                  <a:pt x="633" y="153"/>
                  <a:pt x="637" y="175"/>
                  <a:pt x="629" y="171"/>
                </a:cubicBezTo>
                <a:cubicBezTo>
                  <a:pt x="618" y="165"/>
                  <a:pt x="623" y="148"/>
                  <a:pt x="620" y="13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NS 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Névhasználat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10840" cy="4380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sználjuk az Internet szabványos karaktere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’-’Z’, ‘a’-’z’, ‘0’-’9’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é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‘-’ (RFC 112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DNS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öbbet támog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elhasználóknak nem kell lekövetniük a tartomány struktúrá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-mail alapú login név nem feltétlenül az felhasználó tartomány beli ne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legtöbb interakció a GC lekérdezésekor történ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dminisztrátorok függnek csak a tartomány struktúrátó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4" name=""/>
          <p:cNvGraphicFramePr/>
          <p:nvPr/>
        </p:nvGraphicFramePr>
        <p:xfrm>
          <a:off x="0" y="1440"/>
          <a:ext cx="9144000" cy="685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ímtárak a valóságba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544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átlagos amerikai vállalatnál 62 címtár találhat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Ugyanazt az információt többször többhelyen tárolju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címtárak között együttműködést és átjárhatóságot kellene biztosíta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6318360"/>
            <a:ext cx="1143000" cy="3776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200000">
            <a:off x="1466640" y="5009400"/>
            <a:ext cx="1676520" cy="648000"/>
          </a:xfrm>
          <a:prstGeom prst="rect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02000" y="6208560"/>
            <a:ext cx="1143000" cy="609840"/>
          </a:xfrm>
          <a:prstGeom prst="ellipse">
            <a:avLst/>
          </a:prstGeom>
          <a:gradFill rotWithShape="0">
            <a:gsLst>
              <a:gs pos="0">
                <a:srgbClr val="00460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3143160" y="5009760"/>
            <a:ext cx="1676520" cy="647640"/>
          </a:xfrm>
          <a:prstGeom prst="rect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Op. r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67440" y="6148440"/>
            <a:ext cx="1143000" cy="609480"/>
          </a:xfrm>
          <a:prstGeom prst="hexagon">
            <a:avLst>
              <a:gd name="adj" fmla="val 18754"/>
              <a:gd name="vf" fmla="val 11547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tár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6200000">
            <a:off x="4943520" y="4962240"/>
            <a:ext cx="1581120" cy="648000"/>
          </a:xfrm>
          <a:prstGeom prst="rect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lkalmazá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8458200" cy="75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válasz: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Meta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Director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y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77640" y="1415520"/>
            <a:ext cx="8415000" cy="3366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Jellemző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etlen adathozzáférési mód az eltérő címtárakho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özpontosított és egységesített címtár menedzs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ugalmas biztonsági mode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gas rendelkezésre áll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143680" y="2057400"/>
            <a:ext cx="3390840" cy="266688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10360" y="320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83440" y="302436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ail Name: Sla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10360" y="3657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89200" y="3481560"/>
            <a:ext cx="16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m #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10360" y="4114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90280" y="3938760"/>
            <a:ext cx="19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r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210360" y="30481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58080" y="23623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9920" y="2717640"/>
            <a:ext cx="11430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t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43680" y="1295280"/>
            <a:ext cx="3390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9124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048440" y="1752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1680" y="2057400"/>
            <a:ext cx="3390840" cy="2666880"/>
          </a:xfrm>
          <a:prstGeom prst="ellipse">
            <a:avLst/>
          </a:prstGeom>
          <a:gradFill rotWithShape="0">
            <a:gsLst>
              <a:gs pos="0">
                <a:srgbClr val="162539"/>
              </a:gs>
              <a:gs pos="100000">
                <a:srgbClr val="3051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38360" y="320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60680" y="302436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ail Name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38360" y="3657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17200" y="3481560"/>
            <a:ext cx="16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m #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38360" y="4114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17560" y="39387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r: Sla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38360" y="30481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86080" y="23623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47920" y="2717640"/>
            <a:ext cx="1143000" cy="304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t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3200400"/>
            <a:ext cx="1981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9880" y="36576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809880" y="411480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916920" y="4781520"/>
            <a:ext cx="22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ímtá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60320" y="472428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unkaügyi adatbáz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1680" y="1295280"/>
            <a:ext cx="3390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lkalmaz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1924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476440" y="175212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ihívás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: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ulajdonl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841536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ulajdonságok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ter, slave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eer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iszonyban vannak egymással, amit meg kell őriznü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11:51:21Z</dcterms:created>
  <dc:creator>Tarsoly Balázs &amp; Szalontay Zoltán</dc:creator>
  <dc:description>A Windows 2000 előadássorozat (SP klub és Windows Akadémia) hetedik előadása</dc:description>
  <dc:language>en-US</dc:language>
  <cp:lastModifiedBy>Porgányi Géza</cp:lastModifiedBy>
  <cp:lastPrinted>1998-11-23T08:04:50Z</cp:lastPrinted>
  <dcterms:modified xsi:type="dcterms:W3CDTF">2000-02-10T17:18:20Z</dcterms:modified>
  <cp:revision>114</cp:revision>
  <dc:subject/>
  <dc:title>A Windows 2000 együttműködése más rendszerekkel</dc:title>
</cp:coreProperties>
</file>