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1.png" ContentType="image/png"/>
  <Override PartName="/ppt/media/image52.png" ContentType="image/png"/>
  <Override PartName="/ppt/media/image50.jpeg" ContentType="image/jpe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6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55.wmf" ContentType="image/x-wmf"/>
  <Override PartName="/ppt/media/image20.png" ContentType="image/png"/>
  <Override PartName="/ppt/media/image2.jpeg" ContentType="image/jpeg"/>
  <Override PartName="/ppt/media/image56.wmf" ContentType="image/x-wmf"/>
  <Override PartName="/ppt/media/image19.wmf" ContentType="image/x-wmf"/>
  <Override PartName="/ppt/media/image21.wmf" ContentType="image/x-wmf"/>
  <Override PartName="/ppt/media/image58.wmf" ContentType="image/x-wmf"/>
  <Override PartName="/ppt/media/image59.wmf" ContentType="image/x-wmf"/>
  <Override PartName="/ppt/media/image22.wmf" ContentType="image/x-wmf"/>
  <Override PartName="/ppt/media/image54.wmf" ContentType="image/x-wmf"/>
  <Override PartName="/ppt/media/image14.png" ContentType="image/png"/>
  <Override PartName="/ppt/media/image71.png" ContentType="image/png"/>
  <Override PartName="/ppt/media/image69.wmf" ContentType="image/x-wmf"/>
  <Override PartName="/ppt/media/image32.wmf" ContentType="image/x-wmf"/>
  <Override PartName="/ppt/media/image24.png" ContentType="image/png"/>
  <Override PartName="/ppt/media/image64.wmf" ContentType="image/x-wmf"/>
  <Override PartName="/ppt/media/image2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5.wmf" ContentType="image/x-wmf"/>
  <Override PartName="/ppt/media/image62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70.wmf" ContentType="image/x-wmf"/>
  <Override PartName="/ppt/media/image48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0.wmf" ContentType="image/x-wmf"/>
  <Override PartName="/ppt/media/image38.png" ContentType="image/png"/>
  <Override PartName="/ppt/media/image13.png" ContentType="image/png"/>
  <Override PartName="/ppt/media/image53.wmf" ContentType="image/x-wmf"/>
  <Override PartName="/ppt/media/image17.wmf" ContentType="image/x-wmf"/>
  <Override PartName="/ppt/media/image9.png" ContentType="image/png"/>
  <Override PartName="/ppt/media/image61.wmf" ContentType="image/x-wmf"/>
  <Override PartName="/ppt/media/image39.png" ContentType="image/png"/>
  <Override PartName="/ppt/media/image8.png" ContentType="image/png"/>
  <Override PartName="/ppt/media/image4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C98A-EA55-44A3-8C6D-3B71E24A049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D2C3-7126-4CB5-A9D0-6DF5DD4FF67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0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87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Asynch I/O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-- from driver architecture up to user APIs (including the </a:t>
            </a:r>
            <a:r>
              <a:rPr b="1" lang="en-US" sz="500" spc="-1" strike="noStrike" u="sng">
                <a:solidFill>
                  <a:srgbClr val="000000"/>
                </a:solidFill>
                <a:uFillTx/>
                <a:latin typeface="Times New Roman"/>
              </a:rPr>
              <a:t>patented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I/O Completion Port technology) asynch I/O is the heart of NT's I/O and is primarily responsible for NT's perf in Web, File, TPC-C, etc.  Even on the same server-class hardware, NT consistently outperforms SCO and Linux as well as frequently outperforming Sun even on their proprietary hardware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7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In classic UNIX server architecture, one process is created/allocated </a:t>
            </a:r>
            <a:r>
              <a:rPr b="1" i="1" lang="en-US" sz="500" spc="-1" strike="noStrike">
                <a:solidFill>
                  <a:srgbClr val="000000"/>
                </a:solidFill>
                <a:latin typeface="Times New Roman"/>
              </a:rPr>
              <a:t>per I/O connection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to support parallelism despite the fact that the comparatively slow I/O hardware can only satisfy a very small number of these connections simultaneously.  As a result, 500 concurrent users on a UNIX web server will allocate 500 processes even though the disk / network is only capable of servicing 2 of these during a given CPU time slice.  The remaining 498 processes sit idle and introduce VERY large OS overhead which grows super-linearly as load is increased on the system.  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87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The Asynch I/O system in NT will only create as many threads as the Disk/Network is able to support to service all concurrent users on the system.  Consequently, OS overhead grows in proportion to the I/O hardware's ability to service requests and NOT in proportion to the number of outstanding individual connections.   The result is a far more efficient &amp; scaleable architecture due to drastically reduced system resource consumptio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Other Unixes (Linux in particular) provide usermode libraries which provide Asynch IO API's as a benefit to the server developer but without the associated performance benefits (this requires deep kernel architecture) -- and it shows in their I/O benchmarks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Dese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Regular miniports are serialized so that they do not have to deal with synchronization issues on MP machines. The de-serialized model differs from the standard model in the following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The driver can run multiple threads thru it and so must be written to be re-entrant and MP sa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NDIS does not do packet queuing, packet tracking etc. and hence it must be capable of handling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A9AD-A9E0-46A1-A17D-916CBD48D41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9F88-729A-4EBB-83EC-C6B72F79934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PlaceHolder 1"/>
          <p:cNvSpPr>
            <a:spLocks noGrp="1"/>
          </p:cNvSpPr>
          <p:nvPr>
            <p:ph type="sldImg"/>
          </p:nvPr>
        </p:nvSpPr>
        <p:spPr>
          <a:xfrm>
            <a:off x="903240" y="74772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2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3323" name="PlaceHolder 2"/>
          <p:cNvSpPr>
            <a:spLocks noGrp="1"/>
          </p:cNvSpPr>
          <p:nvPr>
            <p:ph type="body"/>
          </p:nvPr>
        </p:nvSpPr>
        <p:spPr>
          <a:xfrm>
            <a:off x="900000" y="470340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IP for entire cluster +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icated 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at each node applies port rules + convergence results to drop or accept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o affinity set, each subsequent client request is also load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sldImg"/>
          </p:nvPr>
        </p:nvSpPr>
        <p:spPr>
          <a:xfrm>
            <a:off x="898560" y="744480"/>
            <a:ext cx="4948200" cy="3711600"/>
          </a:xfrm>
          <a:prstGeom prst="rect">
            <a:avLst/>
          </a:prstGeom>
          <a:ln w="0">
            <a:noFill/>
          </a:ln>
        </p:spPr>
      </p:sp>
      <p:sp>
        <p:nvSpPr>
          <p:cNvPr id="3325" name="PlaceHolder 2"/>
          <p:cNvSpPr>
            <a:spLocks noGrp="1"/>
          </p:cNvSpPr>
          <p:nvPr>
            <p:ph type="body"/>
          </p:nvPr>
        </p:nvSpPr>
        <p:spPr>
          <a:xfrm>
            <a:off x="900000" y="470340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” or “Class C” Affinity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 client request is distributed according to standard rules +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subsequent client request accepted by the same server by client IP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0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64 Gbybte ennél nagyobb gép nincs, nem tudjuk tesztelni. Lehetne feljebb me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Server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2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32 bit platform 3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2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Új kliens típusok kieme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CE44-3898-4C71-8D4D-F9867F2F5D35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33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-in Windows 2000 feature 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, Advanced Server, 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nfigu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d on upgrade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Server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grade / Install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grade from Termi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upgrade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rix WinFrame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4265-BFE6-4ED8-A91D-CC90E9EB936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1"/>
          <p:cNvSpPr>
            <a:spLocks noGrp="1"/>
          </p:cNvSpPr>
          <p:nvPr>
            <p:ph type="sldImg"/>
          </p:nvPr>
        </p:nvSpPr>
        <p:spPr>
          <a:xfrm>
            <a:off x="905040" y="74916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39" name="PlaceHolder 2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MB Cache for bit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x16 for small but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x32 for toolbars &amp; icon siz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x64 for larg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t c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ed format, fast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aults to \Cache directory under TS client installat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red in case of corru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ault size 1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"/>
          <p:cNvSpPr txBox="1"/>
          <p:nvPr/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864E-5DBD-4BD4-8546-8CDF702C8C5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 txBox="1"/>
          <p:nvPr/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1"/>
          <p:cNvSpPr>
            <a:spLocks noGrp="1"/>
          </p:cNvSpPr>
          <p:nvPr>
            <p:ph type="sldImg"/>
          </p:nvPr>
        </p:nvSpPr>
        <p:spPr>
          <a:xfrm>
            <a:off x="893880" y="741240"/>
            <a:ext cx="4954320" cy="3716640"/>
          </a:xfrm>
          <a:prstGeom prst="rect">
            <a:avLst/>
          </a:prstGeom>
          <a:ln w="0">
            <a:noFill/>
          </a:ln>
        </p:spPr>
      </p:sp>
      <p:sp>
        <p:nvSpPr>
          <p:cNvPr id="3345" name="PlaceHolder 2"/>
          <p:cNvSpPr>
            <a:spLocks noGrp="1"/>
          </p:cNvSpPr>
          <p:nvPr>
            <p:ph type="body"/>
          </p:nvPr>
        </p:nvSpPr>
        <p:spPr>
          <a:xfrm>
            <a:off x="885600" y="4703400"/>
            <a:ext cx="4971960" cy="44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d on digital certific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crosoft Clearing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tivates license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idates license requests from licens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sues license key packs to licens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cens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sues licenses from a finite p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-day temporary license is issued if pool exhau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 required for ongoing client license vali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cense distribution is passive - invisible to end 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s and manages lic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nternet, WWW, Telephone, Fax to 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run on a DC in Win2K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quired for ongoing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upport many Terminal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rmina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quests licenses from license server on behalf of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idates client lice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rminal session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sents licenses to terminal server on log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596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4173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596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354636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04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2960" y="354636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2960" y="14173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54636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4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8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9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30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24.png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1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32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33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24.png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34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35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36.wmf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24.png"/><Relationship Id="rId48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crosoft.com/" TargetMode="External"/><Relationship Id="rId3" Type="http://schemas.openxmlformats.org/officeDocument/2006/relationships/hyperlink" Target="http://www.msn.com/" TargetMode="External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2.wmf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image" Target="../media/image41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6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47.wmf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46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2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6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64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5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66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67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68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69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70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70.wmf"/><Relationship Id="rId44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4648320"/>
            <a:ext cx="64008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lontay Zoltán, Tarsoly Baláz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mérnökö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aál Lászl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ejlesztési szakért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crosoft Magyarorsz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2561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ffff"/>
                </a:solidFill>
                <a:latin typeface="Arial"/>
              </a:rPr>
              <a:t>A Windows 2000, mint alkalmazás kiszolgáló</a:t>
            </a:r>
            <a:endParaRPr b="1" lang="en-US" sz="60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hatályos törvénye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5223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oore törvény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zilícium teljesítménye 18 havonta duplázód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sak chip-ekre értendő (csatlakozásokra ne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rocesszorok, memóriák, vezérlők, stb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xwell-egyenle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lektron tudja a fiziká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izikai korlátokat szab a chip-ek közötti kapcsolatok sebességé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ilder törvény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álózat sebessége a következő 25 évben megháromszorozód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És az adatmennyiség minden fentinél gyorsabban növeks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buszok és a processzorok fejlődési ütem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0200" y="1724040"/>
            <a:ext cx="8906760" cy="4997880"/>
            <a:chOff x="160200" y="1724040"/>
            <a:chExt cx="8906760" cy="4997880"/>
          </a:xfrm>
        </p:grpSpPr>
        <p:sp>
          <p:nvSpPr>
            <p:cNvPr id="335" name=""/>
            <p:cNvSpPr/>
            <p:nvPr/>
          </p:nvSpPr>
          <p:spPr>
            <a:xfrm>
              <a:off x="2973240" y="3952800"/>
              <a:ext cx="97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28800" y="3952800"/>
              <a:ext cx="97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8472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4028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51400" y="3952800"/>
              <a:ext cx="97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06960" y="3952800"/>
              <a:ext cx="97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6288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21844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74000" y="3952800"/>
              <a:ext cx="936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3280" y="5762520"/>
              <a:ext cx="9720" cy="10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97640" y="2943000"/>
              <a:ext cx="9360" cy="219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284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7136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6988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6840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68360" y="1868400"/>
              <a:ext cx="46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66880" y="1868400"/>
              <a:ext cx="648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540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6392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6244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1156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10080" y="1868400"/>
              <a:ext cx="6120" cy="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69880" y="2165040"/>
              <a:ext cx="6480" cy="1809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68360" y="1874520"/>
              <a:ext cx="4680" cy="1809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63920" y="1874520"/>
              <a:ext cx="6120" cy="1809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1560" y="1874520"/>
              <a:ext cx="6120" cy="1809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2840" y="2371320"/>
              <a:ext cx="384984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840" y="2398320"/>
              <a:ext cx="384984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2840" y="2901600"/>
              <a:ext cx="384984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2840" y="2928600"/>
              <a:ext cx="384984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840" y="3247920"/>
              <a:ext cx="3849840" cy="57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2840" y="3565440"/>
              <a:ext cx="3849840" cy="57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52440" y="3209760"/>
              <a:ext cx="126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88800" y="3209760"/>
              <a:ext cx="1296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76360" y="3197160"/>
              <a:ext cx="126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14520" y="3197160"/>
              <a:ext cx="126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44400" y="3197160"/>
              <a:ext cx="1296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3184200"/>
              <a:ext cx="126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95240" y="3463560"/>
              <a:ext cx="1116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7560" y="3122280"/>
              <a:ext cx="126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62080" y="3400200"/>
              <a:ext cx="126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05000" y="3073320"/>
              <a:ext cx="612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49360" y="3022200"/>
              <a:ext cx="468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66880" y="2879640"/>
              <a:ext cx="1116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520" y="1892160"/>
              <a:ext cx="6120" cy="2074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520" y="1900080"/>
              <a:ext cx="6120" cy="20743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520" y="1724040"/>
              <a:ext cx="428616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6520" y="2258640"/>
              <a:ext cx="4286160" cy="46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6520" y="2331720"/>
              <a:ext cx="428616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520" y="2866680"/>
              <a:ext cx="4286160" cy="6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520" y="3715920"/>
              <a:ext cx="4286160" cy="79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65160" y="3133440"/>
              <a:ext cx="1404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6200" y="3133440"/>
              <a:ext cx="1296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47600" y="3133440"/>
              <a:ext cx="144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90440" y="3133440"/>
              <a:ext cx="12600" cy="6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41320" y="3031920"/>
              <a:ext cx="12600" cy="7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25560" y="3017520"/>
              <a:ext cx="12600" cy="7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77840" y="2968560"/>
              <a:ext cx="14400" cy="7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17440" y="2954160"/>
              <a:ext cx="14400" cy="7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56000" y="2639880"/>
              <a:ext cx="1404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9560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3844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9840" y="2639880"/>
              <a:ext cx="126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2088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6228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05120" y="2639880"/>
              <a:ext cx="14400" cy="5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60200" y="1842840"/>
              <a:ext cx="8906760" cy="4879080"/>
              <a:chOff x="160200" y="1842840"/>
              <a:chExt cx="8906760" cy="4879080"/>
            </a:xfrm>
          </p:grpSpPr>
          <p:sp>
            <p:nvSpPr>
              <p:cNvPr id="403" name=""/>
              <p:cNvSpPr/>
              <p:nvPr/>
            </p:nvSpPr>
            <p:spPr>
              <a:xfrm>
                <a:off x="315720" y="1842840"/>
                <a:ext cx="8737920" cy="3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5720" y="1842840"/>
                <a:ext cx="87379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5720" y="1842840"/>
                <a:ext cx="2880" cy="48607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572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2004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20040" y="1861200"/>
                <a:ext cx="1584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2760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3192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31920" y="1861200"/>
                <a:ext cx="1584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42360" y="1861200"/>
                <a:ext cx="360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47400" y="1861200"/>
                <a:ext cx="576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47400" y="1861200"/>
                <a:ext cx="1584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54240" y="1861200"/>
                <a:ext cx="360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754240" y="1861200"/>
                <a:ext cx="1296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59280" y="1861200"/>
                <a:ext cx="576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66120" y="1861200"/>
                <a:ext cx="360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66120" y="1861200"/>
                <a:ext cx="1296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133480" y="1861200"/>
                <a:ext cx="288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037800" y="1861200"/>
                <a:ext cx="3600" cy="484200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9037800" y="1861200"/>
                <a:ext cx="15840" cy="48607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5720" y="184284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5720" y="1842840"/>
                <a:ext cx="8751240" cy="183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15720" y="212868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5720" y="241524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5720" y="270144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15720" y="298044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5720" y="2980440"/>
                <a:ext cx="8751240" cy="183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5720" y="326736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5720" y="355320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5720" y="383976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5720" y="412596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5720" y="440496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5720" y="4404960"/>
                <a:ext cx="8751240" cy="183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5720" y="469188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15720" y="497772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5720" y="4977720"/>
                <a:ext cx="8751240" cy="183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5720" y="526464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5720" y="5264640"/>
                <a:ext cx="8751240" cy="1404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5720" y="5550480"/>
                <a:ext cx="8737920" cy="39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5720" y="5833080"/>
                <a:ext cx="8737920" cy="756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5720" y="5833080"/>
                <a:ext cx="8751240" cy="1512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5720" y="611640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5720" y="640224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720" y="6689160"/>
                <a:ext cx="8737920" cy="3240"/>
              </a:xfrm>
              <a:prstGeom prst="line">
                <a:avLst/>
              </a:prstGeom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5720" y="6689160"/>
                <a:ext cx="8751240" cy="1404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0200" y="1927800"/>
                <a:ext cx="8796600" cy="4742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94200" y="2935800"/>
                <a:ext cx="5351760" cy="259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94200" y="5096520"/>
                <a:ext cx="53517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94200" y="4658040"/>
                <a:ext cx="53517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94200" y="4241520"/>
                <a:ext cx="53517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94200" y="3806280"/>
                <a:ext cx="53517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94200" y="3371040"/>
                <a:ext cx="53517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94200" y="2935800"/>
                <a:ext cx="53517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94200" y="2935800"/>
                <a:ext cx="5351760" cy="2595960"/>
              </a:xfrm>
              <a:prstGeom prst="rect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94200" y="2935800"/>
                <a:ext cx="3600" cy="2595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36240" y="5531760"/>
                <a:ext cx="579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236240" y="5096520"/>
                <a:ext cx="579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236240" y="4658040"/>
                <a:ext cx="579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236240" y="4241520"/>
                <a:ext cx="579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36240" y="3806280"/>
                <a:ext cx="57960" cy="32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236240" y="3371040"/>
                <a:ext cx="579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36240" y="2935800"/>
                <a:ext cx="579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4200" y="5531760"/>
                <a:ext cx="5351760" cy="3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129420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95876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63916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330372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968280" y="5531400"/>
                <a:ext cx="360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4636440" y="5531400"/>
                <a:ext cx="288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313960" y="5531400"/>
                <a:ext cx="288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981400" y="5531400"/>
                <a:ext cx="288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6645960" y="5531400"/>
                <a:ext cx="2880" cy="673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31520" y="5479560"/>
                <a:ext cx="664200" cy="396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2296080" y="5446440"/>
                <a:ext cx="667080" cy="3276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963520" y="5446800"/>
                <a:ext cx="664200" cy="324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27720" y="5446800"/>
                <a:ext cx="684000" cy="324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4312080" y="5412600"/>
                <a:ext cx="660600" cy="3348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73040" y="5412960"/>
                <a:ext cx="664200" cy="3348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637600" y="5412600"/>
                <a:ext cx="667800" cy="3348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83560" y="5394240"/>
                <a:ext cx="29160" cy="183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551680" y="5364720"/>
                <a:ext cx="29160" cy="1404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707560" y="533124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795040" y="531612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8" y="0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76040" y="52974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63520" y="5297400"/>
                <a:ext cx="29160" cy="183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031920" y="526464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19400" y="524592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03640" y="523080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15480" y="512712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99360" y="5096520"/>
                <a:ext cx="45360" cy="30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039560" y="4977720"/>
                <a:ext cx="29160" cy="1836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79240" y="491112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66720" y="4880880"/>
                <a:ext cx="45360" cy="30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3"/>
                    </a:move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95880" y="4862160"/>
                <a:ext cx="38880" cy="30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4"/>
                    </a:moveTo>
                    <a:lnTo>
                      <a:pt x="7" y="0"/>
                    </a:lnTo>
                    <a:lnTo>
                      <a:pt x="11" y="4"/>
                    </a:lnTo>
                    <a:lnTo>
                      <a:pt x="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63560" y="481068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451760" y="477684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19440" y="472464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606920" y="467676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678200" y="4639680"/>
                <a:ext cx="38880" cy="370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7" y="0"/>
                    </a:lnTo>
                    <a:lnTo>
                      <a:pt x="11" y="4"/>
                    </a:lnTo>
                    <a:lnTo>
                      <a:pt x="3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62800" y="457632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4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901760" y="450972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947120" y="447588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018400" y="442368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8" y="0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86800" y="436032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58080" y="430812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45560" y="424152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3" y="0"/>
                    </a:lnTo>
                    <a:lnTo>
                      <a:pt x="11" y="4"/>
                    </a:lnTo>
                    <a:lnTo>
                      <a:pt x="7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13960" y="4204440"/>
                <a:ext cx="41760" cy="370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85240" y="4141080"/>
                <a:ext cx="44640" cy="295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3"/>
                    </a:moveTo>
                    <a:lnTo>
                      <a:pt x="8" y="0"/>
                    </a:lnTo>
                    <a:lnTo>
                      <a:pt x="12" y="3"/>
                    </a:lnTo>
                    <a:lnTo>
                      <a:pt x="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56520" y="4088880"/>
                <a:ext cx="41760" cy="370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27800" y="4040640"/>
                <a:ext cx="417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599080" y="39884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7" y="0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15280" y="395460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4"/>
                    </a:moveTo>
                    <a:lnTo>
                      <a:pt x="7" y="0"/>
                    </a:lnTo>
                    <a:lnTo>
                      <a:pt x="11" y="4"/>
                    </a:lnTo>
                    <a:lnTo>
                      <a:pt x="3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82960" y="387288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4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42000" y="382140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09320" y="375408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80600" y="3668760"/>
                <a:ext cx="4248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4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39640" y="3620520"/>
                <a:ext cx="417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07320" y="3534480"/>
                <a:ext cx="58680" cy="522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8" y="0"/>
                    </a:lnTo>
                    <a:lnTo>
                      <a:pt x="16" y="4"/>
                    </a:lnTo>
                    <a:lnTo>
                      <a:pt x="8" y="1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94800" y="3467880"/>
                <a:ext cx="29160" cy="5220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8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4" y="1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37280" y="3404880"/>
                <a:ext cx="55080" cy="44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7"/>
                    </a:moveTo>
                    <a:lnTo>
                      <a:pt x="8" y="0"/>
                    </a:lnTo>
                    <a:lnTo>
                      <a:pt x="15" y="4"/>
                    </a:lnTo>
                    <a:lnTo>
                      <a:pt x="8" y="1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204960" y="337104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76240" y="3285720"/>
                <a:ext cx="45360" cy="32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4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589760" y="5431680"/>
                <a:ext cx="7128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257200" y="5431680"/>
                <a:ext cx="6804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21400" y="5394240"/>
                <a:ext cx="71280" cy="8496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585960" y="5394240"/>
                <a:ext cx="71280" cy="8496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6720" y="5394240"/>
                <a:ext cx="68040" cy="8496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31280" y="5364720"/>
                <a:ext cx="7128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99080" y="5394240"/>
                <a:ext cx="67320" cy="8496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263640" y="5364720"/>
                <a:ext cx="7128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89760" y="5394240"/>
                <a:ext cx="87120" cy="104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257200" y="536472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0"/>
                    </a:moveTo>
                    <a:lnTo>
                      <a:pt x="23" y="23"/>
                    </a:lnTo>
                    <a:lnTo>
                      <a:pt x="0" y="23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21400" y="5245920"/>
                <a:ext cx="87120" cy="1036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585960" y="5096520"/>
                <a:ext cx="84240" cy="9684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0"/>
                    </a:moveTo>
                    <a:lnTo>
                      <a:pt x="24" y="23"/>
                    </a:lnTo>
                    <a:lnTo>
                      <a:pt x="0" y="23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66720" y="4829400"/>
                <a:ext cx="84240" cy="961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0"/>
                    </a:moveTo>
                    <a:lnTo>
                      <a:pt x="23" y="23"/>
                    </a:lnTo>
                    <a:lnTo>
                      <a:pt x="0" y="23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931280" y="4438800"/>
                <a:ext cx="87120" cy="1036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99080" y="3921840"/>
                <a:ext cx="83520" cy="100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1" y="0"/>
                    </a:moveTo>
                    <a:lnTo>
                      <a:pt x="23" y="24"/>
                    </a:lnTo>
                    <a:lnTo>
                      <a:pt x="0" y="24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263640" y="3233520"/>
                <a:ext cx="87120" cy="10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9560" y="2109960"/>
                <a:ext cx="66438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ea564"/>
                    </a:solidFill>
                    <a:latin typeface="Arial"/>
                  </a:rPr>
                  <a:t>Moore</a:t>
                </a:r>
                <a:r>
                  <a:rPr b="1" lang="hu-HU" sz="2800" spc="-1" strike="noStrike">
                    <a:solidFill>
                      <a:srgbClr val="eea564"/>
                    </a:solidFill>
                    <a:latin typeface="Arial"/>
                  </a:rPr>
                  <a:t> törvénye </a:t>
                </a:r>
                <a:r>
                  <a:rPr b="1" lang="en-US" sz="2800" spc="-1" strike="noStrike">
                    <a:solidFill>
                      <a:srgbClr val="eea564"/>
                    </a:solidFill>
                    <a:latin typeface="Arial"/>
                  </a:rPr>
                  <a:t>vs</a:t>
                </a:r>
                <a:r>
                  <a:rPr b="1" lang="hu-HU" sz="2800" spc="-1" strike="noStrike">
                    <a:solidFill>
                      <a:srgbClr val="eea564"/>
                    </a:solidFill>
                    <a:latin typeface="Arial"/>
                  </a:rPr>
                  <a:t>.</a:t>
                </a:r>
                <a:r>
                  <a:rPr b="1" lang="en-US" sz="2800" spc="-1" strike="noStrike">
                    <a:solidFill>
                      <a:srgbClr val="eea564"/>
                    </a:solidFill>
                    <a:latin typeface="Arial"/>
                  </a:rPr>
                  <a:t> Maxwell</a:t>
                </a:r>
                <a:r>
                  <a:rPr b="1" lang="hu-HU" sz="2800" spc="-1" strike="noStrike">
                    <a:solidFill>
                      <a:srgbClr val="eea564"/>
                    </a:solidFill>
                    <a:latin typeface="Arial"/>
                  </a:rPr>
                  <a:t> egyenletek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37520" y="539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06400" y="495936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5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95880" y="45241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0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5880" y="41072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5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5880" y="366876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5880" y="32335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5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5880" y="27982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30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41840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07000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3456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39912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07952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4408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1188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76440" y="573264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44360" y="613512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eea564"/>
                    </a:solidFill>
                    <a:latin typeface="Arial"/>
                  </a:rPr>
                  <a:t>É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6200000">
                <a:off x="-33840" y="4203000"/>
                <a:ext cx="105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ea564"/>
                    </a:solidFill>
                    <a:latin typeface="Arial"/>
                  </a:rPr>
                  <a:t>Fre</a:t>
                </a:r>
                <a:r>
                  <a:rPr b="1" lang="hu-HU" sz="1600" spc="-1" strike="noStrike">
                    <a:solidFill>
                      <a:srgbClr val="eea564"/>
                    </a:solidFill>
                    <a:latin typeface="Arial"/>
                  </a:rPr>
                  <a:t>kv</a:t>
                </a:r>
                <a:r>
                  <a:rPr b="1" lang="en-US" sz="1600" spc="-1" strike="noStrike">
                    <a:solidFill>
                      <a:srgbClr val="eea564"/>
                    </a:solidFill>
                    <a:latin typeface="Arial"/>
                  </a:rPr>
                  <a:t>enc</a:t>
                </a:r>
                <a:r>
                  <a:rPr b="1" lang="hu-HU" sz="1600" spc="-1" strike="noStrike">
                    <a:solidFill>
                      <a:srgbClr val="eea564"/>
                    </a:solidFill>
                    <a:latin typeface="Arial"/>
                  </a:rPr>
                  <a:t>i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814080" y="3702600"/>
                <a:ext cx="2142360" cy="736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889320" y="3906720"/>
                <a:ext cx="563760" cy="3960"/>
              </a:xfrm>
              <a:prstGeom prst="line">
                <a:avLst/>
              </a:prstGeom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125840" y="3854160"/>
                <a:ext cx="71280" cy="81720"/>
              </a:xfrm>
              <a:prstGeom prst="rect">
                <a:avLst/>
              </a:prstGeom>
              <a:solidFill>
                <a:srgbClr val="ff00ff"/>
              </a:solidFill>
              <a:ln w="64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01680" y="3769200"/>
                <a:ext cx="1263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400" spc="-1" strike="noStrike">
                    <a:solidFill>
                      <a:srgbClr val="eea564"/>
                    </a:solidFill>
                    <a:latin typeface="Arial"/>
                  </a:rPr>
                  <a:t>Busz frekvenci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125840" y="4222800"/>
                <a:ext cx="87120" cy="10008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6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501680" y="4141080"/>
                <a:ext cx="1283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400" spc="-1" strike="noStrike">
                    <a:solidFill>
                      <a:srgbClr val="eea564"/>
                    </a:solidFill>
                    <a:latin typeface="Arial"/>
                  </a:rPr>
                  <a:t>Proc. frekvenci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0200" y="1927800"/>
                <a:ext cx="8796600" cy="4742640"/>
              </a:xfrm>
              <a:prstGeom prst="rect">
                <a:avLst/>
              </a:prstGeom>
              <a:noFill/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841880" y="3616560"/>
                <a:ext cx="18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5181480" y="4343400"/>
            <a:ext cx="3733920" cy="228600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1371600"/>
            <a:ext cx="3733920" cy="243828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2133720"/>
            <a:ext cx="3733560" cy="304776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39840" y="37800"/>
            <a:ext cx="8431200" cy="1847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uszok helyett pont-pont kapcsolato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“North Side” struktúrá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3505320"/>
            <a:ext cx="2895480" cy="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0720" y="2971800"/>
            <a:ext cx="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2971800"/>
            <a:ext cx="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4792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95480" y="251460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752480" y="3809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23880" y="3505320"/>
            <a:ext cx="0" cy="106668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10760" y="251460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791320" y="1523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1523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01000" y="152388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0" y="266688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316280" y="152388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72200" y="1981080"/>
            <a:ext cx="838080" cy="68580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0" y="1981080"/>
            <a:ext cx="304920" cy="68580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7391520" y="1905120"/>
            <a:ext cx="914400" cy="76176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23623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62720" y="251460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48520" y="2666880"/>
            <a:ext cx="609480" cy="15264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248160" y="2895480"/>
            <a:ext cx="609480" cy="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32520" y="3352680"/>
            <a:ext cx="7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30517c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30517c"/>
                </a:solidFill>
                <a:latin typeface="Arial"/>
              </a:rPr>
              <a:t>/O</a:t>
            </a:r>
            <a:r>
              <a:rPr b="1" lang="hu-HU" sz="1400" spc="-1" strike="noStrike">
                <a:solidFill>
                  <a:srgbClr val="30517c"/>
                </a:solidFill>
                <a:latin typeface="Arial"/>
              </a:rPr>
              <a:t> fel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457200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00800" y="45720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48720" y="457200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55627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63640" y="457200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5029200"/>
            <a:ext cx="91440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0" y="5029200"/>
            <a:ext cx="30492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391520" y="5029200"/>
            <a:ext cx="761760" cy="53352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38880" y="6032520"/>
            <a:ext cx="0" cy="22860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6200" y="6248520"/>
            <a:ext cx="7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517c"/>
                </a:solidFill>
                <a:latin typeface="Arial"/>
              </a:rPr>
              <a:t>I/O</a:t>
            </a:r>
            <a:r>
              <a:rPr b="1" lang="hu-HU" sz="1400" spc="-1" strike="noStrike">
                <a:solidFill>
                  <a:srgbClr val="30517c"/>
                </a:solidFill>
                <a:latin typeface="Arial"/>
              </a:rPr>
              <a:t> fel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305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1200" y="4724280"/>
            <a:ext cx="7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517c"/>
                </a:solidFill>
                <a:latin typeface="Arial"/>
              </a:rPr>
              <a:t>I/O</a:t>
            </a:r>
            <a:r>
              <a:rPr b="1" lang="hu-HU" sz="1400" spc="-1" strike="noStrike">
                <a:solidFill>
                  <a:srgbClr val="30517c"/>
                </a:solidFill>
                <a:latin typeface="Arial"/>
              </a:rPr>
              <a:t> fel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191120" y="2666520"/>
            <a:ext cx="838080" cy="838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91120" y="4114800"/>
            <a:ext cx="76176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45240" y="912960"/>
            <a:ext cx="11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93040" y="3902040"/>
            <a:ext cx="13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Windows 2000 I/O 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donság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63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/O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hajtó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vesebb áttételle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den </a:t>
            </a:r>
            <a:r>
              <a:rPr b="1" lang="en-US" sz="2800" spc="-1" strike="noStrike">
                <a:solidFill>
                  <a:srgbClr val="fccf00"/>
                </a:solidFill>
                <a:latin typeface="Arial"/>
              </a:rPr>
              <a:t>as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zinkro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mód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DIS – 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nem soros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zelé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P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alat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tegelt átvite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jumbo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retek (64 KB vs. 1.5 KB), szelektív elfogad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gszakítások – az I/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finit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att könnyebben partícionálhat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FS –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vesebb környezet (context) vál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őnyö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eveseb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PU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dő megy el bitek küldözgetésé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ciklus marad az alkalmazások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Job Objec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1176120"/>
            <a:ext cx="8415360" cy="5568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évvel ellátható, levédhető, örökölhető, megosztható objektum, amely egy processz készletet vezér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orlátozza a memória „elfolyást” (lea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rocesszek csoportját egy egységként keze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orlátozásokat vezethet be a job object folyamataib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orlátozás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Working set mérete, Időkorlátok, processzek maximális száma, processzor affinitás, prioritási osztá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éde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CL-ek és token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ndle hozzáféré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Clipboard hozzáféré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 változtatás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Rendszer vagy folyamat leállá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rocess Contro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685800" y="1092240"/>
          <a:ext cx="7770960" cy="535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092240"/>
                    <a:ext cx="777096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Ügyfél-kiszolgáló model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619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328680" y="1289160"/>
            <a:ext cx="8632800" cy="50832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4553640" y="535896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kalmazás-logika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t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43840" y="459684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tároló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t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41440" y="58161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zentáció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ét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6078600" y="1928880"/>
            <a:ext cx="3065400" cy="4141800"/>
          </a:xfrm>
          <a:custGeom>
            <a:avLst/>
            <a:gdLst>
              <a:gd name="textAreaLeft" fmla="*/ 149400 w 3065400"/>
              <a:gd name="textAreaRight" fmla="*/ 2916000 w 3065400"/>
              <a:gd name="textAreaTop" fmla="*/ 149400 h 4141800"/>
              <a:gd name="textAreaBottom" fmla="*/ 3992400 h 4141800"/>
            </a:gdLst>
            <a:ahLst/>
            <a:rect l="textAreaLeft" t="textAreaTop" r="textAreaRight" b="textAreaBottom"/>
            <a:pathLst>
              <a:path w="21600" h="29184">
                <a:moveTo>
                  <a:pt x="3600" y="0"/>
                </a:moveTo>
                <a:arcTo wR="3600" hR="3600" stAng="16200000" swAng="-5400000"/>
                <a:lnTo>
                  <a:pt x="0" y="25584"/>
                </a:lnTo>
                <a:arcTo wR="3600" hR="3600" stAng="10800000" swAng="-5400000"/>
                <a:lnTo>
                  <a:pt x="18000" y="29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9720" y="1906560"/>
            <a:ext cx="2430360" cy="4141800"/>
          </a:xfrm>
          <a:custGeom>
            <a:avLst/>
            <a:gdLst>
              <a:gd name="textAreaLeft" fmla="*/ 118440 w 2430360"/>
              <a:gd name="textAreaRight" fmla="*/ 2311920 w 2430360"/>
              <a:gd name="textAreaTop" fmla="*/ 118440 h 4141800"/>
              <a:gd name="textAreaBottom" fmla="*/ 4023360 h 4141800"/>
            </a:gdLst>
            <a:ahLst/>
            <a:rect l="textAreaLeft" t="textAreaTop" r="textAreaRight" b="textAreaBottom"/>
            <a:pathLst>
              <a:path w="21600" h="36808">
                <a:moveTo>
                  <a:pt x="3600" y="0"/>
                </a:moveTo>
                <a:arcTo wR="3600" hR="3600" stAng="16200000" swAng="-5400000"/>
                <a:lnTo>
                  <a:pt x="0" y="33208"/>
                </a:lnTo>
                <a:arcTo wR="3600" hR="3600" stAng="10800000" swAng="-5400000"/>
                <a:lnTo>
                  <a:pt x="18000" y="36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ba09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16320" y="2946240"/>
            <a:ext cx="771480" cy="2248200"/>
          </a:xfrm>
          <a:custGeom>
            <a:avLst/>
            <a:gdLst>
              <a:gd name="textAreaLeft" fmla="*/ 37440 w 771480"/>
              <a:gd name="textAreaRight" fmla="*/ 734040 w 771480"/>
              <a:gd name="textAreaTop" fmla="*/ 37440 h 2248200"/>
              <a:gd name="textAreaBottom" fmla="*/ 2210760 h 2248200"/>
            </a:gdLst>
            <a:ahLst/>
            <a:rect l="textAreaLeft" t="textAreaTop" r="textAreaRight" b="textAreaBottom"/>
            <a:pathLst>
              <a:path w="21600" h="62926">
                <a:moveTo>
                  <a:pt x="3600" y="0"/>
                </a:moveTo>
                <a:arcTo wR="3600" hR="3600" stAng="16200000" swAng="-5400000"/>
                <a:lnTo>
                  <a:pt x="0" y="59326"/>
                </a:lnTo>
                <a:arcTo wR="3600" hR="3600" stAng="10800000" swAng="-5400000"/>
                <a:lnTo>
                  <a:pt x="18000" y="62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97160" y="1906560"/>
            <a:ext cx="1385640" cy="4141800"/>
          </a:xfrm>
          <a:custGeom>
            <a:avLst/>
            <a:gdLst>
              <a:gd name="textAreaLeft" fmla="*/ 67320 w 1385640"/>
              <a:gd name="textAreaRight" fmla="*/ 1318320 w 1385640"/>
              <a:gd name="textAreaTop" fmla="*/ 67320 h 4141800"/>
              <a:gd name="textAreaBottom" fmla="*/ 4074480 h 4141800"/>
            </a:gdLst>
            <a:ahLst/>
            <a:rect l="textAreaLeft" t="textAreaTop" r="textAreaRight" b="textAreaBottom"/>
            <a:pathLst>
              <a:path w="21600" h="64553">
                <a:moveTo>
                  <a:pt x="3600" y="0"/>
                </a:moveTo>
                <a:arcTo wR="3600" hR="3600" stAng="16200000" swAng="-5400000"/>
                <a:lnTo>
                  <a:pt x="0" y="60953"/>
                </a:lnTo>
                <a:arcTo wR="3600" hR="3600" stAng="10800000" swAng="-5400000"/>
                <a:lnTo>
                  <a:pt x="18000" y="6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c95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000" y="1082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92600" y="611964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Web farm vagy má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P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apú szolgálta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56560" y="61056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QL, Exchange, F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áj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52640" y="1082520"/>
            <a:ext cx="20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twork Load Bal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10825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uste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55440" y="6026040"/>
            <a:ext cx="20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+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mponen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s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79600" y="108252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mponent Load Balancing (COM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70040" y="63151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kalmazás kiszolgáló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779560" y="3987360"/>
            <a:ext cx="55116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43120" y="3987720"/>
            <a:ext cx="512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65040" y="2844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fürtö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638" name="Server" descr=""/>
          <p:cNvPicPr/>
          <p:nvPr/>
        </p:nvPicPr>
        <p:blipFill>
          <a:blip r:embed="rId2">
            <a:lum contrast="30000"/>
          </a:blip>
          <a:srcRect l="0" t="0" r="4968" b="1978"/>
          <a:stretch/>
        </p:blipFill>
        <p:spPr>
          <a:xfrm>
            <a:off x="1668600" y="206208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789200" y="2090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0" name="Server" descr=""/>
          <p:cNvPicPr/>
          <p:nvPr/>
        </p:nvPicPr>
        <p:blipFill>
          <a:blip r:embed="rId3">
            <a:lum contrast="30000"/>
          </a:blip>
          <a:srcRect l="0" t="0" r="4968" b="1978"/>
          <a:stretch/>
        </p:blipFill>
        <p:spPr>
          <a:xfrm>
            <a:off x="1940040" y="26305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044800" y="26859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" name="Server" descr=""/>
          <p:cNvPicPr/>
          <p:nvPr/>
        </p:nvPicPr>
        <p:blipFill>
          <a:blip r:embed="rId4">
            <a:lum contrast="30000"/>
          </a:blip>
          <a:srcRect l="0" t="0" r="4968" b="1978"/>
          <a:stretch/>
        </p:blipFill>
        <p:spPr>
          <a:xfrm>
            <a:off x="1790640" y="498636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746360" y="509112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4" name="Server" descr=""/>
          <p:cNvPicPr/>
          <p:nvPr/>
        </p:nvPicPr>
        <p:blipFill>
          <a:blip r:embed="rId5">
            <a:lum contrast="30000"/>
          </a:blip>
          <a:srcRect l="0" t="0" r="4968" b="1978"/>
          <a:stretch/>
        </p:blipFill>
        <p:spPr>
          <a:xfrm>
            <a:off x="1673280" y="31719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1762200" y="32781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5400000">
            <a:off x="1802520" y="4615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Server" descr=""/>
          <p:cNvPicPr/>
          <p:nvPr/>
        </p:nvPicPr>
        <p:blipFill>
          <a:blip r:embed="rId6">
            <a:lum contrast="30000"/>
          </a:blip>
          <a:srcRect l="0" t="0" r="4968" b="1978"/>
          <a:stretch/>
        </p:blipFill>
        <p:spPr>
          <a:xfrm>
            <a:off x="4121280" y="21495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241880" y="2178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" name="Server" descr=""/>
          <p:cNvPicPr/>
          <p:nvPr/>
        </p:nvPicPr>
        <p:blipFill>
          <a:blip r:embed="rId7">
            <a:lum contrast="30000"/>
          </a:blip>
          <a:srcRect l="0" t="0" r="4968" b="1978"/>
          <a:stretch/>
        </p:blipFill>
        <p:spPr>
          <a:xfrm>
            <a:off x="4395960" y="285444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516560" y="2882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1" name="Server" descr=""/>
          <p:cNvPicPr/>
          <p:nvPr/>
        </p:nvPicPr>
        <p:blipFill>
          <a:blip r:embed="rId8">
            <a:lum contrast="30000"/>
          </a:blip>
          <a:srcRect l="0" t="0" r="4968" b="1978"/>
          <a:stretch/>
        </p:blipFill>
        <p:spPr>
          <a:xfrm>
            <a:off x="4240080" y="501012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4246560" y="51958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5400000">
            <a:off x="4267800" y="455832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4" name="Server" descr=""/>
          <p:cNvPicPr/>
          <p:nvPr/>
        </p:nvPicPr>
        <p:blipFill>
          <a:blip r:embed="rId9">
            <a:lum contrast="30000"/>
          </a:blip>
          <a:srcRect l="0" t="0" r="4968" b="1978"/>
          <a:stretch/>
        </p:blipFill>
        <p:spPr>
          <a:xfrm>
            <a:off x="2046240" y="367200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2131920" y="37926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6" name="Server" descr=""/>
          <p:cNvPicPr/>
          <p:nvPr/>
        </p:nvPicPr>
        <p:blipFill>
          <a:blip r:embed="rId10">
            <a:lum contrast="30000"/>
          </a:blip>
          <a:srcRect l="0" t="0" r="4968" b="1978"/>
          <a:stretch/>
        </p:blipFill>
        <p:spPr>
          <a:xfrm>
            <a:off x="4175280" y="36259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295880" y="36543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" name="Server" descr=""/>
          <p:cNvPicPr/>
          <p:nvPr/>
        </p:nvPicPr>
        <p:blipFill>
          <a:blip r:embed="rId11">
            <a:lum contrast="30000"/>
          </a:blip>
          <a:srcRect l="0" t="0" r="4968" b="1978"/>
          <a:stretch/>
        </p:blipFill>
        <p:spPr>
          <a:xfrm>
            <a:off x="3424320" y="3086280"/>
            <a:ext cx="525240" cy="9061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3544920" y="311472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0" name="Server" descr=""/>
          <p:cNvPicPr/>
          <p:nvPr/>
        </p:nvPicPr>
        <p:blipFill>
          <a:blip r:embed="rId12">
            <a:lum contrast="30000"/>
          </a:blip>
          <a:srcRect l="0" t="0" r="4968" b="1978"/>
          <a:stretch/>
        </p:blipFill>
        <p:spPr>
          <a:xfrm>
            <a:off x="3424320" y="418320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3544920" y="421164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6500" descr=""/>
          <p:cNvPicPr/>
          <p:nvPr/>
        </p:nvPicPr>
        <p:blipFill>
          <a:blip r:embed="rId13">
            <a:lum contrast="24000"/>
          </a:blip>
          <a:stretch/>
        </p:blipFill>
        <p:spPr>
          <a:xfrm>
            <a:off x="6227640" y="2041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663" name="6500" descr=""/>
          <p:cNvPicPr/>
          <p:nvPr/>
        </p:nvPicPr>
        <p:blipFill>
          <a:blip r:embed="rId14">
            <a:lum contrast="24000"/>
          </a:blip>
          <a:stretch/>
        </p:blipFill>
        <p:spPr>
          <a:xfrm>
            <a:off x="6227640" y="2995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664" name="6500" descr=""/>
          <p:cNvPicPr/>
          <p:nvPr/>
        </p:nvPicPr>
        <p:blipFill>
          <a:blip r:embed="rId15">
            <a:lum contrast="24000"/>
          </a:blip>
          <a:stretch/>
        </p:blipFill>
        <p:spPr>
          <a:xfrm>
            <a:off x="6227640" y="490212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665" name="6500" descr=""/>
          <p:cNvPicPr/>
          <p:nvPr/>
        </p:nvPicPr>
        <p:blipFill>
          <a:blip r:embed="rId16">
            <a:lum contrast="24000"/>
          </a:blip>
          <a:stretch/>
        </p:blipFill>
        <p:spPr>
          <a:xfrm>
            <a:off x="6227640" y="3949560"/>
            <a:ext cx="1258920" cy="1035360"/>
          </a:xfrm>
          <a:prstGeom prst="rect">
            <a:avLst/>
          </a:prstGeom>
          <a:ln w="0">
            <a:noFill/>
          </a:ln>
        </p:spPr>
      </p:pic>
      <p:pic>
        <p:nvPicPr>
          <p:cNvPr id="666" name="fc_storage" descr=""/>
          <p:cNvPicPr/>
          <p:nvPr/>
        </p:nvPicPr>
        <p:blipFill>
          <a:blip r:embed="rId17">
            <a:lum contrast="24000"/>
          </a:blip>
          <a:stretch/>
        </p:blipFill>
        <p:spPr>
          <a:xfrm>
            <a:off x="7662960" y="380196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667" name="fc_storage" descr=""/>
          <p:cNvPicPr/>
          <p:nvPr/>
        </p:nvPicPr>
        <p:blipFill>
          <a:blip r:embed="rId18">
            <a:lum contrast="30000"/>
          </a:blip>
          <a:stretch/>
        </p:blipFill>
        <p:spPr>
          <a:xfrm>
            <a:off x="7675560" y="327672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668" name="COM%20Component" descr=""/>
          <p:cNvPicPr/>
          <p:nvPr/>
        </p:nvPicPr>
        <p:blipFill>
          <a:blip r:embed="rId19"/>
          <a:stretch/>
        </p:blipFill>
        <p:spPr>
          <a:xfrm>
            <a:off x="4657680" y="21765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669" name="COM%20Component" descr=""/>
          <p:cNvPicPr/>
          <p:nvPr/>
        </p:nvPicPr>
        <p:blipFill>
          <a:blip r:embed="rId20"/>
          <a:stretch/>
        </p:blipFill>
        <p:spPr>
          <a:xfrm>
            <a:off x="4932360" y="29019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670" name="COM%20Component" descr=""/>
          <p:cNvPicPr/>
          <p:nvPr/>
        </p:nvPicPr>
        <p:blipFill>
          <a:blip r:embed="rId21"/>
          <a:stretch/>
        </p:blipFill>
        <p:spPr>
          <a:xfrm>
            <a:off x="4710240" y="364320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671" name="COM%20Component" descr=""/>
          <p:cNvPicPr/>
          <p:nvPr/>
        </p:nvPicPr>
        <p:blipFill>
          <a:blip r:embed="rId22"/>
          <a:stretch/>
        </p:blipFill>
        <p:spPr>
          <a:xfrm>
            <a:off x="4762440" y="5022720"/>
            <a:ext cx="790560" cy="7048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 flipV="1">
            <a:off x="5675400" y="3944520"/>
            <a:ext cx="55080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2" idx="3"/>
            <a:endCxn id="664" idx="3"/>
          </p:cNvCxnSpPr>
          <p:nvPr/>
        </p:nvCxnSpPr>
        <p:spPr>
          <a:xfrm>
            <a:off x="7486200" y="2558520"/>
            <a:ext cx="2520" cy="2861280"/>
          </a:xfrm>
          <a:prstGeom prst="bentConnector3">
            <a:avLst>
              <a:gd name="adj1" fmla="val 54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674" name=""/>
          <p:cNvSpPr/>
          <p:nvPr/>
        </p:nvSpPr>
        <p:spPr>
          <a:xfrm flipV="1">
            <a:off x="7580160" y="383220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580160" y="436572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7453440" y="34830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453440" y="46134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978000" y="2779920"/>
            <a:ext cx="235440" cy="417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038480" y="3444120"/>
            <a:ext cx="419400" cy="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09320" y="3733560"/>
            <a:ext cx="239760" cy="27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3977640" y="3970440"/>
            <a:ext cx="396720" cy="1126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2" name="Drawing1" descr=""/>
          <p:cNvPicPr/>
          <p:nvPr/>
        </p:nvPicPr>
        <p:blipFill>
          <a:blip r:embed="rId23"/>
          <a:stretch/>
        </p:blipFill>
        <p:spPr>
          <a:xfrm>
            <a:off x="182520" y="19652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3" name="Drawing1" descr=""/>
          <p:cNvPicPr/>
          <p:nvPr/>
        </p:nvPicPr>
        <p:blipFill>
          <a:blip r:embed="rId24"/>
          <a:stretch/>
        </p:blipFill>
        <p:spPr>
          <a:xfrm>
            <a:off x="182520" y="254952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4" name="Drawing1" descr=""/>
          <p:cNvPicPr/>
          <p:nvPr/>
        </p:nvPicPr>
        <p:blipFill>
          <a:blip r:embed="rId25"/>
          <a:stretch/>
        </p:blipFill>
        <p:spPr>
          <a:xfrm>
            <a:off x="182520" y="313380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5" name="Drawing1" descr=""/>
          <p:cNvPicPr/>
          <p:nvPr/>
        </p:nvPicPr>
        <p:blipFill>
          <a:blip r:embed="rId26"/>
          <a:stretch/>
        </p:blipFill>
        <p:spPr>
          <a:xfrm>
            <a:off x="182520" y="371628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6" name="Drawing1" descr=""/>
          <p:cNvPicPr/>
          <p:nvPr/>
        </p:nvPicPr>
        <p:blipFill>
          <a:blip r:embed="rId27"/>
          <a:stretch/>
        </p:blipFill>
        <p:spPr>
          <a:xfrm>
            <a:off x="182520" y="430056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7" name="Drawing1" descr=""/>
          <p:cNvPicPr/>
          <p:nvPr/>
        </p:nvPicPr>
        <p:blipFill>
          <a:blip r:embed="rId28"/>
          <a:stretch/>
        </p:blipFill>
        <p:spPr>
          <a:xfrm>
            <a:off x="182520" y="48848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688" name="Drawing1" descr=""/>
          <p:cNvPicPr/>
          <p:nvPr/>
        </p:nvPicPr>
        <p:blipFill>
          <a:blip r:embed="rId29"/>
          <a:stretch/>
        </p:blipFill>
        <p:spPr>
          <a:xfrm>
            <a:off x="182520" y="5467320"/>
            <a:ext cx="54468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208560" y="2208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40600" y="3184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22960" y="4106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45280" y="50911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41800" y="1908000"/>
            <a:ext cx="2436840" cy="4141800"/>
          </a:xfrm>
          <a:custGeom>
            <a:avLst/>
            <a:gdLst>
              <a:gd name="textAreaLeft" fmla="*/ 118800 w 2436840"/>
              <a:gd name="textAreaRight" fmla="*/ 2318040 w 2436840"/>
              <a:gd name="textAreaTop" fmla="*/ 118800 h 4141800"/>
              <a:gd name="textAreaBottom" fmla="*/ 4023000 h 4141800"/>
            </a:gdLst>
            <a:ahLst/>
            <a:rect l="textAreaLeft" t="textAreaTop" r="textAreaRight" b="textAreaBottom"/>
            <a:pathLst>
              <a:path w="21600" h="36710">
                <a:moveTo>
                  <a:pt x="3600" y="0"/>
                </a:moveTo>
                <a:arcTo wR="3600" hR="3600" stAng="16200000" swAng="-5400000"/>
                <a:lnTo>
                  <a:pt x="0" y="33110"/>
                </a:lnTo>
                <a:arcTo wR="3600" hR="3600" stAng="10800000" swAng="-5400000"/>
                <a:lnTo>
                  <a:pt x="18000" y="36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1617840" y="1511280"/>
            <a:ext cx="5670360" cy="4352760"/>
            <a:chOff x="1617840" y="1511280"/>
            <a:chExt cx="5670360" cy="4352760"/>
          </a:xfrm>
        </p:grpSpPr>
        <p:sp>
          <p:nvSpPr>
            <p:cNvPr id="695" name=""/>
            <p:cNvSpPr/>
            <p:nvPr/>
          </p:nvSpPr>
          <p:spPr>
            <a:xfrm>
              <a:off x="7284960" y="1511280"/>
              <a:ext cx="3240" cy="43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17840" y="1517400"/>
              <a:ext cx="0" cy="434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78360" y="1517400"/>
              <a:ext cx="0" cy="434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35640" y="1517400"/>
              <a:ext cx="0" cy="434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88160" y="1517400"/>
              <a:ext cx="0" cy="434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79440" y="1523880"/>
            <a:ext cx="120636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y gé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57440" y="1523880"/>
            <a:ext cx="137772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ka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o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06800" y="1523880"/>
            <a:ext cx="139392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észl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0" y="1523880"/>
            <a:ext cx="128412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ány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állal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927760" y="1523880"/>
            <a:ext cx="131616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állal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9440" y="2340000"/>
            <a:ext cx="120636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y fel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55640" y="2340000"/>
            <a:ext cx="138744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ét fel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12920" y="2340000"/>
            <a:ext cx="137484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öbbszá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79920" y="2340000"/>
            <a:ext cx="127944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öbb ez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923080" y="2340000"/>
            <a:ext cx="130788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ízez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316640" y="1523880"/>
            <a:ext cx="1292400" cy="730440"/>
          </a:xfrm>
          <a:prstGeom prst="rect">
            <a:avLst/>
          </a:prstGeom>
          <a:solidFill>
            <a:srgbClr val="eea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323120" y="2340000"/>
            <a:ext cx="1263600" cy="3492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zázez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82720" y="2736720"/>
            <a:ext cx="701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782720" y="2736720"/>
            <a:ext cx="701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622520" y="2824200"/>
            <a:ext cx="7292880" cy="284040"/>
            <a:chOff x="1622520" y="2824200"/>
            <a:chExt cx="7292880" cy="284040"/>
          </a:xfrm>
        </p:grpSpPr>
        <p:sp>
          <p:nvSpPr>
            <p:cNvPr id="715" name=""/>
            <p:cNvSpPr/>
            <p:nvPr/>
          </p:nvSpPr>
          <p:spPr>
            <a:xfrm flipV="1">
              <a:off x="1622520" y="2964960"/>
              <a:ext cx="7292880" cy="324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35360" y="2824200"/>
              <a:ext cx="196560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atmegoszt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040200" y="4576680"/>
            <a:ext cx="5790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11160" y="311796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11160" y="311796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30440" y="3205080"/>
            <a:ext cx="7277040" cy="284040"/>
            <a:chOff x="1630440" y="3205080"/>
            <a:chExt cx="7277040" cy="284040"/>
          </a:xfrm>
        </p:grpSpPr>
        <p:sp>
          <p:nvSpPr>
            <p:cNvPr id="721" name=""/>
            <p:cNvSpPr/>
            <p:nvPr/>
          </p:nvSpPr>
          <p:spPr>
            <a:xfrm>
              <a:off x="1630440" y="3343320"/>
              <a:ext cx="7277040" cy="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37160" y="3205080"/>
              <a:ext cx="196848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apcsolat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811160" y="349884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11160" y="349884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630440" y="3586320"/>
            <a:ext cx="7277040" cy="284040"/>
            <a:chOff x="1630440" y="3586320"/>
            <a:chExt cx="7277040" cy="284040"/>
          </a:xfrm>
        </p:grpSpPr>
        <p:sp>
          <p:nvSpPr>
            <p:cNvPr id="726" name=""/>
            <p:cNvSpPr/>
            <p:nvPr/>
          </p:nvSpPr>
          <p:spPr>
            <a:xfrm flipV="1">
              <a:off x="1630440" y="3724200"/>
              <a:ext cx="7277040" cy="288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37160" y="3586320"/>
              <a:ext cx="196848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édel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811160" y="38797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11160" y="38797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30440" y="3967200"/>
            <a:ext cx="7277040" cy="284040"/>
            <a:chOff x="1630440" y="3967200"/>
            <a:chExt cx="7277040" cy="284040"/>
          </a:xfrm>
        </p:grpSpPr>
        <p:sp>
          <p:nvSpPr>
            <p:cNvPr id="731" name=""/>
            <p:cNvSpPr/>
            <p:nvPr/>
          </p:nvSpPr>
          <p:spPr>
            <a:xfrm flipV="1">
              <a:off x="1630440" y="4104720"/>
              <a:ext cx="7277040" cy="324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37160" y="3967200"/>
              <a:ext cx="196848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örnyez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668600" y="426096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68600" y="426096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68600" y="464184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68600" y="5479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68600" y="5479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25800" y="5781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öbb szál/processz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076560" y="4348080"/>
            <a:ext cx="5830920" cy="284040"/>
            <a:chOff x="3076560" y="4348080"/>
            <a:chExt cx="5830920" cy="284040"/>
          </a:xfrm>
        </p:grpSpPr>
        <p:sp>
          <p:nvSpPr>
            <p:cNvPr id="740" name=""/>
            <p:cNvSpPr/>
            <p:nvPr/>
          </p:nvSpPr>
          <p:spPr>
            <a:xfrm flipV="1">
              <a:off x="3076560" y="4486320"/>
              <a:ext cx="5830920" cy="288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90360" y="4348080"/>
              <a:ext cx="181908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öbbszálúsá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1668600" y="464184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4545000" y="4724280"/>
            <a:ext cx="4362480" cy="289080"/>
            <a:chOff x="4545000" y="4724280"/>
            <a:chExt cx="4362480" cy="289080"/>
          </a:xfrm>
        </p:grpSpPr>
        <p:sp>
          <p:nvSpPr>
            <p:cNvPr id="744" name=""/>
            <p:cNvSpPr/>
            <p:nvPr/>
          </p:nvSpPr>
          <p:spPr>
            <a:xfrm flipV="1">
              <a:off x="4545000" y="4866840"/>
              <a:ext cx="4362480" cy="324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37240" y="4724280"/>
              <a:ext cx="2349360" cy="28908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rheléseloszt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3429000" y="6327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öbb kiszolgál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11800" y="4938840"/>
            <a:ext cx="4419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68600" y="5022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68600" y="5022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888160" y="5110200"/>
            <a:ext cx="3047760" cy="284040"/>
            <a:chOff x="5888160" y="5110200"/>
            <a:chExt cx="3047760" cy="284040"/>
          </a:xfrm>
        </p:grpSpPr>
        <p:sp>
          <p:nvSpPr>
            <p:cNvPr id="751" name=""/>
            <p:cNvSpPr/>
            <p:nvPr/>
          </p:nvSpPr>
          <p:spPr>
            <a:xfrm>
              <a:off x="5888160" y="5251320"/>
              <a:ext cx="3047760" cy="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94440" y="5110200"/>
              <a:ext cx="222552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ffline működé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869000" y="5781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öbb teleph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668600" y="5567400"/>
            <a:ext cx="7238880" cy="284040"/>
            <a:chOff x="1668600" y="5567400"/>
            <a:chExt cx="7238880" cy="284040"/>
          </a:xfrm>
        </p:grpSpPr>
        <p:sp>
          <p:nvSpPr>
            <p:cNvPr id="755" name=""/>
            <p:cNvSpPr/>
            <p:nvPr/>
          </p:nvSpPr>
          <p:spPr>
            <a:xfrm flipV="1">
              <a:off x="1668600" y="5711400"/>
              <a:ext cx="7238880" cy="3240"/>
            </a:xfrm>
            <a:prstGeom prst="line">
              <a:avLst/>
            </a:prstGeom>
            <a:ln w="101520">
              <a:solidFill>
                <a:srgbClr val="5686dc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5018040" y="5708160"/>
              <a:ext cx="3886200" cy="3240"/>
            </a:xfrm>
            <a:prstGeom prst="line">
              <a:avLst/>
            </a:prstGeom>
            <a:ln w="101520">
              <a:solidFill>
                <a:srgbClr val="5686d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4440" y="5567400"/>
              <a:ext cx="2206440" cy="284040"/>
            </a:xfrm>
            <a:prstGeom prst="rect">
              <a:avLst/>
            </a:prstGeom>
            <a:solidFill>
              <a:srgbClr val="5686dc"/>
            </a:solidFill>
            <a:ln w="1260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gy rendelk. áll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31480" y="228240"/>
            <a:ext cx="869940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állalati alkalmazások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A bonyolultság fokozatai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 az a cluster (fürt)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5960" y="1285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ét vagy több számítógép együttműködése egy adott alkalmazáscsoport kiszolgálása érdeké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élja a rendelkezésre állás növel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hibatűr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rchitektúrának nem célja a skálázhatóság kiterjesztése (teljesítménynövelé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93440"/>
            <a:ext cx="8763120" cy="612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Active Directory, a Windows 2000 új címtá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Felhasználó és szoftver menedz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20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Biztonsági szolgáltatások a Windows 2000-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November 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A Windows 2000 infrastruktúrális szolgáltatás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vember 17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vember 24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cember 8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luster-típuso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Shared-disk cluster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5960" y="1371240"/>
            <a:ext cx="8839080" cy="4652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processzor közvetlen eléréssel rendelkezik minden diszk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emóriát nem osztják meg egymás közö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Distributed lock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anagement szüksé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éld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gital VMS clu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racle parallel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5638680" y="3247920"/>
            <a:ext cx="3353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luster-típuso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Shared-nothing cluster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501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processzor saját memóriával és diszkkel rendelke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gyes csomópontok egy megosztott interconnect linken keresztül kommunikálnak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m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Péld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and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BM Syspl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ra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35244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crosoft Cluster Serv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880" y="1246320"/>
            <a:ext cx="8415360" cy="535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hared nothing elv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agas rendelkezésre állást biztosí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hibatűrő. A védett erőforrások újraindulnak a másik végpon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vanced Server: 2, DataCenter Server: 4 csomóp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mogatott erőforráso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izikai lemez, IP cím, NetBIOS név, megosztott mappa, Web root, nyomtatási sor, Registry kulcsok, általános alkalmazás és szolgáltatás, stb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űkített HC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MSCS újdonságok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80880" y="1780920"/>
            <a:ext cx="8415360" cy="474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önnyebb telepíte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tegrált az operációs rendszer telepítő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gyszerűbb konfiguráció a felhasználó tesztek alapjá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tomatizált, szkriptelhető telepít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Cluster Server klónozása SYSPREP-p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Újdonság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Folyamatos áttérés NTSE 4.0 + SP4-rő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ccf00"/>
                </a:solidFill>
                <a:latin typeface="Arial"/>
              </a:rPr>
              <a:t>DHCP, WINS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, DFS, SMTP, IIS4, NNT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 hálózati kapcsolatának visszaállítá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csomópont támogatása a DataCenter Server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MSCS újdonság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80880" y="2313000"/>
            <a:ext cx="8415360" cy="349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zerűbb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irtuális kiszolgáló varázsló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lózatkezelés egyszerűsödö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luAdmin MMC Snapin-bő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lug and Play támogatás a hálózati és a tároló komponensek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LUSAPI COM felülettel rendelke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566640" y="3782880"/>
            <a:ext cx="8153640" cy="2667240"/>
          </a:xfrm>
          <a:prstGeom prst="rect">
            <a:avLst/>
          </a:prstGeom>
          <a:solidFill>
            <a:srgbClr val="666699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66640" y="3097080"/>
            <a:ext cx="8153280" cy="914400"/>
            <a:chOff x="566640" y="3097080"/>
            <a:chExt cx="8153280" cy="914400"/>
          </a:xfrm>
        </p:grpSpPr>
        <p:sp>
          <p:nvSpPr>
            <p:cNvPr id="775" name=""/>
            <p:cNvSpPr/>
            <p:nvPr/>
          </p:nvSpPr>
          <p:spPr>
            <a:xfrm>
              <a:off x="566640" y="3554280"/>
              <a:ext cx="81532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38240" y="35542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62720" y="35542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85960" y="30970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86160" y="30970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86360" y="30970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86560" y="3097080"/>
              <a:ext cx="0" cy="4572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luster Server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Demó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43160" y="4697280"/>
            <a:ext cx="47242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42960" y="3859200"/>
            <a:ext cx="1706040" cy="1995480"/>
            <a:chOff x="642960" y="3859200"/>
            <a:chExt cx="1706040" cy="1995480"/>
          </a:xfrm>
        </p:grpSpPr>
        <p:grpSp>
          <p:nvGrpSpPr>
            <p:cNvPr id="785" name=""/>
            <p:cNvGrpSpPr/>
            <p:nvPr/>
          </p:nvGrpSpPr>
          <p:grpSpPr>
            <a:xfrm>
              <a:off x="1228680" y="3859200"/>
              <a:ext cx="1032840" cy="1582920"/>
              <a:chOff x="1228680" y="3859200"/>
              <a:chExt cx="1032840" cy="1582920"/>
            </a:xfrm>
          </p:grpSpPr>
          <p:sp>
            <p:nvSpPr>
              <p:cNvPr id="786" name=""/>
              <p:cNvSpPr/>
              <p:nvPr/>
            </p:nvSpPr>
            <p:spPr>
              <a:xfrm>
                <a:off x="1228680" y="395604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98200" y="409896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871280" y="418140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871280" y="418140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1878840" y="522432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871280" y="434340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1875960" y="446724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1873800" y="459108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1878840" y="470232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1921680" y="441180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1921680" y="453564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1921680" y="46594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1921680" y="47800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18800" y="429408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982160" y="440856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982160" y="452268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82160" y="464652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82160" y="476712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1878840" y="51656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1878840" y="510696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228680" y="385920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42960" y="4549680"/>
              <a:ext cx="1136160" cy="1069920"/>
              <a:chOff x="642960" y="4549680"/>
              <a:chExt cx="1136160" cy="1069920"/>
            </a:xfrm>
          </p:grpSpPr>
          <p:sp>
            <p:nvSpPr>
              <p:cNvPr id="808" name=""/>
              <p:cNvSpPr/>
              <p:nvPr/>
            </p:nvSpPr>
            <p:spPr>
              <a:xfrm>
                <a:off x="690480" y="531828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0480" y="531828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2960" y="454968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960" y="454968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9680" y="472932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076040" y="532620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076040" y="532620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998280" y="468324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099800" y="477036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120680" y="480852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12800" y="534996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77920" y="494208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9680" y="458172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1234800" y="5405400"/>
              <a:ext cx="1114200" cy="449280"/>
              <a:chOff x="1234800" y="5405400"/>
              <a:chExt cx="1114200" cy="449280"/>
            </a:xfrm>
          </p:grpSpPr>
          <p:sp>
            <p:nvSpPr>
              <p:cNvPr id="822" name=""/>
              <p:cNvSpPr/>
              <p:nvPr/>
            </p:nvSpPr>
            <p:spPr>
              <a:xfrm>
                <a:off x="1234800" y="557856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34800" y="557856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240920" y="540540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325160" y="547056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379160" y="553896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934640" y="550548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018880" y="556416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049120" y="547380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0" name=""/>
          <p:cNvGrpSpPr/>
          <p:nvPr/>
        </p:nvGrpSpPr>
        <p:grpSpPr>
          <a:xfrm>
            <a:off x="1938600" y="5001840"/>
            <a:ext cx="5256720" cy="1295640"/>
            <a:chOff x="1938600" y="5001840"/>
            <a:chExt cx="5256720" cy="1295640"/>
          </a:xfrm>
        </p:grpSpPr>
        <p:grpSp>
          <p:nvGrpSpPr>
            <p:cNvPr id="831" name=""/>
            <p:cNvGrpSpPr/>
            <p:nvPr/>
          </p:nvGrpSpPr>
          <p:grpSpPr>
            <a:xfrm>
              <a:off x="1938600" y="5001840"/>
              <a:ext cx="5256720" cy="686160"/>
              <a:chOff x="1938600" y="5001840"/>
              <a:chExt cx="5256720" cy="68616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3385800" y="5001840"/>
                <a:ext cx="76320" cy="686160"/>
                <a:chOff x="3385800" y="5001840"/>
                <a:chExt cx="76320" cy="686160"/>
              </a:xfrm>
            </p:grpSpPr>
            <p:sp>
              <p:nvSpPr>
                <p:cNvPr id="833" name=""/>
                <p:cNvSpPr/>
                <p:nvPr/>
              </p:nvSpPr>
              <p:spPr>
                <a:xfrm flipV="1">
                  <a:off x="346212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 flipV="1">
                  <a:off x="3385800" y="5001840"/>
                  <a:ext cx="7632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3538080" y="5001840"/>
                <a:ext cx="76320" cy="686160"/>
                <a:chOff x="3538080" y="5001840"/>
                <a:chExt cx="76320" cy="686160"/>
              </a:xfrm>
            </p:grpSpPr>
            <p:sp>
              <p:nvSpPr>
                <p:cNvPr id="836" name=""/>
                <p:cNvSpPr/>
                <p:nvPr/>
              </p:nvSpPr>
              <p:spPr>
                <a:xfrm flipV="1">
                  <a:off x="353808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3538440" y="5001840"/>
                  <a:ext cx="7596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519520" y="5001840"/>
                <a:ext cx="76320" cy="686160"/>
                <a:chOff x="5519520" y="5001840"/>
                <a:chExt cx="76320" cy="686160"/>
              </a:xfrm>
            </p:grpSpPr>
            <p:sp>
              <p:nvSpPr>
                <p:cNvPr id="839" name=""/>
                <p:cNvSpPr/>
                <p:nvPr/>
              </p:nvSpPr>
              <p:spPr>
                <a:xfrm flipV="1">
                  <a:off x="559584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flipV="1">
                  <a:off x="5519520" y="5001840"/>
                  <a:ext cx="7632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5672160" y="5001840"/>
                <a:ext cx="76320" cy="686160"/>
                <a:chOff x="5672160" y="5001840"/>
                <a:chExt cx="76320" cy="686160"/>
              </a:xfrm>
            </p:grpSpPr>
            <p:sp>
              <p:nvSpPr>
                <p:cNvPr id="842" name=""/>
                <p:cNvSpPr/>
                <p:nvPr/>
              </p:nvSpPr>
              <p:spPr>
                <a:xfrm flipV="1">
                  <a:off x="567216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V="1">
                  <a:off x="5672520" y="5001840"/>
                  <a:ext cx="7596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4" name=""/>
              <p:cNvSpPr/>
              <p:nvPr/>
            </p:nvSpPr>
            <p:spPr>
              <a:xfrm>
                <a:off x="2166840" y="5002200"/>
                <a:ext cx="121896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748120" y="5002200"/>
                <a:ext cx="121932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14400" y="5002200"/>
                <a:ext cx="83844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681440" y="5002200"/>
                <a:ext cx="83808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38600" y="500220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738840" y="5002200"/>
                <a:ext cx="45648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4452480" y="5001840"/>
                <a:ext cx="76320" cy="686160"/>
                <a:chOff x="4452480" y="5001840"/>
                <a:chExt cx="76320" cy="686160"/>
              </a:xfrm>
            </p:grpSpPr>
            <p:sp>
              <p:nvSpPr>
                <p:cNvPr id="851" name=""/>
                <p:cNvSpPr/>
                <p:nvPr/>
              </p:nvSpPr>
              <p:spPr>
                <a:xfrm flipV="1">
                  <a:off x="452880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flipV="1">
                  <a:off x="4452480" y="5001840"/>
                  <a:ext cx="7596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605480" y="5001840"/>
                <a:ext cx="76320" cy="686160"/>
                <a:chOff x="4605480" y="5001840"/>
                <a:chExt cx="76320" cy="686160"/>
              </a:xfrm>
            </p:grpSpPr>
            <p:sp>
              <p:nvSpPr>
                <p:cNvPr id="854" name=""/>
                <p:cNvSpPr/>
                <p:nvPr/>
              </p:nvSpPr>
              <p:spPr>
                <a:xfrm flipV="1">
                  <a:off x="4605480" y="507816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V="1">
                  <a:off x="4605840" y="5001840"/>
                  <a:ext cx="75960" cy="7596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6" name=""/>
            <p:cNvSpPr/>
            <p:nvPr/>
          </p:nvSpPr>
          <p:spPr>
            <a:xfrm>
              <a:off x="5595840" y="5840280"/>
              <a:ext cx="838080" cy="457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76520" y="5840280"/>
              <a:ext cx="838080" cy="457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57200" y="5840280"/>
              <a:ext cx="838440" cy="457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937200" y="3859200"/>
            <a:ext cx="1706760" cy="1995480"/>
            <a:chOff x="6937200" y="3859200"/>
            <a:chExt cx="1706760" cy="1995480"/>
          </a:xfrm>
        </p:grpSpPr>
        <p:grpSp>
          <p:nvGrpSpPr>
            <p:cNvPr id="860" name=""/>
            <p:cNvGrpSpPr/>
            <p:nvPr/>
          </p:nvGrpSpPr>
          <p:grpSpPr>
            <a:xfrm>
              <a:off x="7523280" y="3859200"/>
              <a:ext cx="1033200" cy="1582920"/>
              <a:chOff x="7523280" y="3859200"/>
              <a:chExt cx="1033200" cy="1582920"/>
            </a:xfrm>
          </p:grpSpPr>
          <p:sp>
            <p:nvSpPr>
              <p:cNvPr id="861" name=""/>
              <p:cNvSpPr/>
              <p:nvPr/>
            </p:nvSpPr>
            <p:spPr>
              <a:xfrm>
                <a:off x="7523280" y="395604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093160" y="409896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166240" y="418140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166240" y="418140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8174160" y="522432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166240" y="434340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8170560" y="446724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8169120" y="459108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8174160" y="470232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217000" y="44118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8217000" y="45356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8217000" y="465948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8217000" y="478008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213760" y="429408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277120" y="440856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277120" y="45226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277120" y="464652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277120" y="476712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8174160" y="516564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8174160" y="510696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523280" y="385920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6937200" y="4549680"/>
              <a:ext cx="1136880" cy="1069920"/>
              <a:chOff x="6937200" y="4549680"/>
              <a:chExt cx="1136880" cy="1069920"/>
            </a:xfrm>
          </p:grpSpPr>
          <p:sp>
            <p:nvSpPr>
              <p:cNvPr id="883" name=""/>
              <p:cNvSpPr/>
              <p:nvPr/>
            </p:nvSpPr>
            <p:spPr>
              <a:xfrm>
                <a:off x="6985080" y="531828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985080" y="531828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937200" y="454968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937200" y="454968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064280" y="472932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70640" y="532620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370640" y="532620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292880" y="468324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394400" y="477036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415280" y="480852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07400" y="534996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472520" y="494208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064280" y="458172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7529400" y="5405400"/>
              <a:ext cx="1114560" cy="449280"/>
              <a:chOff x="7529400" y="5405400"/>
              <a:chExt cx="1114560" cy="449280"/>
            </a:xfrm>
          </p:grpSpPr>
          <p:sp>
            <p:nvSpPr>
              <p:cNvPr id="897" name=""/>
              <p:cNvSpPr/>
              <p:nvPr/>
            </p:nvSpPr>
            <p:spPr>
              <a:xfrm>
                <a:off x="7529400" y="557856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29400" y="557856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35880" y="540540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20120" y="547056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74120" y="553896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229600" y="550548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313840" y="556416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344080" y="547380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5" name=""/>
          <p:cNvGrpSpPr/>
          <p:nvPr/>
        </p:nvGrpSpPr>
        <p:grpSpPr>
          <a:xfrm>
            <a:off x="2928960" y="1882800"/>
            <a:ext cx="1523880" cy="1359000"/>
            <a:chOff x="2928960" y="1882800"/>
            <a:chExt cx="1523880" cy="1359000"/>
          </a:xfrm>
        </p:grpSpPr>
        <p:grpSp>
          <p:nvGrpSpPr>
            <p:cNvPr id="906" name=""/>
            <p:cNvGrpSpPr/>
            <p:nvPr/>
          </p:nvGrpSpPr>
          <p:grpSpPr>
            <a:xfrm>
              <a:off x="2928960" y="1882800"/>
              <a:ext cx="1136160" cy="1069920"/>
              <a:chOff x="2928960" y="1882800"/>
              <a:chExt cx="1136160" cy="1069920"/>
            </a:xfrm>
          </p:grpSpPr>
          <p:sp>
            <p:nvSpPr>
              <p:cNvPr id="907" name=""/>
              <p:cNvSpPr/>
              <p:nvPr/>
            </p:nvSpPr>
            <p:spPr>
              <a:xfrm>
                <a:off x="2976480" y="265140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976480" y="265140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928960" y="188280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928960" y="188280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055680" y="206244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362040" y="265932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62040" y="265932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284280" y="201636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85800" y="210348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406680" y="214164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98800" y="268308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463920" y="227520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055680" y="191484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3338640" y="2792520"/>
              <a:ext cx="1114200" cy="449280"/>
              <a:chOff x="3338640" y="2792520"/>
              <a:chExt cx="1114200" cy="449280"/>
            </a:xfrm>
          </p:grpSpPr>
          <p:sp>
            <p:nvSpPr>
              <p:cNvPr id="921" name=""/>
              <p:cNvSpPr/>
              <p:nvPr/>
            </p:nvSpPr>
            <p:spPr>
              <a:xfrm>
                <a:off x="3338640" y="296568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38640" y="296568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4760" y="279252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29000" y="285768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83000" y="292608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038480" y="289260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122720" y="295128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152960" y="286092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"/>
          <p:cNvGrpSpPr/>
          <p:nvPr/>
        </p:nvGrpSpPr>
        <p:grpSpPr>
          <a:xfrm>
            <a:off x="1328760" y="1878120"/>
            <a:ext cx="1523880" cy="1357920"/>
            <a:chOff x="1328760" y="1878120"/>
            <a:chExt cx="1523880" cy="1357920"/>
          </a:xfrm>
        </p:grpSpPr>
        <p:grpSp>
          <p:nvGrpSpPr>
            <p:cNvPr id="930" name=""/>
            <p:cNvGrpSpPr/>
            <p:nvPr/>
          </p:nvGrpSpPr>
          <p:grpSpPr>
            <a:xfrm>
              <a:off x="1328760" y="1878120"/>
              <a:ext cx="1136160" cy="1069200"/>
              <a:chOff x="1328760" y="1878120"/>
              <a:chExt cx="1136160" cy="1069200"/>
            </a:xfrm>
          </p:grpSpPr>
          <p:sp>
            <p:nvSpPr>
              <p:cNvPr id="931" name=""/>
              <p:cNvSpPr/>
              <p:nvPr/>
            </p:nvSpPr>
            <p:spPr>
              <a:xfrm>
                <a:off x="1376280" y="2646360"/>
                <a:ext cx="1088640" cy="3009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376280" y="2646360"/>
                <a:ext cx="1088640" cy="3009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328760" y="1878120"/>
                <a:ext cx="701640" cy="67608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328760" y="1878120"/>
                <a:ext cx="701640" cy="67608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55480" y="2057400"/>
                <a:ext cx="228240" cy="74232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61840" y="2654280"/>
                <a:ext cx="504720" cy="1486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61840" y="2654280"/>
                <a:ext cx="504720" cy="1486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684080" y="2011320"/>
                <a:ext cx="723600" cy="78840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785600" y="2098440"/>
                <a:ext cx="528480" cy="577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806480" y="2136600"/>
                <a:ext cx="466200" cy="48852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398600" y="2678040"/>
                <a:ext cx="1048680" cy="2314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863720" y="2270160"/>
                <a:ext cx="42480" cy="12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455480" y="1909800"/>
                <a:ext cx="952200" cy="2692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1738440" y="2787480"/>
              <a:ext cx="1114200" cy="448560"/>
              <a:chOff x="1738440" y="2787480"/>
              <a:chExt cx="1114200" cy="448560"/>
            </a:xfrm>
          </p:grpSpPr>
          <p:sp>
            <p:nvSpPr>
              <p:cNvPr id="945" name=""/>
              <p:cNvSpPr/>
              <p:nvPr/>
            </p:nvSpPr>
            <p:spPr>
              <a:xfrm>
                <a:off x="1738440" y="2960280"/>
                <a:ext cx="1114200" cy="2757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738440" y="2960280"/>
                <a:ext cx="1114200" cy="2757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744560" y="2787480"/>
                <a:ext cx="1107720" cy="4107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828800" y="2852280"/>
                <a:ext cx="651960" cy="18684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882800" y="2920680"/>
                <a:ext cx="637560" cy="22968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438280" y="2887200"/>
                <a:ext cx="13284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522520" y="2945880"/>
                <a:ext cx="115560" cy="5508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552760" y="2855520"/>
                <a:ext cx="215280" cy="11232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6129360" y="1882800"/>
            <a:ext cx="1523880" cy="1359000"/>
            <a:chOff x="6129360" y="1882800"/>
            <a:chExt cx="1523880" cy="1359000"/>
          </a:xfrm>
        </p:grpSpPr>
        <p:grpSp>
          <p:nvGrpSpPr>
            <p:cNvPr id="954" name=""/>
            <p:cNvGrpSpPr/>
            <p:nvPr/>
          </p:nvGrpSpPr>
          <p:grpSpPr>
            <a:xfrm>
              <a:off x="6129360" y="1882800"/>
              <a:ext cx="1136160" cy="1069920"/>
              <a:chOff x="6129360" y="1882800"/>
              <a:chExt cx="1136160" cy="1069920"/>
            </a:xfrm>
          </p:grpSpPr>
          <p:sp>
            <p:nvSpPr>
              <p:cNvPr id="955" name=""/>
              <p:cNvSpPr/>
              <p:nvPr/>
            </p:nvSpPr>
            <p:spPr>
              <a:xfrm>
                <a:off x="6176880" y="265140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176880" y="265140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129360" y="188280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129360" y="188280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256080" y="206244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62440" y="265932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562440" y="265932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84680" y="201636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6200" y="210348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07080" y="214164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99200" y="268308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664320" y="227520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256080" y="191484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6539040" y="2792520"/>
              <a:ext cx="1114200" cy="449280"/>
              <a:chOff x="6539040" y="2792520"/>
              <a:chExt cx="1114200" cy="449280"/>
            </a:xfrm>
          </p:grpSpPr>
          <p:sp>
            <p:nvSpPr>
              <p:cNvPr id="969" name=""/>
              <p:cNvSpPr/>
              <p:nvPr/>
            </p:nvSpPr>
            <p:spPr>
              <a:xfrm>
                <a:off x="6539040" y="296568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539040" y="296568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545160" y="279252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29400" y="285768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83400" y="292608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238880" y="289260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23120" y="295128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353360" y="286092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7" name=""/>
          <p:cNvGrpSpPr/>
          <p:nvPr/>
        </p:nvGrpSpPr>
        <p:grpSpPr>
          <a:xfrm>
            <a:off x="4529160" y="1878120"/>
            <a:ext cx="1523880" cy="1357920"/>
            <a:chOff x="4529160" y="1878120"/>
            <a:chExt cx="1523880" cy="1357920"/>
          </a:xfrm>
        </p:grpSpPr>
        <p:grpSp>
          <p:nvGrpSpPr>
            <p:cNvPr id="978" name=""/>
            <p:cNvGrpSpPr/>
            <p:nvPr/>
          </p:nvGrpSpPr>
          <p:grpSpPr>
            <a:xfrm>
              <a:off x="4529160" y="1878120"/>
              <a:ext cx="1136160" cy="1069200"/>
              <a:chOff x="4529160" y="1878120"/>
              <a:chExt cx="1136160" cy="1069200"/>
            </a:xfrm>
          </p:grpSpPr>
          <p:sp>
            <p:nvSpPr>
              <p:cNvPr id="979" name=""/>
              <p:cNvSpPr/>
              <p:nvPr/>
            </p:nvSpPr>
            <p:spPr>
              <a:xfrm>
                <a:off x="4576680" y="2646360"/>
                <a:ext cx="1088640" cy="3009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76680" y="2646360"/>
                <a:ext cx="1088640" cy="30096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29160" y="1878120"/>
                <a:ext cx="701640" cy="67608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29160" y="1878120"/>
                <a:ext cx="701640" cy="67608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655880" y="2057400"/>
                <a:ext cx="228240" cy="74232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962240" y="2654280"/>
                <a:ext cx="504720" cy="1486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962240" y="2654280"/>
                <a:ext cx="504720" cy="14868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884480" y="2011320"/>
                <a:ext cx="723600" cy="78840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86000" y="2098440"/>
                <a:ext cx="528480" cy="57744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006880" y="2136600"/>
                <a:ext cx="466200" cy="48852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599000" y="2678040"/>
                <a:ext cx="1048680" cy="23148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64120" y="2270160"/>
                <a:ext cx="42480" cy="12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55880" y="1909800"/>
                <a:ext cx="952200" cy="26928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4938840" y="2787480"/>
              <a:ext cx="1114200" cy="448560"/>
              <a:chOff x="4938840" y="2787480"/>
              <a:chExt cx="1114200" cy="448560"/>
            </a:xfrm>
          </p:grpSpPr>
          <p:sp>
            <p:nvSpPr>
              <p:cNvPr id="993" name=""/>
              <p:cNvSpPr/>
              <p:nvPr/>
            </p:nvSpPr>
            <p:spPr>
              <a:xfrm>
                <a:off x="4938840" y="2960280"/>
                <a:ext cx="1114200" cy="2757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938840" y="2960280"/>
                <a:ext cx="1114200" cy="27576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944960" y="2787480"/>
                <a:ext cx="1107720" cy="41076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029200" y="2852280"/>
                <a:ext cx="651960" cy="18684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83200" y="2920680"/>
                <a:ext cx="637560" cy="22968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38680" y="2887200"/>
                <a:ext cx="13284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722920" y="2945880"/>
                <a:ext cx="115560" cy="5508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753160" y="2855520"/>
                <a:ext cx="215280" cy="11232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>
            <a:off x="2243160" y="4697280"/>
            <a:ext cx="47242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938600" y="5002200"/>
            <a:ext cx="5256720" cy="1294920"/>
            <a:chOff x="1938600" y="5002200"/>
            <a:chExt cx="5256720" cy="1294920"/>
          </a:xfrm>
        </p:grpSpPr>
        <p:grpSp>
          <p:nvGrpSpPr>
            <p:cNvPr id="1003" name=""/>
            <p:cNvGrpSpPr/>
            <p:nvPr/>
          </p:nvGrpSpPr>
          <p:grpSpPr>
            <a:xfrm>
              <a:off x="1938600" y="5002200"/>
              <a:ext cx="5256720" cy="684720"/>
              <a:chOff x="1938600" y="5002200"/>
              <a:chExt cx="5256720" cy="684720"/>
            </a:xfrm>
          </p:grpSpPr>
          <p:sp>
            <p:nvSpPr>
              <p:cNvPr id="1004" name=""/>
              <p:cNvSpPr/>
              <p:nvPr/>
            </p:nvSpPr>
            <p:spPr>
              <a:xfrm>
                <a:off x="2166840" y="5002200"/>
                <a:ext cx="22860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05" name=""/>
              <p:cNvGrpSpPr/>
              <p:nvPr/>
            </p:nvGrpSpPr>
            <p:grpSpPr>
              <a:xfrm>
                <a:off x="4452480" y="5002200"/>
                <a:ext cx="76320" cy="684720"/>
                <a:chOff x="4452480" y="5002200"/>
                <a:chExt cx="76320" cy="684720"/>
              </a:xfrm>
            </p:grpSpPr>
            <p:sp>
              <p:nvSpPr>
                <p:cNvPr id="1006" name=""/>
                <p:cNvSpPr/>
                <p:nvPr/>
              </p:nvSpPr>
              <p:spPr>
                <a:xfrm flipV="1">
                  <a:off x="4528800" y="507744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 flipV="1">
                  <a:off x="4452480" y="5002200"/>
                  <a:ext cx="75960" cy="756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605480" y="5002200"/>
                <a:ext cx="76320" cy="684720"/>
                <a:chOff x="4605480" y="5002200"/>
                <a:chExt cx="76320" cy="68472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4605480" y="5077440"/>
                  <a:ext cx="0" cy="60948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605840" y="5002200"/>
                  <a:ext cx="75960" cy="75600"/>
                </a:xfrm>
                <a:prstGeom prst="line">
                  <a:avLst/>
                </a:prstGeom>
                <a:ln w="381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1" name=""/>
              <p:cNvSpPr/>
              <p:nvPr/>
            </p:nvSpPr>
            <p:spPr>
              <a:xfrm>
                <a:off x="1938600" y="5002200"/>
                <a:ext cx="456480" cy="60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738840" y="5002200"/>
                <a:ext cx="456480" cy="60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cc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681440" y="5002200"/>
                <a:ext cx="22860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4376520" y="5840280"/>
              <a:ext cx="838440" cy="456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523080" y="577548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\\AUTOCS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92.168.1.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097040" y="576432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\\AUTOCS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92.168.1.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12320" y="376704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\\AUTO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92.168.1.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645520" y="440388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430040" y="3224160"/>
            <a:ext cx="100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ublic 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1143000" y="1600200"/>
            <a:ext cx="6934320" cy="457200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ürt ne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28800" y="2514600"/>
            <a:ext cx="2057400" cy="327672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o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952880" y="2514600"/>
            <a:ext cx="2057400" cy="327672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e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81080" y="2971800"/>
            <a:ext cx="1752840" cy="1295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981080" y="4390920"/>
            <a:ext cx="1752840" cy="1295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099040" y="2971800"/>
            <a:ext cx="1752480" cy="1295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099040" y="4390920"/>
            <a:ext cx="1752480" cy="1295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Gép neve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Ha fürtként nézzü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30492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ü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752480" y="2133720"/>
            <a:ext cx="129564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égpo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0040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égpo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4832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0884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3800" y="2133720"/>
            <a:ext cx="1295280" cy="327636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á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szolg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04920" y="4183200"/>
            <a:ext cx="128412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C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755720" y="4183200"/>
            <a:ext cx="128916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CS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206880" y="4183200"/>
            <a:ext cx="128736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CS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59480" y="4183200"/>
            <a:ext cx="128412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SQ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10280" y="4183200"/>
            <a:ext cx="129708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547040" y="4183200"/>
            <a:ext cx="1292040" cy="885960"/>
          </a:xfrm>
          <a:prstGeom prst="rect">
            <a:avLst/>
          </a:prstGeom>
          <a:gradFill rotWithShape="0">
            <a:gsLst>
              <a:gs pos="0">
                <a:srgbClr val="6d4c2e"/>
              </a:gs>
              <a:gs pos="100000">
                <a:srgbClr val="eea56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P cím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192.168.1.1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álózati név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300" spc="-1" strike="noStrike">
                <a:solidFill>
                  <a:srgbClr val="ffffff"/>
                </a:solidFill>
                <a:latin typeface="Arial"/>
              </a:rPr>
              <a:t>AUTOXCH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56240" y="3103560"/>
            <a:ext cx="1279440" cy="1006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ternet Information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18280" y="3560760"/>
            <a:ext cx="1076400" cy="5504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lcon”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583400" y="3560760"/>
            <a:ext cx="1198800" cy="5504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icrosoft Exchang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98160" y="228240"/>
            <a:ext cx="8745480" cy="1189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Gép nevek</a:t>
            </a:r>
            <a:br>
              <a:rPr sz="4800"/>
            </a:br>
            <a:r>
              <a:rPr b="1" lang="hu-HU" sz="3200" spc="-1" strike="noStrike">
                <a:solidFill>
                  <a:srgbClr val="eea564"/>
                </a:solidFill>
                <a:latin typeface="Arial"/>
              </a:rPr>
              <a:t>Ha nem fürtként nézzük</a:t>
            </a:r>
            <a:endParaRPr b="1" lang="en-US" sz="32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Quorum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3928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fürt meta-adatainak állandó leltá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interconnect megszűntekor ennek segítségével tudják, hogy mi tartozik melyik végpontho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szerre csak egy végpont birtokolhatja a Quorum-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élja a fürt adatainak konzisztens állapotban tart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Erőforrás-függőség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0" y="1609560"/>
            <a:ext cx="9144000" cy="4838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erőforrás más erőforrásoktól függ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erőforrás akkor kerül </a:t>
            </a:r>
            <a:r>
              <a:rPr b="1" lang="hu-HU" sz="3200" spc="-1" strike="noStrike">
                <a:solidFill>
                  <a:srgbClr val="00cc00"/>
                </a:solidFill>
                <a:latin typeface="Arial"/>
              </a:rPr>
              <a:t>online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állapotba, ha azok az erőforrások, amelyektől függ, már online állapotban vanna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erőforrás mindig azok előtt az erőforrások előtt kerül </a:t>
            </a: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offline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állapotba, amelyektől füg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ghibásodás esetén minden egymástól függő erőforrás </a:t>
            </a:r>
            <a:r>
              <a:rPr b="1" lang="hu-HU" sz="3200" spc="-1" strike="noStrike">
                <a:solidFill>
                  <a:srgbClr val="fccf00"/>
                </a:solidFill>
                <a:latin typeface="Arial"/>
              </a:rPr>
              <a:t>együt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kerül át a másik gép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Önök  egy sorozatot látnak...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93440"/>
            <a:ext cx="8763120" cy="612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7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Active Directory, a Windows 2000 új címtá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14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Felhasználó és szoftver menedzs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Október 21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Biztonsági szolgáltatások a Windows 2000-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6699"/>
                </a:solidFill>
                <a:latin typeface="Arial"/>
              </a:rPr>
              <a:t>November 4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6699"/>
                </a:solidFill>
                <a:latin typeface="Arial"/>
              </a:rPr>
              <a:t>A Windows 2000 infrastruktúrális szolgáltatás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vember 18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mint alkalmazás kiszolgál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ovember 25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telepítése és üzembehelyezé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cember 9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Windows 2000 NetWare és UNIX környezet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övetelmények általános alkalmazások számár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15360" cy="243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álózati elérésnél a TCP/IP támogat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attárolás a közös SCSI busz lemezein vagy jól definiált helyen a Registry-b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lyen Cluster modellt válasszunk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80880" y="1755720"/>
            <a:ext cx="8763120" cy="377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agas rendelkezésre állás statikus terhelés eloszt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ot spare” megoldás a maximális rendelkezésre álláss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endelkezésre állás részleges növel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irtuális kiszolgál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ibrid megold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211560" y="470232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1. Magas rendelkezésre állás statikus terhelés elosztássa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055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078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092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0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101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102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124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138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6" name=""/>
          <p:cNvSpPr/>
          <p:nvPr/>
        </p:nvSpPr>
        <p:spPr>
          <a:xfrm>
            <a:off x="4138560" y="48020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138560" y="43448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2654280" y="6040440"/>
            <a:ext cx="4213080" cy="317160"/>
            <a:chOff x="2654280" y="6040440"/>
            <a:chExt cx="4213080" cy="317160"/>
          </a:xfrm>
        </p:grpSpPr>
        <p:sp>
          <p:nvSpPr>
            <p:cNvPr id="1149" name=""/>
            <p:cNvSpPr/>
            <p:nvPr/>
          </p:nvSpPr>
          <p:spPr>
            <a:xfrm>
              <a:off x="2665080" y="60404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54280" y="63450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6845400" y="60526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1433520" y="2022480"/>
            <a:ext cx="2593800" cy="1816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08120" y="215244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95520" y="2638800"/>
            <a:ext cx="2286000" cy="1097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-hö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22800" y="2003400"/>
            <a:ext cx="2594160" cy="184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284800" y="2145960"/>
            <a:ext cx="228456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284800" y="264528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9270200">
            <a:off x="3700440" y="2596680"/>
            <a:ext cx="1682640" cy="414360"/>
          </a:xfrm>
          <a:prstGeom prst="leftArrow">
            <a:avLst>
              <a:gd name="adj1" fmla="val 50000"/>
              <a:gd name="adj2" fmla="val 10152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 rot="2329800">
            <a:off x="3820320" y="2620440"/>
            <a:ext cx="1603440" cy="414360"/>
          </a:xfrm>
          <a:prstGeom prst="leftArrow">
            <a:avLst>
              <a:gd name="adj1" fmla="val 50000"/>
              <a:gd name="adj2" fmla="val 96742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273640" y="51116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1. Magas rendelkezésre állás statikus terhelés elosztással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168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169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191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205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214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215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237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251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9" name=""/>
          <p:cNvSpPr/>
          <p:nvPr/>
        </p:nvSpPr>
        <p:spPr>
          <a:xfrm>
            <a:off x="4138560" y="48020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38560" y="43448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2654280" y="6040440"/>
            <a:ext cx="4213080" cy="317160"/>
            <a:chOff x="2654280" y="6040440"/>
            <a:chExt cx="4213080" cy="317160"/>
          </a:xfrm>
        </p:grpSpPr>
        <p:sp>
          <p:nvSpPr>
            <p:cNvPr id="1262" name=""/>
            <p:cNvSpPr/>
            <p:nvPr/>
          </p:nvSpPr>
          <p:spPr>
            <a:xfrm>
              <a:off x="2665080" y="60404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54280" y="63450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6845400" y="60526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1433520" y="2022480"/>
            <a:ext cx="2593800" cy="18162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8120" y="215244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95520" y="2638800"/>
            <a:ext cx="2286000" cy="1097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-hö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122800" y="2003400"/>
            <a:ext cx="2594160" cy="184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284800" y="2145960"/>
            <a:ext cx="228456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284800" y="264528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rot="19270200">
            <a:off x="3700440" y="2596680"/>
            <a:ext cx="1682640" cy="414360"/>
          </a:xfrm>
          <a:prstGeom prst="leftArrow">
            <a:avLst>
              <a:gd name="adj1" fmla="val 50000"/>
              <a:gd name="adj2" fmla="val 10152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rot="2329800">
            <a:off x="3820320" y="2620440"/>
            <a:ext cx="1603440" cy="414360"/>
          </a:xfrm>
          <a:prstGeom prst="leftArrow">
            <a:avLst>
              <a:gd name="adj1" fmla="val 50000"/>
              <a:gd name="adj2" fmla="val 96742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73640" y="51116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286240" y="46544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3211560" y="470232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2. Maximális rendelkezésre áll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283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284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306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8" name=""/>
          <p:cNvGrpSpPr/>
          <p:nvPr/>
        </p:nvGrpSpPr>
        <p:grpSpPr>
          <a:xfrm>
            <a:off x="6165720" y="3949560"/>
            <a:ext cx="1706040" cy="1995480"/>
            <a:chOff x="6165720" y="3949560"/>
            <a:chExt cx="1706040" cy="1995480"/>
          </a:xfrm>
        </p:grpSpPr>
        <p:sp>
          <p:nvSpPr>
            <p:cNvPr id="1329" name=""/>
            <p:cNvSpPr/>
            <p:nvPr/>
          </p:nvSpPr>
          <p:spPr>
            <a:xfrm flipH="1">
              <a:off x="6714360" y="4046400"/>
              <a:ext cx="571320" cy="1486080"/>
            </a:xfrm>
            <a:custGeom>
              <a:avLst/>
              <a:gdLst/>
              <a:ahLst/>
              <a:rect l="l" t="t" r="r" b="b"/>
              <a:pathLst>
                <a:path w="360" h="936">
                  <a:moveTo>
                    <a:pt x="359" y="157"/>
                  </a:moveTo>
                  <a:lnTo>
                    <a:pt x="359" y="935"/>
                  </a:lnTo>
                  <a:lnTo>
                    <a:pt x="0" y="713"/>
                  </a:lnTo>
                  <a:lnTo>
                    <a:pt x="0" y="0"/>
                  </a:lnTo>
                  <a:lnTo>
                    <a:pt x="359" y="157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6259320" y="4189320"/>
              <a:ext cx="457200" cy="1343160"/>
            </a:xfrm>
            <a:custGeom>
              <a:avLst/>
              <a:gdLst/>
              <a:ahLst/>
              <a:rect l="l" t="t" r="r" b="b"/>
              <a:pathLst>
                <a:path w="288" h="846">
                  <a:moveTo>
                    <a:pt x="0" y="67"/>
                  </a:moveTo>
                  <a:lnTo>
                    <a:pt x="0" y="845"/>
                  </a:lnTo>
                  <a:lnTo>
                    <a:pt x="287" y="767"/>
                  </a:lnTo>
                  <a:lnTo>
                    <a:pt x="287" y="0"/>
                  </a:lnTo>
                  <a:lnTo>
                    <a:pt x="0" y="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6314040" y="4272120"/>
              <a:ext cx="328680" cy="1191960"/>
            </a:xfrm>
            <a:custGeom>
              <a:avLst/>
              <a:gdLst/>
              <a:ahLst/>
              <a:rect l="l" t="t" r="r" b="b"/>
              <a:pathLst>
                <a:path w="207" h="751">
                  <a:moveTo>
                    <a:pt x="206" y="7"/>
                  </a:moveTo>
                  <a:lnTo>
                    <a:pt x="206" y="692"/>
                  </a:lnTo>
                  <a:lnTo>
                    <a:pt x="0" y="750"/>
                  </a:lnTo>
                  <a:lnTo>
                    <a:pt x="0" y="50"/>
                  </a:lnTo>
                  <a:lnTo>
                    <a:pt x="206" y="0"/>
                  </a:lnTo>
                  <a:lnTo>
                    <a:pt x="206" y="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6314040" y="4272120"/>
              <a:ext cx="328680" cy="1191960"/>
            </a:xfrm>
            <a:custGeom>
              <a:avLst/>
              <a:gdLst/>
              <a:ahLst/>
              <a:rect l="l" t="t" r="r" b="b"/>
              <a:pathLst>
                <a:path w="207" h="751">
                  <a:moveTo>
                    <a:pt x="206" y="7"/>
                  </a:moveTo>
                  <a:lnTo>
                    <a:pt x="206" y="692"/>
                  </a:lnTo>
                  <a:lnTo>
                    <a:pt x="0" y="750"/>
                  </a:lnTo>
                  <a:lnTo>
                    <a:pt x="0" y="50"/>
                  </a:lnTo>
                  <a:lnTo>
                    <a:pt x="20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16560" y="5315040"/>
              <a:ext cx="3189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318000" y="4433760"/>
              <a:ext cx="325440" cy="560520"/>
            </a:xfrm>
            <a:custGeom>
              <a:avLst/>
              <a:gdLst/>
              <a:ahLst/>
              <a:rect l="l" t="t" r="r" b="b"/>
              <a:pathLst>
                <a:path w="205" h="353">
                  <a:moveTo>
                    <a:pt x="204" y="0"/>
                  </a:moveTo>
                  <a:lnTo>
                    <a:pt x="0" y="50"/>
                  </a:lnTo>
                  <a:lnTo>
                    <a:pt x="0" y="352"/>
                  </a:lnTo>
                  <a:lnTo>
                    <a:pt x="204" y="296"/>
                  </a:lnTo>
                  <a:lnTo>
                    <a:pt x="20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22680" y="4557600"/>
              <a:ext cx="31608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22680" y="4681440"/>
              <a:ext cx="31752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22680" y="4792680"/>
              <a:ext cx="3128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60840" y="4502160"/>
              <a:ext cx="231840" cy="52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60840" y="4626000"/>
              <a:ext cx="231840" cy="52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60840" y="4749840"/>
              <a:ext cx="231840" cy="52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60840" y="4870440"/>
              <a:ext cx="231840" cy="5256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6410160" y="4498920"/>
              <a:ext cx="122400" cy="6372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6" y="0"/>
                  </a:moveTo>
                  <a:lnTo>
                    <a:pt x="76" y="22"/>
                  </a:lnTo>
                  <a:lnTo>
                    <a:pt x="0" y="39"/>
                  </a:lnTo>
                  <a:lnTo>
                    <a:pt x="0" y="17"/>
                  </a:lnTo>
                  <a:lnTo>
                    <a:pt x="76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10160" y="4613400"/>
              <a:ext cx="122400" cy="6660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76" y="24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76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410160" y="4737240"/>
              <a:ext cx="122400" cy="6660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76" y="24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76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6410160" y="4857840"/>
              <a:ext cx="122400" cy="6660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76" y="24"/>
                  </a:lnTo>
                  <a:lnTo>
                    <a:pt x="0" y="41"/>
                  </a:lnTo>
                  <a:lnTo>
                    <a:pt x="0" y="17"/>
                  </a:lnTo>
                  <a:lnTo>
                    <a:pt x="76" y="0"/>
                  </a:lnTo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16560" y="5256360"/>
              <a:ext cx="31896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16560" y="5197320"/>
              <a:ext cx="31896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6252120" y="3949560"/>
              <a:ext cx="1033560" cy="351000"/>
            </a:xfrm>
            <a:custGeom>
              <a:avLst/>
              <a:gdLst/>
              <a:ahLst/>
              <a:rect l="l" t="t" r="r" b="b"/>
              <a:pathLst>
                <a:path w="651" h="221">
                  <a:moveTo>
                    <a:pt x="650" y="151"/>
                  </a:moveTo>
                  <a:lnTo>
                    <a:pt x="359" y="220"/>
                  </a:lnTo>
                  <a:lnTo>
                    <a:pt x="0" y="63"/>
                  </a:lnTo>
                  <a:lnTo>
                    <a:pt x="283" y="0"/>
                  </a:lnTo>
                  <a:lnTo>
                    <a:pt x="650" y="1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6734880" y="5408640"/>
              <a:ext cx="1089000" cy="301680"/>
            </a:xfrm>
            <a:custGeom>
              <a:avLst/>
              <a:gdLst/>
              <a:ahLst/>
              <a:rect l="l" t="t" r="r" b="b"/>
              <a:pathLst>
                <a:path w="686" h="190">
                  <a:moveTo>
                    <a:pt x="590" y="0"/>
                  </a:moveTo>
                  <a:lnTo>
                    <a:pt x="685" y="54"/>
                  </a:lnTo>
                  <a:lnTo>
                    <a:pt x="685" y="74"/>
                  </a:lnTo>
                  <a:lnTo>
                    <a:pt x="256" y="189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45" y="4"/>
                  </a:lnTo>
                  <a:lnTo>
                    <a:pt x="59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734880" y="5408640"/>
              <a:ext cx="1089000" cy="301680"/>
            </a:xfrm>
            <a:custGeom>
              <a:avLst/>
              <a:gdLst/>
              <a:ahLst/>
              <a:rect l="l" t="t" r="r" b="b"/>
              <a:pathLst>
                <a:path w="686" h="190">
                  <a:moveTo>
                    <a:pt x="590" y="0"/>
                  </a:moveTo>
                  <a:lnTo>
                    <a:pt x="685" y="54"/>
                  </a:lnTo>
                  <a:lnTo>
                    <a:pt x="685" y="74"/>
                  </a:lnTo>
                  <a:lnTo>
                    <a:pt x="256" y="189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45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7169760" y="4640400"/>
              <a:ext cx="701640" cy="676080"/>
            </a:xfrm>
            <a:custGeom>
              <a:avLst/>
              <a:gdLst/>
              <a:ahLst/>
              <a:rect l="l" t="t" r="r" b="b"/>
              <a:pathLst>
                <a:path w="442" h="426">
                  <a:moveTo>
                    <a:pt x="78" y="425"/>
                  </a:moveTo>
                  <a:lnTo>
                    <a:pt x="0" y="330"/>
                  </a:lnTo>
                  <a:lnTo>
                    <a:pt x="0" y="74"/>
                  </a:lnTo>
                  <a:lnTo>
                    <a:pt x="326" y="0"/>
                  </a:lnTo>
                  <a:lnTo>
                    <a:pt x="441" y="33"/>
                  </a:lnTo>
                  <a:lnTo>
                    <a:pt x="78" y="425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7169760" y="4640400"/>
              <a:ext cx="701640" cy="676080"/>
            </a:xfrm>
            <a:custGeom>
              <a:avLst/>
              <a:gdLst/>
              <a:ahLst/>
              <a:rect l="l" t="t" r="r" b="b"/>
              <a:pathLst>
                <a:path w="442" h="426">
                  <a:moveTo>
                    <a:pt x="78" y="425"/>
                  </a:moveTo>
                  <a:lnTo>
                    <a:pt x="0" y="330"/>
                  </a:lnTo>
                  <a:lnTo>
                    <a:pt x="0" y="74"/>
                  </a:lnTo>
                  <a:lnTo>
                    <a:pt x="326" y="0"/>
                  </a:lnTo>
                  <a:lnTo>
                    <a:pt x="441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7516080" y="4819680"/>
              <a:ext cx="228600" cy="743040"/>
            </a:xfrm>
            <a:custGeom>
              <a:avLst/>
              <a:gdLst/>
              <a:ahLst/>
              <a:rect l="l" t="t" r="r" b="b"/>
              <a:pathLst>
                <a:path w="144" h="468">
                  <a:moveTo>
                    <a:pt x="143" y="467"/>
                  </a:moveTo>
                  <a:lnTo>
                    <a:pt x="143" y="76"/>
                  </a:lnTo>
                  <a:lnTo>
                    <a:pt x="0" y="0"/>
                  </a:lnTo>
                  <a:lnTo>
                    <a:pt x="0" y="378"/>
                  </a:lnTo>
                  <a:lnTo>
                    <a:pt x="143" y="467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6933240" y="5416560"/>
              <a:ext cx="505080" cy="149040"/>
            </a:xfrm>
            <a:custGeom>
              <a:avLst/>
              <a:gdLst/>
              <a:ahLst/>
              <a:rect l="l" t="t" r="r" b="b"/>
              <a:pathLst>
                <a:path w="318" h="94">
                  <a:moveTo>
                    <a:pt x="317" y="0"/>
                  </a:moveTo>
                  <a:lnTo>
                    <a:pt x="317" y="19"/>
                  </a:lnTo>
                  <a:lnTo>
                    <a:pt x="25" y="93"/>
                  </a:lnTo>
                  <a:lnTo>
                    <a:pt x="0" y="82"/>
                  </a:lnTo>
                  <a:lnTo>
                    <a:pt x="317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6933240" y="5416560"/>
              <a:ext cx="505080" cy="149040"/>
            </a:xfrm>
            <a:custGeom>
              <a:avLst/>
              <a:gdLst/>
              <a:ahLst/>
              <a:rect l="l" t="t" r="r" b="b"/>
              <a:pathLst>
                <a:path w="318" h="94">
                  <a:moveTo>
                    <a:pt x="317" y="0"/>
                  </a:moveTo>
                  <a:lnTo>
                    <a:pt x="317" y="19"/>
                  </a:lnTo>
                  <a:lnTo>
                    <a:pt x="25" y="93"/>
                  </a:lnTo>
                  <a:lnTo>
                    <a:pt x="0" y="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792120" y="4773600"/>
              <a:ext cx="723960" cy="789120"/>
            </a:xfrm>
            <a:custGeom>
              <a:avLst/>
              <a:gdLst/>
              <a:ahLst/>
              <a:rect l="l" t="t" r="r" b="b"/>
              <a:pathLst>
                <a:path w="456" h="497">
                  <a:moveTo>
                    <a:pt x="0" y="496"/>
                  </a:moveTo>
                  <a:lnTo>
                    <a:pt x="0" y="104"/>
                  </a:lnTo>
                  <a:lnTo>
                    <a:pt x="455" y="0"/>
                  </a:lnTo>
                  <a:lnTo>
                    <a:pt x="455" y="380"/>
                  </a:lnTo>
                  <a:lnTo>
                    <a:pt x="0" y="496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6886440" y="4861080"/>
              <a:ext cx="528480" cy="577800"/>
            </a:xfrm>
            <a:custGeom>
              <a:avLst/>
              <a:gdLst/>
              <a:ahLst/>
              <a:rect l="l" t="t" r="r" b="b"/>
              <a:pathLst>
                <a:path w="333" h="364">
                  <a:moveTo>
                    <a:pt x="0" y="363"/>
                  </a:moveTo>
                  <a:lnTo>
                    <a:pt x="0" y="78"/>
                  </a:lnTo>
                  <a:lnTo>
                    <a:pt x="332" y="0"/>
                  </a:lnTo>
                  <a:lnTo>
                    <a:pt x="332" y="280"/>
                  </a:lnTo>
                  <a:lnTo>
                    <a:pt x="0" y="363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6927840" y="4898880"/>
              <a:ext cx="466560" cy="489240"/>
            </a:xfrm>
            <a:custGeom>
              <a:avLst/>
              <a:gdLst/>
              <a:ahLst/>
              <a:rect l="l" t="t" r="r" b="b"/>
              <a:pathLst>
                <a:path w="294" h="308">
                  <a:moveTo>
                    <a:pt x="0" y="307"/>
                  </a:moveTo>
                  <a:lnTo>
                    <a:pt x="0" y="65"/>
                  </a:lnTo>
                  <a:lnTo>
                    <a:pt x="293" y="0"/>
                  </a:lnTo>
                  <a:lnTo>
                    <a:pt x="293" y="238"/>
                  </a:lnTo>
                  <a:lnTo>
                    <a:pt x="0" y="3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a9a9a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753240" y="5440320"/>
              <a:ext cx="1049040" cy="231840"/>
            </a:xfrm>
            <a:custGeom>
              <a:avLst/>
              <a:gdLst/>
              <a:ahLst/>
              <a:rect l="l" t="t" r="r" b="b"/>
              <a:pathLst>
                <a:path w="661" h="146">
                  <a:moveTo>
                    <a:pt x="660" y="35"/>
                  </a:moveTo>
                  <a:lnTo>
                    <a:pt x="244" y="14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7293600" y="5032440"/>
              <a:ext cx="428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792840" y="4672080"/>
              <a:ext cx="952560" cy="269640"/>
            </a:xfrm>
            <a:custGeom>
              <a:avLst/>
              <a:gdLst/>
              <a:ahLst/>
              <a:rect l="l" t="t" r="r" b="b"/>
              <a:pathLst>
                <a:path w="600" h="170">
                  <a:moveTo>
                    <a:pt x="599" y="63"/>
                  </a:moveTo>
                  <a:lnTo>
                    <a:pt x="142" y="169"/>
                  </a:lnTo>
                  <a:lnTo>
                    <a:pt x="0" y="95"/>
                  </a:lnTo>
                  <a:lnTo>
                    <a:pt x="425" y="0"/>
                  </a:lnTo>
                  <a:lnTo>
                    <a:pt x="599" y="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6165720" y="5495760"/>
              <a:ext cx="1114560" cy="449280"/>
              <a:chOff x="6165720" y="5495760"/>
              <a:chExt cx="1114560" cy="449280"/>
            </a:xfrm>
          </p:grpSpPr>
          <p:sp>
            <p:nvSpPr>
              <p:cNvPr id="1363" name=""/>
              <p:cNvSpPr/>
              <p:nvPr/>
            </p:nvSpPr>
            <p:spPr>
              <a:xfrm flipH="1">
                <a:off x="6165720" y="56689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6165720" y="56689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6165720" y="54957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6537240" y="55609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6497640" y="56293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6446880" y="55958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6379920" y="56545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6249600" y="55641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1" name=""/>
          <p:cNvSpPr/>
          <p:nvPr/>
        </p:nvSpPr>
        <p:spPr>
          <a:xfrm>
            <a:off x="4113360" y="43448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2552760" y="6053040"/>
            <a:ext cx="4213080" cy="317160"/>
            <a:chOff x="2552760" y="6053040"/>
            <a:chExt cx="4213080" cy="317160"/>
          </a:xfrm>
        </p:grpSpPr>
        <p:sp>
          <p:nvSpPr>
            <p:cNvPr id="1373" name=""/>
            <p:cNvSpPr/>
            <p:nvPr/>
          </p:nvSpPr>
          <p:spPr>
            <a:xfrm>
              <a:off x="2563560" y="60530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552760" y="63576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6743880" y="60652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6" name=""/>
          <p:cNvSpPr/>
          <p:nvPr/>
        </p:nvSpPr>
        <p:spPr>
          <a:xfrm>
            <a:off x="1281240" y="2079720"/>
            <a:ext cx="2593800" cy="6062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42880" y="221112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326200" y="1693800"/>
            <a:ext cx="2593800" cy="13986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487840" y="184536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3000" y="2192400"/>
            <a:ext cx="1720800" cy="444600"/>
          </a:xfrm>
          <a:prstGeom prst="rightArrow">
            <a:avLst>
              <a:gd name="adj1" fmla="val 50000"/>
              <a:gd name="adj2" fmla="val 96761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4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2. Maximális rendelkezésre áll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388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389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411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425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3" name=""/>
          <p:cNvGrpSpPr/>
          <p:nvPr/>
        </p:nvGrpSpPr>
        <p:grpSpPr>
          <a:xfrm>
            <a:off x="6191640" y="3949560"/>
            <a:ext cx="1706040" cy="1995480"/>
            <a:chOff x="6191640" y="3949560"/>
            <a:chExt cx="1706040" cy="1995480"/>
          </a:xfrm>
        </p:grpSpPr>
        <p:grpSp>
          <p:nvGrpSpPr>
            <p:cNvPr id="1434" name=""/>
            <p:cNvGrpSpPr/>
            <p:nvPr/>
          </p:nvGrpSpPr>
          <p:grpSpPr>
            <a:xfrm>
              <a:off x="6279120" y="3949560"/>
              <a:ext cx="1032840" cy="1582920"/>
              <a:chOff x="6279120" y="3949560"/>
              <a:chExt cx="1032840" cy="1582920"/>
            </a:xfrm>
          </p:grpSpPr>
          <p:sp>
            <p:nvSpPr>
              <p:cNvPr id="1435" name=""/>
              <p:cNvSpPr/>
              <p:nvPr/>
            </p:nvSpPr>
            <p:spPr>
              <a:xfrm flipH="1">
                <a:off x="6741000" y="404640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6285240" y="418932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6341040" y="427176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6341040" y="427176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343200" y="531468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6343920" y="443376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349320" y="455760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349680" y="468144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349680" y="479268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387480" y="4502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387480" y="462600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387480" y="474984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387480" y="487044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6564960" y="438444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6436080" y="449892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6436080" y="461304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6436080" y="473688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6436080" y="485748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343200" y="525600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343200" y="51973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>
                <a:off x="6278760" y="394956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6761520" y="4640040"/>
              <a:ext cx="1136160" cy="1069920"/>
              <a:chOff x="6761520" y="4640040"/>
              <a:chExt cx="1136160" cy="1069920"/>
            </a:xfrm>
          </p:grpSpPr>
          <p:sp>
            <p:nvSpPr>
              <p:cNvPr id="1457" name=""/>
              <p:cNvSpPr/>
              <p:nvPr/>
            </p:nvSpPr>
            <p:spPr>
              <a:xfrm flipH="1">
                <a:off x="6761520" y="540864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6761520" y="540864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7195680" y="464004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195680" y="464004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7542720" y="481968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6959880" y="541656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6959880" y="541656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6818760" y="477360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6912360" y="486072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6953400" y="489888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6778800" y="544032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7320240" y="503244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6818400" y="467208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6191640" y="5495760"/>
              <a:ext cx="1114200" cy="449280"/>
              <a:chOff x="6191640" y="5495760"/>
              <a:chExt cx="1114200" cy="449280"/>
            </a:xfrm>
          </p:grpSpPr>
          <p:sp>
            <p:nvSpPr>
              <p:cNvPr id="1471" name=""/>
              <p:cNvSpPr/>
              <p:nvPr/>
            </p:nvSpPr>
            <p:spPr>
              <a:xfrm flipH="1">
                <a:off x="6191280" y="566892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6191280" y="566892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6191640" y="549576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6563160" y="556092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6523560" y="562932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6472800" y="559584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6405840" y="565452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6276240" y="556416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9" name=""/>
          <p:cNvSpPr/>
          <p:nvPr/>
        </p:nvSpPr>
        <p:spPr>
          <a:xfrm>
            <a:off x="4113360" y="434484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2552760" y="6053040"/>
            <a:ext cx="4213080" cy="317160"/>
            <a:chOff x="2552760" y="6053040"/>
            <a:chExt cx="4213080" cy="317160"/>
          </a:xfrm>
        </p:grpSpPr>
        <p:sp>
          <p:nvSpPr>
            <p:cNvPr id="1481" name=""/>
            <p:cNvSpPr/>
            <p:nvPr/>
          </p:nvSpPr>
          <p:spPr>
            <a:xfrm>
              <a:off x="2563560" y="60530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552760" y="63576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6743880" y="60652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1281240" y="2079720"/>
            <a:ext cx="2593800" cy="6062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442880" y="221112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326200" y="1693800"/>
            <a:ext cx="2593800" cy="13986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487840" y="184536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753000" y="2192400"/>
            <a:ext cx="1720800" cy="444600"/>
          </a:xfrm>
          <a:prstGeom prst="rightArrow">
            <a:avLst>
              <a:gd name="adj1" fmla="val 50000"/>
              <a:gd name="adj2" fmla="val 96761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00640" y="463860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3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/>
          <p:nvPr/>
        </p:nvSpPr>
        <p:spPr>
          <a:xfrm>
            <a:off x="3211560" y="448776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3. Rendelkezésre állás részleges növel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498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499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521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535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3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544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545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567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581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9" name=""/>
          <p:cNvGrpSpPr/>
          <p:nvPr/>
        </p:nvGrpSpPr>
        <p:grpSpPr>
          <a:xfrm>
            <a:off x="2552760" y="6053040"/>
            <a:ext cx="4213080" cy="317160"/>
            <a:chOff x="2552760" y="6053040"/>
            <a:chExt cx="4213080" cy="317160"/>
          </a:xfrm>
        </p:grpSpPr>
        <p:sp>
          <p:nvSpPr>
            <p:cNvPr id="1590" name=""/>
            <p:cNvSpPr/>
            <p:nvPr/>
          </p:nvSpPr>
          <p:spPr>
            <a:xfrm>
              <a:off x="2563560" y="60530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552760" y="63576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6743880" y="60652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1179360" y="1986120"/>
            <a:ext cx="2594160" cy="14414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341360" y="2155680"/>
            <a:ext cx="2284560" cy="3052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26200" y="2043000"/>
            <a:ext cx="2593800" cy="11304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487840" y="2152440"/>
            <a:ext cx="2286000" cy="915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341360" y="2577960"/>
            <a:ext cx="2284560" cy="3052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341360" y="3001680"/>
            <a:ext cx="2284560" cy="3052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6240" y="499284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21280" y="456552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3360" y="415440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rot="732600">
            <a:off x="3664080" y="2263320"/>
            <a:ext cx="1823760" cy="444600"/>
          </a:xfrm>
          <a:prstGeom prst="rightArrow">
            <a:avLst>
              <a:gd name="adj1" fmla="val 50000"/>
              <a:gd name="adj2" fmla="val 102551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216240" y="491004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219480" y="531648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8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>
            <a:off x="5249880" y="4487760"/>
            <a:ext cx="1054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3. Rendelkezésre állás részleges növel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613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614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636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650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8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659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660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682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696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4" name=""/>
          <p:cNvGrpSpPr/>
          <p:nvPr/>
        </p:nvGrpSpPr>
        <p:grpSpPr>
          <a:xfrm>
            <a:off x="2552760" y="6053040"/>
            <a:ext cx="4213080" cy="317160"/>
            <a:chOff x="2552760" y="6053040"/>
            <a:chExt cx="4213080" cy="317160"/>
          </a:xfrm>
        </p:grpSpPr>
        <p:sp>
          <p:nvSpPr>
            <p:cNvPr id="1705" name=""/>
            <p:cNvSpPr/>
            <p:nvPr/>
          </p:nvSpPr>
          <p:spPr>
            <a:xfrm>
              <a:off x="2563560" y="60530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552760" y="63576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6743880" y="60652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8" name=""/>
          <p:cNvSpPr/>
          <p:nvPr/>
        </p:nvSpPr>
        <p:spPr>
          <a:xfrm>
            <a:off x="1179360" y="1986120"/>
            <a:ext cx="2594160" cy="14414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341360" y="2155680"/>
            <a:ext cx="2284560" cy="30528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326200" y="2043000"/>
            <a:ext cx="2593800" cy="113040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487840" y="2152440"/>
            <a:ext cx="2286000" cy="915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341360" y="2577960"/>
            <a:ext cx="2284560" cy="30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341360" y="3001680"/>
            <a:ext cx="2284560" cy="30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roup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6240" y="499284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21280" y="456552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3360" y="415440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rot="732600">
            <a:off x="3664080" y="2263320"/>
            <a:ext cx="1823760" cy="444600"/>
          </a:xfrm>
          <a:prstGeom prst="rightArrow">
            <a:avLst>
              <a:gd name="adj1" fmla="val 50000"/>
              <a:gd name="adj2" fmla="val 102551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1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3211560" y="448776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4. Virtuális kiszolgál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208480" y="1135080"/>
            <a:ext cx="3748320" cy="1998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szerű menedz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szerűbb publik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727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728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750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764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2" name=""/>
          <p:cNvSpPr/>
          <p:nvPr/>
        </p:nvSpPr>
        <p:spPr>
          <a:xfrm>
            <a:off x="1179360" y="1071720"/>
            <a:ext cx="2594160" cy="23558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344600" y="1182600"/>
            <a:ext cx="2284560" cy="61020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ile és Pr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nyvel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344600" y="1928520"/>
            <a:ext cx="2284560" cy="61020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ile és Pr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330200" y="2674800"/>
            <a:ext cx="2284560" cy="61020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ile és Pr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116240" y="499284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121280" y="456552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113360" y="4154400"/>
            <a:ext cx="1066680" cy="60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216240" y="491004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219480" y="531648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/>
          <p:nvPr/>
        </p:nvSpPr>
        <p:spPr>
          <a:xfrm>
            <a:off x="4156200" y="559908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162320" y="517860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157640" y="475632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211560" y="421812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5. Hibrid megold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789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790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812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826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4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835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836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858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872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0" name=""/>
          <p:cNvSpPr/>
          <p:nvPr/>
        </p:nvSpPr>
        <p:spPr>
          <a:xfrm>
            <a:off x="4152960" y="433548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152960" y="391320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2654280" y="6040440"/>
            <a:ext cx="4213080" cy="317160"/>
            <a:chOff x="2654280" y="6040440"/>
            <a:chExt cx="4213080" cy="317160"/>
          </a:xfrm>
        </p:grpSpPr>
        <p:sp>
          <p:nvSpPr>
            <p:cNvPr id="1883" name=""/>
            <p:cNvSpPr/>
            <p:nvPr/>
          </p:nvSpPr>
          <p:spPr>
            <a:xfrm>
              <a:off x="2665080" y="60404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654280" y="63450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6845400" y="60526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6" name=""/>
          <p:cNvSpPr/>
          <p:nvPr/>
        </p:nvSpPr>
        <p:spPr>
          <a:xfrm>
            <a:off x="1433520" y="1027080"/>
            <a:ext cx="2593800" cy="27716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608120" y="116172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595520" y="1648440"/>
            <a:ext cx="2286000" cy="1097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-hö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5122800" y="1022400"/>
            <a:ext cx="2594160" cy="2822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284800" y="1155240"/>
            <a:ext cx="228456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284800" y="165456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 rot="19270200">
            <a:off x="3700440" y="1606320"/>
            <a:ext cx="1682640" cy="414360"/>
          </a:xfrm>
          <a:prstGeom prst="leftArrow">
            <a:avLst>
              <a:gd name="adj1" fmla="val 50000"/>
              <a:gd name="adj2" fmla="val 10152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 rot="2329800">
            <a:off x="3820320" y="1630080"/>
            <a:ext cx="1603440" cy="414360"/>
          </a:xfrm>
          <a:prstGeom prst="leftArrow">
            <a:avLst>
              <a:gd name="adj1" fmla="val 50000"/>
              <a:gd name="adj2" fmla="val 96742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300640" y="46544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600200" y="283320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ájl és Prin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5303880" y="2850840"/>
            <a:ext cx="228420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604880" y="330804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ájl és Prin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278320" y="586908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216240" y="505620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230640" y="5473800"/>
            <a:ext cx="86508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4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92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vetelmény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 változik belü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luster 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osztott kiszolgáló alkalmazások platform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twork Load Balan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szolgáló alkalmaz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/>
          <p:nvPr/>
        </p:nvSpPr>
        <p:spPr>
          <a:xfrm>
            <a:off x="4156200" y="559908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162320" y="5178600"/>
            <a:ext cx="106704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157640" y="475632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f5f5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5. Hibrid megoldá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1509840" y="4040280"/>
            <a:ext cx="1706040" cy="1995480"/>
            <a:chOff x="1509840" y="4040280"/>
            <a:chExt cx="1706040" cy="1995480"/>
          </a:xfrm>
        </p:grpSpPr>
        <p:grpSp>
          <p:nvGrpSpPr>
            <p:cNvPr id="1911" name=""/>
            <p:cNvGrpSpPr/>
            <p:nvPr/>
          </p:nvGrpSpPr>
          <p:grpSpPr>
            <a:xfrm>
              <a:off x="2095560" y="4040280"/>
              <a:ext cx="1032840" cy="1582920"/>
              <a:chOff x="2095560" y="4040280"/>
              <a:chExt cx="1032840" cy="1582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2095560" y="4137120"/>
                <a:ext cx="57096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665080" y="4280040"/>
                <a:ext cx="45684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738160" y="4362480"/>
                <a:ext cx="32796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2745720" y="5405400"/>
                <a:ext cx="3186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738160" y="4524480"/>
                <a:ext cx="32508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2742840" y="4648320"/>
                <a:ext cx="31536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2740680" y="4772160"/>
                <a:ext cx="31716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2745720" y="4883400"/>
                <a:ext cx="3121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2788560" y="459288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2788560" y="471672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2788560" y="48405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2788560" y="4961160"/>
                <a:ext cx="23148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785680" y="4475160"/>
                <a:ext cx="5688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849040" y="45896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849040" y="470376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849040" y="48276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49040" y="494820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2745720" y="534672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2745720" y="5288040"/>
                <a:ext cx="318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095560" y="4040280"/>
                <a:ext cx="103284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1509840" y="4730760"/>
              <a:ext cx="1136160" cy="1069920"/>
              <a:chOff x="1509840" y="4730760"/>
              <a:chExt cx="1136160" cy="1069920"/>
            </a:xfrm>
          </p:grpSpPr>
          <p:sp>
            <p:nvSpPr>
              <p:cNvPr id="1934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57360" y="5499360"/>
                <a:ext cx="108864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509840" y="4730760"/>
                <a:ext cx="70164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36560" y="4910400"/>
                <a:ext cx="22824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42920" y="5507280"/>
                <a:ext cx="50472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865160" y="4864320"/>
                <a:ext cx="72360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966680" y="4951440"/>
                <a:ext cx="52848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987560" y="4989600"/>
                <a:ext cx="46620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579680" y="5531040"/>
                <a:ext cx="104868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044800" y="5123160"/>
                <a:ext cx="4248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36560" y="4762800"/>
                <a:ext cx="95220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2101680" y="5586480"/>
              <a:ext cx="1114200" cy="449280"/>
              <a:chOff x="2101680" y="5586480"/>
              <a:chExt cx="1114200" cy="449280"/>
            </a:xfrm>
          </p:grpSpPr>
          <p:sp>
            <p:nvSpPr>
              <p:cNvPr id="1948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101680" y="5759640"/>
                <a:ext cx="111420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107800" y="5586480"/>
                <a:ext cx="110772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192040" y="5651640"/>
                <a:ext cx="65196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246040" y="5720040"/>
                <a:ext cx="63756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801520" y="56865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885760" y="5745240"/>
                <a:ext cx="11556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916000" y="5654880"/>
                <a:ext cx="21528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6" name=""/>
          <p:cNvGrpSpPr/>
          <p:nvPr/>
        </p:nvGrpSpPr>
        <p:grpSpPr>
          <a:xfrm>
            <a:off x="6311520" y="3963960"/>
            <a:ext cx="1706760" cy="1995480"/>
            <a:chOff x="6311520" y="3963960"/>
            <a:chExt cx="1706760" cy="1995480"/>
          </a:xfrm>
        </p:grpSpPr>
        <p:grpSp>
          <p:nvGrpSpPr>
            <p:cNvPr id="1957" name=""/>
            <p:cNvGrpSpPr/>
            <p:nvPr/>
          </p:nvGrpSpPr>
          <p:grpSpPr>
            <a:xfrm>
              <a:off x="6399000" y="3963960"/>
              <a:ext cx="1033200" cy="1582920"/>
              <a:chOff x="6399000" y="3963960"/>
              <a:chExt cx="1033200" cy="1582920"/>
            </a:xfrm>
          </p:grpSpPr>
          <p:sp>
            <p:nvSpPr>
              <p:cNvPr id="1958" name=""/>
              <p:cNvSpPr/>
              <p:nvPr/>
            </p:nvSpPr>
            <p:spPr>
              <a:xfrm flipH="1">
                <a:off x="6860520" y="4060800"/>
                <a:ext cx="571320" cy="1486080"/>
              </a:xfrm>
              <a:custGeom>
                <a:avLst/>
                <a:gdLst/>
                <a:ahLst/>
                <a:rect l="l" t="t" r="r" b="b"/>
                <a:pathLst>
                  <a:path w="360" h="936">
                    <a:moveTo>
                      <a:pt x="359" y="157"/>
                    </a:moveTo>
                    <a:lnTo>
                      <a:pt x="359" y="935"/>
                    </a:lnTo>
                    <a:lnTo>
                      <a:pt x="0" y="713"/>
                    </a:lnTo>
                    <a:lnTo>
                      <a:pt x="0" y="0"/>
                    </a:lnTo>
                    <a:lnTo>
                      <a:pt x="359" y="157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6405120" y="4203720"/>
                <a:ext cx="457200" cy="1343160"/>
              </a:xfrm>
              <a:custGeom>
                <a:avLst/>
                <a:gdLst/>
                <a:ahLst/>
                <a:rect l="l" t="t" r="r" b="b"/>
                <a:pathLst>
                  <a:path w="288" h="846">
                    <a:moveTo>
                      <a:pt x="0" y="67"/>
                    </a:moveTo>
                    <a:lnTo>
                      <a:pt x="0" y="845"/>
                    </a:lnTo>
                    <a:lnTo>
                      <a:pt x="287" y="767"/>
                    </a:lnTo>
                    <a:lnTo>
                      <a:pt x="287" y="0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  <a:lnTo>
                      <a:pt x="206" y="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6460920" y="4286160"/>
                <a:ext cx="328320" cy="1192320"/>
              </a:xfrm>
              <a:custGeom>
                <a:avLst/>
                <a:gdLst/>
                <a:ahLst/>
                <a:rect l="l" t="t" r="r" b="b"/>
                <a:pathLst>
                  <a:path w="207" h="751">
                    <a:moveTo>
                      <a:pt x="206" y="7"/>
                    </a:moveTo>
                    <a:lnTo>
                      <a:pt x="206" y="692"/>
                    </a:lnTo>
                    <a:lnTo>
                      <a:pt x="0" y="750"/>
                    </a:lnTo>
                    <a:lnTo>
                      <a:pt x="0" y="50"/>
                    </a:lnTo>
                    <a:lnTo>
                      <a:pt x="20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462360" y="5329080"/>
                <a:ext cx="3189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H="1">
                <a:off x="6463800" y="4448160"/>
                <a:ext cx="325440" cy="560520"/>
              </a:xfrm>
              <a:custGeom>
                <a:avLst/>
                <a:gdLst/>
                <a:ahLst/>
                <a:rect l="l" t="t" r="r" b="b"/>
                <a:pathLst>
                  <a:path w="205" h="353">
                    <a:moveTo>
                      <a:pt x="204" y="0"/>
                    </a:moveTo>
                    <a:lnTo>
                      <a:pt x="0" y="50"/>
                    </a:lnTo>
                    <a:lnTo>
                      <a:pt x="0" y="352"/>
                    </a:lnTo>
                    <a:lnTo>
                      <a:pt x="204" y="296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469200" y="4572000"/>
                <a:ext cx="31572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468840" y="4695840"/>
                <a:ext cx="3175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468840" y="4807080"/>
                <a:ext cx="31248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506640" y="451656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506640" y="464040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506640" y="47642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506640" y="4884840"/>
                <a:ext cx="23184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6684120" y="4398840"/>
                <a:ext cx="57240" cy="349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6555960" y="451332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6" y="0"/>
                    </a:moveTo>
                    <a:lnTo>
                      <a:pt x="76" y="22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6555960" y="462744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6555960" y="47512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>
                <a:off x="6555960" y="4871880"/>
                <a:ext cx="122400" cy="6696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76" y="0"/>
                    </a:moveTo>
                    <a:lnTo>
                      <a:pt x="76" y="24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462360" y="527040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462360" y="5211720"/>
                <a:ext cx="318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6399000" y="3963960"/>
                <a:ext cx="1033200" cy="351000"/>
              </a:xfrm>
              <a:custGeom>
                <a:avLst/>
                <a:gdLst/>
                <a:ahLst/>
                <a:rect l="l" t="t" r="r" b="b"/>
                <a:pathLst>
                  <a:path w="651" h="221">
                    <a:moveTo>
                      <a:pt x="650" y="151"/>
                    </a:moveTo>
                    <a:lnTo>
                      <a:pt x="359" y="220"/>
                    </a:lnTo>
                    <a:lnTo>
                      <a:pt x="0" y="63"/>
                    </a:lnTo>
                    <a:lnTo>
                      <a:pt x="283" y="0"/>
                    </a:lnTo>
                    <a:lnTo>
                      <a:pt x="650" y="15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6881400" y="4654440"/>
              <a:ext cx="1136880" cy="1069920"/>
              <a:chOff x="6881400" y="4654440"/>
              <a:chExt cx="1136880" cy="1069920"/>
            </a:xfrm>
          </p:grpSpPr>
          <p:sp>
            <p:nvSpPr>
              <p:cNvPr id="1980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  <a:lnTo>
                      <a:pt x="59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>
                <a:off x="6881040" y="5423040"/>
                <a:ext cx="1089000" cy="301320"/>
              </a:xfrm>
              <a:custGeom>
                <a:avLst/>
                <a:gdLst/>
                <a:ahLst/>
                <a:rect l="l" t="t" r="r" b="b"/>
                <a:pathLst>
                  <a:path w="686" h="190">
                    <a:moveTo>
                      <a:pt x="590" y="0"/>
                    </a:moveTo>
                    <a:lnTo>
                      <a:pt x="685" y="54"/>
                    </a:lnTo>
                    <a:lnTo>
                      <a:pt x="685" y="74"/>
                    </a:lnTo>
                    <a:lnTo>
                      <a:pt x="256" y="189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45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  <a:lnTo>
                      <a:pt x="78" y="425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7316280" y="4654440"/>
                <a:ext cx="702000" cy="676440"/>
              </a:xfrm>
              <a:custGeom>
                <a:avLst/>
                <a:gdLst/>
                <a:ahLst/>
                <a:rect l="l" t="t" r="r" b="b"/>
                <a:pathLst>
                  <a:path w="442" h="426">
                    <a:moveTo>
                      <a:pt x="78" y="425"/>
                    </a:moveTo>
                    <a:lnTo>
                      <a:pt x="0" y="330"/>
                    </a:lnTo>
                    <a:lnTo>
                      <a:pt x="0" y="74"/>
                    </a:lnTo>
                    <a:lnTo>
                      <a:pt x="326" y="0"/>
                    </a:lnTo>
                    <a:lnTo>
                      <a:pt x="441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7662240" y="4834080"/>
                <a:ext cx="228600" cy="742680"/>
              </a:xfrm>
              <a:custGeom>
                <a:avLst/>
                <a:gdLst/>
                <a:ahLst/>
                <a:rect l="l" t="t" r="r" b="b"/>
                <a:pathLst>
                  <a:path w="144" h="468">
                    <a:moveTo>
                      <a:pt x="143" y="467"/>
                    </a:moveTo>
                    <a:lnTo>
                      <a:pt x="143" y="76"/>
                    </a:lnTo>
                    <a:lnTo>
                      <a:pt x="0" y="0"/>
                    </a:lnTo>
                    <a:lnTo>
                      <a:pt x="0" y="378"/>
                    </a:lnTo>
                    <a:lnTo>
                      <a:pt x="143" y="467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7079400" y="5430960"/>
                <a:ext cx="505080" cy="149040"/>
              </a:xfrm>
              <a:custGeom>
                <a:avLst/>
                <a:gdLst/>
                <a:ahLst/>
                <a:rect l="l" t="t" r="r" b="b"/>
                <a:pathLst>
                  <a:path w="318" h="94">
                    <a:moveTo>
                      <a:pt x="317" y="0"/>
                    </a:moveTo>
                    <a:lnTo>
                      <a:pt x="317" y="19"/>
                    </a:lnTo>
                    <a:lnTo>
                      <a:pt x="25" y="93"/>
                    </a:lnTo>
                    <a:lnTo>
                      <a:pt x="0" y="8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>
                <a:off x="6938280" y="4788000"/>
                <a:ext cx="723960" cy="788760"/>
              </a:xfrm>
              <a:custGeom>
                <a:avLst/>
                <a:gdLst/>
                <a:ahLst/>
                <a:rect l="l" t="t" r="r" b="b"/>
                <a:pathLst>
                  <a:path w="456" h="497">
                    <a:moveTo>
                      <a:pt x="0" y="496"/>
                    </a:moveTo>
                    <a:lnTo>
                      <a:pt x="0" y="104"/>
                    </a:lnTo>
                    <a:lnTo>
                      <a:pt x="455" y="0"/>
                    </a:lnTo>
                    <a:lnTo>
                      <a:pt x="455" y="380"/>
                    </a:lnTo>
                    <a:lnTo>
                      <a:pt x="0" y="49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7031880" y="4875120"/>
                <a:ext cx="528840" cy="577800"/>
              </a:xfrm>
              <a:custGeom>
                <a:avLst/>
                <a:gdLst/>
                <a:ahLst/>
                <a:rect l="l" t="t" r="r" b="b"/>
                <a:pathLst>
                  <a:path w="333" h="364">
                    <a:moveTo>
                      <a:pt x="0" y="363"/>
                    </a:moveTo>
                    <a:lnTo>
                      <a:pt x="0" y="78"/>
                    </a:lnTo>
                    <a:lnTo>
                      <a:pt x="332" y="0"/>
                    </a:lnTo>
                    <a:lnTo>
                      <a:pt x="332" y="280"/>
                    </a:lnTo>
                    <a:lnTo>
                      <a:pt x="0" y="363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>
                <a:off x="7073640" y="4913280"/>
                <a:ext cx="466560" cy="488880"/>
              </a:xfrm>
              <a:custGeom>
                <a:avLst/>
                <a:gdLst/>
                <a:ahLst/>
                <a:rect l="l" t="t" r="r" b="b"/>
                <a:pathLst>
                  <a:path w="294" h="308">
                    <a:moveTo>
                      <a:pt x="0" y="307"/>
                    </a:moveTo>
                    <a:lnTo>
                      <a:pt x="0" y="65"/>
                    </a:lnTo>
                    <a:lnTo>
                      <a:pt x="293" y="0"/>
                    </a:lnTo>
                    <a:lnTo>
                      <a:pt x="293" y="238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a9a9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6899040" y="5454720"/>
                <a:ext cx="1049040" cy="231840"/>
              </a:xfrm>
              <a:custGeom>
                <a:avLst/>
                <a:gdLst/>
                <a:ahLst/>
                <a:rect l="l" t="t" r="r" b="b"/>
                <a:pathLst>
                  <a:path w="661" h="146">
                    <a:moveTo>
                      <a:pt x="660" y="35"/>
                    </a:moveTo>
                    <a:lnTo>
                      <a:pt x="244" y="14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7439760" y="5046840"/>
                <a:ext cx="4284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6938640" y="4686480"/>
                <a:ext cx="952560" cy="269640"/>
              </a:xfrm>
              <a:custGeom>
                <a:avLst/>
                <a:gdLst/>
                <a:ahLst/>
                <a:rect l="l" t="t" r="r" b="b"/>
                <a:pathLst>
                  <a:path w="600" h="170">
                    <a:moveTo>
                      <a:pt x="599" y="63"/>
                    </a:moveTo>
                    <a:lnTo>
                      <a:pt x="142" y="169"/>
                    </a:lnTo>
                    <a:lnTo>
                      <a:pt x="0" y="95"/>
                    </a:lnTo>
                    <a:lnTo>
                      <a:pt x="425" y="0"/>
                    </a:lnTo>
                    <a:lnTo>
                      <a:pt x="599" y="6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6311520" y="5510160"/>
              <a:ext cx="1114560" cy="449280"/>
              <a:chOff x="6311520" y="5510160"/>
              <a:chExt cx="1114560" cy="449280"/>
            </a:xfrm>
          </p:grpSpPr>
          <p:sp>
            <p:nvSpPr>
              <p:cNvPr id="1994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  <a:lnTo>
                      <a:pt x="701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6311520" y="5683320"/>
                <a:ext cx="1114560" cy="276120"/>
              </a:xfrm>
              <a:custGeom>
                <a:avLst/>
                <a:gdLst/>
                <a:ahLst/>
                <a:rect l="l" t="t" r="r" b="b"/>
                <a:pathLst>
                  <a:path w="702" h="174">
                    <a:moveTo>
                      <a:pt x="701" y="0"/>
                    </a:moveTo>
                    <a:lnTo>
                      <a:pt x="699" y="20"/>
                    </a:lnTo>
                    <a:lnTo>
                      <a:pt x="149" y="173"/>
                    </a:lnTo>
                    <a:lnTo>
                      <a:pt x="0" y="82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>
                <a:off x="6311520" y="5510160"/>
                <a:ext cx="1108080" cy="411120"/>
              </a:xfrm>
              <a:custGeom>
                <a:avLst/>
                <a:gdLst/>
                <a:ahLst/>
                <a:rect l="l" t="t" r="r" b="b"/>
                <a:pathLst>
                  <a:path w="698" h="259">
                    <a:moveTo>
                      <a:pt x="545" y="0"/>
                    </a:moveTo>
                    <a:lnTo>
                      <a:pt x="0" y="141"/>
                    </a:lnTo>
                    <a:lnTo>
                      <a:pt x="151" y="258"/>
                    </a:lnTo>
                    <a:lnTo>
                      <a:pt x="697" y="110"/>
                    </a:lnTo>
                    <a:lnTo>
                      <a:pt x="5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>
                <a:off x="6683040" y="5575320"/>
                <a:ext cx="652320" cy="187200"/>
              </a:xfrm>
              <a:custGeom>
                <a:avLst/>
                <a:gdLst/>
                <a:ahLst/>
                <a:rect l="l" t="t" r="r" b="b"/>
                <a:pathLst>
                  <a:path w="411" h="118">
                    <a:moveTo>
                      <a:pt x="393" y="0"/>
                    </a:moveTo>
                    <a:lnTo>
                      <a:pt x="410" y="13"/>
                    </a:lnTo>
                    <a:lnTo>
                      <a:pt x="15" y="117"/>
                    </a:lnTo>
                    <a:lnTo>
                      <a:pt x="0" y="104"/>
                    </a:lnTo>
                    <a:lnTo>
                      <a:pt x="39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>
                <a:off x="6643440" y="5643720"/>
                <a:ext cx="637920" cy="230040"/>
              </a:xfrm>
              <a:custGeom>
                <a:avLst/>
                <a:gdLst/>
                <a:ahLst/>
                <a:rect l="l" t="t" r="r" b="b"/>
                <a:pathLst>
                  <a:path w="402" h="145">
                    <a:moveTo>
                      <a:pt x="327" y="0"/>
                    </a:moveTo>
                    <a:lnTo>
                      <a:pt x="401" y="54"/>
                    </a:lnTo>
                    <a:lnTo>
                      <a:pt x="376" y="61"/>
                    </a:lnTo>
                    <a:lnTo>
                      <a:pt x="361" y="52"/>
                    </a:lnTo>
                    <a:lnTo>
                      <a:pt x="344" y="55"/>
                    </a:lnTo>
                    <a:lnTo>
                      <a:pt x="357" y="66"/>
                    </a:lnTo>
                    <a:lnTo>
                      <a:pt x="115" y="131"/>
                    </a:lnTo>
                    <a:lnTo>
                      <a:pt x="101" y="122"/>
                    </a:lnTo>
                    <a:lnTo>
                      <a:pt x="79" y="127"/>
                    </a:lnTo>
                    <a:lnTo>
                      <a:pt x="92" y="139"/>
                    </a:lnTo>
                    <a:lnTo>
                      <a:pt x="71" y="144"/>
                    </a:lnTo>
                    <a:lnTo>
                      <a:pt x="0" y="83"/>
                    </a:lnTo>
                    <a:lnTo>
                      <a:pt x="327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6592680" y="56102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55" y="0"/>
                    </a:moveTo>
                    <a:lnTo>
                      <a:pt x="0" y="13"/>
                    </a:lnTo>
                    <a:lnTo>
                      <a:pt x="26" y="35"/>
                    </a:lnTo>
                    <a:lnTo>
                      <a:pt x="83" y="22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6525720" y="566892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57" y="4"/>
                    </a:moveTo>
                    <a:lnTo>
                      <a:pt x="40" y="9"/>
                    </a:lnTo>
                    <a:lnTo>
                      <a:pt x="28" y="0"/>
                    </a:lnTo>
                    <a:lnTo>
                      <a:pt x="9" y="6"/>
                    </a:lnTo>
                    <a:lnTo>
                      <a:pt x="19" y="15"/>
                    </a:lnTo>
                    <a:lnTo>
                      <a:pt x="0" y="21"/>
                    </a:lnTo>
                    <a:lnTo>
                      <a:pt x="15" y="34"/>
                    </a:lnTo>
                    <a:lnTo>
                      <a:pt x="72" y="19"/>
                    </a:lnTo>
                    <a:lnTo>
                      <a:pt x="57" y="4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6395400" y="5578560"/>
                <a:ext cx="215640" cy="112680"/>
              </a:xfrm>
              <a:custGeom>
                <a:avLst/>
                <a:gdLst/>
                <a:ahLst/>
                <a:rect l="l" t="t" r="r" b="b"/>
                <a:pathLst>
                  <a:path w="136" h="71">
                    <a:moveTo>
                      <a:pt x="64" y="0"/>
                    </a:moveTo>
                    <a:lnTo>
                      <a:pt x="0" y="17"/>
                    </a:lnTo>
                    <a:lnTo>
                      <a:pt x="68" y="70"/>
                    </a:lnTo>
                    <a:lnTo>
                      <a:pt x="135" y="53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2" name=""/>
          <p:cNvSpPr/>
          <p:nvPr/>
        </p:nvSpPr>
        <p:spPr>
          <a:xfrm>
            <a:off x="4152960" y="433548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152960" y="3913200"/>
            <a:ext cx="1066680" cy="6094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2654280" y="6040440"/>
            <a:ext cx="4213080" cy="317160"/>
            <a:chOff x="2654280" y="6040440"/>
            <a:chExt cx="4213080" cy="317160"/>
          </a:xfrm>
        </p:grpSpPr>
        <p:sp>
          <p:nvSpPr>
            <p:cNvPr id="2005" name=""/>
            <p:cNvSpPr/>
            <p:nvPr/>
          </p:nvSpPr>
          <p:spPr>
            <a:xfrm>
              <a:off x="2665080" y="6040440"/>
              <a:ext cx="0" cy="30456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654280" y="6345000"/>
              <a:ext cx="4213080" cy="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6845400" y="6052680"/>
              <a:ext cx="0" cy="304920"/>
            </a:xfrm>
            <a:prstGeom prst="line">
              <a:avLst/>
            </a:prstGeom>
            <a:ln w="5724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8" name=""/>
          <p:cNvSpPr/>
          <p:nvPr/>
        </p:nvSpPr>
        <p:spPr>
          <a:xfrm>
            <a:off x="1433520" y="1027080"/>
            <a:ext cx="2593800" cy="2771640"/>
          </a:xfrm>
          <a:prstGeom prst="rect">
            <a:avLst/>
          </a:prstGeom>
          <a:gradFill rotWithShape="0">
            <a:gsLst>
              <a:gs pos="0">
                <a:srgbClr val="5686dc"/>
              </a:gs>
              <a:gs pos="100000">
                <a:srgbClr val="273d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608120" y="1161720"/>
            <a:ext cx="2284560" cy="36612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595520" y="1648440"/>
            <a:ext cx="2286000" cy="1097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-hö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122800" y="1022400"/>
            <a:ext cx="2594160" cy="2822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284800" y="1155240"/>
            <a:ext cx="228456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284800" y="1654560"/>
            <a:ext cx="2286000" cy="1097640"/>
          </a:xfrm>
          <a:prstGeom prst="rect">
            <a:avLst/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roup1-hez elegendő 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rot="19270200">
            <a:off x="3700440" y="1606320"/>
            <a:ext cx="1682640" cy="414360"/>
          </a:xfrm>
          <a:prstGeom prst="leftArrow">
            <a:avLst>
              <a:gd name="adj1" fmla="val 50000"/>
              <a:gd name="adj2" fmla="val 101520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 rot="2329800">
            <a:off x="3820320" y="1630080"/>
            <a:ext cx="1603440" cy="414360"/>
          </a:xfrm>
          <a:prstGeom prst="leftArrow">
            <a:avLst>
              <a:gd name="adj1" fmla="val 50000"/>
              <a:gd name="adj2" fmla="val 96742"/>
            </a:avLst>
          </a:prstGeom>
          <a:gradFill rotWithShape="0">
            <a:gsLst>
              <a:gs pos="0">
                <a:srgbClr val="273d65"/>
              </a:gs>
              <a:gs pos="100000">
                <a:srgbClr val="5686d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07180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145280" y="6097680"/>
            <a:ext cx="0" cy="55080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587600" y="6648480"/>
            <a:ext cx="617220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300640" y="465444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00200" y="2833200"/>
            <a:ext cx="2284560" cy="366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ájl és Print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303880" y="2850840"/>
            <a:ext cx="2284200" cy="36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604880" y="3308040"/>
            <a:ext cx="2284560" cy="366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ájl és Print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278320" y="586908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4" name=""/>
          <p:cNvGraphicFramePr/>
          <p:nvPr/>
        </p:nvGraphicFramePr>
        <p:xfrm>
          <a:off x="846000" y="3749760"/>
          <a:ext cx="2926080" cy="283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3749760"/>
                    <a:ext cx="292608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6" name=""/>
          <p:cNvSpPr/>
          <p:nvPr/>
        </p:nvSpPr>
        <p:spPr>
          <a:xfrm>
            <a:off x="5305320" y="4229280"/>
            <a:ext cx="998640" cy="0"/>
          </a:xfrm>
          <a:prstGeom prst="line">
            <a:avLst/>
          </a:prstGeom>
          <a:ln w="5724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3094200" y="1062000"/>
            <a:ext cx="2770200" cy="5634000"/>
          </a:xfrm>
          <a:custGeom>
            <a:avLst/>
            <a:gdLst>
              <a:gd name="textAreaLeft" fmla="*/ 135000 w 2770200"/>
              <a:gd name="textAreaRight" fmla="*/ 2635200 w 2770200"/>
              <a:gd name="textAreaTop" fmla="*/ 135000 h 5634000"/>
              <a:gd name="textAreaBottom" fmla="*/ 5499000 h 5634000"/>
            </a:gdLst>
            <a:ahLst/>
            <a:rect l="textAreaLeft" t="textAreaTop" r="textAreaRight" b="textAreaBottom"/>
            <a:pathLst>
              <a:path w="21600" h="43927">
                <a:moveTo>
                  <a:pt x="3600" y="0"/>
                </a:moveTo>
                <a:arcTo wR="3600" hR="3600" stAng="16200000" swAng="-5400000"/>
                <a:lnTo>
                  <a:pt x="0" y="40327"/>
                </a:lnTo>
                <a:arcTo wR="3600" hR="3600" stAng="10800000" swAng="-5400000"/>
                <a:lnTo>
                  <a:pt x="18000" y="439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5f13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6078600" y="1928880"/>
            <a:ext cx="3065400" cy="4141800"/>
          </a:xfrm>
          <a:custGeom>
            <a:avLst/>
            <a:gdLst>
              <a:gd name="textAreaLeft" fmla="*/ 149400 w 3065400"/>
              <a:gd name="textAreaRight" fmla="*/ 2916000 w 3065400"/>
              <a:gd name="textAreaTop" fmla="*/ 149400 h 4141800"/>
              <a:gd name="textAreaBottom" fmla="*/ 3992400 h 4141800"/>
            </a:gdLst>
            <a:ahLst/>
            <a:rect l="textAreaLeft" t="textAreaTop" r="textAreaRight" b="textAreaBottom"/>
            <a:pathLst>
              <a:path w="21600" h="29184">
                <a:moveTo>
                  <a:pt x="3600" y="0"/>
                </a:moveTo>
                <a:arcTo wR="3600" hR="3600" stAng="16200000" swAng="-5400000"/>
                <a:lnTo>
                  <a:pt x="0" y="25584"/>
                </a:lnTo>
                <a:arcTo wR="3600" hR="3600" stAng="10800000" swAng="-5400000"/>
                <a:lnTo>
                  <a:pt x="18000" y="29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249720" y="1906560"/>
            <a:ext cx="2430360" cy="4141800"/>
          </a:xfrm>
          <a:custGeom>
            <a:avLst/>
            <a:gdLst>
              <a:gd name="textAreaLeft" fmla="*/ 118440 w 2430360"/>
              <a:gd name="textAreaRight" fmla="*/ 2311920 w 2430360"/>
              <a:gd name="textAreaTop" fmla="*/ 118440 h 4141800"/>
              <a:gd name="textAreaBottom" fmla="*/ 4023360 h 4141800"/>
            </a:gdLst>
            <a:ahLst/>
            <a:rect l="textAreaLeft" t="textAreaTop" r="textAreaRight" b="textAreaBottom"/>
            <a:pathLst>
              <a:path w="21600" h="36808">
                <a:moveTo>
                  <a:pt x="3600" y="0"/>
                </a:moveTo>
                <a:arcTo wR="3600" hR="3600" stAng="16200000" swAng="-5400000"/>
                <a:lnTo>
                  <a:pt x="0" y="33208"/>
                </a:lnTo>
                <a:arcTo wR="3600" hR="3600" stAng="10800000" swAng="-5400000"/>
                <a:lnTo>
                  <a:pt x="18000" y="36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ba09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316320" y="2946240"/>
            <a:ext cx="771480" cy="2248200"/>
          </a:xfrm>
          <a:custGeom>
            <a:avLst/>
            <a:gdLst>
              <a:gd name="textAreaLeft" fmla="*/ 37440 w 771480"/>
              <a:gd name="textAreaRight" fmla="*/ 734040 w 771480"/>
              <a:gd name="textAreaTop" fmla="*/ 37440 h 2248200"/>
              <a:gd name="textAreaBottom" fmla="*/ 2210760 h 2248200"/>
            </a:gdLst>
            <a:ahLst/>
            <a:rect l="textAreaLeft" t="textAreaTop" r="textAreaRight" b="textAreaBottom"/>
            <a:pathLst>
              <a:path w="21600" h="62926">
                <a:moveTo>
                  <a:pt x="3600" y="0"/>
                </a:moveTo>
                <a:arcTo wR="3600" hR="3600" stAng="16200000" swAng="-5400000"/>
                <a:lnTo>
                  <a:pt x="0" y="59326"/>
                </a:lnTo>
                <a:arcTo wR="3600" hR="3600" stAng="10800000" swAng="-5400000"/>
                <a:lnTo>
                  <a:pt x="18000" y="62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397160" y="1906560"/>
            <a:ext cx="1385640" cy="4141800"/>
          </a:xfrm>
          <a:custGeom>
            <a:avLst/>
            <a:gdLst>
              <a:gd name="textAreaLeft" fmla="*/ 67320 w 1385640"/>
              <a:gd name="textAreaRight" fmla="*/ 1318320 w 1385640"/>
              <a:gd name="textAreaTop" fmla="*/ 67320 h 4141800"/>
              <a:gd name="textAreaBottom" fmla="*/ 4074480 h 4141800"/>
            </a:gdLst>
            <a:ahLst/>
            <a:rect l="textAreaLeft" t="textAreaTop" r="textAreaRight" b="textAreaBottom"/>
            <a:pathLst>
              <a:path w="21600" h="64553">
                <a:moveTo>
                  <a:pt x="3600" y="0"/>
                </a:moveTo>
                <a:arcTo wR="3600" hR="3600" stAng="16200000" swAng="-5400000"/>
                <a:lnTo>
                  <a:pt x="0" y="60953"/>
                </a:lnTo>
                <a:arcTo wR="3600" hR="3600" stAng="10800000" swAng="-5400000"/>
                <a:lnTo>
                  <a:pt x="18000" y="6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c95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6000" y="1082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092600" y="611964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Web farm vagy má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P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apú szolgálta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856560" y="61056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QL, Exchange, F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áj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052640" y="1082520"/>
            <a:ext cx="20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twork Load Bal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553080" y="10825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uste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461760" y="6026040"/>
            <a:ext cx="20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+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mponen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s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279600" y="108252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mponent Load Balancing (COM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350880" y="63151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kalmazás kiszolgáló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V="1">
            <a:off x="2779560" y="3987360"/>
            <a:ext cx="55116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43120" y="3987720"/>
            <a:ext cx="512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365040" y="2844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fürtö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2043" name="Server" descr=""/>
          <p:cNvPicPr/>
          <p:nvPr/>
        </p:nvPicPr>
        <p:blipFill>
          <a:blip r:embed="rId2">
            <a:lum contrast="30000"/>
          </a:blip>
          <a:srcRect l="0" t="0" r="4968" b="1978"/>
          <a:stretch/>
        </p:blipFill>
        <p:spPr>
          <a:xfrm>
            <a:off x="1668600" y="206208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44" name=""/>
          <p:cNvSpPr/>
          <p:nvPr/>
        </p:nvSpPr>
        <p:spPr>
          <a:xfrm>
            <a:off x="1789200" y="2090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5" name="Server" descr=""/>
          <p:cNvPicPr/>
          <p:nvPr/>
        </p:nvPicPr>
        <p:blipFill>
          <a:blip r:embed="rId3">
            <a:lum contrast="30000"/>
          </a:blip>
          <a:srcRect l="0" t="0" r="4968" b="1978"/>
          <a:stretch/>
        </p:blipFill>
        <p:spPr>
          <a:xfrm>
            <a:off x="1940040" y="26305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46" name=""/>
          <p:cNvSpPr/>
          <p:nvPr/>
        </p:nvSpPr>
        <p:spPr>
          <a:xfrm>
            <a:off x="2044800" y="26859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7" name="Server" descr=""/>
          <p:cNvPicPr/>
          <p:nvPr/>
        </p:nvPicPr>
        <p:blipFill>
          <a:blip r:embed="rId4">
            <a:lum contrast="30000"/>
          </a:blip>
          <a:srcRect l="0" t="0" r="4968" b="1978"/>
          <a:stretch/>
        </p:blipFill>
        <p:spPr>
          <a:xfrm>
            <a:off x="1790640" y="498636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048" name=""/>
          <p:cNvSpPr/>
          <p:nvPr/>
        </p:nvSpPr>
        <p:spPr>
          <a:xfrm>
            <a:off x="1746360" y="509112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9" name="Server" descr=""/>
          <p:cNvPicPr/>
          <p:nvPr/>
        </p:nvPicPr>
        <p:blipFill>
          <a:blip r:embed="rId5">
            <a:lum contrast="30000"/>
          </a:blip>
          <a:srcRect l="0" t="0" r="4968" b="1978"/>
          <a:stretch/>
        </p:blipFill>
        <p:spPr>
          <a:xfrm>
            <a:off x="1673280" y="31719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50" name=""/>
          <p:cNvSpPr/>
          <p:nvPr/>
        </p:nvSpPr>
        <p:spPr>
          <a:xfrm>
            <a:off x="1762200" y="32781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rot="5400000">
            <a:off x="1802520" y="4615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2" name="Server" descr=""/>
          <p:cNvPicPr/>
          <p:nvPr/>
        </p:nvPicPr>
        <p:blipFill>
          <a:blip r:embed="rId6">
            <a:lum contrast="30000"/>
          </a:blip>
          <a:srcRect l="0" t="0" r="4968" b="1978"/>
          <a:stretch/>
        </p:blipFill>
        <p:spPr>
          <a:xfrm>
            <a:off x="4121280" y="21495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53" name=""/>
          <p:cNvSpPr/>
          <p:nvPr/>
        </p:nvSpPr>
        <p:spPr>
          <a:xfrm>
            <a:off x="4241880" y="2178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4" name="Server" descr=""/>
          <p:cNvPicPr/>
          <p:nvPr/>
        </p:nvPicPr>
        <p:blipFill>
          <a:blip r:embed="rId7">
            <a:lum contrast="30000"/>
          </a:blip>
          <a:srcRect l="0" t="0" r="4968" b="1978"/>
          <a:stretch/>
        </p:blipFill>
        <p:spPr>
          <a:xfrm>
            <a:off x="4395960" y="285444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55" name=""/>
          <p:cNvSpPr/>
          <p:nvPr/>
        </p:nvSpPr>
        <p:spPr>
          <a:xfrm>
            <a:off x="4516560" y="2882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6" name="Server" descr=""/>
          <p:cNvPicPr/>
          <p:nvPr/>
        </p:nvPicPr>
        <p:blipFill>
          <a:blip r:embed="rId8">
            <a:lum contrast="30000"/>
          </a:blip>
          <a:srcRect l="0" t="0" r="4968" b="1978"/>
          <a:stretch/>
        </p:blipFill>
        <p:spPr>
          <a:xfrm>
            <a:off x="4240080" y="501012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057" name=""/>
          <p:cNvSpPr/>
          <p:nvPr/>
        </p:nvSpPr>
        <p:spPr>
          <a:xfrm>
            <a:off x="4246560" y="51958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rot="5400000">
            <a:off x="4267800" y="455832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9" name="Server" descr=""/>
          <p:cNvPicPr/>
          <p:nvPr/>
        </p:nvPicPr>
        <p:blipFill>
          <a:blip r:embed="rId9">
            <a:lum contrast="30000"/>
          </a:blip>
          <a:srcRect l="0" t="0" r="4968" b="1978"/>
          <a:stretch/>
        </p:blipFill>
        <p:spPr>
          <a:xfrm>
            <a:off x="2046240" y="367200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060" name=""/>
          <p:cNvSpPr/>
          <p:nvPr/>
        </p:nvSpPr>
        <p:spPr>
          <a:xfrm>
            <a:off x="2131920" y="37926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1" name="Server" descr=""/>
          <p:cNvPicPr/>
          <p:nvPr/>
        </p:nvPicPr>
        <p:blipFill>
          <a:blip r:embed="rId10">
            <a:lum contrast="30000"/>
          </a:blip>
          <a:srcRect l="0" t="0" r="4968" b="1978"/>
          <a:stretch/>
        </p:blipFill>
        <p:spPr>
          <a:xfrm>
            <a:off x="4175280" y="36259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62" name=""/>
          <p:cNvSpPr/>
          <p:nvPr/>
        </p:nvSpPr>
        <p:spPr>
          <a:xfrm>
            <a:off x="4295880" y="36543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3" name="Server" descr=""/>
          <p:cNvPicPr/>
          <p:nvPr/>
        </p:nvPicPr>
        <p:blipFill>
          <a:blip r:embed="rId11">
            <a:lum contrast="30000"/>
          </a:blip>
          <a:srcRect l="0" t="0" r="4968" b="1978"/>
          <a:stretch/>
        </p:blipFill>
        <p:spPr>
          <a:xfrm>
            <a:off x="3424320" y="3086280"/>
            <a:ext cx="525240" cy="906120"/>
          </a:xfrm>
          <a:prstGeom prst="rect">
            <a:avLst/>
          </a:prstGeom>
          <a:ln w="0">
            <a:noFill/>
          </a:ln>
        </p:spPr>
      </p:pic>
      <p:sp>
        <p:nvSpPr>
          <p:cNvPr id="2064" name=""/>
          <p:cNvSpPr/>
          <p:nvPr/>
        </p:nvSpPr>
        <p:spPr>
          <a:xfrm>
            <a:off x="3544920" y="311472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5" name="Server" descr=""/>
          <p:cNvPicPr/>
          <p:nvPr/>
        </p:nvPicPr>
        <p:blipFill>
          <a:blip r:embed="rId12">
            <a:lum contrast="30000"/>
          </a:blip>
          <a:srcRect l="0" t="0" r="4968" b="1978"/>
          <a:stretch/>
        </p:blipFill>
        <p:spPr>
          <a:xfrm>
            <a:off x="3424320" y="418320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066" name=""/>
          <p:cNvSpPr/>
          <p:nvPr/>
        </p:nvSpPr>
        <p:spPr>
          <a:xfrm>
            <a:off x="3544920" y="421164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7" name="6500" descr=""/>
          <p:cNvPicPr/>
          <p:nvPr/>
        </p:nvPicPr>
        <p:blipFill>
          <a:blip r:embed="rId13">
            <a:lum contrast="24000"/>
          </a:blip>
          <a:stretch/>
        </p:blipFill>
        <p:spPr>
          <a:xfrm>
            <a:off x="6227640" y="2041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068" name="6500" descr=""/>
          <p:cNvPicPr/>
          <p:nvPr/>
        </p:nvPicPr>
        <p:blipFill>
          <a:blip r:embed="rId14">
            <a:lum contrast="24000"/>
          </a:blip>
          <a:stretch/>
        </p:blipFill>
        <p:spPr>
          <a:xfrm>
            <a:off x="6227640" y="2995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069" name="6500" descr=""/>
          <p:cNvPicPr/>
          <p:nvPr/>
        </p:nvPicPr>
        <p:blipFill>
          <a:blip r:embed="rId15">
            <a:lum contrast="24000"/>
          </a:blip>
          <a:stretch/>
        </p:blipFill>
        <p:spPr>
          <a:xfrm>
            <a:off x="6227640" y="490212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070" name="6500" descr=""/>
          <p:cNvPicPr/>
          <p:nvPr/>
        </p:nvPicPr>
        <p:blipFill>
          <a:blip r:embed="rId16">
            <a:lum contrast="24000"/>
          </a:blip>
          <a:stretch/>
        </p:blipFill>
        <p:spPr>
          <a:xfrm>
            <a:off x="6227640" y="3949560"/>
            <a:ext cx="1258920" cy="1035360"/>
          </a:xfrm>
          <a:prstGeom prst="rect">
            <a:avLst/>
          </a:prstGeom>
          <a:ln w="0">
            <a:noFill/>
          </a:ln>
        </p:spPr>
      </p:pic>
      <p:pic>
        <p:nvPicPr>
          <p:cNvPr id="2071" name="fc_storage" descr=""/>
          <p:cNvPicPr/>
          <p:nvPr/>
        </p:nvPicPr>
        <p:blipFill>
          <a:blip r:embed="rId17">
            <a:lum contrast="24000"/>
          </a:blip>
          <a:stretch/>
        </p:blipFill>
        <p:spPr>
          <a:xfrm>
            <a:off x="7662960" y="380196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2072" name="fc_storage" descr=""/>
          <p:cNvPicPr/>
          <p:nvPr/>
        </p:nvPicPr>
        <p:blipFill>
          <a:blip r:embed="rId18">
            <a:lum contrast="30000"/>
          </a:blip>
          <a:stretch/>
        </p:blipFill>
        <p:spPr>
          <a:xfrm>
            <a:off x="7675560" y="327672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2073" name="COM%20Component" descr=""/>
          <p:cNvPicPr/>
          <p:nvPr/>
        </p:nvPicPr>
        <p:blipFill>
          <a:blip r:embed="rId19"/>
          <a:stretch/>
        </p:blipFill>
        <p:spPr>
          <a:xfrm>
            <a:off x="4657680" y="21765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074" name="COM%20Component" descr=""/>
          <p:cNvPicPr/>
          <p:nvPr/>
        </p:nvPicPr>
        <p:blipFill>
          <a:blip r:embed="rId20"/>
          <a:stretch/>
        </p:blipFill>
        <p:spPr>
          <a:xfrm>
            <a:off x="4932360" y="29019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075" name="COM%20Component" descr=""/>
          <p:cNvPicPr/>
          <p:nvPr/>
        </p:nvPicPr>
        <p:blipFill>
          <a:blip r:embed="rId21"/>
          <a:stretch/>
        </p:blipFill>
        <p:spPr>
          <a:xfrm>
            <a:off x="4710240" y="364320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076" name="COM%20Component" descr=""/>
          <p:cNvPicPr/>
          <p:nvPr/>
        </p:nvPicPr>
        <p:blipFill>
          <a:blip r:embed="rId22"/>
          <a:stretch/>
        </p:blipFill>
        <p:spPr>
          <a:xfrm>
            <a:off x="4762440" y="5022720"/>
            <a:ext cx="790560" cy="704880"/>
          </a:xfrm>
          <a:prstGeom prst="rect">
            <a:avLst/>
          </a:prstGeom>
          <a:ln w="0">
            <a:noFill/>
          </a:ln>
        </p:spPr>
      </p:pic>
      <p:sp>
        <p:nvSpPr>
          <p:cNvPr id="2077" name=""/>
          <p:cNvSpPr/>
          <p:nvPr/>
        </p:nvSpPr>
        <p:spPr>
          <a:xfrm flipV="1">
            <a:off x="5675400" y="3944520"/>
            <a:ext cx="55080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78" name=""/>
          <p:cNvCxnSpPr>
            <a:stCxn id="2067" idx="3"/>
            <a:endCxn id="2069" idx="3"/>
          </p:cNvCxnSpPr>
          <p:nvPr/>
        </p:nvCxnSpPr>
        <p:spPr>
          <a:xfrm>
            <a:off x="7486200" y="2558520"/>
            <a:ext cx="2520" cy="2861280"/>
          </a:xfrm>
          <a:prstGeom prst="bentConnector3">
            <a:avLst>
              <a:gd name="adj1" fmla="val 54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2079" name=""/>
          <p:cNvSpPr/>
          <p:nvPr/>
        </p:nvSpPr>
        <p:spPr>
          <a:xfrm flipV="1">
            <a:off x="7580160" y="383220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7580160" y="436572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453440" y="34830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7453440" y="46134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3978000" y="2779920"/>
            <a:ext cx="235440" cy="417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4038480" y="3444120"/>
            <a:ext cx="419400" cy="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009320" y="3733560"/>
            <a:ext cx="239760" cy="27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 flipV="1">
            <a:off x="3977640" y="3970440"/>
            <a:ext cx="396720" cy="1126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7" name="Drawing1" descr=""/>
          <p:cNvPicPr/>
          <p:nvPr/>
        </p:nvPicPr>
        <p:blipFill>
          <a:blip r:embed="rId23"/>
          <a:stretch/>
        </p:blipFill>
        <p:spPr>
          <a:xfrm>
            <a:off x="182520" y="19652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88" name="Drawing1" descr=""/>
          <p:cNvPicPr/>
          <p:nvPr/>
        </p:nvPicPr>
        <p:blipFill>
          <a:blip r:embed="rId24"/>
          <a:stretch/>
        </p:blipFill>
        <p:spPr>
          <a:xfrm>
            <a:off x="182520" y="254952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89" name="Drawing1" descr=""/>
          <p:cNvPicPr/>
          <p:nvPr/>
        </p:nvPicPr>
        <p:blipFill>
          <a:blip r:embed="rId25"/>
          <a:stretch/>
        </p:blipFill>
        <p:spPr>
          <a:xfrm>
            <a:off x="182520" y="313380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90" name="Drawing1" descr=""/>
          <p:cNvPicPr/>
          <p:nvPr/>
        </p:nvPicPr>
        <p:blipFill>
          <a:blip r:embed="rId26"/>
          <a:stretch/>
        </p:blipFill>
        <p:spPr>
          <a:xfrm>
            <a:off x="182520" y="371628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91" name="Drawing1" descr=""/>
          <p:cNvPicPr/>
          <p:nvPr/>
        </p:nvPicPr>
        <p:blipFill>
          <a:blip r:embed="rId27"/>
          <a:stretch/>
        </p:blipFill>
        <p:spPr>
          <a:xfrm>
            <a:off x="182520" y="430056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92" name="Drawing1" descr=""/>
          <p:cNvPicPr/>
          <p:nvPr/>
        </p:nvPicPr>
        <p:blipFill>
          <a:blip r:embed="rId28"/>
          <a:stretch/>
        </p:blipFill>
        <p:spPr>
          <a:xfrm>
            <a:off x="182520" y="48848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093" name="Drawing1" descr=""/>
          <p:cNvPicPr/>
          <p:nvPr/>
        </p:nvPicPr>
        <p:blipFill>
          <a:blip r:embed="rId29"/>
          <a:stretch/>
        </p:blipFill>
        <p:spPr>
          <a:xfrm>
            <a:off x="182520" y="5467320"/>
            <a:ext cx="544680" cy="593640"/>
          </a:xfrm>
          <a:prstGeom prst="rect">
            <a:avLst/>
          </a:prstGeom>
          <a:ln w="0">
            <a:noFill/>
          </a:ln>
        </p:spPr>
      </p:pic>
      <p:sp>
        <p:nvSpPr>
          <p:cNvPr id="2094" name=""/>
          <p:cNvSpPr/>
          <p:nvPr/>
        </p:nvSpPr>
        <p:spPr>
          <a:xfrm>
            <a:off x="6208560" y="2208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240600" y="3184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222960" y="4106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245280" y="50911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/>
          <p:nvPr/>
        </p:nvSpPr>
        <p:spPr>
          <a:xfrm>
            <a:off x="685800" y="1219320"/>
            <a:ext cx="815328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OM+ Load Balancing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2428920" y="3733920"/>
            <a:ext cx="4047840" cy="1638360"/>
            <a:chOff x="2428920" y="3733920"/>
            <a:chExt cx="4047840" cy="1638360"/>
          </a:xfrm>
        </p:grpSpPr>
        <p:graphicFrame>
          <p:nvGraphicFramePr>
            <p:cNvPr id="2101" name=""/>
            <p:cNvGraphicFramePr/>
            <p:nvPr/>
          </p:nvGraphicFramePr>
          <p:xfrm>
            <a:off x="2428920" y="3733920"/>
            <a:ext cx="4047840" cy="163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28920" y="3733920"/>
                      <a:ext cx="4047840" cy="16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3" name=""/>
            <p:cNvSpPr/>
            <p:nvPr/>
          </p:nvSpPr>
          <p:spPr>
            <a:xfrm>
              <a:off x="3119400" y="39625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Server 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867200" y="39625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Server 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005360" y="39625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Server 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114720" y="48769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3.3.3.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997080" y="487692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3.3.3.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867200" y="48769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3.3.3.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838080" y="4876920"/>
            <a:ext cx="167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ppCenter farm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sing NL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0" name=""/>
          <p:cNvGrpSpPr/>
          <p:nvPr/>
        </p:nvGrpSpPr>
        <p:grpSpPr>
          <a:xfrm>
            <a:off x="3267000" y="5791320"/>
            <a:ext cx="2286000" cy="703440"/>
            <a:chOff x="3267000" y="5791320"/>
            <a:chExt cx="2286000" cy="703440"/>
          </a:xfrm>
        </p:grpSpPr>
        <p:graphicFrame>
          <p:nvGraphicFramePr>
            <p:cNvPr id="2111" name=""/>
            <p:cNvGraphicFramePr/>
            <p:nvPr/>
          </p:nvGraphicFramePr>
          <p:xfrm>
            <a:off x="3419640" y="5791320"/>
            <a:ext cx="2000160" cy="655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19640" y="5791320"/>
                      <a:ext cx="200016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3" name=""/>
            <p:cNvSpPr/>
            <p:nvPr/>
          </p:nvSpPr>
          <p:spPr>
            <a:xfrm>
              <a:off x="3267000" y="62485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1.1.1.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91240" y="624852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2.2.2.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5" name=""/>
          <p:cNvGraphicFramePr/>
          <p:nvPr/>
        </p:nvGraphicFramePr>
        <p:xfrm>
          <a:off x="1752480" y="1828800"/>
          <a:ext cx="5429520" cy="1533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1828800"/>
                    <a:ext cx="542952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7" name=""/>
          <p:cNvSpPr/>
          <p:nvPr/>
        </p:nvSpPr>
        <p:spPr>
          <a:xfrm>
            <a:off x="7162920" y="1752480"/>
            <a:ext cx="181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+ farm using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+ Load Balanc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2782800" y="1933560"/>
            <a:ext cx="3263760" cy="228600"/>
            <a:chOff x="2782800" y="1933560"/>
            <a:chExt cx="3263760" cy="228600"/>
          </a:xfrm>
        </p:grpSpPr>
        <p:sp>
          <p:nvSpPr>
            <p:cNvPr id="2119" name=""/>
            <p:cNvSpPr/>
            <p:nvPr/>
          </p:nvSpPr>
          <p:spPr>
            <a:xfrm>
              <a:off x="5437080" y="1933560"/>
              <a:ext cx="609480" cy="2286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12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559040" y="1933560"/>
              <a:ext cx="609480" cy="2286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90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668400" y="1933560"/>
              <a:ext cx="609480" cy="2286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782800" y="1933560"/>
              <a:ext cx="609480" cy="2286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8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23" name=""/>
          <p:cNvGraphicFramePr/>
          <p:nvPr/>
        </p:nvGraphicFramePr>
        <p:xfrm>
          <a:off x="5397480" y="4876920"/>
          <a:ext cx="779400" cy="105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7480" y="4876920"/>
                    <a:ext cx="7794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5" name=""/>
          <p:cNvGraphicFramePr/>
          <p:nvPr/>
        </p:nvGraphicFramePr>
        <p:xfrm>
          <a:off x="4932360" y="2827440"/>
          <a:ext cx="762120" cy="1111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32360" y="2827440"/>
                    <a:ext cx="7621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7" name=""/>
          <p:cNvGrpSpPr/>
          <p:nvPr/>
        </p:nvGrpSpPr>
        <p:grpSpPr>
          <a:xfrm>
            <a:off x="5351400" y="2874960"/>
            <a:ext cx="762120" cy="1111320"/>
            <a:chOff x="5351400" y="2874960"/>
            <a:chExt cx="762120" cy="1111320"/>
          </a:xfrm>
        </p:grpSpPr>
        <p:graphicFrame>
          <p:nvGraphicFramePr>
            <p:cNvPr id="2128" name=""/>
            <p:cNvGraphicFramePr/>
            <p:nvPr/>
          </p:nvGraphicFramePr>
          <p:xfrm>
            <a:off x="5351400" y="2874960"/>
            <a:ext cx="762120" cy="11113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12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351400" y="2874960"/>
                      <a:ext cx="762120" cy="11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0" name=""/>
            <p:cNvGraphicFramePr/>
            <p:nvPr/>
          </p:nvGraphicFramePr>
          <p:xfrm>
            <a:off x="5624280" y="3355920"/>
            <a:ext cx="198720" cy="243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3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624280" y="3355920"/>
                      <a:ext cx="19872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32" name=""/>
          <p:cNvGraphicFramePr/>
          <p:nvPr/>
        </p:nvGraphicFramePr>
        <p:xfrm>
          <a:off x="5522760" y="4876920"/>
          <a:ext cx="779760" cy="1054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22760" y="4876920"/>
                    <a:ext cx="7797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4" name=""/>
          <p:cNvGraphicFramePr/>
          <p:nvPr/>
        </p:nvGraphicFramePr>
        <p:xfrm>
          <a:off x="4819680" y="2798640"/>
          <a:ext cx="762120" cy="1111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3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19680" y="2798640"/>
                    <a:ext cx="76212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6" name=""/>
          <p:cNvGrpSpPr/>
          <p:nvPr/>
        </p:nvGrpSpPr>
        <p:grpSpPr>
          <a:xfrm>
            <a:off x="5533920" y="2895480"/>
            <a:ext cx="762120" cy="1111320"/>
            <a:chOff x="5533920" y="2895480"/>
            <a:chExt cx="762120" cy="1111320"/>
          </a:xfrm>
        </p:grpSpPr>
        <p:graphicFrame>
          <p:nvGraphicFramePr>
            <p:cNvPr id="2137" name=""/>
            <p:cNvGraphicFramePr/>
            <p:nvPr/>
          </p:nvGraphicFramePr>
          <p:xfrm>
            <a:off x="5533920" y="2895480"/>
            <a:ext cx="762120" cy="11113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13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533920" y="2895480"/>
                      <a:ext cx="762120" cy="11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9" name=""/>
            <p:cNvGraphicFramePr/>
            <p:nvPr/>
          </p:nvGraphicFramePr>
          <p:xfrm>
            <a:off x="5823000" y="3111480"/>
            <a:ext cx="198360" cy="2430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2140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823000" y="3111480"/>
                      <a:ext cx="19836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41" name=""/>
          <p:cNvGraphicFramePr/>
          <p:nvPr/>
        </p:nvGraphicFramePr>
        <p:xfrm>
          <a:off x="3873600" y="5105520"/>
          <a:ext cx="1197000" cy="911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14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873600" y="5105520"/>
                    <a:ext cx="11970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3" name=""/>
          <p:cNvGraphicFramePr/>
          <p:nvPr/>
        </p:nvGraphicFramePr>
        <p:xfrm>
          <a:off x="3841920" y="2871720"/>
          <a:ext cx="1253880" cy="10256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14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841920" y="2871720"/>
                    <a:ext cx="12538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5" name=""/>
          <p:cNvGrpSpPr/>
          <p:nvPr/>
        </p:nvGrpSpPr>
        <p:grpSpPr>
          <a:xfrm>
            <a:off x="4260960" y="2803680"/>
            <a:ext cx="982440" cy="1054080"/>
            <a:chOff x="4260960" y="2803680"/>
            <a:chExt cx="982440" cy="1054080"/>
          </a:xfrm>
        </p:grpSpPr>
        <p:graphicFrame>
          <p:nvGraphicFramePr>
            <p:cNvPr id="2146" name=""/>
            <p:cNvGraphicFramePr/>
            <p:nvPr/>
          </p:nvGraphicFramePr>
          <p:xfrm>
            <a:off x="4260960" y="2803680"/>
            <a:ext cx="982440" cy="10540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2147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4260960" y="2803680"/>
                      <a:ext cx="982440" cy="10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8" name=""/>
            <p:cNvGraphicFramePr/>
            <p:nvPr/>
          </p:nvGraphicFramePr>
          <p:xfrm>
            <a:off x="4930560" y="3329280"/>
            <a:ext cx="198000" cy="24264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149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4930560" y="3329280"/>
                      <a:ext cx="198000" cy="2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50" name=""/>
          <p:cNvSpPr/>
          <p:nvPr/>
        </p:nvSpPr>
        <p:spPr>
          <a:xfrm>
            <a:off x="2790720" y="193356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34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686040" y="19242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7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419800" y="193356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2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419800" y="193356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76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4" name=""/>
          <p:cNvGraphicFramePr/>
          <p:nvPr/>
        </p:nvGraphicFramePr>
        <p:xfrm>
          <a:off x="3949560" y="5105520"/>
          <a:ext cx="831960" cy="85392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155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949560" y="5105520"/>
                    <a:ext cx="831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6" name=""/>
          <p:cNvGraphicFramePr/>
          <p:nvPr/>
        </p:nvGraphicFramePr>
        <p:xfrm>
          <a:off x="3416400" y="2895480"/>
          <a:ext cx="761760" cy="1111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157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3416400" y="2895480"/>
                    <a:ext cx="76176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8" name=""/>
          <p:cNvGrpSpPr/>
          <p:nvPr/>
        </p:nvGrpSpPr>
        <p:grpSpPr>
          <a:xfrm>
            <a:off x="4027320" y="2867040"/>
            <a:ext cx="761760" cy="1168560"/>
            <a:chOff x="4027320" y="2867040"/>
            <a:chExt cx="761760" cy="1168560"/>
          </a:xfrm>
        </p:grpSpPr>
        <p:graphicFrame>
          <p:nvGraphicFramePr>
            <p:cNvPr id="2159" name=""/>
            <p:cNvGraphicFramePr/>
            <p:nvPr/>
          </p:nvGraphicFramePr>
          <p:xfrm>
            <a:off x="4027320" y="2867040"/>
            <a:ext cx="761760" cy="1168560"/>
          </p:xfrm>
          <a:graphic>
            <a:graphicData uri="http://schemas.openxmlformats.org/presentationml/2006/ole">
              <p:oleObj r:id="rId36" spid="">
                <p:embed/>
                <p:pic>
                  <p:nvPicPr>
                    <p:cNvPr id="2160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4027320" y="2867040"/>
                      <a:ext cx="761760" cy="11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1" name=""/>
            <p:cNvGraphicFramePr/>
            <p:nvPr/>
          </p:nvGraphicFramePr>
          <p:xfrm>
            <a:off x="4308120" y="3468600"/>
            <a:ext cx="198360" cy="243000"/>
          </p:xfrm>
          <a:graphic>
            <a:graphicData uri="http://schemas.openxmlformats.org/presentationml/2006/ole">
              <p:oleObj r:id="rId38" spid="">
                <p:embed/>
                <p:pic>
                  <p:nvPicPr>
                    <p:cNvPr id="2162" name="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4308120" y="3468600"/>
                      <a:ext cx="19836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3" name=""/>
          <p:cNvSpPr/>
          <p:nvPr/>
        </p:nvSpPr>
        <p:spPr>
          <a:xfrm>
            <a:off x="3666960" y="19242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62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790720" y="1924200"/>
            <a:ext cx="609840" cy="2286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5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65" name=""/>
          <p:cNvGraphicFramePr/>
          <p:nvPr/>
        </p:nvGraphicFramePr>
        <p:xfrm>
          <a:off x="3900600" y="5116680"/>
          <a:ext cx="788760" cy="79668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2166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3900600" y="5116680"/>
                    <a:ext cx="78876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7" name=""/>
          <p:cNvGraphicFramePr/>
          <p:nvPr/>
        </p:nvGraphicFramePr>
        <p:xfrm>
          <a:off x="2927520" y="2984400"/>
          <a:ext cx="1168200" cy="116856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2168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2927520" y="2984400"/>
                    <a:ext cx="11682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9" name=""/>
          <p:cNvGrpSpPr/>
          <p:nvPr/>
        </p:nvGrpSpPr>
        <p:grpSpPr>
          <a:xfrm>
            <a:off x="3078000" y="2895480"/>
            <a:ext cx="1168560" cy="1168200"/>
            <a:chOff x="3078000" y="2895480"/>
            <a:chExt cx="1168560" cy="1168200"/>
          </a:xfrm>
        </p:grpSpPr>
        <p:graphicFrame>
          <p:nvGraphicFramePr>
            <p:cNvPr id="2170" name=""/>
            <p:cNvGraphicFramePr/>
            <p:nvPr/>
          </p:nvGraphicFramePr>
          <p:xfrm>
            <a:off x="3078000" y="2895480"/>
            <a:ext cx="1168560" cy="116820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2171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3078000" y="2895480"/>
                      <a:ext cx="116856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2" name=""/>
            <p:cNvGraphicFramePr/>
            <p:nvPr/>
          </p:nvGraphicFramePr>
          <p:xfrm>
            <a:off x="3459240" y="3489120"/>
            <a:ext cx="198360" cy="24300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2173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3459240" y="3489120"/>
                      <a:ext cx="19836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CLB 2.0 topológi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2175" name="topology" descr=""/>
          <p:cNvPicPr/>
          <p:nvPr/>
        </p:nvPicPr>
        <p:blipFill>
          <a:blip r:embed="rId2"/>
          <a:stretch/>
        </p:blipFill>
        <p:spPr>
          <a:xfrm>
            <a:off x="2467080" y="1447920"/>
            <a:ext cx="5686200" cy="4357440"/>
          </a:xfrm>
          <a:prstGeom prst="rect">
            <a:avLst/>
          </a:prstGeom>
          <a:ln w="0">
            <a:noFill/>
          </a:ln>
        </p:spPr>
      </p:pic>
      <p:sp>
        <p:nvSpPr>
          <p:cNvPr id="2176" name=""/>
          <p:cNvSpPr/>
          <p:nvPr/>
        </p:nvSpPr>
        <p:spPr>
          <a:xfrm>
            <a:off x="2990880" y="6019920"/>
            <a:ext cx="2114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b 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638680" y="6019920"/>
            <a:ext cx="312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usiness Logic 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53080" y="316080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LB 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ad Balanc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9" name=""/>
          <p:cNvGrpSpPr/>
          <p:nvPr/>
        </p:nvGrpSpPr>
        <p:grpSpPr>
          <a:xfrm>
            <a:off x="685800" y="1143000"/>
            <a:ext cx="8229600" cy="4013280"/>
            <a:chOff x="685800" y="1143000"/>
            <a:chExt cx="8229600" cy="4013280"/>
          </a:xfrm>
        </p:grpSpPr>
        <p:sp>
          <p:nvSpPr>
            <p:cNvPr id="2180" name=""/>
            <p:cNvSpPr/>
            <p:nvPr/>
          </p:nvSpPr>
          <p:spPr>
            <a:xfrm>
              <a:off x="685800" y="515628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85800" y="450864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85800" y="382284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85800" y="312408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85800" y="243828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85800" y="182880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85800" y="1143000"/>
              <a:ext cx="8229600" cy="0"/>
            </a:xfrm>
            <a:prstGeom prst="line">
              <a:avLst/>
            </a:prstGeom>
            <a:ln w="648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7" name=""/>
          <p:cNvSpPr/>
          <p:nvPr/>
        </p:nvSpPr>
        <p:spPr>
          <a:xfrm>
            <a:off x="685800" y="5410080"/>
            <a:ext cx="8229600" cy="381240"/>
          </a:xfrm>
          <a:prstGeom prst="parallelogram">
            <a:avLst>
              <a:gd name="adj" fmla="val -4830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89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87840" y="369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6680" y="2995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01880" y="4354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07000" y="5002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01880" y="1050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5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89280" y="2322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1143000"/>
            <a:ext cx="0" cy="464832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4872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371600" y="228600"/>
            <a:ext cx="69343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cf00"/>
                </a:solidFill>
                <a:latin typeface="Arial"/>
              </a:rPr>
              <a:t>Webes alkalmazás-kiszolgálók teljesítménye:</a:t>
            </a:r>
            <a:br>
              <a:rPr sz="2000"/>
            </a:br>
            <a:r>
              <a:rPr b="1" lang="en-US" sz="2000" spc="-1" strike="noStrike">
                <a:solidFill>
                  <a:srgbClr val="fccf00"/>
                </a:solidFill>
                <a:latin typeface="Arial"/>
              </a:rPr>
              <a:t>UNIX és 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cf00"/>
                </a:solidFill>
                <a:latin typeface="Arial"/>
              </a:rPr>
              <a:t>Forrás: </a:t>
            </a:r>
            <a:r>
              <a:rPr b="1" i="1" lang="en-US" sz="1800" spc="-1" strike="noStrike">
                <a:solidFill>
                  <a:srgbClr val="fccf00"/>
                </a:solidFill>
                <a:latin typeface="Arial"/>
              </a:rPr>
              <a:t>DocuLabs/ZDLabs App Server Shootout 7/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8915400" y="1143000"/>
            <a:ext cx="0" cy="426708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593080" y="1165320"/>
            <a:ext cx="40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namikus lapok másodpercenké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37160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80988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64832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59092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781680" y="5791320"/>
            <a:ext cx="0" cy="304560"/>
          </a:xfrm>
          <a:prstGeom prst="line">
            <a:avLst/>
          </a:prstGeom>
          <a:ln w="9360">
            <a:solidFill>
              <a:srgbClr val="eea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7" name=""/>
          <p:cNvGrpSpPr/>
          <p:nvPr/>
        </p:nvGrpSpPr>
        <p:grpSpPr>
          <a:xfrm>
            <a:off x="482760" y="2743200"/>
            <a:ext cx="6307200" cy="3806640"/>
            <a:chOff x="482760" y="2743200"/>
            <a:chExt cx="6307200" cy="3806640"/>
          </a:xfrm>
        </p:grpSpPr>
        <p:sp>
          <p:nvSpPr>
            <p:cNvPr id="2208" name=""/>
            <p:cNvSpPr/>
            <p:nvPr/>
          </p:nvSpPr>
          <p:spPr>
            <a:xfrm>
              <a:off x="482760" y="5816520"/>
              <a:ext cx="90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htSi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38080" y="5257800"/>
              <a:ext cx="533520" cy="380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9520" y="47466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7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401480" y="5816520"/>
              <a:ext cx="1191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N iPlanet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Netscape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pp Server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828800" y="4724280"/>
              <a:ext cx="533520" cy="914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753920" y="428940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8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46280" y="5816520"/>
              <a:ext cx="131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lueSt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pphireWe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895480" y="4572000"/>
              <a:ext cx="533520" cy="1066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896920" y="41371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4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75040" y="5816520"/>
              <a:ext cx="854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ybase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pp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962520" y="4343400"/>
              <a:ext cx="533160" cy="1308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888000" y="39844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,0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660200" y="589284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N Net-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ynamics 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952880" y="4343400"/>
              <a:ext cx="533520" cy="1295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878720" y="39085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,03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86280" y="581652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gress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ptiv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95880" y="3733920"/>
              <a:ext cx="533520" cy="19047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21720" y="3298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,36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295280" y="2743200"/>
              <a:ext cx="3276720" cy="1066680"/>
            </a:xfrm>
            <a:prstGeom prst="rect">
              <a:avLst/>
            </a:prstGeom>
            <a:gradFill rotWithShape="0">
              <a:gsLst>
                <a:gs pos="0">
                  <a:srgbClr val="75393b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N SPARC/Solar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 SUN alkalmazás-kiszolgáló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 Oracle 8i adatbázis-kiszolgáló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($430,000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7" name=""/>
          <p:cNvGrpSpPr/>
          <p:nvPr/>
        </p:nvGrpSpPr>
        <p:grpSpPr>
          <a:xfrm>
            <a:off x="1295280" y="860400"/>
            <a:ext cx="7620120" cy="5664240"/>
            <a:chOff x="1295280" y="860400"/>
            <a:chExt cx="7620120" cy="5664240"/>
          </a:xfrm>
        </p:grpSpPr>
        <p:sp>
          <p:nvSpPr>
            <p:cNvPr id="2228" name=""/>
            <p:cNvSpPr/>
            <p:nvPr/>
          </p:nvSpPr>
          <p:spPr>
            <a:xfrm>
              <a:off x="6781680" y="579132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crosoft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B/AS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086600" y="3048120"/>
              <a:ext cx="533520" cy="25905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012080" y="2536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,98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848720" y="5791320"/>
              <a:ext cx="106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icrosoft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C++/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SAP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077320" y="1219320"/>
              <a:ext cx="533160" cy="44193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02800" y="8604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,44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295280" y="1600200"/>
              <a:ext cx="3276720" cy="1066680"/>
            </a:xfrm>
            <a:prstGeom prst="rect">
              <a:avLst/>
            </a:prstGeom>
            <a:gradFill rotWithShape="0">
              <a:gsLst>
                <a:gs pos="0">
                  <a:srgbClr val="273d65"/>
                </a:gs>
                <a:gs pos="100000">
                  <a:srgbClr val="5686dc"/>
                </a:gs>
              </a:gsLst>
              <a:lin ang="5400000"/>
            </a:gradFill>
            <a:ln w="9360">
              <a:solidFill>
                <a:srgbClr val="eea5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PAQ Pentium III/Win NT 4 Server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 alkalmazás-kiszolgáló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 SQL Server 7 adatbáz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$170,000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561960" y="70920"/>
            <a:ext cx="8037360" cy="10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000000"/>
                </a:solidFill>
                <a:latin typeface="Arial"/>
              </a:rPr>
              <a:t>Szünet</a:t>
            </a:r>
            <a:endParaRPr b="1" lang="en-US" sz="72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1081080" y="1074600"/>
            <a:ext cx="2044800" cy="5634000"/>
          </a:xfrm>
          <a:custGeom>
            <a:avLst/>
            <a:gdLst>
              <a:gd name="textAreaLeft" fmla="*/ 99720 w 2044800"/>
              <a:gd name="textAreaRight" fmla="*/ 1945080 w 2044800"/>
              <a:gd name="textAreaTop" fmla="*/ 99720 h 5634000"/>
              <a:gd name="textAreaBottom" fmla="*/ 5534280 h 5634000"/>
            </a:gdLst>
            <a:ahLst/>
            <a:rect l="textAreaLeft" t="textAreaTop" r="textAreaRight" b="textAreaBottom"/>
            <a:pathLst>
              <a:path w="21600" h="59507">
                <a:moveTo>
                  <a:pt x="3600" y="0"/>
                </a:moveTo>
                <a:arcTo wR="3600" hR="3600" stAng="16200000" swAng="-5400000"/>
                <a:lnTo>
                  <a:pt x="0" y="55907"/>
                </a:lnTo>
                <a:arcTo wR="3600" hR="3600" stAng="10800000" swAng="-5400000"/>
                <a:lnTo>
                  <a:pt x="18000" y="595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5f13"/>
          </a:solidFill>
          <a:ln w="1260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078600" y="1928880"/>
            <a:ext cx="3065400" cy="4141800"/>
          </a:xfrm>
          <a:custGeom>
            <a:avLst/>
            <a:gdLst>
              <a:gd name="textAreaLeft" fmla="*/ 149400 w 3065400"/>
              <a:gd name="textAreaRight" fmla="*/ 2916000 w 3065400"/>
              <a:gd name="textAreaTop" fmla="*/ 149400 h 4141800"/>
              <a:gd name="textAreaBottom" fmla="*/ 3992400 h 4141800"/>
            </a:gdLst>
            <a:ahLst/>
            <a:rect l="textAreaLeft" t="textAreaTop" r="textAreaRight" b="textAreaBottom"/>
            <a:pathLst>
              <a:path w="21600" h="29184">
                <a:moveTo>
                  <a:pt x="3600" y="0"/>
                </a:moveTo>
                <a:arcTo wR="3600" hR="3600" stAng="16200000" swAng="-5400000"/>
                <a:lnTo>
                  <a:pt x="0" y="25584"/>
                </a:lnTo>
                <a:arcTo wR="3600" hR="3600" stAng="10800000" swAng="-5400000"/>
                <a:lnTo>
                  <a:pt x="18000" y="29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3249720" y="1906560"/>
            <a:ext cx="2430360" cy="4141800"/>
          </a:xfrm>
          <a:custGeom>
            <a:avLst/>
            <a:gdLst>
              <a:gd name="textAreaLeft" fmla="*/ 118440 w 2430360"/>
              <a:gd name="textAreaRight" fmla="*/ 2311920 w 2430360"/>
              <a:gd name="textAreaTop" fmla="*/ 118440 h 4141800"/>
              <a:gd name="textAreaBottom" fmla="*/ 4023360 h 4141800"/>
            </a:gdLst>
            <a:ahLst/>
            <a:rect l="textAreaLeft" t="textAreaTop" r="textAreaRight" b="textAreaBottom"/>
            <a:pathLst>
              <a:path w="21600" h="36808">
                <a:moveTo>
                  <a:pt x="3600" y="0"/>
                </a:moveTo>
                <a:arcTo wR="3600" hR="3600" stAng="16200000" swAng="-5400000"/>
                <a:lnTo>
                  <a:pt x="0" y="33208"/>
                </a:lnTo>
                <a:arcTo wR="3600" hR="3600" stAng="10800000" swAng="-5400000"/>
                <a:lnTo>
                  <a:pt x="18000" y="36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ba09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316320" y="2946240"/>
            <a:ext cx="771480" cy="2248200"/>
          </a:xfrm>
          <a:custGeom>
            <a:avLst/>
            <a:gdLst>
              <a:gd name="textAreaLeft" fmla="*/ 37440 w 771480"/>
              <a:gd name="textAreaRight" fmla="*/ 734040 w 771480"/>
              <a:gd name="textAreaTop" fmla="*/ 37440 h 2248200"/>
              <a:gd name="textAreaBottom" fmla="*/ 2210760 h 2248200"/>
            </a:gdLst>
            <a:ahLst/>
            <a:rect l="textAreaLeft" t="textAreaTop" r="textAreaRight" b="textAreaBottom"/>
            <a:pathLst>
              <a:path w="21600" h="62926">
                <a:moveTo>
                  <a:pt x="3600" y="0"/>
                </a:moveTo>
                <a:arcTo wR="3600" hR="3600" stAng="16200000" swAng="-5400000"/>
                <a:lnTo>
                  <a:pt x="0" y="59326"/>
                </a:lnTo>
                <a:arcTo wR="3600" hR="3600" stAng="10800000" swAng="-5400000"/>
                <a:lnTo>
                  <a:pt x="18000" y="62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9a3d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397160" y="1906560"/>
            <a:ext cx="1385640" cy="4141800"/>
          </a:xfrm>
          <a:custGeom>
            <a:avLst/>
            <a:gdLst>
              <a:gd name="textAreaLeft" fmla="*/ 67320 w 1385640"/>
              <a:gd name="textAreaRight" fmla="*/ 1318320 w 1385640"/>
              <a:gd name="textAreaTop" fmla="*/ 67320 h 4141800"/>
              <a:gd name="textAreaBottom" fmla="*/ 4074480 h 4141800"/>
            </a:gdLst>
            <a:ahLst/>
            <a:rect l="textAreaLeft" t="textAreaTop" r="textAreaRight" b="textAreaBottom"/>
            <a:pathLst>
              <a:path w="21600" h="64553">
                <a:moveTo>
                  <a:pt x="3600" y="0"/>
                </a:moveTo>
                <a:arcTo wR="3600" hR="3600" stAng="16200000" swAng="-5400000"/>
                <a:lnTo>
                  <a:pt x="0" y="60953"/>
                </a:lnTo>
                <a:arcTo wR="3600" hR="3600" stAng="10800000" swAng="-5400000"/>
                <a:lnTo>
                  <a:pt x="18000" y="6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c95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6000" y="10825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094040" y="603108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Web farm vagy má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P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apú szolgálta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856560" y="61056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QL, Exchange, F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áj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052640" y="1082520"/>
            <a:ext cx="20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twork Load Bala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553080" y="10825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uster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655440" y="6026040"/>
            <a:ext cx="20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M+ 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mponen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s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279600" y="108252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mponent Load Balancing (COM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470040" y="63151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Alkalmazás kiszolgáló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V="1">
            <a:off x="2779560" y="3987360"/>
            <a:ext cx="55116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843120" y="3987720"/>
            <a:ext cx="512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365040" y="2844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 fürtözés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2253" name="Server" descr=""/>
          <p:cNvPicPr/>
          <p:nvPr/>
        </p:nvPicPr>
        <p:blipFill>
          <a:blip r:embed="rId2">
            <a:lum contrast="30000"/>
          </a:blip>
          <a:srcRect l="0" t="0" r="4968" b="1978"/>
          <a:stretch/>
        </p:blipFill>
        <p:spPr>
          <a:xfrm>
            <a:off x="1668600" y="206208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54" name=""/>
          <p:cNvSpPr/>
          <p:nvPr/>
        </p:nvSpPr>
        <p:spPr>
          <a:xfrm>
            <a:off x="1789200" y="2090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5" name="Server" descr=""/>
          <p:cNvPicPr/>
          <p:nvPr/>
        </p:nvPicPr>
        <p:blipFill>
          <a:blip r:embed="rId3">
            <a:lum contrast="30000"/>
          </a:blip>
          <a:srcRect l="0" t="0" r="4968" b="1978"/>
          <a:stretch/>
        </p:blipFill>
        <p:spPr>
          <a:xfrm>
            <a:off x="1940040" y="26305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56" name=""/>
          <p:cNvSpPr/>
          <p:nvPr/>
        </p:nvSpPr>
        <p:spPr>
          <a:xfrm>
            <a:off x="2044800" y="26859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7" name="Server" descr=""/>
          <p:cNvPicPr/>
          <p:nvPr/>
        </p:nvPicPr>
        <p:blipFill>
          <a:blip r:embed="rId4">
            <a:lum contrast="30000"/>
          </a:blip>
          <a:srcRect l="0" t="0" r="4968" b="1978"/>
          <a:stretch/>
        </p:blipFill>
        <p:spPr>
          <a:xfrm>
            <a:off x="1790640" y="498636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258" name=""/>
          <p:cNvSpPr/>
          <p:nvPr/>
        </p:nvSpPr>
        <p:spPr>
          <a:xfrm>
            <a:off x="1746360" y="509112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9" name="Server" descr=""/>
          <p:cNvPicPr/>
          <p:nvPr/>
        </p:nvPicPr>
        <p:blipFill>
          <a:blip r:embed="rId5">
            <a:lum contrast="30000"/>
          </a:blip>
          <a:srcRect l="0" t="0" r="4968" b="1978"/>
          <a:stretch/>
        </p:blipFill>
        <p:spPr>
          <a:xfrm>
            <a:off x="1673280" y="31719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60" name=""/>
          <p:cNvSpPr/>
          <p:nvPr/>
        </p:nvSpPr>
        <p:spPr>
          <a:xfrm>
            <a:off x="1762200" y="32781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rot="5400000">
            <a:off x="1802520" y="461556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2" name="Server" descr=""/>
          <p:cNvPicPr/>
          <p:nvPr/>
        </p:nvPicPr>
        <p:blipFill>
          <a:blip r:embed="rId6">
            <a:lum contrast="30000"/>
          </a:blip>
          <a:srcRect l="0" t="0" r="4968" b="1978"/>
          <a:stretch/>
        </p:blipFill>
        <p:spPr>
          <a:xfrm>
            <a:off x="4121280" y="214956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63" name=""/>
          <p:cNvSpPr/>
          <p:nvPr/>
        </p:nvSpPr>
        <p:spPr>
          <a:xfrm>
            <a:off x="4241880" y="2178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Server" descr=""/>
          <p:cNvPicPr/>
          <p:nvPr/>
        </p:nvPicPr>
        <p:blipFill>
          <a:blip r:embed="rId7">
            <a:lum contrast="30000"/>
          </a:blip>
          <a:srcRect l="0" t="0" r="4968" b="1978"/>
          <a:stretch/>
        </p:blipFill>
        <p:spPr>
          <a:xfrm>
            <a:off x="4395960" y="285444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>
            <a:off x="4516560" y="2882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6" name="Server" descr=""/>
          <p:cNvPicPr/>
          <p:nvPr/>
        </p:nvPicPr>
        <p:blipFill>
          <a:blip r:embed="rId8">
            <a:lum contrast="30000"/>
          </a:blip>
          <a:srcRect l="0" t="0" r="4968" b="1978"/>
          <a:stretch/>
        </p:blipFill>
        <p:spPr>
          <a:xfrm>
            <a:off x="4240080" y="501012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267" name=""/>
          <p:cNvSpPr/>
          <p:nvPr/>
        </p:nvSpPr>
        <p:spPr>
          <a:xfrm>
            <a:off x="4246560" y="519588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 rot="5400000">
            <a:off x="4267800" y="4558320"/>
            <a:ext cx="6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9" name="Server" descr=""/>
          <p:cNvPicPr/>
          <p:nvPr/>
        </p:nvPicPr>
        <p:blipFill>
          <a:blip r:embed="rId9">
            <a:lum contrast="30000"/>
          </a:blip>
          <a:srcRect l="0" t="0" r="4968" b="1978"/>
          <a:stretch/>
        </p:blipFill>
        <p:spPr>
          <a:xfrm>
            <a:off x="2046240" y="3672000"/>
            <a:ext cx="525600" cy="906480"/>
          </a:xfrm>
          <a:prstGeom prst="rect">
            <a:avLst/>
          </a:prstGeom>
          <a:ln w="0">
            <a:noFill/>
          </a:ln>
        </p:spPr>
      </p:pic>
      <p:sp>
        <p:nvSpPr>
          <p:cNvPr id="2270" name=""/>
          <p:cNvSpPr/>
          <p:nvPr/>
        </p:nvSpPr>
        <p:spPr>
          <a:xfrm>
            <a:off x="2131920" y="37926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1" name="Server" descr=""/>
          <p:cNvPicPr/>
          <p:nvPr/>
        </p:nvPicPr>
        <p:blipFill>
          <a:blip r:embed="rId10">
            <a:lum contrast="30000"/>
          </a:blip>
          <a:srcRect l="0" t="0" r="4968" b="1978"/>
          <a:stretch/>
        </p:blipFill>
        <p:spPr>
          <a:xfrm>
            <a:off x="4175280" y="362592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72" name=""/>
          <p:cNvSpPr/>
          <p:nvPr/>
        </p:nvSpPr>
        <p:spPr>
          <a:xfrm>
            <a:off x="4295880" y="36543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3" name="Server" descr=""/>
          <p:cNvPicPr/>
          <p:nvPr/>
        </p:nvPicPr>
        <p:blipFill>
          <a:blip r:embed="rId11">
            <a:lum contrast="30000"/>
          </a:blip>
          <a:srcRect l="0" t="0" r="4968" b="1978"/>
          <a:stretch/>
        </p:blipFill>
        <p:spPr>
          <a:xfrm>
            <a:off x="3424320" y="3086280"/>
            <a:ext cx="525240" cy="906120"/>
          </a:xfrm>
          <a:prstGeom prst="rect">
            <a:avLst/>
          </a:prstGeom>
          <a:ln w="0">
            <a:noFill/>
          </a:ln>
        </p:spPr>
      </p:pic>
      <p:sp>
        <p:nvSpPr>
          <p:cNvPr id="2274" name=""/>
          <p:cNvSpPr/>
          <p:nvPr/>
        </p:nvSpPr>
        <p:spPr>
          <a:xfrm>
            <a:off x="3544920" y="311472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Server" descr=""/>
          <p:cNvPicPr/>
          <p:nvPr/>
        </p:nvPicPr>
        <p:blipFill>
          <a:blip r:embed="rId12">
            <a:lum contrast="30000"/>
          </a:blip>
          <a:srcRect l="0" t="0" r="4968" b="1978"/>
          <a:stretch/>
        </p:blipFill>
        <p:spPr>
          <a:xfrm>
            <a:off x="3424320" y="4183200"/>
            <a:ext cx="525240" cy="906480"/>
          </a:xfrm>
          <a:prstGeom prst="rect">
            <a:avLst/>
          </a:prstGeom>
          <a:ln w="0">
            <a:noFill/>
          </a:ln>
        </p:spPr>
      </p:pic>
      <p:sp>
        <p:nvSpPr>
          <p:cNvPr id="2276" name=""/>
          <p:cNvSpPr/>
          <p:nvPr/>
        </p:nvSpPr>
        <p:spPr>
          <a:xfrm>
            <a:off x="3544920" y="4211640"/>
            <a:ext cx="41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7" name="6500" descr=""/>
          <p:cNvPicPr/>
          <p:nvPr/>
        </p:nvPicPr>
        <p:blipFill>
          <a:blip r:embed="rId13">
            <a:lum contrast="24000"/>
          </a:blip>
          <a:stretch/>
        </p:blipFill>
        <p:spPr>
          <a:xfrm>
            <a:off x="6227640" y="2041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278" name="6500" descr=""/>
          <p:cNvPicPr/>
          <p:nvPr/>
        </p:nvPicPr>
        <p:blipFill>
          <a:blip r:embed="rId14">
            <a:lum contrast="24000"/>
          </a:blip>
          <a:stretch/>
        </p:blipFill>
        <p:spPr>
          <a:xfrm>
            <a:off x="6227640" y="299556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279" name="6500" descr=""/>
          <p:cNvPicPr/>
          <p:nvPr/>
        </p:nvPicPr>
        <p:blipFill>
          <a:blip r:embed="rId15">
            <a:lum contrast="24000"/>
          </a:blip>
          <a:stretch/>
        </p:blipFill>
        <p:spPr>
          <a:xfrm>
            <a:off x="6227640" y="4902120"/>
            <a:ext cx="1258920" cy="1035000"/>
          </a:xfrm>
          <a:prstGeom prst="rect">
            <a:avLst/>
          </a:prstGeom>
          <a:ln w="0">
            <a:noFill/>
          </a:ln>
        </p:spPr>
      </p:pic>
      <p:pic>
        <p:nvPicPr>
          <p:cNvPr id="2280" name="6500" descr=""/>
          <p:cNvPicPr/>
          <p:nvPr/>
        </p:nvPicPr>
        <p:blipFill>
          <a:blip r:embed="rId16">
            <a:lum contrast="24000"/>
          </a:blip>
          <a:stretch/>
        </p:blipFill>
        <p:spPr>
          <a:xfrm>
            <a:off x="6227640" y="3949560"/>
            <a:ext cx="1258920" cy="1035360"/>
          </a:xfrm>
          <a:prstGeom prst="rect">
            <a:avLst/>
          </a:prstGeom>
          <a:ln w="0">
            <a:noFill/>
          </a:ln>
        </p:spPr>
      </p:pic>
      <p:pic>
        <p:nvPicPr>
          <p:cNvPr id="2281" name="fc_storage" descr=""/>
          <p:cNvPicPr/>
          <p:nvPr/>
        </p:nvPicPr>
        <p:blipFill>
          <a:blip r:embed="rId17">
            <a:lum contrast="24000"/>
          </a:blip>
          <a:stretch/>
        </p:blipFill>
        <p:spPr>
          <a:xfrm>
            <a:off x="7662960" y="380196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2282" name="fc_storage" descr=""/>
          <p:cNvPicPr/>
          <p:nvPr/>
        </p:nvPicPr>
        <p:blipFill>
          <a:blip r:embed="rId18">
            <a:lum contrast="30000"/>
          </a:blip>
          <a:stretch/>
        </p:blipFill>
        <p:spPr>
          <a:xfrm>
            <a:off x="7675560" y="3276720"/>
            <a:ext cx="1379520" cy="906480"/>
          </a:xfrm>
          <a:prstGeom prst="rect">
            <a:avLst/>
          </a:prstGeom>
          <a:ln w="0">
            <a:noFill/>
          </a:ln>
        </p:spPr>
      </p:pic>
      <p:pic>
        <p:nvPicPr>
          <p:cNvPr id="2283" name="COM%20Component" descr=""/>
          <p:cNvPicPr/>
          <p:nvPr/>
        </p:nvPicPr>
        <p:blipFill>
          <a:blip r:embed="rId19"/>
          <a:stretch/>
        </p:blipFill>
        <p:spPr>
          <a:xfrm>
            <a:off x="4657680" y="21765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284" name="COM%20Component" descr=""/>
          <p:cNvPicPr/>
          <p:nvPr/>
        </p:nvPicPr>
        <p:blipFill>
          <a:blip r:embed="rId20"/>
          <a:stretch/>
        </p:blipFill>
        <p:spPr>
          <a:xfrm>
            <a:off x="4932360" y="290196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285" name="COM%20Component" descr=""/>
          <p:cNvPicPr/>
          <p:nvPr/>
        </p:nvPicPr>
        <p:blipFill>
          <a:blip r:embed="rId21"/>
          <a:stretch/>
        </p:blipFill>
        <p:spPr>
          <a:xfrm>
            <a:off x="4710240" y="364320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2286" name="COM%20Component" descr=""/>
          <p:cNvPicPr/>
          <p:nvPr/>
        </p:nvPicPr>
        <p:blipFill>
          <a:blip r:embed="rId22"/>
          <a:stretch/>
        </p:blipFill>
        <p:spPr>
          <a:xfrm>
            <a:off x="4762440" y="5022720"/>
            <a:ext cx="790560" cy="704880"/>
          </a:xfrm>
          <a:prstGeom prst="rect">
            <a:avLst/>
          </a:prstGeom>
          <a:ln w="0">
            <a:noFill/>
          </a:ln>
        </p:spPr>
      </p:pic>
      <p:sp>
        <p:nvSpPr>
          <p:cNvPr id="2287" name=""/>
          <p:cNvSpPr/>
          <p:nvPr/>
        </p:nvSpPr>
        <p:spPr>
          <a:xfrm flipV="1">
            <a:off x="5675400" y="3944520"/>
            <a:ext cx="55080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8" name=""/>
          <p:cNvCxnSpPr>
            <a:stCxn id="2277" idx="3"/>
            <a:endCxn id="2279" idx="3"/>
          </p:cNvCxnSpPr>
          <p:nvPr/>
        </p:nvCxnSpPr>
        <p:spPr>
          <a:xfrm>
            <a:off x="7486200" y="2558520"/>
            <a:ext cx="2520" cy="2861280"/>
          </a:xfrm>
          <a:prstGeom prst="bentConnector3">
            <a:avLst>
              <a:gd name="adj1" fmla="val 5400000"/>
            </a:avLst>
          </a:prstGeom>
          <a:ln w="38160">
            <a:solidFill>
              <a:srgbClr val="ffffff"/>
            </a:solidFill>
            <a:miter/>
          </a:ln>
        </p:spPr>
      </p:cxnSp>
      <p:sp>
        <p:nvSpPr>
          <p:cNvPr id="2289" name=""/>
          <p:cNvSpPr/>
          <p:nvPr/>
        </p:nvSpPr>
        <p:spPr>
          <a:xfrm flipV="1">
            <a:off x="7580160" y="383220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7580160" y="4365720"/>
            <a:ext cx="1065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7453440" y="34830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7453440" y="4613400"/>
            <a:ext cx="10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3978000" y="2779920"/>
            <a:ext cx="235440" cy="417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 flipV="1">
            <a:off x="4038480" y="3444120"/>
            <a:ext cx="419400" cy="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009320" y="3733560"/>
            <a:ext cx="239760" cy="27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 flipV="1">
            <a:off x="3977640" y="3970440"/>
            <a:ext cx="396720" cy="1126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7" name="Drawing1" descr=""/>
          <p:cNvPicPr/>
          <p:nvPr/>
        </p:nvPicPr>
        <p:blipFill>
          <a:blip r:embed="rId23"/>
          <a:stretch/>
        </p:blipFill>
        <p:spPr>
          <a:xfrm>
            <a:off x="182520" y="19652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298" name="Drawing1" descr=""/>
          <p:cNvPicPr/>
          <p:nvPr/>
        </p:nvPicPr>
        <p:blipFill>
          <a:blip r:embed="rId24"/>
          <a:stretch/>
        </p:blipFill>
        <p:spPr>
          <a:xfrm>
            <a:off x="182520" y="254952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299" name="Drawing1" descr=""/>
          <p:cNvPicPr/>
          <p:nvPr/>
        </p:nvPicPr>
        <p:blipFill>
          <a:blip r:embed="rId25"/>
          <a:stretch/>
        </p:blipFill>
        <p:spPr>
          <a:xfrm>
            <a:off x="182520" y="313380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300" name="Drawing1" descr=""/>
          <p:cNvPicPr/>
          <p:nvPr/>
        </p:nvPicPr>
        <p:blipFill>
          <a:blip r:embed="rId26"/>
          <a:stretch/>
        </p:blipFill>
        <p:spPr>
          <a:xfrm>
            <a:off x="182520" y="371628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301" name="Drawing1" descr=""/>
          <p:cNvPicPr/>
          <p:nvPr/>
        </p:nvPicPr>
        <p:blipFill>
          <a:blip r:embed="rId27"/>
          <a:stretch/>
        </p:blipFill>
        <p:spPr>
          <a:xfrm>
            <a:off x="182520" y="430056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302" name="Drawing1" descr=""/>
          <p:cNvPicPr/>
          <p:nvPr/>
        </p:nvPicPr>
        <p:blipFill>
          <a:blip r:embed="rId28"/>
          <a:stretch/>
        </p:blipFill>
        <p:spPr>
          <a:xfrm>
            <a:off x="182520" y="4884840"/>
            <a:ext cx="544680" cy="593640"/>
          </a:xfrm>
          <a:prstGeom prst="rect">
            <a:avLst/>
          </a:prstGeom>
          <a:ln w="0">
            <a:noFill/>
          </a:ln>
        </p:spPr>
      </p:pic>
      <p:pic>
        <p:nvPicPr>
          <p:cNvPr id="2303" name="Drawing1" descr=""/>
          <p:cNvPicPr/>
          <p:nvPr/>
        </p:nvPicPr>
        <p:blipFill>
          <a:blip r:embed="rId29"/>
          <a:stretch/>
        </p:blipFill>
        <p:spPr>
          <a:xfrm>
            <a:off x="182520" y="5467320"/>
            <a:ext cx="544680" cy="593640"/>
          </a:xfrm>
          <a:prstGeom prst="rect">
            <a:avLst/>
          </a:prstGeom>
          <a:ln w="0">
            <a:noFill/>
          </a:ln>
        </p:spPr>
      </p:pic>
      <p:sp>
        <p:nvSpPr>
          <p:cNvPr id="2304" name=""/>
          <p:cNvSpPr/>
          <p:nvPr/>
        </p:nvSpPr>
        <p:spPr>
          <a:xfrm>
            <a:off x="6208560" y="2208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240600" y="3184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222960" y="4106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245280" y="50911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LBS tulajdonságai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4366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32 gépet tartalmazó farm építhető belő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osztott, minden gépen telepü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 „single point of failur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szűk keresztmetsz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m igényel speciális hardve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incs külön HCL igény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ügyfél egy IP címet haszná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Mire használhatom az NLBS-t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17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P alapú állapotmentes szervizekhez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eb  (IIS, FT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irtual Private Networking (VP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treaming Media (WM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rox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2000 Terminal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Állapottal rendelkező alkalmazások esetén külön konfiguráció szüksé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ulti-homed Web kiszolgálókat is támog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2" name=""/>
          <p:cNvGrpSpPr/>
          <p:nvPr/>
        </p:nvGrpSpPr>
        <p:grpSpPr>
          <a:xfrm>
            <a:off x="1828800" y="4033800"/>
            <a:ext cx="5181480" cy="992160"/>
            <a:chOff x="1828800" y="4033800"/>
            <a:chExt cx="5181480" cy="992160"/>
          </a:xfrm>
        </p:grpSpPr>
        <p:sp>
          <p:nvSpPr>
            <p:cNvPr id="2313" name=""/>
            <p:cNvSpPr/>
            <p:nvPr/>
          </p:nvSpPr>
          <p:spPr>
            <a:xfrm>
              <a:off x="1828800" y="4033800"/>
              <a:ext cx="3505320" cy="990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4" name=""/>
            <p:cNvGrpSpPr/>
            <p:nvPr/>
          </p:nvGrpSpPr>
          <p:grpSpPr>
            <a:xfrm>
              <a:off x="5334120" y="4567320"/>
              <a:ext cx="1676160" cy="458640"/>
              <a:chOff x="5334120" y="4567320"/>
              <a:chExt cx="1676160" cy="458640"/>
            </a:xfrm>
          </p:grpSpPr>
          <p:sp>
            <p:nvSpPr>
              <p:cNvPr id="2315" name=""/>
              <p:cNvSpPr/>
              <p:nvPr/>
            </p:nvSpPr>
            <p:spPr>
              <a:xfrm>
                <a:off x="5334120" y="4567320"/>
                <a:ext cx="167616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946120" y="4657680"/>
                <a:ext cx="60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anklin Gothic Demi"/>
                  </a:rPr>
                  <a:t>AR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7" name=""/>
            <p:cNvSpPr/>
            <p:nvPr/>
          </p:nvSpPr>
          <p:spPr>
            <a:xfrm>
              <a:off x="4128480" y="4410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75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 NLBS felépítése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990720" y="2209680"/>
            <a:ext cx="7772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828800" y="1600200"/>
            <a:ext cx="19051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371600" y="5715000"/>
            <a:ext cx="62485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815480" y="1566720"/>
            <a:ext cx="193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"/>
              </a:rPr>
              <a:t>Windows Sock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Franklin Gothic Demi"/>
              </a:rPr>
              <a:t>pl. kiszolg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Franklin Gothic Demi"/>
              </a:rPr>
              <a:t>alkalma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3" name=""/>
          <p:cNvGrpSpPr/>
          <p:nvPr/>
        </p:nvGrpSpPr>
        <p:grpSpPr>
          <a:xfrm>
            <a:off x="5105520" y="1600200"/>
            <a:ext cx="1904760" cy="838080"/>
            <a:chOff x="5105520" y="1600200"/>
            <a:chExt cx="1904760" cy="838080"/>
          </a:xfrm>
        </p:grpSpPr>
        <p:sp>
          <p:nvSpPr>
            <p:cNvPr id="2324" name=""/>
            <p:cNvSpPr/>
            <p:nvPr/>
          </p:nvSpPr>
          <p:spPr>
            <a:xfrm>
              <a:off x="5105520" y="1600200"/>
              <a:ext cx="1904760" cy="838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366880" y="1752480"/>
              <a:ext cx="13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Net</a:t>
              </a: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BIOS</a:t>
              </a:r>
              <a:br>
                <a:rPr sz="1800"/>
              </a:b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támoga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6" name=""/>
          <p:cNvSpPr/>
          <p:nvPr/>
        </p:nvSpPr>
        <p:spPr>
          <a:xfrm>
            <a:off x="7338600" y="17524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User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7319520" y="22860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Kernel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8" name=""/>
          <p:cNvGrpSpPr/>
          <p:nvPr/>
        </p:nvGrpSpPr>
        <p:grpSpPr>
          <a:xfrm>
            <a:off x="3505320" y="2657520"/>
            <a:ext cx="1828800" cy="380880"/>
            <a:chOff x="3505320" y="2657520"/>
            <a:chExt cx="1828800" cy="380880"/>
          </a:xfrm>
        </p:grpSpPr>
        <p:sp>
          <p:nvSpPr>
            <p:cNvPr id="2329" name=""/>
            <p:cNvSpPr/>
            <p:nvPr/>
          </p:nvSpPr>
          <p:spPr>
            <a:xfrm>
              <a:off x="3505320" y="2657520"/>
              <a:ext cx="18288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969360" y="265752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NetB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1828800" y="3038400"/>
            <a:ext cx="2590920" cy="990720"/>
            <a:chOff x="1828800" y="3038400"/>
            <a:chExt cx="2590920" cy="990720"/>
          </a:xfrm>
        </p:grpSpPr>
        <p:sp>
          <p:nvSpPr>
            <p:cNvPr id="2332" name=""/>
            <p:cNvSpPr/>
            <p:nvPr/>
          </p:nvSpPr>
          <p:spPr>
            <a:xfrm>
              <a:off x="1828800" y="3038400"/>
              <a:ext cx="2590920" cy="990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769480" y="34005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TC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4419720" y="3038400"/>
            <a:ext cx="2590560" cy="990720"/>
            <a:chOff x="4419720" y="3038400"/>
            <a:chExt cx="2590560" cy="990720"/>
          </a:xfrm>
        </p:grpSpPr>
        <p:sp>
          <p:nvSpPr>
            <p:cNvPr id="2335" name=""/>
            <p:cNvSpPr/>
            <p:nvPr/>
          </p:nvSpPr>
          <p:spPr>
            <a:xfrm>
              <a:off x="4419720" y="3038400"/>
              <a:ext cx="2590560" cy="990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468760" y="340056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UD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1828800" y="4334040"/>
            <a:ext cx="1600200" cy="457200"/>
            <a:chOff x="1828800" y="4334040"/>
            <a:chExt cx="1600200" cy="457200"/>
          </a:xfrm>
        </p:grpSpPr>
        <p:sp>
          <p:nvSpPr>
            <p:cNvPr id="2338" name=""/>
            <p:cNvSpPr/>
            <p:nvPr/>
          </p:nvSpPr>
          <p:spPr>
            <a:xfrm>
              <a:off x="1828800" y="4334040"/>
              <a:ext cx="1600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275920" y="4395960"/>
              <a:ext cx="74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IC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5334120" y="4033800"/>
            <a:ext cx="1676160" cy="457200"/>
            <a:chOff x="5334120" y="4033800"/>
            <a:chExt cx="1676160" cy="457200"/>
          </a:xfrm>
        </p:grpSpPr>
        <p:sp>
          <p:nvSpPr>
            <p:cNvPr id="2341" name=""/>
            <p:cNvSpPr/>
            <p:nvPr/>
          </p:nvSpPr>
          <p:spPr>
            <a:xfrm>
              <a:off x="5334120" y="4033800"/>
              <a:ext cx="16761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46760" y="404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Demi"/>
                </a:rPr>
                <a:t>IG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1709280" y="5867280"/>
            <a:ext cx="2779200" cy="457200"/>
            <a:chOff x="1709280" y="5867280"/>
            <a:chExt cx="2779200" cy="457200"/>
          </a:xfrm>
        </p:grpSpPr>
        <p:sp>
          <p:nvSpPr>
            <p:cNvPr id="2344" name=""/>
            <p:cNvSpPr/>
            <p:nvPr/>
          </p:nvSpPr>
          <p:spPr>
            <a:xfrm>
              <a:off x="1828800" y="5867280"/>
              <a:ext cx="252396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709280" y="5943600"/>
              <a:ext cx="27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Hálókártya meghajtó #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6" name=""/>
          <p:cNvSpPr/>
          <p:nvPr/>
        </p:nvSpPr>
        <p:spPr>
          <a:xfrm>
            <a:off x="161640" y="5257800"/>
            <a:ext cx="11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-49320" y="1752480"/>
            <a:ext cx="12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Demi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523880" y="2590920"/>
            <a:ext cx="5791320" cy="297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444560" y="5877000"/>
            <a:ext cx="2779200" cy="457200"/>
            <a:chOff x="4444560" y="5877000"/>
            <a:chExt cx="2779200" cy="457200"/>
          </a:xfrm>
        </p:grpSpPr>
        <p:sp>
          <p:nvSpPr>
            <p:cNvPr id="2350" name=""/>
            <p:cNvSpPr/>
            <p:nvPr/>
          </p:nvSpPr>
          <p:spPr>
            <a:xfrm>
              <a:off x="4567320" y="5877000"/>
              <a:ext cx="252396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444560" y="5938920"/>
              <a:ext cx="27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Hálókártya meghajtó #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1824120" y="5029200"/>
            <a:ext cx="5185080" cy="457200"/>
            <a:chOff x="1824120" y="5029200"/>
            <a:chExt cx="5185080" cy="457200"/>
          </a:xfrm>
        </p:grpSpPr>
        <p:sp>
          <p:nvSpPr>
            <p:cNvPr id="2353" name=""/>
            <p:cNvSpPr/>
            <p:nvPr/>
          </p:nvSpPr>
          <p:spPr>
            <a:xfrm>
              <a:off x="1824120" y="5029200"/>
              <a:ext cx="518508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548160" y="5091120"/>
              <a:ext cx="188136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Franklin Gothic Demi"/>
                </a:rPr>
                <a:t>WLBS meghajt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peciális követelmények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Alkalmazás kiszolgálóval szemben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5440" y="1681200"/>
            <a:ext cx="8415360" cy="313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kálázhatósá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egbízhatóság kategóriá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gas rendelkezésre állás (High Availability, H/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ibatűrés (Fault Tolerant, F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nedzselhetősé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5" name=""/>
          <p:cNvGrpSpPr/>
          <p:nvPr/>
        </p:nvGrpSpPr>
        <p:grpSpPr>
          <a:xfrm>
            <a:off x="7585200" y="2104920"/>
            <a:ext cx="783360" cy="867600"/>
            <a:chOff x="7585200" y="2104920"/>
            <a:chExt cx="783360" cy="867600"/>
          </a:xfrm>
        </p:grpSpPr>
        <p:sp>
          <p:nvSpPr>
            <p:cNvPr id="2356" name=""/>
            <p:cNvSpPr/>
            <p:nvPr/>
          </p:nvSpPr>
          <p:spPr>
            <a:xfrm>
              <a:off x="7742160" y="21049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823520" y="2187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823520" y="2345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823520" y="25038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823520" y="2664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585200" y="29725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7585200" y="541440"/>
            <a:ext cx="783360" cy="867600"/>
            <a:chOff x="7585200" y="541440"/>
            <a:chExt cx="783360" cy="867600"/>
          </a:xfrm>
        </p:grpSpPr>
        <p:sp>
          <p:nvSpPr>
            <p:cNvPr id="2363" name=""/>
            <p:cNvSpPr/>
            <p:nvPr/>
          </p:nvSpPr>
          <p:spPr>
            <a:xfrm>
              <a:off x="7742160" y="5414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823520" y="6242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823520" y="7819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823520" y="940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823520" y="1100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585200" y="14090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7585200" y="5354640"/>
            <a:ext cx="783360" cy="867600"/>
            <a:chOff x="7585200" y="5354640"/>
            <a:chExt cx="783360" cy="867600"/>
          </a:xfrm>
        </p:grpSpPr>
        <p:sp>
          <p:nvSpPr>
            <p:cNvPr id="2370" name=""/>
            <p:cNvSpPr/>
            <p:nvPr/>
          </p:nvSpPr>
          <p:spPr>
            <a:xfrm>
              <a:off x="7742160" y="53546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823520" y="54374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823520" y="55951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823520" y="5753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823520" y="5913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585200" y="62222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7585200" y="3719520"/>
            <a:ext cx="783360" cy="867600"/>
            <a:chOff x="7585200" y="3719520"/>
            <a:chExt cx="783360" cy="867600"/>
          </a:xfrm>
        </p:grpSpPr>
        <p:sp>
          <p:nvSpPr>
            <p:cNvPr id="2377" name=""/>
            <p:cNvSpPr/>
            <p:nvPr/>
          </p:nvSpPr>
          <p:spPr>
            <a:xfrm>
              <a:off x="7742160" y="37195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823520" y="3802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823520" y="3960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23520" y="4118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823520" y="42786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585200" y="45871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581040" y="1905120"/>
            <a:ext cx="607680" cy="469440"/>
            <a:chOff x="581040" y="1905120"/>
            <a:chExt cx="607680" cy="469440"/>
          </a:xfrm>
        </p:grpSpPr>
        <p:sp>
          <p:nvSpPr>
            <p:cNvPr id="2384" name=""/>
            <p:cNvSpPr/>
            <p:nvPr/>
          </p:nvSpPr>
          <p:spPr>
            <a:xfrm>
              <a:off x="673200" y="190512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1040" y="228708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973800" y="233460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09200" y="193788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552600" y="4173480"/>
            <a:ext cx="607680" cy="469440"/>
            <a:chOff x="552600" y="4173480"/>
            <a:chExt cx="607680" cy="469440"/>
          </a:xfrm>
        </p:grpSpPr>
        <p:sp>
          <p:nvSpPr>
            <p:cNvPr id="2389" name=""/>
            <p:cNvSpPr/>
            <p:nvPr/>
          </p:nvSpPr>
          <p:spPr>
            <a:xfrm>
              <a:off x="644760" y="417348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52600" y="455544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945360" y="460296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0760" y="420624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552600" y="3405240"/>
            <a:ext cx="607680" cy="469440"/>
            <a:chOff x="552600" y="3405240"/>
            <a:chExt cx="607680" cy="469440"/>
          </a:xfrm>
        </p:grpSpPr>
        <p:sp>
          <p:nvSpPr>
            <p:cNvPr id="2394" name=""/>
            <p:cNvSpPr/>
            <p:nvPr/>
          </p:nvSpPr>
          <p:spPr>
            <a:xfrm>
              <a:off x="644760" y="340524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52600" y="378720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945360" y="38347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80760" y="343800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552600" y="2651040"/>
            <a:ext cx="607680" cy="479160"/>
            <a:chOff x="552600" y="2651040"/>
            <a:chExt cx="607680" cy="479160"/>
          </a:xfrm>
        </p:grpSpPr>
        <p:sp>
          <p:nvSpPr>
            <p:cNvPr id="2399" name=""/>
            <p:cNvSpPr/>
            <p:nvPr/>
          </p:nvSpPr>
          <p:spPr>
            <a:xfrm>
              <a:off x="644760" y="2651040"/>
              <a:ext cx="434160" cy="3567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52600" y="3040920"/>
              <a:ext cx="607680" cy="892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945360" y="30895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80760" y="2684520"/>
              <a:ext cx="358200" cy="2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3" name=""/>
          <p:cNvSpPr/>
          <p:nvPr/>
        </p:nvSpPr>
        <p:spPr>
          <a:xfrm>
            <a:off x="182520" y="1409760"/>
            <a:ext cx="1371600" cy="37875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89240" y="9043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388920" y="632520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edikált  IP: 1.1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ccf00"/>
                </a:solidFill>
                <a:latin typeface="Arial"/>
              </a:rPr>
              <a:t>Virtuális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357240" y="140580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edikált  IP: 1.1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ccf00"/>
                </a:solidFill>
                <a:latin typeface="Arial"/>
              </a:rPr>
              <a:t>Virtuális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357240" y="300888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edikált  IP: 1.1.1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ccf00"/>
                </a:solidFill>
                <a:latin typeface="Arial"/>
              </a:rPr>
              <a:t>Virtuális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357240" y="464400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edikált  IP: 1.1.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ccf00"/>
                </a:solidFill>
                <a:latin typeface="Arial"/>
              </a:rPr>
              <a:t>Virtuális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1666800" y="939960"/>
            <a:ext cx="5918400" cy="4968720"/>
            <a:chOff x="1666800" y="939960"/>
            <a:chExt cx="5918400" cy="4968720"/>
          </a:xfrm>
        </p:grpSpPr>
        <p:grpSp>
          <p:nvGrpSpPr>
            <p:cNvPr id="2410" name=""/>
            <p:cNvGrpSpPr/>
            <p:nvPr/>
          </p:nvGrpSpPr>
          <p:grpSpPr>
            <a:xfrm>
              <a:off x="1666800" y="939960"/>
              <a:ext cx="5918400" cy="4968720"/>
              <a:chOff x="1666800" y="939960"/>
              <a:chExt cx="5918400" cy="4968720"/>
            </a:xfrm>
          </p:grpSpPr>
          <p:sp>
            <p:nvSpPr>
              <p:cNvPr id="2411" name=""/>
              <p:cNvSpPr/>
              <p:nvPr/>
            </p:nvSpPr>
            <p:spPr>
              <a:xfrm>
                <a:off x="2716200" y="3406680"/>
                <a:ext cx="1843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2" name=""/>
              <p:cNvGrpSpPr/>
              <p:nvPr/>
            </p:nvGrpSpPr>
            <p:grpSpPr>
              <a:xfrm>
                <a:off x="5715720" y="939960"/>
                <a:ext cx="1623960" cy="4968720"/>
                <a:chOff x="5715720" y="939960"/>
                <a:chExt cx="1623960" cy="496872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5752080" y="5595840"/>
                  <a:ext cx="154152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? N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798160" y="939960"/>
                  <a:ext cx="154152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? N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752080" y="2503440"/>
                  <a:ext cx="154152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? N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715720" y="3967200"/>
                  <a:ext cx="15188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00ff00"/>
                      </a:solidFill>
                      <a:latin typeface="Arial"/>
                    </a:rPr>
                    <a:t>Elfogad? Ige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7" name=""/>
              <p:cNvGrpSpPr/>
              <p:nvPr/>
            </p:nvGrpSpPr>
            <p:grpSpPr>
              <a:xfrm>
                <a:off x="1666800" y="1252440"/>
                <a:ext cx="5918400" cy="4500720"/>
                <a:chOff x="1666800" y="1252440"/>
                <a:chExt cx="5918400" cy="4500720"/>
              </a:xfrm>
            </p:grpSpPr>
            <p:grpSp>
              <p:nvGrpSpPr>
                <p:cNvPr id="2418" name=""/>
                <p:cNvGrpSpPr/>
                <p:nvPr/>
              </p:nvGrpSpPr>
              <p:grpSpPr>
                <a:xfrm>
                  <a:off x="1666800" y="1252440"/>
                  <a:ext cx="4156200" cy="4500720"/>
                  <a:chOff x="1666800" y="1252440"/>
                  <a:chExt cx="4156200" cy="4500720"/>
                </a:xfrm>
              </p:grpSpPr>
              <p:sp>
                <p:nvSpPr>
                  <p:cNvPr id="2419" name=""/>
                  <p:cNvSpPr/>
                  <p:nvPr/>
                </p:nvSpPr>
                <p:spPr>
                  <a:xfrm flipV="1">
                    <a:off x="1666800" y="1252440"/>
                    <a:ext cx="4156200" cy="2152800"/>
                  </a:xfrm>
                  <a:prstGeom prst="line">
                    <a:avLst/>
                  </a:prstGeom>
                  <a:ln w="28440">
                    <a:solidFill>
                      <a:srgbClr val="99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 flipV="1">
                    <a:off x="1706400" y="2684520"/>
                    <a:ext cx="4008600" cy="874800"/>
                  </a:xfrm>
                  <a:prstGeom prst="line">
                    <a:avLst/>
                  </a:prstGeom>
                  <a:ln w="28440">
                    <a:solidFill>
                      <a:srgbClr val="99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1706400" y="3754440"/>
                    <a:ext cx="4008600" cy="525600"/>
                  </a:xfrm>
                  <a:prstGeom prst="line">
                    <a:avLst/>
                  </a:prstGeom>
                  <a:ln w="28440">
                    <a:solidFill>
                      <a:srgbClr val="99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1666800" y="3960720"/>
                    <a:ext cx="4048200" cy="1792440"/>
                  </a:xfrm>
                  <a:prstGeom prst="line">
                    <a:avLst/>
                  </a:prstGeom>
                  <a:ln w="28440">
                    <a:solidFill>
                      <a:srgbClr val="9999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23" name=""/>
                <p:cNvSpPr/>
                <p:nvPr/>
              </p:nvSpPr>
              <p:spPr>
                <a:xfrm>
                  <a:off x="5913360" y="4280040"/>
                  <a:ext cx="1671840" cy="0"/>
                </a:xfrm>
                <a:prstGeom prst="line">
                  <a:avLst/>
                </a:prstGeom>
                <a:ln w="28440">
                  <a:solidFill>
                    <a:srgbClr val="99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4" name=""/>
            <p:cNvSpPr/>
            <p:nvPr/>
          </p:nvSpPr>
          <p:spPr>
            <a:xfrm flipH="1" flipV="1">
              <a:off x="1684080" y="3648240"/>
              <a:ext cx="5900760" cy="31248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5" name=""/>
          <p:cNvGrpSpPr/>
          <p:nvPr/>
        </p:nvGrpSpPr>
        <p:grpSpPr>
          <a:xfrm>
            <a:off x="1600200" y="1066320"/>
            <a:ext cx="5997600" cy="5105880"/>
            <a:chOff x="1600200" y="1066320"/>
            <a:chExt cx="5997600" cy="5105880"/>
          </a:xfrm>
        </p:grpSpPr>
        <p:grpSp>
          <p:nvGrpSpPr>
            <p:cNvPr id="2426" name=""/>
            <p:cNvGrpSpPr/>
            <p:nvPr/>
          </p:nvGrpSpPr>
          <p:grpSpPr>
            <a:xfrm>
              <a:off x="1665360" y="1066320"/>
              <a:ext cx="5932440" cy="5105880"/>
              <a:chOff x="1665360" y="1066320"/>
              <a:chExt cx="5932440" cy="5105880"/>
            </a:xfrm>
          </p:grpSpPr>
          <p:grpSp>
            <p:nvGrpSpPr>
              <p:cNvPr id="2427" name=""/>
              <p:cNvGrpSpPr/>
              <p:nvPr/>
            </p:nvGrpSpPr>
            <p:grpSpPr>
              <a:xfrm>
                <a:off x="1665360" y="1066320"/>
                <a:ext cx="5932440" cy="4813920"/>
                <a:chOff x="1665360" y="1066320"/>
                <a:chExt cx="5932440" cy="481392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3808440" y="2014560"/>
                  <a:ext cx="18396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925960" y="1066680"/>
                  <a:ext cx="1671840" cy="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V="1">
                  <a:off x="1665360" y="1066320"/>
                  <a:ext cx="4062240" cy="1047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1679400" y="2327400"/>
                  <a:ext cx="4286160" cy="61092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1692000" y="2525760"/>
                  <a:ext cx="4143600" cy="17193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1706400" y="2732040"/>
                  <a:ext cx="4129200" cy="31482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4" name=""/>
              <p:cNvSpPr/>
              <p:nvPr/>
            </p:nvSpPr>
            <p:spPr>
              <a:xfrm>
                <a:off x="5825160" y="5859360"/>
                <a:ext cx="1541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600" spc="-1" strike="noStrike">
                    <a:solidFill>
                      <a:srgbClr val="ff3300"/>
                    </a:solidFill>
                    <a:latin typeface="Arial"/>
                  </a:rPr>
                  <a:t>Elfogad? N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880960" y="1076400"/>
                <a:ext cx="1518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600" spc="-1" strike="noStrike">
                    <a:solidFill>
                      <a:srgbClr val="00ff00"/>
                    </a:solidFill>
                    <a:latin typeface="Arial"/>
                  </a:rPr>
                  <a:t>Elfogad? Ige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825160" y="2766960"/>
                <a:ext cx="1541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600" spc="-1" strike="noStrike">
                    <a:solidFill>
                      <a:srgbClr val="ff3300"/>
                    </a:solidFill>
                    <a:latin typeface="Arial"/>
                  </a:rPr>
                  <a:t>Elfogad? N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779080" y="4230720"/>
                <a:ext cx="1541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u-HU" sz="1600" spc="-1" strike="noStrike">
                    <a:solidFill>
                      <a:srgbClr val="ff3300"/>
                    </a:solidFill>
                    <a:latin typeface="Arial"/>
                  </a:rPr>
                  <a:t>Elfogad? N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 flipH="1">
              <a:off x="1600200" y="1870200"/>
              <a:ext cx="5665680" cy="45720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Hogy működik ?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észle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363600" y="1235160"/>
            <a:ext cx="8415360" cy="547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gép minden, a virtuális IP címre bejövő forgalmat l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előszűrés vagy ún. dispatch-gé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NLBS nem módosítja az IP csomag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gép önállóan dönt arról, hogy a kérést elfogadja-e vagy s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osztott algoritm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heartbeat </a:t>
            </a:r>
            <a:r>
              <a:rPr b="1" lang="hu-HU" sz="28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segítségével mindig tudnak egymásr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sh algoritmus (Host ID, IP header,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2" name=""/>
          <p:cNvGrpSpPr/>
          <p:nvPr/>
        </p:nvGrpSpPr>
        <p:grpSpPr>
          <a:xfrm>
            <a:off x="7585200" y="2104920"/>
            <a:ext cx="783360" cy="867600"/>
            <a:chOff x="7585200" y="2104920"/>
            <a:chExt cx="783360" cy="867600"/>
          </a:xfrm>
        </p:grpSpPr>
        <p:sp>
          <p:nvSpPr>
            <p:cNvPr id="2443" name=""/>
            <p:cNvSpPr/>
            <p:nvPr/>
          </p:nvSpPr>
          <p:spPr>
            <a:xfrm>
              <a:off x="7742160" y="21049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23520" y="2187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823520" y="2345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823520" y="25038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823520" y="2664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585200" y="29725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7585200" y="541440"/>
            <a:ext cx="783360" cy="867600"/>
            <a:chOff x="7585200" y="541440"/>
            <a:chExt cx="783360" cy="867600"/>
          </a:xfrm>
        </p:grpSpPr>
        <p:sp>
          <p:nvSpPr>
            <p:cNvPr id="2450" name=""/>
            <p:cNvSpPr/>
            <p:nvPr/>
          </p:nvSpPr>
          <p:spPr>
            <a:xfrm>
              <a:off x="7742160" y="5414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823520" y="6242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823520" y="7819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823520" y="940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23520" y="1100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585200" y="14090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7585200" y="5354640"/>
            <a:ext cx="783360" cy="867600"/>
            <a:chOff x="7585200" y="5354640"/>
            <a:chExt cx="783360" cy="867600"/>
          </a:xfrm>
        </p:grpSpPr>
        <p:sp>
          <p:nvSpPr>
            <p:cNvPr id="2457" name=""/>
            <p:cNvSpPr/>
            <p:nvPr/>
          </p:nvSpPr>
          <p:spPr>
            <a:xfrm>
              <a:off x="7742160" y="53546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823520" y="54374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823520" y="55951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823520" y="5753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823520" y="5913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585200" y="62222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585200" y="3719520"/>
            <a:ext cx="783360" cy="867600"/>
            <a:chOff x="7585200" y="3719520"/>
            <a:chExt cx="783360" cy="867600"/>
          </a:xfrm>
        </p:grpSpPr>
        <p:sp>
          <p:nvSpPr>
            <p:cNvPr id="2464" name=""/>
            <p:cNvSpPr/>
            <p:nvPr/>
          </p:nvSpPr>
          <p:spPr>
            <a:xfrm>
              <a:off x="7742160" y="37195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823520" y="3802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823520" y="3960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823520" y="4118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823520" y="42786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585200" y="45871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581040" y="1905120"/>
            <a:ext cx="607680" cy="469440"/>
            <a:chOff x="581040" y="1905120"/>
            <a:chExt cx="607680" cy="469440"/>
          </a:xfrm>
        </p:grpSpPr>
        <p:sp>
          <p:nvSpPr>
            <p:cNvPr id="2471" name=""/>
            <p:cNvSpPr/>
            <p:nvPr/>
          </p:nvSpPr>
          <p:spPr>
            <a:xfrm>
              <a:off x="673200" y="190512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81040" y="228708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973800" y="233460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09200" y="193788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552600" y="4173480"/>
            <a:ext cx="607680" cy="469440"/>
            <a:chOff x="552600" y="4173480"/>
            <a:chExt cx="607680" cy="469440"/>
          </a:xfrm>
        </p:grpSpPr>
        <p:sp>
          <p:nvSpPr>
            <p:cNvPr id="2476" name=""/>
            <p:cNvSpPr/>
            <p:nvPr/>
          </p:nvSpPr>
          <p:spPr>
            <a:xfrm>
              <a:off x="644760" y="417348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52600" y="455544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945360" y="460296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80760" y="420624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0" name=""/>
          <p:cNvGrpSpPr/>
          <p:nvPr/>
        </p:nvGrpSpPr>
        <p:grpSpPr>
          <a:xfrm>
            <a:off x="552600" y="3405240"/>
            <a:ext cx="607680" cy="469440"/>
            <a:chOff x="552600" y="3405240"/>
            <a:chExt cx="607680" cy="469440"/>
          </a:xfrm>
        </p:grpSpPr>
        <p:sp>
          <p:nvSpPr>
            <p:cNvPr id="2481" name=""/>
            <p:cNvSpPr/>
            <p:nvPr/>
          </p:nvSpPr>
          <p:spPr>
            <a:xfrm>
              <a:off x="644760" y="340524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52600" y="378720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945360" y="38347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80760" y="343800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552600" y="2651040"/>
            <a:ext cx="607680" cy="479160"/>
            <a:chOff x="552600" y="2651040"/>
            <a:chExt cx="607680" cy="479160"/>
          </a:xfrm>
        </p:grpSpPr>
        <p:sp>
          <p:nvSpPr>
            <p:cNvPr id="2486" name=""/>
            <p:cNvSpPr/>
            <p:nvPr/>
          </p:nvSpPr>
          <p:spPr>
            <a:xfrm>
              <a:off x="644760" y="2651040"/>
              <a:ext cx="434160" cy="3567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52600" y="3040920"/>
              <a:ext cx="607680" cy="892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945360" y="30895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80760" y="2684520"/>
              <a:ext cx="358200" cy="2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0" name=""/>
          <p:cNvSpPr/>
          <p:nvPr/>
        </p:nvSpPr>
        <p:spPr>
          <a:xfrm>
            <a:off x="182520" y="1409760"/>
            <a:ext cx="1371600" cy="37875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74840" y="9043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1666800" y="939960"/>
            <a:ext cx="5918400" cy="24652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1706400" y="2374920"/>
            <a:ext cx="5878800" cy="11844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666800" y="3960720"/>
            <a:ext cx="5918400" cy="184464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944640" y="5287680"/>
            <a:ext cx="4586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eartb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ásodpercenként egysz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bejövő forgalommal azonos hálókárty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706400" y="3754440"/>
            <a:ext cx="5878800" cy="4525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7319880" y="1101600"/>
            <a:ext cx="0" cy="46515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8213040" y="939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8213040" y="2502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8213040" y="41554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8213040" y="580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 rot="16200000">
            <a:off x="6551280" y="3205800"/>
            <a:ext cx="1181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eartb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 flipH="1">
            <a:off x="7319520" y="383544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H="1">
            <a:off x="7318080" y="553248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H="1">
            <a:off x="7310160" y="268452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7338600" y="130644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NLBS hibatűrés I.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8" name=""/>
          <p:cNvGrpSpPr/>
          <p:nvPr/>
        </p:nvGrpSpPr>
        <p:grpSpPr>
          <a:xfrm>
            <a:off x="7585200" y="2104920"/>
            <a:ext cx="783360" cy="867600"/>
            <a:chOff x="7585200" y="2104920"/>
            <a:chExt cx="783360" cy="867600"/>
          </a:xfrm>
        </p:grpSpPr>
        <p:sp>
          <p:nvSpPr>
            <p:cNvPr id="2509" name=""/>
            <p:cNvSpPr/>
            <p:nvPr/>
          </p:nvSpPr>
          <p:spPr>
            <a:xfrm>
              <a:off x="7742160" y="21049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823520" y="2187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823520" y="2345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823520" y="25038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823520" y="2664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585200" y="29725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5" name=""/>
          <p:cNvGrpSpPr/>
          <p:nvPr/>
        </p:nvGrpSpPr>
        <p:grpSpPr>
          <a:xfrm>
            <a:off x="7585200" y="541440"/>
            <a:ext cx="783360" cy="867600"/>
            <a:chOff x="7585200" y="541440"/>
            <a:chExt cx="783360" cy="867600"/>
          </a:xfrm>
        </p:grpSpPr>
        <p:sp>
          <p:nvSpPr>
            <p:cNvPr id="2516" name=""/>
            <p:cNvSpPr/>
            <p:nvPr/>
          </p:nvSpPr>
          <p:spPr>
            <a:xfrm>
              <a:off x="7742160" y="5414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823520" y="6242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823520" y="7819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823520" y="940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823520" y="1100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585200" y="14090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2" name=""/>
          <p:cNvGrpSpPr/>
          <p:nvPr/>
        </p:nvGrpSpPr>
        <p:grpSpPr>
          <a:xfrm>
            <a:off x="7585200" y="5354640"/>
            <a:ext cx="783360" cy="867600"/>
            <a:chOff x="7585200" y="5354640"/>
            <a:chExt cx="783360" cy="867600"/>
          </a:xfrm>
        </p:grpSpPr>
        <p:sp>
          <p:nvSpPr>
            <p:cNvPr id="2523" name=""/>
            <p:cNvSpPr/>
            <p:nvPr/>
          </p:nvSpPr>
          <p:spPr>
            <a:xfrm>
              <a:off x="7742160" y="53546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823520" y="54374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823520" y="55951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823520" y="5753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823520" y="5913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585200" y="62222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9" name=""/>
          <p:cNvGrpSpPr/>
          <p:nvPr/>
        </p:nvGrpSpPr>
        <p:grpSpPr>
          <a:xfrm>
            <a:off x="7585200" y="3719520"/>
            <a:ext cx="783360" cy="867600"/>
            <a:chOff x="7585200" y="3719520"/>
            <a:chExt cx="783360" cy="867600"/>
          </a:xfrm>
        </p:grpSpPr>
        <p:sp>
          <p:nvSpPr>
            <p:cNvPr id="2530" name=""/>
            <p:cNvSpPr/>
            <p:nvPr/>
          </p:nvSpPr>
          <p:spPr>
            <a:xfrm>
              <a:off x="7742160" y="37195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823520" y="3802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823520" y="3960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823520" y="4118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823520" y="42786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585200" y="45871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581040" y="1905120"/>
            <a:ext cx="607680" cy="469440"/>
            <a:chOff x="581040" y="1905120"/>
            <a:chExt cx="607680" cy="469440"/>
          </a:xfrm>
        </p:grpSpPr>
        <p:sp>
          <p:nvSpPr>
            <p:cNvPr id="2537" name=""/>
            <p:cNvSpPr/>
            <p:nvPr/>
          </p:nvSpPr>
          <p:spPr>
            <a:xfrm>
              <a:off x="673200" y="190512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81040" y="228708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973800" y="233460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09200" y="193788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1" name=""/>
          <p:cNvGrpSpPr/>
          <p:nvPr/>
        </p:nvGrpSpPr>
        <p:grpSpPr>
          <a:xfrm>
            <a:off x="552600" y="4173480"/>
            <a:ext cx="607680" cy="469440"/>
            <a:chOff x="552600" y="4173480"/>
            <a:chExt cx="607680" cy="469440"/>
          </a:xfrm>
        </p:grpSpPr>
        <p:sp>
          <p:nvSpPr>
            <p:cNvPr id="2542" name=""/>
            <p:cNvSpPr/>
            <p:nvPr/>
          </p:nvSpPr>
          <p:spPr>
            <a:xfrm>
              <a:off x="644760" y="417348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52600" y="455544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945360" y="460296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80760" y="420624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552600" y="3405240"/>
            <a:ext cx="607680" cy="469440"/>
            <a:chOff x="552600" y="3405240"/>
            <a:chExt cx="607680" cy="469440"/>
          </a:xfrm>
        </p:grpSpPr>
        <p:sp>
          <p:nvSpPr>
            <p:cNvPr id="2547" name=""/>
            <p:cNvSpPr/>
            <p:nvPr/>
          </p:nvSpPr>
          <p:spPr>
            <a:xfrm>
              <a:off x="644760" y="340524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52600" y="378720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945360" y="38347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80760" y="343800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552600" y="2651040"/>
            <a:ext cx="607680" cy="479160"/>
            <a:chOff x="552600" y="2651040"/>
            <a:chExt cx="607680" cy="479160"/>
          </a:xfrm>
        </p:grpSpPr>
        <p:sp>
          <p:nvSpPr>
            <p:cNvPr id="2552" name=""/>
            <p:cNvSpPr/>
            <p:nvPr/>
          </p:nvSpPr>
          <p:spPr>
            <a:xfrm>
              <a:off x="644760" y="2651040"/>
              <a:ext cx="434160" cy="3567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52600" y="3040920"/>
              <a:ext cx="607680" cy="892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945360" y="30895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80760" y="2684520"/>
              <a:ext cx="358200" cy="2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6" name=""/>
          <p:cNvSpPr/>
          <p:nvPr/>
        </p:nvSpPr>
        <p:spPr>
          <a:xfrm>
            <a:off x="182520" y="1409760"/>
            <a:ext cx="1371600" cy="37875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4840" y="9043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1666800" y="939960"/>
            <a:ext cx="5918400" cy="24652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1706400" y="2374920"/>
            <a:ext cx="5878800" cy="11844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666800" y="3960720"/>
            <a:ext cx="5680080" cy="184464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944640" y="5397120"/>
            <a:ext cx="57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 hiba va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ásodperc alatt kiderü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ovább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ásodperc az új konfiguráció kialakít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vergenc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346880" y="3559320"/>
            <a:ext cx="1155600" cy="1204920"/>
          </a:xfrm>
          <a:prstGeom prst="flowChartSummingJunction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859040" y="3906720"/>
            <a:ext cx="5487840" cy="1689120"/>
          </a:xfrm>
          <a:prstGeom prst="line">
            <a:avLst/>
          </a:prstGeom>
          <a:ln w="28440">
            <a:solidFill>
              <a:srgbClr val="99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1706400" y="2651040"/>
            <a:ext cx="5878800" cy="1014480"/>
          </a:xfrm>
          <a:prstGeom prst="line">
            <a:avLst/>
          </a:prstGeom>
          <a:ln w="28440">
            <a:solidFill>
              <a:srgbClr val="99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V="1">
            <a:off x="1666800" y="1409400"/>
            <a:ext cx="5680080" cy="2028600"/>
          </a:xfrm>
          <a:prstGeom prst="line">
            <a:avLst/>
          </a:prstGeom>
          <a:ln w="28440">
            <a:solidFill>
              <a:srgbClr val="99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8213040" y="939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8213040" y="2502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8213040" y="580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319880" y="1101600"/>
            <a:ext cx="0" cy="46515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 flipH="1" rot="16200000">
            <a:off x="6550560" y="3219120"/>
            <a:ext cx="1181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eartbe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H="1">
            <a:off x="7346520" y="544680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7318080" y="287028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346520" y="1319040"/>
            <a:ext cx="2667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NLBS hibatűrés II.</a:t>
            </a: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Részlet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152280" y="1055520"/>
            <a:ext cx="8839440" cy="5368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megadott számú heartbeat üzenet hiányzik, vagy nem konzisztens, akkor megkezdődik a </a:t>
            </a:r>
            <a:r>
              <a:rPr b="1" lang="hu-HU" sz="2800" spc="-1" strike="noStrike">
                <a:solidFill>
                  <a:srgbClr val="ff6600"/>
                </a:solidFill>
                <a:latin typeface="Arial"/>
              </a:rPr>
              <a:t>konvergen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onvergencia egy olyan mechanizmus, melynek során a tagok közös döntésre jutnak a farm állapotáró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farm ez idő alatt folyamatosan működi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konvergencia akkor ér véget h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en gép konzisztens információt cserél ki egymás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egendő mennyiségű státusz üzenetet cseréltek a gép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ktív TCP kapcsolatokat ez esetleges változás nem érinti csak az újakra vonatkozi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7" name=""/>
          <p:cNvGrpSpPr/>
          <p:nvPr/>
        </p:nvGrpSpPr>
        <p:grpSpPr>
          <a:xfrm>
            <a:off x="7585200" y="2104920"/>
            <a:ext cx="783360" cy="867600"/>
            <a:chOff x="7585200" y="2104920"/>
            <a:chExt cx="783360" cy="867600"/>
          </a:xfrm>
        </p:grpSpPr>
        <p:sp>
          <p:nvSpPr>
            <p:cNvPr id="2578" name=""/>
            <p:cNvSpPr/>
            <p:nvPr/>
          </p:nvSpPr>
          <p:spPr>
            <a:xfrm>
              <a:off x="7742160" y="21049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823520" y="2187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823520" y="2345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823520" y="25038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823520" y="2664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585200" y="29725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585200" y="541440"/>
            <a:ext cx="783360" cy="867600"/>
            <a:chOff x="7585200" y="541440"/>
            <a:chExt cx="783360" cy="867600"/>
          </a:xfrm>
        </p:grpSpPr>
        <p:sp>
          <p:nvSpPr>
            <p:cNvPr id="2585" name=""/>
            <p:cNvSpPr/>
            <p:nvPr/>
          </p:nvSpPr>
          <p:spPr>
            <a:xfrm>
              <a:off x="7742160" y="5414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823520" y="6242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823520" y="7819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823520" y="940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823520" y="1100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85200" y="14090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7585200" y="5354640"/>
            <a:ext cx="783360" cy="867600"/>
            <a:chOff x="7585200" y="5354640"/>
            <a:chExt cx="783360" cy="867600"/>
          </a:xfrm>
        </p:grpSpPr>
        <p:sp>
          <p:nvSpPr>
            <p:cNvPr id="2592" name=""/>
            <p:cNvSpPr/>
            <p:nvPr/>
          </p:nvSpPr>
          <p:spPr>
            <a:xfrm>
              <a:off x="7742160" y="535464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823520" y="543744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823520" y="55951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823520" y="57535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823520" y="59137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585200" y="622224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8" name=""/>
          <p:cNvGrpSpPr/>
          <p:nvPr/>
        </p:nvGrpSpPr>
        <p:grpSpPr>
          <a:xfrm>
            <a:off x="7585200" y="3719520"/>
            <a:ext cx="783360" cy="867600"/>
            <a:chOff x="7585200" y="3719520"/>
            <a:chExt cx="783360" cy="867600"/>
          </a:xfrm>
        </p:grpSpPr>
        <p:sp>
          <p:nvSpPr>
            <p:cNvPr id="2599" name=""/>
            <p:cNvSpPr/>
            <p:nvPr/>
          </p:nvSpPr>
          <p:spPr>
            <a:xfrm>
              <a:off x="7742160" y="3719520"/>
              <a:ext cx="470160" cy="867600"/>
            </a:xfrm>
            <a:prstGeom prst="rect">
              <a:avLst/>
            </a:prstGeom>
            <a:gradFill rotWithShape="0">
              <a:gsLst>
                <a:gs pos="0">
                  <a:srgbClr val="6d4c2e"/>
                </a:gs>
                <a:gs pos="100000">
                  <a:srgbClr val="eea56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823520" y="380232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823520" y="39600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823520" y="41184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823520" y="4278600"/>
              <a:ext cx="33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585200" y="4587120"/>
              <a:ext cx="78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581040" y="1905120"/>
            <a:ext cx="607680" cy="469440"/>
            <a:chOff x="581040" y="1905120"/>
            <a:chExt cx="607680" cy="469440"/>
          </a:xfrm>
        </p:grpSpPr>
        <p:sp>
          <p:nvSpPr>
            <p:cNvPr id="2606" name=""/>
            <p:cNvSpPr/>
            <p:nvPr/>
          </p:nvSpPr>
          <p:spPr>
            <a:xfrm>
              <a:off x="673200" y="190512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81040" y="228708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973800" y="233460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09200" y="193788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0" name=""/>
          <p:cNvGrpSpPr/>
          <p:nvPr/>
        </p:nvGrpSpPr>
        <p:grpSpPr>
          <a:xfrm>
            <a:off x="552600" y="4173480"/>
            <a:ext cx="607680" cy="469440"/>
            <a:chOff x="552600" y="4173480"/>
            <a:chExt cx="607680" cy="469440"/>
          </a:xfrm>
        </p:grpSpPr>
        <p:sp>
          <p:nvSpPr>
            <p:cNvPr id="2611" name=""/>
            <p:cNvSpPr/>
            <p:nvPr/>
          </p:nvSpPr>
          <p:spPr>
            <a:xfrm>
              <a:off x="644760" y="4173480"/>
              <a:ext cx="434160" cy="3495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52600" y="4555440"/>
              <a:ext cx="607680" cy="874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945360" y="460296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80760" y="4206240"/>
              <a:ext cx="358200" cy="28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552600" y="3405240"/>
            <a:ext cx="607680" cy="469440"/>
            <a:chOff x="552600" y="3405240"/>
            <a:chExt cx="607680" cy="469440"/>
          </a:xfrm>
        </p:grpSpPr>
        <p:sp>
          <p:nvSpPr>
            <p:cNvPr id="2616" name=""/>
            <p:cNvSpPr/>
            <p:nvPr/>
          </p:nvSpPr>
          <p:spPr>
            <a:xfrm>
              <a:off x="644760" y="3405240"/>
              <a:ext cx="434160" cy="34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52600" y="3787200"/>
              <a:ext cx="607680" cy="87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945360" y="38347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0760" y="3438000"/>
              <a:ext cx="358200" cy="2818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552600" y="2651040"/>
            <a:ext cx="607680" cy="479160"/>
            <a:chOff x="552600" y="2651040"/>
            <a:chExt cx="607680" cy="479160"/>
          </a:xfrm>
        </p:grpSpPr>
        <p:sp>
          <p:nvSpPr>
            <p:cNvPr id="2621" name=""/>
            <p:cNvSpPr/>
            <p:nvPr/>
          </p:nvSpPr>
          <p:spPr>
            <a:xfrm>
              <a:off x="644760" y="2651040"/>
              <a:ext cx="434160" cy="35676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52600" y="3040920"/>
              <a:ext cx="607680" cy="89280"/>
            </a:xfrm>
            <a:prstGeom prst="rect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945360" y="3089520"/>
              <a:ext cx="18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0760" y="2684520"/>
              <a:ext cx="358200" cy="2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5" name=""/>
          <p:cNvSpPr/>
          <p:nvPr/>
        </p:nvSpPr>
        <p:spPr>
          <a:xfrm>
            <a:off x="182520" y="1409760"/>
            <a:ext cx="1371600" cy="37875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74840" y="90432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6356880" y="6223680"/>
            <a:ext cx="1973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di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á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tu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i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6356880" y="1405800"/>
            <a:ext cx="1973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di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á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tu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i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356880" y="3008880"/>
            <a:ext cx="1973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di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ál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: 1.1.1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tu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i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357240" y="4644000"/>
            <a:ext cx="1972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di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á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IP: 1.1.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tu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áli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P: 1.1.1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1" name=""/>
          <p:cNvGrpSpPr/>
          <p:nvPr/>
        </p:nvGrpSpPr>
        <p:grpSpPr>
          <a:xfrm>
            <a:off x="1666800" y="1252440"/>
            <a:ext cx="4156200" cy="4500720"/>
            <a:chOff x="1666800" y="1252440"/>
            <a:chExt cx="4156200" cy="4500720"/>
          </a:xfrm>
        </p:grpSpPr>
        <p:sp>
          <p:nvSpPr>
            <p:cNvPr id="2632" name=""/>
            <p:cNvSpPr/>
            <p:nvPr/>
          </p:nvSpPr>
          <p:spPr>
            <a:xfrm>
              <a:off x="1706400" y="3754440"/>
              <a:ext cx="4008600" cy="5256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3" name=""/>
            <p:cNvGrpSpPr/>
            <p:nvPr/>
          </p:nvGrpSpPr>
          <p:grpSpPr>
            <a:xfrm>
              <a:off x="1666800" y="1252440"/>
              <a:ext cx="4156200" cy="4500720"/>
              <a:chOff x="1666800" y="1252440"/>
              <a:chExt cx="4156200" cy="4500720"/>
            </a:xfrm>
          </p:grpSpPr>
          <p:sp>
            <p:nvSpPr>
              <p:cNvPr id="2634" name=""/>
              <p:cNvSpPr/>
              <p:nvPr/>
            </p:nvSpPr>
            <p:spPr>
              <a:xfrm flipV="1">
                <a:off x="1666800" y="1252440"/>
                <a:ext cx="4156200" cy="215280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1706400" y="2684520"/>
                <a:ext cx="4008600" cy="87480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666800" y="3960720"/>
                <a:ext cx="4048200" cy="179244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7" name=""/>
          <p:cNvGrpSpPr/>
          <p:nvPr/>
        </p:nvGrpSpPr>
        <p:grpSpPr>
          <a:xfrm>
            <a:off x="1933200" y="939960"/>
            <a:ext cx="5652000" cy="4968720"/>
            <a:chOff x="1933200" y="939960"/>
            <a:chExt cx="5652000" cy="4968720"/>
          </a:xfrm>
        </p:grpSpPr>
        <p:grpSp>
          <p:nvGrpSpPr>
            <p:cNvPr id="2638" name=""/>
            <p:cNvGrpSpPr/>
            <p:nvPr/>
          </p:nvGrpSpPr>
          <p:grpSpPr>
            <a:xfrm>
              <a:off x="5715720" y="939960"/>
              <a:ext cx="1869480" cy="4968720"/>
              <a:chOff x="5715720" y="939960"/>
              <a:chExt cx="1869480" cy="4968720"/>
            </a:xfrm>
          </p:grpSpPr>
          <p:grpSp>
            <p:nvGrpSpPr>
              <p:cNvPr id="2639" name=""/>
              <p:cNvGrpSpPr/>
              <p:nvPr/>
            </p:nvGrpSpPr>
            <p:grpSpPr>
              <a:xfrm>
                <a:off x="5715720" y="939960"/>
                <a:ext cx="1623960" cy="4968720"/>
                <a:chOff x="5715720" y="939960"/>
                <a:chExt cx="1623960" cy="4968720"/>
              </a:xfrm>
            </p:grpSpPr>
            <p:sp>
              <p:nvSpPr>
                <p:cNvPr id="2640" name=""/>
                <p:cNvSpPr/>
                <p:nvPr/>
              </p:nvSpPr>
              <p:spPr>
                <a:xfrm>
                  <a:off x="5752080" y="5595840"/>
                  <a:ext cx="154188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</a:t>
                  </a:r>
                  <a:r>
                    <a:rPr b="1" i="1" lang="en-US" sz="1600" spc="-1" strike="noStrike">
                      <a:solidFill>
                        <a:srgbClr val="ff3300"/>
                      </a:solidFill>
                      <a:latin typeface="Arial"/>
                    </a:rPr>
                    <a:t>? N</a:t>
                  </a: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5797800" y="939960"/>
                  <a:ext cx="154188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</a:t>
                  </a:r>
                  <a:r>
                    <a:rPr b="1" i="1" lang="en-US" sz="1600" spc="-1" strike="noStrike">
                      <a:solidFill>
                        <a:srgbClr val="ff3300"/>
                      </a:solidFill>
                      <a:latin typeface="Arial"/>
                    </a:rPr>
                    <a:t>? N</a:t>
                  </a: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5752080" y="2503440"/>
                  <a:ext cx="154188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lfogad</a:t>
                  </a:r>
                  <a:r>
                    <a:rPr b="1" i="1" lang="en-US" sz="1600" spc="-1" strike="noStrike">
                      <a:solidFill>
                        <a:srgbClr val="ff3300"/>
                      </a:solidFill>
                      <a:latin typeface="Arial"/>
                    </a:rPr>
                    <a:t>? N</a:t>
                  </a:r>
                  <a:r>
                    <a:rPr b="1" i="1" lang="hu-HU" sz="1600" spc="-1" strike="noStrike">
                      <a:solidFill>
                        <a:srgbClr val="ff3300"/>
                      </a:solidFill>
                      <a:latin typeface="Arial"/>
                    </a:rPr>
                    <a:t>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5715720" y="3967200"/>
                  <a:ext cx="15192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hu-HU" sz="1600" spc="-1" strike="noStrike">
                      <a:solidFill>
                        <a:srgbClr val="00ff00"/>
                      </a:solidFill>
                      <a:latin typeface="Arial"/>
                    </a:rPr>
                    <a:t>Elfogad</a:t>
                  </a:r>
                  <a:r>
                    <a:rPr b="1" i="1" lang="en-US" sz="1600" spc="-1" strike="noStrike">
                      <a:solidFill>
                        <a:srgbClr val="00ff00"/>
                      </a:solidFill>
                      <a:latin typeface="Arial"/>
                    </a:rPr>
                    <a:t>? </a:t>
                  </a:r>
                  <a:r>
                    <a:rPr b="1" i="1" lang="hu-HU" sz="1600" spc="-1" strike="noStrike">
                      <a:solidFill>
                        <a:srgbClr val="00ff00"/>
                      </a:solidFill>
                      <a:latin typeface="Arial"/>
                    </a:rPr>
                    <a:t>Ige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4" name=""/>
              <p:cNvSpPr/>
              <p:nvPr/>
            </p:nvSpPr>
            <p:spPr>
              <a:xfrm>
                <a:off x="5913360" y="4280040"/>
                <a:ext cx="1671840" cy="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 flipH="1" flipV="1">
              <a:off x="1933200" y="3130560"/>
              <a:ext cx="5651640" cy="83016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6" name=""/>
          <p:cNvGrpSpPr/>
          <p:nvPr/>
        </p:nvGrpSpPr>
        <p:grpSpPr>
          <a:xfrm>
            <a:off x="1859040" y="3282480"/>
            <a:ext cx="6030720" cy="1302120"/>
            <a:chOff x="1859040" y="3282480"/>
            <a:chExt cx="6030720" cy="1302120"/>
          </a:xfrm>
        </p:grpSpPr>
        <p:sp>
          <p:nvSpPr>
            <p:cNvPr id="2647" name=""/>
            <p:cNvSpPr/>
            <p:nvPr/>
          </p:nvSpPr>
          <p:spPr>
            <a:xfrm>
              <a:off x="1859040" y="3906720"/>
              <a:ext cx="4008240" cy="5256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011320" y="4059360"/>
              <a:ext cx="4008600" cy="52524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066000" y="4432320"/>
              <a:ext cx="1671480" cy="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218280" y="4584600"/>
              <a:ext cx="1671480" cy="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H="1" flipV="1">
              <a:off x="2085480" y="3282480"/>
              <a:ext cx="5651640" cy="83052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 flipV="1">
              <a:off x="2238480" y="3435480"/>
              <a:ext cx="5651280" cy="830160"/>
            </a:xfrm>
            <a:prstGeom prst="line">
              <a:avLst/>
            </a:prstGeom>
            <a:ln w="28440">
              <a:solidFill>
                <a:srgbClr val="eea56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NLBS Session támogatás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Unicast vs. </a:t>
            </a:r>
            <a:r>
              <a:rPr b="1" lang="hu-HU" sz="4800" spc="-1" strike="noStrike">
                <a:solidFill>
                  <a:srgbClr val="808080"/>
                </a:solidFill>
                <a:latin typeface="Arial"/>
              </a:rPr>
              <a:t>Multicas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499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értelmezett a Unica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 hálókártya esetén megszorít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lehet privát forgalom a farm tagjai között (pl.: DC-D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öbb forgalom a hálóza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Unicast esetén optimális a két hálókárty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witch esetén előtét HUB szüksé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808080"/>
                </a:solidFill>
                <a:latin typeface="Arial"/>
              </a:rPr>
              <a:t>Unicast</a:t>
            </a: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 vs. Multicas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750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multicast mód választ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incs korlátozás egy hálókártya esetén s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Átírja a farm MAC címét multicast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RP feloldásnak mennie kell multicast MAC címekre 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 ezt a router nem támogatja, akkor statikus bejegyzés kell az ARP tábláb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365040" y="85320"/>
            <a:ext cx="8431200" cy="1298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z alkalmazásokkal szemben támasztott követelménye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380880" y="1531800"/>
            <a:ext cx="8415360" cy="538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inden gépen fut egy példá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alkalmazásnak kell szinkronizálni az adatok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ügyfél kapcsolatok (session) megőrzése érdekében használjuk az alapértelmezett „single affinity” beállítá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 oldali proxy-k gondot okozhatnak (ld. AOL) Ezt a kiszolgáló alkalmazás kezelheti 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apcsolat akkor szakadhat meg, ha a farm összetétele változi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LBS parancssoros felügyele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380880" y="1889280"/>
            <a:ext cx="8415360" cy="3494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volról is futtatható WLBS.EX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ekérdezi a farm állapotá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indít, leállít vagy letilt csomópont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NLBS nem figyeli az alkalmazások állapotá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hhez az alkalmazás szemantikájának és erőforrásainak ismerete lenne szüksé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V="1">
            <a:off x="1066680" y="890640"/>
            <a:ext cx="0" cy="541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308640"/>
            <a:ext cx="781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74200" y="6297480"/>
            <a:ext cx="27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unkció és kapaci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72960" y="1475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rt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01520"/>
            <a:ext cx="920124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Windows Server termékek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11320" y="4191120"/>
            <a:ext cx="3346560" cy="1447560"/>
            <a:chOff x="2011320" y="4191120"/>
            <a:chExt cx="3346560" cy="1447560"/>
          </a:xfrm>
        </p:grpSpPr>
        <p:graphicFrame>
          <p:nvGraphicFramePr>
            <p:cNvPr id="61" name=""/>
            <p:cNvGraphicFramePr/>
            <p:nvPr/>
          </p:nvGraphicFramePr>
          <p:xfrm>
            <a:off x="2011320" y="4191120"/>
            <a:ext cx="1188720" cy="1447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11320" y="4191120"/>
                      <a:ext cx="1188720" cy="1447560"/>
                    </a:xfrm>
                    <a:prstGeom prst="rect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3296520" y="4460760"/>
              <a:ext cx="206136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Max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proc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Max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 GB R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301920" y="2611440"/>
            <a:ext cx="4209120" cy="1581840"/>
            <a:chOff x="3301920" y="2611440"/>
            <a:chExt cx="4209120" cy="158184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301920" y="2611440"/>
              <a:ext cx="1190520" cy="144612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66" name=""/>
            <p:cNvSpPr/>
            <p:nvPr/>
          </p:nvSpPr>
          <p:spPr>
            <a:xfrm>
              <a:off x="4661640" y="2752560"/>
              <a:ext cx="2849400" cy="14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dvanced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Max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proc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Max.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 GB R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 pontos fü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Network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oad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anc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559400" y="1025640"/>
            <a:ext cx="1187280" cy="144756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8" name=""/>
          <p:cNvSpPr/>
          <p:nvPr/>
        </p:nvSpPr>
        <p:spPr>
          <a:xfrm>
            <a:off x="5839920" y="838080"/>
            <a:ext cx="3357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atacenter Server</a:t>
            </a:r>
            <a:r>
              <a:rPr b="1" lang="hu-HU" sz="1800" spc="-1" strike="noStrike" u="sng">
                <a:solidFill>
                  <a:srgbClr val="ffffff"/>
                </a:solidFill>
                <a:uFillTx/>
                <a:latin typeface="Arial"/>
              </a:rPr>
              <a:t> (RTM+12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x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proc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x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4GB mem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ó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ntos fü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S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(*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CL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tel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Control Mana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8440" y="6559560"/>
            <a:ext cx="415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* RAS = Reliability, Availability and Service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NLBS skálázhatóság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37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gy farmon belü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2-32 csomópont – a hálózati szegmens áteresztő képesség adja meg a korlát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ast Ethernet esetén tipikusan 6-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szükséges csomópontok számát az alkalmazások CPU igénye határozza m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NLBS-t sok, rövid életű kapcsolatra optimalizálták (pl.: we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bb farm eseté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ound-robin DNS a sok farm előt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7c80"/>
                </a:solidFill>
                <a:uFillTx/>
                <a:latin typeface="Arial"/>
                <a:hlinkClick r:id="rId2"/>
              </a:rPr>
              <a:t>www.microsoft.com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hu-HU" sz="2800" spc="-1" strike="noStrike" u="sng">
                <a:solidFill>
                  <a:srgbClr val="ff7c80"/>
                </a:solidFill>
                <a:uFillTx/>
                <a:latin typeface="Arial"/>
                <a:hlinkClick r:id="rId3"/>
              </a:rPr>
              <a:t>www.msn.com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Miről lesz szó?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92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Követelmény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Mi változik belül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Cluster 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Elosztott kiszolgáló alkalmazások platform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0517c"/>
                </a:solidFill>
                <a:latin typeface="Arial"/>
              </a:rPr>
              <a:t>Network Load Balanc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szolgáló alkalmazás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z alapkoncepció 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6019920" y="3259080"/>
            <a:ext cx="1131480" cy="1715760"/>
            <a:chOff x="6019920" y="3259080"/>
            <a:chExt cx="1131480" cy="1715760"/>
          </a:xfrm>
        </p:grpSpPr>
        <p:sp>
          <p:nvSpPr>
            <p:cNvPr id="2668" name=""/>
            <p:cNvSpPr/>
            <p:nvPr/>
          </p:nvSpPr>
          <p:spPr>
            <a:xfrm>
              <a:off x="6019920" y="3930120"/>
              <a:ext cx="1069560" cy="1044720"/>
            </a:xfrm>
            <a:custGeom>
              <a:avLst/>
              <a:gdLst/>
              <a:ahLst/>
              <a:rect l="l" t="t" r="r" b="b"/>
              <a:pathLst>
                <a:path w="724" h="707">
                  <a:moveTo>
                    <a:pt x="336" y="0"/>
                  </a:moveTo>
                  <a:lnTo>
                    <a:pt x="0" y="301"/>
                  </a:lnTo>
                  <a:lnTo>
                    <a:pt x="400" y="706"/>
                  </a:lnTo>
                  <a:lnTo>
                    <a:pt x="723" y="385"/>
                  </a:lnTo>
                  <a:lnTo>
                    <a:pt x="336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612480" y="4498920"/>
              <a:ext cx="475560" cy="473040"/>
            </a:xfrm>
            <a:custGeom>
              <a:avLst/>
              <a:gdLst/>
              <a:ahLst/>
              <a:rect l="l" t="t" r="r" b="b"/>
              <a:pathLst>
                <a:path w="322" h="320">
                  <a:moveTo>
                    <a:pt x="321" y="0"/>
                  </a:moveTo>
                  <a:lnTo>
                    <a:pt x="321" y="46"/>
                  </a:lnTo>
                  <a:lnTo>
                    <a:pt x="0" y="319"/>
                  </a:lnTo>
                  <a:lnTo>
                    <a:pt x="3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482520" y="3287160"/>
              <a:ext cx="642600" cy="1228320"/>
            </a:xfrm>
            <a:custGeom>
              <a:avLst/>
              <a:gdLst/>
              <a:ahLst/>
              <a:rect l="l" t="t" r="r" b="b"/>
              <a:pathLst>
                <a:path w="435" h="831">
                  <a:moveTo>
                    <a:pt x="0" y="439"/>
                  </a:moveTo>
                  <a:lnTo>
                    <a:pt x="4" y="444"/>
                  </a:lnTo>
                  <a:lnTo>
                    <a:pt x="19" y="455"/>
                  </a:lnTo>
                  <a:lnTo>
                    <a:pt x="40" y="475"/>
                  </a:lnTo>
                  <a:lnTo>
                    <a:pt x="64" y="499"/>
                  </a:lnTo>
                  <a:lnTo>
                    <a:pt x="94" y="528"/>
                  </a:lnTo>
                  <a:lnTo>
                    <a:pt x="126" y="560"/>
                  </a:lnTo>
                  <a:lnTo>
                    <a:pt x="163" y="597"/>
                  </a:lnTo>
                  <a:lnTo>
                    <a:pt x="200" y="630"/>
                  </a:lnTo>
                  <a:lnTo>
                    <a:pt x="235" y="667"/>
                  </a:lnTo>
                  <a:lnTo>
                    <a:pt x="272" y="701"/>
                  </a:lnTo>
                  <a:lnTo>
                    <a:pt x="304" y="736"/>
                  </a:lnTo>
                  <a:lnTo>
                    <a:pt x="334" y="765"/>
                  </a:lnTo>
                  <a:lnTo>
                    <a:pt x="358" y="791"/>
                  </a:lnTo>
                  <a:lnTo>
                    <a:pt x="377" y="812"/>
                  </a:lnTo>
                  <a:lnTo>
                    <a:pt x="389" y="825"/>
                  </a:lnTo>
                  <a:lnTo>
                    <a:pt x="390" y="830"/>
                  </a:lnTo>
                  <a:lnTo>
                    <a:pt x="389" y="828"/>
                  </a:lnTo>
                  <a:lnTo>
                    <a:pt x="389" y="813"/>
                  </a:lnTo>
                  <a:lnTo>
                    <a:pt x="390" y="793"/>
                  </a:lnTo>
                  <a:lnTo>
                    <a:pt x="393" y="765"/>
                  </a:lnTo>
                  <a:lnTo>
                    <a:pt x="395" y="732"/>
                  </a:lnTo>
                  <a:lnTo>
                    <a:pt x="400" y="695"/>
                  </a:lnTo>
                  <a:lnTo>
                    <a:pt x="405" y="655"/>
                  </a:lnTo>
                  <a:lnTo>
                    <a:pt x="409" y="610"/>
                  </a:lnTo>
                  <a:lnTo>
                    <a:pt x="414" y="569"/>
                  </a:lnTo>
                  <a:lnTo>
                    <a:pt x="419" y="528"/>
                  </a:lnTo>
                  <a:lnTo>
                    <a:pt x="421" y="489"/>
                  </a:lnTo>
                  <a:lnTo>
                    <a:pt x="425" y="455"/>
                  </a:lnTo>
                  <a:lnTo>
                    <a:pt x="430" y="428"/>
                  </a:lnTo>
                  <a:lnTo>
                    <a:pt x="432" y="404"/>
                  </a:lnTo>
                  <a:lnTo>
                    <a:pt x="432" y="388"/>
                  </a:lnTo>
                  <a:lnTo>
                    <a:pt x="434" y="383"/>
                  </a:lnTo>
                  <a:lnTo>
                    <a:pt x="51" y="0"/>
                  </a:lnTo>
                  <a:lnTo>
                    <a:pt x="0" y="4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557760" y="3259080"/>
              <a:ext cx="593640" cy="598680"/>
            </a:xfrm>
            <a:custGeom>
              <a:avLst/>
              <a:gdLst/>
              <a:ahLst/>
              <a:rect l="l" t="t" r="r" b="b"/>
              <a:pathLst>
                <a:path w="402" h="405">
                  <a:moveTo>
                    <a:pt x="0" y="20"/>
                  </a:moveTo>
                  <a:lnTo>
                    <a:pt x="383" y="404"/>
                  </a:lnTo>
                  <a:lnTo>
                    <a:pt x="401" y="383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1" y="17"/>
                  </a:lnTo>
                  <a:lnTo>
                    <a:pt x="0" y="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057080" y="3823560"/>
              <a:ext cx="91440" cy="691920"/>
            </a:xfrm>
            <a:custGeom>
              <a:avLst/>
              <a:gdLst/>
              <a:ahLst/>
              <a:rect l="l" t="t" r="r" b="b"/>
              <a:pathLst>
                <a:path w="62" h="468">
                  <a:moveTo>
                    <a:pt x="61" y="0"/>
                  </a:moveTo>
                  <a:lnTo>
                    <a:pt x="22" y="457"/>
                  </a:lnTo>
                  <a:lnTo>
                    <a:pt x="0" y="467"/>
                  </a:lnTo>
                  <a:lnTo>
                    <a:pt x="43" y="19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537240" y="3389040"/>
              <a:ext cx="519840" cy="1000440"/>
            </a:xfrm>
            <a:custGeom>
              <a:avLst/>
              <a:gdLst/>
              <a:ahLst/>
              <a:rect l="l" t="t" r="r" b="b"/>
              <a:pathLst>
                <a:path w="352" h="677">
                  <a:moveTo>
                    <a:pt x="0" y="358"/>
                  </a:moveTo>
                  <a:lnTo>
                    <a:pt x="1" y="359"/>
                  </a:lnTo>
                  <a:lnTo>
                    <a:pt x="12" y="370"/>
                  </a:lnTo>
                  <a:lnTo>
                    <a:pt x="28" y="386"/>
                  </a:lnTo>
                  <a:lnTo>
                    <a:pt x="49" y="406"/>
                  </a:lnTo>
                  <a:lnTo>
                    <a:pt x="73" y="430"/>
                  </a:lnTo>
                  <a:lnTo>
                    <a:pt x="99" y="456"/>
                  </a:lnTo>
                  <a:lnTo>
                    <a:pt x="129" y="484"/>
                  </a:lnTo>
                  <a:lnTo>
                    <a:pt x="158" y="513"/>
                  </a:lnTo>
                  <a:lnTo>
                    <a:pt x="189" y="542"/>
                  </a:lnTo>
                  <a:lnTo>
                    <a:pt x="217" y="571"/>
                  </a:lnTo>
                  <a:lnTo>
                    <a:pt x="245" y="597"/>
                  </a:lnTo>
                  <a:lnTo>
                    <a:pt x="267" y="623"/>
                  </a:lnTo>
                  <a:lnTo>
                    <a:pt x="288" y="643"/>
                  </a:lnTo>
                  <a:lnTo>
                    <a:pt x="302" y="659"/>
                  </a:lnTo>
                  <a:lnTo>
                    <a:pt x="310" y="671"/>
                  </a:lnTo>
                  <a:lnTo>
                    <a:pt x="314" y="676"/>
                  </a:lnTo>
                  <a:lnTo>
                    <a:pt x="314" y="672"/>
                  </a:lnTo>
                  <a:lnTo>
                    <a:pt x="314" y="661"/>
                  </a:lnTo>
                  <a:lnTo>
                    <a:pt x="315" y="645"/>
                  </a:lnTo>
                  <a:lnTo>
                    <a:pt x="315" y="623"/>
                  </a:lnTo>
                  <a:lnTo>
                    <a:pt x="318" y="595"/>
                  </a:lnTo>
                  <a:lnTo>
                    <a:pt x="322" y="565"/>
                  </a:lnTo>
                  <a:lnTo>
                    <a:pt x="325" y="531"/>
                  </a:lnTo>
                  <a:lnTo>
                    <a:pt x="330" y="497"/>
                  </a:lnTo>
                  <a:lnTo>
                    <a:pt x="331" y="462"/>
                  </a:lnTo>
                  <a:lnTo>
                    <a:pt x="336" y="430"/>
                  </a:lnTo>
                  <a:lnTo>
                    <a:pt x="341" y="398"/>
                  </a:lnTo>
                  <a:lnTo>
                    <a:pt x="342" y="370"/>
                  </a:lnTo>
                  <a:lnTo>
                    <a:pt x="346" y="346"/>
                  </a:lnTo>
                  <a:lnTo>
                    <a:pt x="347" y="327"/>
                  </a:lnTo>
                  <a:lnTo>
                    <a:pt x="351" y="316"/>
                  </a:lnTo>
                  <a:lnTo>
                    <a:pt x="351" y="311"/>
                  </a:lnTo>
                  <a:lnTo>
                    <a:pt x="38" y="0"/>
                  </a:lnTo>
                  <a:lnTo>
                    <a:pt x="0" y="358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429240" y="4036320"/>
              <a:ext cx="70920" cy="752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2" y="50"/>
                  </a:moveTo>
                  <a:lnTo>
                    <a:pt x="47" y="24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22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474960" y="4083480"/>
              <a:ext cx="7488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519240" y="4131000"/>
              <a:ext cx="7524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50"/>
                  </a:moveTo>
                  <a:lnTo>
                    <a:pt x="50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569640" y="4179960"/>
              <a:ext cx="75240" cy="7344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4" y="49"/>
                  </a:moveTo>
                  <a:lnTo>
                    <a:pt x="50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612480" y="4227120"/>
              <a:ext cx="72360" cy="738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49"/>
                  </a:moveTo>
                  <a:lnTo>
                    <a:pt x="48" y="23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25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59640" y="4274280"/>
              <a:ext cx="72360" cy="691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5" y="46"/>
                  </a:moveTo>
                  <a:lnTo>
                    <a:pt x="48" y="23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25" y="4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710040" y="4321800"/>
              <a:ext cx="69120" cy="723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2" y="48"/>
                  </a:moveTo>
                  <a:lnTo>
                    <a:pt x="46" y="24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22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754320" y="4368960"/>
              <a:ext cx="75240" cy="7272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01480" y="4416480"/>
              <a:ext cx="75240" cy="7236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848640" y="4458960"/>
              <a:ext cx="7524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91480" y="4506840"/>
              <a:ext cx="72360" cy="7488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5" y="50"/>
                  </a:moveTo>
                  <a:lnTo>
                    <a:pt x="48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80280" y="4086720"/>
              <a:ext cx="73800" cy="7668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3" y="51"/>
                  </a:moveTo>
                  <a:lnTo>
                    <a:pt x="49" y="25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23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423120" y="4133880"/>
              <a:ext cx="72360" cy="770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1"/>
                  </a:moveTo>
                  <a:lnTo>
                    <a:pt x="48" y="25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470280" y="4184280"/>
              <a:ext cx="72360" cy="723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48"/>
                  </a:moveTo>
                  <a:lnTo>
                    <a:pt x="48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517800" y="4231440"/>
              <a:ext cx="72360" cy="723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48"/>
                  </a:moveTo>
                  <a:lnTo>
                    <a:pt x="48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562080" y="4278600"/>
              <a:ext cx="77760" cy="7272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26" y="48"/>
                  </a:moveTo>
                  <a:lnTo>
                    <a:pt x="52" y="22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26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609600" y="4318920"/>
              <a:ext cx="78120" cy="777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52"/>
                  </a:moveTo>
                  <a:lnTo>
                    <a:pt x="52" y="26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26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656760" y="4366080"/>
              <a:ext cx="78120" cy="7776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52"/>
                  </a:moveTo>
                  <a:lnTo>
                    <a:pt x="52" y="26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26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02480" y="4413600"/>
              <a:ext cx="72360" cy="777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5" y="52"/>
                  </a:moveTo>
                  <a:lnTo>
                    <a:pt x="48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50000" y="4460760"/>
              <a:ext cx="72360" cy="7812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4" y="52"/>
                  </a:moveTo>
                  <a:lnTo>
                    <a:pt x="48" y="26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24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97160" y="4509360"/>
              <a:ext cx="72360" cy="738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49"/>
                  </a:moveTo>
                  <a:lnTo>
                    <a:pt x="48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847200" y="4556520"/>
              <a:ext cx="73440" cy="738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3" y="49"/>
                  </a:moveTo>
                  <a:lnTo>
                    <a:pt x="49" y="23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23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327360" y="4141440"/>
              <a:ext cx="73440" cy="723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4" y="48"/>
                  </a:moveTo>
                  <a:lnTo>
                    <a:pt x="49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377760" y="4181040"/>
              <a:ext cx="7488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424920" y="4228920"/>
              <a:ext cx="75240" cy="7488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472080" y="4276080"/>
              <a:ext cx="7524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517800" y="4323240"/>
              <a:ext cx="69480" cy="752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3" y="50"/>
                  </a:moveTo>
                  <a:lnTo>
                    <a:pt x="46" y="24"/>
                  </a:lnTo>
                  <a:lnTo>
                    <a:pt x="23" y="0"/>
                  </a:lnTo>
                  <a:lnTo>
                    <a:pt x="0" y="24"/>
                  </a:lnTo>
                  <a:lnTo>
                    <a:pt x="23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560640" y="4370760"/>
              <a:ext cx="72360" cy="752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0"/>
                  </a:moveTo>
                  <a:lnTo>
                    <a:pt x="48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7800" y="4419360"/>
              <a:ext cx="72360" cy="738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49"/>
                  </a:moveTo>
                  <a:lnTo>
                    <a:pt x="48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656760" y="4468320"/>
              <a:ext cx="75240" cy="7236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03920" y="4514040"/>
              <a:ext cx="75240" cy="691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24" y="46"/>
                  </a:moveTo>
                  <a:lnTo>
                    <a:pt x="50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52880" y="4561200"/>
              <a:ext cx="73440" cy="723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3" y="48"/>
                  </a:moveTo>
                  <a:lnTo>
                    <a:pt x="49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97160" y="4608720"/>
              <a:ext cx="70920" cy="723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48"/>
                  </a:moveTo>
                  <a:lnTo>
                    <a:pt x="47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279840" y="4185720"/>
              <a:ext cx="75240" cy="7524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50"/>
                  </a:moveTo>
                  <a:lnTo>
                    <a:pt x="50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325560" y="4231440"/>
              <a:ext cx="72360" cy="770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1"/>
                  </a:moveTo>
                  <a:lnTo>
                    <a:pt x="48" y="25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373080" y="4278600"/>
              <a:ext cx="72360" cy="770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4" y="51"/>
                  </a:moveTo>
                  <a:lnTo>
                    <a:pt x="48" y="25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24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423120" y="4329000"/>
              <a:ext cx="257040" cy="261720"/>
            </a:xfrm>
            <a:custGeom>
              <a:avLst/>
              <a:gdLst/>
              <a:ahLst/>
              <a:rect l="l" t="t" r="r" b="b"/>
              <a:pathLst>
                <a:path w="174" h="177">
                  <a:moveTo>
                    <a:pt x="150" y="176"/>
                  </a:moveTo>
                  <a:lnTo>
                    <a:pt x="173" y="150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150" y="17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652440" y="4558320"/>
              <a:ext cx="72360" cy="7812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4" y="52"/>
                  </a:moveTo>
                  <a:lnTo>
                    <a:pt x="48" y="26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24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697800" y="4605480"/>
              <a:ext cx="77040" cy="7812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5" y="52"/>
                  </a:moveTo>
                  <a:lnTo>
                    <a:pt x="51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745680" y="4653000"/>
              <a:ext cx="76680" cy="7812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5" y="52"/>
                  </a:moveTo>
                  <a:lnTo>
                    <a:pt x="51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361200" y="4448880"/>
              <a:ext cx="135720" cy="1342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46" y="90"/>
                  </a:moveTo>
                  <a:lnTo>
                    <a:pt x="51" y="90"/>
                  </a:lnTo>
                  <a:lnTo>
                    <a:pt x="55" y="90"/>
                  </a:lnTo>
                  <a:lnTo>
                    <a:pt x="60" y="88"/>
                  </a:lnTo>
                  <a:lnTo>
                    <a:pt x="63" y="88"/>
                  </a:lnTo>
                  <a:lnTo>
                    <a:pt x="68" y="85"/>
                  </a:lnTo>
                  <a:lnTo>
                    <a:pt x="73" y="83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3" y="73"/>
                  </a:lnTo>
                  <a:lnTo>
                    <a:pt x="84" y="69"/>
                  </a:lnTo>
                  <a:lnTo>
                    <a:pt x="87" y="67"/>
                  </a:lnTo>
                  <a:lnTo>
                    <a:pt x="89" y="62"/>
                  </a:lnTo>
                  <a:lnTo>
                    <a:pt x="91" y="57"/>
                  </a:lnTo>
                  <a:lnTo>
                    <a:pt x="91" y="54"/>
                  </a:lnTo>
                  <a:lnTo>
                    <a:pt x="91" y="49"/>
                  </a:lnTo>
                  <a:lnTo>
                    <a:pt x="91" y="45"/>
                  </a:lnTo>
                  <a:lnTo>
                    <a:pt x="91" y="40"/>
                  </a:lnTo>
                  <a:lnTo>
                    <a:pt x="91" y="35"/>
                  </a:lnTo>
                  <a:lnTo>
                    <a:pt x="91" y="32"/>
                  </a:lnTo>
                  <a:lnTo>
                    <a:pt x="89" y="27"/>
                  </a:lnTo>
                  <a:lnTo>
                    <a:pt x="87" y="22"/>
                  </a:lnTo>
                  <a:lnTo>
                    <a:pt x="84" y="20"/>
                  </a:lnTo>
                  <a:lnTo>
                    <a:pt x="83" y="16"/>
                  </a:lnTo>
                  <a:lnTo>
                    <a:pt x="79" y="12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4" y="67"/>
                  </a:lnTo>
                  <a:lnTo>
                    <a:pt x="9" y="69"/>
                  </a:lnTo>
                  <a:lnTo>
                    <a:pt x="12" y="73"/>
                  </a:lnTo>
                  <a:lnTo>
                    <a:pt x="14" y="77"/>
                  </a:lnTo>
                  <a:lnTo>
                    <a:pt x="15" y="80"/>
                  </a:lnTo>
                  <a:lnTo>
                    <a:pt x="20" y="83"/>
                  </a:lnTo>
                  <a:lnTo>
                    <a:pt x="25" y="85"/>
                  </a:lnTo>
                  <a:lnTo>
                    <a:pt x="28" y="88"/>
                  </a:lnTo>
                  <a:lnTo>
                    <a:pt x="31" y="88"/>
                  </a:lnTo>
                  <a:lnTo>
                    <a:pt x="36" y="90"/>
                  </a:lnTo>
                  <a:lnTo>
                    <a:pt x="41" y="90"/>
                  </a:lnTo>
                  <a:lnTo>
                    <a:pt x="46" y="9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231240" y="4478400"/>
              <a:ext cx="134280" cy="13572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7" y="91"/>
                  </a:moveTo>
                  <a:lnTo>
                    <a:pt x="90" y="59"/>
                  </a:lnTo>
                  <a:lnTo>
                    <a:pt x="32" y="0"/>
                  </a:lnTo>
                  <a:lnTo>
                    <a:pt x="0" y="30"/>
                  </a:lnTo>
                  <a:lnTo>
                    <a:pt x="57" y="9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327360" y="4577400"/>
              <a:ext cx="137160" cy="13428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61" y="90"/>
                  </a:moveTo>
                  <a:lnTo>
                    <a:pt x="92" y="57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61" y="9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7" name=""/>
          <p:cNvSpPr/>
          <p:nvPr/>
        </p:nvSpPr>
        <p:spPr>
          <a:xfrm>
            <a:off x="3279600" y="4357800"/>
            <a:ext cx="3294360" cy="1438200"/>
          </a:xfrm>
          <a:custGeom>
            <a:avLst/>
            <a:gdLst/>
            <a:ahLst/>
            <a:rect l="l" t="t" r="r" b="b"/>
            <a:pathLst>
              <a:path w="2229" h="974">
                <a:moveTo>
                  <a:pt x="227" y="386"/>
                </a:moveTo>
                <a:lnTo>
                  <a:pt x="233" y="390"/>
                </a:lnTo>
                <a:lnTo>
                  <a:pt x="253" y="403"/>
                </a:lnTo>
                <a:lnTo>
                  <a:pt x="284" y="424"/>
                </a:lnTo>
                <a:lnTo>
                  <a:pt x="326" y="449"/>
                </a:lnTo>
                <a:lnTo>
                  <a:pt x="377" y="478"/>
                </a:lnTo>
                <a:lnTo>
                  <a:pt x="439" y="509"/>
                </a:lnTo>
                <a:lnTo>
                  <a:pt x="507" y="538"/>
                </a:lnTo>
                <a:lnTo>
                  <a:pt x="584" y="566"/>
                </a:lnTo>
                <a:lnTo>
                  <a:pt x="666" y="590"/>
                </a:lnTo>
                <a:lnTo>
                  <a:pt x="752" y="609"/>
                </a:lnTo>
                <a:lnTo>
                  <a:pt x="843" y="620"/>
                </a:lnTo>
                <a:lnTo>
                  <a:pt x="939" y="623"/>
                </a:lnTo>
                <a:lnTo>
                  <a:pt x="1036" y="614"/>
                </a:lnTo>
                <a:lnTo>
                  <a:pt x="1136" y="593"/>
                </a:lnTo>
                <a:lnTo>
                  <a:pt x="1236" y="558"/>
                </a:lnTo>
                <a:lnTo>
                  <a:pt x="1334" y="506"/>
                </a:lnTo>
                <a:lnTo>
                  <a:pt x="1429" y="448"/>
                </a:lnTo>
                <a:lnTo>
                  <a:pt x="1512" y="394"/>
                </a:lnTo>
                <a:lnTo>
                  <a:pt x="1587" y="345"/>
                </a:lnTo>
                <a:lnTo>
                  <a:pt x="1654" y="301"/>
                </a:lnTo>
                <a:lnTo>
                  <a:pt x="1713" y="260"/>
                </a:lnTo>
                <a:lnTo>
                  <a:pt x="1764" y="224"/>
                </a:lnTo>
                <a:lnTo>
                  <a:pt x="1808" y="190"/>
                </a:lnTo>
                <a:lnTo>
                  <a:pt x="1846" y="162"/>
                </a:lnTo>
                <a:lnTo>
                  <a:pt x="1877" y="136"/>
                </a:lnTo>
                <a:lnTo>
                  <a:pt x="1902" y="114"/>
                </a:lnTo>
                <a:lnTo>
                  <a:pt x="1923" y="95"/>
                </a:lnTo>
                <a:lnTo>
                  <a:pt x="1939" y="81"/>
                </a:lnTo>
                <a:lnTo>
                  <a:pt x="1950" y="70"/>
                </a:lnTo>
                <a:lnTo>
                  <a:pt x="1958" y="62"/>
                </a:lnTo>
                <a:lnTo>
                  <a:pt x="1961" y="57"/>
                </a:lnTo>
                <a:lnTo>
                  <a:pt x="1964" y="56"/>
                </a:lnTo>
                <a:lnTo>
                  <a:pt x="1907" y="0"/>
                </a:lnTo>
                <a:lnTo>
                  <a:pt x="2191" y="50"/>
                </a:lnTo>
                <a:lnTo>
                  <a:pt x="2228" y="341"/>
                </a:lnTo>
                <a:lnTo>
                  <a:pt x="2173" y="284"/>
                </a:lnTo>
                <a:lnTo>
                  <a:pt x="2167" y="289"/>
                </a:lnTo>
                <a:lnTo>
                  <a:pt x="2155" y="300"/>
                </a:lnTo>
                <a:lnTo>
                  <a:pt x="2133" y="318"/>
                </a:lnTo>
                <a:lnTo>
                  <a:pt x="2106" y="342"/>
                </a:lnTo>
                <a:lnTo>
                  <a:pt x="2072" y="370"/>
                </a:lnTo>
                <a:lnTo>
                  <a:pt x="2033" y="404"/>
                </a:lnTo>
                <a:lnTo>
                  <a:pt x="1991" y="441"/>
                </a:lnTo>
                <a:lnTo>
                  <a:pt x="1944" y="479"/>
                </a:lnTo>
                <a:lnTo>
                  <a:pt x="1895" y="520"/>
                </a:lnTo>
                <a:lnTo>
                  <a:pt x="1845" y="561"/>
                </a:lnTo>
                <a:lnTo>
                  <a:pt x="1793" y="603"/>
                </a:lnTo>
                <a:lnTo>
                  <a:pt x="1742" y="643"/>
                </a:lnTo>
                <a:lnTo>
                  <a:pt x="1691" y="682"/>
                </a:lnTo>
                <a:lnTo>
                  <a:pt x="1643" y="719"/>
                </a:lnTo>
                <a:lnTo>
                  <a:pt x="1598" y="751"/>
                </a:lnTo>
                <a:lnTo>
                  <a:pt x="1556" y="781"/>
                </a:lnTo>
                <a:lnTo>
                  <a:pt x="1499" y="816"/>
                </a:lnTo>
                <a:lnTo>
                  <a:pt x="1433" y="850"/>
                </a:lnTo>
                <a:lnTo>
                  <a:pt x="1358" y="881"/>
                </a:lnTo>
                <a:lnTo>
                  <a:pt x="1277" y="910"/>
                </a:lnTo>
                <a:lnTo>
                  <a:pt x="1189" y="934"/>
                </a:lnTo>
                <a:lnTo>
                  <a:pt x="1095" y="954"/>
                </a:lnTo>
                <a:lnTo>
                  <a:pt x="997" y="967"/>
                </a:lnTo>
                <a:lnTo>
                  <a:pt x="894" y="973"/>
                </a:lnTo>
                <a:lnTo>
                  <a:pt x="787" y="971"/>
                </a:lnTo>
                <a:lnTo>
                  <a:pt x="678" y="960"/>
                </a:lnTo>
                <a:lnTo>
                  <a:pt x="566" y="937"/>
                </a:lnTo>
                <a:lnTo>
                  <a:pt x="452" y="905"/>
                </a:lnTo>
                <a:lnTo>
                  <a:pt x="339" y="861"/>
                </a:lnTo>
                <a:lnTo>
                  <a:pt x="225" y="803"/>
                </a:lnTo>
                <a:lnTo>
                  <a:pt x="112" y="731"/>
                </a:lnTo>
                <a:lnTo>
                  <a:pt x="0" y="645"/>
                </a:lnTo>
                <a:lnTo>
                  <a:pt x="227" y="386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609480" y="3760920"/>
            <a:ext cx="2067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ea564"/>
                </a:solidFill>
                <a:latin typeface="Arial"/>
              </a:rPr>
              <a:t>Windows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2724120" y="3565440"/>
            <a:ext cx="1262160" cy="1920960"/>
            <a:chOff x="2724120" y="3565440"/>
            <a:chExt cx="1262160" cy="1920960"/>
          </a:xfrm>
        </p:grpSpPr>
        <p:sp>
          <p:nvSpPr>
            <p:cNvPr id="2720" name=""/>
            <p:cNvSpPr/>
            <p:nvPr/>
          </p:nvSpPr>
          <p:spPr>
            <a:xfrm>
              <a:off x="2725560" y="4052880"/>
              <a:ext cx="465480" cy="1273320"/>
            </a:xfrm>
            <a:custGeom>
              <a:avLst/>
              <a:gdLst/>
              <a:ahLst/>
              <a:rect l="l" t="t" r="r" b="b"/>
              <a:pathLst>
                <a:path w="315" h="862">
                  <a:moveTo>
                    <a:pt x="0" y="0"/>
                  </a:moveTo>
                  <a:lnTo>
                    <a:pt x="314" y="322"/>
                  </a:lnTo>
                  <a:lnTo>
                    <a:pt x="314" y="861"/>
                  </a:lnTo>
                  <a:lnTo>
                    <a:pt x="0" y="53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724120" y="3565440"/>
              <a:ext cx="941400" cy="973440"/>
            </a:xfrm>
            <a:custGeom>
              <a:avLst/>
              <a:gdLst/>
              <a:ahLst/>
              <a:rect l="l" t="t" r="r" b="b"/>
              <a:pathLst>
                <a:path w="637" h="659">
                  <a:moveTo>
                    <a:pt x="318" y="658"/>
                  </a:moveTo>
                  <a:lnTo>
                    <a:pt x="636" y="328"/>
                  </a:lnTo>
                  <a:lnTo>
                    <a:pt x="318" y="0"/>
                  </a:lnTo>
                  <a:lnTo>
                    <a:pt x="0" y="328"/>
                  </a:lnTo>
                  <a:lnTo>
                    <a:pt x="318" y="6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184560" y="4054680"/>
              <a:ext cx="484200" cy="1269720"/>
            </a:xfrm>
            <a:custGeom>
              <a:avLst/>
              <a:gdLst/>
              <a:ahLst/>
              <a:rect l="l" t="t" r="r" b="b"/>
              <a:pathLst>
                <a:path w="327" h="860">
                  <a:moveTo>
                    <a:pt x="326" y="0"/>
                  </a:moveTo>
                  <a:lnTo>
                    <a:pt x="326" y="523"/>
                  </a:lnTo>
                  <a:lnTo>
                    <a:pt x="0" y="859"/>
                  </a:lnTo>
                  <a:lnTo>
                    <a:pt x="0" y="337"/>
                  </a:lnTo>
                  <a:lnTo>
                    <a:pt x="326" y="0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722760" y="4214880"/>
              <a:ext cx="39600" cy="541440"/>
            </a:xfrm>
            <a:custGeom>
              <a:avLst/>
              <a:gdLst/>
              <a:ahLst/>
              <a:rect l="l" t="t" r="r" b="b"/>
              <a:pathLst>
                <a:path w="26" h="366">
                  <a:moveTo>
                    <a:pt x="0" y="0"/>
                  </a:moveTo>
                  <a:lnTo>
                    <a:pt x="25" y="29"/>
                  </a:lnTo>
                  <a:lnTo>
                    <a:pt x="25" y="365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V="1">
              <a:off x="3728880" y="4037040"/>
              <a:ext cx="7488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800520" y="3929040"/>
              <a:ext cx="95040" cy="10800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0" y="72"/>
                  </a:moveTo>
                  <a:lnTo>
                    <a:pt x="4" y="63"/>
                  </a:lnTo>
                  <a:lnTo>
                    <a:pt x="7" y="56"/>
                  </a:lnTo>
                  <a:lnTo>
                    <a:pt x="11" y="49"/>
                  </a:lnTo>
                  <a:lnTo>
                    <a:pt x="14" y="42"/>
                  </a:lnTo>
                  <a:lnTo>
                    <a:pt x="18" y="35"/>
                  </a:lnTo>
                  <a:lnTo>
                    <a:pt x="21" y="29"/>
                  </a:lnTo>
                  <a:lnTo>
                    <a:pt x="25" y="24"/>
                  </a:lnTo>
                  <a:lnTo>
                    <a:pt x="29" y="19"/>
                  </a:lnTo>
                  <a:lnTo>
                    <a:pt x="34" y="15"/>
                  </a:lnTo>
                  <a:lnTo>
                    <a:pt x="38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 flipV="1">
              <a:off x="3792240" y="4033800"/>
              <a:ext cx="190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894120" y="39196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894120" y="3929040"/>
              <a:ext cx="414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873600" y="3968640"/>
              <a:ext cx="63360" cy="4464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42" y="1"/>
                  </a:move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3931920" y="3960720"/>
              <a:ext cx="3240" cy="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H="1" flipV="1">
              <a:off x="3867120" y="4006440"/>
              <a:ext cx="14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726000" y="4014720"/>
              <a:ext cx="145800" cy="24768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98" y="0"/>
                  </a:moveTo>
                  <a:lnTo>
                    <a:pt x="24" y="167"/>
                  </a:lnTo>
                  <a:lnTo>
                    <a:pt x="0" y="1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033720" y="4248360"/>
              <a:ext cx="712800" cy="1238040"/>
            </a:xfrm>
            <a:custGeom>
              <a:avLst/>
              <a:gdLst/>
              <a:ahLst/>
              <a:rect l="l" t="t" r="r" b="b"/>
              <a:pathLst>
                <a:path w="482" h="838">
                  <a:moveTo>
                    <a:pt x="389" y="438"/>
                  </a:moveTo>
                  <a:lnTo>
                    <a:pt x="389" y="405"/>
                  </a:lnTo>
                  <a:lnTo>
                    <a:pt x="363" y="464"/>
                  </a:lnTo>
                  <a:lnTo>
                    <a:pt x="362" y="467"/>
                  </a:lnTo>
                  <a:lnTo>
                    <a:pt x="362" y="433"/>
                  </a:lnTo>
                  <a:lnTo>
                    <a:pt x="334" y="494"/>
                  </a:lnTo>
                  <a:lnTo>
                    <a:pt x="333" y="495"/>
                  </a:lnTo>
                  <a:lnTo>
                    <a:pt x="333" y="463"/>
                  </a:lnTo>
                  <a:lnTo>
                    <a:pt x="307" y="522"/>
                  </a:lnTo>
                  <a:lnTo>
                    <a:pt x="306" y="523"/>
                  </a:lnTo>
                  <a:lnTo>
                    <a:pt x="306" y="491"/>
                  </a:lnTo>
                  <a:lnTo>
                    <a:pt x="280" y="550"/>
                  </a:lnTo>
                  <a:lnTo>
                    <a:pt x="278" y="553"/>
                  </a:lnTo>
                  <a:lnTo>
                    <a:pt x="278" y="519"/>
                  </a:lnTo>
                  <a:lnTo>
                    <a:pt x="251" y="580"/>
                  </a:lnTo>
                  <a:lnTo>
                    <a:pt x="250" y="581"/>
                  </a:lnTo>
                  <a:lnTo>
                    <a:pt x="250" y="549"/>
                  </a:lnTo>
                  <a:lnTo>
                    <a:pt x="224" y="608"/>
                  </a:lnTo>
                  <a:lnTo>
                    <a:pt x="222" y="609"/>
                  </a:lnTo>
                  <a:lnTo>
                    <a:pt x="222" y="577"/>
                  </a:lnTo>
                  <a:lnTo>
                    <a:pt x="195" y="636"/>
                  </a:lnTo>
                  <a:lnTo>
                    <a:pt x="194" y="638"/>
                  </a:lnTo>
                  <a:lnTo>
                    <a:pt x="194" y="605"/>
                  </a:lnTo>
                  <a:lnTo>
                    <a:pt x="168" y="665"/>
                  </a:lnTo>
                  <a:lnTo>
                    <a:pt x="166" y="667"/>
                  </a:lnTo>
                  <a:lnTo>
                    <a:pt x="166" y="634"/>
                  </a:lnTo>
                  <a:lnTo>
                    <a:pt x="140" y="693"/>
                  </a:lnTo>
                  <a:lnTo>
                    <a:pt x="139" y="695"/>
                  </a:lnTo>
                  <a:lnTo>
                    <a:pt x="139" y="662"/>
                  </a:lnTo>
                  <a:lnTo>
                    <a:pt x="112" y="721"/>
                  </a:lnTo>
                  <a:lnTo>
                    <a:pt x="110" y="724"/>
                  </a:lnTo>
                  <a:lnTo>
                    <a:pt x="110" y="690"/>
                  </a:lnTo>
                  <a:lnTo>
                    <a:pt x="84" y="751"/>
                  </a:lnTo>
                  <a:lnTo>
                    <a:pt x="83" y="752"/>
                  </a:lnTo>
                  <a:lnTo>
                    <a:pt x="83" y="720"/>
                  </a:lnTo>
                  <a:lnTo>
                    <a:pt x="57" y="779"/>
                  </a:lnTo>
                  <a:lnTo>
                    <a:pt x="54" y="780"/>
                  </a:lnTo>
                  <a:lnTo>
                    <a:pt x="54" y="748"/>
                  </a:lnTo>
                  <a:lnTo>
                    <a:pt x="28" y="807"/>
                  </a:lnTo>
                  <a:lnTo>
                    <a:pt x="27" y="810"/>
                  </a:lnTo>
                  <a:lnTo>
                    <a:pt x="27" y="776"/>
                  </a:lnTo>
                  <a:lnTo>
                    <a:pt x="1" y="837"/>
                  </a:lnTo>
                  <a:lnTo>
                    <a:pt x="0" y="837"/>
                  </a:lnTo>
                  <a:lnTo>
                    <a:pt x="0" y="674"/>
                  </a:lnTo>
                  <a:lnTo>
                    <a:pt x="481" y="0"/>
                  </a:lnTo>
                  <a:lnTo>
                    <a:pt x="481" y="342"/>
                  </a:lnTo>
                  <a:lnTo>
                    <a:pt x="389" y="43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762360" y="3973680"/>
              <a:ext cx="223920" cy="784080"/>
            </a:xfrm>
            <a:custGeom>
              <a:avLst/>
              <a:gdLst/>
              <a:ahLst/>
              <a:rect l="l" t="t" r="r" b="b"/>
              <a:pathLst>
                <a:path w="152" h="531">
                  <a:moveTo>
                    <a:pt x="44" y="520"/>
                  </a:moveTo>
                  <a:lnTo>
                    <a:pt x="55" y="511"/>
                  </a:lnTo>
                  <a:lnTo>
                    <a:pt x="66" y="503"/>
                  </a:lnTo>
                  <a:lnTo>
                    <a:pt x="76" y="493"/>
                  </a:lnTo>
                  <a:lnTo>
                    <a:pt x="84" y="482"/>
                  </a:lnTo>
                  <a:lnTo>
                    <a:pt x="92" y="470"/>
                  </a:lnTo>
                  <a:lnTo>
                    <a:pt x="99" y="459"/>
                  </a:lnTo>
                  <a:lnTo>
                    <a:pt x="106" y="445"/>
                  </a:lnTo>
                  <a:lnTo>
                    <a:pt x="112" y="431"/>
                  </a:lnTo>
                  <a:lnTo>
                    <a:pt x="116" y="416"/>
                  </a:lnTo>
                  <a:lnTo>
                    <a:pt x="121" y="399"/>
                  </a:lnTo>
                  <a:lnTo>
                    <a:pt x="126" y="382"/>
                  </a:lnTo>
                  <a:lnTo>
                    <a:pt x="130" y="362"/>
                  </a:lnTo>
                  <a:lnTo>
                    <a:pt x="132" y="341"/>
                  </a:lnTo>
                  <a:lnTo>
                    <a:pt x="137" y="319"/>
                  </a:lnTo>
                  <a:lnTo>
                    <a:pt x="139" y="293"/>
                  </a:lnTo>
                  <a:lnTo>
                    <a:pt x="142" y="268"/>
                  </a:lnTo>
                  <a:lnTo>
                    <a:pt x="146" y="241"/>
                  </a:lnTo>
                  <a:lnTo>
                    <a:pt x="148" y="216"/>
                  </a:lnTo>
                  <a:lnTo>
                    <a:pt x="149" y="191"/>
                  </a:lnTo>
                  <a:lnTo>
                    <a:pt x="151" y="165"/>
                  </a:lnTo>
                  <a:lnTo>
                    <a:pt x="151" y="143"/>
                  </a:lnTo>
                  <a:lnTo>
                    <a:pt x="149" y="122"/>
                  </a:lnTo>
                  <a:lnTo>
                    <a:pt x="148" y="101"/>
                  </a:lnTo>
                  <a:lnTo>
                    <a:pt x="146" y="81"/>
                  </a:lnTo>
                  <a:lnTo>
                    <a:pt x="144" y="64"/>
                  </a:lnTo>
                  <a:lnTo>
                    <a:pt x="141" y="49"/>
                  </a:lnTo>
                  <a:lnTo>
                    <a:pt x="137" y="35"/>
                  </a:lnTo>
                  <a:lnTo>
                    <a:pt x="131" y="23"/>
                  </a:lnTo>
                  <a:lnTo>
                    <a:pt x="127" y="14"/>
                  </a:lnTo>
                  <a:lnTo>
                    <a:pt x="121" y="7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8" y="1"/>
                  </a:lnTo>
                  <a:lnTo>
                    <a:pt x="94" y="4"/>
                  </a:lnTo>
                  <a:lnTo>
                    <a:pt x="91" y="5"/>
                  </a:lnTo>
                  <a:lnTo>
                    <a:pt x="87" y="8"/>
                  </a:lnTo>
                  <a:lnTo>
                    <a:pt x="84" y="12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3" y="26"/>
                  </a:lnTo>
                  <a:lnTo>
                    <a:pt x="69" y="33"/>
                  </a:lnTo>
                  <a:lnTo>
                    <a:pt x="66" y="39"/>
                  </a:lnTo>
                  <a:lnTo>
                    <a:pt x="62" y="46"/>
                  </a:lnTo>
                  <a:lnTo>
                    <a:pt x="59" y="53"/>
                  </a:lnTo>
                  <a:lnTo>
                    <a:pt x="55" y="61"/>
                  </a:lnTo>
                  <a:lnTo>
                    <a:pt x="52" y="70"/>
                  </a:lnTo>
                  <a:lnTo>
                    <a:pt x="0" y="196"/>
                  </a:lnTo>
                  <a:lnTo>
                    <a:pt x="0" y="530"/>
                  </a:lnTo>
                  <a:lnTo>
                    <a:pt x="44" y="5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798720" y="4083120"/>
              <a:ext cx="155880" cy="547560"/>
            </a:xfrm>
            <a:custGeom>
              <a:avLst/>
              <a:gdLst/>
              <a:ahLst/>
              <a:rect l="l" t="t" r="r" b="b"/>
              <a:pathLst>
                <a:path w="105" h="371">
                  <a:moveTo>
                    <a:pt x="30" y="370"/>
                  </a:moveTo>
                  <a:lnTo>
                    <a:pt x="24" y="368"/>
                  </a:lnTo>
                  <a:lnTo>
                    <a:pt x="20" y="364"/>
                  </a:lnTo>
                  <a:lnTo>
                    <a:pt x="16" y="360"/>
                  </a:lnTo>
                  <a:lnTo>
                    <a:pt x="12" y="353"/>
                  </a:lnTo>
                  <a:lnTo>
                    <a:pt x="9" y="344"/>
                  </a:lnTo>
                  <a:lnTo>
                    <a:pt x="6" y="334"/>
                  </a:lnTo>
                  <a:lnTo>
                    <a:pt x="4" y="323"/>
                  </a:lnTo>
                  <a:lnTo>
                    <a:pt x="2" y="311"/>
                  </a:lnTo>
                  <a:lnTo>
                    <a:pt x="1" y="297"/>
                  </a:lnTo>
                  <a:lnTo>
                    <a:pt x="0" y="283"/>
                  </a:lnTo>
                  <a:lnTo>
                    <a:pt x="0" y="267"/>
                  </a:lnTo>
                  <a:lnTo>
                    <a:pt x="0" y="250"/>
                  </a:lnTo>
                  <a:lnTo>
                    <a:pt x="1" y="234"/>
                  </a:lnTo>
                  <a:lnTo>
                    <a:pt x="1" y="215"/>
                  </a:lnTo>
                  <a:lnTo>
                    <a:pt x="2" y="197"/>
                  </a:lnTo>
                  <a:lnTo>
                    <a:pt x="5" y="179"/>
                  </a:lnTo>
                  <a:lnTo>
                    <a:pt x="8" y="159"/>
                  </a:lnTo>
                  <a:lnTo>
                    <a:pt x="10" y="141"/>
                  </a:lnTo>
                  <a:lnTo>
                    <a:pt x="13" y="124"/>
                  </a:lnTo>
                  <a:lnTo>
                    <a:pt x="17" y="107"/>
                  </a:lnTo>
                  <a:lnTo>
                    <a:pt x="21" y="91"/>
                  </a:lnTo>
                  <a:lnTo>
                    <a:pt x="26" y="75"/>
                  </a:lnTo>
                  <a:lnTo>
                    <a:pt x="30" y="63"/>
                  </a:lnTo>
                  <a:lnTo>
                    <a:pt x="35" y="50"/>
                  </a:lnTo>
                  <a:lnTo>
                    <a:pt x="39" y="37"/>
                  </a:lnTo>
                  <a:lnTo>
                    <a:pt x="45" y="28"/>
                  </a:lnTo>
                  <a:lnTo>
                    <a:pt x="50" y="19"/>
                  </a:lnTo>
                  <a:lnTo>
                    <a:pt x="54" y="12"/>
                  </a:lnTo>
                  <a:lnTo>
                    <a:pt x="60" y="7"/>
                  </a:lnTo>
                  <a:lnTo>
                    <a:pt x="65" y="2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4" y="5"/>
                  </a:lnTo>
                  <a:lnTo>
                    <a:pt x="87" y="9"/>
                  </a:lnTo>
                  <a:lnTo>
                    <a:pt x="91" y="16"/>
                  </a:lnTo>
                  <a:lnTo>
                    <a:pt x="94" y="25"/>
                  </a:lnTo>
                  <a:lnTo>
                    <a:pt x="97" y="35"/>
                  </a:lnTo>
                  <a:lnTo>
                    <a:pt x="99" y="46"/>
                  </a:lnTo>
                  <a:lnTo>
                    <a:pt x="101" y="58"/>
                  </a:lnTo>
                  <a:lnTo>
                    <a:pt x="102" y="71"/>
                  </a:lnTo>
                  <a:lnTo>
                    <a:pt x="104" y="86"/>
                  </a:lnTo>
                  <a:lnTo>
                    <a:pt x="104" y="102"/>
                  </a:lnTo>
                  <a:lnTo>
                    <a:pt x="104" y="119"/>
                  </a:lnTo>
                  <a:lnTo>
                    <a:pt x="104" y="135"/>
                  </a:lnTo>
                  <a:lnTo>
                    <a:pt x="102" y="154"/>
                  </a:lnTo>
                  <a:lnTo>
                    <a:pt x="101" y="172"/>
                  </a:lnTo>
                  <a:lnTo>
                    <a:pt x="99" y="190"/>
                  </a:lnTo>
                  <a:lnTo>
                    <a:pt x="97" y="210"/>
                  </a:lnTo>
                  <a:lnTo>
                    <a:pt x="93" y="228"/>
                  </a:lnTo>
                  <a:lnTo>
                    <a:pt x="90" y="245"/>
                  </a:lnTo>
                  <a:lnTo>
                    <a:pt x="86" y="262"/>
                  </a:lnTo>
                  <a:lnTo>
                    <a:pt x="82" y="278"/>
                  </a:lnTo>
                  <a:lnTo>
                    <a:pt x="78" y="292"/>
                  </a:lnTo>
                  <a:lnTo>
                    <a:pt x="73" y="306"/>
                  </a:lnTo>
                  <a:lnTo>
                    <a:pt x="69" y="319"/>
                  </a:lnTo>
                  <a:lnTo>
                    <a:pt x="64" y="330"/>
                  </a:lnTo>
                  <a:lnTo>
                    <a:pt x="60" y="341"/>
                  </a:lnTo>
                  <a:lnTo>
                    <a:pt x="54" y="350"/>
                  </a:lnTo>
                  <a:lnTo>
                    <a:pt x="49" y="357"/>
                  </a:lnTo>
                  <a:lnTo>
                    <a:pt x="43" y="362"/>
                  </a:lnTo>
                  <a:lnTo>
                    <a:pt x="39" y="367"/>
                  </a:lnTo>
                  <a:lnTo>
                    <a:pt x="34" y="370"/>
                  </a:lnTo>
                  <a:lnTo>
                    <a:pt x="30" y="37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794040" y="4083120"/>
              <a:ext cx="120600" cy="511200"/>
            </a:xfrm>
            <a:custGeom>
              <a:avLst/>
              <a:gdLst/>
              <a:ahLst/>
              <a:rect l="l" t="t" r="r" b="b"/>
              <a:pathLst>
                <a:path w="82" h="346">
                  <a:moveTo>
                    <a:pt x="9" y="345"/>
                  </a:moveTo>
                  <a:lnTo>
                    <a:pt x="13" y="343"/>
                  </a:lnTo>
                  <a:lnTo>
                    <a:pt x="19" y="340"/>
                  </a:lnTo>
                  <a:lnTo>
                    <a:pt x="23" y="335"/>
                  </a:lnTo>
                  <a:lnTo>
                    <a:pt x="28" y="328"/>
                  </a:lnTo>
                  <a:lnTo>
                    <a:pt x="32" y="320"/>
                  </a:lnTo>
                  <a:lnTo>
                    <a:pt x="38" y="311"/>
                  </a:lnTo>
                  <a:lnTo>
                    <a:pt x="42" y="301"/>
                  </a:lnTo>
                  <a:lnTo>
                    <a:pt x="46" y="289"/>
                  </a:lnTo>
                  <a:lnTo>
                    <a:pt x="52" y="277"/>
                  </a:lnTo>
                  <a:lnTo>
                    <a:pt x="56" y="262"/>
                  </a:lnTo>
                  <a:lnTo>
                    <a:pt x="60" y="248"/>
                  </a:lnTo>
                  <a:lnTo>
                    <a:pt x="63" y="233"/>
                  </a:lnTo>
                  <a:lnTo>
                    <a:pt x="67" y="217"/>
                  </a:lnTo>
                  <a:lnTo>
                    <a:pt x="70" y="200"/>
                  </a:lnTo>
                  <a:lnTo>
                    <a:pt x="72" y="182"/>
                  </a:lnTo>
                  <a:lnTo>
                    <a:pt x="75" y="165"/>
                  </a:lnTo>
                  <a:lnTo>
                    <a:pt x="76" y="151"/>
                  </a:lnTo>
                  <a:lnTo>
                    <a:pt x="78" y="139"/>
                  </a:lnTo>
                  <a:lnTo>
                    <a:pt x="79" y="127"/>
                  </a:lnTo>
                  <a:lnTo>
                    <a:pt x="79" y="114"/>
                  </a:lnTo>
                  <a:lnTo>
                    <a:pt x="81" y="103"/>
                  </a:lnTo>
                  <a:lnTo>
                    <a:pt x="81" y="90"/>
                  </a:lnTo>
                  <a:lnTo>
                    <a:pt x="81" y="80"/>
                  </a:lnTo>
                  <a:lnTo>
                    <a:pt x="81" y="69"/>
                  </a:lnTo>
                  <a:lnTo>
                    <a:pt x="81" y="57"/>
                  </a:lnTo>
                  <a:lnTo>
                    <a:pt x="79" y="49"/>
                  </a:lnTo>
                  <a:lnTo>
                    <a:pt x="78" y="39"/>
                  </a:lnTo>
                  <a:lnTo>
                    <a:pt x="78" y="29"/>
                  </a:lnTo>
                  <a:lnTo>
                    <a:pt x="76" y="21"/>
                  </a:lnTo>
                  <a:lnTo>
                    <a:pt x="75" y="14"/>
                  </a:lnTo>
                  <a:lnTo>
                    <a:pt x="74" y="7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7" y="1"/>
                  </a:lnTo>
                  <a:lnTo>
                    <a:pt x="64" y="2"/>
                  </a:lnTo>
                  <a:lnTo>
                    <a:pt x="60" y="5"/>
                  </a:lnTo>
                  <a:lnTo>
                    <a:pt x="56" y="8"/>
                  </a:lnTo>
                  <a:lnTo>
                    <a:pt x="52" y="14"/>
                  </a:lnTo>
                  <a:lnTo>
                    <a:pt x="46" y="21"/>
                  </a:lnTo>
                  <a:lnTo>
                    <a:pt x="42" y="31"/>
                  </a:lnTo>
                  <a:lnTo>
                    <a:pt x="37" y="43"/>
                  </a:lnTo>
                  <a:lnTo>
                    <a:pt x="31" y="57"/>
                  </a:lnTo>
                  <a:lnTo>
                    <a:pt x="26" y="74"/>
                  </a:lnTo>
                  <a:lnTo>
                    <a:pt x="20" y="96"/>
                  </a:lnTo>
                  <a:lnTo>
                    <a:pt x="15" y="120"/>
                  </a:lnTo>
                  <a:lnTo>
                    <a:pt x="10" y="147"/>
                  </a:lnTo>
                  <a:lnTo>
                    <a:pt x="6" y="179"/>
                  </a:lnTo>
                  <a:lnTo>
                    <a:pt x="4" y="203"/>
                  </a:lnTo>
                  <a:lnTo>
                    <a:pt x="2" y="224"/>
                  </a:lnTo>
                  <a:lnTo>
                    <a:pt x="1" y="244"/>
                  </a:lnTo>
                  <a:lnTo>
                    <a:pt x="0" y="261"/>
                  </a:lnTo>
                  <a:lnTo>
                    <a:pt x="0" y="277"/>
                  </a:lnTo>
                  <a:lnTo>
                    <a:pt x="0" y="289"/>
                  </a:lnTo>
                  <a:lnTo>
                    <a:pt x="1" y="302"/>
                  </a:lnTo>
                  <a:lnTo>
                    <a:pt x="2" y="312"/>
                  </a:lnTo>
                  <a:lnTo>
                    <a:pt x="2" y="320"/>
                  </a:lnTo>
                  <a:lnTo>
                    <a:pt x="4" y="328"/>
                  </a:lnTo>
                  <a:lnTo>
                    <a:pt x="5" y="333"/>
                  </a:lnTo>
                  <a:lnTo>
                    <a:pt x="6" y="337"/>
                  </a:lnTo>
                  <a:lnTo>
                    <a:pt x="8" y="340"/>
                  </a:lnTo>
                  <a:lnTo>
                    <a:pt x="8" y="343"/>
                  </a:lnTo>
                  <a:lnTo>
                    <a:pt x="9" y="345"/>
                  </a:lnTo>
                  <a:lnTo>
                    <a:pt x="9" y="3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3565440" y="4260960"/>
            <a:ext cx="549360" cy="1333440"/>
            <a:chOff x="3565440" y="4260960"/>
            <a:chExt cx="549360" cy="1333440"/>
          </a:xfrm>
        </p:grpSpPr>
        <p:sp>
          <p:nvSpPr>
            <p:cNvPr id="2738" name=""/>
            <p:cNvSpPr/>
            <p:nvPr/>
          </p:nvSpPr>
          <p:spPr>
            <a:xfrm>
              <a:off x="3681360" y="4260960"/>
              <a:ext cx="428760" cy="585720"/>
            </a:xfrm>
            <a:custGeom>
              <a:avLst/>
              <a:gdLst/>
              <a:ahLst/>
              <a:rect l="l" t="t" r="r" b="b"/>
              <a:pathLst>
                <a:path w="290" h="397">
                  <a:moveTo>
                    <a:pt x="260" y="0"/>
                  </a:moveTo>
                  <a:lnTo>
                    <a:pt x="0" y="379"/>
                  </a:lnTo>
                  <a:lnTo>
                    <a:pt x="28" y="396"/>
                  </a:lnTo>
                  <a:lnTo>
                    <a:pt x="289" y="15"/>
                  </a:lnTo>
                  <a:lnTo>
                    <a:pt x="26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3610080" y="4284720"/>
              <a:ext cx="504720" cy="1301760"/>
            </a:xfrm>
            <a:custGeom>
              <a:avLst/>
              <a:gdLst/>
              <a:ahLst/>
              <a:rect l="l" t="t" r="r" b="b"/>
              <a:pathLst>
                <a:path w="342" h="882">
                  <a:moveTo>
                    <a:pt x="341" y="1"/>
                  </a:moveTo>
                  <a:lnTo>
                    <a:pt x="339" y="2"/>
                  </a:lnTo>
                  <a:lnTo>
                    <a:pt x="335" y="9"/>
                  </a:lnTo>
                  <a:lnTo>
                    <a:pt x="330" y="21"/>
                  </a:lnTo>
                  <a:lnTo>
                    <a:pt x="323" y="35"/>
                  </a:lnTo>
                  <a:lnTo>
                    <a:pt x="314" y="54"/>
                  </a:lnTo>
                  <a:lnTo>
                    <a:pt x="305" y="78"/>
                  </a:lnTo>
                  <a:lnTo>
                    <a:pt x="297" y="105"/>
                  </a:lnTo>
                  <a:lnTo>
                    <a:pt x="287" y="135"/>
                  </a:lnTo>
                  <a:lnTo>
                    <a:pt x="279" y="170"/>
                  </a:lnTo>
                  <a:lnTo>
                    <a:pt x="272" y="208"/>
                  </a:lnTo>
                  <a:lnTo>
                    <a:pt x="267" y="249"/>
                  </a:lnTo>
                  <a:lnTo>
                    <a:pt x="262" y="294"/>
                  </a:lnTo>
                  <a:lnTo>
                    <a:pt x="260" y="342"/>
                  </a:lnTo>
                  <a:lnTo>
                    <a:pt x="261" y="393"/>
                  </a:lnTo>
                  <a:lnTo>
                    <a:pt x="265" y="446"/>
                  </a:lnTo>
                  <a:lnTo>
                    <a:pt x="273" y="503"/>
                  </a:lnTo>
                  <a:lnTo>
                    <a:pt x="272" y="504"/>
                  </a:lnTo>
                  <a:lnTo>
                    <a:pt x="13" y="881"/>
                  </a:lnTo>
                  <a:lnTo>
                    <a:pt x="5" y="824"/>
                  </a:lnTo>
                  <a:lnTo>
                    <a:pt x="1" y="771"/>
                  </a:lnTo>
                  <a:lnTo>
                    <a:pt x="0" y="720"/>
                  </a:lnTo>
                  <a:lnTo>
                    <a:pt x="1" y="673"/>
                  </a:lnTo>
                  <a:lnTo>
                    <a:pt x="5" y="628"/>
                  </a:lnTo>
                  <a:lnTo>
                    <a:pt x="10" y="587"/>
                  </a:lnTo>
                  <a:lnTo>
                    <a:pt x="19" y="549"/>
                  </a:lnTo>
                  <a:lnTo>
                    <a:pt x="27" y="514"/>
                  </a:lnTo>
                  <a:lnTo>
                    <a:pt x="35" y="484"/>
                  </a:lnTo>
                  <a:lnTo>
                    <a:pt x="45" y="456"/>
                  </a:lnTo>
                  <a:lnTo>
                    <a:pt x="53" y="434"/>
                  </a:lnTo>
                  <a:lnTo>
                    <a:pt x="61" y="414"/>
                  </a:lnTo>
                  <a:lnTo>
                    <a:pt x="68" y="400"/>
                  </a:lnTo>
                  <a:lnTo>
                    <a:pt x="73" y="389"/>
                  </a:lnTo>
                  <a:lnTo>
                    <a:pt x="78" y="382"/>
                  </a:lnTo>
                  <a:lnTo>
                    <a:pt x="79" y="379"/>
                  </a:lnTo>
                  <a:lnTo>
                    <a:pt x="339" y="0"/>
                  </a:lnTo>
                  <a:lnTo>
                    <a:pt x="341" y="1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3565440" y="4818240"/>
              <a:ext cx="168480" cy="776160"/>
            </a:xfrm>
            <a:custGeom>
              <a:avLst/>
              <a:gdLst/>
              <a:ahLst/>
              <a:rect l="l" t="t" r="r" b="b"/>
              <a:pathLst>
                <a:path w="114" h="526">
                  <a:moveTo>
                    <a:pt x="45" y="525"/>
                  </a:moveTo>
                  <a:lnTo>
                    <a:pt x="37" y="468"/>
                  </a:lnTo>
                  <a:lnTo>
                    <a:pt x="33" y="415"/>
                  </a:lnTo>
                  <a:lnTo>
                    <a:pt x="33" y="364"/>
                  </a:lnTo>
                  <a:lnTo>
                    <a:pt x="34" y="316"/>
                  </a:lnTo>
                  <a:lnTo>
                    <a:pt x="38" y="271"/>
                  </a:lnTo>
                  <a:lnTo>
                    <a:pt x="44" y="230"/>
                  </a:lnTo>
                  <a:lnTo>
                    <a:pt x="50" y="192"/>
                  </a:lnTo>
                  <a:lnTo>
                    <a:pt x="59" y="159"/>
                  </a:lnTo>
                  <a:lnTo>
                    <a:pt x="68" y="128"/>
                  </a:lnTo>
                  <a:lnTo>
                    <a:pt x="77" y="101"/>
                  </a:lnTo>
                  <a:lnTo>
                    <a:pt x="86" y="77"/>
                  </a:lnTo>
                  <a:lnTo>
                    <a:pt x="95" y="59"/>
                  </a:lnTo>
                  <a:lnTo>
                    <a:pt x="101" y="43"/>
                  </a:lnTo>
                  <a:lnTo>
                    <a:pt x="107" y="32"/>
                  </a:lnTo>
                  <a:lnTo>
                    <a:pt x="111" y="25"/>
                  </a:lnTo>
                  <a:lnTo>
                    <a:pt x="113" y="23"/>
                  </a:lnTo>
                  <a:lnTo>
                    <a:pt x="79" y="0"/>
                  </a:lnTo>
                  <a:lnTo>
                    <a:pt x="78" y="2"/>
                  </a:lnTo>
                  <a:lnTo>
                    <a:pt x="75" y="9"/>
                  </a:lnTo>
                  <a:lnTo>
                    <a:pt x="70" y="19"/>
                  </a:lnTo>
                  <a:lnTo>
                    <a:pt x="63" y="35"/>
                  </a:lnTo>
                  <a:lnTo>
                    <a:pt x="55" y="54"/>
                  </a:lnTo>
                  <a:lnTo>
                    <a:pt x="45" y="77"/>
                  </a:lnTo>
                  <a:lnTo>
                    <a:pt x="35" y="104"/>
                  </a:lnTo>
                  <a:lnTo>
                    <a:pt x="27" y="135"/>
                  </a:lnTo>
                  <a:lnTo>
                    <a:pt x="19" y="170"/>
                  </a:lnTo>
                  <a:lnTo>
                    <a:pt x="12" y="208"/>
                  </a:lnTo>
                  <a:lnTo>
                    <a:pt x="5" y="249"/>
                  </a:lnTo>
                  <a:lnTo>
                    <a:pt x="2" y="292"/>
                  </a:lnTo>
                  <a:lnTo>
                    <a:pt x="0" y="340"/>
                  </a:lnTo>
                  <a:lnTo>
                    <a:pt x="1" y="391"/>
                  </a:lnTo>
                  <a:lnTo>
                    <a:pt x="5" y="444"/>
                  </a:lnTo>
                  <a:lnTo>
                    <a:pt x="13" y="501"/>
                  </a:lnTo>
                  <a:lnTo>
                    <a:pt x="45" y="525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533520" y="2057400"/>
            <a:ext cx="3142800" cy="1808280"/>
            <a:chOff x="533520" y="2057400"/>
            <a:chExt cx="3142800" cy="1808280"/>
          </a:xfrm>
        </p:grpSpPr>
        <p:grpSp>
          <p:nvGrpSpPr>
            <p:cNvPr id="2742" name=""/>
            <p:cNvGrpSpPr/>
            <p:nvPr/>
          </p:nvGrpSpPr>
          <p:grpSpPr>
            <a:xfrm>
              <a:off x="533520" y="2057400"/>
              <a:ext cx="3142800" cy="1205280"/>
              <a:chOff x="533520" y="2057400"/>
              <a:chExt cx="3142800" cy="1205280"/>
            </a:xfrm>
          </p:grpSpPr>
          <p:sp>
            <p:nvSpPr>
              <p:cNvPr id="2743" name=""/>
              <p:cNvSpPr/>
              <p:nvPr/>
            </p:nvSpPr>
            <p:spPr>
              <a:xfrm>
                <a:off x="1066680" y="2146320"/>
                <a:ext cx="260964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Az alkalmazás a kiszolgálón fut..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33520" y="2057400"/>
                <a:ext cx="603000" cy="613080"/>
              </a:xfrm>
              <a:prstGeom prst="ellipse">
                <a:avLst/>
              </a:prstGeom>
              <a:solidFill>
                <a:srgbClr val="fccf00"/>
              </a:solidFill>
              <a:ln w="0">
                <a:noFill/>
              </a:ln>
              <a:effectLst>
                <a:outerShdw dist="17819" dir="2700000" blurRad="0" rotWithShape="0">
                  <a:srgbClr val="82828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"/>
            <p:cNvSpPr/>
            <p:nvPr/>
          </p:nvSpPr>
          <p:spPr>
            <a:xfrm>
              <a:off x="2225880" y="3189240"/>
              <a:ext cx="866520" cy="676440"/>
            </a:xfrm>
            <a:prstGeom prst="line">
              <a:avLst/>
            </a:prstGeom>
            <a:ln w="5076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6" name=""/>
          <p:cNvGrpSpPr/>
          <p:nvPr/>
        </p:nvGrpSpPr>
        <p:grpSpPr>
          <a:xfrm>
            <a:off x="5562720" y="5029200"/>
            <a:ext cx="3277800" cy="1733760"/>
            <a:chOff x="5562720" y="5029200"/>
            <a:chExt cx="3277800" cy="1733760"/>
          </a:xfrm>
        </p:grpSpPr>
        <p:sp>
          <p:nvSpPr>
            <p:cNvPr id="2747" name=""/>
            <p:cNvSpPr/>
            <p:nvPr/>
          </p:nvSpPr>
          <p:spPr>
            <a:xfrm flipH="1" flipV="1">
              <a:off x="5562720" y="5029200"/>
              <a:ext cx="604800" cy="628560"/>
            </a:xfrm>
            <a:prstGeom prst="line">
              <a:avLst/>
            </a:prstGeom>
            <a:ln w="5076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8" name=""/>
            <p:cNvGrpSpPr/>
            <p:nvPr/>
          </p:nvGrpSpPr>
          <p:grpSpPr>
            <a:xfrm>
              <a:off x="5856120" y="5305320"/>
              <a:ext cx="2984400" cy="1457640"/>
              <a:chOff x="5856120" y="5305320"/>
              <a:chExt cx="2984400" cy="1457640"/>
            </a:xfrm>
          </p:grpSpPr>
          <p:sp>
            <p:nvSpPr>
              <p:cNvPr id="2749" name=""/>
              <p:cNvSpPr/>
              <p:nvPr/>
            </p:nvSpPr>
            <p:spPr>
              <a:xfrm flipH="1">
                <a:off x="6154920" y="5305320"/>
                <a:ext cx="2685600" cy="14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… </a:t>
                </a: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elküldi a felhasználói felület változásait..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856120" y="5332320"/>
                <a:ext cx="589680" cy="613080"/>
              </a:xfrm>
              <a:prstGeom prst="ellipse">
                <a:avLst/>
              </a:prstGeom>
              <a:solidFill>
                <a:srgbClr val="fccf00"/>
              </a:solidFill>
              <a:ln w="0">
                <a:noFill/>
              </a:ln>
              <a:effectLst>
                <a:outerShdw dist="17819" dir="2700000" blurRad="0" rotWithShape="0">
                  <a:srgbClr val="82828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1" name=""/>
          <p:cNvGrpSpPr/>
          <p:nvPr/>
        </p:nvGrpSpPr>
        <p:grpSpPr>
          <a:xfrm>
            <a:off x="4105440" y="4427640"/>
            <a:ext cx="412560" cy="1390680"/>
            <a:chOff x="4105440" y="4427640"/>
            <a:chExt cx="412560" cy="1390680"/>
          </a:xfrm>
        </p:grpSpPr>
        <p:sp>
          <p:nvSpPr>
            <p:cNvPr id="2752" name=""/>
            <p:cNvSpPr/>
            <p:nvPr/>
          </p:nvSpPr>
          <p:spPr>
            <a:xfrm>
              <a:off x="4156200" y="4427640"/>
              <a:ext cx="338040" cy="636480"/>
            </a:xfrm>
            <a:custGeom>
              <a:avLst/>
              <a:gdLst/>
              <a:ahLst/>
              <a:rect l="l" t="t" r="r" b="b"/>
              <a:pathLst>
                <a:path w="229" h="431">
                  <a:moveTo>
                    <a:pt x="196" y="0"/>
                  </a:moveTo>
                  <a:lnTo>
                    <a:pt x="0" y="418"/>
                  </a:lnTo>
                  <a:lnTo>
                    <a:pt x="31" y="430"/>
                  </a:lnTo>
                  <a:lnTo>
                    <a:pt x="228" y="9"/>
                  </a:lnTo>
                  <a:lnTo>
                    <a:pt x="19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152960" y="4444920"/>
              <a:ext cx="365040" cy="1366920"/>
            </a:xfrm>
            <a:custGeom>
              <a:avLst/>
              <a:gdLst/>
              <a:ahLst/>
              <a:rect l="l" t="t" r="r" b="b"/>
              <a:pathLst>
                <a:path w="247" h="925">
                  <a:moveTo>
                    <a:pt x="229" y="0"/>
                  </a:moveTo>
                  <a:lnTo>
                    <a:pt x="228" y="2"/>
                  </a:lnTo>
                  <a:lnTo>
                    <a:pt x="225" y="9"/>
                  </a:lnTo>
                  <a:lnTo>
                    <a:pt x="221" y="21"/>
                  </a:lnTo>
                  <a:lnTo>
                    <a:pt x="217" y="38"/>
                  </a:lnTo>
                  <a:lnTo>
                    <a:pt x="211" y="57"/>
                  </a:lnTo>
                  <a:lnTo>
                    <a:pt x="207" y="81"/>
                  </a:lnTo>
                  <a:lnTo>
                    <a:pt x="203" y="109"/>
                  </a:lnTo>
                  <a:lnTo>
                    <a:pt x="199" y="142"/>
                  </a:lnTo>
                  <a:lnTo>
                    <a:pt x="196" y="177"/>
                  </a:lnTo>
                  <a:lnTo>
                    <a:pt x="195" y="216"/>
                  </a:lnTo>
                  <a:lnTo>
                    <a:pt x="196" y="257"/>
                  </a:lnTo>
                  <a:lnTo>
                    <a:pt x="200" y="302"/>
                  </a:lnTo>
                  <a:lnTo>
                    <a:pt x="206" y="349"/>
                  </a:lnTo>
                  <a:lnTo>
                    <a:pt x="215" y="400"/>
                  </a:lnTo>
                  <a:lnTo>
                    <a:pt x="228" y="452"/>
                  </a:lnTo>
                  <a:lnTo>
                    <a:pt x="246" y="507"/>
                  </a:lnTo>
                  <a:lnTo>
                    <a:pt x="244" y="508"/>
                  </a:lnTo>
                  <a:lnTo>
                    <a:pt x="49" y="924"/>
                  </a:lnTo>
                  <a:lnTo>
                    <a:pt x="32" y="870"/>
                  </a:lnTo>
                  <a:lnTo>
                    <a:pt x="20" y="818"/>
                  </a:lnTo>
                  <a:lnTo>
                    <a:pt x="10" y="767"/>
                  </a:lnTo>
                  <a:lnTo>
                    <a:pt x="4" y="721"/>
                  </a:lnTo>
                  <a:lnTo>
                    <a:pt x="1" y="676"/>
                  </a:lnTo>
                  <a:lnTo>
                    <a:pt x="0" y="633"/>
                  </a:lnTo>
                  <a:lnTo>
                    <a:pt x="1" y="595"/>
                  </a:lnTo>
                  <a:lnTo>
                    <a:pt x="4" y="560"/>
                  </a:lnTo>
                  <a:lnTo>
                    <a:pt x="6" y="528"/>
                  </a:lnTo>
                  <a:lnTo>
                    <a:pt x="12" y="500"/>
                  </a:lnTo>
                  <a:lnTo>
                    <a:pt x="16" y="476"/>
                  </a:lnTo>
                  <a:lnTo>
                    <a:pt x="21" y="456"/>
                  </a:lnTo>
                  <a:lnTo>
                    <a:pt x="26" y="439"/>
                  </a:lnTo>
                  <a:lnTo>
                    <a:pt x="30" y="428"/>
                  </a:lnTo>
                  <a:lnTo>
                    <a:pt x="32" y="421"/>
                  </a:lnTo>
                  <a:lnTo>
                    <a:pt x="32" y="418"/>
                  </a:lnTo>
                  <a:lnTo>
                    <a:pt x="228" y="0"/>
                  </a:lnTo>
                  <a:lnTo>
                    <a:pt x="229" y="0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105440" y="5045040"/>
              <a:ext cx="129960" cy="773280"/>
            </a:xfrm>
            <a:custGeom>
              <a:avLst/>
              <a:gdLst/>
              <a:ahLst/>
              <a:rect l="l" t="t" r="r" b="b"/>
              <a:pathLst>
                <a:path w="88" h="523">
                  <a:moveTo>
                    <a:pt x="87" y="522"/>
                  </a:moveTo>
                  <a:lnTo>
                    <a:pt x="70" y="467"/>
                  </a:lnTo>
                  <a:lnTo>
                    <a:pt x="56" y="415"/>
                  </a:lnTo>
                  <a:lnTo>
                    <a:pt x="47" y="366"/>
                  </a:lnTo>
                  <a:lnTo>
                    <a:pt x="40" y="318"/>
                  </a:lnTo>
                  <a:lnTo>
                    <a:pt x="37" y="273"/>
                  </a:lnTo>
                  <a:lnTo>
                    <a:pt x="36" y="232"/>
                  </a:lnTo>
                  <a:lnTo>
                    <a:pt x="37" y="193"/>
                  </a:lnTo>
                  <a:lnTo>
                    <a:pt x="40" y="158"/>
                  </a:lnTo>
                  <a:lnTo>
                    <a:pt x="43" y="127"/>
                  </a:lnTo>
                  <a:lnTo>
                    <a:pt x="49" y="99"/>
                  </a:lnTo>
                  <a:lnTo>
                    <a:pt x="53" y="74"/>
                  </a:lnTo>
                  <a:lnTo>
                    <a:pt x="58" y="54"/>
                  </a:lnTo>
                  <a:lnTo>
                    <a:pt x="63" y="39"/>
                  </a:lnTo>
                  <a:lnTo>
                    <a:pt x="67" y="26"/>
                  </a:lnTo>
                  <a:lnTo>
                    <a:pt x="70" y="19"/>
                  </a:lnTo>
                  <a:lnTo>
                    <a:pt x="70" y="16"/>
                  </a:lnTo>
                  <a:lnTo>
                    <a:pt x="35" y="0"/>
                  </a:lnTo>
                  <a:lnTo>
                    <a:pt x="33" y="2"/>
                  </a:lnTo>
                  <a:lnTo>
                    <a:pt x="30" y="9"/>
                  </a:lnTo>
                  <a:lnTo>
                    <a:pt x="26" y="21"/>
                  </a:lnTo>
                  <a:lnTo>
                    <a:pt x="22" y="37"/>
                  </a:lnTo>
                  <a:lnTo>
                    <a:pt x="16" y="57"/>
                  </a:lnTo>
                  <a:lnTo>
                    <a:pt x="12" y="81"/>
                  </a:lnTo>
                  <a:lnTo>
                    <a:pt x="8" y="109"/>
                  </a:lnTo>
                  <a:lnTo>
                    <a:pt x="4" y="141"/>
                  </a:lnTo>
                  <a:lnTo>
                    <a:pt x="1" y="176"/>
                  </a:lnTo>
                  <a:lnTo>
                    <a:pt x="0" y="214"/>
                  </a:lnTo>
                  <a:lnTo>
                    <a:pt x="1" y="256"/>
                  </a:lnTo>
                  <a:lnTo>
                    <a:pt x="5" y="301"/>
                  </a:lnTo>
                  <a:lnTo>
                    <a:pt x="11" y="348"/>
                  </a:lnTo>
                  <a:lnTo>
                    <a:pt x="21" y="398"/>
                  </a:lnTo>
                  <a:lnTo>
                    <a:pt x="33" y="450"/>
                  </a:lnTo>
                  <a:lnTo>
                    <a:pt x="50" y="503"/>
                  </a:lnTo>
                  <a:lnTo>
                    <a:pt x="87" y="522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4952880" y="4419720"/>
            <a:ext cx="228240" cy="1390320"/>
            <a:chOff x="4952880" y="4419720"/>
            <a:chExt cx="228240" cy="1390320"/>
          </a:xfrm>
        </p:grpSpPr>
        <p:sp>
          <p:nvSpPr>
            <p:cNvPr id="2756" name=""/>
            <p:cNvSpPr/>
            <p:nvPr/>
          </p:nvSpPr>
          <p:spPr>
            <a:xfrm>
              <a:off x="4964760" y="4419720"/>
              <a:ext cx="155880" cy="655920"/>
            </a:xfrm>
            <a:custGeom>
              <a:avLst/>
              <a:gdLst/>
              <a:ahLst/>
              <a:rect l="l" t="t" r="r" b="b"/>
              <a:pathLst>
                <a:path w="105" h="444">
                  <a:moveTo>
                    <a:pt x="85" y="0"/>
                  </a:moveTo>
                  <a:lnTo>
                    <a:pt x="0" y="437"/>
                  </a:lnTo>
                  <a:lnTo>
                    <a:pt x="18" y="443"/>
                  </a:lnTo>
                  <a:lnTo>
                    <a:pt x="104" y="7"/>
                  </a:lnTo>
                  <a:lnTo>
                    <a:pt x="8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982400" y="4431600"/>
              <a:ext cx="198720" cy="1378440"/>
            </a:xfrm>
            <a:custGeom>
              <a:avLst/>
              <a:gdLst/>
              <a:ahLst/>
              <a:rect l="l" t="t" r="r" b="b"/>
              <a:pathLst>
                <a:path w="134" h="933">
                  <a:moveTo>
                    <a:pt x="93" y="0"/>
                  </a:moveTo>
                  <a:lnTo>
                    <a:pt x="93" y="1"/>
                  </a:lnTo>
                  <a:lnTo>
                    <a:pt x="91" y="9"/>
                  </a:lnTo>
                  <a:lnTo>
                    <a:pt x="90" y="21"/>
                  </a:lnTo>
                  <a:lnTo>
                    <a:pt x="89" y="38"/>
                  </a:lnTo>
                  <a:lnTo>
                    <a:pt x="87" y="59"/>
                  </a:lnTo>
                  <a:lnTo>
                    <a:pt x="86" y="83"/>
                  </a:lnTo>
                  <a:lnTo>
                    <a:pt x="85" y="111"/>
                  </a:lnTo>
                  <a:lnTo>
                    <a:pt x="85" y="143"/>
                  </a:lnTo>
                  <a:lnTo>
                    <a:pt x="85" y="178"/>
                  </a:lnTo>
                  <a:lnTo>
                    <a:pt x="87" y="216"/>
                  </a:lnTo>
                  <a:lnTo>
                    <a:pt x="90" y="257"/>
                  </a:lnTo>
                  <a:lnTo>
                    <a:pt x="94" y="301"/>
                  </a:lnTo>
                  <a:lnTo>
                    <a:pt x="101" y="347"/>
                  </a:lnTo>
                  <a:lnTo>
                    <a:pt x="109" y="395"/>
                  </a:lnTo>
                  <a:lnTo>
                    <a:pt x="120" y="446"/>
                  </a:lnTo>
                  <a:lnTo>
                    <a:pt x="133" y="496"/>
                  </a:lnTo>
                  <a:lnTo>
                    <a:pt x="133" y="499"/>
                  </a:lnTo>
                  <a:lnTo>
                    <a:pt x="47" y="932"/>
                  </a:lnTo>
                  <a:lnTo>
                    <a:pt x="35" y="881"/>
                  </a:lnTo>
                  <a:lnTo>
                    <a:pt x="24" y="830"/>
                  </a:lnTo>
                  <a:lnTo>
                    <a:pt x="16" y="782"/>
                  </a:lnTo>
                  <a:lnTo>
                    <a:pt x="9" y="736"/>
                  </a:lnTo>
                  <a:lnTo>
                    <a:pt x="5" y="692"/>
                  </a:lnTo>
                  <a:lnTo>
                    <a:pt x="2" y="651"/>
                  </a:lnTo>
                  <a:lnTo>
                    <a:pt x="0" y="613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0" y="518"/>
                  </a:lnTo>
                  <a:lnTo>
                    <a:pt x="1" y="494"/>
                  </a:lnTo>
                  <a:lnTo>
                    <a:pt x="2" y="473"/>
                  </a:lnTo>
                  <a:lnTo>
                    <a:pt x="4" y="456"/>
                  </a:lnTo>
                  <a:lnTo>
                    <a:pt x="6" y="444"/>
                  </a:lnTo>
                  <a:lnTo>
                    <a:pt x="6" y="436"/>
                  </a:lnTo>
                  <a:lnTo>
                    <a:pt x="8" y="435"/>
                  </a:lnTo>
                  <a:lnTo>
                    <a:pt x="93" y="0"/>
                  </a:lnTo>
                  <a:lnTo>
                    <a:pt x="93" y="0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952880" y="5056560"/>
              <a:ext cx="102600" cy="753480"/>
            </a:xfrm>
            <a:custGeom>
              <a:avLst/>
              <a:gdLst/>
              <a:ahLst/>
              <a:rect l="l" t="t" r="r" b="b"/>
              <a:pathLst>
                <a:path w="69" h="510">
                  <a:moveTo>
                    <a:pt x="68" y="509"/>
                  </a:moveTo>
                  <a:lnTo>
                    <a:pt x="55" y="457"/>
                  </a:lnTo>
                  <a:lnTo>
                    <a:pt x="44" y="408"/>
                  </a:lnTo>
                  <a:lnTo>
                    <a:pt x="36" y="360"/>
                  </a:lnTo>
                  <a:lnTo>
                    <a:pt x="31" y="314"/>
                  </a:lnTo>
                  <a:lnTo>
                    <a:pt x="25" y="270"/>
                  </a:lnTo>
                  <a:lnTo>
                    <a:pt x="23" y="229"/>
                  </a:lnTo>
                  <a:lnTo>
                    <a:pt x="20" y="192"/>
                  </a:lnTo>
                  <a:lnTo>
                    <a:pt x="20" y="157"/>
                  </a:lnTo>
                  <a:lnTo>
                    <a:pt x="20" y="124"/>
                  </a:lnTo>
                  <a:lnTo>
                    <a:pt x="21" y="96"/>
                  </a:lnTo>
                  <a:lnTo>
                    <a:pt x="21" y="72"/>
                  </a:lnTo>
                  <a:lnTo>
                    <a:pt x="24" y="51"/>
                  </a:lnTo>
                  <a:lnTo>
                    <a:pt x="25" y="35"/>
                  </a:lnTo>
                  <a:lnTo>
                    <a:pt x="27" y="23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6" y="0"/>
                  </a:lnTo>
                  <a:lnTo>
                    <a:pt x="6" y="2"/>
                  </a:lnTo>
                  <a:lnTo>
                    <a:pt x="5" y="9"/>
                  </a:lnTo>
                  <a:lnTo>
                    <a:pt x="4" y="22"/>
                  </a:lnTo>
                  <a:lnTo>
                    <a:pt x="2" y="39"/>
                  </a:lnTo>
                  <a:lnTo>
                    <a:pt x="1" y="58"/>
                  </a:lnTo>
                  <a:lnTo>
                    <a:pt x="0" y="84"/>
                  </a:lnTo>
                  <a:lnTo>
                    <a:pt x="0" y="112"/>
                  </a:lnTo>
                  <a:lnTo>
                    <a:pt x="0" y="144"/>
                  </a:lnTo>
                  <a:lnTo>
                    <a:pt x="0" y="178"/>
                  </a:lnTo>
                  <a:lnTo>
                    <a:pt x="1" y="217"/>
                  </a:lnTo>
                  <a:lnTo>
                    <a:pt x="5" y="258"/>
                  </a:lnTo>
                  <a:lnTo>
                    <a:pt x="9" y="301"/>
                  </a:lnTo>
                  <a:lnTo>
                    <a:pt x="16" y="346"/>
                  </a:lnTo>
                  <a:lnTo>
                    <a:pt x="24" y="395"/>
                  </a:lnTo>
                  <a:lnTo>
                    <a:pt x="34" y="444"/>
                  </a:lnTo>
                  <a:lnTo>
                    <a:pt x="47" y="496"/>
                  </a:lnTo>
                  <a:lnTo>
                    <a:pt x="68" y="50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9" name=""/>
          <p:cNvGrpSpPr/>
          <p:nvPr/>
        </p:nvGrpSpPr>
        <p:grpSpPr>
          <a:xfrm>
            <a:off x="5562720" y="4024440"/>
            <a:ext cx="513720" cy="1309320"/>
            <a:chOff x="5562720" y="4024440"/>
            <a:chExt cx="513720" cy="1309320"/>
          </a:xfrm>
        </p:grpSpPr>
        <p:sp>
          <p:nvSpPr>
            <p:cNvPr id="2760" name=""/>
            <p:cNvSpPr/>
            <p:nvPr/>
          </p:nvSpPr>
          <p:spPr>
            <a:xfrm>
              <a:off x="5562720" y="4055400"/>
              <a:ext cx="466560" cy="1278360"/>
            </a:xfrm>
            <a:custGeom>
              <a:avLst/>
              <a:gdLst/>
              <a:ahLst/>
              <a:rect l="l" t="t" r="r" b="b"/>
              <a:pathLst>
                <a:path w="316" h="865">
                  <a:moveTo>
                    <a:pt x="1" y="0"/>
                  </a:moveTo>
                  <a:lnTo>
                    <a:pt x="315" y="323"/>
                  </a:lnTo>
                  <a:lnTo>
                    <a:pt x="315" y="864"/>
                  </a:lnTo>
                  <a:lnTo>
                    <a:pt x="0" y="53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564160" y="4024440"/>
              <a:ext cx="501840" cy="515880"/>
            </a:xfrm>
            <a:custGeom>
              <a:avLst/>
              <a:gdLst/>
              <a:ahLst/>
              <a:rect l="l" t="t" r="r" b="b"/>
              <a:pathLst>
                <a:path w="340" h="349">
                  <a:moveTo>
                    <a:pt x="318" y="348"/>
                  </a:moveTo>
                  <a:lnTo>
                    <a:pt x="339" y="326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318" y="3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042600" y="4534200"/>
              <a:ext cx="33840" cy="795240"/>
            </a:xfrm>
            <a:custGeom>
              <a:avLst/>
              <a:gdLst/>
              <a:ahLst/>
              <a:rect l="l" t="t" r="r" b="b"/>
              <a:pathLst>
                <a:path w="23" h="538">
                  <a:moveTo>
                    <a:pt x="22" y="0"/>
                  </a:moveTo>
                  <a:lnTo>
                    <a:pt x="22" y="521"/>
                  </a:lnTo>
                  <a:lnTo>
                    <a:pt x="0" y="537"/>
                  </a:lnTo>
                  <a:lnTo>
                    <a:pt x="0" y="18"/>
                  </a:lnTo>
                  <a:lnTo>
                    <a:pt x="22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3" name=""/>
          <p:cNvGrpSpPr/>
          <p:nvPr/>
        </p:nvGrpSpPr>
        <p:grpSpPr>
          <a:xfrm>
            <a:off x="5715000" y="1447920"/>
            <a:ext cx="3138480" cy="2387520"/>
            <a:chOff x="5715000" y="1447920"/>
            <a:chExt cx="3138480" cy="2387520"/>
          </a:xfrm>
        </p:grpSpPr>
        <p:sp>
          <p:nvSpPr>
            <p:cNvPr id="2764" name=""/>
            <p:cNvSpPr/>
            <p:nvPr/>
          </p:nvSpPr>
          <p:spPr>
            <a:xfrm flipH="1">
              <a:off x="6907320" y="2913120"/>
              <a:ext cx="550800" cy="922320"/>
            </a:xfrm>
            <a:prstGeom prst="line">
              <a:avLst/>
            </a:prstGeom>
            <a:ln w="5076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5" name=""/>
            <p:cNvGrpSpPr/>
            <p:nvPr/>
          </p:nvGrpSpPr>
          <p:grpSpPr>
            <a:xfrm>
              <a:off x="5715000" y="1447920"/>
              <a:ext cx="3138480" cy="1276560"/>
              <a:chOff x="5715000" y="1447920"/>
              <a:chExt cx="3138480" cy="1276560"/>
            </a:xfrm>
          </p:grpSpPr>
          <p:sp>
            <p:nvSpPr>
              <p:cNvPr id="2766" name=""/>
              <p:cNvSpPr/>
              <p:nvPr/>
            </p:nvSpPr>
            <p:spPr>
              <a:xfrm>
                <a:off x="5715000" y="1608120"/>
                <a:ext cx="313848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… </a:t>
                </a:r>
                <a:r>
                  <a:rPr b="1" lang="hu-HU" sz="2800" spc="-1" strike="noStrike">
                    <a:solidFill>
                      <a:srgbClr val="ffffff"/>
                    </a:solidFill>
                    <a:latin typeface="Arial"/>
                  </a:rPr>
                  <a:t>amelyek megjelennek az ügyfélgépen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819760" y="1447920"/>
                <a:ext cx="603360" cy="613080"/>
              </a:xfrm>
              <a:prstGeom prst="ellipse">
                <a:avLst/>
              </a:prstGeom>
              <a:solidFill>
                <a:srgbClr val="fccf00"/>
              </a:solidFill>
              <a:ln w="0">
                <a:noFill/>
              </a:ln>
              <a:effectLst>
                <a:outerShdw dist="17819" dir="2700000" blurRad="0" rotWithShape="0">
                  <a:srgbClr val="82828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8" name=""/>
          <p:cNvSpPr/>
          <p:nvPr/>
        </p:nvSpPr>
        <p:spPr>
          <a:xfrm>
            <a:off x="7238880" y="3581280"/>
            <a:ext cx="170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eea564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eea564"/>
                </a:solidFill>
                <a:latin typeface="Arial"/>
              </a:rPr>
              <a:t>ügyfé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9" name=""/>
          <p:cNvGrpSpPr/>
          <p:nvPr/>
        </p:nvGrpSpPr>
        <p:grpSpPr>
          <a:xfrm>
            <a:off x="609480" y="2362320"/>
            <a:ext cx="1962360" cy="2286000"/>
            <a:chOff x="609480" y="2362320"/>
            <a:chExt cx="1962360" cy="2286000"/>
          </a:xfrm>
        </p:grpSpPr>
        <p:pic>
          <p:nvPicPr>
            <p:cNvPr id="2770" name="dell%20server" descr=""/>
            <p:cNvPicPr/>
            <p:nvPr/>
          </p:nvPicPr>
          <p:blipFill>
            <a:blip r:embed="rId2"/>
            <a:stretch/>
          </p:blipFill>
          <p:spPr>
            <a:xfrm>
              <a:off x="609480" y="2362320"/>
              <a:ext cx="196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1" name=""/>
            <p:cNvSpPr txBox="1"/>
            <p:nvPr/>
          </p:nvSpPr>
          <p:spPr>
            <a:xfrm>
              <a:off x="609480" y="2362320"/>
              <a:ext cx="1962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2" name=""/>
          <p:cNvSpPr/>
          <p:nvPr/>
        </p:nvSpPr>
        <p:spPr>
          <a:xfrm>
            <a:off x="253080" y="1905120"/>
            <a:ext cx="2424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63360" bIns="63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Windows 2000 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erminal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5943600" y="3198960"/>
            <a:ext cx="30481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840" rIns="123840" tIns="63360" bIns="63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 Terminá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E alap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eea564"/>
                </a:solidFill>
                <a:latin typeface="Arial"/>
              </a:rPr>
              <a:t>Embedded 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4" name=""/>
          <p:cNvGrpSpPr/>
          <p:nvPr/>
        </p:nvGrpSpPr>
        <p:grpSpPr>
          <a:xfrm>
            <a:off x="5029200" y="3124080"/>
            <a:ext cx="1361880" cy="1334880"/>
            <a:chOff x="5029200" y="3124080"/>
            <a:chExt cx="1361880" cy="1334880"/>
          </a:xfrm>
        </p:grpSpPr>
        <p:sp>
          <p:nvSpPr>
            <p:cNvPr id="2775" name=""/>
            <p:cNvSpPr/>
            <p:nvPr/>
          </p:nvSpPr>
          <p:spPr>
            <a:xfrm>
              <a:off x="5236200" y="3571200"/>
              <a:ext cx="90000" cy="85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5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33" y="35"/>
                  </a:lnTo>
                  <a:lnTo>
                    <a:pt x="0" y="35"/>
                  </a:lnTo>
                </a:path>
              </a:pathLst>
            </a:custGeom>
            <a:solidFill>
              <a:srgbClr val="e0d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368680" y="3571200"/>
              <a:ext cx="87840" cy="853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5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498640" y="3571200"/>
              <a:ext cx="90000" cy="85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5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33" y="35"/>
                  </a:lnTo>
                  <a:lnTo>
                    <a:pt x="0" y="35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5631840" y="3571200"/>
              <a:ext cx="87120" cy="853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5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761800" y="3571200"/>
              <a:ext cx="90000" cy="85320"/>
            </a:xfrm>
            <a:custGeom>
              <a:avLst/>
              <a:gdLst/>
              <a:ahLst/>
              <a:rect l="l" t="t" r="r" b="b"/>
              <a:pathLst>
                <a:path w="34" h="36">
                  <a:moveTo>
                    <a:pt x="0" y="35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33" y="35"/>
                  </a:lnTo>
                  <a:lnTo>
                    <a:pt x="0" y="35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894280" y="3571200"/>
              <a:ext cx="87840" cy="853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35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</a:path>
              </a:pathLst>
            </a:custGeom>
            <a:solidFill>
              <a:srgbClr val="1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283720" y="3767400"/>
              <a:ext cx="682200" cy="205920"/>
            </a:xfrm>
            <a:custGeom>
              <a:avLst/>
              <a:gdLst/>
              <a:ahLst/>
              <a:rect l="l" t="t" r="r" b="b"/>
              <a:pathLst>
                <a:path w="257" h="87">
                  <a:moveTo>
                    <a:pt x="13" y="0"/>
                  </a:moveTo>
                  <a:lnTo>
                    <a:pt x="232" y="1"/>
                  </a:lnTo>
                  <a:lnTo>
                    <a:pt x="256" y="86"/>
                  </a:lnTo>
                  <a:lnTo>
                    <a:pt x="0" y="86"/>
                  </a:lnTo>
                  <a:lnTo>
                    <a:pt x="13" y="0"/>
                  </a:lnTo>
                </a:path>
              </a:pathLst>
            </a:custGeom>
            <a:solidFill>
              <a:srgbClr val="c0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83720" y="3980520"/>
              <a:ext cx="682200" cy="39960"/>
            </a:xfrm>
            <a:custGeom>
              <a:avLst/>
              <a:gdLst/>
              <a:ahLst/>
              <a:rect l="l" t="t" r="r" b="b"/>
              <a:pathLst>
                <a:path w="257" h="17">
                  <a:moveTo>
                    <a:pt x="256" y="0"/>
                  </a:moveTo>
                  <a:lnTo>
                    <a:pt x="25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6" y="0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69840" y="3762720"/>
              <a:ext cx="315360" cy="14220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182560" y="3171240"/>
              <a:ext cx="45000" cy="660240"/>
            </a:xfrm>
            <a:custGeom>
              <a:avLst/>
              <a:gdLst/>
              <a:ahLst/>
              <a:rect l="l" t="t" r="r" b="b"/>
              <a:pathLst>
                <a:path w="17" h="279">
                  <a:moveTo>
                    <a:pt x="13" y="0"/>
                  </a:moveTo>
                  <a:lnTo>
                    <a:pt x="0" y="9"/>
                  </a:lnTo>
                  <a:lnTo>
                    <a:pt x="0" y="234"/>
                  </a:lnTo>
                  <a:lnTo>
                    <a:pt x="16" y="278"/>
                  </a:lnTo>
                  <a:lnTo>
                    <a:pt x="13" y="0"/>
                  </a:lnTo>
                </a:path>
              </a:pathLst>
            </a:custGeom>
            <a:solidFill>
              <a:srgbClr val="b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268240" y="3166200"/>
              <a:ext cx="790920" cy="724680"/>
            </a:xfrm>
            <a:custGeom>
              <a:avLst/>
              <a:gdLst/>
              <a:ahLst/>
              <a:rect l="l" t="t" r="r" b="b"/>
              <a:pathLst>
                <a:path w="298" h="306">
                  <a:moveTo>
                    <a:pt x="297" y="273"/>
                  </a:moveTo>
                  <a:lnTo>
                    <a:pt x="0" y="305"/>
                  </a:lnTo>
                  <a:lnTo>
                    <a:pt x="0" y="13"/>
                  </a:lnTo>
                  <a:lnTo>
                    <a:pt x="297" y="0"/>
                  </a:lnTo>
                  <a:lnTo>
                    <a:pt x="297" y="27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326560" y="3194640"/>
              <a:ext cx="647640" cy="57744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234" y="0"/>
                  </a:moveTo>
                  <a:lnTo>
                    <a:pt x="234" y="0"/>
                  </a:lnTo>
                  <a:lnTo>
                    <a:pt x="234" y="0"/>
                  </a:lnTo>
                  <a:lnTo>
                    <a:pt x="236" y="3"/>
                  </a:lnTo>
                  <a:lnTo>
                    <a:pt x="237" y="5"/>
                  </a:lnTo>
                  <a:lnTo>
                    <a:pt x="237" y="8"/>
                  </a:lnTo>
                  <a:lnTo>
                    <a:pt x="237" y="11"/>
                  </a:lnTo>
                  <a:lnTo>
                    <a:pt x="239" y="15"/>
                  </a:lnTo>
                  <a:lnTo>
                    <a:pt x="239" y="21"/>
                  </a:lnTo>
                  <a:lnTo>
                    <a:pt x="239" y="26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2" y="46"/>
                  </a:lnTo>
                  <a:lnTo>
                    <a:pt x="242" y="53"/>
                  </a:lnTo>
                  <a:lnTo>
                    <a:pt x="242" y="62"/>
                  </a:lnTo>
                  <a:lnTo>
                    <a:pt x="243" y="69"/>
                  </a:lnTo>
                  <a:lnTo>
                    <a:pt x="243" y="77"/>
                  </a:lnTo>
                  <a:lnTo>
                    <a:pt x="243" y="86"/>
                  </a:lnTo>
                  <a:lnTo>
                    <a:pt x="243" y="95"/>
                  </a:lnTo>
                  <a:lnTo>
                    <a:pt x="243" y="103"/>
                  </a:lnTo>
                  <a:lnTo>
                    <a:pt x="243" y="112"/>
                  </a:lnTo>
                  <a:lnTo>
                    <a:pt x="243" y="121"/>
                  </a:lnTo>
                  <a:lnTo>
                    <a:pt x="243" y="130"/>
                  </a:lnTo>
                  <a:lnTo>
                    <a:pt x="243" y="139"/>
                  </a:lnTo>
                  <a:lnTo>
                    <a:pt x="243" y="148"/>
                  </a:lnTo>
                  <a:lnTo>
                    <a:pt x="243" y="155"/>
                  </a:lnTo>
                  <a:lnTo>
                    <a:pt x="242" y="164"/>
                  </a:lnTo>
                  <a:lnTo>
                    <a:pt x="242" y="171"/>
                  </a:lnTo>
                  <a:lnTo>
                    <a:pt x="242" y="178"/>
                  </a:lnTo>
                  <a:lnTo>
                    <a:pt x="240" y="186"/>
                  </a:lnTo>
                  <a:lnTo>
                    <a:pt x="240" y="193"/>
                  </a:lnTo>
                  <a:lnTo>
                    <a:pt x="239" y="199"/>
                  </a:lnTo>
                  <a:lnTo>
                    <a:pt x="239" y="205"/>
                  </a:lnTo>
                  <a:lnTo>
                    <a:pt x="239" y="209"/>
                  </a:lnTo>
                  <a:lnTo>
                    <a:pt x="237" y="214"/>
                  </a:lnTo>
                  <a:lnTo>
                    <a:pt x="237" y="217"/>
                  </a:lnTo>
                  <a:lnTo>
                    <a:pt x="237" y="220"/>
                  </a:lnTo>
                  <a:lnTo>
                    <a:pt x="236" y="222"/>
                  </a:lnTo>
                  <a:lnTo>
                    <a:pt x="229" y="224"/>
                  </a:lnTo>
                  <a:lnTo>
                    <a:pt x="225" y="225"/>
                  </a:lnTo>
                  <a:lnTo>
                    <a:pt x="222" y="227"/>
                  </a:lnTo>
                  <a:lnTo>
                    <a:pt x="218" y="227"/>
                  </a:lnTo>
                  <a:lnTo>
                    <a:pt x="215" y="227"/>
                  </a:lnTo>
                  <a:lnTo>
                    <a:pt x="208" y="230"/>
                  </a:lnTo>
                  <a:lnTo>
                    <a:pt x="205" y="230"/>
                  </a:lnTo>
                  <a:lnTo>
                    <a:pt x="199" y="231"/>
                  </a:lnTo>
                  <a:lnTo>
                    <a:pt x="194" y="231"/>
                  </a:lnTo>
                  <a:lnTo>
                    <a:pt x="188" y="233"/>
                  </a:lnTo>
                  <a:lnTo>
                    <a:pt x="182" y="233"/>
                  </a:lnTo>
                  <a:lnTo>
                    <a:pt x="176" y="234"/>
                  </a:lnTo>
                  <a:lnTo>
                    <a:pt x="169" y="235"/>
                  </a:lnTo>
                  <a:lnTo>
                    <a:pt x="164" y="236"/>
                  </a:lnTo>
                  <a:lnTo>
                    <a:pt x="157" y="236"/>
                  </a:lnTo>
                  <a:lnTo>
                    <a:pt x="150" y="237"/>
                  </a:lnTo>
                  <a:lnTo>
                    <a:pt x="143" y="237"/>
                  </a:lnTo>
                  <a:lnTo>
                    <a:pt x="137" y="237"/>
                  </a:lnTo>
                  <a:lnTo>
                    <a:pt x="130" y="237"/>
                  </a:lnTo>
                  <a:lnTo>
                    <a:pt x="125" y="239"/>
                  </a:lnTo>
                  <a:lnTo>
                    <a:pt x="118" y="239"/>
                  </a:lnTo>
                  <a:lnTo>
                    <a:pt x="112" y="240"/>
                  </a:lnTo>
                  <a:lnTo>
                    <a:pt x="106" y="240"/>
                  </a:lnTo>
                  <a:lnTo>
                    <a:pt x="99" y="240"/>
                  </a:lnTo>
                  <a:lnTo>
                    <a:pt x="92" y="240"/>
                  </a:lnTo>
                  <a:lnTo>
                    <a:pt x="87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43"/>
                  </a:lnTo>
                  <a:lnTo>
                    <a:pt x="60" y="243"/>
                  </a:lnTo>
                  <a:lnTo>
                    <a:pt x="54" y="243"/>
                  </a:lnTo>
                  <a:lnTo>
                    <a:pt x="48" y="243"/>
                  </a:lnTo>
                  <a:lnTo>
                    <a:pt x="41" y="243"/>
                  </a:lnTo>
                  <a:lnTo>
                    <a:pt x="35" y="243"/>
                  </a:lnTo>
                  <a:lnTo>
                    <a:pt x="28" y="241"/>
                  </a:lnTo>
                  <a:lnTo>
                    <a:pt x="23" y="241"/>
                  </a:lnTo>
                  <a:lnTo>
                    <a:pt x="16" y="241"/>
                  </a:lnTo>
                  <a:lnTo>
                    <a:pt x="10" y="240"/>
                  </a:lnTo>
                  <a:lnTo>
                    <a:pt x="8" y="237"/>
                  </a:lnTo>
                  <a:lnTo>
                    <a:pt x="8" y="237"/>
                  </a:lnTo>
                  <a:lnTo>
                    <a:pt x="8" y="235"/>
                  </a:lnTo>
                  <a:lnTo>
                    <a:pt x="6" y="233"/>
                  </a:lnTo>
                  <a:lnTo>
                    <a:pt x="5" y="230"/>
                  </a:lnTo>
                  <a:lnTo>
                    <a:pt x="5" y="225"/>
                  </a:lnTo>
                  <a:lnTo>
                    <a:pt x="5" y="221"/>
                  </a:lnTo>
                  <a:lnTo>
                    <a:pt x="3" y="216"/>
                  </a:lnTo>
                  <a:lnTo>
                    <a:pt x="3" y="211"/>
                  </a:lnTo>
                  <a:lnTo>
                    <a:pt x="3" y="205"/>
                  </a:lnTo>
                  <a:lnTo>
                    <a:pt x="3" y="198"/>
                  </a:lnTo>
                  <a:lnTo>
                    <a:pt x="2" y="191"/>
                  </a:lnTo>
                  <a:lnTo>
                    <a:pt x="2" y="184"/>
                  </a:lnTo>
                  <a:lnTo>
                    <a:pt x="0" y="175"/>
                  </a:lnTo>
                  <a:lnTo>
                    <a:pt x="0" y="168"/>
                  </a:lnTo>
                  <a:lnTo>
                    <a:pt x="0" y="159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0" y="116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2" y="65"/>
                  </a:lnTo>
                  <a:lnTo>
                    <a:pt x="2" y="58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3" y="39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5" y="24"/>
                  </a:lnTo>
                  <a:lnTo>
                    <a:pt x="5" y="20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23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230800" y="3124080"/>
              <a:ext cx="828360" cy="70560"/>
            </a:xfrm>
            <a:custGeom>
              <a:avLst/>
              <a:gdLst/>
              <a:ahLst/>
              <a:rect l="l" t="t" r="r" b="b"/>
              <a:pathLst>
                <a:path w="312" h="30">
                  <a:moveTo>
                    <a:pt x="311" y="16"/>
                  </a:moveTo>
                  <a:lnTo>
                    <a:pt x="291" y="0"/>
                  </a:lnTo>
                  <a:lnTo>
                    <a:pt x="0" y="11"/>
                  </a:lnTo>
                  <a:lnTo>
                    <a:pt x="14" y="29"/>
                  </a:lnTo>
                  <a:lnTo>
                    <a:pt x="311" y="16"/>
                  </a:lnTo>
                </a:path>
              </a:pathLst>
            </a:custGeom>
            <a:solidFill>
              <a:srgbClr val="ff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230800" y="3159360"/>
              <a:ext cx="45000" cy="731520"/>
            </a:xfrm>
            <a:custGeom>
              <a:avLst/>
              <a:gdLst/>
              <a:ahLst/>
              <a:rect l="l" t="t" r="r" b="b"/>
              <a:pathLst>
                <a:path w="17" h="309">
                  <a:moveTo>
                    <a:pt x="0" y="0"/>
                  </a:moveTo>
                  <a:lnTo>
                    <a:pt x="16" y="19"/>
                  </a:lnTo>
                  <a:lnTo>
                    <a:pt x="16" y="308"/>
                  </a:lnTo>
                  <a:lnTo>
                    <a:pt x="0" y="282"/>
                  </a:lnTo>
                  <a:lnTo>
                    <a:pt x="0" y="0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010920" y="3166200"/>
              <a:ext cx="47880" cy="646200"/>
            </a:xfrm>
            <a:custGeom>
              <a:avLst/>
              <a:gdLst/>
              <a:ahLst/>
              <a:rect l="l" t="t" r="r" b="b"/>
              <a:pathLst>
                <a:path w="18" h="273">
                  <a:moveTo>
                    <a:pt x="17" y="0"/>
                  </a:moveTo>
                  <a:lnTo>
                    <a:pt x="0" y="15"/>
                  </a:lnTo>
                  <a:lnTo>
                    <a:pt x="0" y="245"/>
                  </a:lnTo>
                  <a:lnTo>
                    <a:pt x="17" y="272"/>
                  </a:lnTo>
                  <a:lnTo>
                    <a:pt x="17" y="0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268240" y="3758400"/>
              <a:ext cx="790920" cy="132480"/>
            </a:xfrm>
            <a:custGeom>
              <a:avLst/>
              <a:gdLst/>
              <a:ahLst/>
              <a:rect l="l" t="t" r="r" b="b"/>
              <a:pathLst>
                <a:path w="298" h="56">
                  <a:moveTo>
                    <a:pt x="297" y="25"/>
                  </a:moveTo>
                  <a:lnTo>
                    <a:pt x="274" y="0"/>
                  </a:lnTo>
                  <a:lnTo>
                    <a:pt x="22" y="25"/>
                  </a:lnTo>
                  <a:lnTo>
                    <a:pt x="0" y="55"/>
                  </a:lnTo>
                  <a:lnTo>
                    <a:pt x="297" y="25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268240" y="3201840"/>
              <a:ext cx="52920" cy="689040"/>
            </a:xfrm>
            <a:custGeom>
              <a:avLst/>
              <a:gdLst/>
              <a:ahLst/>
              <a:rect l="l" t="t" r="r" b="b"/>
              <a:pathLst>
                <a:path w="20" h="291">
                  <a:moveTo>
                    <a:pt x="0" y="290"/>
                  </a:moveTo>
                  <a:lnTo>
                    <a:pt x="19" y="258"/>
                  </a:lnTo>
                  <a:lnTo>
                    <a:pt x="19" y="13"/>
                  </a:lnTo>
                  <a:lnTo>
                    <a:pt x="0" y="0"/>
                  </a:lnTo>
                  <a:lnTo>
                    <a:pt x="0" y="290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268240" y="3166200"/>
              <a:ext cx="790920" cy="59040"/>
            </a:xfrm>
            <a:custGeom>
              <a:avLst/>
              <a:gdLst/>
              <a:ahLst/>
              <a:rect l="l" t="t" r="r" b="b"/>
              <a:pathLst>
                <a:path w="298" h="25">
                  <a:moveTo>
                    <a:pt x="0" y="12"/>
                  </a:moveTo>
                  <a:lnTo>
                    <a:pt x="22" y="24"/>
                  </a:lnTo>
                  <a:lnTo>
                    <a:pt x="274" y="14"/>
                  </a:lnTo>
                  <a:lnTo>
                    <a:pt x="297" y="0"/>
                  </a:lnTo>
                  <a:lnTo>
                    <a:pt x="0" y="12"/>
                  </a:lnTo>
                </a:path>
              </a:pathLst>
            </a:custGeom>
            <a:solidFill>
              <a:srgbClr val="e0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029200" y="4016160"/>
              <a:ext cx="1361880" cy="409320"/>
            </a:xfrm>
            <a:custGeom>
              <a:avLst/>
              <a:gdLst/>
              <a:ahLst/>
              <a:rect l="l" t="t" r="r" b="b"/>
              <a:pathLst>
                <a:path w="513" h="173">
                  <a:moveTo>
                    <a:pt x="452" y="0"/>
                  </a:moveTo>
                  <a:lnTo>
                    <a:pt x="0" y="33"/>
                  </a:lnTo>
                  <a:lnTo>
                    <a:pt x="35" y="172"/>
                  </a:lnTo>
                  <a:lnTo>
                    <a:pt x="512" y="124"/>
                  </a:lnTo>
                  <a:lnTo>
                    <a:pt x="452" y="0"/>
                  </a:lnTo>
                </a:path>
              </a:pathLst>
            </a:custGeom>
            <a:solidFill>
              <a:srgbClr val="fff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923800" y="4264560"/>
              <a:ext cx="84600" cy="3996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31" y="0"/>
                  </a:moveTo>
                  <a:lnTo>
                    <a:pt x="28" y="9"/>
                  </a:lnTo>
                  <a:lnTo>
                    <a:pt x="0" y="16"/>
                  </a:lnTo>
                  <a:lnTo>
                    <a:pt x="1" y="6"/>
                  </a:lnTo>
                  <a:lnTo>
                    <a:pt x="31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190840" y="4168080"/>
              <a:ext cx="817560" cy="205560"/>
            </a:xfrm>
            <a:custGeom>
              <a:avLst/>
              <a:gdLst/>
              <a:ahLst/>
              <a:rect l="l" t="t" r="r" b="b"/>
              <a:pathLst>
                <a:path w="308" h="87">
                  <a:moveTo>
                    <a:pt x="288" y="0"/>
                  </a:moveTo>
                  <a:lnTo>
                    <a:pt x="0" y="22"/>
                  </a:lnTo>
                  <a:lnTo>
                    <a:pt x="16" y="70"/>
                  </a:lnTo>
                  <a:lnTo>
                    <a:pt x="52" y="68"/>
                  </a:lnTo>
                  <a:lnTo>
                    <a:pt x="58" y="86"/>
                  </a:lnTo>
                  <a:lnTo>
                    <a:pt x="286" y="64"/>
                  </a:lnTo>
                  <a:lnTo>
                    <a:pt x="277" y="45"/>
                  </a:lnTo>
                  <a:lnTo>
                    <a:pt x="307" y="41"/>
                  </a:lnTo>
                  <a:lnTo>
                    <a:pt x="288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336640" y="4316760"/>
              <a:ext cx="615960" cy="68400"/>
            </a:xfrm>
            <a:custGeom>
              <a:avLst/>
              <a:gdLst/>
              <a:ahLst/>
              <a:rect l="l" t="t" r="r" b="b"/>
              <a:pathLst>
                <a:path w="232" h="29">
                  <a:moveTo>
                    <a:pt x="231" y="0"/>
                  </a:moveTo>
                  <a:lnTo>
                    <a:pt x="227" y="7"/>
                  </a:lnTo>
                  <a:lnTo>
                    <a:pt x="0" y="28"/>
                  </a:lnTo>
                  <a:lnTo>
                    <a:pt x="3" y="20"/>
                  </a:lnTo>
                  <a:lnTo>
                    <a:pt x="231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323320" y="4321440"/>
              <a:ext cx="45000" cy="6372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5" y="0"/>
                  </a:moveTo>
                  <a:lnTo>
                    <a:pt x="16" y="18"/>
                  </a:lnTo>
                  <a:lnTo>
                    <a:pt x="10" y="26"/>
                  </a:lnTo>
                  <a:lnTo>
                    <a:pt x="0" y="6"/>
                  </a:lnTo>
                  <a:lnTo>
                    <a:pt x="5" y="0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222880" y="4321440"/>
              <a:ext cx="108360" cy="399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0"/>
                  </a:moveTo>
                  <a:lnTo>
                    <a:pt x="36" y="11"/>
                  </a:lnTo>
                  <a:lnTo>
                    <a:pt x="0" y="16"/>
                  </a:lnTo>
                  <a:lnTo>
                    <a:pt x="3" y="4"/>
                  </a:lnTo>
                  <a:lnTo>
                    <a:pt x="40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177880" y="4219920"/>
              <a:ext cx="55080" cy="13248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20" y="48"/>
                  </a:moveTo>
                  <a:lnTo>
                    <a:pt x="16" y="55"/>
                  </a:lnTo>
                  <a:lnTo>
                    <a:pt x="0" y="7"/>
                  </a:lnTo>
                  <a:lnTo>
                    <a:pt x="3" y="0"/>
                  </a:lnTo>
                  <a:lnTo>
                    <a:pt x="20" y="48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037560" y="4132080"/>
              <a:ext cx="321480" cy="17064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90" y="0"/>
                  </a:moveTo>
                  <a:lnTo>
                    <a:pt x="120" y="61"/>
                  </a:lnTo>
                  <a:lnTo>
                    <a:pt x="26" y="71"/>
                  </a:lnTo>
                  <a:lnTo>
                    <a:pt x="0" y="11"/>
                  </a:lnTo>
                  <a:lnTo>
                    <a:pt x="90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099120" y="4272120"/>
              <a:ext cx="259920" cy="42120"/>
            </a:xfrm>
            <a:custGeom>
              <a:avLst/>
              <a:gdLst/>
              <a:ahLst/>
              <a:rect l="l" t="t" r="r" b="b"/>
              <a:pathLst>
                <a:path w="98" h="18">
                  <a:moveTo>
                    <a:pt x="97" y="0"/>
                  </a:moveTo>
                  <a:lnTo>
                    <a:pt x="94" y="6"/>
                  </a:lnTo>
                  <a:lnTo>
                    <a:pt x="0" y="17"/>
                  </a:lnTo>
                  <a:lnTo>
                    <a:pt x="3" y="10"/>
                  </a:lnTo>
                  <a:lnTo>
                    <a:pt x="97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032880" y="4158360"/>
              <a:ext cx="76320" cy="15804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8" y="60"/>
                  </a:moveTo>
                  <a:lnTo>
                    <a:pt x="25" y="66"/>
                  </a:lnTo>
                  <a:lnTo>
                    <a:pt x="0" y="4"/>
                  </a:lnTo>
                  <a:lnTo>
                    <a:pt x="2" y="0"/>
                  </a:lnTo>
                  <a:lnTo>
                    <a:pt x="28" y="60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124240" y="4314600"/>
              <a:ext cx="1266840" cy="144360"/>
            </a:xfrm>
            <a:custGeom>
              <a:avLst/>
              <a:gdLst/>
              <a:ahLst/>
              <a:rect l="l" t="t" r="r" b="b"/>
              <a:pathLst>
                <a:path w="477" h="61">
                  <a:moveTo>
                    <a:pt x="476" y="0"/>
                  </a:moveTo>
                  <a:lnTo>
                    <a:pt x="476" y="13"/>
                  </a:lnTo>
                  <a:lnTo>
                    <a:pt x="0" y="60"/>
                  </a:lnTo>
                  <a:lnTo>
                    <a:pt x="0" y="45"/>
                  </a:lnTo>
                  <a:lnTo>
                    <a:pt x="476" y="0"/>
                  </a:lnTo>
                </a:path>
              </a:pathLst>
            </a:custGeom>
            <a:solidFill>
              <a:srgbClr val="b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029200" y="4096440"/>
              <a:ext cx="87120" cy="362160"/>
            </a:xfrm>
            <a:custGeom>
              <a:avLst/>
              <a:gdLst/>
              <a:ahLst/>
              <a:rect l="l" t="t" r="r" b="b"/>
              <a:pathLst>
                <a:path w="33" h="153">
                  <a:moveTo>
                    <a:pt x="0" y="0"/>
                  </a:moveTo>
                  <a:lnTo>
                    <a:pt x="0" y="41"/>
                  </a:lnTo>
                  <a:lnTo>
                    <a:pt x="32" y="152"/>
                  </a:lnTo>
                  <a:lnTo>
                    <a:pt x="32" y="136"/>
                  </a:lnTo>
                  <a:lnTo>
                    <a:pt x="0" y="0"/>
                  </a:lnTo>
                </a:path>
              </a:pathLst>
            </a:custGeom>
            <a:solidFill>
              <a:srgbClr val="c0c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069600" y="4146480"/>
              <a:ext cx="79920" cy="1490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114600" y="4148640"/>
              <a:ext cx="71640" cy="1443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159960" y="4139640"/>
              <a:ext cx="69120" cy="1465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202440" y="4134600"/>
              <a:ext cx="71640" cy="1443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242400" y="4134600"/>
              <a:ext cx="71640" cy="1414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6050520" y="4156200"/>
              <a:ext cx="23652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6067080" y="4186800"/>
              <a:ext cx="239040" cy="212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6080040" y="4217400"/>
              <a:ext cx="244440" cy="262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H="1">
              <a:off x="6099120" y="4248000"/>
              <a:ext cx="239040" cy="262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000840" y="4051440"/>
              <a:ext cx="259920" cy="39960"/>
            </a:xfrm>
            <a:custGeom>
              <a:avLst/>
              <a:gdLst/>
              <a:ahLst/>
              <a:rect l="l" t="t" r="r" b="b"/>
              <a:pathLst>
                <a:path w="98" h="17">
                  <a:moveTo>
                    <a:pt x="91" y="0"/>
                  </a:moveTo>
                  <a:lnTo>
                    <a:pt x="97" y="10"/>
                  </a:lnTo>
                  <a:lnTo>
                    <a:pt x="5" y="16"/>
                  </a:lnTo>
                  <a:lnTo>
                    <a:pt x="0" y="7"/>
                  </a:lnTo>
                  <a:lnTo>
                    <a:pt x="91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995440" y="4065840"/>
              <a:ext cx="45000" cy="49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1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2" y="20"/>
                  </a:lnTo>
                  <a:lnTo>
                    <a:pt x="16" y="11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010920" y="4079880"/>
              <a:ext cx="249840" cy="39960"/>
            </a:xfrm>
            <a:custGeom>
              <a:avLst/>
              <a:gdLst/>
              <a:ahLst/>
              <a:rect l="l" t="t" r="r" b="b"/>
              <a:pathLst>
                <a:path w="94" h="17">
                  <a:moveTo>
                    <a:pt x="93" y="0"/>
                  </a:moveTo>
                  <a:lnTo>
                    <a:pt x="2" y="7"/>
                  </a:lnTo>
                  <a:lnTo>
                    <a:pt x="0" y="16"/>
                  </a:lnTo>
                  <a:lnTo>
                    <a:pt x="90" y="6"/>
                  </a:lnTo>
                  <a:lnTo>
                    <a:pt x="93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042960" y="4064040"/>
              <a:ext cx="7560" cy="234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080400" y="4056480"/>
              <a:ext cx="10800" cy="262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120000" y="4059000"/>
              <a:ext cx="12960" cy="234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162840" y="4059000"/>
              <a:ext cx="10080" cy="20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204960" y="4051440"/>
              <a:ext cx="12960" cy="284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142960" y="4113360"/>
              <a:ext cx="262800" cy="39960"/>
            </a:xfrm>
            <a:custGeom>
              <a:avLst/>
              <a:gdLst/>
              <a:ahLst/>
              <a:rect l="l" t="t" r="r" b="b"/>
              <a:pathLst>
                <a:path w="99" h="17">
                  <a:moveTo>
                    <a:pt x="92" y="0"/>
                  </a:moveTo>
                  <a:lnTo>
                    <a:pt x="98" y="10"/>
                  </a:lnTo>
                  <a:lnTo>
                    <a:pt x="4" y="16"/>
                  </a:lnTo>
                  <a:lnTo>
                    <a:pt x="0" y="6"/>
                  </a:lnTo>
                  <a:lnTo>
                    <a:pt x="92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155920" y="4136760"/>
              <a:ext cx="249840" cy="39960"/>
            </a:xfrm>
            <a:custGeom>
              <a:avLst/>
              <a:gdLst/>
              <a:ahLst/>
              <a:rect l="l" t="t" r="r" b="b"/>
              <a:pathLst>
                <a:path w="94" h="17">
                  <a:moveTo>
                    <a:pt x="93" y="0"/>
                  </a:moveTo>
                  <a:lnTo>
                    <a:pt x="1" y="8"/>
                  </a:lnTo>
                  <a:lnTo>
                    <a:pt x="0" y="16"/>
                  </a:lnTo>
                  <a:lnTo>
                    <a:pt x="89" y="6"/>
                  </a:lnTo>
                  <a:lnTo>
                    <a:pt x="93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190840" y="4123080"/>
              <a:ext cx="1008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225400" y="4123080"/>
              <a:ext cx="1080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268240" y="4120200"/>
              <a:ext cx="15480" cy="234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304960" y="4111200"/>
              <a:ext cx="1836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347440" y="4111200"/>
              <a:ext cx="1548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724360" y="4065840"/>
              <a:ext cx="257400" cy="49680"/>
            </a:xfrm>
            <a:custGeom>
              <a:avLst/>
              <a:gdLst/>
              <a:ahLst/>
              <a:rect l="l" t="t" r="r" b="b"/>
              <a:pathLst>
                <a:path w="97" h="21">
                  <a:moveTo>
                    <a:pt x="91" y="0"/>
                  </a:moveTo>
                  <a:lnTo>
                    <a:pt x="96" y="13"/>
                  </a:lnTo>
                  <a:lnTo>
                    <a:pt x="5" y="20"/>
                  </a:lnTo>
                  <a:lnTo>
                    <a:pt x="0" y="8"/>
                  </a:lnTo>
                  <a:lnTo>
                    <a:pt x="91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716800" y="4084920"/>
              <a:ext cx="45000" cy="471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2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2" y="19"/>
                  </a:lnTo>
                  <a:lnTo>
                    <a:pt x="16" y="12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732280" y="4096440"/>
              <a:ext cx="249840" cy="39960"/>
            </a:xfrm>
            <a:custGeom>
              <a:avLst/>
              <a:gdLst/>
              <a:ahLst/>
              <a:rect l="l" t="t" r="r" b="b"/>
              <a:pathLst>
                <a:path w="94" h="17">
                  <a:moveTo>
                    <a:pt x="93" y="0"/>
                  </a:moveTo>
                  <a:lnTo>
                    <a:pt x="2" y="8"/>
                  </a:lnTo>
                  <a:lnTo>
                    <a:pt x="0" y="16"/>
                  </a:lnTo>
                  <a:lnTo>
                    <a:pt x="91" y="6"/>
                  </a:lnTo>
                  <a:lnTo>
                    <a:pt x="93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761800" y="4079880"/>
              <a:ext cx="12960" cy="309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803920" y="4079880"/>
              <a:ext cx="12960" cy="331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849280" y="4079880"/>
              <a:ext cx="8280" cy="284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880960" y="4073040"/>
              <a:ext cx="18360" cy="302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923800" y="4068000"/>
              <a:ext cx="12960" cy="331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429880" y="4084920"/>
              <a:ext cx="265320" cy="49680"/>
            </a:xfrm>
            <a:custGeom>
              <a:avLst/>
              <a:gdLst/>
              <a:ahLst/>
              <a:rect l="l" t="t" r="r" b="b"/>
              <a:pathLst>
                <a:path w="100" h="21">
                  <a:moveTo>
                    <a:pt x="93" y="0"/>
                  </a:moveTo>
                  <a:lnTo>
                    <a:pt x="99" y="12"/>
                  </a:lnTo>
                  <a:lnTo>
                    <a:pt x="5" y="20"/>
                  </a:lnTo>
                  <a:lnTo>
                    <a:pt x="0" y="7"/>
                  </a:lnTo>
                  <a:lnTo>
                    <a:pt x="93" y="0"/>
                  </a:lnTo>
                </a:path>
              </a:pathLst>
            </a:custGeom>
            <a:solidFill>
              <a:srgbClr val="e0d0c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424480" y="4106160"/>
              <a:ext cx="45000" cy="39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1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11" y="16"/>
                  </a:lnTo>
                  <a:lnTo>
                    <a:pt x="16" y="11"/>
                  </a:lnTo>
                </a:path>
              </a:pathLst>
            </a:custGeom>
            <a:solidFill>
              <a:srgbClr val="c0c09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440320" y="4115880"/>
              <a:ext cx="255240" cy="39960"/>
            </a:xfrm>
            <a:custGeom>
              <a:avLst/>
              <a:gdLst/>
              <a:ahLst/>
              <a:rect l="l" t="t" r="r" b="b"/>
              <a:pathLst>
                <a:path w="96" h="17">
                  <a:moveTo>
                    <a:pt x="95" y="0"/>
                  </a:moveTo>
                  <a:lnTo>
                    <a:pt x="2" y="8"/>
                  </a:lnTo>
                  <a:lnTo>
                    <a:pt x="0" y="16"/>
                  </a:lnTo>
                  <a:lnTo>
                    <a:pt x="92" y="5"/>
                  </a:lnTo>
                  <a:lnTo>
                    <a:pt x="95" y="0"/>
                  </a:lnTo>
                </a:path>
              </a:pathLst>
            </a:custGeom>
            <a:solidFill>
              <a:srgbClr val="b0a080"/>
            </a:solidFill>
            <a:ln cap="rnd"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469840" y="4103640"/>
              <a:ext cx="15480" cy="284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517360" y="4101480"/>
              <a:ext cx="10800" cy="2844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554800" y="4094640"/>
              <a:ext cx="10080" cy="255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591880" y="4089600"/>
              <a:ext cx="18000" cy="331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637240" y="4087440"/>
              <a:ext cx="18000" cy="324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 flipV="1">
              <a:off x="5235840" y="4217040"/>
              <a:ext cx="42120" cy="101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 flipV="1">
              <a:off x="5328720" y="4210560"/>
              <a:ext cx="58320" cy="1512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 flipV="1">
              <a:off x="5368680" y="4203000"/>
              <a:ext cx="61200" cy="155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 flipV="1">
              <a:off x="5411520" y="4203360"/>
              <a:ext cx="58320" cy="1512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H="1" flipV="1">
              <a:off x="5456520" y="4193280"/>
              <a:ext cx="60480" cy="1587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 flipV="1">
              <a:off x="5496120" y="4193280"/>
              <a:ext cx="60480" cy="155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H="1" flipV="1">
              <a:off x="5538240" y="4191120"/>
              <a:ext cx="61200" cy="155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 flipV="1">
              <a:off x="5578920" y="4191480"/>
              <a:ext cx="68400" cy="15120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H="1" flipV="1">
              <a:off x="5623200" y="4188960"/>
              <a:ext cx="69120" cy="146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 flipV="1">
              <a:off x="5660280" y="4183920"/>
              <a:ext cx="71640" cy="1443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 flipV="1">
              <a:off x="5705640" y="4181760"/>
              <a:ext cx="69120" cy="1443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H="1" flipV="1">
              <a:off x="5748120" y="4174560"/>
              <a:ext cx="71640" cy="1465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5788080" y="4172400"/>
              <a:ext cx="73800" cy="146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 flipV="1">
              <a:off x="5830200" y="4169880"/>
              <a:ext cx="74520" cy="1465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 flipV="1">
              <a:off x="5920920" y="4168080"/>
              <a:ext cx="50400" cy="964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H="1" flipV="1">
              <a:off x="5283360" y="4210200"/>
              <a:ext cx="63720" cy="1609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H="1" flipV="1">
              <a:off x="5875200" y="4167720"/>
              <a:ext cx="74520" cy="14652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H="1">
              <a:off x="5204160" y="4191480"/>
              <a:ext cx="766800" cy="561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5214600" y="4227120"/>
              <a:ext cx="777600" cy="6588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H="1">
              <a:off x="5328360" y="4274280"/>
              <a:ext cx="600120" cy="47160"/>
            </a:xfrm>
            <a:prstGeom prst="line">
              <a:avLst/>
            </a:prstGeom>
            <a:ln w="12600">
              <a:solidFill>
                <a:srgbClr val="808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65" name="" descr=""/>
            <p:cNvPicPr/>
            <p:nvPr/>
          </p:nvPicPr>
          <p:blipFill>
            <a:blip r:embed="rId3"/>
            <a:stretch/>
          </p:blipFill>
          <p:spPr>
            <a:xfrm>
              <a:off x="5355360" y="3253680"/>
              <a:ext cx="591840" cy="46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6" name=""/>
          <p:cNvGrpSpPr/>
          <p:nvPr/>
        </p:nvGrpSpPr>
        <p:grpSpPr>
          <a:xfrm>
            <a:off x="2666880" y="3657600"/>
            <a:ext cx="2437920" cy="457200"/>
            <a:chOff x="2666880" y="3657600"/>
            <a:chExt cx="2437920" cy="457200"/>
          </a:xfrm>
        </p:grpSpPr>
        <p:sp>
          <p:nvSpPr>
            <p:cNvPr id="2867" name=""/>
            <p:cNvSpPr/>
            <p:nvPr/>
          </p:nvSpPr>
          <p:spPr>
            <a:xfrm flipV="1">
              <a:off x="2666880" y="3854160"/>
              <a:ext cx="2103840" cy="260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3537360" y="3865680"/>
              <a:ext cx="1219320" cy="2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V="1">
              <a:off x="3537360" y="3657600"/>
              <a:ext cx="156744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2590920" y="1067040"/>
            <a:ext cx="6324120" cy="2905560"/>
            <a:chOff x="2590920" y="1067040"/>
            <a:chExt cx="6324120" cy="2905560"/>
          </a:xfrm>
        </p:grpSpPr>
        <p:sp>
          <p:nvSpPr>
            <p:cNvPr id="2871" name=""/>
            <p:cNvSpPr/>
            <p:nvPr/>
          </p:nvSpPr>
          <p:spPr>
            <a:xfrm>
              <a:off x="6476760" y="1067040"/>
              <a:ext cx="2438280" cy="17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63360" bIns="63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P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Windows 3.11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Windows 9x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Windows NT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eea564"/>
                  </a:solidFill>
                  <a:latin typeface="Arial"/>
                </a:rPr>
                <a:t>Windows 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72" name=""/>
            <p:cNvGrpSpPr/>
            <p:nvPr/>
          </p:nvGrpSpPr>
          <p:grpSpPr>
            <a:xfrm>
              <a:off x="2590920" y="2297160"/>
              <a:ext cx="2437920" cy="1675440"/>
              <a:chOff x="2590920" y="2297160"/>
              <a:chExt cx="2437920" cy="1675440"/>
            </a:xfrm>
          </p:grpSpPr>
          <p:sp>
            <p:nvSpPr>
              <p:cNvPr id="2873" name=""/>
              <p:cNvSpPr/>
              <p:nvPr/>
            </p:nvSpPr>
            <p:spPr>
              <a:xfrm flipV="1">
                <a:off x="2590920" y="3034080"/>
                <a:ext cx="1592640" cy="938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3576600" y="3034440"/>
                <a:ext cx="606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3576600" y="2297160"/>
                <a:ext cx="1452240" cy="73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876" name="gatewary" descr=""/>
            <p:cNvPicPr/>
            <p:nvPr/>
          </p:nvPicPr>
          <p:blipFill>
            <a:blip r:embed="rId4"/>
            <a:stretch/>
          </p:blipFill>
          <p:spPr>
            <a:xfrm>
              <a:off x="4876560" y="1382760"/>
              <a:ext cx="1828440" cy="151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7" name=""/>
          <p:cNvSpPr/>
          <p:nvPr/>
        </p:nvSpPr>
        <p:spPr>
          <a:xfrm>
            <a:off x="609480" y="5907600"/>
            <a:ext cx="16876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840" rIns="123840" tIns="63360" bIns="633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S-DOS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cintosh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NIX, 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8" name=""/>
          <p:cNvGrpSpPr/>
          <p:nvPr/>
        </p:nvGrpSpPr>
        <p:grpSpPr>
          <a:xfrm>
            <a:off x="1981080" y="4420080"/>
            <a:ext cx="990360" cy="1218960"/>
            <a:chOff x="1981080" y="4420080"/>
            <a:chExt cx="990360" cy="1218960"/>
          </a:xfrm>
        </p:grpSpPr>
        <p:sp>
          <p:nvSpPr>
            <p:cNvPr id="2879" name=""/>
            <p:cNvSpPr/>
            <p:nvPr/>
          </p:nvSpPr>
          <p:spPr>
            <a:xfrm>
              <a:off x="1981080" y="4420080"/>
              <a:ext cx="647280" cy="682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381400" y="5102640"/>
              <a:ext cx="24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381400" y="5103000"/>
              <a:ext cx="590040" cy="53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882" name=""/>
          <p:cNvGraphicFramePr/>
          <p:nvPr/>
        </p:nvGraphicFramePr>
        <p:xfrm>
          <a:off x="2362320" y="5686560"/>
          <a:ext cx="1676160" cy="117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686560"/>
                    <a:ext cx="16761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Potenciális ügyfel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>
            <a:off x="4979160" y="5042520"/>
            <a:ext cx="35290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63360" bIns="6336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indows 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5160" algn="ctr">
              <a:lnSpc>
                <a:spcPct val="85000"/>
              </a:lnSpc>
              <a:tabLst>
                <a:tab algn="l" pos="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1800" spc="-1" strike="noStrike">
                <a:solidFill>
                  <a:srgbClr val="eea564"/>
                </a:solidFill>
                <a:latin typeface="Arial"/>
              </a:rPr>
              <a:t>HPC-Pro</a:t>
            </a:r>
            <a:r>
              <a:rPr b="1" lang="hu-HU" sz="1800" spc="-1" strike="noStrike">
                <a:solidFill>
                  <a:srgbClr val="eea56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ea564"/>
                </a:solidFill>
                <a:latin typeface="Arial"/>
              </a:rPr>
              <a:t>Handh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6" name=""/>
          <p:cNvGrpSpPr/>
          <p:nvPr/>
        </p:nvGrpSpPr>
        <p:grpSpPr>
          <a:xfrm>
            <a:off x="4419720" y="4876920"/>
            <a:ext cx="1371240" cy="1142640"/>
            <a:chOff x="4419720" y="4876920"/>
            <a:chExt cx="1371240" cy="1142640"/>
          </a:xfrm>
        </p:grpSpPr>
        <p:pic>
          <p:nvPicPr>
            <p:cNvPr id="2887" name="windows%20ce%20unit" descr=""/>
            <p:cNvPicPr/>
            <p:nvPr/>
          </p:nvPicPr>
          <p:blipFill>
            <a:blip r:embed="rId7"/>
            <a:stretch/>
          </p:blipFill>
          <p:spPr>
            <a:xfrm>
              <a:off x="4419720" y="4876920"/>
              <a:ext cx="137124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8" name=""/>
            <p:cNvSpPr/>
            <p:nvPr/>
          </p:nvSpPr>
          <p:spPr>
            <a:xfrm>
              <a:off x="4666680" y="5036760"/>
              <a:ext cx="595440" cy="513000"/>
            </a:xfrm>
            <a:custGeom>
              <a:avLst/>
              <a:gdLst/>
              <a:ahLst/>
              <a:rect l="l" t="t" r="r" b="b"/>
              <a:pathLst>
                <a:path w="231" h="224">
                  <a:moveTo>
                    <a:pt x="0" y="90"/>
                  </a:moveTo>
                  <a:lnTo>
                    <a:pt x="36" y="224"/>
                  </a:lnTo>
                  <a:lnTo>
                    <a:pt x="231" y="121"/>
                  </a:lnTo>
                  <a:lnTo>
                    <a:pt x="220" y="64"/>
                  </a:lnTo>
                  <a:lnTo>
                    <a:pt x="196" y="75"/>
                  </a:lnTo>
                  <a:lnTo>
                    <a:pt x="196" y="69"/>
                  </a:lnTo>
                  <a:lnTo>
                    <a:pt x="204" y="55"/>
                  </a:lnTo>
                  <a:lnTo>
                    <a:pt x="218" y="46"/>
                  </a:lnTo>
                  <a:lnTo>
                    <a:pt x="208" y="0"/>
                  </a:lnTo>
                  <a:lnTo>
                    <a:pt x="4" y="8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9" name=""/>
          <p:cNvGrpSpPr/>
          <p:nvPr/>
        </p:nvGrpSpPr>
        <p:grpSpPr>
          <a:xfrm>
            <a:off x="2438280" y="4191120"/>
            <a:ext cx="2133360" cy="990000"/>
            <a:chOff x="2438280" y="4191120"/>
            <a:chExt cx="2133360" cy="990000"/>
          </a:xfrm>
        </p:grpSpPr>
        <p:sp>
          <p:nvSpPr>
            <p:cNvPr id="2890" name=""/>
            <p:cNvSpPr/>
            <p:nvPr/>
          </p:nvSpPr>
          <p:spPr>
            <a:xfrm>
              <a:off x="2438280" y="4191120"/>
              <a:ext cx="1393920" cy="55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300840" y="4745520"/>
              <a:ext cx="531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300840" y="4745520"/>
              <a:ext cx="1270800" cy="435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03360" y="301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Üzemmód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63680" y="1312560"/>
            <a:ext cx="8415360" cy="5203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ávoli adminisztráció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Remote Administr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voli szerver menedzs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Ügyfél független szerver menedz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 szerver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(Application Serv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32 bites alkalmazások futtatására “öreg” számítógépeken, a PC élettartalmának meghosszabbít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32 bites migráció felgyorsítá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ainFrame típusú központi alkalmazás menedzsment Windows környezetb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CO csökkentése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ávoli adminisztráció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415360" cy="5730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Csak az adminisztrátorok tudnak bejelentkezni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alkalmazás kompatibilitási kód kiiktat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szükség speciális “install” mód alkalmazásá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icence szükség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t beépített kapcsol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szükség TS-CAL vagy NTS-CAL-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ügyfél bármilyen operációs rendszeren futh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inimális teljesítmény igé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~2.25Mb átlagos igé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idle session létrehoz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lkalmazás szerv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415360" cy="5517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lsődleges cél az interaktív alkalmazások kiszolgálá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Csatlakozási jog az átlagos felhasználónak (i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kalmazás kompatibili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lepítés a vezérlőpulton keresztü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 licence mindenképpen szüksé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er seat mode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nternet Connector Licensing (maximum 200 felhasználói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Terminal Services Licensing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szüksé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 infrastruktúr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517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séges kerne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több verzió kavarodás, ami eddig egy önálló termék volt, az most egy szervizzé le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z egységes szerviz csomagot is jel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S az operációs rendszer integráns rés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özvetlenül telepítéskor vagy később bármikor engedélyezhet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abályozható üteme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S sokkal jobban együttműködik a háttérszervizek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mogatja a Windows 2000 többnyelvű szolgáltatása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 szolgáltat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494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yomtató átirány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tomatikus felismerés és telepí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indows alkalmazásokból használhat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 oldali spooler használata (ha van ily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virányítás (shadow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adminisztrátor belenézhet egy sessionb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iváló helpdesk szolgáltatá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igyeljünk oda az SMS-re 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ágólap átirányí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atátvitel a helyi gépen és a terminál ablakban futó alkalmazások közöt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Új szolgáltatás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93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Ügyfél szoftver HPC-Pro (WinCE) -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RDP teljesítmény növekedé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itmap gyorsítótá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angolás, ~15% sávszélesség igény csökkenés WTSE4-hez kép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Virtuális csatorna támoga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oftveres hozzáférés az RDP adatcsatornákhoz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peciális eszközök rendszerbe illesztéséhez (hang, lapolvasó, vonalkó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rot="16200000">
            <a:off x="-1409400" y="2857320"/>
            <a:ext cx="4876560" cy="2057400"/>
          </a:xfrm>
          <a:custGeom>
            <a:avLst/>
            <a:gdLst>
              <a:gd name="textAreaLeft" fmla="*/ 761760 w 4876560"/>
              <a:gd name="textAreaRight" fmla="*/ 4332600 w 4876560"/>
              <a:gd name="textAreaTop" fmla="*/ 484200 h 2057400"/>
              <a:gd name="textAreaBottom" fmla="*/ 157320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083"/>
                </a:moveTo>
                <a:lnTo>
                  <a:pt x="17047" y="5083"/>
                </a:lnTo>
                <a:lnTo>
                  <a:pt x="17047" y="0"/>
                </a:lnTo>
                <a:lnTo>
                  <a:pt x="21600" y="10800"/>
                </a:lnTo>
                <a:lnTo>
                  <a:pt x="17047" y="21600"/>
                </a:lnTo>
                <a:lnTo>
                  <a:pt x="17047" y="16517"/>
                </a:lnTo>
                <a:lnTo>
                  <a:pt x="3375" y="16517"/>
                </a:lnTo>
                <a:close/>
              </a:path>
              <a:path w="21600" h="21600">
                <a:moveTo>
                  <a:pt x="0" y="5083"/>
                </a:moveTo>
                <a:lnTo>
                  <a:pt x="675" y="5083"/>
                </a:lnTo>
                <a:lnTo>
                  <a:pt x="675" y="16517"/>
                </a:lnTo>
                <a:lnTo>
                  <a:pt x="0" y="16517"/>
                </a:lnTo>
                <a:close/>
              </a:path>
              <a:path w="21600" h="21600">
                <a:moveTo>
                  <a:pt x="1350" y="5083"/>
                </a:moveTo>
                <a:lnTo>
                  <a:pt x="2700" y="5083"/>
                </a:lnTo>
                <a:lnTo>
                  <a:pt x="2700" y="16517"/>
                </a:lnTo>
                <a:lnTo>
                  <a:pt x="1350" y="16517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4800600"/>
            <a:ext cx="6705720" cy="2057400"/>
          </a:xfrm>
          <a:custGeom>
            <a:avLst/>
            <a:gdLst>
              <a:gd name="textAreaLeft" fmla="*/ 1047600 w 6705720"/>
              <a:gd name="textAreaRight" fmla="*/ 6113880 w 6705720"/>
              <a:gd name="textAreaTop" fmla="*/ 485640 h 2057400"/>
              <a:gd name="textAreaBottom" fmla="*/ 157176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100"/>
                </a:moveTo>
                <a:lnTo>
                  <a:pt x="17987" y="5100"/>
                </a:lnTo>
                <a:lnTo>
                  <a:pt x="17987" y="0"/>
                </a:lnTo>
                <a:lnTo>
                  <a:pt x="21600" y="10800"/>
                </a:lnTo>
                <a:lnTo>
                  <a:pt x="17987" y="21600"/>
                </a:lnTo>
                <a:lnTo>
                  <a:pt x="17987" y="16500"/>
                </a:lnTo>
                <a:lnTo>
                  <a:pt x="3375" y="16500"/>
                </a:lnTo>
                <a:close/>
              </a:path>
              <a:path w="21600" h="21600">
                <a:moveTo>
                  <a:pt x="0" y="5100"/>
                </a:moveTo>
                <a:lnTo>
                  <a:pt x="675" y="5100"/>
                </a:lnTo>
                <a:lnTo>
                  <a:pt x="675" y="16500"/>
                </a:lnTo>
                <a:lnTo>
                  <a:pt x="0" y="16500"/>
                </a:lnTo>
                <a:close/>
              </a:path>
              <a:path w="21600" h="21600">
                <a:moveTo>
                  <a:pt x="1350" y="5100"/>
                </a:moveTo>
                <a:lnTo>
                  <a:pt x="2700" y="5100"/>
                </a:lnTo>
                <a:lnTo>
                  <a:pt x="2700" y="16500"/>
                </a:lnTo>
                <a:lnTo>
                  <a:pt x="1350" y="165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Felfelé és oldalra skálázhatóság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73" name="Moonshot%20right%20iso%20icon" descr=""/>
          <p:cNvPicPr/>
          <p:nvPr/>
        </p:nvPicPr>
        <p:blipFill>
          <a:blip r:embed="rId2"/>
          <a:stretch/>
        </p:blipFill>
        <p:spPr>
          <a:xfrm>
            <a:off x="35053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74" name="Moonshot%20right%20iso%20icon" descr=""/>
          <p:cNvPicPr/>
          <p:nvPr/>
        </p:nvPicPr>
        <p:blipFill>
          <a:blip r:embed="rId3"/>
          <a:stretch/>
        </p:blipFill>
        <p:spPr>
          <a:xfrm>
            <a:off x="51055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75" name="Moonshot%20right%20iso%20icon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76" name="PL%203000%20-%20right%20icon" descr=""/>
          <p:cNvPicPr/>
          <p:nvPr/>
        </p:nvPicPr>
        <p:blipFill>
          <a:blip r:embed="rId5"/>
          <a:stretch/>
        </p:blipFill>
        <p:spPr>
          <a:xfrm>
            <a:off x="490680" y="2279520"/>
            <a:ext cx="1033200" cy="1606680"/>
          </a:xfrm>
          <a:prstGeom prst="rect">
            <a:avLst/>
          </a:prstGeom>
          <a:ln w="0">
            <a:noFill/>
          </a:ln>
        </p:spPr>
      </p:pic>
      <p:pic>
        <p:nvPicPr>
          <p:cNvPr id="77" name="PL%203000%20-%20right%20icon" descr=""/>
          <p:cNvPicPr/>
          <p:nvPr/>
        </p:nvPicPr>
        <p:blipFill>
          <a:blip r:embed="rId6"/>
          <a:stretch/>
        </p:blipFill>
        <p:spPr>
          <a:xfrm>
            <a:off x="614520" y="3886200"/>
            <a:ext cx="833400" cy="1295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46280" y="2467080"/>
            <a:ext cx="165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Felfe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re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45840" y="4311720"/>
            <a:ext cx="27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Oldalra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re több 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L%203000%20-%20right%20icon" descr=""/>
          <p:cNvPicPr/>
          <p:nvPr/>
        </p:nvPicPr>
        <p:blipFill>
          <a:blip r:embed="rId7"/>
          <a:stretch/>
        </p:blipFill>
        <p:spPr>
          <a:xfrm>
            <a:off x="762120" y="5181480"/>
            <a:ext cx="539640" cy="838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6100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628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02440" y="551664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5" name=""/>
          <p:cNvGrpSpPr/>
          <p:nvPr/>
        </p:nvGrpSpPr>
        <p:grpSpPr>
          <a:xfrm>
            <a:off x="1806480" y="2333520"/>
            <a:ext cx="4354560" cy="3452760"/>
            <a:chOff x="1806480" y="2333520"/>
            <a:chExt cx="4354560" cy="3452760"/>
          </a:xfrm>
        </p:grpSpPr>
        <p:sp>
          <p:nvSpPr>
            <p:cNvPr id="2906" name=""/>
            <p:cNvSpPr/>
            <p:nvPr/>
          </p:nvSpPr>
          <p:spPr>
            <a:xfrm flipH="1">
              <a:off x="1806480" y="5786280"/>
              <a:ext cx="4354560" cy="0"/>
            </a:xfrm>
            <a:prstGeom prst="line">
              <a:avLst/>
            </a:prstGeom>
            <a:ln w="38160">
              <a:solidFill>
                <a:srgbClr val="ef91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2698920" y="2690640"/>
              <a:ext cx="3152520" cy="10764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681280" y="2333520"/>
              <a:ext cx="31622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RDP Protokol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9" name=""/>
          <p:cNvSpPr/>
          <p:nvPr/>
        </p:nvSpPr>
        <p:spPr>
          <a:xfrm>
            <a:off x="380880" y="1447920"/>
            <a:ext cx="2287800" cy="3216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Windows 2000</a:t>
            </a:r>
            <a:br>
              <a:rPr sz="2200"/>
            </a:br>
            <a:r>
              <a:rPr b="1" lang="hu-HU" sz="22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0" name=""/>
          <p:cNvGrpSpPr/>
          <p:nvPr/>
        </p:nvGrpSpPr>
        <p:grpSpPr>
          <a:xfrm>
            <a:off x="5861160" y="2314440"/>
            <a:ext cx="1730160" cy="1712880"/>
            <a:chOff x="5861160" y="2314440"/>
            <a:chExt cx="1730160" cy="1712880"/>
          </a:xfrm>
        </p:grpSpPr>
        <p:sp>
          <p:nvSpPr>
            <p:cNvPr id="2911" name=""/>
            <p:cNvSpPr/>
            <p:nvPr/>
          </p:nvSpPr>
          <p:spPr>
            <a:xfrm>
              <a:off x="5861160" y="2314440"/>
              <a:ext cx="1730160" cy="1712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RDP ügyfél</a:t>
              </a:r>
              <a:br>
                <a:rPr sz="1800"/>
              </a:b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(mstsc.ex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912" name=""/>
            <p:cNvGraphicFramePr/>
            <p:nvPr/>
          </p:nvGraphicFramePr>
          <p:xfrm>
            <a:off x="6359400" y="3222720"/>
            <a:ext cx="639720" cy="58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59400" y="3222720"/>
                      <a:ext cx="639720" cy="582480"/>
                    </a:xfrm>
                    <a:prstGeom prst="rect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914" name=""/>
          <p:cNvGrpSpPr/>
          <p:nvPr/>
        </p:nvGrpSpPr>
        <p:grpSpPr>
          <a:xfrm>
            <a:off x="2422440" y="2717640"/>
            <a:ext cx="3686400" cy="505080"/>
            <a:chOff x="2422440" y="2717640"/>
            <a:chExt cx="3686400" cy="505080"/>
          </a:xfrm>
        </p:grpSpPr>
        <p:sp>
          <p:nvSpPr>
            <p:cNvPr id="2915" name=""/>
            <p:cNvSpPr/>
            <p:nvPr/>
          </p:nvSpPr>
          <p:spPr>
            <a:xfrm>
              <a:off x="4548240" y="2717640"/>
              <a:ext cx="120024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Megjeleníté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014720" y="3022560"/>
              <a:ext cx="120024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vágóla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H="1">
              <a:off x="2422440" y="2927520"/>
              <a:ext cx="3686400" cy="0"/>
            </a:xfrm>
            <a:prstGeom prst="line">
              <a:avLst/>
            </a:prstGeom>
            <a:ln w="28440">
              <a:solidFill>
                <a:srgbClr val="5686d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2422440" y="3222720"/>
              <a:ext cx="3686400" cy="0"/>
            </a:xfrm>
            <a:prstGeom prst="line">
              <a:avLst/>
            </a:prstGeom>
            <a:ln w="28440">
              <a:solidFill>
                <a:srgbClr val="5686d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Virtuális csatorna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862600" y="4038480"/>
            <a:ext cx="1728720" cy="6238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5b2c2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xtension D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685800" y="2286000"/>
            <a:ext cx="1481040" cy="85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lkalma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300800" y="3268800"/>
            <a:ext cx="451080" cy="903240"/>
          </a:xfrm>
          <a:custGeom>
            <a:avLst/>
            <a:gdLst/>
            <a:ahLst/>
            <a:rect l="l" t="t" r="r" b="b"/>
            <a:pathLst>
              <a:path w="459" h="569">
                <a:moveTo>
                  <a:pt x="0" y="569"/>
                </a:moveTo>
                <a:lnTo>
                  <a:pt x="459" y="569"/>
                </a:lnTo>
                <a:lnTo>
                  <a:pt x="45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5686d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3" name=""/>
          <p:cNvGrpSpPr/>
          <p:nvPr/>
        </p:nvGrpSpPr>
        <p:grpSpPr>
          <a:xfrm>
            <a:off x="1257480" y="3133800"/>
            <a:ext cx="1143000" cy="495360"/>
            <a:chOff x="1257480" y="3133800"/>
            <a:chExt cx="1143000" cy="495360"/>
          </a:xfrm>
        </p:grpSpPr>
        <p:sp>
          <p:nvSpPr>
            <p:cNvPr id="2924" name=""/>
            <p:cNvSpPr/>
            <p:nvPr/>
          </p:nvSpPr>
          <p:spPr>
            <a:xfrm>
              <a:off x="1295640" y="3133800"/>
              <a:ext cx="0" cy="485640"/>
            </a:xfrm>
            <a:prstGeom prst="line">
              <a:avLst/>
            </a:prstGeom>
            <a:ln w="76320">
              <a:solidFill>
                <a:srgbClr val="568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257480" y="3629160"/>
              <a:ext cx="1143000" cy="0"/>
            </a:xfrm>
            <a:prstGeom prst="line">
              <a:avLst/>
            </a:prstGeom>
            <a:ln w="76320">
              <a:solidFill>
                <a:srgbClr val="5686d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2400120" y="3281400"/>
            <a:ext cx="3781440" cy="890640"/>
            <a:chOff x="2400120" y="3281400"/>
            <a:chExt cx="3781440" cy="890640"/>
          </a:xfrm>
        </p:grpSpPr>
        <p:sp>
          <p:nvSpPr>
            <p:cNvPr id="2927" name=""/>
            <p:cNvSpPr/>
            <p:nvPr/>
          </p:nvSpPr>
          <p:spPr>
            <a:xfrm flipV="1">
              <a:off x="6181560" y="3591000"/>
              <a:ext cx="0" cy="581040"/>
            </a:xfrm>
            <a:prstGeom prst="line">
              <a:avLst/>
            </a:prstGeom>
            <a:ln w="76320">
              <a:solidFill>
                <a:srgbClr val="5686d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H="1">
              <a:off x="2400120" y="3629160"/>
              <a:ext cx="3771720" cy="0"/>
            </a:xfrm>
            <a:prstGeom prst="line">
              <a:avLst/>
            </a:prstGeom>
            <a:ln w="76320">
              <a:solidFill>
                <a:srgbClr val="5686d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144960" y="3281400"/>
              <a:ext cx="1409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Saját adatok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0" name=""/>
          <p:cNvSpPr/>
          <p:nvPr/>
        </p:nvSpPr>
        <p:spPr>
          <a:xfrm>
            <a:off x="184464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1295280" y="3271320"/>
            <a:ext cx="0" cy="1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278280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365436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65948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559260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6181560" y="3795840"/>
            <a:ext cx="0" cy="195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139212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31624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321156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18788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16420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99760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599760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559260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516420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65948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418788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365436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21156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78280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31624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844640" y="3627360"/>
            <a:ext cx="195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392120" y="3627360"/>
            <a:ext cx="1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1295280" y="3271320"/>
            <a:ext cx="0" cy="19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5" name="gatewary" descr=""/>
          <p:cNvPicPr/>
          <p:nvPr/>
        </p:nvPicPr>
        <p:blipFill>
          <a:blip r:embed="rId4"/>
          <a:stretch/>
        </p:blipFill>
        <p:spPr>
          <a:xfrm>
            <a:off x="6045120" y="5067360"/>
            <a:ext cx="1571760" cy="1409760"/>
          </a:xfrm>
          <a:prstGeom prst="rect">
            <a:avLst/>
          </a:prstGeom>
          <a:ln w="0">
            <a:noFill/>
          </a:ln>
        </p:spPr>
      </p:pic>
      <p:pic>
        <p:nvPicPr>
          <p:cNvPr id="2956" name="dell%20server" descr=""/>
          <p:cNvPicPr/>
          <p:nvPr/>
        </p:nvPicPr>
        <p:blipFill>
          <a:blip r:embed="rId5"/>
          <a:srcRect l="0" t="0" r="52861" b="0"/>
          <a:stretch/>
        </p:blipFill>
        <p:spPr>
          <a:xfrm>
            <a:off x="1062000" y="4910040"/>
            <a:ext cx="622440" cy="1662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dminisztrációs eszközö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15360" cy="534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minal Services Manag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sconnect és logoff státusz ellenőrz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ávirányítás kezdeményezé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D Users&amp;Compu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minal Services Configu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MC alapú eszköz általános protokoll és szerver konfiguráció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minal Services Licens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icence felügye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rminal Services Client Crea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9" name=""/>
          <p:cNvGraphicFramePr/>
          <p:nvPr/>
        </p:nvGraphicFramePr>
        <p:xfrm>
          <a:off x="6946920" y="2330280"/>
          <a:ext cx="1965240" cy="10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6920" y="2330280"/>
                    <a:ext cx="196524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iztonsági újdonság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15360" cy="3952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Windows 2000-ben  megjelenik egy új beépített csoport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TERMINAL SERVICES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z egy interaktív cso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Bárki, aki TS ügyfélen keresztül jelentkezik be automatikusan tagja lesz a csoportn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ID ACL-ben használhat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Használjuk Resource Kit-et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7696440" cy="4754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Menedzsment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ession Monitor, License riportol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iegészítő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ájl átvitel, meghajtó megosz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eljesítmény teszt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oboClient, SmCl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onfigurációs eszközö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pplication Security, Client Version Limiter, Client Configu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778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rminal Services Licencing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415360" cy="4907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Szoros licensz menedzsment Terminal Server-he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z első valóban korlátozó jellegű Microsoftos licensz technoló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helyettesít vagy pótol más licensz megoldások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vonatkozik semmilyen más termék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98680" indent="-4669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ffice, BackOff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7" name=""/>
          <p:cNvGrpSpPr/>
          <p:nvPr/>
        </p:nvGrpSpPr>
        <p:grpSpPr>
          <a:xfrm>
            <a:off x="990720" y="4800600"/>
            <a:ext cx="5181480" cy="1143000"/>
            <a:chOff x="990720" y="4800600"/>
            <a:chExt cx="5181480" cy="1143000"/>
          </a:xfrm>
        </p:grpSpPr>
        <p:sp>
          <p:nvSpPr>
            <p:cNvPr id="2968" name=""/>
            <p:cNvSpPr/>
            <p:nvPr/>
          </p:nvSpPr>
          <p:spPr>
            <a:xfrm>
              <a:off x="5486400" y="4876920"/>
              <a:ext cx="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990720" y="5486400"/>
              <a:ext cx="2133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V="1">
              <a:off x="99072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2057400" y="4876560"/>
              <a:ext cx="0" cy="99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V="1">
              <a:off x="312408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562720" y="4800600"/>
              <a:ext cx="609480" cy="1143000"/>
            </a:xfrm>
            <a:custGeom>
              <a:avLst/>
              <a:gdLst/>
              <a:ahLst/>
              <a:rect l="l" t="t" r="r" b="b"/>
              <a:pathLst>
                <a:path w="384" h="720">
                  <a:moveTo>
                    <a:pt x="384" y="720"/>
                  </a:moveTo>
                  <a:lnTo>
                    <a:pt x="192" y="288"/>
                  </a:lnTo>
                  <a:lnTo>
                    <a:pt x="240" y="4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952880" y="5486400"/>
              <a:ext cx="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6" name=""/>
          <p:cNvGrpSpPr/>
          <p:nvPr/>
        </p:nvGrpSpPr>
        <p:grpSpPr>
          <a:xfrm>
            <a:off x="990720" y="4800600"/>
            <a:ext cx="5181480" cy="1143000"/>
            <a:chOff x="990720" y="4800600"/>
            <a:chExt cx="5181480" cy="1143000"/>
          </a:xfrm>
        </p:grpSpPr>
        <p:sp>
          <p:nvSpPr>
            <p:cNvPr id="2977" name=""/>
            <p:cNvSpPr/>
            <p:nvPr/>
          </p:nvSpPr>
          <p:spPr>
            <a:xfrm>
              <a:off x="5486400" y="4876920"/>
              <a:ext cx="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990720" y="5486400"/>
              <a:ext cx="2133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99072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2057400" y="4876560"/>
              <a:ext cx="0" cy="99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V="1">
              <a:off x="312408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562720" y="4800600"/>
              <a:ext cx="609480" cy="1143000"/>
            </a:xfrm>
            <a:custGeom>
              <a:avLst/>
              <a:gdLst/>
              <a:ahLst/>
              <a:rect l="l" t="t" r="r" b="b"/>
              <a:pathLst>
                <a:path w="384" h="720">
                  <a:moveTo>
                    <a:pt x="384" y="720"/>
                  </a:moveTo>
                  <a:lnTo>
                    <a:pt x="192" y="288"/>
                  </a:lnTo>
                  <a:lnTo>
                    <a:pt x="240" y="4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952880" y="5486400"/>
              <a:ext cx="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5" name=""/>
          <p:cNvGrpSpPr/>
          <p:nvPr/>
        </p:nvGrpSpPr>
        <p:grpSpPr>
          <a:xfrm>
            <a:off x="990720" y="4800600"/>
            <a:ext cx="5181480" cy="1143000"/>
            <a:chOff x="990720" y="4800600"/>
            <a:chExt cx="5181480" cy="1143000"/>
          </a:xfrm>
        </p:grpSpPr>
        <p:sp>
          <p:nvSpPr>
            <p:cNvPr id="2986" name=""/>
            <p:cNvSpPr/>
            <p:nvPr/>
          </p:nvSpPr>
          <p:spPr>
            <a:xfrm>
              <a:off x="5486400" y="4876920"/>
              <a:ext cx="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990720" y="5486400"/>
              <a:ext cx="2133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99072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V="1">
              <a:off x="2057400" y="4876560"/>
              <a:ext cx="0" cy="99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V="1">
              <a:off x="312408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5562720" y="4800600"/>
              <a:ext cx="609480" cy="1143000"/>
            </a:xfrm>
            <a:custGeom>
              <a:avLst/>
              <a:gdLst/>
              <a:ahLst/>
              <a:rect l="l" t="t" r="r" b="b"/>
              <a:pathLst>
                <a:path w="384" h="720">
                  <a:moveTo>
                    <a:pt x="384" y="720"/>
                  </a:moveTo>
                  <a:lnTo>
                    <a:pt x="192" y="288"/>
                  </a:lnTo>
                  <a:lnTo>
                    <a:pt x="240" y="4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952880" y="5486400"/>
              <a:ext cx="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4" name=""/>
          <p:cNvGrpSpPr/>
          <p:nvPr/>
        </p:nvGrpSpPr>
        <p:grpSpPr>
          <a:xfrm>
            <a:off x="2057400" y="2647800"/>
            <a:ext cx="5105520" cy="1771920"/>
            <a:chOff x="2057400" y="2647800"/>
            <a:chExt cx="5105520" cy="1771920"/>
          </a:xfrm>
        </p:grpSpPr>
        <p:sp>
          <p:nvSpPr>
            <p:cNvPr id="2995" name=""/>
            <p:cNvSpPr/>
            <p:nvPr/>
          </p:nvSpPr>
          <p:spPr>
            <a:xfrm>
              <a:off x="4572000" y="26668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n2000 Server + Terminal Services Licens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505320" y="3352680"/>
              <a:ext cx="0" cy="762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7" name="dell%20server" descr=""/>
            <p:cNvPicPr/>
            <p:nvPr/>
          </p:nvPicPr>
          <p:blipFill>
            <a:blip r:embed="rId2"/>
            <a:stretch/>
          </p:blipFill>
          <p:spPr>
            <a:xfrm>
              <a:off x="3200400" y="2647800"/>
              <a:ext cx="104148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8" name=""/>
            <p:cNvSpPr/>
            <p:nvPr/>
          </p:nvSpPr>
          <p:spPr>
            <a:xfrm flipV="1">
              <a:off x="2057400" y="4114800"/>
              <a:ext cx="34290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057400" y="4114800"/>
              <a:ext cx="1440" cy="304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486400" y="4114800"/>
              <a:ext cx="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1" name=""/>
          <p:cNvGrpSpPr/>
          <p:nvPr/>
        </p:nvGrpSpPr>
        <p:grpSpPr>
          <a:xfrm>
            <a:off x="990720" y="4800600"/>
            <a:ext cx="5181480" cy="1143000"/>
            <a:chOff x="990720" y="4800600"/>
            <a:chExt cx="5181480" cy="1143000"/>
          </a:xfrm>
        </p:grpSpPr>
        <p:sp>
          <p:nvSpPr>
            <p:cNvPr id="3002" name=""/>
            <p:cNvSpPr/>
            <p:nvPr/>
          </p:nvSpPr>
          <p:spPr>
            <a:xfrm>
              <a:off x="5486400" y="4876920"/>
              <a:ext cx="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990720" y="5486400"/>
              <a:ext cx="2133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99072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V="1">
              <a:off x="2057400" y="4876560"/>
              <a:ext cx="0" cy="99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V="1">
              <a:off x="3124080" y="5486400"/>
              <a:ext cx="0" cy="380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5562720" y="4800600"/>
              <a:ext cx="609480" cy="1143000"/>
            </a:xfrm>
            <a:custGeom>
              <a:avLst/>
              <a:gdLst/>
              <a:ahLst/>
              <a:rect l="l" t="t" r="r" b="b"/>
              <a:pathLst>
                <a:path w="384" h="720">
                  <a:moveTo>
                    <a:pt x="384" y="720"/>
                  </a:moveTo>
                  <a:lnTo>
                    <a:pt x="192" y="288"/>
                  </a:lnTo>
                  <a:lnTo>
                    <a:pt x="240" y="4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>
              <a:off x="4952880" y="5486400"/>
              <a:ext cx="533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952880" y="5486400"/>
              <a:ext cx="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10" name="" descr=""/>
          <p:cNvPicPr/>
          <p:nvPr/>
        </p:nvPicPr>
        <p:blipFill>
          <a:blip r:embed="rId3"/>
          <a:stretch/>
        </p:blipFill>
        <p:spPr>
          <a:xfrm>
            <a:off x="2895480" y="2971800"/>
            <a:ext cx="608040" cy="609480"/>
          </a:xfrm>
          <a:prstGeom prst="rect">
            <a:avLst/>
          </a:prstGeom>
          <a:ln w="0">
            <a:noFill/>
          </a:ln>
        </p:spPr>
      </p:pic>
      <p:sp>
        <p:nvSpPr>
          <p:cNvPr id="3011" name=""/>
          <p:cNvSpPr/>
          <p:nvPr/>
        </p:nvSpPr>
        <p:spPr>
          <a:xfrm>
            <a:off x="380880" y="2514600"/>
            <a:ext cx="6096240" cy="0"/>
          </a:xfrm>
          <a:prstGeom prst="line">
            <a:avLst/>
          </a:prstGeom>
          <a:ln w="12600">
            <a:solidFill>
              <a:srgbClr val="fcc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739152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ccf00"/>
                </a:solidFill>
                <a:latin typeface="Arial"/>
              </a:rPr>
              <a:t>A termé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731520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ccf00"/>
                </a:solidFill>
                <a:latin typeface="Arial"/>
              </a:rPr>
              <a:t>Háttér i</a:t>
            </a:r>
            <a:r>
              <a:rPr b="1" lang="en-US" sz="1800" spc="-1" strike="noStrike">
                <a:solidFill>
                  <a:srgbClr val="fccf00"/>
                </a:solidFill>
                <a:latin typeface="Arial"/>
                <a:ea typeface="Times New Roman"/>
              </a:rPr>
              <a:t>nfrastru</a:t>
            </a:r>
            <a:r>
              <a:rPr b="1" lang="hu-HU" sz="1800" spc="-1" strike="noStrike">
                <a:solidFill>
                  <a:srgbClr val="fccf00"/>
                </a:solidFill>
                <a:latin typeface="Arial"/>
              </a:rPr>
              <a:t>ktú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762120" y="13716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cro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Komponens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6934320" y="2743200"/>
            <a:ext cx="457200" cy="3657600"/>
          </a:xfrm>
          <a:custGeom>
            <a:avLst/>
            <a:gdLst>
              <a:gd name="textAreaLeft" fmla="*/ 0 w 457200"/>
              <a:gd name="textAreaRight" fmla="*/ 164880 w 4572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7" name="gatewary" descr=""/>
          <p:cNvPicPr/>
          <p:nvPr/>
        </p:nvPicPr>
        <p:blipFill>
          <a:blip r:embed="rId4"/>
          <a:stretch/>
        </p:blipFill>
        <p:spPr>
          <a:xfrm>
            <a:off x="2809800" y="5700600"/>
            <a:ext cx="695520" cy="623880"/>
          </a:xfrm>
          <a:prstGeom prst="rect">
            <a:avLst/>
          </a:prstGeom>
          <a:ln w="0">
            <a:noFill/>
          </a:ln>
        </p:spPr>
      </p:pic>
      <p:pic>
        <p:nvPicPr>
          <p:cNvPr id="3018" name="gatewary" descr=""/>
          <p:cNvPicPr/>
          <p:nvPr/>
        </p:nvPicPr>
        <p:blipFill>
          <a:blip r:embed="rId5"/>
          <a:stretch/>
        </p:blipFill>
        <p:spPr>
          <a:xfrm>
            <a:off x="1752480" y="5700600"/>
            <a:ext cx="695520" cy="623880"/>
          </a:xfrm>
          <a:prstGeom prst="rect">
            <a:avLst/>
          </a:prstGeom>
          <a:ln w="0">
            <a:noFill/>
          </a:ln>
        </p:spPr>
      </p:pic>
      <p:pic>
        <p:nvPicPr>
          <p:cNvPr id="3019" name="gatewary" descr=""/>
          <p:cNvPicPr/>
          <p:nvPr/>
        </p:nvPicPr>
        <p:blipFill>
          <a:blip r:embed="rId6"/>
          <a:stretch/>
        </p:blipFill>
        <p:spPr>
          <a:xfrm>
            <a:off x="685800" y="5700600"/>
            <a:ext cx="695160" cy="623880"/>
          </a:xfrm>
          <a:prstGeom prst="rect">
            <a:avLst/>
          </a:prstGeom>
          <a:ln w="0">
            <a:noFill/>
          </a:ln>
        </p:spPr>
      </p:pic>
      <p:sp>
        <p:nvSpPr>
          <p:cNvPr id="3020" name=""/>
          <p:cNvSpPr/>
          <p:nvPr/>
        </p:nvSpPr>
        <p:spPr>
          <a:xfrm>
            <a:off x="2116080" y="4359240"/>
            <a:ext cx="32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in2000 Server +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minal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3276720" y="5791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Ügyfel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6934320" y="91440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c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3" name=""/>
          <p:cNvGrpSpPr/>
          <p:nvPr/>
        </p:nvGrpSpPr>
        <p:grpSpPr>
          <a:xfrm>
            <a:off x="5827680" y="5638680"/>
            <a:ext cx="420840" cy="636840"/>
            <a:chOff x="5827680" y="5638680"/>
            <a:chExt cx="420840" cy="636840"/>
          </a:xfrm>
        </p:grpSpPr>
        <p:sp>
          <p:nvSpPr>
            <p:cNvPr id="3024" name=""/>
            <p:cNvSpPr/>
            <p:nvPr/>
          </p:nvSpPr>
          <p:spPr>
            <a:xfrm>
              <a:off x="5827680" y="5887800"/>
              <a:ext cx="397800" cy="387720"/>
            </a:xfrm>
            <a:custGeom>
              <a:avLst/>
              <a:gdLst/>
              <a:ahLst/>
              <a:rect l="l" t="t" r="r" b="b"/>
              <a:pathLst>
                <a:path w="724" h="707">
                  <a:moveTo>
                    <a:pt x="336" y="0"/>
                  </a:moveTo>
                  <a:lnTo>
                    <a:pt x="0" y="301"/>
                  </a:lnTo>
                  <a:lnTo>
                    <a:pt x="400" y="706"/>
                  </a:lnTo>
                  <a:lnTo>
                    <a:pt x="723" y="385"/>
                  </a:lnTo>
                  <a:lnTo>
                    <a:pt x="336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048000" y="6098760"/>
              <a:ext cx="176760" cy="175680"/>
            </a:xfrm>
            <a:custGeom>
              <a:avLst/>
              <a:gdLst/>
              <a:ahLst/>
              <a:rect l="l" t="t" r="r" b="b"/>
              <a:pathLst>
                <a:path w="322" h="320">
                  <a:moveTo>
                    <a:pt x="321" y="0"/>
                  </a:moveTo>
                  <a:lnTo>
                    <a:pt x="321" y="46"/>
                  </a:lnTo>
                  <a:lnTo>
                    <a:pt x="0" y="319"/>
                  </a:lnTo>
                  <a:lnTo>
                    <a:pt x="3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999760" y="5649120"/>
              <a:ext cx="239040" cy="455760"/>
            </a:xfrm>
            <a:custGeom>
              <a:avLst/>
              <a:gdLst/>
              <a:ahLst/>
              <a:rect l="l" t="t" r="r" b="b"/>
              <a:pathLst>
                <a:path w="435" h="831">
                  <a:moveTo>
                    <a:pt x="0" y="439"/>
                  </a:moveTo>
                  <a:lnTo>
                    <a:pt x="4" y="444"/>
                  </a:lnTo>
                  <a:lnTo>
                    <a:pt x="19" y="455"/>
                  </a:lnTo>
                  <a:lnTo>
                    <a:pt x="40" y="475"/>
                  </a:lnTo>
                  <a:lnTo>
                    <a:pt x="64" y="499"/>
                  </a:lnTo>
                  <a:lnTo>
                    <a:pt x="94" y="528"/>
                  </a:lnTo>
                  <a:lnTo>
                    <a:pt x="126" y="560"/>
                  </a:lnTo>
                  <a:lnTo>
                    <a:pt x="163" y="597"/>
                  </a:lnTo>
                  <a:lnTo>
                    <a:pt x="200" y="630"/>
                  </a:lnTo>
                  <a:lnTo>
                    <a:pt x="235" y="667"/>
                  </a:lnTo>
                  <a:lnTo>
                    <a:pt x="272" y="701"/>
                  </a:lnTo>
                  <a:lnTo>
                    <a:pt x="304" y="736"/>
                  </a:lnTo>
                  <a:lnTo>
                    <a:pt x="334" y="765"/>
                  </a:lnTo>
                  <a:lnTo>
                    <a:pt x="358" y="791"/>
                  </a:lnTo>
                  <a:lnTo>
                    <a:pt x="377" y="812"/>
                  </a:lnTo>
                  <a:lnTo>
                    <a:pt x="389" y="825"/>
                  </a:lnTo>
                  <a:lnTo>
                    <a:pt x="390" y="830"/>
                  </a:lnTo>
                  <a:lnTo>
                    <a:pt x="389" y="828"/>
                  </a:lnTo>
                  <a:lnTo>
                    <a:pt x="389" y="813"/>
                  </a:lnTo>
                  <a:lnTo>
                    <a:pt x="390" y="793"/>
                  </a:lnTo>
                  <a:lnTo>
                    <a:pt x="393" y="765"/>
                  </a:lnTo>
                  <a:lnTo>
                    <a:pt x="395" y="732"/>
                  </a:lnTo>
                  <a:lnTo>
                    <a:pt x="400" y="695"/>
                  </a:lnTo>
                  <a:lnTo>
                    <a:pt x="405" y="655"/>
                  </a:lnTo>
                  <a:lnTo>
                    <a:pt x="409" y="610"/>
                  </a:lnTo>
                  <a:lnTo>
                    <a:pt x="414" y="569"/>
                  </a:lnTo>
                  <a:lnTo>
                    <a:pt x="419" y="528"/>
                  </a:lnTo>
                  <a:lnTo>
                    <a:pt x="421" y="489"/>
                  </a:lnTo>
                  <a:lnTo>
                    <a:pt x="425" y="455"/>
                  </a:lnTo>
                  <a:lnTo>
                    <a:pt x="430" y="428"/>
                  </a:lnTo>
                  <a:lnTo>
                    <a:pt x="432" y="404"/>
                  </a:lnTo>
                  <a:lnTo>
                    <a:pt x="432" y="388"/>
                  </a:lnTo>
                  <a:lnTo>
                    <a:pt x="434" y="383"/>
                  </a:lnTo>
                  <a:lnTo>
                    <a:pt x="51" y="0"/>
                  </a:lnTo>
                  <a:lnTo>
                    <a:pt x="0" y="439"/>
                  </a:ln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027840" y="5638680"/>
              <a:ext cx="220680" cy="222120"/>
            </a:xfrm>
            <a:custGeom>
              <a:avLst/>
              <a:gdLst/>
              <a:ahLst/>
              <a:rect l="l" t="t" r="r" b="b"/>
              <a:pathLst>
                <a:path w="402" h="405">
                  <a:moveTo>
                    <a:pt x="0" y="20"/>
                  </a:moveTo>
                  <a:lnTo>
                    <a:pt x="383" y="404"/>
                  </a:lnTo>
                  <a:lnTo>
                    <a:pt x="401" y="383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1" y="17"/>
                  </a:lnTo>
                  <a:lnTo>
                    <a:pt x="0" y="2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213600" y="5848200"/>
              <a:ext cx="33840" cy="256680"/>
            </a:xfrm>
            <a:custGeom>
              <a:avLst/>
              <a:gdLst/>
              <a:ahLst/>
              <a:rect l="l" t="t" r="r" b="b"/>
              <a:pathLst>
                <a:path w="62" h="468">
                  <a:moveTo>
                    <a:pt x="61" y="0"/>
                  </a:moveTo>
                  <a:lnTo>
                    <a:pt x="22" y="457"/>
                  </a:lnTo>
                  <a:lnTo>
                    <a:pt x="0" y="467"/>
                  </a:lnTo>
                  <a:lnTo>
                    <a:pt x="43" y="19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019920" y="5686920"/>
              <a:ext cx="193320" cy="371160"/>
            </a:xfrm>
            <a:custGeom>
              <a:avLst/>
              <a:gdLst/>
              <a:ahLst/>
              <a:rect l="l" t="t" r="r" b="b"/>
              <a:pathLst>
                <a:path w="352" h="677">
                  <a:moveTo>
                    <a:pt x="0" y="358"/>
                  </a:moveTo>
                  <a:lnTo>
                    <a:pt x="1" y="359"/>
                  </a:lnTo>
                  <a:lnTo>
                    <a:pt x="12" y="370"/>
                  </a:lnTo>
                  <a:lnTo>
                    <a:pt x="28" y="386"/>
                  </a:lnTo>
                  <a:lnTo>
                    <a:pt x="49" y="406"/>
                  </a:lnTo>
                  <a:lnTo>
                    <a:pt x="73" y="430"/>
                  </a:lnTo>
                  <a:lnTo>
                    <a:pt x="99" y="456"/>
                  </a:lnTo>
                  <a:lnTo>
                    <a:pt x="129" y="484"/>
                  </a:lnTo>
                  <a:lnTo>
                    <a:pt x="158" y="513"/>
                  </a:lnTo>
                  <a:lnTo>
                    <a:pt x="189" y="542"/>
                  </a:lnTo>
                  <a:lnTo>
                    <a:pt x="217" y="571"/>
                  </a:lnTo>
                  <a:lnTo>
                    <a:pt x="245" y="597"/>
                  </a:lnTo>
                  <a:lnTo>
                    <a:pt x="267" y="623"/>
                  </a:lnTo>
                  <a:lnTo>
                    <a:pt x="288" y="643"/>
                  </a:lnTo>
                  <a:lnTo>
                    <a:pt x="302" y="659"/>
                  </a:lnTo>
                  <a:lnTo>
                    <a:pt x="310" y="671"/>
                  </a:lnTo>
                  <a:lnTo>
                    <a:pt x="314" y="676"/>
                  </a:lnTo>
                  <a:lnTo>
                    <a:pt x="314" y="672"/>
                  </a:lnTo>
                  <a:lnTo>
                    <a:pt x="314" y="661"/>
                  </a:lnTo>
                  <a:lnTo>
                    <a:pt x="315" y="645"/>
                  </a:lnTo>
                  <a:lnTo>
                    <a:pt x="315" y="623"/>
                  </a:lnTo>
                  <a:lnTo>
                    <a:pt x="318" y="595"/>
                  </a:lnTo>
                  <a:lnTo>
                    <a:pt x="322" y="565"/>
                  </a:lnTo>
                  <a:lnTo>
                    <a:pt x="325" y="531"/>
                  </a:lnTo>
                  <a:lnTo>
                    <a:pt x="330" y="497"/>
                  </a:lnTo>
                  <a:lnTo>
                    <a:pt x="331" y="462"/>
                  </a:lnTo>
                  <a:lnTo>
                    <a:pt x="336" y="430"/>
                  </a:lnTo>
                  <a:lnTo>
                    <a:pt x="341" y="398"/>
                  </a:lnTo>
                  <a:lnTo>
                    <a:pt x="342" y="370"/>
                  </a:lnTo>
                  <a:lnTo>
                    <a:pt x="346" y="346"/>
                  </a:lnTo>
                  <a:lnTo>
                    <a:pt x="347" y="327"/>
                  </a:lnTo>
                  <a:lnTo>
                    <a:pt x="351" y="316"/>
                  </a:lnTo>
                  <a:lnTo>
                    <a:pt x="351" y="311"/>
                  </a:lnTo>
                  <a:lnTo>
                    <a:pt x="38" y="0"/>
                  </a:lnTo>
                  <a:lnTo>
                    <a:pt x="0" y="358"/>
                  </a:lnTo>
                </a:path>
              </a:pathLst>
            </a:custGeom>
            <a:gradFill rotWithShape="0">
              <a:gsLst>
                <a:gs pos="0">
                  <a:srgbClr val="00b146"/>
                </a:gs>
                <a:gs pos="100000">
                  <a:srgbClr val="00ff66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79960" y="5927040"/>
              <a:ext cx="26280" cy="2772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2" y="50"/>
                  </a:moveTo>
                  <a:lnTo>
                    <a:pt x="47" y="24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22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996880" y="594468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013440" y="596232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50"/>
                  </a:moveTo>
                  <a:lnTo>
                    <a:pt x="50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032160" y="5980320"/>
              <a:ext cx="27720" cy="2736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4" y="49"/>
                  </a:moveTo>
                  <a:lnTo>
                    <a:pt x="50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048000" y="5997960"/>
              <a:ext cx="26640" cy="273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49"/>
                  </a:moveTo>
                  <a:lnTo>
                    <a:pt x="48" y="23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25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065640" y="6015600"/>
              <a:ext cx="26640" cy="255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5" y="46"/>
                  </a:moveTo>
                  <a:lnTo>
                    <a:pt x="48" y="23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25" y="4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084360" y="6032880"/>
              <a:ext cx="25560" cy="266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2" y="48"/>
                  </a:moveTo>
                  <a:lnTo>
                    <a:pt x="46" y="24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22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100560" y="6050520"/>
              <a:ext cx="27720" cy="2700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118200" y="6068160"/>
              <a:ext cx="27720" cy="2664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135840" y="608400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151680" y="6101640"/>
              <a:ext cx="26640" cy="2772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5" y="50"/>
                  </a:moveTo>
                  <a:lnTo>
                    <a:pt x="48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961600" y="5945760"/>
              <a:ext cx="27360" cy="28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3" y="51"/>
                  </a:moveTo>
                  <a:lnTo>
                    <a:pt x="49" y="25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23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977440" y="5963400"/>
              <a:ext cx="26640" cy="28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1"/>
                  </a:moveTo>
                  <a:lnTo>
                    <a:pt x="48" y="25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995080" y="5982120"/>
              <a:ext cx="26640" cy="266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48"/>
                  </a:moveTo>
                  <a:lnTo>
                    <a:pt x="48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012720" y="5999400"/>
              <a:ext cx="27000" cy="266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48"/>
                  </a:moveTo>
                  <a:lnTo>
                    <a:pt x="48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029280" y="6017040"/>
              <a:ext cx="28800" cy="2700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26" y="48"/>
                  </a:moveTo>
                  <a:lnTo>
                    <a:pt x="52" y="22"/>
                  </a:lnTo>
                  <a:lnTo>
                    <a:pt x="26" y="0"/>
                  </a:lnTo>
                  <a:lnTo>
                    <a:pt x="0" y="22"/>
                  </a:lnTo>
                  <a:lnTo>
                    <a:pt x="26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46920" y="6032160"/>
              <a:ext cx="29160" cy="28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52"/>
                  </a:moveTo>
                  <a:lnTo>
                    <a:pt x="52" y="26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26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064560" y="6049440"/>
              <a:ext cx="29160" cy="288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52"/>
                  </a:moveTo>
                  <a:lnTo>
                    <a:pt x="52" y="26"/>
                  </a:lnTo>
                  <a:lnTo>
                    <a:pt x="26" y="0"/>
                  </a:lnTo>
                  <a:lnTo>
                    <a:pt x="0" y="26"/>
                  </a:lnTo>
                  <a:lnTo>
                    <a:pt x="26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81480" y="6067080"/>
              <a:ext cx="26640" cy="288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5" y="52"/>
                  </a:moveTo>
                  <a:lnTo>
                    <a:pt x="48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99120" y="6084720"/>
              <a:ext cx="26640" cy="288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4" y="52"/>
                  </a:moveTo>
                  <a:lnTo>
                    <a:pt x="48" y="26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24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116760" y="6102720"/>
              <a:ext cx="26640" cy="273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49"/>
                  </a:moveTo>
                  <a:lnTo>
                    <a:pt x="48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135480" y="6120360"/>
              <a:ext cx="27360" cy="273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3" y="49"/>
                  </a:moveTo>
                  <a:lnTo>
                    <a:pt x="49" y="23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23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941800" y="5965920"/>
              <a:ext cx="27360" cy="266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4" y="48"/>
                  </a:moveTo>
                  <a:lnTo>
                    <a:pt x="49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960520" y="598104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978160" y="599868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995800" y="601596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4" y="50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12720" y="6033600"/>
              <a:ext cx="25920" cy="2772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3" y="50"/>
                  </a:moveTo>
                  <a:lnTo>
                    <a:pt x="46" y="24"/>
                  </a:lnTo>
                  <a:lnTo>
                    <a:pt x="23" y="0"/>
                  </a:lnTo>
                  <a:lnTo>
                    <a:pt x="0" y="24"/>
                  </a:lnTo>
                  <a:lnTo>
                    <a:pt x="23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028560" y="6051240"/>
              <a:ext cx="26640" cy="2772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0"/>
                  </a:moveTo>
                  <a:lnTo>
                    <a:pt x="48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46200" y="6069240"/>
              <a:ext cx="27000" cy="273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49"/>
                  </a:moveTo>
                  <a:lnTo>
                    <a:pt x="48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9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064560" y="6087240"/>
              <a:ext cx="27720" cy="2664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24" y="48"/>
                  </a:moveTo>
                  <a:lnTo>
                    <a:pt x="50" y="24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082200" y="6104520"/>
              <a:ext cx="27720" cy="2556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24" y="46"/>
                  </a:moveTo>
                  <a:lnTo>
                    <a:pt x="50" y="23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24" y="4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100200" y="6122160"/>
              <a:ext cx="27360" cy="2664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3" y="48"/>
                  </a:moveTo>
                  <a:lnTo>
                    <a:pt x="49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116760" y="6139440"/>
              <a:ext cx="26280" cy="266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24" y="48"/>
                  </a:moveTo>
                  <a:lnTo>
                    <a:pt x="47" y="22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48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924160" y="5982480"/>
              <a:ext cx="27720" cy="277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50"/>
                  </a:moveTo>
                  <a:lnTo>
                    <a:pt x="50" y="24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25" y="5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941440" y="5999400"/>
              <a:ext cx="26640" cy="28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1"/>
                  </a:moveTo>
                  <a:lnTo>
                    <a:pt x="48" y="25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958720" y="6017040"/>
              <a:ext cx="26640" cy="28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4" y="51"/>
                  </a:moveTo>
                  <a:lnTo>
                    <a:pt x="48" y="25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24" y="5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977440" y="6035760"/>
              <a:ext cx="95400" cy="96840"/>
            </a:xfrm>
            <a:custGeom>
              <a:avLst/>
              <a:gdLst/>
              <a:ahLst/>
              <a:rect l="l" t="t" r="r" b="b"/>
              <a:pathLst>
                <a:path w="174" h="177">
                  <a:moveTo>
                    <a:pt x="150" y="176"/>
                  </a:moveTo>
                  <a:lnTo>
                    <a:pt x="173" y="150"/>
                  </a:lnTo>
                  <a:lnTo>
                    <a:pt x="22" y="0"/>
                  </a:lnTo>
                  <a:lnTo>
                    <a:pt x="0" y="24"/>
                  </a:lnTo>
                  <a:lnTo>
                    <a:pt x="150" y="176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62760" y="6120720"/>
              <a:ext cx="26640" cy="288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24" y="52"/>
                  </a:moveTo>
                  <a:lnTo>
                    <a:pt x="48" y="26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24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079680" y="6138360"/>
              <a:ext cx="28440" cy="2880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5" y="52"/>
                  </a:moveTo>
                  <a:lnTo>
                    <a:pt x="51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097320" y="6156000"/>
              <a:ext cx="28440" cy="2880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5" y="52"/>
                  </a:moveTo>
                  <a:lnTo>
                    <a:pt x="51" y="26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52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954400" y="6080400"/>
              <a:ext cx="50400" cy="496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46" y="90"/>
                  </a:moveTo>
                  <a:lnTo>
                    <a:pt x="51" y="90"/>
                  </a:lnTo>
                  <a:lnTo>
                    <a:pt x="55" y="90"/>
                  </a:lnTo>
                  <a:lnTo>
                    <a:pt x="60" y="88"/>
                  </a:lnTo>
                  <a:lnTo>
                    <a:pt x="63" y="88"/>
                  </a:lnTo>
                  <a:lnTo>
                    <a:pt x="68" y="85"/>
                  </a:lnTo>
                  <a:lnTo>
                    <a:pt x="73" y="83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3" y="73"/>
                  </a:lnTo>
                  <a:lnTo>
                    <a:pt x="84" y="69"/>
                  </a:lnTo>
                  <a:lnTo>
                    <a:pt x="87" y="67"/>
                  </a:lnTo>
                  <a:lnTo>
                    <a:pt x="89" y="62"/>
                  </a:lnTo>
                  <a:lnTo>
                    <a:pt x="91" y="57"/>
                  </a:lnTo>
                  <a:lnTo>
                    <a:pt x="91" y="54"/>
                  </a:lnTo>
                  <a:lnTo>
                    <a:pt x="91" y="49"/>
                  </a:lnTo>
                  <a:lnTo>
                    <a:pt x="91" y="45"/>
                  </a:lnTo>
                  <a:lnTo>
                    <a:pt x="91" y="40"/>
                  </a:lnTo>
                  <a:lnTo>
                    <a:pt x="91" y="35"/>
                  </a:lnTo>
                  <a:lnTo>
                    <a:pt x="91" y="32"/>
                  </a:lnTo>
                  <a:lnTo>
                    <a:pt x="89" y="27"/>
                  </a:lnTo>
                  <a:lnTo>
                    <a:pt x="87" y="22"/>
                  </a:lnTo>
                  <a:lnTo>
                    <a:pt x="84" y="20"/>
                  </a:lnTo>
                  <a:lnTo>
                    <a:pt x="83" y="16"/>
                  </a:lnTo>
                  <a:lnTo>
                    <a:pt x="79" y="12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4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5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4" y="67"/>
                  </a:lnTo>
                  <a:lnTo>
                    <a:pt x="9" y="69"/>
                  </a:lnTo>
                  <a:lnTo>
                    <a:pt x="12" y="73"/>
                  </a:lnTo>
                  <a:lnTo>
                    <a:pt x="14" y="77"/>
                  </a:lnTo>
                  <a:lnTo>
                    <a:pt x="15" y="80"/>
                  </a:lnTo>
                  <a:lnTo>
                    <a:pt x="20" y="83"/>
                  </a:lnTo>
                  <a:lnTo>
                    <a:pt x="25" y="85"/>
                  </a:lnTo>
                  <a:lnTo>
                    <a:pt x="28" y="88"/>
                  </a:lnTo>
                  <a:lnTo>
                    <a:pt x="31" y="88"/>
                  </a:lnTo>
                  <a:lnTo>
                    <a:pt x="36" y="90"/>
                  </a:lnTo>
                  <a:lnTo>
                    <a:pt x="41" y="90"/>
                  </a:lnTo>
                  <a:lnTo>
                    <a:pt x="46" y="9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906160" y="6091200"/>
              <a:ext cx="49680" cy="504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7" y="91"/>
                  </a:moveTo>
                  <a:lnTo>
                    <a:pt x="90" y="59"/>
                  </a:lnTo>
                  <a:lnTo>
                    <a:pt x="32" y="0"/>
                  </a:lnTo>
                  <a:lnTo>
                    <a:pt x="0" y="30"/>
                  </a:lnTo>
                  <a:lnTo>
                    <a:pt x="57" y="91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941800" y="6127920"/>
              <a:ext cx="50760" cy="4968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61" y="90"/>
                  </a:moveTo>
                  <a:lnTo>
                    <a:pt x="92" y="57"/>
                  </a:lnTo>
                  <a:lnTo>
                    <a:pt x="32" y="0"/>
                  </a:lnTo>
                  <a:lnTo>
                    <a:pt x="0" y="32"/>
                  </a:lnTo>
                  <a:lnTo>
                    <a:pt x="61" y="9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73" name="gatewary" descr=""/>
          <p:cNvPicPr/>
          <p:nvPr/>
        </p:nvPicPr>
        <p:blipFill>
          <a:blip r:embed="rId7"/>
          <a:stretch/>
        </p:blipFill>
        <p:spPr>
          <a:xfrm>
            <a:off x="4638600" y="5700600"/>
            <a:ext cx="695520" cy="623880"/>
          </a:xfrm>
          <a:prstGeom prst="rect">
            <a:avLst/>
          </a:prstGeom>
          <a:ln w="0">
            <a:noFill/>
          </a:ln>
        </p:spPr>
      </p:pic>
      <p:sp>
        <p:nvSpPr>
          <p:cNvPr id="3074" name=""/>
          <p:cNvSpPr/>
          <p:nvPr/>
        </p:nvSpPr>
        <p:spPr>
          <a:xfrm>
            <a:off x="762120" y="28954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lal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5" name="dell%20server" descr=""/>
          <p:cNvPicPr/>
          <p:nvPr/>
        </p:nvPicPr>
        <p:blipFill>
          <a:blip r:embed="rId8"/>
          <a:srcRect l="0" t="0" r="52819" b="0"/>
          <a:stretch/>
        </p:blipFill>
        <p:spPr>
          <a:xfrm>
            <a:off x="2971800" y="1066680"/>
            <a:ext cx="990720" cy="1067040"/>
          </a:xfrm>
          <a:prstGeom prst="rect">
            <a:avLst/>
          </a:prstGeom>
          <a:ln w="0">
            <a:noFill/>
          </a:ln>
        </p:spPr>
      </p:pic>
      <p:cxnSp>
        <p:nvCxnSpPr>
          <p:cNvPr id="3076" name=""/>
          <p:cNvCxnSpPr/>
          <p:nvPr/>
        </p:nvCxnSpPr>
        <p:spPr>
          <a:xfrm flipH="1" rot="10800000">
            <a:off x="3199320" y="1575720"/>
            <a:ext cx="34200" cy="1729440"/>
          </a:xfrm>
          <a:prstGeom prst="curvedConnector5">
            <a:avLst>
              <a:gd name="adj1" fmla="val -2732978"/>
              <a:gd name="adj2" fmla="val 49989"/>
              <a:gd name="adj3" fmla="val -2732978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77" name=""/>
          <p:cNvCxnSpPr/>
          <p:nvPr/>
        </p:nvCxnSpPr>
        <p:spPr>
          <a:xfrm flipH="1" rot="16200000">
            <a:off x="4493160" y="3049200"/>
            <a:ext cx="229320" cy="174996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78" name=""/>
          <p:cNvCxnSpPr/>
          <p:nvPr/>
        </p:nvCxnSpPr>
        <p:spPr>
          <a:xfrm rot="5400000">
            <a:off x="4876920" y="5104440"/>
            <a:ext cx="631080" cy="480240"/>
          </a:xfrm>
          <a:prstGeom prst="bentConnector3">
            <a:avLst>
              <a:gd name="adj1" fmla="val 66723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3079" name=""/>
          <p:cNvGraphicFramePr/>
          <p:nvPr/>
        </p:nvGraphicFramePr>
        <p:xfrm>
          <a:off x="3886200" y="2590920"/>
          <a:ext cx="83808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2590920"/>
                    <a:ext cx="838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81" name=""/>
          <p:cNvCxnSpPr>
            <a:stCxn id="3075" idx="3"/>
            <a:endCxn id="2997" idx="3"/>
          </p:cNvCxnSpPr>
          <p:nvPr/>
        </p:nvCxnSpPr>
        <p:spPr>
          <a:xfrm>
            <a:off x="3962520" y="1600200"/>
            <a:ext cx="280080" cy="1705680"/>
          </a:xfrm>
          <a:prstGeom prst="curvedConnector5">
            <a:avLst>
              <a:gd name="adj1" fmla="val 278893"/>
              <a:gd name="adj2" fmla="val 49989"/>
              <a:gd name="adj3" fmla="val 278893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82" name=""/>
          <p:cNvSpPr/>
          <p:nvPr/>
        </p:nvSpPr>
        <p:spPr>
          <a:xfrm>
            <a:off x="4114800" y="11430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icrosof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ertificate Authority &amp; License Clearingho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83" name=""/>
          <p:cNvCxnSpPr/>
          <p:nvPr/>
        </p:nvCxnSpPr>
        <p:spPr>
          <a:xfrm rot="5400000">
            <a:off x="5029200" y="5180760"/>
            <a:ext cx="630720" cy="479880"/>
          </a:xfrm>
          <a:prstGeom prst="bentConnector3">
            <a:avLst>
              <a:gd name="adj1" fmla="val 66704"/>
            </a:avLst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084" name=""/>
          <p:cNvCxnSpPr/>
          <p:nvPr/>
        </p:nvCxnSpPr>
        <p:spPr>
          <a:xfrm flipH="1" rot="16200000">
            <a:off x="4385520" y="3309840"/>
            <a:ext cx="305280" cy="161028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pic>
        <p:nvPicPr>
          <p:cNvPr id="3085" name="dell%20server" descr=""/>
          <p:cNvPicPr/>
          <p:nvPr/>
        </p:nvPicPr>
        <p:blipFill>
          <a:blip r:embed="rId11"/>
          <a:srcRect l="0" t="0" r="52819" b="0"/>
          <a:stretch/>
        </p:blipFill>
        <p:spPr>
          <a:xfrm>
            <a:off x="1905120" y="4191120"/>
            <a:ext cx="328320" cy="879480"/>
          </a:xfrm>
          <a:prstGeom prst="rect">
            <a:avLst/>
          </a:prstGeom>
          <a:ln w="0">
            <a:noFill/>
          </a:ln>
        </p:spPr>
      </p:pic>
      <p:pic>
        <p:nvPicPr>
          <p:cNvPr id="3086" name="dell%20server" descr=""/>
          <p:cNvPicPr/>
          <p:nvPr/>
        </p:nvPicPr>
        <p:blipFill>
          <a:blip r:embed="rId12"/>
          <a:srcRect l="0" t="0" r="52819" b="0"/>
          <a:stretch/>
        </p:blipFill>
        <p:spPr>
          <a:xfrm>
            <a:off x="5310360" y="4191120"/>
            <a:ext cx="328320" cy="879480"/>
          </a:xfrm>
          <a:prstGeom prst="rect">
            <a:avLst/>
          </a:prstGeom>
          <a:ln w="0">
            <a:noFill/>
          </a:ln>
        </p:spPr>
      </p:pic>
      <p:pic>
        <p:nvPicPr>
          <p:cNvPr id="3087" name="" descr=""/>
          <p:cNvPicPr/>
          <p:nvPr/>
        </p:nvPicPr>
        <p:blipFill>
          <a:blip r:embed="rId13"/>
          <a:stretch/>
        </p:blipFill>
        <p:spPr>
          <a:xfrm>
            <a:off x="4648320" y="6324480"/>
            <a:ext cx="531720" cy="533520"/>
          </a:xfrm>
          <a:prstGeom prst="rect">
            <a:avLst/>
          </a:prstGeom>
          <a:ln w="0">
            <a:noFill/>
          </a:ln>
        </p:spPr>
      </p:pic>
      <p:sp>
        <p:nvSpPr>
          <p:cNvPr id="3088" name=""/>
          <p:cNvSpPr/>
          <p:nvPr/>
        </p:nvSpPr>
        <p:spPr>
          <a:xfrm flipH="1">
            <a:off x="3123720" y="2133720"/>
            <a:ext cx="228600" cy="8380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Bevezetési szempont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64680" cy="3544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icense Server csak Windows 2000-es DC-n leh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Terminal Server és a License Server közötti kommunikáci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em túl nagy, de figyeljünk r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nterprise versus  Domain License 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Technikai szemponto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64680" cy="4340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elyileg tárolt CAL elveszté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Merevlemez formattál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licensz újra kibocsátás kizárólag telefonon keresztü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icense Server visszaállítá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Javasolt a gyakori és folyamatos men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 telepített, de ki nem adott licenszek újraérvényesítéséhez ismét telefonálásra van szüksé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"/>
          <p:cNvSpPr/>
          <p:nvPr/>
        </p:nvSpPr>
        <p:spPr>
          <a:xfrm rot="16200000">
            <a:off x="-1409400" y="2857320"/>
            <a:ext cx="4876560" cy="2057400"/>
          </a:xfrm>
          <a:custGeom>
            <a:avLst/>
            <a:gdLst>
              <a:gd name="textAreaLeft" fmla="*/ 761760 w 4876560"/>
              <a:gd name="textAreaRight" fmla="*/ 4332600 w 4876560"/>
              <a:gd name="textAreaTop" fmla="*/ 484200 h 2057400"/>
              <a:gd name="textAreaBottom" fmla="*/ 157320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083"/>
                </a:moveTo>
                <a:lnTo>
                  <a:pt x="17047" y="5083"/>
                </a:lnTo>
                <a:lnTo>
                  <a:pt x="17047" y="0"/>
                </a:lnTo>
                <a:lnTo>
                  <a:pt x="21600" y="10800"/>
                </a:lnTo>
                <a:lnTo>
                  <a:pt x="17047" y="21600"/>
                </a:lnTo>
                <a:lnTo>
                  <a:pt x="17047" y="16517"/>
                </a:lnTo>
                <a:lnTo>
                  <a:pt x="3375" y="16517"/>
                </a:lnTo>
                <a:close/>
              </a:path>
              <a:path w="21600" h="21600">
                <a:moveTo>
                  <a:pt x="0" y="5083"/>
                </a:moveTo>
                <a:lnTo>
                  <a:pt x="675" y="5083"/>
                </a:lnTo>
                <a:lnTo>
                  <a:pt x="675" y="16517"/>
                </a:lnTo>
                <a:lnTo>
                  <a:pt x="0" y="16517"/>
                </a:lnTo>
                <a:close/>
              </a:path>
              <a:path w="21600" h="21600">
                <a:moveTo>
                  <a:pt x="1350" y="5083"/>
                </a:moveTo>
                <a:lnTo>
                  <a:pt x="2700" y="5083"/>
                </a:lnTo>
                <a:lnTo>
                  <a:pt x="2700" y="16517"/>
                </a:lnTo>
                <a:lnTo>
                  <a:pt x="1350" y="16517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2438280" y="4800600"/>
            <a:ext cx="6705720" cy="2057400"/>
          </a:xfrm>
          <a:custGeom>
            <a:avLst/>
            <a:gdLst>
              <a:gd name="textAreaLeft" fmla="*/ 1047600 w 6705720"/>
              <a:gd name="textAreaRight" fmla="*/ 6113880 w 6705720"/>
              <a:gd name="textAreaTop" fmla="*/ 485640 h 2057400"/>
              <a:gd name="textAreaBottom" fmla="*/ 157176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100"/>
                </a:moveTo>
                <a:lnTo>
                  <a:pt x="17987" y="5100"/>
                </a:lnTo>
                <a:lnTo>
                  <a:pt x="17987" y="0"/>
                </a:lnTo>
                <a:lnTo>
                  <a:pt x="21600" y="10800"/>
                </a:lnTo>
                <a:lnTo>
                  <a:pt x="17987" y="21600"/>
                </a:lnTo>
                <a:lnTo>
                  <a:pt x="17987" y="16500"/>
                </a:lnTo>
                <a:lnTo>
                  <a:pt x="3375" y="16500"/>
                </a:lnTo>
                <a:close/>
              </a:path>
              <a:path w="21600" h="21600">
                <a:moveTo>
                  <a:pt x="0" y="5100"/>
                </a:moveTo>
                <a:lnTo>
                  <a:pt x="675" y="5100"/>
                </a:lnTo>
                <a:lnTo>
                  <a:pt x="675" y="16500"/>
                </a:lnTo>
                <a:lnTo>
                  <a:pt x="0" y="16500"/>
                </a:lnTo>
                <a:close/>
              </a:path>
              <a:path w="21600" h="21600">
                <a:moveTo>
                  <a:pt x="1350" y="5100"/>
                </a:moveTo>
                <a:lnTo>
                  <a:pt x="2700" y="5100"/>
                </a:lnTo>
                <a:lnTo>
                  <a:pt x="2700" y="16500"/>
                </a:lnTo>
                <a:lnTo>
                  <a:pt x="1350" y="165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Felfelé és oldalra skálázhatóság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pic>
        <p:nvPicPr>
          <p:cNvPr id="3096" name="Moonshot%20right%20iso%20icon" descr=""/>
          <p:cNvPicPr/>
          <p:nvPr/>
        </p:nvPicPr>
        <p:blipFill>
          <a:blip r:embed="rId2"/>
          <a:stretch/>
        </p:blipFill>
        <p:spPr>
          <a:xfrm>
            <a:off x="35053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097" name="Moonshot%20right%20iso%20icon" descr=""/>
          <p:cNvPicPr/>
          <p:nvPr/>
        </p:nvPicPr>
        <p:blipFill>
          <a:blip r:embed="rId3"/>
          <a:stretch/>
        </p:blipFill>
        <p:spPr>
          <a:xfrm>
            <a:off x="51055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098" name="Moonshot%20right%20iso%20icon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099" name="PL%203000%20-%20right%20icon" descr=""/>
          <p:cNvPicPr/>
          <p:nvPr/>
        </p:nvPicPr>
        <p:blipFill>
          <a:blip r:embed="rId5"/>
          <a:stretch/>
        </p:blipFill>
        <p:spPr>
          <a:xfrm>
            <a:off x="490680" y="2279520"/>
            <a:ext cx="1033200" cy="1606680"/>
          </a:xfrm>
          <a:prstGeom prst="rect">
            <a:avLst/>
          </a:prstGeom>
          <a:ln w="0">
            <a:noFill/>
          </a:ln>
        </p:spPr>
      </p:pic>
      <p:pic>
        <p:nvPicPr>
          <p:cNvPr id="3100" name="PL%203000%20-%20right%20icon" descr=""/>
          <p:cNvPicPr/>
          <p:nvPr/>
        </p:nvPicPr>
        <p:blipFill>
          <a:blip r:embed="rId6"/>
          <a:stretch/>
        </p:blipFill>
        <p:spPr>
          <a:xfrm>
            <a:off x="614520" y="3886200"/>
            <a:ext cx="833400" cy="1295280"/>
          </a:xfrm>
          <a:prstGeom prst="rect">
            <a:avLst/>
          </a:prstGeom>
          <a:ln w="0">
            <a:noFill/>
          </a:ln>
        </p:spPr>
      </p:pic>
      <p:sp>
        <p:nvSpPr>
          <p:cNvPr id="3101" name=""/>
          <p:cNvSpPr/>
          <p:nvPr/>
        </p:nvSpPr>
        <p:spPr>
          <a:xfrm>
            <a:off x="1646280" y="2467080"/>
            <a:ext cx="1658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Felfe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re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agyobb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245840" y="4311720"/>
            <a:ext cx="27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ccf00"/>
                </a:solidFill>
                <a:latin typeface="Arial"/>
              </a:rPr>
              <a:t>Oldalra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gyre több 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3" name="PL%203000%20-%20right%20icon" descr=""/>
          <p:cNvPicPr/>
          <p:nvPr/>
        </p:nvPicPr>
        <p:blipFill>
          <a:blip r:embed="rId7"/>
          <a:stretch/>
        </p:blipFill>
        <p:spPr>
          <a:xfrm>
            <a:off x="762120" y="5181480"/>
            <a:ext cx="539640" cy="838440"/>
          </a:xfrm>
          <a:prstGeom prst="rect">
            <a:avLst/>
          </a:prstGeom>
          <a:ln w="0">
            <a:noFill/>
          </a:ln>
        </p:spPr>
      </p:pic>
      <p:sp>
        <p:nvSpPr>
          <p:cNvPr id="3104" name=""/>
          <p:cNvSpPr/>
          <p:nvPr/>
        </p:nvSpPr>
        <p:spPr>
          <a:xfrm>
            <a:off x="476100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632628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8002440" y="551664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Oldalra skálázhatóság</a:t>
            </a:r>
            <a:br>
              <a:rPr sz="4800"/>
            </a:br>
            <a:r>
              <a:rPr b="1" lang="hu-HU" sz="3600" spc="-1" strike="noStrike">
                <a:solidFill>
                  <a:srgbClr val="eea564"/>
                </a:solidFill>
                <a:latin typeface="Arial"/>
              </a:rPr>
              <a:t>azaz farmok</a:t>
            </a:r>
            <a:endParaRPr b="1" lang="en-US" sz="36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2438280" y="4800600"/>
            <a:ext cx="6705720" cy="2057400"/>
          </a:xfrm>
          <a:custGeom>
            <a:avLst/>
            <a:gdLst>
              <a:gd name="textAreaLeft" fmla="*/ 1047600 w 6705720"/>
              <a:gd name="textAreaRight" fmla="*/ 6113880 w 6705720"/>
              <a:gd name="textAreaTop" fmla="*/ 485640 h 2057400"/>
              <a:gd name="textAreaBottom" fmla="*/ 1571760 h 2057400"/>
            </a:gdLst>
            <a:ahLst/>
            <a:rect l="textAreaLeft" t="textAreaTop" r="textAreaRight" b="textAreaBottom"/>
            <a:pathLst>
              <a:path w="21600" h="21600">
                <a:moveTo>
                  <a:pt x="3375" y="5100"/>
                </a:moveTo>
                <a:lnTo>
                  <a:pt x="17987" y="5100"/>
                </a:lnTo>
                <a:lnTo>
                  <a:pt x="17987" y="0"/>
                </a:lnTo>
                <a:lnTo>
                  <a:pt x="21600" y="10800"/>
                </a:lnTo>
                <a:lnTo>
                  <a:pt x="17987" y="21600"/>
                </a:lnTo>
                <a:lnTo>
                  <a:pt x="17987" y="16500"/>
                </a:lnTo>
                <a:lnTo>
                  <a:pt x="3375" y="16500"/>
                </a:lnTo>
                <a:close/>
              </a:path>
              <a:path w="21600" h="21600">
                <a:moveTo>
                  <a:pt x="0" y="5100"/>
                </a:moveTo>
                <a:lnTo>
                  <a:pt x="675" y="5100"/>
                </a:lnTo>
                <a:lnTo>
                  <a:pt x="675" y="16500"/>
                </a:lnTo>
                <a:lnTo>
                  <a:pt x="0" y="16500"/>
                </a:lnTo>
                <a:close/>
              </a:path>
              <a:path w="21600" h="21600">
                <a:moveTo>
                  <a:pt x="1350" y="5100"/>
                </a:moveTo>
                <a:lnTo>
                  <a:pt x="2700" y="5100"/>
                </a:lnTo>
                <a:lnTo>
                  <a:pt x="2700" y="16500"/>
                </a:lnTo>
                <a:lnTo>
                  <a:pt x="1350" y="165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9" name="Moonshot%20right%20iso%20icon" descr=""/>
          <p:cNvPicPr/>
          <p:nvPr/>
        </p:nvPicPr>
        <p:blipFill>
          <a:blip r:embed="rId2"/>
          <a:stretch/>
        </p:blipFill>
        <p:spPr>
          <a:xfrm>
            <a:off x="35053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110" name="Moonshot%20right%20iso%20icon" descr=""/>
          <p:cNvPicPr/>
          <p:nvPr/>
        </p:nvPicPr>
        <p:blipFill>
          <a:blip r:embed="rId3"/>
          <a:stretch/>
        </p:blipFill>
        <p:spPr>
          <a:xfrm>
            <a:off x="5105520" y="5486400"/>
            <a:ext cx="1350720" cy="698400"/>
          </a:xfrm>
          <a:prstGeom prst="rect">
            <a:avLst/>
          </a:prstGeom>
          <a:ln w="0">
            <a:noFill/>
          </a:ln>
        </p:spPr>
      </p:pic>
      <p:pic>
        <p:nvPicPr>
          <p:cNvPr id="3111" name="Moonshot%20right%20iso%20icon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1350720" cy="698400"/>
          </a:xfrm>
          <a:prstGeom prst="rect">
            <a:avLst/>
          </a:prstGeom>
          <a:ln w="0">
            <a:noFill/>
          </a:ln>
        </p:spPr>
      </p:pic>
      <p:sp>
        <p:nvSpPr>
          <p:cNvPr id="3112" name=""/>
          <p:cNvSpPr/>
          <p:nvPr/>
        </p:nvSpPr>
        <p:spPr>
          <a:xfrm>
            <a:off x="476100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6326280" y="5516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8002440" y="551664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380880" y="1501920"/>
            <a:ext cx="850284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dulárisan bővíthet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ncs 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point of failure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skálázhatóságnak nincs hardverkorlát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felé is jól skálázhat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79600" indent="-44460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duló vagy fejlesztői rends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Hátrány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ok gépet kell üzemeltet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853240" y="0"/>
            <a:ext cx="3290760" cy="259560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56400" y="3189240"/>
            <a:ext cx="3336840" cy="167652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262400"/>
            <a:ext cx="3025800" cy="2595600"/>
          </a:xfrm>
          <a:prstGeom prst="rect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47840" y="1325520"/>
            <a:ext cx="3336840" cy="167652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72000" y="2965320"/>
            <a:ext cx="1817640" cy="188784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9640" y="4863960"/>
            <a:ext cx="1749240" cy="181620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7920" y="1959120"/>
            <a:ext cx="1774800" cy="1842840"/>
          </a:xfrm>
          <a:prstGeom prst="ellipse">
            <a:avLst/>
          </a:prstGeom>
          <a:solidFill>
            <a:srgbClr val="568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126720"/>
            <a:ext cx="8431200" cy="113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Windows 2000</a:t>
            </a:r>
            <a:br>
              <a:rPr sz="4800"/>
            </a:br>
            <a:r>
              <a:rPr b="1" lang="hu-HU" sz="2800" spc="-1" strike="noStrike">
                <a:solidFill>
                  <a:srgbClr val="eea564"/>
                </a:solidFill>
                <a:latin typeface="Arial"/>
              </a:rPr>
              <a:t>Merre tovább HW architektúra?</a:t>
            </a:r>
            <a:endParaRPr b="1" lang="en-US" sz="2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89280" y="5229360"/>
            <a:ext cx="3654360" cy="1640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P = processz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C = Memory controll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M = Memo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I = I/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Xbar = Crossba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6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C = Cach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361200" y="3278160"/>
            <a:ext cx="2453760" cy="1497240"/>
            <a:chOff x="6361200" y="3278160"/>
            <a:chExt cx="2453760" cy="1497240"/>
          </a:xfrm>
        </p:grpSpPr>
        <p:sp>
          <p:nvSpPr>
            <p:cNvPr id="94" name=""/>
            <p:cNvSpPr/>
            <p:nvPr/>
          </p:nvSpPr>
          <p:spPr>
            <a:xfrm>
              <a:off x="6773040" y="3278160"/>
              <a:ext cx="20556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45920" y="3278160"/>
              <a:ext cx="20556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8800" y="3278160"/>
              <a:ext cx="20484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91320" y="3278160"/>
              <a:ext cx="205560" cy="20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15040" y="3986280"/>
              <a:ext cx="954360" cy="33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B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67720" y="33984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73040" y="4512960"/>
              <a:ext cx="205560" cy="20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8800" y="4512960"/>
              <a:ext cx="204840" cy="20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91320" y="4512960"/>
              <a:ext cx="205560" cy="20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89320" y="44380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84840" y="3758760"/>
              <a:ext cx="20340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98160" y="4293720"/>
              <a:ext cx="203040" cy="20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68120" y="3758760"/>
              <a:ext cx="20484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81080" y="4281120"/>
              <a:ext cx="205560" cy="20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45920" y="4512960"/>
              <a:ext cx="205560" cy="20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26120" y="3693960"/>
              <a:ext cx="51948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L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55680" y="36064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0600" y="3589920"/>
              <a:ext cx="82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7080" y="3479400"/>
              <a:ext cx="0" cy="11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49960" y="3479400"/>
              <a:ext cx="0" cy="11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6000" y="3479400"/>
              <a:ext cx="0" cy="11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01480" y="3479400"/>
              <a:ext cx="0" cy="11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880" y="3589920"/>
              <a:ext cx="0" cy="10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9000" y="3908160"/>
              <a:ext cx="136440" cy="7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682320" y="3895200"/>
              <a:ext cx="421920" cy="19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682320" y="4213800"/>
              <a:ext cx="421920" cy="155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70600" y="4336920"/>
              <a:ext cx="454320" cy="16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162560" y="4330800"/>
              <a:ext cx="357120" cy="17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422480" y="4330800"/>
              <a:ext cx="208080" cy="16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688520" y="4330800"/>
              <a:ext cx="38520" cy="175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78040" y="3869280"/>
              <a:ext cx="409320" cy="18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78040" y="4207320"/>
              <a:ext cx="409320" cy="18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52360" y="39247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39398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620800" y="1620720"/>
            <a:ext cx="2546280" cy="1126800"/>
            <a:chOff x="2620800" y="1620720"/>
            <a:chExt cx="2546280" cy="1126800"/>
          </a:xfrm>
        </p:grpSpPr>
        <p:sp>
          <p:nvSpPr>
            <p:cNvPr id="129" name=""/>
            <p:cNvSpPr/>
            <p:nvPr/>
          </p:nvSpPr>
          <p:spPr>
            <a:xfrm>
              <a:off x="3711960" y="1996920"/>
              <a:ext cx="348120" cy="31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4000" y="1620720"/>
              <a:ext cx="1738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44520" y="1620720"/>
              <a:ext cx="1756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61680" y="2560320"/>
              <a:ext cx="1738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4000" y="2560320"/>
              <a:ext cx="1738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4520" y="2560320"/>
              <a:ext cx="1756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36120" y="2560320"/>
              <a:ext cx="1738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49160" y="2435400"/>
              <a:ext cx="885600" cy="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196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32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3940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348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1960" y="2206800"/>
              <a:ext cx="1003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4480" y="2100600"/>
              <a:ext cx="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8560" y="2100600"/>
              <a:ext cx="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26160" y="2100600"/>
              <a:ext cx="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82120" y="2100600"/>
              <a:ext cx="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2080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452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0860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51960" y="1907280"/>
              <a:ext cx="183600" cy="1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02160" y="2206800"/>
              <a:ext cx="100368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13680" y="210060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7760" y="210060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95360" y="210060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0600" y="2100600"/>
              <a:ext cx="216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46880" y="1807920"/>
              <a:ext cx="0" cy="17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7040" y="1807920"/>
              <a:ext cx="0" cy="19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92320" y="2306160"/>
              <a:ext cx="0" cy="13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56360" y="2450160"/>
              <a:ext cx="216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46880" y="244404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31280" y="244404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27560" y="2450160"/>
              <a:ext cx="1440" cy="10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66640" y="2292480"/>
            <a:ext cx="1266480" cy="1356480"/>
            <a:chOff x="566640" y="2292480"/>
            <a:chExt cx="1266480" cy="1356480"/>
          </a:xfrm>
        </p:grpSpPr>
        <p:sp>
          <p:nvSpPr>
            <p:cNvPr id="163" name=""/>
            <p:cNvSpPr/>
            <p:nvPr/>
          </p:nvSpPr>
          <p:spPr>
            <a:xfrm>
              <a:off x="901440" y="2770560"/>
              <a:ext cx="447120" cy="39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9560" y="2833560"/>
              <a:ext cx="22356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9640" y="3413880"/>
              <a:ext cx="22356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4760" y="3405600"/>
              <a:ext cx="223560" cy="23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640" y="2292480"/>
              <a:ext cx="23580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9480" y="2292480"/>
              <a:ext cx="23508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92320" y="2292480"/>
              <a:ext cx="23580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05160" y="2292480"/>
              <a:ext cx="23580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0680" y="2663280"/>
              <a:ext cx="961200" cy="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" y="2535480"/>
              <a:ext cx="216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8280" y="2535480"/>
              <a:ext cx="252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04280" y="2535480"/>
              <a:ext cx="216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31880" y="2535480"/>
              <a:ext cx="2160" cy="13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7680" y="2668680"/>
              <a:ext cx="0" cy="117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240" y="2958480"/>
              <a:ext cx="223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38880" y="3162240"/>
              <a:ext cx="0" cy="2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304280" y="3170520"/>
              <a:ext cx="0" cy="2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14480" y="4317840"/>
            <a:ext cx="2734200" cy="2353320"/>
            <a:chOff x="114480" y="4317840"/>
            <a:chExt cx="2734200" cy="2353320"/>
          </a:xfrm>
        </p:grpSpPr>
        <p:grpSp>
          <p:nvGrpSpPr>
            <p:cNvPr id="181" name=""/>
            <p:cNvGrpSpPr/>
            <p:nvPr/>
          </p:nvGrpSpPr>
          <p:grpSpPr>
            <a:xfrm>
              <a:off x="114480" y="4559760"/>
              <a:ext cx="2561760" cy="2111400"/>
              <a:chOff x="114480" y="4559760"/>
              <a:chExt cx="2561760" cy="21114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69080" y="4559760"/>
                <a:ext cx="880200" cy="978120"/>
                <a:chOff x="469080" y="4559760"/>
                <a:chExt cx="880200" cy="9781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02000" y="4904640"/>
                  <a:ext cx="310680" cy="28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194120" y="495000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38280" y="536832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98920" y="536220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9080" y="455976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86520" y="4559760"/>
                  <a:ext cx="16344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903960" y="455976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121760" y="455976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541440" y="4827240"/>
                  <a:ext cx="668520" cy="3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880" y="473472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9320" y="4734720"/>
                  <a:ext cx="180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982080" y="473472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209960" y="473472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73000" y="4830840"/>
                  <a:ext cx="0" cy="84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028520" y="5040000"/>
                  <a:ext cx="155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27920" y="5187240"/>
                  <a:ext cx="0" cy="174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982080" y="5193000"/>
                  <a:ext cx="0" cy="174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1796040" y="4562640"/>
                <a:ext cx="880200" cy="978120"/>
                <a:chOff x="1796040" y="4562640"/>
                <a:chExt cx="880200" cy="9781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028960" y="4907520"/>
                  <a:ext cx="310680" cy="28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521080" y="495288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964880" y="537120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25880" y="5365080"/>
                  <a:ext cx="155160" cy="169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96040" y="456264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013480" y="4562640"/>
                  <a:ext cx="16344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230920" y="456264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448360" y="4562640"/>
                  <a:ext cx="163800" cy="176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1868400" y="4830120"/>
                  <a:ext cx="668160" cy="3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878840" y="473760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096280" y="4737600"/>
                  <a:ext cx="180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08680" y="473760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536560" y="4737600"/>
                  <a:ext cx="1440" cy="96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199960" y="4833720"/>
                  <a:ext cx="0" cy="84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355480" y="5042880"/>
                  <a:ext cx="155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2054520" y="5190120"/>
                  <a:ext cx="0" cy="174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2308680" y="5195880"/>
                  <a:ext cx="0" cy="174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 flipH="1">
                <a:off x="559800" y="4841640"/>
                <a:ext cx="2880" cy="1823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34920" y="4841640"/>
                <a:ext cx="0" cy="182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0200" y="6232320"/>
                <a:ext cx="53640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8560" y="5763240"/>
                <a:ext cx="53640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4480" y="6671160"/>
                <a:ext cx="2145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50520" y="6286680"/>
                <a:ext cx="53712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68880" y="5817600"/>
                <a:ext cx="53640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91240" y="601740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511640" y="4317840"/>
              <a:ext cx="1337040" cy="226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0840" y="4335120"/>
              <a:ext cx="1282680" cy="2279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940360" y="165240"/>
            <a:ext cx="3204360" cy="2290320"/>
            <a:chOff x="5940360" y="165240"/>
            <a:chExt cx="3204360" cy="2290320"/>
          </a:xfrm>
        </p:grpSpPr>
        <p:sp>
          <p:nvSpPr>
            <p:cNvPr id="229" name=""/>
            <p:cNvSpPr/>
            <p:nvPr/>
          </p:nvSpPr>
          <p:spPr>
            <a:xfrm>
              <a:off x="6264360" y="456840"/>
              <a:ext cx="266400" cy="2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57120" y="454320"/>
              <a:ext cx="266400" cy="25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25640" y="897120"/>
              <a:ext cx="367920" cy="31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39720" y="940320"/>
              <a:ext cx="252000" cy="2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84640" y="1605960"/>
              <a:ext cx="5562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58640" y="2102760"/>
              <a:ext cx="252000" cy="26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39160" y="2098440"/>
              <a:ext cx="249480" cy="26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92880" y="772920"/>
              <a:ext cx="402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386760" y="704880"/>
              <a:ext cx="0" cy="67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789960" y="710640"/>
              <a:ext cx="0" cy="5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7360" y="766800"/>
              <a:ext cx="0" cy="12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299640" y="1058400"/>
              <a:ext cx="11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0360" y="190080"/>
              <a:ext cx="1147320" cy="116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48120" y="444240"/>
              <a:ext cx="266400" cy="2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40880" y="442080"/>
              <a:ext cx="266400" cy="2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09400" y="884520"/>
              <a:ext cx="367920" cy="31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22760" y="928080"/>
              <a:ext cx="252000" cy="2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6280" y="760680"/>
              <a:ext cx="402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670160" y="692280"/>
              <a:ext cx="0" cy="6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073360" y="698040"/>
              <a:ext cx="0" cy="5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81120" y="7545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583400" y="1045800"/>
              <a:ext cx="11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23760" y="165240"/>
              <a:ext cx="1146600" cy="116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52080" y="649440"/>
              <a:ext cx="69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907320" y="1914120"/>
              <a:ext cx="191880" cy="17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05040" y="1914120"/>
              <a:ext cx="49680" cy="18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6665760" y="1213560"/>
              <a:ext cx="439920" cy="37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192440" y="1207080"/>
              <a:ext cx="644760" cy="390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37520" y="1995840"/>
              <a:ext cx="69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233880" y="5004000"/>
            <a:ext cx="1507320" cy="1427040"/>
            <a:chOff x="3233880" y="5004000"/>
            <a:chExt cx="1507320" cy="1427040"/>
          </a:xfrm>
        </p:grpSpPr>
        <p:sp>
          <p:nvSpPr>
            <p:cNvPr id="259" name=""/>
            <p:cNvSpPr/>
            <p:nvPr/>
          </p:nvSpPr>
          <p:spPr>
            <a:xfrm>
              <a:off x="3603600" y="5415840"/>
              <a:ext cx="775440" cy="69552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9669800">
              <a:off x="3836520" y="5076360"/>
              <a:ext cx="354960" cy="28620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9099800">
              <a:off x="4360320" y="5447880"/>
              <a:ext cx="334800" cy="26568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9099800">
              <a:off x="4173480" y="6077160"/>
              <a:ext cx="334800" cy="26568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9669800">
              <a:off x="3457440" y="6072840"/>
              <a:ext cx="354600" cy="28548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669800">
              <a:off x="3282480" y="5445720"/>
              <a:ext cx="354960" cy="286200"/>
            </a:xfrm>
            <a:prstGeom prst="star5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897360" y="3208320"/>
            <a:ext cx="1272960" cy="1267560"/>
            <a:chOff x="3897360" y="3208320"/>
            <a:chExt cx="1272960" cy="1267560"/>
          </a:xfrm>
        </p:grpSpPr>
        <p:grpSp>
          <p:nvGrpSpPr>
            <p:cNvPr id="266" name=""/>
            <p:cNvGrpSpPr/>
            <p:nvPr/>
          </p:nvGrpSpPr>
          <p:grpSpPr>
            <a:xfrm>
              <a:off x="4148640" y="3459600"/>
              <a:ext cx="761760" cy="762120"/>
              <a:chOff x="4148640" y="3459600"/>
              <a:chExt cx="761760" cy="762120"/>
            </a:xfrm>
          </p:grpSpPr>
          <p:sp>
            <p:nvSpPr>
              <p:cNvPr id="267" name=""/>
              <p:cNvSpPr/>
              <p:nvPr/>
            </p:nvSpPr>
            <p:spPr>
              <a:xfrm>
                <a:off x="4148640" y="3628800"/>
                <a:ext cx="592200" cy="592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17840" y="3459600"/>
                <a:ext cx="592560" cy="5929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4148640" y="3459600"/>
                <a:ext cx="169200" cy="16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4740840" y="3459600"/>
                <a:ext cx="169560" cy="16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4148640" y="4052520"/>
                <a:ext cx="169200" cy="16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740840" y="4052520"/>
                <a:ext cx="169560" cy="16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119480" y="3210840"/>
              <a:ext cx="253800" cy="253800"/>
              <a:chOff x="4119480" y="3210840"/>
              <a:chExt cx="253800" cy="253800"/>
            </a:xfrm>
          </p:grpSpPr>
          <p:sp>
            <p:nvSpPr>
              <p:cNvPr id="274" name=""/>
              <p:cNvSpPr/>
              <p:nvPr/>
            </p:nvSpPr>
            <p:spPr>
              <a:xfrm>
                <a:off x="4119480" y="326700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75640" y="321084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4119480" y="321084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4316760" y="321084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4119480" y="340848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316760" y="340848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899880" y="3427920"/>
              <a:ext cx="253800" cy="253800"/>
              <a:chOff x="3899880" y="3427920"/>
              <a:chExt cx="253800" cy="253800"/>
            </a:xfrm>
          </p:grpSpPr>
          <p:sp>
            <p:nvSpPr>
              <p:cNvPr id="281" name=""/>
              <p:cNvSpPr/>
              <p:nvPr/>
            </p:nvSpPr>
            <p:spPr>
              <a:xfrm>
                <a:off x="3899880" y="348408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56040" y="342792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899880" y="34279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097160" y="34279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899880" y="362556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097160" y="362556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122000" y="3989160"/>
              <a:ext cx="254160" cy="253800"/>
              <a:chOff x="4122000" y="3989160"/>
              <a:chExt cx="254160" cy="253800"/>
            </a:xfrm>
          </p:grpSpPr>
          <p:sp>
            <p:nvSpPr>
              <p:cNvPr id="288" name=""/>
              <p:cNvSpPr/>
              <p:nvPr/>
            </p:nvSpPr>
            <p:spPr>
              <a:xfrm>
                <a:off x="4122000" y="404532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78160" y="398916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4122000" y="398916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319640" y="398916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122000" y="418680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4319640" y="418680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897360" y="4216680"/>
              <a:ext cx="253800" cy="253800"/>
              <a:chOff x="3897360" y="4216680"/>
              <a:chExt cx="253800" cy="253800"/>
            </a:xfrm>
          </p:grpSpPr>
          <p:sp>
            <p:nvSpPr>
              <p:cNvPr id="295" name=""/>
              <p:cNvSpPr/>
              <p:nvPr/>
            </p:nvSpPr>
            <p:spPr>
              <a:xfrm>
                <a:off x="3897360" y="427284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53520" y="4216680"/>
                <a:ext cx="19728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3897360" y="421668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4094640" y="421668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897360" y="44143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094640" y="44143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913280" y="3208320"/>
              <a:ext cx="254160" cy="253800"/>
              <a:chOff x="4913280" y="3208320"/>
              <a:chExt cx="254160" cy="253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913280" y="326448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69440" y="320832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913280" y="32083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5110920" y="32083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4913280" y="340596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5110920" y="340596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675320" y="3435840"/>
              <a:ext cx="253800" cy="253440"/>
              <a:chOff x="4675320" y="3435840"/>
              <a:chExt cx="253800" cy="253440"/>
            </a:xfrm>
          </p:grpSpPr>
          <p:sp>
            <p:nvSpPr>
              <p:cNvPr id="309" name=""/>
              <p:cNvSpPr/>
              <p:nvPr/>
            </p:nvSpPr>
            <p:spPr>
              <a:xfrm>
                <a:off x="4675320" y="3492000"/>
                <a:ext cx="197280" cy="197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31480" y="3435840"/>
                <a:ext cx="197280" cy="197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4675320" y="343584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4872600" y="343584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4675320" y="36331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872600" y="36331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916160" y="3994560"/>
              <a:ext cx="254160" cy="253440"/>
              <a:chOff x="4916160" y="3994560"/>
              <a:chExt cx="254160" cy="253440"/>
            </a:xfrm>
          </p:grpSpPr>
          <p:sp>
            <p:nvSpPr>
              <p:cNvPr id="316" name=""/>
              <p:cNvSpPr/>
              <p:nvPr/>
            </p:nvSpPr>
            <p:spPr>
              <a:xfrm>
                <a:off x="4916160" y="4050720"/>
                <a:ext cx="197640" cy="197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72320" y="3994560"/>
                <a:ext cx="197640" cy="197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916160" y="399456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5113800" y="399456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4916160" y="419184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113800" y="419184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680360" y="4222080"/>
              <a:ext cx="254160" cy="253800"/>
              <a:chOff x="4680360" y="4222080"/>
              <a:chExt cx="254160" cy="253800"/>
            </a:xfrm>
          </p:grpSpPr>
          <p:sp>
            <p:nvSpPr>
              <p:cNvPr id="323" name=""/>
              <p:cNvSpPr/>
              <p:nvPr/>
            </p:nvSpPr>
            <p:spPr>
              <a:xfrm>
                <a:off x="4680360" y="427824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36520" y="4222080"/>
                <a:ext cx="197640" cy="1976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4680360" y="422208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878000" y="422208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4680360" y="4419720"/>
                <a:ext cx="5616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878000" y="4419720"/>
                <a:ext cx="56520" cy="56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"/>
          <p:cNvSpPr/>
          <p:nvPr/>
        </p:nvSpPr>
        <p:spPr>
          <a:xfrm>
            <a:off x="304920" y="914400"/>
            <a:ext cx="8610480" cy="57150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81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kálázás: a költségek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1143000" y="19051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1143000" y="6172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3898800" y="6119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apaci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 flipV="1">
            <a:off x="1143000" y="2212920"/>
            <a:ext cx="6858000" cy="3959280"/>
          </a:xfrm>
          <a:prstGeom prst="line">
            <a:avLst/>
          </a:prstGeom>
          <a:ln w="2844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2" name=""/>
          <p:cNvGrpSpPr/>
          <p:nvPr/>
        </p:nvGrpSpPr>
        <p:grpSpPr>
          <a:xfrm>
            <a:off x="1981080" y="2014560"/>
            <a:ext cx="6778080" cy="3686040"/>
            <a:chOff x="1981080" y="2014560"/>
            <a:chExt cx="6778080" cy="3686040"/>
          </a:xfrm>
        </p:grpSpPr>
        <p:grpSp>
          <p:nvGrpSpPr>
            <p:cNvPr id="3123" name=""/>
            <p:cNvGrpSpPr/>
            <p:nvPr/>
          </p:nvGrpSpPr>
          <p:grpSpPr>
            <a:xfrm>
              <a:off x="1981080" y="2500200"/>
              <a:ext cx="5486400" cy="3200400"/>
              <a:chOff x="1981080" y="2500200"/>
              <a:chExt cx="5486400" cy="3200400"/>
            </a:xfrm>
          </p:grpSpPr>
          <p:sp>
            <p:nvSpPr>
              <p:cNvPr id="3124" name=""/>
              <p:cNvSpPr/>
              <p:nvPr/>
            </p:nvSpPr>
            <p:spPr>
              <a:xfrm>
                <a:off x="1981080" y="57006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2666880" y="5243400"/>
                <a:ext cx="0" cy="45720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666880" y="52434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3352680" y="4862520"/>
                <a:ext cx="0" cy="380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352680" y="486252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4038480" y="4480920"/>
                <a:ext cx="0" cy="3812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30" name=""/>
              <p:cNvGrpSpPr/>
              <p:nvPr/>
            </p:nvGrpSpPr>
            <p:grpSpPr>
              <a:xfrm>
                <a:off x="4038480" y="4024080"/>
                <a:ext cx="685800" cy="457200"/>
                <a:chOff x="4038480" y="4024080"/>
                <a:chExt cx="685800" cy="457200"/>
              </a:xfrm>
            </p:grpSpPr>
            <p:sp>
              <p:nvSpPr>
                <p:cNvPr id="3131" name=""/>
                <p:cNvSpPr/>
                <p:nvPr/>
              </p:nvSpPr>
              <p:spPr>
                <a:xfrm>
                  <a:off x="4038480" y="4481280"/>
                  <a:ext cx="685800" cy="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 flipV="1">
                  <a:off x="4724280" y="4024080"/>
                  <a:ext cx="0" cy="45720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3" name=""/>
              <p:cNvSpPr/>
              <p:nvPr/>
            </p:nvSpPr>
            <p:spPr>
              <a:xfrm>
                <a:off x="4724280" y="402408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V="1">
                <a:off x="5410080" y="3643200"/>
                <a:ext cx="0" cy="380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5410080" y="36432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V="1">
                <a:off x="6095880" y="3262320"/>
                <a:ext cx="0" cy="380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095880" y="326232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V="1">
                <a:off x="6781680" y="2880720"/>
                <a:ext cx="0" cy="3812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781680" y="288108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V="1">
                <a:off x="7467480" y="2500200"/>
                <a:ext cx="0" cy="3808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1" name=""/>
            <p:cNvSpPr/>
            <p:nvPr/>
          </p:nvSpPr>
          <p:spPr>
            <a:xfrm>
              <a:off x="7610760" y="2014560"/>
              <a:ext cx="114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990000"/>
                  </a:solidFill>
                  <a:latin typeface="Tahoma"/>
                </a:rPr>
                <a:t>Oldalra</a:t>
              </a:r>
              <a:br>
                <a:rPr sz="1800"/>
              </a:br>
              <a:r>
                <a:rPr b="1" lang="hu-HU" sz="1800" spc="-1" strike="noStrike">
                  <a:solidFill>
                    <a:srgbClr val="990000"/>
                  </a:solidFill>
                  <a:latin typeface="Tahoma"/>
                </a:rPr>
                <a:t>skáláz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2" name=""/>
          <p:cNvGrpSpPr/>
          <p:nvPr/>
        </p:nvGrpSpPr>
        <p:grpSpPr>
          <a:xfrm>
            <a:off x="1143000" y="5027760"/>
            <a:ext cx="6934320" cy="740880"/>
            <a:chOff x="1143000" y="5027760"/>
            <a:chExt cx="6934320" cy="740880"/>
          </a:xfrm>
        </p:grpSpPr>
        <p:sp>
          <p:nvSpPr>
            <p:cNvPr id="3143" name=""/>
            <p:cNvSpPr/>
            <p:nvPr/>
          </p:nvSpPr>
          <p:spPr>
            <a:xfrm flipV="1">
              <a:off x="1143000" y="5027760"/>
              <a:ext cx="6934320" cy="77760"/>
            </a:xfrm>
            <a:prstGeom prst="line">
              <a:avLst/>
            </a:prstGeom>
            <a:ln w="38160">
              <a:solidFill>
                <a:srgbClr val="5686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107760" y="5126040"/>
              <a:ext cx="168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5686dc"/>
                  </a:solidFill>
                  <a:latin typeface="Tahoma"/>
                </a:rPr>
                <a:t>Üzemeltetési</a:t>
              </a:r>
              <a:br>
                <a:rPr sz="1800"/>
              </a:br>
              <a:r>
                <a:rPr b="1" lang="hu-HU" sz="1800" spc="-1" strike="noStrike">
                  <a:solidFill>
                    <a:srgbClr val="5686dc"/>
                  </a:solidFill>
                  <a:latin typeface="Tahoma"/>
                </a:rPr>
                <a:t>költsé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5" name=""/>
          <p:cNvGrpSpPr/>
          <p:nvPr/>
        </p:nvGrpSpPr>
        <p:grpSpPr>
          <a:xfrm>
            <a:off x="1143000" y="993600"/>
            <a:ext cx="6477120" cy="4111920"/>
            <a:chOff x="1143000" y="993600"/>
            <a:chExt cx="6477120" cy="4111920"/>
          </a:xfrm>
        </p:grpSpPr>
        <p:sp>
          <p:nvSpPr>
            <p:cNvPr id="3146" name=""/>
            <p:cNvSpPr/>
            <p:nvPr/>
          </p:nvSpPr>
          <p:spPr>
            <a:xfrm>
              <a:off x="1143000" y="1209600"/>
              <a:ext cx="6477120" cy="3895920"/>
            </a:xfrm>
            <a:custGeom>
              <a:avLst/>
              <a:gdLst/>
              <a:ahLst/>
              <a:rect l="l" t="t" r="r" b="b"/>
              <a:pathLst>
                <a:path w="3888" h="2454">
                  <a:moveTo>
                    <a:pt x="0" y="2454"/>
                  </a:moveTo>
                  <a:cubicBezTo>
                    <a:pt x="253" y="2360"/>
                    <a:pt x="1047" y="2112"/>
                    <a:pt x="1516" y="1889"/>
                  </a:cubicBezTo>
                  <a:cubicBezTo>
                    <a:pt x="1985" y="1666"/>
                    <a:pt x="2417" y="1433"/>
                    <a:pt x="2812" y="1118"/>
                  </a:cubicBezTo>
                  <a:cubicBezTo>
                    <a:pt x="3207" y="803"/>
                    <a:pt x="3664" y="233"/>
                    <a:pt x="3888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644080" y="993600"/>
              <a:ext cx="168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990000"/>
                  </a:solidFill>
                  <a:latin typeface="Tahoma"/>
                </a:rPr>
                <a:t>Üzemeltetési</a:t>
              </a:r>
              <a:br>
                <a:rPr sz="1800"/>
              </a:br>
              <a:r>
                <a:rPr b="1" lang="hu-HU" sz="1800" spc="-1" strike="noStrike">
                  <a:solidFill>
                    <a:srgbClr val="990000"/>
                  </a:solidFill>
                  <a:latin typeface="Tahoma"/>
                </a:rPr>
                <a:t>költsé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8" name=""/>
          <p:cNvSpPr/>
          <p:nvPr/>
        </p:nvSpPr>
        <p:spPr>
          <a:xfrm>
            <a:off x="7543800" y="12952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9" name=""/>
          <p:cNvGrpSpPr/>
          <p:nvPr/>
        </p:nvGrpSpPr>
        <p:grpSpPr>
          <a:xfrm>
            <a:off x="1486080" y="1638360"/>
            <a:ext cx="6057720" cy="1638360"/>
            <a:chOff x="1486080" y="1638360"/>
            <a:chExt cx="6057720" cy="1638360"/>
          </a:xfrm>
        </p:grpSpPr>
        <p:sp>
          <p:nvSpPr>
            <p:cNvPr id="3150" name=""/>
            <p:cNvSpPr/>
            <p:nvPr/>
          </p:nvSpPr>
          <p:spPr>
            <a:xfrm>
              <a:off x="1486080" y="1638360"/>
              <a:ext cx="4327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Tahoma"/>
                </a:rPr>
                <a:t>Az AppCenter az oldalra skálázás hatékonyságát egyesíti a felfele skálázás egyszerű üzemeltetésé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172200" y="2133720"/>
              <a:ext cx="137160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2" name=""/>
          <p:cNvSpPr/>
          <p:nvPr/>
        </p:nvSpPr>
        <p:spPr>
          <a:xfrm rot="16200000">
            <a:off x="100080" y="38026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lt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3" name=""/>
          <p:cNvGrpSpPr/>
          <p:nvPr/>
        </p:nvGrpSpPr>
        <p:grpSpPr>
          <a:xfrm>
            <a:off x="1954440" y="1578960"/>
            <a:ext cx="6721200" cy="5771160"/>
            <a:chOff x="1954440" y="1578960"/>
            <a:chExt cx="6721200" cy="5771160"/>
          </a:xfrm>
        </p:grpSpPr>
        <p:sp>
          <p:nvSpPr>
            <p:cNvPr id="3154" name=""/>
            <p:cNvSpPr/>
            <p:nvPr/>
          </p:nvSpPr>
          <p:spPr>
            <a:xfrm flipH="1" rot="8320800">
              <a:off x="1889280" y="3379320"/>
              <a:ext cx="6272280" cy="2170080"/>
            </a:xfrm>
            <a:custGeom>
              <a:avLst/>
              <a:gdLst/>
              <a:ahLst/>
              <a:rect l="l" t="t" r="r" b="b"/>
              <a:pathLst>
                <a:path w="4368" h="1584">
                  <a:moveTo>
                    <a:pt x="0" y="1584"/>
                  </a:moveTo>
                  <a:cubicBezTo>
                    <a:pt x="452" y="1316"/>
                    <a:pt x="904" y="1048"/>
                    <a:pt x="1392" y="816"/>
                  </a:cubicBezTo>
                  <a:cubicBezTo>
                    <a:pt x="1880" y="584"/>
                    <a:pt x="2432" y="328"/>
                    <a:pt x="2928" y="192"/>
                  </a:cubicBezTo>
                  <a:cubicBezTo>
                    <a:pt x="3424" y="56"/>
                    <a:pt x="4128" y="24"/>
                    <a:pt x="4368" y="0"/>
                  </a:cubicBezTo>
                </a:path>
              </a:pathLst>
            </a:custGeom>
            <a:noFill/>
            <a:ln w="38160">
              <a:solidFill>
                <a:srgbClr val="5686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707240" y="3740040"/>
              <a:ext cx="968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5686dc"/>
                  </a:solidFill>
                  <a:latin typeface="Tahoma"/>
                </a:rPr>
                <a:t>Felfelé</a:t>
              </a:r>
              <a:br>
                <a:rPr sz="1800"/>
              </a:br>
              <a:r>
                <a:rPr b="1" lang="hu-HU" sz="1800" spc="-1" strike="noStrike">
                  <a:solidFill>
                    <a:srgbClr val="5686dc"/>
                  </a:solidFill>
                  <a:latin typeface="Tahoma"/>
                </a:rPr>
                <a:t>skáláz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6" name=""/>
          <p:cNvGrpSpPr/>
          <p:nvPr/>
        </p:nvGrpSpPr>
        <p:grpSpPr>
          <a:xfrm>
            <a:off x="5791320" y="4191120"/>
            <a:ext cx="3112920" cy="2499840"/>
            <a:chOff x="5791320" y="4191120"/>
            <a:chExt cx="3112920" cy="2499840"/>
          </a:xfrm>
        </p:grpSpPr>
        <p:pic>
          <p:nvPicPr>
            <p:cNvPr id="3157" name="" descr=""/>
            <p:cNvPicPr/>
            <p:nvPr/>
          </p:nvPicPr>
          <p:blipFill>
            <a:blip r:embed="rId2"/>
            <a:srcRect l="0" t="0" r="24007" b="0"/>
            <a:stretch/>
          </p:blipFill>
          <p:spPr>
            <a:xfrm>
              <a:off x="5800680" y="4647960"/>
              <a:ext cx="3103560" cy="2043000"/>
            </a:xfrm>
            <a:prstGeom prst="rect">
              <a:avLst/>
            </a:prstGeom>
            <a:ln w="9360">
              <a:solidFill>
                <a:srgbClr val="009999"/>
              </a:solidFill>
              <a:miter/>
            </a:ln>
          </p:spPr>
        </p:pic>
        <p:sp>
          <p:nvSpPr>
            <p:cNvPr id="3158" name=""/>
            <p:cNvSpPr/>
            <p:nvPr/>
          </p:nvSpPr>
          <p:spPr>
            <a:xfrm>
              <a:off x="5791320" y="4191120"/>
              <a:ext cx="2971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ea564"/>
                  </a:solidFill>
                  <a:latin typeface="Arial"/>
                </a:rPr>
                <a:t>Tranzakció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304920" y="4343400"/>
            <a:ext cx="5257800" cy="2361960"/>
            <a:chOff x="304920" y="4343400"/>
            <a:chExt cx="5257800" cy="2361960"/>
          </a:xfrm>
        </p:grpSpPr>
        <p:pic>
          <p:nvPicPr>
            <p:cNvPr id="3160" name="" descr=""/>
            <p:cNvPicPr/>
            <p:nvPr/>
          </p:nvPicPr>
          <p:blipFill>
            <a:blip r:embed="rId3"/>
            <a:stretch/>
          </p:blipFill>
          <p:spPr>
            <a:xfrm>
              <a:off x="304920" y="4724280"/>
              <a:ext cx="5257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1" name=""/>
            <p:cNvSpPr/>
            <p:nvPr/>
          </p:nvSpPr>
          <p:spPr>
            <a:xfrm>
              <a:off x="342720" y="4343400"/>
              <a:ext cx="5181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66640" indent="-566640"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eea564"/>
                  </a:solidFill>
                  <a:latin typeface="Arial"/>
                </a:rPr>
                <a:t>Egy gépként kezelhetőek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380520" y="266760"/>
            <a:ext cx="848196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Microsoft AppCenter Server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163" name=""/>
          <p:cNvGrpSpPr/>
          <p:nvPr/>
        </p:nvGrpSpPr>
        <p:grpSpPr>
          <a:xfrm>
            <a:off x="533520" y="1523880"/>
            <a:ext cx="7010280" cy="2590920"/>
            <a:chOff x="533520" y="1523880"/>
            <a:chExt cx="7010280" cy="2590920"/>
          </a:xfrm>
        </p:grpSpPr>
        <p:sp>
          <p:nvSpPr>
            <p:cNvPr id="3164" name=""/>
            <p:cNvSpPr/>
            <p:nvPr/>
          </p:nvSpPr>
          <p:spPr>
            <a:xfrm>
              <a:off x="2971800" y="1905120"/>
              <a:ext cx="457200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66640" indent="-566640">
                <a:lnSpc>
                  <a:spcPct val="90000"/>
                </a:lnSpc>
                <a:spcBef>
                  <a:spcPts val="1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Arial"/>
                </a:rPr>
                <a:t>Kezelhetőség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66640" indent="-566640">
                <a:lnSpc>
                  <a:spcPct val="90000"/>
                </a:lnSpc>
                <a:spcBef>
                  <a:spcPts val="1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Arial"/>
                </a:rPr>
                <a:t>Skálázhatóság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566640" indent="-566640">
                <a:lnSpc>
                  <a:spcPct val="90000"/>
                </a:lnSpc>
                <a:spcBef>
                  <a:spcPts val="1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Arial"/>
                </a:rPr>
                <a:t>Elérhetőség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65" name="ACbox3sm" descr=""/>
            <p:cNvPicPr/>
            <p:nvPr/>
          </p:nvPicPr>
          <p:blipFill>
            <a:blip r:embed="rId4"/>
            <a:stretch/>
          </p:blipFill>
          <p:spPr>
            <a:xfrm>
              <a:off x="533520" y="1523880"/>
              <a:ext cx="212400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66" name="dell%20poweredge%202300" descr=""/>
          <p:cNvPicPr/>
          <p:nvPr/>
        </p:nvPicPr>
        <p:blipFill>
          <a:blip r:embed="rId5"/>
          <a:stretch/>
        </p:blipFill>
        <p:spPr>
          <a:xfrm>
            <a:off x="419040" y="4944960"/>
            <a:ext cx="1374840" cy="1684440"/>
          </a:xfrm>
          <a:prstGeom prst="rect">
            <a:avLst/>
          </a:prstGeom>
          <a:ln w="0">
            <a:noFill/>
          </a:ln>
        </p:spPr>
      </p:pic>
      <p:grpSp>
        <p:nvGrpSpPr>
          <p:cNvPr id="3167" name=""/>
          <p:cNvGrpSpPr/>
          <p:nvPr/>
        </p:nvGrpSpPr>
        <p:grpSpPr>
          <a:xfrm>
            <a:off x="1481040" y="4944960"/>
            <a:ext cx="2025720" cy="1684440"/>
            <a:chOff x="1481040" y="4944960"/>
            <a:chExt cx="2025720" cy="1684440"/>
          </a:xfrm>
        </p:grpSpPr>
        <p:pic>
          <p:nvPicPr>
            <p:cNvPr id="3168" name="dell%20poweredge%202300" descr=""/>
            <p:cNvPicPr/>
            <p:nvPr/>
          </p:nvPicPr>
          <p:blipFill>
            <a:blip r:embed="rId6"/>
            <a:stretch/>
          </p:blipFill>
          <p:spPr>
            <a:xfrm>
              <a:off x="2131920" y="4944960"/>
              <a:ext cx="1374840" cy="16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9" name="" descr=""/>
            <p:cNvPicPr/>
            <p:nvPr/>
          </p:nvPicPr>
          <p:blipFill>
            <a:blip r:embed="rId7"/>
            <a:stretch/>
          </p:blipFill>
          <p:spPr>
            <a:xfrm>
              <a:off x="1481040" y="5638680"/>
              <a:ext cx="96516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0" name=""/>
          <p:cNvGrpSpPr/>
          <p:nvPr/>
        </p:nvGrpSpPr>
        <p:grpSpPr>
          <a:xfrm>
            <a:off x="3238560" y="4952880"/>
            <a:ext cx="2025720" cy="1684440"/>
            <a:chOff x="3238560" y="4952880"/>
            <a:chExt cx="2025720" cy="1684440"/>
          </a:xfrm>
        </p:grpSpPr>
        <p:pic>
          <p:nvPicPr>
            <p:cNvPr id="3171" name="dell%20poweredge%202300" descr=""/>
            <p:cNvPicPr/>
            <p:nvPr/>
          </p:nvPicPr>
          <p:blipFill>
            <a:blip r:embed="rId8"/>
            <a:stretch/>
          </p:blipFill>
          <p:spPr>
            <a:xfrm>
              <a:off x="3889440" y="4952880"/>
              <a:ext cx="1374840" cy="16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2" name="" descr=""/>
            <p:cNvPicPr/>
            <p:nvPr/>
          </p:nvPicPr>
          <p:blipFill>
            <a:blip r:embed="rId9"/>
            <a:stretch/>
          </p:blipFill>
          <p:spPr>
            <a:xfrm>
              <a:off x="3238560" y="5646600"/>
              <a:ext cx="96516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3" name=""/>
          <p:cNvSpPr/>
          <p:nvPr/>
        </p:nvSpPr>
        <p:spPr>
          <a:xfrm>
            <a:off x="6838920" y="4648320"/>
            <a:ext cx="0" cy="2057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877160" y="4648320"/>
            <a:ext cx="0" cy="2057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8915400" y="4648320"/>
            <a:ext cx="0" cy="2057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5800680" y="4648320"/>
            <a:ext cx="0" cy="2057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5791320" y="6095880"/>
            <a:ext cx="1052280" cy="60984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384"/>
                </a:moveTo>
                <a:lnTo>
                  <a:pt x="96" y="0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fccf00"/>
            </a:solidFill>
            <a:round/>
          </a:ln>
          <a:effectLst>
            <a:outerShdw dist="40186" dir="1096358" blurRad="0" rotWithShape="0">
              <a:srgbClr val="2930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6826320" y="5486400"/>
            <a:ext cx="1100160" cy="60948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384"/>
                </a:moveTo>
                <a:lnTo>
                  <a:pt x="96" y="0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fccf00"/>
            </a:solidFill>
            <a:round/>
          </a:ln>
          <a:effectLst>
            <a:outerShdw dist="40186" dir="1096358" blurRad="0" rotWithShape="0">
              <a:srgbClr val="2930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7916760" y="4883040"/>
            <a:ext cx="987480" cy="60984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384"/>
                </a:moveTo>
                <a:lnTo>
                  <a:pt x="96" y="0"/>
                </a:lnTo>
                <a:lnTo>
                  <a:pt x="432" y="0"/>
                </a:lnTo>
              </a:path>
            </a:pathLst>
          </a:custGeom>
          <a:noFill/>
          <a:ln w="47520">
            <a:solidFill>
              <a:srgbClr val="fccf00"/>
            </a:solidFill>
            <a:round/>
          </a:ln>
          <a:effectLst>
            <a:outerShdw dist="40186" dir="1096358" blurRad="0" rotWithShape="0">
              <a:srgbClr val="2930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"/>
          <p:cNvSpPr/>
          <p:nvPr/>
        </p:nvSpPr>
        <p:spPr>
          <a:xfrm>
            <a:off x="1905120" y="1143000"/>
            <a:ext cx="5715000" cy="541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36504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ccf00"/>
                </a:solidFill>
                <a:latin typeface="Arial"/>
              </a:rPr>
              <a:t>ASP Sessions on a farm</a:t>
            </a:r>
            <a:endParaRPr b="1" lang="en-US" sz="4400" spc="-1" strike="noStrike">
              <a:solidFill>
                <a:srgbClr val="fccf00"/>
              </a:solidFill>
              <a:latin typeface="Arial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2133720" y="1676520"/>
            <a:ext cx="5410080" cy="4893840"/>
            <a:chOff x="2133720" y="1676520"/>
            <a:chExt cx="5410080" cy="4893840"/>
          </a:xfrm>
        </p:grpSpPr>
        <p:grpSp>
          <p:nvGrpSpPr>
            <p:cNvPr id="3183" name=""/>
            <p:cNvGrpSpPr/>
            <p:nvPr/>
          </p:nvGrpSpPr>
          <p:grpSpPr>
            <a:xfrm>
              <a:off x="2133720" y="3657240"/>
              <a:ext cx="4952520" cy="840960"/>
              <a:chOff x="2133720" y="3657240"/>
              <a:chExt cx="4952520" cy="840960"/>
            </a:xfrm>
          </p:grpSpPr>
          <p:graphicFrame>
            <p:nvGraphicFramePr>
              <p:cNvPr id="3184" name=""/>
              <p:cNvGraphicFramePr/>
              <p:nvPr/>
            </p:nvGraphicFramePr>
            <p:xfrm>
              <a:off x="2133720" y="3657240"/>
              <a:ext cx="4952520" cy="840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18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133720" y="3657240"/>
                        <a:ext cx="4952520" cy="84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6" name=""/>
              <p:cNvSpPr/>
              <p:nvPr/>
            </p:nvSpPr>
            <p:spPr>
              <a:xfrm>
                <a:off x="3615840" y="3961800"/>
                <a:ext cx="2058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TERNE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7" name=""/>
            <p:cNvGrpSpPr/>
            <p:nvPr/>
          </p:nvGrpSpPr>
          <p:grpSpPr>
            <a:xfrm>
              <a:off x="3352680" y="5867280"/>
              <a:ext cx="2286000" cy="703080"/>
              <a:chOff x="3352680" y="5867280"/>
              <a:chExt cx="2286000" cy="703080"/>
            </a:xfrm>
          </p:grpSpPr>
          <p:graphicFrame>
            <p:nvGraphicFramePr>
              <p:cNvPr id="3188" name=""/>
              <p:cNvGraphicFramePr/>
              <p:nvPr/>
            </p:nvGraphicFramePr>
            <p:xfrm>
              <a:off x="3505320" y="5867280"/>
              <a:ext cx="2000160" cy="6552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189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505320" y="5867280"/>
                        <a:ext cx="2000160" cy="65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90" name=""/>
              <p:cNvSpPr/>
              <p:nvPr/>
            </p:nvSpPr>
            <p:spPr>
              <a:xfrm>
                <a:off x="3352680" y="632412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1.1.1.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876920" y="632412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2.2.2.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2" name=""/>
            <p:cNvGrpSpPr/>
            <p:nvPr/>
          </p:nvGrpSpPr>
          <p:grpSpPr>
            <a:xfrm>
              <a:off x="2590920" y="1676520"/>
              <a:ext cx="4952880" cy="1638000"/>
              <a:chOff x="2590920" y="1676520"/>
              <a:chExt cx="4952880" cy="1638000"/>
            </a:xfrm>
          </p:grpSpPr>
          <p:grpSp>
            <p:nvGrpSpPr>
              <p:cNvPr id="3193" name=""/>
              <p:cNvGrpSpPr/>
              <p:nvPr/>
            </p:nvGrpSpPr>
            <p:grpSpPr>
              <a:xfrm>
                <a:off x="2590920" y="1676520"/>
                <a:ext cx="4047840" cy="1638000"/>
                <a:chOff x="2590920" y="1676520"/>
                <a:chExt cx="4047840" cy="1638000"/>
              </a:xfrm>
            </p:grpSpPr>
            <p:graphicFrame>
              <p:nvGraphicFramePr>
                <p:cNvPr id="3194" name=""/>
                <p:cNvGraphicFramePr/>
                <p:nvPr/>
              </p:nvGraphicFramePr>
              <p:xfrm>
                <a:off x="2590920" y="1676520"/>
                <a:ext cx="4047840" cy="163800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3195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590920" y="1676520"/>
                          <a:ext cx="4047840" cy="163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6" name=""/>
                <p:cNvSpPr/>
                <p:nvPr/>
              </p:nvSpPr>
              <p:spPr>
                <a:xfrm>
                  <a:off x="3281400" y="19047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Server 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5029200" y="19047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Server 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4167360" y="19047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Server B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3276720" y="28191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3.3.3.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4159080" y="2819160"/>
                  <a:ext cx="838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3.3.3.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5029200" y="2819160"/>
                  <a:ext cx="838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3.3.3.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2" name=""/>
              <p:cNvSpPr/>
              <p:nvPr/>
            </p:nvSpPr>
            <p:spPr>
              <a:xfrm>
                <a:off x="5867280" y="2895480"/>
                <a:ext cx="1676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AppCenter farm using NL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3" name=""/>
          <p:cNvGrpSpPr/>
          <p:nvPr/>
        </p:nvGrpSpPr>
        <p:grpSpPr>
          <a:xfrm>
            <a:off x="1981080" y="4724280"/>
            <a:ext cx="5486400" cy="1008000"/>
            <a:chOff x="1981080" y="4724280"/>
            <a:chExt cx="5486400" cy="1008000"/>
          </a:xfrm>
        </p:grpSpPr>
        <p:graphicFrame>
          <p:nvGraphicFramePr>
            <p:cNvPr id="3204" name=""/>
            <p:cNvGraphicFramePr/>
            <p:nvPr/>
          </p:nvGraphicFramePr>
          <p:xfrm>
            <a:off x="1981080" y="4724280"/>
            <a:ext cx="5141880" cy="869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20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981080" y="4724280"/>
                      <a:ext cx="5141880" cy="86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6" name=""/>
            <p:cNvSpPr/>
            <p:nvPr/>
          </p:nvSpPr>
          <p:spPr>
            <a:xfrm>
              <a:off x="3432240" y="47844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Proxy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896000" y="47844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Proxy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429000" y="52812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4.4.4.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876920" y="52812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5.5.5.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943600" y="548604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Proxy Farm (AOL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211" name=""/>
          <p:cNvGraphicFramePr/>
          <p:nvPr/>
        </p:nvGraphicFramePr>
        <p:xfrm>
          <a:off x="2895480" y="5410080"/>
          <a:ext cx="762120" cy="768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95480" y="5410080"/>
                    <a:ext cx="76212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3" name=""/>
          <p:cNvGraphicFramePr/>
          <p:nvPr/>
        </p:nvGraphicFramePr>
        <p:xfrm>
          <a:off x="2895480" y="4419720"/>
          <a:ext cx="762120" cy="53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4419720"/>
                    <a:ext cx="7621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5" name=""/>
          <p:cNvGraphicFramePr/>
          <p:nvPr/>
        </p:nvGraphicFramePr>
        <p:xfrm>
          <a:off x="3405240" y="3127320"/>
          <a:ext cx="2405160" cy="644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1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05240" y="3127320"/>
                    <a:ext cx="24051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7" name=""/>
          <p:cNvGraphicFramePr/>
          <p:nvPr/>
        </p:nvGraphicFramePr>
        <p:xfrm>
          <a:off x="3408480" y="3132000"/>
          <a:ext cx="2404800" cy="644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08480" y="3132000"/>
                    <a:ext cx="2404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9" name=""/>
          <p:cNvGraphicFramePr/>
          <p:nvPr/>
        </p:nvGraphicFramePr>
        <p:xfrm>
          <a:off x="3962520" y="3200400"/>
          <a:ext cx="807840" cy="1568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2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62520" y="3200400"/>
                    <a:ext cx="80784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1" name=""/>
          <p:cNvGraphicFramePr/>
          <p:nvPr/>
        </p:nvGraphicFramePr>
        <p:xfrm>
          <a:off x="3846600" y="5425920"/>
          <a:ext cx="761760" cy="893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2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846600" y="5425920"/>
                    <a:ext cx="76176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3" name=""/>
          <p:cNvGraphicFramePr/>
          <p:nvPr/>
        </p:nvGraphicFramePr>
        <p:xfrm>
          <a:off x="3978360" y="5499000"/>
          <a:ext cx="1498680" cy="1025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2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978360" y="5499000"/>
                    <a:ext cx="14986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5" name=""/>
          <p:cNvGraphicFramePr/>
          <p:nvPr/>
        </p:nvGraphicFramePr>
        <p:xfrm>
          <a:off x="5410080" y="4343400"/>
          <a:ext cx="871560" cy="644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2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410080" y="4343400"/>
                    <a:ext cx="8715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7" name=""/>
          <p:cNvGraphicFramePr/>
          <p:nvPr/>
        </p:nvGraphicFramePr>
        <p:xfrm>
          <a:off x="3400560" y="3124080"/>
          <a:ext cx="2404800" cy="6447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2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400560" y="3124080"/>
                    <a:ext cx="2404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9" name=""/>
          <p:cNvGraphicFramePr/>
          <p:nvPr/>
        </p:nvGraphicFramePr>
        <p:xfrm>
          <a:off x="3397320" y="3127320"/>
          <a:ext cx="2528640" cy="6447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23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397320" y="3127320"/>
                    <a:ext cx="25286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1" name=""/>
          <p:cNvGraphicFramePr/>
          <p:nvPr/>
        </p:nvGraphicFramePr>
        <p:xfrm>
          <a:off x="5867280" y="1676520"/>
          <a:ext cx="419400" cy="2746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23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867280" y="1676520"/>
                    <a:ext cx="4194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3" name=""/>
          <p:cNvSpPr/>
          <p:nvPr/>
        </p:nvSpPr>
        <p:spPr>
          <a:xfrm>
            <a:off x="6276960" y="1639800"/>
            <a:ext cx="30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541920" y="1636560"/>
            <a:ext cx="652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=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5" name=""/>
          <p:cNvGraphicFramePr/>
          <p:nvPr/>
        </p:nvGraphicFramePr>
        <p:xfrm>
          <a:off x="4038480" y="1600200"/>
          <a:ext cx="1168560" cy="31752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236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4038480" y="1600200"/>
                    <a:ext cx="11685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7" name=""/>
          <p:cNvGraphicFramePr/>
          <p:nvPr/>
        </p:nvGraphicFramePr>
        <p:xfrm>
          <a:off x="4038480" y="2895480"/>
          <a:ext cx="1168560" cy="34632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238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4038480" y="2895480"/>
                    <a:ext cx="116856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9" name=""/>
          <p:cNvGraphicFramePr/>
          <p:nvPr/>
        </p:nvGraphicFramePr>
        <p:xfrm>
          <a:off x="4343400" y="3224160"/>
          <a:ext cx="1127160" cy="15685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240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343400" y="3224160"/>
                    <a:ext cx="112716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1" name=""/>
          <p:cNvGraphicFramePr/>
          <p:nvPr/>
        </p:nvGraphicFramePr>
        <p:xfrm>
          <a:off x="4114800" y="5257800"/>
          <a:ext cx="762120" cy="6937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242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4114800" y="5257800"/>
                    <a:ext cx="7621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3" name=""/>
          <p:cNvGraphicFramePr/>
          <p:nvPr/>
        </p:nvGraphicFramePr>
        <p:xfrm>
          <a:off x="3429000" y="1295280"/>
          <a:ext cx="579600" cy="63684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244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3429000" y="1295280"/>
                    <a:ext cx="57960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5" name=""/>
          <p:cNvGraphicFramePr/>
          <p:nvPr/>
        </p:nvGraphicFramePr>
        <p:xfrm>
          <a:off x="3429000" y="1295280"/>
          <a:ext cx="579600" cy="63684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246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429000" y="1295280"/>
                    <a:ext cx="57960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Application Center 2000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201240" y="1294920"/>
            <a:ext cx="8682120" cy="4318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Kiszolgáló</a:t>
            </a:r>
            <a:r>
              <a:rPr b="1" i="1" lang="hu-HU" sz="2800" spc="-1" strike="noStrike">
                <a:solidFill>
                  <a:srgbClr val="ffffff"/>
                </a:solidFill>
                <a:latin typeface="Arial"/>
              </a:rPr>
              <a:t>farm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t üzemeltető megold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özös alkalmazás-definíci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agymértékben skálázható web-farmo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alós idejű figyelés (teljesítmény és működé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elepítő varázsl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Web &amp; COM+ alkalmazások replikáció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inamikus terheléselosztá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arm-szinten hibatűrő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rhelési teszt és kapacitástervező eszközö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"/>
          <p:cNvSpPr/>
          <p:nvPr/>
        </p:nvSpPr>
        <p:spPr>
          <a:xfrm>
            <a:off x="3889440" y="3244680"/>
            <a:ext cx="50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3760920" y="3451320"/>
            <a:ext cx="50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3516480" y="3760920"/>
            <a:ext cx="50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0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ccf00"/>
                </a:solidFill>
                <a:latin typeface="Arial"/>
              </a:rPr>
              <a:t>Central Park”</a:t>
            </a:r>
            <a:br>
              <a:rPr sz="4800"/>
            </a:br>
            <a:r>
              <a:rPr b="1" i="1" lang="hu-HU" sz="2400" spc="-1" strike="noStrike">
                <a:solidFill>
                  <a:srgbClr val="eea564"/>
                </a:solidFill>
                <a:latin typeface="Arial"/>
              </a:rPr>
              <a:t>A nagygép jövője: Kereskedelmi futtatókörnyezet Windows DNA alkalmazások számára</a:t>
            </a:r>
            <a:endParaRPr b="1" lang="en-US" sz="24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 flipH="1">
            <a:off x="6329520" y="3660840"/>
            <a:ext cx="1123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 flipH="1">
            <a:off x="6329160" y="3127320"/>
            <a:ext cx="1137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5333760" y="6019920"/>
            <a:ext cx="46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381400" y="5346720"/>
            <a:ext cx="470520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elhasználói funkció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2381400" y="1676520"/>
            <a:ext cx="470520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zemi funkció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2381400" y="5259240"/>
            <a:ext cx="91584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638680" y="5257800"/>
            <a:ext cx="14479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lpde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2388960" y="2206800"/>
            <a:ext cx="8161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ap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3202920" y="2206800"/>
            <a:ext cx="13345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zámláz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4503600" y="2206800"/>
            <a:ext cx="12733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n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5786280" y="2208240"/>
            <a:ext cx="130032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elhasz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3276720" y="5270400"/>
            <a:ext cx="2361960" cy="37152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nságos elér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2381400" y="2603520"/>
            <a:ext cx="4705200" cy="2666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6" name=""/>
          <p:cNvGrpSpPr/>
          <p:nvPr/>
        </p:nvGrpSpPr>
        <p:grpSpPr>
          <a:xfrm>
            <a:off x="3588840" y="3035160"/>
            <a:ext cx="2635920" cy="1907640"/>
            <a:chOff x="3588840" y="3035160"/>
            <a:chExt cx="2635920" cy="1907640"/>
          </a:xfrm>
        </p:grpSpPr>
        <p:sp>
          <p:nvSpPr>
            <p:cNvPr id="3267" name=""/>
            <p:cNvSpPr/>
            <p:nvPr/>
          </p:nvSpPr>
          <p:spPr>
            <a:xfrm>
              <a:off x="4384440" y="3035160"/>
              <a:ext cx="1840320" cy="45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588840" y="4483080"/>
              <a:ext cx="857520" cy="45972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655160" y="4483080"/>
              <a:ext cx="974880" cy="45972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231800" y="3263760"/>
              <a:ext cx="1840320" cy="45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927240" y="3479760"/>
              <a:ext cx="1840320" cy="45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3961800" y="4025880"/>
              <a:ext cx="30492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724280" y="4025880"/>
              <a:ext cx="30492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4" name=""/>
          <p:cNvSpPr/>
          <p:nvPr/>
        </p:nvSpPr>
        <p:spPr>
          <a:xfrm>
            <a:off x="1314360" y="312408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1619280" y="365760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1314360" y="419112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933480" y="358128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390680" y="3657600"/>
            <a:ext cx="60948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1085760" y="335268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1467000" y="342900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085760" y="3886200"/>
            <a:ext cx="685800" cy="1143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1314360" y="3505320"/>
            <a:ext cx="685800" cy="1447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103680" y="2286000"/>
            <a:ext cx="1112040" cy="459720"/>
          </a:xfrm>
          <a:prstGeom prst="rect">
            <a:avLst/>
          </a:prstGeom>
          <a:gradFill rotWithShape="0">
            <a:gsLst>
              <a:gs pos="0">
                <a:srgbClr val="30517c"/>
              </a:gs>
              <a:gs pos="100000">
                <a:srgbClr val="1a2d4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124200" y="5626080"/>
            <a:ext cx="1112040" cy="459720"/>
          </a:xfrm>
          <a:prstGeom prst="rect">
            <a:avLst/>
          </a:prstGeom>
          <a:gradFill rotWithShape="0">
            <a:gsLst>
              <a:gs pos="0">
                <a:srgbClr val="30517c"/>
              </a:gs>
              <a:gs pos="100000">
                <a:srgbClr val="1a2d4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gyfé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385920" y="2743200"/>
            <a:ext cx="99036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 flipV="1">
            <a:off x="385920" y="4571640"/>
            <a:ext cx="114300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757520" y="4876920"/>
            <a:ext cx="604800" cy="1676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2362320" y="6553080"/>
            <a:ext cx="2976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966240" y="372420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i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7238880" y="3432240"/>
            <a:ext cx="137160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lepít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245720" y="2895480"/>
            <a:ext cx="1415160" cy="368280"/>
          </a:xfrm>
          <a:prstGeom prst="rect">
            <a:avLst/>
          </a:prstGeom>
          <a:solidFill>
            <a:srgbClr val="3051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lk. konfi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794200" y="63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7315200" y="4038480"/>
            <a:ext cx="17524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Piac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xtranetek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zleti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partnerek</a:t>
            </a:r>
            <a:br>
              <a:rPr sz="2000"/>
            </a:b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álóza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AS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-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4" name=""/>
          <p:cNvGrpSpPr/>
          <p:nvPr/>
        </p:nvGrpSpPr>
        <p:grpSpPr>
          <a:xfrm>
            <a:off x="2697120" y="3041640"/>
            <a:ext cx="1179720" cy="909720"/>
            <a:chOff x="2697120" y="3041640"/>
            <a:chExt cx="1179720" cy="909720"/>
          </a:xfrm>
        </p:grpSpPr>
        <p:sp>
          <p:nvSpPr>
            <p:cNvPr id="3295" name=""/>
            <p:cNvSpPr/>
            <p:nvPr/>
          </p:nvSpPr>
          <p:spPr>
            <a:xfrm>
              <a:off x="3056040" y="3041640"/>
              <a:ext cx="820800" cy="419040"/>
            </a:xfrm>
            <a:prstGeom prst="roundRect">
              <a:avLst>
                <a:gd name="adj" fmla="val 16667"/>
              </a:avLst>
            </a:prstGeom>
            <a:solidFill>
              <a:srgbClr val="5686dc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Jo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903400" y="3247920"/>
              <a:ext cx="820800" cy="419040"/>
            </a:xfrm>
            <a:prstGeom prst="roundRect">
              <a:avLst>
                <a:gd name="adj" fmla="val 16667"/>
              </a:avLst>
            </a:prstGeom>
            <a:solidFill>
              <a:srgbClr val="5686dc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Jo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697120" y="3532320"/>
              <a:ext cx="820800" cy="419040"/>
            </a:xfrm>
            <a:prstGeom prst="roundRect">
              <a:avLst>
                <a:gd name="adj" fmla="val 16667"/>
              </a:avLst>
            </a:prstGeom>
            <a:solidFill>
              <a:srgbClr val="5686dc"/>
            </a:solidFill>
            <a:ln w="12600">
              <a:solidFill>
                <a:srgbClr val="fc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Jo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8" name=""/>
          <p:cNvGraphicFramePr/>
          <p:nvPr/>
        </p:nvGraphicFramePr>
        <p:xfrm>
          <a:off x="0" y="1440"/>
          <a:ext cx="9144000" cy="685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0"/>
                    <a:ext cx="914400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Demo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15360" cy="579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504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ccf00"/>
                </a:solidFill>
                <a:latin typeface="Arial"/>
              </a:rPr>
              <a:t>SHV</a:t>
            </a:r>
            <a:endParaRPr b="1" lang="en-US" sz="4800" spc="-1" strike="noStrike">
              <a:solidFill>
                <a:srgbClr val="fcc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087200"/>
            <a:ext cx="8763120" cy="5844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HV = “Standard High Volume”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z Intel nagyvállalati kiszolgáló LEGO-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x Pentiu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x Pentium P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x Pentium II Xe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8 x Pentium III Xeon (Corollary Profusion chip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4 x Merc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laplapon és chipset-ek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yártók: Intel, R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ndkettő ugyanúgy néz ki a szoftver szempontjábó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cc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ermészetes, egységes út a Windows NT és a Windows 2000 számá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zalontay Zoltán &amp; Tarsoly Balázs</dc:creator>
  <dc:description>A Windows 2000 előadássorozat (SP klub és Windows 2000 Akadémia) ötödik előadása</dc:description>
  <dc:language>en-US</dc:language>
  <cp:lastModifiedBy>Zoltán Szalontay</cp:lastModifiedBy>
  <dcterms:modified xsi:type="dcterms:W3CDTF">1999-11-29T10:04:04Z</dcterms:modified>
  <cp:revision>191</cp:revision>
  <dc:subject/>
  <dc:title>A Windows 2000, mint alkalmazás kiszolgáló</dc:title>
</cp:coreProperties>
</file>