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0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25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0.png" ContentType="image/png"/>
  <Override PartName="/ppt/media/image19.png" ContentType="image/png"/>
  <Override PartName="/ppt/media/image18.wmf" ContentType="image/x-wmf"/>
  <Override PartName="/ppt/media/image20.wmf" ContentType="image/x-wmf"/>
  <Override PartName="/ppt/media/image2.jpeg" ContentType="image/jpeg"/>
  <Override PartName="/ppt/media/image3.png" ContentType="image/png"/>
  <Override PartName="/ppt/media/image6.png" ContentType="image/png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04680" y="749160"/>
            <a:ext cx="493524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0000" y="4704840"/>
            <a:ext cx="4943520" cy="4457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594143-E605-4369-A290-FBA35849E87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23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KDC generál egy kulcsot, amit majd a felek használni fogn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KDC ismeri a felek saját (Privát) kulcsá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generált session kulcsot a megfelelő privát kulcsokkal titkosítva elküldi a feleknek, akik azt kifejtik és használatba veszik a session kulcs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25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z üzenetet nem feltétlenül kell titkosítani. A cél az, hogy Alice egyértelműen megbizonyosodhasson arról, hogy az üzenetet tényleg Bob küldte. Azért nem magát az üzenetet titkosítjuk, mert az túl költséges len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3A3D56-6565-4572-A3D6-2C130C7D8CD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CD5263-AFF1-49CF-BB72-6F690619D85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37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54C08A-040B-4C96-A104-158836C8578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EBD515-E440-4AB0-AF0B-EF96E8F6FE0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49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854615-E021-48E4-9146-558DAC46497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55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611F54-DCEA-44A3-B86B-2FC9FA4BFDA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61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Exchange 2000 support: online back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Exchange támogatás: online back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151B3F-29B9-4A31-A0A0-EAC0F74126C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2ECB3E-4243-4441-BFD5-E72C931BEFF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73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1C6BEA-DE39-4564-9D92-5FB27657A36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79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4A432C-DD96-488C-B737-59F9C3C7B44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85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z NTLM V_2-nél a kliens is hitelesíti a szer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9718D2-63B4-4306-8D19-668B36BD99A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91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Ld. Vidámpark belépőj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4948D2-2673-4D7D-A8E4-14A27770581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97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Kétirányú hitelesítés lehetsé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5BA56C-099C-4CE3-971E-149DAD5960F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03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Biztonságos levelezé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 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üzenetek digitálisan aláírhatóak és/vagy titkosítható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e Directory 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hange 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2000 címtára is les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z AD User objektumának tulajdonságai lehetővé teszik a biztonságos levelezé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SMIMEcertif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Certif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uthenticode: pl. Office Reskit SIGN.EX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Kód aláíró technoló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ptoAPI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-t használja az aláíráshoz és az ellenőrzésh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digitális aláírásokat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CS#6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előírásainak megfeleően végz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Többféle MIME típust is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exe, .cab, .cat, .ocx, .dll, .s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Ha lejárt az aláírás, akkor az időbélyegen meghatározott időpontig még érvényes a kó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Saját magunk is aláírhatjuk a kódunk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C18A1D-7BCF-4ABF-AC80-8524F28CA31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09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B25FB3-2335-44E6-9503-B0A9BBB3C48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17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z hogy a titkosítás transzparens művelet azt jelenti, hogy az szokásos fájlművelteket ugyanúgy végezzük egy titkosított fájlon, mint korábban egy nem titkosítot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titkosítot fájlok használatához nem kell külön jelszavakat begépelnünk titkosító és kifejtő programokat indítanu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FS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használja mindkét titkosítási módszert a gyors szimmetrikus és a lassabb nyilvános kulcsú módszert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gy véletlenszám generátor előállít egy kulcsot, amivel  magát az adatot titkosítjuk. A jelszó alapú kulcsok használata nem lehetésges, mert az túl gyenge védelmet ad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titkosító  kulcsot a felhasználó nyilvános kulcsával eltitkosítjuk és eltároljuk a fájlrendszerben (DDF mező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z az információ szorosan szorosan kapcsolódik a fájlhoz azzal együtt tárolódik és együtt mozo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Hogy más felhasználó is képes legyen a dokumentumot visszaállítani a helyreállító ügynök (EFS Recovery Agent) nyilvános kulcsával is eltitkosítjuk a FEK-et. Ezt az adatot a DDF-hez hasonlóan tároljuk és DRF-nek hívju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21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visszafejtés során a felhasználó privát kulcsával visszafejtésre kerül a FEK, majd ezzel kibontásra kerül a titkosított dokument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Hasonlóan zajlik a biztonsági visszafejtés is, csak itt a FEK-et nem a DDF-ből, hanem a DRF-ből nyerjük ki a helyreállító ügynök privát kulcsá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21" name="PlaceHolder 2"/>
          <p:cNvSpPr>
            <a:spLocks noGrp="1"/>
          </p:cNvSpPr>
          <p:nvPr>
            <p:ph type="body"/>
          </p:nvPr>
        </p:nvSpPr>
        <p:spPr>
          <a:xfrm>
            <a:off x="900000" y="4704840"/>
            <a:ext cx="4943520" cy="4457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NT4 SP4 Security Config Ed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54636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9296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25960" y="14173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71400" y="14173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54636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25960" y="354636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71400" y="354636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41732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65040" y="228600"/>
            <a:ext cx="843120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9296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54636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732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83560" indent="-4622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385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5.wmf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5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510552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alontay Zoltán, Tarsoly Baláz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rendszermérnökö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crosoft Magyarorszá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6960" y="619200"/>
            <a:ext cx="843120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ffffff"/>
                </a:solidFill>
                <a:latin typeface="Arial"/>
              </a:rPr>
              <a:t>Biztonsági szolgáltatások Windows 2000-be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Restricted Group-ról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86840" y="1739520"/>
            <a:ext cx="5575320" cy="4902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Csak az itt felsorolt felhasználók lehetnek tagjai a csoportnak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a hiányzik, hozzáadódi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a felesleges, törlődi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itt felsorolt csoportoknak lesz tagja az adott Restricted Gro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a a lista üres, az NEM jelenti meglévő csoporthoz tartozás törlésé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megadott csoporttagságot garantálju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3840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FinalDefinitionofRestrictedAdministratorsGroup" descr=""/>
          <p:cNvPicPr/>
          <p:nvPr/>
        </p:nvPicPr>
        <p:blipFill>
          <a:blip r:embed="rId2"/>
          <a:stretch/>
        </p:blipFill>
        <p:spPr>
          <a:xfrm>
            <a:off x="5904000" y="1620720"/>
            <a:ext cx="3052800" cy="4235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854600" y="2676600"/>
            <a:ext cx="1949400" cy="685800"/>
          </a:xfrm>
          <a:prstGeom prst="rightArrow">
            <a:avLst>
              <a:gd name="adj1" fmla="val 50000"/>
              <a:gd name="adj2" fmla="val 71063"/>
            </a:avLst>
          </a:prstGeom>
          <a:solidFill>
            <a:srgbClr val="eea564"/>
          </a:solidFill>
          <a:ln w="1260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05280" y="4146480"/>
            <a:ext cx="1949400" cy="685800"/>
          </a:xfrm>
          <a:prstGeom prst="rightArrow">
            <a:avLst>
              <a:gd name="adj1" fmla="val 50000"/>
              <a:gd name="adj2" fmla="val 71063"/>
            </a:avLst>
          </a:prstGeom>
          <a:solidFill>
            <a:srgbClr val="eea564"/>
          </a:solidFill>
          <a:ln w="1260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Biztonsági beállítások analízis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880" y="1778040"/>
            <a:ext cx="8415360" cy="4938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zeretném tudni, hogy viszonyulnak a gépek biztonsági beállításai a referenciához képe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Biztonsági rések keresé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rre a „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ity Configuration and Analysis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nap-In a megfelelő eszkö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analízis adatbázis alapú, először meg kell mondanunk mihez hasonlítun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ablon betöltése az adatbázisb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ásodlagos bejelentkezé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64880" y="1044720"/>
            <a:ext cx="8978760" cy="5857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robléma: Az adminisztrátor az adminisztrátori fiókkal felhasználói tevékenységet vége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z potenciális veszélyforrá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Legyen az adminisztrátornak is normál felhasználói fiókja </a:t>
            </a:r>
            <a:r>
              <a:rPr b="1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zükség esetén használja a másodlagos bejelentkezést (Run a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ipikus felhasználás: „runas /user:... mmc.exe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ift + Right Clic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mi mindezt lehetővé tesz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econdary Logon Serv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orlátozá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Shellből indított programokra nem vonatkozik, azok mindig az elsődleges bejelentkezés alapján futn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172200" y="4495680"/>
            <a:ext cx="1676520" cy="20574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itkosítási alapfogalma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77640" y="1415520"/>
            <a:ext cx="8415000" cy="2598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lapfogalma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redeti szöve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itkosított szöve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itkosítási kulc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itkosító algoritm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95280" y="4495680"/>
            <a:ext cx="1676520" cy="20574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962520" y="4191120"/>
            <a:ext cx="685440" cy="1066320"/>
            <a:chOff x="3962520" y="4191120"/>
            <a:chExt cx="685440" cy="1066320"/>
          </a:xfrm>
        </p:grpSpPr>
        <p:sp>
          <p:nvSpPr>
            <p:cNvPr id="238" name=""/>
            <p:cNvSpPr/>
            <p:nvPr/>
          </p:nvSpPr>
          <p:spPr>
            <a:xfrm>
              <a:off x="3979080" y="4191120"/>
              <a:ext cx="668880" cy="1058760"/>
            </a:xfrm>
            <a:custGeom>
              <a:avLst/>
              <a:gdLst/>
              <a:ahLst/>
              <a:rect l="l" t="t" r="r" b="b"/>
              <a:pathLst>
                <a:path w="329" h="453">
                  <a:moveTo>
                    <a:pt x="209" y="0"/>
                  </a:moveTo>
                  <a:lnTo>
                    <a:pt x="111" y="0"/>
                  </a:lnTo>
                  <a:lnTo>
                    <a:pt x="129" y="17"/>
                  </a:lnTo>
                  <a:lnTo>
                    <a:pt x="187" y="17"/>
                  </a:lnTo>
                  <a:lnTo>
                    <a:pt x="209" y="44"/>
                  </a:lnTo>
                  <a:lnTo>
                    <a:pt x="109" y="44"/>
                  </a:lnTo>
                  <a:lnTo>
                    <a:pt x="130" y="17"/>
                  </a:lnTo>
                  <a:lnTo>
                    <a:pt x="111" y="0"/>
                  </a:lnTo>
                  <a:lnTo>
                    <a:pt x="76" y="43"/>
                  </a:lnTo>
                  <a:lnTo>
                    <a:pt x="57" y="43"/>
                  </a:lnTo>
                  <a:lnTo>
                    <a:pt x="50" y="57"/>
                  </a:lnTo>
                  <a:lnTo>
                    <a:pt x="21" y="57"/>
                  </a:lnTo>
                  <a:lnTo>
                    <a:pt x="21" y="68"/>
                  </a:lnTo>
                  <a:lnTo>
                    <a:pt x="9" y="68"/>
                  </a:lnTo>
                  <a:lnTo>
                    <a:pt x="0" y="68"/>
                  </a:lnTo>
                  <a:lnTo>
                    <a:pt x="0" y="131"/>
                  </a:lnTo>
                  <a:lnTo>
                    <a:pt x="21" y="132"/>
                  </a:lnTo>
                  <a:lnTo>
                    <a:pt x="21" y="145"/>
                  </a:lnTo>
                  <a:lnTo>
                    <a:pt x="49" y="145"/>
                  </a:lnTo>
                  <a:lnTo>
                    <a:pt x="57" y="160"/>
                  </a:lnTo>
                  <a:lnTo>
                    <a:pt x="73" y="161"/>
                  </a:lnTo>
                  <a:lnTo>
                    <a:pt x="74" y="193"/>
                  </a:lnTo>
                  <a:lnTo>
                    <a:pt x="84" y="193"/>
                  </a:lnTo>
                  <a:lnTo>
                    <a:pt x="88" y="198"/>
                  </a:lnTo>
                  <a:lnTo>
                    <a:pt x="88" y="230"/>
                  </a:lnTo>
                  <a:lnTo>
                    <a:pt x="106" y="230"/>
                  </a:lnTo>
                  <a:lnTo>
                    <a:pt x="105" y="423"/>
                  </a:lnTo>
                  <a:lnTo>
                    <a:pt x="149" y="452"/>
                  </a:lnTo>
                  <a:lnTo>
                    <a:pt x="205" y="418"/>
                  </a:lnTo>
                  <a:lnTo>
                    <a:pt x="184" y="409"/>
                  </a:lnTo>
                  <a:lnTo>
                    <a:pt x="184" y="397"/>
                  </a:lnTo>
                  <a:lnTo>
                    <a:pt x="205" y="387"/>
                  </a:lnTo>
                  <a:lnTo>
                    <a:pt x="184" y="379"/>
                  </a:lnTo>
                  <a:lnTo>
                    <a:pt x="187" y="375"/>
                  </a:lnTo>
                  <a:lnTo>
                    <a:pt x="205" y="367"/>
                  </a:lnTo>
                  <a:lnTo>
                    <a:pt x="208" y="343"/>
                  </a:lnTo>
                  <a:lnTo>
                    <a:pt x="211" y="340"/>
                  </a:lnTo>
                  <a:lnTo>
                    <a:pt x="184" y="326"/>
                  </a:lnTo>
                  <a:lnTo>
                    <a:pt x="184" y="313"/>
                  </a:lnTo>
                  <a:lnTo>
                    <a:pt x="205" y="299"/>
                  </a:lnTo>
                  <a:lnTo>
                    <a:pt x="184" y="285"/>
                  </a:lnTo>
                  <a:lnTo>
                    <a:pt x="184" y="272"/>
                  </a:lnTo>
                  <a:lnTo>
                    <a:pt x="205" y="255"/>
                  </a:lnTo>
                  <a:lnTo>
                    <a:pt x="208" y="228"/>
                  </a:lnTo>
                  <a:lnTo>
                    <a:pt x="232" y="228"/>
                  </a:lnTo>
                  <a:lnTo>
                    <a:pt x="232" y="192"/>
                  </a:lnTo>
                  <a:lnTo>
                    <a:pt x="247" y="192"/>
                  </a:lnTo>
                  <a:lnTo>
                    <a:pt x="247" y="159"/>
                  </a:lnTo>
                  <a:lnTo>
                    <a:pt x="263" y="159"/>
                  </a:lnTo>
                  <a:lnTo>
                    <a:pt x="270" y="144"/>
                  </a:lnTo>
                  <a:lnTo>
                    <a:pt x="303" y="144"/>
                  </a:lnTo>
                  <a:lnTo>
                    <a:pt x="303" y="130"/>
                  </a:lnTo>
                  <a:lnTo>
                    <a:pt x="328" y="130"/>
                  </a:lnTo>
                  <a:lnTo>
                    <a:pt x="328" y="67"/>
                  </a:lnTo>
                  <a:lnTo>
                    <a:pt x="303" y="67"/>
                  </a:lnTo>
                  <a:lnTo>
                    <a:pt x="303" y="57"/>
                  </a:lnTo>
                  <a:lnTo>
                    <a:pt x="276" y="57"/>
                  </a:lnTo>
                  <a:lnTo>
                    <a:pt x="269" y="53"/>
                  </a:lnTo>
                  <a:lnTo>
                    <a:pt x="262" y="43"/>
                  </a:lnTo>
                  <a:lnTo>
                    <a:pt x="247" y="43"/>
                  </a:lnTo>
                  <a:lnTo>
                    <a:pt x="209" y="0"/>
                  </a:lnTo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62520" y="4197960"/>
              <a:ext cx="669240" cy="1059480"/>
            </a:xfrm>
            <a:custGeom>
              <a:avLst/>
              <a:gdLst/>
              <a:ahLst/>
              <a:rect l="l" t="t" r="r" b="b"/>
              <a:pathLst>
                <a:path w="329" h="453">
                  <a:moveTo>
                    <a:pt x="210" y="0"/>
                  </a:moveTo>
                  <a:lnTo>
                    <a:pt x="111" y="0"/>
                  </a:lnTo>
                  <a:lnTo>
                    <a:pt x="130" y="17"/>
                  </a:lnTo>
                  <a:lnTo>
                    <a:pt x="187" y="17"/>
                  </a:lnTo>
                  <a:lnTo>
                    <a:pt x="209" y="44"/>
                  </a:lnTo>
                  <a:lnTo>
                    <a:pt x="110" y="44"/>
                  </a:lnTo>
                  <a:lnTo>
                    <a:pt x="130" y="17"/>
                  </a:lnTo>
                  <a:lnTo>
                    <a:pt x="111" y="0"/>
                  </a:lnTo>
                  <a:lnTo>
                    <a:pt x="76" y="43"/>
                  </a:lnTo>
                  <a:lnTo>
                    <a:pt x="58" y="43"/>
                  </a:lnTo>
                  <a:lnTo>
                    <a:pt x="51" y="57"/>
                  </a:lnTo>
                  <a:lnTo>
                    <a:pt x="22" y="57"/>
                  </a:lnTo>
                  <a:lnTo>
                    <a:pt x="21" y="68"/>
                  </a:lnTo>
                  <a:lnTo>
                    <a:pt x="10" y="68"/>
                  </a:lnTo>
                  <a:lnTo>
                    <a:pt x="0" y="68"/>
                  </a:lnTo>
                  <a:lnTo>
                    <a:pt x="0" y="131"/>
                  </a:lnTo>
                  <a:lnTo>
                    <a:pt x="22" y="132"/>
                  </a:lnTo>
                  <a:lnTo>
                    <a:pt x="22" y="144"/>
                  </a:lnTo>
                  <a:lnTo>
                    <a:pt x="50" y="144"/>
                  </a:lnTo>
                  <a:lnTo>
                    <a:pt x="58" y="160"/>
                  </a:lnTo>
                  <a:lnTo>
                    <a:pt x="73" y="161"/>
                  </a:lnTo>
                  <a:lnTo>
                    <a:pt x="75" y="193"/>
                  </a:lnTo>
                  <a:lnTo>
                    <a:pt x="85" y="193"/>
                  </a:lnTo>
                  <a:lnTo>
                    <a:pt x="87" y="196"/>
                  </a:lnTo>
                  <a:lnTo>
                    <a:pt x="87" y="230"/>
                  </a:lnTo>
                  <a:lnTo>
                    <a:pt x="106" y="230"/>
                  </a:lnTo>
                  <a:lnTo>
                    <a:pt x="105" y="423"/>
                  </a:lnTo>
                  <a:lnTo>
                    <a:pt x="149" y="452"/>
                  </a:lnTo>
                  <a:lnTo>
                    <a:pt x="205" y="418"/>
                  </a:lnTo>
                  <a:lnTo>
                    <a:pt x="185" y="409"/>
                  </a:lnTo>
                  <a:lnTo>
                    <a:pt x="185" y="397"/>
                  </a:lnTo>
                  <a:lnTo>
                    <a:pt x="205" y="387"/>
                  </a:lnTo>
                  <a:lnTo>
                    <a:pt x="185" y="378"/>
                  </a:lnTo>
                  <a:lnTo>
                    <a:pt x="188" y="375"/>
                  </a:lnTo>
                  <a:lnTo>
                    <a:pt x="205" y="367"/>
                  </a:lnTo>
                  <a:lnTo>
                    <a:pt x="208" y="343"/>
                  </a:lnTo>
                  <a:lnTo>
                    <a:pt x="211" y="340"/>
                  </a:lnTo>
                  <a:lnTo>
                    <a:pt x="185" y="326"/>
                  </a:lnTo>
                  <a:lnTo>
                    <a:pt x="185" y="313"/>
                  </a:lnTo>
                  <a:lnTo>
                    <a:pt x="205" y="299"/>
                  </a:lnTo>
                  <a:lnTo>
                    <a:pt x="185" y="285"/>
                  </a:lnTo>
                  <a:lnTo>
                    <a:pt x="185" y="272"/>
                  </a:lnTo>
                  <a:lnTo>
                    <a:pt x="205" y="255"/>
                  </a:lnTo>
                  <a:lnTo>
                    <a:pt x="209" y="228"/>
                  </a:lnTo>
                  <a:lnTo>
                    <a:pt x="233" y="228"/>
                  </a:lnTo>
                  <a:lnTo>
                    <a:pt x="233" y="192"/>
                  </a:lnTo>
                  <a:lnTo>
                    <a:pt x="247" y="192"/>
                  </a:lnTo>
                  <a:lnTo>
                    <a:pt x="247" y="159"/>
                  </a:lnTo>
                  <a:lnTo>
                    <a:pt x="263" y="159"/>
                  </a:lnTo>
                  <a:lnTo>
                    <a:pt x="270" y="144"/>
                  </a:lnTo>
                  <a:lnTo>
                    <a:pt x="303" y="144"/>
                  </a:lnTo>
                  <a:lnTo>
                    <a:pt x="303" y="130"/>
                  </a:lnTo>
                  <a:lnTo>
                    <a:pt x="328" y="130"/>
                  </a:lnTo>
                  <a:lnTo>
                    <a:pt x="328" y="67"/>
                  </a:lnTo>
                  <a:lnTo>
                    <a:pt x="303" y="67"/>
                  </a:lnTo>
                  <a:lnTo>
                    <a:pt x="303" y="57"/>
                  </a:lnTo>
                  <a:lnTo>
                    <a:pt x="276" y="57"/>
                  </a:lnTo>
                  <a:lnTo>
                    <a:pt x="270" y="53"/>
                  </a:lnTo>
                  <a:lnTo>
                    <a:pt x="263" y="43"/>
                  </a:lnTo>
                  <a:lnTo>
                    <a:pt x="247" y="43"/>
                  </a:lnTo>
                  <a:lnTo>
                    <a:pt x="210" y="0"/>
                  </a:lnTo>
                </a:path>
              </a:pathLst>
            </a:cu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4027320" y="4368600"/>
              <a:ext cx="510120" cy="116280"/>
              <a:chOff x="4027320" y="4368600"/>
              <a:chExt cx="510120" cy="116280"/>
            </a:xfrm>
          </p:grpSpPr>
          <p:sp>
            <p:nvSpPr>
              <p:cNvPr id="241" name=""/>
              <p:cNvSpPr/>
              <p:nvPr/>
            </p:nvSpPr>
            <p:spPr>
              <a:xfrm>
                <a:off x="4065840" y="4368600"/>
                <a:ext cx="471600" cy="116280"/>
              </a:xfrm>
              <a:custGeom>
                <a:avLst/>
                <a:gdLst/>
                <a:ahLst/>
                <a:rect l="l" t="t" r="r" b="b"/>
                <a:pathLst>
                  <a:path w="232" h="50">
                    <a:moveTo>
                      <a:pt x="231" y="25"/>
                    </a:moveTo>
                    <a:lnTo>
                      <a:pt x="210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08" y="2"/>
                    </a:lnTo>
                    <a:lnTo>
                      <a:pt x="226" y="25"/>
                    </a:lnTo>
                    <a:lnTo>
                      <a:pt x="208" y="47"/>
                    </a:lnTo>
                    <a:lnTo>
                      <a:pt x="212" y="49"/>
                    </a:lnTo>
                    <a:lnTo>
                      <a:pt x="231" y="25"/>
                    </a:lnTo>
                  </a:path>
                </a:pathLst>
              </a:custGeom>
              <a:solidFill>
                <a:srgbClr val="3165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027320" y="4368600"/>
                <a:ext cx="469800" cy="114120"/>
              </a:xfrm>
              <a:custGeom>
                <a:avLst/>
                <a:gdLst/>
                <a:ahLst/>
                <a:rect l="l" t="t" r="r" b="b"/>
                <a:pathLst>
                  <a:path w="231" h="49">
                    <a:moveTo>
                      <a:pt x="0" y="22"/>
                    </a:moveTo>
                    <a:lnTo>
                      <a:pt x="20" y="48"/>
                    </a:lnTo>
                    <a:lnTo>
                      <a:pt x="230" y="48"/>
                    </a:lnTo>
                    <a:lnTo>
                      <a:pt x="228" y="45"/>
                    </a:lnTo>
                    <a:lnTo>
                      <a:pt x="22" y="45"/>
                    </a:lnTo>
                    <a:lnTo>
                      <a:pt x="3" y="22"/>
                    </a:lnTo>
                    <a:lnTo>
                      <a:pt x="21" y="1"/>
                    </a:lnTo>
                    <a:lnTo>
                      <a:pt x="17" y="0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4011120" y="4347360"/>
              <a:ext cx="563760" cy="3744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78800" y="4323960"/>
              <a:ext cx="439200" cy="3744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4007160" y="4506480"/>
              <a:ext cx="567000" cy="749520"/>
              <a:chOff x="4007160" y="4506480"/>
              <a:chExt cx="567000" cy="749520"/>
            </a:xfrm>
          </p:grpSpPr>
          <p:sp>
            <p:nvSpPr>
              <p:cNvPr id="246" name=""/>
              <p:cNvSpPr/>
              <p:nvPr/>
            </p:nvSpPr>
            <p:spPr>
              <a:xfrm>
                <a:off x="4306320" y="4653720"/>
                <a:ext cx="34560" cy="577080"/>
              </a:xfrm>
              <a:custGeom>
                <a:avLst/>
                <a:gdLst/>
                <a:ahLst/>
                <a:rect l="l" t="t" r="r" b="b"/>
                <a:pathLst>
                  <a:path w="17" h="247">
                    <a:moveTo>
                      <a:pt x="0" y="0"/>
                    </a:moveTo>
                    <a:lnTo>
                      <a:pt x="0" y="246"/>
                    </a:lnTo>
                    <a:lnTo>
                      <a:pt x="16" y="242"/>
                    </a:lnTo>
                    <a:lnTo>
                      <a:pt x="16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226760" y="4669920"/>
                <a:ext cx="34560" cy="560520"/>
              </a:xfrm>
              <a:custGeom>
                <a:avLst/>
                <a:gdLst/>
                <a:ahLst/>
                <a:rect l="l" t="t" r="r" b="b"/>
                <a:pathLst>
                  <a:path w="17" h="240">
                    <a:moveTo>
                      <a:pt x="5" y="0"/>
                    </a:moveTo>
                    <a:lnTo>
                      <a:pt x="0" y="235"/>
                    </a:lnTo>
                    <a:lnTo>
                      <a:pt x="16" y="239"/>
                    </a:lnTo>
                    <a:lnTo>
                      <a:pt x="16" y="19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8" name=""/>
              <p:cNvGrpSpPr/>
              <p:nvPr/>
            </p:nvGrpSpPr>
            <p:grpSpPr>
              <a:xfrm>
                <a:off x="4007160" y="4506480"/>
                <a:ext cx="567000" cy="749520"/>
                <a:chOff x="4007160" y="4506480"/>
                <a:chExt cx="567000" cy="74952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4007160" y="4506480"/>
                  <a:ext cx="567000" cy="37440"/>
                </a:xfrm>
                <a:prstGeom prst="rect">
                  <a:avLst/>
                </a:prstGeom>
                <a:solidFill>
                  <a:srgbClr val="3165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114800" y="4576320"/>
                  <a:ext cx="341280" cy="37440"/>
                </a:xfrm>
                <a:prstGeom prst="rect">
                  <a:avLst/>
                </a:prstGeom>
                <a:solidFill>
                  <a:srgbClr val="3165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228560" y="4669920"/>
                  <a:ext cx="36360" cy="586080"/>
                </a:xfrm>
                <a:custGeom>
                  <a:avLst/>
                  <a:gdLst/>
                  <a:ahLst/>
                  <a:rect l="l" t="t" r="r" b="b"/>
                  <a:pathLst>
                    <a:path w="18" h="251">
                      <a:moveTo>
                        <a:pt x="0" y="0"/>
                      </a:moveTo>
                      <a:lnTo>
                        <a:pt x="4" y="16"/>
                      </a:lnTo>
                      <a:lnTo>
                        <a:pt x="10" y="30"/>
                      </a:lnTo>
                      <a:lnTo>
                        <a:pt x="10" y="245"/>
                      </a:lnTo>
                      <a:lnTo>
                        <a:pt x="15" y="250"/>
                      </a:lnTo>
                      <a:lnTo>
                        <a:pt x="17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165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134960" y="4648680"/>
                  <a:ext cx="298440" cy="81360"/>
                </a:xfrm>
                <a:custGeom>
                  <a:avLst/>
                  <a:gdLst/>
                  <a:ahLst/>
                  <a:rect l="l" t="t" r="r" b="b"/>
                  <a:pathLst>
                    <a:path w="147" h="35">
                      <a:moveTo>
                        <a:pt x="121" y="34"/>
                      </a:moveTo>
                      <a:lnTo>
                        <a:pt x="131" y="26"/>
                      </a:lnTo>
                      <a:lnTo>
                        <a:pt x="131" y="3"/>
                      </a:lnTo>
                      <a:lnTo>
                        <a:pt x="146" y="3"/>
                      </a:lnTo>
                      <a:lnTo>
                        <a:pt x="146" y="0"/>
                      </a:ln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82" y="3"/>
                      </a:lnTo>
                      <a:lnTo>
                        <a:pt x="89" y="10"/>
                      </a:lnTo>
                      <a:lnTo>
                        <a:pt x="118" y="10"/>
                      </a:lnTo>
                      <a:lnTo>
                        <a:pt x="121" y="34"/>
                      </a:lnTo>
                    </a:path>
                  </a:pathLst>
                </a:custGeom>
                <a:solidFill>
                  <a:srgbClr val="3165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064040" y="4536360"/>
                  <a:ext cx="448560" cy="39600"/>
                </a:xfrm>
                <a:custGeom>
                  <a:avLst/>
                  <a:gdLst/>
                  <a:ahLst/>
                  <a:rect l="l" t="t" r="r" b="b"/>
                  <a:pathLst>
                    <a:path w="221" h="17">
                      <a:moveTo>
                        <a:pt x="220" y="0"/>
                      </a:moveTo>
                      <a:lnTo>
                        <a:pt x="0" y="0"/>
                      </a:lnTo>
                      <a:lnTo>
                        <a:pt x="2" y="16"/>
                      </a:lnTo>
                      <a:lnTo>
                        <a:pt x="218" y="16"/>
                      </a:lnTo>
                      <a:lnTo>
                        <a:pt x="220" y="0"/>
                      </a:lnTo>
                    </a:path>
                  </a:pathLst>
                </a:custGeom>
                <a:solidFill>
                  <a:srgbClr val="3165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4" name=""/>
          <p:cNvSpPr/>
          <p:nvPr/>
        </p:nvSpPr>
        <p:spPr>
          <a:xfrm flipH="1">
            <a:off x="1413720" y="3986280"/>
            <a:ext cx="41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57600" y="5486400"/>
            <a:ext cx="1676520" cy="1143000"/>
          </a:xfrm>
          <a:prstGeom prst="rightArrowCallout">
            <a:avLst>
              <a:gd name="adj1" fmla="val 25002"/>
              <a:gd name="adj2" fmla="val 25000"/>
              <a:gd name="adj3" fmla="val 24446"/>
              <a:gd name="adj4" fmla="val 66667"/>
            </a:avLst>
          </a:prstGeom>
          <a:solidFill>
            <a:srgbClr val="fcc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50800" y="4952880"/>
            <a:ext cx="138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Titkos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szöve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79280" y="4952880"/>
            <a:ext cx="1128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m%a</a:t>
            </a: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?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24040" y="459756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020305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itkosítási módszerek I.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415360" cy="5508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Privát kulcsos titkosítá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ás néven </a:t>
            </a:r>
            <a:r>
              <a:rPr b="1" lang="hu-HU" sz="2800" spc="-1" strike="noStrike">
                <a:solidFill>
                  <a:srgbClr val="fccf00"/>
                </a:solidFill>
                <a:latin typeface="Arial"/>
              </a:rPr>
              <a:t>szimmetrik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ccf00"/>
                </a:solidFill>
                <a:latin typeface="Arial"/>
              </a:rPr>
              <a:t>Egy kulcs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van, melyet a kommunikáció megkezdése előtt kicserélnek a fel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titkosításhoz és a visszafejtéshez </a:t>
            </a:r>
            <a:r>
              <a:rPr b="1" lang="hu-HU" sz="2800" spc="-1" strike="noStrike">
                <a:solidFill>
                  <a:srgbClr val="fccf00"/>
                </a:solidFill>
                <a:latin typeface="Arial"/>
              </a:rPr>
              <a:t>ugyanazt a kulcsot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használju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Jól ismert algoritmus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riple-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C2, RC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DE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kulcsdisztribúció problémái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39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 embernek 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(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1)/2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kulcsra van szüksé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30.000 ember esetén ez 449,985,000 kulcsot jel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em tudunk minden potenciális partnerrel egy kulcsot cserélni és azt tároln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22-es csapdája, hogy kommunikáljunk titkosítva, ha még nem értettünk egyet a titkosítás kulcsá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titkosítási kulcs szükségképpen titkosítatlanul megy át a csatornán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Key Distribution Center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1539720"/>
            <a:ext cx="1523880" cy="152424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KD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5" name="bd06784_" descr=""/>
          <p:cNvPicPr/>
          <p:nvPr/>
        </p:nvPicPr>
        <p:blipFill>
          <a:blip r:embed="rId2"/>
          <a:stretch/>
        </p:blipFill>
        <p:spPr>
          <a:xfrm>
            <a:off x="1219320" y="5029200"/>
            <a:ext cx="1828800" cy="1511280"/>
          </a:xfrm>
          <a:prstGeom prst="rect">
            <a:avLst/>
          </a:prstGeom>
          <a:ln w="0">
            <a:noFill/>
          </a:ln>
        </p:spPr>
      </p:pic>
      <p:pic>
        <p:nvPicPr>
          <p:cNvPr id="266" name="bd06790_" descr=""/>
          <p:cNvPicPr/>
          <p:nvPr/>
        </p:nvPicPr>
        <p:blipFill>
          <a:blip r:embed="rId3"/>
          <a:stretch/>
        </p:blipFill>
        <p:spPr>
          <a:xfrm>
            <a:off x="6477120" y="1676520"/>
            <a:ext cx="1508040" cy="1245960"/>
          </a:xfrm>
          <a:prstGeom prst="rect">
            <a:avLst/>
          </a:prstGeom>
          <a:ln w="0">
            <a:noFill/>
          </a:ln>
        </p:spPr>
      </p:pic>
      <p:cxnSp>
        <p:nvCxnSpPr>
          <p:cNvPr id="267" name=""/>
          <p:cNvCxnSpPr>
            <a:stCxn id="265" idx="3"/>
            <a:endCxn id="266" idx="2"/>
          </p:cNvCxnSpPr>
          <p:nvPr/>
        </p:nvCxnSpPr>
        <p:spPr>
          <a:xfrm flipV="1">
            <a:off x="3047760" y="2921760"/>
            <a:ext cx="4183560" cy="2863080"/>
          </a:xfrm>
          <a:prstGeom prst="curvedConnector2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268" name=""/>
          <p:cNvGrpSpPr/>
          <p:nvPr/>
        </p:nvGrpSpPr>
        <p:grpSpPr>
          <a:xfrm>
            <a:off x="685800" y="3276720"/>
            <a:ext cx="914040" cy="609120"/>
            <a:chOff x="685800" y="3276720"/>
            <a:chExt cx="914040" cy="609120"/>
          </a:xfrm>
        </p:grpSpPr>
        <p:sp>
          <p:nvSpPr>
            <p:cNvPr id="269" name=""/>
            <p:cNvSpPr/>
            <p:nvPr/>
          </p:nvSpPr>
          <p:spPr>
            <a:xfrm rot="16200000">
              <a:off x="842400" y="3119760"/>
              <a:ext cx="594360" cy="907920"/>
            </a:xfrm>
            <a:custGeom>
              <a:avLst/>
              <a:gdLst/>
              <a:ahLst/>
              <a:rect l="l" t="t" r="r" b="b"/>
              <a:pathLst>
                <a:path w="329" h="453">
                  <a:moveTo>
                    <a:pt x="209" y="0"/>
                  </a:moveTo>
                  <a:lnTo>
                    <a:pt x="111" y="0"/>
                  </a:lnTo>
                  <a:lnTo>
                    <a:pt x="129" y="17"/>
                  </a:lnTo>
                  <a:lnTo>
                    <a:pt x="187" y="17"/>
                  </a:lnTo>
                  <a:lnTo>
                    <a:pt x="209" y="44"/>
                  </a:lnTo>
                  <a:lnTo>
                    <a:pt x="109" y="44"/>
                  </a:lnTo>
                  <a:lnTo>
                    <a:pt x="130" y="17"/>
                  </a:lnTo>
                  <a:lnTo>
                    <a:pt x="111" y="0"/>
                  </a:lnTo>
                  <a:lnTo>
                    <a:pt x="76" y="43"/>
                  </a:lnTo>
                  <a:lnTo>
                    <a:pt x="57" y="43"/>
                  </a:lnTo>
                  <a:lnTo>
                    <a:pt x="50" y="57"/>
                  </a:lnTo>
                  <a:lnTo>
                    <a:pt x="21" y="57"/>
                  </a:lnTo>
                  <a:lnTo>
                    <a:pt x="21" y="68"/>
                  </a:lnTo>
                  <a:lnTo>
                    <a:pt x="9" y="68"/>
                  </a:lnTo>
                  <a:lnTo>
                    <a:pt x="0" y="68"/>
                  </a:lnTo>
                  <a:lnTo>
                    <a:pt x="0" y="131"/>
                  </a:lnTo>
                  <a:lnTo>
                    <a:pt x="21" y="132"/>
                  </a:lnTo>
                  <a:lnTo>
                    <a:pt x="21" y="145"/>
                  </a:lnTo>
                  <a:lnTo>
                    <a:pt x="49" y="145"/>
                  </a:lnTo>
                  <a:lnTo>
                    <a:pt x="57" y="160"/>
                  </a:lnTo>
                  <a:lnTo>
                    <a:pt x="73" y="161"/>
                  </a:lnTo>
                  <a:lnTo>
                    <a:pt x="74" y="193"/>
                  </a:lnTo>
                  <a:lnTo>
                    <a:pt x="84" y="193"/>
                  </a:lnTo>
                  <a:lnTo>
                    <a:pt x="88" y="198"/>
                  </a:lnTo>
                  <a:lnTo>
                    <a:pt x="88" y="230"/>
                  </a:lnTo>
                  <a:lnTo>
                    <a:pt x="106" y="230"/>
                  </a:lnTo>
                  <a:lnTo>
                    <a:pt x="105" y="423"/>
                  </a:lnTo>
                  <a:lnTo>
                    <a:pt x="149" y="452"/>
                  </a:lnTo>
                  <a:lnTo>
                    <a:pt x="205" y="418"/>
                  </a:lnTo>
                  <a:lnTo>
                    <a:pt x="184" y="409"/>
                  </a:lnTo>
                  <a:lnTo>
                    <a:pt x="184" y="397"/>
                  </a:lnTo>
                  <a:lnTo>
                    <a:pt x="205" y="387"/>
                  </a:lnTo>
                  <a:lnTo>
                    <a:pt x="184" y="379"/>
                  </a:lnTo>
                  <a:lnTo>
                    <a:pt x="187" y="375"/>
                  </a:lnTo>
                  <a:lnTo>
                    <a:pt x="205" y="367"/>
                  </a:lnTo>
                  <a:lnTo>
                    <a:pt x="208" y="343"/>
                  </a:lnTo>
                  <a:lnTo>
                    <a:pt x="211" y="340"/>
                  </a:lnTo>
                  <a:lnTo>
                    <a:pt x="184" y="326"/>
                  </a:lnTo>
                  <a:lnTo>
                    <a:pt x="184" y="313"/>
                  </a:lnTo>
                  <a:lnTo>
                    <a:pt x="205" y="299"/>
                  </a:lnTo>
                  <a:lnTo>
                    <a:pt x="184" y="285"/>
                  </a:lnTo>
                  <a:lnTo>
                    <a:pt x="184" y="272"/>
                  </a:lnTo>
                  <a:lnTo>
                    <a:pt x="205" y="255"/>
                  </a:lnTo>
                  <a:lnTo>
                    <a:pt x="208" y="228"/>
                  </a:lnTo>
                  <a:lnTo>
                    <a:pt x="232" y="228"/>
                  </a:lnTo>
                  <a:lnTo>
                    <a:pt x="232" y="192"/>
                  </a:lnTo>
                  <a:lnTo>
                    <a:pt x="247" y="192"/>
                  </a:lnTo>
                  <a:lnTo>
                    <a:pt x="247" y="159"/>
                  </a:lnTo>
                  <a:lnTo>
                    <a:pt x="263" y="159"/>
                  </a:lnTo>
                  <a:lnTo>
                    <a:pt x="270" y="144"/>
                  </a:lnTo>
                  <a:lnTo>
                    <a:pt x="303" y="144"/>
                  </a:lnTo>
                  <a:lnTo>
                    <a:pt x="303" y="130"/>
                  </a:lnTo>
                  <a:lnTo>
                    <a:pt x="328" y="130"/>
                  </a:lnTo>
                  <a:lnTo>
                    <a:pt x="328" y="67"/>
                  </a:lnTo>
                  <a:lnTo>
                    <a:pt x="303" y="67"/>
                  </a:lnTo>
                  <a:lnTo>
                    <a:pt x="303" y="57"/>
                  </a:lnTo>
                  <a:lnTo>
                    <a:pt x="276" y="57"/>
                  </a:lnTo>
                  <a:lnTo>
                    <a:pt x="269" y="53"/>
                  </a:lnTo>
                  <a:lnTo>
                    <a:pt x="262" y="43"/>
                  </a:lnTo>
                  <a:lnTo>
                    <a:pt x="247" y="43"/>
                  </a:lnTo>
                  <a:lnTo>
                    <a:pt x="209" y="0"/>
                  </a:lnTo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6200000">
              <a:off x="848160" y="3134160"/>
              <a:ext cx="594720" cy="908280"/>
            </a:xfrm>
            <a:custGeom>
              <a:avLst/>
              <a:gdLst/>
              <a:ahLst/>
              <a:rect l="l" t="t" r="r" b="b"/>
              <a:pathLst>
                <a:path w="329" h="453">
                  <a:moveTo>
                    <a:pt x="210" y="0"/>
                  </a:moveTo>
                  <a:lnTo>
                    <a:pt x="111" y="0"/>
                  </a:lnTo>
                  <a:lnTo>
                    <a:pt x="130" y="17"/>
                  </a:lnTo>
                  <a:lnTo>
                    <a:pt x="187" y="17"/>
                  </a:lnTo>
                  <a:lnTo>
                    <a:pt x="209" y="44"/>
                  </a:lnTo>
                  <a:lnTo>
                    <a:pt x="110" y="44"/>
                  </a:lnTo>
                  <a:lnTo>
                    <a:pt x="130" y="17"/>
                  </a:lnTo>
                  <a:lnTo>
                    <a:pt x="111" y="0"/>
                  </a:lnTo>
                  <a:lnTo>
                    <a:pt x="76" y="43"/>
                  </a:lnTo>
                  <a:lnTo>
                    <a:pt x="58" y="43"/>
                  </a:lnTo>
                  <a:lnTo>
                    <a:pt x="51" y="57"/>
                  </a:lnTo>
                  <a:lnTo>
                    <a:pt x="22" y="57"/>
                  </a:lnTo>
                  <a:lnTo>
                    <a:pt x="21" y="68"/>
                  </a:lnTo>
                  <a:lnTo>
                    <a:pt x="10" y="68"/>
                  </a:lnTo>
                  <a:lnTo>
                    <a:pt x="0" y="68"/>
                  </a:lnTo>
                  <a:lnTo>
                    <a:pt x="0" y="131"/>
                  </a:lnTo>
                  <a:lnTo>
                    <a:pt x="22" y="132"/>
                  </a:lnTo>
                  <a:lnTo>
                    <a:pt x="22" y="144"/>
                  </a:lnTo>
                  <a:lnTo>
                    <a:pt x="50" y="144"/>
                  </a:lnTo>
                  <a:lnTo>
                    <a:pt x="58" y="160"/>
                  </a:lnTo>
                  <a:lnTo>
                    <a:pt x="73" y="161"/>
                  </a:lnTo>
                  <a:lnTo>
                    <a:pt x="75" y="193"/>
                  </a:lnTo>
                  <a:lnTo>
                    <a:pt x="85" y="193"/>
                  </a:lnTo>
                  <a:lnTo>
                    <a:pt x="87" y="196"/>
                  </a:lnTo>
                  <a:lnTo>
                    <a:pt x="87" y="230"/>
                  </a:lnTo>
                  <a:lnTo>
                    <a:pt x="106" y="230"/>
                  </a:lnTo>
                  <a:lnTo>
                    <a:pt x="105" y="423"/>
                  </a:lnTo>
                  <a:lnTo>
                    <a:pt x="149" y="452"/>
                  </a:lnTo>
                  <a:lnTo>
                    <a:pt x="205" y="418"/>
                  </a:lnTo>
                  <a:lnTo>
                    <a:pt x="185" y="409"/>
                  </a:lnTo>
                  <a:lnTo>
                    <a:pt x="185" y="397"/>
                  </a:lnTo>
                  <a:lnTo>
                    <a:pt x="205" y="387"/>
                  </a:lnTo>
                  <a:lnTo>
                    <a:pt x="185" y="378"/>
                  </a:lnTo>
                  <a:lnTo>
                    <a:pt x="188" y="375"/>
                  </a:lnTo>
                  <a:lnTo>
                    <a:pt x="205" y="367"/>
                  </a:lnTo>
                  <a:lnTo>
                    <a:pt x="208" y="343"/>
                  </a:lnTo>
                  <a:lnTo>
                    <a:pt x="211" y="340"/>
                  </a:lnTo>
                  <a:lnTo>
                    <a:pt x="185" y="326"/>
                  </a:lnTo>
                  <a:lnTo>
                    <a:pt x="185" y="313"/>
                  </a:lnTo>
                  <a:lnTo>
                    <a:pt x="205" y="299"/>
                  </a:lnTo>
                  <a:lnTo>
                    <a:pt x="185" y="285"/>
                  </a:lnTo>
                  <a:lnTo>
                    <a:pt x="185" y="272"/>
                  </a:lnTo>
                  <a:lnTo>
                    <a:pt x="205" y="255"/>
                  </a:lnTo>
                  <a:lnTo>
                    <a:pt x="209" y="228"/>
                  </a:lnTo>
                  <a:lnTo>
                    <a:pt x="233" y="228"/>
                  </a:lnTo>
                  <a:lnTo>
                    <a:pt x="233" y="192"/>
                  </a:lnTo>
                  <a:lnTo>
                    <a:pt x="247" y="192"/>
                  </a:lnTo>
                  <a:lnTo>
                    <a:pt x="247" y="159"/>
                  </a:lnTo>
                  <a:lnTo>
                    <a:pt x="263" y="159"/>
                  </a:lnTo>
                  <a:lnTo>
                    <a:pt x="270" y="144"/>
                  </a:lnTo>
                  <a:lnTo>
                    <a:pt x="303" y="144"/>
                  </a:lnTo>
                  <a:lnTo>
                    <a:pt x="303" y="130"/>
                  </a:lnTo>
                  <a:lnTo>
                    <a:pt x="328" y="130"/>
                  </a:lnTo>
                  <a:lnTo>
                    <a:pt x="328" y="67"/>
                  </a:lnTo>
                  <a:lnTo>
                    <a:pt x="303" y="67"/>
                  </a:lnTo>
                  <a:lnTo>
                    <a:pt x="303" y="57"/>
                  </a:lnTo>
                  <a:lnTo>
                    <a:pt x="276" y="57"/>
                  </a:lnTo>
                  <a:lnTo>
                    <a:pt x="270" y="53"/>
                  </a:lnTo>
                  <a:lnTo>
                    <a:pt x="263" y="43"/>
                  </a:lnTo>
                  <a:lnTo>
                    <a:pt x="247" y="43"/>
                  </a:lnTo>
                  <a:lnTo>
                    <a:pt x="210" y="0"/>
                  </a:lnTo>
                </a:path>
              </a:pathLst>
            </a:cu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374640"/>
              <a:ext cx="99360" cy="453600"/>
              <a:chOff x="838080" y="3374640"/>
              <a:chExt cx="99360" cy="453600"/>
            </a:xfrm>
          </p:grpSpPr>
          <p:sp>
            <p:nvSpPr>
              <p:cNvPr id="272" name=""/>
              <p:cNvSpPr/>
              <p:nvPr/>
            </p:nvSpPr>
            <p:spPr>
              <a:xfrm rot="16200000">
                <a:off x="677880" y="3534480"/>
                <a:ext cx="419400" cy="99360"/>
              </a:xfrm>
              <a:custGeom>
                <a:avLst/>
                <a:gdLst/>
                <a:ahLst/>
                <a:rect l="l" t="t" r="r" b="b"/>
                <a:pathLst>
                  <a:path w="232" h="50">
                    <a:moveTo>
                      <a:pt x="231" y="25"/>
                    </a:moveTo>
                    <a:lnTo>
                      <a:pt x="210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08" y="2"/>
                    </a:lnTo>
                    <a:lnTo>
                      <a:pt x="226" y="25"/>
                    </a:lnTo>
                    <a:lnTo>
                      <a:pt x="208" y="47"/>
                    </a:lnTo>
                    <a:lnTo>
                      <a:pt x="212" y="49"/>
                    </a:lnTo>
                    <a:lnTo>
                      <a:pt x="231" y="25"/>
                    </a:lnTo>
                  </a:path>
                </a:pathLst>
              </a:custGeom>
              <a:solidFill>
                <a:srgbClr val="3165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6200000">
                <a:off x="677880" y="3570480"/>
                <a:ext cx="417600" cy="97560"/>
              </a:xfrm>
              <a:custGeom>
                <a:avLst/>
                <a:gdLst/>
                <a:ahLst/>
                <a:rect l="l" t="t" r="r" b="b"/>
                <a:pathLst>
                  <a:path w="231" h="49">
                    <a:moveTo>
                      <a:pt x="0" y="22"/>
                    </a:moveTo>
                    <a:lnTo>
                      <a:pt x="20" y="48"/>
                    </a:lnTo>
                    <a:lnTo>
                      <a:pt x="230" y="48"/>
                    </a:lnTo>
                    <a:lnTo>
                      <a:pt x="228" y="45"/>
                    </a:lnTo>
                    <a:lnTo>
                      <a:pt x="22" y="45"/>
                    </a:lnTo>
                    <a:lnTo>
                      <a:pt x="3" y="22"/>
                    </a:lnTo>
                    <a:lnTo>
                      <a:pt x="21" y="1"/>
                    </a:lnTo>
                    <a:lnTo>
                      <a:pt x="17" y="0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 rot="16200000">
              <a:off x="585000" y="3575880"/>
              <a:ext cx="501120" cy="3204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6200000">
              <a:off x="620280" y="3571200"/>
              <a:ext cx="390240" cy="3204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956160" y="3342240"/>
              <a:ext cx="642600" cy="504000"/>
              <a:chOff x="956160" y="3342240"/>
              <a:chExt cx="642600" cy="504000"/>
            </a:xfrm>
          </p:grpSpPr>
          <p:sp>
            <p:nvSpPr>
              <p:cNvPr id="277" name=""/>
              <p:cNvSpPr/>
              <p:nvPr/>
            </p:nvSpPr>
            <p:spPr>
              <a:xfrm rot="16200000">
                <a:off x="1314000" y="3317400"/>
                <a:ext cx="30600" cy="494640"/>
              </a:xfrm>
              <a:custGeom>
                <a:avLst/>
                <a:gdLst/>
                <a:ahLst/>
                <a:rect l="l" t="t" r="r" b="b"/>
                <a:pathLst>
                  <a:path w="17" h="247">
                    <a:moveTo>
                      <a:pt x="0" y="0"/>
                    </a:moveTo>
                    <a:lnTo>
                      <a:pt x="0" y="246"/>
                    </a:lnTo>
                    <a:lnTo>
                      <a:pt x="16" y="242"/>
                    </a:lnTo>
                    <a:lnTo>
                      <a:pt x="16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6200000">
                <a:off x="1321560" y="3395160"/>
                <a:ext cx="30600" cy="480600"/>
              </a:xfrm>
              <a:custGeom>
                <a:avLst/>
                <a:gdLst/>
                <a:ahLst/>
                <a:rect l="l" t="t" r="r" b="b"/>
                <a:pathLst>
                  <a:path w="17" h="240">
                    <a:moveTo>
                      <a:pt x="5" y="0"/>
                    </a:moveTo>
                    <a:lnTo>
                      <a:pt x="0" y="235"/>
                    </a:lnTo>
                    <a:lnTo>
                      <a:pt x="16" y="239"/>
                    </a:lnTo>
                    <a:lnTo>
                      <a:pt x="16" y="19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9" name=""/>
              <p:cNvGrpSpPr/>
              <p:nvPr/>
            </p:nvGrpSpPr>
            <p:grpSpPr>
              <a:xfrm>
                <a:off x="956160" y="3342240"/>
                <a:ext cx="642600" cy="504000"/>
                <a:chOff x="956160" y="3342240"/>
                <a:chExt cx="642600" cy="504000"/>
              </a:xfrm>
            </p:grpSpPr>
            <p:sp>
              <p:nvSpPr>
                <p:cNvPr id="280" name=""/>
                <p:cNvSpPr/>
                <p:nvPr/>
              </p:nvSpPr>
              <p:spPr>
                <a:xfrm rot="16200000">
                  <a:off x="720000" y="3578040"/>
                  <a:ext cx="504000" cy="32040"/>
                </a:xfrm>
                <a:prstGeom prst="rect">
                  <a:avLst/>
                </a:prstGeom>
                <a:solidFill>
                  <a:srgbClr val="3165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rot="16200000">
                  <a:off x="880200" y="3582720"/>
                  <a:ext cx="303480" cy="32040"/>
                </a:xfrm>
                <a:prstGeom prst="rect">
                  <a:avLst/>
                </a:prstGeom>
                <a:solidFill>
                  <a:srgbClr val="3165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16200000">
                  <a:off x="1331280" y="3381840"/>
                  <a:ext cx="32040" cy="502560"/>
                </a:xfrm>
                <a:custGeom>
                  <a:avLst/>
                  <a:gdLst/>
                  <a:ahLst/>
                  <a:rect l="l" t="t" r="r" b="b"/>
                  <a:pathLst>
                    <a:path w="18" h="251">
                      <a:moveTo>
                        <a:pt x="0" y="0"/>
                      </a:moveTo>
                      <a:lnTo>
                        <a:pt x="4" y="16"/>
                      </a:lnTo>
                      <a:lnTo>
                        <a:pt x="10" y="30"/>
                      </a:lnTo>
                      <a:lnTo>
                        <a:pt x="10" y="245"/>
                      </a:lnTo>
                      <a:lnTo>
                        <a:pt x="15" y="250"/>
                      </a:lnTo>
                      <a:lnTo>
                        <a:pt x="17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165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16200000">
                  <a:off x="980280" y="3564720"/>
                  <a:ext cx="265320" cy="69840"/>
                </a:xfrm>
                <a:custGeom>
                  <a:avLst/>
                  <a:gdLst/>
                  <a:ahLst/>
                  <a:rect l="l" t="t" r="r" b="b"/>
                  <a:pathLst>
                    <a:path w="147" h="35">
                      <a:moveTo>
                        <a:pt x="121" y="34"/>
                      </a:moveTo>
                      <a:lnTo>
                        <a:pt x="131" y="26"/>
                      </a:lnTo>
                      <a:lnTo>
                        <a:pt x="131" y="3"/>
                      </a:lnTo>
                      <a:lnTo>
                        <a:pt x="146" y="3"/>
                      </a:lnTo>
                      <a:lnTo>
                        <a:pt x="146" y="0"/>
                      </a:ln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82" y="3"/>
                      </a:lnTo>
                      <a:lnTo>
                        <a:pt x="89" y="10"/>
                      </a:lnTo>
                      <a:lnTo>
                        <a:pt x="118" y="10"/>
                      </a:lnTo>
                      <a:lnTo>
                        <a:pt x="121" y="34"/>
                      </a:lnTo>
                    </a:path>
                  </a:pathLst>
                </a:custGeom>
                <a:solidFill>
                  <a:srgbClr val="3165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16200000">
                  <a:off x="799200" y="3579120"/>
                  <a:ext cx="398880" cy="33840"/>
                </a:xfrm>
                <a:custGeom>
                  <a:avLst/>
                  <a:gdLst/>
                  <a:ahLst/>
                  <a:rect l="l" t="t" r="r" b="b"/>
                  <a:pathLst>
                    <a:path w="221" h="17">
                      <a:moveTo>
                        <a:pt x="220" y="0"/>
                      </a:moveTo>
                      <a:lnTo>
                        <a:pt x="0" y="0"/>
                      </a:lnTo>
                      <a:lnTo>
                        <a:pt x="2" y="16"/>
                      </a:lnTo>
                      <a:lnTo>
                        <a:pt x="218" y="16"/>
                      </a:lnTo>
                      <a:lnTo>
                        <a:pt x="220" y="0"/>
                      </a:lnTo>
                    </a:path>
                  </a:pathLst>
                </a:custGeom>
                <a:solidFill>
                  <a:srgbClr val="3165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85" name=""/>
          <p:cNvGrpSpPr/>
          <p:nvPr/>
        </p:nvGrpSpPr>
        <p:grpSpPr>
          <a:xfrm>
            <a:off x="3429000" y="1066680"/>
            <a:ext cx="533520" cy="885600"/>
            <a:chOff x="3429000" y="1066680"/>
            <a:chExt cx="533520" cy="885600"/>
          </a:xfrm>
        </p:grpSpPr>
        <p:pic>
          <p:nvPicPr>
            <p:cNvPr id="286" name="" descr=""/>
            <p:cNvPicPr/>
            <p:nvPr/>
          </p:nvPicPr>
          <p:blipFill>
            <a:blip r:embed="rId4"/>
            <a:stretch/>
          </p:blipFill>
          <p:spPr>
            <a:xfrm>
              <a:off x="3429000" y="1066680"/>
              <a:ext cx="533520" cy="88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3489480" y="1185480"/>
              <a:ext cx="450000" cy="2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1004040" y="3581280"/>
            <a:ext cx="6732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hu-HU" sz="3600" spc="-1" strike="noStrike" baseline="-18000">
                <a:solidFill>
                  <a:srgbClr val="ffffff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09880" y="1447920"/>
            <a:ext cx="7858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hu-HU" sz="3600" spc="-1" strike="noStrike" baseline="-18000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399720" y="4648320"/>
            <a:ext cx="14990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hu-HU" sz="3600" spc="-1" strike="noStrike" baseline="-18000">
                <a:solidFill>
                  <a:srgbClr val="ffffff"/>
                </a:solidFill>
                <a:latin typeface="Arial"/>
              </a:rPr>
              <a:t>ses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97880" y="281952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13200" y="6338880"/>
            <a:ext cx="8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6019920" y="4419720"/>
            <a:ext cx="486720" cy="761400"/>
            <a:chOff x="6019920" y="4419720"/>
            <a:chExt cx="486720" cy="761400"/>
          </a:xfrm>
        </p:grpSpPr>
        <p:sp>
          <p:nvSpPr>
            <p:cNvPr id="294" name=""/>
            <p:cNvSpPr/>
            <p:nvPr/>
          </p:nvSpPr>
          <p:spPr>
            <a:xfrm>
              <a:off x="6019920" y="4419720"/>
              <a:ext cx="475200" cy="756360"/>
            </a:xfrm>
            <a:custGeom>
              <a:avLst/>
              <a:gdLst/>
              <a:ahLst/>
              <a:rect l="l" t="t" r="r" b="b"/>
              <a:pathLst>
                <a:path w="882" h="1720">
                  <a:moveTo>
                    <a:pt x="317" y="0"/>
                  </a:moveTo>
                  <a:lnTo>
                    <a:pt x="583" y="0"/>
                  </a:lnTo>
                  <a:lnTo>
                    <a:pt x="533" y="66"/>
                  </a:lnTo>
                  <a:lnTo>
                    <a:pt x="377" y="66"/>
                  </a:lnTo>
                  <a:lnTo>
                    <a:pt x="319" y="171"/>
                  </a:lnTo>
                  <a:lnTo>
                    <a:pt x="586" y="171"/>
                  </a:lnTo>
                  <a:lnTo>
                    <a:pt x="532" y="67"/>
                  </a:lnTo>
                  <a:lnTo>
                    <a:pt x="583" y="1"/>
                  </a:lnTo>
                  <a:lnTo>
                    <a:pt x="677" y="164"/>
                  </a:lnTo>
                  <a:lnTo>
                    <a:pt x="727" y="165"/>
                  </a:lnTo>
                  <a:lnTo>
                    <a:pt x="745" y="221"/>
                  </a:lnTo>
                  <a:lnTo>
                    <a:pt x="824" y="221"/>
                  </a:lnTo>
                  <a:lnTo>
                    <a:pt x="825" y="260"/>
                  </a:lnTo>
                  <a:lnTo>
                    <a:pt x="855" y="261"/>
                  </a:lnTo>
                  <a:lnTo>
                    <a:pt x="882" y="261"/>
                  </a:lnTo>
                  <a:lnTo>
                    <a:pt x="882" y="501"/>
                  </a:lnTo>
                  <a:lnTo>
                    <a:pt x="824" y="502"/>
                  </a:lnTo>
                  <a:lnTo>
                    <a:pt x="823" y="553"/>
                  </a:lnTo>
                  <a:lnTo>
                    <a:pt x="748" y="553"/>
                  </a:lnTo>
                  <a:lnTo>
                    <a:pt x="726" y="613"/>
                  </a:lnTo>
                  <a:lnTo>
                    <a:pt x="685" y="614"/>
                  </a:lnTo>
                  <a:lnTo>
                    <a:pt x="682" y="735"/>
                  </a:lnTo>
                  <a:lnTo>
                    <a:pt x="654" y="735"/>
                  </a:lnTo>
                  <a:lnTo>
                    <a:pt x="645" y="754"/>
                  </a:lnTo>
                  <a:lnTo>
                    <a:pt x="645" y="876"/>
                  </a:lnTo>
                  <a:lnTo>
                    <a:pt x="595" y="877"/>
                  </a:lnTo>
                  <a:lnTo>
                    <a:pt x="598" y="1609"/>
                  </a:lnTo>
                  <a:lnTo>
                    <a:pt x="481" y="1720"/>
                  </a:lnTo>
                  <a:lnTo>
                    <a:pt x="331" y="1593"/>
                  </a:lnTo>
                  <a:lnTo>
                    <a:pt x="385" y="1557"/>
                  </a:lnTo>
                  <a:lnTo>
                    <a:pt x="385" y="1514"/>
                  </a:lnTo>
                  <a:lnTo>
                    <a:pt x="331" y="1476"/>
                  </a:lnTo>
                  <a:lnTo>
                    <a:pt x="385" y="1443"/>
                  </a:lnTo>
                  <a:lnTo>
                    <a:pt x="376" y="1430"/>
                  </a:lnTo>
                  <a:lnTo>
                    <a:pt x="330" y="1400"/>
                  </a:lnTo>
                  <a:lnTo>
                    <a:pt x="322" y="1305"/>
                  </a:lnTo>
                  <a:lnTo>
                    <a:pt x="316" y="1296"/>
                  </a:lnTo>
                  <a:lnTo>
                    <a:pt x="386" y="1241"/>
                  </a:lnTo>
                  <a:lnTo>
                    <a:pt x="386" y="1194"/>
                  </a:lnTo>
                  <a:lnTo>
                    <a:pt x="330" y="1138"/>
                  </a:lnTo>
                  <a:lnTo>
                    <a:pt x="385" y="1088"/>
                  </a:lnTo>
                  <a:lnTo>
                    <a:pt x="385" y="1039"/>
                  </a:lnTo>
                  <a:lnTo>
                    <a:pt x="331" y="975"/>
                  </a:lnTo>
                  <a:lnTo>
                    <a:pt x="321" y="871"/>
                  </a:lnTo>
                  <a:lnTo>
                    <a:pt x="256" y="871"/>
                  </a:lnTo>
                  <a:lnTo>
                    <a:pt x="256" y="730"/>
                  </a:lnTo>
                  <a:lnTo>
                    <a:pt x="217" y="730"/>
                  </a:lnTo>
                  <a:lnTo>
                    <a:pt x="217" y="608"/>
                  </a:lnTo>
                  <a:lnTo>
                    <a:pt x="174" y="608"/>
                  </a:lnTo>
                  <a:lnTo>
                    <a:pt x="154" y="549"/>
                  </a:lnTo>
                  <a:lnTo>
                    <a:pt x="67" y="549"/>
                  </a:lnTo>
                  <a:lnTo>
                    <a:pt x="67" y="497"/>
                  </a:lnTo>
                  <a:lnTo>
                    <a:pt x="0" y="497"/>
                  </a:lnTo>
                  <a:lnTo>
                    <a:pt x="0" y="255"/>
                  </a:lnTo>
                  <a:lnTo>
                    <a:pt x="66" y="255"/>
                  </a:lnTo>
                  <a:lnTo>
                    <a:pt x="66" y="220"/>
                  </a:lnTo>
                  <a:lnTo>
                    <a:pt x="140" y="220"/>
                  </a:lnTo>
                  <a:lnTo>
                    <a:pt x="157" y="204"/>
                  </a:lnTo>
                  <a:lnTo>
                    <a:pt x="175" y="165"/>
                  </a:lnTo>
                  <a:lnTo>
                    <a:pt x="217" y="165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031440" y="4423320"/>
              <a:ext cx="475200" cy="757800"/>
            </a:xfrm>
            <a:custGeom>
              <a:avLst/>
              <a:gdLst/>
              <a:ahLst/>
              <a:rect l="l" t="t" r="r" b="b"/>
              <a:pathLst>
                <a:path w="883" h="1721">
                  <a:moveTo>
                    <a:pt x="316" y="0"/>
                  </a:moveTo>
                  <a:lnTo>
                    <a:pt x="583" y="0"/>
                  </a:lnTo>
                  <a:lnTo>
                    <a:pt x="532" y="66"/>
                  </a:lnTo>
                  <a:lnTo>
                    <a:pt x="377" y="66"/>
                  </a:lnTo>
                  <a:lnTo>
                    <a:pt x="318" y="171"/>
                  </a:lnTo>
                  <a:lnTo>
                    <a:pt x="586" y="171"/>
                  </a:lnTo>
                  <a:lnTo>
                    <a:pt x="531" y="67"/>
                  </a:lnTo>
                  <a:lnTo>
                    <a:pt x="583" y="1"/>
                  </a:lnTo>
                  <a:lnTo>
                    <a:pt x="677" y="164"/>
                  </a:lnTo>
                  <a:lnTo>
                    <a:pt x="727" y="165"/>
                  </a:lnTo>
                  <a:lnTo>
                    <a:pt x="744" y="221"/>
                  </a:lnTo>
                  <a:lnTo>
                    <a:pt x="823" y="221"/>
                  </a:lnTo>
                  <a:lnTo>
                    <a:pt x="824" y="260"/>
                  </a:lnTo>
                  <a:lnTo>
                    <a:pt x="854" y="261"/>
                  </a:lnTo>
                  <a:lnTo>
                    <a:pt x="883" y="261"/>
                  </a:lnTo>
                  <a:lnTo>
                    <a:pt x="883" y="502"/>
                  </a:lnTo>
                  <a:lnTo>
                    <a:pt x="823" y="503"/>
                  </a:lnTo>
                  <a:lnTo>
                    <a:pt x="822" y="553"/>
                  </a:lnTo>
                  <a:lnTo>
                    <a:pt x="747" y="553"/>
                  </a:lnTo>
                  <a:lnTo>
                    <a:pt x="726" y="613"/>
                  </a:lnTo>
                  <a:lnTo>
                    <a:pt x="684" y="614"/>
                  </a:lnTo>
                  <a:lnTo>
                    <a:pt x="681" y="736"/>
                  </a:lnTo>
                  <a:lnTo>
                    <a:pt x="654" y="736"/>
                  </a:lnTo>
                  <a:lnTo>
                    <a:pt x="646" y="746"/>
                  </a:lnTo>
                  <a:lnTo>
                    <a:pt x="646" y="877"/>
                  </a:lnTo>
                  <a:lnTo>
                    <a:pt x="595" y="877"/>
                  </a:lnTo>
                  <a:lnTo>
                    <a:pt x="598" y="1610"/>
                  </a:lnTo>
                  <a:lnTo>
                    <a:pt x="481" y="1721"/>
                  </a:lnTo>
                  <a:lnTo>
                    <a:pt x="331" y="1593"/>
                  </a:lnTo>
                  <a:lnTo>
                    <a:pt x="384" y="1557"/>
                  </a:lnTo>
                  <a:lnTo>
                    <a:pt x="384" y="1515"/>
                  </a:lnTo>
                  <a:lnTo>
                    <a:pt x="331" y="1476"/>
                  </a:lnTo>
                  <a:lnTo>
                    <a:pt x="384" y="1443"/>
                  </a:lnTo>
                  <a:lnTo>
                    <a:pt x="376" y="1430"/>
                  </a:lnTo>
                  <a:lnTo>
                    <a:pt x="330" y="1400"/>
                  </a:lnTo>
                  <a:lnTo>
                    <a:pt x="321" y="1305"/>
                  </a:lnTo>
                  <a:lnTo>
                    <a:pt x="315" y="1297"/>
                  </a:lnTo>
                  <a:lnTo>
                    <a:pt x="385" y="1241"/>
                  </a:lnTo>
                  <a:lnTo>
                    <a:pt x="385" y="1194"/>
                  </a:lnTo>
                  <a:lnTo>
                    <a:pt x="330" y="1138"/>
                  </a:lnTo>
                  <a:lnTo>
                    <a:pt x="384" y="1089"/>
                  </a:lnTo>
                  <a:lnTo>
                    <a:pt x="384" y="1039"/>
                  </a:lnTo>
                  <a:lnTo>
                    <a:pt x="331" y="975"/>
                  </a:lnTo>
                  <a:lnTo>
                    <a:pt x="320" y="871"/>
                  </a:lnTo>
                  <a:lnTo>
                    <a:pt x="256" y="871"/>
                  </a:lnTo>
                  <a:lnTo>
                    <a:pt x="256" y="731"/>
                  </a:lnTo>
                  <a:lnTo>
                    <a:pt x="218" y="731"/>
                  </a:lnTo>
                  <a:lnTo>
                    <a:pt x="218" y="608"/>
                  </a:lnTo>
                  <a:lnTo>
                    <a:pt x="173" y="608"/>
                  </a:lnTo>
                  <a:lnTo>
                    <a:pt x="154" y="549"/>
                  </a:lnTo>
                  <a:lnTo>
                    <a:pt x="66" y="549"/>
                  </a:lnTo>
                  <a:lnTo>
                    <a:pt x="66" y="497"/>
                  </a:lnTo>
                  <a:lnTo>
                    <a:pt x="0" y="497"/>
                  </a:lnTo>
                  <a:lnTo>
                    <a:pt x="0" y="255"/>
                  </a:lnTo>
                  <a:lnTo>
                    <a:pt x="65" y="255"/>
                  </a:lnTo>
                  <a:lnTo>
                    <a:pt x="65" y="220"/>
                  </a:lnTo>
                  <a:lnTo>
                    <a:pt x="139" y="220"/>
                  </a:lnTo>
                  <a:lnTo>
                    <a:pt x="157" y="204"/>
                  </a:lnTo>
                  <a:lnTo>
                    <a:pt x="174" y="165"/>
                  </a:lnTo>
                  <a:lnTo>
                    <a:pt x="218" y="165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6098400" y="4545000"/>
              <a:ext cx="362160" cy="86760"/>
              <a:chOff x="6098400" y="4545000"/>
              <a:chExt cx="362160" cy="86760"/>
            </a:xfrm>
          </p:grpSpPr>
          <p:sp>
            <p:nvSpPr>
              <p:cNvPr id="297" name=""/>
              <p:cNvSpPr/>
              <p:nvPr/>
            </p:nvSpPr>
            <p:spPr>
              <a:xfrm>
                <a:off x="6098400" y="4545000"/>
                <a:ext cx="335520" cy="86760"/>
              </a:xfrm>
              <a:custGeom>
                <a:avLst/>
                <a:gdLst/>
                <a:ahLst/>
                <a:rect l="l" t="t" r="r" b="b"/>
                <a:pathLst>
                  <a:path w="624" h="197">
                    <a:moveTo>
                      <a:pt x="0" y="102"/>
                    </a:moveTo>
                    <a:lnTo>
                      <a:pt x="54" y="0"/>
                    </a:lnTo>
                    <a:lnTo>
                      <a:pt x="624" y="0"/>
                    </a:lnTo>
                    <a:lnTo>
                      <a:pt x="619" y="7"/>
                    </a:lnTo>
                    <a:lnTo>
                      <a:pt x="61" y="7"/>
                    </a:lnTo>
                    <a:lnTo>
                      <a:pt x="10" y="102"/>
                    </a:lnTo>
                    <a:lnTo>
                      <a:pt x="60" y="191"/>
                    </a:lnTo>
                    <a:lnTo>
                      <a:pt x="50" y="197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125040" y="4545000"/>
                <a:ext cx="335520" cy="86760"/>
              </a:xfrm>
              <a:custGeom>
                <a:avLst/>
                <a:gdLst/>
                <a:ahLst/>
                <a:rect l="l" t="t" r="r" b="b"/>
                <a:pathLst>
                  <a:path w="625" h="197">
                    <a:moveTo>
                      <a:pt x="625" y="94"/>
                    </a:moveTo>
                    <a:lnTo>
                      <a:pt x="570" y="197"/>
                    </a:lnTo>
                    <a:lnTo>
                      <a:pt x="0" y="197"/>
                    </a:lnTo>
                    <a:lnTo>
                      <a:pt x="5" y="189"/>
                    </a:lnTo>
                    <a:lnTo>
                      <a:pt x="564" y="189"/>
                    </a:lnTo>
                    <a:lnTo>
                      <a:pt x="614" y="94"/>
                    </a:lnTo>
                    <a:lnTo>
                      <a:pt x="565" y="6"/>
                    </a:lnTo>
                    <a:lnTo>
                      <a:pt x="574" y="0"/>
                    </a:lnTo>
                    <a:lnTo>
                      <a:pt x="625" y="94"/>
                    </a:lnTo>
                    <a:close/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6069240" y="4531680"/>
              <a:ext cx="403200" cy="36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09200" y="4514760"/>
              <a:ext cx="315000" cy="504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6069240" y="4644000"/>
              <a:ext cx="405360" cy="535320"/>
              <a:chOff x="6069240" y="4644000"/>
              <a:chExt cx="405360" cy="535320"/>
            </a:xfrm>
          </p:grpSpPr>
          <p:sp>
            <p:nvSpPr>
              <p:cNvPr id="302" name=""/>
              <p:cNvSpPr/>
              <p:nvPr/>
            </p:nvSpPr>
            <p:spPr>
              <a:xfrm>
                <a:off x="6252840" y="4748040"/>
                <a:ext cx="10440" cy="413280"/>
              </a:xfrm>
              <a:custGeom>
                <a:avLst/>
                <a:gdLst/>
                <a:ahLst/>
                <a:rect l="l" t="t" r="r" b="b"/>
                <a:pathLst>
                  <a:path w="19" h="940">
                    <a:moveTo>
                      <a:pt x="19" y="0"/>
                    </a:moveTo>
                    <a:lnTo>
                      <a:pt x="18" y="940"/>
                    </a:lnTo>
                    <a:lnTo>
                      <a:pt x="2" y="925"/>
                    </a:lnTo>
                    <a:lnTo>
                      <a:pt x="0" y="2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311160" y="4758840"/>
                <a:ext cx="9720" cy="403560"/>
              </a:xfrm>
              <a:custGeom>
                <a:avLst/>
                <a:gdLst/>
                <a:ahLst/>
                <a:rect l="l" t="t" r="r" b="b"/>
                <a:pathLst>
                  <a:path w="17" h="917">
                    <a:moveTo>
                      <a:pt x="14" y="0"/>
                    </a:moveTo>
                    <a:lnTo>
                      <a:pt x="17" y="901"/>
                    </a:lnTo>
                    <a:lnTo>
                      <a:pt x="2" y="917"/>
                    </a:lnTo>
                    <a:lnTo>
                      <a:pt x="0" y="7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4" name=""/>
              <p:cNvGrpSpPr/>
              <p:nvPr/>
            </p:nvGrpSpPr>
            <p:grpSpPr>
              <a:xfrm>
                <a:off x="6069240" y="4644000"/>
                <a:ext cx="405360" cy="535320"/>
                <a:chOff x="6069240" y="4644000"/>
                <a:chExt cx="405360" cy="53532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6069240" y="4644000"/>
                  <a:ext cx="405360" cy="9000"/>
                </a:xfrm>
                <a:prstGeom prst="rect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151680" y="4692600"/>
                  <a:ext cx="247320" cy="9000"/>
                </a:xfrm>
                <a:prstGeom prst="rect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288480" y="4759920"/>
                  <a:ext cx="30960" cy="419400"/>
                </a:xfrm>
                <a:custGeom>
                  <a:avLst/>
                  <a:gdLst/>
                  <a:ahLst/>
                  <a:rect l="l" t="t" r="r" b="b"/>
                  <a:pathLst>
                    <a:path w="57" h="954">
                      <a:moveTo>
                        <a:pt x="57" y="0"/>
                      </a:moveTo>
                      <a:lnTo>
                        <a:pt x="44" y="62"/>
                      </a:lnTo>
                      <a:lnTo>
                        <a:pt x="21" y="115"/>
                      </a:lnTo>
                      <a:lnTo>
                        <a:pt x="21" y="936"/>
                      </a:lnTo>
                      <a:lnTo>
                        <a:pt x="4" y="954"/>
                      </a:lnTo>
                      <a:lnTo>
                        <a:pt x="0" y="100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168960" y="4744080"/>
                  <a:ext cx="216000" cy="63360"/>
                </a:xfrm>
                <a:custGeom>
                  <a:avLst/>
                  <a:gdLst/>
                  <a:ahLst/>
                  <a:rect l="l" t="t" r="r" b="b"/>
                  <a:pathLst>
                    <a:path w="402" h="143">
                      <a:moveTo>
                        <a:pt x="67" y="143"/>
                      </a:moveTo>
                      <a:lnTo>
                        <a:pt x="41" y="111"/>
                      </a:lnTo>
                      <a:lnTo>
                        <a:pt x="41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402" y="0"/>
                      </a:lnTo>
                      <a:lnTo>
                        <a:pt x="391" y="16"/>
                      </a:lnTo>
                      <a:lnTo>
                        <a:pt x="174" y="16"/>
                      </a:lnTo>
                      <a:lnTo>
                        <a:pt x="156" y="43"/>
                      </a:lnTo>
                      <a:lnTo>
                        <a:pt x="76" y="43"/>
                      </a:lnTo>
                      <a:lnTo>
                        <a:pt x="67" y="143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6115320" y="4663440"/>
                  <a:ext cx="319320" cy="9000"/>
                </a:xfrm>
                <a:custGeom>
                  <a:avLst/>
                  <a:gdLst/>
                  <a:ahLst/>
                  <a:rect l="l" t="t" r="r" b="b"/>
                  <a:pathLst>
                    <a:path w="594" h="20">
                      <a:moveTo>
                        <a:pt x="0" y="1"/>
                      </a:moveTo>
                      <a:lnTo>
                        <a:pt x="594" y="0"/>
                      </a:lnTo>
                      <a:lnTo>
                        <a:pt x="588" y="19"/>
                      </a:lnTo>
                      <a:lnTo>
                        <a:pt x="5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cxnSp>
        <p:nvCxnSpPr>
          <p:cNvPr id="310" name=""/>
          <p:cNvCxnSpPr>
            <a:stCxn id="264" idx="3"/>
            <a:endCxn id="266" idx="1"/>
          </p:cNvCxnSpPr>
          <p:nvPr/>
        </p:nvCxnSpPr>
        <p:spPr>
          <a:xfrm flipV="1">
            <a:off x="2895120" y="2300040"/>
            <a:ext cx="3582360" cy="2160"/>
          </a:xfrm>
          <a:prstGeom prst="straightConnector1">
            <a:avLst/>
          </a:prstGeom>
          <a:ln w="38160">
            <a:solidFill>
              <a:srgbClr val="ffffff"/>
            </a:solidFill>
            <a:prstDash val="sysDot"/>
            <a:miter/>
            <a:tailEnd len="sm" type="triangle" w="sm"/>
          </a:ln>
        </p:spPr>
      </p:cxnSp>
      <p:grpSp>
        <p:nvGrpSpPr>
          <p:cNvPr id="311" name=""/>
          <p:cNvGrpSpPr/>
          <p:nvPr/>
        </p:nvGrpSpPr>
        <p:grpSpPr>
          <a:xfrm>
            <a:off x="3503520" y="2054880"/>
            <a:ext cx="765000" cy="492840"/>
            <a:chOff x="3503520" y="2054880"/>
            <a:chExt cx="765000" cy="492840"/>
          </a:xfrm>
        </p:grpSpPr>
        <p:sp>
          <p:nvSpPr>
            <p:cNvPr id="312" name=""/>
            <p:cNvSpPr/>
            <p:nvPr/>
          </p:nvSpPr>
          <p:spPr>
            <a:xfrm rot="16226400">
              <a:off x="3645720" y="1928880"/>
              <a:ext cx="475560" cy="756360"/>
            </a:xfrm>
            <a:custGeom>
              <a:avLst/>
              <a:gdLst/>
              <a:ahLst/>
              <a:rect l="l" t="t" r="r" b="b"/>
              <a:pathLst>
                <a:path w="882" h="1720">
                  <a:moveTo>
                    <a:pt x="317" y="0"/>
                  </a:moveTo>
                  <a:lnTo>
                    <a:pt x="583" y="0"/>
                  </a:lnTo>
                  <a:lnTo>
                    <a:pt x="533" y="66"/>
                  </a:lnTo>
                  <a:lnTo>
                    <a:pt x="377" y="66"/>
                  </a:lnTo>
                  <a:lnTo>
                    <a:pt x="319" y="171"/>
                  </a:lnTo>
                  <a:lnTo>
                    <a:pt x="586" y="171"/>
                  </a:lnTo>
                  <a:lnTo>
                    <a:pt x="532" y="67"/>
                  </a:lnTo>
                  <a:lnTo>
                    <a:pt x="583" y="1"/>
                  </a:lnTo>
                  <a:lnTo>
                    <a:pt x="677" y="164"/>
                  </a:lnTo>
                  <a:lnTo>
                    <a:pt x="727" y="165"/>
                  </a:lnTo>
                  <a:lnTo>
                    <a:pt x="745" y="221"/>
                  </a:lnTo>
                  <a:lnTo>
                    <a:pt x="824" y="221"/>
                  </a:lnTo>
                  <a:lnTo>
                    <a:pt x="825" y="260"/>
                  </a:lnTo>
                  <a:lnTo>
                    <a:pt x="855" y="261"/>
                  </a:lnTo>
                  <a:lnTo>
                    <a:pt x="882" y="261"/>
                  </a:lnTo>
                  <a:lnTo>
                    <a:pt x="882" y="501"/>
                  </a:lnTo>
                  <a:lnTo>
                    <a:pt x="824" y="502"/>
                  </a:lnTo>
                  <a:lnTo>
                    <a:pt x="823" y="553"/>
                  </a:lnTo>
                  <a:lnTo>
                    <a:pt x="748" y="553"/>
                  </a:lnTo>
                  <a:lnTo>
                    <a:pt x="726" y="613"/>
                  </a:lnTo>
                  <a:lnTo>
                    <a:pt x="685" y="614"/>
                  </a:lnTo>
                  <a:lnTo>
                    <a:pt x="682" y="735"/>
                  </a:lnTo>
                  <a:lnTo>
                    <a:pt x="654" y="735"/>
                  </a:lnTo>
                  <a:lnTo>
                    <a:pt x="645" y="754"/>
                  </a:lnTo>
                  <a:lnTo>
                    <a:pt x="645" y="876"/>
                  </a:lnTo>
                  <a:lnTo>
                    <a:pt x="595" y="877"/>
                  </a:lnTo>
                  <a:lnTo>
                    <a:pt x="598" y="1609"/>
                  </a:lnTo>
                  <a:lnTo>
                    <a:pt x="481" y="1720"/>
                  </a:lnTo>
                  <a:lnTo>
                    <a:pt x="331" y="1593"/>
                  </a:lnTo>
                  <a:lnTo>
                    <a:pt x="385" y="1557"/>
                  </a:lnTo>
                  <a:lnTo>
                    <a:pt x="385" y="1514"/>
                  </a:lnTo>
                  <a:lnTo>
                    <a:pt x="331" y="1476"/>
                  </a:lnTo>
                  <a:lnTo>
                    <a:pt x="385" y="1443"/>
                  </a:lnTo>
                  <a:lnTo>
                    <a:pt x="376" y="1430"/>
                  </a:lnTo>
                  <a:lnTo>
                    <a:pt x="330" y="1400"/>
                  </a:lnTo>
                  <a:lnTo>
                    <a:pt x="322" y="1305"/>
                  </a:lnTo>
                  <a:lnTo>
                    <a:pt x="316" y="1296"/>
                  </a:lnTo>
                  <a:lnTo>
                    <a:pt x="386" y="1241"/>
                  </a:lnTo>
                  <a:lnTo>
                    <a:pt x="386" y="1194"/>
                  </a:lnTo>
                  <a:lnTo>
                    <a:pt x="330" y="1138"/>
                  </a:lnTo>
                  <a:lnTo>
                    <a:pt x="385" y="1088"/>
                  </a:lnTo>
                  <a:lnTo>
                    <a:pt x="385" y="1039"/>
                  </a:lnTo>
                  <a:lnTo>
                    <a:pt x="331" y="975"/>
                  </a:lnTo>
                  <a:lnTo>
                    <a:pt x="321" y="871"/>
                  </a:lnTo>
                  <a:lnTo>
                    <a:pt x="256" y="871"/>
                  </a:lnTo>
                  <a:lnTo>
                    <a:pt x="256" y="730"/>
                  </a:lnTo>
                  <a:lnTo>
                    <a:pt x="217" y="730"/>
                  </a:lnTo>
                  <a:lnTo>
                    <a:pt x="217" y="608"/>
                  </a:lnTo>
                  <a:lnTo>
                    <a:pt x="174" y="608"/>
                  </a:lnTo>
                  <a:lnTo>
                    <a:pt x="154" y="549"/>
                  </a:lnTo>
                  <a:lnTo>
                    <a:pt x="67" y="549"/>
                  </a:lnTo>
                  <a:lnTo>
                    <a:pt x="67" y="497"/>
                  </a:lnTo>
                  <a:lnTo>
                    <a:pt x="0" y="497"/>
                  </a:lnTo>
                  <a:lnTo>
                    <a:pt x="0" y="255"/>
                  </a:lnTo>
                  <a:lnTo>
                    <a:pt x="66" y="255"/>
                  </a:lnTo>
                  <a:lnTo>
                    <a:pt x="66" y="220"/>
                  </a:lnTo>
                  <a:lnTo>
                    <a:pt x="140" y="220"/>
                  </a:lnTo>
                  <a:lnTo>
                    <a:pt x="157" y="204"/>
                  </a:lnTo>
                  <a:lnTo>
                    <a:pt x="175" y="165"/>
                  </a:lnTo>
                  <a:lnTo>
                    <a:pt x="217" y="165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6226400">
              <a:off x="3650040" y="1916640"/>
              <a:ext cx="475560" cy="757800"/>
            </a:xfrm>
            <a:custGeom>
              <a:avLst/>
              <a:gdLst/>
              <a:ahLst/>
              <a:rect l="l" t="t" r="r" b="b"/>
              <a:pathLst>
                <a:path w="883" h="1721">
                  <a:moveTo>
                    <a:pt x="316" y="0"/>
                  </a:moveTo>
                  <a:lnTo>
                    <a:pt x="583" y="0"/>
                  </a:lnTo>
                  <a:lnTo>
                    <a:pt x="532" y="66"/>
                  </a:lnTo>
                  <a:lnTo>
                    <a:pt x="377" y="66"/>
                  </a:lnTo>
                  <a:lnTo>
                    <a:pt x="318" y="171"/>
                  </a:lnTo>
                  <a:lnTo>
                    <a:pt x="586" y="171"/>
                  </a:lnTo>
                  <a:lnTo>
                    <a:pt x="531" y="67"/>
                  </a:lnTo>
                  <a:lnTo>
                    <a:pt x="583" y="1"/>
                  </a:lnTo>
                  <a:lnTo>
                    <a:pt x="677" y="164"/>
                  </a:lnTo>
                  <a:lnTo>
                    <a:pt x="727" y="165"/>
                  </a:lnTo>
                  <a:lnTo>
                    <a:pt x="744" y="221"/>
                  </a:lnTo>
                  <a:lnTo>
                    <a:pt x="823" y="221"/>
                  </a:lnTo>
                  <a:lnTo>
                    <a:pt x="824" y="260"/>
                  </a:lnTo>
                  <a:lnTo>
                    <a:pt x="854" y="261"/>
                  </a:lnTo>
                  <a:lnTo>
                    <a:pt x="883" y="261"/>
                  </a:lnTo>
                  <a:lnTo>
                    <a:pt x="883" y="502"/>
                  </a:lnTo>
                  <a:lnTo>
                    <a:pt x="823" y="503"/>
                  </a:lnTo>
                  <a:lnTo>
                    <a:pt x="822" y="553"/>
                  </a:lnTo>
                  <a:lnTo>
                    <a:pt x="747" y="553"/>
                  </a:lnTo>
                  <a:lnTo>
                    <a:pt x="726" y="613"/>
                  </a:lnTo>
                  <a:lnTo>
                    <a:pt x="684" y="614"/>
                  </a:lnTo>
                  <a:lnTo>
                    <a:pt x="681" y="736"/>
                  </a:lnTo>
                  <a:lnTo>
                    <a:pt x="654" y="736"/>
                  </a:lnTo>
                  <a:lnTo>
                    <a:pt x="646" y="746"/>
                  </a:lnTo>
                  <a:lnTo>
                    <a:pt x="646" y="877"/>
                  </a:lnTo>
                  <a:lnTo>
                    <a:pt x="595" y="877"/>
                  </a:lnTo>
                  <a:lnTo>
                    <a:pt x="598" y="1610"/>
                  </a:lnTo>
                  <a:lnTo>
                    <a:pt x="481" y="1721"/>
                  </a:lnTo>
                  <a:lnTo>
                    <a:pt x="331" y="1593"/>
                  </a:lnTo>
                  <a:lnTo>
                    <a:pt x="384" y="1557"/>
                  </a:lnTo>
                  <a:lnTo>
                    <a:pt x="384" y="1515"/>
                  </a:lnTo>
                  <a:lnTo>
                    <a:pt x="331" y="1476"/>
                  </a:lnTo>
                  <a:lnTo>
                    <a:pt x="384" y="1443"/>
                  </a:lnTo>
                  <a:lnTo>
                    <a:pt x="376" y="1430"/>
                  </a:lnTo>
                  <a:lnTo>
                    <a:pt x="330" y="1400"/>
                  </a:lnTo>
                  <a:lnTo>
                    <a:pt x="321" y="1305"/>
                  </a:lnTo>
                  <a:lnTo>
                    <a:pt x="315" y="1297"/>
                  </a:lnTo>
                  <a:lnTo>
                    <a:pt x="385" y="1241"/>
                  </a:lnTo>
                  <a:lnTo>
                    <a:pt x="385" y="1194"/>
                  </a:lnTo>
                  <a:lnTo>
                    <a:pt x="330" y="1138"/>
                  </a:lnTo>
                  <a:lnTo>
                    <a:pt x="384" y="1089"/>
                  </a:lnTo>
                  <a:lnTo>
                    <a:pt x="384" y="1039"/>
                  </a:lnTo>
                  <a:lnTo>
                    <a:pt x="331" y="975"/>
                  </a:lnTo>
                  <a:lnTo>
                    <a:pt x="320" y="871"/>
                  </a:lnTo>
                  <a:lnTo>
                    <a:pt x="256" y="871"/>
                  </a:lnTo>
                  <a:lnTo>
                    <a:pt x="256" y="731"/>
                  </a:lnTo>
                  <a:lnTo>
                    <a:pt x="218" y="731"/>
                  </a:lnTo>
                  <a:lnTo>
                    <a:pt x="218" y="608"/>
                  </a:lnTo>
                  <a:lnTo>
                    <a:pt x="173" y="608"/>
                  </a:lnTo>
                  <a:lnTo>
                    <a:pt x="154" y="549"/>
                  </a:lnTo>
                  <a:lnTo>
                    <a:pt x="66" y="549"/>
                  </a:lnTo>
                  <a:lnTo>
                    <a:pt x="66" y="497"/>
                  </a:lnTo>
                  <a:lnTo>
                    <a:pt x="0" y="497"/>
                  </a:lnTo>
                  <a:lnTo>
                    <a:pt x="0" y="255"/>
                  </a:lnTo>
                  <a:lnTo>
                    <a:pt x="65" y="255"/>
                  </a:lnTo>
                  <a:lnTo>
                    <a:pt x="65" y="220"/>
                  </a:lnTo>
                  <a:lnTo>
                    <a:pt x="139" y="220"/>
                  </a:lnTo>
                  <a:lnTo>
                    <a:pt x="157" y="204"/>
                  </a:lnTo>
                  <a:lnTo>
                    <a:pt x="174" y="165"/>
                  </a:lnTo>
                  <a:lnTo>
                    <a:pt x="218" y="165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3629160" y="2102400"/>
              <a:ext cx="89640" cy="362880"/>
              <a:chOff x="3629160" y="2102400"/>
              <a:chExt cx="89640" cy="362880"/>
            </a:xfrm>
          </p:grpSpPr>
          <p:sp>
            <p:nvSpPr>
              <p:cNvPr id="315" name=""/>
              <p:cNvSpPr/>
              <p:nvPr/>
            </p:nvSpPr>
            <p:spPr>
              <a:xfrm rot="16226400">
                <a:off x="3506040" y="2253600"/>
                <a:ext cx="335520" cy="86760"/>
              </a:xfrm>
              <a:custGeom>
                <a:avLst/>
                <a:gdLst/>
                <a:ahLst/>
                <a:rect l="l" t="t" r="r" b="b"/>
                <a:pathLst>
                  <a:path w="624" h="197">
                    <a:moveTo>
                      <a:pt x="0" y="102"/>
                    </a:moveTo>
                    <a:lnTo>
                      <a:pt x="54" y="0"/>
                    </a:lnTo>
                    <a:lnTo>
                      <a:pt x="624" y="0"/>
                    </a:lnTo>
                    <a:lnTo>
                      <a:pt x="619" y="7"/>
                    </a:lnTo>
                    <a:lnTo>
                      <a:pt x="61" y="7"/>
                    </a:lnTo>
                    <a:lnTo>
                      <a:pt x="10" y="102"/>
                    </a:lnTo>
                    <a:lnTo>
                      <a:pt x="60" y="191"/>
                    </a:lnTo>
                    <a:lnTo>
                      <a:pt x="50" y="197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226400">
                <a:off x="3506400" y="2226960"/>
                <a:ext cx="335520" cy="86760"/>
              </a:xfrm>
              <a:custGeom>
                <a:avLst/>
                <a:gdLst/>
                <a:ahLst/>
                <a:rect l="l" t="t" r="r" b="b"/>
                <a:pathLst>
                  <a:path w="625" h="197">
                    <a:moveTo>
                      <a:pt x="625" y="94"/>
                    </a:moveTo>
                    <a:lnTo>
                      <a:pt x="570" y="197"/>
                    </a:lnTo>
                    <a:lnTo>
                      <a:pt x="0" y="197"/>
                    </a:lnTo>
                    <a:lnTo>
                      <a:pt x="5" y="189"/>
                    </a:lnTo>
                    <a:lnTo>
                      <a:pt x="564" y="189"/>
                    </a:lnTo>
                    <a:lnTo>
                      <a:pt x="614" y="94"/>
                    </a:lnTo>
                    <a:lnTo>
                      <a:pt x="565" y="6"/>
                    </a:lnTo>
                    <a:lnTo>
                      <a:pt x="574" y="0"/>
                    </a:lnTo>
                    <a:lnTo>
                      <a:pt x="625" y="94"/>
                    </a:lnTo>
                    <a:close/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 rot="16226400">
              <a:off x="3417120" y="2289600"/>
              <a:ext cx="403560" cy="36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6226400">
              <a:off x="3445200" y="2293200"/>
              <a:ext cx="315360" cy="504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3728160" y="2088720"/>
              <a:ext cx="537480" cy="405720"/>
              <a:chOff x="3728160" y="2088720"/>
              <a:chExt cx="537480" cy="405720"/>
            </a:xfrm>
          </p:grpSpPr>
          <p:sp>
            <p:nvSpPr>
              <p:cNvPr id="320" name=""/>
              <p:cNvSpPr/>
              <p:nvPr/>
            </p:nvSpPr>
            <p:spPr>
              <a:xfrm rot="16226400">
                <a:off x="4034880" y="2100600"/>
                <a:ext cx="10440" cy="413280"/>
              </a:xfrm>
              <a:custGeom>
                <a:avLst/>
                <a:gdLst/>
                <a:ahLst/>
                <a:rect l="l" t="t" r="r" b="b"/>
                <a:pathLst>
                  <a:path w="19" h="940">
                    <a:moveTo>
                      <a:pt x="19" y="0"/>
                    </a:moveTo>
                    <a:lnTo>
                      <a:pt x="18" y="940"/>
                    </a:lnTo>
                    <a:lnTo>
                      <a:pt x="2" y="925"/>
                    </a:lnTo>
                    <a:lnTo>
                      <a:pt x="0" y="2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6226400">
                <a:off x="4041720" y="2048040"/>
                <a:ext cx="9720" cy="403560"/>
              </a:xfrm>
              <a:custGeom>
                <a:avLst/>
                <a:gdLst/>
                <a:ahLst/>
                <a:rect l="l" t="t" r="r" b="b"/>
                <a:pathLst>
                  <a:path w="17" h="917">
                    <a:moveTo>
                      <a:pt x="14" y="0"/>
                    </a:moveTo>
                    <a:lnTo>
                      <a:pt x="17" y="901"/>
                    </a:lnTo>
                    <a:lnTo>
                      <a:pt x="2" y="917"/>
                    </a:lnTo>
                    <a:lnTo>
                      <a:pt x="0" y="7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3728160" y="2088720"/>
                <a:ext cx="537480" cy="405720"/>
                <a:chOff x="3728160" y="2088720"/>
                <a:chExt cx="537480" cy="405720"/>
              </a:xfrm>
            </p:grpSpPr>
            <p:sp>
              <p:nvSpPr>
                <p:cNvPr id="323" name=""/>
                <p:cNvSpPr/>
                <p:nvPr/>
              </p:nvSpPr>
              <p:spPr>
                <a:xfrm rot="16226400">
                  <a:off x="3531240" y="2287080"/>
                  <a:ext cx="405720" cy="9000"/>
                </a:xfrm>
                <a:prstGeom prst="rect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rot="16226400">
                  <a:off x="3659040" y="2284200"/>
                  <a:ext cx="247320" cy="9000"/>
                </a:xfrm>
                <a:prstGeom prst="rect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rot="16226400">
                  <a:off x="4039920" y="2052000"/>
                  <a:ext cx="30960" cy="419400"/>
                </a:xfrm>
                <a:custGeom>
                  <a:avLst/>
                  <a:gdLst/>
                  <a:ahLst/>
                  <a:rect l="l" t="t" r="r" b="b"/>
                  <a:pathLst>
                    <a:path w="57" h="954">
                      <a:moveTo>
                        <a:pt x="57" y="0"/>
                      </a:moveTo>
                      <a:lnTo>
                        <a:pt x="44" y="62"/>
                      </a:lnTo>
                      <a:lnTo>
                        <a:pt x="21" y="115"/>
                      </a:lnTo>
                      <a:lnTo>
                        <a:pt x="21" y="936"/>
                      </a:lnTo>
                      <a:lnTo>
                        <a:pt x="4" y="954"/>
                      </a:lnTo>
                      <a:lnTo>
                        <a:pt x="0" y="100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rot="16226400">
                  <a:off x="3753360" y="2255400"/>
                  <a:ext cx="216000" cy="63360"/>
                </a:xfrm>
                <a:custGeom>
                  <a:avLst/>
                  <a:gdLst/>
                  <a:ahLst/>
                  <a:rect l="l" t="t" r="r" b="b"/>
                  <a:pathLst>
                    <a:path w="402" h="143">
                      <a:moveTo>
                        <a:pt x="67" y="143"/>
                      </a:moveTo>
                      <a:lnTo>
                        <a:pt x="41" y="111"/>
                      </a:lnTo>
                      <a:lnTo>
                        <a:pt x="41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402" y="0"/>
                      </a:lnTo>
                      <a:lnTo>
                        <a:pt x="391" y="16"/>
                      </a:lnTo>
                      <a:lnTo>
                        <a:pt x="174" y="16"/>
                      </a:lnTo>
                      <a:lnTo>
                        <a:pt x="156" y="43"/>
                      </a:lnTo>
                      <a:lnTo>
                        <a:pt x="76" y="43"/>
                      </a:lnTo>
                      <a:lnTo>
                        <a:pt x="67" y="143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rot="16226400">
                  <a:off x="3593520" y="2283840"/>
                  <a:ext cx="319680" cy="9000"/>
                </a:xfrm>
                <a:custGeom>
                  <a:avLst/>
                  <a:gdLst/>
                  <a:ahLst/>
                  <a:rect l="l" t="t" r="r" b="b"/>
                  <a:pathLst>
                    <a:path w="594" h="20">
                      <a:moveTo>
                        <a:pt x="0" y="1"/>
                      </a:moveTo>
                      <a:lnTo>
                        <a:pt x="594" y="0"/>
                      </a:lnTo>
                      <a:lnTo>
                        <a:pt x="588" y="19"/>
                      </a:lnTo>
                      <a:lnTo>
                        <a:pt x="5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cxnSp>
        <p:nvCxnSpPr>
          <p:cNvPr id="328" name=""/>
          <p:cNvCxnSpPr>
            <a:stCxn id="264" idx="2"/>
            <a:endCxn id="265" idx="0"/>
          </p:cNvCxnSpPr>
          <p:nvPr/>
        </p:nvCxnSpPr>
        <p:spPr>
          <a:xfrm>
            <a:off x="2133360" y="3063600"/>
            <a:ext cx="1080" cy="1965960"/>
          </a:xfrm>
          <a:prstGeom prst="straightConnector1">
            <a:avLst/>
          </a:prstGeom>
          <a:ln w="38160">
            <a:solidFill>
              <a:srgbClr val="ffffff"/>
            </a:solidFill>
            <a:prstDash val="sysDot"/>
            <a:miter/>
            <a:tailEnd len="sm" type="triangle" w="sm"/>
          </a:ln>
        </p:spPr>
      </p:cxnSp>
      <p:grpSp>
        <p:nvGrpSpPr>
          <p:cNvPr id="329" name=""/>
          <p:cNvGrpSpPr/>
          <p:nvPr/>
        </p:nvGrpSpPr>
        <p:grpSpPr>
          <a:xfrm>
            <a:off x="1860480" y="3413160"/>
            <a:ext cx="487080" cy="761760"/>
            <a:chOff x="1860480" y="3413160"/>
            <a:chExt cx="487080" cy="761760"/>
          </a:xfrm>
        </p:grpSpPr>
        <p:sp>
          <p:nvSpPr>
            <p:cNvPr id="330" name=""/>
            <p:cNvSpPr/>
            <p:nvPr/>
          </p:nvSpPr>
          <p:spPr>
            <a:xfrm>
              <a:off x="1860480" y="3413160"/>
              <a:ext cx="475560" cy="756720"/>
            </a:xfrm>
            <a:custGeom>
              <a:avLst/>
              <a:gdLst/>
              <a:ahLst/>
              <a:rect l="l" t="t" r="r" b="b"/>
              <a:pathLst>
                <a:path w="882" h="1720">
                  <a:moveTo>
                    <a:pt x="317" y="0"/>
                  </a:moveTo>
                  <a:lnTo>
                    <a:pt x="583" y="0"/>
                  </a:lnTo>
                  <a:lnTo>
                    <a:pt x="533" y="66"/>
                  </a:lnTo>
                  <a:lnTo>
                    <a:pt x="377" y="66"/>
                  </a:lnTo>
                  <a:lnTo>
                    <a:pt x="319" y="171"/>
                  </a:lnTo>
                  <a:lnTo>
                    <a:pt x="586" y="171"/>
                  </a:lnTo>
                  <a:lnTo>
                    <a:pt x="532" y="67"/>
                  </a:lnTo>
                  <a:lnTo>
                    <a:pt x="583" y="1"/>
                  </a:lnTo>
                  <a:lnTo>
                    <a:pt x="677" y="164"/>
                  </a:lnTo>
                  <a:lnTo>
                    <a:pt x="727" y="165"/>
                  </a:lnTo>
                  <a:lnTo>
                    <a:pt x="745" y="221"/>
                  </a:lnTo>
                  <a:lnTo>
                    <a:pt x="824" y="221"/>
                  </a:lnTo>
                  <a:lnTo>
                    <a:pt x="825" y="260"/>
                  </a:lnTo>
                  <a:lnTo>
                    <a:pt x="855" y="261"/>
                  </a:lnTo>
                  <a:lnTo>
                    <a:pt x="882" y="261"/>
                  </a:lnTo>
                  <a:lnTo>
                    <a:pt x="882" y="501"/>
                  </a:lnTo>
                  <a:lnTo>
                    <a:pt x="824" y="502"/>
                  </a:lnTo>
                  <a:lnTo>
                    <a:pt x="823" y="553"/>
                  </a:lnTo>
                  <a:lnTo>
                    <a:pt x="748" y="553"/>
                  </a:lnTo>
                  <a:lnTo>
                    <a:pt x="726" y="613"/>
                  </a:lnTo>
                  <a:lnTo>
                    <a:pt x="685" y="614"/>
                  </a:lnTo>
                  <a:lnTo>
                    <a:pt x="682" y="735"/>
                  </a:lnTo>
                  <a:lnTo>
                    <a:pt x="654" y="735"/>
                  </a:lnTo>
                  <a:lnTo>
                    <a:pt x="645" y="754"/>
                  </a:lnTo>
                  <a:lnTo>
                    <a:pt x="645" y="876"/>
                  </a:lnTo>
                  <a:lnTo>
                    <a:pt x="595" y="877"/>
                  </a:lnTo>
                  <a:lnTo>
                    <a:pt x="598" y="1609"/>
                  </a:lnTo>
                  <a:lnTo>
                    <a:pt x="481" y="1720"/>
                  </a:lnTo>
                  <a:lnTo>
                    <a:pt x="331" y="1593"/>
                  </a:lnTo>
                  <a:lnTo>
                    <a:pt x="385" y="1557"/>
                  </a:lnTo>
                  <a:lnTo>
                    <a:pt x="385" y="1514"/>
                  </a:lnTo>
                  <a:lnTo>
                    <a:pt x="331" y="1476"/>
                  </a:lnTo>
                  <a:lnTo>
                    <a:pt x="385" y="1443"/>
                  </a:lnTo>
                  <a:lnTo>
                    <a:pt x="376" y="1430"/>
                  </a:lnTo>
                  <a:lnTo>
                    <a:pt x="330" y="1400"/>
                  </a:lnTo>
                  <a:lnTo>
                    <a:pt x="322" y="1305"/>
                  </a:lnTo>
                  <a:lnTo>
                    <a:pt x="316" y="1296"/>
                  </a:lnTo>
                  <a:lnTo>
                    <a:pt x="386" y="1241"/>
                  </a:lnTo>
                  <a:lnTo>
                    <a:pt x="386" y="1194"/>
                  </a:lnTo>
                  <a:lnTo>
                    <a:pt x="330" y="1138"/>
                  </a:lnTo>
                  <a:lnTo>
                    <a:pt x="385" y="1088"/>
                  </a:lnTo>
                  <a:lnTo>
                    <a:pt x="385" y="1039"/>
                  </a:lnTo>
                  <a:lnTo>
                    <a:pt x="331" y="975"/>
                  </a:lnTo>
                  <a:lnTo>
                    <a:pt x="321" y="871"/>
                  </a:lnTo>
                  <a:lnTo>
                    <a:pt x="256" y="871"/>
                  </a:lnTo>
                  <a:lnTo>
                    <a:pt x="256" y="730"/>
                  </a:lnTo>
                  <a:lnTo>
                    <a:pt x="217" y="730"/>
                  </a:lnTo>
                  <a:lnTo>
                    <a:pt x="217" y="608"/>
                  </a:lnTo>
                  <a:lnTo>
                    <a:pt x="174" y="608"/>
                  </a:lnTo>
                  <a:lnTo>
                    <a:pt x="154" y="549"/>
                  </a:lnTo>
                  <a:lnTo>
                    <a:pt x="67" y="549"/>
                  </a:lnTo>
                  <a:lnTo>
                    <a:pt x="67" y="497"/>
                  </a:lnTo>
                  <a:lnTo>
                    <a:pt x="0" y="497"/>
                  </a:lnTo>
                  <a:lnTo>
                    <a:pt x="0" y="255"/>
                  </a:lnTo>
                  <a:lnTo>
                    <a:pt x="66" y="255"/>
                  </a:lnTo>
                  <a:lnTo>
                    <a:pt x="66" y="220"/>
                  </a:lnTo>
                  <a:lnTo>
                    <a:pt x="140" y="220"/>
                  </a:lnTo>
                  <a:lnTo>
                    <a:pt x="157" y="204"/>
                  </a:lnTo>
                  <a:lnTo>
                    <a:pt x="175" y="165"/>
                  </a:lnTo>
                  <a:lnTo>
                    <a:pt x="217" y="165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72000" y="3416760"/>
              <a:ext cx="475560" cy="758160"/>
            </a:xfrm>
            <a:custGeom>
              <a:avLst/>
              <a:gdLst/>
              <a:ahLst/>
              <a:rect l="l" t="t" r="r" b="b"/>
              <a:pathLst>
                <a:path w="883" h="1721">
                  <a:moveTo>
                    <a:pt x="316" y="0"/>
                  </a:moveTo>
                  <a:lnTo>
                    <a:pt x="583" y="0"/>
                  </a:lnTo>
                  <a:lnTo>
                    <a:pt x="532" y="66"/>
                  </a:lnTo>
                  <a:lnTo>
                    <a:pt x="377" y="66"/>
                  </a:lnTo>
                  <a:lnTo>
                    <a:pt x="318" y="171"/>
                  </a:lnTo>
                  <a:lnTo>
                    <a:pt x="586" y="171"/>
                  </a:lnTo>
                  <a:lnTo>
                    <a:pt x="531" y="67"/>
                  </a:lnTo>
                  <a:lnTo>
                    <a:pt x="583" y="1"/>
                  </a:lnTo>
                  <a:lnTo>
                    <a:pt x="677" y="164"/>
                  </a:lnTo>
                  <a:lnTo>
                    <a:pt x="727" y="165"/>
                  </a:lnTo>
                  <a:lnTo>
                    <a:pt x="744" y="221"/>
                  </a:lnTo>
                  <a:lnTo>
                    <a:pt x="823" y="221"/>
                  </a:lnTo>
                  <a:lnTo>
                    <a:pt x="824" y="260"/>
                  </a:lnTo>
                  <a:lnTo>
                    <a:pt x="854" y="261"/>
                  </a:lnTo>
                  <a:lnTo>
                    <a:pt x="883" y="261"/>
                  </a:lnTo>
                  <a:lnTo>
                    <a:pt x="883" y="502"/>
                  </a:lnTo>
                  <a:lnTo>
                    <a:pt x="823" y="503"/>
                  </a:lnTo>
                  <a:lnTo>
                    <a:pt x="822" y="553"/>
                  </a:lnTo>
                  <a:lnTo>
                    <a:pt x="747" y="553"/>
                  </a:lnTo>
                  <a:lnTo>
                    <a:pt x="726" y="613"/>
                  </a:lnTo>
                  <a:lnTo>
                    <a:pt x="684" y="614"/>
                  </a:lnTo>
                  <a:lnTo>
                    <a:pt x="681" y="736"/>
                  </a:lnTo>
                  <a:lnTo>
                    <a:pt x="654" y="736"/>
                  </a:lnTo>
                  <a:lnTo>
                    <a:pt x="646" y="746"/>
                  </a:lnTo>
                  <a:lnTo>
                    <a:pt x="646" y="877"/>
                  </a:lnTo>
                  <a:lnTo>
                    <a:pt x="595" y="877"/>
                  </a:lnTo>
                  <a:lnTo>
                    <a:pt x="598" y="1610"/>
                  </a:lnTo>
                  <a:lnTo>
                    <a:pt x="481" y="1721"/>
                  </a:lnTo>
                  <a:lnTo>
                    <a:pt x="331" y="1593"/>
                  </a:lnTo>
                  <a:lnTo>
                    <a:pt x="384" y="1557"/>
                  </a:lnTo>
                  <a:lnTo>
                    <a:pt x="384" y="1515"/>
                  </a:lnTo>
                  <a:lnTo>
                    <a:pt x="331" y="1476"/>
                  </a:lnTo>
                  <a:lnTo>
                    <a:pt x="384" y="1443"/>
                  </a:lnTo>
                  <a:lnTo>
                    <a:pt x="376" y="1430"/>
                  </a:lnTo>
                  <a:lnTo>
                    <a:pt x="330" y="1400"/>
                  </a:lnTo>
                  <a:lnTo>
                    <a:pt x="321" y="1305"/>
                  </a:lnTo>
                  <a:lnTo>
                    <a:pt x="315" y="1297"/>
                  </a:lnTo>
                  <a:lnTo>
                    <a:pt x="385" y="1241"/>
                  </a:lnTo>
                  <a:lnTo>
                    <a:pt x="385" y="1194"/>
                  </a:lnTo>
                  <a:lnTo>
                    <a:pt x="330" y="1138"/>
                  </a:lnTo>
                  <a:lnTo>
                    <a:pt x="384" y="1089"/>
                  </a:lnTo>
                  <a:lnTo>
                    <a:pt x="384" y="1039"/>
                  </a:lnTo>
                  <a:lnTo>
                    <a:pt x="331" y="975"/>
                  </a:lnTo>
                  <a:lnTo>
                    <a:pt x="320" y="871"/>
                  </a:lnTo>
                  <a:lnTo>
                    <a:pt x="256" y="871"/>
                  </a:lnTo>
                  <a:lnTo>
                    <a:pt x="256" y="731"/>
                  </a:lnTo>
                  <a:lnTo>
                    <a:pt x="218" y="731"/>
                  </a:lnTo>
                  <a:lnTo>
                    <a:pt x="218" y="608"/>
                  </a:lnTo>
                  <a:lnTo>
                    <a:pt x="173" y="608"/>
                  </a:lnTo>
                  <a:lnTo>
                    <a:pt x="154" y="549"/>
                  </a:lnTo>
                  <a:lnTo>
                    <a:pt x="66" y="549"/>
                  </a:lnTo>
                  <a:lnTo>
                    <a:pt x="66" y="497"/>
                  </a:lnTo>
                  <a:lnTo>
                    <a:pt x="0" y="497"/>
                  </a:lnTo>
                  <a:lnTo>
                    <a:pt x="0" y="255"/>
                  </a:lnTo>
                  <a:lnTo>
                    <a:pt x="65" y="255"/>
                  </a:lnTo>
                  <a:lnTo>
                    <a:pt x="65" y="220"/>
                  </a:lnTo>
                  <a:lnTo>
                    <a:pt x="139" y="220"/>
                  </a:lnTo>
                  <a:lnTo>
                    <a:pt x="157" y="204"/>
                  </a:lnTo>
                  <a:lnTo>
                    <a:pt x="174" y="165"/>
                  </a:lnTo>
                  <a:lnTo>
                    <a:pt x="218" y="165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1938960" y="3538440"/>
              <a:ext cx="362160" cy="87120"/>
              <a:chOff x="1938960" y="3538440"/>
              <a:chExt cx="362160" cy="87120"/>
            </a:xfrm>
          </p:grpSpPr>
          <p:sp>
            <p:nvSpPr>
              <p:cNvPr id="333" name=""/>
              <p:cNvSpPr/>
              <p:nvPr/>
            </p:nvSpPr>
            <p:spPr>
              <a:xfrm>
                <a:off x="1938960" y="3538440"/>
                <a:ext cx="335520" cy="87120"/>
              </a:xfrm>
              <a:custGeom>
                <a:avLst/>
                <a:gdLst/>
                <a:ahLst/>
                <a:rect l="l" t="t" r="r" b="b"/>
                <a:pathLst>
                  <a:path w="624" h="197">
                    <a:moveTo>
                      <a:pt x="0" y="102"/>
                    </a:moveTo>
                    <a:lnTo>
                      <a:pt x="54" y="0"/>
                    </a:lnTo>
                    <a:lnTo>
                      <a:pt x="624" y="0"/>
                    </a:lnTo>
                    <a:lnTo>
                      <a:pt x="619" y="7"/>
                    </a:lnTo>
                    <a:lnTo>
                      <a:pt x="61" y="7"/>
                    </a:lnTo>
                    <a:lnTo>
                      <a:pt x="10" y="102"/>
                    </a:lnTo>
                    <a:lnTo>
                      <a:pt x="60" y="191"/>
                    </a:lnTo>
                    <a:lnTo>
                      <a:pt x="50" y="197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965600" y="3538440"/>
                <a:ext cx="335520" cy="87120"/>
              </a:xfrm>
              <a:custGeom>
                <a:avLst/>
                <a:gdLst/>
                <a:ahLst/>
                <a:rect l="l" t="t" r="r" b="b"/>
                <a:pathLst>
                  <a:path w="625" h="197">
                    <a:moveTo>
                      <a:pt x="625" y="94"/>
                    </a:moveTo>
                    <a:lnTo>
                      <a:pt x="570" y="197"/>
                    </a:lnTo>
                    <a:lnTo>
                      <a:pt x="0" y="197"/>
                    </a:lnTo>
                    <a:lnTo>
                      <a:pt x="5" y="189"/>
                    </a:lnTo>
                    <a:lnTo>
                      <a:pt x="564" y="189"/>
                    </a:lnTo>
                    <a:lnTo>
                      <a:pt x="614" y="94"/>
                    </a:lnTo>
                    <a:lnTo>
                      <a:pt x="565" y="6"/>
                    </a:lnTo>
                    <a:lnTo>
                      <a:pt x="574" y="0"/>
                    </a:lnTo>
                    <a:lnTo>
                      <a:pt x="625" y="94"/>
                    </a:lnTo>
                    <a:close/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1909800" y="3525120"/>
              <a:ext cx="403560" cy="36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49760" y="3508200"/>
              <a:ext cx="315360" cy="504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1909800" y="3637440"/>
              <a:ext cx="405720" cy="535680"/>
              <a:chOff x="1909800" y="3637440"/>
              <a:chExt cx="405720" cy="535680"/>
            </a:xfrm>
          </p:grpSpPr>
          <p:sp>
            <p:nvSpPr>
              <p:cNvPr id="338" name=""/>
              <p:cNvSpPr/>
              <p:nvPr/>
            </p:nvSpPr>
            <p:spPr>
              <a:xfrm>
                <a:off x="2093760" y="3741480"/>
                <a:ext cx="10440" cy="413280"/>
              </a:xfrm>
              <a:custGeom>
                <a:avLst/>
                <a:gdLst/>
                <a:ahLst/>
                <a:rect l="l" t="t" r="r" b="b"/>
                <a:pathLst>
                  <a:path w="19" h="940">
                    <a:moveTo>
                      <a:pt x="19" y="0"/>
                    </a:moveTo>
                    <a:lnTo>
                      <a:pt x="18" y="940"/>
                    </a:lnTo>
                    <a:lnTo>
                      <a:pt x="2" y="925"/>
                    </a:lnTo>
                    <a:lnTo>
                      <a:pt x="0" y="2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151720" y="3752280"/>
                <a:ext cx="9720" cy="403920"/>
              </a:xfrm>
              <a:custGeom>
                <a:avLst/>
                <a:gdLst/>
                <a:ahLst/>
                <a:rect l="l" t="t" r="r" b="b"/>
                <a:pathLst>
                  <a:path w="17" h="917">
                    <a:moveTo>
                      <a:pt x="14" y="0"/>
                    </a:moveTo>
                    <a:lnTo>
                      <a:pt x="17" y="901"/>
                    </a:lnTo>
                    <a:lnTo>
                      <a:pt x="2" y="917"/>
                    </a:lnTo>
                    <a:lnTo>
                      <a:pt x="0" y="7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40" name=""/>
              <p:cNvGrpSpPr/>
              <p:nvPr/>
            </p:nvGrpSpPr>
            <p:grpSpPr>
              <a:xfrm>
                <a:off x="1909800" y="3637440"/>
                <a:ext cx="405720" cy="535680"/>
                <a:chOff x="1909800" y="3637440"/>
                <a:chExt cx="405720" cy="53568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1909800" y="3637440"/>
                  <a:ext cx="405720" cy="9000"/>
                </a:xfrm>
                <a:prstGeom prst="rect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992240" y="3686040"/>
                  <a:ext cx="247320" cy="9000"/>
                </a:xfrm>
                <a:prstGeom prst="rect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129040" y="3753360"/>
                  <a:ext cx="30960" cy="419760"/>
                </a:xfrm>
                <a:custGeom>
                  <a:avLst/>
                  <a:gdLst/>
                  <a:ahLst/>
                  <a:rect l="l" t="t" r="r" b="b"/>
                  <a:pathLst>
                    <a:path w="57" h="954">
                      <a:moveTo>
                        <a:pt x="57" y="0"/>
                      </a:moveTo>
                      <a:lnTo>
                        <a:pt x="44" y="62"/>
                      </a:lnTo>
                      <a:lnTo>
                        <a:pt x="21" y="115"/>
                      </a:lnTo>
                      <a:lnTo>
                        <a:pt x="21" y="936"/>
                      </a:lnTo>
                      <a:lnTo>
                        <a:pt x="4" y="954"/>
                      </a:lnTo>
                      <a:lnTo>
                        <a:pt x="0" y="100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009880" y="3737520"/>
                  <a:ext cx="216000" cy="63360"/>
                </a:xfrm>
                <a:custGeom>
                  <a:avLst/>
                  <a:gdLst/>
                  <a:ahLst/>
                  <a:rect l="l" t="t" r="r" b="b"/>
                  <a:pathLst>
                    <a:path w="402" h="143">
                      <a:moveTo>
                        <a:pt x="67" y="143"/>
                      </a:moveTo>
                      <a:lnTo>
                        <a:pt x="41" y="111"/>
                      </a:lnTo>
                      <a:lnTo>
                        <a:pt x="41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402" y="0"/>
                      </a:lnTo>
                      <a:lnTo>
                        <a:pt x="391" y="16"/>
                      </a:lnTo>
                      <a:lnTo>
                        <a:pt x="174" y="16"/>
                      </a:lnTo>
                      <a:lnTo>
                        <a:pt x="156" y="43"/>
                      </a:lnTo>
                      <a:lnTo>
                        <a:pt x="76" y="43"/>
                      </a:lnTo>
                      <a:lnTo>
                        <a:pt x="67" y="143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955880" y="3656880"/>
                  <a:ext cx="319680" cy="9000"/>
                </a:xfrm>
                <a:custGeom>
                  <a:avLst/>
                  <a:gdLst/>
                  <a:ahLst/>
                  <a:rect l="l" t="t" r="r" b="b"/>
                  <a:pathLst>
                    <a:path w="594" h="20">
                      <a:moveTo>
                        <a:pt x="0" y="1"/>
                      </a:moveTo>
                      <a:lnTo>
                        <a:pt x="594" y="0"/>
                      </a:lnTo>
                      <a:lnTo>
                        <a:pt x="588" y="19"/>
                      </a:lnTo>
                      <a:lnTo>
                        <a:pt x="5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itkosítási módszerek II.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415360" cy="5508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yilvános kulcsú titkosítá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ás néven </a:t>
            </a:r>
            <a:r>
              <a:rPr b="1" lang="hu-HU" sz="2800" spc="-1" strike="noStrike">
                <a:solidFill>
                  <a:srgbClr val="fccf00"/>
                </a:solidFill>
                <a:latin typeface="Arial"/>
              </a:rPr>
              <a:t>aszimmetrik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nden kommunikáló félhez </a:t>
            </a:r>
            <a:r>
              <a:rPr b="1" lang="hu-HU" sz="2800" spc="-1" strike="noStrike">
                <a:solidFill>
                  <a:srgbClr val="fccf00"/>
                </a:solidFill>
                <a:latin typeface="Arial"/>
              </a:rPr>
              <a:t>két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kulcs tartozi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yilvános kulcs (bárki ismerheti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rivát kulcs (csak én ismere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titkosításhoz és a dekódoláshoz </a:t>
            </a:r>
            <a:r>
              <a:rPr b="1" lang="hu-HU" sz="2800" spc="-1" strike="noStrike">
                <a:solidFill>
                  <a:srgbClr val="fccf00"/>
                </a:solidFill>
                <a:latin typeface="Arial"/>
              </a:rPr>
              <a:t>más-más kulcsot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használunk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Jól ismert algoritmus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Diffie-Hellm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S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7848720" y="2743200"/>
            <a:ext cx="1023840" cy="1644480"/>
            <a:chOff x="7848720" y="2743200"/>
            <a:chExt cx="1023840" cy="1644480"/>
          </a:xfrm>
        </p:grpSpPr>
        <p:sp>
          <p:nvSpPr>
            <p:cNvPr id="349" name=""/>
            <p:cNvSpPr/>
            <p:nvPr/>
          </p:nvSpPr>
          <p:spPr>
            <a:xfrm>
              <a:off x="7848720" y="3003480"/>
              <a:ext cx="571320" cy="1287360"/>
            </a:xfrm>
            <a:custGeom>
              <a:avLst/>
              <a:gdLst/>
              <a:ahLst/>
              <a:rect l="l" t="t" r="r" b="b"/>
              <a:pathLst>
                <a:path w="720" h="1623">
                  <a:moveTo>
                    <a:pt x="341" y="1218"/>
                  </a:moveTo>
                  <a:lnTo>
                    <a:pt x="308" y="1245"/>
                  </a:lnTo>
                  <a:lnTo>
                    <a:pt x="290" y="1267"/>
                  </a:lnTo>
                  <a:lnTo>
                    <a:pt x="285" y="1285"/>
                  </a:lnTo>
                  <a:lnTo>
                    <a:pt x="288" y="1299"/>
                  </a:lnTo>
                  <a:lnTo>
                    <a:pt x="296" y="1311"/>
                  </a:lnTo>
                  <a:lnTo>
                    <a:pt x="306" y="1317"/>
                  </a:lnTo>
                  <a:lnTo>
                    <a:pt x="316" y="1322"/>
                  </a:lnTo>
                  <a:lnTo>
                    <a:pt x="319" y="1323"/>
                  </a:lnTo>
                  <a:lnTo>
                    <a:pt x="286" y="1445"/>
                  </a:lnTo>
                  <a:lnTo>
                    <a:pt x="88" y="1623"/>
                  </a:lnTo>
                  <a:lnTo>
                    <a:pt x="0" y="1558"/>
                  </a:lnTo>
                  <a:lnTo>
                    <a:pt x="120" y="891"/>
                  </a:lnTo>
                  <a:lnTo>
                    <a:pt x="84" y="865"/>
                  </a:lnTo>
                  <a:lnTo>
                    <a:pt x="70" y="779"/>
                  </a:lnTo>
                  <a:lnTo>
                    <a:pt x="29" y="748"/>
                  </a:lnTo>
                  <a:lnTo>
                    <a:pt x="81" y="355"/>
                  </a:lnTo>
                  <a:lnTo>
                    <a:pt x="179" y="190"/>
                  </a:lnTo>
                  <a:lnTo>
                    <a:pt x="606" y="0"/>
                  </a:lnTo>
                  <a:lnTo>
                    <a:pt x="720" y="87"/>
                  </a:lnTo>
                  <a:lnTo>
                    <a:pt x="603" y="523"/>
                  </a:lnTo>
                  <a:lnTo>
                    <a:pt x="527" y="681"/>
                  </a:lnTo>
                  <a:lnTo>
                    <a:pt x="446" y="776"/>
                  </a:lnTo>
                  <a:lnTo>
                    <a:pt x="423" y="886"/>
                  </a:lnTo>
                  <a:lnTo>
                    <a:pt x="379" y="927"/>
                  </a:lnTo>
                  <a:lnTo>
                    <a:pt x="356" y="956"/>
                  </a:lnTo>
                  <a:lnTo>
                    <a:pt x="348" y="974"/>
                  </a:lnTo>
                  <a:lnTo>
                    <a:pt x="350" y="986"/>
                  </a:lnTo>
                  <a:lnTo>
                    <a:pt x="361" y="991"/>
                  </a:lnTo>
                  <a:lnTo>
                    <a:pt x="372" y="994"/>
                  </a:lnTo>
                  <a:lnTo>
                    <a:pt x="383" y="992"/>
                  </a:lnTo>
                  <a:lnTo>
                    <a:pt x="387" y="992"/>
                  </a:lnTo>
                  <a:lnTo>
                    <a:pt x="361" y="1116"/>
                  </a:lnTo>
                  <a:lnTo>
                    <a:pt x="309" y="1178"/>
                  </a:lnTo>
                  <a:lnTo>
                    <a:pt x="341" y="1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83640" y="3057480"/>
              <a:ext cx="488880" cy="1190520"/>
            </a:xfrm>
            <a:custGeom>
              <a:avLst/>
              <a:gdLst/>
              <a:ahLst/>
              <a:rect l="l" t="t" r="r" b="b"/>
              <a:pathLst>
                <a:path w="616" h="1501">
                  <a:moveTo>
                    <a:pt x="521" y="434"/>
                  </a:moveTo>
                  <a:lnTo>
                    <a:pt x="616" y="34"/>
                  </a:lnTo>
                  <a:lnTo>
                    <a:pt x="569" y="0"/>
                  </a:lnTo>
                  <a:lnTo>
                    <a:pt x="178" y="174"/>
                  </a:lnTo>
                  <a:lnTo>
                    <a:pt x="91" y="293"/>
                  </a:lnTo>
                  <a:lnTo>
                    <a:pt x="32" y="655"/>
                  </a:lnTo>
                  <a:lnTo>
                    <a:pt x="63" y="678"/>
                  </a:lnTo>
                  <a:lnTo>
                    <a:pt x="70" y="754"/>
                  </a:lnTo>
                  <a:lnTo>
                    <a:pt x="122" y="792"/>
                  </a:lnTo>
                  <a:lnTo>
                    <a:pt x="0" y="1466"/>
                  </a:lnTo>
                  <a:lnTo>
                    <a:pt x="47" y="1501"/>
                  </a:lnTo>
                  <a:lnTo>
                    <a:pt x="188" y="1373"/>
                  </a:lnTo>
                  <a:lnTo>
                    <a:pt x="209" y="1278"/>
                  </a:lnTo>
                  <a:lnTo>
                    <a:pt x="206" y="1278"/>
                  </a:lnTo>
                  <a:lnTo>
                    <a:pt x="198" y="1276"/>
                  </a:lnTo>
                  <a:lnTo>
                    <a:pt x="188" y="1273"/>
                  </a:lnTo>
                  <a:lnTo>
                    <a:pt x="180" y="1263"/>
                  </a:lnTo>
                  <a:lnTo>
                    <a:pt x="177" y="1250"/>
                  </a:lnTo>
                  <a:lnTo>
                    <a:pt x="183" y="1229"/>
                  </a:lnTo>
                  <a:lnTo>
                    <a:pt x="200" y="1199"/>
                  </a:lnTo>
                  <a:lnTo>
                    <a:pt x="233" y="1160"/>
                  </a:lnTo>
                  <a:lnTo>
                    <a:pt x="205" y="1123"/>
                  </a:lnTo>
                  <a:lnTo>
                    <a:pt x="271" y="1044"/>
                  </a:lnTo>
                  <a:lnTo>
                    <a:pt x="288" y="945"/>
                  </a:lnTo>
                  <a:lnTo>
                    <a:pt x="284" y="944"/>
                  </a:lnTo>
                  <a:lnTo>
                    <a:pt x="277" y="941"/>
                  </a:lnTo>
                  <a:lnTo>
                    <a:pt x="269" y="935"/>
                  </a:lnTo>
                  <a:lnTo>
                    <a:pt x="264" y="925"/>
                  </a:lnTo>
                  <a:lnTo>
                    <a:pt x="261" y="911"/>
                  </a:lnTo>
                  <a:lnTo>
                    <a:pt x="266" y="892"/>
                  </a:lnTo>
                  <a:lnTo>
                    <a:pt x="281" y="870"/>
                  </a:lnTo>
                  <a:lnTo>
                    <a:pt x="309" y="842"/>
                  </a:lnTo>
                  <a:lnTo>
                    <a:pt x="337" y="705"/>
                  </a:lnTo>
                  <a:lnTo>
                    <a:pt x="421" y="624"/>
                  </a:lnTo>
                  <a:lnTo>
                    <a:pt x="521" y="434"/>
                  </a:lnTo>
                  <a:close/>
                </a:path>
              </a:pathLst>
            </a:custGeom>
            <a:solidFill>
              <a:srgbClr val="ffd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83640" y="3057480"/>
              <a:ext cx="488880" cy="1190520"/>
            </a:xfrm>
            <a:custGeom>
              <a:avLst/>
              <a:gdLst/>
              <a:ahLst/>
              <a:rect l="l" t="t" r="r" b="b"/>
              <a:pathLst>
                <a:path w="616" h="1501">
                  <a:moveTo>
                    <a:pt x="47" y="1501"/>
                  </a:moveTo>
                  <a:lnTo>
                    <a:pt x="0" y="1466"/>
                  </a:lnTo>
                  <a:lnTo>
                    <a:pt x="122" y="792"/>
                  </a:lnTo>
                  <a:lnTo>
                    <a:pt x="70" y="754"/>
                  </a:lnTo>
                  <a:lnTo>
                    <a:pt x="63" y="678"/>
                  </a:lnTo>
                  <a:lnTo>
                    <a:pt x="32" y="655"/>
                  </a:lnTo>
                  <a:lnTo>
                    <a:pt x="91" y="293"/>
                  </a:lnTo>
                  <a:lnTo>
                    <a:pt x="178" y="174"/>
                  </a:lnTo>
                  <a:lnTo>
                    <a:pt x="569" y="0"/>
                  </a:lnTo>
                  <a:lnTo>
                    <a:pt x="616" y="34"/>
                  </a:lnTo>
                  <a:lnTo>
                    <a:pt x="235" y="216"/>
                  </a:lnTo>
                  <a:lnTo>
                    <a:pt x="148" y="335"/>
                  </a:lnTo>
                  <a:lnTo>
                    <a:pt x="94" y="701"/>
                  </a:lnTo>
                  <a:lnTo>
                    <a:pt x="182" y="764"/>
                  </a:lnTo>
                  <a:lnTo>
                    <a:pt x="47" y="1501"/>
                  </a:lnTo>
                  <a:close/>
                </a:path>
              </a:pathLst>
            </a:custGeom>
            <a:solidFill>
              <a:srgbClr val="bf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129520" y="3236760"/>
              <a:ext cx="87480" cy="95400"/>
            </a:xfrm>
            <a:custGeom>
              <a:avLst/>
              <a:gdLst/>
              <a:ahLst/>
              <a:rect l="l" t="t" r="r" b="b"/>
              <a:pathLst>
                <a:path w="108" h="121">
                  <a:moveTo>
                    <a:pt x="36" y="121"/>
                  </a:moveTo>
                  <a:lnTo>
                    <a:pt x="41" y="117"/>
                  </a:lnTo>
                  <a:lnTo>
                    <a:pt x="54" y="104"/>
                  </a:lnTo>
                  <a:lnTo>
                    <a:pt x="72" y="85"/>
                  </a:lnTo>
                  <a:lnTo>
                    <a:pt x="90" y="64"/>
                  </a:lnTo>
                  <a:lnTo>
                    <a:pt x="102" y="43"/>
                  </a:lnTo>
                  <a:lnTo>
                    <a:pt x="108" y="23"/>
                  </a:lnTo>
                  <a:lnTo>
                    <a:pt x="101" y="8"/>
                  </a:lnTo>
                  <a:lnTo>
                    <a:pt x="77" y="0"/>
                  </a:lnTo>
                  <a:lnTo>
                    <a:pt x="77" y="4"/>
                  </a:lnTo>
                  <a:lnTo>
                    <a:pt x="75" y="12"/>
                  </a:lnTo>
                  <a:lnTo>
                    <a:pt x="71" y="24"/>
                  </a:lnTo>
                  <a:lnTo>
                    <a:pt x="64" y="39"/>
                  </a:lnTo>
                  <a:lnTo>
                    <a:pt x="55" y="55"/>
                  </a:lnTo>
                  <a:lnTo>
                    <a:pt x="41" y="72"/>
                  </a:lnTo>
                  <a:lnTo>
                    <a:pt x="23" y="84"/>
                  </a:lnTo>
                  <a:lnTo>
                    <a:pt x="0" y="95"/>
                  </a:lnTo>
                  <a:lnTo>
                    <a:pt x="36" y="121"/>
                  </a:lnTo>
                  <a:close/>
                </a:path>
              </a:pathLst>
            </a:custGeom>
            <a:solidFill>
              <a:srgbClr val="bf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962840" y="3651120"/>
              <a:ext cx="123840" cy="561960"/>
            </a:xfrm>
            <a:custGeom>
              <a:avLst/>
              <a:gdLst/>
              <a:ahLst/>
              <a:rect l="l" t="t" r="r" b="b"/>
              <a:pathLst>
                <a:path w="157" h="708">
                  <a:moveTo>
                    <a:pt x="131" y="13"/>
                  </a:moveTo>
                  <a:lnTo>
                    <a:pt x="0" y="708"/>
                  </a:lnTo>
                  <a:lnTo>
                    <a:pt x="28" y="680"/>
                  </a:lnTo>
                  <a:lnTo>
                    <a:pt x="157" y="0"/>
                  </a:lnTo>
                  <a:lnTo>
                    <a:pt x="131" y="13"/>
                  </a:lnTo>
                  <a:close/>
                </a:path>
              </a:pathLst>
            </a:custGeom>
            <a:solidFill>
              <a:srgbClr val="bf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180640" y="3038400"/>
              <a:ext cx="504720" cy="1349280"/>
            </a:xfrm>
            <a:custGeom>
              <a:avLst/>
              <a:gdLst/>
              <a:ahLst/>
              <a:rect l="l" t="t" r="r" b="b"/>
              <a:pathLst>
                <a:path w="636" h="1701">
                  <a:moveTo>
                    <a:pt x="589" y="1226"/>
                  </a:moveTo>
                  <a:lnTo>
                    <a:pt x="570" y="1264"/>
                  </a:lnTo>
                  <a:lnTo>
                    <a:pt x="565" y="1292"/>
                  </a:lnTo>
                  <a:lnTo>
                    <a:pt x="567" y="1311"/>
                  </a:lnTo>
                  <a:lnTo>
                    <a:pt x="576" y="1323"/>
                  </a:lnTo>
                  <a:lnTo>
                    <a:pt x="589" y="1329"/>
                  </a:lnTo>
                  <a:lnTo>
                    <a:pt x="601" y="1331"/>
                  </a:lnTo>
                  <a:lnTo>
                    <a:pt x="612" y="1331"/>
                  </a:lnTo>
                  <a:lnTo>
                    <a:pt x="615" y="1331"/>
                  </a:lnTo>
                  <a:lnTo>
                    <a:pt x="636" y="1454"/>
                  </a:lnTo>
                  <a:lnTo>
                    <a:pt x="534" y="1701"/>
                  </a:lnTo>
                  <a:lnTo>
                    <a:pt x="428" y="1680"/>
                  </a:lnTo>
                  <a:lnTo>
                    <a:pt x="250" y="1025"/>
                  </a:lnTo>
                  <a:lnTo>
                    <a:pt x="205" y="1016"/>
                  </a:lnTo>
                  <a:lnTo>
                    <a:pt x="157" y="944"/>
                  </a:lnTo>
                  <a:lnTo>
                    <a:pt x="106" y="935"/>
                  </a:lnTo>
                  <a:lnTo>
                    <a:pt x="0" y="541"/>
                  </a:lnTo>
                  <a:lnTo>
                    <a:pt x="21" y="354"/>
                  </a:lnTo>
                  <a:lnTo>
                    <a:pt x="327" y="0"/>
                  </a:lnTo>
                  <a:lnTo>
                    <a:pt x="447" y="21"/>
                  </a:lnTo>
                  <a:lnTo>
                    <a:pt x="529" y="486"/>
                  </a:lnTo>
                  <a:lnTo>
                    <a:pt x="528" y="663"/>
                  </a:lnTo>
                  <a:lnTo>
                    <a:pt x="495" y="781"/>
                  </a:lnTo>
                  <a:lnTo>
                    <a:pt x="522" y="891"/>
                  </a:lnTo>
                  <a:lnTo>
                    <a:pt x="500" y="945"/>
                  </a:lnTo>
                  <a:lnTo>
                    <a:pt x="491" y="982"/>
                  </a:lnTo>
                  <a:lnTo>
                    <a:pt x="492" y="1003"/>
                  </a:lnTo>
                  <a:lnTo>
                    <a:pt x="499" y="1012"/>
                  </a:lnTo>
                  <a:lnTo>
                    <a:pt x="510" y="1012"/>
                  </a:lnTo>
                  <a:lnTo>
                    <a:pt x="522" y="1008"/>
                  </a:lnTo>
                  <a:lnTo>
                    <a:pt x="531" y="1004"/>
                  </a:lnTo>
                  <a:lnTo>
                    <a:pt x="535" y="1001"/>
                  </a:lnTo>
                  <a:lnTo>
                    <a:pt x="563" y="1125"/>
                  </a:lnTo>
                  <a:lnTo>
                    <a:pt x="543" y="1204"/>
                  </a:lnTo>
                  <a:lnTo>
                    <a:pt x="589" y="1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209080" y="3093840"/>
              <a:ext cx="436680" cy="1254240"/>
            </a:xfrm>
            <a:custGeom>
              <a:avLst/>
              <a:gdLst/>
              <a:ahLst/>
              <a:rect l="l" t="t" r="r" b="b"/>
              <a:pathLst>
                <a:path w="550" h="1579">
                  <a:moveTo>
                    <a:pt x="448" y="412"/>
                  </a:moveTo>
                  <a:lnTo>
                    <a:pt x="363" y="10"/>
                  </a:lnTo>
                  <a:lnTo>
                    <a:pt x="306" y="0"/>
                  </a:lnTo>
                  <a:lnTo>
                    <a:pt x="28" y="324"/>
                  </a:lnTo>
                  <a:lnTo>
                    <a:pt x="0" y="469"/>
                  </a:lnTo>
                  <a:lnTo>
                    <a:pt x="101" y="820"/>
                  </a:lnTo>
                  <a:lnTo>
                    <a:pt x="139" y="828"/>
                  </a:lnTo>
                  <a:lnTo>
                    <a:pt x="179" y="894"/>
                  </a:lnTo>
                  <a:lnTo>
                    <a:pt x="242" y="906"/>
                  </a:lnTo>
                  <a:lnTo>
                    <a:pt x="420" y="1568"/>
                  </a:lnTo>
                  <a:lnTo>
                    <a:pt x="477" y="1579"/>
                  </a:lnTo>
                  <a:lnTo>
                    <a:pt x="550" y="1404"/>
                  </a:lnTo>
                  <a:lnTo>
                    <a:pt x="529" y="1309"/>
                  </a:lnTo>
                  <a:lnTo>
                    <a:pt x="525" y="1310"/>
                  </a:lnTo>
                  <a:lnTo>
                    <a:pt x="517" y="1312"/>
                  </a:lnTo>
                  <a:lnTo>
                    <a:pt x="507" y="1312"/>
                  </a:lnTo>
                  <a:lnTo>
                    <a:pt x="495" y="1307"/>
                  </a:lnTo>
                  <a:lnTo>
                    <a:pt x="487" y="1296"/>
                  </a:lnTo>
                  <a:lnTo>
                    <a:pt x="484" y="1274"/>
                  </a:lnTo>
                  <a:lnTo>
                    <a:pt x="487" y="1241"/>
                  </a:lnTo>
                  <a:lnTo>
                    <a:pt x="500" y="1191"/>
                  </a:lnTo>
                  <a:lnTo>
                    <a:pt x="457" y="1170"/>
                  </a:lnTo>
                  <a:lnTo>
                    <a:pt x="484" y="1071"/>
                  </a:lnTo>
                  <a:lnTo>
                    <a:pt x="456" y="974"/>
                  </a:lnTo>
                  <a:lnTo>
                    <a:pt x="453" y="974"/>
                  </a:lnTo>
                  <a:lnTo>
                    <a:pt x="446" y="974"/>
                  </a:lnTo>
                  <a:lnTo>
                    <a:pt x="435" y="972"/>
                  </a:lnTo>
                  <a:lnTo>
                    <a:pt x="425" y="966"/>
                  </a:lnTo>
                  <a:lnTo>
                    <a:pt x="418" y="955"/>
                  </a:lnTo>
                  <a:lnTo>
                    <a:pt x="415" y="936"/>
                  </a:lnTo>
                  <a:lnTo>
                    <a:pt x="418" y="909"/>
                  </a:lnTo>
                  <a:lnTo>
                    <a:pt x="431" y="872"/>
                  </a:lnTo>
                  <a:lnTo>
                    <a:pt x="399" y="735"/>
                  </a:lnTo>
                  <a:lnTo>
                    <a:pt x="440" y="626"/>
                  </a:lnTo>
                  <a:lnTo>
                    <a:pt x="448" y="412"/>
                  </a:lnTo>
                  <a:close/>
                </a:path>
              </a:pathLst>
            </a:custGeom>
            <a:solidFill>
              <a:srgbClr val="ffd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209080" y="3093840"/>
              <a:ext cx="377640" cy="1254240"/>
            </a:xfrm>
            <a:custGeom>
              <a:avLst/>
              <a:gdLst/>
              <a:ahLst/>
              <a:rect l="l" t="t" r="r" b="b"/>
              <a:pathLst>
                <a:path w="477" h="1579">
                  <a:moveTo>
                    <a:pt x="477" y="1579"/>
                  </a:moveTo>
                  <a:lnTo>
                    <a:pt x="420" y="1568"/>
                  </a:lnTo>
                  <a:lnTo>
                    <a:pt x="242" y="906"/>
                  </a:lnTo>
                  <a:lnTo>
                    <a:pt x="179" y="894"/>
                  </a:lnTo>
                  <a:lnTo>
                    <a:pt x="139" y="828"/>
                  </a:lnTo>
                  <a:lnTo>
                    <a:pt x="101" y="820"/>
                  </a:lnTo>
                  <a:lnTo>
                    <a:pt x="0" y="469"/>
                  </a:lnTo>
                  <a:lnTo>
                    <a:pt x="28" y="324"/>
                  </a:lnTo>
                  <a:lnTo>
                    <a:pt x="306" y="0"/>
                  </a:lnTo>
                  <a:lnTo>
                    <a:pt x="363" y="10"/>
                  </a:lnTo>
                  <a:lnTo>
                    <a:pt x="97" y="337"/>
                  </a:lnTo>
                  <a:lnTo>
                    <a:pt x="69" y="482"/>
                  </a:lnTo>
                  <a:lnTo>
                    <a:pt x="176" y="835"/>
                  </a:lnTo>
                  <a:lnTo>
                    <a:pt x="283" y="856"/>
                  </a:lnTo>
                  <a:lnTo>
                    <a:pt x="477" y="1579"/>
                  </a:lnTo>
                  <a:close/>
                </a:path>
              </a:pathLst>
            </a:custGeom>
            <a:solidFill>
              <a:srgbClr val="bf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375760" y="3314520"/>
              <a:ext cx="55440" cy="103320"/>
            </a:xfrm>
            <a:custGeom>
              <a:avLst/>
              <a:gdLst/>
              <a:ahLst/>
              <a:rect l="l" t="t" r="r" b="b"/>
              <a:pathLst>
                <a:path w="70" h="130">
                  <a:moveTo>
                    <a:pt x="43" y="130"/>
                  </a:moveTo>
                  <a:lnTo>
                    <a:pt x="46" y="124"/>
                  </a:lnTo>
                  <a:lnTo>
                    <a:pt x="53" y="106"/>
                  </a:lnTo>
                  <a:lnTo>
                    <a:pt x="61" y="82"/>
                  </a:lnTo>
                  <a:lnTo>
                    <a:pt x="68" y="56"/>
                  </a:lnTo>
                  <a:lnTo>
                    <a:pt x="70" y="30"/>
                  </a:lnTo>
                  <a:lnTo>
                    <a:pt x="66" y="11"/>
                  </a:lnTo>
                  <a:lnTo>
                    <a:pt x="54" y="0"/>
                  </a:lnTo>
                  <a:lnTo>
                    <a:pt x="28" y="4"/>
                  </a:lnTo>
                  <a:lnTo>
                    <a:pt x="30" y="7"/>
                  </a:lnTo>
                  <a:lnTo>
                    <a:pt x="32" y="15"/>
                  </a:lnTo>
                  <a:lnTo>
                    <a:pt x="33" y="28"/>
                  </a:lnTo>
                  <a:lnTo>
                    <a:pt x="34" y="45"/>
                  </a:lnTo>
                  <a:lnTo>
                    <a:pt x="33" y="64"/>
                  </a:lnTo>
                  <a:lnTo>
                    <a:pt x="27" y="83"/>
                  </a:lnTo>
                  <a:lnTo>
                    <a:pt x="17" y="103"/>
                  </a:lnTo>
                  <a:lnTo>
                    <a:pt x="0" y="121"/>
                  </a:lnTo>
                  <a:lnTo>
                    <a:pt x="43" y="130"/>
                  </a:lnTo>
                  <a:close/>
                </a:path>
              </a:pathLst>
            </a:custGeom>
            <a:solidFill>
              <a:srgbClr val="bf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469360" y="3736800"/>
              <a:ext cx="150840" cy="561960"/>
            </a:xfrm>
            <a:custGeom>
              <a:avLst/>
              <a:gdLst/>
              <a:ahLst/>
              <a:rect l="l" t="t" r="r" b="b"/>
              <a:pathLst>
                <a:path w="191" h="708">
                  <a:moveTo>
                    <a:pt x="0" y="24"/>
                  </a:moveTo>
                  <a:lnTo>
                    <a:pt x="179" y="708"/>
                  </a:lnTo>
                  <a:lnTo>
                    <a:pt x="191" y="671"/>
                  </a:lnTo>
                  <a:lnTo>
                    <a:pt x="19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bf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118720" y="2743200"/>
              <a:ext cx="753840" cy="555480"/>
            </a:xfrm>
            <a:custGeom>
              <a:avLst/>
              <a:gdLst/>
              <a:ahLst/>
              <a:rect l="l" t="t" r="r" b="b"/>
              <a:pathLst>
                <a:path w="949" h="701">
                  <a:moveTo>
                    <a:pt x="393" y="0"/>
                  </a:moveTo>
                  <a:lnTo>
                    <a:pt x="364" y="0"/>
                  </a:lnTo>
                  <a:lnTo>
                    <a:pt x="336" y="2"/>
                  </a:lnTo>
                  <a:lnTo>
                    <a:pt x="309" y="5"/>
                  </a:lnTo>
                  <a:lnTo>
                    <a:pt x="281" y="8"/>
                  </a:lnTo>
                  <a:lnTo>
                    <a:pt x="253" y="13"/>
                  </a:lnTo>
                  <a:lnTo>
                    <a:pt x="228" y="18"/>
                  </a:lnTo>
                  <a:lnTo>
                    <a:pt x="202" y="25"/>
                  </a:lnTo>
                  <a:lnTo>
                    <a:pt x="176" y="32"/>
                  </a:lnTo>
                  <a:lnTo>
                    <a:pt x="152" y="40"/>
                  </a:lnTo>
                  <a:lnTo>
                    <a:pt x="128" y="50"/>
                  </a:lnTo>
                  <a:lnTo>
                    <a:pt x="105" y="60"/>
                  </a:lnTo>
                  <a:lnTo>
                    <a:pt x="82" y="70"/>
                  </a:lnTo>
                  <a:lnTo>
                    <a:pt x="60" y="82"/>
                  </a:lnTo>
                  <a:lnTo>
                    <a:pt x="39" y="94"/>
                  </a:lnTo>
                  <a:lnTo>
                    <a:pt x="19" y="107"/>
                  </a:lnTo>
                  <a:lnTo>
                    <a:pt x="0" y="121"/>
                  </a:lnTo>
                  <a:lnTo>
                    <a:pt x="26" y="141"/>
                  </a:lnTo>
                  <a:lnTo>
                    <a:pt x="44" y="128"/>
                  </a:lnTo>
                  <a:lnTo>
                    <a:pt x="62" y="116"/>
                  </a:lnTo>
                  <a:lnTo>
                    <a:pt x="81" y="105"/>
                  </a:lnTo>
                  <a:lnTo>
                    <a:pt x="100" y="94"/>
                  </a:lnTo>
                  <a:lnTo>
                    <a:pt x="121" y="85"/>
                  </a:lnTo>
                  <a:lnTo>
                    <a:pt x="142" y="76"/>
                  </a:lnTo>
                  <a:lnTo>
                    <a:pt x="163" y="67"/>
                  </a:lnTo>
                  <a:lnTo>
                    <a:pt x="185" y="60"/>
                  </a:lnTo>
                  <a:lnTo>
                    <a:pt x="208" y="53"/>
                  </a:lnTo>
                  <a:lnTo>
                    <a:pt x="231" y="47"/>
                  </a:lnTo>
                  <a:lnTo>
                    <a:pt x="256" y="41"/>
                  </a:lnTo>
                  <a:lnTo>
                    <a:pt x="280" y="38"/>
                  </a:lnTo>
                  <a:lnTo>
                    <a:pt x="304" y="35"/>
                  </a:lnTo>
                  <a:lnTo>
                    <a:pt x="329" y="32"/>
                  </a:lnTo>
                  <a:lnTo>
                    <a:pt x="355" y="30"/>
                  </a:lnTo>
                  <a:lnTo>
                    <a:pt x="381" y="30"/>
                  </a:lnTo>
                  <a:lnTo>
                    <a:pt x="412" y="31"/>
                  </a:lnTo>
                  <a:lnTo>
                    <a:pt x="443" y="33"/>
                  </a:lnTo>
                  <a:lnTo>
                    <a:pt x="475" y="37"/>
                  </a:lnTo>
                  <a:lnTo>
                    <a:pt x="505" y="41"/>
                  </a:lnTo>
                  <a:lnTo>
                    <a:pt x="533" y="47"/>
                  </a:lnTo>
                  <a:lnTo>
                    <a:pt x="561" y="55"/>
                  </a:lnTo>
                  <a:lnTo>
                    <a:pt x="589" y="63"/>
                  </a:lnTo>
                  <a:lnTo>
                    <a:pt x="615" y="74"/>
                  </a:lnTo>
                  <a:lnTo>
                    <a:pt x="642" y="85"/>
                  </a:lnTo>
                  <a:lnTo>
                    <a:pt x="666" y="97"/>
                  </a:lnTo>
                  <a:lnTo>
                    <a:pt x="690" y="111"/>
                  </a:lnTo>
                  <a:lnTo>
                    <a:pt x="712" y="124"/>
                  </a:lnTo>
                  <a:lnTo>
                    <a:pt x="734" y="139"/>
                  </a:lnTo>
                  <a:lnTo>
                    <a:pt x="753" y="156"/>
                  </a:lnTo>
                  <a:lnTo>
                    <a:pt x="773" y="173"/>
                  </a:lnTo>
                  <a:lnTo>
                    <a:pt x="790" y="190"/>
                  </a:lnTo>
                  <a:lnTo>
                    <a:pt x="816" y="215"/>
                  </a:lnTo>
                  <a:lnTo>
                    <a:pt x="839" y="242"/>
                  </a:lnTo>
                  <a:lnTo>
                    <a:pt x="858" y="271"/>
                  </a:lnTo>
                  <a:lnTo>
                    <a:pt x="874" y="301"/>
                  </a:lnTo>
                  <a:lnTo>
                    <a:pt x="887" y="331"/>
                  </a:lnTo>
                  <a:lnTo>
                    <a:pt x="896" y="363"/>
                  </a:lnTo>
                  <a:lnTo>
                    <a:pt x="902" y="396"/>
                  </a:lnTo>
                  <a:lnTo>
                    <a:pt x="904" y="430"/>
                  </a:lnTo>
                  <a:lnTo>
                    <a:pt x="902" y="466"/>
                  </a:lnTo>
                  <a:lnTo>
                    <a:pt x="895" y="500"/>
                  </a:lnTo>
                  <a:lnTo>
                    <a:pt x="885" y="535"/>
                  </a:lnTo>
                  <a:lnTo>
                    <a:pt x="870" y="567"/>
                  </a:lnTo>
                  <a:lnTo>
                    <a:pt x="851" y="598"/>
                  </a:lnTo>
                  <a:lnTo>
                    <a:pt x="829" y="627"/>
                  </a:lnTo>
                  <a:lnTo>
                    <a:pt x="805" y="655"/>
                  </a:lnTo>
                  <a:lnTo>
                    <a:pt x="776" y="681"/>
                  </a:lnTo>
                  <a:lnTo>
                    <a:pt x="803" y="701"/>
                  </a:lnTo>
                  <a:lnTo>
                    <a:pt x="835" y="672"/>
                  </a:lnTo>
                  <a:lnTo>
                    <a:pt x="864" y="641"/>
                  </a:lnTo>
                  <a:lnTo>
                    <a:pt x="889" y="607"/>
                  </a:lnTo>
                  <a:lnTo>
                    <a:pt x="910" y="572"/>
                  </a:lnTo>
                  <a:lnTo>
                    <a:pt x="927" y="536"/>
                  </a:lnTo>
                  <a:lnTo>
                    <a:pt x="939" y="498"/>
                  </a:lnTo>
                  <a:lnTo>
                    <a:pt x="947" y="459"/>
                  </a:lnTo>
                  <a:lnTo>
                    <a:pt x="949" y="418"/>
                  </a:lnTo>
                  <a:lnTo>
                    <a:pt x="947" y="376"/>
                  </a:lnTo>
                  <a:lnTo>
                    <a:pt x="938" y="334"/>
                  </a:lnTo>
                  <a:lnTo>
                    <a:pt x="924" y="294"/>
                  </a:lnTo>
                  <a:lnTo>
                    <a:pt x="905" y="256"/>
                  </a:lnTo>
                  <a:lnTo>
                    <a:pt x="882" y="219"/>
                  </a:lnTo>
                  <a:lnTo>
                    <a:pt x="855" y="184"/>
                  </a:lnTo>
                  <a:lnTo>
                    <a:pt x="822" y="152"/>
                  </a:lnTo>
                  <a:lnTo>
                    <a:pt x="787" y="122"/>
                  </a:lnTo>
                  <a:lnTo>
                    <a:pt x="746" y="96"/>
                  </a:lnTo>
                  <a:lnTo>
                    <a:pt x="704" y="71"/>
                  </a:lnTo>
                  <a:lnTo>
                    <a:pt x="658" y="51"/>
                  </a:lnTo>
                  <a:lnTo>
                    <a:pt x="609" y="33"/>
                  </a:lnTo>
                  <a:lnTo>
                    <a:pt x="559" y="18"/>
                  </a:lnTo>
                  <a:lnTo>
                    <a:pt x="505" y="8"/>
                  </a:lnTo>
                  <a:lnTo>
                    <a:pt x="449" y="2"/>
                  </a:lnTo>
                  <a:lnTo>
                    <a:pt x="3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347320" y="3284280"/>
              <a:ext cx="407880" cy="122400"/>
            </a:xfrm>
            <a:custGeom>
              <a:avLst/>
              <a:gdLst/>
              <a:ahLst/>
              <a:rect l="l" t="t" r="r" b="b"/>
              <a:pathLst>
                <a:path w="515" h="156">
                  <a:moveTo>
                    <a:pt x="462" y="22"/>
                  </a:moveTo>
                  <a:lnTo>
                    <a:pt x="445" y="33"/>
                  </a:lnTo>
                  <a:lnTo>
                    <a:pt x="426" y="45"/>
                  </a:lnTo>
                  <a:lnTo>
                    <a:pt x="408" y="55"/>
                  </a:lnTo>
                  <a:lnTo>
                    <a:pt x="389" y="65"/>
                  </a:lnTo>
                  <a:lnTo>
                    <a:pt x="369" y="74"/>
                  </a:lnTo>
                  <a:lnTo>
                    <a:pt x="348" y="83"/>
                  </a:lnTo>
                  <a:lnTo>
                    <a:pt x="327" y="90"/>
                  </a:lnTo>
                  <a:lnTo>
                    <a:pt x="305" y="98"/>
                  </a:lnTo>
                  <a:lnTo>
                    <a:pt x="283" y="104"/>
                  </a:lnTo>
                  <a:lnTo>
                    <a:pt x="260" y="110"/>
                  </a:lnTo>
                  <a:lnTo>
                    <a:pt x="237" y="114"/>
                  </a:lnTo>
                  <a:lnTo>
                    <a:pt x="214" y="119"/>
                  </a:lnTo>
                  <a:lnTo>
                    <a:pt x="190" y="121"/>
                  </a:lnTo>
                  <a:lnTo>
                    <a:pt x="166" y="123"/>
                  </a:lnTo>
                  <a:lnTo>
                    <a:pt x="142" y="126"/>
                  </a:lnTo>
                  <a:lnTo>
                    <a:pt x="116" y="126"/>
                  </a:lnTo>
                  <a:lnTo>
                    <a:pt x="100" y="123"/>
                  </a:lnTo>
                  <a:lnTo>
                    <a:pt x="86" y="116"/>
                  </a:lnTo>
                  <a:lnTo>
                    <a:pt x="72" y="107"/>
                  </a:lnTo>
                  <a:lnTo>
                    <a:pt x="60" y="97"/>
                  </a:lnTo>
                  <a:lnTo>
                    <a:pt x="47" y="85"/>
                  </a:lnTo>
                  <a:lnTo>
                    <a:pt x="34" y="76"/>
                  </a:lnTo>
                  <a:lnTo>
                    <a:pt x="22" y="67"/>
                  </a:lnTo>
                  <a:lnTo>
                    <a:pt x="7" y="62"/>
                  </a:lnTo>
                  <a:lnTo>
                    <a:pt x="2" y="73"/>
                  </a:lnTo>
                  <a:lnTo>
                    <a:pt x="0" y="100"/>
                  </a:lnTo>
                  <a:lnTo>
                    <a:pt x="2" y="131"/>
                  </a:lnTo>
                  <a:lnTo>
                    <a:pt x="15" y="150"/>
                  </a:lnTo>
                  <a:lnTo>
                    <a:pt x="15" y="150"/>
                  </a:lnTo>
                  <a:lnTo>
                    <a:pt x="25" y="151"/>
                  </a:lnTo>
                  <a:lnTo>
                    <a:pt x="37" y="152"/>
                  </a:lnTo>
                  <a:lnTo>
                    <a:pt x="48" y="153"/>
                  </a:lnTo>
                  <a:lnTo>
                    <a:pt x="59" y="154"/>
                  </a:lnTo>
                  <a:lnTo>
                    <a:pt x="70" y="154"/>
                  </a:lnTo>
                  <a:lnTo>
                    <a:pt x="82" y="156"/>
                  </a:lnTo>
                  <a:lnTo>
                    <a:pt x="93" y="156"/>
                  </a:lnTo>
                  <a:lnTo>
                    <a:pt x="105" y="156"/>
                  </a:lnTo>
                  <a:lnTo>
                    <a:pt x="135" y="154"/>
                  </a:lnTo>
                  <a:lnTo>
                    <a:pt x="165" y="153"/>
                  </a:lnTo>
                  <a:lnTo>
                    <a:pt x="195" y="150"/>
                  </a:lnTo>
                  <a:lnTo>
                    <a:pt x="223" y="146"/>
                  </a:lnTo>
                  <a:lnTo>
                    <a:pt x="252" y="141"/>
                  </a:lnTo>
                  <a:lnTo>
                    <a:pt x="280" y="135"/>
                  </a:lnTo>
                  <a:lnTo>
                    <a:pt x="306" y="127"/>
                  </a:lnTo>
                  <a:lnTo>
                    <a:pt x="333" y="119"/>
                  </a:lnTo>
                  <a:lnTo>
                    <a:pt x="359" y="110"/>
                  </a:lnTo>
                  <a:lnTo>
                    <a:pt x="384" y="99"/>
                  </a:lnTo>
                  <a:lnTo>
                    <a:pt x="408" y="88"/>
                  </a:lnTo>
                  <a:lnTo>
                    <a:pt x="432" y="76"/>
                  </a:lnTo>
                  <a:lnTo>
                    <a:pt x="454" y="63"/>
                  </a:lnTo>
                  <a:lnTo>
                    <a:pt x="476" y="50"/>
                  </a:lnTo>
                  <a:lnTo>
                    <a:pt x="495" y="35"/>
                  </a:lnTo>
                  <a:lnTo>
                    <a:pt x="515" y="20"/>
                  </a:lnTo>
                  <a:lnTo>
                    <a:pt x="488" y="0"/>
                  </a:lnTo>
                  <a:lnTo>
                    <a:pt x="481" y="6"/>
                  </a:lnTo>
                  <a:lnTo>
                    <a:pt x="476" y="10"/>
                  </a:lnTo>
                  <a:lnTo>
                    <a:pt x="469" y="16"/>
                  </a:lnTo>
                  <a:lnTo>
                    <a:pt x="46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988400" y="2840040"/>
              <a:ext cx="150840" cy="312480"/>
            </a:xfrm>
            <a:custGeom>
              <a:avLst/>
              <a:gdLst/>
              <a:ahLst/>
              <a:rect l="l" t="t" r="r" b="b"/>
              <a:pathLst>
                <a:path w="191" h="394">
                  <a:moveTo>
                    <a:pt x="44" y="286"/>
                  </a:moveTo>
                  <a:lnTo>
                    <a:pt x="46" y="251"/>
                  </a:lnTo>
                  <a:lnTo>
                    <a:pt x="52" y="217"/>
                  </a:lnTo>
                  <a:lnTo>
                    <a:pt x="63" y="183"/>
                  </a:lnTo>
                  <a:lnTo>
                    <a:pt x="77" y="151"/>
                  </a:lnTo>
                  <a:lnTo>
                    <a:pt x="95" y="121"/>
                  </a:lnTo>
                  <a:lnTo>
                    <a:pt x="116" y="92"/>
                  </a:lnTo>
                  <a:lnTo>
                    <a:pt x="141" y="65"/>
                  </a:lnTo>
                  <a:lnTo>
                    <a:pt x="168" y="38"/>
                  </a:lnTo>
                  <a:lnTo>
                    <a:pt x="174" y="33"/>
                  </a:lnTo>
                  <a:lnTo>
                    <a:pt x="180" y="29"/>
                  </a:lnTo>
                  <a:lnTo>
                    <a:pt x="186" y="24"/>
                  </a:lnTo>
                  <a:lnTo>
                    <a:pt x="191" y="20"/>
                  </a:lnTo>
                  <a:lnTo>
                    <a:pt x="165" y="0"/>
                  </a:lnTo>
                  <a:lnTo>
                    <a:pt x="128" y="30"/>
                  </a:lnTo>
                  <a:lnTo>
                    <a:pt x="96" y="62"/>
                  </a:lnTo>
                  <a:lnTo>
                    <a:pt x="68" y="97"/>
                  </a:lnTo>
                  <a:lnTo>
                    <a:pt x="44" y="134"/>
                  </a:lnTo>
                  <a:lnTo>
                    <a:pt x="25" y="172"/>
                  </a:lnTo>
                  <a:lnTo>
                    <a:pt x="12" y="212"/>
                  </a:lnTo>
                  <a:lnTo>
                    <a:pt x="2" y="255"/>
                  </a:lnTo>
                  <a:lnTo>
                    <a:pt x="0" y="297"/>
                  </a:lnTo>
                  <a:lnTo>
                    <a:pt x="1" y="323"/>
                  </a:lnTo>
                  <a:lnTo>
                    <a:pt x="5" y="347"/>
                  </a:lnTo>
                  <a:lnTo>
                    <a:pt x="9" y="371"/>
                  </a:lnTo>
                  <a:lnTo>
                    <a:pt x="15" y="394"/>
                  </a:lnTo>
                  <a:lnTo>
                    <a:pt x="58" y="373"/>
                  </a:lnTo>
                  <a:lnTo>
                    <a:pt x="52" y="351"/>
                  </a:lnTo>
                  <a:lnTo>
                    <a:pt x="47" y="330"/>
                  </a:lnTo>
                  <a:lnTo>
                    <a:pt x="45" y="308"/>
                  </a:lnTo>
                  <a:lnTo>
                    <a:pt x="44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062920" y="2879640"/>
              <a:ext cx="79560" cy="106200"/>
            </a:xfrm>
            <a:custGeom>
              <a:avLst/>
              <a:gdLst/>
              <a:ahLst/>
              <a:rect l="l" t="t" r="r" b="b"/>
              <a:pathLst>
                <a:path w="100" h="135">
                  <a:moveTo>
                    <a:pt x="0" y="135"/>
                  </a:moveTo>
                  <a:lnTo>
                    <a:pt x="9" y="117"/>
                  </a:lnTo>
                  <a:lnTo>
                    <a:pt x="18" y="101"/>
                  </a:lnTo>
                  <a:lnTo>
                    <a:pt x="29" y="84"/>
                  </a:lnTo>
                  <a:lnTo>
                    <a:pt x="40" y="69"/>
                  </a:lnTo>
                  <a:lnTo>
                    <a:pt x="53" y="53"/>
                  </a:lnTo>
                  <a:lnTo>
                    <a:pt x="67" y="38"/>
                  </a:lnTo>
                  <a:lnTo>
                    <a:pt x="80" y="24"/>
                  </a:lnTo>
                  <a:lnTo>
                    <a:pt x="95" y="10"/>
                  </a:lnTo>
                  <a:lnTo>
                    <a:pt x="97" y="9"/>
                  </a:lnTo>
                  <a:lnTo>
                    <a:pt x="98" y="8"/>
                  </a:lnTo>
                  <a:lnTo>
                    <a:pt x="99" y="8"/>
                  </a:lnTo>
                  <a:lnTo>
                    <a:pt x="100" y="7"/>
                  </a:lnTo>
                  <a:lnTo>
                    <a:pt x="90" y="0"/>
                  </a:lnTo>
                  <a:lnTo>
                    <a:pt x="77" y="12"/>
                  </a:lnTo>
                  <a:lnTo>
                    <a:pt x="63" y="26"/>
                  </a:lnTo>
                  <a:lnTo>
                    <a:pt x="50" y="41"/>
                  </a:lnTo>
                  <a:lnTo>
                    <a:pt x="39" y="58"/>
                  </a:lnTo>
                  <a:lnTo>
                    <a:pt x="27" y="76"/>
                  </a:lnTo>
                  <a:lnTo>
                    <a:pt x="17" y="94"/>
                  </a:lnTo>
                  <a:lnTo>
                    <a:pt x="8" y="114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134560" y="2862000"/>
              <a:ext cx="27000" cy="2232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3" y="10"/>
                  </a:moveTo>
                  <a:lnTo>
                    <a:pt x="20" y="0"/>
                  </a:lnTo>
                  <a:lnTo>
                    <a:pt x="16" y="5"/>
                  </a:lnTo>
                  <a:lnTo>
                    <a:pt x="10" y="10"/>
                  </a:lnTo>
                  <a:lnTo>
                    <a:pt x="5" y="15"/>
                  </a:lnTo>
                  <a:lnTo>
                    <a:pt x="0" y="21"/>
                  </a:lnTo>
                  <a:lnTo>
                    <a:pt x="10" y="28"/>
                  </a:lnTo>
                  <a:lnTo>
                    <a:pt x="16" y="23"/>
                  </a:lnTo>
                  <a:lnTo>
                    <a:pt x="22" y="18"/>
                  </a:lnTo>
                  <a:lnTo>
                    <a:pt x="27" y="15"/>
                  </a:lnTo>
                  <a:lnTo>
                    <a:pt x="3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151840" y="2779560"/>
              <a:ext cx="409680" cy="92160"/>
            </a:xfrm>
            <a:custGeom>
              <a:avLst/>
              <a:gdLst/>
              <a:ahLst/>
              <a:rect l="l" t="t" r="r" b="b"/>
              <a:pathLst>
                <a:path w="518" h="115">
                  <a:moveTo>
                    <a:pt x="363" y="7"/>
                  </a:moveTo>
                  <a:lnTo>
                    <a:pt x="384" y="7"/>
                  </a:lnTo>
                  <a:lnTo>
                    <a:pt x="404" y="8"/>
                  </a:lnTo>
                  <a:lnTo>
                    <a:pt x="423" y="9"/>
                  </a:lnTo>
                  <a:lnTo>
                    <a:pt x="443" y="12"/>
                  </a:lnTo>
                  <a:lnTo>
                    <a:pt x="462" y="15"/>
                  </a:lnTo>
                  <a:lnTo>
                    <a:pt x="481" y="17"/>
                  </a:lnTo>
                  <a:lnTo>
                    <a:pt x="499" y="21"/>
                  </a:lnTo>
                  <a:lnTo>
                    <a:pt x="518" y="25"/>
                  </a:lnTo>
                  <a:lnTo>
                    <a:pt x="499" y="20"/>
                  </a:lnTo>
                  <a:lnTo>
                    <a:pt x="478" y="15"/>
                  </a:lnTo>
                  <a:lnTo>
                    <a:pt x="457" y="9"/>
                  </a:lnTo>
                  <a:lnTo>
                    <a:pt x="434" y="6"/>
                  </a:lnTo>
                  <a:lnTo>
                    <a:pt x="408" y="2"/>
                  </a:lnTo>
                  <a:lnTo>
                    <a:pt x="382" y="1"/>
                  </a:lnTo>
                  <a:lnTo>
                    <a:pt x="354" y="0"/>
                  </a:lnTo>
                  <a:lnTo>
                    <a:pt x="325" y="0"/>
                  </a:lnTo>
                  <a:lnTo>
                    <a:pt x="295" y="2"/>
                  </a:lnTo>
                  <a:lnTo>
                    <a:pt x="263" y="6"/>
                  </a:lnTo>
                  <a:lnTo>
                    <a:pt x="231" y="10"/>
                  </a:lnTo>
                  <a:lnTo>
                    <a:pt x="196" y="19"/>
                  </a:lnTo>
                  <a:lnTo>
                    <a:pt x="161" y="28"/>
                  </a:lnTo>
                  <a:lnTo>
                    <a:pt x="125" y="39"/>
                  </a:lnTo>
                  <a:lnTo>
                    <a:pt x="87" y="53"/>
                  </a:lnTo>
                  <a:lnTo>
                    <a:pt x="48" y="69"/>
                  </a:lnTo>
                  <a:lnTo>
                    <a:pt x="46" y="70"/>
                  </a:lnTo>
                  <a:lnTo>
                    <a:pt x="44" y="72"/>
                  </a:lnTo>
                  <a:lnTo>
                    <a:pt x="40" y="75"/>
                  </a:lnTo>
                  <a:lnTo>
                    <a:pt x="34" y="78"/>
                  </a:lnTo>
                  <a:lnTo>
                    <a:pt x="27" y="83"/>
                  </a:lnTo>
                  <a:lnTo>
                    <a:pt x="19" y="90"/>
                  </a:lnTo>
                  <a:lnTo>
                    <a:pt x="10" y="97"/>
                  </a:lnTo>
                  <a:lnTo>
                    <a:pt x="0" y="105"/>
                  </a:lnTo>
                  <a:lnTo>
                    <a:pt x="13" y="115"/>
                  </a:lnTo>
                  <a:lnTo>
                    <a:pt x="30" y="103"/>
                  </a:lnTo>
                  <a:lnTo>
                    <a:pt x="49" y="91"/>
                  </a:lnTo>
                  <a:lnTo>
                    <a:pt x="67" y="81"/>
                  </a:lnTo>
                  <a:lnTo>
                    <a:pt x="87" y="70"/>
                  </a:lnTo>
                  <a:lnTo>
                    <a:pt x="108" y="60"/>
                  </a:lnTo>
                  <a:lnTo>
                    <a:pt x="128" y="52"/>
                  </a:lnTo>
                  <a:lnTo>
                    <a:pt x="149" y="44"/>
                  </a:lnTo>
                  <a:lnTo>
                    <a:pt x="171" y="36"/>
                  </a:lnTo>
                  <a:lnTo>
                    <a:pt x="194" y="29"/>
                  </a:lnTo>
                  <a:lnTo>
                    <a:pt x="217" y="23"/>
                  </a:lnTo>
                  <a:lnTo>
                    <a:pt x="240" y="19"/>
                  </a:lnTo>
                  <a:lnTo>
                    <a:pt x="264" y="15"/>
                  </a:lnTo>
                  <a:lnTo>
                    <a:pt x="288" y="12"/>
                  </a:lnTo>
                  <a:lnTo>
                    <a:pt x="313" y="9"/>
                  </a:lnTo>
                  <a:lnTo>
                    <a:pt x="338" y="7"/>
                  </a:lnTo>
                  <a:lnTo>
                    <a:pt x="36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161560" y="2786040"/>
              <a:ext cx="480960" cy="92160"/>
            </a:xfrm>
            <a:custGeom>
              <a:avLst/>
              <a:gdLst/>
              <a:ahLst/>
              <a:rect l="l" t="t" r="r" b="b"/>
              <a:pathLst>
                <a:path w="606" h="118">
                  <a:moveTo>
                    <a:pt x="0" y="108"/>
                  </a:moveTo>
                  <a:lnTo>
                    <a:pt x="13" y="118"/>
                  </a:lnTo>
                  <a:lnTo>
                    <a:pt x="24" y="109"/>
                  </a:lnTo>
                  <a:lnTo>
                    <a:pt x="36" y="100"/>
                  </a:lnTo>
                  <a:lnTo>
                    <a:pt x="48" y="93"/>
                  </a:lnTo>
                  <a:lnTo>
                    <a:pt x="61" y="85"/>
                  </a:lnTo>
                  <a:lnTo>
                    <a:pt x="75" y="78"/>
                  </a:lnTo>
                  <a:lnTo>
                    <a:pt x="90" y="70"/>
                  </a:lnTo>
                  <a:lnTo>
                    <a:pt x="105" y="65"/>
                  </a:lnTo>
                  <a:lnTo>
                    <a:pt x="121" y="58"/>
                  </a:lnTo>
                  <a:lnTo>
                    <a:pt x="137" y="52"/>
                  </a:lnTo>
                  <a:lnTo>
                    <a:pt x="154" y="47"/>
                  </a:lnTo>
                  <a:lnTo>
                    <a:pt x="172" y="41"/>
                  </a:lnTo>
                  <a:lnTo>
                    <a:pt x="190" y="38"/>
                  </a:lnTo>
                  <a:lnTo>
                    <a:pt x="210" y="33"/>
                  </a:lnTo>
                  <a:lnTo>
                    <a:pt x="230" y="30"/>
                  </a:lnTo>
                  <a:lnTo>
                    <a:pt x="251" y="28"/>
                  </a:lnTo>
                  <a:lnTo>
                    <a:pt x="273" y="25"/>
                  </a:lnTo>
                  <a:lnTo>
                    <a:pt x="275" y="25"/>
                  </a:lnTo>
                  <a:lnTo>
                    <a:pt x="281" y="23"/>
                  </a:lnTo>
                  <a:lnTo>
                    <a:pt x="292" y="22"/>
                  </a:lnTo>
                  <a:lnTo>
                    <a:pt x="305" y="20"/>
                  </a:lnTo>
                  <a:lnTo>
                    <a:pt x="321" y="17"/>
                  </a:lnTo>
                  <a:lnTo>
                    <a:pt x="341" y="16"/>
                  </a:lnTo>
                  <a:lnTo>
                    <a:pt x="363" y="15"/>
                  </a:lnTo>
                  <a:lnTo>
                    <a:pt x="386" y="15"/>
                  </a:lnTo>
                  <a:lnTo>
                    <a:pt x="411" y="15"/>
                  </a:lnTo>
                  <a:lnTo>
                    <a:pt x="439" y="17"/>
                  </a:lnTo>
                  <a:lnTo>
                    <a:pt x="465" y="21"/>
                  </a:lnTo>
                  <a:lnTo>
                    <a:pt x="494" y="27"/>
                  </a:lnTo>
                  <a:lnTo>
                    <a:pt x="523" y="35"/>
                  </a:lnTo>
                  <a:lnTo>
                    <a:pt x="551" y="45"/>
                  </a:lnTo>
                  <a:lnTo>
                    <a:pt x="578" y="58"/>
                  </a:lnTo>
                  <a:lnTo>
                    <a:pt x="606" y="74"/>
                  </a:lnTo>
                  <a:lnTo>
                    <a:pt x="606" y="66"/>
                  </a:lnTo>
                  <a:lnTo>
                    <a:pt x="605" y="65"/>
                  </a:lnTo>
                  <a:lnTo>
                    <a:pt x="599" y="61"/>
                  </a:lnTo>
                  <a:lnTo>
                    <a:pt x="591" y="56"/>
                  </a:lnTo>
                  <a:lnTo>
                    <a:pt x="580" y="51"/>
                  </a:lnTo>
                  <a:lnTo>
                    <a:pt x="566" y="43"/>
                  </a:lnTo>
                  <a:lnTo>
                    <a:pt x="548" y="35"/>
                  </a:lnTo>
                  <a:lnTo>
                    <a:pt x="528" y="27"/>
                  </a:lnTo>
                  <a:lnTo>
                    <a:pt x="505" y="18"/>
                  </a:lnTo>
                  <a:lnTo>
                    <a:pt x="486" y="14"/>
                  </a:lnTo>
                  <a:lnTo>
                    <a:pt x="468" y="10"/>
                  </a:lnTo>
                  <a:lnTo>
                    <a:pt x="449" y="8"/>
                  </a:lnTo>
                  <a:lnTo>
                    <a:pt x="430" y="5"/>
                  </a:lnTo>
                  <a:lnTo>
                    <a:pt x="410" y="2"/>
                  </a:lnTo>
                  <a:lnTo>
                    <a:pt x="391" y="1"/>
                  </a:lnTo>
                  <a:lnTo>
                    <a:pt x="371" y="0"/>
                  </a:lnTo>
                  <a:lnTo>
                    <a:pt x="350" y="0"/>
                  </a:lnTo>
                  <a:lnTo>
                    <a:pt x="325" y="0"/>
                  </a:lnTo>
                  <a:lnTo>
                    <a:pt x="300" y="2"/>
                  </a:lnTo>
                  <a:lnTo>
                    <a:pt x="275" y="5"/>
                  </a:lnTo>
                  <a:lnTo>
                    <a:pt x="251" y="8"/>
                  </a:lnTo>
                  <a:lnTo>
                    <a:pt x="227" y="12"/>
                  </a:lnTo>
                  <a:lnTo>
                    <a:pt x="204" y="16"/>
                  </a:lnTo>
                  <a:lnTo>
                    <a:pt x="181" y="22"/>
                  </a:lnTo>
                  <a:lnTo>
                    <a:pt x="158" y="29"/>
                  </a:lnTo>
                  <a:lnTo>
                    <a:pt x="136" y="37"/>
                  </a:lnTo>
                  <a:lnTo>
                    <a:pt x="115" y="45"/>
                  </a:lnTo>
                  <a:lnTo>
                    <a:pt x="95" y="53"/>
                  </a:lnTo>
                  <a:lnTo>
                    <a:pt x="74" y="63"/>
                  </a:lnTo>
                  <a:lnTo>
                    <a:pt x="54" y="74"/>
                  </a:lnTo>
                  <a:lnTo>
                    <a:pt x="36" y="84"/>
                  </a:lnTo>
                  <a:lnTo>
                    <a:pt x="17" y="96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142480" y="2871720"/>
              <a:ext cx="28440" cy="2052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18"/>
                  </a:moveTo>
                  <a:lnTo>
                    <a:pt x="14" y="28"/>
                  </a:lnTo>
                  <a:lnTo>
                    <a:pt x="20" y="23"/>
                  </a:lnTo>
                  <a:lnTo>
                    <a:pt x="25" y="19"/>
                  </a:lnTo>
                  <a:lnTo>
                    <a:pt x="30" y="14"/>
                  </a:lnTo>
                  <a:lnTo>
                    <a:pt x="36" y="10"/>
                  </a:lnTo>
                  <a:lnTo>
                    <a:pt x="23" y="0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6" y="1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18440" y="2846160"/>
              <a:ext cx="520920" cy="381240"/>
            </a:xfrm>
            <a:custGeom>
              <a:avLst/>
              <a:gdLst/>
              <a:ahLst/>
              <a:rect l="l" t="t" r="r" b="b"/>
              <a:pathLst>
                <a:path w="654" h="481">
                  <a:moveTo>
                    <a:pt x="0" y="84"/>
                  </a:moveTo>
                  <a:lnTo>
                    <a:pt x="41" y="113"/>
                  </a:lnTo>
                  <a:lnTo>
                    <a:pt x="53" y="105"/>
                  </a:lnTo>
                  <a:lnTo>
                    <a:pt x="64" y="98"/>
                  </a:lnTo>
                  <a:lnTo>
                    <a:pt x="76" y="91"/>
                  </a:lnTo>
                  <a:lnTo>
                    <a:pt x="88" y="85"/>
                  </a:lnTo>
                  <a:lnTo>
                    <a:pt x="101" y="78"/>
                  </a:lnTo>
                  <a:lnTo>
                    <a:pt x="115" y="74"/>
                  </a:lnTo>
                  <a:lnTo>
                    <a:pt x="129" y="68"/>
                  </a:lnTo>
                  <a:lnTo>
                    <a:pt x="142" y="63"/>
                  </a:lnTo>
                  <a:lnTo>
                    <a:pt x="156" y="59"/>
                  </a:lnTo>
                  <a:lnTo>
                    <a:pt x="171" y="55"/>
                  </a:lnTo>
                  <a:lnTo>
                    <a:pt x="186" y="52"/>
                  </a:lnTo>
                  <a:lnTo>
                    <a:pt x="202" y="50"/>
                  </a:lnTo>
                  <a:lnTo>
                    <a:pt x="217" y="47"/>
                  </a:lnTo>
                  <a:lnTo>
                    <a:pt x="233" y="46"/>
                  </a:lnTo>
                  <a:lnTo>
                    <a:pt x="250" y="45"/>
                  </a:lnTo>
                  <a:lnTo>
                    <a:pt x="266" y="45"/>
                  </a:lnTo>
                  <a:lnTo>
                    <a:pt x="299" y="46"/>
                  </a:lnTo>
                  <a:lnTo>
                    <a:pt x="331" y="50"/>
                  </a:lnTo>
                  <a:lnTo>
                    <a:pt x="363" y="57"/>
                  </a:lnTo>
                  <a:lnTo>
                    <a:pt x="392" y="65"/>
                  </a:lnTo>
                  <a:lnTo>
                    <a:pt x="421" y="75"/>
                  </a:lnTo>
                  <a:lnTo>
                    <a:pt x="448" y="86"/>
                  </a:lnTo>
                  <a:lnTo>
                    <a:pt x="472" y="100"/>
                  </a:lnTo>
                  <a:lnTo>
                    <a:pt x="496" y="116"/>
                  </a:lnTo>
                  <a:lnTo>
                    <a:pt x="517" y="134"/>
                  </a:lnTo>
                  <a:lnTo>
                    <a:pt x="535" y="153"/>
                  </a:lnTo>
                  <a:lnTo>
                    <a:pt x="551" y="173"/>
                  </a:lnTo>
                  <a:lnTo>
                    <a:pt x="565" y="195"/>
                  </a:lnTo>
                  <a:lnTo>
                    <a:pt x="576" y="217"/>
                  </a:lnTo>
                  <a:lnTo>
                    <a:pt x="584" y="240"/>
                  </a:lnTo>
                  <a:lnTo>
                    <a:pt x="590" y="264"/>
                  </a:lnTo>
                  <a:lnTo>
                    <a:pt x="591" y="289"/>
                  </a:lnTo>
                  <a:lnTo>
                    <a:pt x="590" y="312"/>
                  </a:lnTo>
                  <a:lnTo>
                    <a:pt x="585" y="334"/>
                  </a:lnTo>
                  <a:lnTo>
                    <a:pt x="578" y="356"/>
                  </a:lnTo>
                  <a:lnTo>
                    <a:pt x="569" y="377"/>
                  </a:lnTo>
                  <a:lnTo>
                    <a:pt x="557" y="398"/>
                  </a:lnTo>
                  <a:lnTo>
                    <a:pt x="543" y="416"/>
                  </a:lnTo>
                  <a:lnTo>
                    <a:pt x="527" y="435"/>
                  </a:lnTo>
                  <a:lnTo>
                    <a:pt x="509" y="451"/>
                  </a:lnTo>
                  <a:lnTo>
                    <a:pt x="550" y="481"/>
                  </a:lnTo>
                  <a:lnTo>
                    <a:pt x="573" y="460"/>
                  </a:lnTo>
                  <a:lnTo>
                    <a:pt x="594" y="437"/>
                  </a:lnTo>
                  <a:lnTo>
                    <a:pt x="611" y="414"/>
                  </a:lnTo>
                  <a:lnTo>
                    <a:pt x="626" y="388"/>
                  </a:lnTo>
                  <a:lnTo>
                    <a:pt x="638" y="362"/>
                  </a:lnTo>
                  <a:lnTo>
                    <a:pt x="647" y="335"/>
                  </a:lnTo>
                  <a:lnTo>
                    <a:pt x="652" y="307"/>
                  </a:lnTo>
                  <a:lnTo>
                    <a:pt x="654" y="278"/>
                  </a:lnTo>
                  <a:lnTo>
                    <a:pt x="653" y="255"/>
                  </a:lnTo>
                  <a:lnTo>
                    <a:pt x="649" y="232"/>
                  </a:lnTo>
                  <a:lnTo>
                    <a:pt x="644" y="210"/>
                  </a:lnTo>
                  <a:lnTo>
                    <a:pt x="637" y="188"/>
                  </a:lnTo>
                  <a:lnTo>
                    <a:pt x="626" y="167"/>
                  </a:lnTo>
                  <a:lnTo>
                    <a:pt x="615" y="148"/>
                  </a:lnTo>
                  <a:lnTo>
                    <a:pt x="601" y="128"/>
                  </a:lnTo>
                  <a:lnTo>
                    <a:pt x="586" y="110"/>
                  </a:lnTo>
                  <a:lnTo>
                    <a:pt x="572" y="97"/>
                  </a:lnTo>
                  <a:lnTo>
                    <a:pt x="557" y="85"/>
                  </a:lnTo>
                  <a:lnTo>
                    <a:pt x="541" y="75"/>
                  </a:lnTo>
                  <a:lnTo>
                    <a:pt x="524" y="65"/>
                  </a:lnTo>
                  <a:lnTo>
                    <a:pt x="507" y="54"/>
                  </a:lnTo>
                  <a:lnTo>
                    <a:pt x="489" y="45"/>
                  </a:lnTo>
                  <a:lnTo>
                    <a:pt x="470" y="37"/>
                  </a:lnTo>
                  <a:lnTo>
                    <a:pt x="451" y="30"/>
                  </a:lnTo>
                  <a:lnTo>
                    <a:pt x="431" y="23"/>
                  </a:lnTo>
                  <a:lnTo>
                    <a:pt x="410" y="17"/>
                  </a:lnTo>
                  <a:lnTo>
                    <a:pt x="389" y="12"/>
                  </a:lnTo>
                  <a:lnTo>
                    <a:pt x="367" y="8"/>
                  </a:lnTo>
                  <a:lnTo>
                    <a:pt x="345" y="5"/>
                  </a:lnTo>
                  <a:lnTo>
                    <a:pt x="323" y="2"/>
                  </a:lnTo>
                  <a:lnTo>
                    <a:pt x="300" y="0"/>
                  </a:lnTo>
                  <a:lnTo>
                    <a:pt x="277" y="0"/>
                  </a:lnTo>
                  <a:lnTo>
                    <a:pt x="257" y="0"/>
                  </a:lnTo>
                  <a:lnTo>
                    <a:pt x="237" y="1"/>
                  </a:lnTo>
                  <a:lnTo>
                    <a:pt x="217" y="4"/>
                  </a:lnTo>
                  <a:lnTo>
                    <a:pt x="199" y="6"/>
                  </a:lnTo>
                  <a:lnTo>
                    <a:pt x="179" y="9"/>
                  </a:lnTo>
                  <a:lnTo>
                    <a:pt x="161" y="13"/>
                  </a:lnTo>
                  <a:lnTo>
                    <a:pt x="142" y="17"/>
                  </a:lnTo>
                  <a:lnTo>
                    <a:pt x="125" y="23"/>
                  </a:lnTo>
                  <a:lnTo>
                    <a:pt x="108" y="29"/>
                  </a:lnTo>
                  <a:lnTo>
                    <a:pt x="91" y="35"/>
                  </a:lnTo>
                  <a:lnTo>
                    <a:pt x="75" y="42"/>
                  </a:lnTo>
                  <a:lnTo>
                    <a:pt x="58" y="50"/>
                  </a:lnTo>
                  <a:lnTo>
                    <a:pt x="43" y="58"/>
                  </a:lnTo>
                  <a:lnTo>
                    <a:pt x="28" y="66"/>
                  </a:lnTo>
                  <a:lnTo>
                    <a:pt x="13" y="75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669520" y="3051000"/>
              <a:ext cx="87120" cy="192240"/>
            </a:xfrm>
            <a:custGeom>
              <a:avLst/>
              <a:gdLst/>
              <a:ahLst/>
              <a:rect l="l" t="t" r="r" b="b"/>
              <a:pathLst>
                <a:path w="109" h="242">
                  <a:moveTo>
                    <a:pt x="0" y="234"/>
                  </a:moveTo>
                  <a:lnTo>
                    <a:pt x="10" y="242"/>
                  </a:lnTo>
                  <a:lnTo>
                    <a:pt x="32" y="221"/>
                  </a:lnTo>
                  <a:lnTo>
                    <a:pt x="51" y="200"/>
                  </a:lnTo>
                  <a:lnTo>
                    <a:pt x="69" y="175"/>
                  </a:lnTo>
                  <a:lnTo>
                    <a:pt x="83" y="151"/>
                  </a:lnTo>
                  <a:lnTo>
                    <a:pt x="94" y="126"/>
                  </a:lnTo>
                  <a:lnTo>
                    <a:pt x="102" y="98"/>
                  </a:lnTo>
                  <a:lnTo>
                    <a:pt x="107" y="70"/>
                  </a:lnTo>
                  <a:lnTo>
                    <a:pt x="109" y="43"/>
                  </a:lnTo>
                  <a:lnTo>
                    <a:pt x="109" y="32"/>
                  </a:lnTo>
                  <a:lnTo>
                    <a:pt x="108" y="21"/>
                  </a:lnTo>
                  <a:lnTo>
                    <a:pt x="107" y="11"/>
                  </a:lnTo>
                  <a:lnTo>
                    <a:pt x="104" y="0"/>
                  </a:lnTo>
                  <a:lnTo>
                    <a:pt x="103" y="20"/>
                  </a:lnTo>
                  <a:lnTo>
                    <a:pt x="101" y="45"/>
                  </a:lnTo>
                  <a:lnTo>
                    <a:pt x="95" y="74"/>
                  </a:lnTo>
                  <a:lnTo>
                    <a:pt x="87" y="105"/>
                  </a:lnTo>
                  <a:lnTo>
                    <a:pt x="73" y="137"/>
                  </a:lnTo>
                  <a:lnTo>
                    <a:pt x="55" y="171"/>
                  </a:lnTo>
                  <a:lnTo>
                    <a:pt x="31" y="203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102520" y="2827080"/>
              <a:ext cx="582840" cy="273240"/>
            </a:xfrm>
            <a:custGeom>
              <a:avLst/>
              <a:gdLst/>
              <a:ahLst/>
              <a:rect l="l" t="t" r="r" b="b"/>
              <a:pathLst>
                <a:path w="734" h="343">
                  <a:moveTo>
                    <a:pt x="402" y="0"/>
                  </a:moveTo>
                  <a:lnTo>
                    <a:pt x="381" y="0"/>
                  </a:lnTo>
                  <a:lnTo>
                    <a:pt x="361" y="1"/>
                  </a:lnTo>
                  <a:lnTo>
                    <a:pt x="341" y="3"/>
                  </a:lnTo>
                  <a:lnTo>
                    <a:pt x="322" y="6"/>
                  </a:lnTo>
                  <a:lnTo>
                    <a:pt x="302" y="9"/>
                  </a:lnTo>
                  <a:lnTo>
                    <a:pt x="284" y="14"/>
                  </a:lnTo>
                  <a:lnTo>
                    <a:pt x="265" y="18"/>
                  </a:lnTo>
                  <a:lnTo>
                    <a:pt x="247" y="23"/>
                  </a:lnTo>
                  <a:lnTo>
                    <a:pt x="229" y="29"/>
                  </a:lnTo>
                  <a:lnTo>
                    <a:pt x="212" y="36"/>
                  </a:lnTo>
                  <a:lnTo>
                    <a:pt x="195" y="43"/>
                  </a:lnTo>
                  <a:lnTo>
                    <a:pt x="179" y="51"/>
                  </a:lnTo>
                  <a:lnTo>
                    <a:pt x="164" y="59"/>
                  </a:lnTo>
                  <a:lnTo>
                    <a:pt x="149" y="68"/>
                  </a:lnTo>
                  <a:lnTo>
                    <a:pt x="134" y="77"/>
                  </a:lnTo>
                  <a:lnTo>
                    <a:pt x="120" y="86"/>
                  </a:lnTo>
                  <a:lnTo>
                    <a:pt x="114" y="91"/>
                  </a:lnTo>
                  <a:lnTo>
                    <a:pt x="108" y="96"/>
                  </a:lnTo>
                  <a:lnTo>
                    <a:pt x="103" y="100"/>
                  </a:lnTo>
                  <a:lnTo>
                    <a:pt x="97" y="105"/>
                  </a:lnTo>
                  <a:lnTo>
                    <a:pt x="96" y="106"/>
                  </a:lnTo>
                  <a:lnTo>
                    <a:pt x="96" y="107"/>
                  </a:lnTo>
                  <a:lnTo>
                    <a:pt x="95" y="108"/>
                  </a:lnTo>
                  <a:lnTo>
                    <a:pt x="93" y="109"/>
                  </a:lnTo>
                  <a:lnTo>
                    <a:pt x="73" y="129"/>
                  </a:lnTo>
                  <a:lnTo>
                    <a:pt x="54" y="151"/>
                  </a:lnTo>
                  <a:lnTo>
                    <a:pt x="38" y="174"/>
                  </a:lnTo>
                  <a:lnTo>
                    <a:pt x="25" y="197"/>
                  </a:lnTo>
                  <a:lnTo>
                    <a:pt x="14" y="222"/>
                  </a:lnTo>
                  <a:lnTo>
                    <a:pt x="7" y="248"/>
                  </a:lnTo>
                  <a:lnTo>
                    <a:pt x="1" y="274"/>
                  </a:lnTo>
                  <a:lnTo>
                    <a:pt x="0" y="301"/>
                  </a:lnTo>
                  <a:lnTo>
                    <a:pt x="0" y="312"/>
                  </a:lnTo>
                  <a:lnTo>
                    <a:pt x="1" y="323"/>
                  </a:lnTo>
                  <a:lnTo>
                    <a:pt x="4" y="333"/>
                  </a:lnTo>
                  <a:lnTo>
                    <a:pt x="5" y="343"/>
                  </a:lnTo>
                  <a:lnTo>
                    <a:pt x="24" y="334"/>
                  </a:lnTo>
                  <a:lnTo>
                    <a:pt x="24" y="332"/>
                  </a:lnTo>
                  <a:lnTo>
                    <a:pt x="24" y="328"/>
                  </a:lnTo>
                  <a:lnTo>
                    <a:pt x="23" y="326"/>
                  </a:lnTo>
                  <a:lnTo>
                    <a:pt x="23" y="324"/>
                  </a:lnTo>
                  <a:lnTo>
                    <a:pt x="24" y="296"/>
                  </a:lnTo>
                  <a:lnTo>
                    <a:pt x="30" y="269"/>
                  </a:lnTo>
                  <a:lnTo>
                    <a:pt x="38" y="243"/>
                  </a:lnTo>
                  <a:lnTo>
                    <a:pt x="50" y="218"/>
                  </a:lnTo>
                  <a:lnTo>
                    <a:pt x="64" y="194"/>
                  </a:lnTo>
                  <a:lnTo>
                    <a:pt x="80" y="171"/>
                  </a:lnTo>
                  <a:lnTo>
                    <a:pt x="98" y="149"/>
                  </a:lnTo>
                  <a:lnTo>
                    <a:pt x="120" y="128"/>
                  </a:lnTo>
                  <a:lnTo>
                    <a:pt x="127" y="122"/>
                  </a:lnTo>
                  <a:lnTo>
                    <a:pt x="134" y="118"/>
                  </a:lnTo>
                  <a:lnTo>
                    <a:pt x="141" y="112"/>
                  </a:lnTo>
                  <a:lnTo>
                    <a:pt x="148" y="107"/>
                  </a:lnTo>
                  <a:lnTo>
                    <a:pt x="161" y="98"/>
                  </a:lnTo>
                  <a:lnTo>
                    <a:pt x="176" y="89"/>
                  </a:lnTo>
                  <a:lnTo>
                    <a:pt x="191" y="81"/>
                  </a:lnTo>
                  <a:lnTo>
                    <a:pt x="206" y="73"/>
                  </a:lnTo>
                  <a:lnTo>
                    <a:pt x="223" y="65"/>
                  </a:lnTo>
                  <a:lnTo>
                    <a:pt x="239" y="58"/>
                  </a:lnTo>
                  <a:lnTo>
                    <a:pt x="256" y="52"/>
                  </a:lnTo>
                  <a:lnTo>
                    <a:pt x="273" y="46"/>
                  </a:lnTo>
                  <a:lnTo>
                    <a:pt x="290" y="40"/>
                  </a:lnTo>
                  <a:lnTo>
                    <a:pt x="309" y="36"/>
                  </a:lnTo>
                  <a:lnTo>
                    <a:pt x="327" y="32"/>
                  </a:lnTo>
                  <a:lnTo>
                    <a:pt x="347" y="29"/>
                  </a:lnTo>
                  <a:lnTo>
                    <a:pt x="365" y="27"/>
                  </a:lnTo>
                  <a:lnTo>
                    <a:pt x="385" y="24"/>
                  </a:lnTo>
                  <a:lnTo>
                    <a:pt x="405" y="23"/>
                  </a:lnTo>
                  <a:lnTo>
                    <a:pt x="425" y="23"/>
                  </a:lnTo>
                  <a:lnTo>
                    <a:pt x="448" y="23"/>
                  </a:lnTo>
                  <a:lnTo>
                    <a:pt x="471" y="25"/>
                  </a:lnTo>
                  <a:lnTo>
                    <a:pt x="493" y="28"/>
                  </a:lnTo>
                  <a:lnTo>
                    <a:pt x="515" y="31"/>
                  </a:lnTo>
                  <a:lnTo>
                    <a:pt x="537" y="35"/>
                  </a:lnTo>
                  <a:lnTo>
                    <a:pt x="558" y="40"/>
                  </a:lnTo>
                  <a:lnTo>
                    <a:pt x="579" y="46"/>
                  </a:lnTo>
                  <a:lnTo>
                    <a:pt x="599" y="53"/>
                  </a:lnTo>
                  <a:lnTo>
                    <a:pt x="618" y="60"/>
                  </a:lnTo>
                  <a:lnTo>
                    <a:pt x="637" y="68"/>
                  </a:lnTo>
                  <a:lnTo>
                    <a:pt x="655" y="77"/>
                  </a:lnTo>
                  <a:lnTo>
                    <a:pt x="672" y="88"/>
                  </a:lnTo>
                  <a:lnTo>
                    <a:pt x="689" y="98"/>
                  </a:lnTo>
                  <a:lnTo>
                    <a:pt x="705" y="108"/>
                  </a:lnTo>
                  <a:lnTo>
                    <a:pt x="720" y="120"/>
                  </a:lnTo>
                  <a:lnTo>
                    <a:pt x="734" y="133"/>
                  </a:lnTo>
                  <a:lnTo>
                    <a:pt x="720" y="118"/>
                  </a:lnTo>
                  <a:lnTo>
                    <a:pt x="705" y="104"/>
                  </a:lnTo>
                  <a:lnTo>
                    <a:pt x="689" y="90"/>
                  </a:lnTo>
                  <a:lnTo>
                    <a:pt x="672" y="77"/>
                  </a:lnTo>
                  <a:lnTo>
                    <a:pt x="653" y="66"/>
                  </a:lnTo>
                  <a:lnTo>
                    <a:pt x="634" y="55"/>
                  </a:lnTo>
                  <a:lnTo>
                    <a:pt x="614" y="45"/>
                  </a:lnTo>
                  <a:lnTo>
                    <a:pt x="593" y="36"/>
                  </a:lnTo>
                  <a:lnTo>
                    <a:pt x="572" y="28"/>
                  </a:lnTo>
                  <a:lnTo>
                    <a:pt x="550" y="21"/>
                  </a:lnTo>
                  <a:lnTo>
                    <a:pt x="526" y="15"/>
                  </a:lnTo>
                  <a:lnTo>
                    <a:pt x="502" y="9"/>
                  </a:lnTo>
                  <a:lnTo>
                    <a:pt x="478" y="6"/>
                  </a:lnTo>
                  <a:lnTo>
                    <a:pt x="453" y="2"/>
                  </a:lnTo>
                  <a:lnTo>
                    <a:pt x="428" y="1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0063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053560" y="2887560"/>
              <a:ext cx="98280" cy="196920"/>
            </a:xfrm>
            <a:custGeom>
              <a:avLst/>
              <a:gdLst/>
              <a:ahLst/>
              <a:rect l="l" t="t" r="r" b="b"/>
              <a:pathLst>
                <a:path w="123" h="248">
                  <a:moveTo>
                    <a:pt x="4" y="241"/>
                  </a:moveTo>
                  <a:lnTo>
                    <a:pt x="13" y="248"/>
                  </a:lnTo>
                  <a:lnTo>
                    <a:pt x="13" y="242"/>
                  </a:lnTo>
                  <a:lnTo>
                    <a:pt x="15" y="225"/>
                  </a:lnTo>
                  <a:lnTo>
                    <a:pt x="19" y="201"/>
                  </a:lnTo>
                  <a:lnTo>
                    <a:pt x="27" y="168"/>
                  </a:lnTo>
                  <a:lnTo>
                    <a:pt x="40" y="131"/>
                  </a:lnTo>
                  <a:lnTo>
                    <a:pt x="60" y="91"/>
                  </a:lnTo>
                  <a:lnTo>
                    <a:pt x="88" y="51"/>
                  </a:lnTo>
                  <a:lnTo>
                    <a:pt x="123" y="10"/>
                  </a:lnTo>
                  <a:lnTo>
                    <a:pt x="108" y="0"/>
                  </a:lnTo>
                  <a:lnTo>
                    <a:pt x="93" y="14"/>
                  </a:lnTo>
                  <a:lnTo>
                    <a:pt x="80" y="28"/>
                  </a:lnTo>
                  <a:lnTo>
                    <a:pt x="66" y="43"/>
                  </a:lnTo>
                  <a:lnTo>
                    <a:pt x="53" y="59"/>
                  </a:lnTo>
                  <a:lnTo>
                    <a:pt x="42" y="74"/>
                  </a:lnTo>
                  <a:lnTo>
                    <a:pt x="31" y="91"/>
                  </a:lnTo>
                  <a:lnTo>
                    <a:pt x="22" y="107"/>
                  </a:lnTo>
                  <a:lnTo>
                    <a:pt x="13" y="125"/>
                  </a:lnTo>
                  <a:lnTo>
                    <a:pt x="6" y="151"/>
                  </a:lnTo>
                  <a:lnTo>
                    <a:pt x="1" y="180"/>
                  </a:lnTo>
                  <a:lnTo>
                    <a:pt x="0" y="210"/>
                  </a:lnTo>
                  <a:lnTo>
                    <a:pt x="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139240" y="2884320"/>
              <a:ext cx="14400" cy="1116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9" y="10"/>
                  </a:moveTo>
                  <a:lnTo>
                    <a:pt x="5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15" y="13"/>
                  </a:lnTo>
                  <a:lnTo>
                    <a:pt x="17" y="12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102520" y="2913120"/>
              <a:ext cx="149400" cy="203040"/>
            </a:xfrm>
            <a:custGeom>
              <a:avLst/>
              <a:gdLst/>
              <a:ahLst/>
              <a:rect l="l" t="t" r="r" b="b"/>
              <a:pathLst>
                <a:path w="189" h="257">
                  <a:moveTo>
                    <a:pt x="23" y="217"/>
                  </a:moveTo>
                  <a:lnTo>
                    <a:pt x="20" y="224"/>
                  </a:lnTo>
                  <a:lnTo>
                    <a:pt x="12" y="236"/>
                  </a:lnTo>
                  <a:lnTo>
                    <a:pt x="4" y="250"/>
                  </a:lnTo>
                  <a:lnTo>
                    <a:pt x="0" y="257"/>
                  </a:lnTo>
                  <a:lnTo>
                    <a:pt x="89" y="206"/>
                  </a:lnTo>
                  <a:lnTo>
                    <a:pt x="91" y="182"/>
                  </a:lnTo>
                  <a:lnTo>
                    <a:pt x="98" y="157"/>
                  </a:lnTo>
                  <a:lnTo>
                    <a:pt x="106" y="133"/>
                  </a:lnTo>
                  <a:lnTo>
                    <a:pt x="118" y="109"/>
                  </a:lnTo>
                  <a:lnTo>
                    <a:pt x="131" y="87"/>
                  </a:lnTo>
                  <a:lnTo>
                    <a:pt x="149" y="66"/>
                  </a:lnTo>
                  <a:lnTo>
                    <a:pt x="167" y="46"/>
                  </a:lnTo>
                  <a:lnTo>
                    <a:pt x="189" y="29"/>
                  </a:lnTo>
                  <a:lnTo>
                    <a:pt x="148" y="0"/>
                  </a:lnTo>
                  <a:lnTo>
                    <a:pt x="141" y="5"/>
                  </a:lnTo>
                  <a:lnTo>
                    <a:pt x="134" y="11"/>
                  </a:lnTo>
                  <a:lnTo>
                    <a:pt x="127" y="15"/>
                  </a:lnTo>
                  <a:lnTo>
                    <a:pt x="120" y="21"/>
                  </a:lnTo>
                  <a:lnTo>
                    <a:pt x="98" y="42"/>
                  </a:lnTo>
                  <a:lnTo>
                    <a:pt x="80" y="64"/>
                  </a:lnTo>
                  <a:lnTo>
                    <a:pt x="64" y="87"/>
                  </a:lnTo>
                  <a:lnTo>
                    <a:pt x="50" y="111"/>
                  </a:lnTo>
                  <a:lnTo>
                    <a:pt x="38" y="136"/>
                  </a:lnTo>
                  <a:lnTo>
                    <a:pt x="30" y="162"/>
                  </a:lnTo>
                  <a:lnTo>
                    <a:pt x="24" y="189"/>
                  </a:lnTo>
                  <a:lnTo>
                    <a:pt x="23" y="2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350200" y="3203640"/>
              <a:ext cx="306360" cy="160200"/>
            </a:xfrm>
            <a:custGeom>
              <a:avLst/>
              <a:gdLst/>
              <a:ahLst/>
              <a:rect l="l" t="t" r="r" b="b"/>
              <a:pathLst>
                <a:path w="386" h="202">
                  <a:moveTo>
                    <a:pt x="0" y="168"/>
                  </a:moveTo>
                  <a:lnTo>
                    <a:pt x="22" y="194"/>
                  </a:lnTo>
                  <a:lnTo>
                    <a:pt x="38" y="202"/>
                  </a:lnTo>
                  <a:lnTo>
                    <a:pt x="49" y="198"/>
                  </a:lnTo>
                  <a:lnTo>
                    <a:pt x="57" y="184"/>
                  </a:lnTo>
                  <a:lnTo>
                    <a:pt x="63" y="166"/>
                  </a:lnTo>
                  <a:lnTo>
                    <a:pt x="69" y="147"/>
                  </a:lnTo>
                  <a:lnTo>
                    <a:pt x="78" y="133"/>
                  </a:lnTo>
                  <a:lnTo>
                    <a:pt x="90" y="128"/>
                  </a:lnTo>
                  <a:lnTo>
                    <a:pt x="110" y="129"/>
                  </a:lnTo>
                  <a:lnTo>
                    <a:pt x="129" y="128"/>
                  </a:lnTo>
                  <a:lnTo>
                    <a:pt x="148" y="126"/>
                  </a:lnTo>
                  <a:lnTo>
                    <a:pt x="167" y="124"/>
                  </a:lnTo>
                  <a:lnTo>
                    <a:pt x="186" y="122"/>
                  </a:lnTo>
                  <a:lnTo>
                    <a:pt x="204" y="118"/>
                  </a:lnTo>
                  <a:lnTo>
                    <a:pt x="222" y="114"/>
                  </a:lnTo>
                  <a:lnTo>
                    <a:pt x="239" y="108"/>
                  </a:lnTo>
                  <a:lnTo>
                    <a:pt x="256" y="102"/>
                  </a:lnTo>
                  <a:lnTo>
                    <a:pt x="273" y="96"/>
                  </a:lnTo>
                  <a:lnTo>
                    <a:pt x="290" y="90"/>
                  </a:lnTo>
                  <a:lnTo>
                    <a:pt x="306" y="81"/>
                  </a:lnTo>
                  <a:lnTo>
                    <a:pt x="321" y="73"/>
                  </a:lnTo>
                  <a:lnTo>
                    <a:pt x="336" y="65"/>
                  </a:lnTo>
                  <a:lnTo>
                    <a:pt x="349" y="56"/>
                  </a:lnTo>
                  <a:lnTo>
                    <a:pt x="363" y="47"/>
                  </a:lnTo>
                  <a:lnTo>
                    <a:pt x="369" y="42"/>
                  </a:lnTo>
                  <a:lnTo>
                    <a:pt x="375" y="38"/>
                  </a:lnTo>
                  <a:lnTo>
                    <a:pt x="381" y="34"/>
                  </a:lnTo>
                  <a:lnTo>
                    <a:pt x="386" y="30"/>
                  </a:lnTo>
                  <a:lnTo>
                    <a:pt x="345" y="0"/>
                  </a:lnTo>
                  <a:lnTo>
                    <a:pt x="333" y="9"/>
                  </a:lnTo>
                  <a:lnTo>
                    <a:pt x="322" y="18"/>
                  </a:lnTo>
                  <a:lnTo>
                    <a:pt x="309" y="26"/>
                  </a:lnTo>
                  <a:lnTo>
                    <a:pt x="295" y="34"/>
                  </a:lnTo>
                  <a:lnTo>
                    <a:pt x="281" y="41"/>
                  </a:lnTo>
                  <a:lnTo>
                    <a:pt x="268" y="48"/>
                  </a:lnTo>
                  <a:lnTo>
                    <a:pt x="253" y="55"/>
                  </a:lnTo>
                  <a:lnTo>
                    <a:pt x="238" y="60"/>
                  </a:lnTo>
                  <a:lnTo>
                    <a:pt x="222" y="65"/>
                  </a:lnTo>
                  <a:lnTo>
                    <a:pt x="205" y="70"/>
                  </a:lnTo>
                  <a:lnTo>
                    <a:pt x="189" y="73"/>
                  </a:lnTo>
                  <a:lnTo>
                    <a:pt x="172" y="77"/>
                  </a:lnTo>
                  <a:lnTo>
                    <a:pt x="155" y="79"/>
                  </a:lnTo>
                  <a:lnTo>
                    <a:pt x="137" y="81"/>
                  </a:lnTo>
                  <a:lnTo>
                    <a:pt x="120" y="83"/>
                  </a:lnTo>
                  <a:lnTo>
                    <a:pt x="102" y="83"/>
                  </a:lnTo>
                  <a:lnTo>
                    <a:pt x="98" y="84"/>
                  </a:lnTo>
                  <a:lnTo>
                    <a:pt x="88" y="86"/>
                  </a:lnTo>
                  <a:lnTo>
                    <a:pt x="74" y="91"/>
                  </a:lnTo>
                  <a:lnTo>
                    <a:pt x="57" y="98"/>
                  </a:lnTo>
                  <a:lnTo>
                    <a:pt x="40" y="109"/>
                  </a:lnTo>
                  <a:lnTo>
                    <a:pt x="22" y="124"/>
                  </a:lnTo>
                  <a:lnTo>
                    <a:pt x="10" y="144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021880" y="2766960"/>
              <a:ext cx="796680" cy="617400"/>
            </a:xfrm>
            <a:custGeom>
              <a:avLst/>
              <a:gdLst/>
              <a:ahLst/>
              <a:rect l="l" t="t" r="r" b="b"/>
              <a:pathLst>
                <a:path w="1002" h="778">
                  <a:moveTo>
                    <a:pt x="1002" y="377"/>
                  </a:moveTo>
                  <a:lnTo>
                    <a:pt x="1001" y="347"/>
                  </a:lnTo>
                  <a:lnTo>
                    <a:pt x="996" y="318"/>
                  </a:lnTo>
                  <a:lnTo>
                    <a:pt x="988" y="289"/>
                  </a:lnTo>
                  <a:lnTo>
                    <a:pt x="978" y="262"/>
                  </a:lnTo>
                  <a:lnTo>
                    <a:pt x="965" y="234"/>
                  </a:lnTo>
                  <a:lnTo>
                    <a:pt x="949" y="209"/>
                  </a:lnTo>
                  <a:lnTo>
                    <a:pt x="932" y="183"/>
                  </a:lnTo>
                  <a:lnTo>
                    <a:pt x="911" y="160"/>
                  </a:lnTo>
                  <a:lnTo>
                    <a:pt x="894" y="143"/>
                  </a:lnTo>
                  <a:lnTo>
                    <a:pt x="874" y="126"/>
                  </a:lnTo>
                  <a:lnTo>
                    <a:pt x="855" y="109"/>
                  </a:lnTo>
                  <a:lnTo>
                    <a:pt x="833" y="94"/>
                  </a:lnTo>
                  <a:lnTo>
                    <a:pt x="811" y="81"/>
                  </a:lnTo>
                  <a:lnTo>
                    <a:pt x="787" y="67"/>
                  </a:lnTo>
                  <a:lnTo>
                    <a:pt x="763" y="55"/>
                  </a:lnTo>
                  <a:lnTo>
                    <a:pt x="736" y="44"/>
                  </a:lnTo>
                  <a:lnTo>
                    <a:pt x="710" y="33"/>
                  </a:lnTo>
                  <a:lnTo>
                    <a:pt x="682" y="25"/>
                  </a:lnTo>
                  <a:lnTo>
                    <a:pt x="654" y="17"/>
                  </a:lnTo>
                  <a:lnTo>
                    <a:pt x="626" y="11"/>
                  </a:lnTo>
                  <a:lnTo>
                    <a:pt x="596" y="7"/>
                  </a:lnTo>
                  <a:lnTo>
                    <a:pt x="564" y="3"/>
                  </a:lnTo>
                  <a:lnTo>
                    <a:pt x="533" y="1"/>
                  </a:lnTo>
                  <a:lnTo>
                    <a:pt x="502" y="0"/>
                  </a:lnTo>
                  <a:lnTo>
                    <a:pt x="476" y="0"/>
                  </a:lnTo>
                  <a:lnTo>
                    <a:pt x="450" y="2"/>
                  </a:lnTo>
                  <a:lnTo>
                    <a:pt x="425" y="5"/>
                  </a:lnTo>
                  <a:lnTo>
                    <a:pt x="401" y="8"/>
                  </a:lnTo>
                  <a:lnTo>
                    <a:pt x="377" y="11"/>
                  </a:lnTo>
                  <a:lnTo>
                    <a:pt x="352" y="17"/>
                  </a:lnTo>
                  <a:lnTo>
                    <a:pt x="329" y="23"/>
                  </a:lnTo>
                  <a:lnTo>
                    <a:pt x="306" y="30"/>
                  </a:lnTo>
                  <a:lnTo>
                    <a:pt x="284" y="37"/>
                  </a:lnTo>
                  <a:lnTo>
                    <a:pt x="263" y="46"/>
                  </a:lnTo>
                  <a:lnTo>
                    <a:pt x="242" y="55"/>
                  </a:lnTo>
                  <a:lnTo>
                    <a:pt x="221" y="64"/>
                  </a:lnTo>
                  <a:lnTo>
                    <a:pt x="202" y="75"/>
                  </a:lnTo>
                  <a:lnTo>
                    <a:pt x="183" y="86"/>
                  </a:lnTo>
                  <a:lnTo>
                    <a:pt x="165" y="98"/>
                  </a:lnTo>
                  <a:lnTo>
                    <a:pt x="147" y="111"/>
                  </a:lnTo>
                  <a:lnTo>
                    <a:pt x="142" y="115"/>
                  </a:lnTo>
                  <a:lnTo>
                    <a:pt x="136" y="120"/>
                  </a:lnTo>
                  <a:lnTo>
                    <a:pt x="130" y="124"/>
                  </a:lnTo>
                  <a:lnTo>
                    <a:pt x="124" y="129"/>
                  </a:lnTo>
                  <a:lnTo>
                    <a:pt x="97" y="156"/>
                  </a:lnTo>
                  <a:lnTo>
                    <a:pt x="72" y="183"/>
                  </a:lnTo>
                  <a:lnTo>
                    <a:pt x="51" y="212"/>
                  </a:lnTo>
                  <a:lnTo>
                    <a:pt x="33" y="242"/>
                  </a:lnTo>
                  <a:lnTo>
                    <a:pt x="19" y="274"/>
                  </a:lnTo>
                  <a:lnTo>
                    <a:pt x="8" y="308"/>
                  </a:lnTo>
                  <a:lnTo>
                    <a:pt x="2" y="342"/>
                  </a:lnTo>
                  <a:lnTo>
                    <a:pt x="0" y="377"/>
                  </a:lnTo>
                  <a:lnTo>
                    <a:pt x="1" y="399"/>
                  </a:lnTo>
                  <a:lnTo>
                    <a:pt x="3" y="421"/>
                  </a:lnTo>
                  <a:lnTo>
                    <a:pt x="8" y="442"/>
                  </a:lnTo>
                  <a:lnTo>
                    <a:pt x="14" y="464"/>
                  </a:lnTo>
                  <a:lnTo>
                    <a:pt x="30" y="456"/>
                  </a:lnTo>
                  <a:lnTo>
                    <a:pt x="105" y="419"/>
                  </a:lnTo>
                  <a:lnTo>
                    <a:pt x="104" y="409"/>
                  </a:lnTo>
                  <a:lnTo>
                    <a:pt x="101" y="399"/>
                  </a:lnTo>
                  <a:lnTo>
                    <a:pt x="100" y="388"/>
                  </a:lnTo>
                  <a:lnTo>
                    <a:pt x="100" y="377"/>
                  </a:lnTo>
                  <a:lnTo>
                    <a:pt x="101" y="350"/>
                  </a:lnTo>
                  <a:lnTo>
                    <a:pt x="107" y="324"/>
                  </a:lnTo>
                  <a:lnTo>
                    <a:pt x="114" y="298"/>
                  </a:lnTo>
                  <a:lnTo>
                    <a:pt x="125" y="273"/>
                  </a:lnTo>
                  <a:lnTo>
                    <a:pt x="138" y="250"/>
                  </a:lnTo>
                  <a:lnTo>
                    <a:pt x="154" y="227"/>
                  </a:lnTo>
                  <a:lnTo>
                    <a:pt x="173" y="205"/>
                  </a:lnTo>
                  <a:lnTo>
                    <a:pt x="193" y="185"/>
                  </a:lnTo>
                  <a:lnTo>
                    <a:pt x="197" y="181"/>
                  </a:lnTo>
                  <a:lnTo>
                    <a:pt x="203" y="176"/>
                  </a:lnTo>
                  <a:lnTo>
                    <a:pt x="208" y="172"/>
                  </a:lnTo>
                  <a:lnTo>
                    <a:pt x="214" y="167"/>
                  </a:lnTo>
                  <a:lnTo>
                    <a:pt x="220" y="162"/>
                  </a:lnTo>
                  <a:lnTo>
                    <a:pt x="234" y="153"/>
                  </a:lnTo>
                  <a:lnTo>
                    <a:pt x="249" y="144"/>
                  </a:lnTo>
                  <a:lnTo>
                    <a:pt x="264" y="135"/>
                  </a:lnTo>
                  <a:lnTo>
                    <a:pt x="279" y="127"/>
                  </a:lnTo>
                  <a:lnTo>
                    <a:pt x="295" y="119"/>
                  </a:lnTo>
                  <a:lnTo>
                    <a:pt x="312" y="112"/>
                  </a:lnTo>
                  <a:lnTo>
                    <a:pt x="329" y="105"/>
                  </a:lnTo>
                  <a:lnTo>
                    <a:pt x="347" y="99"/>
                  </a:lnTo>
                  <a:lnTo>
                    <a:pt x="365" y="94"/>
                  </a:lnTo>
                  <a:lnTo>
                    <a:pt x="384" y="90"/>
                  </a:lnTo>
                  <a:lnTo>
                    <a:pt x="402" y="85"/>
                  </a:lnTo>
                  <a:lnTo>
                    <a:pt x="422" y="82"/>
                  </a:lnTo>
                  <a:lnTo>
                    <a:pt x="441" y="79"/>
                  </a:lnTo>
                  <a:lnTo>
                    <a:pt x="461" y="77"/>
                  </a:lnTo>
                  <a:lnTo>
                    <a:pt x="481" y="76"/>
                  </a:lnTo>
                  <a:lnTo>
                    <a:pt x="502" y="76"/>
                  </a:lnTo>
                  <a:lnTo>
                    <a:pt x="528" y="77"/>
                  </a:lnTo>
                  <a:lnTo>
                    <a:pt x="553" y="78"/>
                  </a:lnTo>
                  <a:lnTo>
                    <a:pt x="578" y="82"/>
                  </a:lnTo>
                  <a:lnTo>
                    <a:pt x="602" y="85"/>
                  </a:lnTo>
                  <a:lnTo>
                    <a:pt x="626" y="91"/>
                  </a:lnTo>
                  <a:lnTo>
                    <a:pt x="650" y="97"/>
                  </a:lnTo>
                  <a:lnTo>
                    <a:pt x="672" y="104"/>
                  </a:lnTo>
                  <a:lnTo>
                    <a:pt x="693" y="112"/>
                  </a:lnTo>
                  <a:lnTo>
                    <a:pt x="714" y="121"/>
                  </a:lnTo>
                  <a:lnTo>
                    <a:pt x="734" y="131"/>
                  </a:lnTo>
                  <a:lnTo>
                    <a:pt x="753" y="142"/>
                  </a:lnTo>
                  <a:lnTo>
                    <a:pt x="772" y="153"/>
                  </a:lnTo>
                  <a:lnTo>
                    <a:pt x="789" y="166"/>
                  </a:lnTo>
                  <a:lnTo>
                    <a:pt x="805" y="180"/>
                  </a:lnTo>
                  <a:lnTo>
                    <a:pt x="820" y="194"/>
                  </a:lnTo>
                  <a:lnTo>
                    <a:pt x="834" y="209"/>
                  </a:lnTo>
                  <a:lnTo>
                    <a:pt x="849" y="227"/>
                  </a:lnTo>
                  <a:lnTo>
                    <a:pt x="863" y="247"/>
                  </a:lnTo>
                  <a:lnTo>
                    <a:pt x="874" y="266"/>
                  </a:lnTo>
                  <a:lnTo>
                    <a:pt x="885" y="287"/>
                  </a:lnTo>
                  <a:lnTo>
                    <a:pt x="892" y="309"/>
                  </a:lnTo>
                  <a:lnTo>
                    <a:pt x="897" y="331"/>
                  </a:lnTo>
                  <a:lnTo>
                    <a:pt x="901" y="354"/>
                  </a:lnTo>
                  <a:lnTo>
                    <a:pt x="902" y="377"/>
                  </a:lnTo>
                  <a:lnTo>
                    <a:pt x="900" y="406"/>
                  </a:lnTo>
                  <a:lnTo>
                    <a:pt x="895" y="434"/>
                  </a:lnTo>
                  <a:lnTo>
                    <a:pt x="886" y="461"/>
                  </a:lnTo>
                  <a:lnTo>
                    <a:pt x="874" y="487"/>
                  </a:lnTo>
                  <a:lnTo>
                    <a:pt x="859" y="513"/>
                  </a:lnTo>
                  <a:lnTo>
                    <a:pt x="842" y="536"/>
                  </a:lnTo>
                  <a:lnTo>
                    <a:pt x="821" y="559"/>
                  </a:lnTo>
                  <a:lnTo>
                    <a:pt x="798" y="580"/>
                  </a:lnTo>
                  <a:lnTo>
                    <a:pt x="797" y="581"/>
                  </a:lnTo>
                  <a:lnTo>
                    <a:pt x="794" y="583"/>
                  </a:lnTo>
                  <a:lnTo>
                    <a:pt x="788" y="588"/>
                  </a:lnTo>
                  <a:lnTo>
                    <a:pt x="780" y="595"/>
                  </a:lnTo>
                  <a:lnTo>
                    <a:pt x="770" y="602"/>
                  </a:lnTo>
                  <a:lnTo>
                    <a:pt x="757" y="608"/>
                  </a:lnTo>
                  <a:lnTo>
                    <a:pt x="742" y="618"/>
                  </a:lnTo>
                  <a:lnTo>
                    <a:pt x="725" y="626"/>
                  </a:lnTo>
                  <a:lnTo>
                    <a:pt x="705" y="635"/>
                  </a:lnTo>
                  <a:lnTo>
                    <a:pt x="684" y="643"/>
                  </a:lnTo>
                  <a:lnTo>
                    <a:pt x="660" y="651"/>
                  </a:lnTo>
                  <a:lnTo>
                    <a:pt x="634" y="659"/>
                  </a:lnTo>
                  <a:lnTo>
                    <a:pt x="605" y="665"/>
                  </a:lnTo>
                  <a:lnTo>
                    <a:pt x="574" y="671"/>
                  </a:lnTo>
                  <a:lnTo>
                    <a:pt x="541" y="674"/>
                  </a:lnTo>
                  <a:lnTo>
                    <a:pt x="506" y="675"/>
                  </a:lnTo>
                  <a:lnTo>
                    <a:pt x="503" y="675"/>
                  </a:lnTo>
                  <a:lnTo>
                    <a:pt x="496" y="676"/>
                  </a:lnTo>
                  <a:lnTo>
                    <a:pt x="488" y="681"/>
                  </a:lnTo>
                  <a:lnTo>
                    <a:pt x="479" y="687"/>
                  </a:lnTo>
                  <a:lnTo>
                    <a:pt x="470" y="698"/>
                  </a:lnTo>
                  <a:lnTo>
                    <a:pt x="462" y="714"/>
                  </a:lnTo>
                  <a:lnTo>
                    <a:pt x="458" y="736"/>
                  </a:lnTo>
                  <a:lnTo>
                    <a:pt x="460" y="765"/>
                  </a:lnTo>
                  <a:lnTo>
                    <a:pt x="462" y="766"/>
                  </a:lnTo>
                  <a:lnTo>
                    <a:pt x="470" y="767"/>
                  </a:lnTo>
                  <a:lnTo>
                    <a:pt x="481" y="770"/>
                  </a:lnTo>
                  <a:lnTo>
                    <a:pt x="498" y="773"/>
                  </a:lnTo>
                  <a:lnTo>
                    <a:pt x="517" y="776"/>
                  </a:lnTo>
                  <a:lnTo>
                    <a:pt x="541" y="777"/>
                  </a:lnTo>
                  <a:lnTo>
                    <a:pt x="568" y="778"/>
                  </a:lnTo>
                  <a:lnTo>
                    <a:pt x="597" y="777"/>
                  </a:lnTo>
                  <a:lnTo>
                    <a:pt x="628" y="773"/>
                  </a:lnTo>
                  <a:lnTo>
                    <a:pt x="661" y="767"/>
                  </a:lnTo>
                  <a:lnTo>
                    <a:pt x="696" y="759"/>
                  </a:lnTo>
                  <a:lnTo>
                    <a:pt x="733" y="747"/>
                  </a:lnTo>
                  <a:lnTo>
                    <a:pt x="770" y="732"/>
                  </a:lnTo>
                  <a:lnTo>
                    <a:pt x="806" y="711"/>
                  </a:lnTo>
                  <a:lnTo>
                    <a:pt x="844" y="686"/>
                  </a:lnTo>
                  <a:lnTo>
                    <a:pt x="881" y="656"/>
                  </a:lnTo>
                  <a:lnTo>
                    <a:pt x="873" y="629"/>
                  </a:lnTo>
                  <a:lnTo>
                    <a:pt x="902" y="603"/>
                  </a:lnTo>
                  <a:lnTo>
                    <a:pt x="927" y="575"/>
                  </a:lnTo>
                  <a:lnTo>
                    <a:pt x="949" y="545"/>
                  </a:lnTo>
                  <a:lnTo>
                    <a:pt x="968" y="514"/>
                  </a:lnTo>
                  <a:lnTo>
                    <a:pt x="983" y="482"/>
                  </a:lnTo>
                  <a:lnTo>
                    <a:pt x="993" y="447"/>
                  </a:lnTo>
                  <a:lnTo>
                    <a:pt x="1000" y="413"/>
                  </a:lnTo>
                  <a:lnTo>
                    <a:pt x="1002" y="377"/>
                  </a:lnTo>
                  <a:close/>
                </a:path>
              </a:pathLst>
            </a:custGeom>
            <a:solidFill>
              <a:srgbClr val="59b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701200" y="3031920"/>
              <a:ext cx="63360" cy="220680"/>
            </a:xfrm>
            <a:custGeom>
              <a:avLst/>
              <a:gdLst/>
              <a:ahLst/>
              <a:rect l="l" t="t" r="r" b="b"/>
              <a:pathLst>
                <a:path w="80" h="278">
                  <a:moveTo>
                    <a:pt x="8" y="278"/>
                  </a:moveTo>
                  <a:lnTo>
                    <a:pt x="3" y="277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7" y="231"/>
                  </a:lnTo>
                  <a:lnTo>
                    <a:pt x="35" y="201"/>
                  </a:lnTo>
                  <a:lnTo>
                    <a:pt x="54" y="171"/>
                  </a:lnTo>
                  <a:lnTo>
                    <a:pt x="65" y="142"/>
                  </a:lnTo>
                  <a:lnTo>
                    <a:pt x="70" y="114"/>
                  </a:lnTo>
                  <a:lnTo>
                    <a:pt x="71" y="88"/>
                  </a:lnTo>
                  <a:lnTo>
                    <a:pt x="69" y="64"/>
                  </a:lnTo>
                  <a:lnTo>
                    <a:pt x="67" y="42"/>
                  </a:lnTo>
                  <a:lnTo>
                    <a:pt x="65" y="23"/>
                  </a:lnTo>
                  <a:lnTo>
                    <a:pt x="65" y="14"/>
                  </a:lnTo>
                  <a:lnTo>
                    <a:pt x="65" y="6"/>
                  </a:lnTo>
                  <a:lnTo>
                    <a:pt x="65" y="1"/>
                  </a:lnTo>
                  <a:lnTo>
                    <a:pt x="65" y="0"/>
                  </a:lnTo>
                  <a:lnTo>
                    <a:pt x="74" y="8"/>
                  </a:lnTo>
                  <a:lnTo>
                    <a:pt x="80" y="60"/>
                  </a:lnTo>
                  <a:lnTo>
                    <a:pt x="80" y="106"/>
                  </a:lnTo>
                  <a:lnTo>
                    <a:pt x="76" y="147"/>
                  </a:lnTo>
                  <a:lnTo>
                    <a:pt x="67" y="182"/>
                  </a:lnTo>
                  <a:lnTo>
                    <a:pt x="54" y="213"/>
                  </a:lnTo>
                  <a:lnTo>
                    <a:pt x="39" y="239"/>
                  </a:lnTo>
                  <a:lnTo>
                    <a:pt x="23" y="261"/>
                  </a:lnTo>
                  <a:lnTo>
                    <a:pt x="8" y="278"/>
                  </a:lnTo>
                  <a:close/>
                </a:path>
              </a:pathLst>
            </a:custGeom>
            <a:solidFill>
              <a:srgbClr val="59b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385120" y="2894040"/>
              <a:ext cx="451080" cy="495360"/>
            </a:xfrm>
            <a:custGeom>
              <a:avLst/>
              <a:gdLst/>
              <a:ahLst/>
              <a:rect l="l" t="t" r="r" b="b"/>
              <a:pathLst>
                <a:path w="568" h="624">
                  <a:moveTo>
                    <a:pt x="414" y="471"/>
                  </a:moveTo>
                  <a:lnTo>
                    <a:pt x="443" y="445"/>
                  </a:lnTo>
                  <a:lnTo>
                    <a:pt x="468" y="417"/>
                  </a:lnTo>
                  <a:lnTo>
                    <a:pt x="491" y="387"/>
                  </a:lnTo>
                  <a:lnTo>
                    <a:pt x="510" y="355"/>
                  </a:lnTo>
                  <a:lnTo>
                    <a:pt x="525" y="323"/>
                  </a:lnTo>
                  <a:lnTo>
                    <a:pt x="536" y="288"/>
                  </a:lnTo>
                  <a:lnTo>
                    <a:pt x="543" y="253"/>
                  </a:lnTo>
                  <a:lnTo>
                    <a:pt x="545" y="217"/>
                  </a:lnTo>
                  <a:lnTo>
                    <a:pt x="544" y="187"/>
                  </a:lnTo>
                  <a:lnTo>
                    <a:pt x="539" y="158"/>
                  </a:lnTo>
                  <a:lnTo>
                    <a:pt x="531" y="129"/>
                  </a:lnTo>
                  <a:lnTo>
                    <a:pt x="521" y="102"/>
                  </a:lnTo>
                  <a:lnTo>
                    <a:pt x="508" y="74"/>
                  </a:lnTo>
                  <a:lnTo>
                    <a:pt x="492" y="49"/>
                  </a:lnTo>
                  <a:lnTo>
                    <a:pt x="475" y="23"/>
                  </a:lnTo>
                  <a:lnTo>
                    <a:pt x="454" y="0"/>
                  </a:lnTo>
                  <a:lnTo>
                    <a:pt x="480" y="25"/>
                  </a:lnTo>
                  <a:lnTo>
                    <a:pt x="503" y="52"/>
                  </a:lnTo>
                  <a:lnTo>
                    <a:pt x="522" y="81"/>
                  </a:lnTo>
                  <a:lnTo>
                    <a:pt x="538" y="111"/>
                  </a:lnTo>
                  <a:lnTo>
                    <a:pt x="551" y="141"/>
                  </a:lnTo>
                  <a:lnTo>
                    <a:pt x="560" y="173"/>
                  </a:lnTo>
                  <a:lnTo>
                    <a:pt x="566" y="206"/>
                  </a:lnTo>
                  <a:lnTo>
                    <a:pt x="568" y="240"/>
                  </a:lnTo>
                  <a:lnTo>
                    <a:pt x="566" y="276"/>
                  </a:lnTo>
                  <a:lnTo>
                    <a:pt x="559" y="310"/>
                  </a:lnTo>
                  <a:lnTo>
                    <a:pt x="549" y="345"/>
                  </a:lnTo>
                  <a:lnTo>
                    <a:pt x="534" y="377"/>
                  </a:lnTo>
                  <a:lnTo>
                    <a:pt x="515" y="408"/>
                  </a:lnTo>
                  <a:lnTo>
                    <a:pt x="493" y="437"/>
                  </a:lnTo>
                  <a:lnTo>
                    <a:pt x="469" y="465"/>
                  </a:lnTo>
                  <a:lnTo>
                    <a:pt x="440" y="491"/>
                  </a:lnTo>
                  <a:lnTo>
                    <a:pt x="438" y="493"/>
                  </a:lnTo>
                  <a:lnTo>
                    <a:pt x="432" y="499"/>
                  </a:lnTo>
                  <a:lnTo>
                    <a:pt x="422" y="507"/>
                  </a:lnTo>
                  <a:lnTo>
                    <a:pt x="408" y="519"/>
                  </a:lnTo>
                  <a:lnTo>
                    <a:pt x="390" y="531"/>
                  </a:lnTo>
                  <a:lnTo>
                    <a:pt x="369" y="545"/>
                  </a:lnTo>
                  <a:lnTo>
                    <a:pt x="344" y="559"/>
                  </a:lnTo>
                  <a:lnTo>
                    <a:pt x="316" y="574"/>
                  </a:lnTo>
                  <a:lnTo>
                    <a:pt x="286" y="588"/>
                  </a:lnTo>
                  <a:lnTo>
                    <a:pt x="251" y="599"/>
                  </a:lnTo>
                  <a:lnTo>
                    <a:pt x="216" y="610"/>
                  </a:lnTo>
                  <a:lnTo>
                    <a:pt x="177" y="618"/>
                  </a:lnTo>
                  <a:lnTo>
                    <a:pt x="136" y="622"/>
                  </a:lnTo>
                  <a:lnTo>
                    <a:pt x="92" y="624"/>
                  </a:lnTo>
                  <a:lnTo>
                    <a:pt x="48" y="620"/>
                  </a:lnTo>
                  <a:lnTo>
                    <a:pt x="0" y="611"/>
                  </a:lnTo>
                  <a:lnTo>
                    <a:pt x="0" y="579"/>
                  </a:lnTo>
                  <a:lnTo>
                    <a:pt x="3" y="579"/>
                  </a:lnTo>
                  <a:lnTo>
                    <a:pt x="10" y="580"/>
                  </a:lnTo>
                  <a:lnTo>
                    <a:pt x="21" y="581"/>
                  </a:lnTo>
                  <a:lnTo>
                    <a:pt x="37" y="583"/>
                  </a:lnTo>
                  <a:lnTo>
                    <a:pt x="56" y="583"/>
                  </a:lnTo>
                  <a:lnTo>
                    <a:pt x="79" y="584"/>
                  </a:lnTo>
                  <a:lnTo>
                    <a:pt x="104" y="583"/>
                  </a:lnTo>
                  <a:lnTo>
                    <a:pt x="132" y="581"/>
                  </a:lnTo>
                  <a:lnTo>
                    <a:pt x="163" y="576"/>
                  </a:lnTo>
                  <a:lnTo>
                    <a:pt x="195" y="571"/>
                  </a:lnTo>
                  <a:lnTo>
                    <a:pt x="230" y="563"/>
                  </a:lnTo>
                  <a:lnTo>
                    <a:pt x="265" y="551"/>
                  </a:lnTo>
                  <a:lnTo>
                    <a:pt x="301" y="536"/>
                  </a:lnTo>
                  <a:lnTo>
                    <a:pt x="339" y="519"/>
                  </a:lnTo>
                  <a:lnTo>
                    <a:pt x="376" y="497"/>
                  </a:lnTo>
                  <a:lnTo>
                    <a:pt x="414" y="471"/>
                  </a:lnTo>
                  <a:close/>
                </a:path>
              </a:pathLst>
            </a:custGeom>
            <a:solidFill>
              <a:srgbClr val="0063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445600" y="3031920"/>
              <a:ext cx="318960" cy="308160"/>
            </a:xfrm>
            <a:custGeom>
              <a:avLst/>
              <a:gdLst/>
              <a:ahLst/>
              <a:rect l="l" t="t" r="r" b="b"/>
              <a:pathLst>
                <a:path w="402" h="389">
                  <a:moveTo>
                    <a:pt x="322" y="286"/>
                  </a:moveTo>
                  <a:lnTo>
                    <a:pt x="338" y="270"/>
                  </a:lnTo>
                  <a:lnTo>
                    <a:pt x="354" y="248"/>
                  </a:lnTo>
                  <a:lnTo>
                    <a:pt x="370" y="223"/>
                  </a:lnTo>
                  <a:lnTo>
                    <a:pt x="385" y="191"/>
                  </a:lnTo>
                  <a:lnTo>
                    <a:pt x="396" y="155"/>
                  </a:lnTo>
                  <a:lnTo>
                    <a:pt x="402" y="112"/>
                  </a:lnTo>
                  <a:lnTo>
                    <a:pt x="402" y="64"/>
                  </a:lnTo>
                  <a:lnTo>
                    <a:pt x="396" y="8"/>
                  </a:lnTo>
                  <a:lnTo>
                    <a:pt x="387" y="0"/>
                  </a:lnTo>
                  <a:lnTo>
                    <a:pt x="387" y="1"/>
                  </a:lnTo>
                  <a:lnTo>
                    <a:pt x="387" y="6"/>
                  </a:lnTo>
                  <a:lnTo>
                    <a:pt x="387" y="14"/>
                  </a:lnTo>
                  <a:lnTo>
                    <a:pt x="387" y="23"/>
                  </a:lnTo>
                  <a:lnTo>
                    <a:pt x="390" y="34"/>
                  </a:lnTo>
                  <a:lnTo>
                    <a:pt x="391" y="44"/>
                  </a:lnTo>
                  <a:lnTo>
                    <a:pt x="392" y="55"/>
                  </a:lnTo>
                  <a:lnTo>
                    <a:pt x="392" y="66"/>
                  </a:lnTo>
                  <a:lnTo>
                    <a:pt x="390" y="93"/>
                  </a:lnTo>
                  <a:lnTo>
                    <a:pt x="385" y="121"/>
                  </a:lnTo>
                  <a:lnTo>
                    <a:pt x="377" y="149"/>
                  </a:lnTo>
                  <a:lnTo>
                    <a:pt x="366" y="174"/>
                  </a:lnTo>
                  <a:lnTo>
                    <a:pt x="352" y="198"/>
                  </a:lnTo>
                  <a:lnTo>
                    <a:pt x="334" y="223"/>
                  </a:lnTo>
                  <a:lnTo>
                    <a:pt x="315" y="244"/>
                  </a:lnTo>
                  <a:lnTo>
                    <a:pt x="293" y="265"/>
                  </a:lnTo>
                  <a:lnTo>
                    <a:pt x="292" y="266"/>
                  </a:lnTo>
                  <a:lnTo>
                    <a:pt x="287" y="269"/>
                  </a:lnTo>
                  <a:lnTo>
                    <a:pt x="281" y="273"/>
                  </a:lnTo>
                  <a:lnTo>
                    <a:pt x="272" y="279"/>
                  </a:lnTo>
                  <a:lnTo>
                    <a:pt x="261" y="286"/>
                  </a:lnTo>
                  <a:lnTo>
                    <a:pt x="247" y="294"/>
                  </a:lnTo>
                  <a:lnTo>
                    <a:pt x="232" y="302"/>
                  </a:lnTo>
                  <a:lnTo>
                    <a:pt x="213" y="311"/>
                  </a:lnTo>
                  <a:lnTo>
                    <a:pt x="194" y="319"/>
                  </a:lnTo>
                  <a:lnTo>
                    <a:pt x="173" y="329"/>
                  </a:lnTo>
                  <a:lnTo>
                    <a:pt x="150" y="337"/>
                  </a:lnTo>
                  <a:lnTo>
                    <a:pt x="125" y="345"/>
                  </a:lnTo>
                  <a:lnTo>
                    <a:pt x="99" y="352"/>
                  </a:lnTo>
                  <a:lnTo>
                    <a:pt x="72" y="357"/>
                  </a:lnTo>
                  <a:lnTo>
                    <a:pt x="43" y="362"/>
                  </a:lnTo>
                  <a:lnTo>
                    <a:pt x="13" y="364"/>
                  </a:lnTo>
                  <a:lnTo>
                    <a:pt x="10" y="365"/>
                  </a:lnTo>
                  <a:lnTo>
                    <a:pt x="4" y="369"/>
                  </a:lnTo>
                  <a:lnTo>
                    <a:pt x="0" y="377"/>
                  </a:lnTo>
                  <a:lnTo>
                    <a:pt x="1" y="389"/>
                  </a:lnTo>
                  <a:lnTo>
                    <a:pt x="4" y="389"/>
                  </a:lnTo>
                  <a:lnTo>
                    <a:pt x="8" y="389"/>
                  </a:lnTo>
                  <a:lnTo>
                    <a:pt x="18" y="389"/>
                  </a:lnTo>
                  <a:lnTo>
                    <a:pt x="29" y="387"/>
                  </a:lnTo>
                  <a:lnTo>
                    <a:pt x="43" y="386"/>
                  </a:lnTo>
                  <a:lnTo>
                    <a:pt x="60" y="384"/>
                  </a:lnTo>
                  <a:lnTo>
                    <a:pt x="80" y="382"/>
                  </a:lnTo>
                  <a:lnTo>
                    <a:pt x="102" y="377"/>
                  </a:lnTo>
                  <a:lnTo>
                    <a:pt x="125" y="371"/>
                  </a:lnTo>
                  <a:lnTo>
                    <a:pt x="150" y="365"/>
                  </a:lnTo>
                  <a:lnTo>
                    <a:pt x="177" y="356"/>
                  </a:lnTo>
                  <a:lnTo>
                    <a:pt x="204" y="347"/>
                  </a:lnTo>
                  <a:lnTo>
                    <a:pt x="233" y="334"/>
                  </a:lnTo>
                  <a:lnTo>
                    <a:pt x="262" y="321"/>
                  </a:lnTo>
                  <a:lnTo>
                    <a:pt x="292" y="304"/>
                  </a:lnTo>
                  <a:lnTo>
                    <a:pt x="322" y="2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080560" y="3197160"/>
              <a:ext cx="195120" cy="165240"/>
            </a:xfrm>
            <a:custGeom>
              <a:avLst/>
              <a:gdLst/>
              <a:ahLst/>
              <a:rect l="l" t="t" r="r" b="b"/>
              <a:pathLst>
                <a:path w="247" h="207">
                  <a:moveTo>
                    <a:pt x="146" y="207"/>
                  </a:moveTo>
                  <a:lnTo>
                    <a:pt x="140" y="204"/>
                  </a:lnTo>
                  <a:lnTo>
                    <a:pt x="125" y="196"/>
                  </a:lnTo>
                  <a:lnTo>
                    <a:pt x="103" y="183"/>
                  </a:lnTo>
                  <a:lnTo>
                    <a:pt x="78" y="167"/>
                  </a:lnTo>
                  <a:lnTo>
                    <a:pt x="51" y="150"/>
                  </a:lnTo>
                  <a:lnTo>
                    <a:pt x="28" y="132"/>
                  </a:lnTo>
                  <a:lnTo>
                    <a:pt x="10" y="117"/>
                  </a:lnTo>
                  <a:lnTo>
                    <a:pt x="0" y="103"/>
                  </a:lnTo>
                  <a:lnTo>
                    <a:pt x="3" y="99"/>
                  </a:lnTo>
                  <a:lnTo>
                    <a:pt x="10" y="86"/>
                  </a:lnTo>
                  <a:lnTo>
                    <a:pt x="21" y="69"/>
                  </a:lnTo>
                  <a:lnTo>
                    <a:pt x="39" y="49"/>
                  </a:lnTo>
                  <a:lnTo>
                    <a:pt x="62" y="30"/>
                  </a:lnTo>
                  <a:lnTo>
                    <a:pt x="90" y="14"/>
                  </a:lnTo>
                  <a:lnTo>
                    <a:pt x="126" y="2"/>
                  </a:lnTo>
                  <a:lnTo>
                    <a:pt x="169" y="0"/>
                  </a:lnTo>
                  <a:lnTo>
                    <a:pt x="171" y="2"/>
                  </a:lnTo>
                  <a:lnTo>
                    <a:pt x="178" y="8"/>
                  </a:lnTo>
                  <a:lnTo>
                    <a:pt x="188" y="17"/>
                  </a:lnTo>
                  <a:lnTo>
                    <a:pt x="201" y="27"/>
                  </a:lnTo>
                  <a:lnTo>
                    <a:pt x="214" y="38"/>
                  </a:lnTo>
                  <a:lnTo>
                    <a:pt x="226" y="48"/>
                  </a:lnTo>
                  <a:lnTo>
                    <a:pt x="238" y="56"/>
                  </a:lnTo>
                  <a:lnTo>
                    <a:pt x="247" y="62"/>
                  </a:lnTo>
                  <a:lnTo>
                    <a:pt x="168" y="159"/>
                  </a:lnTo>
                  <a:lnTo>
                    <a:pt x="146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128080" y="3232080"/>
              <a:ext cx="112680" cy="85680"/>
            </a:xfrm>
            <a:custGeom>
              <a:avLst/>
              <a:gdLst/>
              <a:ahLst/>
              <a:rect l="l" t="t" r="r" b="b"/>
              <a:pathLst>
                <a:path w="143" h="109">
                  <a:moveTo>
                    <a:pt x="143" y="43"/>
                  </a:moveTo>
                  <a:lnTo>
                    <a:pt x="86" y="109"/>
                  </a:lnTo>
                  <a:lnTo>
                    <a:pt x="82" y="106"/>
                  </a:lnTo>
                  <a:lnTo>
                    <a:pt x="73" y="101"/>
                  </a:lnTo>
                  <a:lnTo>
                    <a:pt x="60" y="93"/>
                  </a:lnTo>
                  <a:lnTo>
                    <a:pt x="45" y="83"/>
                  </a:lnTo>
                  <a:lnTo>
                    <a:pt x="29" y="73"/>
                  </a:lnTo>
                  <a:lnTo>
                    <a:pt x="15" y="64"/>
                  </a:lnTo>
                  <a:lnTo>
                    <a:pt x="5" y="56"/>
                  </a:lnTo>
                  <a:lnTo>
                    <a:pt x="0" y="50"/>
                  </a:lnTo>
                  <a:lnTo>
                    <a:pt x="2" y="48"/>
                  </a:lnTo>
                  <a:lnTo>
                    <a:pt x="4" y="41"/>
                  </a:lnTo>
                  <a:lnTo>
                    <a:pt x="8" y="31"/>
                  </a:lnTo>
                  <a:lnTo>
                    <a:pt x="17" y="22"/>
                  </a:lnTo>
                  <a:lnTo>
                    <a:pt x="27" y="12"/>
                  </a:lnTo>
                  <a:lnTo>
                    <a:pt x="40" y="5"/>
                  </a:lnTo>
                  <a:lnTo>
                    <a:pt x="57" y="0"/>
                  </a:lnTo>
                  <a:lnTo>
                    <a:pt x="78" y="2"/>
                  </a:lnTo>
                  <a:lnTo>
                    <a:pt x="79" y="3"/>
                  </a:lnTo>
                  <a:lnTo>
                    <a:pt x="83" y="6"/>
                  </a:lnTo>
                  <a:lnTo>
                    <a:pt x="89" y="11"/>
                  </a:lnTo>
                  <a:lnTo>
                    <a:pt x="97" y="18"/>
                  </a:lnTo>
                  <a:lnTo>
                    <a:pt x="108" y="25"/>
                  </a:lnTo>
                  <a:lnTo>
                    <a:pt x="118" y="31"/>
                  </a:lnTo>
                  <a:lnTo>
                    <a:pt x="131" y="37"/>
                  </a:lnTo>
                  <a:lnTo>
                    <a:pt x="143" y="43"/>
                  </a:lnTo>
                  <a:close/>
                </a:path>
              </a:pathLst>
            </a:custGeom>
            <a:solidFill>
              <a:srgbClr val="59b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128080" y="3268440"/>
              <a:ext cx="69840" cy="55800"/>
            </a:xfrm>
            <a:custGeom>
              <a:avLst/>
              <a:gdLst/>
              <a:ahLst/>
              <a:rect l="l" t="t" r="r" b="b"/>
              <a:pathLst>
                <a:path w="89" h="70">
                  <a:moveTo>
                    <a:pt x="89" y="58"/>
                  </a:moveTo>
                  <a:lnTo>
                    <a:pt x="86" y="56"/>
                  </a:lnTo>
                  <a:lnTo>
                    <a:pt x="76" y="51"/>
                  </a:lnTo>
                  <a:lnTo>
                    <a:pt x="63" y="43"/>
                  </a:lnTo>
                  <a:lnTo>
                    <a:pt x="48" y="34"/>
                  </a:lnTo>
                  <a:lnTo>
                    <a:pt x="32" y="24"/>
                  </a:lnTo>
                  <a:lnTo>
                    <a:pt x="18" y="15"/>
                  </a:lnTo>
                  <a:lnTo>
                    <a:pt x="6" y="5"/>
                  </a:lnTo>
                  <a:lnTo>
                    <a:pt x="2" y="0"/>
                  </a:lnTo>
                  <a:lnTo>
                    <a:pt x="0" y="5"/>
                  </a:lnTo>
                  <a:lnTo>
                    <a:pt x="4" y="8"/>
                  </a:lnTo>
                  <a:lnTo>
                    <a:pt x="12" y="16"/>
                  </a:lnTo>
                  <a:lnTo>
                    <a:pt x="23" y="25"/>
                  </a:lnTo>
                  <a:lnTo>
                    <a:pt x="38" y="38"/>
                  </a:lnTo>
                  <a:lnTo>
                    <a:pt x="53" y="49"/>
                  </a:lnTo>
                  <a:lnTo>
                    <a:pt x="66" y="60"/>
                  </a:lnTo>
                  <a:lnTo>
                    <a:pt x="78" y="66"/>
                  </a:lnTo>
                  <a:lnTo>
                    <a:pt x="85" y="70"/>
                  </a:lnTo>
                  <a:lnTo>
                    <a:pt x="89" y="58"/>
                  </a:lnTo>
                  <a:close/>
                </a:path>
              </a:pathLst>
            </a:custGeom>
            <a:solidFill>
              <a:srgbClr val="0063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207640" y="3260520"/>
              <a:ext cx="25200" cy="1764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32" y="20"/>
                  </a:moveTo>
                  <a:lnTo>
                    <a:pt x="27" y="2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048880" y="2793960"/>
              <a:ext cx="412560" cy="334800"/>
            </a:xfrm>
            <a:custGeom>
              <a:avLst/>
              <a:gdLst/>
              <a:ahLst/>
              <a:rect l="l" t="t" r="r" b="b"/>
              <a:pathLst>
                <a:path w="520" h="423">
                  <a:moveTo>
                    <a:pt x="30" y="407"/>
                  </a:moveTo>
                  <a:lnTo>
                    <a:pt x="30" y="405"/>
                  </a:lnTo>
                  <a:lnTo>
                    <a:pt x="28" y="399"/>
                  </a:lnTo>
                  <a:lnTo>
                    <a:pt x="27" y="389"/>
                  </a:lnTo>
                  <a:lnTo>
                    <a:pt x="25" y="375"/>
                  </a:lnTo>
                  <a:lnTo>
                    <a:pt x="23" y="359"/>
                  </a:lnTo>
                  <a:lnTo>
                    <a:pt x="23" y="340"/>
                  </a:lnTo>
                  <a:lnTo>
                    <a:pt x="25" y="320"/>
                  </a:lnTo>
                  <a:lnTo>
                    <a:pt x="28" y="298"/>
                  </a:lnTo>
                  <a:lnTo>
                    <a:pt x="34" y="275"/>
                  </a:lnTo>
                  <a:lnTo>
                    <a:pt x="42" y="249"/>
                  </a:lnTo>
                  <a:lnTo>
                    <a:pt x="53" y="225"/>
                  </a:lnTo>
                  <a:lnTo>
                    <a:pt x="68" y="200"/>
                  </a:lnTo>
                  <a:lnTo>
                    <a:pt x="88" y="176"/>
                  </a:lnTo>
                  <a:lnTo>
                    <a:pt x="111" y="152"/>
                  </a:lnTo>
                  <a:lnTo>
                    <a:pt x="140" y="129"/>
                  </a:lnTo>
                  <a:lnTo>
                    <a:pt x="174" y="109"/>
                  </a:lnTo>
                  <a:lnTo>
                    <a:pt x="175" y="108"/>
                  </a:lnTo>
                  <a:lnTo>
                    <a:pt x="179" y="104"/>
                  </a:lnTo>
                  <a:lnTo>
                    <a:pt x="185" y="99"/>
                  </a:lnTo>
                  <a:lnTo>
                    <a:pt x="193" y="94"/>
                  </a:lnTo>
                  <a:lnTo>
                    <a:pt x="204" y="87"/>
                  </a:lnTo>
                  <a:lnTo>
                    <a:pt x="218" y="79"/>
                  </a:lnTo>
                  <a:lnTo>
                    <a:pt x="234" y="71"/>
                  </a:lnTo>
                  <a:lnTo>
                    <a:pt x="254" y="61"/>
                  </a:lnTo>
                  <a:lnTo>
                    <a:pt x="276" y="53"/>
                  </a:lnTo>
                  <a:lnTo>
                    <a:pt x="301" y="45"/>
                  </a:lnTo>
                  <a:lnTo>
                    <a:pt x="329" y="38"/>
                  </a:lnTo>
                  <a:lnTo>
                    <a:pt x="361" y="31"/>
                  </a:lnTo>
                  <a:lnTo>
                    <a:pt x="395" y="27"/>
                  </a:lnTo>
                  <a:lnTo>
                    <a:pt x="434" y="23"/>
                  </a:lnTo>
                  <a:lnTo>
                    <a:pt x="475" y="22"/>
                  </a:lnTo>
                  <a:lnTo>
                    <a:pt x="520" y="23"/>
                  </a:lnTo>
                  <a:lnTo>
                    <a:pt x="477" y="7"/>
                  </a:lnTo>
                  <a:lnTo>
                    <a:pt x="475" y="7"/>
                  </a:lnTo>
                  <a:lnTo>
                    <a:pt x="468" y="5"/>
                  </a:lnTo>
                  <a:lnTo>
                    <a:pt x="458" y="4"/>
                  </a:lnTo>
                  <a:lnTo>
                    <a:pt x="443" y="2"/>
                  </a:lnTo>
                  <a:lnTo>
                    <a:pt x="425" y="0"/>
                  </a:lnTo>
                  <a:lnTo>
                    <a:pt x="404" y="0"/>
                  </a:lnTo>
                  <a:lnTo>
                    <a:pt x="379" y="2"/>
                  </a:lnTo>
                  <a:lnTo>
                    <a:pt x="352" y="5"/>
                  </a:lnTo>
                  <a:lnTo>
                    <a:pt x="323" y="11"/>
                  </a:lnTo>
                  <a:lnTo>
                    <a:pt x="291" y="19"/>
                  </a:lnTo>
                  <a:lnTo>
                    <a:pt x="257" y="30"/>
                  </a:lnTo>
                  <a:lnTo>
                    <a:pt x="222" y="45"/>
                  </a:lnTo>
                  <a:lnTo>
                    <a:pt x="185" y="65"/>
                  </a:lnTo>
                  <a:lnTo>
                    <a:pt x="145" y="88"/>
                  </a:lnTo>
                  <a:lnTo>
                    <a:pt x="106" y="117"/>
                  </a:lnTo>
                  <a:lnTo>
                    <a:pt x="67" y="151"/>
                  </a:lnTo>
                  <a:lnTo>
                    <a:pt x="64" y="155"/>
                  </a:lnTo>
                  <a:lnTo>
                    <a:pt x="54" y="166"/>
                  </a:lnTo>
                  <a:lnTo>
                    <a:pt x="43" y="187"/>
                  </a:lnTo>
                  <a:lnTo>
                    <a:pt x="29" y="215"/>
                  </a:lnTo>
                  <a:lnTo>
                    <a:pt x="16" y="253"/>
                  </a:lnTo>
                  <a:lnTo>
                    <a:pt x="6" y="300"/>
                  </a:lnTo>
                  <a:lnTo>
                    <a:pt x="0" y="356"/>
                  </a:lnTo>
                  <a:lnTo>
                    <a:pt x="3" y="423"/>
                  </a:lnTo>
                  <a:lnTo>
                    <a:pt x="30" y="4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3120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Hogy működik ?</a:t>
            </a:r>
            <a:br>
              <a:rPr sz="48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A nyilvános kulcsú titkosítás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  <p:pic>
        <p:nvPicPr>
          <p:cNvPr id="384" name="bd06784_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1676520" cy="1385640"/>
          </a:xfrm>
          <a:prstGeom prst="rect">
            <a:avLst/>
          </a:prstGeom>
          <a:ln w="0">
            <a:noFill/>
          </a:ln>
        </p:spPr>
      </p:pic>
      <p:pic>
        <p:nvPicPr>
          <p:cNvPr id="385" name="bd06790_" descr=""/>
          <p:cNvPicPr/>
          <p:nvPr/>
        </p:nvPicPr>
        <p:blipFill>
          <a:blip r:embed="rId3"/>
          <a:stretch/>
        </p:blipFill>
        <p:spPr>
          <a:xfrm>
            <a:off x="7162920" y="1752480"/>
            <a:ext cx="1508040" cy="1246320"/>
          </a:xfrm>
          <a:prstGeom prst="rect">
            <a:avLst/>
          </a:prstGeom>
          <a:ln w="0">
            <a:noFill/>
          </a:ln>
        </p:spPr>
      </p:pic>
      <p:grpSp>
        <p:nvGrpSpPr>
          <p:cNvPr id="386" name=""/>
          <p:cNvGrpSpPr/>
          <p:nvPr/>
        </p:nvGrpSpPr>
        <p:grpSpPr>
          <a:xfrm>
            <a:off x="219240" y="2813040"/>
            <a:ext cx="1785960" cy="1236240"/>
            <a:chOff x="219240" y="2813040"/>
            <a:chExt cx="1785960" cy="1236240"/>
          </a:xfrm>
        </p:grpSpPr>
        <p:grpSp>
          <p:nvGrpSpPr>
            <p:cNvPr id="387" name=""/>
            <p:cNvGrpSpPr/>
            <p:nvPr/>
          </p:nvGrpSpPr>
          <p:grpSpPr>
            <a:xfrm>
              <a:off x="219240" y="2813040"/>
              <a:ext cx="627840" cy="926640"/>
              <a:chOff x="219240" y="2813040"/>
              <a:chExt cx="627840" cy="926640"/>
            </a:xfrm>
          </p:grpSpPr>
          <p:sp>
            <p:nvSpPr>
              <p:cNvPr id="388" name=""/>
              <p:cNvSpPr/>
              <p:nvPr/>
            </p:nvSpPr>
            <p:spPr>
              <a:xfrm rot="21528000">
                <a:off x="243360" y="2819160"/>
                <a:ext cx="594360" cy="907920"/>
              </a:xfrm>
              <a:custGeom>
                <a:avLst/>
                <a:gdLst/>
                <a:ahLst/>
                <a:rect l="l" t="t" r="r" b="b"/>
                <a:pathLst>
                  <a:path w="329" h="453">
                    <a:moveTo>
                      <a:pt x="209" y="0"/>
                    </a:moveTo>
                    <a:lnTo>
                      <a:pt x="111" y="0"/>
                    </a:lnTo>
                    <a:lnTo>
                      <a:pt x="129" y="17"/>
                    </a:lnTo>
                    <a:lnTo>
                      <a:pt x="187" y="17"/>
                    </a:lnTo>
                    <a:lnTo>
                      <a:pt x="209" y="44"/>
                    </a:lnTo>
                    <a:lnTo>
                      <a:pt x="109" y="44"/>
                    </a:lnTo>
                    <a:lnTo>
                      <a:pt x="130" y="17"/>
                    </a:lnTo>
                    <a:lnTo>
                      <a:pt x="111" y="0"/>
                    </a:lnTo>
                    <a:lnTo>
                      <a:pt x="76" y="43"/>
                    </a:lnTo>
                    <a:lnTo>
                      <a:pt x="57" y="43"/>
                    </a:lnTo>
                    <a:lnTo>
                      <a:pt x="50" y="57"/>
                    </a:lnTo>
                    <a:lnTo>
                      <a:pt x="21" y="57"/>
                    </a:lnTo>
                    <a:lnTo>
                      <a:pt x="21" y="68"/>
                    </a:lnTo>
                    <a:lnTo>
                      <a:pt x="9" y="68"/>
                    </a:lnTo>
                    <a:lnTo>
                      <a:pt x="0" y="68"/>
                    </a:lnTo>
                    <a:lnTo>
                      <a:pt x="0" y="131"/>
                    </a:lnTo>
                    <a:lnTo>
                      <a:pt x="21" y="132"/>
                    </a:lnTo>
                    <a:lnTo>
                      <a:pt x="21" y="145"/>
                    </a:lnTo>
                    <a:lnTo>
                      <a:pt x="49" y="145"/>
                    </a:lnTo>
                    <a:lnTo>
                      <a:pt x="57" y="160"/>
                    </a:lnTo>
                    <a:lnTo>
                      <a:pt x="73" y="161"/>
                    </a:lnTo>
                    <a:lnTo>
                      <a:pt x="74" y="193"/>
                    </a:lnTo>
                    <a:lnTo>
                      <a:pt x="84" y="193"/>
                    </a:lnTo>
                    <a:lnTo>
                      <a:pt x="88" y="198"/>
                    </a:lnTo>
                    <a:lnTo>
                      <a:pt x="88" y="230"/>
                    </a:lnTo>
                    <a:lnTo>
                      <a:pt x="106" y="230"/>
                    </a:lnTo>
                    <a:lnTo>
                      <a:pt x="105" y="423"/>
                    </a:lnTo>
                    <a:lnTo>
                      <a:pt x="149" y="452"/>
                    </a:lnTo>
                    <a:lnTo>
                      <a:pt x="205" y="418"/>
                    </a:lnTo>
                    <a:lnTo>
                      <a:pt x="184" y="409"/>
                    </a:lnTo>
                    <a:lnTo>
                      <a:pt x="184" y="397"/>
                    </a:lnTo>
                    <a:lnTo>
                      <a:pt x="205" y="387"/>
                    </a:lnTo>
                    <a:lnTo>
                      <a:pt x="184" y="379"/>
                    </a:lnTo>
                    <a:lnTo>
                      <a:pt x="187" y="375"/>
                    </a:lnTo>
                    <a:lnTo>
                      <a:pt x="205" y="367"/>
                    </a:lnTo>
                    <a:lnTo>
                      <a:pt x="208" y="343"/>
                    </a:lnTo>
                    <a:lnTo>
                      <a:pt x="211" y="340"/>
                    </a:lnTo>
                    <a:lnTo>
                      <a:pt x="184" y="326"/>
                    </a:lnTo>
                    <a:lnTo>
                      <a:pt x="184" y="313"/>
                    </a:lnTo>
                    <a:lnTo>
                      <a:pt x="205" y="299"/>
                    </a:lnTo>
                    <a:lnTo>
                      <a:pt x="184" y="285"/>
                    </a:lnTo>
                    <a:lnTo>
                      <a:pt x="184" y="272"/>
                    </a:lnTo>
                    <a:lnTo>
                      <a:pt x="205" y="255"/>
                    </a:lnTo>
                    <a:lnTo>
                      <a:pt x="208" y="228"/>
                    </a:lnTo>
                    <a:lnTo>
                      <a:pt x="232" y="228"/>
                    </a:lnTo>
                    <a:lnTo>
                      <a:pt x="232" y="192"/>
                    </a:lnTo>
                    <a:lnTo>
                      <a:pt x="247" y="192"/>
                    </a:lnTo>
                    <a:lnTo>
                      <a:pt x="247" y="159"/>
                    </a:lnTo>
                    <a:lnTo>
                      <a:pt x="263" y="159"/>
                    </a:lnTo>
                    <a:lnTo>
                      <a:pt x="270" y="144"/>
                    </a:lnTo>
                    <a:lnTo>
                      <a:pt x="303" y="144"/>
                    </a:lnTo>
                    <a:lnTo>
                      <a:pt x="303" y="130"/>
                    </a:lnTo>
                    <a:lnTo>
                      <a:pt x="328" y="130"/>
                    </a:lnTo>
                    <a:lnTo>
                      <a:pt x="328" y="67"/>
                    </a:lnTo>
                    <a:lnTo>
                      <a:pt x="303" y="67"/>
                    </a:lnTo>
                    <a:lnTo>
                      <a:pt x="303" y="57"/>
                    </a:lnTo>
                    <a:lnTo>
                      <a:pt x="276" y="57"/>
                    </a:lnTo>
                    <a:lnTo>
                      <a:pt x="269" y="53"/>
                    </a:lnTo>
                    <a:lnTo>
                      <a:pt x="262" y="43"/>
                    </a:lnTo>
                    <a:lnTo>
                      <a:pt x="247" y="43"/>
                    </a:lnTo>
                    <a:lnTo>
                      <a:pt x="209" y="0"/>
                    </a:lnTo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21528000">
                <a:off x="228600" y="2825280"/>
                <a:ext cx="594720" cy="908280"/>
              </a:xfrm>
              <a:custGeom>
                <a:avLst/>
                <a:gdLst/>
                <a:ahLst/>
                <a:rect l="l" t="t" r="r" b="b"/>
                <a:pathLst>
                  <a:path w="329" h="453">
                    <a:moveTo>
                      <a:pt x="210" y="0"/>
                    </a:moveTo>
                    <a:lnTo>
                      <a:pt x="111" y="0"/>
                    </a:lnTo>
                    <a:lnTo>
                      <a:pt x="130" y="17"/>
                    </a:lnTo>
                    <a:lnTo>
                      <a:pt x="187" y="17"/>
                    </a:lnTo>
                    <a:lnTo>
                      <a:pt x="209" y="44"/>
                    </a:lnTo>
                    <a:lnTo>
                      <a:pt x="110" y="44"/>
                    </a:lnTo>
                    <a:lnTo>
                      <a:pt x="130" y="17"/>
                    </a:lnTo>
                    <a:lnTo>
                      <a:pt x="111" y="0"/>
                    </a:lnTo>
                    <a:lnTo>
                      <a:pt x="76" y="43"/>
                    </a:lnTo>
                    <a:lnTo>
                      <a:pt x="58" y="43"/>
                    </a:lnTo>
                    <a:lnTo>
                      <a:pt x="51" y="57"/>
                    </a:lnTo>
                    <a:lnTo>
                      <a:pt x="22" y="57"/>
                    </a:lnTo>
                    <a:lnTo>
                      <a:pt x="21" y="68"/>
                    </a:lnTo>
                    <a:lnTo>
                      <a:pt x="10" y="68"/>
                    </a:lnTo>
                    <a:lnTo>
                      <a:pt x="0" y="68"/>
                    </a:lnTo>
                    <a:lnTo>
                      <a:pt x="0" y="131"/>
                    </a:lnTo>
                    <a:lnTo>
                      <a:pt x="22" y="132"/>
                    </a:lnTo>
                    <a:lnTo>
                      <a:pt x="22" y="144"/>
                    </a:lnTo>
                    <a:lnTo>
                      <a:pt x="50" y="144"/>
                    </a:lnTo>
                    <a:lnTo>
                      <a:pt x="58" y="160"/>
                    </a:lnTo>
                    <a:lnTo>
                      <a:pt x="73" y="161"/>
                    </a:lnTo>
                    <a:lnTo>
                      <a:pt x="75" y="193"/>
                    </a:lnTo>
                    <a:lnTo>
                      <a:pt x="85" y="193"/>
                    </a:lnTo>
                    <a:lnTo>
                      <a:pt x="87" y="196"/>
                    </a:lnTo>
                    <a:lnTo>
                      <a:pt x="87" y="230"/>
                    </a:lnTo>
                    <a:lnTo>
                      <a:pt x="106" y="230"/>
                    </a:lnTo>
                    <a:lnTo>
                      <a:pt x="105" y="423"/>
                    </a:lnTo>
                    <a:lnTo>
                      <a:pt x="149" y="452"/>
                    </a:lnTo>
                    <a:lnTo>
                      <a:pt x="205" y="418"/>
                    </a:lnTo>
                    <a:lnTo>
                      <a:pt x="185" y="409"/>
                    </a:lnTo>
                    <a:lnTo>
                      <a:pt x="185" y="397"/>
                    </a:lnTo>
                    <a:lnTo>
                      <a:pt x="205" y="387"/>
                    </a:lnTo>
                    <a:lnTo>
                      <a:pt x="185" y="378"/>
                    </a:lnTo>
                    <a:lnTo>
                      <a:pt x="188" y="375"/>
                    </a:lnTo>
                    <a:lnTo>
                      <a:pt x="205" y="367"/>
                    </a:lnTo>
                    <a:lnTo>
                      <a:pt x="208" y="343"/>
                    </a:lnTo>
                    <a:lnTo>
                      <a:pt x="211" y="340"/>
                    </a:lnTo>
                    <a:lnTo>
                      <a:pt x="185" y="326"/>
                    </a:lnTo>
                    <a:lnTo>
                      <a:pt x="185" y="313"/>
                    </a:lnTo>
                    <a:lnTo>
                      <a:pt x="205" y="299"/>
                    </a:lnTo>
                    <a:lnTo>
                      <a:pt x="185" y="285"/>
                    </a:lnTo>
                    <a:lnTo>
                      <a:pt x="185" y="272"/>
                    </a:lnTo>
                    <a:lnTo>
                      <a:pt x="205" y="255"/>
                    </a:lnTo>
                    <a:lnTo>
                      <a:pt x="209" y="228"/>
                    </a:lnTo>
                    <a:lnTo>
                      <a:pt x="233" y="228"/>
                    </a:lnTo>
                    <a:lnTo>
                      <a:pt x="233" y="192"/>
                    </a:lnTo>
                    <a:lnTo>
                      <a:pt x="247" y="192"/>
                    </a:lnTo>
                    <a:lnTo>
                      <a:pt x="247" y="159"/>
                    </a:lnTo>
                    <a:lnTo>
                      <a:pt x="263" y="159"/>
                    </a:lnTo>
                    <a:lnTo>
                      <a:pt x="270" y="144"/>
                    </a:lnTo>
                    <a:lnTo>
                      <a:pt x="303" y="144"/>
                    </a:lnTo>
                    <a:lnTo>
                      <a:pt x="303" y="130"/>
                    </a:lnTo>
                    <a:lnTo>
                      <a:pt x="328" y="130"/>
                    </a:lnTo>
                    <a:lnTo>
                      <a:pt x="328" y="67"/>
                    </a:lnTo>
                    <a:lnTo>
                      <a:pt x="303" y="67"/>
                    </a:lnTo>
                    <a:lnTo>
                      <a:pt x="303" y="57"/>
                    </a:lnTo>
                    <a:lnTo>
                      <a:pt x="276" y="57"/>
                    </a:lnTo>
                    <a:lnTo>
                      <a:pt x="270" y="53"/>
                    </a:lnTo>
                    <a:lnTo>
                      <a:pt x="263" y="43"/>
                    </a:lnTo>
                    <a:lnTo>
                      <a:pt x="247" y="43"/>
                    </a:lnTo>
                    <a:lnTo>
                      <a:pt x="210" y="0"/>
                    </a:lnTo>
                  </a:path>
                </a:pathLst>
              </a:custGeom>
              <a:solidFill>
                <a:srgbClr val="43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0" name=""/>
              <p:cNvGrpSpPr/>
              <p:nvPr/>
            </p:nvGrpSpPr>
            <p:grpSpPr>
              <a:xfrm>
                <a:off x="279720" y="2967840"/>
                <a:ext cx="455760" cy="108000"/>
                <a:chOff x="279720" y="2967840"/>
                <a:chExt cx="455760" cy="108000"/>
              </a:xfrm>
            </p:grpSpPr>
            <p:sp>
              <p:nvSpPr>
                <p:cNvPr id="391" name=""/>
                <p:cNvSpPr/>
                <p:nvPr/>
              </p:nvSpPr>
              <p:spPr>
                <a:xfrm rot="21528000">
                  <a:off x="314640" y="2971800"/>
                  <a:ext cx="419400" cy="99360"/>
                </a:xfrm>
                <a:custGeom>
                  <a:avLst/>
                  <a:gdLst/>
                  <a:ahLst/>
                  <a:rect l="l" t="t" r="r" b="b"/>
                  <a:pathLst>
                    <a:path w="232" h="50">
                      <a:moveTo>
                        <a:pt x="231" y="25"/>
                      </a:moveTo>
                      <a:lnTo>
                        <a:pt x="210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208" y="2"/>
                      </a:lnTo>
                      <a:lnTo>
                        <a:pt x="226" y="25"/>
                      </a:lnTo>
                      <a:lnTo>
                        <a:pt x="208" y="47"/>
                      </a:lnTo>
                      <a:lnTo>
                        <a:pt x="212" y="49"/>
                      </a:lnTo>
                      <a:lnTo>
                        <a:pt x="231" y="25"/>
                      </a:lnTo>
                    </a:path>
                  </a:pathLst>
                </a:custGeom>
                <a:solidFill>
                  <a:srgbClr val="3165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rot="21528000">
                  <a:off x="280440" y="2972520"/>
                  <a:ext cx="417600" cy="97560"/>
                </a:xfrm>
                <a:custGeom>
                  <a:avLst/>
                  <a:gdLst/>
                  <a:ahLst/>
                  <a:rect l="l" t="t" r="r" b="b"/>
                  <a:pathLst>
                    <a:path w="231" h="49">
                      <a:moveTo>
                        <a:pt x="0" y="22"/>
                      </a:moveTo>
                      <a:lnTo>
                        <a:pt x="20" y="48"/>
                      </a:lnTo>
                      <a:lnTo>
                        <a:pt x="230" y="48"/>
                      </a:lnTo>
                      <a:lnTo>
                        <a:pt x="228" y="45"/>
                      </a:lnTo>
                      <a:lnTo>
                        <a:pt x="22" y="45"/>
                      </a:lnTo>
                      <a:lnTo>
                        <a:pt x="3" y="22"/>
                      </a:lnTo>
                      <a:lnTo>
                        <a:pt x="21" y="1"/>
                      </a:lnTo>
                      <a:lnTo>
                        <a:pt x="17" y="0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00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3" name=""/>
              <p:cNvSpPr/>
              <p:nvPr/>
            </p:nvSpPr>
            <p:spPr>
              <a:xfrm rot="21528000">
                <a:off x="264960" y="2953440"/>
                <a:ext cx="501120" cy="3204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1528000">
                <a:off x="324720" y="2933280"/>
                <a:ext cx="390240" cy="3204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264240" y="3085200"/>
                <a:ext cx="504720" cy="648720"/>
                <a:chOff x="264240" y="3085200"/>
                <a:chExt cx="504720" cy="648720"/>
              </a:xfrm>
            </p:grpSpPr>
            <p:sp>
              <p:nvSpPr>
                <p:cNvPr id="396" name=""/>
                <p:cNvSpPr/>
                <p:nvPr/>
              </p:nvSpPr>
              <p:spPr>
                <a:xfrm rot="21528000">
                  <a:off x="537840" y="3215160"/>
                  <a:ext cx="30600" cy="494640"/>
                </a:xfrm>
                <a:custGeom>
                  <a:avLst/>
                  <a:gdLst/>
                  <a:ahLst/>
                  <a:rect l="l" t="t" r="r" b="b"/>
                  <a:pathLst>
                    <a:path w="17" h="247">
                      <a:moveTo>
                        <a:pt x="0" y="0"/>
                      </a:moveTo>
                      <a:lnTo>
                        <a:pt x="0" y="246"/>
                      </a:lnTo>
                      <a:lnTo>
                        <a:pt x="16" y="242"/>
                      </a:lnTo>
                      <a:lnTo>
                        <a:pt x="16" y="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rot="21528000">
                  <a:off x="467280" y="3231000"/>
                  <a:ext cx="30600" cy="480600"/>
                </a:xfrm>
                <a:custGeom>
                  <a:avLst/>
                  <a:gdLst/>
                  <a:ahLst/>
                  <a:rect l="l" t="t" r="r" b="b"/>
                  <a:pathLst>
                    <a:path w="17" h="240">
                      <a:moveTo>
                        <a:pt x="5" y="0"/>
                      </a:moveTo>
                      <a:lnTo>
                        <a:pt x="0" y="235"/>
                      </a:lnTo>
                      <a:lnTo>
                        <a:pt x="16" y="239"/>
                      </a:lnTo>
                      <a:lnTo>
                        <a:pt x="16" y="19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00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8" name=""/>
                <p:cNvGrpSpPr/>
                <p:nvPr/>
              </p:nvGrpSpPr>
              <p:grpSpPr>
                <a:xfrm>
                  <a:off x="264240" y="3085200"/>
                  <a:ext cx="504720" cy="648720"/>
                  <a:chOff x="264240" y="3085200"/>
                  <a:chExt cx="504720" cy="64872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 rot="21528000">
                    <a:off x="264240" y="3090240"/>
                    <a:ext cx="504000" cy="32040"/>
                  </a:xfrm>
                  <a:prstGeom prst="rect">
                    <a:avLst/>
                  </a:pr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rot="21528000">
                    <a:off x="361440" y="3150000"/>
                    <a:ext cx="303480" cy="32040"/>
                  </a:xfrm>
                  <a:prstGeom prst="rect">
                    <a:avLst/>
                  </a:pr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rot="21528000">
                    <a:off x="469080" y="3230640"/>
                    <a:ext cx="32040" cy="50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51">
                        <a:moveTo>
                          <a:pt x="0" y="0"/>
                        </a:moveTo>
                        <a:lnTo>
                          <a:pt x="4" y="16"/>
                        </a:lnTo>
                        <a:lnTo>
                          <a:pt x="10" y="30"/>
                        </a:lnTo>
                        <a:lnTo>
                          <a:pt x="10" y="245"/>
                        </a:lnTo>
                        <a:lnTo>
                          <a:pt x="15" y="250"/>
                        </a:lnTo>
                        <a:lnTo>
                          <a:pt x="17" y="2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 rot="21528000">
                    <a:off x="380880" y="3212280"/>
                    <a:ext cx="2653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35">
                        <a:moveTo>
                          <a:pt x="121" y="34"/>
                        </a:moveTo>
                        <a:lnTo>
                          <a:pt x="131" y="26"/>
                        </a:lnTo>
                        <a:lnTo>
                          <a:pt x="131" y="3"/>
                        </a:lnTo>
                        <a:lnTo>
                          <a:pt x="146" y="3"/>
                        </a:lnTo>
                        <a:lnTo>
                          <a:pt x="146" y="0"/>
                        </a:lnTo>
                        <a:lnTo>
                          <a:pt x="0" y="0"/>
                        </a:lnTo>
                        <a:lnTo>
                          <a:pt x="3" y="3"/>
                        </a:lnTo>
                        <a:lnTo>
                          <a:pt x="82" y="3"/>
                        </a:lnTo>
                        <a:lnTo>
                          <a:pt x="89" y="10"/>
                        </a:lnTo>
                        <a:lnTo>
                          <a:pt x="118" y="10"/>
                        </a:lnTo>
                        <a:lnTo>
                          <a:pt x="121" y="34"/>
                        </a:lnTo>
                      </a:path>
                    </a:pathLst>
                  </a:cu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rot="21528000">
                    <a:off x="315720" y="3115800"/>
                    <a:ext cx="39888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21" h="17">
                        <a:moveTo>
                          <a:pt x="220" y="0"/>
                        </a:moveTo>
                        <a:lnTo>
                          <a:pt x="0" y="0"/>
                        </a:lnTo>
                        <a:lnTo>
                          <a:pt x="2" y="16"/>
                        </a:lnTo>
                        <a:lnTo>
                          <a:pt x="218" y="16"/>
                        </a:lnTo>
                        <a:lnTo>
                          <a:pt x="220" y="0"/>
                        </a:lnTo>
                      </a:path>
                    </a:pathLst>
                  </a:cu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04" name=""/>
            <p:cNvSpPr/>
            <p:nvPr/>
          </p:nvSpPr>
          <p:spPr>
            <a:xfrm>
              <a:off x="669240" y="3429000"/>
              <a:ext cx="133596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32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hu-HU" sz="3200" spc="-1" strike="noStrike" baseline="-18000">
                  <a:solidFill>
                    <a:srgbClr val="ffffff"/>
                  </a:solidFill>
                  <a:latin typeface="Arial"/>
                </a:rPr>
                <a:t>b-privá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7086600" y="2666880"/>
            <a:ext cx="1752480" cy="1001520"/>
            <a:chOff x="7086600" y="2666880"/>
            <a:chExt cx="1752480" cy="1001520"/>
          </a:xfrm>
        </p:grpSpPr>
        <p:grpSp>
          <p:nvGrpSpPr>
            <p:cNvPr id="406" name=""/>
            <p:cNvGrpSpPr/>
            <p:nvPr/>
          </p:nvGrpSpPr>
          <p:grpSpPr>
            <a:xfrm>
              <a:off x="8305920" y="2666880"/>
              <a:ext cx="533160" cy="885600"/>
              <a:chOff x="8305920" y="2666880"/>
              <a:chExt cx="533160" cy="885600"/>
            </a:xfrm>
          </p:grpSpPr>
          <p:pic>
            <p:nvPicPr>
              <p:cNvPr id="40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305920" y="2666880"/>
                <a:ext cx="533160" cy="88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>
                <a:off x="8366400" y="2785680"/>
                <a:ext cx="449640" cy="23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7086600" y="3048120"/>
              <a:ext cx="175248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32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hu-HU" sz="3200" spc="-1" strike="noStrike" baseline="-18000">
                  <a:solidFill>
                    <a:srgbClr val="ffffff"/>
                  </a:solidFill>
                  <a:latin typeface="Arial"/>
                </a:rPr>
                <a:t>a-privá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6172200" y="1523880"/>
            <a:ext cx="12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754640" y="152388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1905120" y="2541600"/>
            <a:ext cx="2175120" cy="1126800"/>
            <a:chOff x="1905120" y="2541600"/>
            <a:chExt cx="2175120" cy="1126800"/>
          </a:xfrm>
        </p:grpSpPr>
        <p:sp>
          <p:nvSpPr>
            <p:cNvPr id="413" name=""/>
            <p:cNvSpPr/>
            <p:nvPr/>
          </p:nvSpPr>
          <p:spPr>
            <a:xfrm>
              <a:off x="2299320" y="3048120"/>
              <a:ext cx="178092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32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hu-HU" sz="3200" spc="-1" strike="noStrike" baseline="-18000">
                  <a:solidFill>
                    <a:srgbClr val="ffffff"/>
                  </a:solidFill>
                  <a:latin typeface="Arial"/>
                </a:rPr>
                <a:t>b-nyilváno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1905120" y="2541600"/>
              <a:ext cx="486720" cy="761760"/>
              <a:chOff x="1905120" y="2541600"/>
              <a:chExt cx="486720" cy="761760"/>
            </a:xfrm>
          </p:grpSpPr>
          <p:sp>
            <p:nvSpPr>
              <p:cNvPr id="415" name=""/>
              <p:cNvSpPr/>
              <p:nvPr/>
            </p:nvSpPr>
            <p:spPr>
              <a:xfrm>
                <a:off x="1905120" y="2541600"/>
                <a:ext cx="475200" cy="756720"/>
              </a:xfrm>
              <a:custGeom>
                <a:avLst/>
                <a:gdLst/>
                <a:ahLst/>
                <a:rect l="l" t="t" r="r" b="b"/>
                <a:pathLst>
                  <a:path w="882" h="1720">
                    <a:moveTo>
                      <a:pt x="317" y="0"/>
                    </a:moveTo>
                    <a:lnTo>
                      <a:pt x="583" y="0"/>
                    </a:lnTo>
                    <a:lnTo>
                      <a:pt x="533" y="66"/>
                    </a:lnTo>
                    <a:lnTo>
                      <a:pt x="377" y="66"/>
                    </a:lnTo>
                    <a:lnTo>
                      <a:pt x="319" y="171"/>
                    </a:lnTo>
                    <a:lnTo>
                      <a:pt x="586" y="171"/>
                    </a:lnTo>
                    <a:lnTo>
                      <a:pt x="532" y="67"/>
                    </a:lnTo>
                    <a:lnTo>
                      <a:pt x="583" y="1"/>
                    </a:lnTo>
                    <a:lnTo>
                      <a:pt x="677" y="164"/>
                    </a:lnTo>
                    <a:lnTo>
                      <a:pt x="727" y="165"/>
                    </a:lnTo>
                    <a:lnTo>
                      <a:pt x="745" y="221"/>
                    </a:lnTo>
                    <a:lnTo>
                      <a:pt x="824" y="221"/>
                    </a:lnTo>
                    <a:lnTo>
                      <a:pt x="825" y="260"/>
                    </a:lnTo>
                    <a:lnTo>
                      <a:pt x="855" y="261"/>
                    </a:lnTo>
                    <a:lnTo>
                      <a:pt x="882" y="261"/>
                    </a:lnTo>
                    <a:lnTo>
                      <a:pt x="882" y="501"/>
                    </a:lnTo>
                    <a:lnTo>
                      <a:pt x="824" y="502"/>
                    </a:lnTo>
                    <a:lnTo>
                      <a:pt x="823" y="553"/>
                    </a:lnTo>
                    <a:lnTo>
                      <a:pt x="748" y="553"/>
                    </a:lnTo>
                    <a:lnTo>
                      <a:pt x="726" y="613"/>
                    </a:lnTo>
                    <a:lnTo>
                      <a:pt x="685" y="614"/>
                    </a:lnTo>
                    <a:lnTo>
                      <a:pt x="682" y="735"/>
                    </a:lnTo>
                    <a:lnTo>
                      <a:pt x="654" y="735"/>
                    </a:lnTo>
                    <a:lnTo>
                      <a:pt x="645" y="754"/>
                    </a:lnTo>
                    <a:lnTo>
                      <a:pt x="645" y="876"/>
                    </a:lnTo>
                    <a:lnTo>
                      <a:pt x="595" y="877"/>
                    </a:lnTo>
                    <a:lnTo>
                      <a:pt x="598" y="1609"/>
                    </a:lnTo>
                    <a:lnTo>
                      <a:pt x="481" y="1720"/>
                    </a:lnTo>
                    <a:lnTo>
                      <a:pt x="331" y="1593"/>
                    </a:lnTo>
                    <a:lnTo>
                      <a:pt x="385" y="1557"/>
                    </a:lnTo>
                    <a:lnTo>
                      <a:pt x="385" y="1514"/>
                    </a:lnTo>
                    <a:lnTo>
                      <a:pt x="331" y="1476"/>
                    </a:lnTo>
                    <a:lnTo>
                      <a:pt x="385" y="1443"/>
                    </a:lnTo>
                    <a:lnTo>
                      <a:pt x="376" y="1430"/>
                    </a:lnTo>
                    <a:lnTo>
                      <a:pt x="330" y="1400"/>
                    </a:lnTo>
                    <a:lnTo>
                      <a:pt x="322" y="1305"/>
                    </a:lnTo>
                    <a:lnTo>
                      <a:pt x="316" y="1296"/>
                    </a:lnTo>
                    <a:lnTo>
                      <a:pt x="386" y="1241"/>
                    </a:lnTo>
                    <a:lnTo>
                      <a:pt x="386" y="1194"/>
                    </a:lnTo>
                    <a:lnTo>
                      <a:pt x="330" y="1138"/>
                    </a:lnTo>
                    <a:lnTo>
                      <a:pt x="385" y="1088"/>
                    </a:lnTo>
                    <a:lnTo>
                      <a:pt x="385" y="1039"/>
                    </a:lnTo>
                    <a:lnTo>
                      <a:pt x="331" y="975"/>
                    </a:lnTo>
                    <a:lnTo>
                      <a:pt x="321" y="871"/>
                    </a:lnTo>
                    <a:lnTo>
                      <a:pt x="256" y="871"/>
                    </a:lnTo>
                    <a:lnTo>
                      <a:pt x="256" y="730"/>
                    </a:lnTo>
                    <a:lnTo>
                      <a:pt x="217" y="730"/>
                    </a:lnTo>
                    <a:lnTo>
                      <a:pt x="217" y="608"/>
                    </a:lnTo>
                    <a:lnTo>
                      <a:pt x="174" y="608"/>
                    </a:lnTo>
                    <a:lnTo>
                      <a:pt x="154" y="549"/>
                    </a:lnTo>
                    <a:lnTo>
                      <a:pt x="67" y="549"/>
                    </a:lnTo>
                    <a:lnTo>
                      <a:pt x="67" y="497"/>
                    </a:lnTo>
                    <a:lnTo>
                      <a:pt x="0" y="497"/>
                    </a:lnTo>
                    <a:lnTo>
                      <a:pt x="0" y="255"/>
                    </a:lnTo>
                    <a:lnTo>
                      <a:pt x="66" y="255"/>
                    </a:lnTo>
                    <a:lnTo>
                      <a:pt x="66" y="220"/>
                    </a:lnTo>
                    <a:lnTo>
                      <a:pt x="140" y="220"/>
                    </a:lnTo>
                    <a:lnTo>
                      <a:pt x="157" y="204"/>
                    </a:lnTo>
                    <a:lnTo>
                      <a:pt x="175" y="165"/>
                    </a:lnTo>
                    <a:lnTo>
                      <a:pt x="217" y="165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916640" y="2545200"/>
                <a:ext cx="475200" cy="758160"/>
              </a:xfrm>
              <a:custGeom>
                <a:avLst/>
                <a:gdLst/>
                <a:ahLst/>
                <a:rect l="l" t="t" r="r" b="b"/>
                <a:pathLst>
                  <a:path w="883" h="1721">
                    <a:moveTo>
                      <a:pt x="316" y="0"/>
                    </a:moveTo>
                    <a:lnTo>
                      <a:pt x="583" y="0"/>
                    </a:lnTo>
                    <a:lnTo>
                      <a:pt x="532" y="66"/>
                    </a:lnTo>
                    <a:lnTo>
                      <a:pt x="377" y="66"/>
                    </a:lnTo>
                    <a:lnTo>
                      <a:pt x="318" y="171"/>
                    </a:lnTo>
                    <a:lnTo>
                      <a:pt x="586" y="171"/>
                    </a:lnTo>
                    <a:lnTo>
                      <a:pt x="531" y="67"/>
                    </a:lnTo>
                    <a:lnTo>
                      <a:pt x="583" y="1"/>
                    </a:lnTo>
                    <a:lnTo>
                      <a:pt x="677" y="164"/>
                    </a:lnTo>
                    <a:lnTo>
                      <a:pt x="727" y="165"/>
                    </a:lnTo>
                    <a:lnTo>
                      <a:pt x="744" y="221"/>
                    </a:lnTo>
                    <a:lnTo>
                      <a:pt x="823" y="221"/>
                    </a:lnTo>
                    <a:lnTo>
                      <a:pt x="824" y="260"/>
                    </a:lnTo>
                    <a:lnTo>
                      <a:pt x="854" y="261"/>
                    </a:lnTo>
                    <a:lnTo>
                      <a:pt x="883" y="261"/>
                    </a:lnTo>
                    <a:lnTo>
                      <a:pt x="883" y="502"/>
                    </a:lnTo>
                    <a:lnTo>
                      <a:pt x="823" y="503"/>
                    </a:lnTo>
                    <a:lnTo>
                      <a:pt x="822" y="553"/>
                    </a:lnTo>
                    <a:lnTo>
                      <a:pt x="747" y="553"/>
                    </a:lnTo>
                    <a:lnTo>
                      <a:pt x="726" y="613"/>
                    </a:lnTo>
                    <a:lnTo>
                      <a:pt x="684" y="614"/>
                    </a:lnTo>
                    <a:lnTo>
                      <a:pt x="681" y="736"/>
                    </a:lnTo>
                    <a:lnTo>
                      <a:pt x="654" y="736"/>
                    </a:lnTo>
                    <a:lnTo>
                      <a:pt x="646" y="746"/>
                    </a:lnTo>
                    <a:lnTo>
                      <a:pt x="646" y="877"/>
                    </a:lnTo>
                    <a:lnTo>
                      <a:pt x="595" y="877"/>
                    </a:lnTo>
                    <a:lnTo>
                      <a:pt x="598" y="1610"/>
                    </a:lnTo>
                    <a:lnTo>
                      <a:pt x="481" y="1721"/>
                    </a:lnTo>
                    <a:lnTo>
                      <a:pt x="331" y="1593"/>
                    </a:lnTo>
                    <a:lnTo>
                      <a:pt x="384" y="1557"/>
                    </a:lnTo>
                    <a:lnTo>
                      <a:pt x="384" y="1515"/>
                    </a:lnTo>
                    <a:lnTo>
                      <a:pt x="331" y="1476"/>
                    </a:lnTo>
                    <a:lnTo>
                      <a:pt x="384" y="1443"/>
                    </a:lnTo>
                    <a:lnTo>
                      <a:pt x="376" y="1430"/>
                    </a:lnTo>
                    <a:lnTo>
                      <a:pt x="330" y="1400"/>
                    </a:lnTo>
                    <a:lnTo>
                      <a:pt x="321" y="1305"/>
                    </a:lnTo>
                    <a:lnTo>
                      <a:pt x="315" y="1297"/>
                    </a:lnTo>
                    <a:lnTo>
                      <a:pt x="385" y="1241"/>
                    </a:lnTo>
                    <a:lnTo>
                      <a:pt x="385" y="1194"/>
                    </a:lnTo>
                    <a:lnTo>
                      <a:pt x="330" y="1138"/>
                    </a:lnTo>
                    <a:lnTo>
                      <a:pt x="384" y="1089"/>
                    </a:lnTo>
                    <a:lnTo>
                      <a:pt x="384" y="1039"/>
                    </a:lnTo>
                    <a:lnTo>
                      <a:pt x="331" y="975"/>
                    </a:lnTo>
                    <a:lnTo>
                      <a:pt x="320" y="871"/>
                    </a:lnTo>
                    <a:lnTo>
                      <a:pt x="256" y="871"/>
                    </a:lnTo>
                    <a:lnTo>
                      <a:pt x="256" y="731"/>
                    </a:lnTo>
                    <a:lnTo>
                      <a:pt x="218" y="731"/>
                    </a:lnTo>
                    <a:lnTo>
                      <a:pt x="218" y="608"/>
                    </a:lnTo>
                    <a:lnTo>
                      <a:pt x="173" y="608"/>
                    </a:lnTo>
                    <a:lnTo>
                      <a:pt x="154" y="549"/>
                    </a:lnTo>
                    <a:lnTo>
                      <a:pt x="66" y="549"/>
                    </a:lnTo>
                    <a:lnTo>
                      <a:pt x="66" y="497"/>
                    </a:lnTo>
                    <a:lnTo>
                      <a:pt x="0" y="497"/>
                    </a:lnTo>
                    <a:lnTo>
                      <a:pt x="0" y="255"/>
                    </a:lnTo>
                    <a:lnTo>
                      <a:pt x="65" y="255"/>
                    </a:lnTo>
                    <a:lnTo>
                      <a:pt x="65" y="220"/>
                    </a:lnTo>
                    <a:lnTo>
                      <a:pt x="139" y="220"/>
                    </a:lnTo>
                    <a:lnTo>
                      <a:pt x="157" y="204"/>
                    </a:lnTo>
                    <a:lnTo>
                      <a:pt x="174" y="165"/>
                    </a:lnTo>
                    <a:lnTo>
                      <a:pt x="218" y="165"/>
                    </a:lnTo>
                    <a:lnTo>
                      <a:pt x="316" y="0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17" name=""/>
              <p:cNvGrpSpPr/>
              <p:nvPr/>
            </p:nvGrpSpPr>
            <p:grpSpPr>
              <a:xfrm>
                <a:off x="1983600" y="2666880"/>
                <a:ext cx="362160" cy="87120"/>
                <a:chOff x="1983600" y="2666880"/>
                <a:chExt cx="362160" cy="87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1983600" y="2666880"/>
                  <a:ext cx="335520" cy="87120"/>
                </a:xfrm>
                <a:custGeom>
                  <a:avLst/>
                  <a:gdLst/>
                  <a:ahLst/>
                  <a:rect l="l" t="t" r="r" b="b"/>
                  <a:pathLst>
                    <a:path w="624" h="197">
                      <a:moveTo>
                        <a:pt x="0" y="102"/>
                      </a:moveTo>
                      <a:lnTo>
                        <a:pt x="54" y="0"/>
                      </a:lnTo>
                      <a:lnTo>
                        <a:pt x="624" y="0"/>
                      </a:lnTo>
                      <a:lnTo>
                        <a:pt x="619" y="7"/>
                      </a:lnTo>
                      <a:lnTo>
                        <a:pt x="61" y="7"/>
                      </a:lnTo>
                      <a:lnTo>
                        <a:pt x="10" y="102"/>
                      </a:lnTo>
                      <a:lnTo>
                        <a:pt x="60" y="191"/>
                      </a:lnTo>
                      <a:lnTo>
                        <a:pt x="50" y="197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2010240" y="2666880"/>
                  <a:ext cx="335520" cy="87120"/>
                </a:xfrm>
                <a:custGeom>
                  <a:avLst/>
                  <a:gdLst/>
                  <a:ahLst/>
                  <a:rect l="l" t="t" r="r" b="b"/>
                  <a:pathLst>
                    <a:path w="625" h="197">
                      <a:moveTo>
                        <a:pt x="625" y="94"/>
                      </a:moveTo>
                      <a:lnTo>
                        <a:pt x="570" y="197"/>
                      </a:lnTo>
                      <a:lnTo>
                        <a:pt x="0" y="197"/>
                      </a:lnTo>
                      <a:lnTo>
                        <a:pt x="5" y="189"/>
                      </a:lnTo>
                      <a:lnTo>
                        <a:pt x="564" y="189"/>
                      </a:lnTo>
                      <a:lnTo>
                        <a:pt x="614" y="94"/>
                      </a:lnTo>
                      <a:lnTo>
                        <a:pt x="565" y="6"/>
                      </a:lnTo>
                      <a:lnTo>
                        <a:pt x="574" y="0"/>
                      </a:lnTo>
                      <a:lnTo>
                        <a:pt x="625" y="94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0" name=""/>
              <p:cNvSpPr/>
              <p:nvPr/>
            </p:nvSpPr>
            <p:spPr>
              <a:xfrm>
                <a:off x="1954440" y="2653560"/>
                <a:ext cx="403200" cy="360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994400" y="2636640"/>
                <a:ext cx="315000" cy="50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22" name=""/>
              <p:cNvGrpSpPr/>
              <p:nvPr/>
            </p:nvGrpSpPr>
            <p:grpSpPr>
              <a:xfrm>
                <a:off x="1954440" y="2765880"/>
                <a:ext cx="405360" cy="535680"/>
                <a:chOff x="1954440" y="2765880"/>
                <a:chExt cx="405360" cy="53568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2138040" y="2869920"/>
                  <a:ext cx="10440" cy="413280"/>
                </a:xfrm>
                <a:custGeom>
                  <a:avLst/>
                  <a:gdLst/>
                  <a:ahLst/>
                  <a:rect l="l" t="t" r="r" b="b"/>
                  <a:pathLst>
                    <a:path w="19" h="940">
                      <a:moveTo>
                        <a:pt x="19" y="0"/>
                      </a:moveTo>
                      <a:lnTo>
                        <a:pt x="18" y="940"/>
                      </a:lnTo>
                      <a:lnTo>
                        <a:pt x="2" y="925"/>
                      </a:lnTo>
                      <a:lnTo>
                        <a:pt x="0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196360" y="2880720"/>
                  <a:ext cx="9720" cy="403920"/>
                </a:xfrm>
                <a:custGeom>
                  <a:avLst/>
                  <a:gdLst/>
                  <a:ahLst/>
                  <a:rect l="l" t="t" r="r" b="b"/>
                  <a:pathLst>
                    <a:path w="17" h="917">
                      <a:moveTo>
                        <a:pt x="14" y="0"/>
                      </a:moveTo>
                      <a:lnTo>
                        <a:pt x="17" y="901"/>
                      </a:lnTo>
                      <a:lnTo>
                        <a:pt x="2" y="917"/>
                      </a:lnTo>
                      <a:lnTo>
                        <a:pt x="0" y="7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5" name=""/>
                <p:cNvGrpSpPr/>
                <p:nvPr/>
              </p:nvGrpSpPr>
              <p:grpSpPr>
                <a:xfrm>
                  <a:off x="1954440" y="2765880"/>
                  <a:ext cx="405360" cy="535680"/>
                  <a:chOff x="1954440" y="2765880"/>
                  <a:chExt cx="405360" cy="53568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>
                    <a:off x="1954440" y="2765880"/>
                    <a:ext cx="405360" cy="9000"/>
                  </a:xfrm>
                  <a:prstGeom prst="rect">
                    <a:avLst/>
                  </a:pr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2036880" y="2814480"/>
                    <a:ext cx="247320" cy="9000"/>
                  </a:xfrm>
                  <a:prstGeom prst="rect">
                    <a:avLst/>
                  </a:pr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2173680" y="2881800"/>
                    <a:ext cx="30960" cy="41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954">
                        <a:moveTo>
                          <a:pt x="57" y="0"/>
                        </a:moveTo>
                        <a:lnTo>
                          <a:pt x="44" y="62"/>
                        </a:lnTo>
                        <a:lnTo>
                          <a:pt x="21" y="115"/>
                        </a:lnTo>
                        <a:lnTo>
                          <a:pt x="21" y="936"/>
                        </a:lnTo>
                        <a:lnTo>
                          <a:pt x="4" y="954"/>
                        </a:lnTo>
                        <a:lnTo>
                          <a:pt x="0" y="100"/>
                        </a:lnTo>
                        <a:lnTo>
                          <a:pt x="57" y="0"/>
                        </a:ln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2054160" y="2865960"/>
                    <a:ext cx="21600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02" h="143">
                        <a:moveTo>
                          <a:pt x="67" y="143"/>
                        </a:moveTo>
                        <a:lnTo>
                          <a:pt x="41" y="111"/>
                        </a:lnTo>
                        <a:lnTo>
                          <a:pt x="41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lnTo>
                          <a:pt x="402" y="0"/>
                        </a:lnTo>
                        <a:lnTo>
                          <a:pt x="391" y="16"/>
                        </a:lnTo>
                        <a:lnTo>
                          <a:pt x="174" y="16"/>
                        </a:lnTo>
                        <a:lnTo>
                          <a:pt x="156" y="43"/>
                        </a:lnTo>
                        <a:lnTo>
                          <a:pt x="76" y="43"/>
                        </a:lnTo>
                        <a:lnTo>
                          <a:pt x="67" y="143"/>
                        </a:ln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2000520" y="2785320"/>
                    <a:ext cx="31932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594" h="20">
                        <a:moveTo>
                          <a:pt x="0" y="1"/>
                        </a:moveTo>
                        <a:lnTo>
                          <a:pt x="594" y="0"/>
                        </a:lnTo>
                        <a:lnTo>
                          <a:pt x="588" y="19"/>
                        </a:lnTo>
                        <a:lnTo>
                          <a:pt x="5" y="2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31" name=""/>
          <p:cNvSpPr/>
          <p:nvPr/>
        </p:nvSpPr>
        <p:spPr>
          <a:xfrm>
            <a:off x="1676520" y="5410080"/>
            <a:ext cx="1218960" cy="838440"/>
          </a:xfrm>
          <a:prstGeom prst="rightArrowCallout">
            <a:avLst>
              <a:gd name="adj1" fmla="val 25002"/>
              <a:gd name="adj2" fmla="val 25000"/>
              <a:gd name="adj3" fmla="val 24231"/>
              <a:gd name="adj4" fmla="val 66667"/>
            </a:avLst>
          </a:prstGeom>
          <a:solidFill>
            <a:srgbClr val="fcc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382320" y="5257800"/>
            <a:ext cx="1043280" cy="1143000"/>
            <a:chOff x="382320" y="5257800"/>
            <a:chExt cx="1043280" cy="1143000"/>
          </a:xfrm>
        </p:grpSpPr>
        <p:sp>
          <p:nvSpPr>
            <p:cNvPr id="433" name=""/>
            <p:cNvSpPr/>
            <p:nvPr/>
          </p:nvSpPr>
          <p:spPr>
            <a:xfrm>
              <a:off x="457200" y="5257800"/>
              <a:ext cx="914400" cy="11430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2320" y="5486400"/>
              <a:ext cx="1043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Arial"/>
                </a:rPr>
                <a:t>Holnap</a:t>
              </a:r>
              <a:br>
                <a:rPr sz="2000"/>
              </a:br>
              <a:r>
                <a:rPr b="1" lang="hu-HU" sz="2000" spc="-1" strike="noStrike">
                  <a:solidFill>
                    <a:srgbClr val="000000"/>
                  </a:solidFill>
                  <a:latin typeface="Arial"/>
                </a:rPr>
                <a:t>regg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3276720" y="5257800"/>
            <a:ext cx="930240" cy="1066680"/>
            <a:chOff x="3276720" y="5257800"/>
            <a:chExt cx="930240" cy="1066680"/>
          </a:xfrm>
        </p:grpSpPr>
        <p:sp>
          <p:nvSpPr>
            <p:cNvPr id="436" name=""/>
            <p:cNvSpPr/>
            <p:nvPr/>
          </p:nvSpPr>
          <p:spPr>
            <a:xfrm>
              <a:off x="3276720" y="5257800"/>
              <a:ext cx="914400" cy="10666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276720" y="5257800"/>
              <a:ext cx="9302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*#$fjda^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53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040720" y="2286000"/>
            <a:ext cx="1999440" cy="1153800"/>
            <a:chOff x="5040720" y="2286000"/>
            <a:chExt cx="1999440" cy="1153800"/>
          </a:xfrm>
        </p:grpSpPr>
        <p:sp>
          <p:nvSpPr>
            <p:cNvPr id="439" name=""/>
            <p:cNvSpPr/>
            <p:nvPr/>
          </p:nvSpPr>
          <p:spPr>
            <a:xfrm>
              <a:off x="5040720" y="2819520"/>
              <a:ext cx="176868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32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hu-HU" sz="3200" spc="-1" strike="noStrike" baseline="-18000">
                  <a:solidFill>
                    <a:srgbClr val="ffffff"/>
                  </a:solidFill>
                  <a:latin typeface="Arial"/>
                </a:rPr>
                <a:t>a-nyilváno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6553080" y="2286000"/>
              <a:ext cx="487080" cy="761760"/>
              <a:chOff x="6553080" y="2286000"/>
              <a:chExt cx="487080" cy="761760"/>
            </a:xfrm>
          </p:grpSpPr>
          <p:sp>
            <p:nvSpPr>
              <p:cNvPr id="441" name=""/>
              <p:cNvSpPr/>
              <p:nvPr/>
            </p:nvSpPr>
            <p:spPr>
              <a:xfrm>
                <a:off x="6553080" y="2286000"/>
                <a:ext cx="475560" cy="756720"/>
              </a:xfrm>
              <a:custGeom>
                <a:avLst/>
                <a:gdLst/>
                <a:ahLst/>
                <a:rect l="l" t="t" r="r" b="b"/>
                <a:pathLst>
                  <a:path w="882" h="1720">
                    <a:moveTo>
                      <a:pt x="317" y="0"/>
                    </a:moveTo>
                    <a:lnTo>
                      <a:pt x="583" y="0"/>
                    </a:lnTo>
                    <a:lnTo>
                      <a:pt x="533" y="66"/>
                    </a:lnTo>
                    <a:lnTo>
                      <a:pt x="377" y="66"/>
                    </a:lnTo>
                    <a:lnTo>
                      <a:pt x="319" y="171"/>
                    </a:lnTo>
                    <a:lnTo>
                      <a:pt x="586" y="171"/>
                    </a:lnTo>
                    <a:lnTo>
                      <a:pt x="532" y="67"/>
                    </a:lnTo>
                    <a:lnTo>
                      <a:pt x="583" y="1"/>
                    </a:lnTo>
                    <a:lnTo>
                      <a:pt x="677" y="164"/>
                    </a:lnTo>
                    <a:lnTo>
                      <a:pt x="727" y="165"/>
                    </a:lnTo>
                    <a:lnTo>
                      <a:pt x="745" y="221"/>
                    </a:lnTo>
                    <a:lnTo>
                      <a:pt x="824" y="221"/>
                    </a:lnTo>
                    <a:lnTo>
                      <a:pt x="825" y="260"/>
                    </a:lnTo>
                    <a:lnTo>
                      <a:pt x="855" y="261"/>
                    </a:lnTo>
                    <a:lnTo>
                      <a:pt x="882" y="261"/>
                    </a:lnTo>
                    <a:lnTo>
                      <a:pt x="882" y="501"/>
                    </a:lnTo>
                    <a:lnTo>
                      <a:pt x="824" y="502"/>
                    </a:lnTo>
                    <a:lnTo>
                      <a:pt x="823" y="553"/>
                    </a:lnTo>
                    <a:lnTo>
                      <a:pt x="748" y="553"/>
                    </a:lnTo>
                    <a:lnTo>
                      <a:pt x="726" y="613"/>
                    </a:lnTo>
                    <a:lnTo>
                      <a:pt x="685" y="614"/>
                    </a:lnTo>
                    <a:lnTo>
                      <a:pt x="682" y="735"/>
                    </a:lnTo>
                    <a:lnTo>
                      <a:pt x="654" y="735"/>
                    </a:lnTo>
                    <a:lnTo>
                      <a:pt x="645" y="754"/>
                    </a:lnTo>
                    <a:lnTo>
                      <a:pt x="645" y="876"/>
                    </a:lnTo>
                    <a:lnTo>
                      <a:pt x="595" y="877"/>
                    </a:lnTo>
                    <a:lnTo>
                      <a:pt x="598" y="1609"/>
                    </a:lnTo>
                    <a:lnTo>
                      <a:pt x="481" y="1720"/>
                    </a:lnTo>
                    <a:lnTo>
                      <a:pt x="331" y="1593"/>
                    </a:lnTo>
                    <a:lnTo>
                      <a:pt x="385" y="1557"/>
                    </a:lnTo>
                    <a:lnTo>
                      <a:pt x="385" y="1514"/>
                    </a:lnTo>
                    <a:lnTo>
                      <a:pt x="331" y="1476"/>
                    </a:lnTo>
                    <a:lnTo>
                      <a:pt x="385" y="1443"/>
                    </a:lnTo>
                    <a:lnTo>
                      <a:pt x="376" y="1430"/>
                    </a:lnTo>
                    <a:lnTo>
                      <a:pt x="330" y="1400"/>
                    </a:lnTo>
                    <a:lnTo>
                      <a:pt x="322" y="1305"/>
                    </a:lnTo>
                    <a:lnTo>
                      <a:pt x="316" y="1296"/>
                    </a:lnTo>
                    <a:lnTo>
                      <a:pt x="386" y="1241"/>
                    </a:lnTo>
                    <a:lnTo>
                      <a:pt x="386" y="1194"/>
                    </a:lnTo>
                    <a:lnTo>
                      <a:pt x="330" y="1138"/>
                    </a:lnTo>
                    <a:lnTo>
                      <a:pt x="385" y="1088"/>
                    </a:lnTo>
                    <a:lnTo>
                      <a:pt x="385" y="1039"/>
                    </a:lnTo>
                    <a:lnTo>
                      <a:pt x="331" y="975"/>
                    </a:lnTo>
                    <a:lnTo>
                      <a:pt x="321" y="871"/>
                    </a:lnTo>
                    <a:lnTo>
                      <a:pt x="256" y="871"/>
                    </a:lnTo>
                    <a:lnTo>
                      <a:pt x="256" y="730"/>
                    </a:lnTo>
                    <a:lnTo>
                      <a:pt x="217" y="730"/>
                    </a:lnTo>
                    <a:lnTo>
                      <a:pt x="217" y="608"/>
                    </a:lnTo>
                    <a:lnTo>
                      <a:pt x="174" y="608"/>
                    </a:lnTo>
                    <a:lnTo>
                      <a:pt x="154" y="549"/>
                    </a:lnTo>
                    <a:lnTo>
                      <a:pt x="67" y="549"/>
                    </a:lnTo>
                    <a:lnTo>
                      <a:pt x="67" y="497"/>
                    </a:lnTo>
                    <a:lnTo>
                      <a:pt x="0" y="497"/>
                    </a:lnTo>
                    <a:lnTo>
                      <a:pt x="0" y="255"/>
                    </a:lnTo>
                    <a:lnTo>
                      <a:pt x="66" y="255"/>
                    </a:lnTo>
                    <a:lnTo>
                      <a:pt x="66" y="220"/>
                    </a:lnTo>
                    <a:lnTo>
                      <a:pt x="140" y="220"/>
                    </a:lnTo>
                    <a:lnTo>
                      <a:pt x="157" y="204"/>
                    </a:lnTo>
                    <a:lnTo>
                      <a:pt x="175" y="165"/>
                    </a:lnTo>
                    <a:lnTo>
                      <a:pt x="217" y="165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fc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564600" y="2289600"/>
                <a:ext cx="475560" cy="758160"/>
              </a:xfrm>
              <a:custGeom>
                <a:avLst/>
                <a:gdLst/>
                <a:ahLst/>
                <a:rect l="l" t="t" r="r" b="b"/>
                <a:pathLst>
                  <a:path w="883" h="1721">
                    <a:moveTo>
                      <a:pt x="316" y="0"/>
                    </a:moveTo>
                    <a:lnTo>
                      <a:pt x="583" y="0"/>
                    </a:lnTo>
                    <a:lnTo>
                      <a:pt x="532" y="66"/>
                    </a:lnTo>
                    <a:lnTo>
                      <a:pt x="377" y="66"/>
                    </a:lnTo>
                    <a:lnTo>
                      <a:pt x="318" y="171"/>
                    </a:lnTo>
                    <a:lnTo>
                      <a:pt x="586" y="171"/>
                    </a:lnTo>
                    <a:lnTo>
                      <a:pt x="531" y="67"/>
                    </a:lnTo>
                    <a:lnTo>
                      <a:pt x="583" y="1"/>
                    </a:lnTo>
                    <a:lnTo>
                      <a:pt x="677" y="164"/>
                    </a:lnTo>
                    <a:lnTo>
                      <a:pt x="727" y="165"/>
                    </a:lnTo>
                    <a:lnTo>
                      <a:pt x="744" y="221"/>
                    </a:lnTo>
                    <a:lnTo>
                      <a:pt x="823" y="221"/>
                    </a:lnTo>
                    <a:lnTo>
                      <a:pt x="824" y="260"/>
                    </a:lnTo>
                    <a:lnTo>
                      <a:pt x="854" y="261"/>
                    </a:lnTo>
                    <a:lnTo>
                      <a:pt x="883" y="261"/>
                    </a:lnTo>
                    <a:lnTo>
                      <a:pt x="883" y="502"/>
                    </a:lnTo>
                    <a:lnTo>
                      <a:pt x="823" y="503"/>
                    </a:lnTo>
                    <a:lnTo>
                      <a:pt x="822" y="553"/>
                    </a:lnTo>
                    <a:lnTo>
                      <a:pt x="747" y="553"/>
                    </a:lnTo>
                    <a:lnTo>
                      <a:pt x="726" y="613"/>
                    </a:lnTo>
                    <a:lnTo>
                      <a:pt x="684" y="614"/>
                    </a:lnTo>
                    <a:lnTo>
                      <a:pt x="681" y="736"/>
                    </a:lnTo>
                    <a:lnTo>
                      <a:pt x="654" y="736"/>
                    </a:lnTo>
                    <a:lnTo>
                      <a:pt x="646" y="746"/>
                    </a:lnTo>
                    <a:lnTo>
                      <a:pt x="646" y="877"/>
                    </a:lnTo>
                    <a:lnTo>
                      <a:pt x="595" y="877"/>
                    </a:lnTo>
                    <a:lnTo>
                      <a:pt x="598" y="1610"/>
                    </a:lnTo>
                    <a:lnTo>
                      <a:pt x="481" y="1721"/>
                    </a:lnTo>
                    <a:lnTo>
                      <a:pt x="331" y="1593"/>
                    </a:lnTo>
                    <a:lnTo>
                      <a:pt x="384" y="1557"/>
                    </a:lnTo>
                    <a:lnTo>
                      <a:pt x="384" y="1515"/>
                    </a:lnTo>
                    <a:lnTo>
                      <a:pt x="331" y="1476"/>
                    </a:lnTo>
                    <a:lnTo>
                      <a:pt x="384" y="1443"/>
                    </a:lnTo>
                    <a:lnTo>
                      <a:pt x="376" y="1430"/>
                    </a:lnTo>
                    <a:lnTo>
                      <a:pt x="330" y="1400"/>
                    </a:lnTo>
                    <a:lnTo>
                      <a:pt x="321" y="1305"/>
                    </a:lnTo>
                    <a:lnTo>
                      <a:pt x="315" y="1297"/>
                    </a:lnTo>
                    <a:lnTo>
                      <a:pt x="385" y="1241"/>
                    </a:lnTo>
                    <a:lnTo>
                      <a:pt x="385" y="1194"/>
                    </a:lnTo>
                    <a:lnTo>
                      <a:pt x="330" y="1138"/>
                    </a:lnTo>
                    <a:lnTo>
                      <a:pt x="384" y="1089"/>
                    </a:lnTo>
                    <a:lnTo>
                      <a:pt x="384" y="1039"/>
                    </a:lnTo>
                    <a:lnTo>
                      <a:pt x="331" y="975"/>
                    </a:lnTo>
                    <a:lnTo>
                      <a:pt x="320" y="871"/>
                    </a:lnTo>
                    <a:lnTo>
                      <a:pt x="256" y="871"/>
                    </a:lnTo>
                    <a:lnTo>
                      <a:pt x="256" y="731"/>
                    </a:lnTo>
                    <a:lnTo>
                      <a:pt x="218" y="731"/>
                    </a:lnTo>
                    <a:lnTo>
                      <a:pt x="218" y="608"/>
                    </a:lnTo>
                    <a:lnTo>
                      <a:pt x="173" y="608"/>
                    </a:lnTo>
                    <a:lnTo>
                      <a:pt x="154" y="549"/>
                    </a:lnTo>
                    <a:lnTo>
                      <a:pt x="66" y="549"/>
                    </a:lnTo>
                    <a:lnTo>
                      <a:pt x="66" y="497"/>
                    </a:lnTo>
                    <a:lnTo>
                      <a:pt x="0" y="497"/>
                    </a:lnTo>
                    <a:lnTo>
                      <a:pt x="0" y="255"/>
                    </a:lnTo>
                    <a:lnTo>
                      <a:pt x="65" y="255"/>
                    </a:lnTo>
                    <a:lnTo>
                      <a:pt x="65" y="220"/>
                    </a:lnTo>
                    <a:lnTo>
                      <a:pt x="139" y="220"/>
                    </a:lnTo>
                    <a:lnTo>
                      <a:pt x="157" y="204"/>
                    </a:lnTo>
                    <a:lnTo>
                      <a:pt x="174" y="165"/>
                    </a:lnTo>
                    <a:lnTo>
                      <a:pt x="218" y="165"/>
                    </a:lnTo>
                    <a:lnTo>
                      <a:pt x="316" y="0"/>
                    </a:lnTo>
                    <a:close/>
                  </a:path>
                </a:pathLst>
              </a:custGeom>
              <a:solidFill>
                <a:srgbClr val="fc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3" name=""/>
              <p:cNvGrpSpPr/>
              <p:nvPr/>
            </p:nvGrpSpPr>
            <p:grpSpPr>
              <a:xfrm>
                <a:off x="6631560" y="2411280"/>
                <a:ext cx="362160" cy="87120"/>
                <a:chOff x="6631560" y="2411280"/>
                <a:chExt cx="362160" cy="8712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6631560" y="2411280"/>
                  <a:ext cx="335520" cy="87120"/>
                </a:xfrm>
                <a:custGeom>
                  <a:avLst/>
                  <a:gdLst/>
                  <a:ahLst/>
                  <a:rect l="l" t="t" r="r" b="b"/>
                  <a:pathLst>
                    <a:path w="624" h="197">
                      <a:moveTo>
                        <a:pt x="0" y="102"/>
                      </a:moveTo>
                      <a:lnTo>
                        <a:pt x="54" y="0"/>
                      </a:lnTo>
                      <a:lnTo>
                        <a:pt x="624" y="0"/>
                      </a:lnTo>
                      <a:lnTo>
                        <a:pt x="619" y="7"/>
                      </a:lnTo>
                      <a:lnTo>
                        <a:pt x="61" y="7"/>
                      </a:lnTo>
                      <a:lnTo>
                        <a:pt x="10" y="102"/>
                      </a:lnTo>
                      <a:lnTo>
                        <a:pt x="60" y="191"/>
                      </a:lnTo>
                      <a:lnTo>
                        <a:pt x="50" y="197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fc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6658200" y="2411280"/>
                  <a:ext cx="335520" cy="87120"/>
                </a:xfrm>
                <a:custGeom>
                  <a:avLst/>
                  <a:gdLst/>
                  <a:ahLst/>
                  <a:rect l="l" t="t" r="r" b="b"/>
                  <a:pathLst>
                    <a:path w="625" h="197">
                      <a:moveTo>
                        <a:pt x="625" y="94"/>
                      </a:moveTo>
                      <a:lnTo>
                        <a:pt x="570" y="197"/>
                      </a:lnTo>
                      <a:lnTo>
                        <a:pt x="0" y="197"/>
                      </a:lnTo>
                      <a:lnTo>
                        <a:pt x="5" y="189"/>
                      </a:lnTo>
                      <a:lnTo>
                        <a:pt x="564" y="189"/>
                      </a:lnTo>
                      <a:lnTo>
                        <a:pt x="614" y="94"/>
                      </a:lnTo>
                      <a:lnTo>
                        <a:pt x="565" y="6"/>
                      </a:lnTo>
                      <a:lnTo>
                        <a:pt x="574" y="0"/>
                      </a:lnTo>
                      <a:lnTo>
                        <a:pt x="625" y="94"/>
                      </a:lnTo>
                      <a:close/>
                    </a:path>
                  </a:pathLst>
                </a:custGeom>
                <a:solidFill>
                  <a:srgbClr val="fc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6" name=""/>
              <p:cNvSpPr/>
              <p:nvPr/>
            </p:nvSpPr>
            <p:spPr>
              <a:xfrm>
                <a:off x="6602400" y="2397960"/>
                <a:ext cx="403560" cy="3600"/>
              </a:xfrm>
              <a:prstGeom prst="rect">
                <a:avLst/>
              </a:prstGeom>
              <a:solidFill>
                <a:srgbClr val="fc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642360" y="2381040"/>
                <a:ext cx="315360" cy="5040"/>
              </a:xfrm>
              <a:prstGeom prst="rect">
                <a:avLst/>
              </a:prstGeom>
              <a:solidFill>
                <a:srgbClr val="fc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8" name=""/>
              <p:cNvGrpSpPr/>
              <p:nvPr/>
            </p:nvGrpSpPr>
            <p:grpSpPr>
              <a:xfrm>
                <a:off x="6602400" y="2510280"/>
                <a:ext cx="405720" cy="535680"/>
                <a:chOff x="6602400" y="2510280"/>
                <a:chExt cx="405720" cy="53568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6786360" y="2614320"/>
                  <a:ext cx="10440" cy="413280"/>
                </a:xfrm>
                <a:custGeom>
                  <a:avLst/>
                  <a:gdLst/>
                  <a:ahLst/>
                  <a:rect l="l" t="t" r="r" b="b"/>
                  <a:pathLst>
                    <a:path w="19" h="940">
                      <a:moveTo>
                        <a:pt x="19" y="0"/>
                      </a:moveTo>
                      <a:lnTo>
                        <a:pt x="18" y="940"/>
                      </a:lnTo>
                      <a:lnTo>
                        <a:pt x="2" y="925"/>
                      </a:lnTo>
                      <a:lnTo>
                        <a:pt x="0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c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844320" y="2625120"/>
                  <a:ext cx="9720" cy="403920"/>
                </a:xfrm>
                <a:custGeom>
                  <a:avLst/>
                  <a:gdLst/>
                  <a:ahLst/>
                  <a:rect l="l" t="t" r="r" b="b"/>
                  <a:pathLst>
                    <a:path w="17" h="917">
                      <a:moveTo>
                        <a:pt x="14" y="0"/>
                      </a:moveTo>
                      <a:lnTo>
                        <a:pt x="17" y="901"/>
                      </a:lnTo>
                      <a:lnTo>
                        <a:pt x="2" y="917"/>
                      </a:lnTo>
                      <a:lnTo>
                        <a:pt x="0" y="7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c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1" name=""/>
                <p:cNvGrpSpPr/>
                <p:nvPr/>
              </p:nvGrpSpPr>
              <p:grpSpPr>
                <a:xfrm>
                  <a:off x="6602400" y="2510280"/>
                  <a:ext cx="405720" cy="535680"/>
                  <a:chOff x="6602400" y="2510280"/>
                  <a:chExt cx="405720" cy="535680"/>
                </a:xfrm>
              </p:grpSpPr>
              <p:sp>
                <p:nvSpPr>
                  <p:cNvPr id="452" name=""/>
                  <p:cNvSpPr/>
                  <p:nvPr/>
                </p:nvSpPr>
                <p:spPr>
                  <a:xfrm>
                    <a:off x="6602400" y="2510280"/>
                    <a:ext cx="405720" cy="9000"/>
                  </a:xfrm>
                  <a:prstGeom prst="rect">
                    <a:avLst/>
                  </a:prstGeom>
                  <a:solidFill>
                    <a:srgbClr val="fc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6684840" y="2558880"/>
                    <a:ext cx="247320" cy="9000"/>
                  </a:xfrm>
                  <a:prstGeom prst="rect">
                    <a:avLst/>
                  </a:prstGeom>
                  <a:solidFill>
                    <a:srgbClr val="fc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6821640" y="2626200"/>
                    <a:ext cx="30960" cy="41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954">
                        <a:moveTo>
                          <a:pt x="57" y="0"/>
                        </a:moveTo>
                        <a:lnTo>
                          <a:pt x="44" y="62"/>
                        </a:lnTo>
                        <a:lnTo>
                          <a:pt x="21" y="115"/>
                        </a:lnTo>
                        <a:lnTo>
                          <a:pt x="21" y="936"/>
                        </a:lnTo>
                        <a:lnTo>
                          <a:pt x="4" y="954"/>
                        </a:lnTo>
                        <a:lnTo>
                          <a:pt x="0" y="100"/>
                        </a:lnTo>
                        <a:lnTo>
                          <a:pt x="57" y="0"/>
                        </a:lnTo>
                        <a:close/>
                      </a:path>
                    </a:pathLst>
                  </a:custGeom>
                  <a:solidFill>
                    <a:srgbClr val="fc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6702480" y="2610360"/>
                    <a:ext cx="21600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02" h="143">
                        <a:moveTo>
                          <a:pt x="67" y="143"/>
                        </a:moveTo>
                        <a:lnTo>
                          <a:pt x="41" y="111"/>
                        </a:lnTo>
                        <a:lnTo>
                          <a:pt x="41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lnTo>
                          <a:pt x="402" y="0"/>
                        </a:lnTo>
                        <a:lnTo>
                          <a:pt x="391" y="16"/>
                        </a:lnTo>
                        <a:lnTo>
                          <a:pt x="174" y="16"/>
                        </a:lnTo>
                        <a:lnTo>
                          <a:pt x="156" y="43"/>
                        </a:lnTo>
                        <a:lnTo>
                          <a:pt x="76" y="43"/>
                        </a:lnTo>
                        <a:lnTo>
                          <a:pt x="67" y="143"/>
                        </a:lnTo>
                        <a:close/>
                      </a:path>
                    </a:pathLst>
                  </a:custGeom>
                  <a:solidFill>
                    <a:srgbClr val="fc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6648480" y="2529720"/>
                    <a:ext cx="3196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594" h="20">
                        <a:moveTo>
                          <a:pt x="0" y="1"/>
                        </a:moveTo>
                        <a:lnTo>
                          <a:pt x="594" y="0"/>
                        </a:lnTo>
                        <a:lnTo>
                          <a:pt x="588" y="19"/>
                        </a:lnTo>
                        <a:lnTo>
                          <a:pt x="5" y="2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fc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57" name=""/>
          <p:cNvSpPr/>
          <p:nvPr/>
        </p:nvSpPr>
        <p:spPr>
          <a:xfrm>
            <a:off x="6095880" y="5410080"/>
            <a:ext cx="1219320" cy="838440"/>
          </a:xfrm>
          <a:prstGeom prst="rightArrowCallout">
            <a:avLst>
              <a:gd name="adj1" fmla="val 25002"/>
              <a:gd name="adj2" fmla="val 25000"/>
              <a:gd name="adj3" fmla="val 24238"/>
              <a:gd name="adj4" fmla="val 66667"/>
            </a:avLst>
          </a:prstGeom>
          <a:solidFill>
            <a:srgbClr val="fcc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7543800" y="5181480"/>
            <a:ext cx="1044720" cy="1143000"/>
            <a:chOff x="7543800" y="5181480"/>
            <a:chExt cx="1044720" cy="1143000"/>
          </a:xfrm>
        </p:grpSpPr>
        <p:sp>
          <p:nvSpPr>
            <p:cNvPr id="459" name=""/>
            <p:cNvSpPr/>
            <p:nvPr/>
          </p:nvSpPr>
          <p:spPr>
            <a:xfrm>
              <a:off x="7543800" y="5181480"/>
              <a:ext cx="914400" cy="11430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545240" y="5410080"/>
              <a:ext cx="1043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Arial"/>
                </a:rPr>
                <a:t>Holnap</a:t>
              </a:r>
              <a:br>
                <a:rPr sz="2000"/>
              </a:br>
              <a:r>
                <a:rPr b="1" lang="hu-HU" sz="2000" spc="-1" strike="noStrike">
                  <a:solidFill>
                    <a:srgbClr val="000000"/>
                  </a:solidFill>
                  <a:latin typeface="Arial"/>
                </a:rPr>
                <a:t>regg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4267080" y="5791320"/>
            <a:ext cx="175284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5105520" y="4343400"/>
            <a:ext cx="1828800" cy="925200"/>
            <a:chOff x="5105520" y="4343400"/>
            <a:chExt cx="1828800" cy="925200"/>
          </a:xfrm>
        </p:grpSpPr>
        <p:grpSp>
          <p:nvGrpSpPr>
            <p:cNvPr id="463" name=""/>
            <p:cNvGrpSpPr/>
            <p:nvPr/>
          </p:nvGrpSpPr>
          <p:grpSpPr>
            <a:xfrm>
              <a:off x="6400800" y="4343400"/>
              <a:ext cx="533520" cy="885600"/>
              <a:chOff x="6400800" y="4343400"/>
              <a:chExt cx="533520" cy="885600"/>
            </a:xfrm>
          </p:grpSpPr>
          <p:pic>
            <p:nvPicPr>
              <p:cNvPr id="46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400800" y="4343400"/>
                <a:ext cx="533520" cy="88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"/>
              <p:cNvSpPr/>
              <p:nvPr/>
            </p:nvSpPr>
            <p:spPr>
              <a:xfrm>
                <a:off x="6461280" y="4462200"/>
                <a:ext cx="450000" cy="23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5105520" y="4648320"/>
              <a:ext cx="175248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32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hu-HU" sz="3200" spc="-1" strike="noStrike" baseline="-18000">
                  <a:solidFill>
                    <a:srgbClr val="ffffff"/>
                  </a:solidFill>
                  <a:latin typeface="Arial"/>
                </a:rPr>
                <a:t>a-privá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240120" y="4419720"/>
            <a:ext cx="2228040" cy="772560"/>
            <a:chOff x="240120" y="4419720"/>
            <a:chExt cx="2228040" cy="772560"/>
          </a:xfrm>
        </p:grpSpPr>
        <p:grpSp>
          <p:nvGrpSpPr>
            <p:cNvPr id="468" name=""/>
            <p:cNvGrpSpPr/>
            <p:nvPr/>
          </p:nvGrpSpPr>
          <p:grpSpPr>
            <a:xfrm>
              <a:off x="1981080" y="4419720"/>
              <a:ext cx="487080" cy="761400"/>
              <a:chOff x="1981080" y="4419720"/>
              <a:chExt cx="487080" cy="761400"/>
            </a:xfrm>
          </p:grpSpPr>
          <p:sp>
            <p:nvSpPr>
              <p:cNvPr id="469" name=""/>
              <p:cNvSpPr/>
              <p:nvPr/>
            </p:nvSpPr>
            <p:spPr>
              <a:xfrm>
                <a:off x="1981080" y="4419720"/>
                <a:ext cx="475560" cy="756360"/>
              </a:xfrm>
              <a:custGeom>
                <a:avLst/>
                <a:gdLst/>
                <a:ahLst/>
                <a:rect l="l" t="t" r="r" b="b"/>
                <a:pathLst>
                  <a:path w="882" h="1720">
                    <a:moveTo>
                      <a:pt x="317" y="0"/>
                    </a:moveTo>
                    <a:lnTo>
                      <a:pt x="583" y="0"/>
                    </a:lnTo>
                    <a:lnTo>
                      <a:pt x="533" y="66"/>
                    </a:lnTo>
                    <a:lnTo>
                      <a:pt x="377" y="66"/>
                    </a:lnTo>
                    <a:lnTo>
                      <a:pt x="319" y="171"/>
                    </a:lnTo>
                    <a:lnTo>
                      <a:pt x="586" y="171"/>
                    </a:lnTo>
                    <a:lnTo>
                      <a:pt x="532" y="67"/>
                    </a:lnTo>
                    <a:lnTo>
                      <a:pt x="583" y="1"/>
                    </a:lnTo>
                    <a:lnTo>
                      <a:pt x="677" y="164"/>
                    </a:lnTo>
                    <a:lnTo>
                      <a:pt x="727" y="165"/>
                    </a:lnTo>
                    <a:lnTo>
                      <a:pt x="745" y="221"/>
                    </a:lnTo>
                    <a:lnTo>
                      <a:pt x="824" y="221"/>
                    </a:lnTo>
                    <a:lnTo>
                      <a:pt x="825" y="260"/>
                    </a:lnTo>
                    <a:lnTo>
                      <a:pt x="855" y="261"/>
                    </a:lnTo>
                    <a:lnTo>
                      <a:pt x="882" y="261"/>
                    </a:lnTo>
                    <a:lnTo>
                      <a:pt x="882" y="501"/>
                    </a:lnTo>
                    <a:lnTo>
                      <a:pt x="824" y="502"/>
                    </a:lnTo>
                    <a:lnTo>
                      <a:pt x="823" y="553"/>
                    </a:lnTo>
                    <a:lnTo>
                      <a:pt x="748" y="553"/>
                    </a:lnTo>
                    <a:lnTo>
                      <a:pt x="726" y="613"/>
                    </a:lnTo>
                    <a:lnTo>
                      <a:pt x="685" y="614"/>
                    </a:lnTo>
                    <a:lnTo>
                      <a:pt x="682" y="735"/>
                    </a:lnTo>
                    <a:lnTo>
                      <a:pt x="654" y="735"/>
                    </a:lnTo>
                    <a:lnTo>
                      <a:pt x="645" y="754"/>
                    </a:lnTo>
                    <a:lnTo>
                      <a:pt x="645" y="876"/>
                    </a:lnTo>
                    <a:lnTo>
                      <a:pt x="595" y="877"/>
                    </a:lnTo>
                    <a:lnTo>
                      <a:pt x="598" y="1609"/>
                    </a:lnTo>
                    <a:lnTo>
                      <a:pt x="481" y="1720"/>
                    </a:lnTo>
                    <a:lnTo>
                      <a:pt x="331" y="1593"/>
                    </a:lnTo>
                    <a:lnTo>
                      <a:pt x="385" y="1557"/>
                    </a:lnTo>
                    <a:lnTo>
                      <a:pt x="385" y="1514"/>
                    </a:lnTo>
                    <a:lnTo>
                      <a:pt x="331" y="1476"/>
                    </a:lnTo>
                    <a:lnTo>
                      <a:pt x="385" y="1443"/>
                    </a:lnTo>
                    <a:lnTo>
                      <a:pt x="376" y="1430"/>
                    </a:lnTo>
                    <a:lnTo>
                      <a:pt x="330" y="1400"/>
                    </a:lnTo>
                    <a:lnTo>
                      <a:pt x="322" y="1305"/>
                    </a:lnTo>
                    <a:lnTo>
                      <a:pt x="316" y="1296"/>
                    </a:lnTo>
                    <a:lnTo>
                      <a:pt x="386" y="1241"/>
                    </a:lnTo>
                    <a:lnTo>
                      <a:pt x="386" y="1194"/>
                    </a:lnTo>
                    <a:lnTo>
                      <a:pt x="330" y="1138"/>
                    </a:lnTo>
                    <a:lnTo>
                      <a:pt x="385" y="1088"/>
                    </a:lnTo>
                    <a:lnTo>
                      <a:pt x="385" y="1039"/>
                    </a:lnTo>
                    <a:lnTo>
                      <a:pt x="331" y="975"/>
                    </a:lnTo>
                    <a:lnTo>
                      <a:pt x="321" y="871"/>
                    </a:lnTo>
                    <a:lnTo>
                      <a:pt x="256" y="871"/>
                    </a:lnTo>
                    <a:lnTo>
                      <a:pt x="256" y="730"/>
                    </a:lnTo>
                    <a:lnTo>
                      <a:pt x="217" y="730"/>
                    </a:lnTo>
                    <a:lnTo>
                      <a:pt x="217" y="608"/>
                    </a:lnTo>
                    <a:lnTo>
                      <a:pt x="174" y="608"/>
                    </a:lnTo>
                    <a:lnTo>
                      <a:pt x="154" y="549"/>
                    </a:lnTo>
                    <a:lnTo>
                      <a:pt x="67" y="549"/>
                    </a:lnTo>
                    <a:lnTo>
                      <a:pt x="67" y="497"/>
                    </a:lnTo>
                    <a:lnTo>
                      <a:pt x="0" y="497"/>
                    </a:lnTo>
                    <a:lnTo>
                      <a:pt x="0" y="255"/>
                    </a:lnTo>
                    <a:lnTo>
                      <a:pt x="66" y="255"/>
                    </a:lnTo>
                    <a:lnTo>
                      <a:pt x="66" y="220"/>
                    </a:lnTo>
                    <a:lnTo>
                      <a:pt x="140" y="220"/>
                    </a:lnTo>
                    <a:lnTo>
                      <a:pt x="157" y="204"/>
                    </a:lnTo>
                    <a:lnTo>
                      <a:pt x="175" y="165"/>
                    </a:lnTo>
                    <a:lnTo>
                      <a:pt x="217" y="165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fc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992600" y="4423320"/>
                <a:ext cx="475560" cy="757800"/>
              </a:xfrm>
              <a:custGeom>
                <a:avLst/>
                <a:gdLst/>
                <a:ahLst/>
                <a:rect l="l" t="t" r="r" b="b"/>
                <a:pathLst>
                  <a:path w="883" h="1721">
                    <a:moveTo>
                      <a:pt x="316" y="0"/>
                    </a:moveTo>
                    <a:lnTo>
                      <a:pt x="583" y="0"/>
                    </a:lnTo>
                    <a:lnTo>
                      <a:pt x="532" y="66"/>
                    </a:lnTo>
                    <a:lnTo>
                      <a:pt x="377" y="66"/>
                    </a:lnTo>
                    <a:lnTo>
                      <a:pt x="318" y="171"/>
                    </a:lnTo>
                    <a:lnTo>
                      <a:pt x="586" y="171"/>
                    </a:lnTo>
                    <a:lnTo>
                      <a:pt x="531" y="67"/>
                    </a:lnTo>
                    <a:lnTo>
                      <a:pt x="583" y="1"/>
                    </a:lnTo>
                    <a:lnTo>
                      <a:pt x="677" y="164"/>
                    </a:lnTo>
                    <a:lnTo>
                      <a:pt x="727" y="165"/>
                    </a:lnTo>
                    <a:lnTo>
                      <a:pt x="744" y="221"/>
                    </a:lnTo>
                    <a:lnTo>
                      <a:pt x="823" y="221"/>
                    </a:lnTo>
                    <a:lnTo>
                      <a:pt x="824" y="260"/>
                    </a:lnTo>
                    <a:lnTo>
                      <a:pt x="854" y="261"/>
                    </a:lnTo>
                    <a:lnTo>
                      <a:pt x="883" y="261"/>
                    </a:lnTo>
                    <a:lnTo>
                      <a:pt x="883" y="502"/>
                    </a:lnTo>
                    <a:lnTo>
                      <a:pt x="823" y="503"/>
                    </a:lnTo>
                    <a:lnTo>
                      <a:pt x="822" y="553"/>
                    </a:lnTo>
                    <a:lnTo>
                      <a:pt x="747" y="553"/>
                    </a:lnTo>
                    <a:lnTo>
                      <a:pt x="726" y="613"/>
                    </a:lnTo>
                    <a:lnTo>
                      <a:pt x="684" y="614"/>
                    </a:lnTo>
                    <a:lnTo>
                      <a:pt x="681" y="736"/>
                    </a:lnTo>
                    <a:lnTo>
                      <a:pt x="654" y="736"/>
                    </a:lnTo>
                    <a:lnTo>
                      <a:pt x="646" y="746"/>
                    </a:lnTo>
                    <a:lnTo>
                      <a:pt x="646" y="877"/>
                    </a:lnTo>
                    <a:lnTo>
                      <a:pt x="595" y="877"/>
                    </a:lnTo>
                    <a:lnTo>
                      <a:pt x="598" y="1610"/>
                    </a:lnTo>
                    <a:lnTo>
                      <a:pt x="481" y="1721"/>
                    </a:lnTo>
                    <a:lnTo>
                      <a:pt x="331" y="1593"/>
                    </a:lnTo>
                    <a:lnTo>
                      <a:pt x="384" y="1557"/>
                    </a:lnTo>
                    <a:lnTo>
                      <a:pt x="384" y="1515"/>
                    </a:lnTo>
                    <a:lnTo>
                      <a:pt x="331" y="1476"/>
                    </a:lnTo>
                    <a:lnTo>
                      <a:pt x="384" y="1443"/>
                    </a:lnTo>
                    <a:lnTo>
                      <a:pt x="376" y="1430"/>
                    </a:lnTo>
                    <a:lnTo>
                      <a:pt x="330" y="1400"/>
                    </a:lnTo>
                    <a:lnTo>
                      <a:pt x="321" y="1305"/>
                    </a:lnTo>
                    <a:lnTo>
                      <a:pt x="315" y="1297"/>
                    </a:lnTo>
                    <a:lnTo>
                      <a:pt x="385" y="1241"/>
                    </a:lnTo>
                    <a:lnTo>
                      <a:pt x="385" y="1194"/>
                    </a:lnTo>
                    <a:lnTo>
                      <a:pt x="330" y="1138"/>
                    </a:lnTo>
                    <a:lnTo>
                      <a:pt x="384" y="1089"/>
                    </a:lnTo>
                    <a:lnTo>
                      <a:pt x="384" y="1039"/>
                    </a:lnTo>
                    <a:lnTo>
                      <a:pt x="331" y="975"/>
                    </a:lnTo>
                    <a:lnTo>
                      <a:pt x="320" y="871"/>
                    </a:lnTo>
                    <a:lnTo>
                      <a:pt x="256" y="871"/>
                    </a:lnTo>
                    <a:lnTo>
                      <a:pt x="256" y="731"/>
                    </a:lnTo>
                    <a:lnTo>
                      <a:pt x="218" y="731"/>
                    </a:lnTo>
                    <a:lnTo>
                      <a:pt x="218" y="608"/>
                    </a:lnTo>
                    <a:lnTo>
                      <a:pt x="173" y="608"/>
                    </a:lnTo>
                    <a:lnTo>
                      <a:pt x="154" y="549"/>
                    </a:lnTo>
                    <a:lnTo>
                      <a:pt x="66" y="549"/>
                    </a:lnTo>
                    <a:lnTo>
                      <a:pt x="66" y="497"/>
                    </a:lnTo>
                    <a:lnTo>
                      <a:pt x="0" y="497"/>
                    </a:lnTo>
                    <a:lnTo>
                      <a:pt x="0" y="255"/>
                    </a:lnTo>
                    <a:lnTo>
                      <a:pt x="65" y="255"/>
                    </a:lnTo>
                    <a:lnTo>
                      <a:pt x="65" y="220"/>
                    </a:lnTo>
                    <a:lnTo>
                      <a:pt x="139" y="220"/>
                    </a:lnTo>
                    <a:lnTo>
                      <a:pt x="157" y="204"/>
                    </a:lnTo>
                    <a:lnTo>
                      <a:pt x="174" y="165"/>
                    </a:lnTo>
                    <a:lnTo>
                      <a:pt x="218" y="165"/>
                    </a:lnTo>
                    <a:lnTo>
                      <a:pt x="316" y="0"/>
                    </a:lnTo>
                    <a:close/>
                  </a:path>
                </a:pathLst>
              </a:custGeom>
              <a:solidFill>
                <a:srgbClr val="fc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71" name=""/>
              <p:cNvGrpSpPr/>
              <p:nvPr/>
            </p:nvGrpSpPr>
            <p:grpSpPr>
              <a:xfrm>
                <a:off x="2059560" y="4545000"/>
                <a:ext cx="362160" cy="86760"/>
                <a:chOff x="2059560" y="4545000"/>
                <a:chExt cx="362160" cy="8676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2059560" y="4545000"/>
                  <a:ext cx="335520" cy="86760"/>
                </a:xfrm>
                <a:custGeom>
                  <a:avLst/>
                  <a:gdLst/>
                  <a:ahLst/>
                  <a:rect l="l" t="t" r="r" b="b"/>
                  <a:pathLst>
                    <a:path w="624" h="197">
                      <a:moveTo>
                        <a:pt x="0" y="102"/>
                      </a:moveTo>
                      <a:lnTo>
                        <a:pt x="54" y="0"/>
                      </a:lnTo>
                      <a:lnTo>
                        <a:pt x="624" y="0"/>
                      </a:lnTo>
                      <a:lnTo>
                        <a:pt x="619" y="7"/>
                      </a:lnTo>
                      <a:lnTo>
                        <a:pt x="61" y="7"/>
                      </a:lnTo>
                      <a:lnTo>
                        <a:pt x="10" y="102"/>
                      </a:lnTo>
                      <a:lnTo>
                        <a:pt x="60" y="191"/>
                      </a:lnTo>
                      <a:lnTo>
                        <a:pt x="50" y="197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fc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086200" y="4545000"/>
                  <a:ext cx="335520" cy="86760"/>
                </a:xfrm>
                <a:custGeom>
                  <a:avLst/>
                  <a:gdLst/>
                  <a:ahLst/>
                  <a:rect l="l" t="t" r="r" b="b"/>
                  <a:pathLst>
                    <a:path w="625" h="197">
                      <a:moveTo>
                        <a:pt x="625" y="94"/>
                      </a:moveTo>
                      <a:lnTo>
                        <a:pt x="570" y="197"/>
                      </a:lnTo>
                      <a:lnTo>
                        <a:pt x="0" y="197"/>
                      </a:lnTo>
                      <a:lnTo>
                        <a:pt x="5" y="189"/>
                      </a:lnTo>
                      <a:lnTo>
                        <a:pt x="564" y="189"/>
                      </a:lnTo>
                      <a:lnTo>
                        <a:pt x="614" y="94"/>
                      </a:lnTo>
                      <a:lnTo>
                        <a:pt x="565" y="6"/>
                      </a:lnTo>
                      <a:lnTo>
                        <a:pt x="574" y="0"/>
                      </a:lnTo>
                      <a:lnTo>
                        <a:pt x="625" y="94"/>
                      </a:lnTo>
                      <a:close/>
                    </a:path>
                  </a:pathLst>
                </a:custGeom>
                <a:solidFill>
                  <a:srgbClr val="fc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4" name=""/>
              <p:cNvSpPr/>
              <p:nvPr/>
            </p:nvSpPr>
            <p:spPr>
              <a:xfrm>
                <a:off x="2030400" y="4531680"/>
                <a:ext cx="403560" cy="3600"/>
              </a:xfrm>
              <a:prstGeom prst="rect">
                <a:avLst/>
              </a:prstGeom>
              <a:solidFill>
                <a:srgbClr val="fc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070360" y="4514760"/>
                <a:ext cx="315360" cy="5040"/>
              </a:xfrm>
              <a:prstGeom prst="rect">
                <a:avLst/>
              </a:prstGeom>
              <a:solidFill>
                <a:srgbClr val="fc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76" name=""/>
              <p:cNvGrpSpPr/>
              <p:nvPr/>
            </p:nvGrpSpPr>
            <p:grpSpPr>
              <a:xfrm>
                <a:off x="2030400" y="4644000"/>
                <a:ext cx="405720" cy="535320"/>
                <a:chOff x="2030400" y="4644000"/>
                <a:chExt cx="405720" cy="53532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2214360" y="4748040"/>
                  <a:ext cx="10440" cy="413280"/>
                </a:xfrm>
                <a:custGeom>
                  <a:avLst/>
                  <a:gdLst/>
                  <a:ahLst/>
                  <a:rect l="l" t="t" r="r" b="b"/>
                  <a:pathLst>
                    <a:path w="19" h="940">
                      <a:moveTo>
                        <a:pt x="19" y="0"/>
                      </a:moveTo>
                      <a:lnTo>
                        <a:pt x="18" y="940"/>
                      </a:lnTo>
                      <a:lnTo>
                        <a:pt x="2" y="925"/>
                      </a:lnTo>
                      <a:lnTo>
                        <a:pt x="0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c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272320" y="4758840"/>
                  <a:ext cx="9720" cy="403560"/>
                </a:xfrm>
                <a:custGeom>
                  <a:avLst/>
                  <a:gdLst/>
                  <a:ahLst/>
                  <a:rect l="l" t="t" r="r" b="b"/>
                  <a:pathLst>
                    <a:path w="17" h="917">
                      <a:moveTo>
                        <a:pt x="14" y="0"/>
                      </a:moveTo>
                      <a:lnTo>
                        <a:pt x="17" y="901"/>
                      </a:lnTo>
                      <a:lnTo>
                        <a:pt x="2" y="917"/>
                      </a:lnTo>
                      <a:lnTo>
                        <a:pt x="0" y="7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c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9" name=""/>
                <p:cNvGrpSpPr/>
                <p:nvPr/>
              </p:nvGrpSpPr>
              <p:grpSpPr>
                <a:xfrm>
                  <a:off x="2030400" y="4644000"/>
                  <a:ext cx="405720" cy="535320"/>
                  <a:chOff x="2030400" y="4644000"/>
                  <a:chExt cx="405720" cy="53532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>
                    <a:off x="2030400" y="4644000"/>
                    <a:ext cx="405720" cy="9000"/>
                  </a:xfrm>
                  <a:prstGeom prst="rect">
                    <a:avLst/>
                  </a:prstGeom>
                  <a:solidFill>
                    <a:srgbClr val="fc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2112840" y="4692600"/>
                    <a:ext cx="247320" cy="9000"/>
                  </a:xfrm>
                  <a:prstGeom prst="rect">
                    <a:avLst/>
                  </a:prstGeom>
                  <a:solidFill>
                    <a:srgbClr val="fc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2249640" y="4759920"/>
                    <a:ext cx="30960" cy="41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954">
                        <a:moveTo>
                          <a:pt x="57" y="0"/>
                        </a:moveTo>
                        <a:lnTo>
                          <a:pt x="44" y="62"/>
                        </a:lnTo>
                        <a:lnTo>
                          <a:pt x="21" y="115"/>
                        </a:lnTo>
                        <a:lnTo>
                          <a:pt x="21" y="936"/>
                        </a:lnTo>
                        <a:lnTo>
                          <a:pt x="4" y="954"/>
                        </a:lnTo>
                        <a:lnTo>
                          <a:pt x="0" y="100"/>
                        </a:lnTo>
                        <a:lnTo>
                          <a:pt x="57" y="0"/>
                        </a:lnTo>
                        <a:close/>
                      </a:path>
                    </a:pathLst>
                  </a:custGeom>
                  <a:solidFill>
                    <a:srgbClr val="fc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2130480" y="4744080"/>
                    <a:ext cx="21600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02" h="143">
                        <a:moveTo>
                          <a:pt x="67" y="143"/>
                        </a:moveTo>
                        <a:lnTo>
                          <a:pt x="41" y="111"/>
                        </a:lnTo>
                        <a:lnTo>
                          <a:pt x="41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lnTo>
                          <a:pt x="402" y="0"/>
                        </a:lnTo>
                        <a:lnTo>
                          <a:pt x="391" y="16"/>
                        </a:lnTo>
                        <a:lnTo>
                          <a:pt x="174" y="16"/>
                        </a:lnTo>
                        <a:lnTo>
                          <a:pt x="156" y="43"/>
                        </a:lnTo>
                        <a:lnTo>
                          <a:pt x="76" y="43"/>
                        </a:lnTo>
                        <a:lnTo>
                          <a:pt x="67" y="143"/>
                        </a:lnTo>
                        <a:close/>
                      </a:path>
                    </a:pathLst>
                  </a:custGeom>
                  <a:solidFill>
                    <a:srgbClr val="fc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2076480" y="4663440"/>
                    <a:ext cx="3196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594" h="20">
                        <a:moveTo>
                          <a:pt x="0" y="1"/>
                        </a:moveTo>
                        <a:lnTo>
                          <a:pt x="594" y="0"/>
                        </a:lnTo>
                        <a:lnTo>
                          <a:pt x="588" y="19"/>
                        </a:lnTo>
                        <a:lnTo>
                          <a:pt x="5" y="2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fc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85" name=""/>
            <p:cNvSpPr/>
            <p:nvPr/>
          </p:nvSpPr>
          <p:spPr>
            <a:xfrm>
              <a:off x="240120" y="4572000"/>
              <a:ext cx="176868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32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hu-HU" sz="3200" spc="-1" strike="noStrike" baseline="-18000">
                  <a:solidFill>
                    <a:srgbClr val="ffffff"/>
                  </a:solidFill>
                  <a:latin typeface="Arial"/>
                </a:rPr>
                <a:t>a-nyilváno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31920" y="228600"/>
            <a:ext cx="881208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Nyilvános vs. Privát kulcsos titkosítá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05920" cy="4591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yilvános kulcsos módszer előnye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nyilvános kulcs bárkinek kiadható, a  kulcs menedzsment problémája megszűni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z a módszer lehetőséget ad digitális aláírások használatár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yilvános kulcsos módszer hátránya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algoritmusok lényegesen lassabbak, kb. 1000 szeres eltérés van a Privát kulcsos módszerhez képe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5040" y="0"/>
            <a:ext cx="8778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Önök  egy sorozatot látnak...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793800"/>
            <a:ext cx="9144000" cy="6074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686dc"/>
                </a:solidFill>
                <a:latin typeface="Arial"/>
              </a:rPr>
              <a:t>Active Directory, a Windows 2000 új címtár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686dc"/>
                </a:solidFill>
                <a:latin typeface="Arial"/>
              </a:rPr>
              <a:t>Felhasználó és szoftver menedzs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Biztonsági szolgáltatások a Windows 2000-b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Windows 2000 infrastruktúrális szolgáltatása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Windows 2000 mint alkalmazás kiszolgál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Windows 2000 telepítése és üzembehelyez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Windows 2000 NetWare és UNIX környezetb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Hash algoritmuso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122120"/>
            <a:ext cx="8415360" cy="4138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etszőleges hosszúságú üzenetet fix hosszúság értékké alakítana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Csak egyirányú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yorsan elvégezhető művele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agy valószínűséggel nem lehet két olyan bemenő üzenetet találni, melynek Hash értéke azonos (1/2</a:t>
            </a:r>
            <a:r>
              <a:rPr b="1" lang="hu-HU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a valószínűsége, hogy azonos az érték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lgoritmuso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D2 ,MD3, MD4, MD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1571400" y="5411880"/>
            <a:ext cx="1043280" cy="1143000"/>
            <a:chOff x="1571400" y="5411880"/>
            <a:chExt cx="1043280" cy="1143000"/>
          </a:xfrm>
        </p:grpSpPr>
        <p:sp>
          <p:nvSpPr>
            <p:cNvPr id="491" name=""/>
            <p:cNvSpPr/>
            <p:nvPr/>
          </p:nvSpPr>
          <p:spPr>
            <a:xfrm>
              <a:off x="1646280" y="5411880"/>
              <a:ext cx="914400" cy="11430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71400" y="5640480"/>
              <a:ext cx="1043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Arial"/>
                </a:rPr>
                <a:t>Holnap</a:t>
              </a:r>
              <a:br>
                <a:rPr sz="2000"/>
              </a:br>
              <a:r>
                <a:rPr b="1" lang="hu-HU" sz="2000" spc="-1" strike="noStrike">
                  <a:solidFill>
                    <a:srgbClr val="000000"/>
                  </a:solidFill>
                  <a:latin typeface="Arial"/>
                </a:rPr>
                <a:t>regg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3322800" y="5641920"/>
            <a:ext cx="2025360" cy="838080"/>
          </a:xfrm>
          <a:prstGeom prst="rightArrowCallout">
            <a:avLst>
              <a:gd name="adj1" fmla="val 25002"/>
              <a:gd name="adj2" fmla="val 25000"/>
              <a:gd name="adj3" fmla="val 40278"/>
              <a:gd name="adj4" fmla="val 66667"/>
            </a:avLst>
          </a:prstGeom>
          <a:solidFill>
            <a:srgbClr val="fcc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ash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üggvé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11720" y="5458320"/>
            <a:ext cx="1235160" cy="1122840"/>
          </a:xfrm>
          <a:custGeom>
            <a:avLst/>
            <a:gdLst>
              <a:gd name="textAreaLeft" fmla="*/ 281880 w 1235160"/>
              <a:gd name="textAreaRight" fmla="*/ 953280 w 1235160"/>
              <a:gd name="textAreaTop" fmla="*/ 256320 h 1122840"/>
              <a:gd name="textAreaBottom" fmla="*/ 866520 h 1122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5686dc"/>
          </a:solidFill>
          <a:ln w="12600">
            <a:solidFill>
              <a:srgbClr val="fcc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ash érté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176960" y="4148280"/>
            <a:ext cx="1862280" cy="1015920"/>
          </a:xfrm>
          <a:prstGeom prst="wedgeRoundRectCallout">
            <a:avLst>
              <a:gd name="adj1" fmla="val -55625"/>
              <a:gd name="adj2" fmla="val 111717"/>
              <a:gd name="adj3" fmla="val 16667"/>
            </a:avLst>
          </a:prstGeom>
          <a:solidFill>
            <a:srgbClr val="eea564"/>
          </a:solidFill>
          <a:ln w="1260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essage dig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Digitális aláírá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pic>
        <p:nvPicPr>
          <p:cNvPr id="497" name="bd06784_" descr=""/>
          <p:cNvPicPr/>
          <p:nvPr/>
        </p:nvPicPr>
        <p:blipFill>
          <a:blip r:embed="rId2"/>
          <a:stretch/>
        </p:blipFill>
        <p:spPr>
          <a:xfrm>
            <a:off x="152280" y="1219320"/>
            <a:ext cx="1676520" cy="1385640"/>
          </a:xfrm>
          <a:prstGeom prst="rect">
            <a:avLst/>
          </a:prstGeom>
          <a:ln w="0">
            <a:noFill/>
          </a:ln>
        </p:spPr>
      </p:pic>
      <p:pic>
        <p:nvPicPr>
          <p:cNvPr id="498" name="bd06790_" descr=""/>
          <p:cNvPicPr/>
          <p:nvPr/>
        </p:nvPicPr>
        <p:blipFill>
          <a:blip r:embed="rId3"/>
          <a:stretch/>
        </p:blipFill>
        <p:spPr>
          <a:xfrm>
            <a:off x="7162920" y="1371600"/>
            <a:ext cx="1508040" cy="124632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6172200" y="1219320"/>
            <a:ext cx="12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754640" y="12193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458640" y="3124080"/>
            <a:ext cx="1043280" cy="914400"/>
            <a:chOff x="458640" y="3124080"/>
            <a:chExt cx="1043280" cy="914400"/>
          </a:xfrm>
        </p:grpSpPr>
        <p:sp>
          <p:nvSpPr>
            <p:cNvPr id="502" name=""/>
            <p:cNvSpPr/>
            <p:nvPr/>
          </p:nvSpPr>
          <p:spPr>
            <a:xfrm>
              <a:off x="533520" y="312408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58640" y="3306960"/>
              <a:ext cx="1043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Arial"/>
                </a:rPr>
                <a:t>Holnap</a:t>
              </a:r>
              <a:br>
                <a:rPr sz="2000"/>
              </a:br>
              <a:r>
                <a:rPr b="1" lang="hu-HU" sz="2000" spc="-1" strike="noStrike">
                  <a:solidFill>
                    <a:srgbClr val="000000"/>
                  </a:solidFill>
                  <a:latin typeface="Arial"/>
                </a:rPr>
                <a:t>regg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1905120" y="4317840"/>
            <a:ext cx="1794960" cy="2311560"/>
            <a:chOff x="1905120" y="4317840"/>
            <a:chExt cx="1794960" cy="2311560"/>
          </a:xfrm>
        </p:grpSpPr>
        <p:sp>
          <p:nvSpPr>
            <p:cNvPr id="505" name=""/>
            <p:cNvSpPr/>
            <p:nvPr/>
          </p:nvSpPr>
          <p:spPr>
            <a:xfrm>
              <a:off x="1905120" y="5791320"/>
              <a:ext cx="1218960" cy="838080"/>
            </a:xfrm>
            <a:prstGeom prst="rightArrowCallout">
              <a:avLst>
                <a:gd name="adj1" fmla="val 25002"/>
                <a:gd name="adj2" fmla="val 25000"/>
                <a:gd name="adj3" fmla="val 24241"/>
                <a:gd name="adj4" fmla="val 66667"/>
              </a:avLst>
            </a:prstGeom>
            <a:solidFill>
              <a:srgbClr val="fcc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545200" y="4317840"/>
              <a:ext cx="11548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hu-HU" sz="2800" spc="-1" strike="noStrike" baseline="-18000">
                  <a:solidFill>
                    <a:srgbClr val="ffffff"/>
                  </a:solidFill>
                  <a:latin typeface="Arial"/>
                </a:rPr>
                <a:t>b-privá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2133720" y="4738680"/>
              <a:ext cx="486720" cy="761760"/>
              <a:chOff x="2133720" y="4738680"/>
              <a:chExt cx="486720" cy="761760"/>
            </a:xfrm>
          </p:grpSpPr>
          <p:sp>
            <p:nvSpPr>
              <p:cNvPr id="508" name=""/>
              <p:cNvSpPr/>
              <p:nvPr/>
            </p:nvSpPr>
            <p:spPr>
              <a:xfrm>
                <a:off x="2133720" y="4738680"/>
                <a:ext cx="475200" cy="756720"/>
              </a:xfrm>
              <a:custGeom>
                <a:avLst/>
                <a:gdLst/>
                <a:ahLst/>
                <a:rect l="l" t="t" r="r" b="b"/>
                <a:pathLst>
                  <a:path w="882" h="1720">
                    <a:moveTo>
                      <a:pt x="317" y="0"/>
                    </a:moveTo>
                    <a:lnTo>
                      <a:pt x="583" y="0"/>
                    </a:lnTo>
                    <a:lnTo>
                      <a:pt x="533" y="66"/>
                    </a:lnTo>
                    <a:lnTo>
                      <a:pt x="377" y="66"/>
                    </a:lnTo>
                    <a:lnTo>
                      <a:pt x="319" y="171"/>
                    </a:lnTo>
                    <a:lnTo>
                      <a:pt x="586" y="171"/>
                    </a:lnTo>
                    <a:lnTo>
                      <a:pt x="532" y="67"/>
                    </a:lnTo>
                    <a:lnTo>
                      <a:pt x="583" y="1"/>
                    </a:lnTo>
                    <a:lnTo>
                      <a:pt x="677" y="164"/>
                    </a:lnTo>
                    <a:lnTo>
                      <a:pt x="727" y="165"/>
                    </a:lnTo>
                    <a:lnTo>
                      <a:pt x="745" y="221"/>
                    </a:lnTo>
                    <a:lnTo>
                      <a:pt x="824" y="221"/>
                    </a:lnTo>
                    <a:lnTo>
                      <a:pt x="825" y="260"/>
                    </a:lnTo>
                    <a:lnTo>
                      <a:pt x="855" y="261"/>
                    </a:lnTo>
                    <a:lnTo>
                      <a:pt x="882" y="261"/>
                    </a:lnTo>
                    <a:lnTo>
                      <a:pt x="882" y="501"/>
                    </a:lnTo>
                    <a:lnTo>
                      <a:pt x="824" y="502"/>
                    </a:lnTo>
                    <a:lnTo>
                      <a:pt x="823" y="553"/>
                    </a:lnTo>
                    <a:lnTo>
                      <a:pt x="748" y="553"/>
                    </a:lnTo>
                    <a:lnTo>
                      <a:pt x="726" y="613"/>
                    </a:lnTo>
                    <a:lnTo>
                      <a:pt x="685" y="614"/>
                    </a:lnTo>
                    <a:lnTo>
                      <a:pt x="682" y="735"/>
                    </a:lnTo>
                    <a:lnTo>
                      <a:pt x="654" y="735"/>
                    </a:lnTo>
                    <a:lnTo>
                      <a:pt x="645" y="754"/>
                    </a:lnTo>
                    <a:lnTo>
                      <a:pt x="645" y="876"/>
                    </a:lnTo>
                    <a:lnTo>
                      <a:pt x="595" y="877"/>
                    </a:lnTo>
                    <a:lnTo>
                      <a:pt x="598" y="1609"/>
                    </a:lnTo>
                    <a:lnTo>
                      <a:pt x="481" y="1720"/>
                    </a:lnTo>
                    <a:lnTo>
                      <a:pt x="331" y="1593"/>
                    </a:lnTo>
                    <a:lnTo>
                      <a:pt x="385" y="1557"/>
                    </a:lnTo>
                    <a:lnTo>
                      <a:pt x="385" y="1514"/>
                    </a:lnTo>
                    <a:lnTo>
                      <a:pt x="331" y="1476"/>
                    </a:lnTo>
                    <a:lnTo>
                      <a:pt x="385" y="1443"/>
                    </a:lnTo>
                    <a:lnTo>
                      <a:pt x="376" y="1430"/>
                    </a:lnTo>
                    <a:lnTo>
                      <a:pt x="330" y="1400"/>
                    </a:lnTo>
                    <a:lnTo>
                      <a:pt x="322" y="1305"/>
                    </a:lnTo>
                    <a:lnTo>
                      <a:pt x="316" y="1296"/>
                    </a:lnTo>
                    <a:lnTo>
                      <a:pt x="386" y="1241"/>
                    </a:lnTo>
                    <a:lnTo>
                      <a:pt x="386" y="1194"/>
                    </a:lnTo>
                    <a:lnTo>
                      <a:pt x="330" y="1138"/>
                    </a:lnTo>
                    <a:lnTo>
                      <a:pt x="385" y="1088"/>
                    </a:lnTo>
                    <a:lnTo>
                      <a:pt x="385" y="1039"/>
                    </a:lnTo>
                    <a:lnTo>
                      <a:pt x="331" y="975"/>
                    </a:lnTo>
                    <a:lnTo>
                      <a:pt x="321" y="871"/>
                    </a:lnTo>
                    <a:lnTo>
                      <a:pt x="256" y="871"/>
                    </a:lnTo>
                    <a:lnTo>
                      <a:pt x="256" y="730"/>
                    </a:lnTo>
                    <a:lnTo>
                      <a:pt x="217" y="730"/>
                    </a:lnTo>
                    <a:lnTo>
                      <a:pt x="217" y="608"/>
                    </a:lnTo>
                    <a:lnTo>
                      <a:pt x="174" y="608"/>
                    </a:lnTo>
                    <a:lnTo>
                      <a:pt x="154" y="549"/>
                    </a:lnTo>
                    <a:lnTo>
                      <a:pt x="67" y="549"/>
                    </a:lnTo>
                    <a:lnTo>
                      <a:pt x="67" y="497"/>
                    </a:lnTo>
                    <a:lnTo>
                      <a:pt x="0" y="497"/>
                    </a:lnTo>
                    <a:lnTo>
                      <a:pt x="0" y="255"/>
                    </a:lnTo>
                    <a:lnTo>
                      <a:pt x="66" y="255"/>
                    </a:lnTo>
                    <a:lnTo>
                      <a:pt x="66" y="220"/>
                    </a:lnTo>
                    <a:lnTo>
                      <a:pt x="140" y="220"/>
                    </a:lnTo>
                    <a:lnTo>
                      <a:pt x="157" y="204"/>
                    </a:lnTo>
                    <a:lnTo>
                      <a:pt x="175" y="165"/>
                    </a:lnTo>
                    <a:lnTo>
                      <a:pt x="217" y="165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fc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145240" y="4742280"/>
                <a:ext cx="475200" cy="758160"/>
              </a:xfrm>
              <a:custGeom>
                <a:avLst/>
                <a:gdLst/>
                <a:ahLst/>
                <a:rect l="l" t="t" r="r" b="b"/>
                <a:pathLst>
                  <a:path w="883" h="1721">
                    <a:moveTo>
                      <a:pt x="316" y="0"/>
                    </a:moveTo>
                    <a:lnTo>
                      <a:pt x="583" y="0"/>
                    </a:lnTo>
                    <a:lnTo>
                      <a:pt x="532" y="66"/>
                    </a:lnTo>
                    <a:lnTo>
                      <a:pt x="377" y="66"/>
                    </a:lnTo>
                    <a:lnTo>
                      <a:pt x="318" y="171"/>
                    </a:lnTo>
                    <a:lnTo>
                      <a:pt x="586" y="171"/>
                    </a:lnTo>
                    <a:lnTo>
                      <a:pt x="531" y="67"/>
                    </a:lnTo>
                    <a:lnTo>
                      <a:pt x="583" y="1"/>
                    </a:lnTo>
                    <a:lnTo>
                      <a:pt x="677" y="164"/>
                    </a:lnTo>
                    <a:lnTo>
                      <a:pt x="727" y="165"/>
                    </a:lnTo>
                    <a:lnTo>
                      <a:pt x="744" y="221"/>
                    </a:lnTo>
                    <a:lnTo>
                      <a:pt x="823" y="221"/>
                    </a:lnTo>
                    <a:lnTo>
                      <a:pt x="824" y="260"/>
                    </a:lnTo>
                    <a:lnTo>
                      <a:pt x="854" y="261"/>
                    </a:lnTo>
                    <a:lnTo>
                      <a:pt x="883" y="261"/>
                    </a:lnTo>
                    <a:lnTo>
                      <a:pt x="883" y="502"/>
                    </a:lnTo>
                    <a:lnTo>
                      <a:pt x="823" y="503"/>
                    </a:lnTo>
                    <a:lnTo>
                      <a:pt x="822" y="553"/>
                    </a:lnTo>
                    <a:lnTo>
                      <a:pt x="747" y="553"/>
                    </a:lnTo>
                    <a:lnTo>
                      <a:pt x="726" y="613"/>
                    </a:lnTo>
                    <a:lnTo>
                      <a:pt x="684" y="614"/>
                    </a:lnTo>
                    <a:lnTo>
                      <a:pt x="681" y="736"/>
                    </a:lnTo>
                    <a:lnTo>
                      <a:pt x="654" y="736"/>
                    </a:lnTo>
                    <a:lnTo>
                      <a:pt x="646" y="746"/>
                    </a:lnTo>
                    <a:lnTo>
                      <a:pt x="646" y="877"/>
                    </a:lnTo>
                    <a:lnTo>
                      <a:pt x="595" y="877"/>
                    </a:lnTo>
                    <a:lnTo>
                      <a:pt x="598" y="1610"/>
                    </a:lnTo>
                    <a:lnTo>
                      <a:pt x="481" y="1721"/>
                    </a:lnTo>
                    <a:lnTo>
                      <a:pt x="331" y="1593"/>
                    </a:lnTo>
                    <a:lnTo>
                      <a:pt x="384" y="1557"/>
                    </a:lnTo>
                    <a:lnTo>
                      <a:pt x="384" y="1515"/>
                    </a:lnTo>
                    <a:lnTo>
                      <a:pt x="331" y="1476"/>
                    </a:lnTo>
                    <a:lnTo>
                      <a:pt x="384" y="1443"/>
                    </a:lnTo>
                    <a:lnTo>
                      <a:pt x="376" y="1430"/>
                    </a:lnTo>
                    <a:lnTo>
                      <a:pt x="330" y="1400"/>
                    </a:lnTo>
                    <a:lnTo>
                      <a:pt x="321" y="1305"/>
                    </a:lnTo>
                    <a:lnTo>
                      <a:pt x="315" y="1297"/>
                    </a:lnTo>
                    <a:lnTo>
                      <a:pt x="385" y="1241"/>
                    </a:lnTo>
                    <a:lnTo>
                      <a:pt x="385" y="1194"/>
                    </a:lnTo>
                    <a:lnTo>
                      <a:pt x="330" y="1138"/>
                    </a:lnTo>
                    <a:lnTo>
                      <a:pt x="384" y="1089"/>
                    </a:lnTo>
                    <a:lnTo>
                      <a:pt x="384" y="1039"/>
                    </a:lnTo>
                    <a:lnTo>
                      <a:pt x="331" y="975"/>
                    </a:lnTo>
                    <a:lnTo>
                      <a:pt x="320" y="871"/>
                    </a:lnTo>
                    <a:lnTo>
                      <a:pt x="256" y="871"/>
                    </a:lnTo>
                    <a:lnTo>
                      <a:pt x="256" y="731"/>
                    </a:lnTo>
                    <a:lnTo>
                      <a:pt x="218" y="731"/>
                    </a:lnTo>
                    <a:lnTo>
                      <a:pt x="218" y="608"/>
                    </a:lnTo>
                    <a:lnTo>
                      <a:pt x="173" y="608"/>
                    </a:lnTo>
                    <a:lnTo>
                      <a:pt x="154" y="549"/>
                    </a:lnTo>
                    <a:lnTo>
                      <a:pt x="66" y="549"/>
                    </a:lnTo>
                    <a:lnTo>
                      <a:pt x="66" y="497"/>
                    </a:lnTo>
                    <a:lnTo>
                      <a:pt x="0" y="497"/>
                    </a:lnTo>
                    <a:lnTo>
                      <a:pt x="0" y="255"/>
                    </a:lnTo>
                    <a:lnTo>
                      <a:pt x="65" y="255"/>
                    </a:lnTo>
                    <a:lnTo>
                      <a:pt x="65" y="220"/>
                    </a:lnTo>
                    <a:lnTo>
                      <a:pt x="139" y="220"/>
                    </a:lnTo>
                    <a:lnTo>
                      <a:pt x="157" y="204"/>
                    </a:lnTo>
                    <a:lnTo>
                      <a:pt x="174" y="165"/>
                    </a:lnTo>
                    <a:lnTo>
                      <a:pt x="218" y="165"/>
                    </a:lnTo>
                    <a:lnTo>
                      <a:pt x="316" y="0"/>
                    </a:lnTo>
                    <a:close/>
                  </a:path>
                </a:pathLst>
              </a:custGeom>
              <a:solidFill>
                <a:srgbClr val="fc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10" name=""/>
              <p:cNvGrpSpPr/>
              <p:nvPr/>
            </p:nvGrpSpPr>
            <p:grpSpPr>
              <a:xfrm>
                <a:off x="2212200" y="4863960"/>
                <a:ext cx="362160" cy="87120"/>
                <a:chOff x="2212200" y="4863960"/>
                <a:chExt cx="362160" cy="8712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2212200" y="4863960"/>
                  <a:ext cx="335520" cy="87120"/>
                </a:xfrm>
                <a:custGeom>
                  <a:avLst/>
                  <a:gdLst/>
                  <a:ahLst/>
                  <a:rect l="l" t="t" r="r" b="b"/>
                  <a:pathLst>
                    <a:path w="624" h="197">
                      <a:moveTo>
                        <a:pt x="0" y="102"/>
                      </a:moveTo>
                      <a:lnTo>
                        <a:pt x="54" y="0"/>
                      </a:lnTo>
                      <a:lnTo>
                        <a:pt x="624" y="0"/>
                      </a:lnTo>
                      <a:lnTo>
                        <a:pt x="619" y="7"/>
                      </a:lnTo>
                      <a:lnTo>
                        <a:pt x="61" y="7"/>
                      </a:lnTo>
                      <a:lnTo>
                        <a:pt x="10" y="102"/>
                      </a:lnTo>
                      <a:lnTo>
                        <a:pt x="60" y="191"/>
                      </a:lnTo>
                      <a:lnTo>
                        <a:pt x="50" y="197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fc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238840" y="4863960"/>
                  <a:ext cx="335520" cy="87120"/>
                </a:xfrm>
                <a:custGeom>
                  <a:avLst/>
                  <a:gdLst/>
                  <a:ahLst/>
                  <a:rect l="l" t="t" r="r" b="b"/>
                  <a:pathLst>
                    <a:path w="625" h="197">
                      <a:moveTo>
                        <a:pt x="625" y="94"/>
                      </a:moveTo>
                      <a:lnTo>
                        <a:pt x="570" y="197"/>
                      </a:lnTo>
                      <a:lnTo>
                        <a:pt x="0" y="197"/>
                      </a:lnTo>
                      <a:lnTo>
                        <a:pt x="5" y="189"/>
                      </a:lnTo>
                      <a:lnTo>
                        <a:pt x="564" y="189"/>
                      </a:lnTo>
                      <a:lnTo>
                        <a:pt x="614" y="94"/>
                      </a:lnTo>
                      <a:lnTo>
                        <a:pt x="565" y="6"/>
                      </a:lnTo>
                      <a:lnTo>
                        <a:pt x="574" y="0"/>
                      </a:lnTo>
                      <a:lnTo>
                        <a:pt x="625" y="94"/>
                      </a:lnTo>
                      <a:close/>
                    </a:path>
                  </a:pathLst>
                </a:custGeom>
                <a:solidFill>
                  <a:srgbClr val="fc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3" name=""/>
              <p:cNvSpPr/>
              <p:nvPr/>
            </p:nvSpPr>
            <p:spPr>
              <a:xfrm>
                <a:off x="2183040" y="4850640"/>
                <a:ext cx="403200" cy="3600"/>
              </a:xfrm>
              <a:prstGeom prst="rect">
                <a:avLst/>
              </a:prstGeom>
              <a:solidFill>
                <a:srgbClr val="fc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223000" y="4833720"/>
                <a:ext cx="315000" cy="5040"/>
              </a:xfrm>
              <a:prstGeom prst="rect">
                <a:avLst/>
              </a:prstGeom>
              <a:solidFill>
                <a:srgbClr val="fc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15" name=""/>
              <p:cNvGrpSpPr/>
              <p:nvPr/>
            </p:nvGrpSpPr>
            <p:grpSpPr>
              <a:xfrm>
                <a:off x="2183040" y="4962960"/>
                <a:ext cx="405360" cy="535680"/>
                <a:chOff x="2183040" y="4962960"/>
                <a:chExt cx="405360" cy="53568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2366640" y="5067000"/>
                  <a:ext cx="10440" cy="413280"/>
                </a:xfrm>
                <a:custGeom>
                  <a:avLst/>
                  <a:gdLst/>
                  <a:ahLst/>
                  <a:rect l="l" t="t" r="r" b="b"/>
                  <a:pathLst>
                    <a:path w="19" h="940">
                      <a:moveTo>
                        <a:pt x="19" y="0"/>
                      </a:moveTo>
                      <a:lnTo>
                        <a:pt x="18" y="940"/>
                      </a:lnTo>
                      <a:lnTo>
                        <a:pt x="2" y="925"/>
                      </a:lnTo>
                      <a:lnTo>
                        <a:pt x="0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c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424960" y="5077800"/>
                  <a:ext cx="9720" cy="403920"/>
                </a:xfrm>
                <a:custGeom>
                  <a:avLst/>
                  <a:gdLst/>
                  <a:ahLst/>
                  <a:rect l="l" t="t" r="r" b="b"/>
                  <a:pathLst>
                    <a:path w="17" h="917">
                      <a:moveTo>
                        <a:pt x="14" y="0"/>
                      </a:moveTo>
                      <a:lnTo>
                        <a:pt x="17" y="901"/>
                      </a:lnTo>
                      <a:lnTo>
                        <a:pt x="2" y="917"/>
                      </a:lnTo>
                      <a:lnTo>
                        <a:pt x="0" y="7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c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8" name=""/>
                <p:cNvGrpSpPr/>
                <p:nvPr/>
              </p:nvGrpSpPr>
              <p:grpSpPr>
                <a:xfrm>
                  <a:off x="2183040" y="4962960"/>
                  <a:ext cx="405360" cy="535680"/>
                  <a:chOff x="2183040" y="4962960"/>
                  <a:chExt cx="405360" cy="53568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2183040" y="4962960"/>
                    <a:ext cx="405360" cy="9000"/>
                  </a:xfrm>
                  <a:prstGeom prst="rect">
                    <a:avLst/>
                  </a:prstGeom>
                  <a:solidFill>
                    <a:srgbClr val="fc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2265480" y="5011560"/>
                    <a:ext cx="247320" cy="9000"/>
                  </a:xfrm>
                  <a:prstGeom prst="rect">
                    <a:avLst/>
                  </a:prstGeom>
                  <a:solidFill>
                    <a:srgbClr val="fc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2402280" y="5078880"/>
                    <a:ext cx="30960" cy="41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954">
                        <a:moveTo>
                          <a:pt x="57" y="0"/>
                        </a:moveTo>
                        <a:lnTo>
                          <a:pt x="44" y="62"/>
                        </a:lnTo>
                        <a:lnTo>
                          <a:pt x="21" y="115"/>
                        </a:lnTo>
                        <a:lnTo>
                          <a:pt x="21" y="936"/>
                        </a:lnTo>
                        <a:lnTo>
                          <a:pt x="4" y="954"/>
                        </a:lnTo>
                        <a:lnTo>
                          <a:pt x="0" y="100"/>
                        </a:lnTo>
                        <a:lnTo>
                          <a:pt x="57" y="0"/>
                        </a:lnTo>
                        <a:close/>
                      </a:path>
                    </a:pathLst>
                  </a:custGeom>
                  <a:solidFill>
                    <a:srgbClr val="fc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2282760" y="5063040"/>
                    <a:ext cx="21600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02" h="143">
                        <a:moveTo>
                          <a:pt x="67" y="143"/>
                        </a:moveTo>
                        <a:lnTo>
                          <a:pt x="41" y="111"/>
                        </a:lnTo>
                        <a:lnTo>
                          <a:pt x="41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lnTo>
                          <a:pt x="402" y="0"/>
                        </a:lnTo>
                        <a:lnTo>
                          <a:pt x="391" y="16"/>
                        </a:lnTo>
                        <a:lnTo>
                          <a:pt x="174" y="16"/>
                        </a:lnTo>
                        <a:lnTo>
                          <a:pt x="156" y="43"/>
                        </a:lnTo>
                        <a:lnTo>
                          <a:pt x="76" y="43"/>
                        </a:lnTo>
                        <a:lnTo>
                          <a:pt x="67" y="143"/>
                        </a:lnTo>
                        <a:close/>
                      </a:path>
                    </a:pathLst>
                  </a:custGeom>
                  <a:solidFill>
                    <a:srgbClr val="fc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2229120" y="4982400"/>
                    <a:ext cx="31932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594" h="20">
                        <a:moveTo>
                          <a:pt x="0" y="1"/>
                        </a:moveTo>
                        <a:lnTo>
                          <a:pt x="594" y="0"/>
                        </a:lnTo>
                        <a:lnTo>
                          <a:pt x="588" y="19"/>
                        </a:lnTo>
                        <a:lnTo>
                          <a:pt x="5" y="2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fc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524" name=""/>
          <p:cNvGrpSpPr/>
          <p:nvPr/>
        </p:nvGrpSpPr>
        <p:grpSpPr>
          <a:xfrm>
            <a:off x="5172120" y="4254480"/>
            <a:ext cx="2219400" cy="2298600"/>
            <a:chOff x="5172120" y="4254480"/>
            <a:chExt cx="2219400" cy="2298600"/>
          </a:xfrm>
        </p:grpSpPr>
        <p:sp>
          <p:nvSpPr>
            <p:cNvPr id="525" name=""/>
            <p:cNvSpPr/>
            <p:nvPr/>
          </p:nvSpPr>
          <p:spPr>
            <a:xfrm>
              <a:off x="6172200" y="5715000"/>
              <a:ext cx="1219320" cy="838080"/>
            </a:xfrm>
            <a:prstGeom prst="rightArrowCallout">
              <a:avLst>
                <a:gd name="adj1" fmla="val 25002"/>
                <a:gd name="adj2" fmla="val 25000"/>
                <a:gd name="adj3" fmla="val 24248"/>
                <a:gd name="adj4" fmla="val 66667"/>
              </a:avLst>
            </a:prstGeom>
            <a:solidFill>
              <a:srgbClr val="fcc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6348240" y="4572000"/>
              <a:ext cx="533520" cy="885600"/>
              <a:chOff x="6348240" y="4572000"/>
              <a:chExt cx="533520" cy="885600"/>
            </a:xfrm>
          </p:grpSpPr>
          <p:pic>
            <p:nvPicPr>
              <p:cNvPr id="52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348240" y="4572000"/>
                <a:ext cx="533520" cy="88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8" name=""/>
              <p:cNvSpPr/>
              <p:nvPr/>
            </p:nvSpPr>
            <p:spPr>
              <a:xfrm>
                <a:off x="6408720" y="4690800"/>
                <a:ext cx="450000" cy="23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>
              <a:off x="5172120" y="4254480"/>
              <a:ext cx="1752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hu-HU" sz="2800" spc="-1" strike="noStrike" baseline="-18000">
                  <a:solidFill>
                    <a:srgbClr val="ffffff"/>
                  </a:solidFill>
                  <a:latin typeface="Arial"/>
                </a:rPr>
                <a:t>b-nyilván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0" name=""/>
          <p:cNvSpPr/>
          <p:nvPr/>
        </p:nvSpPr>
        <p:spPr>
          <a:xfrm rot="5400000">
            <a:off x="304200" y="4647960"/>
            <a:ext cx="990720" cy="838440"/>
          </a:xfrm>
          <a:prstGeom prst="rightArrowCallout">
            <a:avLst>
              <a:gd name="adj1" fmla="val 25002"/>
              <a:gd name="adj2" fmla="val 25000"/>
              <a:gd name="adj3" fmla="val 19694"/>
              <a:gd name="adj4" fmla="val 66667"/>
            </a:avLst>
          </a:prstGeom>
          <a:solidFill>
            <a:srgbClr val="fcc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28600" y="5726520"/>
            <a:ext cx="1235160" cy="1122840"/>
          </a:xfrm>
          <a:custGeom>
            <a:avLst/>
            <a:gdLst>
              <a:gd name="textAreaLeft" fmla="*/ 281880 w 1235160"/>
              <a:gd name="textAreaRight" fmla="*/ 953280 w 1235160"/>
              <a:gd name="textAreaTop" fmla="*/ 256320 h 1122840"/>
              <a:gd name="textAreaBottom" fmla="*/ 866520 h 1122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5686dc"/>
          </a:solidFill>
          <a:ln w="12600">
            <a:solidFill>
              <a:srgbClr val="fcc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ash érté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3505320" y="5610600"/>
            <a:ext cx="2514600" cy="1122840"/>
            <a:chOff x="3505320" y="5610600"/>
            <a:chExt cx="2514600" cy="1122840"/>
          </a:xfrm>
        </p:grpSpPr>
        <p:sp>
          <p:nvSpPr>
            <p:cNvPr id="533" name=""/>
            <p:cNvSpPr/>
            <p:nvPr/>
          </p:nvSpPr>
          <p:spPr>
            <a:xfrm>
              <a:off x="4800600" y="6172200"/>
              <a:ext cx="1219320" cy="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505320" y="5610600"/>
              <a:ext cx="1234800" cy="1122840"/>
            </a:xfrm>
            <a:custGeom>
              <a:avLst/>
              <a:gdLst>
                <a:gd name="textAreaLeft" fmla="*/ 281880 w 1234800"/>
                <a:gd name="textAreaRight" fmla="*/ 952920 w 1234800"/>
                <a:gd name="textAreaTop" fmla="*/ 256320 h 1122840"/>
                <a:gd name="textAreaBottom" fmla="*/ 866520 h 112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eea564"/>
            </a:solidFill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SDcF</a:t>
              </a:r>
              <a:br>
                <a:rPr sz="2000"/>
              </a:b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dsa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1676520" y="2895480"/>
            <a:ext cx="7064280" cy="914400"/>
            <a:chOff x="1676520" y="2895480"/>
            <a:chExt cx="7064280" cy="914400"/>
          </a:xfrm>
        </p:grpSpPr>
        <p:sp>
          <p:nvSpPr>
            <p:cNvPr id="536" name=""/>
            <p:cNvSpPr/>
            <p:nvPr/>
          </p:nvSpPr>
          <p:spPr>
            <a:xfrm>
              <a:off x="1676520" y="3429000"/>
              <a:ext cx="5715000" cy="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7" name=""/>
            <p:cNvGrpSpPr/>
            <p:nvPr/>
          </p:nvGrpSpPr>
          <p:grpSpPr>
            <a:xfrm>
              <a:off x="7697520" y="2895480"/>
              <a:ext cx="1043280" cy="914400"/>
              <a:chOff x="7697520" y="2895480"/>
              <a:chExt cx="1043280" cy="914400"/>
            </a:xfrm>
          </p:grpSpPr>
          <p:sp>
            <p:nvSpPr>
              <p:cNvPr id="538" name=""/>
              <p:cNvSpPr/>
              <p:nvPr/>
            </p:nvSpPr>
            <p:spPr>
              <a:xfrm>
                <a:off x="7772400" y="2895480"/>
                <a:ext cx="914400" cy="9144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07932" dir="189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697520" y="3078360"/>
                <a:ext cx="10432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000000"/>
                    </a:solidFill>
                    <a:latin typeface="Arial"/>
                  </a:rPr>
                  <a:t>Holnap</a:t>
                </a:r>
                <a:br>
                  <a:rPr sz="2000"/>
                </a:br>
                <a:r>
                  <a:rPr b="1" lang="hu-HU" sz="2000" spc="-1" strike="noStrike">
                    <a:solidFill>
                      <a:srgbClr val="000000"/>
                    </a:solidFill>
                    <a:latin typeface="Arial"/>
                  </a:rPr>
                  <a:t>reggel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0" name=""/>
          <p:cNvSpPr/>
          <p:nvPr/>
        </p:nvSpPr>
        <p:spPr>
          <a:xfrm>
            <a:off x="7696080" y="5494680"/>
            <a:ext cx="1235160" cy="1122840"/>
          </a:xfrm>
          <a:custGeom>
            <a:avLst/>
            <a:gdLst>
              <a:gd name="textAreaLeft" fmla="*/ 281880 w 1235160"/>
              <a:gd name="textAreaRight" fmla="*/ 953280 w 1235160"/>
              <a:gd name="textAreaTop" fmla="*/ 256320 h 1122840"/>
              <a:gd name="textAreaBottom" fmla="*/ 866520 h 1122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5686dc"/>
          </a:solidFill>
          <a:ln w="12600">
            <a:solidFill>
              <a:srgbClr val="fcc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ash érté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336520" y="4896000"/>
            <a:ext cx="8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ff"/>
                </a:solidFill>
                <a:latin typeface="Arial"/>
              </a:rPr>
              <a:t>=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5400000">
            <a:off x="7731000" y="4246560"/>
            <a:ext cx="990720" cy="838080"/>
          </a:xfrm>
          <a:prstGeom prst="rightArrowCallout">
            <a:avLst>
              <a:gd name="adj1" fmla="val 25002"/>
              <a:gd name="adj2" fmla="val 25000"/>
              <a:gd name="adj3" fmla="val 19702"/>
              <a:gd name="adj4" fmla="val 66667"/>
            </a:avLst>
          </a:prstGeom>
          <a:solidFill>
            <a:srgbClr val="fcc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anusítvány (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Certificate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)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415360" cy="1893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 természetes személy azonosságát és tulajdonságait egy </a:t>
            </a: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nyilvános kulcshoz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köt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 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tification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thority (CA)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írja alá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Gondoljunk az útlevél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900760" y="3127320"/>
            <a:ext cx="2041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tulajdonos nyilvános kulc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197000" y="3713040"/>
            <a:ext cx="1447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kiállító személy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2673360" y="2909880"/>
            <a:ext cx="3376440" cy="3430440"/>
            <a:chOff x="2673360" y="2909880"/>
            <a:chExt cx="3376440" cy="3430440"/>
          </a:xfrm>
        </p:grpSpPr>
        <p:sp>
          <p:nvSpPr>
            <p:cNvPr id="548" name=""/>
            <p:cNvSpPr/>
            <p:nvPr/>
          </p:nvSpPr>
          <p:spPr>
            <a:xfrm>
              <a:off x="2936520" y="6003720"/>
              <a:ext cx="604440" cy="336600"/>
            </a:xfrm>
            <a:custGeom>
              <a:avLst/>
              <a:gdLst/>
              <a:ahLst/>
              <a:rect l="l" t="t" r="r" b="b"/>
              <a:pathLst>
                <a:path w="381" h="212">
                  <a:moveTo>
                    <a:pt x="243" y="0"/>
                  </a:moveTo>
                  <a:lnTo>
                    <a:pt x="50" y="18"/>
                  </a:lnTo>
                  <a:lnTo>
                    <a:pt x="30" y="33"/>
                  </a:lnTo>
                  <a:lnTo>
                    <a:pt x="19" y="48"/>
                  </a:lnTo>
                  <a:lnTo>
                    <a:pt x="7" y="66"/>
                  </a:lnTo>
                  <a:lnTo>
                    <a:pt x="0" y="95"/>
                  </a:lnTo>
                  <a:lnTo>
                    <a:pt x="0" y="129"/>
                  </a:lnTo>
                  <a:lnTo>
                    <a:pt x="7" y="146"/>
                  </a:lnTo>
                  <a:lnTo>
                    <a:pt x="19" y="166"/>
                  </a:lnTo>
                  <a:lnTo>
                    <a:pt x="39" y="183"/>
                  </a:lnTo>
                  <a:lnTo>
                    <a:pt x="62" y="198"/>
                  </a:lnTo>
                  <a:lnTo>
                    <a:pt x="86" y="205"/>
                  </a:lnTo>
                  <a:lnTo>
                    <a:pt x="108" y="209"/>
                  </a:lnTo>
                  <a:lnTo>
                    <a:pt x="135" y="211"/>
                  </a:lnTo>
                  <a:lnTo>
                    <a:pt x="132" y="209"/>
                  </a:lnTo>
                  <a:lnTo>
                    <a:pt x="283" y="195"/>
                  </a:lnTo>
                  <a:lnTo>
                    <a:pt x="380" y="0"/>
                  </a:lnTo>
                  <a:lnTo>
                    <a:pt x="243" y="0"/>
                  </a:lnTo>
                </a:path>
              </a:pathLst>
            </a:cu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673360" y="2909880"/>
              <a:ext cx="3376440" cy="3427200"/>
            </a:xfrm>
            <a:custGeom>
              <a:avLst/>
              <a:gdLst/>
              <a:ahLst/>
              <a:rect l="l" t="t" r="r" b="b"/>
              <a:pathLst>
                <a:path w="2127" h="2159">
                  <a:moveTo>
                    <a:pt x="133" y="5"/>
                  </a:moveTo>
                  <a:lnTo>
                    <a:pt x="118" y="8"/>
                  </a:lnTo>
                  <a:lnTo>
                    <a:pt x="100" y="17"/>
                  </a:lnTo>
                  <a:lnTo>
                    <a:pt x="76" y="37"/>
                  </a:lnTo>
                  <a:lnTo>
                    <a:pt x="45" y="66"/>
                  </a:lnTo>
                  <a:lnTo>
                    <a:pt x="22" y="97"/>
                  </a:lnTo>
                  <a:lnTo>
                    <a:pt x="9" y="130"/>
                  </a:lnTo>
                  <a:lnTo>
                    <a:pt x="3" y="159"/>
                  </a:lnTo>
                  <a:lnTo>
                    <a:pt x="0" y="197"/>
                  </a:lnTo>
                  <a:lnTo>
                    <a:pt x="0" y="233"/>
                  </a:lnTo>
                  <a:lnTo>
                    <a:pt x="4" y="264"/>
                  </a:lnTo>
                  <a:lnTo>
                    <a:pt x="9" y="296"/>
                  </a:lnTo>
                  <a:lnTo>
                    <a:pt x="15" y="323"/>
                  </a:lnTo>
                  <a:lnTo>
                    <a:pt x="36" y="397"/>
                  </a:lnTo>
                  <a:lnTo>
                    <a:pt x="67" y="479"/>
                  </a:lnTo>
                  <a:lnTo>
                    <a:pt x="112" y="568"/>
                  </a:lnTo>
                  <a:lnTo>
                    <a:pt x="158" y="671"/>
                  </a:lnTo>
                  <a:lnTo>
                    <a:pt x="202" y="760"/>
                  </a:lnTo>
                  <a:lnTo>
                    <a:pt x="241" y="850"/>
                  </a:lnTo>
                  <a:lnTo>
                    <a:pt x="287" y="957"/>
                  </a:lnTo>
                  <a:lnTo>
                    <a:pt x="324" y="1095"/>
                  </a:lnTo>
                  <a:lnTo>
                    <a:pt x="350" y="1214"/>
                  </a:lnTo>
                  <a:lnTo>
                    <a:pt x="377" y="1364"/>
                  </a:lnTo>
                  <a:lnTo>
                    <a:pt x="389" y="1524"/>
                  </a:lnTo>
                  <a:lnTo>
                    <a:pt x="409" y="1668"/>
                  </a:lnTo>
                  <a:lnTo>
                    <a:pt x="409" y="1746"/>
                  </a:lnTo>
                  <a:lnTo>
                    <a:pt x="409" y="1848"/>
                  </a:lnTo>
                  <a:lnTo>
                    <a:pt x="409" y="1914"/>
                  </a:lnTo>
                  <a:lnTo>
                    <a:pt x="403" y="1976"/>
                  </a:lnTo>
                  <a:lnTo>
                    <a:pt x="382" y="2039"/>
                  </a:lnTo>
                  <a:lnTo>
                    <a:pt x="369" y="2077"/>
                  </a:lnTo>
                  <a:lnTo>
                    <a:pt x="350" y="2111"/>
                  </a:lnTo>
                  <a:lnTo>
                    <a:pt x="331" y="2133"/>
                  </a:lnTo>
                  <a:lnTo>
                    <a:pt x="320" y="2146"/>
                  </a:lnTo>
                  <a:lnTo>
                    <a:pt x="306" y="2158"/>
                  </a:lnTo>
                  <a:lnTo>
                    <a:pt x="494" y="2140"/>
                  </a:lnTo>
                  <a:lnTo>
                    <a:pt x="861" y="2093"/>
                  </a:lnTo>
                  <a:lnTo>
                    <a:pt x="1163" y="2057"/>
                  </a:lnTo>
                  <a:lnTo>
                    <a:pt x="1512" y="2022"/>
                  </a:lnTo>
                  <a:lnTo>
                    <a:pt x="1771" y="2010"/>
                  </a:lnTo>
                  <a:lnTo>
                    <a:pt x="1970" y="2016"/>
                  </a:lnTo>
                  <a:lnTo>
                    <a:pt x="2022" y="2016"/>
                  </a:lnTo>
                  <a:lnTo>
                    <a:pt x="2055" y="2010"/>
                  </a:lnTo>
                  <a:lnTo>
                    <a:pt x="2074" y="1979"/>
                  </a:lnTo>
                  <a:lnTo>
                    <a:pt x="2094" y="1947"/>
                  </a:lnTo>
                  <a:lnTo>
                    <a:pt x="2109" y="1897"/>
                  </a:lnTo>
                  <a:lnTo>
                    <a:pt x="2118" y="1839"/>
                  </a:lnTo>
                  <a:lnTo>
                    <a:pt x="2126" y="1783"/>
                  </a:lnTo>
                  <a:lnTo>
                    <a:pt x="2126" y="1699"/>
                  </a:lnTo>
                  <a:lnTo>
                    <a:pt x="2122" y="1635"/>
                  </a:lnTo>
                  <a:lnTo>
                    <a:pt x="2118" y="1530"/>
                  </a:lnTo>
                  <a:lnTo>
                    <a:pt x="2099" y="1417"/>
                  </a:lnTo>
                  <a:lnTo>
                    <a:pt x="2067" y="1271"/>
                  </a:lnTo>
                  <a:lnTo>
                    <a:pt x="2028" y="1137"/>
                  </a:lnTo>
                  <a:lnTo>
                    <a:pt x="1996" y="1017"/>
                  </a:lnTo>
                  <a:lnTo>
                    <a:pt x="1945" y="886"/>
                  </a:lnTo>
                  <a:lnTo>
                    <a:pt x="1893" y="766"/>
                  </a:lnTo>
                  <a:lnTo>
                    <a:pt x="1848" y="653"/>
                  </a:lnTo>
                  <a:lnTo>
                    <a:pt x="1776" y="491"/>
                  </a:lnTo>
                  <a:lnTo>
                    <a:pt x="1739" y="396"/>
                  </a:lnTo>
                  <a:lnTo>
                    <a:pt x="1715" y="332"/>
                  </a:lnTo>
                  <a:lnTo>
                    <a:pt x="1702" y="282"/>
                  </a:lnTo>
                  <a:lnTo>
                    <a:pt x="1696" y="235"/>
                  </a:lnTo>
                  <a:lnTo>
                    <a:pt x="1696" y="194"/>
                  </a:lnTo>
                  <a:lnTo>
                    <a:pt x="1725" y="49"/>
                  </a:lnTo>
                  <a:lnTo>
                    <a:pt x="1739" y="19"/>
                  </a:lnTo>
                  <a:lnTo>
                    <a:pt x="154" y="0"/>
                  </a:lnTo>
                  <a:lnTo>
                    <a:pt x="133" y="5"/>
                  </a:lnTo>
                </a:path>
              </a:pathLst>
            </a:cu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849400" y="3068640"/>
              <a:ext cx="279000" cy="223560"/>
            </a:xfrm>
            <a:custGeom>
              <a:avLst/>
              <a:gdLst/>
              <a:ahLst/>
              <a:rect l="l" t="t" r="r" b="b"/>
              <a:pathLst>
                <a:path w="176" h="141">
                  <a:moveTo>
                    <a:pt x="175" y="10"/>
                  </a:moveTo>
                  <a:lnTo>
                    <a:pt x="130" y="128"/>
                  </a:lnTo>
                  <a:lnTo>
                    <a:pt x="83" y="140"/>
                  </a:lnTo>
                  <a:lnTo>
                    <a:pt x="61" y="138"/>
                  </a:lnTo>
                  <a:lnTo>
                    <a:pt x="39" y="130"/>
                  </a:lnTo>
                  <a:lnTo>
                    <a:pt x="22" y="116"/>
                  </a:lnTo>
                  <a:lnTo>
                    <a:pt x="10" y="103"/>
                  </a:lnTo>
                  <a:lnTo>
                    <a:pt x="3" y="85"/>
                  </a:lnTo>
                  <a:lnTo>
                    <a:pt x="0" y="69"/>
                  </a:lnTo>
                  <a:lnTo>
                    <a:pt x="0" y="48"/>
                  </a:lnTo>
                  <a:lnTo>
                    <a:pt x="7" y="34"/>
                  </a:lnTo>
                  <a:lnTo>
                    <a:pt x="20" y="22"/>
                  </a:lnTo>
                  <a:lnTo>
                    <a:pt x="36" y="12"/>
                  </a:lnTo>
                  <a:lnTo>
                    <a:pt x="55" y="7"/>
                  </a:lnTo>
                  <a:lnTo>
                    <a:pt x="72" y="4"/>
                  </a:lnTo>
                  <a:lnTo>
                    <a:pt x="90" y="1"/>
                  </a:lnTo>
                  <a:lnTo>
                    <a:pt x="103" y="1"/>
                  </a:lnTo>
                  <a:lnTo>
                    <a:pt x="122" y="0"/>
                  </a:lnTo>
                  <a:lnTo>
                    <a:pt x="175" y="10"/>
                  </a:lnTo>
                </a:path>
              </a:pathLst>
            </a:cu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957400" y="3054240"/>
              <a:ext cx="196200" cy="185760"/>
            </a:xfrm>
            <a:custGeom>
              <a:avLst/>
              <a:gdLst/>
              <a:ahLst/>
              <a:rect l="l" t="t" r="r" b="b"/>
              <a:pathLst>
                <a:path w="124" h="117">
                  <a:moveTo>
                    <a:pt x="0" y="15"/>
                  </a:moveTo>
                  <a:lnTo>
                    <a:pt x="22" y="29"/>
                  </a:lnTo>
                  <a:lnTo>
                    <a:pt x="33" y="45"/>
                  </a:lnTo>
                  <a:lnTo>
                    <a:pt x="39" y="59"/>
                  </a:lnTo>
                  <a:lnTo>
                    <a:pt x="39" y="81"/>
                  </a:lnTo>
                  <a:lnTo>
                    <a:pt x="35" y="99"/>
                  </a:lnTo>
                  <a:lnTo>
                    <a:pt x="22" y="116"/>
                  </a:lnTo>
                  <a:lnTo>
                    <a:pt x="123" y="97"/>
                  </a:lnTo>
                  <a:lnTo>
                    <a:pt x="114" y="0"/>
                  </a:lnTo>
                  <a:lnTo>
                    <a:pt x="0" y="15"/>
                  </a:lnTo>
                </a:path>
              </a:pathLst>
            </a:cu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904840" y="2911320"/>
              <a:ext cx="2823840" cy="380880"/>
            </a:xfrm>
            <a:custGeom>
              <a:avLst/>
              <a:gdLst/>
              <a:ahLst/>
              <a:rect l="l" t="t" r="r" b="b"/>
              <a:pathLst>
                <a:path w="1779" h="240">
                  <a:moveTo>
                    <a:pt x="1683" y="18"/>
                  </a:moveTo>
                  <a:lnTo>
                    <a:pt x="0" y="0"/>
                  </a:lnTo>
                  <a:lnTo>
                    <a:pt x="47" y="7"/>
                  </a:lnTo>
                  <a:lnTo>
                    <a:pt x="63" y="12"/>
                  </a:lnTo>
                  <a:lnTo>
                    <a:pt x="82" y="19"/>
                  </a:lnTo>
                  <a:lnTo>
                    <a:pt x="94" y="30"/>
                  </a:lnTo>
                  <a:lnTo>
                    <a:pt x="108" y="46"/>
                  </a:lnTo>
                  <a:lnTo>
                    <a:pt x="114" y="65"/>
                  </a:lnTo>
                  <a:lnTo>
                    <a:pt x="119" y="84"/>
                  </a:lnTo>
                  <a:lnTo>
                    <a:pt x="120" y="105"/>
                  </a:lnTo>
                  <a:lnTo>
                    <a:pt x="121" y="122"/>
                  </a:lnTo>
                  <a:lnTo>
                    <a:pt x="119" y="146"/>
                  </a:lnTo>
                  <a:lnTo>
                    <a:pt x="114" y="170"/>
                  </a:lnTo>
                  <a:lnTo>
                    <a:pt x="102" y="192"/>
                  </a:lnTo>
                  <a:lnTo>
                    <a:pt x="85" y="212"/>
                  </a:lnTo>
                  <a:lnTo>
                    <a:pt x="62" y="226"/>
                  </a:lnTo>
                  <a:lnTo>
                    <a:pt x="43" y="239"/>
                  </a:lnTo>
                  <a:lnTo>
                    <a:pt x="154" y="227"/>
                  </a:lnTo>
                  <a:lnTo>
                    <a:pt x="277" y="209"/>
                  </a:lnTo>
                  <a:lnTo>
                    <a:pt x="471" y="198"/>
                  </a:lnTo>
                  <a:lnTo>
                    <a:pt x="631" y="186"/>
                  </a:lnTo>
                  <a:lnTo>
                    <a:pt x="825" y="186"/>
                  </a:lnTo>
                  <a:lnTo>
                    <a:pt x="1038" y="192"/>
                  </a:lnTo>
                  <a:lnTo>
                    <a:pt x="1301" y="198"/>
                  </a:lnTo>
                  <a:lnTo>
                    <a:pt x="1554" y="215"/>
                  </a:lnTo>
                  <a:lnTo>
                    <a:pt x="1657" y="233"/>
                  </a:lnTo>
                  <a:lnTo>
                    <a:pt x="1687" y="237"/>
                  </a:lnTo>
                  <a:lnTo>
                    <a:pt x="1718" y="238"/>
                  </a:lnTo>
                  <a:lnTo>
                    <a:pt x="1741" y="233"/>
                  </a:lnTo>
                  <a:lnTo>
                    <a:pt x="1759" y="215"/>
                  </a:lnTo>
                  <a:lnTo>
                    <a:pt x="1770" y="193"/>
                  </a:lnTo>
                  <a:lnTo>
                    <a:pt x="1777" y="175"/>
                  </a:lnTo>
                  <a:lnTo>
                    <a:pt x="1778" y="153"/>
                  </a:lnTo>
                  <a:lnTo>
                    <a:pt x="1774" y="116"/>
                  </a:lnTo>
                  <a:lnTo>
                    <a:pt x="1766" y="92"/>
                  </a:lnTo>
                  <a:lnTo>
                    <a:pt x="1753" y="68"/>
                  </a:lnTo>
                  <a:lnTo>
                    <a:pt x="1741" y="51"/>
                  </a:lnTo>
                  <a:lnTo>
                    <a:pt x="1727" y="39"/>
                  </a:lnTo>
                  <a:lnTo>
                    <a:pt x="1707" y="25"/>
                  </a:lnTo>
                  <a:lnTo>
                    <a:pt x="1683" y="18"/>
                  </a:lnTo>
                </a:path>
              </a:pathLst>
            </a:cu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2784600" y="3292560"/>
            <a:ext cx="2778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bject: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Zoltan Szalont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313080" y="4548240"/>
            <a:ext cx="2097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 Before: 6/18/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 After:  6/18/0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365640" y="5776920"/>
            <a:ext cx="252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gned:  Cg6&amp;^78#@d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159000" y="4233960"/>
            <a:ext cx="2684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ial Number:  294837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094200" y="3902040"/>
            <a:ext cx="2315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bject’s Public key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5216400" y="3887640"/>
            <a:ext cx="752400" cy="366480"/>
            <a:chOff x="5216400" y="3887640"/>
            <a:chExt cx="752400" cy="366480"/>
          </a:xfrm>
        </p:grpSpPr>
        <p:sp>
          <p:nvSpPr>
            <p:cNvPr id="559" name=""/>
            <p:cNvSpPr/>
            <p:nvPr/>
          </p:nvSpPr>
          <p:spPr>
            <a:xfrm>
              <a:off x="5216400" y="3887640"/>
              <a:ext cx="747720" cy="358560"/>
            </a:xfrm>
            <a:custGeom>
              <a:avLst/>
              <a:gdLst/>
              <a:ahLst/>
              <a:rect l="l" t="t" r="r" b="b"/>
              <a:pathLst>
                <a:path w="471" h="226">
                  <a:moveTo>
                    <a:pt x="0" y="81"/>
                  </a:moveTo>
                  <a:lnTo>
                    <a:pt x="0" y="149"/>
                  </a:lnTo>
                  <a:lnTo>
                    <a:pt x="17" y="136"/>
                  </a:lnTo>
                  <a:lnTo>
                    <a:pt x="17" y="96"/>
                  </a:lnTo>
                  <a:lnTo>
                    <a:pt x="47" y="81"/>
                  </a:lnTo>
                  <a:lnTo>
                    <a:pt x="47" y="149"/>
                  </a:lnTo>
                  <a:lnTo>
                    <a:pt x="19" y="135"/>
                  </a:lnTo>
                  <a:lnTo>
                    <a:pt x="0" y="149"/>
                  </a:lnTo>
                  <a:lnTo>
                    <a:pt x="44" y="172"/>
                  </a:lnTo>
                  <a:lnTo>
                    <a:pt x="44" y="186"/>
                  </a:lnTo>
                  <a:lnTo>
                    <a:pt x="60" y="190"/>
                  </a:lnTo>
                  <a:lnTo>
                    <a:pt x="60" y="210"/>
                  </a:lnTo>
                  <a:lnTo>
                    <a:pt x="70" y="210"/>
                  </a:lnTo>
                  <a:lnTo>
                    <a:pt x="71" y="218"/>
                  </a:lnTo>
                  <a:lnTo>
                    <a:pt x="71" y="225"/>
                  </a:lnTo>
                  <a:lnTo>
                    <a:pt x="137" y="225"/>
                  </a:lnTo>
                  <a:lnTo>
                    <a:pt x="137" y="210"/>
                  </a:lnTo>
                  <a:lnTo>
                    <a:pt x="150" y="210"/>
                  </a:lnTo>
                  <a:lnTo>
                    <a:pt x="150" y="191"/>
                  </a:lnTo>
                  <a:lnTo>
                    <a:pt x="168" y="186"/>
                  </a:lnTo>
                  <a:lnTo>
                    <a:pt x="168" y="175"/>
                  </a:lnTo>
                  <a:lnTo>
                    <a:pt x="200" y="174"/>
                  </a:lnTo>
                  <a:lnTo>
                    <a:pt x="200" y="167"/>
                  </a:lnTo>
                  <a:lnTo>
                    <a:pt x="206" y="164"/>
                  </a:lnTo>
                  <a:lnTo>
                    <a:pt x="240" y="164"/>
                  </a:lnTo>
                  <a:lnTo>
                    <a:pt x="240" y="152"/>
                  </a:lnTo>
                  <a:lnTo>
                    <a:pt x="440" y="153"/>
                  </a:lnTo>
                  <a:lnTo>
                    <a:pt x="470" y="123"/>
                  </a:lnTo>
                  <a:lnTo>
                    <a:pt x="435" y="85"/>
                  </a:lnTo>
                  <a:lnTo>
                    <a:pt x="425" y="99"/>
                  </a:lnTo>
                  <a:lnTo>
                    <a:pt x="413" y="99"/>
                  </a:lnTo>
                  <a:lnTo>
                    <a:pt x="403" y="85"/>
                  </a:lnTo>
                  <a:lnTo>
                    <a:pt x="394" y="99"/>
                  </a:lnTo>
                  <a:lnTo>
                    <a:pt x="390" y="96"/>
                  </a:lnTo>
                  <a:lnTo>
                    <a:pt x="382" y="85"/>
                  </a:lnTo>
                  <a:lnTo>
                    <a:pt x="356" y="82"/>
                  </a:lnTo>
                  <a:lnTo>
                    <a:pt x="354" y="80"/>
                  </a:lnTo>
                  <a:lnTo>
                    <a:pt x="340" y="99"/>
                  </a:lnTo>
                  <a:lnTo>
                    <a:pt x="326" y="99"/>
                  </a:lnTo>
                  <a:lnTo>
                    <a:pt x="310" y="85"/>
                  </a:lnTo>
                  <a:lnTo>
                    <a:pt x="298" y="99"/>
                  </a:lnTo>
                  <a:lnTo>
                    <a:pt x="284" y="99"/>
                  </a:lnTo>
                  <a:lnTo>
                    <a:pt x="266" y="85"/>
                  </a:lnTo>
                  <a:lnTo>
                    <a:pt x="237" y="82"/>
                  </a:lnTo>
                  <a:lnTo>
                    <a:pt x="237" y="66"/>
                  </a:lnTo>
                  <a:lnTo>
                    <a:pt x="200" y="66"/>
                  </a:lnTo>
                  <a:lnTo>
                    <a:pt x="200" y="55"/>
                  </a:lnTo>
                  <a:lnTo>
                    <a:pt x="165" y="55"/>
                  </a:lnTo>
                  <a:lnTo>
                    <a:pt x="165" y="44"/>
                  </a:lnTo>
                  <a:lnTo>
                    <a:pt x="150" y="39"/>
                  </a:lnTo>
                  <a:lnTo>
                    <a:pt x="150" y="17"/>
                  </a:lnTo>
                  <a:lnTo>
                    <a:pt x="136" y="17"/>
                  </a:lnTo>
                  <a:lnTo>
                    <a:pt x="136" y="0"/>
                  </a:lnTo>
                  <a:lnTo>
                    <a:pt x="70" y="0"/>
                  </a:lnTo>
                  <a:lnTo>
                    <a:pt x="70" y="17"/>
                  </a:lnTo>
                  <a:lnTo>
                    <a:pt x="60" y="17"/>
                  </a:lnTo>
                  <a:lnTo>
                    <a:pt x="60" y="36"/>
                  </a:lnTo>
                  <a:lnTo>
                    <a:pt x="56" y="40"/>
                  </a:lnTo>
                  <a:lnTo>
                    <a:pt x="44" y="44"/>
                  </a:lnTo>
                  <a:lnTo>
                    <a:pt x="44" y="55"/>
                  </a:lnTo>
                  <a:lnTo>
                    <a:pt x="0" y="81"/>
                  </a:lnTo>
                </a:path>
              </a:pathLst>
            </a:cu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21080" y="3897000"/>
              <a:ext cx="747720" cy="357120"/>
            </a:xfrm>
            <a:custGeom>
              <a:avLst/>
              <a:gdLst/>
              <a:ahLst/>
              <a:rect l="l" t="t" r="r" b="b"/>
              <a:pathLst>
                <a:path w="471" h="225">
                  <a:moveTo>
                    <a:pt x="0" y="80"/>
                  </a:moveTo>
                  <a:lnTo>
                    <a:pt x="0" y="148"/>
                  </a:lnTo>
                  <a:lnTo>
                    <a:pt x="17" y="135"/>
                  </a:lnTo>
                  <a:lnTo>
                    <a:pt x="17" y="96"/>
                  </a:lnTo>
                  <a:lnTo>
                    <a:pt x="47" y="81"/>
                  </a:lnTo>
                  <a:lnTo>
                    <a:pt x="47" y="149"/>
                  </a:lnTo>
                  <a:lnTo>
                    <a:pt x="17" y="135"/>
                  </a:lnTo>
                  <a:lnTo>
                    <a:pt x="0" y="148"/>
                  </a:lnTo>
                  <a:lnTo>
                    <a:pt x="44" y="172"/>
                  </a:lnTo>
                  <a:lnTo>
                    <a:pt x="44" y="185"/>
                  </a:lnTo>
                  <a:lnTo>
                    <a:pt x="59" y="189"/>
                  </a:lnTo>
                  <a:lnTo>
                    <a:pt x="59" y="209"/>
                  </a:lnTo>
                  <a:lnTo>
                    <a:pt x="70" y="209"/>
                  </a:lnTo>
                  <a:lnTo>
                    <a:pt x="70" y="217"/>
                  </a:lnTo>
                  <a:lnTo>
                    <a:pt x="70" y="224"/>
                  </a:lnTo>
                  <a:lnTo>
                    <a:pt x="136" y="224"/>
                  </a:lnTo>
                  <a:lnTo>
                    <a:pt x="136" y="209"/>
                  </a:lnTo>
                  <a:lnTo>
                    <a:pt x="150" y="208"/>
                  </a:lnTo>
                  <a:lnTo>
                    <a:pt x="150" y="190"/>
                  </a:lnTo>
                  <a:lnTo>
                    <a:pt x="166" y="184"/>
                  </a:lnTo>
                  <a:lnTo>
                    <a:pt x="168" y="174"/>
                  </a:lnTo>
                  <a:lnTo>
                    <a:pt x="200" y="173"/>
                  </a:lnTo>
                  <a:lnTo>
                    <a:pt x="200" y="166"/>
                  </a:lnTo>
                  <a:lnTo>
                    <a:pt x="203" y="164"/>
                  </a:lnTo>
                  <a:lnTo>
                    <a:pt x="240" y="164"/>
                  </a:lnTo>
                  <a:lnTo>
                    <a:pt x="240" y="151"/>
                  </a:lnTo>
                  <a:lnTo>
                    <a:pt x="440" y="152"/>
                  </a:lnTo>
                  <a:lnTo>
                    <a:pt x="470" y="122"/>
                  </a:lnTo>
                  <a:lnTo>
                    <a:pt x="434" y="84"/>
                  </a:lnTo>
                  <a:lnTo>
                    <a:pt x="425" y="97"/>
                  </a:lnTo>
                  <a:lnTo>
                    <a:pt x="413" y="97"/>
                  </a:lnTo>
                  <a:lnTo>
                    <a:pt x="403" y="84"/>
                  </a:lnTo>
                  <a:lnTo>
                    <a:pt x="393" y="97"/>
                  </a:lnTo>
                  <a:lnTo>
                    <a:pt x="390" y="96"/>
                  </a:lnTo>
                  <a:lnTo>
                    <a:pt x="382" y="83"/>
                  </a:lnTo>
                  <a:lnTo>
                    <a:pt x="356" y="82"/>
                  </a:lnTo>
                  <a:lnTo>
                    <a:pt x="354" y="80"/>
                  </a:lnTo>
                  <a:lnTo>
                    <a:pt x="339" y="98"/>
                  </a:lnTo>
                  <a:lnTo>
                    <a:pt x="326" y="98"/>
                  </a:lnTo>
                  <a:lnTo>
                    <a:pt x="310" y="83"/>
                  </a:lnTo>
                  <a:lnTo>
                    <a:pt x="297" y="97"/>
                  </a:lnTo>
                  <a:lnTo>
                    <a:pt x="283" y="97"/>
                  </a:lnTo>
                  <a:lnTo>
                    <a:pt x="265" y="84"/>
                  </a:lnTo>
                  <a:lnTo>
                    <a:pt x="237" y="81"/>
                  </a:lnTo>
                  <a:lnTo>
                    <a:pt x="237" y="65"/>
                  </a:lnTo>
                  <a:lnTo>
                    <a:pt x="199" y="65"/>
                  </a:lnTo>
                  <a:lnTo>
                    <a:pt x="199" y="56"/>
                  </a:lnTo>
                  <a:lnTo>
                    <a:pt x="165" y="56"/>
                  </a:lnTo>
                  <a:lnTo>
                    <a:pt x="165" y="44"/>
                  </a:lnTo>
                  <a:lnTo>
                    <a:pt x="150" y="39"/>
                  </a:lnTo>
                  <a:lnTo>
                    <a:pt x="150" y="17"/>
                  </a:lnTo>
                  <a:lnTo>
                    <a:pt x="135" y="17"/>
                  </a:lnTo>
                  <a:lnTo>
                    <a:pt x="135" y="0"/>
                  </a:lnTo>
                  <a:lnTo>
                    <a:pt x="69" y="0"/>
                  </a:lnTo>
                  <a:lnTo>
                    <a:pt x="69" y="16"/>
                  </a:lnTo>
                  <a:lnTo>
                    <a:pt x="59" y="16"/>
                  </a:lnTo>
                  <a:lnTo>
                    <a:pt x="59" y="35"/>
                  </a:lnTo>
                  <a:lnTo>
                    <a:pt x="55" y="40"/>
                  </a:lnTo>
                  <a:lnTo>
                    <a:pt x="44" y="44"/>
                  </a:lnTo>
                  <a:lnTo>
                    <a:pt x="44" y="56"/>
                  </a:lnTo>
                  <a:lnTo>
                    <a:pt x="0" y="80"/>
                  </a:lnTo>
                </a:path>
              </a:pathLst>
            </a:cu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5341680" y="3949560"/>
              <a:ext cx="76320" cy="269640"/>
              <a:chOff x="5341680" y="3949560"/>
              <a:chExt cx="76320" cy="269640"/>
            </a:xfrm>
          </p:grpSpPr>
          <p:sp>
            <p:nvSpPr>
              <p:cNvPr id="562" name=""/>
              <p:cNvSpPr/>
              <p:nvPr/>
            </p:nvSpPr>
            <p:spPr>
              <a:xfrm>
                <a:off x="5341680" y="3949560"/>
                <a:ext cx="76320" cy="249120"/>
              </a:xfrm>
              <a:custGeom>
                <a:avLst/>
                <a:gdLst/>
                <a:ahLst/>
                <a:rect l="l" t="t" r="r" b="b"/>
                <a:pathLst>
                  <a:path w="48" h="157">
                    <a:moveTo>
                      <a:pt x="23" y="0"/>
                    </a:moveTo>
                    <a:lnTo>
                      <a:pt x="0" y="14"/>
                    </a:lnTo>
                    <a:lnTo>
                      <a:pt x="0" y="156"/>
                    </a:lnTo>
                    <a:lnTo>
                      <a:pt x="1" y="155"/>
                    </a:lnTo>
                    <a:lnTo>
                      <a:pt x="1" y="15"/>
                    </a:lnTo>
                    <a:lnTo>
                      <a:pt x="23" y="2"/>
                    </a:lnTo>
                    <a:lnTo>
                      <a:pt x="45" y="15"/>
                    </a:lnTo>
                    <a:lnTo>
                      <a:pt x="47" y="13"/>
                    </a:lnTo>
                    <a:lnTo>
                      <a:pt x="23" y="0"/>
                    </a:lnTo>
                  </a:path>
                </a:pathLst>
              </a:cu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341680" y="3968280"/>
                <a:ext cx="76320" cy="250920"/>
              </a:xfrm>
              <a:custGeom>
                <a:avLst/>
                <a:gdLst/>
                <a:ahLst/>
                <a:rect l="l" t="t" r="r" b="b"/>
                <a:pathLst>
                  <a:path w="48" h="158">
                    <a:moveTo>
                      <a:pt x="22" y="157"/>
                    </a:moveTo>
                    <a:lnTo>
                      <a:pt x="47" y="143"/>
                    </a:lnTo>
                    <a:lnTo>
                      <a:pt x="47" y="0"/>
                    </a:lnTo>
                    <a:lnTo>
                      <a:pt x="46" y="2"/>
                    </a:lnTo>
                    <a:lnTo>
                      <a:pt x="46" y="142"/>
                    </a:lnTo>
                    <a:lnTo>
                      <a:pt x="22" y="154"/>
                    </a:lnTo>
                    <a:lnTo>
                      <a:pt x="0" y="142"/>
                    </a:lnTo>
                    <a:lnTo>
                      <a:pt x="0" y="144"/>
                    </a:lnTo>
                    <a:lnTo>
                      <a:pt x="22" y="157"/>
                    </a:lnTo>
                  </a:path>
                </a:pathLst>
              </a:cu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5319360" y="3925440"/>
              <a:ext cx="25560" cy="301680"/>
            </a:xfrm>
            <a:prstGeom prst="rect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302080" y="3955680"/>
              <a:ext cx="25200" cy="233280"/>
            </a:xfrm>
            <a:prstGeom prst="rect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5437080" y="3925440"/>
              <a:ext cx="530280" cy="301680"/>
              <a:chOff x="5437080" y="3925440"/>
              <a:chExt cx="530280" cy="301680"/>
            </a:xfrm>
          </p:grpSpPr>
          <p:sp>
            <p:nvSpPr>
              <p:cNvPr id="567" name=""/>
              <p:cNvSpPr/>
              <p:nvPr/>
            </p:nvSpPr>
            <p:spPr>
              <a:xfrm>
                <a:off x="5545080" y="4065120"/>
                <a:ext cx="406080" cy="27000"/>
              </a:xfrm>
              <a:custGeom>
                <a:avLst/>
                <a:gdLst/>
                <a:ahLst/>
                <a:rect l="l" t="t" r="r" b="b"/>
                <a:pathLst>
                  <a:path w="256" h="17">
                    <a:moveTo>
                      <a:pt x="0" y="16"/>
                    </a:moveTo>
                    <a:lnTo>
                      <a:pt x="255" y="16"/>
                    </a:lnTo>
                    <a:lnTo>
                      <a:pt x="252" y="0"/>
                    </a:lnTo>
                    <a:lnTo>
                      <a:pt x="8" y="0"/>
                    </a:lnTo>
                    <a:lnTo>
                      <a:pt x="0" y="16"/>
                    </a:lnTo>
                  </a:path>
                </a:pathLst>
              </a:cu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559120" y="4109760"/>
                <a:ext cx="393840" cy="27000"/>
              </a:xfrm>
              <a:custGeom>
                <a:avLst/>
                <a:gdLst/>
                <a:ahLst/>
                <a:rect l="l" t="t" r="r" b="b"/>
                <a:pathLst>
                  <a:path w="248" h="17">
                    <a:moveTo>
                      <a:pt x="0" y="16"/>
                    </a:moveTo>
                    <a:lnTo>
                      <a:pt x="242" y="16"/>
                    </a:lnTo>
                    <a:lnTo>
                      <a:pt x="247" y="0"/>
                    </a:lnTo>
                    <a:lnTo>
                      <a:pt x="20" y="0"/>
                    </a:lnTo>
                    <a:lnTo>
                      <a:pt x="0" y="16"/>
                    </a:lnTo>
                  </a:path>
                </a:pathLst>
              </a:cu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69" name=""/>
              <p:cNvGrpSpPr/>
              <p:nvPr/>
            </p:nvGrpSpPr>
            <p:grpSpPr>
              <a:xfrm>
                <a:off x="5437080" y="3925440"/>
                <a:ext cx="530280" cy="301680"/>
                <a:chOff x="5437080" y="3925440"/>
                <a:chExt cx="530280" cy="30168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5437080" y="3925440"/>
                  <a:ext cx="25200" cy="301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5e46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5487840" y="3990600"/>
                  <a:ext cx="25200" cy="179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5e46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5559120" y="4093920"/>
                  <a:ext cx="408240" cy="27000"/>
                </a:xfrm>
                <a:custGeom>
                  <a:avLst/>
                  <a:gdLst/>
                  <a:ahLst/>
                  <a:rect l="l" t="t" r="r" b="b"/>
                  <a:pathLst>
                    <a:path w="257" h="17">
                      <a:moveTo>
                        <a:pt x="0" y="16"/>
                      </a:moveTo>
                      <a:lnTo>
                        <a:pt x="16" y="12"/>
                      </a:lnTo>
                      <a:lnTo>
                        <a:pt x="30" y="7"/>
                      </a:lnTo>
                      <a:lnTo>
                        <a:pt x="251" y="7"/>
                      </a:lnTo>
                      <a:lnTo>
                        <a:pt x="256" y="1"/>
                      </a:lnTo>
                      <a:lnTo>
                        <a:pt x="26" y="0"/>
                      </a:lnTo>
                      <a:lnTo>
                        <a:pt x="0" y="16"/>
                      </a:lnTo>
                    </a:path>
                  </a:pathLst>
                </a:custGeom>
                <a:gradFill rotWithShape="0">
                  <a:gsLst>
                    <a:gs pos="0">
                      <a:srgbClr val="005e46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5543280" y="4003200"/>
                  <a:ext cx="50760" cy="1573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31" y="16"/>
                      </a:moveTo>
                      <a:lnTo>
                        <a:pt x="24" y="10"/>
                      </a:lnTo>
                      <a:lnTo>
                        <a:pt x="3" y="1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98"/>
                      </a:lnTo>
                      <a:lnTo>
                        <a:pt x="3" y="96"/>
                      </a:lnTo>
                      <a:lnTo>
                        <a:pt x="3" y="43"/>
                      </a:lnTo>
                      <a:lnTo>
                        <a:pt x="9" y="38"/>
                      </a:lnTo>
                      <a:lnTo>
                        <a:pt x="9" y="19"/>
                      </a:lnTo>
                      <a:lnTo>
                        <a:pt x="31" y="16"/>
                      </a:lnTo>
                    </a:path>
                  </a:pathLst>
                </a:custGeom>
                <a:gradFill rotWithShape="0">
                  <a:gsLst>
                    <a:gs pos="0">
                      <a:srgbClr val="005e46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457600" y="3962160"/>
                  <a:ext cx="27000" cy="237960"/>
                </a:xfrm>
                <a:custGeom>
                  <a:avLst/>
                  <a:gdLst/>
                  <a:ahLst/>
                  <a:rect l="l" t="t" r="r" b="b"/>
                  <a:pathLst>
                    <a:path w="17" h="150">
                      <a:moveTo>
                        <a:pt x="0" y="0"/>
                      </a:moveTo>
                      <a:lnTo>
                        <a:pt x="0" y="149"/>
                      </a:lnTo>
                      <a:lnTo>
                        <a:pt x="16" y="147"/>
                      </a:lnTo>
                      <a:lnTo>
                        <a:pt x="16" y="2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5e46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5" name=""/>
          <p:cNvSpPr/>
          <p:nvPr/>
        </p:nvSpPr>
        <p:spPr>
          <a:xfrm flipH="1" rot="16200000">
            <a:off x="5134320" y="3969000"/>
            <a:ext cx="49536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public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456000" y="5200560"/>
            <a:ext cx="2268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ure Email     Client Authentic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333520" y="3886200"/>
            <a:ext cx="638280" cy="195120"/>
          </a:xfrm>
          <a:prstGeom prst="line">
            <a:avLst/>
          </a:prstGeom>
          <a:ln w="50760">
            <a:solidFill>
              <a:srgbClr val="fcc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5788080" y="5467320"/>
            <a:ext cx="804960" cy="390600"/>
          </a:xfrm>
          <a:prstGeom prst="line">
            <a:avLst/>
          </a:prstGeom>
          <a:ln w="50760">
            <a:solidFill>
              <a:srgbClr val="fcc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85800" y="5562360"/>
            <a:ext cx="1809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ővítménye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2328840" y="5373360"/>
            <a:ext cx="1136520" cy="306360"/>
          </a:xfrm>
          <a:prstGeom prst="line">
            <a:avLst/>
          </a:prstGeom>
          <a:ln w="50760">
            <a:solidFill>
              <a:srgbClr val="fcc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62120" y="3048120"/>
            <a:ext cx="1698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tulajdonos személy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048040" y="3425760"/>
            <a:ext cx="722160" cy="23760"/>
          </a:xfrm>
          <a:prstGeom prst="line">
            <a:avLst/>
          </a:prstGeom>
          <a:ln w="50760">
            <a:solidFill>
              <a:srgbClr val="fcc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5499000" y="3517920"/>
            <a:ext cx="416160" cy="379440"/>
          </a:xfrm>
          <a:prstGeom prst="line">
            <a:avLst/>
          </a:prstGeom>
          <a:ln w="50760">
            <a:solidFill>
              <a:srgbClr val="fcc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553080" y="4419720"/>
            <a:ext cx="206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ddig érvény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967120" y="3586320"/>
            <a:ext cx="26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ssuer: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utodc1.auto.h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5557680" y="4648320"/>
            <a:ext cx="919440" cy="257040"/>
          </a:xfrm>
          <a:prstGeom prst="line">
            <a:avLst/>
          </a:prstGeom>
          <a:ln w="50760">
            <a:solidFill>
              <a:srgbClr val="fcc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702480" y="5141880"/>
            <a:ext cx="2212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CA digitális aláírá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349280" y="4530600"/>
            <a:ext cx="14479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A adj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2514600" y="4456080"/>
            <a:ext cx="704880" cy="192240"/>
          </a:xfrm>
          <a:prstGeom prst="line">
            <a:avLst/>
          </a:prstGeom>
          <a:ln w="50760">
            <a:solidFill>
              <a:srgbClr val="fcc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477120" y="3962520"/>
            <a:ext cx="206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ttől érvény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5567400" y="4218120"/>
            <a:ext cx="877680" cy="379440"/>
          </a:xfrm>
          <a:prstGeom prst="line">
            <a:avLst/>
          </a:prstGeom>
          <a:ln w="50760">
            <a:solidFill>
              <a:srgbClr val="fcc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Két elterjedt PKI szabvány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4340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X.509 version 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tanusítványok formátumát előíró szabván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PKCS #..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RSA által kiadott ajánlások a tanusítványokkal kapcsolatos műveletekre, pl.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KCS #10: tanusítvány kérel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KCS #7: tanusítvány kiadás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Certification Authority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 (CA)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04640" y="1228320"/>
            <a:ext cx="8358480" cy="5429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inek állíthat ki tanusítvány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aját magának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Root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 másik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-na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Subordinat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 regisztrációs személyne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nrollment agent, pl. az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ministrator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Végfelhasználóknak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ényleges emberek  vag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ámítógépe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 CA-nak, amelyben megbízunk, kell hogy legy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Érvényes eredetiség igazolás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Visszavonási státusz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CA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-k közötti kapcsolat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255680"/>
            <a:ext cx="8763120" cy="4547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ierarchiát alkotna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agyományos, „fa” típusú hierarch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agjai vagy root vagy alárendelt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bordinate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) CA-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Lehetővé teszi az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fline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(kikapcsolt)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-ka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(biztonságosabb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ereszthivatkozásos hierarchia eseté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lehet root és alárendelt 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em lehet kikapcsol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8" name=""/>
          <p:cNvGraphicFramePr/>
          <p:nvPr/>
        </p:nvGraphicFramePr>
        <p:xfrm>
          <a:off x="2971800" y="5105520"/>
          <a:ext cx="692280" cy="92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5105520"/>
                    <a:ext cx="69228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4781520" y="3581280"/>
          <a:ext cx="692280" cy="924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1520" y="3581280"/>
                    <a:ext cx="69228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CA 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fa hierarchia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2433600" y="1835280"/>
          <a:ext cx="692280" cy="923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33600" y="1835280"/>
                    <a:ext cx="69228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"/>
          <p:cNvGraphicFramePr/>
          <p:nvPr/>
        </p:nvGraphicFramePr>
        <p:xfrm>
          <a:off x="2584440" y="3581280"/>
          <a:ext cx="692280" cy="924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84440" y="3581280"/>
                    <a:ext cx="69228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7" name=""/>
          <p:cNvGraphicFramePr/>
          <p:nvPr/>
        </p:nvGraphicFramePr>
        <p:xfrm>
          <a:off x="984240" y="5105520"/>
          <a:ext cx="692280" cy="923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84240" y="5105520"/>
                    <a:ext cx="69228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9" name=""/>
          <p:cNvSpPr/>
          <p:nvPr/>
        </p:nvSpPr>
        <p:spPr>
          <a:xfrm>
            <a:off x="7626240" y="3505320"/>
            <a:ext cx="189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ccf00"/>
                </a:solidFill>
                <a:latin typeface="Arial"/>
              </a:rPr>
              <a:t>Funkció</a:t>
            </a:r>
            <a:r>
              <a:rPr b="1" lang="en-US" sz="2800" spc="-1" strike="noStrike">
                <a:solidFill>
                  <a:srgbClr val="fccf00"/>
                </a:solidFill>
                <a:latin typeface="Arial"/>
              </a:rPr>
              <a:t> CA</a:t>
            </a:r>
            <a:r>
              <a:rPr b="1" lang="hu-HU" sz="2800" spc="-1" strike="noStrike">
                <a:solidFill>
                  <a:srgbClr val="fccf00"/>
                </a:solidFill>
                <a:latin typeface="Arial"/>
              </a:rPr>
              <a:t>-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626240" y="5029200"/>
            <a:ext cx="134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cc99"/>
                </a:solidFill>
                <a:latin typeface="Arial"/>
              </a:rPr>
              <a:t>Kiadó</a:t>
            </a:r>
            <a:br>
              <a:rPr sz="2800"/>
            </a:b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CA</a:t>
            </a:r>
            <a:r>
              <a:rPr b="1" lang="hu-HU" sz="2800" spc="-1" strike="noStrike">
                <a:solidFill>
                  <a:srgbClr val="00cc99"/>
                </a:solidFill>
                <a:latin typeface="Arial"/>
              </a:rPr>
              <a:t>-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743200" y="4419720"/>
            <a:ext cx="380880" cy="685800"/>
          </a:xfrm>
          <a:prstGeom prst="line">
            <a:avLst/>
          </a:prstGeom>
          <a:ln w="57240">
            <a:solidFill>
              <a:srgbClr val="fccf00"/>
            </a:solidFill>
            <a:prstDash val="sysDot"/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2965320" y="2743200"/>
            <a:ext cx="152640" cy="838080"/>
          </a:xfrm>
          <a:prstGeom prst="line">
            <a:avLst/>
          </a:prstGeom>
          <a:ln w="57240">
            <a:solidFill>
              <a:srgbClr val="fccf00"/>
            </a:solidFill>
            <a:prstDash val="sysDot"/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124080" y="1965240"/>
            <a:ext cx="177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suer : Roo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ject : Roo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15320" y="6156360"/>
            <a:ext cx="238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suer :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n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ject :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iadó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58000" y="3718080"/>
            <a:ext cx="203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suer : Roo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ject :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n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626240" y="1828800"/>
            <a:ext cx="121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Root</a:t>
            </a:r>
            <a:br>
              <a:rPr sz="2800"/>
            </a:br>
            <a:r>
              <a:rPr b="1" lang="en-US" sz="2800" spc="-1" strike="noStrike">
                <a:solidFill>
                  <a:srgbClr val="eea564"/>
                </a:solidFill>
                <a:latin typeface="Arial"/>
              </a:rPr>
              <a:t>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117960" y="2743200"/>
            <a:ext cx="1904760" cy="838080"/>
          </a:xfrm>
          <a:prstGeom prst="line">
            <a:avLst/>
          </a:prstGeom>
          <a:ln w="57240">
            <a:solidFill>
              <a:srgbClr val="fccf00"/>
            </a:solidFill>
            <a:prstDash val="sysDot"/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1558800" y="4419720"/>
            <a:ext cx="1177920" cy="761760"/>
          </a:xfrm>
          <a:prstGeom prst="line">
            <a:avLst/>
          </a:prstGeom>
          <a:ln w="57240">
            <a:solidFill>
              <a:srgbClr val="fccf00"/>
            </a:solidFill>
            <a:prstDash val="sysDot"/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5410080" y="5105520"/>
          <a:ext cx="692280" cy="923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410080" y="5105520"/>
                    <a:ext cx="69228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5327640" y="4495680"/>
            <a:ext cx="387360" cy="609840"/>
          </a:xfrm>
          <a:prstGeom prst="line">
            <a:avLst/>
          </a:prstGeom>
          <a:ln w="57240">
            <a:solidFill>
              <a:srgbClr val="fccf00"/>
            </a:solidFill>
            <a:prstDash val="sysDot"/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953960" y="6156360"/>
            <a:ext cx="238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suer :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n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ject :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iadó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20" y="6156360"/>
            <a:ext cx="238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suer :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n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ject :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iadó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434560" y="3718080"/>
            <a:ext cx="203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suer : Roo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ject :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n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anusítványok ellenőrzés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3449520" y="2361600"/>
            <a:ext cx="505080" cy="1214280"/>
          </a:xfrm>
          <a:custGeom>
            <a:avLst/>
            <a:gdLst>
              <a:gd name="textAreaLeft" fmla="*/ 67680 w 505080"/>
              <a:gd name="textAreaRight" fmla="*/ 437400 w 505080"/>
              <a:gd name="textAreaTop" fmla="*/ 212040 h 1214280"/>
              <a:gd name="textAreaBottom" fmla="*/ 88020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ea56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 flipV="1">
            <a:off x="151920" y="1981080"/>
            <a:ext cx="470160" cy="703440"/>
          </a:xfrm>
          <a:custGeom>
            <a:avLst/>
            <a:gdLst>
              <a:gd name="textAreaLeft" fmla="*/ 63000 w 470160"/>
              <a:gd name="textAreaRight" fmla="*/ 407160 w 470160"/>
              <a:gd name="textAreaTop" fmla="*/ 123480 h 703440"/>
              <a:gd name="textAreaBottom" fmla="*/ 510480 h 70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ea56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3457440" y="3809880"/>
            <a:ext cx="505080" cy="1214640"/>
          </a:xfrm>
          <a:custGeom>
            <a:avLst/>
            <a:gdLst>
              <a:gd name="textAreaLeft" fmla="*/ 67680 w 505080"/>
              <a:gd name="textAreaRight" fmla="*/ 437400 w 5050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cc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720720" y="4343400"/>
            <a:ext cx="8292960" cy="1175760"/>
            <a:chOff x="720720" y="4343400"/>
            <a:chExt cx="8292960" cy="1175760"/>
          </a:xfrm>
        </p:grpSpPr>
        <p:sp>
          <p:nvSpPr>
            <p:cNvPr id="630" name=""/>
            <p:cNvSpPr/>
            <p:nvPr/>
          </p:nvSpPr>
          <p:spPr>
            <a:xfrm>
              <a:off x="720720" y="4473720"/>
              <a:ext cx="2631960" cy="10087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ssuer : </a:t>
              </a:r>
              <a:r>
                <a:rPr b="0" lang="hu-HU" sz="2000" spc="-1" strike="noStrike">
                  <a:solidFill>
                    <a:srgbClr val="000000"/>
                  </a:solidFill>
                  <a:latin typeface="Arial"/>
                </a:rPr>
                <a:t>Fn1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ubject : Ali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ublic Key: &lt;</a:t>
              </a:r>
              <a:r>
                <a:rPr b="0" lang="hu-HU" sz="20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038480" y="4419720"/>
              <a:ext cx="49752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200" spc="-1" strike="noStrike">
                  <a:solidFill>
                    <a:srgbClr val="00cc99"/>
                  </a:solidFill>
                  <a:latin typeface="Arial"/>
                </a:rPr>
                <a:t>1., Alice tanusítványának ellenőrzése az Fn1CA nyilvános kulcsának segítségével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971800" y="4343400"/>
              <a:ext cx="609480" cy="380880"/>
            </a:xfrm>
            <a:custGeom>
              <a:avLst/>
              <a:gdLst>
                <a:gd name="textAreaLeft" fmla="*/ 152280 w 609480"/>
                <a:gd name="textAreaRight" fmla="*/ 457200 w 609480"/>
                <a:gd name="textAreaTop" fmla="*/ 4752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fcc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685800" y="2971800"/>
            <a:ext cx="8327880" cy="1288440"/>
            <a:chOff x="685800" y="2971800"/>
            <a:chExt cx="8327880" cy="1288440"/>
          </a:xfrm>
        </p:grpSpPr>
        <p:sp>
          <p:nvSpPr>
            <p:cNvPr id="634" name=""/>
            <p:cNvSpPr/>
            <p:nvPr/>
          </p:nvSpPr>
          <p:spPr>
            <a:xfrm>
              <a:off x="685800" y="3133800"/>
              <a:ext cx="2664000" cy="1008720"/>
            </a:xfrm>
            <a:prstGeom prst="rect">
              <a:avLst/>
            </a:prstGeom>
            <a:solidFill>
              <a:srgbClr val="fcc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ssuer : Roo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ubject : </a:t>
              </a:r>
              <a:r>
                <a:rPr b="0" lang="hu-HU" sz="2000" spc="-1" strike="noStrike">
                  <a:solidFill>
                    <a:srgbClr val="000000"/>
                  </a:solidFill>
                  <a:latin typeface="Arial"/>
                </a:rPr>
                <a:t>Fn1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ublic Key: &lt;</a:t>
              </a:r>
              <a:r>
                <a:rPr b="0" lang="hu-HU" sz="2000" spc="-1" strike="noStrike">
                  <a:solidFill>
                    <a:srgbClr val="000000"/>
                  </a:solidFill>
                  <a:latin typeface="Arial"/>
                </a:rPr>
                <a:t>Fn1CA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060800" y="3160800"/>
              <a:ext cx="49528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200" spc="-1" strike="noStrike">
                  <a:solidFill>
                    <a:srgbClr val="fccf00"/>
                  </a:solidFill>
                  <a:latin typeface="Arial"/>
                </a:rPr>
                <a:t>2., Az Fn1CA tanusítványának</a:t>
              </a:r>
              <a:br>
                <a:rPr sz="2200"/>
              </a:br>
              <a:r>
                <a:rPr b="1" lang="hu-HU" sz="2200" spc="-1" strike="noStrike">
                  <a:solidFill>
                    <a:srgbClr val="fccf00"/>
                  </a:solidFill>
                  <a:latin typeface="Arial"/>
                </a:rPr>
                <a:t>ellenőrzése a Root nyilvános</a:t>
              </a:r>
              <a:br>
                <a:rPr sz="2200"/>
              </a:br>
              <a:r>
                <a:rPr b="1" lang="hu-HU" sz="2200" spc="-1" strike="noStrike">
                  <a:solidFill>
                    <a:srgbClr val="fccf00"/>
                  </a:solidFill>
                  <a:latin typeface="Arial"/>
                </a:rPr>
                <a:t>kulcsának segítségével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971800" y="2971800"/>
              <a:ext cx="609480" cy="380880"/>
            </a:xfrm>
            <a:custGeom>
              <a:avLst/>
              <a:gdLst>
                <a:gd name="textAreaLeft" fmla="*/ 152280 w 609480"/>
                <a:gd name="textAreaRight" fmla="*/ 457200 w 609480"/>
                <a:gd name="textAreaTop" fmla="*/ 4752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eea56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701640" y="1676520"/>
            <a:ext cx="8312040" cy="1124640"/>
            <a:chOff x="701640" y="1676520"/>
            <a:chExt cx="8312040" cy="1124640"/>
          </a:xfrm>
        </p:grpSpPr>
        <p:sp>
          <p:nvSpPr>
            <p:cNvPr id="638" name=""/>
            <p:cNvSpPr/>
            <p:nvPr/>
          </p:nvSpPr>
          <p:spPr>
            <a:xfrm>
              <a:off x="701640" y="1792440"/>
              <a:ext cx="2651040" cy="1008720"/>
            </a:xfrm>
            <a:prstGeom prst="rect">
              <a:avLst/>
            </a:prstGeom>
            <a:solidFill>
              <a:srgbClr val="eea56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ssuer : Roo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ubject : Roo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ublic Key: &lt;</a:t>
              </a:r>
              <a:r>
                <a:rPr b="0" lang="hu-HU" sz="2000" spc="-1" strike="noStrike">
                  <a:solidFill>
                    <a:srgbClr val="000000"/>
                  </a:solidFill>
                  <a:latin typeface="Arial"/>
                </a:rPr>
                <a:t>Roo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052880" y="1752480"/>
              <a:ext cx="4960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200" spc="-1" strike="noStrike">
                  <a:solidFill>
                    <a:srgbClr val="eea564"/>
                  </a:solidFill>
                  <a:latin typeface="Arial"/>
                </a:rPr>
                <a:t>3., A Root CA-ban eleve megbízunk és megvan a nyilvános kulcsa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971800" y="1676520"/>
              <a:ext cx="609480" cy="380880"/>
            </a:xfrm>
            <a:custGeom>
              <a:avLst/>
              <a:gdLst>
                <a:gd name="textAreaLeft" fmla="*/ 152280 w 609480"/>
                <a:gd name="textAreaRight" fmla="*/ 457200 w 609480"/>
                <a:gd name="textAreaTop" fmla="*/ 4752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eea56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Windows 2000 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CA Service 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jellemzői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80520" y="1771200"/>
            <a:ext cx="8534520" cy="4921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ot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vag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ubordina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SA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vagy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SA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anusítvány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d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v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s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ft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v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rypto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rvic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rovid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egnövelt skálázhatósá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ndows NT 4.0 = 10,000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anusítvány/C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ndows 2000 = 1,000,000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AD-vel megegyező adatbázis technológia (Jet blu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Integrált az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e Directory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v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Windows 2000 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CA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 típuso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80880" y="1283760"/>
            <a:ext cx="8763120" cy="5564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80000"/>
              </a:lnSpc>
              <a:spcBef>
                <a:spcPts val="13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nterpris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kéréseket az AD hitelesí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tanusítvány tartalmát sablonokkal írhatjuk 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ámogatja az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hange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2000-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ell hozzá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e Directo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3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ndalon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asonló a más megoldásokhoz, pl. Netscap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a látja az AD-t, ott tárolja a tanusítványok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ről lesz szó?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763120" cy="2894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ázirendendben előírt biztonsá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titkosítás alapja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anusítványok és a Certificate Author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Windows 2000 biztonsági alrendsze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ire és hogyan használhatjuk mindez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anusítvány sablono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415360" cy="5681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Active Directory tárolj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ablonok egy- vagy több célú felhasználásr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lőre be vannak égetve, nem módosíthatóa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egoldás: Custom Policy modu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Jogosultságokkal korlátozhatjuk, hogy ki milyen sablont használh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különböző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-knak különféle sablonokat engedélyezhetün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-egy CA a különböző szerepkörökhö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Visszavont tanusítványok listája</a:t>
            </a:r>
            <a:br>
              <a:rPr sz="4400"/>
            </a:br>
            <a:r>
              <a:rPr b="1" lang="en-US" sz="2800" spc="-1" strike="noStrike">
                <a:solidFill>
                  <a:srgbClr val="eea564"/>
                </a:solidFill>
                <a:latin typeface="Arial"/>
              </a:rPr>
              <a:t>Certificate Revocation List</a:t>
            </a: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 (CRL)</a:t>
            </a:r>
            <a:endParaRPr b="1" lang="en-US" sz="2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80880" y="1392120"/>
            <a:ext cx="8763120" cy="51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már kiadott tanusítványok érvényteleníthetőek (feketelista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L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-t 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írja alá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CRL 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tomati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usan vagy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u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álisan juttatható el az ügyfélhe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L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nagy is leh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ablonok segítségével partícionálhatjuk (skálázhatóság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rtificate Revocation List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tartalmazz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visszavont tanusítványok sorozatszámá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visszavonás oká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egbízunk-e a 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CA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-ban?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5174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Windows 2000 alapértelmezésben kb. 40 Root CA-ban bízik me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Verisign, SGC, Thawte, </a:t>
            </a: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Netlock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, stb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Letilthatóa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SL, titkosított levelezés és digitális aláírá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Csoportos Házirendben (GPO) megadhatunk újabb megbízható CA-k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terprise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Root 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ve Directory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 haszná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utomatikusan megbíznak ben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t írhatunk elő a csoportos házirendekkel?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80880" y="1941120"/>
            <a:ext cx="7772400" cy="3647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ot CA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-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ülső Roo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-k tanusítványa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S Recovery Agent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egadhatjuk, hogy ki férhet hozzá a titkosított dokumentumainkho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utomatikus tanusítvány kiadá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Csak gépekr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l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PSec, SSL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anusítványok kiadása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80880" y="1064880"/>
            <a:ext cx="8763120" cy="5575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ulcspáronként kérjü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Kettős felhasználás: aláírás ÉS titkosítá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gyszeres felhasználás: aláírás VAGY titkosítá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hitelesítés 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line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va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f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árom módsz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n32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varázsló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MC, hitelesítet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PC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eX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vezérlő egy webe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HTTP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inek kérjük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agunkn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ás számára (csak web é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art card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seté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ámítógép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ázirenden keresztü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65040" y="0"/>
            <a:ext cx="877896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Aut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h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enti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káció = hitelesítés</a:t>
            </a:r>
            <a:br>
              <a:rPr sz="4800"/>
            </a:b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Aut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h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oriz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áció = felhatalmazá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80880" y="1766520"/>
            <a:ext cx="8763120" cy="4371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ccf00"/>
                </a:solidFill>
                <a:latin typeface="Arial"/>
              </a:rPr>
              <a:t>Hitelesítés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(azonosítás) a felhasználói adatok alapján történi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artománynév, felhasználó név, jelsz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felhasználói fiók adatai az Active Directoryb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ccf00"/>
                </a:solidFill>
                <a:latin typeface="Arial"/>
              </a:rPr>
              <a:t>Felhatalmazással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adjuk meg, hogy mihez fér hozzá a már azonosított felhasznál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ipikusan csoport tagságok alapjá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" descr=""/>
          <p:cNvPicPr/>
          <p:nvPr/>
        </p:nvPicPr>
        <p:blipFill>
          <a:blip r:embed="rId2"/>
          <a:stretch/>
        </p:blipFill>
        <p:spPr>
          <a:xfrm>
            <a:off x="1017720" y="1787400"/>
            <a:ext cx="861840" cy="83340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 flipV="1">
            <a:off x="1531800" y="5825880"/>
            <a:ext cx="475776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486080" y="26179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074600" y="2987640"/>
            <a:ext cx="19972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000680" y="3927600"/>
            <a:ext cx="0" cy="38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038320" y="4311720"/>
            <a:ext cx="3784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225520" y="2998800"/>
            <a:ext cx="0" cy="13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997440" y="4349880"/>
            <a:ext cx="0" cy="1460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770200" y="2651040"/>
            <a:ext cx="0" cy="311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1778040" y="2209680"/>
            <a:ext cx="3127320" cy="1729080"/>
            <a:chOff x="1778040" y="2209680"/>
            <a:chExt cx="3127320" cy="1729080"/>
          </a:xfrm>
        </p:grpSpPr>
        <p:grpSp>
          <p:nvGrpSpPr>
            <p:cNvPr id="667" name=""/>
            <p:cNvGrpSpPr/>
            <p:nvPr/>
          </p:nvGrpSpPr>
          <p:grpSpPr>
            <a:xfrm>
              <a:off x="3102120" y="2209680"/>
              <a:ext cx="1803240" cy="1729080"/>
              <a:chOff x="3102120" y="2209680"/>
              <a:chExt cx="1803240" cy="1729080"/>
            </a:xfrm>
          </p:grpSpPr>
          <p:sp>
            <p:nvSpPr>
              <p:cNvPr id="668" name=""/>
              <p:cNvSpPr/>
              <p:nvPr/>
            </p:nvSpPr>
            <p:spPr>
              <a:xfrm>
                <a:off x="3102120" y="2209680"/>
                <a:ext cx="1803240" cy="1729080"/>
              </a:xfrm>
              <a:prstGeom prst="triangle">
                <a:avLst>
                  <a:gd name="adj" fmla="val 49986"/>
                </a:avLst>
              </a:prstGeom>
              <a:gradFill rotWithShape="0">
                <a:gsLst>
                  <a:gs pos="0">
                    <a:srgbClr val="7e3d3f"/>
                  </a:gs>
                  <a:gs pos="100000">
                    <a:srgbClr val="ff7c8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011480" y="2744640"/>
                <a:ext cx="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930480" y="2590920"/>
                <a:ext cx="158400" cy="14112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>
                <a:off x="3844800" y="2971800"/>
                <a:ext cx="166320" cy="29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027320" y="2989440"/>
                <a:ext cx="248760" cy="309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933720" y="2870280"/>
                <a:ext cx="156600" cy="14292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3539520" y="3346560"/>
                <a:ext cx="279000" cy="355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844800" y="3335400"/>
                <a:ext cx="298080" cy="372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844800" y="332748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282920" y="3309840"/>
                <a:ext cx="169560" cy="38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462120" y="3630600"/>
                <a:ext cx="158400" cy="14148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203360" y="3247920"/>
                <a:ext cx="158400" cy="14148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759120" y="3247920"/>
                <a:ext cx="156600" cy="14148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365360" y="3630600"/>
                <a:ext cx="158400" cy="14148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062240" y="3630600"/>
                <a:ext cx="156960" cy="14148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765240" y="3630600"/>
                <a:ext cx="158400" cy="14148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>
              <a:off x="1778040" y="2590920"/>
              <a:ext cx="1671480" cy="67140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1730520" y="1463760"/>
            <a:ext cx="2835000" cy="1207800"/>
            <a:chOff x="1730520" y="1463760"/>
            <a:chExt cx="2835000" cy="1207800"/>
          </a:xfrm>
        </p:grpSpPr>
        <p:grpSp>
          <p:nvGrpSpPr>
            <p:cNvPr id="686" name=""/>
            <p:cNvGrpSpPr/>
            <p:nvPr/>
          </p:nvGrpSpPr>
          <p:grpSpPr>
            <a:xfrm>
              <a:off x="2468520" y="1920960"/>
              <a:ext cx="690480" cy="750600"/>
              <a:chOff x="2468520" y="1920960"/>
              <a:chExt cx="690480" cy="750600"/>
            </a:xfrm>
          </p:grpSpPr>
          <p:sp>
            <p:nvSpPr>
              <p:cNvPr id="687" name=""/>
              <p:cNvSpPr/>
              <p:nvPr/>
            </p:nvSpPr>
            <p:spPr>
              <a:xfrm>
                <a:off x="2708280" y="1944720"/>
                <a:ext cx="299880" cy="72684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725560" y="2327400"/>
                <a:ext cx="266760" cy="30924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725560" y="2077920"/>
                <a:ext cx="254160" cy="20808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68520" y="1922400"/>
                <a:ext cx="539640" cy="3024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468520" y="1922400"/>
                <a:ext cx="241200" cy="74916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681280" y="1947960"/>
                <a:ext cx="28440" cy="72360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725560" y="2076480"/>
                <a:ext cx="266760" cy="21744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725560" y="2036880"/>
                <a:ext cx="266760" cy="4284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725560" y="1971720"/>
                <a:ext cx="266760" cy="3636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468520" y="1920960"/>
                <a:ext cx="539640" cy="3168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706480" y="1944720"/>
                <a:ext cx="301680" cy="72684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68520" y="1922400"/>
                <a:ext cx="239760" cy="74916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681280" y="1949400"/>
                <a:ext cx="0" cy="70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681280" y="195876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2681280" y="201132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725560" y="1971720"/>
                <a:ext cx="266760" cy="3636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681280" y="202716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681280" y="207648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681280" y="227484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725560" y="2087640"/>
                <a:ext cx="0" cy="20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990880" y="2077920"/>
                <a:ext cx="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2725560" y="2077920"/>
                <a:ext cx="254160" cy="20628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977920" y="2270160"/>
                <a:ext cx="1296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2725200" y="2143080"/>
                <a:ext cx="252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2725200" y="2209680"/>
                <a:ext cx="25236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2681280" y="232740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681280" y="2606760"/>
                <a:ext cx="326880" cy="3312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725560" y="2343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990880" y="2327400"/>
                <a:ext cx="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725560" y="2587680"/>
                <a:ext cx="266760" cy="3312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725560" y="257472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725560" y="2563920"/>
                <a:ext cx="266760" cy="3168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725560" y="2550960"/>
                <a:ext cx="266760" cy="2880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725560" y="2536920"/>
                <a:ext cx="266760" cy="2988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725560" y="1973160"/>
                <a:ext cx="254160" cy="3348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977920" y="1996920"/>
                <a:ext cx="12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787480" y="2036880"/>
                <a:ext cx="142920" cy="4284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725560" y="2036880"/>
                <a:ext cx="266760" cy="3780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725560" y="2054160"/>
                <a:ext cx="204840" cy="2700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2928960" y="2057400"/>
                <a:ext cx="619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928960" y="2036880"/>
                <a:ext cx="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738520" y="19890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774880" y="1987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811240" y="1987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849400" y="1987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887560" y="1985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922480" y="1982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960640" y="1982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965320" y="2077920"/>
                <a:ext cx="27000" cy="19368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3006720" y="2568600"/>
                <a:ext cx="152280" cy="7128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2778120" y="1463760"/>
              <a:ext cx="1787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ájl- és nyomtató szolgáltatás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730520" y="2179800"/>
              <a:ext cx="731520" cy="288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1600200" y="2598840"/>
            <a:ext cx="1401480" cy="3898440"/>
            <a:chOff x="1600200" y="2598840"/>
            <a:chExt cx="1401480" cy="3898440"/>
          </a:xfrm>
        </p:grpSpPr>
        <p:grpSp>
          <p:nvGrpSpPr>
            <p:cNvPr id="740" name=""/>
            <p:cNvGrpSpPr/>
            <p:nvPr/>
          </p:nvGrpSpPr>
          <p:grpSpPr>
            <a:xfrm>
              <a:off x="2147760" y="4660920"/>
              <a:ext cx="690480" cy="750600"/>
              <a:chOff x="2147760" y="4660920"/>
              <a:chExt cx="690480" cy="750600"/>
            </a:xfrm>
          </p:grpSpPr>
          <p:sp>
            <p:nvSpPr>
              <p:cNvPr id="741" name=""/>
              <p:cNvSpPr/>
              <p:nvPr/>
            </p:nvSpPr>
            <p:spPr>
              <a:xfrm>
                <a:off x="2387520" y="4684680"/>
                <a:ext cx="299880" cy="72684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404800" y="5067360"/>
                <a:ext cx="266760" cy="30924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404800" y="4817880"/>
                <a:ext cx="254160" cy="20808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147760" y="4662360"/>
                <a:ext cx="539640" cy="3024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147760" y="4662360"/>
                <a:ext cx="241200" cy="74916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360520" y="4687920"/>
                <a:ext cx="28440" cy="72360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404800" y="4816440"/>
                <a:ext cx="266760" cy="21744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404800" y="4776840"/>
                <a:ext cx="266760" cy="4284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404800" y="4711680"/>
                <a:ext cx="266760" cy="3636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2147760" y="4660920"/>
                <a:ext cx="539640" cy="3168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385720" y="4684680"/>
                <a:ext cx="301680" cy="72684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147760" y="4662360"/>
                <a:ext cx="239760" cy="74916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360520" y="4689360"/>
                <a:ext cx="0" cy="70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360520" y="469872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360520" y="475128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404800" y="4711680"/>
                <a:ext cx="266760" cy="3636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360520" y="476712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360520" y="481644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360520" y="501480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404800" y="4827600"/>
                <a:ext cx="0" cy="20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2670120" y="4817880"/>
                <a:ext cx="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404800" y="4817880"/>
                <a:ext cx="254160" cy="20628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657160" y="5010120"/>
                <a:ext cx="1296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2404440" y="4883040"/>
                <a:ext cx="252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2404440" y="4949640"/>
                <a:ext cx="25236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360520" y="506736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360520" y="5346720"/>
                <a:ext cx="326880" cy="3312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404800" y="508320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670120" y="5067360"/>
                <a:ext cx="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404800" y="5327640"/>
                <a:ext cx="266760" cy="3312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404800" y="531468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404800" y="5303880"/>
                <a:ext cx="266760" cy="3168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404800" y="5290920"/>
                <a:ext cx="266760" cy="2880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404800" y="5276880"/>
                <a:ext cx="266760" cy="2988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404800" y="4713120"/>
                <a:ext cx="254160" cy="3348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2657160" y="4736880"/>
                <a:ext cx="12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2466720" y="4776840"/>
                <a:ext cx="142920" cy="4284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404800" y="4776840"/>
                <a:ext cx="266760" cy="3780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404800" y="4794120"/>
                <a:ext cx="204840" cy="2700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2608200" y="4797360"/>
                <a:ext cx="619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608200" y="4776840"/>
                <a:ext cx="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417760" y="47289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454120" y="472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490480" y="472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2528640" y="472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2566800" y="4725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601720" y="4722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639880" y="4722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644560" y="4817880"/>
                <a:ext cx="27000" cy="19368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685960" y="5308560"/>
                <a:ext cx="152280" cy="7128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2428920" y="542304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63720" y="5916600"/>
              <a:ext cx="1137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xchang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600200" y="2598840"/>
              <a:ext cx="741240" cy="204624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1639800" y="2598840"/>
            <a:ext cx="2482920" cy="3906360"/>
            <a:chOff x="1639800" y="2598840"/>
            <a:chExt cx="2482920" cy="3906360"/>
          </a:xfrm>
        </p:grpSpPr>
        <p:grpSp>
          <p:nvGrpSpPr>
            <p:cNvPr id="795" name=""/>
            <p:cNvGrpSpPr/>
            <p:nvPr/>
          </p:nvGrpSpPr>
          <p:grpSpPr>
            <a:xfrm>
              <a:off x="3036960" y="4702320"/>
              <a:ext cx="690480" cy="750600"/>
              <a:chOff x="3036960" y="4702320"/>
              <a:chExt cx="690480" cy="750600"/>
            </a:xfrm>
          </p:grpSpPr>
          <p:sp>
            <p:nvSpPr>
              <p:cNvPr id="796" name=""/>
              <p:cNvSpPr/>
              <p:nvPr/>
            </p:nvSpPr>
            <p:spPr>
              <a:xfrm>
                <a:off x="3276720" y="4726080"/>
                <a:ext cx="299880" cy="72684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294000" y="5108760"/>
                <a:ext cx="266760" cy="30924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294000" y="4859280"/>
                <a:ext cx="254160" cy="20808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036960" y="4703760"/>
                <a:ext cx="539640" cy="3024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36960" y="4703760"/>
                <a:ext cx="241200" cy="74916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249720" y="4729320"/>
                <a:ext cx="28440" cy="72360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294000" y="4857840"/>
                <a:ext cx="266760" cy="21744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294000" y="4818240"/>
                <a:ext cx="266760" cy="4284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294000" y="4753080"/>
                <a:ext cx="266760" cy="3636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36960" y="4702320"/>
                <a:ext cx="539640" cy="3168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274920" y="4726080"/>
                <a:ext cx="301680" cy="72684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036960" y="4703760"/>
                <a:ext cx="239760" cy="74916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249720" y="4730760"/>
                <a:ext cx="0" cy="70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249720" y="474012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249720" y="479268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294000" y="4753080"/>
                <a:ext cx="266760" cy="3636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249720" y="480852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249720" y="485784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249720" y="505620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294000" y="4869000"/>
                <a:ext cx="0" cy="20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559320" y="4859280"/>
                <a:ext cx="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294000" y="4859280"/>
                <a:ext cx="254160" cy="20628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546360" y="5051520"/>
                <a:ext cx="1296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>
                <a:off x="3293640" y="4924440"/>
                <a:ext cx="252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>
                <a:off x="3293640" y="4991040"/>
                <a:ext cx="25236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249720" y="510876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249720" y="5388120"/>
                <a:ext cx="326880" cy="3312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294000" y="512460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559320" y="5108760"/>
                <a:ext cx="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294000" y="5369040"/>
                <a:ext cx="266760" cy="3312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294000" y="535608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294000" y="5345280"/>
                <a:ext cx="266760" cy="3168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294000" y="5332320"/>
                <a:ext cx="266760" cy="2880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294000" y="5318280"/>
                <a:ext cx="266760" cy="2988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294000" y="4754520"/>
                <a:ext cx="254160" cy="3348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546360" y="4778280"/>
                <a:ext cx="12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355920" y="4818240"/>
                <a:ext cx="142920" cy="4284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294000" y="4818240"/>
                <a:ext cx="266760" cy="3780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294000" y="4835520"/>
                <a:ext cx="204840" cy="2700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3497400" y="4838760"/>
                <a:ext cx="619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497400" y="4818240"/>
                <a:ext cx="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06960" y="47703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343320" y="4768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379680" y="4768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417840" y="4768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456000" y="4767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490920" y="4764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529080" y="4764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533760" y="4859280"/>
                <a:ext cx="27000" cy="19368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575160" y="5349960"/>
                <a:ext cx="152280" cy="7128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46" name=""/>
            <p:cNvSpPr/>
            <p:nvPr/>
          </p:nvSpPr>
          <p:spPr>
            <a:xfrm>
              <a:off x="3338640" y="54403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063960" y="5924520"/>
              <a:ext cx="1058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QL Ser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639800" y="2598840"/>
              <a:ext cx="1611360" cy="209232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4603320" y="1463760"/>
            <a:ext cx="4359240" cy="2852640"/>
            <a:chOff x="4603320" y="1463760"/>
            <a:chExt cx="4359240" cy="2852640"/>
          </a:xfrm>
        </p:grpSpPr>
        <p:pic>
          <p:nvPicPr>
            <p:cNvPr id="850" name="" descr=""/>
            <p:cNvPicPr/>
            <p:nvPr/>
          </p:nvPicPr>
          <p:blipFill>
            <a:blip r:embed="rId3"/>
            <a:stretch/>
          </p:blipFill>
          <p:spPr>
            <a:xfrm>
              <a:off x="8098200" y="1463760"/>
              <a:ext cx="864360" cy="6811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851" name=""/>
            <p:cNvGraphicFramePr/>
            <p:nvPr/>
          </p:nvGraphicFramePr>
          <p:xfrm>
            <a:off x="6356520" y="1463760"/>
            <a:ext cx="1658880" cy="1714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5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356520" y="1463760"/>
                      <a:ext cx="1658880" cy="171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53" name=""/>
            <p:cNvGrpSpPr/>
            <p:nvPr/>
          </p:nvGrpSpPr>
          <p:grpSpPr>
            <a:xfrm>
              <a:off x="5297400" y="2238480"/>
              <a:ext cx="691920" cy="750600"/>
              <a:chOff x="5297400" y="2238480"/>
              <a:chExt cx="691920" cy="750600"/>
            </a:xfrm>
          </p:grpSpPr>
          <p:sp>
            <p:nvSpPr>
              <p:cNvPr id="854" name=""/>
              <p:cNvSpPr/>
              <p:nvPr/>
            </p:nvSpPr>
            <p:spPr>
              <a:xfrm>
                <a:off x="5537520" y="2262240"/>
                <a:ext cx="300600" cy="72684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554800" y="2644920"/>
                <a:ext cx="267120" cy="30924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554800" y="2395440"/>
                <a:ext cx="254520" cy="20808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297400" y="2239920"/>
                <a:ext cx="540720" cy="3024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297400" y="2239920"/>
                <a:ext cx="241560" cy="74916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510520" y="2265480"/>
                <a:ext cx="28440" cy="72360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554800" y="2394000"/>
                <a:ext cx="267120" cy="21744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554800" y="2354400"/>
                <a:ext cx="267120" cy="4284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554800" y="2289240"/>
                <a:ext cx="267120" cy="3636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297400" y="2238480"/>
                <a:ext cx="540720" cy="3168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535720" y="2262240"/>
                <a:ext cx="302400" cy="72684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297400" y="2239920"/>
                <a:ext cx="240120" cy="74916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510520" y="2266920"/>
                <a:ext cx="0" cy="70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510520" y="2276280"/>
                <a:ext cx="32760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510520" y="2328840"/>
                <a:ext cx="32760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554800" y="2289240"/>
                <a:ext cx="267120" cy="3636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510520" y="2344680"/>
                <a:ext cx="32760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510520" y="2394000"/>
                <a:ext cx="32760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510520" y="2592360"/>
                <a:ext cx="32760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554800" y="2405160"/>
                <a:ext cx="0" cy="20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820840" y="2395440"/>
                <a:ext cx="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554800" y="2395440"/>
                <a:ext cx="254520" cy="20628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807880" y="2587680"/>
                <a:ext cx="1296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H="1">
                <a:off x="5554800" y="2460600"/>
                <a:ext cx="25272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>
                <a:off x="5554800" y="2527200"/>
                <a:ext cx="25272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510520" y="2644920"/>
                <a:ext cx="32760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510520" y="2924280"/>
                <a:ext cx="327600" cy="3312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554800" y="266076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820840" y="2644920"/>
                <a:ext cx="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554800" y="2905200"/>
                <a:ext cx="267120" cy="3312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554800" y="2892240"/>
                <a:ext cx="26712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554800" y="2881440"/>
                <a:ext cx="267120" cy="3168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554800" y="2868480"/>
                <a:ext cx="267120" cy="2880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554800" y="2854440"/>
                <a:ext cx="267120" cy="2988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554800" y="2290680"/>
                <a:ext cx="254520" cy="3348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807880" y="2314440"/>
                <a:ext cx="12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617080" y="2354400"/>
                <a:ext cx="143280" cy="4284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554800" y="2354400"/>
                <a:ext cx="267120" cy="3780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554800" y="2371680"/>
                <a:ext cx="205200" cy="2700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5758920" y="2374920"/>
                <a:ext cx="619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758920" y="2354400"/>
                <a:ext cx="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567760" y="230652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604480" y="2305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640840" y="2305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679000" y="2305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717520" y="2303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752440" y="2300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790600" y="2300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795280" y="2395440"/>
                <a:ext cx="27000" cy="19368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836680" y="2886120"/>
                <a:ext cx="152640" cy="7128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04" name=""/>
            <p:cNvSpPr/>
            <p:nvPr/>
          </p:nvSpPr>
          <p:spPr>
            <a:xfrm>
              <a:off x="5587560" y="30481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382000" y="3429000"/>
              <a:ext cx="96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806800" y="3429000"/>
              <a:ext cx="0" cy="88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238720" y="1463760"/>
              <a:ext cx="1391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Távoli eléré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5877000" y="1940040"/>
              <a:ext cx="2335680" cy="517320"/>
            </a:xfrm>
            <a:prstGeom prst="line">
              <a:avLst/>
            </a:prstGeom>
            <a:ln w="38160">
              <a:solidFill>
                <a:srgbClr val="00cc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4603320" y="2751120"/>
              <a:ext cx="684360" cy="3412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572880" y="1940040"/>
              <a:ext cx="131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Arial"/>
                </a:rPr>
                <a:t>Nyilvános hálóza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0" y="2590920"/>
            <a:ext cx="2128680" cy="1704960"/>
            <a:chOff x="0" y="2590920"/>
            <a:chExt cx="2128680" cy="1704960"/>
          </a:xfrm>
        </p:grpSpPr>
        <p:grpSp>
          <p:nvGrpSpPr>
            <p:cNvPr id="912" name=""/>
            <p:cNvGrpSpPr/>
            <p:nvPr/>
          </p:nvGrpSpPr>
          <p:grpSpPr>
            <a:xfrm>
              <a:off x="804960" y="3195720"/>
              <a:ext cx="690480" cy="750600"/>
              <a:chOff x="804960" y="3195720"/>
              <a:chExt cx="690480" cy="750600"/>
            </a:xfrm>
          </p:grpSpPr>
          <p:sp>
            <p:nvSpPr>
              <p:cNvPr id="913" name=""/>
              <p:cNvSpPr/>
              <p:nvPr/>
            </p:nvSpPr>
            <p:spPr>
              <a:xfrm>
                <a:off x="1044720" y="3219480"/>
                <a:ext cx="299880" cy="72684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1062000" y="3602160"/>
                <a:ext cx="266760" cy="30924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062000" y="3352680"/>
                <a:ext cx="254160" cy="20808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804960" y="3197160"/>
                <a:ext cx="539640" cy="3024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804960" y="3197160"/>
                <a:ext cx="241200" cy="74916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1017720" y="3222720"/>
                <a:ext cx="28440" cy="72360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062000" y="3351240"/>
                <a:ext cx="266760" cy="21744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062000" y="3311640"/>
                <a:ext cx="266760" cy="4284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062000" y="3246480"/>
                <a:ext cx="266760" cy="3636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804960" y="3195720"/>
                <a:ext cx="539640" cy="3168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042920" y="3219480"/>
                <a:ext cx="301680" cy="72684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804960" y="3197160"/>
                <a:ext cx="239760" cy="74916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017720" y="3224160"/>
                <a:ext cx="0" cy="70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017720" y="323352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017720" y="328608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1062000" y="3246480"/>
                <a:ext cx="266760" cy="3636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1017720" y="330192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017720" y="335124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017720" y="354960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1062000" y="3362400"/>
                <a:ext cx="0" cy="20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327320" y="3352680"/>
                <a:ext cx="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062000" y="3352680"/>
                <a:ext cx="254160" cy="20628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314360" y="3544920"/>
                <a:ext cx="1296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>
                <a:off x="1061640" y="3417840"/>
                <a:ext cx="252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H="1">
                <a:off x="1061640" y="3484440"/>
                <a:ext cx="25236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1017720" y="360216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1017720" y="3881520"/>
                <a:ext cx="326880" cy="3312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1062000" y="361800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327320" y="3602160"/>
                <a:ext cx="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062000" y="3862440"/>
                <a:ext cx="266760" cy="3312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062000" y="384948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062000" y="3838680"/>
                <a:ext cx="266760" cy="3168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062000" y="3825720"/>
                <a:ext cx="266760" cy="2880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062000" y="3811680"/>
                <a:ext cx="266760" cy="2988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062000" y="3247920"/>
                <a:ext cx="254160" cy="3348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314360" y="3271680"/>
                <a:ext cx="12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123920" y="3311640"/>
                <a:ext cx="142920" cy="4284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062000" y="3311640"/>
                <a:ext cx="266760" cy="3780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1062000" y="3328920"/>
                <a:ext cx="204840" cy="2700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H="1">
                <a:off x="1265400" y="3332160"/>
                <a:ext cx="619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1265400" y="3311640"/>
                <a:ext cx="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1074960" y="32637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1111320" y="32623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1147680" y="32623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185840" y="32623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1224000" y="3260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258920" y="3257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297080" y="3257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1301760" y="3352680"/>
                <a:ext cx="27000" cy="19368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343160" y="3843360"/>
                <a:ext cx="152280" cy="7128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3" name=""/>
            <p:cNvSpPr/>
            <p:nvPr/>
          </p:nvSpPr>
          <p:spPr>
            <a:xfrm>
              <a:off x="1143000" y="3956400"/>
              <a:ext cx="0" cy="30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0" y="3124440"/>
              <a:ext cx="163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eea564"/>
                  </a:solidFill>
                  <a:latin typeface="Arial"/>
                </a:rPr>
                <a:t>Alkalmazá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1099800" y="2590920"/>
              <a:ext cx="227160" cy="582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011240" y="4295880"/>
              <a:ext cx="1117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8102520" y="42782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970760" y="4618080"/>
            <a:ext cx="1117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697040" y="546264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152280" y="2651040"/>
            <a:ext cx="2032200" cy="3846240"/>
            <a:chOff x="152280" y="2651040"/>
            <a:chExt cx="2032200" cy="3846240"/>
          </a:xfrm>
        </p:grpSpPr>
        <p:sp>
          <p:nvSpPr>
            <p:cNvPr id="971" name=""/>
            <p:cNvSpPr/>
            <p:nvPr/>
          </p:nvSpPr>
          <p:spPr>
            <a:xfrm>
              <a:off x="985680" y="5916600"/>
              <a:ext cx="1198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NA Ser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1312920" y="4703760"/>
              <a:ext cx="690480" cy="750600"/>
              <a:chOff x="1312920" y="4703760"/>
              <a:chExt cx="690480" cy="750600"/>
            </a:xfrm>
          </p:grpSpPr>
          <p:sp>
            <p:nvSpPr>
              <p:cNvPr id="973" name=""/>
              <p:cNvSpPr/>
              <p:nvPr/>
            </p:nvSpPr>
            <p:spPr>
              <a:xfrm>
                <a:off x="1552680" y="4727520"/>
                <a:ext cx="299880" cy="72684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569960" y="5110200"/>
                <a:ext cx="266760" cy="30924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1569960" y="4860720"/>
                <a:ext cx="254160" cy="20808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1312920" y="4705200"/>
                <a:ext cx="539640" cy="3024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1312920" y="4705200"/>
                <a:ext cx="241200" cy="74916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525680" y="4730760"/>
                <a:ext cx="28440" cy="72360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569960" y="4859280"/>
                <a:ext cx="266760" cy="21744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569960" y="4819680"/>
                <a:ext cx="266760" cy="4284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569960" y="4754520"/>
                <a:ext cx="266760" cy="3636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312920" y="4703760"/>
                <a:ext cx="539640" cy="3168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550880" y="4727520"/>
                <a:ext cx="301680" cy="72684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312920" y="4705200"/>
                <a:ext cx="239760" cy="74916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525680" y="4732200"/>
                <a:ext cx="0" cy="70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525680" y="474156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525680" y="479412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569960" y="4754520"/>
                <a:ext cx="266760" cy="3636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525680" y="480996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525680" y="485928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525680" y="505764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569960" y="4870440"/>
                <a:ext cx="0" cy="20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835280" y="4860720"/>
                <a:ext cx="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569960" y="4860720"/>
                <a:ext cx="254160" cy="20628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822320" y="5052960"/>
                <a:ext cx="1296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>
                <a:off x="1569600" y="4925880"/>
                <a:ext cx="252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H="1">
                <a:off x="1569600" y="4992480"/>
                <a:ext cx="25236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525680" y="511020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525680" y="5389560"/>
                <a:ext cx="326880" cy="3312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569960" y="51260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835280" y="5110200"/>
                <a:ext cx="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569960" y="5370480"/>
                <a:ext cx="266760" cy="3312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569960" y="535752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569960" y="5346720"/>
                <a:ext cx="266760" cy="3168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569960" y="5333760"/>
                <a:ext cx="266760" cy="2880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1569960" y="5319720"/>
                <a:ext cx="266760" cy="2988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1569960" y="4755960"/>
                <a:ext cx="254160" cy="3348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822320" y="4779720"/>
                <a:ext cx="12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631880" y="4819680"/>
                <a:ext cx="142920" cy="4284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569960" y="4819680"/>
                <a:ext cx="266760" cy="3780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569960" y="4836960"/>
                <a:ext cx="204840" cy="2700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>
                <a:off x="1773360" y="4840200"/>
                <a:ext cx="619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1773360" y="4819680"/>
                <a:ext cx="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1582920" y="47718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619280" y="4770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655640" y="4770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693800" y="4770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731960" y="4768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1766880" y="4765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805040" y="4765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1809720" y="4860720"/>
                <a:ext cx="27000" cy="19368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1851120" y="5351400"/>
                <a:ext cx="152280" cy="7128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23" name=""/>
            <p:cNvSpPr/>
            <p:nvPr/>
          </p:nvSpPr>
          <p:spPr>
            <a:xfrm flipH="1">
              <a:off x="632880" y="5003640"/>
              <a:ext cx="659160" cy="0"/>
            </a:xfrm>
            <a:prstGeom prst="line">
              <a:avLst/>
            </a:prstGeom>
            <a:ln w="38160">
              <a:solidFill>
                <a:srgbClr val="eea56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503360" y="2651040"/>
              <a:ext cx="0" cy="2057400"/>
            </a:xfrm>
            <a:prstGeom prst="line">
              <a:avLst/>
            </a:prstGeom>
            <a:ln w="38160">
              <a:solidFill>
                <a:srgbClr val="eea5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25" name="" descr=""/>
            <p:cNvPicPr/>
            <p:nvPr/>
          </p:nvPicPr>
          <p:blipFill>
            <a:blip r:embed="rId6"/>
            <a:stretch/>
          </p:blipFill>
          <p:spPr>
            <a:xfrm>
              <a:off x="152280" y="5280120"/>
              <a:ext cx="858960" cy="83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6" name=""/>
            <p:cNvSpPr/>
            <p:nvPr/>
          </p:nvSpPr>
          <p:spPr>
            <a:xfrm>
              <a:off x="611280" y="5027760"/>
              <a:ext cx="11160" cy="223560"/>
            </a:xfrm>
            <a:prstGeom prst="line">
              <a:avLst/>
            </a:prstGeom>
            <a:ln w="28440">
              <a:solidFill>
                <a:srgbClr val="eea5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079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Integrált, egyszeri azonosítás</a:t>
            </a:r>
            <a:br>
              <a:rPr sz="4400"/>
            </a:b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Single sign-on (SSO)</a:t>
            </a:r>
            <a:endParaRPr b="1" lang="en-US" sz="2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1028" name=""/>
          <p:cNvGrpSpPr/>
          <p:nvPr/>
        </p:nvGrpSpPr>
        <p:grpSpPr>
          <a:xfrm>
            <a:off x="1327320" y="2570040"/>
            <a:ext cx="7816680" cy="3933720"/>
            <a:chOff x="1327320" y="2570040"/>
            <a:chExt cx="7816680" cy="3933720"/>
          </a:xfrm>
        </p:grpSpPr>
        <p:grpSp>
          <p:nvGrpSpPr>
            <p:cNvPr id="1029" name=""/>
            <p:cNvGrpSpPr/>
            <p:nvPr/>
          </p:nvGrpSpPr>
          <p:grpSpPr>
            <a:xfrm>
              <a:off x="1620720" y="2570040"/>
              <a:ext cx="6556320" cy="3933720"/>
              <a:chOff x="1620720" y="2570040"/>
              <a:chExt cx="6556320" cy="3933720"/>
            </a:xfrm>
          </p:grpSpPr>
          <p:graphicFrame>
            <p:nvGraphicFramePr>
              <p:cNvPr id="1030" name=""/>
              <p:cNvGraphicFramePr/>
              <p:nvPr/>
            </p:nvGraphicFramePr>
            <p:xfrm>
              <a:off x="6523200" y="4222800"/>
              <a:ext cx="1653840" cy="17143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031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523200" y="4222800"/>
                        <a:ext cx="1653840" cy="1714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1032" name=""/>
              <p:cNvGrpSpPr/>
              <p:nvPr/>
            </p:nvGrpSpPr>
            <p:grpSpPr>
              <a:xfrm>
                <a:off x="4325760" y="4683240"/>
                <a:ext cx="690480" cy="750600"/>
                <a:chOff x="4325760" y="4683240"/>
                <a:chExt cx="690480" cy="75060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4565520" y="4707000"/>
                  <a:ext cx="299880" cy="726840"/>
                </a:xfrm>
                <a:custGeom>
                  <a:avLst/>
                  <a:gdLst/>
                  <a:ahLst/>
                  <a:rect l="l" t="t" r="r" b="b"/>
                  <a:pathLst>
                    <a:path w="189" h="458">
                      <a:moveTo>
                        <a:pt x="188" y="0"/>
                      </a:moveTo>
                      <a:lnTo>
                        <a:pt x="0" y="5"/>
                      </a:lnTo>
                      <a:lnTo>
                        <a:pt x="0" y="457"/>
                      </a:lnTo>
                      <a:lnTo>
                        <a:pt x="188" y="437"/>
                      </a:lnTo>
                      <a:lnTo>
                        <a:pt x="188" y="0"/>
                      </a:lnTo>
                    </a:path>
                  </a:pathLst>
                </a:custGeom>
                <a:solidFill>
                  <a:srgbClr val="b5b5b5"/>
                </a:solidFill>
                <a:ln cap="rnd" w="12600">
                  <a:solidFill>
                    <a:srgbClr val="b5b5b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4582800" y="5089680"/>
                  <a:ext cx="266760" cy="309240"/>
                </a:xfrm>
                <a:custGeom>
                  <a:avLst/>
                  <a:gdLst/>
                  <a:ahLst/>
                  <a:rect l="l" t="t" r="r" b="b"/>
                  <a:pathLst>
                    <a:path w="168" h="195">
                      <a:moveTo>
                        <a:pt x="0" y="11"/>
                      </a:moveTo>
                      <a:lnTo>
                        <a:pt x="167" y="0"/>
                      </a:lnTo>
                      <a:lnTo>
                        <a:pt x="167" y="177"/>
                      </a:lnTo>
                      <a:lnTo>
                        <a:pt x="0" y="194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4582800" y="4840200"/>
                  <a:ext cx="254160" cy="208080"/>
                </a:xfrm>
                <a:custGeom>
                  <a:avLst/>
                  <a:gdLst/>
                  <a:ahLst/>
                  <a:rect l="l" t="t" r="r" b="b"/>
                  <a:pathLst>
                    <a:path w="160" h="131">
                      <a:moveTo>
                        <a:pt x="0" y="6"/>
                      </a:moveTo>
                      <a:lnTo>
                        <a:pt x="159" y="0"/>
                      </a:lnTo>
                      <a:lnTo>
                        <a:pt x="159" y="121"/>
                      </a:lnTo>
                      <a:lnTo>
                        <a:pt x="0" y="13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325760" y="4684680"/>
                  <a:ext cx="539640" cy="30240"/>
                </a:xfrm>
                <a:custGeom>
                  <a:avLst/>
                  <a:gdLst/>
                  <a:ahLst/>
                  <a:rect l="l" t="t" r="r" b="b"/>
                  <a:pathLst>
                    <a:path w="340" h="19">
                      <a:moveTo>
                        <a:pt x="0" y="1"/>
                      </a:moveTo>
                      <a:lnTo>
                        <a:pt x="151" y="18"/>
                      </a:lnTo>
                      <a:lnTo>
                        <a:pt x="339" y="14"/>
                      </a:lnTo>
                      <a:lnTo>
                        <a:pt x="181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4325760" y="4684680"/>
                  <a:ext cx="241200" cy="749160"/>
                </a:xfrm>
                <a:custGeom>
                  <a:avLst/>
                  <a:gdLst/>
                  <a:ahLst/>
                  <a:rect l="l" t="t" r="r" b="b"/>
                  <a:pathLst>
                    <a:path w="152" h="472">
                      <a:moveTo>
                        <a:pt x="151" y="471"/>
                      </a:moveTo>
                      <a:lnTo>
                        <a:pt x="0" y="358"/>
                      </a:lnTo>
                      <a:lnTo>
                        <a:pt x="0" y="0"/>
                      </a:lnTo>
                      <a:lnTo>
                        <a:pt x="151" y="18"/>
                      </a:lnTo>
                      <a:lnTo>
                        <a:pt x="151" y="471"/>
                      </a:lnTo>
                    </a:path>
                  </a:pathLst>
                </a:custGeom>
                <a:solidFill>
                  <a:srgbClr val="b5b5b5"/>
                </a:solidFill>
                <a:ln cap="rnd" w="12600">
                  <a:solidFill>
                    <a:srgbClr val="b5b5b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4538520" y="4710240"/>
                  <a:ext cx="28440" cy="723600"/>
                </a:xfrm>
                <a:custGeom>
                  <a:avLst/>
                  <a:gdLst/>
                  <a:ahLst/>
                  <a:rect l="l" t="t" r="r" b="b"/>
                  <a:pathLst>
                    <a:path w="18" h="456">
                      <a:moveTo>
                        <a:pt x="17" y="2"/>
                      </a:moveTo>
                      <a:lnTo>
                        <a:pt x="0" y="0"/>
                      </a:lnTo>
                      <a:lnTo>
                        <a:pt x="0" y="443"/>
                      </a:lnTo>
                      <a:lnTo>
                        <a:pt x="17" y="455"/>
                      </a:lnTo>
                      <a:lnTo>
                        <a:pt x="17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4582800" y="4838760"/>
                  <a:ext cx="266760" cy="217440"/>
                </a:xfrm>
                <a:custGeom>
                  <a:avLst/>
                  <a:gdLst/>
                  <a:ahLst/>
                  <a:rect l="l" t="t" r="r" b="b"/>
                  <a:pathLst>
                    <a:path w="168" h="137">
                      <a:moveTo>
                        <a:pt x="167" y="0"/>
                      </a:moveTo>
                      <a:lnTo>
                        <a:pt x="167" y="125"/>
                      </a:lnTo>
                      <a:lnTo>
                        <a:pt x="0" y="136"/>
                      </a:lnTo>
                      <a:lnTo>
                        <a:pt x="0" y="130"/>
                      </a:lnTo>
                      <a:lnTo>
                        <a:pt x="159" y="122"/>
                      </a:lnTo>
                      <a:lnTo>
                        <a:pt x="159" y="1"/>
                      </a:lnTo>
                      <a:lnTo>
                        <a:pt x="16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4582800" y="4799160"/>
                  <a:ext cx="266760" cy="42840"/>
                </a:xfrm>
                <a:custGeom>
                  <a:avLst/>
                  <a:gdLst/>
                  <a:ahLst/>
                  <a:rect l="l" t="t" r="r" b="b"/>
                  <a:pathLst>
                    <a:path w="168" h="27">
                      <a:moveTo>
                        <a:pt x="0" y="15"/>
                      </a:moveTo>
                      <a:lnTo>
                        <a:pt x="0" y="19"/>
                      </a:lnTo>
                      <a:lnTo>
                        <a:pt x="39" y="18"/>
                      </a:lnTo>
                      <a:lnTo>
                        <a:pt x="39" y="26"/>
                      </a:lnTo>
                      <a:lnTo>
                        <a:pt x="128" y="23"/>
                      </a:lnTo>
                      <a:lnTo>
                        <a:pt x="128" y="16"/>
                      </a:lnTo>
                      <a:lnTo>
                        <a:pt x="167" y="14"/>
                      </a:lnTo>
                      <a:lnTo>
                        <a:pt x="167" y="8"/>
                      </a:lnTo>
                      <a:lnTo>
                        <a:pt x="128" y="10"/>
                      </a:lnTo>
                      <a:lnTo>
                        <a:pt x="128" y="0"/>
                      </a:lnTo>
                      <a:lnTo>
                        <a:pt x="111" y="1"/>
                      </a:lnTo>
                      <a:lnTo>
                        <a:pt x="32" y="1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582800" y="4734000"/>
                  <a:ext cx="266760" cy="36360"/>
                </a:xfrm>
                <a:custGeom>
                  <a:avLst/>
                  <a:gdLst/>
                  <a:ahLst/>
                  <a:rect l="l" t="t" r="r" b="b"/>
                  <a:pathLst>
                    <a:path w="168" h="23">
                      <a:moveTo>
                        <a:pt x="167" y="0"/>
                      </a:moveTo>
                      <a:lnTo>
                        <a:pt x="167" y="17"/>
                      </a:lnTo>
                      <a:lnTo>
                        <a:pt x="0" y="22"/>
                      </a:lnTo>
                      <a:lnTo>
                        <a:pt x="0" y="19"/>
                      </a:lnTo>
                      <a:lnTo>
                        <a:pt x="158" y="1"/>
                      </a:lnTo>
                      <a:lnTo>
                        <a:pt x="16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4325760" y="4683240"/>
                  <a:ext cx="539640" cy="31680"/>
                </a:xfrm>
                <a:custGeom>
                  <a:avLst/>
                  <a:gdLst/>
                  <a:ahLst/>
                  <a:rect l="l" t="t" r="r" b="b"/>
                  <a:pathLst>
                    <a:path w="340" h="20">
                      <a:moveTo>
                        <a:pt x="0" y="2"/>
                      </a:moveTo>
                      <a:lnTo>
                        <a:pt x="151" y="19"/>
                      </a:lnTo>
                      <a:lnTo>
                        <a:pt x="339" y="14"/>
                      </a:lnTo>
                      <a:lnTo>
                        <a:pt x="181" y="0"/>
                      </a:lnTo>
                      <a:lnTo>
                        <a:pt x="0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4563720" y="4707000"/>
                  <a:ext cx="301680" cy="726840"/>
                </a:xfrm>
                <a:custGeom>
                  <a:avLst/>
                  <a:gdLst/>
                  <a:ahLst/>
                  <a:rect l="l" t="t" r="r" b="b"/>
                  <a:pathLst>
                    <a:path w="190" h="458">
                      <a:moveTo>
                        <a:pt x="0" y="5"/>
                      </a:moveTo>
                      <a:lnTo>
                        <a:pt x="0" y="457"/>
                      </a:lnTo>
                      <a:lnTo>
                        <a:pt x="189" y="437"/>
                      </a:lnTo>
                      <a:lnTo>
                        <a:pt x="189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4325760" y="4684680"/>
                  <a:ext cx="239760" cy="749160"/>
                </a:xfrm>
                <a:custGeom>
                  <a:avLst/>
                  <a:gdLst/>
                  <a:ahLst/>
                  <a:rect l="l" t="t" r="r" b="b"/>
                  <a:pathLst>
                    <a:path w="151" h="472">
                      <a:moveTo>
                        <a:pt x="0" y="0"/>
                      </a:moveTo>
                      <a:lnTo>
                        <a:pt x="0" y="358"/>
                      </a:lnTo>
                      <a:lnTo>
                        <a:pt x="150" y="471"/>
                      </a:lnTo>
                      <a:lnTo>
                        <a:pt x="150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4538520" y="4711680"/>
                  <a:ext cx="0" cy="70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538520" y="472104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0" y="9"/>
                      </a:moveTo>
                      <a:lnTo>
                        <a:pt x="16" y="16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4538520" y="477360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582800" y="4734000"/>
                  <a:ext cx="266760" cy="36360"/>
                </a:xfrm>
                <a:custGeom>
                  <a:avLst/>
                  <a:gdLst/>
                  <a:ahLst/>
                  <a:rect l="l" t="t" r="r" b="b"/>
                  <a:pathLst>
                    <a:path w="168" h="23">
                      <a:moveTo>
                        <a:pt x="0" y="5"/>
                      </a:moveTo>
                      <a:lnTo>
                        <a:pt x="0" y="22"/>
                      </a:lnTo>
                      <a:lnTo>
                        <a:pt x="167" y="17"/>
                      </a:lnTo>
                      <a:lnTo>
                        <a:pt x="167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4538520" y="478944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4538520" y="483876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4538520" y="503712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4582800" y="4849920"/>
                  <a:ext cx="0" cy="203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4848120" y="4840200"/>
                  <a:ext cx="0" cy="196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4582800" y="4840200"/>
                  <a:ext cx="254160" cy="206280"/>
                </a:xfrm>
                <a:custGeom>
                  <a:avLst/>
                  <a:gdLst/>
                  <a:ahLst/>
                  <a:rect l="l" t="t" r="r" b="b"/>
                  <a:pathLst>
                    <a:path w="160" h="130">
                      <a:moveTo>
                        <a:pt x="159" y="0"/>
                      </a:moveTo>
                      <a:lnTo>
                        <a:pt x="159" y="121"/>
                      </a:lnTo>
                      <a:lnTo>
                        <a:pt x="0" y="12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4835160" y="5032440"/>
                  <a:ext cx="1296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 flipH="1">
                  <a:off x="4582440" y="4905360"/>
                  <a:ext cx="252360" cy="1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 flipH="1">
                  <a:off x="4582440" y="4971960"/>
                  <a:ext cx="252360" cy="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4538520" y="5089680"/>
                  <a:ext cx="326880" cy="2664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0" y="3"/>
                      </a:moveTo>
                      <a:lnTo>
                        <a:pt x="16" y="16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4538520" y="5369040"/>
                  <a:ext cx="326880" cy="33120"/>
                </a:xfrm>
                <a:custGeom>
                  <a:avLst/>
                  <a:gdLst/>
                  <a:ahLst/>
                  <a:rect l="l" t="t" r="r" b="b"/>
                  <a:pathLst>
                    <a:path w="206" h="21">
                      <a:moveTo>
                        <a:pt x="0" y="7"/>
                      </a:moveTo>
                      <a:lnTo>
                        <a:pt x="16" y="20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4582800" y="510552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4848120" y="5089680"/>
                  <a:ext cx="0" cy="280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4582800" y="5349960"/>
                  <a:ext cx="266760" cy="33120"/>
                </a:xfrm>
                <a:custGeom>
                  <a:avLst/>
                  <a:gdLst/>
                  <a:ahLst/>
                  <a:rect l="l" t="t" r="r" b="b"/>
                  <a:pathLst>
                    <a:path w="168" h="21">
                      <a:moveTo>
                        <a:pt x="0" y="20"/>
                      </a:moveTo>
                      <a:lnTo>
                        <a:pt x="167" y="4"/>
                      </a:lnTo>
                      <a:lnTo>
                        <a:pt x="167" y="0"/>
                      </a:lnTo>
                      <a:lnTo>
                        <a:pt x="0" y="17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4582800" y="5337000"/>
                  <a:ext cx="266760" cy="33480"/>
                </a:xfrm>
                <a:custGeom>
                  <a:avLst/>
                  <a:gdLst/>
                  <a:ahLst/>
                  <a:rect l="l" t="t" r="r" b="b"/>
                  <a:pathLst>
                    <a:path w="168" h="21">
                      <a:moveTo>
                        <a:pt x="0" y="20"/>
                      </a:moveTo>
                      <a:lnTo>
                        <a:pt x="167" y="3"/>
                      </a:lnTo>
                      <a:lnTo>
                        <a:pt x="167" y="0"/>
                      </a:lnTo>
                      <a:lnTo>
                        <a:pt x="0" y="16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582800" y="5326200"/>
                  <a:ext cx="266760" cy="31680"/>
                </a:xfrm>
                <a:custGeom>
                  <a:avLst/>
                  <a:gdLst/>
                  <a:ahLst/>
                  <a:rect l="l" t="t" r="r" b="b"/>
                  <a:pathLst>
                    <a:path w="168" h="20">
                      <a:moveTo>
                        <a:pt x="167" y="3"/>
                      </a:moveTo>
                      <a:lnTo>
                        <a:pt x="0" y="19"/>
                      </a:lnTo>
                      <a:lnTo>
                        <a:pt x="0" y="15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4582800" y="5313240"/>
                  <a:ext cx="266760" cy="28800"/>
                </a:xfrm>
                <a:custGeom>
                  <a:avLst/>
                  <a:gdLst/>
                  <a:ahLst/>
                  <a:rect l="l" t="t" r="r" b="b"/>
                  <a:pathLst>
                    <a:path w="168" h="18">
                      <a:moveTo>
                        <a:pt x="167" y="3"/>
                      </a:move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4582800" y="5299200"/>
                  <a:ext cx="266760" cy="29880"/>
                </a:xfrm>
                <a:custGeom>
                  <a:avLst/>
                  <a:gdLst/>
                  <a:ahLst/>
                  <a:rect l="l" t="t" r="r" b="b"/>
                  <a:pathLst>
                    <a:path w="168" h="19">
                      <a:moveTo>
                        <a:pt x="167" y="3"/>
                      </a:move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4582800" y="4735440"/>
                  <a:ext cx="254160" cy="33480"/>
                </a:xfrm>
                <a:custGeom>
                  <a:avLst/>
                  <a:gdLst/>
                  <a:ahLst/>
                  <a:rect l="l" t="t" r="r" b="b"/>
                  <a:pathLst>
                    <a:path w="160" h="21">
                      <a:moveTo>
                        <a:pt x="159" y="0"/>
                      </a:moveTo>
                      <a:lnTo>
                        <a:pt x="159" y="15"/>
                      </a:lnTo>
                      <a:lnTo>
                        <a:pt x="0" y="20"/>
                      </a:lnTo>
                      <a:lnTo>
                        <a:pt x="1" y="5"/>
                      </a:lnTo>
                      <a:lnTo>
                        <a:pt x="159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4835160" y="4759200"/>
                  <a:ext cx="12960" cy="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4644720" y="4799160"/>
                  <a:ext cx="142920" cy="42840"/>
                </a:xfrm>
                <a:custGeom>
                  <a:avLst/>
                  <a:gdLst/>
                  <a:ahLst/>
                  <a:rect l="l" t="t" r="r" b="b"/>
                  <a:pathLst>
                    <a:path w="90" h="27">
                      <a:moveTo>
                        <a:pt x="0" y="26"/>
                      </a:moveTo>
                      <a:lnTo>
                        <a:pt x="0" y="3"/>
                      </a:lnTo>
                      <a:lnTo>
                        <a:pt x="89" y="0"/>
                      </a:lnTo>
                      <a:lnTo>
                        <a:pt x="89" y="23"/>
                      </a:lnTo>
                      <a:lnTo>
                        <a:pt x="0" y="26"/>
                      </a:lnTo>
                    </a:path>
                  </a:pathLst>
                </a:custGeom>
                <a:noFill/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4582800" y="4799160"/>
                  <a:ext cx="266760" cy="37800"/>
                </a:xfrm>
                <a:custGeom>
                  <a:avLst/>
                  <a:gdLst/>
                  <a:ahLst/>
                  <a:rect l="l" t="t" r="r" b="b"/>
                  <a:pathLst>
                    <a:path w="168" h="24">
                      <a:moveTo>
                        <a:pt x="113" y="8"/>
                      </a:moveTo>
                      <a:lnTo>
                        <a:pt x="167" y="6"/>
                      </a:lnTo>
                      <a:lnTo>
                        <a:pt x="167" y="14"/>
                      </a:lnTo>
                      <a:lnTo>
                        <a:pt x="159" y="13"/>
                      </a:lnTo>
                      <a:lnTo>
                        <a:pt x="113" y="14"/>
                      </a:lnTo>
                      <a:lnTo>
                        <a:pt x="113" y="20"/>
                      </a:lnTo>
                      <a:lnTo>
                        <a:pt x="39" y="23"/>
                      </a:lnTo>
                      <a:lnTo>
                        <a:pt x="39" y="18"/>
                      </a:lnTo>
                      <a:lnTo>
                        <a:pt x="32" y="17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39" y="10"/>
                      </a:lnTo>
                      <a:lnTo>
                        <a:pt x="39" y="3"/>
                      </a:lnTo>
                      <a:lnTo>
                        <a:pt x="128" y="0"/>
                      </a:lnTo>
                      <a:lnTo>
                        <a:pt x="113" y="8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4582800" y="4816440"/>
                  <a:ext cx="204840" cy="27000"/>
                </a:xfrm>
                <a:custGeom>
                  <a:avLst/>
                  <a:gdLst/>
                  <a:ahLst/>
                  <a:rect l="l" t="t" r="r" b="b"/>
                  <a:pathLst>
                    <a:path w="129" h="17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38" y="7"/>
                      </a:lnTo>
                      <a:lnTo>
                        <a:pt x="38" y="16"/>
                      </a:lnTo>
                      <a:lnTo>
                        <a:pt x="128" y="12"/>
                      </a:lnTo>
                      <a:lnTo>
                        <a:pt x="128" y="4"/>
                      </a:lnTo>
                      <a:lnTo>
                        <a:pt x="112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flipH="1">
                  <a:off x="4786200" y="4819680"/>
                  <a:ext cx="6192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4786200" y="4799160"/>
                  <a:ext cx="0" cy="10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4595760" y="4751280"/>
                  <a:ext cx="2664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0" y="3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0" y="9"/>
                      </a:lnTo>
                      <a:lnTo>
                        <a:pt x="2" y="12"/>
                      </a:lnTo>
                      <a:lnTo>
                        <a:pt x="5" y="12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2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4632120" y="47498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6" y="6"/>
                      </a:lnTo>
                      <a:lnTo>
                        <a:pt x="13" y="3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2" y="12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2"/>
                      </a:lnTo>
                      <a:lnTo>
                        <a:pt x="16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4668480" y="47498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0"/>
                      </a:moveTo>
                      <a:lnTo>
                        <a:pt x="16" y="5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6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4706640" y="47498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5"/>
                      </a:moveTo>
                      <a:lnTo>
                        <a:pt x="16" y="5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2" y="16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6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4744800" y="47480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8"/>
                      </a:move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2"/>
                      </a:lnTo>
                      <a:lnTo>
                        <a:pt x="16" y="8"/>
                      </a:lnTo>
                      <a:lnTo>
                        <a:pt x="16" y="8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4779720" y="47451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0" y="3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5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5" y="12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0" y="12"/>
                      </a:lnTo>
                      <a:lnTo>
                        <a:pt x="13" y="12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4817880" y="47451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8"/>
                      </a:moveTo>
                      <a:lnTo>
                        <a:pt x="16" y="8"/>
                      </a:lnTo>
                      <a:lnTo>
                        <a:pt x="16" y="4"/>
                      </a:lnTo>
                      <a:lnTo>
                        <a:pt x="12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3" y="4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6" y="16"/>
                      </a:lnTo>
                      <a:lnTo>
                        <a:pt x="16" y="12"/>
                      </a:lnTo>
                      <a:lnTo>
                        <a:pt x="16" y="8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4822560" y="4840200"/>
                  <a:ext cx="27000" cy="193680"/>
                </a:xfrm>
                <a:custGeom>
                  <a:avLst/>
                  <a:gdLst/>
                  <a:ahLst/>
                  <a:rect l="l" t="t" r="r" b="b"/>
                  <a:pathLst>
                    <a:path w="17" h="122">
                      <a:moveTo>
                        <a:pt x="0" y="0"/>
                      </a:moveTo>
                      <a:lnTo>
                        <a:pt x="0" y="42"/>
                      </a:lnTo>
                      <a:lnTo>
                        <a:pt x="12" y="42"/>
                      </a:lnTo>
                      <a:lnTo>
                        <a:pt x="0" y="47"/>
                      </a:lnTo>
                      <a:lnTo>
                        <a:pt x="0" y="84"/>
                      </a:lnTo>
                      <a:lnTo>
                        <a:pt x="12" y="84"/>
                      </a:lnTo>
                      <a:lnTo>
                        <a:pt x="0" y="89"/>
                      </a:lnTo>
                      <a:lnTo>
                        <a:pt x="0" y="121"/>
                      </a:lnTo>
                      <a:lnTo>
                        <a:pt x="16" y="121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863960" y="5330880"/>
                  <a:ext cx="152280" cy="71280"/>
                </a:xfrm>
                <a:custGeom>
                  <a:avLst/>
                  <a:gdLst/>
                  <a:ahLst/>
                  <a:rect l="l" t="t" r="r" b="b"/>
                  <a:pathLst>
                    <a:path w="96" h="45">
                      <a:moveTo>
                        <a:pt x="0" y="44"/>
                      </a:moveTo>
                      <a:lnTo>
                        <a:pt x="95" y="35"/>
                      </a:lnTo>
                      <a:lnTo>
                        <a:pt x="0" y="0"/>
                      </a:lnTo>
                      <a:lnTo>
                        <a:pt x="0" y="44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3" name=""/>
              <p:cNvSpPr/>
              <p:nvPr/>
            </p:nvSpPr>
            <p:spPr>
              <a:xfrm>
                <a:off x="4718160" y="545004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856120" y="5380200"/>
                <a:ext cx="0" cy="450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4017960" y="5923080"/>
                <a:ext cx="18813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Internet Informatio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334120" y="5924520"/>
                <a:ext cx="1071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roxy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87" name=""/>
              <p:cNvGrpSpPr/>
              <p:nvPr/>
            </p:nvGrpSpPr>
            <p:grpSpPr>
              <a:xfrm>
                <a:off x="5489640" y="4691160"/>
                <a:ext cx="690480" cy="750600"/>
                <a:chOff x="5489640" y="4691160"/>
                <a:chExt cx="690480" cy="750600"/>
              </a:xfrm>
            </p:grpSpPr>
            <p:sp>
              <p:nvSpPr>
                <p:cNvPr id="1088" name=""/>
                <p:cNvSpPr/>
                <p:nvPr/>
              </p:nvSpPr>
              <p:spPr>
                <a:xfrm>
                  <a:off x="5729400" y="4714920"/>
                  <a:ext cx="299880" cy="726840"/>
                </a:xfrm>
                <a:custGeom>
                  <a:avLst/>
                  <a:gdLst/>
                  <a:ahLst/>
                  <a:rect l="l" t="t" r="r" b="b"/>
                  <a:pathLst>
                    <a:path w="189" h="458">
                      <a:moveTo>
                        <a:pt x="188" y="0"/>
                      </a:moveTo>
                      <a:lnTo>
                        <a:pt x="0" y="5"/>
                      </a:lnTo>
                      <a:lnTo>
                        <a:pt x="0" y="457"/>
                      </a:lnTo>
                      <a:lnTo>
                        <a:pt x="188" y="437"/>
                      </a:lnTo>
                      <a:lnTo>
                        <a:pt x="188" y="0"/>
                      </a:lnTo>
                    </a:path>
                  </a:pathLst>
                </a:custGeom>
                <a:solidFill>
                  <a:srgbClr val="b5b5b5"/>
                </a:solidFill>
                <a:ln cap="rnd" w="12600">
                  <a:solidFill>
                    <a:srgbClr val="b5b5b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5746680" y="5097600"/>
                  <a:ext cx="266760" cy="309240"/>
                </a:xfrm>
                <a:custGeom>
                  <a:avLst/>
                  <a:gdLst/>
                  <a:ahLst/>
                  <a:rect l="l" t="t" r="r" b="b"/>
                  <a:pathLst>
                    <a:path w="168" h="195">
                      <a:moveTo>
                        <a:pt x="0" y="11"/>
                      </a:moveTo>
                      <a:lnTo>
                        <a:pt x="167" y="0"/>
                      </a:lnTo>
                      <a:lnTo>
                        <a:pt x="167" y="177"/>
                      </a:lnTo>
                      <a:lnTo>
                        <a:pt x="0" y="194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5746680" y="4848120"/>
                  <a:ext cx="254160" cy="208080"/>
                </a:xfrm>
                <a:custGeom>
                  <a:avLst/>
                  <a:gdLst/>
                  <a:ahLst/>
                  <a:rect l="l" t="t" r="r" b="b"/>
                  <a:pathLst>
                    <a:path w="160" h="131">
                      <a:moveTo>
                        <a:pt x="0" y="6"/>
                      </a:moveTo>
                      <a:lnTo>
                        <a:pt x="159" y="0"/>
                      </a:lnTo>
                      <a:lnTo>
                        <a:pt x="159" y="121"/>
                      </a:lnTo>
                      <a:lnTo>
                        <a:pt x="0" y="13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5489640" y="4692600"/>
                  <a:ext cx="539640" cy="30240"/>
                </a:xfrm>
                <a:custGeom>
                  <a:avLst/>
                  <a:gdLst/>
                  <a:ahLst/>
                  <a:rect l="l" t="t" r="r" b="b"/>
                  <a:pathLst>
                    <a:path w="340" h="19">
                      <a:moveTo>
                        <a:pt x="0" y="1"/>
                      </a:moveTo>
                      <a:lnTo>
                        <a:pt x="151" y="18"/>
                      </a:lnTo>
                      <a:lnTo>
                        <a:pt x="339" y="14"/>
                      </a:lnTo>
                      <a:lnTo>
                        <a:pt x="181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5489640" y="4692600"/>
                  <a:ext cx="241200" cy="749160"/>
                </a:xfrm>
                <a:custGeom>
                  <a:avLst/>
                  <a:gdLst/>
                  <a:ahLst/>
                  <a:rect l="l" t="t" r="r" b="b"/>
                  <a:pathLst>
                    <a:path w="152" h="472">
                      <a:moveTo>
                        <a:pt x="151" y="471"/>
                      </a:moveTo>
                      <a:lnTo>
                        <a:pt x="0" y="358"/>
                      </a:lnTo>
                      <a:lnTo>
                        <a:pt x="0" y="0"/>
                      </a:lnTo>
                      <a:lnTo>
                        <a:pt x="151" y="18"/>
                      </a:lnTo>
                      <a:lnTo>
                        <a:pt x="151" y="471"/>
                      </a:lnTo>
                    </a:path>
                  </a:pathLst>
                </a:custGeom>
                <a:solidFill>
                  <a:srgbClr val="b5b5b5"/>
                </a:solidFill>
                <a:ln cap="rnd" w="12600">
                  <a:solidFill>
                    <a:srgbClr val="b5b5b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5702400" y="4718160"/>
                  <a:ext cx="28440" cy="723600"/>
                </a:xfrm>
                <a:custGeom>
                  <a:avLst/>
                  <a:gdLst/>
                  <a:ahLst/>
                  <a:rect l="l" t="t" r="r" b="b"/>
                  <a:pathLst>
                    <a:path w="18" h="456">
                      <a:moveTo>
                        <a:pt x="17" y="2"/>
                      </a:moveTo>
                      <a:lnTo>
                        <a:pt x="0" y="0"/>
                      </a:lnTo>
                      <a:lnTo>
                        <a:pt x="0" y="443"/>
                      </a:lnTo>
                      <a:lnTo>
                        <a:pt x="17" y="455"/>
                      </a:lnTo>
                      <a:lnTo>
                        <a:pt x="17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5746680" y="4846680"/>
                  <a:ext cx="266760" cy="217440"/>
                </a:xfrm>
                <a:custGeom>
                  <a:avLst/>
                  <a:gdLst/>
                  <a:ahLst/>
                  <a:rect l="l" t="t" r="r" b="b"/>
                  <a:pathLst>
                    <a:path w="168" h="137">
                      <a:moveTo>
                        <a:pt x="167" y="0"/>
                      </a:moveTo>
                      <a:lnTo>
                        <a:pt x="167" y="125"/>
                      </a:lnTo>
                      <a:lnTo>
                        <a:pt x="0" y="136"/>
                      </a:lnTo>
                      <a:lnTo>
                        <a:pt x="0" y="130"/>
                      </a:lnTo>
                      <a:lnTo>
                        <a:pt x="159" y="122"/>
                      </a:lnTo>
                      <a:lnTo>
                        <a:pt x="159" y="1"/>
                      </a:lnTo>
                      <a:lnTo>
                        <a:pt x="16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5746680" y="4807080"/>
                  <a:ext cx="266760" cy="42840"/>
                </a:xfrm>
                <a:custGeom>
                  <a:avLst/>
                  <a:gdLst/>
                  <a:ahLst/>
                  <a:rect l="l" t="t" r="r" b="b"/>
                  <a:pathLst>
                    <a:path w="168" h="27">
                      <a:moveTo>
                        <a:pt x="0" y="15"/>
                      </a:moveTo>
                      <a:lnTo>
                        <a:pt x="0" y="19"/>
                      </a:lnTo>
                      <a:lnTo>
                        <a:pt x="39" y="18"/>
                      </a:lnTo>
                      <a:lnTo>
                        <a:pt x="39" y="26"/>
                      </a:lnTo>
                      <a:lnTo>
                        <a:pt x="128" y="23"/>
                      </a:lnTo>
                      <a:lnTo>
                        <a:pt x="128" y="16"/>
                      </a:lnTo>
                      <a:lnTo>
                        <a:pt x="167" y="14"/>
                      </a:lnTo>
                      <a:lnTo>
                        <a:pt x="167" y="8"/>
                      </a:lnTo>
                      <a:lnTo>
                        <a:pt x="128" y="10"/>
                      </a:lnTo>
                      <a:lnTo>
                        <a:pt x="128" y="0"/>
                      </a:lnTo>
                      <a:lnTo>
                        <a:pt x="111" y="1"/>
                      </a:lnTo>
                      <a:lnTo>
                        <a:pt x="32" y="1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5746680" y="4741920"/>
                  <a:ext cx="266760" cy="36360"/>
                </a:xfrm>
                <a:custGeom>
                  <a:avLst/>
                  <a:gdLst/>
                  <a:ahLst/>
                  <a:rect l="l" t="t" r="r" b="b"/>
                  <a:pathLst>
                    <a:path w="168" h="23">
                      <a:moveTo>
                        <a:pt x="167" y="0"/>
                      </a:moveTo>
                      <a:lnTo>
                        <a:pt x="167" y="17"/>
                      </a:lnTo>
                      <a:lnTo>
                        <a:pt x="0" y="22"/>
                      </a:lnTo>
                      <a:lnTo>
                        <a:pt x="0" y="19"/>
                      </a:lnTo>
                      <a:lnTo>
                        <a:pt x="158" y="1"/>
                      </a:lnTo>
                      <a:lnTo>
                        <a:pt x="16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5489640" y="4691160"/>
                  <a:ext cx="539640" cy="31680"/>
                </a:xfrm>
                <a:custGeom>
                  <a:avLst/>
                  <a:gdLst/>
                  <a:ahLst/>
                  <a:rect l="l" t="t" r="r" b="b"/>
                  <a:pathLst>
                    <a:path w="340" h="20">
                      <a:moveTo>
                        <a:pt x="0" y="2"/>
                      </a:moveTo>
                      <a:lnTo>
                        <a:pt x="151" y="19"/>
                      </a:lnTo>
                      <a:lnTo>
                        <a:pt x="339" y="14"/>
                      </a:lnTo>
                      <a:lnTo>
                        <a:pt x="181" y="0"/>
                      </a:lnTo>
                      <a:lnTo>
                        <a:pt x="0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5727600" y="4714920"/>
                  <a:ext cx="301680" cy="726840"/>
                </a:xfrm>
                <a:custGeom>
                  <a:avLst/>
                  <a:gdLst/>
                  <a:ahLst/>
                  <a:rect l="l" t="t" r="r" b="b"/>
                  <a:pathLst>
                    <a:path w="190" h="458">
                      <a:moveTo>
                        <a:pt x="0" y="5"/>
                      </a:moveTo>
                      <a:lnTo>
                        <a:pt x="0" y="457"/>
                      </a:lnTo>
                      <a:lnTo>
                        <a:pt x="189" y="437"/>
                      </a:lnTo>
                      <a:lnTo>
                        <a:pt x="189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5489640" y="4692600"/>
                  <a:ext cx="239760" cy="749160"/>
                </a:xfrm>
                <a:custGeom>
                  <a:avLst/>
                  <a:gdLst/>
                  <a:ahLst/>
                  <a:rect l="l" t="t" r="r" b="b"/>
                  <a:pathLst>
                    <a:path w="151" h="472">
                      <a:moveTo>
                        <a:pt x="0" y="0"/>
                      </a:moveTo>
                      <a:lnTo>
                        <a:pt x="0" y="358"/>
                      </a:lnTo>
                      <a:lnTo>
                        <a:pt x="150" y="471"/>
                      </a:lnTo>
                      <a:lnTo>
                        <a:pt x="150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5702400" y="4719600"/>
                  <a:ext cx="0" cy="70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5702400" y="472896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0" y="9"/>
                      </a:moveTo>
                      <a:lnTo>
                        <a:pt x="16" y="16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5702400" y="478152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5746680" y="4741920"/>
                  <a:ext cx="266760" cy="36360"/>
                </a:xfrm>
                <a:custGeom>
                  <a:avLst/>
                  <a:gdLst/>
                  <a:ahLst/>
                  <a:rect l="l" t="t" r="r" b="b"/>
                  <a:pathLst>
                    <a:path w="168" h="23">
                      <a:moveTo>
                        <a:pt x="0" y="5"/>
                      </a:moveTo>
                      <a:lnTo>
                        <a:pt x="0" y="22"/>
                      </a:lnTo>
                      <a:lnTo>
                        <a:pt x="167" y="17"/>
                      </a:lnTo>
                      <a:lnTo>
                        <a:pt x="167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5702400" y="479736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5702400" y="484668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5702400" y="504504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5746680" y="4857840"/>
                  <a:ext cx="0" cy="203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6012000" y="4848120"/>
                  <a:ext cx="0" cy="196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5746680" y="4848120"/>
                  <a:ext cx="254160" cy="206280"/>
                </a:xfrm>
                <a:custGeom>
                  <a:avLst/>
                  <a:gdLst/>
                  <a:ahLst/>
                  <a:rect l="l" t="t" r="r" b="b"/>
                  <a:pathLst>
                    <a:path w="160" h="130">
                      <a:moveTo>
                        <a:pt x="159" y="0"/>
                      </a:moveTo>
                      <a:lnTo>
                        <a:pt x="159" y="121"/>
                      </a:lnTo>
                      <a:lnTo>
                        <a:pt x="0" y="12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5999040" y="5040360"/>
                  <a:ext cx="1296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 flipH="1">
                  <a:off x="5746320" y="4913280"/>
                  <a:ext cx="252360" cy="1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 flipH="1">
                  <a:off x="5746320" y="4979880"/>
                  <a:ext cx="252360" cy="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5702400" y="5097600"/>
                  <a:ext cx="326880" cy="2664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0" y="3"/>
                      </a:moveTo>
                      <a:lnTo>
                        <a:pt x="16" y="16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5702400" y="5376960"/>
                  <a:ext cx="326880" cy="33120"/>
                </a:xfrm>
                <a:custGeom>
                  <a:avLst/>
                  <a:gdLst/>
                  <a:ahLst/>
                  <a:rect l="l" t="t" r="r" b="b"/>
                  <a:pathLst>
                    <a:path w="206" h="21">
                      <a:moveTo>
                        <a:pt x="0" y="7"/>
                      </a:moveTo>
                      <a:lnTo>
                        <a:pt x="16" y="20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5746680" y="511344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6012000" y="5097600"/>
                  <a:ext cx="0" cy="280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5746680" y="5357880"/>
                  <a:ext cx="266760" cy="33120"/>
                </a:xfrm>
                <a:custGeom>
                  <a:avLst/>
                  <a:gdLst/>
                  <a:ahLst/>
                  <a:rect l="l" t="t" r="r" b="b"/>
                  <a:pathLst>
                    <a:path w="168" h="21">
                      <a:moveTo>
                        <a:pt x="0" y="20"/>
                      </a:moveTo>
                      <a:lnTo>
                        <a:pt x="167" y="4"/>
                      </a:lnTo>
                      <a:lnTo>
                        <a:pt x="167" y="0"/>
                      </a:lnTo>
                      <a:lnTo>
                        <a:pt x="0" y="17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5746680" y="5344920"/>
                  <a:ext cx="266760" cy="33480"/>
                </a:xfrm>
                <a:custGeom>
                  <a:avLst/>
                  <a:gdLst/>
                  <a:ahLst/>
                  <a:rect l="l" t="t" r="r" b="b"/>
                  <a:pathLst>
                    <a:path w="168" h="21">
                      <a:moveTo>
                        <a:pt x="0" y="20"/>
                      </a:moveTo>
                      <a:lnTo>
                        <a:pt x="167" y="3"/>
                      </a:lnTo>
                      <a:lnTo>
                        <a:pt x="167" y="0"/>
                      </a:lnTo>
                      <a:lnTo>
                        <a:pt x="0" y="16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5746680" y="5334120"/>
                  <a:ext cx="266760" cy="31680"/>
                </a:xfrm>
                <a:custGeom>
                  <a:avLst/>
                  <a:gdLst/>
                  <a:ahLst/>
                  <a:rect l="l" t="t" r="r" b="b"/>
                  <a:pathLst>
                    <a:path w="168" h="20">
                      <a:moveTo>
                        <a:pt x="167" y="3"/>
                      </a:moveTo>
                      <a:lnTo>
                        <a:pt x="0" y="19"/>
                      </a:lnTo>
                      <a:lnTo>
                        <a:pt x="0" y="15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5746680" y="5321160"/>
                  <a:ext cx="266760" cy="28800"/>
                </a:xfrm>
                <a:custGeom>
                  <a:avLst/>
                  <a:gdLst/>
                  <a:ahLst/>
                  <a:rect l="l" t="t" r="r" b="b"/>
                  <a:pathLst>
                    <a:path w="168" h="18">
                      <a:moveTo>
                        <a:pt x="167" y="3"/>
                      </a:move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746680" y="5307120"/>
                  <a:ext cx="266760" cy="29880"/>
                </a:xfrm>
                <a:custGeom>
                  <a:avLst/>
                  <a:gdLst/>
                  <a:ahLst/>
                  <a:rect l="l" t="t" r="r" b="b"/>
                  <a:pathLst>
                    <a:path w="168" h="19">
                      <a:moveTo>
                        <a:pt x="167" y="3"/>
                      </a:move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5746680" y="4743360"/>
                  <a:ext cx="254160" cy="33480"/>
                </a:xfrm>
                <a:custGeom>
                  <a:avLst/>
                  <a:gdLst/>
                  <a:ahLst/>
                  <a:rect l="l" t="t" r="r" b="b"/>
                  <a:pathLst>
                    <a:path w="160" h="21">
                      <a:moveTo>
                        <a:pt x="159" y="0"/>
                      </a:moveTo>
                      <a:lnTo>
                        <a:pt x="159" y="15"/>
                      </a:lnTo>
                      <a:lnTo>
                        <a:pt x="0" y="20"/>
                      </a:lnTo>
                      <a:lnTo>
                        <a:pt x="1" y="5"/>
                      </a:lnTo>
                      <a:lnTo>
                        <a:pt x="159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5999040" y="4767120"/>
                  <a:ext cx="12960" cy="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5808600" y="4807080"/>
                  <a:ext cx="142920" cy="42840"/>
                </a:xfrm>
                <a:custGeom>
                  <a:avLst/>
                  <a:gdLst/>
                  <a:ahLst/>
                  <a:rect l="l" t="t" r="r" b="b"/>
                  <a:pathLst>
                    <a:path w="90" h="27">
                      <a:moveTo>
                        <a:pt x="0" y="26"/>
                      </a:moveTo>
                      <a:lnTo>
                        <a:pt x="0" y="3"/>
                      </a:lnTo>
                      <a:lnTo>
                        <a:pt x="89" y="0"/>
                      </a:lnTo>
                      <a:lnTo>
                        <a:pt x="89" y="23"/>
                      </a:lnTo>
                      <a:lnTo>
                        <a:pt x="0" y="26"/>
                      </a:lnTo>
                    </a:path>
                  </a:pathLst>
                </a:custGeom>
                <a:noFill/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5746680" y="4807080"/>
                  <a:ext cx="266760" cy="37800"/>
                </a:xfrm>
                <a:custGeom>
                  <a:avLst/>
                  <a:gdLst/>
                  <a:ahLst/>
                  <a:rect l="l" t="t" r="r" b="b"/>
                  <a:pathLst>
                    <a:path w="168" h="24">
                      <a:moveTo>
                        <a:pt x="113" y="8"/>
                      </a:moveTo>
                      <a:lnTo>
                        <a:pt x="167" y="6"/>
                      </a:lnTo>
                      <a:lnTo>
                        <a:pt x="167" y="14"/>
                      </a:lnTo>
                      <a:lnTo>
                        <a:pt x="159" y="13"/>
                      </a:lnTo>
                      <a:lnTo>
                        <a:pt x="113" y="14"/>
                      </a:lnTo>
                      <a:lnTo>
                        <a:pt x="113" y="20"/>
                      </a:lnTo>
                      <a:lnTo>
                        <a:pt x="39" y="23"/>
                      </a:lnTo>
                      <a:lnTo>
                        <a:pt x="39" y="18"/>
                      </a:lnTo>
                      <a:lnTo>
                        <a:pt x="32" y="17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39" y="10"/>
                      </a:lnTo>
                      <a:lnTo>
                        <a:pt x="39" y="3"/>
                      </a:lnTo>
                      <a:lnTo>
                        <a:pt x="128" y="0"/>
                      </a:lnTo>
                      <a:lnTo>
                        <a:pt x="113" y="8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5746680" y="4824360"/>
                  <a:ext cx="204840" cy="27000"/>
                </a:xfrm>
                <a:custGeom>
                  <a:avLst/>
                  <a:gdLst/>
                  <a:ahLst/>
                  <a:rect l="l" t="t" r="r" b="b"/>
                  <a:pathLst>
                    <a:path w="129" h="17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38" y="7"/>
                      </a:lnTo>
                      <a:lnTo>
                        <a:pt x="38" y="16"/>
                      </a:lnTo>
                      <a:lnTo>
                        <a:pt x="128" y="12"/>
                      </a:lnTo>
                      <a:lnTo>
                        <a:pt x="128" y="4"/>
                      </a:lnTo>
                      <a:lnTo>
                        <a:pt x="112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 flipH="1">
                  <a:off x="5950080" y="4827600"/>
                  <a:ext cx="6192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5950080" y="4807080"/>
                  <a:ext cx="0" cy="10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5759640" y="4759200"/>
                  <a:ext cx="2664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0" y="3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0" y="9"/>
                      </a:lnTo>
                      <a:lnTo>
                        <a:pt x="2" y="12"/>
                      </a:lnTo>
                      <a:lnTo>
                        <a:pt x="5" y="12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2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5796000" y="47577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6" y="6"/>
                      </a:lnTo>
                      <a:lnTo>
                        <a:pt x="13" y="3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2" y="12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2"/>
                      </a:lnTo>
                      <a:lnTo>
                        <a:pt x="16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5832360" y="47577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0"/>
                      </a:moveTo>
                      <a:lnTo>
                        <a:pt x="16" y="5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6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5870520" y="47577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5"/>
                      </a:moveTo>
                      <a:lnTo>
                        <a:pt x="16" y="5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2" y="16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6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5908680" y="4755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8"/>
                      </a:move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2"/>
                      </a:lnTo>
                      <a:lnTo>
                        <a:pt x="16" y="8"/>
                      </a:lnTo>
                      <a:lnTo>
                        <a:pt x="16" y="8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5943600" y="47530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0" y="3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5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5" y="12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0" y="12"/>
                      </a:lnTo>
                      <a:lnTo>
                        <a:pt x="13" y="12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5981760" y="47530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8"/>
                      </a:moveTo>
                      <a:lnTo>
                        <a:pt x="16" y="8"/>
                      </a:lnTo>
                      <a:lnTo>
                        <a:pt x="16" y="4"/>
                      </a:lnTo>
                      <a:lnTo>
                        <a:pt x="12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3" y="4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6" y="16"/>
                      </a:lnTo>
                      <a:lnTo>
                        <a:pt x="16" y="12"/>
                      </a:lnTo>
                      <a:lnTo>
                        <a:pt x="16" y="8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5986440" y="4848120"/>
                  <a:ext cx="27000" cy="193680"/>
                </a:xfrm>
                <a:custGeom>
                  <a:avLst/>
                  <a:gdLst/>
                  <a:ahLst/>
                  <a:rect l="l" t="t" r="r" b="b"/>
                  <a:pathLst>
                    <a:path w="17" h="122">
                      <a:moveTo>
                        <a:pt x="0" y="0"/>
                      </a:moveTo>
                      <a:lnTo>
                        <a:pt x="0" y="42"/>
                      </a:lnTo>
                      <a:lnTo>
                        <a:pt x="12" y="42"/>
                      </a:lnTo>
                      <a:lnTo>
                        <a:pt x="0" y="47"/>
                      </a:lnTo>
                      <a:lnTo>
                        <a:pt x="0" y="84"/>
                      </a:lnTo>
                      <a:lnTo>
                        <a:pt x="12" y="84"/>
                      </a:lnTo>
                      <a:lnTo>
                        <a:pt x="0" y="89"/>
                      </a:lnTo>
                      <a:lnTo>
                        <a:pt x="0" y="121"/>
                      </a:lnTo>
                      <a:lnTo>
                        <a:pt x="16" y="121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6027840" y="5338800"/>
                  <a:ext cx="152280" cy="71280"/>
                </a:xfrm>
                <a:custGeom>
                  <a:avLst/>
                  <a:gdLst/>
                  <a:ahLst/>
                  <a:rect l="l" t="t" r="r" b="b"/>
                  <a:pathLst>
                    <a:path w="96" h="45">
                      <a:moveTo>
                        <a:pt x="0" y="44"/>
                      </a:moveTo>
                      <a:lnTo>
                        <a:pt x="95" y="35"/>
                      </a:lnTo>
                      <a:lnTo>
                        <a:pt x="0" y="0"/>
                      </a:lnTo>
                      <a:lnTo>
                        <a:pt x="0" y="44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8" name=""/>
              <p:cNvSpPr/>
              <p:nvPr/>
            </p:nvSpPr>
            <p:spPr>
              <a:xfrm>
                <a:off x="1620720" y="2571840"/>
                <a:ext cx="2738520" cy="2104920"/>
              </a:xfrm>
              <a:prstGeom prst="line">
                <a:avLst/>
              </a:prstGeom>
              <a:ln w="38160">
                <a:solidFill>
                  <a:srgbClr val="eea564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1655640" y="2570040"/>
                <a:ext cx="3938760" cy="2117880"/>
              </a:xfrm>
              <a:prstGeom prst="line">
                <a:avLst/>
              </a:prstGeom>
              <a:ln w="38160">
                <a:solidFill>
                  <a:srgbClr val="eea564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066000" y="5072040"/>
                <a:ext cx="1268280" cy="0"/>
              </a:xfrm>
              <a:prstGeom prst="line">
                <a:avLst/>
              </a:prstGeom>
              <a:ln w="38160">
                <a:solidFill>
                  <a:srgbClr val="eea564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769080" y="4613400"/>
                <a:ext cx="1339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7764480" y="3517920"/>
              <a:ext cx="690480" cy="750600"/>
              <a:chOff x="7764480" y="3517920"/>
              <a:chExt cx="690480" cy="750600"/>
            </a:xfrm>
          </p:grpSpPr>
          <p:sp>
            <p:nvSpPr>
              <p:cNvPr id="1143" name=""/>
              <p:cNvSpPr/>
              <p:nvPr/>
            </p:nvSpPr>
            <p:spPr>
              <a:xfrm>
                <a:off x="8004240" y="3541680"/>
                <a:ext cx="299880" cy="72684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8021520" y="3924360"/>
                <a:ext cx="266760" cy="30924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8021520" y="3674880"/>
                <a:ext cx="254160" cy="20808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764480" y="3519360"/>
                <a:ext cx="539640" cy="3024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764480" y="3519360"/>
                <a:ext cx="241200" cy="74916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977240" y="3544920"/>
                <a:ext cx="28440" cy="72360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8021520" y="3673440"/>
                <a:ext cx="266760" cy="21744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8021520" y="3633840"/>
                <a:ext cx="266760" cy="4284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8021520" y="3568680"/>
                <a:ext cx="266760" cy="3636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764480" y="3517920"/>
                <a:ext cx="539640" cy="3168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8002440" y="3541680"/>
                <a:ext cx="301680" cy="72684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764480" y="3519360"/>
                <a:ext cx="239760" cy="74916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977240" y="3546360"/>
                <a:ext cx="0" cy="70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977240" y="355572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977240" y="360828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8021520" y="3568680"/>
                <a:ext cx="266760" cy="3636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977240" y="362412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977240" y="367344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977240" y="387180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8021520" y="3684600"/>
                <a:ext cx="0" cy="20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8286840" y="3674880"/>
                <a:ext cx="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8021520" y="3674880"/>
                <a:ext cx="254160" cy="20628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8273880" y="3867120"/>
                <a:ext cx="1296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H="1">
                <a:off x="8021160" y="3740040"/>
                <a:ext cx="252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H="1">
                <a:off x="8021160" y="3806640"/>
                <a:ext cx="25236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977240" y="392436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977240" y="4203720"/>
                <a:ext cx="326880" cy="3312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8021520" y="394020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8286840" y="3924360"/>
                <a:ext cx="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8021520" y="4184640"/>
                <a:ext cx="266760" cy="3312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8021520" y="417168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021520" y="4160880"/>
                <a:ext cx="266760" cy="3168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021520" y="4147920"/>
                <a:ext cx="266760" cy="2880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8021520" y="4133880"/>
                <a:ext cx="266760" cy="2988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8021520" y="3570120"/>
                <a:ext cx="254160" cy="3348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8273880" y="3593880"/>
                <a:ext cx="12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8083440" y="3633840"/>
                <a:ext cx="142920" cy="4284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8021520" y="3633840"/>
                <a:ext cx="266760" cy="3780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8021520" y="3651120"/>
                <a:ext cx="204840" cy="2700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H="1">
                <a:off x="8224920" y="3654360"/>
                <a:ext cx="619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8224920" y="3633840"/>
                <a:ext cx="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8034480" y="35859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8070840" y="3584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8107200" y="3584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8145360" y="3584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8183520" y="3582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8218440" y="3579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8256600" y="3579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8261280" y="3674880"/>
                <a:ext cx="27000" cy="19368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8302680" y="4165560"/>
                <a:ext cx="152280" cy="7128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93" name=""/>
            <p:cNvSpPr/>
            <p:nvPr/>
          </p:nvSpPr>
          <p:spPr>
            <a:xfrm>
              <a:off x="1327320" y="2602080"/>
              <a:ext cx="6379920" cy="13824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620120" y="31240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eea564"/>
                  </a:solidFill>
                  <a:latin typeface="Arial"/>
                </a:rPr>
                <a:t>Alkalmazá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Hitelesítési protokollo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5257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orábbról ismerjü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ndows NTLM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itelesít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ükség van rá vegyes környezetb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ure Sockets Layer (SSL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Web alapú alkalmazásokná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Windows 2000 újdonsá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rberos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lapértelmezés szerinti hitelesít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port Layer Security (TL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l. Smart Card bejelentkezés eseté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Kerberos v5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5086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losztott felhasználó </a:t>
            </a:r>
            <a:r>
              <a:rPr b="1" lang="hu-HU" sz="3200" spc="-1" strike="noStrike">
                <a:solidFill>
                  <a:srgbClr val="fccf00"/>
                </a:solidFill>
                <a:latin typeface="Arial"/>
              </a:rPr>
              <a:t>hitelesítési protokol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Időalapú </a:t>
            </a:r>
            <a:r>
              <a:rPr b="1" lang="hu-HU" sz="3200" spc="-1" strike="noStrike">
                <a:solidFill>
                  <a:srgbClr val="fccf00"/>
                </a:solidFill>
                <a:latin typeface="Arial"/>
              </a:rPr>
              <a:t>tikettekkel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dolgozi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Key Distribution Center (</a:t>
            </a:r>
            <a:r>
              <a:rPr b="1" lang="hu-HU" sz="3200" spc="-1" strike="noStrike">
                <a:solidFill>
                  <a:srgbClr val="fccf00"/>
                </a:solidFill>
                <a:latin typeface="Arial"/>
              </a:rPr>
              <a:t>KDC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) állítja elő a tikettek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Windows 2000 tartomány megfelelője a Kerberos rendszerekben a </a:t>
            </a:r>
            <a:r>
              <a:rPr b="1" lang="hu-HU" sz="3200" spc="-1" strike="noStrike">
                <a:solidFill>
                  <a:srgbClr val="fccf00"/>
                </a:solidFill>
                <a:latin typeface="Arial"/>
              </a:rPr>
              <a:t>Real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realmok (tartományok) között </a:t>
            </a:r>
            <a:r>
              <a:rPr b="1" lang="hu-HU" sz="3200" spc="-1" strike="noStrike">
                <a:solidFill>
                  <a:srgbClr val="fccf00"/>
                </a:solidFill>
                <a:latin typeface="Arial"/>
              </a:rPr>
              <a:t>tranzitív trust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kapcsolat hozható lét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1135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Ismétlés: NTLM v1 hitelesítés</a:t>
            </a:r>
            <a:br>
              <a:rPr sz="4800"/>
            </a:b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Challenge/Response</a:t>
            </a:r>
            <a:endParaRPr b="1" lang="en-US" sz="2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328320" y="5729040"/>
            <a:ext cx="7900920" cy="531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jelszó NEM ment át a hálózaton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304920" y="1752480"/>
            <a:ext cx="1177560" cy="1295280"/>
            <a:chOff x="304920" y="1752480"/>
            <a:chExt cx="1177560" cy="1295280"/>
          </a:xfrm>
        </p:grpSpPr>
        <p:grpSp>
          <p:nvGrpSpPr>
            <p:cNvPr id="1202" name=""/>
            <p:cNvGrpSpPr/>
            <p:nvPr/>
          </p:nvGrpSpPr>
          <p:grpSpPr>
            <a:xfrm>
              <a:off x="709200" y="1752480"/>
              <a:ext cx="712800" cy="1027440"/>
              <a:chOff x="709200" y="1752480"/>
              <a:chExt cx="712800" cy="1027440"/>
            </a:xfrm>
          </p:grpSpPr>
          <p:sp>
            <p:nvSpPr>
              <p:cNvPr id="1203" name=""/>
              <p:cNvSpPr/>
              <p:nvPr/>
            </p:nvSpPr>
            <p:spPr>
              <a:xfrm>
                <a:off x="709200" y="1815120"/>
                <a:ext cx="394200" cy="96480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102320" y="1908000"/>
                <a:ext cx="315360" cy="87192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152720" y="1961640"/>
                <a:ext cx="226440" cy="77400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152720" y="1961640"/>
                <a:ext cx="226440" cy="77400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H="1">
                <a:off x="1159920" y="2640960"/>
                <a:ext cx="21780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1152720" y="2066760"/>
                <a:ext cx="224280" cy="36396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flipH="1">
                <a:off x="1158120" y="2149200"/>
                <a:ext cx="215280" cy="4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flipH="1">
                <a:off x="1157040" y="2229840"/>
                <a:ext cx="216720" cy="5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H="1">
                <a:off x="1159920" y="2301840"/>
                <a:ext cx="213480" cy="5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>
                <a:off x="1189800" y="2113200"/>
                <a:ext cx="157680" cy="316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flipH="1">
                <a:off x="1189800" y="2193480"/>
                <a:ext cx="157680" cy="316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flipH="1">
                <a:off x="1189800" y="2273760"/>
                <a:ext cx="157680" cy="316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flipH="1">
                <a:off x="1189800" y="2352240"/>
                <a:ext cx="157680" cy="316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185480" y="2034720"/>
                <a:ext cx="39240" cy="2232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229040" y="2108880"/>
                <a:ext cx="84240" cy="4104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229040" y="2183040"/>
                <a:ext cx="84240" cy="432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229040" y="2263680"/>
                <a:ext cx="84240" cy="432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1229040" y="2341800"/>
                <a:ext cx="84240" cy="432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flipH="1">
                <a:off x="1159920" y="2602800"/>
                <a:ext cx="217800" cy="52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flipH="1">
                <a:off x="1159920" y="2564640"/>
                <a:ext cx="217800" cy="52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709200" y="1752480"/>
                <a:ext cx="712800" cy="22788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4" name=""/>
            <p:cNvGrpSpPr/>
            <p:nvPr/>
          </p:nvGrpSpPr>
          <p:grpSpPr>
            <a:xfrm>
              <a:off x="304920" y="2200680"/>
              <a:ext cx="784080" cy="694080"/>
              <a:chOff x="304920" y="2200680"/>
              <a:chExt cx="784080" cy="694080"/>
            </a:xfrm>
          </p:grpSpPr>
          <p:sp>
            <p:nvSpPr>
              <p:cNvPr id="1225" name=""/>
              <p:cNvSpPr/>
              <p:nvPr/>
            </p:nvSpPr>
            <p:spPr>
              <a:xfrm>
                <a:off x="337680" y="2699280"/>
                <a:ext cx="751320" cy="19548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337680" y="2699280"/>
                <a:ext cx="751320" cy="19548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04920" y="2200680"/>
                <a:ext cx="484200" cy="4388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304920" y="2200680"/>
                <a:ext cx="484200" cy="4388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392400" y="2316960"/>
                <a:ext cx="157680" cy="48204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03720" y="2704680"/>
                <a:ext cx="348480" cy="9648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03720" y="2704680"/>
                <a:ext cx="348480" cy="9648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50080" y="2287080"/>
                <a:ext cx="499320" cy="51192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20280" y="2343600"/>
                <a:ext cx="364680" cy="37476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634680" y="2368440"/>
                <a:ext cx="321840" cy="31716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53160" y="2720160"/>
                <a:ext cx="723600" cy="15048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674280" y="2455200"/>
                <a:ext cx="29520" cy="78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2400" y="2221200"/>
                <a:ext cx="657000" cy="17496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38" name=""/>
            <p:cNvGrpSpPr/>
            <p:nvPr/>
          </p:nvGrpSpPr>
          <p:grpSpPr>
            <a:xfrm>
              <a:off x="713520" y="2756160"/>
              <a:ext cx="768960" cy="291600"/>
              <a:chOff x="713520" y="2756160"/>
              <a:chExt cx="768960" cy="291600"/>
            </a:xfrm>
          </p:grpSpPr>
          <p:sp>
            <p:nvSpPr>
              <p:cNvPr id="1239" name=""/>
              <p:cNvSpPr/>
              <p:nvPr/>
            </p:nvSpPr>
            <p:spPr>
              <a:xfrm>
                <a:off x="713520" y="2868480"/>
                <a:ext cx="768960" cy="17928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713520" y="2868480"/>
                <a:ext cx="768960" cy="17928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717840" y="2756160"/>
                <a:ext cx="764280" cy="26676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75800" y="2798280"/>
                <a:ext cx="450000" cy="12132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3240" y="2842560"/>
                <a:ext cx="439920" cy="1490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1196640" y="2820960"/>
                <a:ext cx="91800" cy="3708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1254600" y="2859120"/>
                <a:ext cx="79920" cy="356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275480" y="2800440"/>
                <a:ext cx="148680" cy="730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7" name=""/>
          <p:cNvGrpSpPr/>
          <p:nvPr/>
        </p:nvGrpSpPr>
        <p:grpSpPr>
          <a:xfrm>
            <a:off x="5563080" y="1828800"/>
            <a:ext cx="1177560" cy="1295280"/>
            <a:chOff x="5563080" y="1828800"/>
            <a:chExt cx="1177560" cy="1295280"/>
          </a:xfrm>
        </p:grpSpPr>
        <p:grpSp>
          <p:nvGrpSpPr>
            <p:cNvPr id="1248" name=""/>
            <p:cNvGrpSpPr/>
            <p:nvPr/>
          </p:nvGrpSpPr>
          <p:grpSpPr>
            <a:xfrm>
              <a:off x="5623560" y="1828800"/>
              <a:ext cx="712800" cy="1027440"/>
              <a:chOff x="5623560" y="1828800"/>
              <a:chExt cx="712800" cy="1027440"/>
            </a:xfrm>
          </p:grpSpPr>
          <p:sp>
            <p:nvSpPr>
              <p:cNvPr id="1249" name=""/>
              <p:cNvSpPr/>
              <p:nvPr/>
            </p:nvSpPr>
            <p:spPr>
              <a:xfrm flipH="1">
                <a:off x="5941800" y="1891440"/>
                <a:ext cx="394200" cy="96444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flipH="1">
                <a:off x="5627880" y="1984320"/>
                <a:ext cx="315360" cy="87192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flipH="1">
                <a:off x="5666040" y="2037600"/>
                <a:ext cx="226440" cy="77400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H="1">
                <a:off x="5666040" y="2037600"/>
                <a:ext cx="226440" cy="77400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5667840" y="2716920"/>
                <a:ext cx="21780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H="1">
                <a:off x="5668200" y="2143080"/>
                <a:ext cx="224280" cy="36360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672160" y="2225520"/>
                <a:ext cx="215280" cy="4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671800" y="2305800"/>
                <a:ext cx="216720" cy="5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672160" y="2377800"/>
                <a:ext cx="213480" cy="5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5698080" y="2189160"/>
                <a:ext cx="157680" cy="316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698080" y="2269440"/>
                <a:ext cx="157680" cy="316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698080" y="2350080"/>
                <a:ext cx="157680" cy="316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698080" y="2428560"/>
                <a:ext cx="157680" cy="316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H="1">
                <a:off x="5820480" y="2111040"/>
                <a:ext cx="39240" cy="2232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H="1">
                <a:off x="5732280" y="2185200"/>
                <a:ext cx="84240" cy="4104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H="1">
                <a:off x="5732280" y="2259360"/>
                <a:ext cx="84240" cy="432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flipH="1">
                <a:off x="5732280" y="2339640"/>
                <a:ext cx="84240" cy="432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H="1">
                <a:off x="5732280" y="2418120"/>
                <a:ext cx="84240" cy="432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667840" y="2678760"/>
                <a:ext cx="217800" cy="52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5667840" y="2640600"/>
                <a:ext cx="217800" cy="52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flipH="1">
                <a:off x="5623560" y="1828800"/>
                <a:ext cx="712800" cy="22752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70" name=""/>
            <p:cNvGrpSpPr/>
            <p:nvPr/>
          </p:nvGrpSpPr>
          <p:grpSpPr>
            <a:xfrm>
              <a:off x="5956560" y="2277000"/>
              <a:ext cx="784080" cy="694080"/>
              <a:chOff x="5956560" y="2277000"/>
              <a:chExt cx="784080" cy="694080"/>
            </a:xfrm>
          </p:grpSpPr>
          <p:sp>
            <p:nvSpPr>
              <p:cNvPr id="1271" name=""/>
              <p:cNvSpPr/>
              <p:nvPr/>
            </p:nvSpPr>
            <p:spPr>
              <a:xfrm flipH="1">
                <a:off x="5956200" y="2775600"/>
                <a:ext cx="751320" cy="19548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flipH="1">
                <a:off x="5956200" y="2775600"/>
                <a:ext cx="751320" cy="19548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H="1">
                <a:off x="6256080" y="2277000"/>
                <a:ext cx="484200" cy="4388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H="1">
                <a:off x="6256080" y="2277000"/>
                <a:ext cx="484200" cy="4388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flipH="1">
                <a:off x="6495480" y="2393280"/>
                <a:ext cx="157680" cy="48204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flipH="1">
                <a:off x="6093360" y="2781000"/>
                <a:ext cx="348480" cy="9648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flipH="1">
                <a:off x="6093360" y="2781000"/>
                <a:ext cx="348480" cy="9648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flipH="1">
                <a:off x="5995800" y="2363400"/>
                <a:ext cx="499320" cy="51192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H="1">
                <a:off x="6060240" y="2419920"/>
                <a:ext cx="364680" cy="37476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flipH="1">
                <a:off x="6089040" y="2444760"/>
                <a:ext cx="321840" cy="31716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flipH="1">
                <a:off x="5968800" y="2796480"/>
                <a:ext cx="723600" cy="15048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H="1">
                <a:off x="6341760" y="2531520"/>
                <a:ext cx="29520" cy="78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H="1">
                <a:off x="5995800" y="2297520"/>
                <a:ext cx="657000" cy="17496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84" name=""/>
            <p:cNvGrpSpPr/>
            <p:nvPr/>
          </p:nvGrpSpPr>
          <p:grpSpPr>
            <a:xfrm>
              <a:off x="5563080" y="2832480"/>
              <a:ext cx="768960" cy="291600"/>
              <a:chOff x="5563080" y="2832480"/>
              <a:chExt cx="768960" cy="291600"/>
            </a:xfrm>
          </p:grpSpPr>
          <p:sp>
            <p:nvSpPr>
              <p:cNvPr id="1285" name=""/>
              <p:cNvSpPr/>
              <p:nvPr/>
            </p:nvSpPr>
            <p:spPr>
              <a:xfrm flipH="1">
                <a:off x="5563080" y="2944800"/>
                <a:ext cx="768960" cy="17928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flipH="1">
                <a:off x="5563080" y="2944800"/>
                <a:ext cx="768960" cy="17928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H="1">
                <a:off x="5563080" y="2832480"/>
                <a:ext cx="764280" cy="26676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flipH="1">
                <a:off x="5819760" y="2874600"/>
                <a:ext cx="450000" cy="12132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flipH="1">
                <a:off x="5792400" y="2918880"/>
                <a:ext cx="439920" cy="1490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flipH="1">
                <a:off x="5756760" y="2897280"/>
                <a:ext cx="91800" cy="3708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H="1">
                <a:off x="5711040" y="2935440"/>
                <a:ext cx="79920" cy="356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H="1">
                <a:off x="5621040" y="2876760"/>
                <a:ext cx="148680" cy="730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3" name=""/>
          <p:cNvSpPr/>
          <p:nvPr/>
        </p:nvSpPr>
        <p:spPr>
          <a:xfrm>
            <a:off x="-24480" y="1371600"/>
            <a:ext cx="37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Franklin Gothic Heavy"/>
              </a:rPr>
              <a:t>Windows NT Work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988600" y="142092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Franklin Gothic Heavy"/>
              </a:rPr>
              <a:t>Windows NT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5" name=""/>
          <p:cNvGrpSpPr/>
          <p:nvPr/>
        </p:nvGrpSpPr>
        <p:grpSpPr>
          <a:xfrm>
            <a:off x="5415120" y="1828800"/>
            <a:ext cx="3728880" cy="2990160"/>
            <a:chOff x="5415120" y="1828800"/>
            <a:chExt cx="3728880" cy="2990160"/>
          </a:xfrm>
        </p:grpSpPr>
        <p:sp>
          <p:nvSpPr>
            <p:cNvPr id="1296" name=""/>
            <p:cNvSpPr/>
            <p:nvPr/>
          </p:nvSpPr>
          <p:spPr>
            <a:xfrm>
              <a:off x="6781680" y="1828800"/>
              <a:ext cx="23623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934320" y="2301840"/>
              <a:ext cx="533160" cy="60948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860160" y="1979640"/>
              <a:ext cx="73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SA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905960" y="1981080"/>
              <a:ext cx="12308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S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LM pw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NT pw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415120" y="3200400"/>
              <a:ext cx="37288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Pwd kódolá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One Way Func. (RSA-MD4,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16 bites kivonat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2.    Domain R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543800" y="2362320"/>
              <a:ext cx="380880" cy="3808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1581120" y="1906560"/>
            <a:ext cx="3776400" cy="541440"/>
            <a:chOff x="1581120" y="1906560"/>
            <a:chExt cx="3776400" cy="541440"/>
          </a:xfrm>
        </p:grpSpPr>
        <p:sp>
          <p:nvSpPr>
            <p:cNvPr id="1303" name=""/>
            <p:cNvSpPr/>
            <p:nvPr/>
          </p:nvSpPr>
          <p:spPr>
            <a:xfrm flipH="1">
              <a:off x="1581120" y="2209680"/>
              <a:ext cx="3776400" cy="238320"/>
            </a:xfrm>
            <a:prstGeom prst="leftArrow">
              <a:avLst>
                <a:gd name="adj1" fmla="val 46870"/>
                <a:gd name="adj2" fmla="val 170344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942200" y="1906560"/>
              <a:ext cx="333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Arial"/>
                </a:rPr>
                <a:t>1. Erőforrás használ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5" name=""/>
          <p:cNvGrpSpPr/>
          <p:nvPr/>
        </p:nvGrpSpPr>
        <p:grpSpPr>
          <a:xfrm>
            <a:off x="1623960" y="2438280"/>
            <a:ext cx="3733920" cy="542880"/>
            <a:chOff x="1623960" y="2438280"/>
            <a:chExt cx="3733920" cy="542880"/>
          </a:xfrm>
        </p:grpSpPr>
        <p:sp>
          <p:nvSpPr>
            <p:cNvPr id="1306" name=""/>
            <p:cNvSpPr/>
            <p:nvPr/>
          </p:nvSpPr>
          <p:spPr>
            <a:xfrm>
              <a:off x="1623960" y="2743200"/>
              <a:ext cx="3733920" cy="237960"/>
            </a:xfrm>
            <a:prstGeom prst="leftArrow">
              <a:avLst>
                <a:gd name="adj1" fmla="val 46870"/>
                <a:gd name="adj2" fmla="val 168682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982520" y="2438280"/>
              <a:ext cx="29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Arial"/>
                </a:rPr>
                <a:t>2. Challenge: 16 báj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8" name=""/>
          <p:cNvGrpSpPr/>
          <p:nvPr/>
        </p:nvGrpSpPr>
        <p:grpSpPr>
          <a:xfrm>
            <a:off x="1576440" y="3016080"/>
            <a:ext cx="3776400" cy="541440"/>
            <a:chOff x="1576440" y="3016080"/>
            <a:chExt cx="3776400" cy="541440"/>
          </a:xfrm>
        </p:grpSpPr>
        <p:sp>
          <p:nvSpPr>
            <p:cNvPr id="1309" name=""/>
            <p:cNvSpPr/>
            <p:nvPr/>
          </p:nvSpPr>
          <p:spPr>
            <a:xfrm flipH="1">
              <a:off x="1576440" y="3319200"/>
              <a:ext cx="3776400" cy="238320"/>
            </a:xfrm>
            <a:prstGeom prst="leftArrow">
              <a:avLst>
                <a:gd name="adj1" fmla="val 46870"/>
                <a:gd name="adj2" fmla="val 170344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935720" y="3016080"/>
              <a:ext cx="336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Arial"/>
                </a:rPr>
                <a:t>3. Response: OWF(Ch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311" name=""/>
          <p:cNvGraphicFramePr/>
          <p:nvPr/>
        </p:nvGraphicFramePr>
        <p:xfrm>
          <a:off x="714240" y="4576680"/>
          <a:ext cx="795600" cy="73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4240" y="4576680"/>
                    <a:ext cx="795600" cy="7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6600" y="200160"/>
            <a:ext cx="8431200" cy="1079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Egy kis ismétlés</a:t>
            </a:r>
            <a:br>
              <a:rPr sz="4800"/>
            </a:br>
            <a:r>
              <a:rPr b="1" lang="hu-HU" sz="2400" spc="-1" strike="noStrike">
                <a:solidFill>
                  <a:srgbClr val="eea564"/>
                </a:solidFill>
                <a:latin typeface="Arial"/>
              </a:rPr>
              <a:t>Az AD kettős fastruktúrája</a:t>
            </a:r>
            <a:endParaRPr b="1" lang="en-US" sz="24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325680" y="1274760"/>
            <a:ext cx="2730600" cy="2489040"/>
            <a:chOff x="3325680" y="1274760"/>
            <a:chExt cx="2730600" cy="2489040"/>
          </a:xfrm>
        </p:grpSpPr>
        <p:sp>
          <p:nvSpPr>
            <p:cNvPr id="53" name=""/>
            <p:cNvSpPr/>
            <p:nvPr/>
          </p:nvSpPr>
          <p:spPr>
            <a:xfrm>
              <a:off x="3325680" y="1274760"/>
              <a:ext cx="2730600" cy="24890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735720" y="2915280"/>
              <a:ext cx="357480" cy="38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4018680" y="2931840"/>
              <a:ext cx="92160" cy="36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4301280" y="2926080"/>
              <a:ext cx="14976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>
              <a:off x="4462920" y="2943000"/>
              <a:ext cx="92160" cy="35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855320" y="2926080"/>
              <a:ext cx="7488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4936320" y="2937600"/>
              <a:ext cx="16128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5276520" y="2926080"/>
              <a:ext cx="9216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flipV="1">
              <a:off x="5287680" y="2937600"/>
              <a:ext cx="34020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4924080" y="2329560"/>
              <a:ext cx="3402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flipV="1">
              <a:off x="4918320" y="2329560"/>
              <a:ext cx="54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4446360" y="2329560"/>
              <a:ext cx="1656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111560" y="2329560"/>
              <a:ext cx="3456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692960" y="1733760"/>
              <a:ext cx="201600" cy="36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4456440" y="1705680"/>
              <a:ext cx="236520" cy="38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3440" y="1492560"/>
              <a:ext cx="243360" cy="23544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338000" y="209592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793400" y="209592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82680" y="26978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153760" y="26978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332960" y="26978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09960" y="269784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18360" y="330120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26000" y="33012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34120" y="33012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19600" y="33012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984560" y="330120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53480" y="33012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88720" y="33012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58720" y="33012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1824120" y="4098960"/>
            <a:ext cx="2730240" cy="2489040"/>
            <a:chOff x="1824120" y="4098960"/>
            <a:chExt cx="2730240" cy="2489040"/>
          </a:xfrm>
        </p:grpSpPr>
        <p:sp>
          <p:nvSpPr>
            <p:cNvPr id="84" name=""/>
            <p:cNvSpPr/>
            <p:nvPr/>
          </p:nvSpPr>
          <p:spPr>
            <a:xfrm>
              <a:off x="1824120" y="4098960"/>
              <a:ext cx="2730240" cy="24890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234160" y="5739480"/>
              <a:ext cx="357480" cy="38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2517120" y="5756040"/>
              <a:ext cx="92160" cy="36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799720" y="5750280"/>
              <a:ext cx="14976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>
              <a:off x="2961360" y="5767200"/>
              <a:ext cx="92160" cy="35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3353760" y="5750280"/>
              <a:ext cx="7488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3434400" y="5761800"/>
              <a:ext cx="16128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3774600" y="5750280"/>
              <a:ext cx="9216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786120" y="5761800"/>
              <a:ext cx="34020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3422520" y="5153760"/>
              <a:ext cx="3402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3416760" y="5153760"/>
              <a:ext cx="54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2944440" y="5153760"/>
              <a:ext cx="1656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2610000" y="5153760"/>
              <a:ext cx="34524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3191400" y="4557960"/>
              <a:ext cx="201600" cy="36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2954880" y="4529880"/>
              <a:ext cx="236520" cy="38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71520" y="4316760"/>
              <a:ext cx="243360" cy="23544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36440" y="492012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91480" y="492012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80760" y="55220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52200" y="55220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31400" y="55220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08040" y="552204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16800" y="612540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2444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3256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1804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82640" y="612540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5156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8716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5680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792680" y="4098960"/>
            <a:ext cx="2730600" cy="2489040"/>
            <a:chOff x="4792680" y="4098960"/>
            <a:chExt cx="2730600" cy="2489040"/>
          </a:xfrm>
        </p:grpSpPr>
        <p:sp>
          <p:nvSpPr>
            <p:cNvPr id="115" name=""/>
            <p:cNvSpPr/>
            <p:nvPr/>
          </p:nvSpPr>
          <p:spPr>
            <a:xfrm>
              <a:off x="4792680" y="4098960"/>
              <a:ext cx="2730600" cy="24890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5202720" y="5739480"/>
              <a:ext cx="357480" cy="38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5485680" y="5756040"/>
              <a:ext cx="92160" cy="36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768280" y="5750280"/>
              <a:ext cx="14976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5929920" y="5767200"/>
              <a:ext cx="92160" cy="35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6322320" y="5750280"/>
              <a:ext cx="7488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6403320" y="5761800"/>
              <a:ext cx="16128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6743520" y="5750280"/>
              <a:ext cx="9216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6754680" y="5761800"/>
              <a:ext cx="34020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6391080" y="5153760"/>
              <a:ext cx="3402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6385320" y="5153760"/>
              <a:ext cx="54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913360" y="5153760"/>
              <a:ext cx="1656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578560" y="5153760"/>
              <a:ext cx="3456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6159960" y="4557960"/>
              <a:ext cx="201600" cy="36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5923440" y="4529880"/>
              <a:ext cx="236520" cy="38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40440" y="4316760"/>
              <a:ext cx="243360" cy="23544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05000" y="492012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60400" y="492012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49680" y="55220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20760" y="55220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99960" y="55220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76960" y="552204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85360" y="612540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99300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0112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8660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51560" y="612540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72048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572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2572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 flipH="1">
            <a:off x="3192480" y="3759120"/>
            <a:ext cx="146160" cy="319320"/>
          </a:xfrm>
          <a:prstGeom prst="line">
            <a:avLst/>
          </a:prstGeom>
          <a:ln w="38160">
            <a:solidFill>
              <a:srgbClr val="5686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53040" y="3745080"/>
            <a:ext cx="115920" cy="376200"/>
          </a:xfrm>
          <a:prstGeom prst="line">
            <a:avLst/>
          </a:prstGeom>
          <a:ln w="38160">
            <a:solidFill>
              <a:srgbClr val="5686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3" name="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1054080" cy="1011240"/>
          </a:xfrm>
          <a:prstGeom prst="rect">
            <a:avLst/>
          </a:prstGeom>
          <a:ln w="0">
            <a:noFill/>
          </a:ln>
        </p:spPr>
      </p:pic>
      <p:grpSp>
        <p:nvGrpSpPr>
          <p:cNvPr id="1314" name=""/>
          <p:cNvGrpSpPr/>
          <p:nvPr/>
        </p:nvGrpSpPr>
        <p:grpSpPr>
          <a:xfrm>
            <a:off x="6981840" y="4267080"/>
            <a:ext cx="1803240" cy="1729080"/>
            <a:chOff x="6981840" y="4267080"/>
            <a:chExt cx="1803240" cy="1729080"/>
          </a:xfrm>
        </p:grpSpPr>
        <p:sp>
          <p:nvSpPr>
            <p:cNvPr id="1315" name=""/>
            <p:cNvSpPr/>
            <p:nvPr/>
          </p:nvSpPr>
          <p:spPr>
            <a:xfrm>
              <a:off x="6981840" y="4267080"/>
              <a:ext cx="1803240" cy="1729080"/>
            </a:xfrm>
            <a:prstGeom prst="triangle">
              <a:avLst>
                <a:gd name="adj" fmla="val 49986"/>
              </a:avLst>
            </a:prstGeom>
            <a:gradFill rotWithShape="0">
              <a:gsLst>
                <a:gs pos="0">
                  <a:srgbClr val="7e3d3f"/>
                </a:gs>
                <a:gs pos="100000">
                  <a:srgbClr val="ff7c8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891200" y="4802040"/>
              <a:ext cx="0" cy="12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810200" y="4648320"/>
              <a:ext cx="158400" cy="14112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7724520" y="5029200"/>
              <a:ext cx="166320" cy="29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907040" y="5046840"/>
              <a:ext cx="248760" cy="30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813440" y="4927680"/>
              <a:ext cx="156600" cy="14292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7419240" y="5403960"/>
              <a:ext cx="279000" cy="35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724520" y="5392800"/>
              <a:ext cx="298080" cy="37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724520" y="53848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8162640" y="5367240"/>
              <a:ext cx="169560" cy="38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341840" y="5688000"/>
              <a:ext cx="158400" cy="14148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8083080" y="5305320"/>
              <a:ext cx="158400" cy="14148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638840" y="5305320"/>
              <a:ext cx="156600" cy="14148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8245080" y="5688000"/>
              <a:ext cx="158400" cy="14148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941960" y="5688000"/>
              <a:ext cx="156960" cy="14148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644960" y="5688000"/>
              <a:ext cx="158400" cy="14148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1" name=""/>
          <p:cNvSpPr/>
          <p:nvPr/>
        </p:nvSpPr>
        <p:spPr>
          <a:xfrm>
            <a:off x="6824520" y="3613320"/>
            <a:ext cx="221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ndows 200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ve Direc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267080" y="4267080"/>
            <a:ext cx="2725920" cy="1521000"/>
          </a:xfrm>
          <a:prstGeom prst="ellipse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istributio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er (KD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195800" y="3565440"/>
            <a:ext cx="4948200" cy="2895840"/>
          </a:xfrm>
          <a:prstGeom prst="rect">
            <a:avLst/>
          </a:prstGeom>
          <a:noFill/>
          <a:ln w="19080">
            <a:solidFill>
              <a:srgbClr val="fcc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950160" y="5029200"/>
            <a:ext cx="55872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147560" y="6019920"/>
            <a:ext cx="4894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ndows 2000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artományvezérl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6" name=""/>
          <p:cNvGrpSpPr/>
          <p:nvPr/>
        </p:nvGrpSpPr>
        <p:grpSpPr>
          <a:xfrm>
            <a:off x="1981080" y="1752480"/>
            <a:ext cx="6230880" cy="2362320"/>
            <a:chOff x="1981080" y="1752480"/>
            <a:chExt cx="6230880" cy="2362320"/>
          </a:xfrm>
        </p:grpSpPr>
        <p:sp>
          <p:nvSpPr>
            <p:cNvPr id="1337" name=""/>
            <p:cNvSpPr/>
            <p:nvPr/>
          </p:nvSpPr>
          <p:spPr>
            <a:xfrm>
              <a:off x="4489920" y="1752480"/>
              <a:ext cx="37220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. 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DNS-sel megkeresi az AD-t</a:t>
              </a:r>
              <a:br>
                <a:rPr sz="2000"/>
              </a:b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    és a KDC-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981080" y="2455920"/>
              <a:ext cx="4343400" cy="1658880"/>
            </a:xfrm>
            <a:custGeom>
              <a:avLst/>
              <a:gdLst/>
              <a:ahLst/>
              <a:rect l="l" t="t" r="r" b="b"/>
              <a:pathLst>
                <a:path w="3264" h="1312">
                  <a:moveTo>
                    <a:pt x="0" y="64"/>
                  </a:moveTo>
                  <a:cubicBezTo>
                    <a:pt x="640" y="32"/>
                    <a:pt x="1280" y="0"/>
                    <a:pt x="1824" y="208"/>
                  </a:cubicBezTo>
                  <a:cubicBezTo>
                    <a:pt x="2368" y="416"/>
                    <a:pt x="2816" y="864"/>
                    <a:pt x="3264" y="1312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304920" y="2666880"/>
            <a:ext cx="4267080" cy="2288520"/>
            <a:chOff x="304920" y="2666880"/>
            <a:chExt cx="4267080" cy="2288520"/>
          </a:xfrm>
        </p:grpSpPr>
        <p:sp>
          <p:nvSpPr>
            <p:cNvPr id="1340" name=""/>
            <p:cNvSpPr/>
            <p:nvPr/>
          </p:nvSpPr>
          <p:spPr>
            <a:xfrm>
              <a:off x="304920" y="3641760"/>
              <a:ext cx="3657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. 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Hitelesíti a</a:t>
              </a:r>
              <a:br>
                <a:rPr sz="2000"/>
              </a:b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    felhasználót és szerez egy</a:t>
              </a:r>
              <a:br>
                <a:rPr sz="2000"/>
              </a:b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icket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ranting 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ket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tet</a:t>
              </a:r>
              <a:br>
                <a:rPr sz="2000"/>
              </a:b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(TGT)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 a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KDC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-tő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057400" y="2666880"/>
              <a:ext cx="2514600" cy="1905120"/>
            </a:xfrm>
            <a:custGeom>
              <a:avLst/>
              <a:gdLst/>
              <a:ahLst/>
              <a:rect l="l" t="t" r="r" b="b"/>
              <a:pathLst>
                <a:path w="1680" h="912">
                  <a:moveTo>
                    <a:pt x="0" y="0"/>
                  </a:moveTo>
                  <a:cubicBezTo>
                    <a:pt x="364" y="116"/>
                    <a:pt x="728" y="232"/>
                    <a:pt x="1008" y="384"/>
                  </a:cubicBezTo>
                  <a:cubicBezTo>
                    <a:pt x="1288" y="536"/>
                    <a:pt x="1484" y="724"/>
                    <a:pt x="1680" y="912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295280" y="2895480"/>
              <a:ext cx="762120" cy="368280"/>
            </a:xfrm>
            <a:prstGeom prst="rect">
              <a:avLst/>
            </a:prstGeom>
            <a:gradFill rotWithShape="0">
              <a:gsLst>
                <a:gs pos="0">
                  <a:srgbClr val="fccf00"/>
                </a:gs>
                <a:gs pos="100000">
                  <a:srgbClr val="745f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G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50608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Kerberos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: Logon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1344" name=""/>
          <p:cNvGrpSpPr/>
          <p:nvPr/>
        </p:nvGrpSpPr>
        <p:grpSpPr>
          <a:xfrm>
            <a:off x="304920" y="2666880"/>
            <a:ext cx="4647960" cy="3507480"/>
            <a:chOff x="304920" y="2666880"/>
            <a:chExt cx="4647960" cy="3507480"/>
          </a:xfrm>
        </p:grpSpPr>
        <p:sp>
          <p:nvSpPr>
            <p:cNvPr id="1345" name=""/>
            <p:cNvSpPr/>
            <p:nvPr/>
          </p:nvSpPr>
          <p:spPr>
            <a:xfrm>
              <a:off x="2117880" y="2666880"/>
              <a:ext cx="2835000" cy="1676520"/>
            </a:xfrm>
            <a:custGeom>
              <a:avLst/>
              <a:gdLst/>
              <a:ahLst/>
              <a:rect l="l" t="t" r="r" b="b"/>
              <a:pathLst>
                <a:path w="1680" h="912">
                  <a:moveTo>
                    <a:pt x="0" y="0"/>
                  </a:moveTo>
                  <a:cubicBezTo>
                    <a:pt x="364" y="116"/>
                    <a:pt x="728" y="232"/>
                    <a:pt x="1008" y="384"/>
                  </a:cubicBezTo>
                  <a:cubicBezTo>
                    <a:pt x="1288" y="536"/>
                    <a:pt x="1484" y="724"/>
                    <a:pt x="1680" y="912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04920" y="5165640"/>
              <a:ext cx="33890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. 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GT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-vel kér egy</a:t>
              </a:r>
              <a:br>
                <a:rPr sz="2000"/>
              </a:b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ession tiket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tet a</a:t>
              </a:r>
              <a:br>
                <a:rPr sz="2000"/>
              </a:b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    munkaállomáshoz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276360" y="2743200"/>
              <a:ext cx="876960" cy="274680"/>
            </a:xfrm>
            <a:prstGeom prst="rect">
              <a:avLst/>
            </a:prstGeom>
            <a:solidFill>
              <a:srgbClr val="eea5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Sess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Kerberos tikette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5119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dott ideig érvénye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ol állítható be? </a:t>
            </a:r>
            <a:r>
              <a:rPr b="1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Lejárt tikettet helyett újat kell igényel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igényléskor a KDC egyezteti az időt az ügyféll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5 perc eltérés megengedet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ázirendben szabályozhat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nnél nagyobb eltérés esetén a KDC NEM ad tikettet! Ld.Time Servi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 miatt nem mehet a dcpromo.ex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0" name=""/>
          <p:cNvGraphicFramePr/>
          <p:nvPr/>
        </p:nvGraphicFramePr>
        <p:xfrm>
          <a:off x="5410080" y="2085840"/>
          <a:ext cx="1114560" cy="150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2085840"/>
                    <a:ext cx="1114560" cy="15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2" name=""/>
          <p:cNvSpPr/>
          <p:nvPr/>
        </p:nvSpPr>
        <p:spPr>
          <a:xfrm>
            <a:off x="4776840" y="1515960"/>
            <a:ext cx="4137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lkalmazás kiszolgál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567480" y="2209680"/>
            <a:ext cx="2576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llenőrzi, hogy 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ssion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ket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et</a:t>
            </a:r>
            <a:br>
              <a:rPr sz="1800"/>
            </a:b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KDC adta-e k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06080" y="225360"/>
            <a:ext cx="87375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Hálózati erőforrás elérés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1355" name=""/>
          <p:cNvGrpSpPr/>
          <p:nvPr/>
        </p:nvGrpSpPr>
        <p:grpSpPr>
          <a:xfrm>
            <a:off x="6477120" y="4422600"/>
            <a:ext cx="1803240" cy="1729080"/>
            <a:chOff x="6477120" y="4422600"/>
            <a:chExt cx="1803240" cy="1729080"/>
          </a:xfrm>
        </p:grpSpPr>
        <p:sp>
          <p:nvSpPr>
            <p:cNvPr id="1356" name=""/>
            <p:cNvSpPr/>
            <p:nvPr/>
          </p:nvSpPr>
          <p:spPr>
            <a:xfrm>
              <a:off x="6477120" y="4422600"/>
              <a:ext cx="1803240" cy="1729080"/>
            </a:xfrm>
            <a:prstGeom prst="triangle">
              <a:avLst>
                <a:gd name="adj" fmla="val 49986"/>
              </a:avLst>
            </a:prstGeom>
            <a:gradFill rotWithShape="0">
              <a:gsLst>
                <a:gs pos="0">
                  <a:srgbClr val="7e3d3f"/>
                </a:gs>
                <a:gs pos="100000">
                  <a:srgbClr val="ff7c8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386480" y="4957560"/>
              <a:ext cx="0" cy="12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305480" y="4803840"/>
              <a:ext cx="158400" cy="14112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H="1">
              <a:off x="7219800" y="5184720"/>
              <a:ext cx="166320" cy="29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402320" y="5202360"/>
              <a:ext cx="248760" cy="30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308720" y="5083200"/>
              <a:ext cx="156600" cy="14292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H="1">
              <a:off x="6914520" y="5559480"/>
              <a:ext cx="279000" cy="35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219800" y="5548320"/>
              <a:ext cx="298080" cy="37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219800" y="554040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657920" y="5522760"/>
              <a:ext cx="169560" cy="38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837120" y="5843520"/>
              <a:ext cx="158400" cy="14148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578360" y="5460840"/>
              <a:ext cx="158400" cy="14148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134120" y="5460840"/>
              <a:ext cx="156600" cy="14148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740360" y="5843520"/>
              <a:ext cx="158400" cy="14148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437240" y="5843520"/>
              <a:ext cx="156960" cy="14148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140240" y="5843520"/>
              <a:ext cx="158400" cy="14148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2" name=""/>
          <p:cNvSpPr/>
          <p:nvPr/>
        </p:nvSpPr>
        <p:spPr>
          <a:xfrm>
            <a:off x="6319800" y="3768840"/>
            <a:ext cx="221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ndows 200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ve Direc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762360" y="4422600"/>
            <a:ext cx="2725920" cy="1521000"/>
          </a:xfrm>
          <a:prstGeom prst="ellipse">
            <a:avLst/>
          </a:prstGeom>
          <a:gradFill rotWithShape="0">
            <a:gsLst>
              <a:gs pos="0">
                <a:srgbClr val="755131"/>
              </a:gs>
              <a:gs pos="100000">
                <a:srgbClr val="eea564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istributio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er (KD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691080" y="3720960"/>
            <a:ext cx="4948200" cy="2895840"/>
          </a:xfrm>
          <a:prstGeom prst="rect">
            <a:avLst/>
          </a:prstGeom>
          <a:noFill/>
          <a:ln w="19080">
            <a:solidFill>
              <a:srgbClr val="fcc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445080" y="5184720"/>
            <a:ext cx="55908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696480" y="6159600"/>
            <a:ext cx="4894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ndows 2000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artományvezérl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1577880" y="1905120"/>
            <a:ext cx="3832200" cy="901440"/>
            <a:chOff x="1577880" y="1905120"/>
            <a:chExt cx="3832200" cy="901440"/>
          </a:xfrm>
        </p:grpSpPr>
        <p:sp>
          <p:nvSpPr>
            <p:cNvPr id="1378" name=""/>
            <p:cNvSpPr/>
            <p:nvPr/>
          </p:nvSpPr>
          <p:spPr>
            <a:xfrm>
              <a:off x="1608120" y="2806560"/>
              <a:ext cx="3801960" cy="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577880" y="1905120"/>
              <a:ext cx="348660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.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Bemutatja a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ssion 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iket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tet a kapcsolat </a:t>
              </a:r>
              <a:br>
                <a:rPr sz="1800"/>
              </a:b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felvételek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0" name=""/>
          <p:cNvGrpSpPr/>
          <p:nvPr/>
        </p:nvGrpSpPr>
        <p:grpSpPr>
          <a:xfrm>
            <a:off x="304920" y="2978280"/>
            <a:ext cx="3890880" cy="2380680"/>
            <a:chOff x="304920" y="2978280"/>
            <a:chExt cx="3890880" cy="2380680"/>
          </a:xfrm>
        </p:grpSpPr>
        <p:sp>
          <p:nvSpPr>
            <p:cNvPr id="1381" name=""/>
            <p:cNvSpPr/>
            <p:nvPr/>
          </p:nvSpPr>
          <p:spPr>
            <a:xfrm>
              <a:off x="2341440" y="4070520"/>
              <a:ext cx="685800" cy="304560"/>
            </a:xfrm>
            <a:prstGeom prst="rect">
              <a:avLst/>
            </a:prstGeom>
            <a:gradFill rotWithShape="0">
              <a:gsLst>
                <a:gs pos="0">
                  <a:srgbClr val="273d65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G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04920" y="3673440"/>
              <a:ext cx="2757240" cy="16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.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Elküldi a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GT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-t</a:t>
              </a:r>
              <a:br>
                <a:rPr sz="1800"/>
              </a:b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és kér egy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ssion 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iket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tet a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KDC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-től a cél kiszolgálóho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744560" y="3143160"/>
              <a:ext cx="2286000" cy="152424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782720" y="2978280"/>
              <a:ext cx="2413080" cy="160020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85" name="" descr=""/>
          <p:cNvPicPr/>
          <p:nvPr/>
        </p:nvPicPr>
        <p:blipFill>
          <a:blip r:embed="rId4"/>
          <a:stretch/>
        </p:blipFill>
        <p:spPr>
          <a:xfrm>
            <a:off x="762120" y="2114640"/>
            <a:ext cx="1054080" cy="1011240"/>
          </a:xfrm>
          <a:prstGeom prst="rect">
            <a:avLst/>
          </a:prstGeom>
          <a:ln w="0">
            <a:noFill/>
          </a:ln>
        </p:spPr>
      </p:pic>
      <p:sp>
        <p:nvSpPr>
          <p:cNvPr id="1386" name=""/>
          <p:cNvSpPr/>
          <p:nvPr/>
        </p:nvSpPr>
        <p:spPr>
          <a:xfrm flipH="1">
            <a:off x="1790280" y="2908440"/>
            <a:ext cx="3543480" cy="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7" name="" descr=""/>
          <p:cNvPicPr/>
          <p:nvPr/>
        </p:nvPicPr>
        <p:blipFill>
          <a:blip r:embed="rId2"/>
          <a:stretch/>
        </p:blipFill>
        <p:spPr>
          <a:xfrm>
            <a:off x="809640" y="2038320"/>
            <a:ext cx="1054080" cy="1011240"/>
          </a:xfrm>
          <a:prstGeom prst="rect">
            <a:avLst/>
          </a:prstGeom>
          <a:ln w="0">
            <a:noFill/>
          </a:ln>
        </p:spPr>
      </p:pic>
      <p:grpSp>
        <p:nvGrpSpPr>
          <p:cNvPr id="1388" name=""/>
          <p:cNvGrpSpPr/>
          <p:nvPr/>
        </p:nvGrpSpPr>
        <p:grpSpPr>
          <a:xfrm>
            <a:off x="1593720" y="1371600"/>
            <a:ext cx="2346480" cy="915840"/>
            <a:chOff x="1593720" y="1371600"/>
            <a:chExt cx="2346480" cy="915840"/>
          </a:xfrm>
        </p:grpSpPr>
        <p:sp>
          <p:nvSpPr>
            <p:cNvPr id="1389" name=""/>
            <p:cNvSpPr/>
            <p:nvPr/>
          </p:nvSpPr>
          <p:spPr>
            <a:xfrm>
              <a:off x="1654200" y="2287440"/>
              <a:ext cx="2286000" cy="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593720" y="1371600"/>
              <a:ext cx="227664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.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Bemutatja a S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ssion tiket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tet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1" name=""/>
          <p:cNvSpPr/>
          <p:nvPr/>
        </p:nvSpPr>
        <p:spPr>
          <a:xfrm>
            <a:off x="3822840" y="993600"/>
            <a:ext cx="1587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a564"/>
                </a:solidFill>
                <a:latin typeface="Arial"/>
              </a:rPr>
              <a:t>Server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2" name=""/>
          <p:cNvGrpSpPr/>
          <p:nvPr/>
        </p:nvGrpSpPr>
        <p:grpSpPr>
          <a:xfrm>
            <a:off x="428760" y="2936880"/>
            <a:ext cx="3609720" cy="1999440"/>
            <a:chOff x="428760" y="2936880"/>
            <a:chExt cx="3609720" cy="1999440"/>
          </a:xfrm>
        </p:grpSpPr>
        <p:sp>
          <p:nvSpPr>
            <p:cNvPr id="1393" name=""/>
            <p:cNvSpPr/>
            <p:nvPr/>
          </p:nvSpPr>
          <p:spPr>
            <a:xfrm>
              <a:off x="428760" y="3746520"/>
              <a:ext cx="28620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.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Kér egy S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ssio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iket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tet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Server1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-hez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KDC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-től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, 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 („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roxy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”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flag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 = on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844640" y="2936880"/>
              <a:ext cx="2193840" cy="173052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395" name=""/>
          <p:cNvGraphicFramePr/>
          <p:nvPr/>
        </p:nvGraphicFramePr>
        <p:xfrm>
          <a:off x="7439040" y="1886040"/>
          <a:ext cx="1114560" cy="150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39040" y="1886040"/>
                    <a:ext cx="1114560" cy="15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7" name=""/>
          <p:cNvSpPr/>
          <p:nvPr/>
        </p:nvSpPr>
        <p:spPr>
          <a:xfrm>
            <a:off x="7286760" y="1450800"/>
            <a:ext cx="1527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a564"/>
                </a:solidFill>
                <a:latin typeface="Arial"/>
              </a:rPr>
              <a:t>Server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8" name=""/>
          <p:cNvGrpSpPr/>
          <p:nvPr/>
        </p:nvGrpSpPr>
        <p:grpSpPr>
          <a:xfrm>
            <a:off x="4146480" y="2724120"/>
            <a:ext cx="3625920" cy="1924200"/>
            <a:chOff x="4146480" y="2724120"/>
            <a:chExt cx="3625920" cy="1924200"/>
          </a:xfrm>
        </p:grpSpPr>
        <p:sp>
          <p:nvSpPr>
            <p:cNvPr id="1399" name=""/>
            <p:cNvSpPr/>
            <p:nvPr/>
          </p:nvSpPr>
          <p:spPr>
            <a:xfrm>
              <a:off x="4162320" y="2971800"/>
              <a:ext cx="361008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.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Megszemélyesít és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kér egy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iket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tet a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erver2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-höz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146480" y="2724120"/>
              <a:ext cx="0" cy="192420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1" name=""/>
          <p:cNvGrpSpPr/>
          <p:nvPr/>
        </p:nvGrpSpPr>
        <p:grpSpPr>
          <a:xfrm>
            <a:off x="4390920" y="1143000"/>
            <a:ext cx="3041640" cy="1189800"/>
            <a:chOff x="4390920" y="1143000"/>
            <a:chExt cx="3041640" cy="1189800"/>
          </a:xfrm>
        </p:grpSpPr>
        <p:sp>
          <p:nvSpPr>
            <p:cNvPr id="1402" name=""/>
            <p:cNvSpPr/>
            <p:nvPr/>
          </p:nvSpPr>
          <p:spPr>
            <a:xfrm>
              <a:off x="4390920" y="2286000"/>
              <a:ext cx="3041640" cy="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340240" y="1143000"/>
              <a:ext cx="17496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.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ess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iket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Server2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-höz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6367320" y="4572000"/>
            <a:ext cx="1803600" cy="1728720"/>
            <a:chOff x="6367320" y="4572000"/>
            <a:chExt cx="1803600" cy="1728720"/>
          </a:xfrm>
        </p:grpSpPr>
        <p:sp>
          <p:nvSpPr>
            <p:cNvPr id="1405" name=""/>
            <p:cNvSpPr/>
            <p:nvPr/>
          </p:nvSpPr>
          <p:spPr>
            <a:xfrm>
              <a:off x="6367320" y="4572000"/>
              <a:ext cx="1803600" cy="1728720"/>
            </a:xfrm>
            <a:prstGeom prst="triangle">
              <a:avLst>
                <a:gd name="adj" fmla="val 49986"/>
              </a:avLst>
            </a:prstGeom>
            <a:gradFill rotWithShape="0">
              <a:gsLst>
                <a:gs pos="0">
                  <a:srgbClr val="7e3d3f"/>
                </a:gs>
                <a:gs pos="100000">
                  <a:srgbClr val="ff7c8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277040" y="5106960"/>
              <a:ext cx="0" cy="12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196040" y="4952880"/>
              <a:ext cx="158760" cy="14112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H="1">
              <a:off x="7110000" y="5333760"/>
              <a:ext cx="166680" cy="30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292880" y="5351400"/>
              <a:ext cx="249120" cy="30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199280" y="5232240"/>
              <a:ext cx="156960" cy="14292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H="1">
              <a:off x="6805440" y="5708520"/>
              <a:ext cx="27936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110360" y="5697360"/>
              <a:ext cx="298440" cy="37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110360" y="568944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548480" y="5672160"/>
              <a:ext cx="169920" cy="38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727680" y="5992560"/>
              <a:ext cx="158760" cy="14148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468920" y="5610240"/>
              <a:ext cx="158760" cy="14112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024680" y="5610240"/>
              <a:ext cx="156960" cy="14112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630920" y="5992560"/>
              <a:ext cx="158760" cy="14148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327800" y="5992560"/>
              <a:ext cx="157320" cy="14148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030800" y="5992560"/>
              <a:ext cx="158760" cy="14148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1" name=""/>
          <p:cNvSpPr/>
          <p:nvPr/>
        </p:nvSpPr>
        <p:spPr>
          <a:xfrm>
            <a:off x="6411960" y="3949560"/>
            <a:ext cx="2209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ndows 2000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ctive Direc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700440" y="4572000"/>
            <a:ext cx="2725920" cy="1521000"/>
          </a:xfrm>
          <a:prstGeom prst="ellipse">
            <a:avLst/>
          </a:prstGeom>
          <a:gradFill rotWithShape="0">
            <a:gsLst>
              <a:gs pos="0">
                <a:srgbClr val="2a426d"/>
              </a:gs>
              <a:gs pos="100000">
                <a:srgbClr val="5686dc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istributio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er (KD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629160" y="3886200"/>
            <a:ext cx="4948200" cy="289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6402240" y="5165640"/>
            <a:ext cx="560520" cy="158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656880" y="6324480"/>
            <a:ext cx="4894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ndows 2000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artományvezérl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6" name=""/>
          <p:cNvGraphicFramePr/>
          <p:nvPr/>
        </p:nvGraphicFramePr>
        <p:xfrm>
          <a:off x="3954600" y="1433520"/>
          <a:ext cx="1114200" cy="150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4600" y="1433520"/>
                    <a:ext cx="1114200" cy="15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8" name=""/>
          <p:cNvSpPr/>
          <p:nvPr/>
        </p:nvSpPr>
        <p:spPr>
          <a:xfrm>
            <a:off x="1685880" y="2482920"/>
            <a:ext cx="5778720" cy="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öbbrétegű alkalmazáso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Kerberos T</a:t>
            </a:r>
            <a:r>
              <a:rPr b="1" lang="en-US" sz="4400" spc="-1" strike="noStrike">
                <a:solidFill>
                  <a:srgbClr val="fccf00"/>
                </a:solidFill>
                <a:latin typeface="Arial"/>
              </a:rPr>
              <a:t>rust</a:t>
            </a: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 kapcsolatok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1431" name=""/>
          <p:cNvGrpSpPr/>
          <p:nvPr/>
        </p:nvGrpSpPr>
        <p:grpSpPr>
          <a:xfrm>
            <a:off x="3733560" y="1143000"/>
            <a:ext cx="5022720" cy="2163600"/>
            <a:chOff x="3733560" y="1143000"/>
            <a:chExt cx="5022720" cy="2163600"/>
          </a:xfrm>
        </p:grpSpPr>
        <p:sp>
          <p:nvSpPr>
            <p:cNvPr id="1432" name=""/>
            <p:cNvSpPr/>
            <p:nvPr/>
          </p:nvSpPr>
          <p:spPr>
            <a:xfrm>
              <a:off x="5635800" y="2087640"/>
              <a:ext cx="1917720" cy="1218960"/>
            </a:xfrm>
            <a:prstGeom prst="ellipse">
              <a:avLst/>
            </a:prstGeom>
            <a:solidFill>
              <a:srgbClr val="eea564"/>
            </a:solidFill>
            <a:ln w="1260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30517c"/>
                  </a:solidFill>
                  <a:latin typeface="Arial"/>
                </a:rPr>
                <a:t>UNIX</a:t>
              </a:r>
              <a:br>
                <a:rPr sz="1800"/>
              </a:br>
              <a:r>
                <a:rPr b="1" lang="en-US" sz="1800" spc="-1" strike="noStrike">
                  <a:solidFill>
                    <a:srgbClr val="30517c"/>
                  </a:solidFill>
                  <a:latin typeface="Arial"/>
                </a:rPr>
                <a:t>Kerberos </a:t>
              </a:r>
              <a:r>
                <a:rPr b="1" lang="hu-HU" sz="1800" spc="-1" strike="noStrike">
                  <a:solidFill>
                    <a:srgbClr val="30517c"/>
                  </a:solidFill>
                  <a:latin typeface="Arial"/>
                </a:rPr>
                <a:t>R</a:t>
              </a:r>
              <a:r>
                <a:rPr b="1" lang="en-US" sz="1800" spc="-1" strike="noStrike">
                  <a:solidFill>
                    <a:srgbClr val="30517c"/>
                  </a:solidFill>
                  <a:latin typeface="Arial"/>
                </a:rPr>
                <a:t>eal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3733560" y="2717640"/>
              <a:ext cx="1924200" cy="1800"/>
            </a:xfrm>
            <a:prstGeom prst="line">
              <a:avLst/>
            </a:prstGeom>
            <a:ln w="25560">
              <a:solidFill>
                <a:srgbClr val="eea564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4943160" y="1447920"/>
              <a:ext cx="941400" cy="1274760"/>
            </a:xfrm>
            <a:prstGeom prst="line">
              <a:avLst/>
            </a:prstGeom>
            <a:ln w="12600">
              <a:solidFill>
                <a:srgbClr val="eea5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052240" y="1143000"/>
              <a:ext cx="37040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eea564"/>
                  </a:solidFill>
                  <a:latin typeface="Arial"/>
                </a:rPr>
                <a:t>Külön létrehozott </a:t>
              </a:r>
              <a:r>
                <a:rPr b="1" lang="en-US" sz="1800" spc="-1" strike="noStrike">
                  <a:solidFill>
                    <a:srgbClr val="eea564"/>
                  </a:solidFill>
                  <a:latin typeface="Arial"/>
                </a:rPr>
                <a:t>Kerberos tru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6" name=""/>
          <p:cNvGrpSpPr/>
          <p:nvPr/>
        </p:nvGrpSpPr>
        <p:grpSpPr>
          <a:xfrm>
            <a:off x="304920" y="4785840"/>
            <a:ext cx="8839080" cy="1241640"/>
            <a:chOff x="304920" y="4785840"/>
            <a:chExt cx="8839080" cy="1241640"/>
          </a:xfrm>
        </p:grpSpPr>
        <p:sp>
          <p:nvSpPr>
            <p:cNvPr id="1437" name=""/>
            <p:cNvSpPr/>
            <p:nvPr/>
          </p:nvSpPr>
          <p:spPr>
            <a:xfrm flipH="1" flipV="1">
              <a:off x="2325240" y="4785840"/>
              <a:ext cx="871560" cy="1241640"/>
            </a:xfrm>
            <a:prstGeom prst="line">
              <a:avLst/>
            </a:prstGeom>
            <a:ln w="25560">
              <a:solidFill>
                <a:srgbClr val="fccf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04920" y="5105520"/>
              <a:ext cx="251460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ccf00"/>
                  </a:solidFill>
                  <a:latin typeface="Arial"/>
                </a:rPr>
                <a:t>Kézzel konfigurált </a:t>
              </a:r>
              <a:r>
                <a:rPr b="1" lang="en-US" sz="1800" spc="-1" strike="noStrike">
                  <a:solidFill>
                    <a:srgbClr val="fccf00"/>
                  </a:solidFill>
                  <a:latin typeface="Arial"/>
                </a:rPr>
                <a:t>Windows NT 4.0-</a:t>
              </a:r>
              <a:r>
                <a:rPr b="1" lang="hu-HU" sz="1800" spc="-1" strike="noStrike">
                  <a:solidFill>
                    <a:srgbClr val="fccf00"/>
                  </a:solidFill>
                  <a:latin typeface="Arial"/>
                </a:rPr>
                <a:t>féle</a:t>
              </a:r>
              <a:br>
                <a:rPr sz="1800"/>
              </a:br>
              <a:r>
                <a:rPr b="1" lang="en-US" sz="1800" spc="-1" strike="noStrike">
                  <a:solidFill>
                    <a:srgbClr val="fccf00"/>
                  </a:solidFill>
                  <a:latin typeface="Arial"/>
                </a:rPr>
                <a:t>tru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 flipV="1">
              <a:off x="6705720" y="5387760"/>
              <a:ext cx="1676160" cy="21960"/>
            </a:xfrm>
            <a:prstGeom prst="line">
              <a:avLst/>
            </a:prstGeom>
            <a:ln w="25560">
              <a:solidFill>
                <a:srgbClr val="fccf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629400" y="4851360"/>
              <a:ext cx="251460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cf00"/>
                  </a:solidFill>
                  <a:latin typeface="Arial"/>
                </a:rPr>
                <a:t>Windows NT 4.0-</a:t>
              </a:r>
              <a:r>
                <a:rPr b="1" lang="hu-HU" sz="1800" spc="-1" strike="noStrike">
                  <a:solidFill>
                    <a:srgbClr val="fccf00"/>
                  </a:solidFill>
                  <a:latin typeface="Arial"/>
                </a:rPr>
                <a:t>féle</a:t>
              </a:r>
              <a:br>
                <a:rPr sz="1800"/>
              </a:br>
              <a:r>
                <a:rPr b="1" lang="en-US" sz="1800" spc="-1" strike="noStrike">
                  <a:solidFill>
                    <a:srgbClr val="fccf00"/>
                  </a:solidFill>
                  <a:latin typeface="Arial"/>
                </a:rPr>
                <a:t>tru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1" name=""/>
          <p:cNvGrpSpPr/>
          <p:nvPr/>
        </p:nvGrpSpPr>
        <p:grpSpPr>
          <a:xfrm>
            <a:off x="329400" y="1905120"/>
            <a:ext cx="6638760" cy="4589280"/>
            <a:chOff x="329400" y="1905120"/>
            <a:chExt cx="6638760" cy="4589280"/>
          </a:xfrm>
        </p:grpSpPr>
        <p:sp>
          <p:nvSpPr>
            <p:cNvPr id="1442" name=""/>
            <p:cNvSpPr/>
            <p:nvPr/>
          </p:nvSpPr>
          <p:spPr>
            <a:xfrm flipH="1">
              <a:off x="2367000" y="3236760"/>
              <a:ext cx="203040" cy="31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992400" y="3211560"/>
              <a:ext cx="228600" cy="342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44" name=""/>
            <p:cNvGrpSpPr/>
            <p:nvPr/>
          </p:nvGrpSpPr>
          <p:grpSpPr>
            <a:xfrm>
              <a:off x="2576520" y="1905120"/>
              <a:ext cx="1422360" cy="1307880"/>
              <a:chOff x="2576520" y="1905120"/>
              <a:chExt cx="1422360" cy="1307880"/>
            </a:xfrm>
          </p:grpSpPr>
          <p:sp>
            <p:nvSpPr>
              <p:cNvPr id="1445" name=""/>
              <p:cNvSpPr/>
              <p:nvPr/>
            </p:nvSpPr>
            <p:spPr>
              <a:xfrm>
                <a:off x="2576520" y="1905120"/>
                <a:ext cx="1422360" cy="1307880"/>
              </a:xfrm>
              <a:prstGeom prst="triangle">
                <a:avLst>
                  <a:gd name="adj" fmla="val 49995"/>
                </a:avLst>
              </a:prstGeom>
              <a:gradFill rotWithShape="0">
                <a:gsLst>
                  <a:gs pos="0">
                    <a:srgbClr val="2a426d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2774520" y="2781360"/>
                <a:ext cx="102312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oma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47" name=""/>
            <p:cNvGrpSpPr/>
            <p:nvPr/>
          </p:nvGrpSpPr>
          <p:grpSpPr>
            <a:xfrm>
              <a:off x="1649520" y="3560760"/>
              <a:ext cx="1422360" cy="1308240"/>
              <a:chOff x="1649520" y="3560760"/>
              <a:chExt cx="1422360" cy="1308240"/>
            </a:xfrm>
          </p:grpSpPr>
          <p:sp>
            <p:nvSpPr>
              <p:cNvPr id="1448" name=""/>
              <p:cNvSpPr/>
              <p:nvPr/>
            </p:nvSpPr>
            <p:spPr>
              <a:xfrm>
                <a:off x="1649520" y="3560760"/>
                <a:ext cx="1422360" cy="1308240"/>
              </a:xfrm>
              <a:prstGeom prst="triangle">
                <a:avLst>
                  <a:gd name="adj" fmla="val 49995"/>
                </a:avLst>
              </a:prstGeom>
              <a:gradFill rotWithShape="0">
                <a:gsLst>
                  <a:gs pos="0">
                    <a:srgbClr val="2a426d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863360" y="4457880"/>
                <a:ext cx="102312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oma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50" name=""/>
            <p:cNvGrpSpPr/>
            <p:nvPr/>
          </p:nvGrpSpPr>
          <p:grpSpPr>
            <a:xfrm>
              <a:off x="3503520" y="3560760"/>
              <a:ext cx="1422360" cy="1308240"/>
              <a:chOff x="3503520" y="3560760"/>
              <a:chExt cx="1422360" cy="1308240"/>
            </a:xfrm>
          </p:grpSpPr>
          <p:sp>
            <p:nvSpPr>
              <p:cNvPr id="1451" name=""/>
              <p:cNvSpPr/>
              <p:nvPr/>
            </p:nvSpPr>
            <p:spPr>
              <a:xfrm>
                <a:off x="3503520" y="3560760"/>
                <a:ext cx="1422360" cy="1308240"/>
              </a:xfrm>
              <a:prstGeom prst="triangle">
                <a:avLst>
                  <a:gd name="adj" fmla="val 49995"/>
                </a:avLst>
              </a:prstGeom>
              <a:gradFill rotWithShape="0">
                <a:gsLst>
                  <a:gs pos="0">
                    <a:srgbClr val="2a426d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733560" y="4470480"/>
                <a:ext cx="102312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oma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53" name=""/>
            <p:cNvGrpSpPr/>
            <p:nvPr/>
          </p:nvGrpSpPr>
          <p:grpSpPr>
            <a:xfrm>
              <a:off x="2563920" y="5186520"/>
              <a:ext cx="1422360" cy="1307880"/>
              <a:chOff x="2563920" y="5186520"/>
              <a:chExt cx="1422360" cy="1307880"/>
            </a:xfrm>
          </p:grpSpPr>
          <p:sp>
            <p:nvSpPr>
              <p:cNvPr id="1454" name=""/>
              <p:cNvSpPr/>
              <p:nvPr/>
            </p:nvSpPr>
            <p:spPr>
              <a:xfrm>
                <a:off x="2563920" y="5186520"/>
                <a:ext cx="1422360" cy="1307880"/>
              </a:xfrm>
              <a:prstGeom prst="triangle">
                <a:avLst>
                  <a:gd name="adj" fmla="val 49995"/>
                </a:avLst>
              </a:prstGeom>
              <a:gradFill rotWithShape="0">
                <a:gsLst>
                  <a:gs pos="0">
                    <a:srgbClr val="2a426d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777760" y="6095880"/>
                <a:ext cx="102312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oma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56" name=""/>
            <p:cNvSpPr/>
            <p:nvPr/>
          </p:nvSpPr>
          <p:spPr>
            <a:xfrm flipH="1">
              <a:off x="3281400" y="4862520"/>
              <a:ext cx="216000" cy="33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57" name=""/>
            <p:cNvGrpSpPr/>
            <p:nvPr/>
          </p:nvGrpSpPr>
          <p:grpSpPr>
            <a:xfrm>
              <a:off x="4368960" y="5181480"/>
              <a:ext cx="1422360" cy="1308240"/>
              <a:chOff x="4368960" y="5181480"/>
              <a:chExt cx="1422360" cy="1308240"/>
            </a:xfrm>
          </p:grpSpPr>
          <p:sp>
            <p:nvSpPr>
              <p:cNvPr id="1458" name=""/>
              <p:cNvSpPr/>
              <p:nvPr/>
            </p:nvSpPr>
            <p:spPr>
              <a:xfrm>
                <a:off x="4368960" y="5181480"/>
                <a:ext cx="1422360" cy="1308240"/>
              </a:xfrm>
              <a:prstGeom prst="triangle">
                <a:avLst>
                  <a:gd name="adj" fmla="val 49995"/>
                </a:avLst>
              </a:prstGeom>
              <a:gradFill rotWithShape="0">
                <a:gsLst>
                  <a:gs pos="0">
                    <a:srgbClr val="2a426d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4597200" y="6095880"/>
                <a:ext cx="102312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oma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60" name=""/>
            <p:cNvSpPr/>
            <p:nvPr/>
          </p:nvSpPr>
          <p:spPr>
            <a:xfrm>
              <a:off x="1621080" y="1940040"/>
              <a:ext cx="10126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auto.hu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29400" y="3259080"/>
              <a:ext cx="1837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szerviz.auto.hu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875120" y="3429000"/>
              <a:ext cx="20930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budapest.auto.hu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876920" y="4838760"/>
              <a:ext cx="228600" cy="342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2438640" y="3059280"/>
            <a:ext cx="6019560" cy="3036600"/>
            <a:chOff x="2438640" y="3059280"/>
            <a:chExt cx="6019560" cy="3036600"/>
          </a:xfrm>
        </p:grpSpPr>
        <p:sp>
          <p:nvSpPr>
            <p:cNvPr id="1465" name=""/>
            <p:cNvSpPr/>
            <p:nvPr/>
          </p:nvSpPr>
          <p:spPr>
            <a:xfrm>
              <a:off x="6629760" y="4114800"/>
              <a:ext cx="17578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a564"/>
                  </a:solidFill>
                  <a:latin typeface="Arial"/>
                </a:rPr>
                <a:t>Kerberos tru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6705720" y="4495680"/>
              <a:ext cx="1752480" cy="0"/>
            </a:xfrm>
            <a:prstGeom prst="line">
              <a:avLst/>
            </a:prstGeom>
            <a:ln w="25560">
              <a:solidFill>
                <a:srgbClr val="eea564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V="1">
              <a:off x="3309840" y="4795920"/>
              <a:ext cx="936720" cy="1231920"/>
            </a:xfrm>
            <a:prstGeom prst="line">
              <a:avLst/>
            </a:prstGeom>
            <a:ln w="25560">
              <a:solidFill>
                <a:srgbClr val="eea564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 flipV="1">
              <a:off x="3365640" y="3092400"/>
              <a:ext cx="868320" cy="1287360"/>
            </a:xfrm>
            <a:prstGeom prst="line">
              <a:avLst/>
            </a:prstGeom>
            <a:ln w="25560">
              <a:solidFill>
                <a:srgbClr val="eea564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V="1">
              <a:off x="2443320" y="3059280"/>
              <a:ext cx="812520" cy="1295280"/>
            </a:xfrm>
            <a:prstGeom prst="line">
              <a:avLst/>
            </a:prstGeom>
            <a:ln w="25560">
              <a:solidFill>
                <a:srgbClr val="eea564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 flipV="1">
              <a:off x="4419720" y="4808520"/>
              <a:ext cx="868320" cy="1287360"/>
            </a:xfrm>
            <a:prstGeom prst="line">
              <a:avLst/>
            </a:prstGeom>
            <a:ln w="25560">
              <a:solidFill>
                <a:srgbClr val="eea564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438640" y="3581280"/>
              <a:ext cx="17578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a564"/>
                  </a:solidFill>
                  <a:latin typeface="Arial"/>
                </a:rPr>
                <a:t>Kerberos tru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Unix KDC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 használata </a:t>
            </a:r>
            <a:br>
              <a:rPr sz="4800"/>
            </a:b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Windows 2000 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hitelesítésr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pic>
        <p:nvPicPr>
          <p:cNvPr id="1473" name="" descr=""/>
          <p:cNvPicPr/>
          <p:nvPr/>
        </p:nvPicPr>
        <p:blipFill>
          <a:blip r:embed="rId2"/>
          <a:stretch/>
        </p:blipFill>
        <p:spPr>
          <a:xfrm>
            <a:off x="1077840" y="4986360"/>
            <a:ext cx="862200" cy="833400"/>
          </a:xfrm>
          <a:prstGeom prst="rect">
            <a:avLst/>
          </a:prstGeom>
          <a:ln w="0">
            <a:noFill/>
          </a:ln>
        </p:spPr>
      </p:pic>
      <p:grpSp>
        <p:nvGrpSpPr>
          <p:cNvPr id="1474" name=""/>
          <p:cNvGrpSpPr/>
          <p:nvPr/>
        </p:nvGrpSpPr>
        <p:grpSpPr>
          <a:xfrm>
            <a:off x="6054840" y="5021280"/>
            <a:ext cx="690480" cy="750600"/>
            <a:chOff x="6054840" y="5021280"/>
            <a:chExt cx="690480" cy="750600"/>
          </a:xfrm>
        </p:grpSpPr>
        <p:sp>
          <p:nvSpPr>
            <p:cNvPr id="1475" name=""/>
            <p:cNvSpPr/>
            <p:nvPr/>
          </p:nvSpPr>
          <p:spPr>
            <a:xfrm>
              <a:off x="6294600" y="5045040"/>
              <a:ext cx="299880" cy="72684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311880" y="5427720"/>
              <a:ext cx="266760" cy="30924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311880" y="5178240"/>
              <a:ext cx="254160" cy="20808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054840" y="5022720"/>
              <a:ext cx="539640" cy="3024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054840" y="5022720"/>
              <a:ext cx="241200" cy="74916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267600" y="5048280"/>
              <a:ext cx="28440" cy="72360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311880" y="5176800"/>
              <a:ext cx="266760" cy="21744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311880" y="5137200"/>
              <a:ext cx="2667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311880" y="5072040"/>
              <a:ext cx="266760" cy="3636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054840" y="5021280"/>
              <a:ext cx="5396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292800" y="5045040"/>
              <a:ext cx="301680" cy="72684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054840" y="5022720"/>
              <a:ext cx="239760" cy="74916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267600" y="5049720"/>
              <a:ext cx="0" cy="70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267600" y="505908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267600" y="511164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11880" y="5072040"/>
              <a:ext cx="266760" cy="3636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267600" y="512748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267600" y="517680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267600" y="537516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11880" y="518796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577200" y="5178240"/>
              <a:ext cx="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11880" y="5178240"/>
              <a:ext cx="254160" cy="20628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564240" y="5370480"/>
              <a:ext cx="129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H="1">
              <a:off x="6311520" y="5243400"/>
              <a:ext cx="2523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6311520" y="5310000"/>
              <a:ext cx="2523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267600" y="5427720"/>
              <a:ext cx="326880" cy="266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267600" y="5707080"/>
              <a:ext cx="326880" cy="3312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311880" y="544356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577200" y="5427720"/>
              <a:ext cx="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311880" y="5688000"/>
              <a:ext cx="266760" cy="3312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311880" y="5675040"/>
              <a:ext cx="2667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311880" y="5664240"/>
              <a:ext cx="2667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311880" y="5651280"/>
              <a:ext cx="266760" cy="2880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311880" y="5637240"/>
              <a:ext cx="266760" cy="2988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311880" y="5073480"/>
              <a:ext cx="254160" cy="3348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564240" y="509724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373800" y="5137200"/>
              <a:ext cx="14292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311880" y="5137200"/>
              <a:ext cx="266760" cy="3780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311880" y="5154480"/>
              <a:ext cx="20484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>
              <a:off x="6515280" y="5157720"/>
              <a:ext cx="619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515280" y="5137200"/>
              <a:ext cx="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324840" y="508932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361200" y="5087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397560" y="5087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435720" y="5087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473880" y="5086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508800" y="5083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546960" y="5083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551640" y="5178240"/>
              <a:ext cx="27000" cy="19368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593040" y="5668920"/>
              <a:ext cx="152280" cy="7128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25" name=""/>
          <p:cNvSpPr/>
          <p:nvPr/>
        </p:nvSpPr>
        <p:spPr>
          <a:xfrm>
            <a:off x="609480" y="5866560"/>
            <a:ext cx="290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2000 Profess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5481720" y="5626080"/>
            <a:ext cx="291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2000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7" name=""/>
          <p:cNvGrpSpPr/>
          <p:nvPr/>
        </p:nvGrpSpPr>
        <p:grpSpPr>
          <a:xfrm>
            <a:off x="1909800" y="3097080"/>
            <a:ext cx="690480" cy="750600"/>
            <a:chOff x="1909800" y="3097080"/>
            <a:chExt cx="690480" cy="750600"/>
          </a:xfrm>
        </p:grpSpPr>
        <p:sp>
          <p:nvSpPr>
            <p:cNvPr id="1528" name=""/>
            <p:cNvSpPr/>
            <p:nvPr/>
          </p:nvSpPr>
          <p:spPr>
            <a:xfrm>
              <a:off x="2149560" y="3120840"/>
              <a:ext cx="299880" cy="72684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166840" y="3503520"/>
              <a:ext cx="266760" cy="30924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166840" y="3254040"/>
              <a:ext cx="254160" cy="20808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909800" y="3098520"/>
              <a:ext cx="539640" cy="3024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909800" y="3098520"/>
              <a:ext cx="241200" cy="74916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122560" y="3124080"/>
              <a:ext cx="28440" cy="72360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166840" y="3252600"/>
              <a:ext cx="266760" cy="21744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166840" y="3213000"/>
              <a:ext cx="2667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166840" y="3147840"/>
              <a:ext cx="266760" cy="3636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909800" y="3097080"/>
              <a:ext cx="5396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147760" y="3120840"/>
              <a:ext cx="301680" cy="72684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909800" y="3098520"/>
              <a:ext cx="239760" cy="74916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122560" y="3125520"/>
              <a:ext cx="0" cy="70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122560" y="313488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122560" y="318744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166840" y="3147840"/>
              <a:ext cx="266760" cy="3636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122560" y="320328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122560" y="325260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122560" y="345096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166840" y="326376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432160" y="3254040"/>
              <a:ext cx="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166840" y="3254040"/>
              <a:ext cx="254160" cy="20628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419200" y="3446280"/>
              <a:ext cx="129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H="1">
              <a:off x="2166480" y="3319200"/>
              <a:ext cx="2523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H="1">
              <a:off x="2166480" y="3385800"/>
              <a:ext cx="2523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122560" y="3503520"/>
              <a:ext cx="326880" cy="266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122560" y="3782880"/>
              <a:ext cx="326880" cy="3312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166840" y="351936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432160" y="3503520"/>
              <a:ext cx="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166840" y="3763800"/>
              <a:ext cx="266760" cy="3312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166840" y="3750840"/>
              <a:ext cx="2667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166840" y="3740040"/>
              <a:ext cx="2667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166840" y="3727080"/>
              <a:ext cx="266760" cy="2880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2166840" y="3713040"/>
              <a:ext cx="266760" cy="2988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166840" y="3149280"/>
              <a:ext cx="254160" cy="3348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419200" y="317304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228760" y="3213000"/>
              <a:ext cx="14292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166840" y="3213000"/>
              <a:ext cx="266760" cy="3780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166840" y="3230280"/>
              <a:ext cx="20484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>
              <a:off x="2370240" y="3233520"/>
              <a:ext cx="619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370240" y="3213000"/>
              <a:ext cx="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179800" y="316512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216160" y="3163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252520" y="3163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290680" y="3163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328840" y="3161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363760" y="3159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401920" y="3159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406600" y="3254040"/>
              <a:ext cx="27000" cy="19368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448000" y="3744720"/>
              <a:ext cx="152280" cy="7128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8" name=""/>
          <p:cNvGrpSpPr/>
          <p:nvPr/>
        </p:nvGrpSpPr>
        <p:grpSpPr>
          <a:xfrm>
            <a:off x="6780240" y="3097080"/>
            <a:ext cx="690480" cy="750600"/>
            <a:chOff x="6780240" y="3097080"/>
            <a:chExt cx="690480" cy="750600"/>
          </a:xfrm>
        </p:grpSpPr>
        <p:sp>
          <p:nvSpPr>
            <p:cNvPr id="1579" name=""/>
            <p:cNvSpPr/>
            <p:nvPr/>
          </p:nvSpPr>
          <p:spPr>
            <a:xfrm>
              <a:off x="7020000" y="3120840"/>
              <a:ext cx="299880" cy="72684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037280" y="3503520"/>
              <a:ext cx="266760" cy="30924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037280" y="3254040"/>
              <a:ext cx="254160" cy="20808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780240" y="3098520"/>
              <a:ext cx="539640" cy="3024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780240" y="3098520"/>
              <a:ext cx="241200" cy="74916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993000" y="3124080"/>
              <a:ext cx="28440" cy="72360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037280" y="3252600"/>
              <a:ext cx="266760" cy="21744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037280" y="3213000"/>
              <a:ext cx="2667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037280" y="3147840"/>
              <a:ext cx="266760" cy="3636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780240" y="3097080"/>
              <a:ext cx="5396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018200" y="3120840"/>
              <a:ext cx="301680" cy="72684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780240" y="3098520"/>
              <a:ext cx="239760" cy="74916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993000" y="3125520"/>
              <a:ext cx="0" cy="70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993000" y="313488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993000" y="318744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037280" y="3147840"/>
              <a:ext cx="266760" cy="3636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993000" y="320328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993000" y="325260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993000" y="345096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037280" y="326376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302600" y="3254040"/>
              <a:ext cx="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037280" y="3254040"/>
              <a:ext cx="254160" cy="20628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289640" y="3446280"/>
              <a:ext cx="129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>
              <a:off x="7036920" y="3319200"/>
              <a:ext cx="2523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7036920" y="3385800"/>
              <a:ext cx="2523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993000" y="3503520"/>
              <a:ext cx="326880" cy="266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993000" y="3782880"/>
              <a:ext cx="326880" cy="3312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037280" y="351936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302600" y="3503520"/>
              <a:ext cx="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037280" y="3763800"/>
              <a:ext cx="266760" cy="3312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037280" y="3750840"/>
              <a:ext cx="2667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037280" y="3740040"/>
              <a:ext cx="2667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037280" y="3727080"/>
              <a:ext cx="266760" cy="2880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037280" y="3713040"/>
              <a:ext cx="266760" cy="2988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037280" y="3149280"/>
              <a:ext cx="254160" cy="3348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289640" y="317304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099200" y="3213000"/>
              <a:ext cx="14292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037280" y="3213000"/>
              <a:ext cx="266760" cy="3780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037280" y="3230280"/>
              <a:ext cx="20484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>
              <a:off x="7240680" y="3233520"/>
              <a:ext cx="619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240680" y="3213000"/>
              <a:ext cx="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050240" y="316512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086600" y="3163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122960" y="3163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161120" y="3163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199280" y="3161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234200" y="3159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272360" y="3159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277040" y="3254040"/>
              <a:ext cx="27000" cy="19368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318440" y="3744720"/>
              <a:ext cx="152280" cy="7128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9" name=""/>
          <p:cNvSpPr/>
          <p:nvPr/>
        </p:nvSpPr>
        <p:spPr>
          <a:xfrm flipV="1">
            <a:off x="2233440" y="2792160"/>
            <a:ext cx="4714920" cy="1116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1355760" y="2269080"/>
            <a:ext cx="192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company.real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6504480" y="223920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uto.h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30120" y="2792520"/>
            <a:ext cx="3767040" cy="35510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086440" y="2792520"/>
            <a:ext cx="3767040" cy="35510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1019520" y="2973960"/>
            <a:ext cx="71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D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7063560" y="2665800"/>
            <a:ext cx="185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2000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D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6" name=""/>
          <p:cNvGrpSpPr/>
          <p:nvPr/>
        </p:nvGrpSpPr>
        <p:grpSpPr>
          <a:xfrm>
            <a:off x="766800" y="3801960"/>
            <a:ext cx="1255680" cy="1139760"/>
            <a:chOff x="766800" y="3801960"/>
            <a:chExt cx="1255680" cy="1139760"/>
          </a:xfrm>
        </p:grpSpPr>
        <p:sp>
          <p:nvSpPr>
            <p:cNvPr id="1637" name=""/>
            <p:cNvSpPr/>
            <p:nvPr/>
          </p:nvSpPr>
          <p:spPr>
            <a:xfrm flipV="1">
              <a:off x="1608120" y="3801960"/>
              <a:ext cx="414360" cy="11397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374840" y="4150080"/>
              <a:ext cx="41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66800" y="4392720"/>
              <a:ext cx="685800" cy="304560"/>
            </a:xfrm>
            <a:prstGeom prst="rect">
              <a:avLst/>
            </a:prstGeom>
            <a:gradFill rotWithShape="0">
              <a:gsLst>
                <a:gs pos="0">
                  <a:srgbClr val="273d65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G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0" name=""/>
          <p:cNvGrpSpPr/>
          <p:nvPr/>
        </p:nvGrpSpPr>
        <p:grpSpPr>
          <a:xfrm>
            <a:off x="1887480" y="3161160"/>
            <a:ext cx="4872240" cy="1945440"/>
            <a:chOff x="1887480" y="3161160"/>
            <a:chExt cx="4872240" cy="1945440"/>
          </a:xfrm>
        </p:grpSpPr>
        <p:sp>
          <p:nvSpPr>
            <p:cNvPr id="1641" name=""/>
            <p:cNvSpPr/>
            <p:nvPr/>
          </p:nvSpPr>
          <p:spPr>
            <a:xfrm flipV="1">
              <a:off x="1887480" y="3428640"/>
              <a:ext cx="4872240" cy="16779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454720" y="3161160"/>
              <a:ext cx="39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889520" y="3429000"/>
              <a:ext cx="665280" cy="304920"/>
            </a:xfrm>
            <a:prstGeom prst="rect">
              <a:avLst/>
            </a:prstGeom>
            <a:gradFill rotWithShape="0">
              <a:gsLst>
                <a:gs pos="0">
                  <a:srgbClr val="273d65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TG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4" name=""/>
          <p:cNvSpPr/>
          <p:nvPr/>
        </p:nvSpPr>
        <p:spPr>
          <a:xfrm>
            <a:off x="7213680" y="4419720"/>
            <a:ext cx="1930320" cy="1191240"/>
          </a:xfrm>
          <a:prstGeom prst="borderCallout2">
            <a:avLst>
              <a:gd name="adj1" fmla="val 18750"/>
              <a:gd name="adj2" fmla="val -8333"/>
              <a:gd name="adj3" fmla="val 7226"/>
              <a:gd name="adj4" fmla="val -6824"/>
              <a:gd name="adj5" fmla="val -70421"/>
              <a:gd name="adj6" fmla="val -9861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név és egy Windows NT felhasználó összerendelé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5" name=""/>
          <p:cNvGrpSpPr/>
          <p:nvPr/>
        </p:nvGrpSpPr>
        <p:grpSpPr>
          <a:xfrm>
            <a:off x="1940040" y="3655800"/>
            <a:ext cx="4871880" cy="1677960"/>
            <a:chOff x="1940040" y="3655800"/>
            <a:chExt cx="4871880" cy="1677960"/>
          </a:xfrm>
        </p:grpSpPr>
        <p:sp>
          <p:nvSpPr>
            <p:cNvPr id="1646" name=""/>
            <p:cNvSpPr/>
            <p:nvPr/>
          </p:nvSpPr>
          <p:spPr>
            <a:xfrm flipV="1">
              <a:off x="1940040" y="3655800"/>
              <a:ext cx="4871880" cy="16779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791320" y="4167720"/>
              <a:ext cx="39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940280" y="4335480"/>
              <a:ext cx="851040" cy="304920"/>
            </a:xfrm>
            <a:prstGeom prst="rect">
              <a:avLst/>
            </a:prstGeom>
            <a:solidFill>
              <a:srgbClr val="ff7c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tiket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1825560" y="4683240"/>
            <a:ext cx="4168800" cy="1576800"/>
            <a:chOff x="1825560" y="4683240"/>
            <a:chExt cx="4168800" cy="1576800"/>
          </a:xfrm>
        </p:grpSpPr>
        <p:sp>
          <p:nvSpPr>
            <p:cNvPr id="1650" name=""/>
            <p:cNvSpPr/>
            <p:nvPr/>
          </p:nvSpPr>
          <p:spPr>
            <a:xfrm>
              <a:off x="1825560" y="5506920"/>
              <a:ext cx="4168800" cy="64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736800" y="4798080"/>
              <a:ext cx="41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874960" y="5091120"/>
              <a:ext cx="965160" cy="304920"/>
            </a:xfrm>
            <a:prstGeom prst="rect">
              <a:avLst/>
            </a:prstGeom>
            <a:gradFill rotWithShape="0">
              <a:gsLst>
                <a:gs pos="0">
                  <a:srgbClr val="75393b"/>
                </a:gs>
                <a:gs pos="100000">
                  <a:srgbClr val="ff7c8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tiket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962520" y="5727600"/>
              <a:ext cx="1587240" cy="532440"/>
            </a:xfrm>
            <a:prstGeom prst="borderCallout2">
              <a:avLst>
                <a:gd name="adj1" fmla="val 18750"/>
                <a:gd name="adj2" fmla="val -8333"/>
                <a:gd name="adj3" fmla="val 13740"/>
                <a:gd name="adj4" fmla="val -18898"/>
                <a:gd name="adj5" fmla="val -63509"/>
                <a:gd name="adj6" fmla="val -33578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Hitelesítési adat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V="1">
              <a:off x="4930920" y="4683240"/>
              <a:ext cx="469800" cy="1025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Kerberos 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p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roto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koll előnyei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415360" cy="56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Gyorsabb hitelesít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kálázhatóbb kiszolgáló alkalmazáso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gy gyorsítótár segítségével a jegyek újra felhasználható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Ügyfél és kiszolgáló kölcsönös hitelesíté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hitelesítés delegálhat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itelesítés több rétegű ügyfél/kiszolgáló felépítés eseté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zitív bizalmi kapcsolat a tartományok közöt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gyszerűsödik a tartományok közötti menedzs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Érett és elterjed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ETF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abván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"/>
          <p:cNvSpPr/>
          <p:nvPr/>
        </p:nvSpPr>
        <p:spPr>
          <a:xfrm>
            <a:off x="3071880" y="2612880"/>
            <a:ext cx="0" cy="460440"/>
          </a:xfrm>
          <a:prstGeom prst="line">
            <a:avLst/>
          </a:prstGeom>
          <a:ln w="25560">
            <a:solidFill>
              <a:srgbClr val="eea56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495680" y="2595600"/>
            <a:ext cx="12960" cy="455400"/>
          </a:xfrm>
          <a:prstGeom prst="line">
            <a:avLst/>
          </a:prstGeom>
          <a:ln w="25560">
            <a:solidFill>
              <a:srgbClr val="eea56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H="1">
            <a:off x="1459080" y="2776680"/>
            <a:ext cx="2880" cy="307800"/>
          </a:xfrm>
          <a:prstGeom prst="line">
            <a:avLst/>
          </a:prstGeom>
          <a:ln w="25560">
            <a:solidFill>
              <a:srgbClr val="eea56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124080" y="3565440"/>
            <a:ext cx="0" cy="228600"/>
          </a:xfrm>
          <a:prstGeom prst="line">
            <a:avLst/>
          </a:prstGeom>
          <a:ln w="25560">
            <a:solidFill>
              <a:srgbClr val="eea56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4459320" y="3546360"/>
            <a:ext cx="0" cy="247680"/>
          </a:xfrm>
          <a:prstGeom prst="line">
            <a:avLst/>
          </a:prstGeom>
          <a:ln w="25560">
            <a:solidFill>
              <a:srgbClr val="eea56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5884920" y="3552840"/>
            <a:ext cx="0" cy="228600"/>
          </a:xfrm>
          <a:prstGeom prst="line">
            <a:avLst/>
          </a:prstGeom>
          <a:ln w="25560">
            <a:solidFill>
              <a:srgbClr val="eea56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1447920" y="3565440"/>
            <a:ext cx="0" cy="228600"/>
          </a:xfrm>
          <a:prstGeom prst="line">
            <a:avLst/>
          </a:prstGeom>
          <a:ln w="25560">
            <a:solidFill>
              <a:srgbClr val="eea56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 flipV="1">
            <a:off x="928800" y="3795480"/>
            <a:ext cx="7224480" cy="14040"/>
          </a:xfrm>
          <a:prstGeom prst="line">
            <a:avLst/>
          </a:prstGeom>
          <a:ln w="5076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2178000" y="3067200"/>
            <a:ext cx="1704960" cy="484200"/>
          </a:xfrm>
          <a:prstGeom prst="rect">
            <a:avLst/>
          </a:prstGeom>
          <a:gradFill rotWithShape="0">
            <a:gsLst>
              <a:gs pos="0">
                <a:srgbClr val="2a426d"/>
              </a:gs>
              <a:gs pos="100000">
                <a:srgbClr val="5686d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e RP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3975120" y="3059280"/>
            <a:ext cx="1193760" cy="492120"/>
          </a:xfrm>
          <a:prstGeom prst="rect">
            <a:avLst/>
          </a:prstGeom>
          <a:gradFill rotWithShape="0">
            <a:gsLst>
              <a:gs pos="0">
                <a:srgbClr val="2a426d"/>
              </a:gs>
              <a:gs pos="100000">
                <a:srgbClr val="5686d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8151480" y="3527280"/>
            <a:ext cx="99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a564"/>
                </a:solidFill>
                <a:latin typeface="Arial"/>
              </a:rPr>
              <a:t>SSP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4038480" y="2149560"/>
            <a:ext cx="895320" cy="587160"/>
          </a:xfrm>
          <a:prstGeom prst="rect">
            <a:avLst/>
          </a:prstGeom>
          <a:gradFill rotWithShape="0">
            <a:gsLst>
              <a:gs pos="0">
                <a:srgbClr val="6d4c2e"/>
              </a:gs>
              <a:gs pos="100000">
                <a:srgbClr val="eea564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1965240" y="4038480"/>
            <a:ext cx="1273320" cy="727200"/>
          </a:xfrm>
          <a:prstGeom prst="rect">
            <a:avLst/>
          </a:prstGeom>
          <a:gradFill rotWithShape="0">
            <a:gsLst>
              <a:gs pos="0">
                <a:srgbClr val="00795a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TL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780000" y="4073400"/>
            <a:ext cx="1274760" cy="727200"/>
          </a:xfrm>
          <a:prstGeom prst="rect">
            <a:avLst/>
          </a:prstGeom>
          <a:gradFill rotWithShape="0">
            <a:gsLst>
              <a:gs pos="0">
                <a:srgbClr val="00795a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rber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640480" y="4064040"/>
            <a:ext cx="1292040" cy="727200"/>
          </a:xfrm>
          <a:prstGeom prst="rect">
            <a:avLst/>
          </a:prstGeom>
          <a:gradFill rotWithShape="0">
            <a:gsLst>
              <a:gs pos="0">
                <a:srgbClr val="00795a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anne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SL/T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721400" y="4054320"/>
            <a:ext cx="13525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2662200" y="3821040"/>
            <a:ext cx="0" cy="228600"/>
          </a:xfrm>
          <a:prstGeom prst="line">
            <a:avLst/>
          </a:prstGeom>
          <a:ln w="25560">
            <a:solidFill>
              <a:srgbClr val="eea56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371840" y="3854520"/>
            <a:ext cx="0" cy="228600"/>
          </a:xfrm>
          <a:prstGeom prst="line">
            <a:avLst/>
          </a:prstGeom>
          <a:ln w="25560">
            <a:solidFill>
              <a:srgbClr val="eea56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315120" y="3832200"/>
            <a:ext cx="0" cy="228600"/>
          </a:xfrm>
          <a:prstGeom prst="line">
            <a:avLst/>
          </a:prstGeom>
          <a:ln w="25560">
            <a:solidFill>
              <a:srgbClr val="eea56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874880" y="5170320"/>
            <a:ext cx="1409760" cy="993960"/>
          </a:xfrm>
          <a:prstGeom prst="ellipse">
            <a:avLst/>
          </a:prstGeom>
          <a:gradFill rotWithShape="0">
            <a:gsLst>
              <a:gs pos="0">
                <a:srgbClr val="7d6600"/>
              </a:gs>
              <a:gs pos="100000">
                <a:srgbClr val="fccf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TL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666960" y="5181480"/>
            <a:ext cx="1409760" cy="993960"/>
          </a:xfrm>
          <a:prstGeom prst="ellipse">
            <a:avLst/>
          </a:prstGeom>
          <a:gradFill rotWithShape="0">
            <a:gsLst>
              <a:gs pos="0">
                <a:srgbClr val="7d6600"/>
              </a:gs>
              <a:gs pos="100000">
                <a:srgbClr val="fccf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DC/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8" name=""/>
          <p:cNvGrpSpPr/>
          <p:nvPr/>
        </p:nvGrpSpPr>
        <p:grpSpPr>
          <a:xfrm>
            <a:off x="5564160" y="5170320"/>
            <a:ext cx="1446120" cy="993960"/>
            <a:chOff x="5564160" y="5170320"/>
            <a:chExt cx="1446120" cy="993960"/>
          </a:xfrm>
        </p:grpSpPr>
        <p:sp>
          <p:nvSpPr>
            <p:cNvPr id="1679" name=""/>
            <p:cNvSpPr/>
            <p:nvPr/>
          </p:nvSpPr>
          <p:spPr>
            <a:xfrm>
              <a:off x="5564160" y="5170320"/>
              <a:ext cx="1446120" cy="993960"/>
            </a:xfrm>
            <a:prstGeom prst="ellipse">
              <a:avLst/>
            </a:prstGeom>
            <a:gradFill rotWithShape="0">
              <a:gsLst>
                <a:gs pos="0">
                  <a:srgbClr val="7d6600"/>
                </a:gs>
                <a:gs pos="100000">
                  <a:srgbClr val="fccf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80" name=""/>
            <p:cNvGrpSpPr/>
            <p:nvPr/>
          </p:nvGrpSpPr>
          <p:grpSpPr>
            <a:xfrm>
              <a:off x="6184800" y="5392800"/>
              <a:ext cx="632880" cy="615960"/>
              <a:chOff x="6184800" y="5392800"/>
              <a:chExt cx="632880" cy="615960"/>
            </a:xfrm>
          </p:grpSpPr>
          <p:graphicFrame>
            <p:nvGraphicFramePr>
              <p:cNvPr id="1681" name=""/>
              <p:cNvGraphicFramePr/>
              <p:nvPr/>
            </p:nvGraphicFramePr>
            <p:xfrm>
              <a:off x="6184800" y="5392800"/>
              <a:ext cx="632880" cy="61596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682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6184800" y="5392800"/>
                        <a:ext cx="632880" cy="615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83" name=""/>
              <p:cNvSpPr/>
              <p:nvPr/>
            </p:nvSpPr>
            <p:spPr>
              <a:xfrm>
                <a:off x="6284520" y="5521320"/>
                <a:ext cx="1836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684" name=""/>
            <p:cNvGraphicFramePr/>
            <p:nvPr/>
          </p:nvGraphicFramePr>
          <p:xfrm>
            <a:off x="5738760" y="5391000"/>
            <a:ext cx="432720" cy="6177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68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738760" y="5391000"/>
                      <a:ext cx="432720" cy="61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86" name=""/>
          <p:cNvSpPr/>
          <p:nvPr/>
        </p:nvSpPr>
        <p:spPr>
          <a:xfrm>
            <a:off x="2544840" y="2135880"/>
            <a:ext cx="1036440" cy="614880"/>
          </a:xfrm>
          <a:prstGeom prst="rect">
            <a:avLst/>
          </a:prstGeom>
          <a:gradFill rotWithShape="0">
            <a:gsLst>
              <a:gs pos="0">
                <a:srgbClr val="6d4c2e"/>
              </a:gs>
              <a:gs pos="100000">
                <a:srgbClr val="eea564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+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2579760" y="4767120"/>
            <a:ext cx="3240" cy="420840"/>
          </a:xfrm>
          <a:prstGeom prst="line">
            <a:avLst/>
          </a:prstGeom>
          <a:ln w="25560">
            <a:solidFill>
              <a:srgbClr val="eea56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4386240" y="4756320"/>
            <a:ext cx="7920" cy="431640"/>
          </a:xfrm>
          <a:prstGeom prst="line">
            <a:avLst/>
          </a:prstGeom>
          <a:ln w="25560">
            <a:solidFill>
              <a:srgbClr val="eea56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6299280" y="4768920"/>
            <a:ext cx="1440" cy="412560"/>
          </a:xfrm>
          <a:prstGeom prst="line">
            <a:avLst/>
          </a:prstGeom>
          <a:ln w="25560">
            <a:solidFill>
              <a:srgbClr val="eea56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6638760" y="3049560"/>
            <a:ext cx="1521000" cy="487440"/>
          </a:xfrm>
          <a:prstGeom prst="rect">
            <a:avLst/>
          </a:prstGeom>
          <a:gradFill rotWithShape="0">
            <a:gsLst>
              <a:gs pos="0">
                <a:srgbClr val="2a426d"/>
              </a:gs>
              <a:gs pos="100000">
                <a:srgbClr val="5686d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P3, NN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705720" y="2149560"/>
            <a:ext cx="1371600" cy="587160"/>
          </a:xfrm>
          <a:prstGeom prst="rect">
            <a:avLst/>
          </a:prstGeom>
          <a:gradFill rotWithShape="0">
            <a:gsLst>
              <a:gs pos="0">
                <a:srgbClr val="6d4c2e"/>
              </a:gs>
              <a:gs pos="100000">
                <a:srgbClr val="eea564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l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906480" y="3067200"/>
            <a:ext cx="1219320" cy="484200"/>
          </a:xfrm>
          <a:prstGeom prst="rect">
            <a:avLst/>
          </a:prstGeom>
          <a:gradFill rotWithShape="0">
            <a:gsLst>
              <a:gs pos="0">
                <a:srgbClr val="2a426d"/>
              </a:gs>
              <a:gs pos="100000">
                <a:srgbClr val="5686d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FS/SM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838080" y="2135880"/>
            <a:ext cx="1371600" cy="614880"/>
          </a:xfrm>
          <a:prstGeom prst="rect">
            <a:avLst/>
          </a:prstGeom>
          <a:gradFill rotWithShape="0">
            <a:gsLst>
              <a:gs pos="0">
                <a:srgbClr val="6d4c2e"/>
              </a:gs>
              <a:gs pos="100000">
                <a:srgbClr val="eea564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ájl eléré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06080" y="269640"/>
            <a:ext cx="8737560" cy="1409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Hitelesítést használó szolgáltatáso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5286240" y="3036960"/>
            <a:ext cx="1184400" cy="50544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DA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5181480" y="2149560"/>
            <a:ext cx="1403640" cy="587160"/>
          </a:xfrm>
          <a:prstGeom prst="rect">
            <a:avLst/>
          </a:prstGeom>
          <a:gradFill rotWithShape="0">
            <a:gsLst>
              <a:gs pos="0">
                <a:srgbClr val="6d4c2e"/>
              </a:gs>
              <a:gs pos="100000">
                <a:srgbClr val="eea564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DSI alkalmazá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5867280" y="2743200"/>
            <a:ext cx="0" cy="274680"/>
          </a:xfrm>
          <a:prstGeom prst="line">
            <a:avLst/>
          </a:prstGeom>
          <a:ln w="25560">
            <a:solidFill>
              <a:srgbClr val="eea56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389720" y="2792520"/>
            <a:ext cx="0" cy="274680"/>
          </a:xfrm>
          <a:prstGeom prst="line">
            <a:avLst/>
          </a:prstGeom>
          <a:ln w="25560">
            <a:solidFill>
              <a:srgbClr val="eea56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7391520" y="3581280"/>
            <a:ext cx="0" cy="228600"/>
          </a:xfrm>
          <a:prstGeom prst="line">
            <a:avLst/>
          </a:prstGeom>
          <a:ln w="25560">
            <a:solidFill>
              <a:srgbClr val="eea56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Kerberos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 történelm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64680" cy="5142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60880" indent="-5608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rberos IV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T Athena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projek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880" indent="-5608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rberos IV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-et sok egyetemen használják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ok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rberiz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ált UNIX-os alkalmazá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880" indent="-5608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rberos IV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-et használta az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rew File System (AF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880" indent="-5608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rberos v5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zabványo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RFC-1510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880" indent="-5608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rberos IV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é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rberos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EM működnek együtt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880" indent="-5608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n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dow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00 Kerberos v5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-öt valósít me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Kik implementálták a 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Kerberos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?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763120" cy="4514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yberSaf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CE Kerber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uter Associates (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egvett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tinum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-o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egvette az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nVision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-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n (Solaris 7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-tő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BM OS/390 (DC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imd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78960" cy="1079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Egy kis ismétlés</a:t>
            </a:r>
            <a:br>
              <a:rPr sz="4800"/>
            </a:br>
            <a:r>
              <a:rPr b="1" lang="hu-HU" sz="2400" spc="-1" strike="noStrike">
                <a:solidFill>
                  <a:srgbClr val="eea564"/>
                </a:solidFill>
                <a:latin typeface="Arial"/>
              </a:rPr>
              <a:t>Csoportos házirend működése</a:t>
            </a:r>
            <a:endParaRPr b="1" lang="en-US" sz="24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42720" y="1137960"/>
            <a:ext cx="8415000" cy="1248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ulcs fogalma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ntelliMirror, GPO, GPOLink, Öröklődés, No Override, Block, Loopback processing, AG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919920" y="5880240"/>
            <a:ext cx="1142640" cy="977040"/>
            <a:chOff x="6919920" y="5880240"/>
            <a:chExt cx="1142640" cy="977040"/>
          </a:xfrm>
        </p:grpSpPr>
        <p:grpSp>
          <p:nvGrpSpPr>
            <p:cNvPr id="150" name=""/>
            <p:cNvGrpSpPr/>
            <p:nvPr/>
          </p:nvGrpSpPr>
          <p:grpSpPr>
            <a:xfrm>
              <a:off x="6919920" y="5880240"/>
              <a:ext cx="852120" cy="769680"/>
              <a:chOff x="6919920" y="5880240"/>
              <a:chExt cx="852120" cy="769680"/>
            </a:xfrm>
          </p:grpSpPr>
          <p:sp>
            <p:nvSpPr>
              <p:cNvPr id="151" name=""/>
              <p:cNvSpPr/>
              <p:nvPr/>
            </p:nvSpPr>
            <p:spPr>
              <a:xfrm>
                <a:off x="6955560" y="6433200"/>
                <a:ext cx="816480" cy="2167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955560" y="6433200"/>
                <a:ext cx="816480" cy="2167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919920" y="5880240"/>
                <a:ext cx="526320" cy="48636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919920" y="5880240"/>
                <a:ext cx="526320" cy="48636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014960" y="6009480"/>
                <a:ext cx="171360" cy="53424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244640" y="6438600"/>
                <a:ext cx="378720" cy="10692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244640" y="6438600"/>
                <a:ext cx="378720" cy="10692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186320" y="5976000"/>
                <a:ext cx="542880" cy="56736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262640" y="6039000"/>
                <a:ext cx="396360" cy="41544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278120" y="6066360"/>
                <a:ext cx="349560" cy="35172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972480" y="6455880"/>
                <a:ext cx="786600" cy="16668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21320" y="6162480"/>
                <a:ext cx="32040" cy="86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014960" y="5903280"/>
                <a:ext cx="714240" cy="19368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7227000" y="6534720"/>
              <a:ext cx="835560" cy="322560"/>
              <a:chOff x="7227000" y="6534720"/>
              <a:chExt cx="835560" cy="322560"/>
            </a:xfrm>
          </p:grpSpPr>
          <p:sp>
            <p:nvSpPr>
              <p:cNvPr id="165" name=""/>
              <p:cNvSpPr/>
              <p:nvPr/>
            </p:nvSpPr>
            <p:spPr>
              <a:xfrm>
                <a:off x="7227000" y="6658920"/>
                <a:ext cx="835560" cy="19836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227000" y="6658920"/>
                <a:ext cx="835560" cy="19836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231680" y="6534720"/>
                <a:ext cx="830520" cy="29556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294680" y="6581520"/>
                <a:ext cx="488880" cy="13428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335360" y="6630480"/>
                <a:ext cx="478080" cy="1652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751880" y="6606360"/>
                <a:ext cx="99720" cy="410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814880" y="6648840"/>
                <a:ext cx="86760" cy="3960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837560" y="6583680"/>
                <a:ext cx="161640" cy="8100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3" name=""/>
          <p:cNvSpPr/>
          <p:nvPr/>
        </p:nvSpPr>
        <p:spPr>
          <a:xfrm>
            <a:off x="2108160" y="2922480"/>
            <a:ext cx="1219320" cy="2210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27480" y="3532320"/>
            <a:ext cx="914400" cy="1600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89240" y="4065480"/>
            <a:ext cx="1676520" cy="10670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84880" y="4599000"/>
            <a:ext cx="17524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60840" y="5437080"/>
            <a:ext cx="1714680" cy="152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89240" y="5437080"/>
            <a:ext cx="1371600" cy="152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27480" y="5437080"/>
            <a:ext cx="761760" cy="15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08160" y="5437080"/>
            <a:ext cx="1219320" cy="152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7902720" y="5081760"/>
            <a:ext cx="417240" cy="1366560"/>
            <a:chOff x="7902720" y="5081760"/>
            <a:chExt cx="417240" cy="1366560"/>
          </a:xfrm>
        </p:grpSpPr>
        <p:grpSp>
          <p:nvGrpSpPr>
            <p:cNvPr id="182" name=""/>
            <p:cNvGrpSpPr/>
            <p:nvPr/>
          </p:nvGrpSpPr>
          <p:grpSpPr>
            <a:xfrm>
              <a:off x="7991640" y="5081760"/>
              <a:ext cx="219600" cy="329040"/>
              <a:chOff x="7991640" y="5081760"/>
              <a:chExt cx="219600" cy="329040"/>
            </a:xfrm>
          </p:grpSpPr>
          <p:sp>
            <p:nvSpPr>
              <p:cNvPr id="183" name=""/>
              <p:cNvSpPr/>
              <p:nvPr/>
            </p:nvSpPr>
            <p:spPr>
              <a:xfrm>
                <a:off x="7991640" y="5081760"/>
                <a:ext cx="219600" cy="253440"/>
              </a:xfrm>
              <a:custGeom>
                <a:avLst/>
                <a:gdLst/>
                <a:ahLst/>
                <a:rect l="l" t="t" r="r" b="b"/>
                <a:pathLst>
                  <a:path w="241" h="396">
                    <a:moveTo>
                      <a:pt x="91" y="5"/>
                    </a:moveTo>
                    <a:lnTo>
                      <a:pt x="66" y="18"/>
                    </a:lnTo>
                    <a:lnTo>
                      <a:pt x="48" y="36"/>
                    </a:lnTo>
                    <a:lnTo>
                      <a:pt x="36" y="56"/>
                    </a:lnTo>
                    <a:lnTo>
                      <a:pt x="23" y="96"/>
                    </a:lnTo>
                    <a:lnTo>
                      <a:pt x="8" y="154"/>
                    </a:lnTo>
                    <a:lnTo>
                      <a:pt x="0" y="206"/>
                    </a:lnTo>
                    <a:lnTo>
                      <a:pt x="1" y="229"/>
                    </a:lnTo>
                    <a:lnTo>
                      <a:pt x="6" y="251"/>
                    </a:lnTo>
                    <a:lnTo>
                      <a:pt x="8" y="283"/>
                    </a:lnTo>
                    <a:lnTo>
                      <a:pt x="27" y="396"/>
                    </a:lnTo>
                    <a:lnTo>
                      <a:pt x="39" y="373"/>
                    </a:lnTo>
                    <a:lnTo>
                      <a:pt x="58" y="370"/>
                    </a:lnTo>
                    <a:lnTo>
                      <a:pt x="71" y="364"/>
                    </a:lnTo>
                    <a:lnTo>
                      <a:pt x="88" y="349"/>
                    </a:lnTo>
                    <a:lnTo>
                      <a:pt x="82" y="290"/>
                    </a:lnTo>
                    <a:lnTo>
                      <a:pt x="82" y="271"/>
                    </a:lnTo>
                    <a:lnTo>
                      <a:pt x="65" y="231"/>
                    </a:lnTo>
                    <a:lnTo>
                      <a:pt x="61" y="167"/>
                    </a:lnTo>
                    <a:lnTo>
                      <a:pt x="65" y="111"/>
                    </a:lnTo>
                    <a:lnTo>
                      <a:pt x="98" y="75"/>
                    </a:lnTo>
                    <a:lnTo>
                      <a:pt x="156" y="69"/>
                    </a:lnTo>
                    <a:lnTo>
                      <a:pt x="183" y="105"/>
                    </a:lnTo>
                    <a:lnTo>
                      <a:pt x="181" y="225"/>
                    </a:lnTo>
                    <a:lnTo>
                      <a:pt x="156" y="273"/>
                    </a:lnTo>
                    <a:lnTo>
                      <a:pt x="152" y="349"/>
                    </a:lnTo>
                    <a:lnTo>
                      <a:pt x="165" y="338"/>
                    </a:lnTo>
                    <a:lnTo>
                      <a:pt x="176" y="351"/>
                    </a:lnTo>
                    <a:lnTo>
                      <a:pt x="191" y="360"/>
                    </a:lnTo>
                    <a:lnTo>
                      <a:pt x="201" y="367"/>
                    </a:lnTo>
                    <a:lnTo>
                      <a:pt x="217" y="377"/>
                    </a:lnTo>
                    <a:lnTo>
                      <a:pt x="230" y="296"/>
                    </a:lnTo>
                    <a:lnTo>
                      <a:pt x="235" y="247"/>
                    </a:lnTo>
                    <a:lnTo>
                      <a:pt x="240" y="215"/>
                    </a:lnTo>
                    <a:lnTo>
                      <a:pt x="241" y="193"/>
                    </a:lnTo>
                    <a:lnTo>
                      <a:pt x="240" y="167"/>
                    </a:lnTo>
                    <a:lnTo>
                      <a:pt x="235" y="148"/>
                    </a:lnTo>
                    <a:lnTo>
                      <a:pt x="230" y="128"/>
                    </a:lnTo>
                    <a:lnTo>
                      <a:pt x="225" y="109"/>
                    </a:lnTo>
                    <a:lnTo>
                      <a:pt x="225" y="95"/>
                    </a:lnTo>
                    <a:lnTo>
                      <a:pt x="221" y="73"/>
                    </a:lnTo>
                    <a:lnTo>
                      <a:pt x="212" y="49"/>
                    </a:lnTo>
                    <a:lnTo>
                      <a:pt x="196" y="24"/>
                    </a:lnTo>
                    <a:lnTo>
                      <a:pt x="173" y="8"/>
                    </a:lnTo>
                    <a:lnTo>
                      <a:pt x="149" y="1"/>
                    </a:lnTo>
                    <a:lnTo>
                      <a:pt x="124" y="0"/>
                    </a:lnTo>
                    <a:lnTo>
                      <a:pt x="91" y="5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015400" y="5121360"/>
                <a:ext cx="180360" cy="289440"/>
              </a:xfrm>
              <a:custGeom>
                <a:avLst/>
                <a:gdLst/>
                <a:ahLst/>
                <a:rect l="l" t="t" r="r" b="b"/>
                <a:pathLst>
                  <a:path w="198" h="452">
                    <a:moveTo>
                      <a:pt x="72" y="6"/>
                    </a:moveTo>
                    <a:lnTo>
                      <a:pt x="56" y="14"/>
                    </a:lnTo>
                    <a:lnTo>
                      <a:pt x="43" y="30"/>
                    </a:lnTo>
                    <a:lnTo>
                      <a:pt x="36" y="49"/>
                    </a:lnTo>
                    <a:lnTo>
                      <a:pt x="33" y="71"/>
                    </a:lnTo>
                    <a:lnTo>
                      <a:pt x="30" y="104"/>
                    </a:lnTo>
                    <a:lnTo>
                      <a:pt x="36" y="162"/>
                    </a:lnTo>
                    <a:lnTo>
                      <a:pt x="42" y="182"/>
                    </a:lnTo>
                    <a:lnTo>
                      <a:pt x="56" y="211"/>
                    </a:lnTo>
                    <a:lnTo>
                      <a:pt x="56" y="280"/>
                    </a:lnTo>
                    <a:lnTo>
                      <a:pt x="0" y="318"/>
                    </a:lnTo>
                    <a:lnTo>
                      <a:pt x="102" y="452"/>
                    </a:lnTo>
                    <a:lnTo>
                      <a:pt x="198" y="309"/>
                    </a:lnTo>
                    <a:lnTo>
                      <a:pt x="130" y="266"/>
                    </a:lnTo>
                    <a:lnTo>
                      <a:pt x="130" y="212"/>
                    </a:lnTo>
                    <a:lnTo>
                      <a:pt x="150" y="180"/>
                    </a:lnTo>
                    <a:lnTo>
                      <a:pt x="156" y="163"/>
                    </a:lnTo>
                    <a:lnTo>
                      <a:pt x="160" y="108"/>
                    </a:lnTo>
                    <a:lnTo>
                      <a:pt x="162" y="76"/>
                    </a:lnTo>
                    <a:lnTo>
                      <a:pt x="162" y="55"/>
                    </a:lnTo>
                    <a:lnTo>
                      <a:pt x="155" y="34"/>
                    </a:lnTo>
                    <a:lnTo>
                      <a:pt x="144" y="17"/>
                    </a:lnTo>
                    <a:lnTo>
                      <a:pt x="130" y="7"/>
                    </a:lnTo>
                    <a:lnTo>
                      <a:pt x="111" y="0"/>
                    </a:lnTo>
                    <a:lnTo>
                      <a:pt x="91" y="0"/>
                    </a:lnTo>
                    <a:lnTo>
                      <a:pt x="72" y="6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7968960" y="5741640"/>
              <a:ext cx="342000" cy="648000"/>
              <a:chOff x="7968960" y="5741640"/>
              <a:chExt cx="342000" cy="64800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7968960" y="5741640"/>
                <a:ext cx="342000" cy="648000"/>
                <a:chOff x="7968960" y="5741640"/>
                <a:chExt cx="342000" cy="6480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968960" y="5882400"/>
                  <a:ext cx="244800" cy="507240"/>
                </a:xfrm>
                <a:custGeom>
                  <a:avLst/>
                  <a:gdLst/>
                  <a:ahLst/>
                  <a:rect l="l" t="t" r="r" b="b"/>
                  <a:pathLst>
                    <a:path w="269" h="792">
                      <a:moveTo>
                        <a:pt x="49" y="17"/>
                      </a:moveTo>
                      <a:lnTo>
                        <a:pt x="52" y="244"/>
                      </a:lnTo>
                      <a:lnTo>
                        <a:pt x="51" y="436"/>
                      </a:lnTo>
                      <a:lnTo>
                        <a:pt x="62" y="623"/>
                      </a:lnTo>
                      <a:lnTo>
                        <a:pt x="32" y="704"/>
                      </a:lnTo>
                      <a:lnTo>
                        <a:pt x="7" y="757"/>
                      </a:lnTo>
                      <a:lnTo>
                        <a:pt x="0" y="773"/>
                      </a:lnTo>
                      <a:lnTo>
                        <a:pt x="12" y="792"/>
                      </a:lnTo>
                      <a:lnTo>
                        <a:pt x="60" y="789"/>
                      </a:lnTo>
                      <a:lnTo>
                        <a:pt x="101" y="684"/>
                      </a:lnTo>
                      <a:lnTo>
                        <a:pt x="104" y="617"/>
                      </a:lnTo>
                      <a:lnTo>
                        <a:pt x="136" y="397"/>
                      </a:lnTo>
                      <a:lnTo>
                        <a:pt x="140" y="347"/>
                      </a:lnTo>
                      <a:lnTo>
                        <a:pt x="139" y="449"/>
                      </a:lnTo>
                      <a:lnTo>
                        <a:pt x="153" y="595"/>
                      </a:lnTo>
                      <a:lnTo>
                        <a:pt x="149" y="663"/>
                      </a:lnTo>
                      <a:lnTo>
                        <a:pt x="171" y="731"/>
                      </a:lnTo>
                      <a:lnTo>
                        <a:pt x="200" y="780"/>
                      </a:lnTo>
                      <a:lnTo>
                        <a:pt x="243" y="783"/>
                      </a:lnTo>
                      <a:lnTo>
                        <a:pt x="256" y="766"/>
                      </a:lnTo>
                      <a:lnTo>
                        <a:pt x="210" y="660"/>
                      </a:lnTo>
                      <a:lnTo>
                        <a:pt x="206" y="611"/>
                      </a:lnTo>
                      <a:lnTo>
                        <a:pt x="214" y="506"/>
                      </a:lnTo>
                      <a:lnTo>
                        <a:pt x="232" y="332"/>
                      </a:lnTo>
                      <a:lnTo>
                        <a:pt x="269" y="0"/>
                      </a:lnTo>
                      <a:lnTo>
                        <a:pt x="49" y="17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8253000" y="5741640"/>
                  <a:ext cx="57960" cy="64080"/>
                </a:xfrm>
                <a:custGeom>
                  <a:avLst/>
                  <a:gdLst/>
                  <a:ahLst/>
                  <a:rect l="l" t="t" r="r" b="b"/>
                  <a:pathLst>
                    <a:path w="64" h="100">
                      <a:moveTo>
                        <a:pt x="64" y="0"/>
                      </a:moveTo>
                      <a:lnTo>
                        <a:pt x="64" y="52"/>
                      </a:lnTo>
                      <a:lnTo>
                        <a:pt x="0" y="100"/>
                      </a:lnTo>
                      <a:lnTo>
                        <a:pt x="29" y="7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8095320" y="5887080"/>
                <a:ext cx="20520" cy="224280"/>
              </a:xfrm>
              <a:custGeom>
                <a:avLst/>
                <a:gdLst/>
                <a:ahLst/>
                <a:rect l="l" t="t" r="r" b="b"/>
                <a:pathLst>
                  <a:path w="23" h="350">
                    <a:moveTo>
                      <a:pt x="23" y="0"/>
                    </a:moveTo>
                    <a:lnTo>
                      <a:pt x="23" y="116"/>
                    </a:lnTo>
                    <a:lnTo>
                      <a:pt x="19" y="185"/>
                    </a:lnTo>
                    <a:lnTo>
                      <a:pt x="13" y="260"/>
                    </a:lnTo>
                    <a:lnTo>
                      <a:pt x="0" y="333"/>
                    </a:lnTo>
                    <a:lnTo>
                      <a:pt x="3" y="350"/>
                    </a:lnTo>
                    <a:lnTo>
                      <a:pt x="23" y="0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19080">
                <a:solidFill>
                  <a:srgbClr val="ff5f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7956360" y="6306840"/>
              <a:ext cx="259920" cy="141480"/>
              <a:chOff x="7956360" y="6306840"/>
              <a:chExt cx="259920" cy="141480"/>
            </a:xfrm>
          </p:grpSpPr>
          <p:sp>
            <p:nvSpPr>
              <p:cNvPr id="191" name=""/>
              <p:cNvSpPr/>
              <p:nvPr/>
            </p:nvSpPr>
            <p:spPr>
              <a:xfrm>
                <a:off x="8098200" y="6306840"/>
                <a:ext cx="118080" cy="133920"/>
              </a:xfrm>
              <a:custGeom>
                <a:avLst/>
                <a:gdLst/>
                <a:ahLst/>
                <a:rect l="l" t="t" r="r" b="b"/>
                <a:pathLst>
                  <a:path w="130" h="209">
                    <a:moveTo>
                      <a:pt x="9" y="0"/>
                    </a:moveTo>
                    <a:lnTo>
                      <a:pt x="0" y="32"/>
                    </a:lnTo>
                    <a:lnTo>
                      <a:pt x="0" y="94"/>
                    </a:lnTo>
                    <a:lnTo>
                      <a:pt x="13" y="71"/>
                    </a:lnTo>
                    <a:lnTo>
                      <a:pt x="27" y="101"/>
                    </a:lnTo>
                    <a:lnTo>
                      <a:pt x="32" y="143"/>
                    </a:lnTo>
                    <a:lnTo>
                      <a:pt x="52" y="182"/>
                    </a:lnTo>
                    <a:lnTo>
                      <a:pt x="84" y="204"/>
                    </a:lnTo>
                    <a:lnTo>
                      <a:pt x="108" y="209"/>
                    </a:lnTo>
                    <a:lnTo>
                      <a:pt x="130" y="205"/>
                    </a:lnTo>
                    <a:lnTo>
                      <a:pt x="130" y="163"/>
                    </a:lnTo>
                    <a:lnTo>
                      <a:pt x="113" y="103"/>
                    </a:lnTo>
                    <a:lnTo>
                      <a:pt x="103" y="118"/>
                    </a:lnTo>
                    <a:lnTo>
                      <a:pt x="84" y="118"/>
                    </a:lnTo>
                    <a:lnTo>
                      <a:pt x="58" y="116"/>
                    </a:lnTo>
                    <a:lnTo>
                      <a:pt x="40" y="88"/>
                    </a:lnTo>
                    <a:lnTo>
                      <a:pt x="24" y="55"/>
                    </a:lnTo>
                    <a:lnTo>
                      <a:pt x="9" y="0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956360" y="6309360"/>
                <a:ext cx="107280" cy="138960"/>
              </a:xfrm>
              <a:custGeom>
                <a:avLst/>
                <a:gdLst/>
                <a:ahLst/>
                <a:rect l="l" t="t" r="r" b="b"/>
                <a:pathLst>
                  <a:path w="118" h="217">
                    <a:moveTo>
                      <a:pt x="117" y="0"/>
                    </a:moveTo>
                    <a:lnTo>
                      <a:pt x="118" y="87"/>
                    </a:lnTo>
                    <a:lnTo>
                      <a:pt x="111" y="65"/>
                    </a:lnTo>
                    <a:lnTo>
                      <a:pt x="101" y="93"/>
                    </a:lnTo>
                    <a:lnTo>
                      <a:pt x="92" y="133"/>
                    </a:lnTo>
                    <a:lnTo>
                      <a:pt x="82" y="168"/>
                    </a:lnTo>
                    <a:lnTo>
                      <a:pt x="59" y="195"/>
                    </a:lnTo>
                    <a:lnTo>
                      <a:pt x="37" y="211"/>
                    </a:lnTo>
                    <a:lnTo>
                      <a:pt x="16" y="217"/>
                    </a:lnTo>
                    <a:lnTo>
                      <a:pt x="8" y="207"/>
                    </a:lnTo>
                    <a:lnTo>
                      <a:pt x="1" y="187"/>
                    </a:lnTo>
                    <a:lnTo>
                      <a:pt x="0" y="165"/>
                    </a:lnTo>
                    <a:lnTo>
                      <a:pt x="3" y="143"/>
                    </a:lnTo>
                    <a:lnTo>
                      <a:pt x="13" y="107"/>
                    </a:lnTo>
                    <a:lnTo>
                      <a:pt x="30" y="120"/>
                    </a:lnTo>
                    <a:lnTo>
                      <a:pt x="56" y="120"/>
                    </a:lnTo>
                    <a:lnTo>
                      <a:pt x="74" y="119"/>
                    </a:lnTo>
                    <a:lnTo>
                      <a:pt x="104" y="45"/>
                    </a:lnTo>
                    <a:lnTo>
                      <a:pt x="117" y="0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7902720" y="5308920"/>
              <a:ext cx="417240" cy="991800"/>
              <a:chOff x="7902720" y="5308920"/>
              <a:chExt cx="417240" cy="99180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7902720" y="5308920"/>
                <a:ext cx="417240" cy="991800"/>
                <a:chOff x="7902720" y="5308920"/>
                <a:chExt cx="417240" cy="9918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7902720" y="5308920"/>
                  <a:ext cx="417240" cy="991800"/>
                </a:xfrm>
                <a:custGeom>
                  <a:avLst/>
                  <a:gdLst/>
                  <a:ahLst/>
                  <a:rect l="l" t="t" r="r" b="b"/>
                  <a:pathLst>
                    <a:path w="458" h="1548">
                      <a:moveTo>
                        <a:pt x="130" y="16"/>
                      </a:moveTo>
                      <a:lnTo>
                        <a:pt x="40" y="67"/>
                      </a:lnTo>
                      <a:lnTo>
                        <a:pt x="17" y="109"/>
                      </a:lnTo>
                      <a:lnTo>
                        <a:pt x="0" y="466"/>
                      </a:lnTo>
                      <a:lnTo>
                        <a:pt x="7" y="549"/>
                      </a:lnTo>
                      <a:lnTo>
                        <a:pt x="62" y="542"/>
                      </a:lnTo>
                      <a:lnTo>
                        <a:pt x="59" y="753"/>
                      </a:lnTo>
                      <a:lnTo>
                        <a:pt x="85" y="753"/>
                      </a:lnTo>
                      <a:lnTo>
                        <a:pt x="117" y="1191"/>
                      </a:lnTo>
                      <a:lnTo>
                        <a:pt x="119" y="1422"/>
                      </a:lnTo>
                      <a:lnTo>
                        <a:pt x="124" y="1528"/>
                      </a:lnTo>
                      <a:lnTo>
                        <a:pt x="146" y="1548"/>
                      </a:lnTo>
                      <a:lnTo>
                        <a:pt x="185" y="1531"/>
                      </a:lnTo>
                      <a:lnTo>
                        <a:pt x="206" y="1352"/>
                      </a:lnTo>
                      <a:lnTo>
                        <a:pt x="222" y="1538"/>
                      </a:lnTo>
                      <a:lnTo>
                        <a:pt x="255" y="1547"/>
                      </a:lnTo>
                      <a:lnTo>
                        <a:pt x="286" y="1534"/>
                      </a:lnTo>
                      <a:lnTo>
                        <a:pt x="319" y="1181"/>
                      </a:lnTo>
                      <a:lnTo>
                        <a:pt x="359" y="924"/>
                      </a:lnTo>
                      <a:lnTo>
                        <a:pt x="422" y="685"/>
                      </a:lnTo>
                      <a:lnTo>
                        <a:pt x="458" y="681"/>
                      </a:lnTo>
                      <a:lnTo>
                        <a:pt x="425" y="351"/>
                      </a:lnTo>
                      <a:lnTo>
                        <a:pt x="423" y="93"/>
                      </a:lnTo>
                      <a:lnTo>
                        <a:pt x="403" y="64"/>
                      </a:lnTo>
                      <a:lnTo>
                        <a:pt x="307" y="0"/>
                      </a:lnTo>
                      <a:lnTo>
                        <a:pt x="226" y="139"/>
                      </a:lnTo>
                      <a:lnTo>
                        <a:pt x="130" y="16"/>
                      </a:lnTo>
                      <a:close/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7965360" y="5582880"/>
                  <a:ext cx="180720" cy="208080"/>
                  <a:chOff x="7965360" y="5582880"/>
                  <a:chExt cx="180720" cy="20808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7988760" y="5582880"/>
                    <a:ext cx="15732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325">
                        <a:moveTo>
                          <a:pt x="0" y="325"/>
                        </a:moveTo>
                        <a:lnTo>
                          <a:pt x="169" y="308"/>
                        </a:lnTo>
                        <a:lnTo>
                          <a:pt x="173" y="0"/>
                        </a:lnTo>
                      </a:path>
                    </a:pathLst>
                  </a:custGeom>
                  <a:noFill/>
                  <a:ln w="19080">
                    <a:solidFill>
                      <a:srgbClr val="5f3f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7965360" y="5607720"/>
                    <a:ext cx="17748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81">
                        <a:moveTo>
                          <a:pt x="0" y="81"/>
                        </a:moveTo>
                        <a:lnTo>
                          <a:pt x="68" y="59"/>
                        </a:lnTo>
                        <a:lnTo>
                          <a:pt x="195" y="0"/>
                        </a:lnTo>
                      </a:path>
                    </a:pathLst>
                  </a:custGeom>
                  <a:noFill/>
                  <a:ln w="19080">
                    <a:solidFill>
                      <a:srgbClr val="5f3f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9" name=""/>
              <p:cNvGrpSpPr/>
              <p:nvPr/>
            </p:nvGrpSpPr>
            <p:grpSpPr>
              <a:xfrm>
                <a:off x="7957440" y="5411880"/>
                <a:ext cx="256320" cy="245160"/>
                <a:chOff x="7957440" y="5411880"/>
                <a:chExt cx="256320" cy="24516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7977240" y="5411880"/>
                  <a:ext cx="219240" cy="185760"/>
                </a:xfrm>
                <a:custGeom>
                  <a:avLst/>
                  <a:gdLst/>
                  <a:ahLst/>
                  <a:rect l="l" t="t" r="r" b="b"/>
                  <a:pathLst>
                    <a:path w="241" h="290">
                      <a:moveTo>
                        <a:pt x="0" y="102"/>
                      </a:moveTo>
                      <a:lnTo>
                        <a:pt x="155" y="0"/>
                      </a:lnTo>
                      <a:lnTo>
                        <a:pt x="241" y="195"/>
                      </a:lnTo>
                      <a:lnTo>
                        <a:pt x="85" y="290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blipFill rotWithShape="0">
                  <a:blip r:embed="rId1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8118360" y="5489280"/>
                  <a:ext cx="95400" cy="99720"/>
                </a:xfrm>
                <a:custGeom>
                  <a:avLst/>
                  <a:gdLst/>
                  <a:ahLst/>
                  <a:rect l="l" t="t" r="r" b="b"/>
                  <a:pathLst>
                    <a:path w="105" h="156">
                      <a:moveTo>
                        <a:pt x="0" y="95"/>
                      </a:moveTo>
                      <a:lnTo>
                        <a:pt x="26" y="72"/>
                      </a:lnTo>
                      <a:lnTo>
                        <a:pt x="40" y="26"/>
                      </a:lnTo>
                      <a:lnTo>
                        <a:pt x="60" y="12"/>
                      </a:lnTo>
                      <a:lnTo>
                        <a:pt x="70" y="0"/>
                      </a:lnTo>
                      <a:lnTo>
                        <a:pt x="78" y="4"/>
                      </a:lnTo>
                      <a:lnTo>
                        <a:pt x="79" y="16"/>
                      </a:lnTo>
                      <a:lnTo>
                        <a:pt x="99" y="38"/>
                      </a:lnTo>
                      <a:lnTo>
                        <a:pt x="105" y="77"/>
                      </a:lnTo>
                      <a:lnTo>
                        <a:pt x="99" y="104"/>
                      </a:lnTo>
                      <a:lnTo>
                        <a:pt x="69" y="134"/>
                      </a:lnTo>
                      <a:lnTo>
                        <a:pt x="10" y="156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blipFill rotWithShape="0">
                  <a:blip r:embed="rId1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957440" y="5546880"/>
                  <a:ext cx="177480" cy="110160"/>
                </a:xfrm>
                <a:custGeom>
                  <a:avLst/>
                  <a:gdLst/>
                  <a:ahLst/>
                  <a:rect l="l" t="t" r="r" b="b"/>
                  <a:pathLst>
                    <a:path w="195" h="172">
                      <a:moveTo>
                        <a:pt x="0" y="172"/>
                      </a:moveTo>
                      <a:lnTo>
                        <a:pt x="78" y="143"/>
                      </a:lnTo>
                      <a:lnTo>
                        <a:pt x="139" y="108"/>
                      </a:lnTo>
                      <a:lnTo>
                        <a:pt x="195" y="75"/>
                      </a:lnTo>
                      <a:lnTo>
                        <a:pt x="174" y="0"/>
                      </a:lnTo>
                      <a:lnTo>
                        <a:pt x="71" y="47"/>
                      </a:lnTo>
                      <a:lnTo>
                        <a:pt x="9" y="70"/>
                      </a:lnTo>
                      <a:lnTo>
                        <a:pt x="6" y="57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blipFill rotWithShape="0">
                  <a:blip r:embed="rId1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" name=""/>
            <p:cNvSpPr/>
            <p:nvPr/>
          </p:nvSpPr>
          <p:spPr>
            <a:xfrm>
              <a:off x="8092080" y="5822280"/>
              <a:ext cx="23760" cy="360000"/>
            </a:xfrm>
            <a:custGeom>
              <a:avLst/>
              <a:gdLst/>
              <a:ahLst/>
              <a:rect l="l" t="t" r="r" b="b"/>
              <a:pathLst>
                <a:path w="26" h="562">
                  <a:moveTo>
                    <a:pt x="26" y="0"/>
                  </a:moveTo>
                  <a:lnTo>
                    <a:pt x="17" y="302"/>
                  </a:lnTo>
                  <a:lnTo>
                    <a:pt x="0" y="562"/>
                  </a:lnTo>
                </a:path>
              </a:pathLst>
            </a:custGeom>
            <a:noFill/>
            <a:ln w="19080">
              <a:solidFill>
                <a:srgbClr val="5f3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325600" y="24256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81560" y="29224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Do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61000" y="36482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72120" y="4065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3760" y="5284800"/>
            <a:ext cx="18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Végeredmén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04840" y="535608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50608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Kerberos a Windows 2000-ben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380520" y="1822320"/>
            <a:ext cx="8464680" cy="3056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zabvány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FC-151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rberos change password – Internet Draf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rberos set password – Internet Draf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Windows 2000 és MIT</a:t>
            </a:r>
            <a:br>
              <a:rPr sz="4800"/>
            </a:b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Kerberos 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különbsége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380520" y="2074680"/>
            <a:ext cx="3962520" cy="4012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in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dows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Ügyfé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Bejelentkez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ijelentkez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artomány tagsá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élda alk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nd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4724280" y="2124000"/>
            <a:ext cx="441972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6640" indent="-56664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Ügyfé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0600" indent="-45216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Bejelentkezés utá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‘kinit’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-t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0600" indent="-45216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ijelentkezés előt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‘kdestroy’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-j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0600" indent="-45216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onfiguráció az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/etc/krb5.conf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-b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0600" indent="-45216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élda alk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tel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364680" y="228600"/>
            <a:ext cx="908388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PKI felhasználási területei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415360" cy="5432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ccf00"/>
                </a:solidFill>
                <a:latin typeface="Arial"/>
              </a:rPr>
              <a:t>Smart 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ccf00"/>
                </a:solidFill>
                <a:latin typeface="Arial"/>
              </a:rPr>
              <a:t>Titkosított fájlrendszer (EF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itkosított levelez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S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iszolgáló hitelesít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itkos adatátvit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Ügyfél hitelesít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1-1 vagy több-1 értelmű felhasználó megfeleltet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uthentico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RAS/VPN, IPSe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Smart Card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ok jellemzői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5572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em Chip card!!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O 7816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SA crypto co-processo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elyi tárol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-24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B ROM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d OS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-nak és az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lkalmazásokna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28-512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yte (!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RAM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n-time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datokna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6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B EEPROM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felhasználói adatokna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rd 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ndows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for Smar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rd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MULTOS, Java VM subset, Gemplus, Schlumberger, Siemens, Bull, ..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Smart Card 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gyártó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415360" cy="5331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ártyá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mplus GemSAF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lumberger Cryptofle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Olvasó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US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vanced Card Systems, Fortress, Utimaco, SCM Micro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i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ll, Cherry, Gemplus, Hewlett Packard, Litronic, Rainbow, Schlumberger, SCM Microsystems, Utimaco, XA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CMC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mplus, Schlumberger, SCM Microsystems, Toshiba, Tritheim, Utima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Smart Card 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valóságban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64680" cy="3614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3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Elég lassú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-bit/16-bit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s adathozzáfér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Fé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duplex s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oro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f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és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3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Korlátozott adatterüle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anusítványok, kulcsok,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incs szabvány az adatok tárolásár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Smart Card 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előnyö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64680" cy="3932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3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Sehogyan sem férhetünk hozzá a privát kulcshoz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Ott keletkezik és soha nem hagyja el a kártyá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3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Minden crypto művelet belül fut le, mi csak megkérjük a soros port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3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Hordozható „igazolvány”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50608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Smart Card 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gyakorlatban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64680" cy="5266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3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Csak a Users csoport tagjai élhetnek meg egy szál kártyáv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3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Mi történjen, ha kihúzzuk a kártyá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Lehetőségek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83560" indent="-4622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emm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83560" indent="-4622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épernyő zárolás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83560" indent="-4622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ijelentkez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3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Mindez házirenddel szabályozható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1" name=""/>
          <p:cNvGrpSpPr/>
          <p:nvPr/>
        </p:nvGrpSpPr>
        <p:grpSpPr>
          <a:xfrm>
            <a:off x="2844720" y="5562720"/>
            <a:ext cx="3802320" cy="834840"/>
            <a:chOff x="2844720" y="5562720"/>
            <a:chExt cx="3802320" cy="834840"/>
          </a:xfrm>
        </p:grpSpPr>
        <p:sp>
          <p:nvSpPr>
            <p:cNvPr id="1722" name=""/>
            <p:cNvSpPr/>
            <p:nvPr/>
          </p:nvSpPr>
          <p:spPr>
            <a:xfrm>
              <a:off x="2844720" y="5562720"/>
              <a:ext cx="3398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913120" y="5664240"/>
              <a:ext cx="3733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cf00"/>
                  </a:solidFill>
                  <a:latin typeface="Arial"/>
                </a:rPr>
                <a:t>7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KDC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kiadja a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GT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-t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,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amely a felhasználó publikus kulcsával lett titkosítv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4" name=""/>
          <p:cNvGrpSpPr/>
          <p:nvPr/>
        </p:nvGrpSpPr>
        <p:grpSpPr>
          <a:xfrm>
            <a:off x="2362320" y="1676520"/>
            <a:ext cx="4419360" cy="3504960"/>
            <a:chOff x="2362320" y="1676520"/>
            <a:chExt cx="4419360" cy="3504960"/>
          </a:xfrm>
        </p:grpSpPr>
        <p:sp>
          <p:nvSpPr>
            <p:cNvPr id="1725" name=""/>
            <p:cNvSpPr/>
            <p:nvPr/>
          </p:nvSpPr>
          <p:spPr>
            <a:xfrm flipH="1">
              <a:off x="2362320" y="3124080"/>
              <a:ext cx="2209680" cy="2057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572000" y="3200400"/>
              <a:ext cx="22096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cf00"/>
                  </a:solidFill>
                  <a:latin typeface="Arial"/>
                </a:rPr>
                <a:t>8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A S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rt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rd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dekódolja a TGT-t a felhasználó privát kulcsával. Az LSA bejelentkezteti a felhasználót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7" name="" descr=""/>
            <p:cNvPicPr/>
            <p:nvPr/>
          </p:nvPicPr>
          <p:blipFill>
            <a:blip r:embed="rId2"/>
            <a:stretch/>
          </p:blipFill>
          <p:spPr>
            <a:xfrm>
              <a:off x="4572000" y="1676520"/>
              <a:ext cx="1828800" cy="137160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</p:pic>
      </p:grpSp>
      <p:grpSp>
        <p:nvGrpSpPr>
          <p:cNvPr id="1728" name=""/>
          <p:cNvGrpSpPr/>
          <p:nvPr/>
        </p:nvGrpSpPr>
        <p:grpSpPr>
          <a:xfrm>
            <a:off x="515880" y="1465200"/>
            <a:ext cx="2141640" cy="2421000"/>
            <a:chOff x="515880" y="1465200"/>
            <a:chExt cx="2141640" cy="2421000"/>
          </a:xfrm>
        </p:grpSpPr>
        <p:sp>
          <p:nvSpPr>
            <p:cNvPr id="1729" name=""/>
            <p:cNvSpPr/>
            <p:nvPr/>
          </p:nvSpPr>
          <p:spPr>
            <a:xfrm>
              <a:off x="2176560" y="1465200"/>
              <a:ext cx="0" cy="1371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515880" y="3048120"/>
              <a:ext cx="727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cf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PIN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 meg-adá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731" name=""/>
            <p:cNvGraphicFramePr/>
            <p:nvPr/>
          </p:nvGraphicFramePr>
          <p:xfrm>
            <a:off x="1209600" y="2860560"/>
            <a:ext cx="1447920" cy="102564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7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09600" y="2860560"/>
                      <a:ext cx="1447920" cy="102564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</p:grpSp>
      <p:grpSp>
        <p:nvGrpSpPr>
          <p:cNvPr id="1733" name=""/>
          <p:cNvGrpSpPr/>
          <p:nvPr/>
        </p:nvGrpSpPr>
        <p:grpSpPr>
          <a:xfrm>
            <a:off x="6781680" y="2436840"/>
            <a:ext cx="1922760" cy="2820960"/>
            <a:chOff x="6781680" y="2436840"/>
            <a:chExt cx="1922760" cy="2820960"/>
          </a:xfrm>
        </p:grpSpPr>
        <p:grpSp>
          <p:nvGrpSpPr>
            <p:cNvPr id="1734" name=""/>
            <p:cNvGrpSpPr/>
            <p:nvPr/>
          </p:nvGrpSpPr>
          <p:grpSpPr>
            <a:xfrm>
              <a:off x="6781680" y="2436840"/>
              <a:ext cx="1447920" cy="1449360"/>
              <a:chOff x="6781680" y="2436840"/>
              <a:chExt cx="1447920" cy="1449360"/>
            </a:xfrm>
          </p:grpSpPr>
          <p:sp>
            <p:nvSpPr>
              <p:cNvPr id="1735" name=""/>
              <p:cNvSpPr/>
              <p:nvPr/>
            </p:nvSpPr>
            <p:spPr>
              <a:xfrm>
                <a:off x="6781680" y="2436840"/>
                <a:ext cx="1447920" cy="1449360"/>
              </a:xfrm>
              <a:prstGeom prst="triangle">
                <a:avLst>
                  <a:gd name="adj" fmla="val 49995"/>
                </a:avLst>
              </a:prstGeom>
              <a:gradFill rotWithShape="0">
                <a:gsLst>
                  <a:gs pos="0">
                    <a:srgbClr val="b15659"/>
                  </a:gs>
                  <a:gs pos="50000">
                    <a:srgbClr val="ff7c80"/>
                  </a:gs>
                  <a:gs pos="100000">
                    <a:srgbClr val="b15659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7396200" y="2697120"/>
                <a:ext cx="209520" cy="214200"/>
              </a:xfrm>
              <a:prstGeom prst="ellipse">
                <a:avLst/>
              </a:prstGeom>
              <a:gradFill rotWithShape="0">
                <a:gsLst>
                  <a:gs pos="0">
                    <a:srgbClr val="00ff66"/>
                  </a:gs>
                  <a:gs pos="100000">
                    <a:srgbClr val="00b14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7450200" y="3087720"/>
                <a:ext cx="2109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8d6a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7121520" y="3478320"/>
                <a:ext cx="209520" cy="212760"/>
              </a:xfrm>
              <a:prstGeom prst="ellipse">
                <a:avLst/>
              </a:prstGeom>
              <a:gradFill rotWithShape="0">
                <a:gsLst>
                  <a:gs pos="0">
                    <a:srgbClr val="ff00cc"/>
                  </a:gs>
                  <a:gs pos="100000">
                    <a:srgbClr val="b1008d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7423200" y="3478320"/>
                <a:ext cx="210960" cy="212760"/>
              </a:xfrm>
              <a:prstGeom prst="ellipse">
                <a:avLst/>
              </a:prstGeom>
              <a:gradFill rotWithShape="0">
                <a:gsLst>
                  <a:gs pos="0">
                    <a:srgbClr val="ff00cc"/>
                  </a:gs>
                  <a:gs pos="100000">
                    <a:srgbClr val="b1008d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7500960" y="2916360"/>
                <a:ext cx="55440" cy="166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7556400" y="3306600"/>
                <a:ext cx="247680" cy="157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flipH="1">
                <a:off x="7281360" y="3306600"/>
                <a:ext cx="274680" cy="166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7716960" y="3478320"/>
                <a:ext cx="210960" cy="212760"/>
              </a:xfrm>
              <a:prstGeom prst="ellipse">
                <a:avLst/>
              </a:prstGeom>
              <a:gradFill rotWithShape="0">
                <a:gsLst>
                  <a:gs pos="0">
                    <a:srgbClr val="ff00cc"/>
                  </a:gs>
                  <a:gs pos="100000">
                    <a:srgbClr val="b1008d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 flipH="1">
                <a:off x="7527600" y="3314880"/>
                <a:ext cx="19080" cy="168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781680" y="2436840"/>
                <a:ext cx="1447920" cy="1449360"/>
              </a:xfrm>
              <a:prstGeom prst="triangle">
                <a:avLst>
                  <a:gd name="adj" fmla="val 49995"/>
                </a:avLst>
              </a:prstGeom>
              <a:gradFill rotWithShape="0">
                <a:gsLst>
                  <a:gs pos="0">
                    <a:srgbClr val="7d3d3f"/>
                  </a:gs>
                  <a:gs pos="100000">
                    <a:srgbClr val="ff7c8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396200" y="2697120"/>
                <a:ext cx="209520" cy="214200"/>
              </a:xfrm>
              <a:prstGeom prst="ellipse">
                <a:avLst/>
              </a:prstGeom>
              <a:gradFill rotWithShape="0">
                <a:gsLst>
                  <a:gs pos="0">
                    <a:srgbClr val="957a00"/>
                  </a:gs>
                  <a:gs pos="100000">
                    <a:srgbClr val="fccf0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7450200" y="3087720"/>
                <a:ext cx="2109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8d6a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7121520" y="3478320"/>
                <a:ext cx="209520" cy="212760"/>
              </a:xfrm>
              <a:prstGeom prst="ellipse">
                <a:avLst/>
              </a:prstGeom>
              <a:gradFill rotWithShape="0">
                <a:gsLst>
                  <a:gs pos="0">
                    <a:srgbClr val="007575"/>
                  </a:gs>
                  <a:gs pos="100000">
                    <a:srgbClr val="00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7423200" y="3478320"/>
                <a:ext cx="210960" cy="212760"/>
              </a:xfrm>
              <a:prstGeom prst="ellipse">
                <a:avLst/>
              </a:prstGeom>
              <a:gradFill rotWithShape="0">
                <a:gsLst>
                  <a:gs pos="0">
                    <a:srgbClr val="007575"/>
                  </a:gs>
                  <a:gs pos="100000">
                    <a:srgbClr val="00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7500960" y="2916360"/>
                <a:ext cx="55440" cy="166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7556400" y="3306600"/>
                <a:ext cx="247680" cy="157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flipH="1">
                <a:off x="7281360" y="3306600"/>
                <a:ext cx="274680" cy="166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7716960" y="3478320"/>
                <a:ext cx="210960" cy="212760"/>
              </a:xfrm>
              <a:prstGeom prst="ellipse">
                <a:avLst/>
              </a:prstGeom>
              <a:gradFill rotWithShape="0">
                <a:gsLst>
                  <a:gs pos="0">
                    <a:srgbClr val="007575"/>
                  </a:gs>
                  <a:gs pos="100000">
                    <a:srgbClr val="00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flipH="1">
                <a:off x="7527600" y="3314880"/>
                <a:ext cx="19080" cy="168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55" name=""/>
            <p:cNvSpPr/>
            <p:nvPr/>
          </p:nvSpPr>
          <p:spPr>
            <a:xfrm flipV="1">
              <a:off x="7086600" y="3886200"/>
              <a:ext cx="0" cy="1371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7180200" y="4114800"/>
              <a:ext cx="15242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cf00"/>
                  </a:solidFill>
                  <a:latin typeface="Arial"/>
                </a:rPr>
                <a:t>6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A tanusítvány ellenőrzése az AD alapjá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7" name=""/>
          <p:cNvSpPr/>
          <p:nvPr/>
        </p:nvSpPr>
        <p:spPr>
          <a:xfrm>
            <a:off x="1092240" y="990720"/>
            <a:ext cx="1219320" cy="609480"/>
          </a:xfrm>
          <a:prstGeom prst="rect">
            <a:avLst/>
          </a:prstGeom>
          <a:gradFill rotWithShape="0">
            <a:gsLst>
              <a:gs pos="0">
                <a:srgbClr val="75393b"/>
              </a:gs>
              <a:gs pos="100000">
                <a:srgbClr val="ff7c80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Olvasó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8" name=""/>
          <p:cNvGrpSpPr/>
          <p:nvPr/>
        </p:nvGrpSpPr>
        <p:grpSpPr>
          <a:xfrm>
            <a:off x="506520" y="1158840"/>
            <a:ext cx="2244600" cy="1113840"/>
            <a:chOff x="506520" y="1158840"/>
            <a:chExt cx="2244600" cy="1113840"/>
          </a:xfrm>
        </p:grpSpPr>
        <p:sp>
          <p:nvSpPr>
            <p:cNvPr id="1759" name=""/>
            <p:cNvSpPr/>
            <p:nvPr/>
          </p:nvSpPr>
          <p:spPr>
            <a:xfrm>
              <a:off x="506520" y="1752480"/>
              <a:ext cx="1812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cf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A kártya előhívja a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INA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-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60" name=""/>
            <p:cNvGrpSpPr/>
            <p:nvPr/>
          </p:nvGrpSpPr>
          <p:grpSpPr>
            <a:xfrm>
              <a:off x="2065320" y="1158840"/>
              <a:ext cx="685800" cy="380880"/>
              <a:chOff x="2065320" y="1158840"/>
              <a:chExt cx="685800" cy="380880"/>
            </a:xfrm>
          </p:grpSpPr>
          <p:sp>
            <p:nvSpPr>
              <p:cNvPr id="1761" name=""/>
              <p:cNvSpPr/>
              <p:nvPr/>
            </p:nvSpPr>
            <p:spPr>
              <a:xfrm>
                <a:off x="2065320" y="1158840"/>
                <a:ext cx="685800" cy="3808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5400000"/>
              </a:gra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SC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rot="16173000">
                <a:off x="2147040" y="1305360"/>
                <a:ext cx="108000" cy="119160"/>
              </a:xfrm>
              <a:prstGeom prst="ellipse">
                <a:avLst/>
              </a:prstGeom>
              <a:solidFill>
                <a:srgbClr val="fccf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3" name=""/>
          <p:cNvGrpSpPr/>
          <p:nvPr/>
        </p:nvGrpSpPr>
        <p:grpSpPr>
          <a:xfrm>
            <a:off x="1996920" y="1600200"/>
            <a:ext cx="2422800" cy="3629160"/>
            <a:chOff x="1996920" y="1600200"/>
            <a:chExt cx="2422800" cy="3629160"/>
          </a:xfrm>
        </p:grpSpPr>
        <p:sp>
          <p:nvSpPr>
            <p:cNvPr id="1764" name=""/>
            <p:cNvSpPr/>
            <p:nvPr/>
          </p:nvSpPr>
          <p:spPr>
            <a:xfrm flipV="1">
              <a:off x="1996920" y="4386240"/>
              <a:ext cx="809640" cy="843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V="1">
              <a:off x="2790720" y="1600200"/>
              <a:ext cx="0" cy="2819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2895480" y="1752480"/>
              <a:ext cx="15242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cf00"/>
                  </a:solidFill>
                  <a:latin typeface="Arial"/>
                </a:rPr>
                <a:t>4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SA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elkéri a kártyától a tanusítvány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67" name=""/>
          <p:cNvGrpSpPr/>
          <p:nvPr/>
        </p:nvGrpSpPr>
        <p:grpSpPr>
          <a:xfrm>
            <a:off x="762120" y="3505320"/>
            <a:ext cx="1739880" cy="2463840"/>
            <a:chOff x="762120" y="3505320"/>
            <a:chExt cx="1739880" cy="2463840"/>
          </a:xfrm>
        </p:grpSpPr>
        <p:sp>
          <p:nvSpPr>
            <p:cNvPr id="1768" name=""/>
            <p:cNvSpPr/>
            <p:nvPr/>
          </p:nvSpPr>
          <p:spPr>
            <a:xfrm>
              <a:off x="1905120" y="3505320"/>
              <a:ext cx="0" cy="1511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62120" y="4114800"/>
              <a:ext cx="1234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cf00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GINA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átadja a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IN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-t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az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SA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-na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62120" y="5105520"/>
              <a:ext cx="1739880" cy="863640"/>
            </a:xfrm>
            <a:prstGeom prst="rect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S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1" name=""/>
          <p:cNvGrpSpPr/>
          <p:nvPr/>
        </p:nvGrpSpPr>
        <p:grpSpPr>
          <a:xfrm>
            <a:off x="2509920" y="4800600"/>
            <a:ext cx="5892840" cy="1282680"/>
            <a:chOff x="2509920" y="4800600"/>
            <a:chExt cx="5892840" cy="1282680"/>
          </a:xfrm>
        </p:grpSpPr>
        <p:sp>
          <p:nvSpPr>
            <p:cNvPr id="1772" name=""/>
            <p:cNvSpPr/>
            <p:nvPr/>
          </p:nvSpPr>
          <p:spPr>
            <a:xfrm>
              <a:off x="2666880" y="5384880"/>
              <a:ext cx="3589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3200400" y="4800600"/>
              <a:ext cx="3048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cf00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Kerberos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elküldi a tanusítványt a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KDC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-ne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H="1">
              <a:off x="2509920" y="5105520"/>
              <a:ext cx="296640" cy="863640"/>
            </a:xfrm>
            <a:prstGeom prst="rect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Kerber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75" name=""/>
            <p:cNvGrpSpPr/>
            <p:nvPr/>
          </p:nvGrpSpPr>
          <p:grpSpPr>
            <a:xfrm>
              <a:off x="6357600" y="5257800"/>
              <a:ext cx="2045160" cy="825480"/>
              <a:chOff x="6357600" y="5257800"/>
              <a:chExt cx="2045160" cy="825480"/>
            </a:xfrm>
          </p:grpSpPr>
          <p:sp>
            <p:nvSpPr>
              <p:cNvPr id="1776" name=""/>
              <p:cNvSpPr/>
              <p:nvPr/>
            </p:nvSpPr>
            <p:spPr>
              <a:xfrm flipH="1">
                <a:off x="6357240" y="5257800"/>
                <a:ext cx="304920" cy="825480"/>
              </a:xfrm>
              <a:prstGeom prst="rect">
                <a:avLst/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Kerbero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6662880" y="5257800"/>
                <a:ext cx="1739880" cy="825480"/>
              </a:xfrm>
              <a:prstGeom prst="rect">
                <a:avLst/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KD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Smart Card Logon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PIN 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kód menedzsment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4853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PIN </a:t>
            </a:r>
            <a:r>
              <a:rPr b="1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jelsz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kártyához és nem a hálózathoz való hozzáférést szabályozz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N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oha, semmilyen formátumban nem megy át a hálózat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IN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-nek nem kell hosszúnak lenni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mart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d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zárolja magát, ha ismételten próbálkozna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ndows 2000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éppen ezért NEM kezeli 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IN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kódok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re terjed ki a biztonság fogalma? 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4240" y="1445760"/>
            <a:ext cx="8464680" cy="5209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60880" indent="-5608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Jelszó és kizárási szabály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880" indent="-5608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Felhasználó jogosultsá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880" indent="-5608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uditálá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880" indent="-5608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aplózási beállítás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880" indent="-5608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ötelező csoport tagság (Restricted Group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880" indent="-5608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zerviz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880" indent="-5608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Fájlrendszer és Registry ACL–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880" indent="-5608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erberos beállítás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880" indent="-5608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Public Key és IPSec beállítás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91440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Smart Card logon konfiguráció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763120" cy="5113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mart Card olvasó telepítése (PnP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nterprise Root CA telepítése (default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nrollment Agent” és „Smart Card User” típusú sablonok engedélyezé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nrollment Agent tanusítvány kérése az Administrator számár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Web enrollment oldalon „Smart Card User” tanusítvány a felhasználó számár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anusítvány letárolása a Smart Card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munkaállomáson a CA tanusítványát telepíteni, hogy megbízzon benne (Házirend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Encrypting File System (EFS)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380880" y="1653840"/>
            <a:ext cx="8415360" cy="5236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Biztonságos adatvédelem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alkalmazások számára átlátszó és gyo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lérhető a grafikus felületről vagy parancsorbó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lkalmazható egyes fájlokra vagy egész könyvtárakra (rekurzív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agyvállalati szolgáltatás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elyreállítás (a dolgozó kilépett a cégtől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itkosítás fájlszervereken és nem csak a munkaállomáson vagy notebook-ok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utomatikus kulcs menedzs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Dokumentum titkosítá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1786" name=""/>
          <p:cNvGrpSpPr/>
          <p:nvPr/>
        </p:nvGrpSpPr>
        <p:grpSpPr>
          <a:xfrm>
            <a:off x="3267000" y="4184640"/>
            <a:ext cx="5195880" cy="2514600"/>
            <a:chOff x="3267000" y="4184640"/>
            <a:chExt cx="5195880" cy="2514600"/>
          </a:xfrm>
        </p:grpSpPr>
        <p:sp>
          <p:nvSpPr>
            <p:cNvPr id="1787" name=""/>
            <p:cNvSpPr/>
            <p:nvPr/>
          </p:nvSpPr>
          <p:spPr>
            <a:xfrm>
              <a:off x="3990960" y="4184640"/>
              <a:ext cx="2495520" cy="939960"/>
            </a:xfrm>
            <a:prstGeom prst="rect">
              <a:avLst/>
            </a:prstGeom>
            <a:gradFill rotWithShape="0">
              <a:gsLst>
                <a:gs pos="0">
                  <a:srgbClr val="00503c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ata Recove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ield gener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álás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(RSA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88" name=""/>
            <p:cNvGrpSpPr/>
            <p:nvPr/>
          </p:nvGrpSpPr>
          <p:grpSpPr>
            <a:xfrm>
              <a:off x="4973760" y="5850000"/>
              <a:ext cx="560160" cy="849240"/>
              <a:chOff x="4973760" y="5850000"/>
              <a:chExt cx="560160" cy="849240"/>
            </a:xfrm>
          </p:grpSpPr>
          <p:graphicFrame>
            <p:nvGraphicFramePr>
              <p:cNvPr id="1789" name=""/>
              <p:cNvGraphicFramePr/>
              <p:nvPr/>
            </p:nvGraphicFramePr>
            <p:xfrm>
              <a:off x="4973760" y="5850000"/>
              <a:ext cx="560160" cy="8492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790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4973760" y="5850000"/>
                        <a:ext cx="560160" cy="849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91" name=""/>
              <p:cNvSpPr/>
              <p:nvPr/>
            </p:nvSpPr>
            <p:spPr>
              <a:xfrm>
                <a:off x="5037120" y="5964120"/>
                <a:ext cx="47268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92" name=""/>
            <p:cNvSpPr/>
            <p:nvPr/>
          </p:nvSpPr>
          <p:spPr>
            <a:xfrm>
              <a:off x="3267000" y="4459320"/>
              <a:ext cx="708120" cy="204840"/>
            </a:xfrm>
            <a:prstGeom prst="rightArrow">
              <a:avLst>
                <a:gd name="adj1" fmla="val 50000"/>
                <a:gd name="adj2" fmla="val 172863"/>
              </a:avLst>
            </a:prstGeom>
            <a:gradFill rotWithShape="0">
              <a:gsLst>
                <a:gs pos="0">
                  <a:srgbClr val="fccf00"/>
                </a:gs>
                <a:gs pos="100000">
                  <a:srgbClr val="7c6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137200" y="5149800"/>
              <a:ext cx="317520" cy="554040"/>
            </a:xfrm>
            <a:prstGeom prst="upArrow">
              <a:avLst>
                <a:gd name="adj1" fmla="val 50000"/>
                <a:gd name="adj2" fmla="val 87236"/>
              </a:avLst>
            </a:prstGeom>
            <a:gradFill rotWithShape="0">
              <a:gsLst>
                <a:gs pos="0">
                  <a:srgbClr val="fccf00"/>
                </a:gs>
                <a:gs pos="100000">
                  <a:srgbClr val="7c6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047000" y="4330800"/>
              <a:ext cx="1415880" cy="590400"/>
            </a:xfrm>
            <a:prstGeom prst="rect">
              <a:avLst/>
            </a:prstGeom>
            <a:gradFill rotWithShape="0">
              <a:gsLst>
                <a:gs pos="0">
                  <a:srgbClr val="311819"/>
                </a:gs>
                <a:gs pos="100000">
                  <a:srgbClr val="ff7c8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R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492960" y="4562640"/>
              <a:ext cx="573120" cy="188640"/>
            </a:xfrm>
            <a:prstGeom prst="rightArrow">
              <a:avLst>
                <a:gd name="adj1" fmla="val 50000"/>
                <a:gd name="adj2" fmla="val 151922"/>
              </a:avLst>
            </a:prstGeom>
            <a:gradFill rotWithShape="0">
              <a:gsLst>
                <a:gs pos="0">
                  <a:srgbClr val="fccf00"/>
                </a:gs>
                <a:gs pos="100000">
                  <a:srgbClr val="7c6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680440" y="5572080"/>
              <a:ext cx="253188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Helyreállító ügynö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eea564"/>
                  </a:solidFill>
                  <a:latin typeface="Arial"/>
                </a:rPr>
                <a:t>nyilvános 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kulcs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(Házirend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97" name=""/>
          <p:cNvGrpSpPr/>
          <p:nvPr/>
        </p:nvGrpSpPr>
        <p:grpSpPr>
          <a:xfrm>
            <a:off x="390600" y="3116160"/>
            <a:ext cx="8067600" cy="1182600"/>
            <a:chOff x="390600" y="3116160"/>
            <a:chExt cx="8067600" cy="1182600"/>
          </a:xfrm>
        </p:grpSpPr>
        <p:sp>
          <p:nvSpPr>
            <p:cNvPr id="1798" name=""/>
            <p:cNvSpPr/>
            <p:nvPr/>
          </p:nvSpPr>
          <p:spPr>
            <a:xfrm>
              <a:off x="3263760" y="3755880"/>
              <a:ext cx="708120" cy="204840"/>
            </a:xfrm>
            <a:prstGeom prst="rightArrow">
              <a:avLst>
                <a:gd name="adj1" fmla="val 50000"/>
                <a:gd name="adj2" fmla="val 172863"/>
              </a:avLst>
            </a:prstGeom>
            <a:gradFill rotWithShape="0">
              <a:gsLst>
                <a:gs pos="0">
                  <a:srgbClr val="fccf00"/>
                </a:gs>
                <a:gs pos="100000">
                  <a:srgbClr val="7c6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510240" y="3335400"/>
              <a:ext cx="519120" cy="208080"/>
            </a:xfrm>
            <a:prstGeom prst="rightArrow">
              <a:avLst>
                <a:gd name="adj1" fmla="val 50000"/>
                <a:gd name="adj2" fmla="val 124752"/>
              </a:avLst>
            </a:prstGeom>
            <a:gradFill rotWithShape="0">
              <a:gsLst>
                <a:gs pos="0">
                  <a:srgbClr val="fccf00"/>
                </a:gs>
                <a:gs pos="100000">
                  <a:srgbClr val="7c6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003560" y="3116160"/>
              <a:ext cx="2495520" cy="939960"/>
            </a:xfrm>
            <a:prstGeom prst="rect">
              <a:avLst/>
            </a:prstGeom>
            <a:gradFill rotWithShape="0">
              <a:gsLst>
                <a:gs pos="0">
                  <a:srgbClr val="00503c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ata Decryp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ield gener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álás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(RSA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1" name=""/>
            <p:cNvGrpSpPr/>
            <p:nvPr/>
          </p:nvGrpSpPr>
          <p:grpSpPr>
            <a:xfrm>
              <a:off x="390600" y="3166920"/>
              <a:ext cx="469800" cy="693720"/>
              <a:chOff x="390600" y="3166920"/>
              <a:chExt cx="469800" cy="693720"/>
            </a:xfrm>
          </p:grpSpPr>
          <p:graphicFrame>
            <p:nvGraphicFramePr>
              <p:cNvPr id="1802" name=""/>
              <p:cNvGraphicFramePr/>
              <p:nvPr/>
            </p:nvGraphicFramePr>
            <p:xfrm>
              <a:off x="390600" y="3166920"/>
              <a:ext cx="469800" cy="69372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803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390600" y="3166920"/>
                        <a:ext cx="469800" cy="693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804" name=""/>
              <p:cNvSpPr/>
              <p:nvPr/>
            </p:nvSpPr>
            <p:spPr>
              <a:xfrm>
                <a:off x="444600" y="3260520"/>
                <a:ext cx="396720" cy="1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05" name=""/>
            <p:cNvSpPr/>
            <p:nvPr/>
          </p:nvSpPr>
          <p:spPr>
            <a:xfrm>
              <a:off x="7042320" y="3152880"/>
              <a:ext cx="1415880" cy="590400"/>
            </a:xfrm>
            <a:prstGeom prst="rect">
              <a:avLst/>
            </a:prstGeom>
            <a:gradFill rotWithShape="0">
              <a:gsLst>
                <a:gs pos="0">
                  <a:srgbClr val="311819"/>
                </a:gs>
                <a:gs pos="100000">
                  <a:srgbClr val="ff7c8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D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725040" y="3657600"/>
              <a:ext cx="20138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Felhasználó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eea564"/>
                  </a:solidFill>
                  <a:latin typeface="Arial"/>
                </a:rPr>
                <a:t>nyilvános 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kulcs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920880" y="3282840"/>
              <a:ext cx="3117600" cy="276480"/>
            </a:xfrm>
            <a:prstGeom prst="rightArrow">
              <a:avLst>
                <a:gd name="adj1" fmla="val 60954"/>
                <a:gd name="adj2" fmla="val 193154"/>
              </a:avLst>
            </a:prstGeom>
            <a:gradFill rotWithShape="0">
              <a:gsLst>
                <a:gs pos="0">
                  <a:srgbClr val="fccf00"/>
                </a:gs>
                <a:gs pos="100000">
                  <a:srgbClr val="7c6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08" name=""/>
          <p:cNvSpPr/>
          <p:nvPr/>
        </p:nvSpPr>
        <p:spPr>
          <a:xfrm>
            <a:off x="3164040" y="1600200"/>
            <a:ext cx="2276280" cy="1014480"/>
          </a:xfrm>
          <a:prstGeom prst="rect">
            <a:avLst/>
          </a:prstGeom>
          <a:gradFill rotWithShape="0">
            <a:gsLst>
              <a:gs pos="0">
                <a:srgbClr val="213456"/>
              </a:gs>
              <a:gs pos="100000">
                <a:srgbClr val="5686dc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itkosítá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1824120" y="2122560"/>
            <a:ext cx="1306440" cy="334800"/>
          </a:xfrm>
          <a:prstGeom prst="rightArrow">
            <a:avLst>
              <a:gd name="adj1" fmla="val 50000"/>
              <a:gd name="adj2" fmla="val 195126"/>
            </a:avLst>
          </a:prstGeom>
          <a:gradFill rotWithShape="0">
            <a:gsLst>
              <a:gs pos="0">
                <a:srgbClr val="fccf00"/>
              </a:gs>
              <a:gs pos="100000">
                <a:srgbClr val="6351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5468760" y="2122560"/>
            <a:ext cx="1562400" cy="298440"/>
          </a:xfrm>
          <a:prstGeom prst="rightArrow">
            <a:avLst>
              <a:gd name="adj1" fmla="val 50000"/>
              <a:gd name="adj2" fmla="val 261785"/>
            </a:avLst>
          </a:prstGeom>
          <a:gradFill rotWithShape="0">
            <a:gsLst>
              <a:gs pos="0">
                <a:srgbClr val="fccf00"/>
              </a:gs>
              <a:gs pos="100000">
                <a:srgbClr val="6351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1" name=""/>
          <p:cNvGrpSpPr/>
          <p:nvPr/>
        </p:nvGrpSpPr>
        <p:grpSpPr>
          <a:xfrm>
            <a:off x="610920" y="1600200"/>
            <a:ext cx="1043280" cy="1143000"/>
            <a:chOff x="610920" y="1600200"/>
            <a:chExt cx="1043280" cy="1143000"/>
          </a:xfrm>
        </p:grpSpPr>
        <p:sp>
          <p:nvSpPr>
            <p:cNvPr id="1812" name=""/>
            <p:cNvSpPr/>
            <p:nvPr/>
          </p:nvSpPr>
          <p:spPr>
            <a:xfrm>
              <a:off x="685800" y="1600200"/>
              <a:ext cx="914400" cy="11430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10920" y="1828800"/>
              <a:ext cx="1043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Arial"/>
                </a:rPr>
                <a:t>Holnap</a:t>
              </a:r>
              <a:br>
                <a:rPr sz="2000"/>
              </a:br>
              <a:r>
                <a:rPr b="1" lang="hu-HU" sz="2000" spc="-1" strike="noStrike">
                  <a:solidFill>
                    <a:srgbClr val="000000"/>
                  </a:solidFill>
                  <a:latin typeface="Arial"/>
                </a:rPr>
                <a:t>regg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14" name=""/>
          <p:cNvGrpSpPr/>
          <p:nvPr/>
        </p:nvGrpSpPr>
        <p:grpSpPr>
          <a:xfrm>
            <a:off x="7086600" y="1600200"/>
            <a:ext cx="990360" cy="1142640"/>
            <a:chOff x="7086600" y="1600200"/>
            <a:chExt cx="990360" cy="1142640"/>
          </a:xfrm>
        </p:grpSpPr>
        <p:sp>
          <p:nvSpPr>
            <p:cNvPr id="1815" name=""/>
            <p:cNvSpPr/>
            <p:nvPr/>
          </p:nvSpPr>
          <p:spPr>
            <a:xfrm>
              <a:off x="7086600" y="1600200"/>
              <a:ext cx="973800" cy="11426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7086600" y="1600200"/>
              <a:ext cx="99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*#$fjda^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53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17" name=""/>
          <p:cNvGrpSpPr/>
          <p:nvPr/>
        </p:nvGrpSpPr>
        <p:grpSpPr>
          <a:xfrm>
            <a:off x="457200" y="2687400"/>
            <a:ext cx="3657600" cy="3789720"/>
            <a:chOff x="457200" y="2687400"/>
            <a:chExt cx="3657600" cy="3789720"/>
          </a:xfrm>
        </p:grpSpPr>
        <p:sp>
          <p:nvSpPr>
            <p:cNvPr id="1818" name=""/>
            <p:cNvSpPr/>
            <p:nvPr/>
          </p:nvSpPr>
          <p:spPr>
            <a:xfrm>
              <a:off x="2654280" y="5767560"/>
              <a:ext cx="1460520" cy="709560"/>
            </a:xfrm>
            <a:prstGeom prst="rect">
              <a:avLst/>
            </a:prstGeom>
            <a:gradFill rotWithShape="0">
              <a:gsLst>
                <a:gs pos="0">
                  <a:srgbClr val="5d4127"/>
                </a:gs>
                <a:gs pos="100000">
                  <a:srgbClr val="eea564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andom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enerá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57200" y="5334120"/>
              <a:ext cx="22096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ile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cryptio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key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(FEK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 rot="16209600">
              <a:off x="1805400" y="4075920"/>
              <a:ext cx="3047760" cy="271440"/>
            </a:xfrm>
            <a:prstGeom prst="rightArrow">
              <a:avLst>
                <a:gd name="adj1" fmla="val 60954"/>
                <a:gd name="adj2" fmla="val 192333"/>
              </a:avLst>
            </a:prstGeom>
            <a:gradFill rotWithShape="0">
              <a:gsLst>
                <a:gs pos="0">
                  <a:srgbClr val="635100"/>
                </a:gs>
                <a:gs pos="100000">
                  <a:srgbClr val="fcc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21" name=""/>
            <p:cNvGrpSpPr/>
            <p:nvPr/>
          </p:nvGrpSpPr>
          <p:grpSpPr>
            <a:xfrm>
              <a:off x="2438280" y="4876920"/>
              <a:ext cx="533160" cy="761400"/>
              <a:chOff x="2438280" y="4876920"/>
              <a:chExt cx="533160" cy="761400"/>
            </a:xfrm>
          </p:grpSpPr>
          <p:sp>
            <p:nvSpPr>
              <p:cNvPr id="1822" name=""/>
              <p:cNvSpPr/>
              <p:nvPr/>
            </p:nvSpPr>
            <p:spPr>
              <a:xfrm>
                <a:off x="2450880" y="4876920"/>
                <a:ext cx="520560" cy="756360"/>
              </a:xfrm>
              <a:custGeom>
                <a:avLst/>
                <a:gdLst/>
                <a:ahLst/>
                <a:rect l="l" t="t" r="r" b="b"/>
                <a:pathLst>
                  <a:path w="329" h="453">
                    <a:moveTo>
                      <a:pt x="209" y="0"/>
                    </a:moveTo>
                    <a:lnTo>
                      <a:pt x="111" y="0"/>
                    </a:lnTo>
                    <a:lnTo>
                      <a:pt x="129" y="17"/>
                    </a:lnTo>
                    <a:lnTo>
                      <a:pt x="187" y="17"/>
                    </a:lnTo>
                    <a:lnTo>
                      <a:pt x="209" y="44"/>
                    </a:lnTo>
                    <a:lnTo>
                      <a:pt x="109" y="44"/>
                    </a:lnTo>
                    <a:lnTo>
                      <a:pt x="130" y="17"/>
                    </a:lnTo>
                    <a:lnTo>
                      <a:pt x="111" y="0"/>
                    </a:lnTo>
                    <a:lnTo>
                      <a:pt x="76" y="43"/>
                    </a:lnTo>
                    <a:lnTo>
                      <a:pt x="57" y="43"/>
                    </a:lnTo>
                    <a:lnTo>
                      <a:pt x="50" y="57"/>
                    </a:lnTo>
                    <a:lnTo>
                      <a:pt x="21" y="57"/>
                    </a:lnTo>
                    <a:lnTo>
                      <a:pt x="21" y="68"/>
                    </a:lnTo>
                    <a:lnTo>
                      <a:pt x="9" y="68"/>
                    </a:lnTo>
                    <a:lnTo>
                      <a:pt x="0" y="68"/>
                    </a:lnTo>
                    <a:lnTo>
                      <a:pt x="0" y="131"/>
                    </a:lnTo>
                    <a:lnTo>
                      <a:pt x="21" y="132"/>
                    </a:lnTo>
                    <a:lnTo>
                      <a:pt x="21" y="145"/>
                    </a:lnTo>
                    <a:lnTo>
                      <a:pt x="49" y="145"/>
                    </a:lnTo>
                    <a:lnTo>
                      <a:pt x="57" y="160"/>
                    </a:lnTo>
                    <a:lnTo>
                      <a:pt x="73" y="161"/>
                    </a:lnTo>
                    <a:lnTo>
                      <a:pt x="74" y="193"/>
                    </a:lnTo>
                    <a:lnTo>
                      <a:pt x="84" y="193"/>
                    </a:lnTo>
                    <a:lnTo>
                      <a:pt x="88" y="198"/>
                    </a:lnTo>
                    <a:lnTo>
                      <a:pt x="88" y="230"/>
                    </a:lnTo>
                    <a:lnTo>
                      <a:pt x="106" y="230"/>
                    </a:lnTo>
                    <a:lnTo>
                      <a:pt x="105" y="423"/>
                    </a:lnTo>
                    <a:lnTo>
                      <a:pt x="149" y="452"/>
                    </a:lnTo>
                    <a:lnTo>
                      <a:pt x="205" y="418"/>
                    </a:lnTo>
                    <a:lnTo>
                      <a:pt x="184" y="409"/>
                    </a:lnTo>
                    <a:lnTo>
                      <a:pt x="184" y="397"/>
                    </a:lnTo>
                    <a:lnTo>
                      <a:pt x="205" y="387"/>
                    </a:lnTo>
                    <a:lnTo>
                      <a:pt x="184" y="379"/>
                    </a:lnTo>
                    <a:lnTo>
                      <a:pt x="187" y="375"/>
                    </a:lnTo>
                    <a:lnTo>
                      <a:pt x="205" y="367"/>
                    </a:lnTo>
                    <a:lnTo>
                      <a:pt x="208" y="343"/>
                    </a:lnTo>
                    <a:lnTo>
                      <a:pt x="211" y="340"/>
                    </a:lnTo>
                    <a:lnTo>
                      <a:pt x="184" y="326"/>
                    </a:lnTo>
                    <a:lnTo>
                      <a:pt x="184" y="313"/>
                    </a:lnTo>
                    <a:lnTo>
                      <a:pt x="205" y="299"/>
                    </a:lnTo>
                    <a:lnTo>
                      <a:pt x="184" y="285"/>
                    </a:lnTo>
                    <a:lnTo>
                      <a:pt x="184" y="272"/>
                    </a:lnTo>
                    <a:lnTo>
                      <a:pt x="205" y="255"/>
                    </a:lnTo>
                    <a:lnTo>
                      <a:pt x="208" y="228"/>
                    </a:lnTo>
                    <a:lnTo>
                      <a:pt x="232" y="228"/>
                    </a:lnTo>
                    <a:lnTo>
                      <a:pt x="232" y="192"/>
                    </a:lnTo>
                    <a:lnTo>
                      <a:pt x="247" y="192"/>
                    </a:lnTo>
                    <a:lnTo>
                      <a:pt x="247" y="159"/>
                    </a:lnTo>
                    <a:lnTo>
                      <a:pt x="263" y="159"/>
                    </a:lnTo>
                    <a:lnTo>
                      <a:pt x="270" y="144"/>
                    </a:lnTo>
                    <a:lnTo>
                      <a:pt x="303" y="144"/>
                    </a:lnTo>
                    <a:lnTo>
                      <a:pt x="303" y="130"/>
                    </a:lnTo>
                    <a:lnTo>
                      <a:pt x="328" y="130"/>
                    </a:lnTo>
                    <a:lnTo>
                      <a:pt x="328" y="67"/>
                    </a:lnTo>
                    <a:lnTo>
                      <a:pt x="303" y="67"/>
                    </a:lnTo>
                    <a:lnTo>
                      <a:pt x="303" y="57"/>
                    </a:lnTo>
                    <a:lnTo>
                      <a:pt x="276" y="57"/>
                    </a:lnTo>
                    <a:lnTo>
                      <a:pt x="269" y="53"/>
                    </a:lnTo>
                    <a:lnTo>
                      <a:pt x="262" y="43"/>
                    </a:lnTo>
                    <a:lnTo>
                      <a:pt x="247" y="43"/>
                    </a:lnTo>
                    <a:lnTo>
                      <a:pt x="209" y="0"/>
                    </a:lnTo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2438280" y="4881600"/>
                <a:ext cx="520920" cy="756720"/>
              </a:xfrm>
              <a:custGeom>
                <a:avLst/>
                <a:gdLst/>
                <a:ahLst/>
                <a:rect l="l" t="t" r="r" b="b"/>
                <a:pathLst>
                  <a:path w="329" h="453">
                    <a:moveTo>
                      <a:pt x="210" y="0"/>
                    </a:moveTo>
                    <a:lnTo>
                      <a:pt x="111" y="0"/>
                    </a:lnTo>
                    <a:lnTo>
                      <a:pt x="130" y="17"/>
                    </a:lnTo>
                    <a:lnTo>
                      <a:pt x="187" y="17"/>
                    </a:lnTo>
                    <a:lnTo>
                      <a:pt x="209" y="44"/>
                    </a:lnTo>
                    <a:lnTo>
                      <a:pt x="110" y="44"/>
                    </a:lnTo>
                    <a:lnTo>
                      <a:pt x="130" y="17"/>
                    </a:lnTo>
                    <a:lnTo>
                      <a:pt x="111" y="0"/>
                    </a:lnTo>
                    <a:lnTo>
                      <a:pt x="76" y="43"/>
                    </a:lnTo>
                    <a:lnTo>
                      <a:pt x="58" y="43"/>
                    </a:lnTo>
                    <a:lnTo>
                      <a:pt x="51" y="57"/>
                    </a:lnTo>
                    <a:lnTo>
                      <a:pt x="22" y="57"/>
                    </a:lnTo>
                    <a:lnTo>
                      <a:pt x="21" y="68"/>
                    </a:lnTo>
                    <a:lnTo>
                      <a:pt x="10" y="68"/>
                    </a:lnTo>
                    <a:lnTo>
                      <a:pt x="0" y="68"/>
                    </a:lnTo>
                    <a:lnTo>
                      <a:pt x="0" y="131"/>
                    </a:lnTo>
                    <a:lnTo>
                      <a:pt x="22" y="132"/>
                    </a:lnTo>
                    <a:lnTo>
                      <a:pt x="22" y="144"/>
                    </a:lnTo>
                    <a:lnTo>
                      <a:pt x="50" y="144"/>
                    </a:lnTo>
                    <a:lnTo>
                      <a:pt x="58" y="160"/>
                    </a:lnTo>
                    <a:lnTo>
                      <a:pt x="73" y="161"/>
                    </a:lnTo>
                    <a:lnTo>
                      <a:pt x="75" y="193"/>
                    </a:lnTo>
                    <a:lnTo>
                      <a:pt x="85" y="193"/>
                    </a:lnTo>
                    <a:lnTo>
                      <a:pt x="87" y="196"/>
                    </a:lnTo>
                    <a:lnTo>
                      <a:pt x="87" y="230"/>
                    </a:lnTo>
                    <a:lnTo>
                      <a:pt x="106" y="230"/>
                    </a:lnTo>
                    <a:lnTo>
                      <a:pt x="105" y="423"/>
                    </a:lnTo>
                    <a:lnTo>
                      <a:pt x="149" y="452"/>
                    </a:lnTo>
                    <a:lnTo>
                      <a:pt x="205" y="418"/>
                    </a:lnTo>
                    <a:lnTo>
                      <a:pt x="185" y="409"/>
                    </a:lnTo>
                    <a:lnTo>
                      <a:pt x="185" y="397"/>
                    </a:lnTo>
                    <a:lnTo>
                      <a:pt x="205" y="387"/>
                    </a:lnTo>
                    <a:lnTo>
                      <a:pt x="185" y="378"/>
                    </a:lnTo>
                    <a:lnTo>
                      <a:pt x="188" y="375"/>
                    </a:lnTo>
                    <a:lnTo>
                      <a:pt x="205" y="367"/>
                    </a:lnTo>
                    <a:lnTo>
                      <a:pt x="208" y="343"/>
                    </a:lnTo>
                    <a:lnTo>
                      <a:pt x="211" y="340"/>
                    </a:lnTo>
                    <a:lnTo>
                      <a:pt x="185" y="326"/>
                    </a:lnTo>
                    <a:lnTo>
                      <a:pt x="185" y="313"/>
                    </a:lnTo>
                    <a:lnTo>
                      <a:pt x="205" y="299"/>
                    </a:lnTo>
                    <a:lnTo>
                      <a:pt x="185" y="285"/>
                    </a:lnTo>
                    <a:lnTo>
                      <a:pt x="185" y="272"/>
                    </a:lnTo>
                    <a:lnTo>
                      <a:pt x="205" y="255"/>
                    </a:lnTo>
                    <a:lnTo>
                      <a:pt x="209" y="228"/>
                    </a:lnTo>
                    <a:lnTo>
                      <a:pt x="233" y="228"/>
                    </a:lnTo>
                    <a:lnTo>
                      <a:pt x="233" y="192"/>
                    </a:lnTo>
                    <a:lnTo>
                      <a:pt x="247" y="192"/>
                    </a:lnTo>
                    <a:lnTo>
                      <a:pt x="247" y="159"/>
                    </a:lnTo>
                    <a:lnTo>
                      <a:pt x="263" y="159"/>
                    </a:lnTo>
                    <a:lnTo>
                      <a:pt x="270" y="144"/>
                    </a:lnTo>
                    <a:lnTo>
                      <a:pt x="303" y="144"/>
                    </a:lnTo>
                    <a:lnTo>
                      <a:pt x="303" y="130"/>
                    </a:lnTo>
                    <a:lnTo>
                      <a:pt x="328" y="130"/>
                    </a:lnTo>
                    <a:lnTo>
                      <a:pt x="328" y="67"/>
                    </a:lnTo>
                    <a:lnTo>
                      <a:pt x="303" y="67"/>
                    </a:lnTo>
                    <a:lnTo>
                      <a:pt x="303" y="57"/>
                    </a:lnTo>
                    <a:lnTo>
                      <a:pt x="276" y="57"/>
                    </a:lnTo>
                    <a:lnTo>
                      <a:pt x="270" y="53"/>
                    </a:lnTo>
                    <a:lnTo>
                      <a:pt x="263" y="43"/>
                    </a:lnTo>
                    <a:lnTo>
                      <a:pt x="247" y="43"/>
                    </a:lnTo>
                    <a:lnTo>
                      <a:pt x="210" y="0"/>
                    </a:lnTo>
                  </a:path>
                </a:pathLst>
              </a:custGeom>
              <a:solidFill>
                <a:srgbClr val="43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24" name=""/>
              <p:cNvGrpSpPr/>
              <p:nvPr/>
            </p:nvGrpSpPr>
            <p:grpSpPr>
              <a:xfrm>
                <a:off x="2488680" y="5003640"/>
                <a:ext cx="397080" cy="82800"/>
                <a:chOff x="2488680" y="5003640"/>
                <a:chExt cx="397080" cy="82800"/>
              </a:xfrm>
            </p:grpSpPr>
            <p:sp>
              <p:nvSpPr>
                <p:cNvPr id="1825" name=""/>
                <p:cNvSpPr/>
                <p:nvPr/>
              </p:nvSpPr>
              <p:spPr>
                <a:xfrm>
                  <a:off x="2518560" y="5003640"/>
                  <a:ext cx="367200" cy="82800"/>
                </a:xfrm>
                <a:custGeom>
                  <a:avLst/>
                  <a:gdLst/>
                  <a:ahLst/>
                  <a:rect l="l" t="t" r="r" b="b"/>
                  <a:pathLst>
                    <a:path w="232" h="50">
                      <a:moveTo>
                        <a:pt x="231" y="25"/>
                      </a:moveTo>
                      <a:lnTo>
                        <a:pt x="210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208" y="2"/>
                      </a:lnTo>
                      <a:lnTo>
                        <a:pt x="226" y="25"/>
                      </a:lnTo>
                      <a:lnTo>
                        <a:pt x="208" y="47"/>
                      </a:lnTo>
                      <a:lnTo>
                        <a:pt x="212" y="49"/>
                      </a:lnTo>
                      <a:lnTo>
                        <a:pt x="231" y="25"/>
                      </a:lnTo>
                    </a:path>
                  </a:pathLst>
                </a:custGeom>
                <a:solidFill>
                  <a:srgbClr val="3165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2488680" y="5003640"/>
                  <a:ext cx="365760" cy="81360"/>
                </a:xfrm>
                <a:custGeom>
                  <a:avLst/>
                  <a:gdLst/>
                  <a:ahLst/>
                  <a:rect l="l" t="t" r="r" b="b"/>
                  <a:pathLst>
                    <a:path w="231" h="49">
                      <a:moveTo>
                        <a:pt x="0" y="22"/>
                      </a:moveTo>
                      <a:lnTo>
                        <a:pt x="20" y="48"/>
                      </a:lnTo>
                      <a:lnTo>
                        <a:pt x="230" y="48"/>
                      </a:lnTo>
                      <a:lnTo>
                        <a:pt x="228" y="45"/>
                      </a:lnTo>
                      <a:lnTo>
                        <a:pt x="22" y="45"/>
                      </a:lnTo>
                      <a:lnTo>
                        <a:pt x="3" y="22"/>
                      </a:lnTo>
                      <a:lnTo>
                        <a:pt x="21" y="1"/>
                      </a:lnTo>
                      <a:lnTo>
                        <a:pt x="17" y="0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00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7" name=""/>
              <p:cNvSpPr/>
              <p:nvPr/>
            </p:nvSpPr>
            <p:spPr>
              <a:xfrm>
                <a:off x="2476080" y="4988520"/>
                <a:ext cx="438480" cy="2664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2528640" y="4971960"/>
                <a:ext cx="341640" cy="2664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29" name=""/>
              <p:cNvGrpSpPr/>
              <p:nvPr/>
            </p:nvGrpSpPr>
            <p:grpSpPr>
              <a:xfrm>
                <a:off x="2472840" y="5102280"/>
                <a:ext cx="441720" cy="535320"/>
                <a:chOff x="2472840" y="5102280"/>
                <a:chExt cx="441720" cy="535320"/>
              </a:xfrm>
            </p:grpSpPr>
            <p:sp>
              <p:nvSpPr>
                <p:cNvPr id="1830" name=""/>
                <p:cNvSpPr/>
                <p:nvPr/>
              </p:nvSpPr>
              <p:spPr>
                <a:xfrm>
                  <a:off x="2705400" y="5207400"/>
                  <a:ext cx="26640" cy="412200"/>
                </a:xfrm>
                <a:custGeom>
                  <a:avLst/>
                  <a:gdLst/>
                  <a:ahLst/>
                  <a:rect l="l" t="t" r="r" b="b"/>
                  <a:pathLst>
                    <a:path w="17" h="247">
                      <a:moveTo>
                        <a:pt x="0" y="0"/>
                      </a:moveTo>
                      <a:lnTo>
                        <a:pt x="0" y="246"/>
                      </a:lnTo>
                      <a:lnTo>
                        <a:pt x="16" y="242"/>
                      </a:lnTo>
                      <a:lnTo>
                        <a:pt x="16" y="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2643840" y="5218920"/>
                  <a:ext cx="26640" cy="400320"/>
                </a:xfrm>
                <a:custGeom>
                  <a:avLst/>
                  <a:gdLst/>
                  <a:ahLst/>
                  <a:rect l="l" t="t" r="r" b="b"/>
                  <a:pathLst>
                    <a:path w="17" h="240">
                      <a:moveTo>
                        <a:pt x="5" y="0"/>
                      </a:moveTo>
                      <a:lnTo>
                        <a:pt x="0" y="235"/>
                      </a:lnTo>
                      <a:lnTo>
                        <a:pt x="16" y="239"/>
                      </a:lnTo>
                      <a:lnTo>
                        <a:pt x="16" y="19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00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32" name=""/>
                <p:cNvGrpSpPr/>
                <p:nvPr/>
              </p:nvGrpSpPr>
              <p:grpSpPr>
                <a:xfrm>
                  <a:off x="2472840" y="5102280"/>
                  <a:ext cx="441720" cy="535320"/>
                  <a:chOff x="2472840" y="5102280"/>
                  <a:chExt cx="441720" cy="535320"/>
                </a:xfrm>
              </p:grpSpPr>
              <p:sp>
                <p:nvSpPr>
                  <p:cNvPr id="1833" name=""/>
                  <p:cNvSpPr/>
                  <p:nvPr/>
                </p:nvSpPr>
                <p:spPr>
                  <a:xfrm>
                    <a:off x="2472840" y="5102280"/>
                    <a:ext cx="441720" cy="26640"/>
                  </a:xfrm>
                  <a:prstGeom prst="rect">
                    <a:avLst/>
                  </a:pr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4" name=""/>
                  <p:cNvSpPr/>
                  <p:nvPr/>
                </p:nvSpPr>
                <p:spPr>
                  <a:xfrm>
                    <a:off x="2556720" y="5151960"/>
                    <a:ext cx="265680" cy="26640"/>
                  </a:xfrm>
                  <a:prstGeom prst="rect">
                    <a:avLst/>
                  </a:pr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5" name=""/>
                  <p:cNvSpPr/>
                  <p:nvPr/>
                </p:nvSpPr>
                <p:spPr>
                  <a:xfrm>
                    <a:off x="2645280" y="5218920"/>
                    <a:ext cx="28080" cy="41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51">
                        <a:moveTo>
                          <a:pt x="0" y="0"/>
                        </a:moveTo>
                        <a:lnTo>
                          <a:pt x="4" y="16"/>
                        </a:lnTo>
                        <a:lnTo>
                          <a:pt x="10" y="30"/>
                        </a:lnTo>
                        <a:lnTo>
                          <a:pt x="10" y="245"/>
                        </a:lnTo>
                        <a:lnTo>
                          <a:pt x="15" y="250"/>
                        </a:lnTo>
                        <a:lnTo>
                          <a:pt x="17" y="2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6" name=""/>
                  <p:cNvSpPr/>
                  <p:nvPr/>
                </p:nvSpPr>
                <p:spPr>
                  <a:xfrm>
                    <a:off x="2572560" y="5203800"/>
                    <a:ext cx="23220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35">
                        <a:moveTo>
                          <a:pt x="121" y="34"/>
                        </a:moveTo>
                        <a:lnTo>
                          <a:pt x="131" y="26"/>
                        </a:lnTo>
                        <a:lnTo>
                          <a:pt x="131" y="3"/>
                        </a:lnTo>
                        <a:lnTo>
                          <a:pt x="146" y="3"/>
                        </a:lnTo>
                        <a:lnTo>
                          <a:pt x="146" y="0"/>
                        </a:lnTo>
                        <a:lnTo>
                          <a:pt x="0" y="0"/>
                        </a:lnTo>
                        <a:lnTo>
                          <a:pt x="3" y="3"/>
                        </a:lnTo>
                        <a:lnTo>
                          <a:pt x="82" y="3"/>
                        </a:lnTo>
                        <a:lnTo>
                          <a:pt x="89" y="10"/>
                        </a:lnTo>
                        <a:lnTo>
                          <a:pt x="118" y="10"/>
                        </a:lnTo>
                        <a:lnTo>
                          <a:pt x="121" y="34"/>
                        </a:lnTo>
                      </a:path>
                    </a:pathLst>
                  </a:cu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7" name=""/>
                  <p:cNvSpPr/>
                  <p:nvPr/>
                </p:nvSpPr>
                <p:spPr>
                  <a:xfrm>
                    <a:off x="2517120" y="5123520"/>
                    <a:ext cx="34920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221" h="17">
                        <a:moveTo>
                          <a:pt x="220" y="0"/>
                        </a:moveTo>
                        <a:lnTo>
                          <a:pt x="0" y="0"/>
                        </a:lnTo>
                        <a:lnTo>
                          <a:pt x="2" y="16"/>
                        </a:lnTo>
                        <a:lnTo>
                          <a:pt x="218" y="16"/>
                        </a:lnTo>
                        <a:lnTo>
                          <a:pt x="220" y="0"/>
                        </a:lnTo>
                      </a:path>
                    </a:pathLst>
                  </a:cu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ransition>
    <p:strips dir="r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Dokumentum dekódolá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1839" name=""/>
          <p:cNvGrpSpPr/>
          <p:nvPr/>
        </p:nvGrpSpPr>
        <p:grpSpPr>
          <a:xfrm>
            <a:off x="3276720" y="3962520"/>
            <a:ext cx="5181480" cy="1752480"/>
            <a:chOff x="3276720" y="3962520"/>
            <a:chExt cx="5181480" cy="1752480"/>
          </a:xfrm>
        </p:grpSpPr>
        <p:sp>
          <p:nvSpPr>
            <p:cNvPr id="1840" name=""/>
            <p:cNvSpPr/>
            <p:nvPr/>
          </p:nvSpPr>
          <p:spPr>
            <a:xfrm flipH="1">
              <a:off x="5867280" y="5181840"/>
              <a:ext cx="990720" cy="357120"/>
            </a:xfrm>
            <a:prstGeom prst="rightArrow">
              <a:avLst>
                <a:gd name="adj1" fmla="val 50000"/>
                <a:gd name="adj2" fmla="val 138722"/>
              </a:avLst>
            </a:prstGeom>
            <a:gradFill rotWithShape="0">
              <a:gsLst>
                <a:gs pos="0">
                  <a:srgbClr val="fccf00"/>
                </a:gs>
                <a:gs pos="100000">
                  <a:srgbClr val="7c6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3276720" y="4876920"/>
              <a:ext cx="2438280" cy="838080"/>
            </a:xfrm>
            <a:prstGeom prst="rect">
              <a:avLst/>
            </a:prstGeom>
            <a:gradFill rotWithShape="0">
              <a:gsLst>
                <a:gs pos="0">
                  <a:srgbClr val="00503c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kibontás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(RSA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42" name=""/>
            <p:cNvGrpSpPr/>
            <p:nvPr/>
          </p:nvGrpSpPr>
          <p:grpSpPr>
            <a:xfrm>
              <a:off x="6019920" y="3962520"/>
              <a:ext cx="621720" cy="921960"/>
              <a:chOff x="6019920" y="3962520"/>
              <a:chExt cx="621720" cy="921960"/>
            </a:xfrm>
          </p:grpSpPr>
          <p:graphicFrame>
            <p:nvGraphicFramePr>
              <p:cNvPr id="1843" name=""/>
              <p:cNvGraphicFramePr/>
              <p:nvPr/>
            </p:nvGraphicFramePr>
            <p:xfrm>
              <a:off x="6019920" y="3962520"/>
              <a:ext cx="621720" cy="92196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844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6019920" y="3962520"/>
                        <a:ext cx="621720" cy="92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845" name=""/>
              <p:cNvSpPr/>
              <p:nvPr/>
            </p:nvSpPr>
            <p:spPr>
              <a:xfrm>
                <a:off x="6091200" y="4086720"/>
                <a:ext cx="52488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46" name=""/>
            <p:cNvSpPr/>
            <p:nvPr/>
          </p:nvSpPr>
          <p:spPr>
            <a:xfrm>
              <a:off x="6934320" y="4953240"/>
              <a:ext cx="1523880" cy="761760"/>
            </a:xfrm>
            <a:prstGeom prst="rect">
              <a:avLst/>
            </a:prstGeom>
            <a:gradFill rotWithShape="0">
              <a:gsLst>
                <a:gs pos="0">
                  <a:srgbClr val="311819"/>
                </a:gs>
                <a:gs pos="100000">
                  <a:srgbClr val="ff7c8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628680" y="4191120"/>
              <a:ext cx="16588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A felhasználó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eea564"/>
                  </a:solidFill>
                  <a:latin typeface="Arial"/>
                </a:rPr>
                <a:t>privát 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kulcs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48" name=""/>
          <p:cNvSpPr/>
          <p:nvPr/>
        </p:nvSpPr>
        <p:spPr>
          <a:xfrm>
            <a:off x="3164040" y="1600200"/>
            <a:ext cx="2276280" cy="1014480"/>
          </a:xfrm>
          <a:prstGeom prst="rect">
            <a:avLst/>
          </a:prstGeom>
          <a:gradFill rotWithShape="0">
            <a:gsLst>
              <a:gs pos="0">
                <a:srgbClr val="213456"/>
              </a:gs>
              <a:gs pos="100000">
                <a:srgbClr val="5686dc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Visszafejté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 flipH="1">
            <a:off x="1823400" y="2122560"/>
            <a:ext cx="1306440" cy="334800"/>
          </a:xfrm>
          <a:prstGeom prst="rightArrow">
            <a:avLst>
              <a:gd name="adj1" fmla="val 50000"/>
              <a:gd name="adj2" fmla="val 195126"/>
            </a:avLst>
          </a:prstGeom>
          <a:gradFill rotWithShape="0">
            <a:gsLst>
              <a:gs pos="0">
                <a:srgbClr val="fccf00"/>
              </a:gs>
              <a:gs pos="100000">
                <a:srgbClr val="6351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 flipH="1">
            <a:off x="5468760" y="2122560"/>
            <a:ext cx="1562400" cy="298440"/>
          </a:xfrm>
          <a:prstGeom prst="rightArrow">
            <a:avLst>
              <a:gd name="adj1" fmla="val 50000"/>
              <a:gd name="adj2" fmla="val 261785"/>
            </a:avLst>
          </a:prstGeom>
          <a:gradFill rotWithShape="0">
            <a:gsLst>
              <a:gs pos="0">
                <a:srgbClr val="fccf00"/>
              </a:gs>
              <a:gs pos="100000">
                <a:srgbClr val="6351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1" name=""/>
          <p:cNvGrpSpPr/>
          <p:nvPr/>
        </p:nvGrpSpPr>
        <p:grpSpPr>
          <a:xfrm>
            <a:off x="610920" y="1600200"/>
            <a:ext cx="1043280" cy="1143000"/>
            <a:chOff x="610920" y="1600200"/>
            <a:chExt cx="1043280" cy="1143000"/>
          </a:xfrm>
        </p:grpSpPr>
        <p:sp>
          <p:nvSpPr>
            <p:cNvPr id="1852" name=""/>
            <p:cNvSpPr/>
            <p:nvPr/>
          </p:nvSpPr>
          <p:spPr>
            <a:xfrm>
              <a:off x="685800" y="1600200"/>
              <a:ext cx="914400" cy="11430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10920" y="1828800"/>
              <a:ext cx="1043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Arial"/>
                </a:rPr>
                <a:t>Holnap</a:t>
              </a:r>
              <a:br>
                <a:rPr sz="2000"/>
              </a:br>
              <a:r>
                <a:rPr b="1" lang="hu-HU" sz="2000" spc="-1" strike="noStrike">
                  <a:solidFill>
                    <a:srgbClr val="000000"/>
                  </a:solidFill>
                  <a:latin typeface="Arial"/>
                </a:rPr>
                <a:t>regg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54" name=""/>
          <p:cNvGrpSpPr/>
          <p:nvPr/>
        </p:nvGrpSpPr>
        <p:grpSpPr>
          <a:xfrm>
            <a:off x="7086600" y="1600200"/>
            <a:ext cx="990360" cy="1142640"/>
            <a:chOff x="7086600" y="1600200"/>
            <a:chExt cx="990360" cy="1142640"/>
          </a:xfrm>
        </p:grpSpPr>
        <p:sp>
          <p:nvSpPr>
            <p:cNvPr id="1855" name=""/>
            <p:cNvSpPr/>
            <p:nvPr/>
          </p:nvSpPr>
          <p:spPr>
            <a:xfrm>
              <a:off x="7086600" y="1600200"/>
              <a:ext cx="973800" cy="11426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7086600" y="1600200"/>
              <a:ext cx="99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*#$fjda^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53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57" name=""/>
          <p:cNvGrpSpPr/>
          <p:nvPr/>
        </p:nvGrpSpPr>
        <p:grpSpPr>
          <a:xfrm>
            <a:off x="1599840" y="2664720"/>
            <a:ext cx="2898720" cy="2058120"/>
            <a:chOff x="1599840" y="2664720"/>
            <a:chExt cx="2898720" cy="2058120"/>
          </a:xfrm>
        </p:grpSpPr>
        <p:sp>
          <p:nvSpPr>
            <p:cNvPr id="1858" name=""/>
            <p:cNvSpPr/>
            <p:nvPr/>
          </p:nvSpPr>
          <p:spPr>
            <a:xfrm rot="16209600">
              <a:off x="3314520" y="3541320"/>
              <a:ext cx="2057400" cy="304560"/>
            </a:xfrm>
            <a:prstGeom prst="rightArrow">
              <a:avLst>
                <a:gd name="adj1" fmla="val 60954"/>
                <a:gd name="adj2" fmla="val 115716"/>
              </a:avLst>
            </a:prstGeom>
            <a:gradFill rotWithShape="0">
              <a:gsLst>
                <a:gs pos="0">
                  <a:srgbClr val="635100"/>
                </a:gs>
                <a:gs pos="100000">
                  <a:srgbClr val="fcc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59" name=""/>
            <p:cNvGrpSpPr/>
            <p:nvPr/>
          </p:nvGrpSpPr>
          <p:grpSpPr>
            <a:xfrm>
              <a:off x="3657600" y="3352680"/>
              <a:ext cx="533160" cy="761760"/>
              <a:chOff x="3657600" y="3352680"/>
              <a:chExt cx="533160" cy="761760"/>
            </a:xfrm>
          </p:grpSpPr>
          <p:sp>
            <p:nvSpPr>
              <p:cNvPr id="1860" name=""/>
              <p:cNvSpPr/>
              <p:nvPr/>
            </p:nvSpPr>
            <p:spPr>
              <a:xfrm>
                <a:off x="3670200" y="3352680"/>
                <a:ext cx="520560" cy="756720"/>
              </a:xfrm>
              <a:custGeom>
                <a:avLst/>
                <a:gdLst/>
                <a:ahLst/>
                <a:rect l="l" t="t" r="r" b="b"/>
                <a:pathLst>
                  <a:path w="329" h="453">
                    <a:moveTo>
                      <a:pt x="209" y="0"/>
                    </a:moveTo>
                    <a:lnTo>
                      <a:pt x="111" y="0"/>
                    </a:lnTo>
                    <a:lnTo>
                      <a:pt x="129" y="17"/>
                    </a:lnTo>
                    <a:lnTo>
                      <a:pt x="187" y="17"/>
                    </a:lnTo>
                    <a:lnTo>
                      <a:pt x="209" y="44"/>
                    </a:lnTo>
                    <a:lnTo>
                      <a:pt x="109" y="44"/>
                    </a:lnTo>
                    <a:lnTo>
                      <a:pt x="130" y="17"/>
                    </a:lnTo>
                    <a:lnTo>
                      <a:pt x="111" y="0"/>
                    </a:lnTo>
                    <a:lnTo>
                      <a:pt x="76" y="43"/>
                    </a:lnTo>
                    <a:lnTo>
                      <a:pt x="57" y="43"/>
                    </a:lnTo>
                    <a:lnTo>
                      <a:pt x="50" y="57"/>
                    </a:lnTo>
                    <a:lnTo>
                      <a:pt x="21" y="57"/>
                    </a:lnTo>
                    <a:lnTo>
                      <a:pt x="21" y="68"/>
                    </a:lnTo>
                    <a:lnTo>
                      <a:pt x="9" y="68"/>
                    </a:lnTo>
                    <a:lnTo>
                      <a:pt x="0" y="68"/>
                    </a:lnTo>
                    <a:lnTo>
                      <a:pt x="0" y="131"/>
                    </a:lnTo>
                    <a:lnTo>
                      <a:pt x="21" y="132"/>
                    </a:lnTo>
                    <a:lnTo>
                      <a:pt x="21" y="145"/>
                    </a:lnTo>
                    <a:lnTo>
                      <a:pt x="49" y="145"/>
                    </a:lnTo>
                    <a:lnTo>
                      <a:pt x="57" y="160"/>
                    </a:lnTo>
                    <a:lnTo>
                      <a:pt x="73" y="161"/>
                    </a:lnTo>
                    <a:lnTo>
                      <a:pt x="74" y="193"/>
                    </a:lnTo>
                    <a:lnTo>
                      <a:pt x="84" y="193"/>
                    </a:lnTo>
                    <a:lnTo>
                      <a:pt x="88" y="198"/>
                    </a:lnTo>
                    <a:lnTo>
                      <a:pt x="88" y="230"/>
                    </a:lnTo>
                    <a:lnTo>
                      <a:pt x="106" y="230"/>
                    </a:lnTo>
                    <a:lnTo>
                      <a:pt x="105" y="423"/>
                    </a:lnTo>
                    <a:lnTo>
                      <a:pt x="149" y="452"/>
                    </a:lnTo>
                    <a:lnTo>
                      <a:pt x="205" y="418"/>
                    </a:lnTo>
                    <a:lnTo>
                      <a:pt x="184" y="409"/>
                    </a:lnTo>
                    <a:lnTo>
                      <a:pt x="184" y="397"/>
                    </a:lnTo>
                    <a:lnTo>
                      <a:pt x="205" y="387"/>
                    </a:lnTo>
                    <a:lnTo>
                      <a:pt x="184" y="379"/>
                    </a:lnTo>
                    <a:lnTo>
                      <a:pt x="187" y="375"/>
                    </a:lnTo>
                    <a:lnTo>
                      <a:pt x="205" y="367"/>
                    </a:lnTo>
                    <a:lnTo>
                      <a:pt x="208" y="343"/>
                    </a:lnTo>
                    <a:lnTo>
                      <a:pt x="211" y="340"/>
                    </a:lnTo>
                    <a:lnTo>
                      <a:pt x="184" y="326"/>
                    </a:lnTo>
                    <a:lnTo>
                      <a:pt x="184" y="313"/>
                    </a:lnTo>
                    <a:lnTo>
                      <a:pt x="205" y="299"/>
                    </a:lnTo>
                    <a:lnTo>
                      <a:pt x="184" y="285"/>
                    </a:lnTo>
                    <a:lnTo>
                      <a:pt x="184" y="272"/>
                    </a:lnTo>
                    <a:lnTo>
                      <a:pt x="205" y="255"/>
                    </a:lnTo>
                    <a:lnTo>
                      <a:pt x="208" y="228"/>
                    </a:lnTo>
                    <a:lnTo>
                      <a:pt x="232" y="228"/>
                    </a:lnTo>
                    <a:lnTo>
                      <a:pt x="232" y="192"/>
                    </a:lnTo>
                    <a:lnTo>
                      <a:pt x="247" y="192"/>
                    </a:lnTo>
                    <a:lnTo>
                      <a:pt x="247" y="159"/>
                    </a:lnTo>
                    <a:lnTo>
                      <a:pt x="263" y="159"/>
                    </a:lnTo>
                    <a:lnTo>
                      <a:pt x="270" y="144"/>
                    </a:lnTo>
                    <a:lnTo>
                      <a:pt x="303" y="144"/>
                    </a:lnTo>
                    <a:lnTo>
                      <a:pt x="303" y="130"/>
                    </a:lnTo>
                    <a:lnTo>
                      <a:pt x="328" y="130"/>
                    </a:lnTo>
                    <a:lnTo>
                      <a:pt x="328" y="67"/>
                    </a:lnTo>
                    <a:lnTo>
                      <a:pt x="303" y="67"/>
                    </a:lnTo>
                    <a:lnTo>
                      <a:pt x="303" y="57"/>
                    </a:lnTo>
                    <a:lnTo>
                      <a:pt x="276" y="57"/>
                    </a:lnTo>
                    <a:lnTo>
                      <a:pt x="269" y="53"/>
                    </a:lnTo>
                    <a:lnTo>
                      <a:pt x="262" y="43"/>
                    </a:lnTo>
                    <a:lnTo>
                      <a:pt x="247" y="43"/>
                    </a:lnTo>
                    <a:lnTo>
                      <a:pt x="209" y="0"/>
                    </a:lnTo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657600" y="3357360"/>
                <a:ext cx="520920" cy="757080"/>
              </a:xfrm>
              <a:custGeom>
                <a:avLst/>
                <a:gdLst/>
                <a:ahLst/>
                <a:rect l="l" t="t" r="r" b="b"/>
                <a:pathLst>
                  <a:path w="329" h="453">
                    <a:moveTo>
                      <a:pt x="210" y="0"/>
                    </a:moveTo>
                    <a:lnTo>
                      <a:pt x="111" y="0"/>
                    </a:lnTo>
                    <a:lnTo>
                      <a:pt x="130" y="17"/>
                    </a:lnTo>
                    <a:lnTo>
                      <a:pt x="187" y="17"/>
                    </a:lnTo>
                    <a:lnTo>
                      <a:pt x="209" y="44"/>
                    </a:lnTo>
                    <a:lnTo>
                      <a:pt x="110" y="44"/>
                    </a:lnTo>
                    <a:lnTo>
                      <a:pt x="130" y="17"/>
                    </a:lnTo>
                    <a:lnTo>
                      <a:pt x="111" y="0"/>
                    </a:lnTo>
                    <a:lnTo>
                      <a:pt x="76" y="43"/>
                    </a:lnTo>
                    <a:lnTo>
                      <a:pt x="58" y="43"/>
                    </a:lnTo>
                    <a:lnTo>
                      <a:pt x="51" y="57"/>
                    </a:lnTo>
                    <a:lnTo>
                      <a:pt x="22" y="57"/>
                    </a:lnTo>
                    <a:lnTo>
                      <a:pt x="21" y="68"/>
                    </a:lnTo>
                    <a:lnTo>
                      <a:pt x="10" y="68"/>
                    </a:lnTo>
                    <a:lnTo>
                      <a:pt x="0" y="68"/>
                    </a:lnTo>
                    <a:lnTo>
                      <a:pt x="0" y="131"/>
                    </a:lnTo>
                    <a:lnTo>
                      <a:pt x="22" y="132"/>
                    </a:lnTo>
                    <a:lnTo>
                      <a:pt x="22" y="144"/>
                    </a:lnTo>
                    <a:lnTo>
                      <a:pt x="50" y="144"/>
                    </a:lnTo>
                    <a:lnTo>
                      <a:pt x="58" y="160"/>
                    </a:lnTo>
                    <a:lnTo>
                      <a:pt x="73" y="161"/>
                    </a:lnTo>
                    <a:lnTo>
                      <a:pt x="75" y="193"/>
                    </a:lnTo>
                    <a:lnTo>
                      <a:pt x="85" y="193"/>
                    </a:lnTo>
                    <a:lnTo>
                      <a:pt x="87" y="196"/>
                    </a:lnTo>
                    <a:lnTo>
                      <a:pt x="87" y="230"/>
                    </a:lnTo>
                    <a:lnTo>
                      <a:pt x="106" y="230"/>
                    </a:lnTo>
                    <a:lnTo>
                      <a:pt x="105" y="423"/>
                    </a:lnTo>
                    <a:lnTo>
                      <a:pt x="149" y="452"/>
                    </a:lnTo>
                    <a:lnTo>
                      <a:pt x="205" y="418"/>
                    </a:lnTo>
                    <a:lnTo>
                      <a:pt x="185" y="409"/>
                    </a:lnTo>
                    <a:lnTo>
                      <a:pt x="185" y="397"/>
                    </a:lnTo>
                    <a:lnTo>
                      <a:pt x="205" y="387"/>
                    </a:lnTo>
                    <a:lnTo>
                      <a:pt x="185" y="378"/>
                    </a:lnTo>
                    <a:lnTo>
                      <a:pt x="188" y="375"/>
                    </a:lnTo>
                    <a:lnTo>
                      <a:pt x="205" y="367"/>
                    </a:lnTo>
                    <a:lnTo>
                      <a:pt x="208" y="343"/>
                    </a:lnTo>
                    <a:lnTo>
                      <a:pt x="211" y="340"/>
                    </a:lnTo>
                    <a:lnTo>
                      <a:pt x="185" y="326"/>
                    </a:lnTo>
                    <a:lnTo>
                      <a:pt x="185" y="313"/>
                    </a:lnTo>
                    <a:lnTo>
                      <a:pt x="205" y="299"/>
                    </a:lnTo>
                    <a:lnTo>
                      <a:pt x="185" y="285"/>
                    </a:lnTo>
                    <a:lnTo>
                      <a:pt x="185" y="272"/>
                    </a:lnTo>
                    <a:lnTo>
                      <a:pt x="205" y="255"/>
                    </a:lnTo>
                    <a:lnTo>
                      <a:pt x="209" y="228"/>
                    </a:lnTo>
                    <a:lnTo>
                      <a:pt x="233" y="228"/>
                    </a:lnTo>
                    <a:lnTo>
                      <a:pt x="233" y="192"/>
                    </a:lnTo>
                    <a:lnTo>
                      <a:pt x="247" y="192"/>
                    </a:lnTo>
                    <a:lnTo>
                      <a:pt x="247" y="159"/>
                    </a:lnTo>
                    <a:lnTo>
                      <a:pt x="263" y="159"/>
                    </a:lnTo>
                    <a:lnTo>
                      <a:pt x="270" y="144"/>
                    </a:lnTo>
                    <a:lnTo>
                      <a:pt x="303" y="144"/>
                    </a:lnTo>
                    <a:lnTo>
                      <a:pt x="303" y="130"/>
                    </a:lnTo>
                    <a:lnTo>
                      <a:pt x="328" y="130"/>
                    </a:lnTo>
                    <a:lnTo>
                      <a:pt x="328" y="67"/>
                    </a:lnTo>
                    <a:lnTo>
                      <a:pt x="303" y="67"/>
                    </a:lnTo>
                    <a:lnTo>
                      <a:pt x="303" y="57"/>
                    </a:lnTo>
                    <a:lnTo>
                      <a:pt x="276" y="57"/>
                    </a:lnTo>
                    <a:lnTo>
                      <a:pt x="270" y="53"/>
                    </a:lnTo>
                    <a:lnTo>
                      <a:pt x="263" y="43"/>
                    </a:lnTo>
                    <a:lnTo>
                      <a:pt x="247" y="43"/>
                    </a:lnTo>
                    <a:lnTo>
                      <a:pt x="210" y="0"/>
                    </a:lnTo>
                  </a:path>
                </a:pathLst>
              </a:custGeom>
              <a:solidFill>
                <a:srgbClr val="43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62" name=""/>
              <p:cNvGrpSpPr/>
              <p:nvPr/>
            </p:nvGrpSpPr>
            <p:grpSpPr>
              <a:xfrm>
                <a:off x="3708000" y="3479400"/>
                <a:ext cx="397080" cy="82800"/>
                <a:chOff x="3708000" y="3479400"/>
                <a:chExt cx="397080" cy="82800"/>
              </a:xfrm>
            </p:grpSpPr>
            <p:sp>
              <p:nvSpPr>
                <p:cNvPr id="1863" name=""/>
                <p:cNvSpPr/>
                <p:nvPr/>
              </p:nvSpPr>
              <p:spPr>
                <a:xfrm>
                  <a:off x="3737880" y="3479400"/>
                  <a:ext cx="367200" cy="82800"/>
                </a:xfrm>
                <a:custGeom>
                  <a:avLst/>
                  <a:gdLst/>
                  <a:ahLst/>
                  <a:rect l="l" t="t" r="r" b="b"/>
                  <a:pathLst>
                    <a:path w="232" h="50">
                      <a:moveTo>
                        <a:pt x="231" y="25"/>
                      </a:moveTo>
                      <a:lnTo>
                        <a:pt x="210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208" y="2"/>
                      </a:lnTo>
                      <a:lnTo>
                        <a:pt x="226" y="25"/>
                      </a:lnTo>
                      <a:lnTo>
                        <a:pt x="208" y="47"/>
                      </a:lnTo>
                      <a:lnTo>
                        <a:pt x="212" y="49"/>
                      </a:lnTo>
                      <a:lnTo>
                        <a:pt x="231" y="25"/>
                      </a:lnTo>
                    </a:path>
                  </a:pathLst>
                </a:custGeom>
                <a:solidFill>
                  <a:srgbClr val="3165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3708000" y="3479400"/>
                  <a:ext cx="365760" cy="81360"/>
                </a:xfrm>
                <a:custGeom>
                  <a:avLst/>
                  <a:gdLst/>
                  <a:ahLst/>
                  <a:rect l="l" t="t" r="r" b="b"/>
                  <a:pathLst>
                    <a:path w="231" h="49">
                      <a:moveTo>
                        <a:pt x="0" y="22"/>
                      </a:moveTo>
                      <a:lnTo>
                        <a:pt x="20" y="48"/>
                      </a:lnTo>
                      <a:lnTo>
                        <a:pt x="230" y="48"/>
                      </a:lnTo>
                      <a:lnTo>
                        <a:pt x="228" y="45"/>
                      </a:lnTo>
                      <a:lnTo>
                        <a:pt x="22" y="45"/>
                      </a:lnTo>
                      <a:lnTo>
                        <a:pt x="3" y="22"/>
                      </a:lnTo>
                      <a:lnTo>
                        <a:pt x="21" y="1"/>
                      </a:lnTo>
                      <a:lnTo>
                        <a:pt x="17" y="0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00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5" name=""/>
              <p:cNvSpPr/>
              <p:nvPr/>
            </p:nvSpPr>
            <p:spPr>
              <a:xfrm>
                <a:off x="3695400" y="3464280"/>
                <a:ext cx="438480" cy="2664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3747960" y="3447720"/>
                <a:ext cx="341640" cy="2664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67" name=""/>
              <p:cNvGrpSpPr/>
              <p:nvPr/>
            </p:nvGrpSpPr>
            <p:grpSpPr>
              <a:xfrm>
                <a:off x="3692160" y="3578040"/>
                <a:ext cx="441720" cy="535680"/>
                <a:chOff x="3692160" y="3578040"/>
                <a:chExt cx="441720" cy="535680"/>
              </a:xfrm>
            </p:grpSpPr>
            <p:sp>
              <p:nvSpPr>
                <p:cNvPr id="1868" name=""/>
                <p:cNvSpPr/>
                <p:nvPr/>
              </p:nvSpPr>
              <p:spPr>
                <a:xfrm>
                  <a:off x="3924720" y="3683160"/>
                  <a:ext cx="26640" cy="412200"/>
                </a:xfrm>
                <a:custGeom>
                  <a:avLst/>
                  <a:gdLst/>
                  <a:ahLst/>
                  <a:rect l="l" t="t" r="r" b="b"/>
                  <a:pathLst>
                    <a:path w="17" h="247">
                      <a:moveTo>
                        <a:pt x="0" y="0"/>
                      </a:moveTo>
                      <a:lnTo>
                        <a:pt x="0" y="246"/>
                      </a:lnTo>
                      <a:lnTo>
                        <a:pt x="16" y="242"/>
                      </a:lnTo>
                      <a:lnTo>
                        <a:pt x="16" y="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3863160" y="3695040"/>
                  <a:ext cx="26640" cy="400680"/>
                </a:xfrm>
                <a:custGeom>
                  <a:avLst/>
                  <a:gdLst/>
                  <a:ahLst/>
                  <a:rect l="l" t="t" r="r" b="b"/>
                  <a:pathLst>
                    <a:path w="17" h="240">
                      <a:moveTo>
                        <a:pt x="5" y="0"/>
                      </a:moveTo>
                      <a:lnTo>
                        <a:pt x="0" y="235"/>
                      </a:lnTo>
                      <a:lnTo>
                        <a:pt x="16" y="239"/>
                      </a:lnTo>
                      <a:lnTo>
                        <a:pt x="16" y="19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00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70" name=""/>
                <p:cNvGrpSpPr/>
                <p:nvPr/>
              </p:nvGrpSpPr>
              <p:grpSpPr>
                <a:xfrm>
                  <a:off x="3692160" y="3578040"/>
                  <a:ext cx="441720" cy="535680"/>
                  <a:chOff x="3692160" y="3578040"/>
                  <a:chExt cx="441720" cy="535680"/>
                </a:xfrm>
              </p:grpSpPr>
              <p:sp>
                <p:nvSpPr>
                  <p:cNvPr id="1871" name=""/>
                  <p:cNvSpPr/>
                  <p:nvPr/>
                </p:nvSpPr>
                <p:spPr>
                  <a:xfrm>
                    <a:off x="3692160" y="3578040"/>
                    <a:ext cx="441720" cy="26640"/>
                  </a:xfrm>
                  <a:prstGeom prst="rect">
                    <a:avLst/>
                  </a:pr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2" name=""/>
                  <p:cNvSpPr/>
                  <p:nvPr/>
                </p:nvSpPr>
                <p:spPr>
                  <a:xfrm>
                    <a:off x="3776040" y="3627720"/>
                    <a:ext cx="265680" cy="26640"/>
                  </a:xfrm>
                  <a:prstGeom prst="rect">
                    <a:avLst/>
                  </a:pr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3" name=""/>
                  <p:cNvSpPr/>
                  <p:nvPr/>
                </p:nvSpPr>
                <p:spPr>
                  <a:xfrm>
                    <a:off x="3864600" y="3694680"/>
                    <a:ext cx="28080" cy="41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51">
                        <a:moveTo>
                          <a:pt x="0" y="0"/>
                        </a:moveTo>
                        <a:lnTo>
                          <a:pt x="4" y="16"/>
                        </a:lnTo>
                        <a:lnTo>
                          <a:pt x="10" y="30"/>
                        </a:lnTo>
                        <a:lnTo>
                          <a:pt x="10" y="245"/>
                        </a:lnTo>
                        <a:lnTo>
                          <a:pt x="15" y="250"/>
                        </a:lnTo>
                        <a:lnTo>
                          <a:pt x="17" y="2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4" name=""/>
                  <p:cNvSpPr/>
                  <p:nvPr/>
                </p:nvSpPr>
                <p:spPr>
                  <a:xfrm>
                    <a:off x="3791880" y="3679560"/>
                    <a:ext cx="23220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35">
                        <a:moveTo>
                          <a:pt x="121" y="34"/>
                        </a:moveTo>
                        <a:lnTo>
                          <a:pt x="131" y="26"/>
                        </a:lnTo>
                        <a:lnTo>
                          <a:pt x="131" y="3"/>
                        </a:lnTo>
                        <a:lnTo>
                          <a:pt x="146" y="3"/>
                        </a:lnTo>
                        <a:lnTo>
                          <a:pt x="146" y="0"/>
                        </a:lnTo>
                        <a:lnTo>
                          <a:pt x="0" y="0"/>
                        </a:lnTo>
                        <a:lnTo>
                          <a:pt x="3" y="3"/>
                        </a:lnTo>
                        <a:lnTo>
                          <a:pt x="82" y="3"/>
                        </a:lnTo>
                        <a:lnTo>
                          <a:pt x="89" y="10"/>
                        </a:lnTo>
                        <a:lnTo>
                          <a:pt x="118" y="10"/>
                        </a:lnTo>
                        <a:lnTo>
                          <a:pt x="121" y="34"/>
                        </a:lnTo>
                      </a:path>
                    </a:pathLst>
                  </a:cu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5" name=""/>
                  <p:cNvSpPr/>
                  <p:nvPr/>
                </p:nvSpPr>
                <p:spPr>
                  <a:xfrm>
                    <a:off x="3736440" y="3599280"/>
                    <a:ext cx="34920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221" h="17">
                        <a:moveTo>
                          <a:pt x="220" y="0"/>
                        </a:moveTo>
                        <a:lnTo>
                          <a:pt x="0" y="0"/>
                        </a:lnTo>
                        <a:lnTo>
                          <a:pt x="2" y="16"/>
                        </a:lnTo>
                        <a:lnTo>
                          <a:pt x="218" y="16"/>
                        </a:lnTo>
                        <a:lnTo>
                          <a:pt x="220" y="0"/>
                        </a:lnTo>
                      </a:path>
                    </a:pathLst>
                  </a:cu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876" name=""/>
            <p:cNvSpPr/>
            <p:nvPr/>
          </p:nvSpPr>
          <p:spPr>
            <a:xfrm>
              <a:off x="1599840" y="3429000"/>
              <a:ext cx="2059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ile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cryptio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key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(FEK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Dokumentum helyreállítá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1878" name=""/>
          <p:cNvGrpSpPr/>
          <p:nvPr/>
        </p:nvGrpSpPr>
        <p:grpSpPr>
          <a:xfrm>
            <a:off x="3276720" y="3962520"/>
            <a:ext cx="5504400" cy="1752480"/>
            <a:chOff x="3276720" y="3962520"/>
            <a:chExt cx="5504400" cy="1752480"/>
          </a:xfrm>
        </p:grpSpPr>
        <p:sp>
          <p:nvSpPr>
            <p:cNvPr id="1879" name=""/>
            <p:cNvSpPr/>
            <p:nvPr/>
          </p:nvSpPr>
          <p:spPr>
            <a:xfrm flipH="1">
              <a:off x="5867280" y="5181840"/>
              <a:ext cx="990720" cy="357120"/>
            </a:xfrm>
            <a:prstGeom prst="rightArrow">
              <a:avLst>
                <a:gd name="adj1" fmla="val 50000"/>
                <a:gd name="adj2" fmla="val 138722"/>
              </a:avLst>
            </a:prstGeom>
            <a:gradFill rotWithShape="0">
              <a:gsLst>
                <a:gs pos="0">
                  <a:srgbClr val="fccf00"/>
                </a:gs>
                <a:gs pos="100000">
                  <a:srgbClr val="7c6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276720" y="4876920"/>
              <a:ext cx="2438280" cy="838080"/>
            </a:xfrm>
            <a:prstGeom prst="rect">
              <a:avLst/>
            </a:prstGeom>
            <a:gradFill rotWithShape="0">
              <a:gsLst>
                <a:gs pos="0">
                  <a:srgbClr val="00503c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RF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kibontás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(RSA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81" name=""/>
            <p:cNvGrpSpPr/>
            <p:nvPr/>
          </p:nvGrpSpPr>
          <p:grpSpPr>
            <a:xfrm>
              <a:off x="6019920" y="3962520"/>
              <a:ext cx="621720" cy="921960"/>
              <a:chOff x="6019920" y="3962520"/>
              <a:chExt cx="621720" cy="921960"/>
            </a:xfrm>
          </p:grpSpPr>
          <p:graphicFrame>
            <p:nvGraphicFramePr>
              <p:cNvPr id="1882" name=""/>
              <p:cNvGraphicFramePr/>
              <p:nvPr/>
            </p:nvGraphicFramePr>
            <p:xfrm>
              <a:off x="6019920" y="3962520"/>
              <a:ext cx="621720" cy="92196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883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6019920" y="3962520"/>
                        <a:ext cx="621720" cy="92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884" name=""/>
              <p:cNvSpPr/>
              <p:nvPr/>
            </p:nvSpPr>
            <p:spPr>
              <a:xfrm>
                <a:off x="6091200" y="4086720"/>
                <a:ext cx="52488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85" name=""/>
            <p:cNvSpPr/>
            <p:nvPr/>
          </p:nvSpPr>
          <p:spPr>
            <a:xfrm>
              <a:off x="6934320" y="4953240"/>
              <a:ext cx="1523880" cy="761760"/>
            </a:xfrm>
            <a:prstGeom prst="rect">
              <a:avLst/>
            </a:prstGeom>
            <a:gradFill rotWithShape="0">
              <a:gsLst>
                <a:gs pos="0">
                  <a:srgbClr val="311819"/>
                </a:gs>
                <a:gs pos="100000">
                  <a:srgbClr val="ff7c8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630120" y="4191120"/>
              <a:ext cx="21510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A Recovery Ag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eea564"/>
                  </a:solidFill>
                  <a:latin typeface="Arial"/>
                </a:rPr>
                <a:t>privát 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kulcs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87" name=""/>
          <p:cNvSpPr/>
          <p:nvPr/>
        </p:nvSpPr>
        <p:spPr>
          <a:xfrm>
            <a:off x="3164040" y="1600200"/>
            <a:ext cx="2276280" cy="1014480"/>
          </a:xfrm>
          <a:prstGeom prst="rect">
            <a:avLst/>
          </a:prstGeom>
          <a:gradFill rotWithShape="0">
            <a:gsLst>
              <a:gs pos="0">
                <a:srgbClr val="213456"/>
              </a:gs>
              <a:gs pos="100000">
                <a:srgbClr val="5686dc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Visszafejté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H="1">
            <a:off x="1823400" y="2122560"/>
            <a:ext cx="1306440" cy="334800"/>
          </a:xfrm>
          <a:prstGeom prst="rightArrow">
            <a:avLst>
              <a:gd name="adj1" fmla="val 50000"/>
              <a:gd name="adj2" fmla="val 195126"/>
            </a:avLst>
          </a:prstGeom>
          <a:gradFill rotWithShape="0">
            <a:gsLst>
              <a:gs pos="0">
                <a:srgbClr val="fccf00"/>
              </a:gs>
              <a:gs pos="100000">
                <a:srgbClr val="6351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 flipH="1">
            <a:off x="5468760" y="2122560"/>
            <a:ext cx="1562400" cy="298440"/>
          </a:xfrm>
          <a:prstGeom prst="rightArrow">
            <a:avLst>
              <a:gd name="adj1" fmla="val 50000"/>
              <a:gd name="adj2" fmla="val 261785"/>
            </a:avLst>
          </a:prstGeom>
          <a:gradFill rotWithShape="0">
            <a:gsLst>
              <a:gs pos="0">
                <a:srgbClr val="fccf00"/>
              </a:gs>
              <a:gs pos="100000">
                <a:srgbClr val="6351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0" name=""/>
          <p:cNvGrpSpPr/>
          <p:nvPr/>
        </p:nvGrpSpPr>
        <p:grpSpPr>
          <a:xfrm>
            <a:off x="610920" y="1600200"/>
            <a:ext cx="1043280" cy="1143000"/>
            <a:chOff x="610920" y="1600200"/>
            <a:chExt cx="1043280" cy="1143000"/>
          </a:xfrm>
        </p:grpSpPr>
        <p:sp>
          <p:nvSpPr>
            <p:cNvPr id="1891" name=""/>
            <p:cNvSpPr/>
            <p:nvPr/>
          </p:nvSpPr>
          <p:spPr>
            <a:xfrm>
              <a:off x="685800" y="1600200"/>
              <a:ext cx="914400" cy="11430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610920" y="1828800"/>
              <a:ext cx="1043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Arial"/>
                </a:rPr>
                <a:t>Holnap</a:t>
              </a:r>
              <a:br>
                <a:rPr sz="2000"/>
              </a:br>
              <a:r>
                <a:rPr b="1" lang="hu-HU" sz="2000" spc="-1" strike="noStrike">
                  <a:solidFill>
                    <a:srgbClr val="000000"/>
                  </a:solidFill>
                  <a:latin typeface="Arial"/>
                </a:rPr>
                <a:t>regg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3" name=""/>
          <p:cNvGrpSpPr/>
          <p:nvPr/>
        </p:nvGrpSpPr>
        <p:grpSpPr>
          <a:xfrm>
            <a:off x="7086600" y="1600200"/>
            <a:ext cx="990360" cy="1142640"/>
            <a:chOff x="7086600" y="1600200"/>
            <a:chExt cx="990360" cy="1142640"/>
          </a:xfrm>
        </p:grpSpPr>
        <p:sp>
          <p:nvSpPr>
            <p:cNvPr id="1894" name=""/>
            <p:cNvSpPr/>
            <p:nvPr/>
          </p:nvSpPr>
          <p:spPr>
            <a:xfrm>
              <a:off x="7086600" y="1600200"/>
              <a:ext cx="973800" cy="11426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7086600" y="1600200"/>
              <a:ext cx="99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*#$fjda^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53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6" name=""/>
          <p:cNvGrpSpPr/>
          <p:nvPr/>
        </p:nvGrpSpPr>
        <p:grpSpPr>
          <a:xfrm>
            <a:off x="1599840" y="2664720"/>
            <a:ext cx="2898720" cy="2058120"/>
            <a:chOff x="1599840" y="2664720"/>
            <a:chExt cx="2898720" cy="2058120"/>
          </a:xfrm>
        </p:grpSpPr>
        <p:sp>
          <p:nvSpPr>
            <p:cNvPr id="1897" name=""/>
            <p:cNvSpPr/>
            <p:nvPr/>
          </p:nvSpPr>
          <p:spPr>
            <a:xfrm rot="16209600">
              <a:off x="3314520" y="3541320"/>
              <a:ext cx="2057400" cy="304560"/>
            </a:xfrm>
            <a:prstGeom prst="rightArrow">
              <a:avLst>
                <a:gd name="adj1" fmla="val 60954"/>
                <a:gd name="adj2" fmla="val 115716"/>
              </a:avLst>
            </a:prstGeom>
            <a:gradFill rotWithShape="0">
              <a:gsLst>
                <a:gs pos="0">
                  <a:srgbClr val="635100"/>
                </a:gs>
                <a:gs pos="100000">
                  <a:srgbClr val="fcc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98" name=""/>
            <p:cNvGrpSpPr/>
            <p:nvPr/>
          </p:nvGrpSpPr>
          <p:grpSpPr>
            <a:xfrm>
              <a:off x="3657600" y="3352680"/>
              <a:ext cx="533160" cy="761760"/>
              <a:chOff x="3657600" y="3352680"/>
              <a:chExt cx="533160" cy="761760"/>
            </a:xfrm>
          </p:grpSpPr>
          <p:sp>
            <p:nvSpPr>
              <p:cNvPr id="1899" name=""/>
              <p:cNvSpPr/>
              <p:nvPr/>
            </p:nvSpPr>
            <p:spPr>
              <a:xfrm>
                <a:off x="3670200" y="3352680"/>
                <a:ext cx="520560" cy="756720"/>
              </a:xfrm>
              <a:custGeom>
                <a:avLst/>
                <a:gdLst/>
                <a:ahLst/>
                <a:rect l="l" t="t" r="r" b="b"/>
                <a:pathLst>
                  <a:path w="329" h="453">
                    <a:moveTo>
                      <a:pt x="209" y="0"/>
                    </a:moveTo>
                    <a:lnTo>
                      <a:pt x="111" y="0"/>
                    </a:lnTo>
                    <a:lnTo>
                      <a:pt x="129" y="17"/>
                    </a:lnTo>
                    <a:lnTo>
                      <a:pt x="187" y="17"/>
                    </a:lnTo>
                    <a:lnTo>
                      <a:pt x="209" y="44"/>
                    </a:lnTo>
                    <a:lnTo>
                      <a:pt x="109" y="44"/>
                    </a:lnTo>
                    <a:lnTo>
                      <a:pt x="130" y="17"/>
                    </a:lnTo>
                    <a:lnTo>
                      <a:pt x="111" y="0"/>
                    </a:lnTo>
                    <a:lnTo>
                      <a:pt x="76" y="43"/>
                    </a:lnTo>
                    <a:lnTo>
                      <a:pt x="57" y="43"/>
                    </a:lnTo>
                    <a:lnTo>
                      <a:pt x="50" y="57"/>
                    </a:lnTo>
                    <a:lnTo>
                      <a:pt x="21" y="57"/>
                    </a:lnTo>
                    <a:lnTo>
                      <a:pt x="21" y="68"/>
                    </a:lnTo>
                    <a:lnTo>
                      <a:pt x="9" y="68"/>
                    </a:lnTo>
                    <a:lnTo>
                      <a:pt x="0" y="68"/>
                    </a:lnTo>
                    <a:lnTo>
                      <a:pt x="0" y="131"/>
                    </a:lnTo>
                    <a:lnTo>
                      <a:pt x="21" y="132"/>
                    </a:lnTo>
                    <a:lnTo>
                      <a:pt x="21" y="145"/>
                    </a:lnTo>
                    <a:lnTo>
                      <a:pt x="49" y="145"/>
                    </a:lnTo>
                    <a:lnTo>
                      <a:pt x="57" y="160"/>
                    </a:lnTo>
                    <a:lnTo>
                      <a:pt x="73" y="161"/>
                    </a:lnTo>
                    <a:lnTo>
                      <a:pt x="74" y="193"/>
                    </a:lnTo>
                    <a:lnTo>
                      <a:pt x="84" y="193"/>
                    </a:lnTo>
                    <a:lnTo>
                      <a:pt x="88" y="198"/>
                    </a:lnTo>
                    <a:lnTo>
                      <a:pt x="88" y="230"/>
                    </a:lnTo>
                    <a:lnTo>
                      <a:pt x="106" y="230"/>
                    </a:lnTo>
                    <a:lnTo>
                      <a:pt x="105" y="423"/>
                    </a:lnTo>
                    <a:lnTo>
                      <a:pt x="149" y="452"/>
                    </a:lnTo>
                    <a:lnTo>
                      <a:pt x="205" y="418"/>
                    </a:lnTo>
                    <a:lnTo>
                      <a:pt x="184" y="409"/>
                    </a:lnTo>
                    <a:lnTo>
                      <a:pt x="184" y="397"/>
                    </a:lnTo>
                    <a:lnTo>
                      <a:pt x="205" y="387"/>
                    </a:lnTo>
                    <a:lnTo>
                      <a:pt x="184" y="379"/>
                    </a:lnTo>
                    <a:lnTo>
                      <a:pt x="187" y="375"/>
                    </a:lnTo>
                    <a:lnTo>
                      <a:pt x="205" y="367"/>
                    </a:lnTo>
                    <a:lnTo>
                      <a:pt x="208" y="343"/>
                    </a:lnTo>
                    <a:lnTo>
                      <a:pt x="211" y="340"/>
                    </a:lnTo>
                    <a:lnTo>
                      <a:pt x="184" y="326"/>
                    </a:lnTo>
                    <a:lnTo>
                      <a:pt x="184" y="313"/>
                    </a:lnTo>
                    <a:lnTo>
                      <a:pt x="205" y="299"/>
                    </a:lnTo>
                    <a:lnTo>
                      <a:pt x="184" y="285"/>
                    </a:lnTo>
                    <a:lnTo>
                      <a:pt x="184" y="272"/>
                    </a:lnTo>
                    <a:lnTo>
                      <a:pt x="205" y="255"/>
                    </a:lnTo>
                    <a:lnTo>
                      <a:pt x="208" y="228"/>
                    </a:lnTo>
                    <a:lnTo>
                      <a:pt x="232" y="228"/>
                    </a:lnTo>
                    <a:lnTo>
                      <a:pt x="232" y="192"/>
                    </a:lnTo>
                    <a:lnTo>
                      <a:pt x="247" y="192"/>
                    </a:lnTo>
                    <a:lnTo>
                      <a:pt x="247" y="159"/>
                    </a:lnTo>
                    <a:lnTo>
                      <a:pt x="263" y="159"/>
                    </a:lnTo>
                    <a:lnTo>
                      <a:pt x="270" y="144"/>
                    </a:lnTo>
                    <a:lnTo>
                      <a:pt x="303" y="144"/>
                    </a:lnTo>
                    <a:lnTo>
                      <a:pt x="303" y="130"/>
                    </a:lnTo>
                    <a:lnTo>
                      <a:pt x="328" y="130"/>
                    </a:lnTo>
                    <a:lnTo>
                      <a:pt x="328" y="67"/>
                    </a:lnTo>
                    <a:lnTo>
                      <a:pt x="303" y="67"/>
                    </a:lnTo>
                    <a:lnTo>
                      <a:pt x="303" y="57"/>
                    </a:lnTo>
                    <a:lnTo>
                      <a:pt x="276" y="57"/>
                    </a:lnTo>
                    <a:lnTo>
                      <a:pt x="269" y="53"/>
                    </a:lnTo>
                    <a:lnTo>
                      <a:pt x="262" y="43"/>
                    </a:lnTo>
                    <a:lnTo>
                      <a:pt x="247" y="43"/>
                    </a:lnTo>
                    <a:lnTo>
                      <a:pt x="209" y="0"/>
                    </a:lnTo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3657600" y="3357360"/>
                <a:ext cx="520920" cy="757080"/>
              </a:xfrm>
              <a:custGeom>
                <a:avLst/>
                <a:gdLst/>
                <a:ahLst/>
                <a:rect l="l" t="t" r="r" b="b"/>
                <a:pathLst>
                  <a:path w="329" h="453">
                    <a:moveTo>
                      <a:pt x="210" y="0"/>
                    </a:moveTo>
                    <a:lnTo>
                      <a:pt x="111" y="0"/>
                    </a:lnTo>
                    <a:lnTo>
                      <a:pt x="130" y="17"/>
                    </a:lnTo>
                    <a:lnTo>
                      <a:pt x="187" y="17"/>
                    </a:lnTo>
                    <a:lnTo>
                      <a:pt x="209" y="44"/>
                    </a:lnTo>
                    <a:lnTo>
                      <a:pt x="110" y="44"/>
                    </a:lnTo>
                    <a:lnTo>
                      <a:pt x="130" y="17"/>
                    </a:lnTo>
                    <a:lnTo>
                      <a:pt x="111" y="0"/>
                    </a:lnTo>
                    <a:lnTo>
                      <a:pt x="76" y="43"/>
                    </a:lnTo>
                    <a:lnTo>
                      <a:pt x="58" y="43"/>
                    </a:lnTo>
                    <a:lnTo>
                      <a:pt x="51" y="57"/>
                    </a:lnTo>
                    <a:lnTo>
                      <a:pt x="22" y="57"/>
                    </a:lnTo>
                    <a:lnTo>
                      <a:pt x="21" y="68"/>
                    </a:lnTo>
                    <a:lnTo>
                      <a:pt x="10" y="68"/>
                    </a:lnTo>
                    <a:lnTo>
                      <a:pt x="0" y="68"/>
                    </a:lnTo>
                    <a:lnTo>
                      <a:pt x="0" y="131"/>
                    </a:lnTo>
                    <a:lnTo>
                      <a:pt x="22" y="132"/>
                    </a:lnTo>
                    <a:lnTo>
                      <a:pt x="22" y="144"/>
                    </a:lnTo>
                    <a:lnTo>
                      <a:pt x="50" y="144"/>
                    </a:lnTo>
                    <a:lnTo>
                      <a:pt x="58" y="160"/>
                    </a:lnTo>
                    <a:lnTo>
                      <a:pt x="73" y="161"/>
                    </a:lnTo>
                    <a:lnTo>
                      <a:pt x="75" y="193"/>
                    </a:lnTo>
                    <a:lnTo>
                      <a:pt x="85" y="193"/>
                    </a:lnTo>
                    <a:lnTo>
                      <a:pt x="87" y="196"/>
                    </a:lnTo>
                    <a:lnTo>
                      <a:pt x="87" y="230"/>
                    </a:lnTo>
                    <a:lnTo>
                      <a:pt x="106" y="230"/>
                    </a:lnTo>
                    <a:lnTo>
                      <a:pt x="105" y="423"/>
                    </a:lnTo>
                    <a:lnTo>
                      <a:pt x="149" y="452"/>
                    </a:lnTo>
                    <a:lnTo>
                      <a:pt x="205" y="418"/>
                    </a:lnTo>
                    <a:lnTo>
                      <a:pt x="185" y="409"/>
                    </a:lnTo>
                    <a:lnTo>
                      <a:pt x="185" y="397"/>
                    </a:lnTo>
                    <a:lnTo>
                      <a:pt x="205" y="387"/>
                    </a:lnTo>
                    <a:lnTo>
                      <a:pt x="185" y="378"/>
                    </a:lnTo>
                    <a:lnTo>
                      <a:pt x="188" y="375"/>
                    </a:lnTo>
                    <a:lnTo>
                      <a:pt x="205" y="367"/>
                    </a:lnTo>
                    <a:lnTo>
                      <a:pt x="208" y="343"/>
                    </a:lnTo>
                    <a:lnTo>
                      <a:pt x="211" y="340"/>
                    </a:lnTo>
                    <a:lnTo>
                      <a:pt x="185" y="326"/>
                    </a:lnTo>
                    <a:lnTo>
                      <a:pt x="185" y="313"/>
                    </a:lnTo>
                    <a:lnTo>
                      <a:pt x="205" y="299"/>
                    </a:lnTo>
                    <a:lnTo>
                      <a:pt x="185" y="285"/>
                    </a:lnTo>
                    <a:lnTo>
                      <a:pt x="185" y="272"/>
                    </a:lnTo>
                    <a:lnTo>
                      <a:pt x="205" y="255"/>
                    </a:lnTo>
                    <a:lnTo>
                      <a:pt x="209" y="228"/>
                    </a:lnTo>
                    <a:lnTo>
                      <a:pt x="233" y="228"/>
                    </a:lnTo>
                    <a:lnTo>
                      <a:pt x="233" y="192"/>
                    </a:lnTo>
                    <a:lnTo>
                      <a:pt x="247" y="192"/>
                    </a:lnTo>
                    <a:lnTo>
                      <a:pt x="247" y="159"/>
                    </a:lnTo>
                    <a:lnTo>
                      <a:pt x="263" y="159"/>
                    </a:lnTo>
                    <a:lnTo>
                      <a:pt x="270" y="144"/>
                    </a:lnTo>
                    <a:lnTo>
                      <a:pt x="303" y="144"/>
                    </a:lnTo>
                    <a:lnTo>
                      <a:pt x="303" y="130"/>
                    </a:lnTo>
                    <a:lnTo>
                      <a:pt x="328" y="130"/>
                    </a:lnTo>
                    <a:lnTo>
                      <a:pt x="328" y="67"/>
                    </a:lnTo>
                    <a:lnTo>
                      <a:pt x="303" y="67"/>
                    </a:lnTo>
                    <a:lnTo>
                      <a:pt x="303" y="57"/>
                    </a:lnTo>
                    <a:lnTo>
                      <a:pt x="276" y="57"/>
                    </a:lnTo>
                    <a:lnTo>
                      <a:pt x="270" y="53"/>
                    </a:lnTo>
                    <a:lnTo>
                      <a:pt x="263" y="43"/>
                    </a:lnTo>
                    <a:lnTo>
                      <a:pt x="247" y="43"/>
                    </a:lnTo>
                    <a:lnTo>
                      <a:pt x="210" y="0"/>
                    </a:lnTo>
                  </a:path>
                </a:pathLst>
              </a:custGeom>
              <a:solidFill>
                <a:srgbClr val="43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01" name=""/>
              <p:cNvGrpSpPr/>
              <p:nvPr/>
            </p:nvGrpSpPr>
            <p:grpSpPr>
              <a:xfrm>
                <a:off x="3708000" y="3479400"/>
                <a:ext cx="397080" cy="82800"/>
                <a:chOff x="3708000" y="3479400"/>
                <a:chExt cx="397080" cy="82800"/>
              </a:xfrm>
            </p:grpSpPr>
            <p:sp>
              <p:nvSpPr>
                <p:cNvPr id="1902" name=""/>
                <p:cNvSpPr/>
                <p:nvPr/>
              </p:nvSpPr>
              <p:spPr>
                <a:xfrm>
                  <a:off x="3737880" y="3479400"/>
                  <a:ext cx="367200" cy="82800"/>
                </a:xfrm>
                <a:custGeom>
                  <a:avLst/>
                  <a:gdLst/>
                  <a:ahLst/>
                  <a:rect l="l" t="t" r="r" b="b"/>
                  <a:pathLst>
                    <a:path w="232" h="50">
                      <a:moveTo>
                        <a:pt x="231" y="25"/>
                      </a:moveTo>
                      <a:lnTo>
                        <a:pt x="210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208" y="2"/>
                      </a:lnTo>
                      <a:lnTo>
                        <a:pt x="226" y="25"/>
                      </a:lnTo>
                      <a:lnTo>
                        <a:pt x="208" y="47"/>
                      </a:lnTo>
                      <a:lnTo>
                        <a:pt x="212" y="49"/>
                      </a:lnTo>
                      <a:lnTo>
                        <a:pt x="231" y="25"/>
                      </a:lnTo>
                    </a:path>
                  </a:pathLst>
                </a:custGeom>
                <a:solidFill>
                  <a:srgbClr val="3165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3708000" y="3479400"/>
                  <a:ext cx="365760" cy="81360"/>
                </a:xfrm>
                <a:custGeom>
                  <a:avLst/>
                  <a:gdLst/>
                  <a:ahLst/>
                  <a:rect l="l" t="t" r="r" b="b"/>
                  <a:pathLst>
                    <a:path w="231" h="49">
                      <a:moveTo>
                        <a:pt x="0" y="22"/>
                      </a:moveTo>
                      <a:lnTo>
                        <a:pt x="20" y="48"/>
                      </a:lnTo>
                      <a:lnTo>
                        <a:pt x="230" y="48"/>
                      </a:lnTo>
                      <a:lnTo>
                        <a:pt x="228" y="45"/>
                      </a:lnTo>
                      <a:lnTo>
                        <a:pt x="22" y="45"/>
                      </a:lnTo>
                      <a:lnTo>
                        <a:pt x="3" y="22"/>
                      </a:lnTo>
                      <a:lnTo>
                        <a:pt x="21" y="1"/>
                      </a:lnTo>
                      <a:lnTo>
                        <a:pt x="17" y="0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00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4" name=""/>
              <p:cNvSpPr/>
              <p:nvPr/>
            </p:nvSpPr>
            <p:spPr>
              <a:xfrm>
                <a:off x="3695400" y="3464280"/>
                <a:ext cx="438480" cy="2664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3747960" y="3447720"/>
                <a:ext cx="341640" cy="2664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06" name=""/>
              <p:cNvGrpSpPr/>
              <p:nvPr/>
            </p:nvGrpSpPr>
            <p:grpSpPr>
              <a:xfrm>
                <a:off x="3692160" y="3578040"/>
                <a:ext cx="441720" cy="535680"/>
                <a:chOff x="3692160" y="3578040"/>
                <a:chExt cx="441720" cy="535680"/>
              </a:xfrm>
            </p:grpSpPr>
            <p:sp>
              <p:nvSpPr>
                <p:cNvPr id="1907" name=""/>
                <p:cNvSpPr/>
                <p:nvPr/>
              </p:nvSpPr>
              <p:spPr>
                <a:xfrm>
                  <a:off x="3924720" y="3683160"/>
                  <a:ext cx="26640" cy="412200"/>
                </a:xfrm>
                <a:custGeom>
                  <a:avLst/>
                  <a:gdLst/>
                  <a:ahLst/>
                  <a:rect l="l" t="t" r="r" b="b"/>
                  <a:pathLst>
                    <a:path w="17" h="247">
                      <a:moveTo>
                        <a:pt x="0" y="0"/>
                      </a:moveTo>
                      <a:lnTo>
                        <a:pt x="0" y="246"/>
                      </a:lnTo>
                      <a:lnTo>
                        <a:pt x="16" y="242"/>
                      </a:lnTo>
                      <a:lnTo>
                        <a:pt x="16" y="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3863160" y="3695040"/>
                  <a:ext cx="26640" cy="400680"/>
                </a:xfrm>
                <a:custGeom>
                  <a:avLst/>
                  <a:gdLst/>
                  <a:ahLst/>
                  <a:rect l="l" t="t" r="r" b="b"/>
                  <a:pathLst>
                    <a:path w="17" h="240">
                      <a:moveTo>
                        <a:pt x="5" y="0"/>
                      </a:moveTo>
                      <a:lnTo>
                        <a:pt x="0" y="235"/>
                      </a:lnTo>
                      <a:lnTo>
                        <a:pt x="16" y="239"/>
                      </a:lnTo>
                      <a:lnTo>
                        <a:pt x="16" y="19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00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9" name=""/>
                <p:cNvGrpSpPr/>
                <p:nvPr/>
              </p:nvGrpSpPr>
              <p:grpSpPr>
                <a:xfrm>
                  <a:off x="3692160" y="3578040"/>
                  <a:ext cx="441720" cy="535680"/>
                  <a:chOff x="3692160" y="3578040"/>
                  <a:chExt cx="441720" cy="535680"/>
                </a:xfrm>
              </p:grpSpPr>
              <p:sp>
                <p:nvSpPr>
                  <p:cNvPr id="1910" name=""/>
                  <p:cNvSpPr/>
                  <p:nvPr/>
                </p:nvSpPr>
                <p:spPr>
                  <a:xfrm>
                    <a:off x="3692160" y="3578040"/>
                    <a:ext cx="441720" cy="26640"/>
                  </a:xfrm>
                  <a:prstGeom prst="rect">
                    <a:avLst/>
                  </a:pr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1" name=""/>
                  <p:cNvSpPr/>
                  <p:nvPr/>
                </p:nvSpPr>
                <p:spPr>
                  <a:xfrm>
                    <a:off x="3776040" y="3627720"/>
                    <a:ext cx="265680" cy="26640"/>
                  </a:xfrm>
                  <a:prstGeom prst="rect">
                    <a:avLst/>
                  </a:pr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2" name=""/>
                  <p:cNvSpPr/>
                  <p:nvPr/>
                </p:nvSpPr>
                <p:spPr>
                  <a:xfrm>
                    <a:off x="3864600" y="3694680"/>
                    <a:ext cx="28080" cy="41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51">
                        <a:moveTo>
                          <a:pt x="0" y="0"/>
                        </a:moveTo>
                        <a:lnTo>
                          <a:pt x="4" y="16"/>
                        </a:lnTo>
                        <a:lnTo>
                          <a:pt x="10" y="30"/>
                        </a:lnTo>
                        <a:lnTo>
                          <a:pt x="10" y="245"/>
                        </a:lnTo>
                        <a:lnTo>
                          <a:pt x="15" y="250"/>
                        </a:lnTo>
                        <a:lnTo>
                          <a:pt x="17" y="2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3" name=""/>
                  <p:cNvSpPr/>
                  <p:nvPr/>
                </p:nvSpPr>
                <p:spPr>
                  <a:xfrm>
                    <a:off x="3791880" y="3679560"/>
                    <a:ext cx="23220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35">
                        <a:moveTo>
                          <a:pt x="121" y="34"/>
                        </a:moveTo>
                        <a:lnTo>
                          <a:pt x="131" y="26"/>
                        </a:lnTo>
                        <a:lnTo>
                          <a:pt x="131" y="3"/>
                        </a:lnTo>
                        <a:lnTo>
                          <a:pt x="146" y="3"/>
                        </a:lnTo>
                        <a:lnTo>
                          <a:pt x="146" y="0"/>
                        </a:lnTo>
                        <a:lnTo>
                          <a:pt x="0" y="0"/>
                        </a:lnTo>
                        <a:lnTo>
                          <a:pt x="3" y="3"/>
                        </a:lnTo>
                        <a:lnTo>
                          <a:pt x="82" y="3"/>
                        </a:lnTo>
                        <a:lnTo>
                          <a:pt x="89" y="10"/>
                        </a:lnTo>
                        <a:lnTo>
                          <a:pt x="118" y="10"/>
                        </a:lnTo>
                        <a:lnTo>
                          <a:pt x="121" y="34"/>
                        </a:lnTo>
                      </a:path>
                    </a:pathLst>
                  </a:cu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4" name=""/>
                  <p:cNvSpPr/>
                  <p:nvPr/>
                </p:nvSpPr>
                <p:spPr>
                  <a:xfrm>
                    <a:off x="3736440" y="3599280"/>
                    <a:ext cx="34920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221" h="17">
                        <a:moveTo>
                          <a:pt x="220" y="0"/>
                        </a:moveTo>
                        <a:lnTo>
                          <a:pt x="0" y="0"/>
                        </a:lnTo>
                        <a:lnTo>
                          <a:pt x="2" y="16"/>
                        </a:lnTo>
                        <a:lnTo>
                          <a:pt x="218" y="16"/>
                        </a:lnTo>
                        <a:lnTo>
                          <a:pt x="220" y="0"/>
                        </a:lnTo>
                      </a:path>
                    </a:pathLst>
                  </a:cu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915" name=""/>
            <p:cNvSpPr/>
            <p:nvPr/>
          </p:nvSpPr>
          <p:spPr>
            <a:xfrm>
              <a:off x="1599840" y="3429000"/>
              <a:ext cx="2059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ile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cryptio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key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(FEK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dat helyreállítá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340920" y="1417320"/>
            <a:ext cx="8497800" cy="4371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crypted Data Recovery Policy” (EDRP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2400" indent="-3506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main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ázirend rész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52400" indent="-3506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K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összes EDRP-ben tárolt nyilvános kulccsal titkosításra ker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52400" indent="-3506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RP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tartomány minden gépén elérhető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visszaállítás során nem a felhasználó privát kulcsát állítjuk vissza, hanem közvetlenül az adato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8" name=""/>
          <p:cNvGraphicFramePr/>
          <p:nvPr/>
        </p:nvGraphicFramePr>
        <p:xfrm>
          <a:off x="0" y="1440"/>
          <a:ext cx="9144000" cy="685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40"/>
                    <a:ext cx="9144000" cy="68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t hol találunk ?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36240" y="1028880"/>
            <a:ext cx="8621640" cy="5663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Default Domain Policy határozza meg a </a:t>
            </a:r>
            <a:r>
              <a:rPr b="1" lang="hu-HU" sz="2800" spc="-1" strike="noStrike">
                <a:solidFill>
                  <a:srgbClr val="fccf00"/>
                </a:solidFill>
                <a:latin typeface="Arial"/>
              </a:rPr>
              <a:t>Account Policies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-t, úgy mi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ssword Poli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kout Polic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rberos Poli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INCS öröklődés. Minden DC függetlenül attól hogy hol van, a Default Domain Policy-t követ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Default Domain Controller Polic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tározza meg 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ccf00"/>
                </a:solidFill>
                <a:latin typeface="Arial"/>
              </a:rPr>
              <a:t>Local Policies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-t, úgy  mi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d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Right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Op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e keverjük a beállítások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Biztonsági sablono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06440" y="1209240"/>
            <a:ext cx="8415360" cy="5095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biztonsági beállításokat sablonokban definiálhatju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C:\Winnt\security\templates\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.IN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ablonok létrehozására, módosítására a „Security Templates”  Snap-In használhat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éhány rövidít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BasicDC- alap DC konfiguráci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CompatWS- kompatibilis Works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isecWs – Highly Secured Works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1000" y="1890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fájl jogosultságokról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pic>
        <p:nvPicPr>
          <p:cNvPr id="217" name="AdminOnly" descr=""/>
          <p:cNvPicPr/>
          <p:nvPr/>
        </p:nvPicPr>
        <p:blipFill>
          <a:blip r:embed="rId2"/>
          <a:stretch/>
        </p:blipFill>
        <p:spPr>
          <a:xfrm>
            <a:off x="398520" y="988920"/>
            <a:ext cx="3495600" cy="4219560"/>
          </a:xfrm>
          <a:prstGeom prst="rect">
            <a:avLst/>
          </a:prstGeom>
          <a:ln w="0">
            <a:noFill/>
          </a:ln>
        </p:spPr>
      </p:pic>
      <p:pic>
        <p:nvPicPr>
          <p:cNvPr id="218" name="IOI" descr=""/>
          <p:cNvPicPr/>
          <p:nvPr/>
        </p:nvPicPr>
        <p:blipFill>
          <a:blip r:embed="rId3"/>
          <a:stretch/>
        </p:blipFill>
        <p:spPr>
          <a:xfrm>
            <a:off x="5678640" y="966960"/>
            <a:ext cx="2914560" cy="31525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33800" y="5791320"/>
            <a:ext cx="40867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Ezzel azt szabályozzuk mi legyen </a:t>
            </a:r>
            <a:br>
              <a:rPr sz="2000"/>
            </a:b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felülről érkező jogosultságokk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7000" y="4788000"/>
            <a:ext cx="726840" cy="914400"/>
          </a:xfrm>
          <a:prstGeom prst="upArrow">
            <a:avLst>
              <a:gd name="adj1" fmla="val 50000"/>
              <a:gd name="adj2" fmla="val 31451"/>
            </a:avLst>
          </a:prstGeom>
          <a:solidFill>
            <a:srgbClr val="eea564"/>
          </a:solidFill>
          <a:ln w="1260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91120" y="4414680"/>
            <a:ext cx="49528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Ezzel azt szabályozzuk mi történjen </a:t>
            </a:r>
            <a:br>
              <a:rPr sz="2000"/>
            </a:b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lejjebb a jogosultságokk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45000" y="1492200"/>
            <a:ext cx="1022400" cy="282420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2824200"/>
              <a:gd name="textAreaBottom" fmla="*/ 2824560 h 2824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eea564"/>
          </a:solidFill>
          <a:ln w="1260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09T02:04:21Z</dcterms:created>
  <dc:creator>Szalontay Zoltán &amp; Tarsoly Balázs</dc:creator>
  <dc:description>A Windows 2000 előadássorozat (SP klub és Windows 2000 Akadémia) harmadik előadása</dc:description>
  <dc:language>en-US</dc:language>
  <cp:lastModifiedBy>Zoltán Szalontay</cp:lastModifiedBy>
  <cp:lastPrinted>1998-11-23T08:04:50Z</cp:lastPrinted>
  <dcterms:modified xsi:type="dcterms:W3CDTF">1999-11-16T15:43:56Z</dcterms:modified>
  <cp:revision>422</cp:revision>
  <dc:subject/>
  <dc:title>Biztonsági szolgáltatások Windows 2000-ben</dc:title>
</cp:coreProperties>
</file>