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9AC5E-275E-426C-9D6A-C80AFDF62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DAAC2-2C0E-4CD8-A17C-195D9F4302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85BE-8656-49D7-80B6-8BFB880B8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C1D9-0814-4B8F-8D24-F918CDE4D5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1AFB-EF21-4D14-A608-76C142C87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09A0B-1E03-4131-A832-F43E2DA97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BFFB4-54A2-4775-B5BC-6D01721C7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E13B-CB4A-40C9-A75B-9DB3F1417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918A9-0372-4BEF-AEF6-37A2946F9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FB96-C7E2-4AF6-962C-7D93D62A9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48DA-D67B-4273-91FF-BF54AEC1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866B-646D-4435-8AE8-9BCC9B575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7CFE5-6A5E-4A5F-A302-7BCDB92856E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szerkezete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Aritmetikai ábrázolás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memóriát úgy képzeljük el, mint egy hosszú, egydimenziós tömböt, vagyis vektort, amelynek elemei byte-ok. Ezen alapul az aritmetikai ábrázolás első változat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Cím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bsztrakt memória-vektor adott kezdőcímétől kezdve elhelyezzük az adott adatszerkezet elemeit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gy adatelem több byte-ot is elfoglalhat. Meg kell adni a címfüggvényt, amelynek segítségével minden adatelem helye (címe) meghatározhat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Indexfüggvényes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ritmetikai ábrázolá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z az absztraktabb ábrázolá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adatszerkezet elemeit egy olyan tömbben helyezzük el, amelynek nem byte-ok az elemei, hanem az adatszerkezet alaptípusának példányai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elhelyezést az első elemtől kezdjük, és ekkor egy indexfüggvényt kell megadnunk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Láncolt ábrázolá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hhez az ábrázoláshoz bevezetjük az absztrakt mutató (pointer) fogalmá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H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egy mutató típusú változó, akkor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 jelöli az általa mutatott adatelemet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nnek az adatelemnek az esetleges komponenseit (pl. adat és mutató)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ada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 ill.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ˆ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ut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jelöl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ehová sem mutató pointer értéke NIL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Tömbök</a:t>
            </a: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egye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g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(≥ 1) dimenziós tömb típus. Vezessük be az  indexhalmazt, aho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melyek bármely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setén szerepelnek): indexelés (=tömbelem kiválasztása) a már bevezetett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,…,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i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kifejezéssel, ami szerepelhet értékadó utasítás bal oldalán, és jobb oldalán is. Így lehetség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lekérdezés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ömbelem módosítás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3132000" y="2924280"/>
                <a:ext cx="2087640" cy="33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j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r>
                          <m:t xml:space="preserve">k</m:t>
                        </m:r>
                      </m:e>
                    </m:d>
                    <m:r>
                      <m:t xml:space="preserve">:</m:t>
                    </m:r>
                    <m:sSub>
                      <m:e>
                        <m:r>
                          <m:t xml:space="preserve">I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sSub>
                          <m:e>
                            <m:r>
                              <m:t xml:space="preserve">n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Tömbök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z a megegyezés született, hog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j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szerinti rákövetkezést is definiálna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köv</a:t>
            </a:r>
            <a:r>
              <a:rPr b="0" i="1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.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 = 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[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j+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…,i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]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Minden belső elemnek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db rákövetkezője van (azért csak a belsőknek, mert definíció szerint a dimenzió határánál nincs rákövetkező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mindennapok során gyakran találkozunk a verem tároló struktúrával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egismertebb példa a névadó, a mezőgazdaságban használt verem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 távolsági buszon is a vezető a különböző pénzérméket egy-egy kis verembe tudja betenni, ill. azokból veszi elő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kávéházakban az alátét tányérokat gyakran egy veremként működő tároló mélyedésben tartják, stb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8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Empty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 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ritmetikai ábrázolá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Bevezetjük 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áltozót, mely mindig a legfelső elem indexe (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8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[0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vermet ábrázoló tömb: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]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 szokásos műveletek mellett használni kell egy új, </a:t>
            </a:r>
            <a:r>
              <a:rPr b="0" i="1" lang="hu-HU" sz="2800" spc="-1" strike="noStrike">
                <a:solidFill>
                  <a:srgbClr val="ffffff"/>
                </a:solidFill>
                <a:latin typeface="Arial"/>
              </a:rPr>
              <a:t>IsFull</a:t>
            </a: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 műveletet is, mivel a tömb betelhet, és ezt figyelni kell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Verem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40384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gram ver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ses cr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ar v:array [1.. 10]of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 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urese:boolea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urese:=(mut=0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p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-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48320" y="1267920"/>
            <a:ext cx="4038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function top:inte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not urese then top:=v[mut]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push(e:integer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if mut &lt; 10 then {</a:t>
            </a: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azért 10 mert ekkora a tömb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mut:=mut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v[mut]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rocedure 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hile not urese d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(po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writeln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push(1);push(12);push(14);kiir;pop;kii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Arial"/>
              </a:rPr>
              <a:t>EN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Verem alkalmazásai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 verem adatszerkezetnek számos alkalmazásával találkozhatunk az algoritmusok és programok világába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apvetően egy sorozat megfordítására alkalmas: ABCD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DCBA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a azonban a verembe írást és a kivételt nem elkülönítve, egymás után, hanem „összekeverve” alkalmazzuk, akkor a sorozat számos átrendezését meg tudjuk valósítani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dattípusok ábrázol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típus (AD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bsztrakt adatszerkezet (AD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prezentáció (ábrázolá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ritmetikai (tömbös) ábrázolá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áncolt (pointeres) ábrázolá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"/>
              </a:rPr>
              <a:t>AD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űveletek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Üres sor konstans; az üres sor „létrehozása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üres voltának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betétele a sorb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 kivétele a sorbó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első elem lekérdezé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Megszorítás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D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 u="sng">
                <a:solidFill>
                  <a:srgbClr val="ffffff"/>
                </a:solidFill>
                <a:uFillTx/>
                <a:latin typeface="Arial"/>
              </a:rPr>
              <a:t>Algebrai specifikáció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2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hu-HU" sz="24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 =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In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80640" indent="-52812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Firs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 = 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Out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)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3360" indent="-60336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Itt az 1-es, illetve a 2-es index a pár első, illetve második komponensét jelöli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 sor a veremhez hasonlóan lineáris adatszerkez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Arial"/>
              </a:rPr>
              <a:t>Aritmetikai ábrázolá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sor ebben az ábrázolásban egy rekordszerkezet, melynek része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[1..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] tömb, amely a sor elemeit tartalmazz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1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index, amely mindenkor az első elemre muta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valamint egy 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hu-HU" sz="2400" spc="-1" strike="noStrike">
                <a:solidFill>
                  <a:srgbClr val="ffffff"/>
                </a:solidFill>
                <a:latin typeface="Symbol"/>
                <a:ea typeface="Symbol"/>
              </a:rPr>
              <a:t>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{0 , … ,</a:t>
            </a:r>
            <a:r>
              <a:rPr b="0" i="1" lang="hu-HU" sz="2400" spc="-1" strike="noStrike">
                <a:solidFill>
                  <a:srgbClr val="ffffff"/>
                </a:solidFill>
                <a:latin typeface="Arial"/>
              </a:rPr>
              <a:t> max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} változó, amely a sor elemszámát jelzi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sor úgy működik, hogy a sor végére rakjuk, ill. az elejéről veszünk ki az elemeket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zért célszerű a tömb elejére „beengedni” a tömb végén „kilógó” elemeket, különben betelne úgy a tömb, hogy egyes indexei felhasználatlanok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gy tipikus sor lassan „körbemegy” a tömbön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ff"/>
                </a:solidFill>
                <a:latin typeface="Arial"/>
              </a:rPr>
              <a:t>A sor alkalmazása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gyes pufferelési eljárásokban (pl. klaviatúránál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Gráfok, ill. fák szélességi bejárásánál (pl. bináris fák szintfolytonos bejárása, lásd ott!)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lméleti érdekesség: a sor „körbetekerésével” szimulálható a verem adatszerkezet, de a sor csak két veremmel valósítható meg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type elemtip=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m=^s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elem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rtek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mut:elem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sor=reco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eje,vege:elem;  {elsonek es utolsonak betett elem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ossz:integer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hiba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ures(var s:sor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0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function ures_e(var s:sor):boolean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ures_e:=(s.hossz=0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tele_e(var s:sor):boolean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(s.hossz &lt; 20)  then tele_e:=fal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tele_e:=true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function elso(var s:sor):elemtip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lse elso:=s.eleje^.ertek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6792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procedure sorba(var s:sor; e:elemtip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var uj:elem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tele_e(s) then s.hiba:=tru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new(uj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ertek:=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uj^.mut:=nil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hossz:=s.hossz+1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if s.vege=nil the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eleje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^.mut:=uj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s.vege:=uj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1" lang="hu-HU" sz="14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procedure sorbol(var s:sor; var e:elemtip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r se:elem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ures_e(s) then s.hiba:=tr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:=s.eleje^.ertek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e:=s.elej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eleje:=se^.mut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dispose(se)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s.hossz:=s.hossz-1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if s.eleje=nil then s.vege:=nil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        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z a szint az adattípus leírásának legmagasabb absztrakciós szintje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attípust úgy specifikáljuk, hogy szerkezetére, reprezentálására, implementálására semmilyen megfontolást, előírást, utalást nem teszünk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eírásban kizárólag matematikai fogalmak használható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z ADT szintű leírás lehet formális, és lehet informális i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l. természetes magyar nyelven is elmondhatjuk, hogy mit várunk el egy veremtő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 lényeg nem a formalizáltság mértéke, hanem az, hogy „nem látjuk” az adattípus belső struktúrájá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Sor egy megvalósítása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function hibas_e(var s:sor):boolean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beg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hibas_e:=(s.hiba=tru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s.hiba:=fals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              </a:t>
            </a:r>
            <a:r>
              <a:rPr b="0" lang="hu-HU" sz="3200" spc="-1" strike="noStrike">
                <a:solidFill>
                  <a:srgbClr val="ffffff"/>
                </a:solidFill>
                <a:latin typeface="Arial"/>
              </a:rPr>
              <a:t>end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"/>
              </a:rPr>
              <a:t>Absztrakt adattípus (ADT)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lapvetően két leírási mód terjedt el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gebrai specifikáció (axiómák megadásával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unkcionális specifikáció (elő- és utófeltétellel)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Példa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z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alaptípus feletti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verem absztrakt adattípus (ADT) axiomatikus jellemzése három lépésben. A verem „lényege” az, hogy a legutoljára betett elemet lehet kivenni belő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1. Műveletek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mint leképezése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 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Üres verem konstans; az üres verem „létrehozása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verem üres voltának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betétele a veremb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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Elem kivétele a verembő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 felső elem lekérdezé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 u="sng">
                <a:solidFill>
                  <a:srgbClr val="ffffff"/>
                </a:solidFill>
                <a:uFillTx/>
                <a:latin typeface="Arial"/>
              </a:rPr>
              <a:t>2. Megszorítások a műveletekr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 (értelmezési tartományok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Az üres veremből nem lehet elemet kivenni, és a felső elemét sem lehet lekérdezni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D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\ {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ffff"/>
                </a:solidFill>
                <a:latin typeface="Arial"/>
              </a:rPr>
              <a:t>algebrai specifikáció (axiómák megadásával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 u="sng">
                <a:solidFill>
                  <a:srgbClr val="ffffff"/>
                </a:solidFill>
                <a:uFillTx/>
                <a:latin typeface="Arial"/>
              </a:rPr>
              <a:t>3. Axiómá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vag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 </a:t>
            </a:r>
            <a:r>
              <a:rPr b="0" lang="hu-HU" sz="2000" spc="-1" strike="noStrike">
                <a:solidFill>
                  <a:srgbClr val="ffffff"/>
                </a:solidFill>
                <a:latin typeface="Wingdings 3"/>
                <a:ea typeface="Wingdings 3"/>
              </a:rPr>
              <a:t>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mp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¬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IsEmpty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Top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Push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r>
              <a:rPr b="0" lang="hu-HU" sz="2000" spc="-1" strike="noStrike">
                <a:solidFill>
                  <a:srgbClr val="ffffff"/>
                </a:solidFill>
                <a:latin typeface="Arial"/>
              </a:rPr>
              <a:t>)) = </a:t>
            </a:r>
            <a:r>
              <a:rPr b="0" i="1" lang="hu-HU" sz="2000" spc="-1" strike="noStrike">
                <a:solidFill>
                  <a:srgbClr val="ffffff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z axiómákat úgy írjuk fel, hogy sorra vesszük az öt művelet (ill. egy konstans és négy művelet) összes lehetséges párosítását – mindkét sorrendben –, és ha van értelme az adott egymásra hatásnak, akkor azt kifejezzük egy logikai állításs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n egy fontos döntést hozunk meg az ADT szintű specifikáció alapján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gmondjuk azt, hogy alapvetően milyen struktúrája van a szóban forgó adattípusnak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özelebbről ez azt jelenti, hogy megadjuk az adatelem közötti legfontosabb rákövetkezési kapcsolatot, és ezt egy irányított gráf formájában le is raj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z ADS szintet egy szerkezeti gráf és az ADT szinten bevezetett műveletek alkotják együttesen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ff"/>
                </a:solidFill>
                <a:latin typeface="Arial"/>
              </a:rPr>
              <a:t>Absztrakt adatszerkezet (ADS)</a:t>
            </a:r>
            <a:endParaRPr b="0" lang="en-US" sz="40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z adatszerkezeteket osztályozhatjuk az általuk meghatározott gráf alakja szerin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kétirányú vagy szimmetrikus lineáris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 (struktúrájú)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rtogonális (pl. mátri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öbbszörösen összefüggő = általános gráf alakú adatszerkezet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ffff"/>
                </a:solidFill>
                <a:latin typeface="Arial"/>
              </a:rPr>
              <a:t>Reprezentációs szint</a:t>
            </a:r>
            <a:endParaRPr b="0" lang="en-US" sz="44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Ezen a szinten arról hozunk döntést, hogy az ADS-szinten megjelent gráf rákövetkezési relációit milyen módon ábrázoljuk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Az ábrázolás még mindig absztrakt, noha már a számítógépes megvalósítást modellezi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ff"/>
                </a:solidFill>
                <a:latin typeface="Arial"/>
              </a:rPr>
              <a:t>Két tiszta reprezentálási mód van, illetve ezeket lehet vegyesen is alkalmazni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aritmetikai (tömbös) ábrázolá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ff"/>
                </a:solidFill>
                <a:latin typeface="Arial"/>
              </a:rPr>
              <a:t>láncolt (pointeres) ábrázolá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3T08:32:18Z</dcterms:created>
  <dc:creator>Nagymáté Péter</dc:creator>
  <dc:description/>
  <dc:language>en-US</dc:language>
  <cp:lastModifiedBy>Nagymáté Péter</cp:lastModifiedBy>
  <dcterms:modified xsi:type="dcterms:W3CDTF">2005-02-10T12:58:58Z</dcterms:modified>
  <cp:revision>17</cp:revision>
  <dc:subject/>
  <dc:title>Adatszerkezetek </dc:title>
</cp:coreProperties>
</file>