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FF06-D528-40E5-B739-CE49BE64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9188-BCE6-48F1-8DA8-5E5A78C0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2550-8C46-4534-8074-76A1AAD2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83C2-7B57-4553-9079-F16C2F35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481B-C9C2-4B6C-A0DC-A4B0FFF0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0BEE-DF17-4233-AE40-40276431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68E9-D119-4BDE-87CC-248A3566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2A6-E342-47CF-AB56-BDEFA716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6466-87D3-4E87-B512-71074665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E8DE-8385-4C98-9452-AB41EDA8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3DDE-AAE0-4400-8724-D3843207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32B4-0B5D-42C4-864B-C861FD34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B4A9-DE91-47F5-A23A-CC248EA85A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datszerkezetek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ritmetikai ábrázolá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memóriát úgy képzeljük el, mint egy hosszú, egydimenziós tömböt, vagyis vektort, amelynek elemei byte-ok. Ezen alapul az aritmetikai ábrázolás első változ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Címfüggvénye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ritmetikai ábrázolá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bsztrakt memória-vektor adott kezdőcímétől kezdve elhelyezzük az adott adatszerkezet elemei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 adatelem több byte-ot is elfoglalhat. Meg kell adni a címfüggvényt, amelynek segítségével minden adatelem helye (címe) meghatározhat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Indexfüggvénye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ritmetikai ábrázolá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z az absztraktabb ábrázolá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datszerkezet elemeit egy olyan tömbben helyezzük el, amelynek nem byte-ok az elemei, hanem az adatszerkezet alaptípusának példánya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elhelyezést az első elemtől kezdjük, és ekkor egy indexfüggvényt kell megadnun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eprezentációs szi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Láncolt ábrázol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hhez az ábrázoláshoz bevezetjük az absztrakt mutató (pointer) fogalmá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egy mutató típusú változó, akkor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ˆ jelöli az általa mutatott adateleme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nnek az adatelemnek az esetleges komponenseit (pl. adat és mutató)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ˆ.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adat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, ill.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ˆ.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mut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jelöl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sehová sem mutató pointer értéke NI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Tömbök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gye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g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laptípus feletti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(≥ 1) dimenziós tömb típus. Vezessük be az  indexhalmazt, aho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űvelete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elyek bármel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etén szerepelnek): indexelés (=tömbelem kiválasztása) a már bevezetet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,…,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kifejezéssel, ami szerepelhet értékadó utasítás bal oldalán, és jobb oldalán is. Így lehetsé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ömbelem lekérdezés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ömbelem módosítá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132000" y="2924280"/>
                <a:ext cx="20876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: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ömbök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z a megegyezés született, hog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zerinti rákövetkezést is definiálna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öv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…,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….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 =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…,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…,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inden belső elemnek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b rákövetkezője van (azért csak a belsőknek, mert definíció szerint a dimenzió határánál nincs rákövetkező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em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indennapok során gyakran találkozunk a verem tároló struktúráv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ismertebb példa a névadó, a mezőgazdaságban használt ver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öbb távolsági buszon is a vezető a különböző pénzérméket egy-egy kis verembe tudja betenni, ill. azokból veszi elő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ávéházakban az alátét tányérokat gyakran egy veremként működő tároló mélyedésben tartják, st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em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D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Műveletek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Üres verem konstans; az üres verem „létrehozás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verem üres voltának lekérde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em betétele a verem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Pop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em kivétele a verembő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Top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felső elem lekérde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Megszorítás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DPop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DTop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\ {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em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ffff"/>
                </a:solidFill>
                <a:uFillTx/>
                <a:latin typeface="Arial"/>
              </a:rPr>
              <a:t>Algebrai specifikáció: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IsEmpty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agy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hu-HU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IsEmpty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 </a:t>
            </a:r>
            <a:r>
              <a:rPr b="0" lang="hu-HU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IsEmpty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)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op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) = 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ush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o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) = 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Top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) = 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em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ritmetikai ábrázolá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evezetjük a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to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változót, mely mindig a legfelső elem indexe 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to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[0..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max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]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vermet ábrázoló tömb: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[1..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max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]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szokásos műveletek mellett használni kell egy új,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IsFull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műveletet is, mivel a tömb betelhet, és ezt figyelni k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em egy megvalósítás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program vere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uses cr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var v:array [1.. 10]of inte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mut: inte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function urese:boole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urese:=(mut=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function pop:inte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if not urese th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pop:=v[mut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mut:=mut-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function top:inte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if not urese then top:=v[mut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procedure push(e:integer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if mut &lt; 10 then {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azért 10 mert ekkora a tömb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mut:=mut+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v[mut]:=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procedure kii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while not urese 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write(pop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writel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push(1);push(12);push(14);kiir;pop;kii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Verem alkalmazása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verem adatszerkezetnek számos alkalmazásával találkozhatunk az algoritmusok és programok világáb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apvetően egy sorozat megfordítására alkalmas: ABCD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CB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 azonban a verembe írást és a kivételt nem elkülönítve, egymás után, hanem „összekeverve” alkalmazzuk, akkor a sorozat számos átrendezését meg tudjuk valósítan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dattípusok ábrázolás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ztrakt adattípus (AD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ebrai specifiká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kcionális specifiká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ztrakt adatszerkezet (A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ezentáció (ábrázolá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itmetikai (tömbös) ábrázol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áncolt (pointeres) ábrázolá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D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Műveletek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Üres sor konstans; az üres sor „létrehozás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sor üres voltának lekérde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em betétele a sor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em kivétele a sorbó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Firs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lső elem lekérde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Megszorítás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D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DFirs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\ {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ffff"/>
                </a:solidFill>
                <a:uFillTx/>
                <a:latin typeface="Arial"/>
              </a:rPr>
              <a:t>Algebrai specifikáció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ag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hu-HU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 </a:t>
            </a:r>
            <a:r>
              <a:rPr b="0" lang="hu-HU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) = 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hu-HU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)2 =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hu-HU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1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)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Firs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tt az 1-es, illetve a 2-es index a pár első, illetve második komponensét jelöl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sor a veremhez hasonlóan lineáris adatszerkez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ritmetikai ábrázol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sor ebben az ábrázolásban egy rekordszerkezet, melynek része egy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[1..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ma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] tömb, amely a sor elemeit tartalmazz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{1 , … 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 ma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} index, amely mindenkor az első elemre mut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alamint egy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{0 , … 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 ma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} változó, amely a sor elemszámát jelzi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or úgy működik, hogy a sor végére rakjuk, ill. az elejéről veszünk ki az elemek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zért célszerű a tömb elejére „beengedni” a tömb végén „kilógó” elemeket, különben betelne úgy a tömb, hogy egyes indexei felhasználatlano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 tipikus sor lassan „körbemegy” a tömbö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sor alkalmazás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es pufferelési eljárásokban (pl. klaviatúráná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Gráfok, ill. fák szélességi bejárásánál (pl. bináris fák szintfolytonos bejárása, lásd ott!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méleti érdekesség: a sor „körbetekerésével” szimulálható a verem adatszerkezet, de a sor csak két veremmel valósítható me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egy megvalósítás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ype elemtip=intege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em=^selem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elem=re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rtek:elemti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ut:elem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or=re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eje,vege:elem;  {elsonek es utolsonak betett elem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ossz:intege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iba:boolea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egy megvalósítás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rocedure ures(var s:sor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.eleje:=ni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.vege:=ni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.hossz:=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.hiba:=fal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unction ures_e(var s:sor):boolea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ures_e:=(s.hossz=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egy megvalósítás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unction tele_e(var s:sor):boolea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f (s.hossz &lt; 20)  then tele_e:=fa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se tele_e:=tru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unction elso(var s:sor):elemti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f ures_e(s) then s.hiba:=tr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se elso:=s.eleje^.ertek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egy megvalósítás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procedure sorba(var s:sor; e:elemtip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var uj:ele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if tele_e(s) then s.hiba:=tr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new(uj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uj^.ertek:=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uj^.mut:=ni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s.hossz:=s.hossz+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if s.vege=nil th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s.eleje:=uj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s.vege:=uj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s.vege^.mut:=uj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s.vege:=uj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egy megvalósítás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rocedure sorbol(var s:sor; var e:elemtip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ar se:ele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f ures_e(s) then s.hiba:=tr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:=s.eleje^.ertek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e:=s.elej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.eleje:=se^.mu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dispose(s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.hossz:=s.hossz-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f s.eleje=nil then s.vege:=ni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bsztrakt adattípus (ADT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z a szint az adattípus leírásának legmagasabb absztrakciós szintj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adattípust úgy specifikáljuk, hogy szerkezetére, reprezentálására, implementálására semmilyen megfontolást, előírást, utalást nem teszün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eírásban kizárólag matematikai fogalmak használhat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ADT szintű leírás lehet formális, és lehet informális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. természetes magyar nyelven is elmondhatjuk, hogy mit várunk el egy veremtő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lényeg nem a formalizáltság mértéke, hanem az, hogy „nem látjuk” az adattípus belső struktúrájá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egy megvalósítás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unction hibas_e(var s:sor):boolea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ibas_e:=(s.hiba=tru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.hiba:=fals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bsztrakt adattípus (ADT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apvetően két leírási mód terjedt 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ebrai specifikáció (axiómák megadásával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kcionális specifikáció (elő- és utófeltétellel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lgebrai specifikáció (axiómák megadásával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Példa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z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laptípus feletti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verem absztrakt adattípus (ADT) axiomatikus jellemzése három lépésben. A verem „lényege” az, hogy a legutoljára betett elemet lehet kivenni belő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1. Művelete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(mint leképezés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Üres verem konstans; az üres verem „létrehozása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verem üres voltának lekérdez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lem betétele a verem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lem kivétele a verembő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T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felső elem lekérdez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2. Megszorítások a műveletekr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(értelmezési tartományo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üres veremből nem lehet elemet kivenni, és a felső elemét sem lehet lekérdez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DP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\ {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DT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\ {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lgebrai specifikáció (axiómák megadásával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3. Axiómá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ag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hu-HU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 </a:t>
            </a:r>
            <a:r>
              <a:rPr b="0" lang="hu-HU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mp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) = 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) =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T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) =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xiómákat úgy írjuk fel, hogy sorra vesszük az öt művelet (ill. egy konstans és négy művelet) összes lehetséges párosítását – mindkét sorrendben –, és ha van értelme az adott egymásra hatásnak, akkor azt kifejezzük egy logikai állításs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bsztrakt adatszerkezet (ADS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ADS szinten egy fontos döntést hozunk meg az ADT szintű specifikáció alapjá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gmondjuk azt, hogy alapvetően milyen struktúrája van a szóban forgó adattípusna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özelebbről ez azt jelenti, hogy megadjuk az adatelem közötti legfontosabb rákövetkezési kapcsolatot, és ezt egy irányított gráf formájában le is rajzolju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ADS szintet egy szerkezeti gráf és az ADT szinten bevezetett műveletek alkotják együttes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bsztrakt adatszerkezet (ADS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adatszerkezeteket osztályozhatjuk az általuk meghatározott gráf alakja szeri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ár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étirányú vagy szimmetrikus lineár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 (struktúrájú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ogonális (pl. mátri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öbbszörösen összefüggő = általános gráf alakú adatszerkez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eprezentációs szi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en a szinten arról hozunk döntést, hogy az ADS-szinten megjelent gráf rákövetkezési relációit milyen módon ábrázolju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ábrázolás még mindig absztrakt, noha már a számítógépes megvalósítást modellez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ét tiszta reprezentálási mód van, illetve ezeket lehet vegyesen is alkalmazn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ritmetikai (tömbös) ábrázolá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áncolt (pointeres) ábrázolá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08:32:18Z</dcterms:created>
  <dc:creator>Nagymáté Péter</dc:creator>
  <dc:description/>
  <dc:language>en-US</dc:language>
  <cp:lastModifiedBy>Nagymáté Péter</cp:lastModifiedBy>
  <dcterms:modified xsi:type="dcterms:W3CDTF">2005-02-10T12:58:58Z</dcterms:modified>
  <cp:revision>17</cp:revision>
  <dc:subject/>
  <dc:title>Adatszerkezetek </dc:title>
</cp:coreProperties>
</file>