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4C07-891D-408B-A52F-590516BC5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5964-F6B0-4317-86D6-3BA4956A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1A8A-4A3E-4AC3-A5DA-255FD9B8A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24AA-0068-4DF1-8BB3-62A78238A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B9DD-A73E-401B-A3CF-912D2BB2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CA35-6005-43B4-A599-7F2BFBF7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9225-4DE8-4402-8DDF-E067CAC3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9268-D683-4682-A331-28E0D1DF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C870-1F61-4120-A366-59676E96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18C9-E089-41EE-AD05-731A8D1C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CF78-01D7-4C3D-A650-F9872899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1FA2-0E18-408B-B89D-3BA5C682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8085-D941-42F1-BBEE-2DAD8DF6F4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álózatok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élda az alkalmazási réteg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net szolgáltatáso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lapvetően két csoportba sorolható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Közvetlen hálózati kapcsolatot nem igénylő (off-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És az igénylő szolgáltatások (on-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öbb megoldás is lehetség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levelez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UUCP (unix to unix copy) protokoll segítségével, Unix-ot futattó géppel modemen keresztül kapcsolódunk a szolgáltaó gépé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hell-számlát nyitunk: terminálként bejelentkezünk a szolgáltató gépére, és arról böngésszük a hálózat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LIP vagy PPP számlát nyitunk, melyen keresztül gyakorlatilag minden Internet-alkalmazást futtathatu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A van lehetőség rá, beköthetjük helyi hálózatunkat az Internetbe. TCP/IP-t telepítünk, majd a LAN-t valamilyen hálózati kapcsolattal (X.25, ISDN, bérelt telefonal) routeren keresztül rácsatlakoztatjuk az internet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net szolgáltatáso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Interneten eltérő felépítésű hálózatokat kötnek össze szükséges a kommunikáció közös szabványainak a kidolgozá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zeket az RFC (request for Comments) dokumentumok tartalmazzá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szabványok közös alapjául a UNIX operációs rendszerben megvalósított megoldások szolgált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net szolgáltatáso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Lényegesebb alkalmazási protokollok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Simple Mail Transfer Protocol egy alkalmazási protokoll, mely a hálózati felhasználók egymással való kommunikációját teszi lehetőv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ELNET - S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Terminál emuláció segítségével a saját gépet terminálnak használva egy távoli hosztra felhasználóként lehet bejelentkezn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F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File Transfer Protocol  fájl átviteli eljárás segítségével a felhasználónak lehetővé teszi az általános könyvtár és fájlműveletek végrehajtásá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GOP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Hierarchikusan felépített információban kereső protoko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HTTP,HTT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HyperText Transport Protoc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E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Hálózaton keresztüli hírszolgáltatást megvalósító protoko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rotokollok segítségével megvalósított szolgáltatáso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rchie – szoftverkereső szolgáltat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journals – hálózaton keresztül terjesztett újság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-mail – elektronikus levelez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inger – hálózati felhasználók adatszolgáltat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TP – távoli gépek közti állománycs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Gopher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- menürendszerű adatforrás-tallóz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RC – többcsatornás, többirányú párbeszédes kapcsol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Listserver – levelezési csoportok kiszolgál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Usenet – hírcsoportok kiszolgál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Talk – kétirányú párbeszédes kapcsol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Telnet,SSH – távoli gépeken történő mun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WAIS – adatbázis alapú információ szolgáltat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WWW – hypertext és multimédia alapú Gop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Whois – hálózati felhasználó kereső szolgáltat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-mail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legelső, amit az Interneten használtak, az Elektronikus levelez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gy levelező program segítségével szöveges állományt küldhetünk az Internet bármelyik felhasználóján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gy ilyen levél, egy címzettet, a feladót és néhány kiegészítő információt tartalmazó fejlécből és a levél szövegét tartalmazó törzsből á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inden levelezőnek egyedi címe kell, hogy legyen, és a címzésnek is szabványosnak kell lenni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Felhasználói_név@gépnév.subdomain_név.domain_név.ország(intézmény)azonosít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-ma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felhasználói név egy rövid azonosító, ami nem tartalmazhat speciális karaktere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@ jel a felhasználói nevet választja el a gépet leíró résztő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cím hierarchikus felépítés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utolsó egység az ország(intézmény)azonosító országra, vagy az intézményre jellegére u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DU – oktatási intézmény az USA –b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COM – kereskedelmi cégek az USA –b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GOV – amerikai kormányszervez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ET – nagyobb Internet szolgáltat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IL – amerikai katonai szervez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ORG – vállaltok, amelyek más kategóriába nem fértek be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HU - Magyarorszá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-ma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cím további részeinél pontok választják el a részeket egymástó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domain_név általában a környezetnek az azonosítója, amiben a gép található (intézmény vagy lokális hálózat nev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Subdomain_név akkor létezik, ha további tagolásra van szüksé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gépnév meg értelemszerűen a gépet specifikálja a domainen belü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-ma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evelek küldését és fogadását, egy folytonos hálózati kapcsolattal rendelkező számítógépen futó program a MAIL-SERVER végz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elhasználók ténylegesen ennek a programnak küldik a leveleket, illetve ettől kapják azok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ényeges megkülönböztetni a hálózati internet címeket a levél címektő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-ma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levelező programnak az alábbi funkciókat kell megvalósíta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Levél küldése közvetlenül, vagy egy listán szereplő címzetteknek (sen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apott levelek tartalomjegyzék-szerű listázása a levél témája mezőket mutat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Válasz adott levelekre (repl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Levelek továbbküldése (forwar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Levél tárolása különböző irattartókba (folderekb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Levél törlése (dele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-ma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 egy levél érkezik akkor nemcsak az üzenet jön meg , hanem egy pár soros „fejléc” 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z internet szolgáltatáso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187280" y="1916280"/>
          <a:ext cx="528840" cy="6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916280"/>
                    <a:ext cx="52884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7667640" y="3141720"/>
          <a:ext cx="824040" cy="118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67640" y="3141720"/>
                    <a:ext cx="82404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3059280" y="1844640"/>
          <a:ext cx="528480" cy="62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59280" y="1844640"/>
                    <a:ext cx="52848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1908000" y="1197000"/>
          <a:ext cx="1008360" cy="824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8000" y="1197000"/>
                    <a:ext cx="100836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5148360" y="3933720"/>
          <a:ext cx="907920" cy="503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48360" y="3933720"/>
                    <a:ext cx="9079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995640" y="2602080"/>
          <a:ext cx="1224000" cy="1076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95640" y="2602080"/>
                    <a:ext cx="1224000" cy="107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1763640" y="2568600"/>
          <a:ext cx="1714680" cy="1057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763640" y="2568600"/>
                    <a:ext cx="171468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95280" y="4149720"/>
          <a:ext cx="1266840" cy="563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95280" y="4149720"/>
                    <a:ext cx="126684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084720" y="3860640"/>
          <a:ext cx="1551240" cy="351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084720" y="3860640"/>
                    <a:ext cx="155124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5508720" y="2421000"/>
          <a:ext cx="309600" cy="1527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508720" y="2421000"/>
                    <a:ext cx="30960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788000" y="1341360"/>
          <a:ext cx="782640" cy="1079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788000" y="1341360"/>
                    <a:ext cx="7826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2916360" y="4005360"/>
            <a:ext cx="1295280" cy="1008000"/>
          </a:xfrm>
          <a:prstGeom prst="ellipse">
            <a:avLst/>
          </a:prstGeom>
          <a:gradFill rotWithShape="0">
            <a:gsLst>
              <a:gs pos="0">
                <a:srgbClr val="325acc"/>
              </a:gs>
              <a:gs pos="100000">
                <a:srgbClr val="b82e4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1d35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19640" y="5516640"/>
            <a:ext cx="863640" cy="647640"/>
          </a:xfrm>
          <a:prstGeom prst="ellipse">
            <a:avLst/>
          </a:prstGeom>
          <a:gradFill rotWithShape="0">
            <a:gsLst>
              <a:gs pos="0">
                <a:srgbClr val="325acc"/>
              </a:gs>
              <a:gs pos="100000">
                <a:srgbClr val="b82e4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1d35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79640" y="5516640"/>
            <a:ext cx="863640" cy="647640"/>
          </a:xfrm>
          <a:prstGeom prst="ellipse">
            <a:avLst/>
          </a:prstGeom>
          <a:gradFill rotWithShape="0">
            <a:gsLst>
              <a:gs pos="0">
                <a:srgbClr val="325acc"/>
              </a:gs>
              <a:gs pos="100000">
                <a:srgbClr val="b82e4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1d35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67640" y="4869000"/>
            <a:ext cx="863640" cy="647640"/>
          </a:xfrm>
          <a:prstGeom prst="ellipse">
            <a:avLst/>
          </a:prstGeom>
          <a:gradFill rotWithShape="0">
            <a:gsLst>
              <a:gs pos="0">
                <a:srgbClr val="325acc"/>
              </a:gs>
              <a:gs pos="100000">
                <a:srgbClr val="b82e4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1d35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67640" y="1773360"/>
            <a:ext cx="863640" cy="647640"/>
          </a:xfrm>
          <a:prstGeom prst="ellipse">
            <a:avLst/>
          </a:prstGeom>
          <a:gradFill rotWithShape="0">
            <a:gsLst>
              <a:gs pos="0">
                <a:srgbClr val="325acc"/>
              </a:gs>
              <a:gs pos="100000">
                <a:srgbClr val="b82e4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1d35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1" name=""/>
          <p:cNvCxnSpPr>
            <a:endCxn id="68" idx="2"/>
          </p:cNvCxnSpPr>
          <p:nvPr/>
        </p:nvCxnSpPr>
        <p:spPr>
          <a:xfrm flipH="1" rot="16200000">
            <a:off x="939600" y="4800960"/>
            <a:ext cx="1127880" cy="951480"/>
          </a:xfrm>
          <a:prstGeom prst="bentConnector2">
            <a:avLst/>
          </a:prstGeom>
          <a:ln w="57240">
            <a:solidFill>
              <a:srgbClr val="ffffff"/>
            </a:solidFill>
            <a:miter/>
          </a:ln>
        </p:spPr>
      </p:cxnSp>
      <p:cxnSp>
        <p:nvCxnSpPr>
          <p:cNvPr id="72" name=""/>
          <p:cNvCxnSpPr>
            <a:stCxn id="68" idx="6"/>
            <a:endCxn id="67" idx="2"/>
          </p:cNvCxnSpPr>
          <p:nvPr/>
        </p:nvCxnSpPr>
        <p:spPr>
          <a:xfrm>
            <a:off x="2842920" y="5839920"/>
            <a:ext cx="2377080" cy="1080"/>
          </a:xfrm>
          <a:prstGeom prst="straightConnector1">
            <a:avLst/>
          </a:prstGeom>
          <a:ln w="57240">
            <a:solidFill>
              <a:srgbClr val="ffffff"/>
            </a:solidFill>
            <a:prstDash val="lgDash"/>
            <a:miter/>
          </a:ln>
        </p:spPr>
      </p:cxnSp>
      <p:cxnSp>
        <p:nvCxnSpPr>
          <p:cNvPr id="73" name=""/>
          <p:cNvCxnSpPr>
            <a:stCxn id="67" idx="6"/>
            <a:endCxn id="69" idx="4"/>
          </p:cNvCxnSpPr>
          <p:nvPr/>
        </p:nvCxnSpPr>
        <p:spPr>
          <a:xfrm flipV="1">
            <a:off x="6083280" y="5515920"/>
            <a:ext cx="2016720" cy="324360"/>
          </a:xfrm>
          <a:prstGeom prst="bentConnector2">
            <a:avLst/>
          </a:prstGeom>
          <a:ln w="57240">
            <a:solidFill>
              <a:srgbClr val="ffffff"/>
            </a:solidFill>
            <a:miter/>
          </a:ln>
        </p:spPr>
      </p:cxnSp>
      <p:cxnSp>
        <p:nvCxnSpPr>
          <p:cNvPr id="74" name=""/>
          <p:cNvCxnSpPr>
            <a:endCxn id="69" idx="0"/>
          </p:cNvCxnSpPr>
          <p:nvPr/>
        </p:nvCxnSpPr>
        <p:spPr>
          <a:xfrm flipH="1" rot="16200000">
            <a:off x="7819560" y="4590000"/>
            <a:ext cx="538920" cy="19800"/>
          </a:xfrm>
          <a:prstGeom prst="bentConnector3">
            <a:avLst>
              <a:gd name="adj1" fmla="val 49799"/>
            </a:avLst>
          </a:prstGeom>
          <a:ln w="57240">
            <a:solidFill>
              <a:srgbClr val="ffffff"/>
            </a:solidFill>
            <a:miter/>
          </a:ln>
        </p:spPr>
      </p:cxnSp>
      <p:cxnSp>
        <p:nvCxnSpPr>
          <p:cNvPr id="75" name=""/>
          <p:cNvCxnSpPr>
            <a:stCxn id="70" idx="4"/>
          </p:cNvCxnSpPr>
          <p:nvPr/>
        </p:nvCxnSpPr>
        <p:spPr>
          <a:xfrm flipH="1">
            <a:off x="8079480" y="2421000"/>
            <a:ext cx="19800" cy="721440"/>
          </a:xfrm>
          <a:prstGeom prst="straightConnector1">
            <a:avLst/>
          </a:prstGeom>
          <a:ln w="57240">
            <a:solidFill>
              <a:srgbClr val="ffffff"/>
            </a:solidFill>
            <a:miter/>
          </a:ln>
        </p:spPr>
      </p:cxnSp>
      <p:cxnSp>
        <p:nvCxnSpPr>
          <p:cNvPr id="76" name=""/>
          <p:cNvCxnSpPr>
            <a:stCxn id="70" idx="0"/>
          </p:cNvCxnSpPr>
          <p:nvPr/>
        </p:nvCxnSpPr>
        <p:spPr>
          <a:xfrm rot="5400000">
            <a:off x="6780600" y="563040"/>
            <a:ext cx="108720" cy="2529000"/>
          </a:xfrm>
          <a:prstGeom prst="bentConnector4">
            <a:avLst>
              <a:gd name="adj1" fmla="val -211627"/>
              <a:gd name="adj2" fmla="val 58570"/>
            </a:avLst>
          </a:prstGeom>
          <a:ln w="57240">
            <a:solidFill>
              <a:srgbClr val="ffffff"/>
            </a:solidFill>
            <a:miter/>
          </a:ln>
        </p:spPr>
      </p:cxnSp>
      <p:cxnSp>
        <p:nvCxnSpPr>
          <p:cNvPr id="77" name=""/>
          <p:cNvCxnSpPr/>
          <p:nvPr/>
        </p:nvCxnSpPr>
        <p:spPr>
          <a:xfrm flipV="1" rot="10800000">
            <a:off x="3587040" y="1880280"/>
            <a:ext cx="1200960" cy="278280"/>
          </a:xfrm>
          <a:prstGeom prst="bentConnector3">
            <a:avLst>
              <a:gd name="adj1" fmla="val 49985"/>
            </a:avLst>
          </a:prstGeom>
          <a:ln w="57240">
            <a:solidFill>
              <a:srgbClr val="ffffff"/>
            </a:solidFill>
            <a:miter/>
          </a:ln>
        </p:spPr>
      </p:cxnSp>
      <p:cxnSp>
        <p:nvCxnSpPr>
          <p:cNvPr id="78" name=""/>
          <p:cNvCxnSpPr/>
          <p:nvPr/>
        </p:nvCxnSpPr>
        <p:spPr>
          <a:xfrm flipV="1" rot="10800000">
            <a:off x="1028160" y="2229480"/>
            <a:ext cx="159120" cy="1919880"/>
          </a:xfrm>
          <a:prstGeom prst="bentConnector2">
            <a:avLst/>
          </a:prstGeom>
          <a:ln w="57240">
            <a:solidFill>
              <a:srgbClr val="ffffff"/>
            </a:solidFill>
            <a:miter/>
          </a:ln>
        </p:spPr>
      </p:cxnSp>
      <p:cxnSp>
        <p:nvCxnSpPr>
          <p:cNvPr id="79" name=""/>
          <p:cNvCxnSpPr>
            <a:stCxn id="66" idx="2"/>
          </p:cNvCxnSpPr>
          <p:nvPr/>
        </p:nvCxnSpPr>
        <p:spPr>
          <a:xfrm rot="10800000">
            <a:off x="1661400" y="4431600"/>
            <a:ext cx="1254960" cy="78480"/>
          </a:xfrm>
          <a:prstGeom prst="bentConnector3">
            <a:avLst>
              <a:gd name="adj1" fmla="val 49985"/>
            </a:avLst>
          </a:prstGeom>
          <a:ln w="57240">
            <a:solidFill>
              <a:srgbClr val="ffffff"/>
            </a:solidFill>
            <a:miter/>
          </a:ln>
        </p:spPr>
      </p:cxnSp>
      <p:cxnSp>
        <p:nvCxnSpPr>
          <p:cNvPr id="80" name=""/>
          <p:cNvCxnSpPr>
            <a:stCxn id="66" idx="0"/>
          </p:cNvCxnSpPr>
          <p:nvPr/>
        </p:nvCxnSpPr>
        <p:spPr>
          <a:xfrm flipV="1" rot="16200000">
            <a:off x="2902320" y="3343320"/>
            <a:ext cx="380160" cy="943920"/>
          </a:xfrm>
          <a:prstGeom prst="bentConnector3">
            <a:avLst>
              <a:gd name="adj1" fmla="val 49763"/>
            </a:avLst>
          </a:prstGeom>
          <a:ln w="57240">
            <a:solidFill>
              <a:srgbClr val="ffffff"/>
            </a:solidFill>
            <a:miter/>
          </a:ln>
        </p:spPr>
      </p:cxnSp>
      <p:cxnSp>
        <p:nvCxnSpPr>
          <p:cNvPr id="81" name=""/>
          <p:cNvCxnSpPr>
            <a:stCxn id="66" idx="7"/>
          </p:cNvCxnSpPr>
          <p:nvPr/>
        </p:nvCxnSpPr>
        <p:spPr>
          <a:xfrm flipH="1" flipV="1" rot="5400000">
            <a:off x="4077720" y="3621960"/>
            <a:ext cx="475560" cy="586440"/>
          </a:xfrm>
          <a:prstGeom prst="bentConnector3">
            <a:avLst>
              <a:gd name="adj1" fmla="val 65530"/>
            </a:avLst>
          </a:prstGeom>
          <a:ln w="57240">
            <a:solidFill>
              <a:srgbClr val="ffffff"/>
            </a:solidFill>
            <a:miter/>
          </a:ln>
        </p:spPr>
      </p:cxnSp>
      <p:cxnSp>
        <p:nvCxnSpPr>
          <p:cNvPr id="82" name=""/>
          <p:cNvCxnSpPr/>
          <p:nvPr/>
        </p:nvCxnSpPr>
        <p:spPr>
          <a:xfrm rot="10800000">
            <a:off x="4607640" y="3677400"/>
            <a:ext cx="540720" cy="508680"/>
          </a:xfrm>
          <a:prstGeom prst="bentConnector2">
            <a:avLst/>
          </a:prstGeom>
          <a:ln w="38160">
            <a:solidFill>
              <a:srgbClr val="ffff00"/>
            </a:solidFill>
            <a:miter/>
          </a:ln>
        </p:spPr>
      </p:cxnSp>
      <p:sp>
        <p:nvSpPr>
          <p:cNvPr id="83" name=""/>
          <p:cNvSpPr/>
          <p:nvPr/>
        </p:nvSpPr>
        <p:spPr>
          <a:xfrm>
            <a:off x="5724360" y="2276640"/>
            <a:ext cx="1440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Serial Line</a:t>
            </a:r>
            <a:br>
              <a:rPr sz="1400"/>
            </a:b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Interface</a:t>
            </a:r>
            <a:br>
              <a:rPr sz="1400"/>
            </a:b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Protocol (SLIP) vagy</a:t>
            </a:r>
            <a:br>
              <a:rPr sz="1400"/>
            </a:b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Point to Point</a:t>
            </a:r>
            <a:br>
              <a:rPr sz="1400"/>
            </a:b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Protocol (PP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43640" y="5516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CP/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1197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CP/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92360" y="4076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CP/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éld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Return-Path: &lt;kkecskedi@deloittece.com&gt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Delivered-To: pepe@stargate.inf.elte.h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Received: from mx1.elte.hu (mx1.elte.hu [157.181.1.137]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by stargate.inf.elte.hu (Postfix) with ESMTP id 8466BF7165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for &lt;pepe@stargate.inf.elte.hu&gt;; Tue, 17 Feb 2004 10:51:37 +0100 (CET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Received: from MAIL4.atrema.deloitte.com (mail4.atrema.deloitte.com [170.194.1.72]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by mx1.elte.hu (Postfix) with ESMTP id 441FB276C4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for &lt;pepe@stargate.inf.elte.hu&gt;; Tue, 17 Feb 2004 10:58:33 +0100 (CET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Received: from ukatrema0476.atrema.deloitte.com (unverified) by MAIL4.atrema.deloitte.co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(Content Technologies SMTPRS 4.2.10) with ESMTP id &lt;T67cf52f4280a2610cfac0@MAIL4.atrema.deloitte.com&gt;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Tue, 17 Feb 2004 09:59:11 +000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Received: from hubud0410.atrema.deloitte.com ([10.98.233.65]) by ukatrema0476.atrema.deloitte.com with Microsoft SMTPSVC(5.0.2195.6713)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Tue, 17 Feb 2004 09:57:51 +000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content-class: urn:content-classes:messag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MIME-Version: 1.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Content-Type: multipart/mixed; boundary="----_=_NextPart_001_01C3F53C.8A8EE2EE"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Subject: =?iso-8859-2?Q?FW=3A_Elm=FC_reklam=E1ci=F3___eeezzz_iiigen?=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X-MimeOLE: Produced By Microsoft Exchange V6.0.6487.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Date: Tue, 17 Feb 2004 10:58:06 +010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Message-ID: &lt;B3F0CD96EC49AF49908EADFE4A459AD50216058F@hubud0410.atrema.deloitte.com&gt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X-MS-Has-Attach: ye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X-MS-TNEF-Correlator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Thread-Topic: =?iso-8859-2?Q?Elm=FC_reklam=E1ci=F3___eeezzz_iiigen?=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Thread-Index: AcP0pbCM2joJJGCgEdi6zABgZ2amLwAAMxegAAJJEgAAAKHu0AAce8VgAASNaAAAAQhvAAAAg+O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X-Priority: 5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Priority: Non-Urgen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Importance: low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From: "Kecskedi, Krisztian (HU - Budapest)" &lt;kkecskedi@deloitteCE.com&gt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To: &lt;istvantuli@mailbox.hu&gt;, &lt;gaklinka@hotmail.com&gt;,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&lt;DemeterE@invitel.co.hu&gt;,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=?iso-8859-2?Q?Zal=E1n_=28E-mail=29?= &lt;heszi@ttt-atm.ttt.bme.hu&gt;,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"Attila Kiss (E-mail)" &lt;a_kiss3@ksrt-sab.hu&gt;,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"Peti (E-mail)" &lt;pepe@stargate.inf.elte.hu&gt;,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"Petra (E-mail)" &lt;monsta@egon.gyaloglo.hu&gt;,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"Vass Ingrid (E-mail)" &lt;ivass@interchange.hu&gt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X-OriginalArrivalTime: 17 Feb 2004 09:57:51.0398 (UTC) FILETIME=[81613460:01C3F53C]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-ma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„Received” sorokból azoknak az állomásoknak a neveit, és a használt protokollokat tudhatjuk meg, amelyeken a levél keresztül 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„Date” a levél küldésének dátu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„From” sor azt a címet tartalmazza ahonnan a levél elvileg jöt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„To” a címzett email címét tartalmaz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ubject: a levél tárgy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essage-Id” egy egyedi azonosító, a levelek útjának a követésére használjá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Reply-To” ha a feladó nem szeretné, hogy arra a címre válaszoljunk ahonnan a levél jött, akkor megad egy másik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„Mime-Version” és a „Content-Type” sorokról később esik sz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UENCODE/UUDECO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-mailen keresztül közvetlenül csak 0-127 –es kódú ASCII karakterek küldhetők á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UUENCODE a fájlt alkotó bináris bájtsorozatot konvertál 7 bites szöveggé oly módon, hogy a fájl elejéről kezdve sorban vesz 3 db 8 bites bájtot, és azt szétbontja 4 db 6 bites darab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vezérlő karakterek kódja 0-31 ig terjednek ezért min a 4 bitcsoporthoz hozzá ad 32-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Így lesz 3 bájtból 4 karakter amit már el lehet külde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UUDECODE pedig visszaalakítja az eredeti fáj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gy másik megoldás esetén már lehetőség van levélben képek,hangok küldésére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eljárást MIME -nek (Multi-pupose Internet Mail Extensions) nevezi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megoldást elöször az RFC 1341 –ben definiálták, amely frissítését az RFC 1521-es tartalmaz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ivel nincs eltérés az RFC 882-höz képest, a MIME levelek minden probléma nélkül továbbíthatók a már létező programokkal és protokollokkal, csak a feldolgozásuk igényel változá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ontent-Description: egy ASCII szöveg, amely megadja az üzenet tartalmá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ontent-Id: a standard üzenet azonosítójának formátumával megegyező egyedi azonosít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1600200"/>
          <a:ext cx="8229600" cy="218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ejléc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25a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Jelenté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25acc"/>
                    </a:solidFill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ME-Vers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zonosítja a MIME verziójá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-Descrip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z üzenet tartalm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-I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yedi azonosít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-Transfer-Encod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törzs átviteli kódolásának formátum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-Typ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z üzenet jelle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ontent-Transfer-Encoding: azt mondja meg a fejléc, hogy milyen formában kódolták az üzenet törzsé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ima ASCII szöveg, a sorok nem hosszabbak 1000 karakternél. A karakterek 8 biten tárolódn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Bináris kódolást használó üzenetek. Ezek tetszöleges bináris állományok, amelyek nem csak 8 bitet használnak, hanem a 1000 karakteres határnak sem. A következő 2 kódolást felhasználva kell elkülde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Base64 kódolás: 24 bites csoportokat tördel fel 6 bites egységekre, és minden egység egy legális ASCII karakternek felel meg, A 0 –nak az „A” felel me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zokra az üzenetekre, amelyek majdnem csak ASCII karaktereket tartalmaznak hatékonyabb a Quoted-printable kódolás. Ez megegyezik a 7 bites ASCII val azzal a különbséggel hogy a 127 feletti karaktereket egy egyenlőségjel kódol, amit az eredeti karakter értéke követ két hexa szám formájáb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Content-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z a fejléc eléggé összetett, folyamatosan bővü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üzenet típusát illetve altípusát tartalmazza,melyeket a ”/” jel választja el egymástó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Pl.: Content-Type: image/gi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altípust pontosan meg kell adni, nincs alapértelmezet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apcsolódás az internet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internet legfontosabb része a nagy adatátviteli sebességű (optikai kábelből és műholdas kapcsolat ) gerinchálózat (bo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csomagokat a routerek irányítják a különféle útvonalak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evés felhasználónak adatik meg a gerincre csatlakozás közeli lehetősé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felhasználó által elérhető adatátviteli sebességet a gerincig vezető alhálózatok adatátviteli sebessége közül a legkisebb fogja meghatározn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net kommunikáció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ak nagyteljesítményű gépekkel lehet a gerincre csatlakoz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Átlagos felhasználók a helyi kapcsolataikat használhatjá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 egyéni felhasználók az Internet szolgáltatók által üzemeltett gépeken keresztü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apcsolódás megoldáso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álózati kapcsolódá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eltétel, hogy a helyi hálózaton TCP/IP protokoll használa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gy routeren keresztül az Internetre küldött csomagok eljutnak a cél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LIP/PPP kapcsol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Telefonvonalon keresztüli kapcsolód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TCP/IP szerű kapcsolatot megvalósító SLIP/PPP protokoll szüksé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zámítógépünk egy IP címet hordozó hálózatra kapcsolt géppé váli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On-line szolgáltatón keresztül (terminál emulációv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internetre kapcsolódó gépen fut az a program, amelyet a telefonvonalon keresztül a számítógépet terminálként használva kezelü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net elérés telefonvonalon keresztü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ivel a kapcsolatban IP csomagok átvitele történik ezért a telefonvonalon átvitt keretbe kell helyez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Két protokollt használna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erial Line Internet Protocol – SLIP : de facto szabványnak tekinthet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Point to Point Protocol – PPP : de jure Internet szabvá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L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RFC 1055 mint nem szabványt írja le az IP csomagok soros vonalon történő átvitelé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ún. packet framing protokoll karakterek sorozatát definiálja, amely IP csomagokat vissz á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SLIP a hexa 0xC0-t használja a keretezésre, ezt a szekvenciát helyettesíti szükség esetén a 0xDB,0xDC kétbájtos szekvenciáv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Nem tesz lehetővé címzést, csomagtípus azonosítá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73080" y="4941720"/>
            <a:ext cx="2374920" cy="432000"/>
          </a:xfrm>
          <a:prstGeom prst="rect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atároló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xC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48000" y="4941720"/>
            <a:ext cx="2374920" cy="432000"/>
          </a:xfrm>
          <a:prstGeom prst="rect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somagadat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24360" y="4941720"/>
            <a:ext cx="2374920" cy="432000"/>
          </a:xfrm>
          <a:prstGeom prst="rect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atároló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xC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P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SLIP hiányosságainak kiküszöbölésére hozták létre a PPP protokol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szinkron (8bit, paritás nélkü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Bitorientált szinkr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Üzemmódokban egyaránt használhat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Fullduplex kapcsolatot igény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ódosított HDLC keretformát használ a protokollcsomagok átvitelére, hibaellenőrző és javító kóddal mindegyik keretb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DLC: High Level Data Link Control) magas szintű bitorientált eljárás, melyet az adatkapcsolat aszimmetrikus működési módhoz fejlesztetek ki, ahol egy mesterállomás vezérli a szolgaállomások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P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teljes PPP keret 8 oktettet használ az egyes keretek becsomagolására, de lehetőséget ad ennek két oktettre történő rövidítésére is továbbá escape mechanizmust biztosít kontrolladatok átvitelé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Tartalmaz egy ún. Link Control Protocol-t (LCP) a pont-pont közti kapcsolatokho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gy ún. Network Control Protocol (NCP) családot a különböző hálózati protokollok szimultán átvitelé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LCP automatikusan kioszthatja és menedzselheti az IP címek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teljes PPP csomag keretformáj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4797360"/>
            <a:ext cx="1224000" cy="432000"/>
          </a:xfrm>
          <a:prstGeom prst="rect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Delimiter</a:t>
            </a:r>
            <a:br>
              <a:rPr sz="1400"/>
            </a:b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0x7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40000" y="4797360"/>
            <a:ext cx="576360" cy="432000"/>
          </a:xfrm>
          <a:prstGeom prst="rect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ím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16360" y="4797360"/>
            <a:ext cx="576000" cy="432000"/>
          </a:xfrm>
          <a:prstGeom prst="rect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Ctrl</a:t>
            </a:r>
            <a:br>
              <a:rPr sz="1400"/>
            </a:b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0x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92360" y="4797360"/>
            <a:ext cx="1297080" cy="432000"/>
          </a:xfrm>
          <a:prstGeom prst="rect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Protocol</a:t>
            </a:r>
            <a:br>
              <a:rPr sz="1400"/>
            </a:b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0xXXX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89440" y="4797360"/>
            <a:ext cx="1297080" cy="432000"/>
          </a:xfrm>
          <a:prstGeom prst="rect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atcsoma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84720" y="4797360"/>
            <a:ext cx="576360" cy="432000"/>
          </a:xfrm>
          <a:prstGeom prst="rect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C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61080" y="4797360"/>
            <a:ext cx="1224000" cy="432000"/>
          </a:xfrm>
          <a:prstGeom prst="rect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Delimiter</a:t>
            </a:r>
            <a:br>
              <a:rPr sz="1400"/>
            </a:b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0x7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7T07:32:32Z</dcterms:created>
  <dc:creator>Nagymáté Péter</dc:creator>
  <dc:description/>
  <dc:language>en-US</dc:language>
  <cp:lastModifiedBy>Nagymáté Péter</cp:lastModifiedBy>
  <dcterms:modified xsi:type="dcterms:W3CDTF">2004-02-17T12:11:12Z</dcterms:modified>
  <cp:revision>20</cp:revision>
  <dc:subject/>
  <dc:title>Hálózatok </dc:title>
</cp:coreProperties>
</file>