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7727-E664-4312-8D2D-C4C5164E6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724E-23D0-44D2-B07D-D3E80C36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AE03-8F42-4220-8A26-03D7030F1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D885-4BBF-4744-A399-AE005958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E682-243A-444E-989B-F254EFD5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018F-D4C8-4B9A-8B0C-3D0B30A2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DAB5-BC72-434C-A3FC-404E070A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45DE-98C9-4B20-A766-045CF045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870A-8C34-4C8E-B439-E18CF682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A809-FD3E-4D38-84FC-B64022A2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D070-251C-42A9-8669-8F5FDCEF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D32B-8CDB-4D38-B5E9-0D83167C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BECA-A5BB-432D-8A25-2B918891C8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datszerkezetek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ritmetikai ábrázolá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memóriát úgy képzeljük el, mint egy hosszú, egydimenziós tömböt, vagyis vektort, amelynek elemei byte-ok. Ezen alapul az aritmetikai ábrázolás első változa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ffffff"/>
                </a:solidFill>
                <a:uFillTx/>
                <a:latin typeface="Arial"/>
              </a:rPr>
              <a:t>Címfüggvényes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aritmetikai ábrázolá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absztrakt memória-vektor adott kezdőcímétől kezdve elhelyezzük az adott adatszerkezet elemei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gy adatelem több byte-ot is elfoglalhat. Meg kell adni a címfüggvényt, amelynek segítségével minden adatelem helye (címe) meghatározhat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ffffff"/>
                </a:solidFill>
                <a:uFillTx/>
                <a:latin typeface="Arial"/>
              </a:rPr>
              <a:t>Indexfüggvényes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aritmetikai ábrázolá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z az absztraktabb ábrázolá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adatszerkezet elemeit egy olyan tömbben helyezzük el, amelynek nem byte-ok az elemei, hanem az adatszerkezet alaptípusának példánya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elhelyezést az első elemtől kezdjük, és ekkor egy indexfüggvényt kell megadnun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eprezentációs szi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Láncolt ábrázol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hhez az ábrázoláshoz bevezetjük az absztrakt mutató (pointer) fogalmá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a 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egy mutató típusú változó, akkor 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ˆ jelöli az általa mutatott adateleme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nnek az adatelemnek az esetleges komponenseit (pl. adat és mutató)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ˆ.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adat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, ill. 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ˆ.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mut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jelöl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sehová sem mutató pointer értéke NI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Tömbök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gye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g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laptípus feletti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(≥ 1) dimenziós tömb típus. Vezessük be az  indexhalmazt, aho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űvelete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melyek bármel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setén szerepelnek): indexelés (=tömbelem kiválasztása) a már bevezetett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,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,…,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kifejezéssel, ami szerepelhet értékadó utasítás bal oldalán, és jobb oldalán is. Így lehetsé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ömbelem lekérdezés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ömbelem módosítá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132000" y="2924280"/>
                <a:ext cx="20876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: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ömbök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z a megegyezés született, hog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zerinti rákövetkezést is definiálna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öv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…,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….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 =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…,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…,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inden belső elemnek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b rákövetkezője van (azért csak a belsőknek, mert definíció szerint a dimenzió határánál nincs rákövetkező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em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indennapok során gyakran találkozunk a verem tároló struktúráv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ismertebb példa a névadó, a mezőgazdaságban használt vere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öbb távolsági buszon is a vezető a különböző pénzérméket egy-egy kis verembe tudja betenni, ill. azokból veszi elő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kávéházakban az alátét tányérokat gyakran egy veremként működő tároló mélyedésben tartják, stb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em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D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Arial"/>
              </a:rPr>
              <a:t>Műveletek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Üres verem konstans; az üres verem „létrehozás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verem üres voltának lekérde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em betétele a verem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Pop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em kivétele a verembő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Top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felső elem lekérde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Arial"/>
              </a:rPr>
              <a:t>Megszorítás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DPop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DTop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\ {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em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ffff"/>
                </a:solidFill>
                <a:uFillTx/>
                <a:latin typeface="Arial"/>
              </a:rPr>
              <a:t>Algebrai specifikáció: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IsEmpty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agy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hu-HU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IsEmpty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 </a:t>
            </a:r>
            <a:r>
              <a:rPr b="0" lang="hu-HU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Emp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¬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IsEmpty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)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op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) = 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ush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op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) = 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Top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) = 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em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ritmetikai ábrázolá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Bevezetjük a 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top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változót, mely mindig a legfelső elem indexe 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top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[0..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max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]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vermet ábrázoló tömb: 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[1..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max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]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szokásos műveletek mellett használni kell egy új, 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IsFull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műveletet is, mivel a tömb betelhet, és ezt figyelni k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em egy megvalósítás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program vere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uses cr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var v:array [1.. 10]of inte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mut: inte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function urese:boole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urese:=(mut=0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function pop:inte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if not urese th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pop:=v[mut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mut:=mut-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end;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126792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function top:inte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if not urese then top:=v[mut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procedure push(e:integer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if mut &lt; 10 then {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azért 10 mert ekkora a tömb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mut:=mut+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v[mut]:=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end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procedure kii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while not urese 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write(pop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writel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push(1);push(12);push(14);kiir;pop;kii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EN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Verem alkalmazása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verem adatszerkezetnek számos alkalmazásával találkozhatunk az algoritmusok és programok világáb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apvetően egy sorozat megfordítására alkalmas: ABCD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CB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 azonban a verembe írást és a kivételt nem elkülönítve, egymás után, hanem „összekeverve” alkalmazzuk, akkor a sorozat számos átrendezését meg tudjuk valósítan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dattípusok ábrázolás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ztrakt adattípus (AD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ebrai specifikáci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kcionális specifikáci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ztrakt adatszerkezet (A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ezentáció (ábrázolá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itmetikai (tömbös) ábrázol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áncolt (pointeres) ábrázolá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r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D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Arial"/>
              </a:rPr>
              <a:t>Műveletek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Üres sor konstans; az üres sor „létrehozás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sor üres voltának lekérde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em betétele a sor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em kivétele a sorbó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Firs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lső elem lekérde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Arial"/>
              </a:rPr>
              <a:t>Megszorítás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DOu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DFirs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\ {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r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ffffff"/>
                </a:solidFill>
                <a:uFillTx/>
                <a:latin typeface="Arial"/>
              </a:rPr>
              <a:t>Algebrai specifikáció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ag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hu-HU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 </a:t>
            </a:r>
            <a:r>
              <a:rPr b="0" lang="hu-HU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¬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) = 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¬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hu-HU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)2 =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¬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hu-HU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1,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)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Firs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 =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tt az 1-es, illetve a 2-es index a pár első, illetve második komponensét jelöl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r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sor a veremhez hasonlóan lineáris adatszerkez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ritmetikai ábrázolá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sor ebben az ábrázolásban egy rekordszerkezet, melynek része egy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[1..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max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] tömb, amely a sor elemeit tartalmazz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gy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{1 , … ,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 max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} index, amely mindenkor az első elemre mut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alamint egy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{0 , … ,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 max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} változó, amely a sor elemszámát jelzi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r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or úgy működik, hogy a sor végére rakjuk, ill. az elejéről veszünk ki az elemek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zért célszerű a tömb elejére „beengedni” a tömb végén „kilógó” elemeket, különben betelne úgy a tömb, hogy egyes indexei felhasználatlanok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 tipikus sor lassan „körbemegy” a tömbö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r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sor alkalmazás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es pufferelési eljárásokban (pl. klaviatúránál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Gráfok, ill. fák szélességi bejárásánál (pl. bináris fák szintfolytonos bejárása, lásd ott!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lméleti érdekesség: a sor „körbetekerésével” szimulálható a verem adatszerkezet, de a sor csak két veremmel valósítható me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bsztrakt adattípus (ADT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z a szint az adattípus leírásának legmagasabb absztrakciós szintj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adattípust úgy specifikáljuk, hogy szerkezetére, reprezentálására, implementálására semmilyen megfontolást, előírást, utalást nem teszün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eírásban kizárólag matematikai fogalmak használhat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ADT szintű leírás lehet formális, és lehet informális 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. természetes magyar nyelven is elmondhatjuk, hogy mit várunk el egy veremtő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lényeg nem a formalizáltság mértéke, hanem az, hogy „nem látjuk” az adattípus belső struktúrájá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bsztrakt adattípus (ADT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apvetően két leírási mód terjedt 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ebrai specifikáció (axiómák megadásával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kcionális specifikáció (elő- és utófeltétellel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lgebrai specifikáció (axiómák megadásával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ffffff"/>
                </a:solidFill>
                <a:uFillTx/>
                <a:latin typeface="Arial"/>
              </a:rPr>
              <a:t>Példa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Az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alaptípus feletti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verem absztrakt adattípus (ADT) axiomatikus jellemzése három lépésben. A verem „lényege” az, hogy a legutoljára betett elemet lehet kivenni belő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ffffff"/>
                </a:solidFill>
                <a:uFillTx/>
                <a:latin typeface="Arial"/>
              </a:rPr>
              <a:t>1. Műveletek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(mint leképezése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Üres verem konstans; az üres verem „létrehozása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verem üres voltának lekérdez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lem betétele a verem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Pop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lem kivétele a verembő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Top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felső elem lekérdez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ffffff"/>
                </a:solidFill>
                <a:uFillTx/>
                <a:latin typeface="Arial"/>
              </a:rPr>
              <a:t>2. Megszorítások a műveletekr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(értelmezési tartományo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üres veremből nem lehet elemet kivenni, és a felső elemét sem lehet lekérdezn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DPop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\ {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DTop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\ {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lgebrai specifikáció (axiómák megadásával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Arial"/>
              </a:rPr>
              <a:t>3. Axiómá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ag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hu-HU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 </a:t>
            </a:r>
            <a:r>
              <a:rPr b="0" lang="hu-HU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mp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¬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Pop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) = 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Pop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) = 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Top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) = 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axiómákat úgy írjuk fel, hogy sorra vesszük az öt művelet (ill. egy konstans és négy művelet) összes lehetséges párosítását – mindkét sorrendben –, és ha van értelme az adott egymásra hatásnak, akkor azt kifejezzük egy logikai állításs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bsztrakt adatszerkezet (ADS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ADS szinten egy fontos döntést hozunk meg az ADT szintű specifikáció alapjá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gmondjuk azt, hogy alapvetően milyen struktúrája van a szóban forgó adattípusna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özelebbről ez azt jelenti, hogy megadjuk az adatelem közötti legfontosabb rákövetkezési kapcsolatot, és ezt egy irányított gráf formájában le is rajzolju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ADS szintet egy szerkezeti gráf és az ADT szinten bevezetett műveletek alkotják együttes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bsztrakt adatszerkezet (ADS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adatszerkezeteket osztályozhatjuk az általuk meghatározott gráf alakja szeri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ári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étirányú vagy szimmetrikus lineári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 (struktúrájú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ogonális (pl. mátri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öbbszörösen összefüggő = általános gráf alakú adatszerkez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eprezentációs szi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zen a szinten arról hozunk döntést, hogy az ADS-szinten megjelent gráf rákövetkezési relációit milyen módon ábrázolju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ábrázolás még mindig absztrakt, noha már a számítógépes megvalósítást modellez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ét tiszta reprezentálási mód van, illetve ezeket lehet vegyesen is alkalmazn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ritmetikai (tömbös) ábrázolá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áncolt (pointeres) ábrázolá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08:32:18Z</dcterms:created>
  <dc:creator>Nagymáté Péter</dc:creator>
  <dc:description/>
  <dc:language>en-US</dc:language>
  <cp:lastModifiedBy>Nagymáté Péter</cp:lastModifiedBy>
  <dcterms:modified xsi:type="dcterms:W3CDTF">2005-02-03T10:37:57Z</dcterms:modified>
  <cp:revision>14</cp:revision>
  <dc:subject/>
  <dc:title>Adatszerkezetek </dc:title>
</cp:coreProperties>
</file>