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1C1-2358-4FA7-AD16-32636457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FC6-3CCC-4B10-B7FF-AB1EFBD9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B56-66C1-4311-AD05-F9E21E18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D0B-533A-4FE6-866B-AD5C948F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02D-4F04-49E5-9B9E-78412D51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6DC-185D-4D67-A228-9E66022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B43-A638-4DEA-B9DF-0FD73C7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A9F-4BEE-4B17-854A-C1EED541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46E-9C5C-480A-AAAE-503A03A3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073-4FD1-4DB9-ABF5-3F0CD3C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AED-A7BD-412D-8534-1F9D213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F39-B97A-42C1-9A5C-A9F378C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5632-3B60-4D63-9847-11AE21833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X megvalós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osztály nem tartalmaz sem SAR, sem CS alréteg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Úgy lett definiálva, hogy az ATM réteg felől érkező kereteket mindenféle változtatás nélkül továbbítja a felsőbb rétegek felé és visz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réteg típust a konstans bit sebességű szolgáltatások használják (videó, hang átvitel, bérelt vonalas szolgáltatás, áramkör emuláció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zítési információk is továbbításra kerülnek az adó és vevő közö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AL1-es réteg az 53 byte-os ATM cella 48 byte hosszú információs mezejéből 1 byte-ot használ protokoll vezérlő információkra (PCI Protocol Control Inform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LL réte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réteget változó bit sebességű szolgáltatások használjá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zítési információk, mint az AAL1-nél is továbbításra kerülnek az adó és vevő közö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típust nem dolgozták ki teljesen, de mobil kommunikációs kutatások folynak az AAL2 típus kihasználásá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3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bben az esetben egy igen érdekes réteggel állunk szembe, mert két AAL típus összeolvadásából jött lé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két típust változó bit sebességű és időzítési információkat nem igénylő szolgáltatások használtá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ülönbség a kapcsolat alapú és kapcsolatmentesség között volt, de idővel mindkettő támogatta a másika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bben a típusban lehetőség van több magasabb szintű kapcsolat multiplexálására, úgy hogy az ATM rétegben azok csak egy kapcsolatnak tűnjene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a réteg az olyan adatátviteli rendszerek miatt alakult ki, melyeknél nem fontos, hogy az adat fix időzítés szerint haladjon a hálózaton, hanem sokkal fontosabb az adat biztonságos átvitele még újraadás árán 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réteg nem biztosít ilyen ellenőrzési lehetőséget, ezért ehhez AAL réteg szinten kell beépíteni ezeket funkció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AL5 ezt úgy oldja meg, hogy az ATM cella 48 byte-os információs mezejét teljes mértékben a felsőbb rétegektől kapott adatok átvitelére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thernet hálózatokon a többszörös hozzáférésű csatornán alkalmazott protokollok miatt, jelentős késleltetési idők lépnek fel, emiatt az átviteli távolsága igen korlátozot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hány száz méternyi távolságon túli átvitel már jelismétlést kív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métlők száma viszont korlátozott, mert a késleltetési idők jelentősebb növekedése már felborítja a rendszer működésé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on nagy távolságú összeköttetések hozhatók létre fix késleltetési feltételek betartásáv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i eszközökön futó LAN emuláció lehetővé teszi, hogy ATM hálózattal összekapcsolt végpontok MAC (Media Access Control) réteg szinten kapcsolatot teremthesse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pedig azt eredményezi, hogy LAN protokollokat használó programok (például a Novell Netware, Microsoft Windows, UNIX, LINUX) és protokollok (DECnet, TCP/IP) minden változtatás nélkül használhatók az ATM hálóza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757520"/>
            <a:ext cx="7883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N emulációs szolgáltató futhat akár egy ATM végponton, akár egy ATM kapcsol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lgáltató három fő részből á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AN emulációs szerver (LAN Emulation Server - LE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AN emuláció konfiguráló szerver (LAN Emulation Configuration Server - LECS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üzenetszóró szerver (Broadcast und Unknown Server - BU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N emulációban résztvevő végpontokat angolul LEC-nek nevezzük. (LAN Emulation Cli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CS felelős a kliensek indítási konfigurálásáért, információkat nyújt a létező virtuális LAN-okról, és hozzárendeli a klienseket a megfelelő szerverekhez. A LES ennek alapján engedélyezi a klienseknek a kapcsolat felépíté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nak nincs beépített mechanizmusa az Ethernet hálózatokon használatos üzenetszór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ért a 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mulációban az üzenetszórást meg kell valósítani, amit a BUS hivatott kiszolgálni, mégpedig úgy, hogy a hozzá beérkezett csomagot minden címzetthez point-to-multipoint kapcsolaton keresztül elkül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TM hálózatban a címek 20 byte hosszúak, míg a Ethernet-ben 6 byte-os MAC címek vanna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S feladata az ATM címek MAC címekhez való hozzárendelése és megtanulá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A Remote Procedure Call - távoli eljáráshívá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ávoli eljáráshívást (RPC) úgy fejlesztették ki, hogy az gép, operációs rendszer, hálózati struktúra és szállítási réteg független legy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ényege, hogy a rendszer egy vagy több szerverből és sok kliensből á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rver szolgáltatásait (mint például diszk területén tárolja a kliensek file-jait), míg a kliensek RPC kéréseken keresztül elérik azo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RPC kérésre a szerver egy nyugtával válaszol, ami már tartalmazza a kért információkat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RPC-t használja a felette elhelyezkedő NFS protok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hálóz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TM (Asyncronous Transfer Mode - aszinkron átviteli módú) hálózat alapszolgáltatása ATM cellák szállítása és kapcsolása (úgymint multiplexálás,átvitel és kapcsolá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z ATM hordozószolgálatot nevezik cell relay-nek, azaz cella továbbításna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lózatnak nem szükséges bármit is tudnia a két végpont között az ATM kapcsolaton futó applikációró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FS network file syst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egy olyan szolgáltatás, amely lehetővé teszi, hogy különböző architektúrákon működő eltérő operációs rendszerek hálózaton keresztül megosszák file rendszerük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egy általános file rendszer modellt használ, nem pedig egy architektúrához kötött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hálózati operációs rendszer ezt a modellt alkalmazza a saját file rendszeré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a távoli eljáráshívási protokollra épü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RPC-re támaszkodva az NFS a távoli gépeken levő állományokat is eléri, mégpedig úgy, mintha helyben dolgoznánk rajtu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t jelenti, hogy a távoli file-okon végzett műveletek (pl. az írás és olvasás) látszólag egy helyi file-on törté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bből következően több előnye is van az NFS alapú rendszerek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hetővé teszi, hogy több számítógép ugyanazon file-t használja, így a hálózaton azonos adatot tud mindenki elér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ámítógépek között megosztott file rendszer révén, csökkenti a tárterület igényeket, mert így az alkalmazások nem igényelnek helyi diszk terület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at konzisztenciát biztosít, mivel minden felhasználó ugyanazokat a fileokat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használó nem lát különbséget a helyi és távoli könyvtárak ill. file-ok közö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NFS rendszerben a felhasználó szemszögéből lényegtelen a file rendszer fizikai hely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ősőge nyílik arra, hogy a számára szükséges valamennyi file-t elérje, tekintet nélkül azok helyé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liens úgy éri el a szerver file rendszerét, hogy saját file rendszerébe kötetként beilleszti az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csinál belőle másolatot, hanem a mount processz RPC hívásokat használ a szerver file rendszeréhez való hozzáférésh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 kérés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137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NFS rendszernek kétféle verziója használatos az NFS Version 2 és az NFS Version 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FS Version 2 szállítási réteg szinten még UDP protokollt követel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TM LAN emuláció számára ez a tulajdonsága előnytelen, mert diszkrét csomagok haladnak a hálózaton és így a felépített ATM kapcsolat rossz esetben minden csomag után felbomli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NFS újabb verziója (NFS Version 3) már képes TCP protokoll használatára is, ahol folyamatos adatforgalom zajlik két végpont közöt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TM hálóz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TM-ben az információt csomagokra osztva fix méretű, cellának nevezett időrésekben viszik á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k a cellák 48 byte hosszú információmezőt és 5 byte fejrészt tartalmaznak, ahol az információs mező teljes egészében a felhasználó rendelkezésére áll, míg a fejrészt az ATM réteg használja, főként a cellák azonosításá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es cellák fejlécében levő címkék azonosítják az adott linken a kapcsolat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62864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35772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49228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206064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62864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508464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65300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78936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060640"/>
            <a:ext cx="194292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249228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924280"/>
            <a:ext cx="10098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924280"/>
            <a:ext cx="10098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2924280"/>
            <a:ext cx="100944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2924280"/>
            <a:ext cx="100944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357720"/>
            <a:ext cx="194292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508464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3789360"/>
            <a:ext cx="194472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izikai közeg felett az ATM két rétege, az ATM réteg és az AAL5 (ATM Adaptation Layer) réteg találhat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re épül a LAN Emuláció, mely felett működik - az OSI szabvány szerint pontosan behatárolhatóan – hálózati réteg szinten az Internet Protocol (IP), szállítási réteg szinten a User Datagram Protocol (UDP) és Transmission Control Protocol (TC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ávoli eljárás hívás protokoll (Remote Procedure Call - RPC) nem illeszkedik az OSI modell rétegeihez, hanem viszonyréteg és az alkalmazási réteg szinten helyezkedik 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etwork File System (NFS) az alkalmazási réteg szintjén foglal hely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TM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réteg feladata az adó oldalon az, hogy a felette elhelyezkedő AAL rétegtől kapott információs mezőt fejrésszel lássa 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Így jön létre az ATM 53 byte hosszú cellája. Ezen cellákat, melyek különböző kapcsolatokhoz tartoznak egy cella folyammá multiplexálja és továbbítja azokat a fizikai réteg fel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vő oldalon a fizikai rétegtől érkező cella folyamot szét választja kapcsolatonkénti cellákra és az ATM cella fejrészt eltávolít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sszaállított információt továbbítja az AAL réteg fel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réteg az ATM és a föntebbi rétegek között teremti meg a kapcsolat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sőbb rétegek PDU-jának (Physical Data Unit), fizikai adat egységének információs mezőjét hozzárendeli az ATM cellákho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AL funkciók támogatásának érdekében az adó oldali AAL processz kommunikál a vevő oldali AAL processz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AL réteg funkcióit két alréteg között osztották f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AR (Segmentation And Reassemb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 (Convergence Sublay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SAR feladata, hogy az adó oldalon a fentebbi rétegektől érkező adatokat darabolja bele az ATM cellák információs mezejébe, vevő oldalon pedig állítsa össze a fentebbi réteg eredeti adat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 szolgáltatás függő és feladata, hogy biztosítsa a fentebbi rétegek számára az AAL szolgáltatásokat az AAL-SAP-n (AAL Service Access Point), azaz a szolgáltatás hozzáférési pont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SAR és a CS között nincs definiált S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55736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ZTÁLY,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276640"/>
            <a:ext cx="201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ŐZ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43700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 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71628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I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997360"/>
            <a:ext cx="201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 SEBES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55736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155736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155736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155736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443700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3/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443700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3/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43700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43700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71628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997360"/>
            <a:ext cx="129708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and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716280"/>
            <a:ext cx="388944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 orientá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997360"/>
            <a:ext cx="38890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toz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276640"/>
            <a:ext cx="259236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üksé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2276640"/>
            <a:ext cx="259236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 szüksé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0:55:14Z</dcterms:created>
  <dc:creator>Nagymáté Péter</dc:creator>
  <dc:description/>
  <dc:language>en-US</dc:language>
  <cp:lastModifiedBy>Nagymáté Péter</cp:lastModifiedBy>
  <dcterms:modified xsi:type="dcterms:W3CDTF">2004-03-04T13:24:57Z</dcterms:modified>
  <cp:revision>23</cp:revision>
  <dc:subject/>
  <dc:title>Hálózatok</dc:title>
</cp:coreProperties>
</file>