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38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22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7.wmf" ContentType="image/x-wmf"/>
  <Override PartName="/ppt/media/image2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8.wmf" ContentType="image/x-wmf"/>
  <Override PartName="/ppt/media/image40.png" ContentType="image/png"/>
  <Override PartName="/ppt/media/image13.png" ContentType="image/pn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4680" y="74916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D0107-5706-495F-9030-594BE7E79F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43990-1A43-4673-9CE2-DBB910AF5A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743A3-0025-464C-8708-D271108687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846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E6939-44FA-4A47-9CF1-5424ACC070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PlaceHolder 1"/>
          <p:cNvSpPr>
            <a:spLocks noGrp="1"/>
          </p:cNvSpPr>
          <p:nvPr>
            <p:ph type="sldImg"/>
          </p:nvPr>
        </p:nvSpPr>
        <p:spPr>
          <a:xfrm>
            <a:off x="852480" y="731880"/>
            <a:ext cx="4986360" cy="3740040"/>
          </a:xfrm>
          <a:prstGeom prst="rect">
            <a:avLst/>
          </a:prstGeom>
          <a:ln w="0">
            <a:noFill/>
          </a:ln>
        </p:spPr>
      </p:sp>
      <p:sp>
        <p:nvSpPr>
          <p:cNvPr id="4852" name="PlaceHolder 2"/>
          <p:cNvSpPr>
            <a:spLocks noGrp="1"/>
          </p:cNvSpPr>
          <p:nvPr>
            <p:ph type="body"/>
          </p:nvPr>
        </p:nvSpPr>
        <p:spPr>
          <a:xfrm>
            <a:off x="880560" y="4716000"/>
            <a:ext cx="500076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6B487-9FDA-470C-9E2E-07F1D9D400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85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6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Fast Packet Forwar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m kell a csomagnak felmenni az OS-be a kártya maga eldönti hogy neki szól-e vagy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50 ATM kártya meghajtója a doboz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vel eddig nem volt közvetlen támogatás, minden kártyagyártónak teljes drivert kellett írni, mostantól elég a MINI-port drivert megí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orsulni fog az ATM felhasználása, csökkenni fognak a költség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1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6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TCP Window Size (16-64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z az érték határozza meg, hogy a küldő milyen adagokban továbbítja a cél felé az adat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thernet esetében, ahol a maximum segment Size 1460 byte a TCP Windows Size a 8*1460-as értéket veszi f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nél több csomaggal tudom egy adat átküldését megoldani annál több az overhead. Ha a buffer méretét növelhetem, csökkent az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Scaling Window- RFC 13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TCP Windows méretét növeli. Az eddig nem használt TCP Option mezőben jelzi az eltolás értékét (0-14 b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 ez az érték 3, akkor 65535*2^3=524280 lesz a Windows mérete. Ennyi adatot küldhet egy menet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Selective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 egy sorozatból a közepe nem érkezet meg, nem kell az egész sorozatot újra küldeni, csak a hiányzó csomagot. A vétel megy tová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Fast Retrans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3 egymás utáni pozitiv visszajelzés ugyanarról a csomagról, a küldő oldalon azt jelenti, hogy az adott sorszámú csomagot újra kell küldeni, mert nem érkezett meg. Nem kell a time out-ot megvá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64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ynamic update: W2K Pro magától, a többinél az új DHCP Server megteszi helyettü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DNS dinamikus frissítésre Dcpromonál mindenképpen szükség van, hiszen ekkor kerülnek be a GUID-ok a zóna fáj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9EAB2-B8C8-438B-9652-9FF8FED771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87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BB9E8-E4DB-437F-9765-9F5D8201B2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876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78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999. december 15-től megszűnik az U.S. Export kiviteli tilalma a strong crypto termékekre, tehát a 128 bites verziót lehet majd használni. A frissítéshez a Microsoft gyárt floppyk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unnel mód: érvényes IP címnek kell lennie: a belső gépek csak azért nem látszanak az Internetről, mert protokollokat szűrünk a tűzfa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8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nfiguráci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Operációs rendsz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2000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gabit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rtyá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ro/1000 PA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ámogatás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EtherExrp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Sec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orsító kártyá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Com EtheLink 10/100 PCI 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P Proces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2FA43-12F3-421A-B1F6-EA944BC913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8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5D1A5-508D-4219-9E5E-AC7E8F88C2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94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AC22D-0C5B-4889-A8D6-9BA2C2C0BA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90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E3A6F-219B-4AC7-AAB4-402C63C1C2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4830" name="PlaceHolder 2"/>
          <p:cNvSpPr>
            <a:spLocks noGrp="1"/>
          </p:cNvSpPr>
          <p:nvPr>
            <p:ph type="body"/>
          </p:nvPr>
        </p:nvSpPr>
        <p:spPr>
          <a:xfrm>
            <a:off x="898200" y="470340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9EB52-C358-4A75-8C25-0FAC5463F9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4836" name="PlaceHolder 2"/>
          <p:cNvSpPr>
            <a:spLocks noGrp="1"/>
          </p:cNvSpPr>
          <p:nvPr>
            <p:ph type="body"/>
          </p:nvPr>
        </p:nvSpPr>
        <p:spPr>
          <a:xfrm>
            <a:off x="898200" y="470340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image" Target="../media/image56.png"/><Relationship Id="rId24" Type="http://schemas.openxmlformats.org/officeDocument/2006/relationships/image" Target="../media/image57.png"/><Relationship Id="rId25" Type="http://schemas.openxmlformats.org/officeDocument/2006/relationships/image" Target="../media/image50.png"/><Relationship Id="rId26" Type="http://schemas.openxmlformats.org/officeDocument/2006/relationships/image" Target="../media/image51.png"/><Relationship Id="rId27" Type="http://schemas.openxmlformats.org/officeDocument/2006/relationships/image" Target="../media/image52.png"/><Relationship Id="rId28" Type="http://schemas.openxmlformats.org/officeDocument/2006/relationships/image" Target="../media/image53.png"/><Relationship Id="rId29" Type="http://schemas.openxmlformats.org/officeDocument/2006/relationships/image" Target="../media/image54.png"/><Relationship Id="rId30" Type="http://schemas.openxmlformats.org/officeDocument/2006/relationships/image" Target="../media/image55.png"/><Relationship Id="rId31" Type="http://schemas.openxmlformats.org/officeDocument/2006/relationships/image" Target="../media/image56.png"/><Relationship Id="rId32" Type="http://schemas.openxmlformats.org/officeDocument/2006/relationships/image" Target="../media/image57.png"/><Relationship Id="rId33" Type="http://schemas.openxmlformats.org/officeDocument/2006/relationships/image" Target="../media/image58.png"/><Relationship Id="rId34" Type="http://schemas.openxmlformats.org/officeDocument/2006/relationships/image" Target="../media/image59.png"/><Relationship Id="rId35" Type="http://schemas.openxmlformats.org/officeDocument/2006/relationships/image" Target="../media/image60.png"/><Relationship Id="rId36" Type="http://schemas.openxmlformats.org/officeDocument/2006/relationships/image" Target="../media/image61.png"/><Relationship Id="rId37" Type="http://schemas.openxmlformats.org/officeDocument/2006/relationships/image" Target="../media/image62.png"/><Relationship Id="rId38" Type="http://schemas.openxmlformats.org/officeDocument/2006/relationships/image" Target="../media/image63.png"/><Relationship Id="rId39" Type="http://schemas.openxmlformats.org/officeDocument/2006/relationships/image" Target="../media/image64.png"/><Relationship Id="rId40" Type="http://schemas.openxmlformats.org/officeDocument/2006/relationships/image" Target="../media/image65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58.png"/><Relationship Id="rId50" Type="http://schemas.openxmlformats.org/officeDocument/2006/relationships/image" Target="../media/image59.png"/><Relationship Id="rId51" Type="http://schemas.openxmlformats.org/officeDocument/2006/relationships/image" Target="../media/image60.png"/><Relationship Id="rId52" Type="http://schemas.openxmlformats.org/officeDocument/2006/relationships/image" Target="../media/image61.png"/><Relationship Id="rId53" Type="http://schemas.openxmlformats.org/officeDocument/2006/relationships/image" Target="../media/image62.png"/><Relationship Id="rId54" Type="http://schemas.openxmlformats.org/officeDocument/2006/relationships/image" Target="../media/image63.png"/><Relationship Id="rId55" Type="http://schemas.openxmlformats.org/officeDocument/2006/relationships/image" Target="../media/image64.png"/><Relationship Id="rId56" Type="http://schemas.openxmlformats.org/officeDocument/2006/relationships/image" Target="../media/image65.png"/><Relationship Id="rId5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wmf"/><Relationship Id="rId3" Type="http://schemas.openxmlformats.org/officeDocument/2006/relationships/image" Target="../media/image68.wmf"/><Relationship Id="rId4" Type="http://schemas.openxmlformats.org/officeDocument/2006/relationships/image" Target="../media/image66.png"/><Relationship Id="rId5" Type="http://schemas.openxmlformats.org/officeDocument/2006/relationships/image" Target="../media/image67.wmf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wmf"/><Relationship Id="rId3" Type="http://schemas.openxmlformats.org/officeDocument/2006/relationships/image" Target="../media/image68.wmf"/><Relationship Id="rId4" Type="http://schemas.openxmlformats.org/officeDocument/2006/relationships/image" Target="../media/image68.wmf"/><Relationship Id="rId5" Type="http://schemas.openxmlformats.org/officeDocument/2006/relationships/image" Target="../media/image68.wmf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wmf"/><Relationship Id="rId3" Type="http://schemas.openxmlformats.org/officeDocument/2006/relationships/image" Target="../media/image68.wmf"/><Relationship Id="rId4" Type="http://schemas.openxmlformats.org/officeDocument/2006/relationships/image" Target="../media/image67.wmf"/><Relationship Id="rId5" Type="http://schemas.openxmlformats.org/officeDocument/2006/relationships/image" Target="../media/image66.png"/><Relationship Id="rId6" Type="http://schemas.openxmlformats.org/officeDocument/2006/relationships/image" Target="../media/image68.wmf"/><Relationship Id="rId7" Type="http://schemas.openxmlformats.org/officeDocument/2006/relationships/image" Target="../media/image68.wmf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image" Target="../media/image67.wmf"/><Relationship Id="rId11" Type="http://schemas.openxmlformats.org/officeDocument/2006/relationships/image" Target="../media/image66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68.wmf"/><Relationship Id="rId5" Type="http://schemas.openxmlformats.org/officeDocument/2006/relationships/image" Target="../media/image67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458200" cy="3386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Windows 2000 telepítés és üzembe helyezés</a:t>
            </a:r>
            <a:br>
              <a:rPr sz="4800"/>
            </a:br>
            <a:br>
              <a:rPr sz="4800"/>
            </a:b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Windows 2000 hálózatkezel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763120" cy="4639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ysprep paraméterek (a célrendszerre vonatkozna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12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Courier New"/>
              </a:rPr>
              <a:t>/quiet,/reboot,/nosid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rogram futtatása a Mini-Setup utá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[GuiRunOnce] szekció a Sysprep.inf –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unOnce kul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image több Sysprep.inf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loppy lemezen a testreszabott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ysprep.in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ysprep részle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248520" y="5257800"/>
            <a:ext cx="2530440" cy="1295280"/>
            <a:chOff x="6248520" y="5257800"/>
            <a:chExt cx="2530440" cy="1295280"/>
          </a:xfrm>
        </p:grpSpPr>
        <p:grpSp>
          <p:nvGrpSpPr>
            <p:cNvPr id="84" name=""/>
            <p:cNvGrpSpPr/>
            <p:nvPr/>
          </p:nvGrpSpPr>
          <p:grpSpPr>
            <a:xfrm>
              <a:off x="7696080" y="5257800"/>
              <a:ext cx="549360" cy="533520"/>
              <a:chOff x="7696080" y="5257800"/>
              <a:chExt cx="549360" cy="533520"/>
            </a:xfrm>
          </p:grpSpPr>
          <p:sp>
            <p:nvSpPr>
              <p:cNvPr id="85" name=""/>
              <p:cNvSpPr/>
              <p:nvPr/>
            </p:nvSpPr>
            <p:spPr>
              <a:xfrm>
                <a:off x="7780680" y="5257800"/>
                <a:ext cx="464760" cy="5335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96080" y="5365800"/>
                <a:ext cx="184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6248520" y="5791320"/>
              <a:ext cx="838080" cy="609480"/>
            </a:xfrm>
            <a:prstGeom prst="flowChartMagneticDisk">
              <a:avLst/>
            </a:prstGeom>
            <a:solidFill>
              <a:srgbClr val="5686dc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8001000" y="5638680"/>
              <a:ext cx="549360" cy="533520"/>
              <a:chOff x="8001000" y="5638680"/>
              <a:chExt cx="549360" cy="533520"/>
            </a:xfrm>
          </p:grpSpPr>
          <p:sp>
            <p:nvSpPr>
              <p:cNvPr id="89" name=""/>
              <p:cNvSpPr/>
              <p:nvPr/>
            </p:nvSpPr>
            <p:spPr>
              <a:xfrm>
                <a:off x="8085600" y="5638680"/>
                <a:ext cx="464760" cy="5335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001000" y="5746680"/>
                <a:ext cx="184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229600" y="6019920"/>
              <a:ext cx="549360" cy="533160"/>
              <a:chOff x="8229600" y="6019920"/>
              <a:chExt cx="549360" cy="533160"/>
            </a:xfrm>
          </p:grpSpPr>
          <p:sp>
            <p:nvSpPr>
              <p:cNvPr id="92" name=""/>
              <p:cNvSpPr/>
              <p:nvPr/>
            </p:nvSpPr>
            <p:spPr>
              <a:xfrm>
                <a:off x="8314200" y="6019920"/>
                <a:ext cx="464760" cy="533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229600" y="6127920"/>
                <a:ext cx="184680" cy="3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flipV="1">
              <a:off x="7086600" y="5638680"/>
              <a:ext cx="609480" cy="4572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86600" y="6019560"/>
              <a:ext cx="990720" cy="759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86600" y="6095880"/>
              <a:ext cx="1219320" cy="228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Frissítés kérdés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1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rissítés Windows 9x-ről támogato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mörített kötetek, külső gyártók hálózati komponensei, Win 9x specifikus rendszereszközök NEM frissül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gnagyobb gond az alkalmazás kompatibili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grációs DLL-ek szükségesek, melyet az adott szoftvergyártó készí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sc" descr=""/>
          <p:cNvPicPr/>
          <p:nvPr/>
        </p:nvPicPr>
        <p:blipFill>
          <a:blip r:embed="rId2"/>
          <a:stretch/>
        </p:blipFill>
        <p:spPr>
          <a:xfrm>
            <a:off x="2057400" y="5105520"/>
            <a:ext cx="6246720" cy="139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Frissítés kérdés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1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rissítés Windows NT 4-r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legegyszerűbb frissítés a közös Registry és alkalmazás kompatibilitás mia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rissítés alapja Windows NT 4+SP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kerülnek frissítés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írus ellenőrző program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ülső gyártók hálózati komponense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EM gyártok Power Management megoldás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mpatibilitási ri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nt32 /checkupgradeonly (manuál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riport megtalálható:  %windir%\winnt32.lo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Windows NT 4 frissítése SMS-el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38880" y="4995720"/>
            <a:ext cx="1225800" cy="1176480"/>
            <a:chOff x="7238880" y="4995720"/>
            <a:chExt cx="1225800" cy="1176480"/>
          </a:xfrm>
        </p:grpSpPr>
        <p:sp>
          <p:nvSpPr>
            <p:cNvPr id="104" name=""/>
            <p:cNvSpPr/>
            <p:nvPr/>
          </p:nvSpPr>
          <p:spPr>
            <a:xfrm>
              <a:off x="7238880" y="4995720"/>
              <a:ext cx="1225800" cy="1176480"/>
            </a:xfrm>
            <a:prstGeom prst="rect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462800" y="5225760"/>
              <a:ext cx="798480" cy="7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5684760" y="6140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4290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Disztribúciós  pontok felállítá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3429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fizikai telepíté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905120"/>
            <a:ext cx="83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Bevezetés   </a:t>
            </a:r>
            <a:r>
              <a:rPr b="1" lang="hu-HU" sz="3200" spc="-1" strike="noStrike">
                <a:solidFill>
                  <a:srgbClr val="00cc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38080" y="5005440"/>
            <a:ext cx="1241640" cy="1166760"/>
            <a:chOff x="838080" y="5005440"/>
            <a:chExt cx="1241640" cy="1166760"/>
          </a:xfrm>
        </p:grpSpPr>
        <p:sp>
          <p:nvSpPr>
            <p:cNvPr id="111" name=""/>
            <p:cNvSpPr/>
            <p:nvPr/>
          </p:nvSpPr>
          <p:spPr>
            <a:xfrm>
              <a:off x="838080" y="5005440"/>
              <a:ext cx="1241640" cy="116676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1157400" y="5359320"/>
              <a:ext cx="653760" cy="45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20600" y="26622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Disztribúció  </a:t>
            </a:r>
            <a:r>
              <a:rPr b="1" lang="hu-HU" sz="3200" spc="-1" strike="noStrike">
                <a:solidFill>
                  <a:srgbClr val="00cc99"/>
                </a:solidFill>
                <a:latin typeface="Arial"/>
              </a:rPr>
              <a:t>+  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 Célválasztás  </a:t>
            </a:r>
            <a:r>
              <a:rPr b="1" lang="hu-HU" sz="3200" spc="-1" strike="noStrike">
                <a:solidFill>
                  <a:srgbClr val="00cc99"/>
                </a:solidFill>
                <a:latin typeface="Arial"/>
              </a:rPr>
              <a:t> +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   Telep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42900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csomag „célközönségének” meghatározá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114800" y="5005440"/>
            <a:ext cx="1241280" cy="1166760"/>
            <a:chOff x="4114800" y="5005440"/>
            <a:chExt cx="1241280" cy="1166760"/>
          </a:xfrm>
        </p:grpSpPr>
        <p:sp>
          <p:nvSpPr>
            <p:cNvPr id="116" name=""/>
            <p:cNvSpPr/>
            <p:nvPr/>
          </p:nvSpPr>
          <p:spPr>
            <a:xfrm>
              <a:off x="4114800" y="5005440"/>
              <a:ext cx="1241280" cy="116676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51240" y="5127840"/>
              <a:ext cx="968400" cy="893520"/>
            </a:xfrm>
            <a:custGeom>
              <a:avLst/>
              <a:gdLst>
                <a:gd name="textAreaLeft" fmla="*/ 241920 w 968400"/>
                <a:gd name="textAreaRight" fmla="*/ 726480 w 968400"/>
                <a:gd name="textAreaTop" fmla="*/ 223200 h 893520"/>
                <a:gd name="textAreaBottom" fmla="*/ 670320 h 89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162539"/>
                </a:gs>
                <a:gs pos="100000">
                  <a:srgbClr val="30517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182880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dokumentumok kez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82880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fline Folders (CSC), Synchronization Manager,Disk Quo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04812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oftver telep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04812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indow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taller, Application Deployment Editor, D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26708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beállítások kez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26708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fline Folders (CSC), Roaming User Pro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228240" y="1828800"/>
            <a:ext cx="6858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telliMirr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486400"/>
            <a:ext cx="35053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ávoli operációs rendszer telep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548640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Remote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tall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ver, (NetPC/PC9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295280"/>
            <a:ext cx="35053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3300"/>
                </a:solidFill>
                <a:latin typeface="Arial"/>
              </a:rPr>
              <a:t>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295280"/>
            <a:ext cx="51055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Technoló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64480" cy="64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Menedzsment </a:t>
            </a:r>
            <a:r>
              <a:rPr b="1" lang="hu-HU" sz="4000" spc="-1" strike="noStrike">
                <a:solidFill>
                  <a:srgbClr val="eea564"/>
                </a:solidFill>
                <a:latin typeface="Arial"/>
              </a:rPr>
              <a:t>eszközök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Távoli operációs rendszer telepítés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361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ükséges komponens a Remote Installation Services (R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ügyfelek oldaláról ez egy disztribúciós pontnak látszi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kínált telepítő készletek a távoli bootra képes ügyfeleken megjelen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553080" y="4267080"/>
            <a:ext cx="1123200" cy="1162080"/>
            <a:chOff x="6553080" y="4267080"/>
            <a:chExt cx="1123200" cy="1162080"/>
          </a:xfrm>
        </p:grpSpPr>
        <p:grpSp>
          <p:nvGrpSpPr>
            <p:cNvPr id="133" name=""/>
            <p:cNvGrpSpPr/>
            <p:nvPr/>
          </p:nvGrpSpPr>
          <p:grpSpPr>
            <a:xfrm>
              <a:off x="6553080" y="4878720"/>
              <a:ext cx="1086480" cy="550440"/>
              <a:chOff x="6553080" y="4878720"/>
              <a:chExt cx="1086480" cy="550440"/>
            </a:xfrm>
          </p:grpSpPr>
          <p:sp>
            <p:nvSpPr>
              <p:cNvPr id="134" name=""/>
              <p:cNvSpPr/>
              <p:nvPr/>
            </p:nvSpPr>
            <p:spPr>
              <a:xfrm>
                <a:off x="7263720" y="5021640"/>
                <a:ext cx="374400" cy="40716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53080" y="4878720"/>
                <a:ext cx="1086480" cy="35244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53080" y="5052600"/>
                <a:ext cx="710640" cy="37656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24600" y="5185800"/>
                <a:ext cx="279000" cy="18324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30360" y="5253840"/>
                <a:ext cx="268920" cy="6516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24600" y="5184720"/>
                <a:ext cx="277560" cy="11232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48720" y="5222160"/>
                <a:ext cx="217800" cy="5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34120" y="5326200"/>
                <a:ext cx="40680" cy="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7120" y="5235480"/>
                <a:ext cx="66600" cy="331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760" bIns="5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71800" y="5092560"/>
                <a:ext cx="287280" cy="75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71800" y="5121720"/>
                <a:ext cx="28728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71800" y="5152320"/>
                <a:ext cx="28728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71800" y="5181840"/>
                <a:ext cx="28728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27480" y="5265000"/>
                <a:ext cx="281880" cy="11196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659640" y="4267080"/>
              <a:ext cx="1016640" cy="897120"/>
              <a:chOff x="6659640" y="4267080"/>
              <a:chExt cx="1016640" cy="897120"/>
            </a:xfrm>
          </p:grpSpPr>
          <p:sp>
            <p:nvSpPr>
              <p:cNvPr id="149" name=""/>
              <p:cNvSpPr/>
              <p:nvPr/>
            </p:nvSpPr>
            <p:spPr>
              <a:xfrm>
                <a:off x="6736320" y="4850640"/>
                <a:ext cx="791640" cy="3135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46400" y="4857120"/>
                <a:ext cx="766080" cy="27756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937200" y="4925520"/>
                <a:ext cx="398520" cy="149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19040" y="4930560"/>
                <a:ext cx="643680" cy="16812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73120" y="4267080"/>
                <a:ext cx="803160" cy="6944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74600" y="4420440"/>
                <a:ext cx="160560" cy="6757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59640" y="4274640"/>
                <a:ext cx="875880" cy="229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59640" y="4343040"/>
                <a:ext cx="714960" cy="75600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15080" y="4409640"/>
                <a:ext cx="605160" cy="6199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52160" y="4451040"/>
                <a:ext cx="529560" cy="5342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98960" y="4495320"/>
                <a:ext cx="0" cy="8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69880" y="4417920"/>
            <a:ext cx="1181880" cy="1911240"/>
            <a:chOff x="569880" y="4417920"/>
            <a:chExt cx="1181880" cy="1911240"/>
          </a:xfrm>
        </p:grpSpPr>
        <p:sp>
          <p:nvSpPr>
            <p:cNvPr id="161" name=""/>
            <p:cNvSpPr/>
            <p:nvPr/>
          </p:nvSpPr>
          <p:spPr>
            <a:xfrm>
              <a:off x="592560" y="5840280"/>
              <a:ext cx="1140840" cy="48888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69880" y="4417920"/>
              <a:ext cx="1181880" cy="1863360"/>
              <a:chOff x="569880" y="4417920"/>
              <a:chExt cx="1181880" cy="1863360"/>
            </a:xfrm>
          </p:grpSpPr>
          <p:sp>
            <p:nvSpPr>
              <p:cNvPr id="163" name=""/>
              <p:cNvSpPr/>
              <p:nvPr/>
            </p:nvSpPr>
            <p:spPr>
              <a:xfrm>
                <a:off x="573480" y="4417920"/>
                <a:ext cx="1176480" cy="40968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87200" y="4531320"/>
                <a:ext cx="664560" cy="17499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9880" y="4697280"/>
                <a:ext cx="524880" cy="15742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320" y="6022800"/>
                <a:ext cx="362160" cy="9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0000" y="4775040"/>
                <a:ext cx="57960" cy="31680"/>
              </a:xfrm>
              <a:prstGeom prst="ellipse">
                <a:avLst/>
              </a:prstGeom>
              <a:solidFill>
                <a:srgbClr val="d6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320" y="5951160"/>
                <a:ext cx="362160" cy="9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320" y="5879160"/>
                <a:ext cx="362160" cy="9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3320" y="5809320"/>
                <a:ext cx="362160" cy="9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320" y="5735880"/>
                <a:ext cx="362160" cy="9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9080" y="5048640"/>
                <a:ext cx="358920" cy="6699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1280" y="4916160"/>
                <a:ext cx="411480" cy="116676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7200" y="4959720"/>
                <a:ext cx="366480" cy="6645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9360" y="5112720"/>
                <a:ext cx="35280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9360" y="5254560"/>
                <a:ext cx="35676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9360" y="5430240"/>
                <a:ext cx="33984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5200" y="5042880"/>
                <a:ext cx="139320" cy="752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0480" y="5054040"/>
                <a:ext cx="260280" cy="56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3840" y="5312880"/>
                <a:ext cx="315360" cy="1414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3840" y="5488200"/>
                <a:ext cx="315360" cy="1566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8440" y="5154120"/>
                <a:ext cx="321120" cy="1450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888840" y="5242680"/>
                <a:ext cx="619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888840" y="5397840"/>
                <a:ext cx="619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888840" y="5584680"/>
                <a:ext cx="6192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 flipH="1">
            <a:off x="7602120" y="4582800"/>
            <a:ext cx="109512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ügyfé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89160" y="4295160"/>
            <a:ext cx="112716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36560" y="5091120"/>
            <a:ext cx="787680" cy="59688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90720" y="5307120"/>
            <a:ext cx="787320" cy="59688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19320" y="5433840"/>
            <a:ext cx="787320" cy="59724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203560" y="4908600"/>
            <a:ext cx="629640" cy="509040"/>
            <a:chOff x="2203560" y="4908600"/>
            <a:chExt cx="629640" cy="509040"/>
          </a:xfrm>
        </p:grpSpPr>
        <p:sp>
          <p:nvSpPr>
            <p:cNvPr id="192" name=""/>
            <p:cNvSpPr/>
            <p:nvPr/>
          </p:nvSpPr>
          <p:spPr>
            <a:xfrm>
              <a:off x="2513880" y="5140440"/>
              <a:ext cx="107640" cy="18828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2" y="0"/>
                  </a:moveTo>
                  <a:lnTo>
                    <a:pt x="52" y="77"/>
                  </a:lnTo>
                  <a:lnTo>
                    <a:pt x="43" y="78"/>
                  </a:lnTo>
                  <a:lnTo>
                    <a:pt x="34" y="80"/>
                  </a:lnTo>
                  <a:lnTo>
                    <a:pt x="23" y="84"/>
                  </a:lnTo>
                  <a:lnTo>
                    <a:pt x="14" y="87"/>
                  </a:lnTo>
                  <a:lnTo>
                    <a:pt x="8" y="90"/>
                  </a:lnTo>
                  <a:lnTo>
                    <a:pt x="0" y="94"/>
                  </a:lnTo>
                  <a:lnTo>
                    <a:pt x="0" y="17"/>
                  </a:lnTo>
                  <a:lnTo>
                    <a:pt x="8" y="12"/>
                  </a:lnTo>
                  <a:lnTo>
                    <a:pt x="19" y="9"/>
                  </a:lnTo>
                  <a:lnTo>
                    <a:pt x="27" y="6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13880" y="4969440"/>
              <a:ext cx="107640" cy="16668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2" y="0"/>
                  </a:moveTo>
                  <a:lnTo>
                    <a:pt x="52" y="68"/>
                  </a:lnTo>
                  <a:lnTo>
                    <a:pt x="43" y="69"/>
                  </a:lnTo>
                  <a:lnTo>
                    <a:pt x="34" y="71"/>
                  </a:lnTo>
                  <a:lnTo>
                    <a:pt x="23" y="74"/>
                  </a:lnTo>
                  <a:lnTo>
                    <a:pt x="14" y="77"/>
                  </a:lnTo>
                  <a:lnTo>
                    <a:pt x="8" y="79"/>
                  </a:lnTo>
                  <a:lnTo>
                    <a:pt x="0" y="83"/>
                  </a:lnTo>
                  <a:lnTo>
                    <a:pt x="0" y="15"/>
                  </a:lnTo>
                  <a:lnTo>
                    <a:pt x="8" y="11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957920"/>
              <a:ext cx="34200" cy="316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6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7520" y="5021280"/>
              <a:ext cx="25920" cy="33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0"/>
                  </a:moveTo>
                  <a:lnTo>
                    <a:pt x="12" y="1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07520" y="5088600"/>
              <a:ext cx="25920" cy="277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2" y="9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03560" y="5146200"/>
              <a:ext cx="21960" cy="334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07520" y="5217840"/>
              <a:ext cx="25920" cy="313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2" y="0"/>
                  </a:moveTo>
                  <a:lnTo>
                    <a:pt x="12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07520" y="5283000"/>
              <a:ext cx="25920" cy="295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3560" y="5342760"/>
              <a:ext cx="34200" cy="37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52160" y="4967640"/>
              <a:ext cx="52200" cy="475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5" y="0"/>
                  </a:moveTo>
                  <a:lnTo>
                    <a:pt x="25" y="14"/>
                  </a:lnTo>
                  <a:lnTo>
                    <a:pt x="0" y="23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60080" y="5039280"/>
              <a:ext cx="40320" cy="374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60080" y="5102640"/>
              <a:ext cx="40320" cy="374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52160" y="5162040"/>
              <a:ext cx="40320" cy="374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60080" y="5231520"/>
              <a:ext cx="40320" cy="37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60080" y="5294880"/>
              <a:ext cx="40320" cy="39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52160" y="5356080"/>
              <a:ext cx="52200" cy="45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0"/>
                  </a:moveTo>
                  <a:lnTo>
                    <a:pt x="25" y="14"/>
                  </a:lnTo>
                  <a:lnTo>
                    <a:pt x="0" y="22"/>
                  </a:lnTo>
                  <a:lnTo>
                    <a:pt x="0" y="8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4800" y="4967640"/>
              <a:ext cx="56880" cy="590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7" y="0"/>
                  </a:moveTo>
                  <a:lnTo>
                    <a:pt x="27" y="19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21280" y="5035320"/>
              <a:ext cx="44640" cy="493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21280" y="5098680"/>
              <a:ext cx="44640" cy="493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14800" y="5162040"/>
              <a:ext cx="38520" cy="4932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0"/>
                  </a:moveTo>
                  <a:lnTo>
                    <a:pt x="18" y="16"/>
                  </a:lnTo>
                  <a:lnTo>
                    <a:pt x="0" y="24"/>
                  </a:lnTo>
                  <a:lnTo>
                    <a:pt x="0" y="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21280" y="5229360"/>
              <a:ext cx="44640" cy="532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21280" y="5290920"/>
              <a:ext cx="44640" cy="532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14800" y="5354280"/>
              <a:ext cx="56880" cy="55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0"/>
                  </a:moveTo>
                  <a:lnTo>
                    <a:pt x="27" y="17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76000" y="4961880"/>
              <a:ext cx="62640" cy="691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0" y="0"/>
                  </a:moveTo>
                  <a:lnTo>
                    <a:pt x="30" y="23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83920" y="5033520"/>
              <a:ext cx="52920" cy="590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83920" y="5092560"/>
              <a:ext cx="52920" cy="633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5" y="0"/>
                  </a:moveTo>
                  <a:lnTo>
                    <a:pt x="25" y="21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76000" y="5154480"/>
              <a:ext cx="62640" cy="730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0"/>
                  </a:moveTo>
                  <a:lnTo>
                    <a:pt x="30" y="24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3920" y="5225400"/>
              <a:ext cx="52920" cy="597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3920" y="5288760"/>
              <a:ext cx="52920" cy="597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76000" y="5346360"/>
              <a:ext cx="62640" cy="712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0"/>
                  </a:moveTo>
                  <a:lnTo>
                    <a:pt x="30" y="24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45120" y="4936320"/>
              <a:ext cx="62640" cy="9288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30" y="0"/>
                  </a:moveTo>
                  <a:lnTo>
                    <a:pt x="30" y="33"/>
                  </a:lnTo>
                  <a:lnTo>
                    <a:pt x="0" y="46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45120" y="5009400"/>
              <a:ext cx="62640" cy="7488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45120" y="5073120"/>
              <a:ext cx="62640" cy="7488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45120" y="5133960"/>
              <a:ext cx="62640" cy="8352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0" y="0"/>
                  </a:moveTo>
                  <a:lnTo>
                    <a:pt x="30" y="28"/>
                  </a:lnTo>
                  <a:lnTo>
                    <a:pt x="0" y="41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45120" y="5198040"/>
              <a:ext cx="62640" cy="806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0" y="0"/>
                  </a:moveTo>
                  <a:lnTo>
                    <a:pt x="30" y="28"/>
                  </a:lnTo>
                  <a:lnTo>
                    <a:pt x="0" y="40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45120" y="5267160"/>
              <a:ext cx="62640" cy="770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0" y="0"/>
                  </a:moveTo>
                  <a:lnTo>
                    <a:pt x="30" y="26"/>
                  </a:lnTo>
                  <a:lnTo>
                    <a:pt x="0" y="38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45120" y="5330520"/>
              <a:ext cx="62640" cy="7884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30" y="0"/>
                  </a:moveTo>
                  <a:lnTo>
                    <a:pt x="30" y="27"/>
                  </a:lnTo>
                  <a:lnTo>
                    <a:pt x="28" y="28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3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13880" y="4908600"/>
              <a:ext cx="319320" cy="483480"/>
            </a:xfrm>
            <a:custGeom>
              <a:avLst/>
              <a:gdLst/>
              <a:ahLst/>
              <a:rect l="l" t="t" r="r" b="b"/>
              <a:pathLst>
                <a:path w="157" h="244">
                  <a:moveTo>
                    <a:pt x="156" y="19"/>
                  </a:moveTo>
                  <a:lnTo>
                    <a:pt x="156" y="243"/>
                  </a:lnTo>
                  <a:lnTo>
                    <a:pt x="154" y="242"/>
                  </a:lnTo>
                  <a:lnTo>
                    <a:pt x="152" y="241"/>
                  </a:lnTo>
                  <a:lnTo>
                    <a:pt x="150" y="240"/>
                  </a:lnTo>
                  <a:lnTo>
                    <a:pt x="148" y="238"/>
                  </a:lnTo>
                  <a:lnTo>
                    <a:pt x="146" y="238"/>
                  </a:lnTo>
                  <a:lnTo>
                    <a:pt x="144" y="237"/>
                  </a:lnTo>
                  <a:lnTo>
                    <a:pt x="142" y="236"/>
                  </a:lnTo>
                  <a:lnTo>
                    <a:pt x="140" y="235"/>
                  </a:lnTo>
                  <a:lnTo>
                    <a:pt x="138" y="234"/>
                  </a:lnTo>
                  <a:lnTo>
                    <a:pt x="136" y="233"/>
                  </a:lnTo>
                  <a:lnTo>
                    <a:pt x="134" y="232"/>
                  </a:lnTo>
                  <a:lnTo>
                    <a:pt x="132" y="232"/>
                  </a:lnTo>
                  <a:lnTo>
                    <a:pt x="129" y="231"/>
                  </a:lnTo>
                  <a:lnTo>
                    <a:pt x="127" y="230"/>
                  </a:lnTo>
                  <a:lnTo>
                    <a:pt x="125" y="230"/>
                  </a:lnTo>
                  <a:lnTo>
                    <a:pt x="123" y="229"/>
                  </a:lnTo>
                  <a:lnTo>
                    <a:pt x="120" y="229"/>
                  </a:lnTo>
                  <a:lnTo>
                    <a:pt x="118" y="228"/>
                  </a:lnTo>
                  <a:lnTo>
                    <a:pt x="116" y="227"/>
                  </a:lnTo>
                  <a:lnTo>
                    <a:pt x="113" y="227"/>
                  </a:lnTo>
                  <a:lnTo>
                    <a:pt x="111" y="227"/>
                  </a:lnTo>
                  <a:lnTo>
                    <a:pt x="108" y="226"/>
                  </a:lnTo>
                  <a:lnTo>
                    <a:pt x="106" y="226"/>
                  </a:lnTo>
                  <a:lnTo>
                    <a:pt x="103" y="226"/>
                  </a:lnTo>
                  <a:lnTo>
                    <a:pt x="101" y="225"/>
                  </a:lnTo>
                  <a:lnTo>
                    <a:pt x="98" y="225"/>
                  </a:lnTo>
                  <a:lnTo>
                    <a:pt x="96" y="225"/>
                  </a:lnTo>
                  <a:lnTo>
                    <a:pt x="93" y="225"/>
                  </a:lnTo>
                  <a:lnTo>
                    <a:pt x="90" y="225"/>
                  </a:lnTo>
                  <a:lnTo>
                    <a:pt x="88" y="225"/>
                  </a:lnTo>
                  <a:lnTo>
                    <a:pt x="85" y="224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4"/>
                  </a:lnTo>
                  <a:lnTo>
                    <a:pt x="75" y="225"/>
                  </a:lnTo>
                  <a:lnTo>
                    <a:pt x="73" y="225"/>
                  </a:lnTo>
                  <a:lnTo>
                    <a:pt x="70" y="225"/>
                  </a:lnTo>
                  <a:lnTo>
                    <a:pt x="68" y="225"/>
                  </a:lnTo>
                  <a:lnTo>
                    <a:pt x="66" y="225"/>
                  </a:lnTo>
                  <a:lnTo>
                    <a:pt x="63" y="225"/>
                  </a:lnTo>
                  <a:lnTo>
                    <a:pt x="61" y="226"/>
                  </a:lnTo>
                  <a:lnTo>
                    <a:pt x="58" y="226"/>
                  </a:lnTo>
                  <a:lnTo>
                    <a:pt x="56" y="226"/>
                  </a:lnTo>
                  <a:lnTo>
                    <a:pt x="53" y="226"/>
                  </a:lnTo>
                  <a:lnTo>
                    <a:pt x="51" y="227"/>
                  </a:lnTo>
                  <a:lnTo>
                    <a:pt x="48" y="227"/>
                  </a:lnTo>
                  <a:lnTo>
                    <a:pt x="46" y="227"/>
                  </a:lnTo>
                  <a:lnTo>
                    <a:pt x="43" y="228"/>
                  </a:lnTo>
                  <a:lnTo>
                    <a:pt x="41" y="228"/>
                  </a:lnTo>
                  <a:lnTo>
                    <a:pt x="38" y="229"/>
                  </a:lnTo>
                  <a:lnTo>
                    <a:pt x="35" y="229"/>
                  </a:lnTo>
                  <a:lnTo>
                    <a:pt x="33" y="229"/>
                  </a:lnTo>
                  <a:lnTo>
                    <a:pt x="30" y="230"/>
                  </a:lnTo>
                  <a:lnTo>
                    <a:pt x="27" y="230"/>
                  </a:lnTo>
                  <a:lnTo>
                    <a:pt x="25" y="231"/>
                  </a:lnTo>
                  <a:lnTo>
                    <a:pt x="22" y="232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4" y="234"/>
                  </a:lnTo>
                  <a:lnTo>
                    <a:pt x="11" y="234"/>
                  </a:lnTo>
                  <a:lnTo>
                    <a:pt x="8" y="235"/>
                  </a:lnTo>
                  <a:lnTo>
                    <a:pt x="6" y="236"/>
                  </a:lnTo>
                  <a:lnTo>
                    <a:pt x="3" y="237"/>
                  </a:lnTo>
                  <a:lnTo>
                    <a:pt x="0" y="237"/>
                  </a:lnTo>
                  <a:lnTo>
                    <a:pt x="0" y="205"/>
                  </a:lnTo>
                  <a:lnTo>
                    <a:pt x="3" y="204"/>
                  </a:lnTo>
                  <a:lnTo>
                    <a:pt x="6" y="203"/>
                  </a:lnTo>
                  <a:lnTo>
                    <a:pt x="9" y="202"/>
                  </a:lnTo>
                  <a:lnTo>
                    <a:pt x="12" y="201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24" y="198"/>
                  </a:lnTo>
                  <a:lnTo>
                    <a:pt x="27" y="197"/>
                  </a:lnTo>
                  <a:lnTo>
                    <a:pt x="30" y="196"/>
                  </a:lnTo>
                  <a:lnTo>
                    <a:pt x="33" y="195"/>
                  </a:lnTo>
                  <a:lnTo>
                    <a:pt x="37" y="195"/>
                  </a:lnTo>
                  <a:lnTo>
                    <a:pt x="40" y="194"/>
                  </a:lnTo>
                  <a:lnTo>
                    <a:pt x="43" y="193"/>
                  </a:lnTo>
                  <a:lnTo>
                    <a:pt x="46" y="193"/>
                  </a:lnTo>
                  <a:lnTo>
                    <a:pt x="50" y="192"/>
                  </a:lnTo>
                  <a:lnTo>
                    <a:pt x="50" y="120"/>
                  </a:lnTo>
                  <a:lnTo>
                    <a:pt x="47" y="121"/>
                  </a:lnTo>
                  <a:lnTo>
                    <a:pt x="44" y="121"/>
                  </a:lnTo>
                  <a:lnTo>
                    <a:pt x="41" y="122"/>
                  </a:lnTo>
                  <a:lnTo>
                    <a:pt x="38" y="122"/>
                  </a:lnTo>
                  <a:lnTo>
                    <a:pt x="35" y="123"/>
                  </a:lnTo>
                  <a:lnTo>
                    <a:pt x="32" y="124"/>
                  </a:lnTo>
                  <a:lnTo>
                    <a:pt x="29" y="125"/>
                  </a:lnTo>
                  <a:lnTo>
                    <a:pt x="26" y="126"/>
                  </a:lnTo>
                  <a:lnTo>
                    <a:pt x="23" y="127"/>
                  </a:lnTo>
                  <a:lnTo>
                    <a:pt x="20" y="128"/>
                  </a:lnTo>
                  <a:lnTo>
                    <a:pt x="17" y="129"/>
                  </a:lnTo>
                  <a:lnTo>
                    <a:pt x="13" y="130"/>
                  </a:lnTo>
                  <a:lnTo>
                    <a:pt x="10" y="132"/>
                  </a:lnTo>
                  <a:lnTo>
                    <a:pt x="7" y="133"/>
                  </a:lnTo>
                  <a:lnTo>
                    <a:pt x="3" y="135"/>
                  </a:lnTo>
                  <a:lnTo>
                    <a:pt x="0" y="136"/>
                  </a:lnTo>
                  <a:lnTo>
                    <a:pt x="0" y="114"/>
                  </a:lnTo>
                  <a:lnTo>
                    <a:pt x="3" y="113"/>
                  </a:lnTo>
                  <a:lnTo>
                    <a:pt x="6" y="111"/>
                  </a:lnTo>
                  <a:lnTo>
                    <a:pt x="9" y="110"/>
                  </a:lnTo>
                  <a:lnTo>
                    <a:pt x="12" y="109"/>
                  </a:lnTo>
                  <a:lnTo>
                    <a:pt x="15" y="108"/>
                  </a:lnTo>
                  <a:lnTo>
                    <a:pt x="18" y="107"/>
                  </a:lnTo>
                  <a:lnTo>
                    <a:pt x="21" y="106"/>
                  </a:lnTo>
                  <a:lnTo>
                    <a:pt x="24" y="105"/>
                  </a:lnTo>
                  <a:lnTo>
                    <a:pt x="27" y="104"/>
                  </a:lnTo>
                  <a:lnTo>
                    <a:pt x="30" y="103"/>
                  </a:lnTo>
                  <a:lnTo>
                    <a:pt x="34" y="102"/>
                  </a:lnTo>
                  <a:lnTo>
                    <a:pt x="37" y="101"/>
                  </a:lnTo>
                  <a:lnTo>
                    <a:pt x="40" y="101"/>
                  </a:lnTo>
                  <a:lnTo>
                    <a:pt x="43" y="100"/>
                  </a:lnTo>
                  <a:lnTo>
                    <a:pt x="46" y="99"/>
                  </a:lnTo>
                  <a:lnTo>
                    <a:pt x="50" y="99"/>
                  </a:lnTo>
                  <a:lnTo>
                    <a:pt x="50" y="32"/>
                  </a:lnTo>
                  <a:lnTo>
                    <a:pt x="47" y="32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6" y="38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6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6" y="43"/>
                  </a:lnTo>
                  <a:lnTo>
                    <a:pt x="3" y="45"/>
                  </a:lnTo>
                  <a:lnTo>
                    <a:pt x="0" y="46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19" y="5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0" y="12"/>
                  </a:lnTo>
                  <a:lnTo>
                    <a:pt x="143" y="13"/>
                  </a:lnTo>
                  <a:lnTo>
                    <a:pt x="145" y="14"/>
                  </a:lnTo>
                  <a:lnTo>
                    <a:pt x="147" y="15"/>
                  </a:lnTo>
                  <a:lnTo>
                    <a:pt x="149" y="16"/>
                  </a:lnTo>
                  <a:lnTo>
                    <a:pt x="151" y="17"/>
                  </a:lnTo>
                  <a:lnTo>
                    <a:pt x="154" y="18"/>
                  </a:lnTo>
                  <a:lnTo>
                    <a:pt x="156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4720" y="4975920"/>
              <a:ext cx="109440" cy="14832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53" y="10"/>
                  </a:moveTo>
                  <a:lnTo>
                    <a:pt x="53" y="10"/>
                  </a:lnTo>
                  <a:lnTo>
                    <a:pt x="51" y="9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9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4" y="68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7" y="72"/>
                  </a:lnTo>
                  <a:lnTo>
                    <a:pt x="50" y="73"/>
                  </a:lnTo>
                  <a:lnTo>
                    <a:pt x="53" y="74"/>
                  </a:lnTo>
                  <a:lnTo>
                    <a:pt x="53" y="1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2200" y="5146200"/>
              <a:ext cx="109800" cy="1584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3" y="8"/>
                  </a:moveTo>
                  <a:lnTo>
                    <a:pt x="53" y="8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5" y="5"/>
                  </a:lnTo>
                  <a:lnTo>
                    <a:pt x="42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6" y="73"/>
                  </a:lnTo>
                  <a:lnTo>
                    <a:pt x="19" y="73"/>
                  </a:lnTo>
                  <a:lnTo>
                    <a:pt x="22" y="73"/>
                  </a:lnTo>
                  <a:lnTo>
                    <a:pt x="25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4" y="75"/>
                  </a:lnTo>
                  <a:lnTo>
                    <a:pt x="37" y="75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5" y="77"/>
                  </a:lnTo>
                  <a:lnTo>
                    <a:pt x="48" y="78"/>
                  </a:lnTo>
                  <a:lnTo>
                    <a:pt x="50" y="78"/>
                  </a:lnTo>
                  <a:lnTo>
                    <a:pt x="53" y="79"/>
                  </a:lnTo>
                  <a:lnTo>
                    <a:pt x="53" y="8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22520" y="6170760"/>
            <a:ext cx="1199880" cy="304560"/>
          </a:xfrm>
          <a:prstGeom prst="rect">
            <a:avLst/>
          </a:prstGeom>
          <a:solidFill>
            <a:srgbClr val="eea56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m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54520" y="4938840"/>
            <a:ext cx="1908360" cy="1092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68920" y="4964040"/>
            <a:ext cx="1879560" cy="150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4520" y="5237280"/>
            <a:ext cx="18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 Narrow"/>
              </a:rPr>
              <a:t>Windows 2000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 Narrow"/>
              </a:rPr>
              <a:t>Windows 2000+Off200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Maintenance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45000" y="6170760"/>
            <a:ext cx="2550960" cy="304560"/>
          </a:xfrm>
          <a:prstGeom prst="rect">
            <a:avLst/>
          </a:prstGeom>
          <a:solidFill>
            <a:srgbClr val="eea56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er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ációs rendszer válasz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967840" y="4811760"/>
            <a:ext cx="1692360" cy="569880"/>
          </a:xfrm>
          <a:custGeom>
            <a:avLst/>
            <a:gdLst/>
            <a:ahLst/>
            <a:rect l="l" t="t" r="r" b="b"/>
            <a:pathLst>
              <a:path w="1498" h="449">
                <a:moveTo>
                  <a:pt x="115" y="20"/>
                </a:moveTo>
                <a:cubicBezTo>
                  <a:pt x="60" y="168"/>
                  <a:pt x="24" y="254"/>
                  <a:pt x="0" y="428"/>
                </a:cubicBezTo>
                <a:cubicBezTo>
                  <a:pt x="144" y="432"/>
                  <a:pt x="292" y="434"/>
                  <a:pt x="384" y="449"/>
                </a:cubicBezTo>
                <a:cubicBezTo>
                  <a:pt x="319" y="351"/>
                  <a:pt x="324" y="365"/>
                  <a:pt x="299" y="314"/>
                </a:cubicBezTo>
                <a:cubicBezTo>
                  <a:pt x="353" y="290"/>
                  <a:pt x="517" y="191"/>
                  <a:pt x="700" y="177"/>
                </a:cubicBezTo>
                <a:cubicBezTo>
                  <a:pt x="1004" y="191"/>
                  <a:pt x="1210" y="272"/>
                  <a:pt x="1498" y="374"/>
                </a:cubicBezTo>
                <a:cubicBezTo>
                  <a:pt x="1188" y="156"/>
                  <a:pt x="990" y="64"/>
                  <a:pt x="750" y="28"/>
                </a:cubicBezTo>
                <a:cubicBezTo>
                  <a:pt x="460" y="0"/>
                  <a:pt x="296" y="92"/>
                  <a:pt x="181" y="140"/>
                </a:cubicBezTo>
                <a:cubicBezTo>
                  <a:pt x="146" y="72"/>
                  <a:pt x="168" y="114"/>
                  <a:pt x="115" y="20"/>
                </a:cubicBezTo>
                <a:close/>
              </a:path>
            </a:pathLst>
          </a:custGeom>
          <a:solidFill>
            <a:srgbClr val="5686dc"/>
          </a:solidFill>
          <a:ln w="6480">
            <a:solidFill>
              <a:srgbClr val="000000"/>
            </a:solidFill>
            <a:round/>
          </a:ln>
          <a:effectLst>
            <a:outerShdw dist="52300" dir="4563564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749840" y="1830240"/>
            <a:ext cx="3708360" cy="34632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z ügyfél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P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címet ké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186048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49840" y="2441520"/>
            <a:ext cx="3708360" cy="59076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 kérést a DHCP kiszolgál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9840" y="3297240"/>
            <a:ext cx="3708360" cy="34596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z ügyfél a RIS szerverhez fordu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49840" y="3909960"/>
            <a:ext cx="3708360" cy="59076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z A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-ben ellenőrzi, hogy az ügyfél előre konfigurált-e? (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-staged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256068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328608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011480"/>
            <a:ext cx="353880" cy="35748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49840" y="4765680"/>
            <a:ext cx="3708360" cy="59040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válaszol vagy más RIS szervert értesí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486576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49840" y="5622840"/>
            <a:ext cx="3784680" cy="70164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szerver leküldi a választható telepítő készletek listájá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578340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22680" y="3292560"/>
            <a:ext cx="958680" cy="411120"/>
          </a:xfrm>
          <a:custGeom>
            <a:avLst/>
            <a:gdLst/>
            <a:ahLst/>
            <a:rect l="l" t="t" r="r" b="b"/>
            <a:pathLst>
              <a:path w="1252" h="536">
                <a:moveTo>
                  <a:pt x="0" y="292"/>
                </a:moveTo>
                <a:lnTo>
                  <a:pt x="0" y="370"/>
                </a:lnTo>
                <a:lnTo>
                  <a:pt x="567" y="535"/>
                </a:lnTo>
                <a:lnTo>
                  <a:pt x="1251" y="92"/>
                </a:lnTo>
                <a:lnTo>
                  <a:pt x="1251" y="0"/>
                </a:lnTo>
              </a:path>
            </a:pathLst>
          </a:custGeom>
          <a:solidFill>
            <a:srgbClr val="969696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06840" y="2097000"/>
            <a:ext cx="988920" cy="344520"/>
          </a:xfrm>
          <a:custGeom>
            <a:avLst/>
            <a:gdLst/>
            <a:ahLst/>
            <a:rect l="l" t="t" r="r" b="b"/>
            <a:pathLst>
              <a:path w="1291" h="449">
                <a:moveTo>
                  <a:pt x="0" y="307"/>
                </a:moveTo>
                <a:lnTo>
                  <a:pt x="577" y="448"/>
                </a:lnTo>
                <a:lnTo>
                  <a:pt x="1290" y="127"/>
                </a:lnTo>
                <a:lnTo>
                  <a:pt x="727" y="0"/>
                </a:lnTo>
                <a:lnTo>
                  <a:pt x="0" y="307"/>
                </a:lnTo>
              </a:path>
            </a:pathLst>
          </a:custGeom>
          <a:solidFill>
            <a:srgbClr val="30517c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38480" y="2192400"/>
            <a:ext cx="558720" cy="1471680"/>
          </a:xfrm>
          <a:custGeom>
            <a:avLst/>
            <a:gdLst/>
            <a:ahLst/>
            <a:rect l="l" t="t" r="r" b="b"/>
            <a:pathLst>
              <a:path w="729" h="1916">
                <a:moveTo>
                  <a:pt x="0" y="328"/>
                </a:moveTo>
                <a:lnTo>
                  <a:pt x="4" y="1915"/>
                </a:lnTo>
                <a:lnTo>
                  <a:pt x="728" y="1456"/>
                </a:lnTo>
                <a:lnTo>
                  <a:pt x="728" y="0"/>
                </a:lnTo>
                <a:lnTo>
                  <a:pt x="0" y="328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3600" y="2332080"/>
            <a:ext cx="441360" cy="1324080"/>
          </a:xfrm>
          <a:custGeom>
            <a:avLst/>
            <a:gdLst/>
            <a:ahLst/>
            <a:rect l="l" t="t" r="r" b="b"/>
            <a:pathLst>
              <a:path w="577" h="1728">
                <a:moveTo>
                  <a:pt x="576" y="140"/>
                </a:moveTo>
                <a:lnTo>
                  <a:pt x="576" y="1727"/>
                </a:lnTo>
                <a:lnTo>
                  <a:pt x="0" y="1568"/>
                </a:lnTo>
                <a:lnTo>
                  <a:pt x="0" y="0"/>
                </a:lnTo>
                <a:lnTo>
                  <a:pt x="576" y="140"/>
                </a:lnTo>
              </a:path>
            </a:pathLst>
          </a:custGeom>
          <a:gradFill rotWithShape="0">
            <a:gsLst>
              <a:gs pos="0">
                <a:srgbClr val="ebebeb"/>
              </a:gs>
              <a:gs pos="100000">
                <a:srgbClr val="b2b2b2"/>
              </a:gs>
            </a:gsLst>
            <a:lin ang="5400000"/>
          </a:gra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65520" y="3446640"/>
            <a:ext cx="304560" cy="8064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54360" y="2397240"/>
            <a:ext cx="49320" cy="2700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5520" y="3386160"/>
            <a:ext cx="304560" cy="8100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65520" y="3325680"/>
            <a:ext cx="304560" cy="8280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65520" y="3267000"/>
            <a:ext cx="304560" cy="8100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65520" y="3205080"/>
            <a:ext cx="304560" cy="8100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70200" y="2627280"/>
            <a:ext cx="301680" cy="563760"/>
          </a:xfrm>
          <a:custGeom>
            <a:avLst/>
            <a:gdLst/>
            <a:ahLst/>
            <a:rect l="l" t="t" r="r" b="b"/>
            <a:pathLst>
              <a:path w="397" h="733">
                <a:moveTo>
                  <a:pt x="0" y="628"/>
                </a:moveTo>
                <a:lnTo>
                  <a:pt x="396" y="732"/>
                </a:lnTo>
                <a:lnTo>
                  <a:pt x="396" y="0"/>
                </a:lnTo>
              </a:path>
            </a:pathLst>
          </a:custGeom>
          <a:noFill/>
          <a:ln cap="rnd" w="324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38520" y="2516040"/>
            <a:ext cx="345960" cy="981360"/>
          </a:xfrm>
          <a:custGeom>
            <a:avLst/>
            <a:gdLst/>
            <a:ahLst/>
            <a:rect l="l" t="t" r="r" b="b"/>
            <a:pathLst>
              <a:path w="453" h="1278">
                <a:moveTo>
                  <a:pt x="452" y="105"/>
                </a:moveTo>
                <a:lnTo>
                  <a:pt x="0" y="0"/>
                </a:lnTo>
                <a:lnTo>
                  <a:pt x="0" y="1277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60840" y="2552760"/>
            <a:ext cx="307800" cy="558720"/>
          </a:xfrm>
          <a:custGeom>
            <a:avLst/>
            <a:gdLst/>
            <a:ahLst/>
            <a:rect l="l" t="t" r="r" b="b"/>
            <a:pathLst>
              <a:path w="402" h="726">
                <a:moveTo>
                  <a:pt x="401" y="96"/>
                </a:moveTo>
                <a:lnTo>
                  <a:pt x="0" y="0"/>
                </a:lnTo>
                <a:lnTo>
                  <a:pt x="0" y="725"/>
                </a:lnTo>
              </a:path>
            </a:pathLst>
          </a:custGeom>
          <a:noFill/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62280" y="2681280"/>
            <a:ext cx="297000" cy="68400"/>
          </a:xfrm>
          <a:prstGeom prst="line">
            <a:avLst/>
          </a:prstGeom>
          <a:ln w="324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62280" y="2800440"/>
            <a:ext cx="299880" cy="68040"/>
          </a:xfrm>
          <a:prstGeom prst="line">
            <a:avLst/>
          </a:prstGeom>
          <a:ln w="324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2280" y="2948040"/>
            <a:ext cx="285840" cy="68040"/>
          </a:xfrm>
          <a:prstGeom prst="line">
            <a:avLst/>
          </a:prstGeom>
          <a:ln w="324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51200" y="2622600"/>
            <a:ext cx="117360" cy="63360"/>
          </a:xfrm>
          <a:custGeom>
            <a:avLst/>
            <a:gdLst/>
            <a:ahLst/>
            <a:rect l="l" t="t" r="r" b="b"/>
            <a:pathLst>
              <a:path w="152" h="82">
                <a:moveTo>
                  <a:pt x="0" y="0"/>
                </a:moveTo>
                <a:lnTo>
                  <a:pt x="0" y="48"/>
                </a:lnTo>
                <a:lnTo>
                  <a:pt x="151" y="81"/>
                </a:lnTo>
                <a:lnTo>
                  <a:pt x="151" y="33"/>
                </a:lnTo>
                <a:lnTo>
                  <a:pt x="0" y="0"/>
                </a:lnTo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05120" y="2631960"/>
            <a:ext cx="219240" cy="47880"/>
          </a:xfrm>
          <a:prstGeom prst="line">
            <a:avLst/>
          </a:prstGeom>
          <a:ln w="648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82800" y="2849400"/>
            <a:ext cx="265320" cy="119160"/>
          </a:xfrm>
          <a:custGeom>
            <a:avLst/>
            <a:gdLst/>
            <a:ahLst/>
            <a:rect l="l" t="t" r="r" b="b"/>
            <a:pathLst>
              <a:path w="351" h="183">
                <a:moveTo>
                  <a:pt x="0" y="85"/>
                </a:moveTo>
                <a:lnTo>
                  <a:pt x="0" y="0"/>
                </a:lnTo>
                <a:lnTo>
                  <a:pt x="350" y="93"/>
                </a:lnTo>
                <a:lnTo>
                  <a:pt x="350" y="182"/>
                </a:lnTo>
                <a:lnTo>
                  <a:pt x="0" y="85"/>
                </a:lnTo>
              </a:path>
            </a:pathLst>
          </a:custGeom>
          <a:solidFill>
            <a:srgbClr val="b2b2b2"/>
          </a:solidFill>
          <a:ln cap="rnd" w="324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2800" y="2997360"/>
            <a:ext cx="265320" cy="131760"/>
          </a:xfrm>
          <a:custGeom>
            <a:avLst/>
            <a:gdLst/>
            <a:ahLst/>
            <a:rect l="l" t="t" r="r" b="b"/>
            <a:pathLst>
              <a:path w="351" h="182">
                <a:moveTo>
                  <a:pt x="0" y="85"/>
                </a:moveTo>
                <a:lnTo>
                  <a:pt x="0" y="0"/>
                </a:lnTo>
                <a:lnTo>
                  <a:pt x="350" y="93"/>
                </a:lnTo>
                <a:lnTo>
                  <a:pt x="350" y="181"/>
                </a:lnTo>
                <a:lnTo>
                  <a:pt x="0" y="85"/>
                </a:lnTo>
              </a:path>
            </a:pathLst>
          </a:custGeom>
          <a:solidFill>
            <a:srgbClr val="b2b2b2"/>
          </a:solidFill>
          <a:ln cap="rnd" w="324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78120" y="2716200"/>
            <a:ext cx="270000" cy="122400"/>
          </a:xfrm>
          <a:custGeom>
            <a:avLst/>
            <a:gdLst/>
            <a:ahLst/>
            <a:rect l="l" t="t" r="r" b="b"/>
            <a:pathLst>
              <a:path w="351" h="182">
                <a:moveTo>
                  <a:pt x="0" y="85"/>
                </a:moveTo>
                <a:lnTo>
                  <a:pt x="0" y="0"/>
                </a:lnTo>
                <a:lnTo>
                  <a:pt x="350" y="93"/>
                </a:lnTo>
                <a:lnTo>
                  <a:pt x="350" y="181"/>
                </a:lnTo>
                <a:lnTo>
                  <a:pt x="0" y="85"/>
                </a:lnTo>
              </a:path>
            </a:pathLst>
          </a:custGeom>
          <a:solidFill>
            <a:srgbClr val="b2b2b2"/>
          </a:solidFill>
          <a:ln cap="rnd" w="324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971800" y="2790720"/>
            <a:ext cx="52560" cy="1296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2971800" y="2920680"/>
            <a:ext cx="52560" cy="1116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971800" y="3078000"/>
            <a:ext cx="52560" cy="1296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24000" y="2249640"/>
            <a:ext cx="1252440" cy="1380960"/>
            <a:chOff x="324000" y="2249640"/>
            <a:chExt cx="1252440" cy="1380960"/>
          </a:xfrm>
        </p:grpSpPr>
        <p:grpSp>
          <p:nvGrpSpPr>
            <p:cNvPr id="275" name=""/>
            <p:cNvGrpSpPr/>
            <p:nvPr/>
          </p:nvGrpSpPr>
          <p:grpSpPr>
            <a:xfrm>
              <a:off x="324000" y="2976480"/>
              <a:ext cx="1211040" cy="654120"/>
              <a:chOff x="324000" y="2976480"/>
              <a:chExt cx="1211040" cy="654120"/>
            </a:xfrm>
          </p:grpSpPr>
          <p:sp>
            <p:nvSpPr>
              <p:cNvPr id="276" name=""/>
              <p:cNvSpPr/>
              <p:nvPr/>
            </p:nvSpPr>
            <p:spPr>
              <a:xfrm>
                <a:off x="1116000" y="3146400"/>
                <a:ext cx="417240" cy="48420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4000" y="2976480"/>
                <a:ext cx="1211040" cy="41904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4000" y="3183120"/>
                <a:ext cx="792000" cy="4474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8000" y="3341520"/>
                <a:ext cx="311040" cy="21780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4480" y="3422520"/>
                <a:ext cx="299520" cy="7776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8000" y="3340080"/>
                <a:ext cx="309240" cy="13356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5000" y="3384720"/>
                <a:ext cx="242640" cy="60120"/>
              </a:xfrm>
              <a:prstGeom prst="line">
                <a:avLst/>
              </a:prstGeom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71640" y="3508560"/>
                <a:ext cx="45360" cy="9360"/>
              </a:xfrm>
              <a:prstGeom prst="line">
                <a:avLst/>
              </a:prstGeom>
              <a:ln w="1908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1320" y="3400560"/>
                <a:ext cx="74160" cy="3960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240" bIns="12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4520" y="3230640"/>
                <a:ext cx="320040" cy="9036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4520" y="3265560"/>
                <a:ext cx="320040" cy="889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4520" y="3301920"/>
                <a:ext cx="320040" cy="907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4520" y="3336840"/>
                <a:ext cx="320040" cy="889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1240" y="3435480"/>
                <a:ext cx="313920" cy="13320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42800" y="2249640"/>
              <a:ext cx="1133640" cy="1066680"/>
              <a:chOff x="442800" y="2249640"/>
              <a:chExt cx="1133640" cy="1066680"/>
            </a:xfrm>
          </p:grpSpPr>
          <p:sp>
            <p:nvSpPr>
              <p:cNvPr id="291" name=""/>
              <p:cNvSpPr/>
              <p:nvPr/>
            </p:nvSpPr>
            <p:spPr>
              <a:xfrm>
                <a:off x="528480" y="2943360"/>
                <a:ext cx="882720" cy="372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9640" y="2951280"/>
                <a:ext cx="854280" cy="33012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52400" y="3032280"/>
                <a:ext cx="444600" cy="17748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09400" y="3038400"/>
                <a:ext cx="717480" cy="20016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1120" y="2249640"/>
                <a:ext cx="895320" cy="82548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39840" y="2432160"/>
                <a:ext cx="179280" cy="8031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2800" y="2259000"/>
                <a:ext cx="976320" cy="27324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2800" y="2340000"/>
                <a:ext cx="797040" cy="8985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4720" y="2419200"/>
                <a:ext cx="674640" cy="7369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6120" y="2468520"/>
                <a:ext cx="590400" cy="635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98320" y="2521080"/>
                <a:ext cx="0" cy="9684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514440" y="4530600"/>
            <a:ext cx="993600" cy="1606680"/>
            <a:chOff x="514440" y="4530600"/>
            <a:chExt cx="993600" cy="1606680"/>
          </a:xfrm>
        </p:grpSpPr>
        <p:sp>
          <p:nvSpPr>
            <p:cNvPr id="303" name=""/>
            <p:cNvSpPr/>
            <p:nvPr/>
          </p:nvSpPr>
          <p:spPr>
            <a:xfrm>
              <a:off x="533520" y="5726160"/>
              <a:ext cx="958680" cy="41112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14440" y="4530600"/>
              <a:ext cx="993600" cy="1566720"/>
              <a:chOff x="514440" y="4530600"/>
              <a:chExt cx="993600" cy="1566720"/>
            </a:xfrm>
          </p:grpSpPr>
          <p:sp>
            <p:nvSpPr>
              <p:cNvPr id="305" name=""/>
              <p:cNvSpPr/>
              <p:nvPr/>
            </p:nvSpPr>
            <p:spPr>
              <a:xfrm>
                <a:off x="517680" y="4530600"/>
                <a:ext cx="988920" cy="3445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49320" y="4626000"/>
                <a:ext cx="558720" cy="1471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4440" y="4765680"/>
                <a:ext cx="441360" cy="13237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6360" y="587988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5200" y="4830840"/>
                <a:ext cx="48960" cy="26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6360" y="581976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6360" y="5759280"/>
                <a:ext cx="304560" cy="82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6360" y="570060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6360" y="563868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1040" y="5060880"/>
                <a:ext cx="301680" cy="563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9360" y="4949640"/>
                <a:ext cx="345960" cy="98100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1320" y="4986360"/>
                <a:ext cx="308160" cy="5587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3120" y="5114880"/>
                <a:ext cx="29664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3120" y="5234040"/>
                <a:ext cx="29988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3120" y="5381640"/>
                <a:ext cx="28584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040" y="5056200"/>
                <a:ext cx="117360" cy="6336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5960" y="5065560"/>
                <a:ext cx="218880" cy="475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3640" y="5283000"/>
                <a:ext cx="265320" cy="11916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3640" y="5430600"/>
                <a:ext cx="265320" cy="1317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8960" y="5149800"/>
                <a:ext cx="270000" cy="1220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782280" y="5223960"/>
                <a:ext cx="52200" cy="1260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82280" y="5354280"/>
                <a:ext cx="52200" cy="1116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82280" y="5511600"/>
                <a:ext cx="52200" cy="1296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 flipH="1">
            <a:off x="2310480" y="1720440"/>
            <a:ext cx="134964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HCP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44600" y="6216120"/>
            <a:ext cx="113004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175840" y="6216120"/>
            <a:ext cx="161784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ve Direc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32880" y="1720440"/>
            <a:ext cx="75528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Ügyfé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47720" y="2590920"/>
            <a:ext cx="897120" cy="457200"/>
          </a:xfrm>
          <a:prstGeom prst="rightArrow">
            <a:avLst>
              <a:gd name="adj1" fmla="val 50000"/>
              <a:gd name="adj2" fmla="val 85265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7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645560" y="3078000"/>
            <a:ext cx="896760" cy="457200"/>
          </a:xfrm>
          <a:prstGeom prst="rightArrow">
            <a:avLst>
              <a:gd name="adj1" fmla="val 50000"/>
              <a:gd name="adj2" fmla="val 85231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0280" y="3681360"/>
            <a:ext cx="417600" cy="785880"/>
          </a:xfrm>
          <a:prstGeom prst="downArrow">
            <a:avLst>
              <a:gd name="adj1" fmla="val 50000"/>
              <a:gd name="adj2" fmla="val 86985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393120" bIns="2736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5365800"/>
            <a:ext cx="896760" cy="457200"/>
          </a:xfrm>
          <a:prstGeom prst="rightArrow">
            <a:avLst>
              <a:gd name="adj1" fmla="val 50000"/>
              <a:gd name="adj2" fmla="val 85231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7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645560" y="4876920"/>
            <a:ext cx="896760" cy="457200"/>
          </a:xfrm>
          <a:prstGeom prst="rightArrow">
            <a:avLst>
              <a:gd name="adj1" fmla="val 50000"/>
              <a:gd name="adj2" fmla="val 85231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41480" y="3716280"/>
            <a:ext cx="417600" cy="690480"/>
          </a:xfrm>
          <a:prstGeom prst="upArrow">
            <a:avLst>
              <a:gd name="adj1" fmla="val 50574"/>
              <a:gd name="adj2" fmla="val 75637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1024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81160" y="2270160"/>
            <a:ext cx="1252440" cy="1380960"/>
            <a:chOff x="281160" y="2270160"/>
            <a:chExt cx="1252440" cy="1380960"/>
          </a:xfrm>
        </p:grpSpPr>
        <p:grpSp>
          <p:nvGrpSpPr>
            <p:cNvPr id="339" name=""/>
            <p:cNvGrpSpPr/>
            <p:nvPr/>
          </p:nvGrpSpPr>
          <p:grpSpPr>
            <a:xfrm>
              <a:off x="281160" y="2997000"/>
              <a:ext cx="1211040" cy="654120"/>
              <a:chOff x="281160" y="2997000"/>
              <a:chExt cx="1211040" cy="654120"/>
            </a:xfrm>
          </p:grpSpPr>
          <p:sp>
            <p:nvSpPr>
              <p:cNvPr id="340" name=""/>
              <p:cNvSpPr/>
              <p:nvPr/>
            </p:nvSpPr>
            <p:spPr>
              <a:xfrm>
                <a:off x="1073160" y="3166920"/>
                <a:ext cx="417240" cy="48420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81160" y="2997000"/>
                <a:ext cx="1211040" cy="41904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81160" y="3203640"/>
                <a:ext cx="792000" cy="4474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5160" y="3362040"/>
                <a:ext cx="311040" cy="21780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1640" y="3443040"/>
                <a:ext cx="299520" cy="7776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95160" y="3360600"/>
                <a:ext cx="309240" cy="13356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2160" y="3405240"/>
                <a:ext cx="2426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28800" y="3529080"/>
                <a:ext cx="4536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98480" y="3421080"/>
                <a:ext cx="74160" cy="3960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240" bIns="12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1680" y="3251160"/>
                <a:ext cx="320040" cy="90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1680" y="3286080"/>
                <a:ext cx="320040" cy="8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1680" y="3322440"/>
                <a:ext cx="320040" cy="9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680" y="3357360"/>
                <a:ext cx="320040" cy="8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8400" y="3456000"/>
                <a:ext cx="313920" cy="13320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399960" y="2270160"/>
              <a:ext cx="1133640" cy="1066680"/>
              <a:chOff x="399960" y="2270160"/>
              <a:chExt cx="1133640" cy="1066680"/>
            </a:xfrm>
          </p:grpSpPr>
          <p:sp>
            <p:nvSpPr>
              <p:cNvPr id="355" name=""/>
              <p:cNvSpPr/>
              <p:nvPr/>
            </p:nvSpPr>
            <p:spPr>
              <a:xfrm>
                <a:off x="485640" y="2963880"/>
                <a:ext cx="882720" cy="372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6800" y="2971800"/>
                <a:ext cx="854280" cy="33012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9560" y="3052800"/>
                <a:ext cx="444600" cy="17748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6560" y="3058920"/>
                <a:ext cx="717480" cy="20016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280" y="2270160"/>
                <a:ext cx="895320" cy="82548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97000" y="2452680"/>
                <a:ext cx="179280" cy="8031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960" y="2279520"/>
                <a:ext cx="976320" cy="27324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9960" y="2360520"/>
                <a:ext cx="797040" cy="8985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1880" y="2439720"/>
                <a:ext cx="674640" cy="7369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3280" y="2489040"/>
                <a:ext cx="590400" cy="635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55480" y="2541600"/>
                <a:ext cx="0" cy="9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2743200" y="4495680"/>
            <a:ext cx="1294920" cy="1304640"/>
            <a:chOff x="2743200" y="4495680"/>
            <a:chExt cx="1294920" cy="1304640"/>
          </a:xfrm>
        </p:grpSpPr>
        <p:sp>
          <p:nvSpPr>
            <p:cNvPr id="367" name=""/>
            <p:cNvSpPr/>
            <p:nvPr/>
          </p:nvSpPr>
          <p:spPr>
            <a:xfrm>
              <a:off x="2743200" y="4495680"/>
              <a:ext cx="1294920" cy="130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835720" y="4772880"/>
              <a:ext cx="1107720" cy="950760"/>
              <a:chOff x="2835720" y="4772880"/>
              <a:chExt cx="1107720" cy="950760"/>
            </a:xfrm>
          </p:grpSpPr>
          <p:sp>
            <p:nvSpPr>
              <p:cNvPr id="369" name=""/>
              <p:cNvSpPr/>
              <p:nvPr/>
            </p:nvSpPr>
            <p:spPr>
              <a:xfrm flipH="1" flipV="1">
                <a:off x="3388680" y="4884840"/>
                <a:ext cx="104040" cy="16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267360" y="4871880"/>
                <a:ext cx="121680" cy="18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27480" y="4772880"/>
                <a:ext cx="125280" cy="10944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06520" y="5053320"/>
                <a:ext cx="125280" cy="10944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40880" y="5053320"/>
                <a:ext cx="125280" cy="10944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2835720" y="5162040"/>
                <a:ext cx="1107720" cy="561600"/>
                <a:chOff x="2835720" y="5162040"/>
                <a:chExt cx="1107720" cy="561600"/>
              </a:xfrm>
            </p:grpSpPr>
            <p:sp>
              <p:nvSpPr>
                <p:cNvPr id="375" name=""/>
                <p:cNvSpPr/>
                <p:nvPr/>
              </p:nvSpPr>
              <p:spPr>
                <a:xfrm flipH="1" flipV="1">
                  <a:off x="3508200" y="5162040"/>
                  <a:ext cx="175320" cy="17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3505320" y="5162040"/>
                  <a:ext cx="2880" cy="17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3261960" y="5162040"/>
                  <a:ext cx="8280" cy="17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3089520" y="5162040"/>
                  <a:ext cx="177840" cy="17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023280" y="53334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626640" y="53334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203640" y="53334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49520" y="53334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3572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81816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25584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40272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53916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67776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97468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11400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2896200" y="5434560"/>
                  <a:ext cx="183960" cy="179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3041640" y="5442120"/>
                  <a:ext cx="47520" cy="171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3187440" y="5439600"/>
                  <a:ext cx="77040" cy="17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3270600" y="5447520"/>
                  <a:ext cx="47520" cy="16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3472560" y="5439600"/>
                  <a:ext cx="38520" cy="17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>
                  <a:off x="3513960" y="5445000"/>
                  <a:ext cx="83160" cy="16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>
                  <a:off x="3689640" y="5439600"/>
                  <a:ext cx="47520" cy="17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>
                  <a:off x="3695400" y="5445000"/>
                  <a:ext cx="175320" cy="16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IS működ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Kétfajta telepítő készlet (image)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93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D alap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Windows 2000 CD-ről közvetlenül másol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IPrep Im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IPrep varázslóval készül egy referencia gépr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IPrep varázsló a RIS telepítése után jelenik meg a gé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ysprephez hasonló, de NEM a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IS komponens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602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oot Information Negotiation Layer (BIN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kapja az ügyfél kérések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ingle Instance Store (S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TFSv5 újdonsá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duplikált fájlokat eltávolít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rivial File Transfer Protocol (TFT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tölti a választási lehetőségeket az ügyfel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lvárások az ügyféllel szembe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415360" cy="43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tPC vagy PC98 specifikációnak (PXE specifikáció) megfel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lózati kártya, amely támogatja a RIS Boot Disk-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 a Boot Disk nem az a boot disk. A RIS telepítése után lehet generál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aptop esetén dokkoló állomá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CMCIA kártya nem használható RIS alapú telepítés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XE Boot ROM megvalós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415360" cy="370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XE Boot ROM megvalósítása: Option R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onló funkciójú a SCSI BIOS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XE Boot ROM fizikailag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lózati kártyán (flash 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endszer BIOS-szal együ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IS szerver telepít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415360" cy="537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téte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HCP (azon a gépen ahova a RIS-t szánju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lyan kötet amely NEM rendszer (system) köt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gy lép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mote Installation Services telepít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IS konfigurál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IS autorizálása, ha még nem tettük m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Jogosultság kiosztása Computer Account-ok létrehozásá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i történik az ügyfél oldalon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896760" y="4086360"/>
            <a:ext cx="2530800" cy="1743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19360" y="2918520"/>
            <a:ext cx="1976400" cy="3600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Gép indít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63720" y="4429080"/>
            <a:ext cx="324144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30517c"/>
                </a:solidFill>
                <a:latin typeface="Arial Narrow"/>
              </a:rPr>
              <a:t>Operating System for Accounting Depar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30517c"/>
                </a:solidFill>
                <a:latin typeface="Arial Narrow"/>
              </a:rPr>
              <a:t>Operating System for Sales Depar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30517c"/>
                </a:solidFill>
                <a:latin typeface="Arial Narrow"/>
              </a:rPr>
              <a:t>Operating System for Training Depar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889280" y="1106640"/>
            <a:ext cx="1798200" cy="1580760"/>
            <a:chOff x="1889280" y="1106640"/>
            <a:chExt cx="1798200" cy="1580760"/>
          </a:xfrm>
        </p:grpSpPr>
        <p:grpSp>
          <p:nvGrpSpPr>
            <p:cNvPr id="415" name=""/>
            <p:cNvGrpSpPr/>
            <p:nvPr/>
          </p:nvGrpSpPr>
          <p:grpSpPr>
            <a:xfrm>
              <a:off x="2558880" y="1611360"/>
              <a:ext cx="1128600" cy="1061280"/>
              <a:chOff x="2558880" y="1611360"/>
              <a:chExt cx="1128600" cy="1061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772360" y="2309040"/>
                <a:ext cx="698760" cy="363600"/>
                <a:chOff x="2772360" y="2309040"/>
                <a:chExt cx="698760" cy="3636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772360" y="2309040"/>
                  <a:ext cx="698760" cy="307800"/>
                </a:xfrm>
                <a:prstGeom prst="ellipse">
                  <a:avLst/>
                </a:prstGeom>
                <a:solidFill>
                  <a:srgbClr val="00cc99"/>
                </a:solidFill>
                <a:ln cap="rnd"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16720" y="2583000"/>
                  <a:ext cx="408240" cy="547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797920" y="2635560"/>
                  <a:ext cx="645480" cy="370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2558880" y="1611360"/>
                <a:ext cx="1128600" cy="918360"/>
              </a:xfrm>
              <a:prstGeom prst="roundRect">
                <a:avLst>
                  <a:gd name="adj" fmla="val 3833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71920" y="1726920"/>
                <a:ext cx="905760" cy="681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71920" y="1729080"/>
                <a:ext cx="907920" cy="686160"/>
              </a:xfrm>
              <a:custGeom>
                <a:avLst/>
                <a:gdLst/>
                <a:ahLst/>
                <a:rect l="l" t="t" r="r" b="b"/>
                <a:pathLst>
                  <a:path w="523" h="383">
                    <a:moveTo>
                      <a:pt x="522" y="0"/>
                    </a:moveTo>
                    <a:lnTo>
                      <a:pt x="522" y="382"/>
                    </a:lnTo>
                    <a:lnTo>
                      <a:pt x="0" y="382"/>
                    </a:lnTo>
                  </a:path>
                </a:pathLst>
              </a:custGeom>
              <a:noFill/>
              <a:ln cap="rnd" w="1260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71920" y="1725480"/>
                <a:ext cx="904320" cy="689760"/>
              </a:xfrm>
              <a:custGeom>
                <a:avLst/>
                <a:gdLst/>
                <a:ahLst/>
                <a:rect l="l" t="t" r="r" b="b"/>
                <a:pathLst>
                  <a:path w="521" h="385">
                    <a:moveTo>
                      <a:pt x="0" y="384"/>
                    </a:moveTo>
                    <a:lnTo>
                      <a:pt x="0" y="0"/>
                    </a:lnTo>
                    <a:lnTo>
                      <a:pt x="520" y="0"/>
                    </a:lnTo>
                    <a:lnTo>
                      <a:pt x="52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2573280" y="1621800"/>
                <a:ext cx="1101960" cy="897120"/>
                <a:chOff x="2573280" y="1621800"/>
                <a:chExt cx="1101960" cy="897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573280" y="1621800"/>
                  <a:ext cx="1101240" cy="893520"/>
                </a:xfrm>
                <a:custGeom>
                  <a:avLst/>
                  <a:gdLst/>
                  <a:ahLst/>
                  <a:rect l="l" t="t" r="r" b="b"/>
                  <a:pathLst>
                    <a:path w="621" h="486">
                      <a:moveTo>
                        <a:pt x="611" y="0"/>
                      </a:move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0" y="480"/>
                      </a:lnTo>
                      <a:lnTo>
                        <a:pt x="2" y="485"/>
                      </a:lnTo>
                      <a:lnTo>
                        <a:pt x="14" y="472"/>
                      </a:lnTo>
                      <a:lnTo>
                        <a:pt x="14" y="20"/>
                      </a:lnTo>
                      <a:lnTo>
                        <a:pt x="19" y="15"/>
                      </a:lnTo>
                      <a:lnTo>
                        <a:pt x="609" y="15"/>
                      </a:lnTo>
                      <a:lnTo>
                        <a:pt x="620" y="1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3051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75440" y="1622880"/>
                  <a:ext cx="1099800" cy="896040"/>
                </a:xfrm>
                <a:custGeom>
                  <a:avLst/>
                  <a:gdLst/>
                  <a:ahLst/>
                  <a:rect l="l" t="t" r="r" b="b"/>
                  <a:pathLst>
                    <a:path w="621" h="487">
                      <a:moveTo>
                        <a:pt x="8" y="486"/>
                      </a:moveTo>
                      <a:lnTo>
                        <a:pt x="611" y="486"/>
                      </a:lnTo>
                      <a:lnTo>
                        <a:pt x="620" y="478"/>
                      </a:lnTo>
                      <a:lnTo>
                        <a:pt x="620" y="6"/>
                      </a:lnTo>
                      <a:lnTo>
                        <a:pt x="617" y="0"/>
                      </a:lnTo>
                      <a:lnTo>
                        <a:pt x="606" y="13"/>
                      </a:lnTo>
                      <a:lnTo>
                        <a:pt x="606" y="466"/>
                      </a:lnTo>
                      <a:lnTo>
                        <a:pt x="601" y="471"/>
                      </a:lnTo>
                      <a:lnTo>
                        <a:pt x="11" y="471"/>
                      </a:lnTo>
                      <a:lnTo>
                        <a:pt x="0" y="484"/>
                      </a:lnTo>
                      <a:lnTo>
                        <a:pt x="8" y="486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7" name=""/>
            <p:cNvGrpSpPr/>
            <p:nvPr/>
          </p:nvGrpSpPr>
          <p:grpSpPr>
            <a:xfrm>
              <a:off x="1889280" y="1106640"/>
              <a:ext cx="1000080" cy="1580760"/>
              <a:chOff x="1889280" y="1106640"/>
              <a:chExt cx="1000080" cy="1580760"/>
            </a:xfrm>
          </p:grpSpPr>
          <p:sp>
            <p:nvSpPr>
              <p:cNvPr id="428" name=""/>
              <p:cNvSpPr/>
              <p:nvPr/>
            </p:nvSpPr>
            <p:spPr>
              <a:xfrm>
                <a:off x="2227320" y="1284120"/>
                <a:ext cx="614520" cy="788760"/>
              </a:xfrm>
              <a:custGeom>
                <a:avLst/>
                <a:gdLst/>
                <a:ahLst/>
                <a:rect l="l" t="t" r="r" b="b"/>
                <a:pathLst>
                  <a:path w="728" h="935">
                    <a:moveTo>
                      <a:pt x="309" y="935"/>
                    </a:moveTo>
                    <a:lnTo>
                      <a:pt x="336" y="891"/>
                    </a:lnTo>
                    <a:lnTo>
                      <a:pt x="361" y="850"/>
                    </a:lnTo>
                    <a:lnTo>
                      <a:pt x="394" y="802"/>
                    </a:lnTo>
                    <a:lnTo>
                      <a:pt x="420" y="777"/>
                    </a:lnTo>
                    <a:lnTo>
                      <a:pt x="484" y="795"/>
                    </a:lnTo>
                    <a:lnTo>
                      <a:pt x="514" y="802"/>
                    </a:lnTo>
                    <a:lnTo>
                      <a:pt x="536" y="804"/>
                    </a:lnTo>
                    <a:lnTo>
                      <a:pt x="553" y="804"/>
                    </a:lnTo>
                    <a:lnTo>
                      <a:pt x="570" y="802"/>
                    </a:lnTo>
                    <a:lnTo>
                      <a:pt x="584" y="793"/>
                    </a:lnTo>
                    <a:lnTo>
                      <a:pt x="595" y="772"/>
                    </a:lnTo>
                    <a:lnTo>
                      <a:pt x="601" y="752"/>
                    </a:lnTo>
                    <a:lnTo>
                      <a:pt x="605" y="724"/>
                    </a:lnTo>
                    <a:lnTo>
                      <a:pt x="609" y="699"/>
                    </a:lnTo>
                    <a:lnTo>
                      <a:pt x="618" y="683"/>
                    </a:lnTo>
                    <a:lnTo>
                      <a:pt x="624" y="670"/>
                    </a:lnTo>
                    <a:lnTo>
                      <a:pt x="635" y="658"/>
                    </a:lnTo>
                    <a:lnTo>
                      <a:pt x="639" y="651"/>
                    </a:lnTo>
                    <a:lnTo>
                      <a:pt x="639" y="639"/>
                    </a:lnTo>
                    <a:lnTo>
                      <a:pt x="637" y="630"/>
                    </a:lnTo>
                    <a:lnTo>
                      <a:pt x="630" y="622"/>
                    </a:lnTo>
                    <a:lnTo>
                      <a:pt x="641" y="585"/>
                    </a:lnTo>
                    <a:lnTo>
                      <a:pt x="649" y="585"/>
                    </a:lnTo>
                    <a:lnTo>
                      <a:pt x="664" y="582"/>
                    </a:lnTo>
                    <a:lnTo>
                      <a:pt x="666" y="568"/>
                    </a:lnTo>
                    <a:lnTo>
                      <a:pt x="666" y="543"/>
                    </a:lnTo>
                    <a:lnTo>
                      <a:pt x="674" y="509"/>
                    </a:lnTo>
                    <a:lnTo>
                      <a:pt x="693" y="505"/>
                    </a:lnTo>
                    <a:lnTo>
                      <a:pt x="712" y="499"/>
                    </a:lnTo>
                    <a:lnTo>
                      <a:pt x="724" y="487"/>
                    </a:lnTo>
                    <a:lnTo>
                      <a:pt x="728" y="476"/>
                    </a:lnTo>
                    <a:lnTo>
                      <a:pt x="724" y="461"/>
                    </a:lnTo>
                    <a:lnTo>
                      <a:pt x="712" y="447"/>
                    </a:lnTo>
                    <a:lnTo>
                      <a:pt x="704" y="434"/>
                    </a:lnTo>
                    <a:lnTo>
                      <a:pt x="683" y="401"/>
                    </a:lnTo>
                    <a:lnTo>
                      <a:pt x="664" y="361"/>
                    </a:lnTo>
                    <a:lnTo>
                      <a:pt x="655" y="340"/>
                    </a:lnTo>
                    <a:lnTo>
                      <a:pt x="653" y="322"/>
                    </a:lnTo>
                    <a:lnTo>
                      <a:pt x="653" y="311"/>
                    </a:lnTo>
                    <a:lnTo>
                      <a:pt x="666" y="267"/>
                    </a:lnTo>
                    <a:lnTo>
                      <a:pt x="676" y="234"/>
                    </a:lnTo>
                    <a:lnTo>
                      <a:pt x="678" y="161"/>
                    </a:lnTo>
                    <a:lnTo>
                      <a:pt x="678" y="79"/>
                    </a:lnTo>
                    <a:lnTo>
                      <a:pt x="547" y="0"/>
                    </a:lnTo>
                    <a:lnTo>
                      <a:pt x="238" y="223"/>
                    </a:lnTo>
                    <a:lnTo>
                      <a:pt x="67" y="520"/>
                    </a:lnTo>
                    <a:lnTo>
                      <a:pt x="0" y="712"/>
                    </a:lnTo>
                    <a:lnTo>
                      <a:pt x="309" y="935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89280" y="1917720"/>
                <a:ext cx="816120" cy="769680"/>
              </a:xfrm>
              <a:custGeom>
                <a:avLst/>
                <a:gdLst/>
                <a:ahLst/>
                <a:rect l="l" t="t" r="r" b="b"/>
                <a:pathLst>
                  <a:path w="514" h="485">
                    <a:moveTo>
                      <a:pt x="28" y="255"/>
                    </a:moveTo>
                    <a:lnTo>
                      <a:pt x="84" y="160"/>
                    </a:lnTo>
                    <a:lnTo>
                      <a:pt x="129" y="71"/>
                    </a:lnTo>
                    <a:lnTo>
                      <a:pt x="271" y="0"/>
                    </a:lnTo>
                    <a:lnTo>
                      <a:pt x="318" y="24"/>
                    </a:lnTo>
                    <a:lnTo>
                      <a:pt x="363" y="93"/>
                    </a:lnTo>
                    <a:lnTo>
                      <a:pt x="391" y="144"/>
                    </a:lnTo>
                    <a:lnTo>
                      <a:pt x="425" y="205"/>
                    </a:lnTo>
                    <a:lnTo>
                      <a:pt x="456" y="283"/>
                    </a:lnTo>
                    <a:lnTo>
                      <a:pt x="480" y="352"/>
                    </a:lnTo>
                    <a:lnTo>
                      <a:pt x="502" y="416"/>
                    </a:lnTo>
                    <a:lnTo>
                      <a:pt x="514" y="483"/>
                    </a:lnTo>
                    <a:lnTo>
                      <a:pt x="0" y="485"/>
                    </a:lnTo>
                    <a:lnTo>
                      <a:pt x="4" y="336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95760" y="1106640"/>
                <a:ext cx="993600" cy="1109520"/>
              </a:xfrm>
              <a:custGeom>
                <a:avLst/>
                <a:gdLst/>
                <a:ahLst/>
                <a:rect l="l" t="t" r="r" b="b"/>
                <a:pathLst>
                  <a:path w="1178" h="1315">
                    <a:moveTo>
                      <a:pt x="825" y="1315"/>
                    </a:moveTo>
                    <a:lnTo>
                      <a:pt x="804" y="1288"/>
                    </a:lnTo>
                    <a:lnTo>
                      <a:pt x="791" y="1261"/>
                    </a:lnTo>
                    <a:lnTo>
                      <a:pt x="771" y="1215"/>
                    </a:lnTo>
                    <a:lnTo>
                      <a:pt x="819" y="1251"/>
                    </a:lnTo>
                    <a:lnTo>
                      <a:pt x="783" y="1196"/>
                    </a:lnTo>
                    <a:lnTo>
                      <a:pt x="769" y="1146"/>
                    </a:lnTo>
                    <a:lnTo>
                      <a:pt x="758" y="1067"/>
                    </a:lnTo>
                    <a:lnTo>
                      <a:pt x="756" y="1000"/>
                    </a:lnTo>
                    <a:lnTo>
                      <a:pt x="760" y="904"/>
                    </a:lnTo>
                    <a:lnTo>
                      <a:pt x="779" y="783"/>
                    </a:lnTo>
                    <a:lnTo>
                      <a:pt x="804" y="700"/>
                    </a:lnTo>
                    <a:lnTo>
                      <a:pt x="835" y="614"/>
                    </a:lnTo>
                    <a:lnTo>
                      <a:pt x="842" y="591"/>
                    </a:lnTo>
                    <a:lnTo>
                      <a:pt x="860" y="566"/>
                    </a:lnTo>
                    <a:lnTo>
                      <a:pt x="896" y="539"/>
                    </a:lnTo>
                    <a:lnTo>
                      <a:pt x="959" y="499"/>
                    </a:lnTo>
                    <a:lnTo>
                      <a:pt x="925" y="545"/>
                    </a:lnTo>
                    <a:lnTo>
                      <a:pt x="1004" y="489"/>
                    </a:lnTo>
                    <a:lnTo>
                      <a:pt x="1050" y="449"/>
                    </a:lnTo>
                    <a:lnTo>
                      <a:pt x="1067" y="428"/>
                    </a:lnTo>
                    <a:lnTo>
                      <a:pt x="1082" y="399"/>
                    </a:lnTo>
                    <a:lnTo>
                      <a:pt x="1088" y="368"/>
                    </a:lnTo>
                    <a:lnTo>
                      <a:pt x="1092" y="351"/>
                    </a:lnTo>
                    <a:lnTo>
                      <a:pt x="1101" y="393"/>
                    </a:lnTo>
                    <a:lnTo>
                      <a:pt x="1092" y="426"/>
                    </a:lnTo>
                    <a:lnTo>
                      <a:pt x="1069" y="451"/>
                    </a:lnTo>
                    <a:lnTo>
                      <a:pt x="1036" y="476"/>
                    </a:lnTo>
                    <a:lnTo>
                      <a:pt x="1101" y="455"/>
                    </a:lnTo>
                    <a:lnTo>
                      <a:pt x="1124" y="436"/>
                    </a:lnTo>
                    <a:lnTo>
                      <a:pt x="1153" y="409"/>
                    </a:lnTo>
                    <a:lnTo>
                      <a:pt x="1170" y="380"/>
                    </a:lnTo>
                    <a:lnTo>
                      <a:pt x="1178" y="341"/>
                    </a:lnTo>
                    <a:lnTo>
                      <a:pt x="1172" y="301"/>
                    </a:lnTo>
                    <a:lnTo>
                      <a:pt x="1153" y="244"/>
                    </a:lnTo>
                    <a:lnTo>
                      <a:pt x="1136" y="207"/>
                    </a:lnTo>
                    <a:lnTo>
                      <a:pt x="1092" y="163"/>
                    </a:lnTo>
                    <a:lnTo>
                      <a:pt x="1046" y="125"/>
                    </a:lnTo>
                    <a:lnTo>
                      <a:pt x="998" y="107"/>
                    </a:lnTo>
                    <a:lnTo>
                      <a:pt x="875" y="75"/>
                    </a:lnTo>
                    <a:lnTo>
                      <a:pt x="827" y="50"/>
                    </a:lnTo>
                    <a:lnTo>
                      <a:pt x="743" y="27"/>
                    </a:lnTo>
                    <a:lnTo>
                      <a:pt x="658" y="8"/>
                    </a:lnTo>
                    <a:lnTo>
                      <a:pt x="585" y="0"/>
                    </a:lnTo>
                    <a:lnTo>
                      <a:pt x="522" y="4"/>
                    </a:lnTo>
                    <a:lnTo>
                      <a:pt x="455" y="21"/>
                    </a:lnTo>
                    <a:lnTo>
                      <a:pt x="409" y="46"/>
                    </a:lnTo>
                    <a:lnTo>
                      <a:pt x="372" y="77"/>
                    </a:lnTo>
                    <a:lnTo>
                      <a:pt x="340" y="109"/>
                    </a:lnTo>
                    <a:lnTo>
                      <a:pt x="318" y="142"/>
                    </a:lnTo>
                    <a:lnTo>
                      <a:pt x="290" y="186"/>
                    </a:lnTo>
                    <a:lnTo>
                      <a:pt x="259" y="253"/>
                    </a:lnTo>
                    <a:lnTo>
                      <a:pt x="219" y="341"/>
                    </a:lnTo>
                    <a:lnTo>
                      <a:pt x="169" y="474"/>
                    </a:lnTo>
                    <a:lnTo>
                      <a:pt x="130" y="595"/>
                    </a:lnTo>
                    <a:lnTo>
                      <a:pt x="92" y="689"/>
                    </a:lnTo>
                    <a:lnTo>
                      <a:pt x="57" y="766"/>
                    </a:lnTo>
                    <a:lnTo>
                      <a:pt x="29" y="848"/>
                    </a:lnTo>
                    <a:lnTo>
                      <a:pt x="6" y="950"/>
                    </a:lnTo>
                    <a:lnTo>
                      <a:pt x="0" y="1042"/>
                    </a:lnTo>
                    <a:lnTo>
                      <a:pt x="8" y="1098"/>
                    </a:lnTo>
                    <a:lnTo>
                      <a:pt x="11" y="1146"/>
                    </a:lnTo>
                    <a:lnTo>
                      <a:pt x="19" y="1184"/>
                    </a:lnTo>
                    <a:lnTo>
                      <a:pt x="38" y="1222"/>
                    </a:lnTo>
                    <a:lnTo>
                      <a:pt x="63" y="1261"/>
                    </a:lnTo>
                    <a:lnTo>
                      <a:pt x="107" y="1293"/>
                    </a:lnTo>
                    <a:lnTo>
                      <a:pt x="75" y="1236"/>
                    </a:lnTo>
                    <a:lnTo>
                      <a:pt x="117" y="1276"/>
                    </a:lnTo>
                    <a:lnTo>
                      <a:pt x="161" y="1295"/>
                    </a:lnTo>
                    <a:lnTo>
                      <a:pt x="213" y="1303"/>
                    </a:lnTo>
                    <a:lnTo>
                      <a:pt x="259" y="1299"/>
                    </a:lnTo>
                    <a:lnTo>
                      <a:pt x="303" y="1282"/>
                    </a:lnTo>
                    <a:lnTo>
                      <a:pt x="341" y="1257"/>
                    </a:lnTo>
                    <a:lnTo>
                      <a:pt x="380" y="1242"/>
                    </a:lnTo>
                    <a:lnTo>
                      <a:pt x="422" y="1234"/>
                    </a:lnTo>
                    <a:lnTo>
                      <a:pt x="468" y="1222"/>
                    </a:lnTo>
                    <a:lnTo>
                      <a:pt x="539" y="1228"/>
                    </a:lnTo>
                    <a:lnTo>
                      <a:pt x="614" y="1251"/>
                    </a:lnTo>
                    <a:lnTo>
                      <a:pt x="679" y="1286"/>
                    </a:lnTo>
                    <a:lnTo>
                      <a:pt x="733" y="1307"/>
                    </a:lnTo>
                    <a:lnTo>
                      <a:pt x="798" y="1315"/>
                    </a:lnTo>
                    <a:lnTo>
                      <a:pt x="825" y="1315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5784840" y="1177920"/>
            <a:ext cx="1397160" cy="1053720"/>
            <a:chOff x="5784840" y="1177920"/>
            <a:chExt cx="1397160" cy="1053720"/>
          </a:xfrm>
        </p:grpSpPr>
        <p:sp>
          <p:nvSpPr>
            <p:cNvPr id="432" name=""/>
            <p:cNvSpPr/>
            <p:nvPr/>
          </p:nvSpPr>
          <p:spPr>
            <a:xfrm>
              <a:off x="5784840" y="1442160"/>
              <a:ext cx="1397160" cy="789480"/>
            </a:xfrm>
            <a:prstGeom prst="rect">
              <a:avLst/>
            </a:prstGeom>
            <a:solidFill>
              <a:srgbClr val="dadada"/>
            </a:solidFill>
            <a:ln w="64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15520" y="1209960"/>
              <a:ext cx="1128600" cy="934920"/>
            </a:xfrm>
            <a:custGeom>
              <a:avLst/>
              <a:gdLst/>
              <a:ahLst/>
              <a:rect l="l" t="t" r="r" b="b"/>
              <a:pathLst>
                <a:path w="602" h="337">
                  <a:moveTo>
                    <a:pt x="60" y="0"/>
                  </a:moveTo>
                  <a:lnTo>
                    <a:pt x="7" y="60"/>
                  </a:lnTo>
                  <a:lnTo>
                    <a:pt x="0" y="73"/>
                  </a:lnTo>
                  <a:lnTo>
                    <a:pt x="0" y="88"/>
                  </a:lnTo>
                  <a:lnTo>
                    <a:pt x="0" y="269"/>
                  </a:lnTo>
                  <a:lnTo>
                    <a:pt x="0" y="269"/>
                  </a:lnTo>
                  <a:lnTo>
                    <a:pt x="0" y="315"/>
                  </a:lnTo>
                  <a:lnTo>
                    <a:pt x="7" y="328"/>
                  </a:lnTo>
                  <a:lnTo>
                    <a:pt x="18" y="336"/>
                  </a:lnTo>
                  <a:lnTo>
                    <a:pt x="24" y="336"/>
                  </a:lnTo>
                  <a:lnTo>
                    <a:pt x="575" y="336"/>
                  </a:lnTo>
                  <a:lnTo>
                    <a:pt x="585" y="336"/>
                  </a:lnTo>
                  <a:lnTo>
                    <a:pt x="596" y="325"/>
                  </a:lnTo>
                  <a:lnTo>
                    <a:pt x="601" y="316"/>
                  </a:lnTo>
                  <a:lnTo>
                    <a:pt x="601" y="90"/>
                  </a:lnTo>
                  <a:lnTo>
                    <a:pt x="601" y="73"/>
                  </a:lnTo>
                  <a:lnTo>
                    <a:pt x="592" y="60"/>
                  </a:lnTo>
                  <a:lnTo>
                    <a:pt x="541" y="0"/>
                  </a:lnTo>
                  <a:lnTo>
                    <a:pt x="60" y="0"/>
                  </a:lnTo>
                </a:path>
              </a:pathLst>
            </a:custGeom>
            <a:solidFill>
              <a:srgbClr val="00cc99"/>
            </a:solid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46120" y="1797480"/>
              <a:ext cx="110880" cy="2804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2" y="101"/>
                  </a:moveTo>
                  <a:lnTo>
                    <a:pt x="4" y="100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42" y="0"/>
                  </a:lnTo>
                  <a:lnTo>
                    <a:pt x="45" y="12"/>
                  </a:lnTo>
                  <a:lnTo>
                    <a:pt x="52" y="22"/>
                  </a:lnTo>
                  <a:lnTo>
                    <a:pt x="59" y="22"/>
                  </a:lnTo>
                  <a:lnTo>
                    <a:pt x="12" y="101"/>
                  </a:lnTo>
                </a:path>
              </a:pathLst>
            </a:cu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13440" y="1789560"/>
              <a:ext cx="114480" cy="28836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47" y="101"/>
                  </a:moveTo>
                  <a:lnTo>
                    <a:pt x="55" y="100"/>
                  </a:lnTo>
                  <a:lnTo>
                    <a:pt x="59" y="89"/>
                  </a:lnTo>
                  <a:lnTo>
                    <a:pt x="59" y="79"/>
                  </a:lnTo>
                  <a:lnTo>
                    <a:pt x="17" y="0"/>
                  </a:lnTo>
                  <a:lnTo>
                    <a:pt x="14" y="1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47" y="101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24960" y="1177920"/>
              <a:ext cx="908280" cy="651600"/>
            </a:xfrm>
            <a:prstGeom prst="roundRect">
              <a:avLst>
                <a:gd name="adj" fmla="val 12495"/>
              </a:avLst>
            </a:prstGeom>
            <a:solidFill>
              <a:srgbClr val="30517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92480"/>
                  <a:tab algn="l" pos="4584600"/>
                  <a:tab algn="l" pos="6877080"/>
                  <a:tab algn="l" pos="916956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F1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383080" y="2337480"/>
            <a:ext cx="2276640" cy="66492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Megfelelő pillanatban F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386320" y="3359160"/>
            <a:ext cx="1339920" cy="2163240"/>
            <a:chOff x="5386320" y="3359160"/>
            <a:chExt cx="1339920" cy="2163240"/>
          </a:xfrm>
        </p:grpSpPr>
        <p:sp>
          <p:nvSpPr>
            <p:cNvPr id="439" name=""/>
            <p:cNvSpPr/>
            <p:nvPr/>
          </p:nvSpPr>
          <p:spPr>
            <a:xfrm>
              <a:off x="5391360" y="3359160"/>
              <a:ext cx="1333440" cy="463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30517c"/>
            </a:solid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11880" y="4968720"/>
              <a:ext cx="1293840" cy="55368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73840" y="3487680"/>
              <a:ext cx="752400" cy="198072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6320" y="3674880"/>
              <a:ext cx="595440" cy="178380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69120" y="5176800"/>
              <a:ext cx="411120" cy="1072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54720" y="3762000"/>
              <a:ext cx="66600" cy="37800"/>
            </a:xfrm>
            <a:prstGeom prst="ellipse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69120" y="5094000"/>
              <a:ext cx="411120" cy="10944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69120" y="5013000"/>
              <a:ext cx="411120" cy="1108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69120" y="4933800"/>
              <a:ext cx="411120" cy="1090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69120" y="4851360"/>
              <a:ext cx="411120" cy="1090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5240" y="4073400"/>
              <a:ext cx="408240" cy="75852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32400" y="3922560"/>
              <a:ext cx="466920" cy="132192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62640" y="3973320"/>
              <a:ext cx="415800" cy="75060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65880" y="4144680"/>
              <a:ext cx="399960" cy="9180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65880" y="4306680"/>
              <a:ext cx="404640" cy="9000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65880" y="4505040"/>
              <a:ext cx="385560" cy="9180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85040" y="4066920"/>
              <a:ext cx="158760" cy="8532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23120" y="4079520"/>
              <a:ext cx="295200" cy="63360"/>
            </a:xfrm>
            <a:prstGeom prst="line">
              <a:avLst/>
            </a:prstGeom>
            <a:ln w="648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94320" y="4373280"/>
              <a:ext cx="355680" cy="16020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94320" y="4571640"/>
              <a:ext cx="357120" cy="17748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57840" y="4466880"/>
              <a:ext cx="57240" cy="29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5686dc"/>
            </a:solidFill>
            <a:ln cap="rnd" w="1260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67560" y="4665600"/>
              <a:ext cx="55440" cy="313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5686dc"/>
            </a:solidFill>
            <a:ln cap="rnd" w="1260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88200" y="4192560"/>
              <a:ext cx="361800" cy="1645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4600" y="4281120"/>
              <a:ext cx="55800" cy="29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5686dc"/>
            </a:solidFill>
            <a:ln cap="rnd" w="1260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879800" y="5558760"/>
            <a:ext cx="2276640" cy="66492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Kapcsolat felvétel RIS-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1520" y="5998320"/>
            <a:ext cx="3670200" cy="66492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Bejelentkezés után választási lehetőségek jelennek m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 rot="19783800">
            <a:off x="3786120" y="4746960"/>
            <a:ext cx="1552680" cy="465480"/>
          </a:xfrm>
          <a:custGeom>
            <a:avLst/>
            <a:gdLst/>
            <a:ahLst/>
            <a:rect l="l" t="t" r="r" b="b"/>
            <a:pathLst>
              <a:path w="1498" h="449">
                <a:moveTo>
                  <a:pt x="115" y="20"/>
                </a:moveTo>
                <a:cubicBezTo>
                  <a:pt x="60" y="168"/>
                  <a:pt x="24" y="254"/>
                  <a:pt x="0" y="428"/>
                </a:cubicBezTo>
                <a:cubicBezTo>
                  <a:pt x="144" y="432"/>
                  <a:pt x="292" y="434"/>
                  <a:pt x="384" y="449"/>
                </a:cubicBezTo>
                <a:cubicBezTo>
                  <a:pt x="319" y="351"/>
                  <a:pt x="324" y="365"/>
                  <a:pt x="299" y="314"/>
                </a:cubicBezTo>
                <a:cubicBezTo>
                  <a:pt x="353" y="290"/>
                  <a:pt x="517" y="191"/>
                  <a:pt x="700" y="177"/>
                </a:cubicBezTo>
                <a:cubicBezTo>
                  <a:pt x="1004" y="191"/>
                  <a:pt x="1210" y="272"/>
                  <a:pt x="1498" y="374"/>
                </a:cubicBezTo>
                <a:cubicBezTo>
                  <a:pt x="1188" y="156"/>
                  <a:pt x="990" y="64"/>
                  <a:pt x="750" y="28"/>
                </a:cubicBezTo>
                <a:cubicBezTo>
                  <a:pt x="460" y="0"/>
                  <a:pt x="296" y="92"/>
                  <a:pt x="181" y="140"/>
                </a:cubicBezTo>
                <a:cubicBezTo>
                  <a:pt x="146" y="72"/>
                  <a:pt x="168" y="114"/>
                  <a:pt x="115" y="20"/>
                </a:cubicBezTo>
                <a:close/>
              </a:path>
            </a:pathLst>
          </a:custGeom>
          <a:gradFill rotWithShape="0">
            <a:gsLst>
              <a:gs pos="0">
                <a:srgbClr val="5686dc"/>
              </a:gs>
              <a:gs pos="100000">
                <a:srgbClr val="aec4ed"/>
              </a:gs>
            </a:gsLst>
            <a:lin ang="13500000"/>
          </a:gradFill>
          <a:ln w="6480">
            <a:solidFill>
              <a:srgbClr val="800080"/>
            </a:solidFill>
            <a:round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 rot="17132400">
            <a:off x="6601680" y="3700440"/>
            <a:ext cx="1552680" cy="465120"/>
          </a:xfrm>
          <a:custGeom>
            <a:avLst/>
            <a:gdLst/>
            <a:ahLst/>
            <a:rect l="l" t="t" r="r" b="b"/>
            <a:pathLst>
              <a:path w="1498" h="449">
                <a:moveTo>
                  <a:pt x="115" y="20"/>
                </a:moveTo>
                <a:cubicBezTo>
                  <a:pt x="60" y="168"/>
                  <a:pt x="24" y="254"/>
                  <a:pt x="0" y="428"/>
                </a:cubicBezTo>
                <a:cubicBezTo>
                  <a:pt x="144" y="432"/>
                  <a:pt x="292" y="434"/>
                  <a:pt x="384" y="449"/>
                </a:cubicBezTo>
                <a:cubicBezTo>
                  <a:pt x="319" y="351"/>
                  <a:pt x="324" y="365"/>
                  <a:pt x="299" y="314"/>
                </a:cubicBezTo>
                <a:cubicBezTo>
                  <a:pt x="353" y="290"/>
                  <a:pt x="517" y="191"/>
                  <a:pt x="700" y="177"/>
                </a:cubicBezTo>
                <a:cubicBezTo>
                  <a:pt x="1004" y="191"/>
                  <a:pt x="1210" y="272"/>
                  <a:pt x="1498" y="374"/>
                </a:cubicBezTo>
                <a:cubicBezTo>
                  <a:pt x="1188" y="156"/>
                  <a:pt x="990" y="64"/>
                  <a:pt x="750" y="28"/>
                </a:cubicBezTo>
                <a:cubicBezTo>
                  <a:pt x="460" y="0"/>
                  <a:pt x="296" y="92"/>
                  <a:pt x="181" y="140"/>
                </a:cubicBezTo>
                <a:cubicBezTo>
                  <a:pt x="146" y="72"/>
                  <a:pt x="168" y="114"/>
                  <a:pt x="115" y="20"/>
                </a:cubicBezTo>
                <a:close/>
              </a:path>
            </a:pathLst>
          </a:custGeom>
          <a:gradFill rotWithShape="0">
            <a:gsLst>
              <a:gs pos="0">
                <a:srgbClr val="5686dc"/>
              </a:gs>
              <a:gs pos="100000">
                <a:srgbClr val="aec4ed"/>
              </a:gs>
            </a:gsLst>
            <a:lin ang="13500000"/>
          </a:gradFill>
          <a:ln w="6480">
            <a:solidFill>
              <a:srgbClr val="800080"/>
            </a:solidFill>
            <a:round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 rot="9917400">
            <a:off x="3890160" y="1537200"/>
            <a:ext cx="1552680" cy="465120"/>
          </a:xfrm>
          <a:custGeom>
            <a:avLst/>
            <a:gdLst/>
            <a:ahLst/>
            <a:rect l="l" t="t" r="r" b="b"/>
            <a:pathLst>
              <a:path w="1498" h="449">
                <a:moveTo>
                  <a:pt x="115" y="20"/>
                </a:moveTo>
                <a:cubicBezTo>
                  <a:pt x="60" y="168"/>
                  <a:pt x="24" y="254"/>
                  <a:pt x="0" y="428"/>
                </a:cubicBezTo>
                <a:cubicBezTo>
                  <a:pt x="144" y="432"/>
                  <a:pt x="292" y="434"/>
                  <a:pt x="384" y="449"/>
                </a:cubicBezTo>
                <a:cubicBezTo>
                  <a:pt x="319" y="351"/>
                  <a:pt x="324" y="365"/>
                  <a:pt x="299" y="314"/>
                </a:cubicBezTo>
                <a:cubicBezTo>
                  <a:pt x="353" y="290"/>
                  <a:pt x="517" y="191"/>
                  <a:pt x="700" y="177"/>
                </a:cubicBezTo>
                <a:cubicBezTo>
                  <a:pt x="1004" y="191"/>
                  <a:pt x="1210" y="272"/>
                  <a:pt x="1498" y="374"/>
                </a:cubicBezTo>
                <a:cubicBezTo>
                  <a:pt x="1188" y="156"/>
                  <a:pt x="990" y="64"/>
                  <a:pt x="750" y="28"/>
                </a:cubicBezTo>
                <a:cubicBezTo>
                  <a:pt x="460" y="0"/>
                  <a:pt x="296" y="92"/>
                  <a:pt x="181" y="140"/>
                </a:cubicBezTo>
                <a:cubicBezTo>
                  <a:pt x="146" y="72"/>
                  <a:pt x="168" y="114"/>
                  <a:pt x="115" y="20"/>
                </a:cubicBezTo>
                <a:close/>
              </a:path>
            </a:pathLst>
          </a:custGeom>
          <a:gradFill rotWithShape="0">
            <a:gsLst>
              <a:gs pos="0">
                <a:srgbClr val="5686dc"/>
              </a:gs>
              <a:gs pos="100000">
                <a:srgbClr val="aec4ed"/>
              </a:gs>
            </a:gsLst>
            <a:lin ang="13500000"/>
          </a:gradFill>
          <a:ln w="6480">
            <a:solidFill>
              <a:srgbClr val="800080"/>
            </a:solidFill>
            <a:round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 az a Pre-Staging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246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sődleges célja a bizton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 lehessen csak úgy egy gépet feltenni a hálóza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eendő kliens GUID-ját és az őt kiszolgáló RIS szervert kell megad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219320" y="3962520"/>
            <a:ext cx="7374960" cy="2276280"/>
            <a:chOff x="1219320" y="3962520"/>
            <a:chExt cx="7374960" cy="2276280"/>
          </a:xfrm>
        </p:grpSpPr>
        <p:grpSp>
          <p:nvGrpSpPr>
            <p:cNvPr id="471" name=""/>
            <p:cNvGrpSpPr/>
            <p:nvPr/>
          </p:nvGrpSpPr>
          <p:grpSpPr>
            <a:xfrm>
              <a:off x="1219320" y="4336920"/>
              <a:ext cx="1029240" cy="1757160"/>
              <a:chOff x="1219320" y="4336920"/>
              <a:chExt cx="1029240" cy="1757160"/>
            </a:xfrm>
          </p:grpSpPr>
          <p:sp>
            <p:nvSpPr>
              <p:cNvPr id="472" name=""/>
              <p:cNvSpPr/>
              <p:nvPr/>
            </p:nvSpPr>
            <p:spPr>
              <a:xfrm>
                <a:off x="1238760" y="5644440"/>
                <a:ext cx="993600" cy="44964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1219320" y="4336920"/>
                <a:ext cx="1029240" cy="1713240"/>
                <a:chOff x="1219320" y="4336920"/>
                <a:chExt cx="1029240" cy="1713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222560" y="4336920"/>
                  <a:ext cx="1024560" cy="37656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30517c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669680" y="4440960"/>
                  <a:ext cx="578880" cy="160920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219320" y="4593960"/>
                  <a:ext cx="457200" cy="144756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283400" y="5812560"/>
                  <a:ext cx="315360" cy="885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271880" y="4665240"/>
                  <a:ext cx="50400" cy="28800"/>
                </a:xfrm>
                <a:prstGeom prst="ellipse">
                  <a:avLst/>
                </a:pr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283400" y="5746680"/>
                  <a:ext cx="315360" cy="885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283400" y="5680440"/>
                  <a:ext cx="315360" cy="903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283400" y="5616360"/>
                  <a:ext cx="315360" cy="885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283400" y="5548680"/>
                  <a:ext cx="315360" cy="885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288080" y="4916880"/>
                  <a:ext cx="312480" cy="61596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255320" y="4795200"/>
                  <a:ext cx="358200" cy="10728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278000" y="4835160"/>
                  <a:ext cx="319320" cy="61092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279800" y="4975920"/>
                  <a:ext cx="307080" cy="74160"/>
                </a:xfrm>
                <a:prstGeom prst="line">
                  <a:avLst/>
                </a:prstGeom>
                <a:ln w="32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279800" y="5106240"/>
                  <a:ext cx="310680" cy="74160"/>
                </a:xfrm>
                <a:prstGeom prst="line">
                  <a:avLst/>
                </a:prstGeom>
                <a:ln w="32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279800" y="5267520"/>
                  <a:ext cx="295920" cy="74160"/>
                </a:xfrm>
                <a:prstGeom prst="line">
                  <a:avLst/>
                </a:prstGeom>
                <a:ln w="32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71960" y="4911480"/>
                  <a:ext cx="121320" cy="6912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324440" y="4921920"/>
                  <a:ext cx="226800" cy="5184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301040" y="5159520"/>
                  <a:ext cx="274680" cy="13032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301040" y="5321160"/>
                  <a:ext cx="274680" cy="14400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296360" y="5014080"/>
                  <a:ext cx="279720" cy="13320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 flipV="1">
                  <a:off x="1496880" y="5095440"/>
                  <a:ext cx="54000" cy="13680"/>
                </a:xfrm>
                <a:prstGeom prst="line">
                  <a:avLst/>
                </a:prstGeom>
                <a:ln w="93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flipV="1">
                  <a:off x="1496880" y="5237640"/>
                  <a:ext cx="54000" cy="11880"/>
                </a:xfrm>
                <a:prstGeom prst="line">
                  <a:avLst/>
                </a:prstGeom>
                <a:ln w="93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 flipV="1">
                  <a:off x="1496880" y="5409360"/>
                  <a:ext cx="54000" cy="14040"/>
                </a:xfrm>
                <a:prstGeom prst="line">
                  <a:avLst/>
                </a:prstGeom>
                <a:ln w="93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" name=""/>
            <p:cNvGrpSpPr/>
            <p:nvPr/>
          </p:nvGrpSpPr>
          <p:grpSpPr>
            <a:xfrm>
              <a:off x="6916680" y="3962520"/>
              <a:ext cx="804600" cy="822240"/>
              <a:chOff x="6916680" y="3962520"/>
              <a:chExt cx="804600" cy="8222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6916680" y="4395240"/>
                <a:ext cx="778320" cy="389520"/>
                <a:chOff x="6916680" y="4395240"/>
                <a:chExt cx="778320" cy="3895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5720" y="4496400"/>
                  <a:ext cx="268200" cy="28836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916680" y="4395240"/>
                  <a:ext cx="778320" cy="249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916680" y="4518000"/>
                  <a:ext cx="509040" cy="26640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182720" y="4612680"/>
                  <a:ext cx="199800" cy="129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187040" y="4660920"/>
                  <a:ext cx="192600" cy="4608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182720" y="4611600"/>
                  <a:ext cx="198720" cy="79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200000" y="4638240"/>
                  <a:ext cx="155880" cy="35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332840" y="4712040"/>
                  <a:ext cx="2916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249320" y="4647600"/>
                  <a:ext cx="47880" cy="234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960" bIns="-39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930000" y="4546440"/>
                  <a:ext cx="205560" cy="536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930000" y="4567320"/>
                  <a:ext cx="205560" cy="52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30000" y="4588920"/>
                  <a:ext cx="205560" cy="540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0000" y="4609800"/>
                  <a:ext cx="205560" cy="52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184880" y="4668480"/>
                  <a:ext cx="201600" cy="79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6993000" y="3962520"/>
                <a:ext cx="728280" cy="634680"/>
                <a:chOff x="6993000" y="3962520"/>
                <a:chExt cx="728280" cy="6346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7048080" y="4375440"/>
                  <a:ext cx="567360" cy="2217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054920" y="4380120"/>
                  <a:ext cx="549000" cy="1965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191720" y="4428360"/>
                  <a:ext cx="285480" cy="105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035480" y="4431960"/>
                  <a:ext cx="461160" cy="119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146000" y="3962520"/>
                  <a:ext cx="575280" cy="4914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505280" y="4070880"/>
                  <a:ext cx="115200" cy="47808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993000" y="3967920"/>
                  <a:ext cx="627480" cy="1623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30517c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993000" y="4016160"/>
                  <a:ext cx="512280" cy="5349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032600" y="4063320"/>
                  <a:ext cx="433440" cy="43848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059240" y="4092840"/>
                  <a:ext cx="379440" cy="37800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30517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92720" y="4123800"/>
                  <a:ext cx="0" cy="57600"/>
                </a:xfrm>
                <a:prstGeom prst="line">
                  <a:avLst/>
                </a:prstGeom>
                <a:ln w="255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"/>
            <p:cNvSpPr/>
            <p:nvPr/>
          </p:nvSpPr>
          <p:spPr>
            <a:xfrm>
              <a:off x="2179440" y="4386240"/>
              <a:ext cx="2001960" cy="159372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97240" y="4681440"/>
              <a:ext cx="379080" cy="1000080"/>
            </a:xfrm>
            <a:custGeom>
              <a:avLst/>
              <a:gdLst/>
              <a:ahLst/>
              <a:rect l="l" t="t" r="r" b="b"/>
              <a:pathLst>
                <a:path w="400" h="244">
                  <a:moveTo>
                    <a:pt x="0" y="0"/>
                  </a:moveTo>
                  <a:lnTo>
                    <a:pt x="0" y="244"/>
                  </a:lnTo>
                  <a:lnTo>
                    <a:pt x="400" y="24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76440" y="4916520"/>
              <a:ext cx="289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1188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92200" y="5307120"/>
              <a:ext cx="3733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1188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678040" y="4711680"/>
              <a:ext cx="349200" cy="355680"/>
              <a:chOff x="2678040" y="4711680"/>
              <a:chExt cx="349200" cy="355680"/>
            </a:xfrm>
          </p:grpSpPr>
          <p:sp>
            <p:nvSpPr>
              <p:cNvPr id="530" name=""/>
              <p:cNvSpPr/>
              <p:nvPr/>
            </p:nvSpPr>
            <p:spPr>
              <a:xfrm>
                <a:off x="2678040" y="4918320"/>
                <a:ext cx="349200" cy="149040"/>
              </a:xfrm>
              <a:custGeom>
                <a:avLst/>
                <a:gdLst/>
                <a:ahLst/>
                <a:rect l="l" t="t" r="r" b="b"/>
                <a:pathLst>
                  <a:path w="1117" h="449">
                    <a:moveTo>
                      <a:pt x="0" y="157"/>
                    </a:moveTo>
                    <a:lnTo>
                      <a:pt x="0" y="448"/>
                    </a:lnTo>
                    <a:lnTo>
                      <a:pt x="938" y="448"/>
                    </a:lnTo>
                    <a:lnTo>
                      <a:pt x="1116" y="322"/>
                    </a:lnTo>
                    <a:lnTo>
                      <a:pt x="1116" y="0"/>
                    </a:lnTo>
                    <a:lnTo>
                      <a:pt x="211" y="0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709000" y="4711680"/>
                <a:ext cx="281160" cy="235440"/>
              </a:xfrm>
              <a:custGeom>
                <a:avLst/>
                <a:gdLst/>
                <a:ahLst/>
                <a:rect l="l" t="t" r="r" b="b"/>
                <a:pathLst>
                  <a:path w="899" h="709">
                    <a:moveTo>
                      <a:pt x="0" y="708"/>
                    </a:moveTo>
                    <a:lnTo>
                      <a:pt x="740" y="708"/>
                    </a:lnTo>
                    <a:lnTo>
                      <a:pt x="898" y="598"/>
                    </a:lnTo>
                    <a:lnTo>
                      <a:pt x="898" y="0"/>
                    </a:lnTo>
                    <a:lnTo>
                      <a:pt x="126" y="0"/>
                    </a:lnTo>
                    <a:lnTo>
                      <a:pt x="0" y="94"/>
                    </a:lnTo>
                    <a:lnTo>
                      <a:pt x="0" y="708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24480" y="4747680"/>
                <a:ext cx="211320" cy="1828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24480" y="4747680"/>
                <a:ext cx="197280" cy="16920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51120" y="4726800"/>
                <a:ext cx="201240" cy="183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36000" y="4763160"/>
                <a:ext cx="169920" cy="13752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46440" y="4774320"/>
                <a:ext cx="147240" cy="1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758320" y="4787280"/>
                <a:ext cx="135000" cy="1008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94600" y="4975920"/>
                <a:ext cx="267840" cy="7308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709000" y="4988880"/>
                <a:ext cx="253440" cy="601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62000" y="5004360"/>
                <a:ext cx="8856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715840" y="5002920"/>
                <a:ext cx="31680" cy="18720"/>
              </a:xfrm>
              <a:prstGeom prst="rect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678040" y="5110200"/>
              <a:ext cx="349200" cy="353880"/>
              <a:chOff x="2678040" y="5110200"/>
              <a:chExt cx="349200" cy="353880"/>
            </a:xfrm>
          </p:grpSpPr>
          <p:sp>
            <p:nvSpPr>
              <p:cNvPr id="543" name=""/>
              <p:cNvSpPr/>
              <p:nvPr/>
            </p:nvSpPr>
            <p:spPr>
              <a:xfrm>
                <a:off x="2678040" y="5315760"/>
                <a:ext cx="349200" cy="148320"/>
              </a:xfrm>
              <a:custGeom>
                <a:avLst/>
                <a:gdLst/>
                <a:ahLst/>
                <a:rect l="l" t="t" r="r" b="b"/>
                <a:pathLst>
                  <a:path w="1117" h="449">
                    <a:moveTo>
                      <a:pt x="0" y="157"/>
                    </a:moveTo>
                    <a:lnTo>
                      <a:pt x="0" y="448"/>
                    </a:lnTo>
                    <a:lnTo>
                      <a:pt x="938" y="448"/>
                    </a:lnTo>
                    <a:lnTo>
                      <a:pt x="1116" y="322"/>
                    </a:lnTo>
                    <a:lnTo>
                      <a:pt x="1116" y="0"/>
                    </a:lnTo>
                    <a:lnTo>
                      <a:pt x="211" y="0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09000" y="5110200"/>
                <a:ext cx="281160" cy="234360"/>
              </a:xfrm>
              <a:custGeom>
                <a:avLst/>
                <a:gdLst/>
                <a:ahLst/>
                <a:rect l="l" t="t" r="r" b="b"/>
                <a:pathLst>
                  <a:path w="899" h="709">
                    <a:moveTo>
                      <a:pt x="0" y="708"/>
                    </a:moveTo>
                    <a:lnTo>
                      <a:pt x="740" y="708"/>
                    </a:lnTo>
                    <a:lnTo>
                      <a:pt x="898" y="598"/>
                    </a:lnTo>
                    <a:lnTo>
                      <a:pt x="898" y="0"/>
                    </a:lnTo>
                    <a:lnTo>
                      <a:pt x="126" y="0"/>
                    </a:lnTo>
                    <a:lnTo>
                      <a:pt x="0" y="94"/>
                    </a:lnTo>
                    <a:lnTo>
                      <a:pt x="0" y="708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724480" y="5146200"/>
                <a:ext cx="211320" cy="1821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24480" y="5146200"/>
                <a:ext cx="197280" cy="16848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51120" y="5125320"/>
                <a:ext cx="201240" cy="183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736000" y="5161320"/>
                <a:ext cx="169920" cy="1368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746440" y="5172480"/>
                <a:ext cx="147240" cy="11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58320" y="5185440"/>
                <a:ext cx="135000" cy="10044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94600" y="5373000"/>
                <a:ext cx="267840" cy="7272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09000" y="5385960"/>
                <a:ext cx="253440" cy="601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862000" y="5401440"/>
                <a:ext cx="8856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15840" y="5400000"/>
                <a:ext cx="31680" cy="18720"/>
              </a:xfrm>
              <a:prstGeom prst="rect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2678040" y="5508720"/>
              <a:ext cx="349200" cy="353880"/>
              <a:chOff x="2678040" y="5508720"/>
              <a:chExt cx="349200" cy="353880"/>
            </a:xfrm>
          </p:grpSpPr>
          <p:sp>
            <p:nvSpPr>
              <p:cNvPr id="556" name=""/>
              <p:cNvSpPr/>
              <p:nvPr/>
            </p:nvSpPr>
            <p:spPr>
              <a:xfrm>
                <a:off x="2678040" y="5714280"/>
                <a:ext cx="349200" cy="148320"/>
              </a:xfrm>
              <a:custGeom>
                <a:avLst/>
                <a:gdLst/>
                <a:ahLst/>
                <a:rect l="l" t="t" r="r" b="b"/>
                <a:pathLst>
                  <a:path w="1117" h="449">
                    <a:moveTo>
                      <a:pt x="0" y="157"/>
                    </a:moveTo>
                    <a:lnTo>
                      <a:pt x="0" y="448"/>
                    </a:lnTo>
                    <a:lnTo>
                      <a:pt x="938" y="448"/>
                    </a:lnTo>
                    <a:lnTo>
                      <a:pt x="1116" y="322"/>
                    </a:lnTo>
                    <a:lnTo>
                      <a:pt x="1116" y="0"/>
                    </a:lnTo>
                    <a:lnTo>
                      <a:pt x="211" y="0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709000" y="5508720"/>
                <a:ext cx="281160" cy="234360"/>
              </a:xfrm>
              <a:custGeom>
                <a:avLst/>
                <a:gdLst/>
                <a:ahLst/>
                <a:rect l="l" t="t" r="r" b="b"/>
                <a:pathLst>
                  <a:path w="899" h="709">
                    <a:moveTo>
                      <a:pt x="0" y="708"/>
                    </a:moveTo>
                    <a:lnTo>
                      <a:pt x="740" y="708"/>
                    </a:lnTo>
                    <a:lnTo>
                      <a:pt x="898" y="598"/>
                    </a:lnTo>
                    <a:lnTo>
                      <a:pt x="898" y="0"/>
                    </a:lnTo>
                    <a:lnTo>
                      <a:pt x="126" y="0"/>
                    </a:lnTo>
                    <a:lnTo>
                      <a:pt x="0" y="94"/>
                    </a:lnTo>
                    <a:lnTo>
                      <a:pt x="0" y="708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24480" y="5544720"/>
                <a:ext cx="211320" cy="1821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724480" y="5544720"/>
                <a:ext cx="197280" cy="16848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751120" y="5523840"/>
                <a:ext cx="201240" cy="183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36000" y="5559840"/>
                <a:ext cx="169920" cy="1368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746440" y="5571000"/>
                <a:ext cx="147240" cy="11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758320" y="5583960"/>
                <a:ext cx="135000" cy="10044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694600" y="5771520"/>
                <a:ext cx="267840" cy="7272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709000" y="5784480"/>
                <a:ext cx="253440" cy="601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62000" y="5799960"/>
                <a:ext cx="8856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15840" y="5798520"/>
                <a:ext cx="31680" cy="18720"/>
              </a:xfrm>
              <a:prstGeom prst="rect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308320" y="4827600"/>
              <a:ext cx="179280" cy="189000"/>
              <a:chOff x="2308320" y="4827600"/>
              <a:chExt cx="179280" cy="189000"/>
            </a:xfrm>
          </p:grpSpPr>
          <p:sp>
            <p:nvSpPr>
              <p:cNvPr id="569" name=""/>
              <p:cNvSpPr/>
              <p:nvPr/>
            </p:nvSpPr>
            <p:spPr>
              <a:xfrm>
                <a:off x="2308320" y="4827600"/>
                <a:ext cx="179280" cy="189000"/>
              </a:xfrm>
              <a:prstGeom prst="rect">
                <a:avLst/>
              </a:prstGeom>
              <a:solidFill>
                <a:srgbClr val="30517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28120" y="4848480"/>
                <a:ext cx="139320" cy="146520"/>
              </a:xfrm>
              <a:prstGeom prst="plus">
                <a:avLst>
                  <a:gd name="adj" fmla="val 3904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2293920" y="4386240"/>
              <a:ext cx="16272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e-stag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83040" y="4740120"/>
              <a:ext cx="920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ute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83040" y="5143680"/>
              <a:ext cx="9205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uter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83040" y="5546880"/>
              <a:ext cx="920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uter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2308320" y="5213520"/>
              <a:ext cx="179280" cy="190440"/>
              <a:chOff x="2308320" y="5213520"/>
              <a:chExt cx="179280" cy="190440"/>
            </a:xfrm>
          </p:grpSpPr>
          <p:sp>
            <p:nvSpPr>
              <p:cNvPr id="576" name=""/>
              <p:cNvSpPr/>
              <p:nvPr/>
            </p:nvSpPr>
            <p:spPr>
              <a:xfrm>
                <a:off x="2308320" y="5213520"/>
                <a:ext cx="179280" cy="190440"/>
              </a:xfrm>
              <a:prstGeom prst="rect">
                <a:avLst/>
              </a:prstGeom>
              <a:solidFill>
                <a:srgbClr val="30517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328120" y="5234760"/>
                <a:ext cx="139320" cy="147600"/>
              </a:xfrm>
              <a:prstGeom prst="plus">
                <a:avLst>
                  <a:gd name="adj" fmla="val 3904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08320" y="5578560"/>
              <a:ext cx="179280" cy="190440"/>
              <a:chOff x="2308320" y="5578560"/>
              <a:chExt cx="179280" cy="190440"/>
            </a:xfrm>
          </p:grpSpPr>
          <p:sp>
            <p:nvSpPr>
              <p:cNvPr id="579" name=""/>
              <p:cNvSpPr/>
              <p:nvPr/>
            </p:nvSpPr>
            <p:spPr>
              <a:xfrm>
                <a:off x="2308320" y="5578560"/>
                <a:ext cx="179280" cy="190440"/>
              </a:xfrm>
              <a:prstGeom prst="rect">
                <a:avLst/>
              </a:prstGeom>
              <a:solidFill>
                <a:srgbClr val="30517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28120" y="5599800"/>
                <a:ext cx="139320" cy="147600"/>
              </a:xfrm>
              <a:prstGeom prst="plus">
                <a:avLst>
                  <a:gd name="adj" fmla="val 3904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249800" y="5029200"/>
              <a:ext cx="838080" cy="52056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4782960" y="5029200"/>
              <a:ext cx="468000" cy="475920"/>
              <a:chOff x="4782960" y="5029200"/>
              <a:chExt cx="468000" cy="475920"/>
            </a:xfrm>
          </p:grpSpPr>
          <p:sp>
            <p:nvSpPr>
              <p:cNvPr id="583" name=""/>
              <p:cNvSpPr/>
              <p:nvPr/>
            </p:nvSpPr>
            <p:spPr>
              <a:xfrm>
                <a:off x="5013720" y="5245920"/>
                <a:ext cx="79920" cy="17604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52" y="0"/>
                    </a:moveTo>
                    <a:lnTo>
                      <a:pt x="52" y="77"/>
                    </a:lnTo>
                    <a:lnTo>
                      <a:pt x="43" y="78"/>
                    </a:lnTo>
                    <a:lnTo>
                      <a:pt x="34" y="80"/>
                    </a:lnTo>
                    <a:lnTo>
                      <a:pt x="23" y="84"/>
                    </a:lnTo>
                    <a:lnTo>
                      <a:pt x="14" y="87"/>
                    </a:lnTo>
                    <a:lnTo>
                      <a:pt x="8" y="90"/>
                    </a:lnTo>
                    <a:lnTo>
                      <a:pt x="0" y="94"/>
                    </a:lnTo>
                    <a:lnTo>
                      <a:pt x="0" y="17"/>
                    </a:lnTo>
                    <a:lnTo>
                      <a:pt x="8" y="12"/>
                    </a:lnTo>
                    <a:lnTo>
                      <a:pt x="19" y="9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013720" y="5086080"/>
                <a:ext cx="79920" cy="155880"/>
              </a:xfrm>
              <a:custGeom>
                <a:avLst/>
                <a:gdLst/>
                <a:ahLst/>
                <a:rect l="l" t="t" r="r" b="b"/>
                <a:pathLst>
                  <a:path w="53" h="84">
                    <a:moveTo>
                      <a:pt x="52" y="0"/>
                    </a:moveTo>
                    <a:lnTo>
                      <a:pt x="52" y="68"/>
                    </a:lnTo>
                    <a:lnTo>
                      <a:pt x="43" y="69"/>
                    </a:lnTo>
                    <a:lnTo>
                      <a:pt x="34" y="71"/>
                    </a:lnTo>
                    <a:lnTo>
                      <a:pt x="23" y="74"/>
                    </a:lnTo>
                    <a:lnTo>
                      <a:pt x="14" y="77"/>
                    </a:lnTo>
                    <a:lnTo>
                      <a:pt x="8" y="79"/>
                    </a:lnTo>
                    <a:lnTo>
                      <a:pt x="0" y="83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9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782960" y="5075280"/>
                <a:ext cx="25560" cy="29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6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785840" y="5134680"/>
                <a:ext cx="19440" cy="313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12" y="1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785840" y="5197680"/>
                <a:ext cx="19440" cy="259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2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5251320"/>
                <a:ext cx="16200" cy="3132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0"/>
                    </a:moveTo>
                    <a:lnTo>
                      <a:pt x="10" y="10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5840" y="5318280"/>
                <a:ext cx="19440" cy="291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85840" y="5379120"/>
                <a:ext cx="19440" cy="277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0"/>
                    </a:moveTo>
                    <a:lnTo>
                      <a:pt x="12" y="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82960" y="5434920"/>
                <a:ext cx="25560" cy="3456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818960" y="5084640"/>
                <a:ext cx="38880" cy="44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5" y="14"/>
                    </a:lnTo>
                    <a:lnTo>
                      <a:pt x="0" y="23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25080" y="51512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825080" y="52106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818960" y="526608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825080" y="5331240"/>
                <a:ext cx="29880" cy="3456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25080" y="53906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9" y="12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18960" y="5447520"/>
                <a:ext cx="38880" cy="428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0"/>
                    </a:moveTo>
                    <a:lnTo>
                      <a:pt x="25" y="14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65760" y="5084640"/>
                <a:ext cx="42480" cy="5544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7" y="0"/>
                    </a:moveTo>
                    <a:lnTo>
                      <a:pt x="27" y="1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870440" y="514764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70440" y="520668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65760" y="5266080"/>
                <a:ext cx="28440" cy="46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8" y="0"/>
                    </a:moveTo>
                    <a:lnTo>
                      <a:pt x="18" y="16"/>
                    </a:lnTo>
                    <a:lnTo>
                      <a:pt x="0" y="24"/>
                    </a:lnTo>
                    <a:lnTo>
                      <a:pt x="0" y="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70440" y="5329080"/>
                <a:ext cx="33120" cy="496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0440" y="5386680"/>
                <a:ext cx="33120" cy="496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865760" y="5446080"/>
                <a:ext cx="42480" cy="514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0"/>
                    </a:moveTo>
                    <a:lnTo>
                      <a:pt x="27" y="1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11120" y="5078880"/>
                <a:ext cx="46440" cy="6444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0" y="0"/>
                    </a:moveTo>
                    <a:lnTo>
                      <a:pt x="30" y="23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917240" y="5145840"/>
                <a:ext cx="39240" cy="5544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917240" y="5201280"/>
                <a:ext cx="39240" cy="5904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5" y="0"/>
                    </a:moveTo>
                    <a:lnTo>
                      <a:pt x="25" y="2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911120" y="5258880"/>
                <a:ext cx="46440" cy="6840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30" y="2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917240" y="5325480"/>
                <a:ext cx="39240" cy="5580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917240" y="5384520"/>
                <a:ext cx="39240" cy="5580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11120" y="5438520"/>
                <a:ext cx="46440" cy="6660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0" y="0"/>
                    </a:moveTo>
                    <a:lnTo>
                      <a:pt x="30" y="24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962600" y="5055120"/>
                <a:ext cx="46440" cy="8676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30" y="0"/>
                    </a:moveTo>
                    <a:lnTo>
                      <a:pt x="30" y="33"/>
                    </a:lnTo>
                    <a:lnTo>
                      <a:pt x="0" y="4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62600" y="5123520"/>
                <a:ext cx="46440" cy="6984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62600" y="5182920"/>
                <a:ext cx="46440" cy="6984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962600" y="5240160"/>
                <a:ext cx="46440" cy="7812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0" y="0"/>
                    </a:moveTo>
                    <a:lnTo>
                      <a:pt x="30" y="28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962600" y="5299560"/>
                <a:ext cx="46440" cy="7560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0" y="0"/>
                    </a:moveTo>
                    <a:lnTo>
                      <a:pt x="30" y="28"/>
                    </a:lnTo>
                    <a:lnTo>
                      <a:pt x="0" y="40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962600" y="5364360"/>
                <a:ext cx="46440" cy="7200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0" y="0"/>
                    </a:moveTo>
                    <a:lnTo>
                      <a:pt x="30" y="26"/>
                    </a:lnTo>
                    <a:lnTo>
                      <a:pt x="0" y="38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962600" y="5423760"/>
                <a:ext cx="46440" cy="7380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30" y="0"/>
                    </a:moveTo>
                    <a:lnTo>
                      <a:pt x="30" y="27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2" y="30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5" y="37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13720" y="5029200"/>
                <a:ext cx="237240" cy="452160"/>
              </a:xfrm>
              <a:custGeom>
                <a:avLst/>
                <a:gdLst/>
                <a:ahLst/>
                <a:rect l="l" t="t" r="r" b="b"/>
                <a:pathLst>
                  <a:path w="157" h="244">
                    <a:moveTo>
                      <a:pt x="156" y="19"/>
                    </a:moveTo>
                    <a:lnTo>
                      <a:pt x="156" y="243"/>
                    </a:lnTo>
                    <a:lnTo>
                      <a:pt x="154" y="242"/>
                    </a:lnTo>
                    <a:lnTo>
                      <a:pt x="152" y="241"/>
                    </a:lnTo>
                    <a:lnTo>
                      <a:pt x="150" y="240"/>
                    </a:lnTo>
                    <a:lnTo>
                      <a:pt x="148" y="238"/>
                    </a:lnTo>
                    <a:lnTo>
                      <a:pt x="146" y="238"/>
                    </a:lnTo>
                    <a:lnTo>
                      <a:pt x="144" y="237"/>
                    </a:lnTo>
                    <a:lnTo>
                      <a:pt x="142" y="236"/>
                    </a:lnTo>
                    <a:lnTo>
                      <a:pt x="140" y="235"/>
                    </a:lnTo>
                    <a:lnTo>
                      <a:pt x="138" y="234"/>
                    </a:lnTo>
                    <a:lnTo>
                      <a:pt x="136" y="233"/>
                    </a:lnTo>
                    <a:lnTo>
                      <a:pt x="134" y="232"/>
                    </a:lnTo>
                    <a:lnTo>
                      <a:pt x="132" y="232"/>
                    </a:lnTo>
                    <a:lnTo>
                      <a:pt x="129" y="231"/>
                    </a:lnTo>
                    <a:lnTo>
                      <a:pt x="127" y="230"/>
                    </a:lnTo>
                    <a:lnTo>
                      <a:pt x="125" y="230"/>
                    </a:lnTo>
                    <a:lnTo>
                      <a:pt x="123" y="229"/>
                    </a:lnTo>
                    <a:lnTo>
                      <a:pt x="120" y="229"/>
                    </a:lnTo>
                    <a:lnTo>
                      <a:pt x="118" y="228"/>
                    </a:lnTo>
                    <a:lnTo>
                      <a:pt x="116" y="227"/>
                    </a:lnTo>
                    <a:lnTo>
                      <a:pt x="113" y="227"/>
                    </a:lnTo>
                    <a:lnTo>
                      <a:pt x="111" y="227"/>
                    </a:lnTo>
                    <a:lnTo>
                      <a:pt x="108" y="226"/>
                    </a:lnTo>
                    <a:lnTo>
                      <a:pt x="106" y="226"/>
                    </a:lnTo>
                    <a:lnTo>
                      <a:pt x="103" y="226"/>
                    </a:lnTo>
                    <a:lnTo>
                      <a:pt x="101" y="225"/>
                    </a:lnTo>
                    <a:lnTo>
                      <a:pt x="98" y="225"/>
                    </a:lnTo>
                    <a:lnTo>
                      <a:pt x="96" y="225"/>
                    </a:lnTo>
                    <a:lnTo>
                      <a:pt x="93" y="225"/>
                    </a:lnTo>
                    <a:lnTo>
                      <a:pt x="90" y="225"/>
                    </a:lnTo>
                    <a:lnTo>
                      <a:pt x="88" y="225"/>
                    </a:lnTo>
                    <a:lnTo>
                      <a:pt x="85" y="224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4"/>
                    </a:lnTo>
                    <a:lnTo>
                      <a:pt x="75" y="225"/>
                    </a:lnTo>
                    <a:lnTo>
                      <a:pt x="73" y="225"/>
                    </a:lnTo>
                    <a:lnTo>
                      <a:pt x="70" y="225"/>
                    </a:lnTo>
                    <a:lnTo>
                      <a:pt x="68" y="225"/>
                    </a:lnTo>
                    <a:lnTo>
                      <a:pt x="66" y="225"/>
                    </a:lnTo>
                    <a:lnTo>
                      <a:pt x="63" y="225"/>
                    </a:lnTo>
                    <a:lnTo>
                      <a:pt x="61" y="226"/>
                    </a:lnTo>
                    <a:lnTo>
                      <a:pt x="58" y="226"/>
                    </a:lnTo>
                    <a:lnTo>
                      <a:pt x="56" y="226"/>
                    </a:lnTo>
                    <a:lnTo>
                      <a:pt x="53" y="226"/>
                    </a:lnTo>
                    <a:lnTo>
                      <a:pt x="51" y="227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3" y="228"/>
                    </a:lnTo>
                    <a:lnTo>
                      <a:pt x="41" y="228"/>
                    </a:lnTo>
                    <a:lnTo>
                      <a:pt x="38" y="229"/>
                    </a:lnTo>
                    <a:lnTo>
                      <a:pt x="35" y="229"/>
                    </a:lnTo>
                    <a:lnTo>
                      <a:pt x="33" y="229"/>
                    </a:lnTo>
                    <a:lnTo>
                      <a:pt x="30" y="230"/>
                    </a:lnTo>
                    <a:lnTo>
                      <a:pt x="27" y="230"/>
                    </a:lnTo>
                    <a:lnTo>
                      <a:pt x="25" y="231"/>
                    </a:lnTo>
                    <a:lnTo>
                      <a:pt x="22" y="232"/>
                    </a:lnTo>
                    <a:lnTo>
                      <a:pt x="19" y="232"/>
                    </a:lnTo>
                    <a:lnTo>
                      <a:pt x="17" y="233"/>
                    </a:lnTo>
                    <a:lnTo>
                      <a:pt x="14" y="234"/>
                    </a:lnTo>
                    <a:lnTo>
                      <a:pt x="11" y="234"/>
                    </a:lnTo>
                    <a:lnTo>
                      <a:pt x="8" y="235"/>
                    </a:lnTo>
                    <a:lnTo>
                      <a:pt x="6" y="236"/>
                    </a:lnTo>
                    <a:lnTo>
                      <a:pt x="3" y="237"/>
                    </a:lnTo>
                    <a:lnTo>
                      <a:pt x="0" y="237"/>
                    </a:lnTo>
                    <a:lnTo>
                      <a:pt x="0" y="205"/>
                    </a:lnTo>
                    <a:lnTo>
                      <a:pt x="3" y="204"/>
                    </a:lnTo>
                    <a:lnTo>
                      <a:pt x="6" y="203"/>
                    </a:lnTo>
                    <a:lnTo>
                      <a:pt x="9" y="202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8" y="199"/>
                    </a:lnTo>
                    <a:lnTo>
                      <a:pt x="21" y="198"/>
                    </a:lnTo>
                    <a:lnTo>
                      <a:pt x="24" y="198"/>
                    </a:lnTo>
                    <a:lnTo>
                      <a:pt x="27" y="197"/>
                    </a:lnTo>
                    <a:lnTo>
                      <a:pt x="30" y="196"/>
                    </a:lnTo>
                    <a:lnTo>
                      <a:pt x="33" y="195"/>
                    </a:lnTo>
                    <a:lnTo>
                      <a:pt x="37" y="195"/>
                    </a:lnTo>
                    <a:lnTo>
                      <a:pt x="40" y="194"/>
                    </a:lnTo>
                    <a:lnTo>
                      <a:pt x="43" y="193"/>
                    </a:lnTo>
                    <a:lnTo>
                      <a:pt x="46" y="193"/>
                    </a:lnTo>
                    <a:lnTo>
                      <a:pt x="50" y="192"/>
                    </a:lnTo>
                    <a:lnTo>
                      <a:pt x="50" y="120"/>
                    </a:lnTo>
                    <a:lnTo>
                      <a:pt x="47" y="121"/>
                    </a:lnTo>
                    <a:lnTo>
                      <a:pt x="44" y="121"/>
                    </a:lnTo>
                    <a:lnTo>
                      <a:pt x="41" y="122"/>
                    </a:lnTo>
                    <a:lnTo>
                      <a:pt x="38" y="122"/>
                    </a:lnTo>
                    <a:lnTo>
                      <a:pt x="35" y="123"/>
                    </a:lnTo>
                    <a:lnTo>
                      <a:pt x="32" y="124"/>
                    </a:lnTo>
                    <a:lnTo>
                      <a:pt x="29" y="125"/>
                    </a:lnTo>
                    <a:lnTo>
                      <a:pt x="26" y="126"/>
                    </a:lnTo>
                    <a:lnTo>
                      <a:pt x="23" y="127"/>
                    </a:lnTo>
                    <a:lnTo>
                      <a:pt x="20" y="128"/>
                    </a:lnTo>
                    <a:lnTo>
                      <a:pt x="17" y="129"/>
                    </a:lnTo>
                    <a:lnTo>
                      <a:pt x="13" y="130"/>
                    </a:lnTo>
                    <a:lnTo>
                      <a:pt x="10" y="132"/>
                    </a:lnTo>
                    <a:lnTo>
                      <a:pt x="7" y="133"/>
                    </a:lnTo>
                    <a:lnTo>
                      <a:pt x="3" y="135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3" y="113"/>
                    </a:lnTo>
                    <a:lnTo>
                      <a:pt x="6" y="111"/>
                    </a:lnTo>
                    <a:lnTo>
                      <a:pt x="9" y="110"/>
                    </a:lnTo>
                    <a:lnTo>
                      <a:pt x="12" y="109"/>
                    </a:lnTo>
                    <a:lnTo>
                      <a:pt x="15" y="108"/>
                    </a:lnTo>
                    <a:lnTo>
                      <a:pt x="18" y="107"/>
                    </a:lnTo>
                    <a:lnTo>
                      <a:pt x="21" y="106"/>
                    </a:lnTo>
                    <a:lnTo>
                      <a:pt x="24" y="105"/>
                    </a:lnTo>
                    <a:lnTo>
                      <a:pt x="27" y="104"/>
                    </a:lnTo>
                    <a:lnTo>
                      <a:pt x="30" y="103"/>
                    </a:lnTo>
                    <a:lnTo>
                      <a:pt x="34" y="102"/>
                    </a:lnTo>
                    <a:lnTo>
                      <a:pt x="37" y="101"/>
                    </a:lnTo>
                    <a:lnTo>
                      <a:pt x="40" y="101"/>
                    </a:lnTo>
                    <a:lnTo>
                      <a:pt x="43" y="100"/>
                    </a:lnTo>
                    <a:lnTo>
                      <a:pt x="46" y="99"/>
                    </a:lnTo>
                    <a:lnTo>
                      <a:pt x="50" y="99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6" y="38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6" y="40"/>
                    </a:lnTo>
                    <a:lnTo>
                      <a:pt x="13" y="41"/>
                    </a:lnTo>
                    <a:lnTo>
                      <a:pt x="10" y="42"/>
                    </a:lnTo>
                    <a:lnTo>
                      <a:pt x="6" y="43"/>
                    </a:lnTo>
                    <a:lnTo>
                      <a:pt x="3" y="45"/>
                    </a:lnTo>
                    <a:lnTo>
                      <a:pt x="0" y="46"/>
                    </a:lnTo>
                    <a:lnTo>
                      <a:pt x="0" y="14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99" y="1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4" y="4"/>
                    </a:lnTo>
                    <a:lnTo>
                      <a:pt x="117" y="4"/>
                    </a:lnTo>
                    <a:lnTo>
                      <a:pt x="119" y="5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9"/>
                    </a:lnTo>
                    <a:lnTo>
                      <a:pt x="136" y="10"/>
                    </a:lnTo>
                    <a:lnTo>
                      <a:pt x="138" y="11"/>
                    </a:lnTo>
                    <a:lnTo>
                      <a:pt x="140" y="12"/>
                    </a:lnTo>
                    <a:lnTo>
                      <a:pt x="143" y="13"/>
                    </a:lnTo>
                    <a:lnTo>
                      <a:pt x="145" y="14"/>
                    </a:lnTo>
                    <a:lnTo>
                      <a:pt x="147" y="15"/>
                    </a:lnTo>
                    <a:lnTo>
                      <a:pt x="149" y="16"/>
                    </a:lnTo>
                    <a:lnTo>
                      <a:pt x="151" y="17"/>
                    </a:lnTo>
                    <a:lnTo>
                      <a:pt x="154" y="18"/>
                    </a:lnTo>
                    <a:lnTo>
                      <a:pt x="156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125680" y="5092200"/>
                <a:ext cx="81360" cy="13860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3" y="10"/>
                    </a:moveTo>
                    <a:lnTo>
                      <a:pt x="53" y="10"/>
                    </a:lnTo>
                    <a:lnTo>
                      <a:pt x="51" y="9"/>
                    </a:lnTo>
                    <a:lnTo>
                      <a:pt x="48" y="7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0" y="5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0" y="69"/>
                    </a:lnTo>
                    <a:lnTo>
                      <a:pt x="33" y="69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2" y="71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3"/>
                    </a:lnTo>
                    <a:lnTo>
                      <a:pt x="53" y="74"/>
                    </a:lnTo>
                    <a:lnTo>
                      <a:pt x="53" y="1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123880" y="5251320"/>
                <a:ext cx="81720" cy="14832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3" y="8"/>
                    </a:moveTo>
                    <a:lnTo>
                      <a:pt x="53" y="8"/>
                    </a:lnTo>
                    <a:lnTo>
                      <a:pt x="50" y="7"/>
                    </a:lnTo>
                    <a:lnTo>
                      <a:pt x="48" y="6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6" y="73"/>
                    </a:lnTo>
                    <a:lnTo>
                      <a:pt x="10" y="73"/>
                    </a:lnTo>
                    <a:lnTo>
                      <a:pt x="13" y="73"/>
                    </a:lnTo>
                    <a:lnTo>
                      <a:pt x="16" y="73"/>
                    </a:lnTo>
                    <a:lnTo>
                      <a:pt x="19" y="73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1" y="74"/>
                    </a:lnTo>
                    <a:lnTo>
                      <a:pt x="34" y="75"/>
                    </a:lnTo>
                    <a:lnTo>
                      <a:pt x="37" y="75"/>
                    </a:lnTo>
                    <a:lnTo>
                      <a:pt x="40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53" y="79"/>
                    </a:lnTo>
                    <a:lnTo>
                      <a:pt x="53" y="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H="1">
              <a:off x="7373880" y="4724280"/>
              <a:ext cx="1146240" cy="29556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uter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6916680" y="5334120"/>
              <a:ext cx="728640" cy="822240"/>
              <a:chOff x="6916680" y="5334120"/>
              <a:chExt cx="728640" cy="8222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6916680" y="5766840"/>
                <a:ext cx="704520" cy="389520"/>
                <a:chOff x="6916680" y="5766840"/>
                <a:chExt cx="704520" cy="3895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7377480" y="5868000"/>
                  <a:ext cx="242640" cy="28836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916680" y="5766840"/>
                  <a:ext cx="704520" cy="249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916680" y="5889600"/>
                  <a:ext cx="460800" cy="26640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157520" y="5984280"/>
                  <a:ext cx="181080" cy="129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161480" y="6032520"/>
                  <a:ext cx="174240" cy="4608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157520" y="5983200"/>
                  <a:ext cx="180000" cy="79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173360" y="6009840"/>
                  <a:ext cx="141120" cy="35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293600" y="6083640"/>
                  <a:ext cx="2628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217640" y="6019200"/>
                  <a:ext cx="43200" cy="234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960" bIns="-39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928560" y="5918040"/>
                  <a:ext cx="186120" cy="536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928560" y="5938920"/>
                  <a:ext cx="186120" cy="52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928560" y="5960520"/>
                  <a:ext cx="186120" cy="540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928560" y="5981400"/>
                  <a:ext cx="186120" cy="52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159320" y="604008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985800" y="5334120"/>
                <a:ext cx="659520" cy="634680"/>
                <a:chOff x="6985800" y="5334120"/>
                <a:chExt cx="659520" cy="634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35480" y="5747040"/>
                  <a:ext cx="513360" cy="2217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041960" y="5751720"/>
                  <a:ext cx="496800" cy="1965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165800" y="5799960"/>
                  <a:ext cx="258480" cy="105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024320" y="5803560"/>
                  <a:ext cx="417240" cy="119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7124400" y="5334120"/>
                  <a:ext cx="520920" cy="4914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449480" y="5442480"/>
                  <a:ext cx="104040" cy="47808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985800" y="5339520"/>
                  <a:ext cx="568080" cy="1623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30517c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985800" y="5387760"/>
                  <a:ext cx="463680" cy="5349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021800" y="5434920"/>
                  <a:ext cx="392400" cy="43848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045920" y="5464440"/>
                  <a:ext cx="343440" cy="37800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30517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076160" y="5495400"/>
                  <a:ext cx="0" cy="57600"/>
                </a:xfrm>
                <a:prstGeom prst="line">
                  <a:avLst/>
                </a:prstGeom>
                <a:ln w="255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2" name=""/>
            <p:cNvSpPr/>
            <p:nvPr/>
          </p:nvSpPr>
          <p:spPr>
            <a:xfrm flipH="1">
              <a:off x="7449480" y="5943600"/>
              <a:ext cx="1144440" cy="2952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uter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02080" y="4572000"/>
              <a:ext cx="844560" cy="27792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m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97360" y="4495680"/>
              <a:ext cx="784440" cy="76212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468760" y="4647960"/>
              <a:ext cx="1295640" cy="53316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68760" y="5181480"/>
              <a:ext cx="1371600" cy="53352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413080" y="4183200"/>
            <a:ext cx="3429000" cy="241272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97800" y="2144880"/>
            <a:ext cx="838080" cy="60948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44520" y="3189240"/>
            <a:ext cx="1090440" cy="1233360"/>
            <a:chOff x="344520" y="3189240"/>
            <a:chExt cx="1090440" cy="1233360"/>
          </a:xfrm>
        </p:grpSpPr>
        <p:grpSp>
          <p:nvGrpSpPr>
            <p:cNvPr id="660" name=""/>
            <p:cNvGrpSpPr/>
            <p:nvPr/>
          </p:nvGrpSpPr>
          <p:grpSpPr>
            <a:xfrm>
              <a:off x="344520" y="3798720"/>
              <a:ext cx="1090440" cy="623880"/>
              <a:chOff x="344520" y="3798720"/>
              <a:chExt cx="1090440" cy="623880"/>
            </a:xfrm>
          </p:grpSpPr>
          <p:sp>
            <p:nvSpPr>
              <p:cNvPr id="661" name=""/>
              <p:cNvSpPr/>
              <p:nvPr/>
            </p:nvSpPr>
            <p:spPr>
              <a:xfrm>
                <a:off x="1058760" y="3967920"/>
                <a:ext cx="376200" cy="454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3" y="191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5240" y="3798720"/>
                <a:ext cx="1089360" cy="402840"/>
              </a:xfrm>
              <a:custGeom>
                <a:avLst/>
                <a:gdLst/>
                <a:ahLst/>
                <a:rect l="l" t="t" r="r" b="b"/>
                <a:pathLst>
                  <a:path w="1054" h="374">
                    <a:moveTo>
                      <a:pt x="691" y="374"/>
                    </a:moveTo>
                    <a:lnTo>
                      <a:pt x="0" y="191"/>
                    </a:lnTo>
                    <a:lnTo>
                      <a:pt x="363" y="0"/>
                    </a:lnTo>
                    <a:lnTo>
                      <a:pt x="1054" y="157"/>
                    </a:lnTo>
                    <a:lnTo>
                      <a:pt x="691" y="374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4520" y="4002480"/>
                <a:ext cx="714240" cy="42012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8560" y="4150800"/>
                <a:ext cx="280080" cy="20376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4680" y="4226400"/>
                <a:ext cx="269640" cy="7416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17480" y="4149000"/>
                <a:ext cx="279000" cy="124560"/>
              </a:xfrm>
              <a:custGeom>
                <a:avLst/>
                <a:gdLst/>
                <a:ahLst/>
                <a:rect l="l" t="t" r="r" b="b"/>
                <a:pathLst>
                  <a:path w="270" h="116">
                    <a:moveTo>
                      <a:pt x="0" y="116"/>
                    </a:moveTo>
                    <a:lnTo>
                      <a:pt x="1" y="0"/>
                    </a:lnTo>
                    <a:lnTo>
                      <a:pt x="270" y="75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43400" y="4190760"/>
                <a:ext cx="218160" cy="5796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28440" y="4307040"/>
                <a:ext cx="42120" cy="9720"/>
              </a:xfrm>
              <a:prstGeom prst="line">
                <a:avLst/>
              </a:prstGeom>
              <a:ln w="1908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1440" y="4206960"/>
                <a:ext cx="65880" cy="37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3960" y="4079880"/>
                <a:ext cx="288000" cy="838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3960" y="4114440"/>
                <a:ext cx="288000" cy="835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3960" y="4146840"/>
                <a:ext cx="288000" cy="838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0720" y="4239360"/>
                <a:ext cx="284040" cy="12600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64400" y="3189240"/>
              <a:ext cx="938520" cy="919080"/>
              <a:chOff x="464400" y="3189240"/>
              <a:chExt cx="938520" cy="919080"/>
            </a:xfrm>
          </p:grpSpPr>
          <p:sp>
            <p:nvSpPr>
              <p:cNvPr id="675" name=""/>
              <p:cNvSpPr/>
              <p:nvPr/>
            </p:nvSpPr>
            <p:spPr>
              <a:xfrm>
                <a:off x="535320" y="3787560"/>
                <a:ext cx="730440" cy="320760"/>
              </a:xfrm>
              <a:custGeom>
                <a:avLst/>
                <a:gdLst/>
                <a:ahLst/>
                <a:rect l="l" t="t" r="r" b="b"/>
                <a:pathLst>
                  <a:path w="707" h="298">
                    <a:moveTo>
                      <a:pt x="0" y="163"/>
                    </a:moveTo>
                    <a:lnTo>
                      <a:pt x="303" y="0"/>
                    </a:lnTo>
                    <a:lnTo>
                      <a:pt x="707" y="116"/>
                    </a:lnTo>
                    <a:lnTo>
                      <a:pt x="707" y="138"/>
                    </a:lnTo>
                    <a:lnTo>
                      <a:pt x="417" y="298"/>
                    </a:lnTo>
                    <a:lnTo>
                      <a:pt x="0" y="188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43600" y="3794400"/>
                <a:ext cx="708120" cy="284040"/>
              </a:xfrm>
              <a:custGeom>
                <a:avLst/>
                <a:gdLst/>
                <a:ahLst/>
                <a:rect l="l" t="t" r="r" b="b"/>
                <a:pathLst>
                  <a:path w="685" h="264">
                    <a:moveTo>
                      <a:pt x="0" y="158"/>
                    </a:moveTo>
                    <a:lnTo>
                      <a:pt x="409" y="264"/>
                    </a:lnTo>
                    <a:lnTo>
                      <a:pt x="685" y="110"/>
                    </a:lnTo>
                    <a:lnTo>
                      <a:pt x="297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20360" y="3864240"/>
                <a:ext cx="367920" cy="15408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19840" y="3870720"/>
                <a:ext cx="593280" cy="1720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61680" y="3189240"/>
                <a:ext cx="741240" cy="7128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123560" y="3346200"/>
                <a:ext cx="148680" cy="693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4400" y="3196440"/>
                <a:ext cx="808200" cy="23580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4400" y="3267360"/>
                <a:ext cx="660240" cy="77544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5880" y="3335400"/>
                <a:ext cx="558000" cy="63648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0080" y="3378600"/>
                <a:ext cx="488520" cy="5479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2200" y="3422520"/>
                <a:ext cx="0" cy="8388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2585880" y="1486080"/>
            <a:ext cx="1203480" cy="1392840"/>
            <a:chOff x="2585880" y="1486080"/>
            <a:chExt cx="1203480" cy="1392840"/>
          </a:xfrm>
        </p:grpSpPr>
        <p:grpSp>
          <p:nvGrpSpPr>
            <p:cNvPr id="687" name=""/>
            <p:cNvGrpSpPr/>
            <p:nvPr/>
          </p:nvGrpSpPr>
          <p:grpSpPr>
            <a:xfrm>
              <a:off x="2585880" y="1486080"/>
              <a:ext cx="789120" cy="1274040"/>
              <a:chOff x="2585880" y="1486080"/>
              <a:chExt cx="789120" cy="1274040"/>
            </a:xfrm>
          </p:grpSpPr>
          <p:sp>
            <p:nvSpPr>
              <p:cNvPr id="688" name=""/>
              <p:cNvSpPr/>
              <p:nvPr/>
            </p:nvSpPr>
            <p:spPr>
              <a:xfrm>
                <a:off x="2588760" y="1486080"/>
                <a:ext cx="785160" cy="27288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600640" y="2433960"/>
                <a:ext cx="762120" cy="3261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931840" y="1561680"/>
                <a:ext cx="443160" cy="116640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585880" y="1671840"/>
                <a:ext cx="350640" cy="10504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34480" y="2556360"/>
                <a:ext cx="241920" cy="63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25840" y="1723320"/>
                <a:ext cx="38880" cy="2232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34480" y="250776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634480" y="2459880"/>
                <a:ext cx="241920" cy="65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34480" y="241344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634480" y="236484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38080" y="1906560"/>
                <a:ext cx="240120" cy="4467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12880" y="1818000"/>
                <a:ext cx="274680" cy="77832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30520" y="1847880"/>
                <a:ext cx="244800" cy="44208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632680" y="1948680"/>
                <a:ext cx="23544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32680" y="2044080"/>
                <a:ext cx="238320" cy="529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32680" y="2160720"/>
                <a:ext cx="22680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702880" y="1902960"/>
                <a:ext cx="9324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66160" y="1910160"/>
                <a:ext cx="173880" cy="3744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649240" y="2083320"/>
                <a:ext cx="209160" cy="9432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649240" y="2199960"/>
                <a:ext cx="210240" cy="1044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804400" y="21384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10160" y="2255400"/>
                <a:ext cx="32400" cy="183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645640" y="197676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02600" y="2028960"/>
                <a:ext cx="327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2990880" y="2111040"/>
              <a:ext cx="798480" cy="767880"/>
              <a:chOff x="2990880" y="2111040"/>
              <a:chExt cx="798480" cy="76788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3069000" y="2626920"/>
                <a:ext cx="608760" cy="252000"/>
                <a:chOff x="3069000" y="2626920"/>
                <a:chExt cx="608760" cy="2520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3069000" y="2702520"/>
                  <a:ext cx="608760" cy="17640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069000" y="2626920"/>
                  <a:ext cx="608760" cy="23400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3226320" y="2659320"/>
                <a:ext cx="304920" cy="12348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037320" y="2664360"/>
                <a:ext cx="489960" cy="1360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175920" y="2111040"/>
                <a:ext cx="613440" cy="5652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536640" y="2249280"/>
                <a:ext cx="120600" cy="54828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990880" y="2128680"/>
                <a:ext cx="664560" cy="1868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90880" y="2185560"/>
                <a:ext cx="545760" cy="6148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032640" y="2238840"/>
                <a:ext cx="461880" cy="50544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061800" y="2273400"/>
                <a:ext cx="403920" cy="4345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097440" y="2307960"/>
                <a:ext cx="0" cy="6624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5214960" y="1284120"/>
            <a:ext cx="1203480" cy="1393200"/>
            <a:chOff x="5214960" y="1284120"/>
            <a:chExt cx="1203480" cy="1393200"/>
          </a:xfrm>
        </p:grpSpPr>
        <p:grpSp>
          <p:nvGrpSpPr>
            <p:cNvPr id="726" name=""/>
            <p:cNvGrpSpPr/>
            <p:nvPr/>
          </p:nvGrpSpPr>
          <p:grpSpPr>
            <a:xfrm>
              <a:off x="5214960" y="1284120"/>
              <a:ext cx="789120" cy="1274040"/>
              <a:chOff x="5214960" y="1284120"/>
              <a:chExt cx="789120" cy="1274040"/>
            </a:xfrm>
          </p:grpSpPr>
          <p:sp>
            <p:nvSpPr>
              <p:cNvPr id="727" name=""/>
              <p:cNvSpPr/>
              <p:nvPr/>
            </p:nvSpPr>
            <p:spPr>
              <a:xfrm>
                <a:off x="5217840" y="1284120"/>
                <a:ext cx="785160" cy="27288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229720" y="2232000"/>
                <a:ext cx="762120" cy="3261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60920" y="1359720"/>
                <a:ext cx="443160" cy="11667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214960" y="1470240"/>
                <a:ext cx="350640" cy="10508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263560" y="2354760"/>
                <a:ext cx="241920" cy="63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254920" y="1521360"/>
                <a:ext cx="38880" cy="2232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263560" y="230580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263560" y="2258280"/>
                <a:ext cx="241920" cy="65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63560" y="221148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263560" y="216288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267160" y="1704960"/>
                <a:ext cx="240120" cy="4467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241960" y="1616040"/>
                <a:ext cx="274680" cy="7786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259600" y="1645920"/>
                <a:ext cx="244800" cy="44208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261760" y="1746720"/>
                <a:ext cx="23544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261760" y="1842120"/>
                <a:ext cx="238320" cy="529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261760" y="1959120"/>
                <a:ext cx="22680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31960" y="1701000"/>
                <a:ext cx="9324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295240" y="1708560"/>
                <a:ext cx="173880" cy="3744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78320" y="1881360"/>
                <a:ext cx="209160" cy="9432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78320" y="1998360"/>
                <a:ext cx="210240" cy="1044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33480" y="193644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39240" y="2053800"/>
                <a:ext cx="32400" cy="183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74720" y="177516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431680" y="1827000"/>
                <a:ext cx="327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5619960" y="1909440"/>
              <a:ext cx="798480" cy="767880"/>
              <a:chOff x="5619960" y="1909440"/>
              <a:chExt cx="798480" cy="76788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5698080" y="2425320"/>
                <a:ext cx="608760" cy="252000"/>
                <a:chOff x="5698080" y="2425320"/>
                <a:chExt cx="608760" cy="25200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5698080" y="2500920"/>
                  <a:ext cx="608760" cy="17640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698080" y="2425320"/>
                  <a:ext cx="608760" cy="23400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"/>
              <p:cNvSpPr/>
              <p:nvPr/>
            </p:nvSpPr>
            <p:spPr>
              <a:xfrm>
                <a:off x="5855400" y="2457720"/>
                <a:ext cx="304920" cy="12348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6400" y="2462760"/>
                <a:ext cx="489960" cy="1360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20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05000" y="1909440"/>
                <a:ext cx="613440" cy="5652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1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165720" y="2047680"/>
                <a:ext cx="120600" cy="54828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19960" y="1927080"/>
                <a:ext cx="664560" cy="1868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19960" y="1983960"/>
                <a:ext cx="545760" cy="6148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1720" y="2037240"/>
                <a:ext cx="461880" cy="50544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90880" y="2071800"/>
                <a:ext cx="403920" cy="4345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726520" y="2106360"/>
                <a:ext cx="0" cy="6624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"/>
          <p:cNvSpPr/>
          <p:nvPr/>
        </p:nvSpPr>
        <p:spPr>
          <a:xfrm flipH="1">
            <a:off x="1714680" y="2276640"/>
            <a:ext cx="677520" cy="807840"/>
          </a:xfrm>
          <a:custGeom>
            <a:avLst/>
            <a:gdLst/>
            <a:ahLst/>
            <a:rect l="l" t="t" r="r" b="b"/>
            <a:pathLst>
              <a:path w="1200" h="728">
                <a:moveTo>
                  <a:pt x="471" y="0"/>
                </a:moveTo>
                <a:cubicBezTo>
                  <a:pt x="288" y="48"/>
                  <a:pt x="178" y="72"/>
                  <a:pt x="0" y="150"/>
                </a:cubicBezTo>
                <a:cubicBezTo>
                  <a:pt x="124" y="229"/>
                  <a:pt x="251" y="308"/>
                  <a:pt x="318" y="365"/>
                </a:cubicBezTo>
                <a:cubicBezTo>
                  <a:pt x="351" y="280"/>
                  <a:pt x="342" y="289"/>
                  <a:pt x="366" y="250"/>
                </a:cubicBezTo>
                <a:cubicBezTo>
                  <a:pt x="435" y="266"/>
                  <a:pt x="609" y="281"/>
                  <a:pt x="736" y="336"/>
                </a:cubicBezTo>
                <a:cubicBezTo>
                  <a:pt x="867" y="392"/>
                  <a:pt x="975" y="452"/>
                  <a:pt x="1200" y="728"/>
                </a:cubicBezTo>
                <a:cubicBezTo>
                  <a:pt x="1101" y="410"/>
                  <a:pt x="931" y="319"/>
                  <a:pt x="832" y="248"/>
                </a:cubicBezTo>
                <a:cubicBezTo>
                  <a:pt x="687" y="160"/>
                  <a:pt x="564" y="134"/>
                  <a:pt x="420" y="97"/>
                </a:cubicBezTo>
                <a:cubicBezTo>
                  <a:pt x="450" y="43"/>
                  <a:pt x="432" y="77"/>
                  <a:pt x="471" y="0"/>
                </a:cubicBezTo>
                <a:close/>
              </a:path>
            </a:pathLst>
          </a:custGeom>
          <a:solidFill>
            <a:srgbClr val="e6388f"/>
          </a:solidFill>
          <a:ln w="0">
            <a:noFill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857760" y="1449360"/>
            <a:ext cx="1009440" cy="546120"/>
          </a:xfrm>
          <a:custGeom>
            <a:avLst/>
            <a:gdLst/>
            <a:ahLst/>
            <a:rect l="l" t="t" r="r" b="b"/>
            <a:pathLst>
              <a:path w="1200" h="728">
                <a:moveTo>
                  <a:pt x="471" y="0"/>
                </a:moveTo>
                <a:cubicBezTo>
                  <a:pt x="288" y="48"/>
                  <a:pt x="178" y="72"/>
                  <a:pt x="0" y="150"/>
                </a:cubicBezTo>
                <a:cubicBezTo>
                  <a:pt x="124" y="229"/>
                  <a:pt x="251" y="308"/>
                  <a:pt x="318" y="365"/>
                </a:cubicBezTo>
                <a:cubicBezTo>
                  <a:pt x="351" y="280"/>
                  <a:pt x="342" y="289"/>
                  <a:pt x="366" y="250"/>
                </a:cubicBezTo>
                <a:cubicBezTo>
                  <a:pt x="435" y="266"/>
                  <a:pt x="609" y="281"/>
                  <a:pt x="736" y="336"/>
                </a:cubicBezTo>
                <a:cubicBezTo>
                  <a:pt x="867" y="392"/>
                  <a:pt x="975" y="452"/>
                  <a:pt x="1200" y="728"/>
                </a:cubicBezTo>
                <a:cubicBezTo>
                  <a:pt x="1101" y="410"/>
                  <a:pt x="931" y="319"/>
                  <a:pt x="832" y="248"/>
                </a:cubicBezTo>
                <a:cubicBezTo>
                  <a:pt x="687" y="160"/>
                  <a:pt x="564" y="134"/>
                  <a:pt x="420" y="97"/>
                </a:cubicBezTo>
                <a:cubicBezTo>
                  <a:pt x="450" y="43"/>
                  <a:pt x="432" y="77"/>
                  <a:pt x="471" y="0"/>
                </a:cubicBezTo>
                <a:close/>
              </a:path>
            </a:pathLst>
          </a:custGeom>
          <a:solidFill>
            <a:srgbClr val="e6388f"/>
          </a:solidFill>
          <a:ln w="0">
            <a:noFill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000" y="4347000"/>
            <a:ext cx="116820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59040" y="1123920"/>
            <a:ext cx="1371600" cy="29844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113520" y="1118160"/>
            <a:ext cx="137160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6456240" y="3333600"/>
            <a:ext cx="1203480" cy="1393200"/>
            <a:chOff x="6456240" y="3333600"/>
            <a:chExt cx="1203480" cy="1393200"/>
          </a:xfrm>
        </p:grpSpPr>
        <p:grpSp>
          <p:nvGrpSpPr>
            <p:cNvPr id="770" name=""/>
            <p:cNvGrpSpPr/>
            <p:nvPr/>
          </p:nvGrpSpPr>
          <p:grpSpPr>
            <a:xfrm>
              <a:off x="6456240" y="3333600"/>
              <a:ext cx="789120" cy="1274040"/>
              <a:chOff x="6456240" y="3333600"/>
              <a:chExt cx="789120" cy="1274040"/>
            </a:xfrm>
          </p:grpSpPr>
          <p:sp>
            <p:nvSpPr>
              <p:cNvPr id="771" name=""/>
              <p:cNvSpPr/>
              <p:nvPr/>
            </p:nvSpPr>
            <p:spPr>
              <a:xfrm>
                <a:off x="6459120" y="3333600"/>
                <a:ext cx="785160" cy="27288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71000" y="4281480"/>
                <a:ext cx="762120" cy="3261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802200" y="3409200"/>
                <a:ext cx="443160" cy="11667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456240" y="3519720"/>
                <a:ext cx="350640" cy="10508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04840" y="4404240"/>
                <a:ext cx="241920" cy="63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496200" y="3570840"/>
                <a:ext cx="38880" cy="2232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04840" y="435528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04840" y="4307760"/>
                <a:ext cx="241920" cy="65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04840" y="426096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04840" y="421236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08440" y="3754440"/>
                <a:ext cx="240120" cy="4467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483240" y="3665520"/>
                <a:ext cx="274680" cy="7786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00880" y="3695400"/>
                <a:ext cx="244800" cy="44208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03040" y="3796200"/>
                <a:ext cx="23544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03040" y="3891600"/>
                <a:ext cx="238320" cy="529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03040" y="4008600"/>
                <a:ext cx="22680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73240" y="3750480"/>
                <a:ext cx="9324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36520" y="3758040"/>
                <a:ext cx="173880" cy="3744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19600" y="3930840"/>
                <a:ext cx="209160" cy="9432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19600" y="4047840"/>
                <a:ext cx="210240" cy="1044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74760" y="398592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80520" y="4103280"/>
                <a:ext cx="32400" cy="183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516000" y="382464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72960" y="3876480"/>
                <a:ext cx="327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861240" y="3958920"/>
              <a:ext cx="798480" cy="767880"/>
              <a:chOff x="6861240" y="3958920"/>
              <a:chExt cx="798480" cy="76788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6939360" y="4474800"/>
                <a:ext cx="608760" cy="252000"/>
                <a:chOff x="6939360" y="4474800"/>
                <a:chExt cx="608760" cy="2520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939360" y="4550400"/>
                  <a:ext cx="608760" cy="17640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26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939360" y="4474800"/>
                  <a:ext cx="608760" cy="23400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>
                <a:off x="7096680" y="4507200"/>
                <a:ext cx="304920" cy="12348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07680" y="4512240"/>
                <a:ext cx="489960" cy="1360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46280" y="3958920"/>
                <a:ext cx="613440" cy="5652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9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407000" y="4097160"/>
                <a:ext cx="120600" cy="54828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30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861240" y="3976560"/>
                <a:ext cx="664560" cy="1868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61240" y="4033440"/>
                <a:ext cx="545760" cy="6148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31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03000" y="4086720"/>
                <a:ext cx="461880" cy="50544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32160" y="4121280"/>
                <a:ext cx="403920" cy="4345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967800" y="4155840"/>
                <a:ext cx="0" cy="6624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7467480" y="4518720"/>
            <a:ext cx="152424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ciós po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632040" y="4335480"/>
            <a:ext cx="936360" cy="1083240"/>
            <a:chOff x="3632040" y="4335480"/>
            <a:chExt cx="936360" cy="1083240"/>
          </a:xfrm>
        </p:grpSpPr>
        <p:grpSp>
          <p:nvGrpSpPr>
            <p:cNvPr id="810" name=""/>
            <p:cNvGrpSpPr/>
            <p:nvPr/>
          </p:nvGrpSpPr>
          <p:grpSpPr>
            <a:xfrm>
              <a:off x="3632040" y="4335480"/>
              <a:ext cx="614160" cy="991440"/>
              <a:chOff x="3632040" y="4335480"/>
              <a:chExt cx="614160" cy="991440"/>
            </a:xfrm>
          </p:grpSpPr>
          <p:sp>
            <p:nvSpPr>
              <p:cNvPr id="811" name=""/>
              <p:cNvSpPr/>
              <p:nvPr/>
            </p:nvSpPr>
            <p:spPr>
              <a:xfrm>
                <a:off x="3634200" y="4335480"/>
                <a:ext cx="611280" cy="21240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43560" y="5073120"/>
                <a:ext cx="592920" cy="25380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01320" y="4394520"/>
                <a:ext cx="344880" cy="9075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3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632040" y="4480200"/>
                <a:ext cx="272880" cy="81756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669840" y="5168520"/>
                <a:ext cx="188280" cy="493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663360" y="4520160"/>
                <a:ext cx="30240" cy="1728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669840" y="513036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669840" y="5093280"/>
                <a:ext cx="188280" cy="507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69840" y="505692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69840" y="501912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72720" y="4662720"/>
                <a:ext cx="186840" cy="347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52920" y="4593600"/>
                <a:ext cx="213840" cy="6058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66960" y="4617000"/>
                <a:ext cx="190440" cy="34380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8400" y="4695480"/>
                <a:ext cx="18324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68400" y="4769640"/>
                <a:ext cx="185400" cy="414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68400" y="4860720"/>
                <a:ext cx="17676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23120" y="4659840"/>
                <a:ext cx="72720" cy="392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694680" y="4665600"/>
                <a:ext cx="135000" cy="291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681360" y="4800240"/>
                <a:ext cx="162720" cy="7344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681360" y="4890960"/>
                <a:ext cx="163440" cy="813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802320" y="484308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06640" y="493416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678480" y="4717440"/>
                <a:ext cx="165600" cy="752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800880" y="4758120"/>
                <a:ext cx="2556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3947040" y="4821840"/>
              <a:ext cx="621360" cy="596880"/>
              <a:chOff x="3947040" y="4821840"/>
              <a:chExt cx="621360" cy="596880"/>
            </a:xfrm>
          </p:grpSpPr>
          <p:grpSp>
            <p:nvGrpSpPr>
              <p:cNvPr id="836" name=""/>
              <p:cNvGrpSpPr/>
              <p:nvPr/>
            </p:nvGrpSpPr>
            <p:grpSpPr>
              <a:xfrm>
                <a:off x="4007880" y="5222880"/>
                <a:ext cx="473760" cy="195840"/>
                <a:chOff x="4007880" y="5222880"/>
                <a:chExt cx="473760" cy="19584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4007880" y="5281560"/>
                  <a:ext cx="473760" cy="13716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34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007880" y="5222880"/>
                  <a:ext cx="473760" cy="18216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35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4130280" y="5248440"/>
                <a:ext cx="237240" cy="9612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983040" y="5252400"/>
                <a:ext cx="381240" cy="1058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36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091040" y="4821840"/>
                <a:ext cx="477360" cy="4399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37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71840" y="4929480"/>
                <a:ext cx="93600" cy="42660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38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947040" y="4835520"/>
                <a:ext cx="517320" cy="1454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47040" y="4879800"/>
                <a:ext cx="424800" cy="4780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39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9440" y="4921200"/>
                <a:ext cx="359280" cy="3931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002120" y="4948200"/>
                <a:ext cx="314280" cy="338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029840" y="4975200"/>
                <a:ext cx="0" cy="5148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"/>
          <p:cNvGrpSpPr/>
          <p:nvPr/>
        </p:nvGrpSpPr>
        <p:grpSpPr>
          <a:xfrm>
            <a:off x="2946240" y="5326200"/>
            <a:ext cx="936360" cy="1083240"/>
            <a:chOff x="2946240" y="5326200"/>
            <a:chExt cx="936360" cy="1083240"/>
          </a:xfrm>
        </p:grpSpPr>
        <p:grpSp>
          <p:nvGrpSpPr>
            <p:cNvPr id="849" name=""/>
            <p:cNvGrpSpPr/>
            <p:nvPr/>
          </p:nvGrpSpPr>
          <p:grpSpPr>
            <a:xfrm>
              <a:off x="2946240" y="5326200"/>
              <a:ext cx="614160" cy="990720"/>
              <a:chOff x="2946240" y="5326200"/>
              <a:chExt cx="614160" cy="990720"/>
            </a:xfrm>
          </p:grpSpPr>
          <p:sp>
            <p:nvSpPr>
              <p:cNvPr id="850" name=""/>
              <p:cNvSpPr/>
              <p:nvPr/>
            </p:nvSpPr>
            <p:spPr>
              <a:xfrm>
                <a:off x="2948400" y="5326200"/>
                <a:ext cx="611280" cy="21240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957760" y="6063480"/>
                <a:ext cx="592920" cy="25344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15520" y="5384880"/>
                <a:ext cx="344880" cy="90720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1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946240" y="5470920"/>
                <a:ext cx="272880" cy="8172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984040" y="6158880"/>
                <a:ext cx="188280" cy="489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977560" y="5510880"/>
                <a:ext cx="30240" cy="1728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984040" y="612072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984040" y="6083640"/>
                <a:ext cx="188280" cy="507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984040" y="604764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984040" y="600984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86920" y="5653440"/>
                <a:ext cx="186840" cy="347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967120" y="5584320"/>
                <a:ext cx="213840" cy="60552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981160" y="5607360"/>
                <a:ext cx="190440" cy="34380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982600" y="5685840"/>
                <a:ext cx="18324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982600" y="5760360"/>
                <a:ext cx="185400" cy="41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982600" y="5851080"/>
                <a:ext cx="17676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37320" y="5650560"/>
                <a:ext cx="72720" cy="392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08880" y="5656320"/>
                <a:ext cx="135000" cy="291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995560" y="5790600"/>
                <a:ext cx="162720" cy="7344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995560" y="5881680"/>
                <a:ext cx="163440" cy="813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116520" y="58334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120840" y="59245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992680" y="5707800"/>
                <a:ext cx="165600" cy="752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15080" y="5748480"/>
                <a:ext cx="2556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3261240" y="5812560"/>
              <a:ext cx="621360" cy="596880"/>
              <a:chOff x="3261240" y="5812560"/>
              <a:chExt cx="621360" cy="596880"/>
            </a:xfrm>
          </p:grpSpPr>
          <p:grpSp>
            <p:nvGrpSpPr>
              <p:cNvPr id="875" name=""/>
              <p:cNvGrpSpPr/>
              <p:nvPr/>
            </p:nvGrpSpPr>
            <p:grpSpPr>
              <a:xfrm>
                <a:off x="3322080" y="6213600"/>
                <a:ext cx="473760" cy="195840"/>
                <a:chOff x="3322080" y="6213600"/>
                <a:chExt cx="473760" cy="19584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3322080" y="6272280"/>
                  <a:ext cx="473760" cy="13716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42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322080" y="6213600"/>
                  <a:ext cx="473760" cy="18216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3444480" y="6239160"/>
                <a:ext cx="237240" cy="9612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297240" y="6243120"/>
                <a:ext cx="381240" cy="1058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44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405240" y="5812560"/>
                <a:ext cx="477360" cy="4399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4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86040" y="5920200"/>
                <a:ext cx="93600" cy="42660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46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261240" y="5826240"/>
                <a:ext cx="517320" cy="1454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61240" y="5870520"/>
                <a:ext cx="424800" cy="4780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47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293640" y="5911920"/>
                <a:ext cx="359280" cy="3931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316320" y="5938920"/>
                <a:ext cx="314280" cy="338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344040" y="5965920"/>
                <a:ext cx="0" cy="5148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4546440" y="5402160"/>
            <a:ext cx="936360" cy="1083240"/>
            <a:chOff x="4546440" y="5402160"/>
            <a:chExt cx="936360" cy="1083240"/>
          </a:xfrm>
        </p:grpSpPr>
        <p:grpSp>
          <p:nvGrpSpPr>
            <p:cNvPr id="888" name=""/>
            <p:cNvGrpSpPr/>
            <p:nvPr/>
          </p:nvGrpSpPr>
          <p:grpSpPr>
            <a:xfrm>
              <a:off x="4546440" y="5402160"/>
              <a:ext cx="614160" cy="991440"/>
              <a:chOff x="4546440" y="5402160"/>
              <a:chExt cx="614160" cy="991440"/>
            </a:xfrm>
          </p:grpSpPr>
          <p:sp>
            <p:nvSpPr>
              <p:cNvPr id="889" name=""/>
              <p:cNvSpPr/>
              <p:nvPr/>
            </p:nvSpPr>
            <p:spPr>
              <a:xfrm>
                <a:off x="4548600" y="5402160"/>
                <a:ext cx="611280" cy="21240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557960" y="6139800"/>
                <a:ext cx="592920" cy="25380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815720" y="5461200"/>
                <a:ext cx="344880" cy="9075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9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46440" y="5546880"/>
                <a:ext cx="272880" cy="81756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584240" y="6235200"/>
                <a:ext cx="188280" cy="493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77760" y="5586840"/>
                <a:ext cx="30240" cy="1728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584240" y="619704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84240" y="6159960"/>
                <a:ext cx="188280" cy="507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584240" y="612360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84240" y="608580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87120" y="5729400"/>
                <a:ext cx="186840" cy="347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67320" y="5660280"/>
                <a:ext cx="213840" cy="6058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81360" y="5683680"/>
                <a:ext cx="190440" cy="34380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582800" y="5762160"/>
                <a:ext cx="18324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582800" y="5836320"/>
                <a:ext cx="185400" cy="414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82800" y="5927400"/>
                <a:ext cx="17676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637520" y="5726520"/>
                <a:ext cx="72720" cy="392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609080" y="5732280"/>
                <a:ext cx="135000" cy="291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595760" y="5866920"/>
                <a:ext cx="162720" cy="7344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595760" y="5957640"/>
                <a:ext cx="163440" cy="813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716720" y="590976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1040" y="60008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92880" y="5784120"/>
                <a:ext cx="165600" cy="752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715280" y="5824800"/>
                <a:ext cx="2556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861440" y="5888520"/>
              <a:ext cx="621360" cy="596880"/>
              <a:chOff x="4861440" y="5888520"/>
              <a:chExt cx="621360" cy="596880"/>
            </a:xfrm>
          </p:grpSpPr>
          <p:grpSp>
            <p:nvGrpSpPr>
              <p:cNvPr id="914" name=""/>
              <p:cNvGrpSpPr/>
              <p:nvPr/>
            </p:nvGrpSpPr>
            <p:grpSpPr>
              <a:xfrm>
                <a:off x="4922280" y="6289560"/>
                <a:ext cx="473760" cy="195840"/>
                <a:chOff x="4922280" y="6289560"/>
                <a:chExt cx="473760" cy="19584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922280" y="6348240"/>
                  <a:ext cx="473760" cy="13716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922280" y="6289560"/>
                  <a:ext cx="473760" cy="18216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7" name=""/>
              <p:cNvSpPr/>
              <p:nvPr/>
            </p:nvSpPr>
            <p:spPr>
              <a:xfrm>
                <a:off x="5044680" y="6315120"/>
                <a:ext cx="237240" cy="9612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97440" y="6319080"/>
                <a:ext cx="381240" cy="1058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52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05440" y="5888520"/>
                <a:ext cx="477360" cy="4399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286240" y="5996160"/>
                <a:ext cx="93600" cy="42660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54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61440" y="5902200"/>
                <a:ext cx="517320" cy="1454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861440" y="5946480"/>
                <a:ext cx="424800" cy="4780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5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893840" y="5987880"/>
                <a:ext cx="359280" cy="3931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916520" y="6014880"/>
                <a:ext cx="314280" cy="338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944240" y="6041880"/>
                <a:ext cx="0" cy="5148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"/>
          <p:cNvSpPr/>
          <p:nvPr/>
        </p:nvSpPr>
        <p:spPr>
          <a:xfrm>
            <a:off x="3378240" y="3817080"/>
            <a:ext cx="137160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ver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rot="5400000">
            <a:off x="6397560" y="2543760"/>
            <a:ext cx="793440" cy="576360"/>
          </a:xfrm>
          <a:custGeom>
            <a:avLst/>
            <a:gdLst/>
            <a:ahLst/>
            <a:rect l="l" t="t" r="r" b="b"/>
            <a:pathLst>
              <a:path w="1200" h="728">
                <a:moveTo>
                  <a:pt x="471" y="0"/>
                </a:moveTo>
                <a:cubicBezTo>
                  <a:pt x="288" y="48"/>
                  <a:pt x="178" y="72"/>
                  <a:pt x="0" y="150"/>
                </a:cubicBezTo>
                <a:cubicBezTo>
                  <a:pt x="124" y="229"/>
                  <a:pt x="251" y="308"/>
                  <a:pt x="318" y="365"/>
                </a:cubicBezTo>
                <a:cubicBezTo>
                  <a:pt x="351" y="280"/>
                  <a:pt x="342" y="289"/>
                  <a:pt x="366" y="250"/>
                </a:cubicBezTo>
                <a:cubicBezTo>
                  <a:pt x="435" y="266"/>
                  <a:pt x="609" y="281"/>
                  <a:pt x="736" y="336"/>
                </a:cubicBezTo>
                <a:cubicBezTo>
                  <a:pt x="867" y="392"/>
                  <a:pt x="975" y="452"/>
                  <a:pt x="1200" y="728"/>
                </a:cubicBezTo>
                <a:cubicBezTo>
                  <a:pt x="1101" y="410"/>
                  <a:pt x="931" y="319"/>
                  <a:pt x="832" y="248"/>
                </a:cubicBezTo>
                <a:cubicBezTo>
                  <a:pt x="687" y="160"/>
                  <a:pt x="564" y="134"/>
                  <a:pt x="420" y="97"/>
                </a:cubicBezTo>
                <a:cubicBezTo>
                  <a:pt x="450" y="43"/>
                  <a:pt x="432" y="77"/>
                  <a:pt x="471" y="0"/>
                </a:cubicBezTo>
                <a:close/>
              </a:path>
            </a:pathLst>
          </a:custGeom>
          <a:solidFill>
            <a:srgbClr val="e6388f"/>
          </a:solidFill>
          <a:ln w="0">
            <a:noFill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rot="10800000">
            <a:off x="5764680" y="4735080"/>
            <a:ext cx="924120" cy="546120"/>
          </a:xfrm>
          <a:custGeom>
            <a:avLst/>
            <a:gdLst/>
            <a:ahLst/>
            <a:rect l="l" t="t" r="r" b="b"/>
            <a:pathLst>
              <a:path w="1200" h="728">
                <a:moveTo>
                  <a:pt x="471" y="0"/>
                </a:moveTo>
                <a:cubicBezTo>
                  <a:pt x="288" y="48"/>
                  <a:pt x="178" y="72"/>
                  <a:pt x="0" y="150"/>
                </a:cubicBezTo>
                <a:cubicBezTo>
                  <a:pt x="124" y="229"/>
                  <a:pt x="251" y="308"/>
                  <a:pt x="318" y="365"/>
                </a:cubicBezTo>
                <a:cubicBezTo>
                  <a:pt x="351" y="280"/>
                  <a:pt x="342" y="289"/>
                  <a:pt x="366" y="250"/>
                </a:cubicBezTo>
                <a:cubicBezTo>
                  <a:pt x="435" y="266"/>
                  <a:pt x="609" y="281"/>
                  <a:pt x="736" y="336"/>
                </a:cubicBezTo>
                <a:cubicBezTo>
                  <a:pt x="867" y="392"/>
                  <a:pt x="975" y="452"/>
                  <a:pt x="1200" y="728"/>
                </a:cubicBezTo>
                <a:cubicBezTo>
                  <a:pt x="1101" y="410"/>
                  <a:pt x="931" y="319"/>
                  <a:pt x="832" y="248"/>
                </a:cubicBezTo>
                <a:cubicBezTo>
                  <a:pt x="687" y="160"/>
                  <a:pt x="564" y="134"/>
                  <a:pt x="420" y="97"/>
                </a:cubicBezTo>
                <a:cubicBezTo>
                  <a:pt x="450" y="43"/>
                  <a:pt x="432" y="77"/>
                  <a:pt x="471" y="0"/>
                </a:cubicBezTo>
                <a:close/>
              </a:path>
            </a:pathLst>
          </a:custGeom>
          <a:solidFill>
            <a:srgbClr val="e6388f"/>
          </a:solidFill>
          <a:ln w="0">
            <a:noFill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138320" y="1995480"/>
            <a:ext cx="615600" cy="380880"/>
            <a:chOff x="1138320" y="1995480"/>
            <a:chExt cx="615600" cy="380880"/>
          </a:xfrm>
        </p:grpSpPr>
        <p:sp>
          <p:nvSpPr>
            <p:cNvPr id="930" name=""/>
            <p:cNvSpPr/>
            <p:nvPr/>
          </p:nvSpPr>
          <p:spPr>
            <a:xfrm>
              <a:off x="1138320" y="2081160"/>
              <a:ext cx="484200" cy="29520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1366920" y="1995480"/>
              <a:ext cx="387000" cy="252000"/>
              <a:chOff x="1366920" y="1995480"/>
              <a:chExt cx="387000" cy="252000"/>
            </a:xfrm>
          </p:grpSpPr>
          <p:sp>
            <p:nvSpPr>
              <p:cNvPr id="932" name=""/>
              <p:cNvSpPr/>
              <p:nvPr/>
            </p:nvSpPr>
            <p:spPr>
              <a:xfrm>
                <a:off x="1557720" y="2110320"/>
                <a:ext cx="66240" cy="9324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52" y="0"/>
                    </a:moveTo>
                    <a:lnTo>
                      <a:pt x="52" y="77"/>
                    </a:lnTo>
                    <a:lnTo>
                      <a:pt x="43" y="78"/>
                    </a:lnTo>
                    <a:lnTo>
                      <a:pt x="34" y="80"/>
                    </a:lnTo>
                    <a:lnTo>
                      <a:pt x="23" y="84"/>
                    </a:lnTo>
                    <a:lnTo>
                      <a:pt x="14" y="87"/>
                    </a:lnTo>
                    <a:lnTo>
                      <a:pt x="8" y="90"/>
                    </a:lnTo>
                    <a:lnTo>
                      <a:pt x="0" y="94"/>
                    </a:lnTo>
                    <a:lnTo>
                      <a:pt x="0" y="17"/>
                    </a:lnTo>
                    <a:lnTo>
                      <a:pt x="8" y="12"/>
                    </a:lnTo>
                    <a:lnTo>
                      <a:pt x="19" y="9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557720" y="2025720"/>
                <a:ext cx="66240" cy="82440"/>
              </a:xfrm>
              <a:custGeom>
                <a:avLst/>
                <a:gdLst/>
                <a:ahLst/>
                <a:rect l="l" t="t" r="r" b="b"/>
                <a:pathLst>
                  <a:path w="53" h="84">
                    <a:moveTo>
                      <a:pt x="52" y="0"/>
                    </a:moveTo>
                    <a:lnTo>
                      <a:pt x="52" y="68"/>
                    </a:lnTo>
                    <a:lnTo>
                      <a:pt x="43" y="69"/>
                    </a:lnTo>
                    <a:lnTo>
                      <a:pt x="34" y="71"/>
                    </a:lnTo>
                    <a:lnTo>
                      <a:pt x="23" y="74"/>
                    </a:lnTo>
                    <a:lnTo>
                      <a:pt x="14" y="77"/>
                    </a:lnTo>
                    <a:lnTo>
                      <a:pt x="8" y="79"/>
                    </a:lnTo>
                    <a:lnTo>
                      <a:pt x="0" y="83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9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366920" y="20199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6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69440" y="2051280"/>
                <a:ext cx="15840" cy="1656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12" y="1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369440" y="208476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2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366920" y="2113200"/>
                <a:ext cx="13320" cy="1656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0"/>
                    </a:moveTo>
                    <a:lnTo>
                      <a:pt x="10" y="10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369440" y="214848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369440" y="21808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0"/>
                    </a:moveTo>
                    <a:lnTo>
                      <a:pt x="12" y="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366920" y="221076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396800" y="2024640"/>
                <a:ext cx="3204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5" y="14"/>
                    </a:lnTo>
                    <a:lnTo>
                      <a:pt x="0" y="23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401480" y="206028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401480" y="209160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396800" y="212112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401480" y="21556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401480" y="2187000"/>
                <a:ext cx="24840" cy="1944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9" y="12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396800" y="2217240"/>
                <a:ext cx="32040" cy="226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0"/>
                    </a:moveTo>
                    <a:lnTo>
                      <a:pt x="25" y="14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435320" y="2024640"/>
                <a:ext cx="34920" cy="2916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7" y="0"/>
                    </a:moveTo>
                    <a:lnTo>
                      <a:pt x="27" y="1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439280" y="205812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439280" y="208944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435320" y="2121120"/>
                <a:ext cx="23760" cy="244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8" y="0"/>
                    </a:moveTo>
                    <a:lnTo>
                      <a:pt x="18" y="16"/>
                    </a:lnTo>
                    <a:lnTo>
                      <a:pt x="0" y="24"/>
                    </a:lnTo>
                    <a:lnTo>
                      <a:pt x="0" y="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439280" y="215460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439280" y="218484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35320" y="2216520"/>
                <a:ext cx="3492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0"/>
                    </a:moveTo>
                    <a:lnTo>
                      <a:pt x="27" y="1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473120" y="2021760"/>
                <a:ext cx="38520" cy="342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0" y="0"/>
                    </a:moveTo>
                    <a:lnTo>
                      <a:pt x="30" y="23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477800" y="2057400"/>
                <a:ext cx="32400" cy="2916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77800" y="2086560"/>
                <a:ext cx="32400" cy="3132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5" y="0"/>
                    </a:moveTo>
                    <a:lnTo>
                      <a:pt x="25" y="2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473120" y="2117160"/>
                <a:ext cx="38520" cy="3600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30" y="2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477800" y="2152440"/>
                <a:ext cx="32400" cy="29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477800" y="2183760"/>
                <a:ext cx="32400" cy="29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473120" y="2212200"/>
                <a:ext cx="38520" cy="3528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0" y="0"/>
                    </a:moveTo>
                    <a:lnTo>
                      <a:pt x="30" y="24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15600" y="200916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30" y="0"/>
                    </a:moveTo>
                    <a:lnTo>
                      <a:pt x="30" y="33"/>
                    </a:lnTo>
                    <a:lnTo>
                      <a:pt x="0" y="4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15600" y="2045520"/>
                <a:ext cx="38520" cy="370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15600" y="2076840"/>
                <a:ext cx="38520" cy="370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15600" y="2107080"/>
                <a:ext cx="38520" cy="414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0" y="0"/>
                    </a:moveTo>
                    <a:lnTo>
                      <a:pt x="30" y="28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515600" y="2138760"/>
                <a:ext cx="38520" cy="399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0" y="0"/>
                    </a:moveTo>
                    <a:lnTo>
                      <a:pt x="30" y="28"/>
                    </a:lnTo>
                    <a:lnTo>
                      <a:pt x="0" y="40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15600" y="217332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0" y="0"/>
                    </a:moveTo>
                    <a:lnTo>
                      <a:pt x="30" y="26"/>
                    </a:lnTo>
                    <a:lnTo>
                      <a:pt x="0" y="38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15600" y="2204640"/>
                <a:ext cx="38520" cy="3888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30" y="0"/>
                    </a:moveTo>
                    <a:lnTo>
                      <a:pt x="30" y="27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2" y="30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5" y="37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57720" y="1995480"/>
                <a:ext cx="196200" cy="239760"/>
              </a:xfrm>
              <a:custGeom>
                <a:avLst/>
                <a:gdLst/>
                <a:ahLst/>
                <a:rect l="l" t="t" r="r" b="b"/>
                <a:pathLst>
                  <a:path w="157" h="244">
                    <a:moveTo>
                      <a:pt x="156" y="19"/>
                    </a:moveTo>
                    <a:lnTo>
                      <a:pt x="156" y="243"/>
                    </a:lnTo>
                    <a:lnTo>
                      <a:pt x="154" y="242"/>
                    </a:lnTo>
                    <a:lnTo>
                      <a:pt x="152" y="241"/>
                    </a:lnTo>
                    <a:lnTo>
                      <a:pt x="150" y="240"/>
                    </a:lnTo>
                    <a:lnTo>
                      <a:pt x="148" y="238"/>
                    </a:lnTo>
                    <a:lnTo>
                      <a:pt x="146" y="238"/>
                    </a:lnTo>
                    <a:lnTo>
                      <a:pt x="144" y="237"/>
                    </a:lnTo>
                    <a:lnTo>
                      <a:pt x="142" y="236"/>
                    </a:lnTo>
                    <a:lnTo>
                      <a:pt x="140" y="235"/>
                    </a:lnTo>
                    <a:lnTo>
                      <a:pt x="138" y="234"/>
                    </a:lnTo>
                    <a:lnTo>
                      <a:pt x="136" y="233"/>
                    </a:lnTo>
                    <a:lnTo>
                      <a:pt x="134" y="232"/>
                    </a:lnTo>
                    <a:lnTo>
                      <a:pt x="132" y="232"/>
                    </a:lnTo>
                    <a:lnTo>
                      <a:pt x="129" y="231"/>
                    </a:lnTo>
                    <a:lnTo>
                      <a:pt x="127" y="230"/>
                    </a:lnTo>
                    <a:lnTo>
                      <a:pt x="125" y="230"/>
                    </a:lnTo>
                    <a:lnTo>
                      <a:pt x="123" y="229"/>
                    </a:lnTo>
                    <a:lnTo>
                      <a:pt x="120" y="229"/>
                    </a:lnTo>
                    <a:lnTo>
                      <a:pt x="118" y="228"/>
                    </a:lnTo>
                    <a:lnTo>
                      <a:pt x="116" y="227"/>
                    </a:lnTo>
                    <a:lnTo>
                      <a:pt x="113" y="227"/>
                    </a:lnTo>
                    <a:lnTo>
                      <a:pt x="111" y="227"/>
                    </a:lnTo>
                    <a:lnTo>
                      <a:pt x="108" y="226"/>
                    </a:lnTo>
                    <a:lnTo>
                      <a:pt x="106" y="226"/>
                    </a:lnTo>
                    <a:lnTo>
                      <a:pt x="103" y="226"/>
                    </a:lnTo>
                    <a:lnTo>
                      <a:pt x="101" y="225"/>
                    </a:lnTo>
                    <a:lnTo>
                      <a:pt x="98" y="225"/>
                    </a:lnTo>
                    <a:lnTo>
                      <a:pt x="96" y="225"/>
                    </a:lnTo>
                    <a:lnTo>
                      <a:pt x="93" y="225"/>
                    </a:lnTo>
                    <a:lnTo>
                      <a:pt x="90" y="225"/>
                    </a:lnTo>
                    <a:lnTo>
                      <a:pt x="88" y="225"/>
                    </a:lnTo>
                    <a:lnTo>
                      <a:pt x="85" y="224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4"/>
                    </a:lnTo>
                    <a:lnTo>
                      <a:pt x="75" y="225"/>
                    </a:lnTo>
                    <a:lnTo>
                      <a:pt x="73" y="225"/>
                    </a:lnTo>
                    <a:lnTo>
                      <a:pt x="70" y="225"/>
                    </a:lnTo>
                    <a:lnTo>
                      <a:pt x="68" y="225"/>
                    </a:lnTo>
                    <a:lnTo>
                      <a:pt x="66" y="225"/>
                    </a:lnTo>
                    <a:lnTo>
                      <a:pt x="63" y="225"/>
                    </a:lnTo>
                    <a:lnTo>
                      <a:pt x="61" y="226"/>
                    </a:lnTo>
                    <a:lnTo>
                      <a:pt x="58" y="226"/>
                    </a:lnTo>
                    <a:lnTo>
                      <a:pt x="56" y="226"/>
                    </a:lnTo>
                    <a:lnTo>
                      <a:pt x="53" y="226"/>
                    </a:lnTo>
                    <a:lnTo>
                      <a:pt x="51" y="227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3" y="228"/>
                    </a:lnTo>
                    <a:lnTo>
                      <a:pt x="41" y="228"/>
                    </a:lnTo>
                    <a:lnTo>
                      <a:pt x="38" y="229"/>
                    </a:lnTo>
                    <a:lnTo>
                      <a:pt x="35" y="229"/>
                    </a:lnTo>
                    <a:lnTo>
                      <a:pt x="33" y="229"/>
                    </a:lnTo>
                    <a:lnTo>
                      <a:pt x="30" y="230"/>
                    </a:lnTo>
                    <a:lnTo>
                      <a:pt x="27" y="230"/>
                    </a:lnTo>
                    <a:lnTo>
                      <a:pt x="25" y="231"/>
                    </a:lnTo>
                    <a:lnTo>
                      <a:pt x="22" y="232"/>
                    </a:lnTo>
                    <a:lnTo>
                      <a:pt x="19" y="232"/>
                    </a:lnTo>
                    <a:lnTo>
                      <a:pt x="17" y="233"/>
                    </a:lnTo>
                    <a:lnTo>
                      <a:pt x="14" y="234"/>
                    </a:lnTo>
                    <a:lnTo>
                      <a:pt x="11" y="234"/>
                    </a:lnTo>
                    <a:lnTo>
                      <a:pt x="8" y="235"/>
                    </a:lnTo>
                    <a:lnTo>
                      <a:pt x="6" y="236"/>
                    </a:lnTo>
                    <a:lnTo>
                      <a:pt x="3" y="237"/>
                    </a:lnTo>
                    <a:lnTo>
                      <a:pt x="0" y="237"/>
                    </a:lnTo>
                    <a:lnTo>
                      <a:pt x="0" y="205"/>
                    </a:lnTo>
                    <a:lnTo>
                      <a:pt x="3" y="204"/>
                    </a:lnTo>
                    <a:lnTo>
                      <a:pt x="6" y="203"/>
                    </a:lnTo>
                    <a:lnTo>
                      <a:pt x="9" y="202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8" y="199"/>
                    </a:lnTo>
                    <a:lnTo>
                      <a:pt x="21" y="198"/>
                    </a:lnTo>
                    <a:lnTo>
                      <a:pt x="24" y="198"/>
                    </a:lnTo>
                    <a:lnTo>
                      <a:pt x="27" y="197"/>
                    </a:lnTo>
                    <a:lnTo>
                      <a:pt x="30" y="196"/>
                    </a:lnTo>
                    <a:lnTo>
                      <a:pt x="33" y="195"/>
                    </a:lnTo>
                    <a:lnTo>
                      <a:pt x="37" y="195"/>
                    </a:lnTo>
                    <a:lnTo>
                      <a:pt x="40" y="194"/>
                    </a:lnTo>
                    <a:lnTo>
                      <a:pt x="43" y="193"/>
                    </a:lnTo>
                    <a:lnTo>
                      <a:pt x="46" y="193"/>
                    </a:lnTo>
                    <a:lnTo>
                      <a:pt x="50" y="192"/>
                    </a:lnTo>
                    <a:lnTo>
                      <a:pt x="50" y="120"/>
                    </a:lnTo>
                    <a:lnTo>
                      <a:pt x="47" y="121"/>
                    </a:lnTo>
                    <a:lnTo>
                      <a:pt x="44" y="121"/>
                    </a:lnTo>
                    <a:lnTo>
                      <a:pt x="41" y="122"/>
                    </a:lnTo>
                    <a:lnTo>
                      <a:pt x="38" y="122"/>
                    </a:lnTo>
                    <a:lnTo>
                      <a:pt x="35" y="123"/>
                    </a:lnTo>
                    <a:lnTo>
                      <a:pt x="32" y="124"/>
                    </a:lnTo>
                    <a:lnTo>
                      <a:pt x="29" y="125"/>
                    </a:lnTo>
                    <a:lnTo>
                      <a:pt x="26" y="126"/>
                    </a:lnTo>
                    <a:lnTo>
                      <a:pt x="23" y="127"/>
                    </a:lnTo>
                    <a:lnTo>
                      <a:pt x="20" y="128"/>
                    </a:lnTo>
                    <a:lnTo>
                      <a:pt x="17" y="129"/>
                    </a:lnTo>
                    <a:lnTo>
                      <a:pt x="13" y="130"/>
                    </a:lnTo>
                    <a:lnTo>
                      <a:pt x="10" y="132"/>
                    </a:lnTo>
                    <a:lnTo>
                      <a:pt x="7" y="133"/>
                    </a:lnTo>
                    <a:lnTo>
                      <a:pt x="3" y="135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3" y="113"/>
                    </a:lnTo>
                    <a:lnTo>
                      <a:pt x="6" y="111"/>
                    </a:lnTo>
                    <a:lnTo>
                      <a:pt x="9" y="110"/>
                    </a:lnTo>
                    <a:lnTo>
                      <a:pt x="12" y="109"/>
                    </a:lnTo>
                    <a:lnTo>
                      <a:pt x="15" y="108"/>
                    </a:lnTo>
                    <a:lnTo>
                      <a:pt x="18" y="107"/>
                    </a:lnTo>
                    <a:lnTo>
                      <a:pt x="21" y="106"/>
                    </a:lnTo>
                    <a:lnTo>
                      <a:pt x="24" y="105"/>
                    </a:lnTo>
                    <a:lnTo>
                      <a:pt x="27" y="104"/>
                    </a:lnTo>
                    <a:lnTo>
                      <a:pt x="30" y="103"/>
                    </a:lnTo>
                    <a:lnTo>
                      <a:pt x="34" y="102"/>
                    </a:lnTo>
                    <a:lnTo>
                      <a:pt x="37" y="101"/>
                    </a:lnTo>
                    <a:lnTo>
                      <a:pt x="40" y="101"/>
                    </a:lnTo>
                    <a:lnTo>
                      <a:pt x="43" y="100"/>
                    </a:lnTo>
                    <a:lnTo>
                      <a:pt x="46" y="99"/>
                    </a:lnTo>
                    <a:lnTo>
                      <a:pt x="50" y="99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6" y="38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6" y="40"/>
                    </a:lnTo>
                    <a:lnTo>
                      <a:pt x="13" y="41"/>
                    </a:lnTo>
                    <a:lnTo>
                      <a:pt x="10" y="42"/>
                    </a:lnTo>
                    <a:lnTo>
                      <a:pt x="6" y="43"/>
                    </a:lnTo>
                    <a:lnTo>
                      <a:pt x="3" y="45"/>
                    </a:lnTo>
                    <a:lnTo>
                      <a:pt x="0" y="46"/>
                    </a:lnTo>
                    <a:lnTo>
                      <a:pt x="0" y="14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99" y="1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4" y="4"/>
                    </a:lnTo>
                    <a:lnTo>
                      <a:pt x="117" y="4"/>
                    </a:lnTo>
                    <a:lnTo>
                      <a:pt x="119" y="5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9"/>
                    </a:lnTo>
                    <a:lnTo>
                      <a:pt x="136" y="10"/>
                    </a:lnTo>
                    <a:lnTo>
                      <a:pt x="138" y="11"/>
                    </a:lnTo>
                    <a:lnTo>
                      <a:pt x="140" y="12"/>
                    </a:lnTo>
                    <a:lnTo>
                      <a:pt x="143" y="13"/>
                    </a:lnTo>
                    <a:lnTo>
                      <a:pt x="145" y="14"/>
                    </a:lnTo>
                    <a:lnTo>
                      <a:pt x="147" y="15"/>
                    </a:lnTo>
                    <a:lnTo>
                      <a:pt x="149" y="16"/>
                    </a:lnTo>
                    <a:lnTo>
                      <a:pt x="151" y="17"/>
                    </a:lnTo>
                    <a:lnTo>
                      <a:pt x="154" y="18"/>
                    </a:lnTo>
                    <a:lnTo>
                      <a:pt x="156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50600" y="2028600"/>
                <a:ext cx="67320" cy="734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3" y="10"/>
                    </a:moveTo>
                    <a:lnTo>
                      <a:pt x="53" y="10"/>
                    </a:lnTo>
                    <a:lnTo>
                      <a:pt x="51" y="9"/>
                    </a:lnTo>
                    <a:lnTo>
                      <a:pt x="48" y="7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0" y="5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0" y="69"/>
                    </a:lnTo>
                    <a:lnTo>
                      <a:pt x="33" y="69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2" y="71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3"/>
                    </a:lnTo>
                    <a:lnTo>
                      <a:pt x="53" y="74"/>
                    </a:lnTo>
                    <a:lnTo>
                      <a:pt x="53" y="1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649160" y="2113200"/>
                <a:ext cx="67680" cy="7848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3" y="8"/>
                    </a:moveTo>
                    <a:lnTo>
                      <a:pt x="53" y="8"/>
                    </a:lnTo>
                    <a:lnTo>
                      <a:pt x="50" y="7"/>
                    </a:lnTo>
                    <a:lnTo>
                      <a:pt x="48" y="6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6" y="73"/>
                    </a:lnTo>
                    <a:lnTo>
                      <a:pt x="10" y="73"/>
                    </a:lnTo>
                    <a:lnTo>
                      <a:pt x="13" y="73"/>
                    </a:lnTo>
                    <a:lnTo>
                      <a:pt x="16" y="73"/>
                    </a:lnTo>
                    <a:lnTo>
                      <a:pt x="19" y="73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1" y="74"/>
                    </a:lnTo>
                    <a:lnTo>
                      <a:pt x="34" y="75"/>
                    </a:lnTo>
                    <a:lnTo>
                      <a:pt x="37" y="75"/>
                    </a:lnTo>
                    <a:lnTo>
                      <a:pt x="40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53" y="79"/>
                    </a:lnTo>
                    <a:lnTo>
                      <a:pt x="53" y="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"/>
          <p:cNvSpPr/>
          <p:nvPr/>
        </p:nvSpPr>
        <p:spPr>
          <a:xfrm>
            <a:off x="439560" y="2335680"/>
            <a:ext cx="86364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Pre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4154400" y="1963800"/>
            <a:ext cx="615600" cy="380880"/>
            <a:chOff x="4154400" y="1963800"/>
            <a:chExt cx="615600" cy="380880"/>
          </a:xfrm>
        </p:grpSpPr>
        <p:sp>
          <p:nvSpPr>
            <p:cNvPr id="974" name=""/>
            <p:cNvSpPr/>
            <p:nvPr/>
          </p:nvSpPr>
          <p:spPr>
            <a:xfrm>
              <a:off x="4154400" y="2049480"/>
              <a:ext cx="484200" cy="29520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4383000" y="1963800"/>
              <a:ext cx="387000" cy="252000"/>
              <a:chOff x="4383000" y="1963800"/>
              <a:chExt cx="387000" cy="252000"/>
            </a:xfrm>
          </p:grpSpPr>
          <p:sp>
            <p:nvSpPr>
              <p:cNvPr id="976" name=""/>
              <p:cNvSpPr/>
              <p:nvPr/>
            </p:nvSpPr>
            <p:spPr>
              <a:xfrm>
                <a:off x="4573800" y="2078640"/>
                <a:ext cx="66240" cy="9324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52" y="0"/>
                    </a:moveTo>
                    <a:lnTo>
                      <a:pt x="52" y="77"/>
                    </a:lnTo>
                    <a:lnTo>
                      <a:pt x="43" y="78"/>
                    </a:lnTo>
                    <a:lnTo>
                      <a:pt x="34" y="80"/>
                    </a:lnTo>
                    <a:lnTo>
                      <a:pt x="23" y="84"/>
                    </a:lnTo>
                    <a:lnTo>
                      <a:pt x="14" y="87"/>
                    </a:lnTo>
                    <a:lnTo>
                      <a:pt x="8" y="90"/>
                    </a:lnTo>
                    <a:lnTo>
                      <a:pt x="0" y="94"/>
                    </a:lnTo>
                    <a:lnTo>
                      <a:pt x="0" y="17"/>
                    </a:lnTo>
                    <a:lnTo>
                      <a:pt x="8" y="12"/>
                    </a:lnTo>
                    <a:lnTo>
                      <a:pt x="19" y="9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573800" y="1994040"/>
                <a:ext cx="66240" cy="82440"/>
              </a:xfrm>
              <a:custGeom>
                <a:avLst/>
                <a:gdLst/>
                <a:ahLst/>
                <a:rect l="l" t="t" r="r" b="b"/>
                <a:pathLst>
                  <a:path w="53" h="84">
                    <a:moveTo>
                      <a:pt x="52" y="0"/>
                    </a:moveTo>
                    <a:lnTo>
                      <a:pt x="52" y="68"/>
                    </a:lnTo>
                    <a:lnTo>
                      <a:pt x="43" y="69"/>
                    </a:lnTo>
                    <a:lnTo>
                      <a:pt x="34" y="71"/>
                    </a:lnTo>
                    <a:lnTo>
                      <a:pt x="23" y="74"/>
                    </a:lnTo>
                    <a:lnTo>
                      <a:pt x="14" y="77"/>
                    </a:lnTo>
                    <a:lnTo>
                      <a:pt x="8" y="79"/>
                    </a:lnTo>
                    <a:lnTo>
                      <a:pt x="0" y="83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9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383000" y="19882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6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385520" y="2019600"/>
                <a:ext cx="15840" cy="1656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12" y="1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85520" y="205308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2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383000" y="2081520"/>
                <a:ext cx="13320" cy="1656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0"/>
                    </a:moveTo>
                    <a:lnTo>
                      <a:pt x="10" y="10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385520" y="211680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385520" y="21492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0"/>
                    </a:moveTo>
                    <a:lnTo>
                      <a:pt x="12" y="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383000" y="217908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412880" y="1992960"/>
                <a:ext cx="3204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5" y="14"/>
                    </a:lnTo>
                    <a:lnTo>
                      <a:pt x="0" y="23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417560" y="202860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17560" y="205992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412880" y="208944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417560" y="212400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417560" y="2155320"/>
                <a:ext cx="24840" cy="1944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9" y="12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412880" y="2185560"/>
                <a:ext cx="32040" cy="226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0"/>
                    </a:moveTo>
                    <a:lnTo>
                      <a:pt x="25" y="14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451400" y="1992960"/>
                <a:ext cx="34920" cy="2916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7" y="0"/>
                    </a:moveTo>
                    <a:lnTo>
                      <a:pt x="27" y="1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455360" y="202644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455360" y="205776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451400" y="2089440"/>
                <a:ext cx="23760" cy="244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8" y="0"/>
                    </a:moveTo>
                    <a:lnTo>
                      <a:pt x="18" y="16"/>
                    </a:lnTo>
                    <a:lnTo>
                      <a:pt x="0" y="24"/>
                    </a:lnTo>
                    <a:lnTo>
                      <a:pt x="0" y="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455360" y="21229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455360" y="215316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451400" y="2184840"/>
                <a:ext cx="3492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0"/>
                    </a:moveTo>
                    <a:lnTo>
                      <a:pt x="27" y="1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489200" y="1990080"/>
                <a:ext cx="38520" cy="342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0" y="0"/>
                    </a:moveTo>
                    <a:lnTo>
                      <a:pt x="30" y="23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493880" y="2025720"/>
                <a:ext cx="32400" cy="2916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493880" y="2054880"/>
                <a:ext cx="32400" cy="3132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5" y="0"/>
                    </a:moveTo>
                    <a:lnTo>
                      <a:pt x="25" y="2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489200" y="2085480"/>
                <a:ext cx="38520" cy="3600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30" y="2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493880" y="2120760"/>
                <a:ext cx="32400" cy="29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493880" y="2152080"/>
                <a:ext cx="32400" cy="29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489200" y="2180520"/>
                <a:ext cx="38520" cy="3528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0" y="0"/>
                    </a:moveTo>
                    <a:lnTo>
                      <a:pt x="30" y="24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531680" y="197748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30" y="0"/>
                    </a:moveTo>
                    <a:lnTo>
                      <a:pt x="30" y="33"/>
                    </a:lnTo>
                    <a:lnTo>
                      <a:pt x="0" y="4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31680" y="2013840"/>
                <a:ext cx="38520" cy="370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31680" y="2045160"/>
                <a:ext cx="38520" cy="370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531680" y="2075400"/>
                <a:ext cx="38520" cy="414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0" y="0"/>
                    </a:moveTo>
                    <a:lnTo>
                      <a:pt x="30" y="28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31680" y="2107080"/>
                <a:ext cx="38520" cy="399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0" y="0"/>
                    </a:moveTo>
                    <a:lnTo>
                      <a:pt x="30" y="28"/>
                    </a:lnTo>
                    <a:lnTo>
                      <a:pt x="0" y="40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31680" y="214164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0" y="0"/>
                    </a:moveTo>
                    <a:lnTo>
                      <a:pt x="30" y="26"/>
                    </a:lnTo>
                    <a:lnTo>
                      <a:pt x="0" y="38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531680" y="2172960"/>
                <a:ext cx="38520" cy="3888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30" y="0"/>
                    </a:moveTo>
                    <a:lnTo>
                      <a:pt x="30" y="27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2" y="30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5" y="37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73800" y="1963800"/>
                <a:ext cx="196200" cy="239760"/>
              </a:xfrm>
              <a:custGeom>
                <a:avLst/>
                <a:gdLst/>
                <a:ahLst/>
                <a:rect l="l" t="t" r="r" b="b"/>
                <a:pathLst>
                  <a:path w="157" h="244">
                    <a:moveTo>
                      <a:pt x="156" y="19"/>
                    </a:moveTo>
                    <a:lnTo>
                      <a:pt x="156" y="243"/>
                    </a:lnTo>
                    <a:lnTo>
                      <a:pt x="154" y="242"/>
                    </a:lnTo>
                    <a:lnTo>
                      <a:pt x="152" y="241"/>
                    </a:lnTo>
                    <a:lnTo>
                      <a:pt x="150" y="240"/>
                    </a:lnTo>
                    <a:lnTo>
                      <a:pt x="148" y="238"/>
                    </a:lnTo>
                    <a:lnTo>
                      <a:pt x="146" y="238"/>
                    </a:lnTo>
                    <a:lnTo>
                      <a:pt x="144" y="237"/>
                    </a:lnTo>
                    <a:lnTo>
                      <a:pt x="142" y="236"/>
                    </a:lnTo>
                    <a:lnTo>
                      <a:pt x="140" y="235"/>
                    </a:lnTo>
                    <a:lnTo>
                      <a:pt x="138" y="234"/>
                    </a:lnTo>
                    <a:lnTo>
                      <a:pt x="136" y="233"/>
                    </a:lnTo>
                    <a:lnTo>
                      <a:pt x="134" y="232"/>
                    </a:lnTo>
                    <a:lnTo>
                      <a:pt x="132" y="232"/>
                    </a:lnTo>
                    <a:lnTo>
                      <a:pt x="129" y="231"/>
                    </a:lnTo>
                    <a:lnTo>
                      <a:pt x="127" y="230"/>
                    </a:lnTo>
                    <a:lnTo>
                      <a:pt x="125" y="230"/>
                    </a:lnTo>
                    <a:lnTo>
                      <a:pt x="123" y="229"/>
                    </a:lnTo>
                    <a:lnTo>
                      <a:pt x="120" y="229"/>
                    </a:lnTo>
                    <a:lnTo>
                      <a:pt x="118" y="228"/>
                    </a:lnTo>
                    <a:lnTo>
                      <a:pt x="116" y="227"/>
                    </a:lnTo>
                    <a:lnTo>
                      <a:pt x="113" y="227"/>
                    </a:lnTo>
                    <a:lnTo>
                      <a:pt x="111" y="227"/>
                    </a:lnTo>
                    <a:lnTo>
                      <a:pt x="108" y="226"/>
                    </a:lnTo>
                    <a:lnTo>
                      <a:pt x="106" y="226"/>
                    </a:lnTo>
                    <a:lnTo>
                      <a:pt x="103" y="226"/>
                    </a:lnTo>
                    <a:lnTo>
                      <a:pt x="101" y="225"/>
                    </a:lnTo>
                    <a:lnTo>
                      <a:pt x="98" y="225"/>
                    </a:lnTo>
                    <a:lnTo>
                      <a:pt x="96" y="225"/>
                    </a:lnTo>
                    <a:lnTo>
                      <a:pt x="93" y="225"/>
                    </a:lnTo>
                    <a:lnTo>
                      <a:pt x="90" y="225"/>
                    </a:lnTo>
                    <a:lnTo>
                      <a:pt x="88" y="225"/>
                    </a:lnTo>
                    <a:lnTo>
                      <a:pt x="85" y="224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4"/>
                    </a:lnTo>
                    <a:lnTo>
                      <a:pt x="75" y="225"/>
                    </a:lnTo>
                    <a:lnTo>
                      <a:pt x="73" y="225"/>
                    </a:lnTo>
                    <a:lnTo>
                      <a:pt x="70" y="225"/>
                    </a:lnTo>
                    <a:lnTo>
                      <a:pt x="68" y="225"/>
                    </a:lnTo>
                    <a:lnTo>
                      <a:pt x="66" y="225"/>
                    </a:lnTo>
                    <a:lnTo>
                      <a:pt x="63" y="225"/>
                    </a:lnTo>
                    <a:lnTo>
                      <a:pt x="61" y="226"/>
                    </a:lnTo>
                    <a:lnTo>
                      <a:pt x="58" y="226"/>
                    </a:lnTo>
                    <a:lnTo>
                      <a:pt x="56" y="226"/>
                    </a:lnTo>
                    <a:lnTo>
                      <a:pt x="53" y="226"/>
                    </a:lnTo>
                    <a:lnTo>
                      <a:pt x="51" y="227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3" y="228"/>
                    </a:lnTo>
                    <a:lnTo>
                      <a:pt x="41" y="228"/>
                    </a:lnTo>
                    <a:lnTo>
                      <a:pt x="38" y="229"/>
                    </a:lnTo>
                    <a:lnTo>
                      <a:pt x="35" y="229"/>
                    </a:lnTo>
                    <a:lnTo>
                      <a:pt x="33" y="229"/>
                    </a:lnTo>
                    <a:lnTo>
                      <a:pt x="30" y="230"/>
                    </a:lnTo>
                    <a:lnTo>
                      <a:pt x="27" y="230"/>
                    </a:lnTo>
                    <a:lnTo>
                      <a:pt x="25" y="231"/>
                    </a:lnTo>
                    <a:lnTo>
                      <a:pt x="22" y="232"/>
                    </a:lnTo>
                    <a:lnTo>
                      <a:pt x="19" y="232"/>
                    </a:lnTo>
                    <a:lnTo>
                      <a:pt x="17" y="233"/>
                    </a:lnTo>
                    <a:lnTo>
                      <a:pt x="14" y="234"/>
                    </a:lnTo>
                    <a:lnTo>
                      <a:pt x="11" y="234"/>
                    </a:lnTo>
                    <a:lnTo>
                      <a:pt x="8" y="235"/>
                    </a:lnTo>
                    <a:lnTo>
                      <a:pt x="6" y="236"/>
                    </a:lnTo>
                    <a:lnTo>
                      <a:pt x="3" y="237"/>
                    </a:lnTo>
                    <a:lnTo>
                      <a:pt x="0" y="237"/>
                    </a:lnTo>
                    <a:lnTo>
                      <a:pt x="0" y="205"/>
                    </a:lnTo>
                    <a:lnTo>
                      <a:pt x="3" y="204"/>
                    </a:lnTo>
                    <a:lnTo>
                      <a:pt x="6" y="203"/>
                    </a:lnTo>
                    <a:lnTo>
                      <a:pt x="9" y="202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8" y="199"/>
                    </a:lnTo>
                    <a:lnTo>
                      <a:pt x="21" y="198"/>
                    </a:lnTo>
                    <a:lnTo>
                      <a:pt x="24" y="198"/>
                    </a:lnTo>
                    <a:lnTo>
                      <a:pt x="27" y="197"/>
                    </a:lnTo>
                    <a:lnTo>
                      <a:pt x="30" y="196"/>
                    </a:lnTo>
                    <a:lnTo>
                      <a:pt x="33" y="195"/>
                    </a:lnTo>
                    <a:lnTo>
                      <a:pt x="37" y="195"/>
                    </a:lnTo>
                    <a:lnTo>
                      <a:pt x="40" y="194"/>
                    </a:lnTo>
                    <a:lnTo>
                      <a:pt x="43" y="193"/>
                    </a:lnTo>
                    <a:lnTo>
                      <a:pt x="46" y="193"/>
                    </a:lnTo>
                    <a:lnTo>
                      <a:pt x="50" y="192"/>
                    </a:lnTo>
                    <a:lnTo>
                      <a:pt x="50" y="120"/>
                    </a:lnTo>
                    <a:lnTo>
                      <a:pt x="47" y="121"/>
                    </a:lnTo>
                    <a:lnTo>
                      <a:pt x="44" y="121"/>
                    </a:lnTo>
                    <a:lnTo>
                      <a:pt x="41" y="122"/>
                    </a:lnTo>
                    <a:lnTo>
                      <a:pt x="38" y="122"/>
                    </a:lnTo>
                    <a:lnTo>
                      <a:pt x="35" y="123"/>
                    </a:lnTo>
                    <a:lnTo>
                      <a:pt x="32" y="124"/>
                    </a:lnTo>
                    <a:lnTo>
                      <a:pt x="29" y="125"/>
                    </a:lnTo>
                    <a:lnTo>
                      <a:pt x="26" y="126"/>
                    </a:lnTo>
                    <a:lnTo>
                      <a:pt x="23" y="127"/>
                    </a:lnTo>
                    <a:lnTo>
                      <a:pt x="20" y="128"/>
                    </a:lnTo>
                    <a:lnTo>
                      <a:pt x="17" y="129"/>
                    </a:lnTo>
                    <a:lnTo>
                      <a:pt x="13" y="130"/>
                    </a:lnTo>
                    <a:lnTo>
                      <a:pt x="10" y="132"/>
                    </a:lnTo>
                    <a:lnTo>
                      <a:pt x="7" y="133"/>
                    </a:lnTo>
                    <a:lnTo>
                      <a:pt x="3" y="135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3" y="113"/>
                    </a:lnTo>
                    <a:lnTo>
                      <a:pt x="6" y="111"/>
                    </a:lnTo>
                    <a:lnTo>
                      <a:pt x="9" y="110"/>
                    </a:lnTo>
                    <a:lnTo>
                      <a:pt x="12" y="109"/>
                    </a:lnTo>
                    <a:lnTo>
                      <a:pt x="15" y="108"/>
                    </a:lnTo>
                    <a:lnTo>
                      <a:pt x="18" y="107"/>
                    </a:lnTo>
                    <a:lnTo>
                      <a:pt x="21" y="106"/>
                    </a:lnTo>
                    <a:lnTo>
                      <a:pt x="24" y="105"/>
                    </a:lnTo>
                    <a:lnTo>
                      <a:pt x="27" y="104"/>
                    </a:lnTo>
                    <a:lnTo>
                      <a:pt x="30" y="103"/>
                    </a:lnTo>
                    <a:lnTo>
                      <a:pt x="34" y="102"/>
                    </a:lnTo>
                    <a:lnTo>
                      <a:pt x="37" y="101"/>
                    </a:lnTo>
                    <a:lnTo>
                      <a:pt x="40" y="101"/>
                    </a:lnTo>
                    <a:lnTo>
                      <a:pt x="43" y="100"/>
                    </a:lnTo>
                    <a:lnTo>
                      <a:pt x="46" y="99"/>
                    </a:lnTo>
                    <a:lnTo>
                      <a:pt x="50" y="99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6" y="38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6" y="40"/>
                    </a:lnTo>
                    <a:lnTo>
                      <a:pt x="13" y="41"/>
                    </a:lnTo>
                    <a:lnTo>
                      <a:pt x="10" y="42"/>
                    </a:lnTo>
                    <a:lnTo>
                      <a:pt x="6" y="43"/>
                    </a:lnTo>
                    <a:lnTo>
                      <a:pt x="3" y="45"/>
                    </a:lnTo>
                    <a:lnTo>
                      <a:pt x="0" y="46"/>
                    </a:lnTo>
                    <a:lnTo>
                      <a:pt x="0" y="14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99" y="1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4" y="4"/>
                    </a:lnTo>
                    <a:lnTo>
                      <a:pt x="117" y="4"/>
                    </a:lnTo>
                    <a:lnTo>
                      <a:pt x="119" y="5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9"/>
                    </a:lnTo>
                    <a:lnTo>
                      <a:pt x="136" y="10"/>
                    </a:lnTo>
                    <a:lnTo>
                      <a:pt x="138" y="11"/>
                    </a:lnTo>
                    <a:lnTo>
                      <a:pt x="140" y="12"/>
                    </a:lnTo>
                    <a:lnTo>
                      <a:pt x="143" y="13"/>
                    </a:lnTo>
                    <a:lnTo>
                      <a:pt x="145" y="14"/>
                    </a:lnTo>
                    <a:lnTo>
                      <a:pt x="147" y="15"/>
                    </a:lnTo>
                    <a:lnTo>
                      <a:pt x="149" y="16"/>
                    </a:lnTo>
                    <a:lnTo>
                      <a:pt x="151" y="17"/>
                    </a:lnTo>
                    <a:lnTo>
                      <a:pt x="154" y="18"/>
                    </a:lnTo>
                    <a:lnTo>
                      <a:pt x="156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66680" y="1996920"/>
                <a:ext cx="67320" cy="734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3" y="10"/>
                    </a:moveTo>
                    <a:lnTo>
                      <a:pt x="53" y="10"/>
                    </a:lnTo>
                    <a:lnTo>
                      <a:pt x="51" y="9"/>
                    </a:lnTo>
                    <a:lnTo>
                      <a:pt x="48" y="7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0" y="5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0" y="69"/>
                    </a:lnTo>
                    <a:lnTo>
                      <a:pt x="33" y="69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2" y="71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3"/>
                    </a:lnTo>
                    <a:lnTo>
                      <a:pt x="53" y="74"/>
                    </a:lnTo>
                    <a:lnTo>
                      <a:pt x="53" y="1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665240" y="2081520"/>
                <a:ext cx="67680" cy="7848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3" y="8"/>
                    </a:moveTo>
                    <a:lnTo>
                      <a:pt x="53" y="8"/>
                    </a:lnTo>
                    <a:lnTo>
                      <a:pt x="50" y="7"/>
                    </a:lnTo>
                    <a:lnTo>
                      <a:pt x="48" y="6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6" y="73"/>
                    </a:lnTo>
                    <a:lnTo>
                      <a:pt x="10" y="73"/>
                    </a:lnTo>
                    <a:lnTo>
                      <a:pt x="13" y="73"/>
                    </a:lnTo>
                    <a:lnTo>
                      <a:pt x="16" y="73"/>
                    </a:lnTo>
                    <a:lnTo>
                      <a:pt x="19" y="73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1" y="74"/>
                    </a:lnTo>
                    <a:lnTo>
                      <a:pt x="34" y="75"/>
                    </a:lnTo>
                    <a:lnTo>
                      <a:pt x="37" y="75"/>
                    </a:lnTo>
                    <a:lnTo>
                      <a:pt x="40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53" y="79"/>
                    </a:lnTo>
                    <a:lnTo>
                      <a:pt x="53" y="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6" name=""/>
          <p:cNvGrpSpPr/>
          <p:nvPr/>
        </p:nvGrpSpPr>
        <p:grpSpPr>
          <a:xfrm>
            <a:off x="6837480" y="2246400"/>
            <a:ext cx="615600" cy="393120"/>
            <a:chOff x="6837480" y="2246400"/>
            <a:chExt cx="615600" cy="393120"/>
          </a:xfrm>
        </p:grpSpPr>
        <p:sp>
          <p:nvSpPr>
            <p:cNvPr id="1017" name=""/>
            <p:cNvSpPr/>
            <p:nvPr/>
          </p:nvSpPr>
          <p:spPr>
            <a:xfrm>
              <a:off x="6837480" y="2334600"/>
              <a:ext cx="484200" cy="30492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760" bIns="42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7066080" y="2246400"/>
              <a:ext cx="387000" cy="260280"/>
              <a:chOff x="7066080" y="2246400"/>
              <a:chExt cx="387000" cy="260280"/>
            </a:xfrm>
          </p:grpSpPr>
          <p:sp>
            <p:nvSpPr>
              <p:cNvPr id="1019" name=""/>
              <p:cNvSpPr/>
              <p:nvPr/>
            </p:nvSpPr>
            <p:spPr>
              <a:xfrm>
                <a:off x="7256880" y="2364840"/>
                <a:ext cx="66240" cy="9612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52" y="0"/>
                    </a:moveTo>
                    <a:lnTo>
                      <a:pt x="52" y="77"/>
                    </a:lnTo>
                    <a:lnTo>
                      <a:pt x="43" y="78"/>
                    </a:lnTo>
                    <a:lnTo>
                      <a:pt x="34" y="80"/>
                    </a:lnTo>
                    <a:lnTo>
                      <a:pt x="23" y="84"/>
                    </a:lnTo>
                    <a:lnTo>
                      <a:pt x="14" y="87"/>
                    </a:lnTo>
                    <a:lnTo>
                      <a:pt x="8" y="90"/>
                    </a:lnTo>
                    <a:lnTo>
                      <a:pt x="0" y="94"/>
                    </a:lnTo>
                    <a:lnTo>
                      <a:pt x="0" y="17"/>
                    </a:lnTo>
                    <a:lnTo>
                      <a:pt x="8" y="12"/>
                    </a:lnTo>
                    <a:lnTo>
                      <a:pt x="19" y="9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256880" y="2277360"/>
                <a:ext cx="66240" cy="85320"/>
              </a:xfrm>
              <a:custGeom>
                <a:avLst/>
                <a:gdLst/>
                <a:ahLst/>
                <a:rect l="l" t="t" r="r" b="b"/>
                <a:pathLst>
                  <a:path w="53" h="84">
                    <a:moveTo>
                      <a:pt x="52" y="0"/>
                    </a:moveTo>
                    <a:lnTo>
                      <a:pt x="52" y="68"/>
                    </a:lnTo>
                    <a:lnTo>
                      <a:pt x="43" y="69"/>
                    </a:lnTo>
                    <a:lnTo>
                      <a:pt x="34" y="71"/>
                    </a:lnTo>
                    <a:lnTo>
                      <a:pt x="23" y="74"/>
                    </a:lnTo>
                    <a:lnTo>
                      <a:pt x="14" y="77"/>
                    </a:lnTo>
                    <a:lnTo>
                      <a:pt x="8" y="79"/>
                    </a:lnTo>
                    <a:lnTo>
                      <a:pt x="0" y="83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9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066080" y="227160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6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068600" y="2304000"/>
                <a:ext cx="1584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12" y="1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068600" y="23385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2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066080" y="236808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0"/>
                    </a:moveTo>
                    <a:lnTo>
                      <a:pt x="10" y="10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068600" y="240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068600" y="2437920"/>
                <a:ext cx="15840" cy="151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0"/>
                    </a:moveTo>
                    <a:lnTo>
                      <a:pt x="12" y="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066080" y="246852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095960" y="2276640"/>
                <a:ext cx="32040" cy="241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5" y="14"/>
                    </a:lnTo>
                    <a:lnTo>
                      <a:pt x="0" y="23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100640" y="231336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00640" y="234576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95960" y="237600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100640" y="241164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00640" y="2444040"/>
                <a:ext cx="24840" cy="20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9" y="12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95960" y="2475360"/>
                <a:ext cx="32040" cy="234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0"/>
                    </a:moveTo>
                    <a:lnTo>
                      <a:pt x="25" y="14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34480" y="227664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7" y="0"/>
                    </a:moveTo>
                    <a:lnTo>
                      <a:pt x="27" y="1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138440" y="23112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138440" y="23436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34480" y="237600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8" y="0"/>
                    </a:moveTo>
                    <a:lnTo>
                      <a:pt x="18" y="16"/>
                    </a:lnTo>
                    <a:lnTo>
                      <a:pt x="0" y="24"/>
                    </a:lnTo>
                    <a:lnTo>
                      <a:pt x="0" y="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138440" y="2410560"/>
                <a:ext cx="27360" cy="273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38440" y="2442240"/>
                <a:ext cx="27360" cy="273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134480" y="2474640"/>
                <a:ext cx="34920" cy="280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0"/>
                    </a:moveTo>
                    <a:lnTo>
                      <a:pt x="27" y="1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72280" y="2273760"/>
                <a:ext cx="38520" cy="3528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0" y="0"/>
                    </a:moveTo>
                    <a:lnTo>
                      <a:pt x="30" y="23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176960" y="2310120"/>
                <a:ext cx="32400" cy="3024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176960" y="2340720"/>
                <a:ext cx="32400" cy="3240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5" y="0"/>
                    </a:moveTo>
                    <a:lnTo>
                      <a:pt x="25" y="2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172280" y="237204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30" y="2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76960" y="2408400"/>
                <a:ext cx="32400" cy="3060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176960" y="2440800"/>
                <a:ext cx="32400" cy="3060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72280" y="2470320"/>
                <a:ext cx="38520" cy="3636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0" y="0"/>
                    </a:moveTo>
                    <a:lnTo>
                      <a:pt x="30" y="24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14760" y="2260440"/>
                <a:ext cx="38520" cy="4752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30" y="0"/>
                    </a:moveTo>
                    <a:lnTo>
                      <a:pt x="30" y="33"/>
                    </a:lnTo>
                    <a:lnTo>
                      <a:pt x="0" y="4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214760" y="229788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14760" y="233028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214760" y="2361600"/>
                <a:ext cx="38520" cy="4248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0" y="0"/>
                    </a:moveTo>
                    <a:lnTo>
                      <a:pt x="30" y="28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214760" y="2394360"/>
                <a:ext cx="38520" cy="4140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0" y="0"/>
                    </a:moveTo>
                    <a:lnTo>
                      <a:pt x="30" y="28"/>
                    </a:lnTo>
                    <a:lnTo>
                      <a:pt x="0" y="40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214760" y="2430000"/>
                <a:ext cx="38520" cy="3924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0" y="0"/>
                    </a:moveTo>
                    <a:lnTo>
                      <a:pt x="30" y="26"/>
                    </a:lnTo>
                    <a:lnTo>
                      <a:pt x="0" y="38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214760" y="2462400"/>
                <a:ext cx="38520" cy="4032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30" y="0"/>
                    </a:moveTo>
                    <a:lnTo>
                      <a:pt x="30" y="27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2" y="30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5" y="37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256880" y="2246400"/>
                <a:ext cx="196200" cy="247320"/>
              </a:xfrm>
              <a:custGeom>
                <a:avLst/>
                <a:gdLst/>
                <a:ahLst/>
                <a:rect l="l" t="t" r="r" b="b"/>
                <a:pathLst>
                  <a:path w="157" h="244">
                    <a:moveTo>
                      <a:pt x="156" y="19"/>
                    </a:moveTo>
                    <a:lnTo>
                      <a:pt x="156" y="243"/>
                    </a:lnTo>
                    <a:lnTo>
                      <a:pt x="154" y="242"/>
                    </a:lnTo>
                    <a:lnTo>
                      <a:pt x="152" y="241"/>
                    </a:lnTo>
                    <a:lnTo>
                      <a:pt x="150" y="240"/>
                    </a:lnTo>
                    <a:lnTo>
                      <a:pt x="148" y="238"/>
                    </a:lnTo>
                    <a:lnTo>
                      <a:pt x="146" y="238"/>
                    </a:lnTo>
                    <a:lnTo>
                      <a:pt x="144" y="237"/>
                    </a:lnTo>
                    <a:lnTo>
                      <a:pt x="142" y="236"/>
                    </a:lnTo>
                    <a:lnTo>
                      <a:pt x="140" y="235"/>
                    </a:lnTo>
                    <a:lnTo>
                      <a:pt x="138" y="234"/>
                    </a:lnTo>
                    <a:lnTo>
                      <a:pt x="136" y="233"/>
                    </a:lnTo>
                    <a:lnTo>
                      <a:pt x="134" y="232"/>
                    </a:lnTo>
                    <a:lnTo>
                      <a:pt x="132" y="232"/>
                    </a:lnTo>
                    <a:lnTo>
                      <a:pt x="129" y="231"/>
                    </a:lnTo>
                    <a:lnTo>
                      <a:pt x="127" y="230"/>
                    </a:lnTo>
                    <a:lnTo>
                      <a:pt x="125" y="230"/>
                    </a:lnTo>
                    <a:lnTo>
                      <a:pt x="123" y="229"/>
                    </a:lnTo>
                    <a:lnTo>
                      <a:pt x="120" y="229"/>
                    </a:lnTo>
                    <a:lnTo>
                      <a:pt x="118" y="228"/>
                    </a:lnTo>
                    <a:lnTo>
                      <a:pt x="116" y="227"/>
                    </a:lnTo>
                    <a:lnTo>
                      <a:pt x="113" y="227"/>
                    </a:lnTo>
                    <a:lnTo>
                      <a:pt x="111" y="227"/>
                    </a:lnTo>
                    <a:lnTo>
                      <a:pt x="108" y="226"/>
                    </a:lnTo>
                    <a:lnTo>
                      <a:pt x="106" y="226"/>
                    </a:lnTo>
                    <a:lnTo>
                      <a:pt x="103" y="226"/>
                    </a:lnTo>
                    <a:lnTo>
                      <a:pt x="101" y="225"/>
                    </a:lnTo>
                    <a:lnTo>
                      <a:pt x="98" y="225"/>
                    </a:lnTo>
                    <a:lnTo>
                      <a:pt x="96" y="225"/>
                    </a:lnTo>
                    <a:lnTo>
                      <a:pt x="93" y="225"/>
                    </a:lnTo>
                    <a:lnTo>
                      <a:pt x="90" y="225"/>
                    </a:lnTo>
                    <a:lnTo>
                      <a:pt x="88" y="225"/>
                    </a:lnTo>
                    <a:lnTo>
                      <a:pt x="85" y="224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4"/>
                    </a:lnTo>
                    <a:lnTo>
                      <a:pt x="75" y="225"/>
                    </a:lnTo>
                    <a:lnTo>
                      <a:pt x="73" y="225"/>
                    </a:lnTo>
                    <a:lnTo>
                      <a:pt x="70" y="225"/>
                    </a:lnTo>
                    <a:lnTo>
                      <a:pt x="68" y="225"/>
                    </a:lnTo>
                    <a:lnTo>
                      <a:pt x="66" y="225"/>
                    </a:lnTo>
                    <a:lnTo>
                      <a:pt x="63" y="225"/>
                    </a:lnTo>
                    <a:lnTo>
                      <a:pt x="61" y="226"/>
                    </a:lnTo>
                    <a:lnTo>
                      <a:pt x="58" y="226"/>
                    </a:lnTo>
                    <a:lnTo>
                      <a:pt x="56" y="226"/>
                    </a:lnTo>
                    <a:lnTo>
                      <a:pt x="53" y="226"/>
                    </a:lnTo>
                    <a:lnTo>
                      <a:pt x="51" y="227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3" y="228"/>
                    </a:lnTo>
                    <a:lnTo>
                      <a:pt x="41" y="228"/>
                    </a:lnTo>
                    <a:lnTo>
                      <a:pt x="38" y="229"/>
                    </a:lnTo>
                    <a:lnTo>
                      <a:pt x="35" y="229"/>
                    </a:lnTo>
                    <a:lnTo>
                      <a:pt x="33" y="229"/>
                    </a:lnTo>
                    <a:lnTo>
                      <a:pt x="30" y="230"/>
                    </a:lnTo>
                    <a:lnTo>
                      <a:pt x="27" y="230"/>
                    </a:lnTo>
                    <a:lnTo>
                      <a:pt x="25" y="231"/>
                    </a:lnTo>
                    <a:lnTo>
                      <a:pt x="22" y="232"/>
                    </a:lnTo>
                    <a:lnTo>
                      <a:pt x="19" y="232"/>
                    </a:lnTo>
                    <a:lnTo>
                      <a:pt x="17" y="233"/>
                    </a:lnTo>
                    <a:lnTo>
                      <a:pt x="14" y="234"/>
                    </a:lnTo>
                    <a:lnTo>
                      <a:pt x="11" y="234"/>
                    </a:lnTo>
                    <a:lnTo>
                      <a:pt x="8" y="235"/>
                    </a:lnTo>
                    <a:lnTo>
                      <a:pt x="6" y="236"/>
                    </a:lnTo>
                    <a:lnTo>
                      <a:pt x="3" y="237"/>
                    </a:lnTo>
                    <a:lnTo>
                      <a:pt x="0" y="237"/>
                    </a:lnTo>
                    <a:lnTo>
                      <a:pt x="0" y="205"/>
                    </a:lnTo>
                    <a:lnTo>
                      <a:pt x="3" y="204"/>
                    </a:lnTo>
                    <a:lnTo>
                      <a:pt x="6" y="203"/>
                    </a:lnTo>
                    <a:lnTo>
                      <a:pt x="9" y="202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8" y="199"/>
                    </a:lnTo>
                    <a:lnTo>
                      <a:pt x="21" y="198"/>
                    </a:lnTo>
                    <a:lnTo>
                      <a:pt x="24" y="198"/>
                    </a:lnTo>
                    <a:lnTo>
                      <a:pt x="27" y="197"/>
                    </a:lnTo>
                    <a:lnTo>
                      <a:pt x="30" y="196"/>
                    </a:lnTo>
                    <a:lnTo>
                      <a:pt x="33" y="195"/>
                    </a:lnTo>
                    <a:lnTo>
                      <a:pt x="37" y="195"/>
                    </a:lnTo>
                    <a:lnTo>
                      <a:pt x="40" y="194"/>
                    </a:lnTo>
                    <a:lnTo>
                      <a:pt x="43" y="193"/>
                    </a:lnTo>
                    <a:lnTo>
                      <a:pt x="46" y="193"/>
                    </a:lnTo>
                    <a:lnTo>
                      <a:pt x="50" y="192"/>
                    </a:lnTo>
                    <a:lnTo>
                      <a:pt x="50" y="120"/>
                    </a:lnTo>
                    <a:lnTo>
                      <a:pt x="47" y="121"/>
                    </a:lnTo>
                    <a:lnTo>
                      <a:pt x="44" y="121"/>
                    </a:lnTo>
                    <a:lnTo>
                      <a:pt x="41" y="122"/>
                    </a:lnTo>
                    <a:lnTo>
                      <a:pt x="38" y="122"/>
                    </a:lnTo>
                    <a:lnTo>
                      <a:pt x="35" y="123"/>
                    </a:lnTo>
                    <a:lnTo>
                      <a:pt x="32" y="124"/>
                    </a:lnTo>
                    <a:lnTo>
                      <a:pt x="29" y="125"/>
                    </a:lnTo>
                    <a:lnTo>
                      <a:pt x="26" y="126"/>
                    </a:lnTo>
                    <a:lnTo>
                      <a:pt x="23" y="127"/>
                    </a:lnTo>
                    <a:lnTo>
                      <a:pt x="20" y="128"/>
                    </a:lnTo>
                    <a:lnTo>
                      <a:pt x="17" y="129"/>
                    </a:lnTo>
                    <a:lnTo>
                      <a:pt x="13" y="130"/>
                    </a:lnTo>
                    <a:lnTo>
                      <a:pt x="10" y="132"/>
                    </a:lnTo>
                    <a:lnTo>
                      <a:pt x="7" y="133"/>
                    </a:lnTo>
                    <a:lnTo>
                      <a:pt x="3" y="135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3" y="113"/>
                    </a:lnTo>
                    <a:lnTo>
                      <a:pt x="6" y="111"/>
                    </a:lnTo>
                    <a:lnTo>
                      <a:pt x="9" y="110"/>
                    </a:lnTo>
                    <a:lnTo>
                      <a:pt x="12" y="109"/>
                    </a:lnTo>
                    <a:lnTo>
                      <a:pt x="15" y="108"/>
                    </a:lnTo>
                    <a:lnTo>
                      <a:pt x="18" y="107"/>
                    </a:lnTo>
                    <a:lnTo>
                      <a:pt x="21" y="106"/>
                    </a:lnTo>
                    <a:lnTo>
                      <a:pt x="24" y="105"/>
                    </a:lnTo>
                    <a:lnTo>
                      <a:pt x="27" y="104"/>
                    </a:lnTo>
                    <a:lnTo>
                      <a:pt x="30" y="103"/>
                    </a:lnTo>
                    <a:lnTo>
                      <a:pt x="34" y="102"/>
                    </a:lnTo>
                    <a:lnTo>
                      <a:pt x="37" y="101"/>
                    </a:lnTo>
                    <a:lnTo>
                      <a:pt x="40" y="101"/>
                    </a:lnTo>
                    <a:lnTo>
                      <a:pt x="43" y="100"/>
                    </a:lnTo>
                    <a:lnTo>
                      <a:pt x="46" y="99"/>
                    </a:lnTo>
                    <a:lnTo>
                      <a:pt x="50" y="99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6" y="38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6" y="40"/>
                    </a:lnTo>
                    <a:lnTo>
                      <a:pt x="13" y="41"/>
                    </a:lnTo>
                    <a:lnTo>
                      <a:pt x="10" y="42"/>
                    </a:lnTo>
                    <a:lnTo>
                      <a:pt x="6" y="43"/>
                    </a:lnTo>
                    <a:lnTo>
                      <a:pt x="3" y="45"/>
                    </a:lnTo>
                    <a:lnTo>
                      <a:pt x="0" y="46"/>
                    </a:lnTo>
                    <a:lnTo>
                      <a:pt x="0" y="14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99" y="1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4" y="4"/>
                    </a:lnTo>
                    <a:lnTo>
                      <a:pt x="117" y="4"/>
                    </a:lnTo>
                    <a:lnTo>
                      <a:pt x="119" y="5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9"/>
                    </a:lnTo>
                    <a:lnTo>
                      <a:pt x="136" y="10"/>
                    </a:lnTo>
                    <a:lnTo>
                      <a:pt x="138" y="11"/>
                    </a:lnTo>
                    <a:lnTo>
                      <a:pt x="140" y="12"/>
                    </a:lnTo>
                    <a:lnTo>
                      <a:pt x="143" y="13"/>
                    </a:lnTo>
                    <a:lnTo>
                      <a:pt x="145" y="14"/>
                    </a:lnTo>
                    <a:lnTo>
                      <a:pt x="147" y="15"/>
                    </a:lnTo>
                    <a:lnTo>
                      <a:pt x="149" y="16"/>
                    </a:lnTo>
                    <a:lnTo>
                      <a:pt x="151" y="17"/>
                    </a:lnTo>
                    <a:lnTo>
                      <a:pt x="154" y="18"/>
                    </a:lnTo>
                    <a:lnTo>
                      <a:pt x="156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349760" y="2280600"/>
                <a:ext cx="67320" cy="7560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3" y="10"/>
                    </a:moveTo>
                    <a:lnTo>
                      <a:pt x="53" y="10"/>
                    </a:lnTo>
                    <a:lnTo>
                      <a:pt x="51" y="9"/>
                    </a:lnTo>
                    <a:lnTo>
                      <a:pt x="48" y="7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0" y="5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0" y="69"/>
                    </a:lnTo>
                    <a:lnTo>
                      <a:pt x="33" y="69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2" y="71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3"/>
                    </a:lnTo>
                    <a:lnTo>
                      <a:pt x="53" y="74"/>
                    </a:lnTo>
                    <a:lnTo>
                      <a:pt x="53" y="1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348320" y="2368080"/>
                <a:ext cx="67680" cy="8100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3" y="8"/>
                    </a:moveTo>
                    <a:lnTo>
                      <a:pt x="53" y="8"/>
                    </a:lnTo>
                    <a:lnTo>
                      <a:pt x="50" y="7"/>
                    </a:lnTo>
                    <a:lnTo>
                      <a:pt x="48" y="6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6" y="73"/>
                    </a:lnTo>
                    <a:lnTo>
                      <a:pt x="10" y="73"/>
                    </a:lnTo>
                    <a:lnTo>
                      <a:pt x="13" y="73"/>
                    </a:lnTo>
                    <a:lnTo>
                      <a:pt x="16" y="73"/>
                    </a:lnTo>
                    <a:lnTo>
                      <a:pt x="19" y="73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1" y="74"/>
                    </a:lnTo>
                    <a:lnTo>
                      <a:pt x="34" y="75"/>
                    </a:lnTo>
                    <a:lnTo>
                      <a:pt x="37" y="75"/>
                    </a:lnTo>
                    <a:lnTo>
                      <a:pt x="40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53" y="79"/>
                    </a:lnTo>
                    <a:lnTo>
                      <a:pt x="53" y="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9" name=""/>
          <p:cNvSpPr/>
          <p:nvPr/>
        </p:nvSpPr>
        <p:spPr>
          <a:xfrm>
            <a:off x="7456320" y="3584520"/>
            <a:ext cx="484200" cy="30492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76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608960" y="3736800"/>
            <a:ext cx="484200" cy="30492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76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761240" y="3889440"/>
            <a:ext cx="484200" cy="30456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76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8015400" y="4092480"/>
            <a:ext cx="387000" cy="259920"/>
            <a:chOff x="8015400" y="4092480"/>
            <a:chExt cx="387000" cy="259920"/>
          </a:xfrm>
        </p:grpSpPr>
        <p:sp>
          <p:nvSpPr>
            <p:cNvPr id="1063" name=""/>
            <p:cNvSpPr/>
            <p:nvPr/>
          </p:nvSpPr>
          <p:spPr>
            <a:xfrm>
              <a:off x="8206200" y="4210920"/>
              <a:ext cx="66240" cy="961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2" y="0"/>
                  </a:moveTo>
                  <a:lnTo>
                    <a:pt x="52" y="77"/>
                  </a:lnTo>
                  <a:lnTo>
                    <a:pt x="43" y="78"/>
                  </a:lnTo>
                  <a:lnTo>
                    <a:pt x="34" y="80"/>
                  </a:lnTo>
                  <a:lnTo>
                    <a:pt x="23" y="84"/>
                  </a:lnTo>
                  <a:lnTo>
                    <a:pt x="14" y="87"/>
                  </a:lnTo>
                  <a:lnTo>
                    <a:pt x="8" y="90"/>
                  </a:lnTo>
                  <a:lnTo>
                    <a:pt x="0" y="94"/>
                  </a:lnTo>
                  <a:lnTo>
                    <a:pt x="0" y="17"/>
                  </a:lnTo>
                  <a:lnTo>
                    <a:pt x="8" y="12"/>
                  </a:lnTo>
                  <a:lnTo>
                    <a:pt x="19" y="9"/>
                  </a:lnTo>
                  <a:lnTo>
                    <a:pt x="27" y="6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206200" y="4123440"/>
              <a:ext cx="66240" cy="849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2" y="0"/>
                  </a:moveTo>
                  <a:lnTo>
                    <a:pt x="52" y="68"/>
                  </a:lnTo>
                  <a:lnTo>
                    <a:pt x="43" y="69"/>
                  </a:lnTo>
                  <a:lnTo>
                    <a:pt x="34" y="71"/>
                  </a:lnTo>
                  <a:lnTo>
                    <a:pt x="23" y="74"/>
                  </a:lnTo>
                  <a:lnTo>
                    <a:pt x="14" y="77"/>
                  </a:lnTo>
                  <a:lnTo>
                    <a:pt x="8" y="79"/>
                  </a:lnTo>
                  <a:lnTo>
                    <a:pt x="0" y="83"/>
                  </a:lnTo>
                  <a:lnTo>
                    <a:pt x="0" y="15"/>
                  </a:lnTo>
                  <a:lnTo>
                    <a:pt x="8" y="11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015400" y="4117680"/>
              <a:ext cx="21240" cy="16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6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017920" y="4150080"/>
              <a:ext cx="1584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0"/>
                  </a:moveTo>
                  <a:lnTo>
                    <a:pt x="12" y="1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017920" y="4184640"/>
              <a:ext cx="15840" cy="140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2" y="9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015400" y="4213800"/>
              <a:ext cx="13320" cy="1692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017920" y="4250520"/>
              <a:ext cx="15840" cy="158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2" y="0"/>
                  </a:moveTo>
                  <a:lnTo>
                    <a:pt x="12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017920" y="4283640"/>
              <a:ext cx="15840" cy="15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015400" y="4314240"/>
              <a:ext cx="21240" cy="187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045280" y="4122720"/>
              <a:ext cx="32040" cy="241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5" y="0"/>
                  </a:moveTo>
                  <a:lnTo>
                    <a:pt x="25" y="14"/>
                  </a:lnTo>
                  <a:lnTo>
                    <a:pt x="0" y="23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49960" y="415908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049960" y="419148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45280" y="422208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049960" y="4257720"/>
              <a:ext cx="24840" cy="18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049960" y="4290120"/>
              <a:ext cx="24840" cy="201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45280" y="4321080"/>
              <a:ext cx="32040" cy="234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0"/>
                  </a:moveTo>
                  <a:lnTo>
                    <a:pt x="25" y="14"/>
                  </a:lnTo>
                  <a:lnTo>
                    <a:pt x="0" y="22"/>
                  </a:lnTo>
                  <a:lnTo>
                    <a:pt x="0" y="8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083800" y="4122720"/>
              <a:ext cx="34920" cy="302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7" y="0"/>
                  </a:moveTo>
                  <a:lnTo>
                    <a:pt x="27" y="19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087760" y="4157280"/>
              <a:ext cx="27360" cy="252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087760" y="4189680"/>
              <a:ext cx="27360" cy="252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083800" y="4222080"/>
              <a:ext cx="23760" cy="252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0"/>
                  </a:moveTo>
                  <a:lnTo>
                    <a:pt x="18" y="16"/>
                  </a:lnTo>
                  <a:lnTo>
                    <a:pt x="0" y="24"/>
                  </a:lnTo>
                  <a:lnTo>
                    <a:pt x="0" y="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87760" y="4256280"/>
              <a:ext cx="273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087760" y="4287960"/>
              <a:ext cx="273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83800" y="4320360"/>
              <a:ext cx="34920" cy="28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0"/>
                  </a:moveTo>
                  <a:lnTo>
                    <a:pt x="27" y="17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21600" y="4119480"/>
              <a:ext cx="38520" cy="352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0" y="0"/>
                  </a:moveTo>
                  <a:lnTo>
                    <a:pt x="30" y="23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126280" y="415620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26280" y="4186440"/>
              <a:ext cx="32400" cy="32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5" y="0"/>
                  </a:moveTo>
                  <a:lnTo>
                    <a:pt x="25" y="21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121600" y="4218120"/>
              <a:ext cx="38520" cy="374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0"/>
                  </a:moveTo>
                  <a:lnTo>
                    <a:pt x="30" y="24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26280" y="425448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126280" y="428688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21600" y="4316040"/>
              <a:ext cx="38520" cy="363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0"/>
                  </a:moveTo>
                  <a:lnTo>
                    <a:pt x="30" y="24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164080" y="4106520"/>
              <a:ext cx="38520" cy="4752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30" y="0"/>
                  </a:moveTo>
                  <a:lnTo>
                    <a:pt x="30" y="33"/>
                  </a:lnTo>
                  <a:lnTo>
                    <a:pt x="0" y="46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164080" y="4143960"/>
              <a:ext cx="38520" cy="381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164080" y="4176360"/>
              <a:ext cx="38520" cy="381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164080" y="4207680"/>
              <a:ext cx="38520" cy="424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0" y="0"/>
                  </a:moveTo>
                  <a:lnTo>
                    <a:pt x="30" y="28"/>
                  </a:lnTo>
                  <a:lnTo>
                    <a:pt x="0" y="41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164080" y="4240440"/>
              <a:ext cx="38520" cy="410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0" y="0"/>
                  </a:moveTo>
                  <a:lnTo>
                    <a:pt x="30" y="28"/>
                  </a:lnTo>
                  <a:lnTo>
                    <a:pt x="0" y="40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164080" y="4275720"/>
              <a:ext cx="38520" cy="392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0" y="0"/>
                  </a:moveTo>
                  <a:lnTo>
                    <a:pt x="30" y="26"/>
                  </a:lnTo>
                  <a:lnTo>
                    <a:pt x="0" y="38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164080" y="4308120"/>
              <a:ext cx="38520" cy="4032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30" y="0"/>
                  </a:moveTo>
                  <a:lnTo>
                    <a:pt x="30" y="27"/>
                  </a:lnTo>
                  <a:lnTo>
                    <a:pt x="28" y="28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3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206200" y="4092480"/>
              <a:ext cx="196200" cy="246960"/>
            </a:xfrm>
            <a:custGeom>
              <a:avLst/>
              <a:gdLst/>
              <a:ahLst/>
              <a:rect l="l" t="t" r="r" b="b"/>
              <a:pathLst>
                <a:path w="157" h="244">
                  <a:moveTo>
                    <a:pt x="156" y="19"/>
                  </a:moveTo>
                  <a:lnTo>
                    <a:pt x="156" y="243"/>
                  </a:lnTo>
                  <a:lnTo>
                    <a:pt x="154" y="242"/>
                  </a:lnTo>
                  <a:lnTo>
                    <a:pt x="152" y="241"/>
                  </a:lnTo>
                  <a:lnTo>
                    <a:pt x="150" y="240"/>
                  </a:lnTo>
                  <a:lnTo>
                    <a:pt x="148" y="238"/>
                  </a:lnTo>
                  <a:lnTo>
                    <a:pt x="146" y="238"/>
                  </a:lnTo>
                  <a:lnTo>
                    <a:pt x="144" y="237"/>
                  </a:lnTo>
                  <a:lnTo>
                    <a:pt x="142" y="236"/>
                  </a:lnTo>
                  <a:lnTo>
                    <a:pt x="140" y="235"/>
                  </a:lnTo>
                  <a:lnTo>
                    <a:pt x="138" y="234"/>
                  </a:lnTo>
                  <a:lnTo>
                    <a:pt x="136" y="233"/>
                  </a:lnTo>
                  <a:lnTo>
                    <a:pt x="134" y="232"/>
                  </a:lnTo>
                  <a:lnTo>
                    <a:pt x="132" y="232"/>
                  </a:lnTo>
                  <a:lnTo>
                    <a:pt x="129" y="231"/>
                  </a:lnTo>
                  <a:lnTo>
                    <a:pt x="127" y="230"/>
                  </a:lnTo>
                  <a:lnTo>
                    <a:pt x="125" y="230"/>
                  </a:lnTo>
                  <a:lnTo>
                    <a:pt x="123" y="229"/>
                  </a:lnTo>
                  <a:lnTo>
                    <a:pt x="120" y="229"/>
                  </a:lnTo>
                  <a:lnTo>
                    <a:pt x="118" y="228"/>
                  </a:lnTo>
                  <a:lnTo>
                    <a:pt x="116" y="227"/>
                  </a:lnTo>
                  <a:lnTo>
                    <a:pt x="113" y="227"/>
                  </a:lnTo>
                  <a:lnTo>
                    <a:pt x="111" y="227"/>
                  </a:lnTo>
                  <a:lnTo>
                    <a:pt x="108" y="226"/>
                  </a:lnTo>
                  <a:lnTo>
                    <a:pt x="106" y="226"/>
                  </a:lnTo>
                  <a:lnTo>
                    <a:pt x="103" y="226"/>
                  </a:lnTo>
                  <a:lnTo>
                    <a:pt x="101" y="225"/>
                  </a:lnTo>
                  <a:lnTo>
                    <a:pt x="98" y="225"/>
                  </a:lnTo>
                  <a:lnTo>
                    <a:pt x="96" y="225"/>
                  </a:lnTo>
                  <a:lnTo>
                    <a:pt x="93" y="225"/>
                  </a:lnTo>
                  <a:lnTo>
                    <a:pt x="90" y="225"/>
                  </a:lnTo>
                  <a:lnTo>
                    <a:pt x="88" y="225"/>
                  </a:lnTo>
                  <a:lnTo>
                    <a:pt x="85" y="224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4"/>
                  </a:lnTo>
                  <a:lnTo>
                    <a:pt x="75" y="225"/>
                  </a:lnTo>
                  <a:lnTo>
                    <a:pt x="73" y="225"/>
                  </a:lnTo>
                  <a:lnTo>
                    <a:pt x="70" y="225"/>
                  </a:lnTo>
                  <a:lnTo>
                    <a:pt x="68" y="225"/>
                  </a:lnTo>
                  <a:lnTo>
                    <a:pt x="66" y="225"/>
                  </a:lnTo>
                  <a:lnTo>
                    <a:pt x="63" y="225"/>
                  </a:lnTo>
                  <a:lnTo>
                    <a:pt x="61" y="226"/>
                  </a:lnTo>
                  <a:lnTo>
                    <a:pt x="58" y="226"/>
                  </a:lnTo>
                  <a:lnTo>
                    <a:pt x="56" y="226"/>
                  </a:lnTo>
                  <a:lnTo>
                    <a:pt x="53" y="226"/>
                  </a:lnTo>
                  <a:lnTo>
                    <a:pt x="51" y="227"/>
                  </a:lnTo>
                  <a:lnTo>
                    <a:pt x="48" y="227"/>
                  </a:lnTo>
                  <a:lnTo>
                    <a:pt x="46" y="227"/>
                  </a:lnTo>
                  <a:lnTo>
                    <a:pt x="43" y="228"/>
                  </a:lnTo>
                  <a:lnTo>
                    <a:pt x="41" y="228"/>
                  </a:lnTo>
                  <a:lnTo>
                    <a:pt x="38" y="229"/>
                  </a:lnTo>
                  <a:lnTo>
                    <a:pt x="35" y="229"/>
                  </a:lnTo>
                  <a:lnTo>
                    <a:pt x="33" y="229"/>
                  </a:lnTo>
                  <a:lnTo>
                    <a:pt x="30" y="230"/>
                  </a:lnTo>
                  <a:lnTo>
                    <a:pt x="27" y="230"/>
                  </a:lnTo>
                  <a:lnTo>
                    <a:pt x="25" y="231"/>
                  </a:lnTo>
                  <a:lnTo>
                    <a:pt x="22" y="232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4" y="234"/>
                  </a:lnTo>
                  <a:lnTo>
                    <a:pt x="11" y="234"/>
                  </a:lnTo>
                  <a:lnTo>
                    <a:pt x="8" y="235"/>
                  </a:lnTo>
                  <a:lnTo>
                    <a:pt x="6" y="236"/>
                  </a:lnTo>
                  <a:lnTo>
                    <a:pt x="3" y="237"/>
                  </a:lnTo>
                  <a:lnTo>
                    <a:pt x="0" y="237"/>
                  </a:lnTo>
                  <a:lnTo>
                    <a:pt x="0" y="205"/>
                  </a:lnTo>
                  <a:lnTo>
                    <a:pt x="3" y="204"/>
                  </a:lnTo>
                  <a:lnTo>
                    <a:pt x="6" y="203"/>
                  </a:lnTo>
                  <a:lnTo>
                    <a:pt x="9" y="202"/>
                  </a:lnTo>
                  <a:lnTo>
                    <a:pt x="12" y="201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24" y="198"/>
                  </a:lnTo>
                  <a:lnTo>
                    <a:pt x="27" y="197"/>
                  </a:lnTo>
                  <a:lnTo>
                    <a:pt x="30" y="196"/>
                  </a:lnTo>
                  <a:lnTo>
                    <a:pt x="33" y="195"/>
                  </a:lnTo>
                  <a:lnTo>
                    <a:pt x="37" y="195"/>
                  </a:lnTo>
                  <a:lnTo>
                    <a:pt x="40" y="194"/>
                  </a:lnTo>
                  <a:lnTo>
                    <a:pt x="43" y="193"/>
                  </a:lnTo>
                  <a:lnTo>
                    <a:pt x="46" y="193"/>
                  </a:lnTo>
                  <a:lnTo>
                    <a:pt x="50" y="192"/>
                  </a:lnTo>
                  <a:lnTo>
                    <a:pt x="50" y="120"/>
                  </a:lnTo>
                  <a:lnTo>
                    <a:pt x="47" y="121"/>
                  </a:lnTo>
                  <a:lnTo>
                    <a:pt x="44" y="121"/>
                  </a:lnTo>
                  <a:lnTo>
                    <a:pt x="41" y="122"/>
                  </a:lnTo>
                  <a:lnTo>
                    <a:pt x="38" y="122"/>
                  </a:lnTo>
                  <a:lnTo>
                    <a:pt x="35" y="123"/>
                  </a:lnTo>
                  <a:lnTo>
                    <a:pt x="32" y="124"/>
                  </a:lnTo>
                  <a:lnTo>
                    <a:pt x="29" y="125"/>
                  </a:lnTo>
                  <a:lnTo>
                    <a:pt x="26" y="126"/>
                  </a:lnTo>
                  <a:lnTo>
                    <a:pt x="23" y="127"/>
                  </a:lnTo>
                  <a:lnTo>
                    <a:pt x="20" y="128"/>
                  </a:lnTo>
                  <a:lnTo>
                    <a:pt x="17" y="129"/>
                  </a:lnTo>
                  <a:lnTo>
                    <a:pt x="13" y="130"/>
                  </a:lnTo>
                  <a:lnTo>
                    <a:pt x="10" y="132"/>
                  </a:lnTo>
                  <a:lnTo>
                    <a:pt x="7" y="133"/>
                  </a:lnTo>
                  <a:lnTo>
                    <a:pt x="3" y="135"/>
                  </a:lnTo>
                  <a:lnTo>
                    <a:pt x="0" y="136"/>
                  </a:lnTo>
                  <a:lnTo>
                    <a:pt x="0" y="114"/>
                  </a:lnTo>
                  <a:lnTo>
                    <a:pt x="3" y="113"/>
                  </a:lnTo>
                  <a:lnTo>
                    <a:pt x="6" y="111"/>
                  </a:lnTo>
                  <a:lnTo>
                    <a:pt x="9" y="110"/>
                  </a:lnTo>
                  <a:lnTo>
                    <a:pt x="12" y="109"/>
                  </a:lnTo>
                  <a:lnTo>
                    <a:pt x="15" y="108"/>
                  </a:lnTo>
                  <a:lnTo>
                    <a:pt x="18" y="107"/>
                  </a:lnTo>
                  <a:lnTo>
                    <a:pt x="21" y="106"/>
                  </a:lnTo>
                  <a:lnTo>
                    <a:pt x="24" y="105"/>
                  </a:lnTo>
                  <a:lnTo>
                    <a:pt x="27" y="104"/>
                  </a:lnTo>
                  <a:lnTo>
                    <a:pt x="30" y="103"/>
                  </a:lnTo>
                  <a:lnTo>
                    <a:pt x="34" y="102"/>
                  </a:lnTo>
                  <a:lnTo>
                    <a:pt x="37" y="101"/>
                  </a:lnTo>
                  <a:lnTo>
                    <a:pt x="40" y="101"/>
                  </a:lnTo>
                  <a:lnTo>
                    <a:pt x="43" y="100"/>
                  </a:lnTo>
                  <a:lnTo>
                    <a:pt x="46" y="99"/>
                  </a:lnTo>
                  <a:lnTo>
                    <a:pt x="50" y="99"/>
                  </a:lnTo>
                  <a:lnTo>
                    <a:pt x="50" y="32"/>
                  </a:lnTo>
                  <a:lnTo>
                    <a:pt x="47" y="32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6" y="38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6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6" y="43"/>
                  </a:lnTo>
                  <a:lnTo>
                    <a:pt x="3" y="45"/>
                  </a:lnTo>
                  <a:lnTo>
                    <a:pt x="0" y="46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19" y="5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0" y="12"/>
                  </a:lnTo>
                  <a:lnTo>
                    <a:pt x="143" y="13"/>
                  </a:lnTo>
                  <a:lnTo>
                    <a:pt x="145" y="14"/>
                  </a:lnTo>
                  <a:lnTo>
                    <a:pt x="147" y="15"/>
                  </a:lnTo>
                  <a:lnTo>
                    <a:pt x="149" y="16"/>
                  </a:lnTo>
                  <a:lnTo>
                    <a:pt x="151" y="17"/>
                  </a:lnTo>
                  <a:lnTo>
                    <a:pt x="154" y="18"/>
                  </a:lnTo>
                  <a:lnTo>
                    <a:pt x="156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299080" y="4126680"/>
              <a:ext cx="67320" cy="7560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53" y="10"/>
                  </a:moveTo>
                  <a:lnTo>
                    <a:pt x="53" y="10"/>
                  </a:lnTo>
                  <a:lnTo>
                    <a:pt x="51" y="9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9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4" y="68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7" y="72"/>
                  </a:lnTo>
                  <a:lnTo>
                    <a:pt x="50" y="73"/>
                  </a:lnTo>
                  <a:lnTo>
                    <a:pt x="53" y="74"/>
                  </a:lnTo>
                  <a:lnTo>
                    <a:pt x="53" y="1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297640" y="4213800"/>
              <a:ext cx="67680" cy="810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3" y="8"/>
                  </a:moveTo>
                  <a:lnTo>
                    <a:pt x="53" y="8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5" y="5"/>
                  </a:lnTo>
                  <a:lnTo>
                    <a:pt x="42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6" y="73"/>
                  </a:lnTo>
                  <a:lnTo>
                    <a:pt x="19" y="73"/>
                  </a:lnTo>
                  <a:lnTo>
                    <a:pt x="22" y="73"/>
                  </a:lnTo>
                  <a:lnTo>
                    <a:pt x="25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4" y="75"/>
                  </a:lnTo>
                  <a:lnTo>
                    <a:pt x="37" y="75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5" y="77"/>
                  </a:lnTo>
                  <a:lnTo>
                    <a:pt x="48" y="78"/>
                  </a:lnTo>
                  <a:lnTo>
                    <a:pt x="50" y="78"/>
                  </a:lnTo>
                  <a:lnTo>
                    <a:pt x="53" y="79"/>
                  </a:lnTo>
                  <a:lnTo>
                    <a:pt x="53" y="8"/>
                  </a:lnTo>
                </a:path>
              </a:pathLst>
            </a:cu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6505560" y="5151600"/>
            <a:ext cx="484200" cy="30456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76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6799320" y="5041800"/>
            <a:ext cx="387000" cy="259920"/>
            <a:chOff x="6799320" y="5041800"/>
            <a:chExt cx="387000" cy="259920"/>
          </a:xfrm>
        </p:grpSpPr>
        <p:sp>
          <p:nvSpPr>
            <p:cNvPr id="1105" name=""/>
            <p:cNvSpPr/>
            <p:nvPr/>
          </p:nvSpPr>
          <p:spPr>
            <a:xfrm>
              <a:off x="6990120" y="5160240"/>
              <a:ext cx="66240" cy="961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2" y="0"/>
                  </a:moveTo>
                  <a:lnTo>
                    <a:pt x="52" y="77"/>
                  </a:lnTo>
                  <a:lnTo>
                    <a:pt x="43" y="78"/>
                  </a:lnTo>
                  <a:lnTo>
                    <a:pt x="34" y="80"/>
                  </a:lnTo>
                  <a:lnTo>
                    <a:pt x="23" y="84"/>
                  </a:lnTo>
                  <a:lnTo>
                    <a:pt x="14" y="87"/>
                  </a:lnTo>
                  <a:lnTo>
                    <a:pt x="8" y="90"/>
                  </a:lnTo>
                  <a:lnTo>
                    <a:pt x="0" y="94"/>
                  </a:lnTo>
                  <a:lnTo>
                    <a:pt x="0" y="17"/>
                  </a:lnTo>
                  <a:lnTo>
                    <a:pt x="8" y="12"/>
                  </a:lnTo>
                  <a:lnTo>
                    <a:pt x="19" y="9"/>
                  </a:lnTo>
                  <a:lnTo>
                    <a:pt x="27" y="6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990120" y="5072760"/>
              <a:ext cx="66240" cy="849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2" y="0"/>
                  </a:moveTo>
                  <a:lnTo>
                    <a:pt x="52" y="68"/>
                  </a:lnTo>
                  <a:lnTo>
                    <a:pt x="43" y="69"/>
                  </a:lnTo>
                  <a:lnTo>
                    <a:pt x="34" y="71"/>
                  </a:lnTo>
                  <a:lnTo>
                    <a:pt x="23" y="74"/>
                  </a:lnTo>
                  <a:lnTo>
                    <a:pt x="14" y="77"/>
                  </a:lnTo>
                  <a:lnTo>
                    <a:pt x="8" y="79"/>
                  </a:lnTo>
                  <a:lnTo>
                    <a:pt x="0" y="83"/>
                  </a:lnTo>
                  <a:lnTo>
                    <a:pt x="0" y="15"/>
                  </a:lnTo>
                  <a:lnTo>
                    <a:pt x="8" y="11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799320" y="5067000"/>
              <a:ext cx="21240" cy="16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6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801840" y="5099400"/>
              <a:ext cx="1584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0"/>
                  </a:moveTo>
                  <a:lnTo>
                    <a:pt x="12" y="1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01840" y="5133960"/>
              <a:ext cx="15840" cy="140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2" y="9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99320" y="5163120"/>
              <a:ext cx="13320" cy="1692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1840" y="5199840"/>
              <a:ext cx="15840" cy="158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2" y="0"/>
                  </a:moveTo>
                  <a:lnTo>
                    <a:pt x="12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01840" y="5232960"/>
              <a:ext cx="15840" cy="15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99320" y="5263560"/>
              <a:ext cx="21240" cy="187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29200" y="5072040"/>
              <a:ext cx="32040" cy="241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5" y="0"/>
                  </a:moveTo>
                  <a:lnTo>
                    <a:pt x="25" y="14"/>
                  </a:lnTo>
                  <a:lnTo>
                    <a:pt x="0" y="23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833880" y="510840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33880" y="514080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829200" y="517140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833880" y="5207040"/>
              <a:ext cx="24840" cy="18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833880" y="5239440"/>
              <a:ext cx="24840" cy="201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829200" y="5270400"/>
              <a:ext cx="32040" cy="234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0"/>
                  </a:moveTo>
                  <a:lnTo>
                    <a:pt x="25" y="14"/>
                  </a:lnTo>
                  <a:lnTo>
                    <a:pt x="0" y="22"/>
                  </a:lnTo>
                  <a:lnTo>
                    <a:pt x="0" y="8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67720" y="5072040"/>
              <a:ext cx="34920" cy="302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7" y="0"/>
                  </a:moveTo>
                  <a:lnTo>
                    <a:pt x="27" y="19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71680" y="5106600"/>
              <a:ext cx="27360" cy="252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871680" y="5139000"/>
              <a:ext cx="27360" cy="252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867720" y="5171400"/>
              <a:ext cx="23760" cy="252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0"/>
                  </a:moveTo>
                  <a:lnTo>
                    <a:pt x="18" y="16"/>
                  </a:lnTo>
                  <a:lnTo>
                    <a:pt x="0" y="24"/>
                  </a:lnTo>
                  <a:lnTo>
                    <a:pt x="0" y="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71680" y="5205600"/>
              <a:ext cx="273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71680" y="5237280"/>
              <a:ext cx="273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67720" y="5269680"/>
              <a:ext cx="34920" cy="28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0"/>
                  </a:moveTo>
                  <a:lnTo>
                    <a:pt x="27" y="17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905520" y="5068800"/>
              <a:ext cx="38520" cy="352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0" y="0"/>
                  </a:moveTo>
                  <a:lnTo>
                    <a:pt x="30" y="23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910200" y="510552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10200" y="5135760"/>
              <a:ext cx="32400" cy="32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5" y="0"/>
                  </a:moveTo>
                  <a:lnTo>
                    <a:pt x="25" y="21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05520" y="5167440"/>
              <a:ext cx="38520" cy="374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0"/>
                  </a:moveTo>
                  <a:lnTo>
                    <a:pt x="30" y="24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910200" y="520380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910200" y="523620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905520" y="5265360"/>
              <a:ext cx="38520" cy="363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0"/>
                  </a:moveTo>
                  <a:lnTo>
                    <a:pt x="30" y="24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948000" y="5055840"/>
              <a:ext cx="38520" cy="4752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30" y="0"/>
                  </a:moveTo>
                  <a:lnTo>
                    <a:pt x="30" y="33"/>
                  </a:lnTo>
                  <a:lnTo>
                    <a:pt x="0" y="46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48000" y="5093280"/>
              <a:ext cx="38520" cy="381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948000" y="5125680"/>
              <a:ext cx="38520" cy="381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48000" y="5157000"/>
              <a:ext cx="38520" cy="424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0" y="0"/>
                  </a:moveTo>
                  <a:lnTo>
                    <a:pt x="30" y="28"/>
                  </a:lnTo>
                  <a:lnTo>
                    <a:pt x="0" y="41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948000" y="5189760"/>
              <a:ext cx="38520" cy="410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0" y="0"/>
                  </a:moveTo>
                  <a:lnTo>
                    <a:pt x="30" y="28"/>
                  </a:lnTo>
                  <a:lnTo>
                    <a:pt x="0" y="40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948000" y="5225040"/>
              <a:ext cx="38520" cy="392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0" y="0"/>
                  </a:moveTo>
                  <a:lnTo>
                    <a:pt x="30" y="26"/>
                  </a:lnTo>
                  <a:lnTo>
                    <a:pt x="0" y="38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48000" y="5257440"/>
              <a:ext cx="38520" cy="4032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30" y="0"/>
                  </a:moveTo>
                  <a:lnTo>
                    <a:pt x="30" y="27"/>
                  </a:lnTo>
                  <a:lnTo>
                    <a:pt x="28" y="28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3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90120" y="5041800"/>
              <a:ext cx="196200" cy="246960"/>
            </a:xfrm>
            <a:custGeom>
              <a:avLst/>
              <a:gdLst/>
              <a:ahLst/>
              <a:rect l="l" t="t" r="r" b="b"/>
              <a:pathLst>
                <a:path w="157" h="244">
                  <a:moveTo>
                    <a:pt x="156" y="19"/>
                  </a:moveTo>
                  <a:lnTo>
                    <a:pt x="156" y="243"/>
                  </a:lnTo>
                  <a:lnTo>
                    <a:pt x="154" y="242"/>
                  </a:lnTo>
                  <a:lnTo>
                    <a:pt x="152" y="241"/>
                  </a:lnTo>
                  <a:lnTo>
                    <a:pt x="150" y="240"/>
                  </a:lnTo>
                  <a:lnTo>
                    <a:pt x="148" y="238"/>
                  </a:lnTo>
                  <a:lnTo>
                    <a:pt x="146" y="238"/>
                  </a:lnTo>
                  <a:lnTo>
                    <a:pt x="144" y="237"/>
                  </a:lnTo>
                  <a:lnTo>
                    <a:pt x="142" y="236"/>
                  </a:lnTo>
                  <a:lnTo>
                    <a:pt x="140" y="235"/>
                  </a:lnTo>
                  <a:lnTo>
                    <a:pt x="138" y="234"/>
                  </a:lnTo>
                  <a:lnTo>
                    <a:pt x="136" y="233"/>
                  </a:lnTo>
                  <a:lnTo>
                    <a:pt x="134" y="232"/>
                  </a:lnTo>
                  <a:lnTo>
                    <a:pt x="132" y="232"/>
                  </a:lnTo>
                  <a:lnTo>
                    <a:pt x="129" y="231"/>
                  </a:lnTo>
                  <a:lnTo>
                    <a:pt x="127" y="230"/>
                  </a:lnTo>
                  <a:lnTo>
                    <a:pt x="125" y="230"/>
                  </a:lnTo>
                  <a:lnTo>
                    <a:pt x="123" y="229"/>
                  </a:lnTo>
                  <a:lnTo>
                    <a:pt x="120" y="229"/>
                  </a:lnTo>
                  <a:lnTo>
                    <a:pt x="118" y="228"/>
                  </a:lnTo>
                  <a:lnTo>
                    <a:pt x="116" y="227"/>
                  </a:lnTo>
                  <a:lnTo>
                    <a:pt x="113" y="227"/>
                  </a:lnTo>
                  <a:lnTo>
                    <a:pt x="111" y="227"/>
                  </a:lnTo>
                  <a:lnTo>
                    <a:pt x="108" y="226"/>
                  </a:lnTo>
                  <a:lnTo>
                    <a:pt x="106" y="226"/>
                  </a:lnTo>
                  <a:lnTo>
                    <a:pt x="103" y="226"/>
                  </a:lnTo>
                  <a:lnTo>
                    <a:pt x="101" y="225"/>
                  </a:lnTo>
                  <a:lnTo>
                    <a:pt x="98" y="225"/>
                  </a:lnTo>
                  <a:lnTo>
                    <a:pt x="96" y="225"/>
                  </a:lnTo>
                  <a:lnTo>
                    <a:pt x="93" y="225"/>
                  </a:lnTo>
                  <a:lnTo>
                    <a:pt x="90" y="225"/>
                  </a:lnTo>
                  <a:lnTo>
                    <a:pt x="88" y="225"/>
                  </a:lnTo>
                  <a:lnTo>
                    <a:pt x="85" y="224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4"/>
                  </a:lnTo>
                  <a:lnTo>
                    <a:pt x="75" y="225"/>
                  </a:lnTo>
                  <a:lnTo>
                    <a:pt x="73" y="225"/>
                  </a:lnTo>
                  <a:lnTo>
                    <a:pt x="70" y="225"/>
                  </a:lnTo>
                  <a:lnTo>
                    <a:pt x="68" y="225"/>
                  </a:lnTo>
                  <a:lnTo>
                    <a:pt x="66" y="225"/>
                  </a:lnTo>
                  <a:lnTo>
                    <a:pt x="63" y="225"/>
                  </a:lnTo>
                  <a:lnTo>
                    <a:pt x="61" y="226"/>
                  </a:lnTo>
                  <a:lnTo>
                    <a:pt x="58" y="226"/>
                  </a:lnTo>
                  <a:lnTo>
                    <a:pt x="56" y="226"/>
                  </a:lnTo>
                  <a:lnTo>
                    <a:pt x="53" y="226"/>
                  </a:lnTo>
                  <a:lnTo>
                    <a:pt x="51" y="227"/>
                  </a:lnTo>
                  <a:lnTo>
                    <a:pt x="48" y="227"/>
                  </a:lnTo>
                  <a:lnTo>
                    <a:pt x="46" y="227"/>
                  </a:lnTo>
                  <a:lnTo>
                    <a:pt x="43" y="228"/>
                  </a:lnTo>
                  <a:lnTo>
                    <a:pt x="41" y="228"/>
                  </a:lnTo>
                  <a:lnTo>
                    <a:pt x="38" y="229"/>
                  </a:lnTo>
                  <a:lnTo>
                    <a:pt x="35" y="229"/>
                  </a:lnTo>
                  <a:lnTo>
                    <a:pt x="33" y="229"/>
                  </a:lnTo>
                  <a:lnTo>
                    <a:pt x="30" y="230"/>
                  </a:lnTo>
                  <a:lnTo>
                    <a:pt x="27" y="230"/>
                  </a:lnTo>
                  <a:lnTo>
                    <a:pt x="25" y="231"/>
                  </a:lnTo>
                  <a:lnTo>
                    <a:pt x="22" y="232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4" y="234"/>
                  </a:lnTo>
                  <a:lnTo>
                    <a:pt x="11" y="234"/>
                  </a:lnTo>
                  <a:lnTo>
                    <a:pt x="8" y="235"/>
                  </a:lnTo>
                  <a:lnTo>
                    <a:pt x="6" y="236"/>
                  </a:lnTo>
                  <a:lnTo>
                    <a:pt x="3" y="237"/>
                  </a:lnTo>
                  <a:lnTo>
                    <a:pt x="0" y="237"/>
                  </a:lnTo>
                  <a:lnTo>
                    <a:pt x="0" y="205"/>
                  </a:lnTo>
                  <a:lnTo>
                    <a:pt x="3" y="204"/>
                  </a:lnTo>
                  <a:lnTo>
                    <a:pt x="6" y="203"/>
                  </a:lnTo>
                  <a:lnTo>
                    <a:pt x="9" y="202"/>
                  </a:lnTo>
                  <a:lnTo>
                    <a:pt x="12" y="201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24" y="198"/>
                  </a:lnTo>
                  <a:lnTo>
                    <a:pt x="27" y="197"/>
                  </a:lnTo>
                  <a:lnTo>
                    <a:pt x="30" y="196"/>
                  </a:lnTo>
                  <a:lnTo>
                    <a:pt x="33" y="195"/>
                  </a:lnTo>
                  <a:lnTo>
                    <a:pt x="37" y="195"/>
                  </a:lnTo>
                  <a:lnTo>
                    <a:pt x="40" y="194"/>
                  </a:lnTo>
                  <a:lnTo>
                    <a:pt x="43" y="193"/>
                  </a:lnTo>
                  <a:lnTo>
                    <a:pt x="46" y="193"/>
                  </a:lnTo>
                  <a:lnTo>
                    <a:pt x="50" y="192"/>
                  </a:lnTo>
                  <a:lnTo>
                    <a:pt x="50" y="120"/>
                  </a:lnTo>
                  <a:lnTo>
                    <a:pt x="47" y="121"/>
                  </a:lnTo>
                  <a:lnTo>
                    <a:pt x="44" y="121"/>
                  </a:lnTo>
                  <a:lnTo>
                    <a:pt x="41" y="122"/>
                  </a:lnTo>
                  <a:lnTo>
                    <a:pt x="38" y="122"/>
                  </a:lnTo>
                  <a:lnTo>
                    <a:pt x="35" y="123"/>
                  </a:lnTo>
                  <a:lnTo>
                    <a:pt x="32" y="124"/>
                  </a:lnTo>
                  <a:lnTo>
                    <a:pt x="29" y="125"/>
                  </a:lnTo>
                  <a:lnTo>
                    <a:pt x="26" y="126"/>
                  </a:lnTo>
                  <a:lnTo>
                    <a:pt x="23" y="127"/>
                  </a:lnTo>
                  <a:lnTo>
                    <a:pt x="20" y="128"/>
                  </a:lnTo>
                  <a:lnTo>
                    <a:pt x="17" y="129"/>
                  </a:lnTo>
                  <a:lnTo>
                    <a:pt x="13" y="130"/>
                  </a:lnTo>
                  <a:lnTo>
                    <a:pt x="10" y="132"/>
                  </a:lnTo>
                  <a:lnTo>
                    <a:pt x="7" y="133"/>
                  </a:lnTo>
                  <a:lnTo>
                    <a:pt x="3" y="135"/>
                  </a:lnTo>
                  <a:lnTo>
                    <a:pt x="0" y="136"/>
                  </a:lnTo>
                  <a:lnTo>
                    <a:pt x="0" y="114"/>
                  </a:lnTo>
                  <a:lnTo>
                    <a:pt x="3" y="113"/>
                  </a:lnTo>
                  <a:lnTo>
                    <a:pt x="6" y="111"/>
                  </a:lnTo>
                  <a:lnTo>
                    <a:pt x="9" y="110"/>
                  </a:lnTo>
                  <a:lnTo>
                    <a:pt x="12" y="109"/>
                  </a:lnTo>
                  <a:lnTo>
                    <a:pt x="15" y="108"/>
                  </a:lnTo>
                  <a:lnTo>
                    <a:pt x="18" y="107"/>
                  </a:lnTo>
                  <a:lnTo>
                    <a:pt x="21" y="106"/>
                  </a:lnTo>
                  <a:lnTo>
                    <a:pt x="24" y="105"/>
                  </a:lnTo>
                  <a:lnTo>
                    <a:pt x="27" y="104"/>
                  </a:lnTo>
                  <a:lnTo>
                    <a:pt x="30" y="103"/>
                  </a:lnTo>
                  <a:lnTo>
                    <a:pt x="34" y="102"/>
                  </a:lnTo>
                  <a:lnTo>
                    <a:pt x="37" y="101"/>
                  </a:lnTo>
                  <a:lnTo>
                    <a:pt x="40" y="101"/>
                  </a:lnTo>
                  <a:lnTo>
                    <a:pt x="43" y="100"/>
                  </a:lnTo>
                  <a:lnTo>
                    <a:pt x="46" y="99"/>
                  </a:lnTo>
                  <a:lnTo>
                    <a:pt x="50" y="99"/>
                  </a:lnTo>
                  <a:lnTo>
                    <a:pt x="50" y="32"/>
                  </a:lnTo>
                  <a:lnTo>
                    <a:pt x="47" y="32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6" y="38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6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6" y="43"/>
                  </a:lnTo>
                  <a:lnTo>
                    <a:pt x="3" y="45"/>
                  </a:lnTo>
                  <a:lnTo>
                    <a:pt x="0" y="46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19" y="5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0" y="12"/>
                  </a:lnTo>
                  <a:lnTo>
                    <a:pt x="143" y="13"/>
                  </a:lnTo>
                  <a:lnTo>
                    <a:pt x="145" y="14"/>
                  </a:lnTo>
                  <a:lnTo>
                    <a:pt x="147" y="15"/>
                  </a:lnTo>
                  <a:lnTo>
                    <a:pt x="149" y="16"/>
                  </a:lnTo>
                  <a:lnTo>
                    <a:pt x="151" y="17"/>
                  </a:lnTo>
                  <a:lnTo>
                    <a:pt x="154" y="18"/>
                  </a:lnTo>
                  <a:lnTo>
                    <a:pt x="156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83000" y="5076000"/>
              <a:ext cx="67320" cy="7560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53" y="10"/>
                  </a:moveTo>
                  <a:lnTo>
                    <a:pt x="53" y="10"/>
                  </a:lnTo>
                  <a:lnTo>
                    <a:pt x="51" y="9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9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4" y="68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7" y="72"/>
                  </a:lnTo>
                  <a:lnTo>
                    <a:pt x="50" y="73"/>
                  </a:lnTo>
                  <a:lnTo>
                    <a:pt x="53" y="74"/>
                  </a:lnTo>
                  <a:lnTo>
                    <a:pt x="53" y="1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081560" y="5163120"/>
              <a:ext cx="67680" cy="810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3" y="8"/>
                  </a:moveTo>
                  <a:lnTo>
                    <a:pt x="53" y="8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5" y="5"/>
                  </a:lnTo>
                  <a:lnTo>
                    <a:pt x="42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6" y="73"/>
                  </a:lnTo>
                  <a:lnTo>
                    <a:pt x="19" y="73"/>
                  </a:lnTo>
                  <a:lnTo>
                    <a:pt x="22" y="73"/>
                  </a:lnTo>
                  <a:lnTo>
                    <a:pt x="25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4" y="75"/>
                  </a:lnTo>
                  <a:lnTo>
                    <a:pt x="37" y="75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5" y="77"/>
                  </a:lnTo>
                  <a:lnTo>
                    <a:pt x="48" y="78"/>
                  </a:lnTo>
                  <a:lnTo>
                    <a:pt x="50" y="78"/>
                  </a:lnTo>
                  <a:lnTo>
                    <a:pt x="53" y="79"/>
                  </a:lnTo>
                  <a:lnTo>
                    <a:pt x="53" y="8"/>
                  </a:lnTo>
                </a:path>
              </a:pathLst>
            </a:cu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7459560" y="2001600"/>
            <a:ext cx="1435320" cy="29844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 Pack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IS karbantar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ácsok RIS használókna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02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IS szervereket tegyük közel az ügyfelek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IS-t gépcserére használjuk és ne tömeges telepítés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dig ne aktiváljuk a RIS szervert, amíg mindent be nem állítottu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ogy érdemes csinálni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415360" cy="5268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észítsük el a kívánt konfiguráció script alapú telepítésé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zel bármikor tudunk telepíte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ználjuk ezt a klónozáshoz szánt referencia gép elkészítéséh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itesztelés után a tényleges telepítéshez használjuk a SYSPREP-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RIS-t használu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konfigurációból készítsünk RIPrep imaget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imagek szétosztásához használjunk SMS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donságok a Windows 2000 hálózatkezelésébe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415360" cy="289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D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P alapú szolgálta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592200" y="1177920"/>
            <a:ext cx="1380960" cy="1157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sock 2.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7120" y="5197320"/>
            <a:ext cx="8177400" cy="6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57040" y="350640"/>
            <a:ext cx="856008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ccf00"/>
                </a:solidFill>
                <a:latin typeface="Arial"/>
              </a:rPr>
              <a:t>A Windows 2000 hálózatkezelése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848720" y="4809960"/>
            <a:ext cx="1069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DIS 5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666920" y="1476360"/>
            <a:ext cx="143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in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P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760" y="2585880"/>
            <a:ext cx="8219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648320" y="2905200"/>
            <a:ext cx="1523880" cy="2133360"/>
          </a:xfrm>
          <a:prstGeom prst="rect">
            <a:avLst/>
          </a:prstGeom>
          <a:gradFill rotWithShape="0">
            <a:gsLst>
              <a:gs pos="0">
                <a:srgbClr val="cb3f3f"/>
              </a:gs>
              <a:gs pos="100000">
                <a:srgbClr val="ff5050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136440" bIns="136440" anchor="t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344600"/>
                <a:tab algn="l" pos="2689200"/>
                <a:tab algn="l" pos="4033800"/>
                <a:tab algn="l" pos="5378400"/>
                <a:tab algn="l" pos="6723000"/>
                <a:tab algn="l" pos="8067600"/>
                <a:tab algn="l" pos="9412200"/>
                <a:tab algn="l" pos="107568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77120" y="2905200"/>
            <a:ext cx="1218960" cy="21333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b15659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BE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3360" y="5425920"/>
            <a:ext cx="3301920" cy="9907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7600" y="5425920"/>
            <a:ext cx="279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DIS W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4760" y="5823000"/>
            <a:ext cx="59508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P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13160" y="5823000"/>
            <a:ext cx="46656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774800" y="5823000"/>
            <a:ext cx="65880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yn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059280" y="5823000"/>
            <a:ext cx="55548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D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538960" y="5425920"/>
            <a:ext cx="3276360" cy="9907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622840" y="552456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13560" y="552456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699160" y="5865840"/>
            <a:ext cx="105876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ame rel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604280" y="552456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842160" y="586584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832880" y="586584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43080" y="2739960"/>
            <a:ext cx="4025880" cy="221004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b15659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1680" y="3209760"/>
            <a:ext cx="1113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533520" y="1228680"/>
            <a:ext cx="1401120" cy="1163520"/>
            <a:chOff x="533520" y="1228680"/>
            <a:chExt cx="1401120" cy="1163520"/>
          </a:xfrm>
        </p:grpSpPr>
        <p:sp>
          <p:nvSpPr>
            <p:cNvPr id="1177" name=""/>
            <p:cNvSpPr/>
            <p:nvPr/>
          </p:nvSpPr>
          <p:spPr>
            <a:xfrm>
              <a:off x="533520" y="1228680"/>
              <a:ext cx="1386720" cy="1163520"/>
            </a:xfrm>
            <a:custGeom>
              <a:avLst/>
              <a:gdLst/>
              <a:ahLst/>
              <a:rect l="l" t="t" r="r" b="b"/>
              <a:pathLst>
                <a:path w="865" h="744">
                  <a:moveTo>
                    <a:pt x="0" y="0"/>
                  </a:moveTo>
                  <a:lnTo>
                    <a:pt x="0" y="508"/>
                  </a:lnTo>
                  <a:lnTo>
                    <a:pt x="720" y="508"/>
                  </a:lnTo>
                  <a:lnTo>
                    <a:pt x="721" y="743"/>
                  </a:lnTo>
                  <a:lnTo>
                    <a:pt x="864" y="743"/>
                  </a:lnTo>
                  <a:lnTo>
                    <a:pt x="864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42aa1"/>
                </a:gs>
              </a:gsLst>
              <a:lin ang="5400000"/>
            </a:grad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9640" y="1356840"/>
              <a:ext cx="13950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nSock 2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4680" y="2054160"/>
              <a:ext cx="1077120" cy="331560"/>
            </a:xfrm>
            <a:prstGeom prst="rect">
              <a:avLst/>
            </a:prstGeom>
            <a:gradFill rotWithShape="0">
              <a:gsLst>
                <a:gs pos="0">
                  <a:srgbClr val="eea564"/>
                </a:gs>
                <a:gs pos="100000">
                  <a:srgbClr val="a57245"/>
                </a:gs>
              </a:gsLst>
              <a:lin ang="5400000"/>
            </a:grad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SV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1008000" y="4586400"/>
            <a:ext cx="2835360" cy="312480"/>
          </a:xfrm>
          <a:prstGeom prst="rect">
            <a:avLst/>
          </a:prstGeom>
          <a:gradFill rotWithShape="0">
            <a:gsLst>
              <a:gs pos="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cket schedu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020600" y="4178160"/>
            <a:ext cx="2835360" cy="339840"/>
          </a:xfrm>
          <a:prstGeom prst="rect">
            <a:avLst/>
          </a:prstGeom>
          <a:gradFill rotWithShape="0">
            <a:gsLst>
              <a:gs pos="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cket class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149560" y="2457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065320" y="1177920"/>
            <a:ext cx="1279440" cy="1157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PI 3.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808520" y="1177920"/>
            <a:ext cx="1279440" cy="1157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ial-up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etworking API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3362400"/>
            <a:ext cx="1214280" cy="538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X pack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lt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4124160"/>
            <a:ext cx="1214280" cy="538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X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forwa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025640" y="3814920"/>
            <a:ext cx="2801880" cy="295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 filt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038240" y="3070080"/>
            <a:ext cx="2776680" cy="30816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 forwa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44840" y="1152360"/>
            <a:ext cx="1274760" cy="116532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ing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3787920" y="5425920"/>
            <a:ext cx="1600200" cy="990720"/>
            <a:chOff x="3787920" y="5425920"/>
            <a:chExt cx="1600200" cy="990720"/>
          </a:xfrm>
        </p:grpSpPr>
        <p:sp>
          <p:nvSpPr>
            <p:cNvPr id="1191" name=""/>
            <p:cNvSpPr/>
            <p:nvPr/>
          </p:nvSpPr>
          <p:spPr>
            <a:xfrm>
              <a:off x="3787920" y="595944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ef9100"/>
                </a:gs>
                <a:gs pos="100000">
                  <a:srgbClr val="a66400"/>
                </a:gs>
              </a:gsLst>
              <a:lin ang="5400000"/>
            </a:grad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 3.1 Call Mg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87920" y="542592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ef9100"/>
                </a:gs>
                <a:gs pos="100000">
                  <a:srgbClr val="a66400"/>
                </a:gs>
              </a:gsLst>
              <a:lin ang="5400000"/>
            </a:grad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TM LANE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6156360" y="1184400"/>
            <a:ext cx="1474920" cy="1157040"/>
          </a:xfrm>
          <a:prstGeom prst="rect">
            <a:avLst/>
          </a:prstGeom>
          <a:gradFill rotWithShape="0">
            <a:gsLst>
              <a:gs pos="0">
                <a:srgbClr val="960a7f"/>
              </a:gs>
              <a:gs pos="100000">
                <a:srgbClr val="68065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etwork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ream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(DShow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049400" y="5835600"/>
            <a:ext cx="64620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2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990720" y="3438360"/>
            <a:ext cx="2776320" cy="30816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DIS 5.0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583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ljesítmény növelés, a hardver kihasználásáv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CP/IP Checksum szám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 tömörítés és titkos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ast Packet Forwar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terjesztés a kapcsolat orientált protokollok f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vetlen ATM, ADSL támoga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50 ATM kártya meghajtója a doboz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rtalom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48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mit eddig ismerü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matikus setup W2K-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ysprep W2K-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lózatkezel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CP/IP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763120" cy="401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CP Window Size (16-64 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CP/IP alapvetően lassú WAN-ra találták k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gyors (T1-T3)  hálózatokon módosításra van szüksé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caling Window - RFC 132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lective ACK     -RFC 201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ast Retransm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DHCP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957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ctive Directory integr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namikus DNS-sel műkö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z ügyfél nem tudja beregisztrálni magát, akkor megteszi 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osszindulatú (rogue) DHCP kiszolgálók kiszűrése hitelesítéss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luster Serverrel működ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dundáns DHCP tartomány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38040" y="1520640"/>
            <a:ext cx="8415360" cy="392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erver Record, RFC-205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inamikus friss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itkosított zóna transz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krementális zóna transzfer, RFC-199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rtesítés a változásról, RFC-199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gatív caching, RFC-230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WINS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Van-e szükség NetBIOS-ra?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8415360" cy="499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jlesztés követő mód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Új funkció már nem jelenik meg, a hibákat javít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operációs rendszernek NINCS szüksége NetBIOS-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lkalmazásoknak lehet, hogy ke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MS, és külső alkalmaz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ek NEM kell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ffice 2000, Webes eszközök, BackOffice (az SMS nélkü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mote Access Servic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067600" cy="3721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5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Windows NT 3.1 óta beépítv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7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ultiprotokoll:  IP, IPX, NetBEU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7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mörítés, titkos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15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Windows NT 4.0 újdonságo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ultilink PPP, PPT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utomatikus tárcsázás, TAPI, Routing and R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AS változ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42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ternet Authentication Service (RADIU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A: Authentication, Authorization, Account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AS: Radius ügyfél, IAS: Radius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Útválasztás beépít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xtensible Authentication Protocol (EA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AS Smart Card log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AS háziren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PN protokollok: PPTP, L2TP, IPSec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andwidth Allocation Protocol (BAC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onnection Manager (C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onnection Sha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AS házirend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08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egyeznek az IAS házirendek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integrálódik a címtárba </a:t>
            </a:r>
            <a:r>
              <a:rPr b="1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AS kiszolgálónként külön konfiguráland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ozzáférés korlátozható a következők alapjá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átum, idő, felhasználó csoporttagság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apcsolat típusa (ISDN, stb.), időtartama, használaton kívüli ideje, st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2846520" y="1841400"/>
            <a:ext cx="1622160" cy="141948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818240" y="1801800"/>
            <a:ext cx="1834920" cy="150192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993000" y="3678120"/>
            <a:ext cx="1790640" cy="156528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958080" y="1820880"/>
            <a:ext cx="1834920" cy="150192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94120" y="4792680"/>
            <a:ext cx="2100240" cy="183672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46080" y="1868400"/>
            <a:ext cx="1577880" cy="137952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AS házirendek működ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328640" y="4892760"/>
            <a:ext cx="122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apcsolat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lleszkedi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ser és a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ázirend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eállítá-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aira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42000" y="23065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n még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áziren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108600" y="217476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lleszkedik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ázirendr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16200000">
            <a:off x="-340920" y="2422440"/>
            <a:ext cx="1317600" cy="349200"/>
          </a:xfrm>
          <a:prstGeom prst="flowChartTerminator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66800" y="1944720"/>
            <a:ext cx="95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ny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ek-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umon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251120" y="409428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ny Acces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ázirenden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410240" y="1944720"/>
            <a:ext cx="95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low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ek-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umon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92120" y="2568600"/>
            <a:ext cx="469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22520" y="2556000"/>
            <a:ext cx="336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471920" y="2556000"/>
            <a:ext cx="349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649920" y="2568600"/>
            <a:ext cx="309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15320" y="214488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453560" y="21416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631200" y="2144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052720" y="1071720"/>
            <a:ext cx="1317600" cy="618840"/>
          </a:xfrm>
          <a:prstGeom prst="flowChartProcess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02120" y="113652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vetkező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ázir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651120" y="1374840"/>
            <a:ext cx="0" cy="48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355920" y="1371600"/>
            <a:ext cx="295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736560" y="1386000"/>
            <a:ext cx="131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732960" y="1397160"/>
            <a:ext cx="1800" cy="117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659400" y="144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988920" y="5405400"/>
            <a:ext cx="1467000" cy="349200"/>
          </a:xfrm>
          <a:prstGeom prst="flowChartTerminator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utasí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rot="16200000">
            <a:off x="2433240" y="5568480"/>
            <a:ext cx="1467000" cy="349200"/>
          </a:xfrm>
          <a:prstGeom prst="flowChartTerminator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fogad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3342960" y="5724360"/>
            <a:ext cx="592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588440" y="319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740960" y="3238560"/>
            <a:ext cx="1800" cy="2163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35320" y="3108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37320" y="3308400"/>
            <a:ext cx="0" cy="255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1742760" y="3564000"/>
            <a:ext cx="3994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17280" y="315432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89760" y="33084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794800" y="2568600"/>
            <a:ext cx="160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969400" y="2568600"/>
            <a:ext cx="0" cy="3146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6024600" y="5715000"/>
            <a:ext cx="2944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755560" y="215748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656520" y="526428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93000" y="5203800"/>
            <a:ext cx="0" cy="511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04640" y="518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1747800" y="4473720"/>
            <a:ext cx="5245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95000" y="401148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4935600" y="4464000"/>
            <a:ext cx="0" cy="3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589640" y="441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0608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irtuális Magánhálózatok (VPN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80520" y="1893960"/>
            <a:ext cx="8464680" cy="425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 az a VP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PN megoldások és jellemző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PN protokollok összehasonlít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lyen VPN megoldást nyújt a Windows 2000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protokollokon tú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ndelkezésre állás/teljesítmé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telesítés és RAS házi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 telepítés/konfiguráció/menedz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"/>
          <p:cNvGrpSpPr/>
          <p:nvPr/>
        </p:nvGrpSpPr>
        <p:grpSpPr>
          <a:xfrm>
            <a:off x="7224840" y="1278000"/>
            <a:ext cx="1919160" cy="3116160"/>
            <a:chOff x="7224840" y="1278000"/>
            <a:chExt cx="1919160" cy="3116160"/>
          </a:xfrm>
        </p:grpSpPr>
        <p:sp>
          <p:nvSpPr>
            <p:cNvPr id="1264" name=""/>
            <p:cNvSpPr/>
            <p:nvPr/>
          </p:nvSpPr>
          <p:spPr>
            <a:xfrm>
              <a:off x="7224840" y="1685880"/>
              <a:ext cx="1919160" cy="2708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476120" y="127800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rp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6340320" y="2427120"/>
            <a:ext cx="1679760" cy="873360"/>
            <a:chOff x="6340320" y="2427120"/>
            <a:chExt cx="1679760" cy="873360"/>
          </a:xfrm>
        </p:grpSpPr>
        <p:sp>
          <p:nvSpPr>
            <p:cNvPr id="1267" name=""/>
            <p:cNvSpPr/>
            <p:nvPr/>
          </p:nvSpPr>
          <p:spPr>
            <a:xfrm>
              <a:off x="6959520" y="2838600"/>
              <a:ext cx="1060560" cy="46188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40320" y="2427120"/>
              <a:ext cx="951120" cy="804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1567080" y="2986200"/>
            <a:ext cx="4957560" cy="2979000"/>
            <a:chOff x="1567080" y="2986200"/>
            <a:chExt cx="4957560" cy="2979000"/>
          </a:xfrm>
        </p:grpSpPr>
        <p:grpSp>
          <p:nvGrpSpPr>
            <p:cNvPr id="1270" name=""/>
            <p:cNvGrpSpPr/>
            <p:nvPr/>
          </p:nvGrpSpPr>
          <p:grpSpPr>
            <a:xfrm>
              <a:off x="2657520" y="2986200"/>
              <a:ext cx="3867120" cy="1017360"/>
              <a:chOff x="2657520" y="2986200"/>
              <a:chExt cx="3867120" cy="1017360"/>
            </a:xfrm>
          </p:grpSpPr>
          <p:sp>
            <p:nvSpPr>
              <p:cNvPr id="1271" name=""/>
              <p:cNvSpPr/>
              <p:nvPr/>
            </p:nvSpPr>
            <p:spPr>
              <a:xfrm>
                <a:off x="2657520" y="3664080"/>
                <a:ext cx="639720" cy="339480"/>
              </a:xfrm>
              <a:custGeom>
                <a:avLst/>
                <a:gdLst/>
                <a:ahLst/>
                <a:rect l="l" t="t" r="r" b="b"/>
                <a:pathLst>
                  <a:path w="1242" h="420">
                    <a:moveTo>
                      <a:pt x="0" y="420"/>
                    </a:moveTo>
                    <a:lnTo>
                      <a:pt x="685" y="137"/>
                    </a:lnTo>
                    <a:lnTo>
                      <a:pt x="651" y="231"/>
                    </a:lnTo>
                    <a:lnTo>
                      <a:pt x="1242" y="0"/>
                    </a:lnTo>
                  </a:path>
                </a:pathLst>
              </a:custGeom>
              <a:noFill/>
              <a:ln w="38160">
                <a:solidFill>
                  <a:srgbClr val="fcc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714920" y="2986200"/>
                <a:ext cx="1809720" cy="869760"/>
              </a:xfrm>
              <a:custGeom>
                <a:avLst/>
                <a:gdLst/>
                <a:ahLst/>
                <a:rect l="l" t="t" r="r" b="b"/>
                <a:pathLst>
                  <a:path w="1242" h="420">
                    <a:moveTo>
                      <a:pt x="0" y="420"/>
                    </a:moveTo>
                    <a:lnTo>
                      <a:pt x="685" y="137"/>
                    </a:lnTo>
                    <a:lnTo>
                      <a:pt x="651" y="231"/>
                    </a:lnTo>
                    <a:lnTo>
                      <a:pt x="1242" y="0"/>
                    </a:lnTo>
                  </a:path>
                </a:pathLst>
              </a:custGeom>
              <a:noFill/>
              <a:ln w="38160">
                <a:solidFill>
                  <a:srgbClr val="fcc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 rot="20321400">
              <a:off x="1668240" y="4525920"/>
              <a:ext cx="2477880" cy="102384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 az a VPN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1919160" y="3925080"/>
            <a:ext cx="1971720" cy="2021760"/>
            <a:chOff x="1919160" y="3925080"/>
            <a:chExt cx="1971720" cy="2021760"/>
          </a:xfrm>
        </p:grpSpPr>
        <p:sp>
          <p:nvSpPr>
            <p:cNvPr id="1276" name=""/>
            <p:cNvSpPr/>
            <p:nvPr/>
          </p:nvSpPr>
          <p:spPr>
            <a:xfrm rot="3871200">
              <a:off x="2697840" y="4213800"/>
              <a:ext cx="1058760" cy="66384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19160" y="5280120"/>
              <a:ext cx="1971720" cy="66672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8" name="" descr=""/>
          <p:cNvPicPr/>
          <p:nvPr/>
        </p:nvPicPr>
        <p:blipFill>
          <a:blip r:embed="rId3"/>
          <a:stretch/>
        </p:blipFill>
        <p:spPr>
          <a:xfrm>
            <a:off x="674640" y="5462640"/>
            <a:ext cx="1427040" cy="105876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 rot="21428400">
            <a:off x="4554360" y="3408480"/>
            <a:ext cx="3305520" cy="1527120"/>
          </a:xfrm>
          <a:custGeom>
            <a:avLst/>
            <a:gdLst/>
            <a:ahLst/>
            <a:rect l="l" t="t" r="r" b="b"/>
            <a:pathLst>
              <a:path w="1242" h="420">
                <a:moveTo>
                  <a:pt x="0" y="420"/>
                </a:moveTo>
                <a:lnTo>
                  <a:pt x="685" y="137"/>
                </a:lnTo>
                <a:lnTo>
                  <a:pt x="651" y="231"/>
                </a:lnTo>
                <a:lnTo>
                  <a:pt x="1242" y="0"/>
                </a:lnTo>
              </a:path>
            </a:pathLst>
          </a:custGeom>
          <a:noFill/>
          <a:ln w="3816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90400" y="4719600"/>
            <a:ext cx="1586160" cy="1085040"/>
            <a:chOff x="3290400" y="4719600"/>
            <a:chExt cx="1586160" cy="1085040"/>
          </a:xfrm>
        </p:grpSpPr>
        <p:grpSp>
          <p:nvGrpSpPr>
            <p:cNvPr id="1281" name=""/>
            <p:cNvGrpSpPr/>
            <p:nvPr/>
          </p:nvGrpSpPr>
          <p:grpSpPr>
            <a:xfrm>
              <a:off x="3290400" y="4719600"/>
              <a:ext cx="1586160" cy="1085040"/>
              <a:chOff x="3290400" y="4719600"/>
              <a:chExt cx="1586160" cy="1085040"/>
            </a:xfrm>
          </p:grpSpPr>
          <p:sp>
            <p:nvSpPr>
              <p:cNvPr id="1282" name=""/>
              <p:cNvSpPr/>
              <p:nvPr/>
            </p:nvSpPr>
            <p:spPr>
              <a:xfrm rot="20700000">
                <a:off x="3999960" y="5539320"/>
                <a:ext cx="245880" cy="21708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20700000">
                <a:off x="3806640" y="4747680"/>
                <a:ext cx="248040" cy="21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0700000">
                <a:off x="3475440" y="4899240"/>
                <a:ext cx="150120" cy="1335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700000">
                <a:off x="3503160" y="5428080"/>
                <a:ext cx="149400" cy="12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700000">
                <a:off x="3366720" y="5235480"/>
                <a:ext cx="246240" cy="211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0700000">
                <a:off x="3616200" y="4802760"/>
                <a:ext cx="247680" cy="21564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0700000">
                <a:off x="4602960" y="5314680"/>
                <a:ext cx="249480" cy="2163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20700000">
                <a:off x="4423320" y="5411520"/>
                <a:ext cx="249480" cy="220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3290400" y="4722120"/>
                <a:ext cx="1562760" cy="1082520"/>
                <a:chOff x="3290400" y="4722120"/>
                <a:chExt cx="1562760" cy="1082520"/>
              </a:xfrm>
            </p:grpSpPr>
            <p:sp>
              <p:nvSpPr>
                <p:cNvPr id="1291" name=""/>
                <p:cNvSpPr/>
                <p:nvPr/>
              </p:nvSpPr>
              <p:spPr>
                <a:xfrm rot="20700000">
                  <a:off x="3333600" y="4991400"/>
                  <a:ext cx="443880" cy="3927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2" name=""/>
                <p:cNvGrpSpPr/>
                <p:nvPr/>
              </p:nvGrpSpPr>
              <p:grpSpPr>
                <a:xfrm>
                  <a:off x="3448440" y="4880520"/>
                  <a:ext cx="994680" cy="924120"/>
                  <a:chOff x="3448440" y="4880520"/>
                  <a:chExt cx="994680" cy="92412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 rot="20700000">
                    <a:off x="3529080" y="4975560"/>
                    <a:ext cx="833400" cy="733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3494520" y="5155920"/>
                    <a:ext cx="12888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5686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5" name=""/>
                <p:cNvSpPr/>
                <p:nvPr/>
              </p:nvSpPr>
              <p:spPr>
                <a:xfrm rot="20700000">
                  <a:off x="3834000" y="4971600"/>
                  <a:ext cx="834120" cy="7336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rot="20700000">
                  <a:off x="4525560" y="4971960"/>
                  <a:ext cx="298440" cy="2628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rot="20700000">
                  <a:off x="4517280" y="5389920"/>
                  <a:ext cx="198000" cy="17712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rot="20700000">
                  <a:off x="4406040" y="4934160"/>
                  <a:ext cx="198360" cy="1706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rot="20700000">
                  <a:off x="4520160" y="5155560"/>
                  <a:ext cx="299880" cy="2595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rot="20700000">
                  <a:off x="3549960" y="483984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rot="20700000">
                  <a:off x="3995640" y="479844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rot="20700000">
                  <a:off x="3784680" y="4772880"/>
                  <a:ext cx="44568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rot="20700000">
                  <a:off x="3755880" y="5269680"/>
                  <a:ext cx="442080" cy="3906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602520" y="4848480"/>
                  <a:ext cx="1106640" cy="79740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568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5" name=""/>
            <p:cNvSpPr/>
            <p:nvPr/>
          </p:nvSpPr>
          <p:spPr>
            <a:xfrm>
              <a:off x="3457440" y="49975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v</a:t>
              </a: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á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3146400" y="2888640"/>
            <a:ext cx="1724400" cy="1451880"/>
            <a:chOff x="3146400" y="2888640"/>
            <a:chExt cx="1724400" cy="1451880"/>
          </a:xfrm>
        </p:grpSpPr>
        <p:grpSp>
          <p:nvGrpSpPr>
            <p:cNvPr id="1307" name=""/>
            <p:cNvGrpSpPr/>
            <p:nvPr/>
          </p:nvGrpSpPr>
          <p:grpSpPr>
            <a:xfrm>
              <a:off x="3146400" y="2888640"/>
              <a:ext cx="1724400" cy="1451880"/>
              <a:chOff x="3146400" y="2888640"/>
              <a:chExt cx="1724400" cy="1451880"/>
            </a:xfrm>
          </p:grpSpPr>
          <p:sp>
            <p:nvSpPr>
              <p:cNvPr id="1308" name=""/>
              <p:cNvSpPr/>
              <p:nvPr/>
            </p:nvSpPr>
            <p:spPr>
              <a:xfrm rot="20700000">
                <a:off x="3922560" y="4007880"/>
                <a:ext cx="263520" cy="2991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0700000">
                <a:off x="3715200" y="2917800"/>
                <a:ext cx="266040" cy="299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20700000">
                <a:off x="3360600" y="3126240"/>
                <a:ext cx="160920" cy="18432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20700000">
                <a:off x="3390120" y="3854520"/>
                <a:ext cx="160200" cy="1760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20700000">
                <a:off x="3243960" y="3589920"/>
                <a:ext cx="264240" cy="290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20700000">
                <a:off x="3511440" y="2993400"/>
                <a:ext cx="265320" cy="2973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20700000">
                <a:off x="4569120" y="3698280"/>
                <a:ext cx="267480" cy="2984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20700000">
                <a:off x="4376520" y="3832200"/>
                <a:ext cx="267480" cy="3034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6" name=""/>
              <p:cNvGrpSpPr/>
              <p:nvPr/>
            </p:nvGrpSpPr>
            <p:grpSpPr>
              <a:xfrm>
                <a:off x="3146400" y="2899440"/>
                <a:ext cx="1701360" cy="1441080"/>
                <a:chOff x="3146400" y="2899440"/>
                <a:chExt cx="1701360" cy="1441080"/>
              </a:xfrm>
            </p:grpSpPr>
            <p:sp>
              <p:nvSpPr>
                <p:cNvPr id="1317" name=""/>
                <p:cNvSpPr/>
                <p:nvPr/>
              </p:nvSpPr>
              <p:spPr>
                <a:xfrm rot="20700000">
                  <a:off x="3207960" y="3253680"/>
                  <a:ext cx="475920" cy="541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8" name=""/>
                <p:cNvGrpSpPr/>
                <p:nvPr/>
              </p:nvGrpSpPr>
              <p:grpSpPr>
                <a:xfrm>
                  <a:off x="3302280" y="3133440"/>
                  <a:ext cx="1124280" cy="1207080"/>
                  <a:chOff x="3302280" y="3133440"/>
                  <a:chExt cx="1124280" cy="1207080"/>
                </a:xfrm>
              </p:grpSpPr>
              <p:sp>
                <p:nvSpPr>
                  <p:cNvPr id="1319" name=""/>
                  <p:cNvSpPr/>
                  <p:nvPr/>
                </p:nvSpPr>
                <p:spPr>
                  <a:xfrm rot="20700000">
                    <a:off x="3417480" y="3231720"/>
                    <a:ext cx="893160" cy="1010520"/>
                  </a:xfrm>
                  <a:prstGeom prst="ellipse">
                    <a:avLst/>
                  </a:prstGeom>
                  <a:solidFill>
                    <a:srgbClr val="99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3380760" y="3479760"/>
                    <a:ext cx="13824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99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1" name=""/>
                <p:cNvSpPr/>
                <p:nvPr/>
              </p:nvSpPr>
              <p:spPr>
                <a:xfrm rot="20700000">
                  <a:off x="3744720" y="3225960"/>
                  <a:ext cx="893880" cy="10108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rot="20700000">
                  <a:off x="4485960" y="3225960"/>
                  <a:ext cx="320040" cy="3618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rot="20700000">
                  <a:off x="4476600" y="3801960"/>
                  <a:ext cx="212040" cy="244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rot="20700000">
                  <a:off x="4357800" y="3174480"/>
                  <a:ext cx="212760" cy="23544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rot="20700000">
                  <a:off x="4480200" y="3479400"/>
                  <a:ext cx="321120" cy="35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rot="20700000">
                  <a:off x="3439800" y="3044880"/>
                  <a:ext cx="47700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rot="20700000">
                  <a:off x="3917520" y="2988000"/>
                  <a:ext cx="477000" cy="53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rot="20700000">
                  <a:off x="3692160" y="2951640"/>
                  <a:ext cx="47772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20700000">
                  <a:off x="3660840" y="3637440"/>
                  <a:ext cx="473760" cy="5382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496320" y="3056400"/>
                  <a:ext cx="1186200" cy="109872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1" name=""/>
            <p:cNvSpPr/>
            <p:nvPr/>
          </p:nvSpPr>
          <p:spPr>
            <a:xfrm>
              <a:off x="3387240" y="337176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5668560" y="4692600"/>
            <a:ext cx="199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X.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814320" y="2739960"/>
            <a:ext cx="2081160" cy="1722600"/>
            <a:chOff x="814320" y="2739960"/>
            <a:chExt cx="2081160" cy="1722600"/>
          </a:xfrm>
        </p:grpSpPr>
        <p:sp>
          <p:nvSpPr>
            <p:cNvPr id="1334" name=""/>
            <p:cNvSpPr/>
            <p:nvPr/>
          </p:nvSpPr>
          <p:spPr>
            <a:xfrm>
              <a:off x="1401840" y="3157560"/>
              <a:ext cx="855720" cy="57132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1392120" y="3949560"/>
              <a:ext cx="881280" cy="2318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36" name="" descr=""/>
            <p:cNvPicPr/>
            <p:nvPr/>
          </p:nvPicPr>
          <p:blipFill>
            <a:blip r:embed="rId4"/>
            <a:stretch/>
          </p:blipFill>
          <p:spPr>
            <a:xfrm>
              <a:off x="822240" y="3852720"/>
              <a:ext cx="862200" cy="60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7" name=""/>
            <p:cNvGrpSpPr/>
            <p:nvPr/>
          </p:nvGrpSpPr>
          <p:grpSpPr>
            <a:xfrm>
              <a:off x="2205000" y="3484440"/>
              <a:ext cx="690480" cy="750960"/>
              <a:chOff x="2205000" y="3484440"/>
              <a:chExt cx="690480" cy="750960"/>
            </a:xfrm>
          </p:grpSpPr>
          <p:sp>
            <p:nvSpPr>
              <p:cNvPr id="1338" name=""/>
              <p:cNvSpPr/>
              <p:nvPr/>
            </p:nvSpPr>
            <p:spPr>
              <a:xfrm>
                <a:off x="2444760" y="350820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462040" y="389088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462040" y="364176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205000" y="348624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205000" y="348624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417760" y="351144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462040" y="363996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462040" y="360036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462040" y="35352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205000" y="348444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442960" y="350820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205000" y="348624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417760" y="351324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417760" y="35226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417760" y="35751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62040" y="35352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17760" y="35910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17760" y="36399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17760" y="3838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62040" y="36511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727360" y="364176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62040" y="364176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714400" y="383364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2461680" y="370692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2461680" y="377352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17760" y="38908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417760" y="417024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462040" y="390672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727360" y="38908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462040" y="41511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462040" y="41385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462040" y="412740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462040" y="411480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462040" y="41004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62040" y="353700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714400" y="356076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23960" y="360036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462040" y="360036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462040" y="361800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2665440" y="362124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665440" y="360036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475000" y="35528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511360" y="3551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547720" y="3551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585880" y="3551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624040" y="3549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658960" y="354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697120" y="354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701800" y="364176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743200" y="413208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388" name="" descr=""/>
            <p:cNvPicPr/>
            <p:nvPr/>
          </p:nvPicPr>
          <p:blipFill>
            <a:blip r:embed="rId5"/>
            <a:stretch/>
          </p:blipFill>
          <p:spPr>
            <a:xfrm>
              <a:off x="814320" y="2739960"/>
              <a:ext cx="86220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9" name=""/>
          <p:cNvGrpSpPr/>
          <p:nvPr/>
        </p:nvGrpSpPr>
        <p:grpSpPr>
          <a:xfrm>
            <a:off x="7783560" y="2871720"/>
            <a:ext cx="690480" cy="750960"/>
            <a:chOff x="7783560" y="2871720"/>
            <a:chExt cx="690480" cy="750960"/>
          </a:xfrm>
        </p:grpSpPr>
        <p:sp>
          <p:nvSpPr>
            <p:cNvPr id="1390" name=""/>
            <p:cNvSpPr/>
            <p:nvPr/>
          </p:nvSpPr>
          <p:spPr>
            <a:xfrm>
              <a:off x="8023320" y="289548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040600" y="327816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040600" y="30290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83560" y="287352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83560" y="28735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996320" y="289872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040600" y="302724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040600" y="29876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040600" y="29224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83560" y="28717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021520" y="289548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83560" y="28735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996320" y="29005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996320" y="2909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996320" y="2962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040600" y="29224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996320" y="29782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996320" y="30272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996320" y="3225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040600" y="303840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05920" y="30290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040600" y="30290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8292960" y="32209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8040240" y="30942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8040240" y="31608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996320" y="3278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996320" y="355752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040600" y="3294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305920" y="327816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040600" y="35384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040600" y="35258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040600" y="35146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040600" y="350208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040600" y="348768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040600" y="292428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292960" y="2948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102520" y="29876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040600" y="298764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040600" y="30052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8244000" y="30085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244000" y="29876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053560" y="2940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08992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12628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16444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202600" y="293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237520" y="293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275680" y="293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280360" y="30290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321760" y="351936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mit az NT 4 világból ismerün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70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NT automatikus telepítés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oot floppy készítésnek gyötrelme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tup Manager, UNATTEND.T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source Kit segédprogram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Zero Administration 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 NT klónoz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ysprep (csak ez támogatot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7238880" y="1676520"/>
            <a:ext cx="1905120" cy="274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6360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z a VP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7224840" y="1278000"/>
            <a:ext cx="1919160" cy="3116160"/>
            <a:chOff x="7224840" y="1278000"/>
            <a:chExt cx="1919160" cy="3116160"/>
          </a:xfrm>
        </p:grpSpPr>
        <p:sp>
          <p:nvSpPr>
            <p:cNvPr id="1443" name=""/>
            <p:cNvSpPr/>
            <p:nvPr/>
          </p:nvSpPr>
          <p:spPr>
            <a:xfrm>
              <a:off x="7224840" y="1685880"/>
              <a:ext cx="1919160" cy="2708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476120" y="127800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rp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1919160" y="3327120"/>
            <a:ext cx="5976720" cy="2619720"/>
            <a:chOff x="1919160" y="3327120"/>
            <a:chExt cx="5976720" cy="2619720"/>
          </a:xfrm>
        </p:grpSpPr>
        <p:sp>
          <p:nvSpPr>
            <p:cNvPr id="1446" name=""/>
            <p:cNvSpPr/>
            <p:nvPr/>
          </p:nvSpPr>
          <p:spPr>
            <a:xfrm rot="21428400">
              <a:off x="4554360" y="3408480"/>
              <a:ext cx="3305520" cy="152712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919160" y="5280120"/>
              <a:ext cx="1971720" cy="66672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3871200">
              <a:off x="2697840" y="4213800"/>
              <a:ext cx="1058760" cy="66384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1433520" y="3152160"/>
            <a:ext cx="6495840" cy="3225240"/>
            <a:chOff x="1433520" y="3152160"/>
            <a:chExt cx="6495840" cy="3225240"/>
          </a:xfrm>
        </p:grpSpPr>
        <p:grpSp>
          <p:nvGrpSpPr>
            <p:cNvPr id="1450" name=""/>
            <p:cNvGrpSpPr/>
            <p:nvPr/>
          </p:nvGrpSpPr>
          <p:grpSpPr>
            <a:xfrm>
              <a:off x="4389480" y="3152160"/>
              <a:ext cx="3539880" cy="2070360"/>
              <a:chOff x="4389480" y="3152160"/>
              <a:chExt cx="3539880" cy="2070360"/>
            </a:xfrm>
          </p:grpSpPr>
          <p:sp>
            <p:nvSpPr>
              <p:cNvPr id="1451" name=""/>
              <p:cNvSpPr/>
              <p:nvPr/>
            </p:nvSpPr>
            <p:spPr>
              <a:xfrm rot="996000">
                <a:off x="7416360" y="3208320"/>
                <a:ext cx="459000" cy="442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9991400">
                <a:off x="4301640" y="4005000"/>
                <a:ext cx="3513240" cy="449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Arial"/>
                  </a:rPr>
                  <a:t>Titkosítot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1433520" y="3783600"/>
              <a:ext cx="2850120" cy="2593800"/>
              <a:chOff x="1433520" y="3783600"/>
              <a:chExt cx="2850120" cy="2593800"/>
            </a:xfrm>
          </p:grpSpPr>
          <p:sp>
            <p:nvSpPr>
              <p:cNvPr id="1454" name=""/>
              <p:cNvSpPr/>
              <p:nvPr/>
            </p:nvSpPr>
            <p:spPr>
              <a:xfrm rot="2232000">
                <a:off x="2416320" y="4257360"/>
                <a:ext cx="1687320" cy="35388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5" name=""/>
              <p:cNvGrpSpPr/>
              <p:nvPr/>
            </p:nvGrpSpPr>
            <p:grpSpPr>
              <a:xfrm>
                <a:off x="1433520" y="4921920"/>
                <a:ext cx="2850120" cy="1455480"/>
                <a:chOff x="1433520" y="4921920"/>
                <a:chExt cx="2850120" cy="1455480"/>
              </a:xfrm>
            </p:grpSpPr>
            <p:grpSp>
              <p:nvGrpSpPr>
                <p:cNvPr id="1456" name=""/>
                <p:cNvGrpSpPr/>
                <p:nvPr/>
              </p:nvGrpSpPr>
              <p:grpSpPr>
                <a:xfrm>
                  <a:off x="1433520" y="4921920"/>
                  <a:ext cx="2850120" cy="1455480"/>
                  <a:chOff x="1433520" y="4921920"/>
                  <a:chExt cx="2850120" cy="145548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1337400">
                    <a:off x="3758040" y="4992120"/>
                    <a:ext cx="458640" cy="442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rot="20332800">
                    <a:off x="1424520" y="5461920"/>
                    <a:ext cx="2670120" cy="4492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Titkosítot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9" name=""/>
                <p:cNvSpPr/>
                <p:nvPr/>
              </p:nvSpPr>
              <p:spPr>
                <a:xfrm>
                  <a:off x="3935160" y="5016600"/>
                  <a:ext cx="144720" cy="37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0" name=""/>
          <p:cNvSpPr/>
          <p:nvPr/>
        </p:nvSpPr>
        <p:spPr>
          <a:xfrm>
            <a:off x="6959520" y="2838600"/>
            <a:ext cx="1060560" cy="461880"/>
          </a:xfrm>
          <a:prstGeom prst="line">
            <a:avLst/>
          </a:prstGeom>
          <a:ln w="3816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657520" y="3664080"/>
            <a:ext cx="639720" cy="339480"/>
          </a:xfrm>
          <a:custGeom>
            <a:avLst/>
            <a:gdLst/>
            <a:ahLst/>
            <a:rect l="l" t="t" r="r" b="b"/>
            <a:pathLst>
              <a:path w="1242" h="420">
                <a:moveTo>
                  <a:pt x="0" y="420"/>
                </a:moveTo>
                <a:lnTo>
                  <a:pt x="685" y="137"/>
                </a:lnTo>
                <a:lnTo>
                  <a:pt x="651" y="231"/>
                </a:lnTo>
                <a:lnTo>
                  <a:pt x="1242" y="0"/>
                </a:lnTo>
              </a:path>
            </a:pathLst>
          </a:custGeom>
          <a:noFill/>
          <a:ln w="3816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401840" y="3157560"/>
            <a:ext cx="855720" cy="571320"/>
          </a:xfrm>
          <a:prstGeom prst="line">
            <a:avLst/>
          </a:prstGeom>
          <a:ln w="3816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1392120" y="3949560"/>
            <a:ext cx="881280" cy="231840"/>
          </a:xfrm>
          <a:prstGeom prst="line">
            <a:avLst/>
          </a:prstGeom>
          <a:ln w="3816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rot="20321400">
            <a:off x="1668240" y="4525920"/>
            <a:ext cx="2477880" cy="1023840"/>
          </a:xfrm>
          <a:custGeom>
            <a:avLst/>
            <a:gdLst/>
            <a:ahLst/>
            <a:rect l="l" t="t" r="r" b="b"/>
            <a:pathLst>
              <a:path w="1242" h="420">
                <a:moveTo>
                  <a:pt x="0" y="420"/>
                </a:moveTo>
                <a:lnTo>
                  <a:pt x="685" y="137"/>
                </a:lnTo>
                <a:lnTo>
                  <a:pt x="651" y="231"/>
                </a:lnTo>
                <a:lnTo>
                  <a:pt x="1242" y="0"/>
                </a:lnTo>
              </a:path>
            </a:pathLst>
          </a:custGeom>
          <a:noFill/>
          <a:ln w="3816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2"/>
          <a:stretch/>
        </p:blipFill>
        <p:spPr>
          <a:xfrm>
            <a:off x="822240" y="3852720"/>
            <a:ext cx="862200" cy="609840"/>
          </a:xfrm>
          <a:prstGeom prst="rect">
            <a:avLst/>
          </a:prstGeom>
          <a:ln w="0">
            <a:noFill/>
          </a:ln>
        </p:spPr>
      </p:pic>
      <p:pic>
        <p:nvPicPr>
          <p:cNvPr id="1466" name="" descr=""/>
          <p:cNvPicPr/>
          <p:nvPr/>
        </p:nvPicPr>
        <p:blipFill>
          <a:blip r:embed="rId3"/>
          <a:stretch/>
        </p:blipFill>
        <p:spPr>
          <a:xfrm>
            <a:off x="814320" y="2739960"/>
            <a:ext cx="862200" cy="60984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4714920" y="2986200"/>
            <a:ext cx="1890720" cy="869760"/>
          </a:xfrm>
          <a:custGeom>
            <a:avLst/>
            <a:gdLst/>
            <a:ahLst/>
            <a:rect l="l" t="t" r="r" b="b"/>
            <a:pathLst>
              <a:path w="1242" h="420">
                <a:moveTo>
                  <a:pt x="0" y="420"/>
                </a:moveTo>
                <a:lnTo>
                  <a:pt x="685" y="137"/>
                </a:lnTo>
                <a:lnTo>
                  <a:pt x="651" y="231"/>
                </a:lnTo>
                <a:lnTo>
                  <a:pt x="1242" y="0"/>
                </a:lnTo>
              </a:path>
            </a:pathLst>
          </a:custGeom>
          <a:noFill/>
          <a:ln w="3816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rot="20921400">
            <a:off x="2679480" y="3631680"/>
            <a:ext cx="798480" cy="35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788880" y="3652560"/>
            <a:ext cx="181080" cy="36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340320" y="2427120"/>
            <a:ext cx="951120" cy="804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1704600" y="2630880"/>
            <a:ext cx="5349240" cy="3494160"/>
            <a:chOff x="1704600" y="2630880"/>
            <a:chExt cx="5349240" cy="3494160"/>
          </a:xfrm>
        </p:grpSpPr>
        <p:grpSp>
          <p:nvGrpSpPr>
            <p:cNvPr id="1472" name=""/>
            <p:cNvGrpSpPr/>
            <p:nvPr/>
          </p:nvGrpSpPr>
          <p:grpSpPr>
            <a:xfrm>
              <a:off x="1704600" y="3919680"/>
              <a:ext cx="2310120" cy="2205360"/>
              <a:chOff x="1704600" y="3919680"/>
              <a:chExt cx="2310120" cy="2205360"/>
            </a:xfrm>
          </p:grpSpPr>
          <p:grpSp>
            <p:nvGrpSpPr>
              <p:cNvPr id="1473" name=""/>
              <p:cNvGrpSpPr/>
              <p:nvPr/>
            </p:nvGrpSpPr>
            <p:grpSpPr>
              <a:xfrm>
                <a:off x="1704600" y="3919680"/>
                <a:ext cx="2310120" cy="2205360"/>
                <a:chOff x="1704600" y="3919680"/>
                <a:chExt cx="2310120" cy="220536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3556080" y="3919680"/>
                  <a:ext cx="458640" cy="442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rot="18995400">
                  <a:off x="1493640" y="4819320"/>
                  <a:ext cx="2670120" cy="449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Arial"/>
                    </a:rPr>
                    <a:t>Titkosítot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6" name=""/>
              <p:cNvSpPr/>
              <p:nvPr/>
            </p:nvSpPr>
            <p:spPr>
              <a:xfrm>
                <a:off x="3662280" y="3978360"/>
                <a:ext cx="277920" cy="296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4202640" y="2630880"/>
              <a:ext cx="2851200" cy="1452600"/>
              <a:chOff x="4202640" y="2630880"/>
              <a:chExt cx="2851200" cy="1452600"/>
            </a:xfrm>
          </p:grpSpPr>
          <p:grpSp>
            <p:nvGrpSpPr>
              <p:cNvPr id="1478" name=""/>
              <p:cNvGrpSpPr/>
              <p:nvPr/>
            </p:nvGrpSpPr>
            <p:grpSpPr>
              <a:xfrm>
                <a:off x="4202640" y="2630880"/>
                <a:ext cx="2851200" cy="1452600"/>
                <a:chOff x="4202640" y="2630880"/>
                <a:chExt cx="2851200" cy="1452600"/>
              </a:xfrm>
            </p:grpSpPr>
            <p:sp>
              <p:nvSpPr>
                <p:cNvPr id="1479" name=""/>
                <p:cNvSpPr/>
                <p:nvPr/>
              </p:nvSpPr>
              <p:spPr>
                <a:xfrm rot="1341600">
                  <a:off x="6528240" y="2701440"/>
                  <a:ext cx="458640" cy="442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20337600">
                  <a:off x="4194000" y="3169440"/>
                  <a:ext cx="2670120" cy="449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Arial"/>
                    </a:rPr>
                    <a:t>Titkosítot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"/>
              <p:cNvSpPr/>
              <p:nvPr/>
            </p:nvSpPr>
            <p:spPr>
              <a:xfrm>
                <a:off x="6705720" y="2725560"/>
                <a:ext cx="144000" cy="38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2" name=""/>
            <p:cNvSpPr/>
            <p:nvPr/>
          </p:nvSpPr>
          <p:spPr>
            <a:xfrm rot="20921400">
              <a:off x="2679480" y="3631680"/>
              <a:ext cx="798480" cy="354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3146400" y="2888640"/>
            <a:ext cx="1724400" cy="1451880"/>
            <a:chOff x="3146400" y="2888640"/>
            <a:chExt cx="1724400" cy="1451880"/>
          </a:xfrm>
        </p:grpSpPr>
        <p:grpSp>
          <p:nvGrpSpPr>
            <p:cNvPr id="1484" name=""/>
            <p:cNvGrpSpPr/>
            <p:nvPr/>
          </p:nvGrpSpPr>
          <p:grpSpPr>
            <a:xfrm>
              <a:off x="3146400" y="2888640"/>
              <a:ext cx="1724400" cy="1451880"/>
              <a:chOff x="3146400" y="2888640"/>
              <a:chExt cx="1724400" cy="1451880"/>
            </a:xfrm>
          </p:grpSpPr>
          <p:sp>
            <p:nvSpPr>
              <p:cNvPr id="1485" name=""/>
              <p:cNvSpPr/>
              <p:nvPr/>
            </p:nvSpPr>
            <p:spPr>
              <a:xfrm rot="20700000">
                <a:off x="3922560" y="4007880"/>
                <a:ext cx="263520" cy="2991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20700000">
                <a:off x="3715200" y="2917800"/>
                <a:ext cx="266040" cy="299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20700000">
                <a:off x="3360600" y="3126240"/>
                <a:ext cx="160920" cy="18432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20700000">
                <a:off x="3390120" y="3854520"/>
                <a:ext cx="160200" cy="1760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20700000">
                <a:off x="3243960" y="3589920"/>
                <a:ext cx="264240" cy="290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20700000">
                <a:off x="3511440" y="2993400"/>
                <a:ext cx="265320" cy="2973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20700000">
                <a:off x="4569120" y="3698280"/>
                <a:ext cx="267480" cy="2984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0700000">
                <a:off x="4376520" y="3832200"/>
                <a:ext cx="267480" cy="3034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3" name=""/>
              <p:cNvGrpSpPr/>
              <p:nvPr/>
            </p:nvGrpSpPr>
            <p:grpSpPr>
              <a:xfrm>
                <a:off x="3146400" y="2899440"/>
                <a:ext cx="1701360" cy="1441080"/>
                <a:chOff x="3146400" y="2899440"/>
                <a:chExt cx="1701360" cy="1441080"/>
              </a:xfrm>
            </p:grpSpPr>
            <p:sp>
              <p:nvSpPr>
                <p:cNvPr id="1494" name=""/>
                <p:cNvSpPr/>
                <p:nvPr/>
              </p:nvSpPr>
              <p:spPr>
                <a:xfrm rot="20700000">
                  <a:off x="3207960" y="3253680"/>
                  <a:ext cx="475920" cy="541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5" name=""/>
                <p:cNvGrpSpPr/>
                <p:nvPr/>
              </p:nvGrpSpPr>
              <p:grpSpPr>
                <a:xfrm>
                  <a:off x="3302280" y="3133440"/>
                  <a:ext cx="1124280" cy="1207080"/>
                  <a:chOff x="3302280" y="3133440"/>
                  <a:chExt cx="1124280" cy="1207080"/>
                </a:xfrm>
              </p:grpSpPr>
              <p:sp>
                <p:nvSpPr>
                  <p:cNvPr id="1496" name=""/>
                  <p:cNvSpPr/>
                  <p:nvPr/>
                </p:nvSpPr>
                <p:spPr>
                  <a:xfrm rot="20700000">
                    <a:off x="3417480" y="3231720"/>
                    <a:ext cx="893160" cy="1010520"/>
                  </a:xfrm>
                  <a:prstGeom prst="ellipse">
                    <a:avLst/>
                  </a:prstGeom>
                  <a:solidFill>
                    <a:srgbClr val="99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3380760" y="3479760"/>
                    <a:ext cx="13824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99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8" name=""/>
                <p:cNvSpPr/>
                <p:nvPr/>
              </p:nvSpPr>
              <p:spPr>
                <a:xfrm rot="20700000">
                  <a:off x="3744720" y="3225960"/>
                  <a:ext cx="893880" cy="10108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20700000">
                  <a:off x="4485960" y="3225960"/>
                  <a:ext cx="320040" cy="3618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20700000">
                  <a:off x="4476600" y="3801960"/>
                  <a:ext cx="212040" cy="244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20700000">
                  <a:off x="4357800" y="3174480"/>
                  <a:ext cx="212760" cy="23544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20700000">
                  <a:off x="4480200" y="3479400"/>
                  <a:ext cx="321120" cy="35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20700000">
                  <a:off x="3439800" y="3044880"/>
                  <a:ext cx="47700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20700000">
                  <a:off x="3917520" y="2988000"/>
                  <a:ext cx="477000" cy="53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20700000">
                  <a:off x="3692160" y="2951640"/>
                  <a:ext cx="47772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20700000">
                  <a:off x="3660840" y="3637440"/>
                  <a:ext cx="473760" cy="5382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3496320" y="3056400"/>
                  <a:ext cx="1186200" cy="109872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8" name=""/>
            <p:cNvSpPr/>
            <p:nvPr/>
          </p:nvSpPr>
          <p:spPr>
            <a:xfrm>
              <a:off x="3387240" y="337176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783560" y="2871720"/>
            <a:ext cx="690480" cy="750960"/>
            <a:chOff x="7783560" y="2871720"/>
            <a:chExt cx="690480" cy="750960"/>
          </a:xfrm>
        </p:grpSpPr>
        <p:sp>
          <p:nvSpPr>
            <p:cNvPr id="1510" name=""/>
            <p:cNvSpPr/>
            <p:nvPr/>
          </p:nvSpPr>
          <p:spPr>
            <a:xfrm>
              <a:off x="8023320" y="289548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40600" y="327816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40600" y="30290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783560" y="287352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783560" y="28735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996320" y="289872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40600" y="302724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40600" y="29876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40600" y="29224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783560" y="28717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021520" y="289548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783560" y="28735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96320" y="29005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996320" y="2909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996320" y="2962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040600" y="29224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996320" y="29782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996320" y="30272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96320" y="3225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040600" y="303840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305920" y="30290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040600" y="30290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292960" y="32209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8040240" y="30942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8040240" y="31608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996320" y="3278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996320" y="355752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040600" y="3294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305920" y="327816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040600" y="35384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040600" y="35258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040600" y="35146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040600" y="350208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040600" y="348768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040600" y="292428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92960" y="2948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02520" y="29876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40600" y="298764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40600" y="30052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8244000" y="30085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244000" y="29876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053560" y="2940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08992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12628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16444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202600" y="293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37520" y="293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275680" y="293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280360" y="30290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321760" y="351936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60" name="" descr=""/>
          <p:cNvPicPr/>
          <p:nvPr/>
        </p:nvPicPr>
        <p:blipFill>
          <a:blip r:embed="rId5"/>
          <a:stretch/>
        </p:blipFill>
        <p:spPr>
          <a:xfrm>
            <a:off x="674640" y="5462640"/>
            <a:ext cx="14270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3290400" y="4719600"/>
            <a:ext cx="1586160" cy="1085040"/>
            <a:chOff x="3290400" y="4719600"/>
            <a:chExt cx="1586160" cy="1085040"/>
          </a:xfrm>
        </p:grpSpPr>
        <p:grpSp>
          <p:nvGrpSpPr>
            <p:cNvPr id="1562" name=""/>
            <p:cNvGrpSpPr/>
            <p:nvPr/>
          </p:nvGrpSpPr>
          <p:grpSpPr>
            <a:xfrm>
              <a:off x="3290400" y="4719600"/>
              <a:ext cx="1586160" cy="1085040"/>
              <a:chOff x="3290400" y="4719600"/>
              <a:chExt cx="1586160" cy="1085040"/>
            </a:xfrm>
          </p:grpSpPr>
          <p:sp>
            <p:nvSpPr>
              <p:cNvPr id="1563" name=""/>
              <p:cNvSpPr/>
              <p:nvPr/>
            </p:nvSpPr>
            <p:spPr>
              <a:xfrm rot="20700000">
                <a:off x="3999960" y="5539320"/>
                <a:ext cx="245880" cy="21708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20700000">
                <a:off x="3806640" y="4747680"/>
                <a:ext cx="248040" cy="21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20700000">
                <a:off x="3475440" y="4899240"/>
                <a:ext cx="150120" cy="1335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20700000">
                <a:off x="3503160" y="5428080"/>
                <a:ext cx="149400" cy="12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20700000">
                <a:off x="3366720" y="5235480"/>
                <a:ext cx="246240" cy="211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20700000">
                <a:off x="3616200" y="4802760"/>
                <a:ext cx="247680" cy="21564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0700000">
                <a:off x="4602960" y="5314680"/>
                <a:ext cx="249480" cy="2163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0700000">
                <a:off x="4423320" y="5411520"/>
                <a:ext cx="249480" cy="220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1" name=""/>
              <p:cNvGrpSpPr/>
              <p:nvPr/>
            </p:nvGrpSpPr>
            <p:grpSpPr>
              <a:xfrm>
                <a:off x="3290400" y="4722120"/>
                <a:ext cx="1562760" cy="1082520"/>
                <a:chOff x="3290400" y="4722120"/>
                <a:chExt cx="1562760" cy="1082520"/>
              </a:xfrm>
            </p:grpSpPr>
            <p:sp>
              <p:nvSpPr>
                <p:cNvPr id="1572" name=""/>
                <p:cNvSpPr/>
                <p:nvPr/>
              </p:nvSpPr>
              <p:spPr>
                <a:xfrm rot="20700000">
                  <a:off x="3333600" y="4991400"/>
                  <a:ext cx="443880" cy="3927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3" name=""/>
                <p:cNvGrpSpPr/>
                <p:nvPr/>
              </p:nvGrpSpPr>
              <p:grpSpPr>
                <a:xfrm>
                  <a:off x="3448440" y="4880520"/>
                  <a:ext cx="994680" cy="924120"/>
                  <a:chOff x="3448440" y="4880520"/>
                  <a:chExt cx="994680" cy="924120"/>
                </a:xfrm>
              </p:grpSpPr>
              <p:sp>
                <p:nvSpPr>
                  <p:cNvPr id="1574" name=""/>
                  <p:cNvSpPr/>
                  <p:nvPr/>
                </p:nvSpPr>
                <p:spPr>
                  <a:xfrm rot="20700000">
                    <a:off x="3529080" y="4975560"/>
                    <a:ext cx="833400" cy="733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3494520" y="5155920"/>
                    <a:ext cx="12888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5686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6" name=""/>
                <p:cNvSpPr/>
                <p:nvPr/>
              </p:nvSpPr>
              <p:spPr>
                <a:xfrm rot="20700000">
                  <a:off x="3834000" y="4971600"/>
                  <a:ext cx="834120" cy="7336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20700000">
                  <a:off x="4525560" y="4971960"/>
                  <a:ext cx="298440" cy="2628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20700000">
                  <a:off x="4517280" y="5389920"/>
                  <a:ext cx="198000" cy="17712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20700000">
                  <a:off x="4406040" y="4934160"/>
                  <a:ext cx="198360" cy="1706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20700000">
                  <a:off x="4520160" y="5155560"/>
                  <a:ext cx="299880" cy="2595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20700000">
                  <a:off x="3549960" y="483984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rot="20700000">
                  <a:off x="3995640" y="479844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rot="20700000">
                  <a:off x="3784680" y="4772880"/>
                  <a:ext cx="44568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rot="20700000">
                  <a:off x="3755880" y="5269680"/>
                  <a:ext cx="442080" cy="3906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602520" y="4848480"/>
                  <a:ext cx="1106640" cy="79740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568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6" name=""/>
            <p:cNvSpPr/>
            <p:nvPr/>
          </p:nvSpPr>
          <p:spPr>
            <a:xfrm>
              <a:off x="3457440" y="49975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v</a:t>
              </a: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á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2205000" y="3484440"/>
            <a:ext cx="690480" cy="750960"/>
            <a:chOff x="2205000" y="3484440"/>
            <a:chExt cx="690480" cy="750960"/>
          </a:xfrm>
        </p:grpSpPr>
        <p:sp>
          <p:nvSpPr>
            <p:cNvPr id="1588" name=""/>
            <p:cNvSpPr/>
            <p:nvPr/>
          </p:nvSpPr>
          <p:spPr>
            <a:xfrm>
              <a:off x="2444760" y="350820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462040" y="389088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462040" y="364176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05000" y="348624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205000" y="348624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17760" y="351144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462040" y="363996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462040" y="360036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462040" y="353520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205000" y="348444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442960" y="350820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205000" y="348624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417760" y="351324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417760" y="35226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417760" y="3575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62040" y="353520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17760" y="35910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417760" y="3639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417760" y="38386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62040" y="365112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27360" y="364176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62040" y="364176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714400" y="38336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2461680" y="370692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2461680" y="377352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17760" y="3890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17760" y="417024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462040" y="39067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27360" y="389088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462040" y="415116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462040" y="413856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62040" y="412740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62040" y="411480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462040" y="410040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62040" y="353700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14400" y="35607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523960" y="360036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462040" y="360036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462040" y="361800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2665440" y="362124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665440" y="360036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475000" y="3552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511360" y="3551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547720" y="3551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585880" y="3551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24040" y="3549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58960" y="35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97120" y="35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701800" y="364176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743200" y="413208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8" name=""/>
          <p:cNvGrpSpPr/>
          <p:nvPr/>
        </p:nvGrpSpPr>
        <p:grpSpPr>
          <a:xfrm>
            <a:off x="1986120" y="2562120"/>
            <a:ext cx="4633920" cy="390600"/>
            <a:chOff x="1986120" y="2562120"/>
            <a:chExt cx="4633920" cy="390600"/>
          </a:xfrm>
        </p:grpSpPr>
        <p:sp>
          <p:nvSpPr>
            <p:cNvPr id="1639" name=""/>
            <p:cNvSpPr/>
            <p:nvPr/>
          </p:nvSpPr>
          <p:spPr>
            <a:xfrm>
              <a:off x="6305400" y="2567160"/>
              <a:ext cx="314640" cy="371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1986120" y="2562120"/>
              <a:ext cx="4389120" cy="390600"/>
              <a:chOff x="1986120" y="2562120"/>
              <a:chExt cx="4389120" cy="390600"/>
            </a:xfrm>
          </p:grpSpPr>
          <p:sp>
            <p:nvSpPr>
              <p:cNvPr id="1641" name=""/>
              <p:cNvSpPr/>
              <p:nvPr/>
            </p:nvSpPr>
            <p:spPr>
              <a:xfrm>
                <a:off x="1986120" y="2571840"/>
                <a:ext cx="680760" cy="36648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42" name=""/>
              <p:cNvGrpSpPr/>
              <p:nvPr/>
            </p:nvGrpSpPr>
            <p:grpSpPr>
              <a:xfrm>
                <a:off x="2519280" y="2562120"/>
                <a:ext cx="3855960" cy="390600"/>
                <a:chOff x="2519280" y="2562120"/>
                <a:chExt cx="3855960" cy="39060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6229440" y="2562120"/>
                  <a:ext cx="145800" cy="3812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2604960" y="2571840"/>
                  <a:ext cx="3683160" cy="377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519280" y="2571840"/>
                  <a:ext cx="146160" cy="3808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46" name=""/>
          <p:cNvSpPr/>
          <p:nvPr/>
        </p:nvSpPr>
        <p:spPr>
          <a:xfrm>
            <a:off x="6721560" y="2776680"/>
            <a:ext cx="16333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 csomagolás (tunneling) működése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299880" y="154152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Host–LAN kapcsol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2068560" y="2570040"/>
            <a:ext cx="4622760" cy="382680"/>
            <a:chOff x="2068560" y="2570040"/>
            <a:chExt cx="4622760" cy="382680"/>
          </a:xfrm>
        </p:grpSpPr>
        <p:grpSp>
          <p:nvGrpSpPr>
            <p:cNvPr id="1650" name=""/>
            <p:cNvGrpSpPr/>
            <p:nvPr/>
          </p:nvGrpSpPr>
          <p:grpSpPr>
            <a:xfrm>
              <a:off x="2068560" y="2652840"/>
              <a:ext cx="4622760" cy="218880"/>
              <a:chOff x="2068560" y="2652840"/>
              <a:chExt cx="4622760" cy="218880"/>
            </a:xfrm>
          </p:grpSpPr>
          <p:sp>
            <p:nvSpPr>
              <p:cNvPr id="1651" name=""/>
              <p:cNvSpPr/>
              <p:nvPr/>
            </p:nvSpPr>
            <p:spPr>
              <a:xfrm>
                <a:off x="6443640" y="2662200"/>
                <a:ext cx="24768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2" name=""/>
              <p:cNvGrpSpPr/>
              <p:nvPr/>
            </p:nvGrpSpPr>
            <p:grpSpPr>
              <a:xfrm>
                <a:off x="2068560" y="2652840"/>
                <a:ext cx="4460760" cy="218880"/>
                <a:chOff x="2068560" y="2652840"/>
                <a:chExt cx="4460760" cy="218880"/>
              </a:xfrm>
            </p:grpSpPr>
            <p:sp>
              <p:nvSpPr>
                <p:cNvPr id="1653" name=""/>
                <p:cNvSpPr/>
                <p:nvPr/>
              </p:nvSpPr>
              <p:spPr>
                <a:xfrm>
                  <a:off x="2068560" y="2652840"/>
                  <a:ext cx="488880" cy="21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4" name=""/>
                <p:cNvGrpSpPr/>
                <p:nvPr/>
              </p:nvGrpSpPr>
              <p:grpSpPr>
                <a:xfrm>
                  <a:off x="2446200" y="2660760"/>
                  <a:ext cx="4083120" cy="204840"/>
                  <a:chOff x="2446200" y="2660760"/>
                  <a:chExt cx="4083120" cy="20484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6383160" y="2660760"/>
                    <a:ext cx="146160" cy="198360"/>
                  </a:xfrm>
                  <a:prstGeom prst="ellipse">
                    <a:avLst/>
                  </a:prstGeom>
                  <a:solidFill>
                    <a:srgbClr val="eea564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2532240" y="2662200"/>
                    <a:ext cx="3921120" cy="193680"/>
                  </a:xfrm>
                  <a:prstGeom prst="rect">
                    <a:avLst/>
                  </a:prstGeom>
                  <a:solidFill>
                    <a:srgbClr val="eea56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2446200" y="2666880"/>
                    <a:ext cx="146160" cy="198720"/>
                  </a:xfrm>
                  <a:prstGeom prst="ellipse">
                    <a:avLst/>
                  </a:prstGeom>
                  <a:solidFill>
                    <a:srgbClr val="eea564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58" name=""/>
            <p:cNvGrpSpPr/>
            <p:nvPr/>
          </p:nvGrpSpPr>
          <p:grpSpPr>
            <a:xfrm>
              <a:off x="2593800" y="2570040"/>
              <a:ext cx="3773520" cy="382680"/>
              <a:chOff x="2593800" y="2570040"/>
              <a:chExt cx="3773520" cy="382680"/>
            </a:xfrm>
          </p:grpSpPr>
          <p:sp>
            <p:nvSpPr>
              <p:cNvPr id="1659" name=""/>
              <p:cNvSpPr/>
              <p:nvPr/>
            </p:nvSpPr>
            <p:spPr>
              <a:xfrm>
                <a:off x="2670120" y="2570040"/>
                <a:ext cx="3614760" cy="37800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593800" y="2574720"/>
                <a:ext cx="76320" cy="376200"/>
              </a:xfrm>
              <a:custGeom>
                <a:avLst/>
                <a:gdLst/>
                <a:ahLst/>
                <a:rect l="l" t="t" r="r" b="b"/>
                <a:pathLst>
                  <a:path w="48" h="237">
                    <a:moveTo>
                      <a:pt x="0" y="1"/>
                    </a:moveTo>
                    <a:cubicBezTo>
                      <a:pt x="6" y="0"/>
                      <a:pt x="12" y="0"/>
                      <a:pt x="18" y="9"/>
                    </a:cubicBezTo>
                    <a:cubicBezTo>
                      <a:pt x="24" y="18"/>
                      <a:pt x="32" y="37"/>
                      <a:pt x="37" y="55"/>
                    </a:cubicBezTo>
                    <a:cubicBezTo>
                      <a:pt x="42" y="73"/>
                      <a:pt x="44" y="101"/>
                      <a:pt x="46" y="118"/>
                    </a:cubicBezTo>
                    <a:cubicBezTo>
                      <a:pt x="48" y="135"/>
                      <a:pt x="48" y="145"/>
                      <a:pt x="46" y="157"/>
                    </a:cubicBezTo>
                    <a:cubicBezTo>
                      <a:pt x="44" y="169"/>
                      <a:pt x="40" y="182"/>
                      <a:pt x="37" y="192"/>
                    </a:cubicBezTo>
                    <a:cubicBezTo>
                      <a:pt x="34" y="202"/>
                      <a:pt x="32" y="209"/>
                      <a:pt x="27" y="216"/>
                    </a:cubicBezTo>
                    <a:cubicBezTo>
                      <a:pt x="22" y="223"/>
                      <a:pt x="12" y="233"/>
                      <a:pt x="7" y="237"/>
                    </a:cubicBezTo>
                  </a:path>
                </a:pathLst>
              </a:custGeom>
              <a:noFill/>
              <a:ln w="936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221520" y="2571840"/>
                <a:ext cx="145800" cy="3808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2" name=""/>
          <p:cNvSpPr/>
          <p:nvPr/>
        </p:nvSpPr>
        <p:spPr>
          <a:xfrm>
            <a:off x="1947960" y="2779560"/>
            <a:ext cx="6379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2565360" y="2565360"/>
            <a:ext cx="4081680" cy="382680"/>
            <a:chOff x="2565360" y="2565360"/>
            <a:chExt cx="4081680" cy="382680"/>
          </a:xfrm>
        </p:grpSpPr>
        <p:sp>
          <p:nvSpPr>
            <p:cNvPr id="1664" name=""/>
            <p:cNvSpPr/>
            <p:nvPr/>
          </p:nvSpPr>
          <p:spPr>
            <a:xfrm>
              <a:off x="2565360" y="2776680"/>
              <a:ext cx="4081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589120" y="2565360"/>
              <a:ext cx="3773520" cy="382680"/>
              <a:chOff x="2589120" y="2565360"/>
              <a:chExt cx="3773520" cy="38268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65440" y="2565360"/>
                <a:ext cx="3614760" cy="37800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589120" y="2570040"/>
                <a:ext cx="76320" cy="376200"/>
              </a:xfrm>
              <a:custGeom>
                <a:avLst/>
                <a:gdLst/>
                <a:ahLst/>
                <a:rect l="l" t="t" r="r" b="b"/>
                <a:pathLst>
                  <a:path w="48" h="237">
                    <a:moveTo>
                      <a:pt x="0" y="1"/>
                    </a:moveTo>
                    <a:cubicBezTo>
                      <a:pt x="6" y="0"/>
                      <a:pt x="12" y="0"/>
                      <a:pt x="18" y="9"/>
                    </a:cubicBezTo>
                    <a:cubicBezTo>
                      <a:pt x="24" y="18"/>
                      <a:pt x="32" y="37"/>
                      <a:pt x="37" y="55"/>
                    </a:cubicBezTo>
                    <a:cubicBezTo>
                      <a:pt x="42" y="73"/>
                      <a:pt x="44" y="101"/>
                      <a:pt x="46" y="118"/>
                    </a:cubicBezTo>
                    <a:cubicBezTo>
                      <a:pt x="48" y="135"/>
                      <a:pt x="48" y="145"/>
                      <a:pt x="46" y="157"/>
                    </a:cubicBezTo>
                    <a:cubicBezTo>
                      <a:pt x="44" y="169"/>
                      <a:pt x="40" y="182"/>
                      <a:pt x="37" y="192"/>
                    </a:cubicBezTo>
                    <a:cubicBezTo>
                      <a:pt x="34" y="202"/>
                      <a:pt x="32" y="209"/>
                      <a:pt x="27" y="216"/>
                    </a:cubicBezTo>
                    <a:cubicBezTo>
                      <a:pt x="22" y="223"/>
                      <a:pt x="12" y="233"/>
                      <a:pt x="7" y="237"/>
                    </a:cubicBezTo>
                  </a:path>
                </a:pathLst>
              </a:custGeom>
              <a:noFill/>
              <a:ln w="936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216840" y="2567160"/>
                <a:ext cx="145800" cy="3808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770040" y="2155680"/>
            <a:ext cx="8099280" cy="1136160"/>
            <a:chOff x="770040" y="2155680"/>
            <a:chExt cx="8099280" cy="1136160"/>
          </a:xfrm>
        </p:grpSpPr>
        <p:grpSp>
          <p:nvGrpSpPr>
            <p:cNvPr id="1670" name=""/>
            <p:cNvGrpSpPr/>
            <p:nvPr/>
          </p:nvGrpSpPr>
          <p:grpSpPr>
            <a:xfrm>
              <a:off x="8178840" y="2368440"/>
              <a:ext cx="690480" cy="750960"/>
              <a:chOff x="8178840" y="2368440"/>
              <a:chExt cx="690480" cy="750960"/>
            </a:xfrm>
          </p:grpSpPr>
          <p:sp>
            <p:nvSpPr>
              <p:cNvPr id="1671" name=""/>
              <p:cNvSpPr/>
              <p:nvPr/>
            </p:nvSpPr>
            <p:spPr>
              <a:xfrm>
                <a:off x="8418600" y="239220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8435880" y="277488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435880" y="252576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178840" y="237024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178840" y="237024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391600" y="239544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435880" y="252396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435880" y="248436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435880" y="24192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178840" y="236844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8416800" y="239220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178840" y="237024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8391600" y="239724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391600" y="24066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391600" y="24591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435880" y="24192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391600" y="24750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391600" y="25239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391600" y="2722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435880" y="25351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701200" y="252576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435880" y="252576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688240" y="271764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8435520" y="259092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8435520" y="265752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391600" y="27748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391600" y="305424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435880" y="279072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701200" y="27748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435880" y="30351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435880" y="30225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435880" y="301140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435880" y="299880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435880" y="29844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435880" y="242100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688240" y="244476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497800" y="248436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435880" y="248436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435880" y="250200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8639280" y="250524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639280" y="248436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448840" y="24368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485200" y="2435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521560" y="2435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559720" y="2435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59788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632800" y="243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670960" y="243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675640" y="252576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717040" y="301608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580080" y="2417760"/>
              <a:ext cx="690480" cy="750960"/>
              <a:chOff x="6580080" y="2417760"/>
              <a:chExt cx="690480" cy="750960"/>
            </a:xfrm>
          </p:grpSpPr>
          <p:sp>
            <p:nvSpPr>
              <p:cNvPr id="1722" name=""/>
              <p:cNvSpPr/>
              <p:nvPr/>
            </p:nvSpPr>
            <p:spPr>
              <a:xfrm>
                <a:off x="6819840" y="244152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37120" y="282420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837120" y="25750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580080" y="241956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580080" y="24195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792840" y="244476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837120" y="257328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37120" y="253368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837120" y="24685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580080" y="241776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818040" y="244152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580080" y="24195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792840" y="24465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792840" y="24559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792840" y="25084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37120" y="24685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92840" y="25243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792840" y="2573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792840" y="27720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837120" y="258444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102440" y="25750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837120" y="25750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089480" y="276696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6836760" y="26402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6836760" y="27068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792840" y="2824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792840" y="310356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837120" y="284004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102440" y="28242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837120" y="30844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837120" y="30718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837120" y="306072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837120" y="304812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837120" y="30337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837120" y="247032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089480" y="24940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899040" y="253368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837120" y="253368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837120" y="25513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7040520" y="25545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040520" y="253368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850080" y="2486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886440" y="248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922800" y="248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960960" y="248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999120" y="2482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34040" y="2479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072200" y="2479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076880" y="25750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118280" y="306540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772" name="" descr=""/>
            <p:cNvPicPr/>
            <p:nvPr/>
          </p:nvPicPr>
          <p:blipFill>
            <a:blip r:embed="rId2"/>
            <a:stretch/>
          </p:blipFill>
          <p:spPr>
            <a:xfrm>
              <a:off x="770040" y="2155680"/>
              <a:ext cx="1427040" cy="105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3" name=""/>
            <p:cNvGrpSpPr/>
            <p:nvPr/>
          </p:nvGrpSpPr>
          <p:grpSpPr>
            <a:xfrm>
              <a:off x="3925440" y="2206800"/>
              <a:ext cx="1586160" cy="1085040"/>
              <a:chOff x="3925440" y="2206800"/>
              <a:chExt cx="1586160" cy="108504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3925440" y="2206800"/>
                <a:ext cx="1586160" cy="1085040"/>
                <a:chOff x="3925440" y="2206800"/>
                <a:chExt cx="1586160" cy="1085040"/>
              </a:xfrm>
            </p:grpSpPr>
            <p:sp>
              <p:nvSpPr>
                <p:cNvPr id="1775" name=""/>
                <p:cNvSpPr/>
                <p:nvPr/>
              </p:nvSpPr>
              <p:spPr>
                <a:xfrm rot="20700000">
                  <a:off x="4635000" y="3026160"/>
                  <a:ext cx="245880" cy="2170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20700000">
                  <a:off x="4441680" y="2234880"/>
                  <a:ext cx="248040" cy="2174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20700000">
                  <a:off x="4110480" y="2386440"/>
                  <a:ext cx="150120" cy="1335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rot="20700000">
                  <a:off x="4138200" y="2914920"/>
                  <a:ext cx="149400" cy="1278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rot="20700000">
                  <a:off x="4001760" y="2722320"/>
                  <a:ext cx="246240" cy="2109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rot="20700000">
                  <a:off x="4251240" y="2289960"/>
                  <a:ext cx="247680" cy="2156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rot="20700000">
                  <a:off x="5238000" y="2801880"/>
                  <a:ext cx="249480" cy="2163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rot="20700000">
                  <a:off x="5058360" y="2898360"/>
                  <a:ext cx="249480" cy="22032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3" name=""/>
                <p:cNvGrpSpPr/>
                <p:nvPr/>
              </p:nvGrpSpPr>
              <p:grpSpPr>
                <a:xfrm>
                  <a:off x="3925440" y="2209320"/>
                  <a:ext cx="1562760" cy="1082520"/>
                  <a:chOff x="3925440" y="2209320"/>
                  <a:chExt cx="1562760" cy="1082520"/>
                </a:xfrm>
              </p:grpSpPr>
              <p:sp>
                <p:nvSpPr>
                  <p:cNvPr id="1784" name=""/>
                  <p:cNvSpPr/>
                  <p:nvPr/>
                </p:nvSpPr>
                <p:spPr>
                  <a:xfrm rot="20700000">
                    <a:off x="3968640" y="2478600"/>
                    <a:ext cx="443880" cy="3927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5" name=""/>
                  <p:cNvGrpSpPr/>
                  <p:nvPr/>
                </p:nvGrpSpPr>
                <p:grpSpPr>
                  <a:xfrm>
                    <a:off x="4083480" y="2367720"/>
                    <a:ext cx="994680" cy="924120"/>
                    <a:chOff x="4083480" y="2367720"/>
                    <a:chExt cx="994680" cy="924120"/>
                  </a:xfrm>
                </p:grpSpPr>
                <p:sp>
                  <p:nvSpPr>
                    <p:cNvPr id="1786" name=""/>
                    <p:cNvSpPr/>
                    <p:nvPr/>
                  </p:nvSpPr>
                  <p:spPr>
                    <a:xfrm rot="20700000">
                      <a:off x="4164120" y="2462760"/>
                      <a:ext cx="833400" cy="7333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>
                      <a:off x="4129560" y="2643120"/>
                      <a:ext cx="128880" cy="20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323">
                          <a:moveTo>
                            <a:pt x="164" y="0"/>
                          </a:moveTo>
                          <a:lnTo>
                            <a:pt x="0" y="316"/>
                          </a:lnTo>
                          <a:lnTo>
                            <a:pt x="121" y="322"/>
                          </a:lnTo>
                          <a:lnTo>
                            <a:pt x="212" y="13"/>
                          </a:lnTo>
                          <a:lnTo>
                            <a:pt x="164" y="0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88" name=""/>
                  <p:cNvSpPr/>
                  <p:nvPr/>
                </p:nvSpPr>
                <p:spPr>
                  <a:xfrm rot="20700000">
                    <a:off x="4469040" y="2458800"/>
                    <a:ext cx="834120" cy="7336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 rot="20700000">
                    <a:off x="5160600" y="2459160"/>
                    <a:ext cx="298440" cy="262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 rot="20700000">
                    <a:off x="5152320" y="2877120"/>
                    <a:ext cx="198000" cy="1771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 rot="20700000">
                    <a:off x="5041080" y="2421360"/>
                    <a:ext cx="198360" cy="1706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 rot="20700000">
                    <a:off x="5155200" y="2642760"/>
                    <a:ext cx="299880" cy="2595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 rot="20700000">
                    <a:off x="4185000" y="2327040"/>
                    <a:ext cx="444960" cy="3898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 rot="20700000">
                    <a:off x="4630680" y="2285640"/>
                    <a:ext cx="444960" cy="3898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rot="20700000">
                    <a:off x="4419720" y="2260080"/>
                    <a:ext cx="445680" cy="3898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rot="20700000">
                    <a:off x="4390920" y="2756880"/>
                    <a:ext cx="442080" cy="3906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4237560" y="2335680"/>
                    <a:ext cx="1106640" cy="79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7" h="1241">
                        <a:moveTo>
                          <a:pt x="300" y="77"/>
                        </a:moveTo>
                        <a:lnTo>
                          <a:pt x="656" y="143"/>
                        </a:lnTo>
                        <a:lnTo>
                          <a:pt x="1026" y="0"/>
                        </a:lnTo>
                        <a:lnTo>
                          <a:pt x="1348" y="231"/>
                        </a:lnTo>
                        <a:lnTo>
                          <a:pt x="1418" y="234"/>
                        </a:lnTo>
                        <a:lnTo>
                          <a:pt x="1614" y="282"/>
                        </a:lnTo>
                        <a:lnTo>
                          <a:pt x="1678" y="345"/>
                        </a:lnTo>
                        <a:lnTo>
                          <a:pt x="1826" y="455"/>
                        </a:lnTo>
                        <a:lnTo>
                          <a:pt x="1817" y="502"/>
                        </a:lnTo>
                        <a:lnTo>
                          <a:pt x="1657" y="981"/>
                        </a:lnTo>
                        <a:lnTo>
                          <a:pt x="1485" y="1083"/>
                        </a:lnTo>
                        <a:lnTo>
                          <a:pt x="868" y="1205"/>
                        </a:lnTo>
                        <a:lnTo>
                          <a:pt x="807" y="1152"/>
                        </a:lnTo>
                        <a:lnTo>
                          <a:pt x="388" y="1189"/>
                        </a:lnTo>
                        <a:lnTo>
                          <a:pt x="321" y="1240"/>
                        </a:lnTo>
                        <a:lnTo>
                          <a:pt x="0" y="612"/>
                        </a:lnTo>
                        <a:lnTo>
                          <a:pt x="300" y="77"/>
                        </a:lnTo>
                      </a:path>
                    </a:pathLst>
                  </a:custGeom>
                  <a:solidFill>
                    <a:srgbClr val="5686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98" name=""/>
              <p:cNvSpPr/>
              <p:nvPr/>
            </p:nvSpPr>
            <p:spPr>
              <a:xfrm>
                <a:off x="4091760" y="2484360"/>
                <a:ext cx="12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9" name=""/>
          <p:cNvGrpSpPr/>
          <p:nvPr/>
        </p:nvGrpSpPr>
        <p:grpSpPr>
          <a:xfrm>
            <a:off x="913320" y="2819160"/>
            <a:ext cx="2596320" cy="1465920"/>
            <a:chOff x="913320" y="2819160"/>
            <a:chExt cx="2596320" cy="1465920"/>
          </a:xfrm>
        </p:grpSpPr>
        <p:sp>
          <p:nvSpPr>
            <p:cNvPr id="1800" name=""/>
            <p:cNvSpPr/>
            <p:nvPr/>
          </p:nvSpPr>
          <p:spPr>
            <a:xfrm>
              <a:off x="913320" y="3886200"/>
              <a:ext cx="259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pnet IP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cím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(IP4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1600200" y="2819160"/>
              <a:ext cx="838080" cy="106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2512440" y="2971800"/>
            <a:ext cx="2836800" cy="867240"/>
            <a:chOff x="2512440" y="2971800"/>
            <a:chExt cx="2836800" cy="867240"/>
          </a:xfrm>
        </p:grpSpPr>
        <p:sp>
          <p:nvSpPr>
            <p:cNvPr id="1803" name=""/>
            <p:cNvSpPr/>
            <p:nvPr/>
          </p:nvSpPr>
          <p:spPr>
            <a:xfrm>
              <a:off x="2512440" y="3440160"/>
              <a:ext cx="283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Arial"/>
                </a:rPr>
                <a:t>Internetes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IP </a:t>
              </a:r>
              <a:r>
                <a:rPr b="1" lang="hu-HU" sz="2000" spc="-1" strike="noStrike">
                  <a:solidFill>
                    <a:srgbClr val="ffff00"/>
                  </a:solidFill>
                  <a:latin typeface="Arial"/>
                </a:rPr>
                <a:t>cím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(IP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2606400" y="2971800"/>
              <a:ext cx="152280" cy="53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6234120" y="3276720"/>
            <a:ext cx="2178000" cy="410040"/>
            <a:chOff x="6234120" y="3276720"/>
            <a:chExt cx="2178000" cy="410040"/>
          </a:xfrm>
        </p:grpSpPr>
        <p:sp>
          <p:nvSpPr>
            <p:cNvPr id="1806" name=""/>
            <p:cNvSpPr/>
            <p:nvPr/>
          </p:nvSpPr>
          <p:spPr>
            <a:xfrm>
              <a:off x="6234120" y="328788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P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850520" y="327672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P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VPN lehetősége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102120" y="6081840"/>
            <a:ext cx="4190760" cy="325440"/>
          </a:xfrm>
          <a:custGeom>
            <a:avLst/>
            <a:gdLst/>
            <a:ahLst/>
            <a:rect l="l" t="t" r="r" b="b"/>
            <a:pathLst>
              <a:path w="2640" h="205">
                <a:moveTo>
                  <a:pt x="0" y="205"/>
                </a:moveTo>
                <a:lnTo>
                  <a:pt x="909" y="0"/>
                </a:lnTo>
                <a:lnTo>
                  <a:pt x="1792" y="0"/>
                </a:lnTo>
                <a:lnTo>
                  <a:pt x="2640" y="12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102120" y="5415120"/>
            <a:ext cx="3348000" cy="938160"/>
          </a:xfrm>
          <a:custGeom>
            <a:avLst/>
            <a:gdLst/>
            <a:ahLst/>
            <a:rect l="l" t="t" r="r" b="b"/>
            <a:pathLst>
              <a:path w="2109" h="591">
                <a:moveTo>
                  <a:pt x="0" y="591"/>
                </a:moveTo>
                <a:lnTo>
                  <a:pt x="1037" y="334"/>
                </a:lnTo>
                <a:lnTo>
                  <a:pt x="2109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75120" y="5483160"/>
            <a:ext cx="1538280" cy="747720"/>
          </a:xfrm>
          <a:custGeom>
            <a:avLst/>
            <a:gdLst/>
            <a:ahLst/>
            <a:rect l="l" t="t" r="r" b="b"/>
            <a:pathLst>
              <a:path w="969" h="471">
                <a:moveTo>
                  <a:pt x="0" y="471"/>
                </a:moveTo>
                <a:lnTo>
                  <a:pt x="969" y="265"/>
                </a:lnTo>
                <a:lnTo>
                  <a:pt x="626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2097000" y="4035600"/>
            <a:ext cx="4633920" cy="389880"/>
            <a:chOff x="2097000" y="4035600"/>
            <a:chExt cx="4633920" cy="389880"/>
          </a:xfrm>
        </p:grpSpPr>
        <p:sp>
          <p:nvSpPr>
            <p:cNvPr id="1813" name=""/>
            <p:cNvSpPr/>
            <p:nvPr/>
          </p:nvSpPr>
          <p:spPr>
            <a:xfrm>
              <a:off x="6416280" y="4040280"/>
              <a:ext cx="314640" cy="370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4" name=""/>
            <p:cNvGrpSpPr/>
            <p:nvPr/>
          </p:nvGrpSpPr>
          <p:grpSpPr>
            <a:xfrm>
              <a:off x="2097000" y="4035600"/>
              <a:ext cx="4389120" cy="389880"/>
              <a:chOff x="2097000" y="4035600"/>
              <a:chExt cx="4389120" cy="389880"/>
            </a:xfrm>
          </p:grpSpPr>
          <p:sp>
            <p:nvSpPr>
              <p:cNvPr id="1815" name=""/>
              <p:cNvSpPr/>
              <p:nvPr/>
            </p:nvSpPr>
            <p:spPr>
              <a:xfrm>
                <a:off x="2097000" y="4044960"/>
                <a:ext cx="680760" cy="36612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16" name=""/>
              <p:cNvGrpSpPr/>
              <p:nvPr/>
            </p:nvGrpSpPr>
            <p:grpSpPr>
              <a:xfrm>
                <a:off x="2630160" y="4035600"/>
                <a:ext cx="3855960" cy="389880"/>
                <a:chOff x="2630160" y="4035600"/>
                <a:chExt cx="3855960" cy="38988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6340320" y="4035600"/>
                  <a:ext cx="145800" cy="3808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2715840" y="4044960"/>
                  <a:ext cx="3683160" cy="377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2630160" y="4044960"/>
                  <a:ext cx="146160" cy="3805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0" name=""/>
          <p:cNvSpPr/>
          <p:nvPr/>
        </p:nvSpPr>
        <p:spPr>
          <a:xfrm>
            <a:off x="297360" y="5408640"/>
            <a:ext cx="213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ont-p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apcsolat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égen belü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2481120" y="4997520"/>
            <a:ext cx="5492880" cy="1682640"/>
            <a:chOff x="2481120" y="4997520"/>
            <a:chExt cx="5492880" cy="1682640"/>
          </a:xfrm>
        </p:grpSpPr>
        <p:grpSp>
          <p:nvGrpSpPr>
            <p:cNvPr id="1822" name=""/>
            <p:cNvGrpSpPr/>
            <p:nvPr/>
          </p:nvGrpSpPr>
          <p:grpSpPr>
            <a:xfrm>
              <a:off x="4316400" y="5214240"/>
              <a:ext cx="1724400" cy="1451880"/>
              <a:chOff x="4316400" y="5214240"/>
              <a:chExt cx="1724400" cy="1451880"/>
            </a:xfrm>
          </p:grpSpPr>
          <p:sp>
            <p:nvSpPr>
              <p:cNvPr id="1823" name=""/>
              <p:cNvSpPr/>
              <p:nvPr/>
            </p:nvSpPr>
            <p:spPr>
              <a:xfrm rot="20700000">
                <a:off x="5092560" y="6333480"/>
                <a:ext cx="263520" cy="2991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20700000">
                <a:off x="4885200" y="5243400"/>
                <a:ext cx="266040" cy="299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20700000">
                <a:off x="4530600" y="5451840"/>
                <a:ext cx="160920" cy="18432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20700000">
                <a:off x="4560120" y="6180120"/>
                <a:ext cx="160200" cy="1760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20700000">
                <a:off x="4413960" y="5915520"/>
                <a:ext cx="264240" cy="290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20700000">
                <a:off x="4681440" y="5319000"/>
                <a:ext cx="265320" cy="2973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20700000">
                <a:off x="5739120" y="6023880"/>
                <a:ext cx="267480" cy="2984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20700000">
                <a:off x="5546520" y="6157800"/>
                <a:ext cx="267480" cy="3034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4316400" y="5225040"/>
                <a:ext cx="1701360" cy="1441080"/>
                <a:chOff x="4316400" y="5225040"/>
                <a:chExt cx="1701360" cy="1441080"/>
              </a:xfrm>
            </p:grpSpPr>
            <p:sp>
              <p:nvSpPr>
                <p:cNvPr id="1832" name=""/>
                <p:cNvSpPr/>
                <p:nvPr/>
              </p:nvSpPr>
              <p:spPr>
                <a:xfrm rot="20700000">
                  <a:off x="4377960" y="5579280"/>
                  <a:ext cx="475920" cy="541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3" name=""/>
                <p:cNvGrpSpPr/>
                <p:nvPr/>
              </p:nvGrpSpPr>
              <p:grpSpPr>
                <a:xfrm>
                  <a:off x="4472280" y="5459040"/>
                  <a:ext cx="1124280" cy="1207080"/>
                  <a:chOff x="4472280" y="5459040"/>
                  <a:chExt cx="1124280" cy="1207080"/>
                </a:xfrm>
              </p:grpSpPr>
              <p:sp>
                <p:nvSpPr>
                  <p:cNvPr id="1834" name=""/>
                  <p:cNvSpPr/>
                  <p:nvPr/>
                </p:nvSpPr>
                <p:spPr>
                  <a:xfrm rot="20700000">
                    <a:off x="4587480" y="5557320"/>
                    <a:ext cx="893160" cy="1010520"/>
                  </a:xfrm>
                  <a:prstGeom prst="ellipse">
                    <a:avLst/>
                  </a:prstGeom>
                  <a:solidFill>
                    <a:srgbClr val="99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4550760" y="5805360"/>
                    <a:ext cx="13824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99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6" name=""/>
                <p:cNvSpPr/>
                <p:nvPr/>
              </p:nvSpPr>
              <p:spPr>
                <a:xfrm rot="20700000">
                  <a:off x="4914720" y="5551560"/>
                  <a:ext cx="893880" cy="10108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rot="20700000">
                  <a:off x="5655960" y="5551560"/>
                  <a:ext cx="320040" cy="3618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rot="20700000">
                  <a:off x="5646600" y="6127560"/>
                  <a:ext cx="212040" cy="244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20700000">
                  <a:off x="5527800" y="5500080"/>
                  <a:ext cx="212760" cy="23544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rot="20700000">
                  <a:off x="5650200" y="5805000"/>
                  <a:ext cx="321120" cy="35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rot="20700000">
                  <a:off x="4609800" y="5370480"/>
                  <a:ext cx="47700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rot="20700000">
                  <a:off x="5087520" y="5313600"/>
                  <a:ext cx="477000" cy="53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20700000">
                  <a:off x="4862160" y="5277240"/>
                  <a:ext cx="47772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20700000">
                  <a:off x="4830840" y="5963040"/>
                  <a:ext cx="473760" cy="5382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666320" y="5382000"/>
                  <a:ext cx="1186200" cy="109872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846" name="" descr=""/>
            <p:cNvPicPr/>
            <p:nvPr/>
          </p:nvPicPr>
          <p:blipFill>
            <a:blip r:embed="rId2"/>
            <a:stretch/>
          </p:blipFill>
          <p:spPr>
            <a:xfrm>
              <a:off x="7112160" y="5910120"/>
              <a:ext cx="8618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3"/>
            <a:stretch/>
          </p:blipFill>
          <p:spPr>
            <a:xfrm>
              <a:off x="2481120" y="6070680"/>
              <a:ext cx="8622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8" name=""/>
            <p:cNvGrpSpPr/>
            <p:nvPr/>
          </p:nvGrpSpPr>
          <p:grpSpPr>
            <a:xfrm>
              <a:off x="6353280" y="5062680"/>
              <a:ext cx="690480" cy="750240"/>
              <a:chOff x="6353280" y="5062680"/>
              <a:chExt cx="690480" cy="750240"/>
            </a:xfrm>
          </p:grpSpPr>
          <p:sp>
            <p:nvSpPr>
              <p:cNvPr id="1849" name=""/>
              <p:cNvSpPr/>
              <p:nvPr/>
            </p:nvSpPr>
            <p:spPr>
              <a:xfrm>
                <a:off x="6593040" y="50860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610320" y="54687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10320" y="5219640"/>
                <a:ext cx="254160" cy="2077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353280" y="5064120"/>
                <a:ext cx="539640" cy="29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353280" y="5064120"/>
                <a:ext cx="241200" cy="74880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566040" y="50893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610320" y="52178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610320" y="5178240"/>
                <a:ext cx="266760" cy="4248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610320" y="51130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353280" y="5062680"/>
                <a:ext cx="539640" cy="31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591240" y="50860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353280" y="5064120"/>
                <a:ext cx="239760" cy="74880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566040" y="5091120"/>
                <a:ext cx="0" cy="70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566040" y="510048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566040" y="515304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610320" y="51130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566040" y="516888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66040" y="521784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566040" y="54165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610320" y="52290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875640" y="5219640"/>
                <a:ext cx="0" cy="19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610320" y="5219640"/>
                <a:ext cx="254160" cy="20592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862680" y="54115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6609960" y="5284800"/>
                <a:ext cx="25236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6609960" y="5351400"/>
                <a:ext cx="2523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566040" y="54687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566040" y="57481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610320" y="54846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875640" y="54687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610320" y="57290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610320" y="57164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610320" y="5705280"/>
                <a:ext cx="266760" cy="31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610320" y="5692680"/>
                <a:ext cx="266760" cy="2808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610320" y="56782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610320" y="5114880"/>
                <a:ext cx="254160" cy="3276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62680" y="5138640"/>
                <a:ext cx="12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672240" y="5178240"/>
                <a:ext cx="142920" cy="4248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610320" y="51782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610320" y="5195880"/>
                <a:ext cx="204840" cy="2664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6813720" y="5199120"/>
                <a:ext cx="619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813720" y="51782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623280" y="513072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659640" y="51289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696000" y="51289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734160" y="51289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772320" y="512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807240" y="5124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845400" y="5124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850080" y="5219640"/>
                <a:ext cx="27000" cy="19332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891480" y="57099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3567240" y="4997520"/>
              <a:ext cx="690480" cy="750960"/>
              <a:chOff x="3567240" y="4997520"/>
              <a:chExt cx="690480" cy="750960"/>
            </a:xfrm>
          </p:grpSpPr>
          <p:sp>
            <p:nvSpPr>
              <p:cNvPr id="1900" name=""/>
              <p:cNvSpPr/>
              <p:nvPr/>
            </p:nvSpPr>
            <p:spPr>
              <a:xfrm>
                <a:off x="3807000" y="502128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824280" y="540396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824280" y="515484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567240" y="499932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567240" y="499932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780000" y="502452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824280" y="515304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824280" y="51134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824280" y="504828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567240" y="49975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805200" y="502128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567240" y="499932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780000" y="502632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780000" y="5035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780000" y="50882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824280" y="504828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780000" y="51040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780000" y="51530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780000" y="53517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824280" y="51642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089600" y="515484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24280" y="515484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076640" y="534672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3823920" y="522000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3823920" y="528660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780000" y="54039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780000" y="568332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824280" y="54198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89600" y="54039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824280" y="566424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824280" y="565164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824280" y="56404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824280" y="562788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824280" y="561348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824280" y="505008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076640" y="507384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886200" y="51134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824280" y="511344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824280" y="513108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4027680" y="513432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027680" y="511344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837240" y="50659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873600" y="506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909960" y="506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948120" y="506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986280" y="506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021200" y="5059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059360" y="5059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064040" y="515484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105440" y="564516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0" name=""/>
            <p:cNvSpPr/>
            <p:nvPr/>
          </p:nvSpPr>
          <p:spPr>
            <a:xfrm>
              <a:off x="4557240" y="569736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tra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1" name=""/>
          <p:cNvSpPr/>
          <p:nvPr/>
        </p:nvSpPr>
        <p:spPr>
          <a:xfrm>
            <a:off x="6832440" y="4249800"/>
            <a:ext cx="16336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2179800" y="4043520"/>
            <a:ext cx="4622760" cy="381960"/>
            <a:chOff x="2179800" y="4043520"/>
            <a:chExt cx="4622760" cy="381960"/>
          </a:xfrm>
        </p:grpSpPr>
        <p:grpSp>
          <p:nvGrpSpPr>
            <p:cNvPr id="1953" name=""/>
            <p:cNvGrpSpPr/>
            <p:nvPr/>
          </p:nvGrpSpPr>
          <p:grpSpPr>
            <a:xfrm>
              <a:off x="2179800" y="4125960"/>
              <a:ext cx="4622760" cy="218520"/>
              <a:chOff x="2179800" y="4125960"/>
              <a:chExt cx="4622760" cy="218520"/>
            </a:xfrm>
          </p:grpSpPr>
          <p:sp>
            <p:nvSpPr>
              <p:cNvPr id="1954" name=""/>
              <p:cNvSpPr/>
              <p:nvPr/>
            </p:nvSpPr>
            <p:spPr>
              <a:xfrm>
                <a:off x="6554880" y="4134960"/>
                <a:ext cx="247680" cy="195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55" name=""/>
              <p:cNvGrpSpPr/>
              <p:nvPr/>
            </p:nvGrpSpPr>
            <p:grpSpPr>
              <a:xfrm>
                <a:off x="2179800" y="4125960"/>
                <a:ext cx="4460760" cy="218520"/>
                <a:chOff x="2179800" y="4125960"/>
                <a:chExt cx="4460760" cy="2185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2179800" y="4125960"/>
                  <a:ext cx="488880" cy="218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7" name=""/>
                <p:cNvGrpSpPr/>
                <p:nvPr/>
              </p:nvGrpSpPr>
              <p:grpSpPr>
                <a:xfrm>
                  <a:off x="2557440" y="4133520"/>
                  <a:ext cx="4083120" cy="204120"/>
                  <a:chOff x="2557440" y="4133520"/>
                  <a:chExt cx="4083120" cy="20412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>
                    <a:off x="6494400" y="4133520"/>
                    <a:ext cx="146160" cy="198000"/>
                  </a:xfrm>
                  <a:prstGeom prst="ellipse">
                    <a:avLst/>
                  </a:prstGeom>
                  <a:solidFill>
                    <a:srgbClr val="eea564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2643480" y="4134600"/>
                    <a:ext cx="3921120" cy="193320"/>
                  </a:xfrm>
                  <a:prstGeom prst="rect">
                    <a:avLst/>
                  </a:prstGeom>
                  <a:solidFill>
                    <a:srgbClr val="eea56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2557440" y="4139280"/>
                    <a:ext cx="146160" cy="198360"/>
                  </a:xfrm>
                  <a:prstGeom prst="ellipse">
                    <a:avLst/>
                  </a:prstGeom>
                  <a:solidFill>
                    <a:srgbClr val="eea564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61" name=""/>
            <p:cNvGrpSpPr/>
            <p:nvPr/>
          </p:nvGrpSpPr>
          <p:grpSpPr>
            <a:xfrm>
              <a:off x="2705040" y="4043520"/>
              <a:ext cx="3773520" cy="381960"/>
              <a:chOff x="2705040" y="4043520"/>
              <a:chExt cx="3773520" cy="381960"/>
            </a:xfrm>
          </p:grpSpPr>
          <p:sp>
            <p:nvSpPr>
              <p:cNvPr id="1962" name=""/>
              <p:cNvSpPr/>
              <p:nvPr/>
            </p:nvSpPr>
            <p:spPr>
              <a:xfrm>
                <a:off x="2781360" y="4043520"/>
                <a:ext cx="3614760" cy="37764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705040" y="4047840"/>
                <a:ext cx="76320" cy="375840"/>
              </a:xfrm>
              <a:custGeom>
                <a:avLst/>
                <a:gdLst/>
                <a:ahLst/>
                <a:rect l="l" t="t" r="r" b="b"/>
                <a:pathLst>
                  <a:path w="48" h="237">
                    <a:moveTo>
                      <a:pt x="0" y="1"/>
                    </a:moveTo>
                    <a:cubicBezTo>
                      <a:pt x="6" y="0"/>
                      <a:pt x="12" y="0"/>
                      <a:pt x="18" y="9"/>
                    </a:cubicBezTo>
                    <a:cubicBezTo>
                      <a:pt x="24" y="18"/>
                      <a:pt x="32" y="37"/>
                      <a:pt x="37" y="55"/>
                    </a:cubicBezTo>
                    <a:cubicBezTo>
                      <a:pt x="42" y="73"/>
                      <a:pt x="44" y="101"/>
                      <a:pt x="46" y="118"/>
                    </a:cubicBezTo>
                    <a:cubicBezTo>
                      <a:pt x="48" y="135"/>
                      <a:pt x="48" y="145"/>
                      <a:pt x="46" y="157"/>
                    </a:cubicBezTo>
                    <a:cubicBezTo>
                      <a:pt x="44" y="169"/>
                      <a:pt x="40" y="182"/>
                      <a:pt x="37" y="192"/>
                    </a:cubicBezTo>
                    <a:cubicBezTo>
                      <a:pt x="34" y="202"/>
                      <a:pt x="32" y="209"/>
                      <a:pt x="27" y="216"/>
                    </a:cubicBezTo>
                    <a:cubicBezTo>
                      <a:pt x="22" y="223"/>
                      <a:pt x="12" y="233"/>
                      <a:pt x="7" y="237"/>
                    </a:cubicBezTo>
                  </a:path>
                </a:pathLst>
              </a:custGeom>
              <a:noFill/>
              <a:ln w="936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332760" y="4044960"/>
                <a:ext cx="145800" cy="38052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5" name=""/>
          <p:cNvGrpSpPr/>
          <p:nvPr/>
        </p:nvGrpSpPr>
        <p:grpSpPr>
          <a:xfrm>
            <a:off x="2114640" y="4038480"/>
            <a:ext cx="4643280" cy="382680"/>
            <a:chOff x="2114640" y="4038480"/>
            <a:chExt cx="4643280" cy="382680"/>
          </a:xfrm>
        </p:grpSpPr>
        <p:sp>
          <p:nvSpPr>
            <p:cNvPr id="1966" name=""/>
            <p:cNvSpPr/>
            <p:nvPr/>
          </p:nvSpPr>
          <p:spPr>
            <a:xfrm>
              <a:off x="2114640" y="4249800"/>
              <a:ext cx="464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700360" y="4038480"/>
              <a:ext cx="3773520" cy="382680"/>
              <a:chOff x="2700360" y="4038480"/>
              <a:chExt cx="3773520" cy="382680"/>
            </a:xfrm>
          </p:grpSpPr>
          <p:sp>
            <p:nvSpPr>
              <p:cNvPr id="1968" name=""/>
              <p:cNvSpPr/>
              <p:nvPr/>
            </p:nvSpPr>
            <p:spPr>
              <a:xfrm>
                <a:off x="2776680" y="4038480"/>
                <a:ext cx="3614760" cy="37800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700360" y="4043160"/>
                <a:ext cx="76320" cy="376200"/>
              </a:xfrm>
              <a:custGeom>
                <a:avLst/>
                <a:gdLst/>
                <a:ahLst/>
                <a:rect l="l" t="t" r="r" b="b"/>
                <a:pathLst>
                  <a:path w="48" h="237">
                    <a:moveTo>
                      <a:pt x="0" y="1"/>
                    </a:moveTo>
                    <a:cubicBezTo>
                      <a:pt x="6" y="0"/>
                      <a:pt x="12" y="0"/>
                      <a:pt x="18" y="9"/>
                    </a:cubicBezTo>
                    <a:cubicBezTo>
                      <a:pt x="24" y="18"/>
                      <a:pt x="32" y="37"/>
                      <a:pt x="37" y="55"/>
                    </a:cubicBezTo>
                    <a:cubicBezTo>
                      <a:pt x="42" y="73"/>
                      <a:pt x="44" y="101"/>
                      <a:pt x="46" y="118"/>
                    </a:cubicBezTo>
                    <a:cubicBezTo>
                      <a:pt x="48" y="135"/>
                      <a:pt x="48" y="145"/>
                      <a:pt x="46" y="157"/>
                    </a:cubicBezTo>
                    <a:cubicBezTo>
                      <a:pt x="44" y="169"/>
                      <a:pt x="40" y="182"/>
                      <a:pt x="37" y="192"/>
                    </a:cubicBezTo>
                    <a:cubicBezTo>
                      <a:pt x="34" y="202"/>
                      <a:pt x="32" y="209"/>
                      <a:pt x="27" y="216"/>
                    </a:cubicBezTo>
                    <a:cubicBezTo>
                      <a:pt x="22" y="223"/>
                      <a:pt x="12" y="233"/>
                      <a:pt x="7" y="23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28080" y="4040280"/>
                <a:ext cx="145800" cy="3808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1" name=""/>
          <p:cNvSpPr/>
          <p:nvPr/>
        </p:nvSpPr>
        <p:spPr>
          <a:xfrm>
            <a:off x="971640" y="4253040"/>
            <a:ext cx="12096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296280" y="3214800"/>
            <a:ext cx="8668440" cy="1620000"/>
            <a:chOff x="296280" y="3214800"/>
            <a:chExt cx="8668440" cy="1620000"/>
          </a:xfrm>
        </p:grpSpPr>
        <p:sp>
          <p:nvSpPr>
            <p:cNvPr id="1973" name=""/>
            <p:cNvSpPr/>
            <p:nvPr/>
          </p:nvSpPr>
          <p:spPr>
            <a:xfrm>
              <a:off x="296280" y="32148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LAN - L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357120" y="3749760"/>
              <a:ext cx="8607600" cy="1085040"/>
              <a:chOff x="357120" y="3749760"/>
              <a:chExt cx="8607600" cy="10850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357120" y="3855960"/>
                <a:ext cx="8607600" cy="785880"/>
                <a:chOff x="357120" y="3855960"/>
                <a:chExt cx="8607600" cy="785880"/>
              </a:xfrm>
            </p:grpSpPr>
            <p:grpSp>
              <p:nvGrpSpPr>
                <p:cNvPr id="1976" name=""/>
                <p:cNvGrpSpPr/>
                <p:nvPr/>
              </p:nvGrpSpPr>
              <p:grpSpPr>
                <a:xfrm>
                  <a:off x="6691320" y="3890880"/>
                  <a:ext cx="690480" cy="750960"/>
                  <a:chOff x="6691320" y="3890880"/>
                  <a:chExt cx="690480" cy="750960"/>
                </a:xfrm>
              </p:grpSpPr>
              <p:sp>
                <p:nvSpPr>
                  <p:cNvPr id="1977" name=""/>
                  <p:cNvSpPr/>
                  <p:nvPr/>
                </p:nvSpPr>
                <p:spPr>
                  <a:xfrm>
                    <a:off x="6931080" y="3914640"/>
                    <a:ext cx="2998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6948360" y="4297320"/>
                    <a:ext cx="2667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6948360" y="4048200"/>
                    <a:ext cx="254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6691320" y="3892680"/>
                    <a:ext cx="539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6691320" y="3892680"/>
                    <a:ext cx="24120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6904080" y="3917880"/>
                    <a:ext cx="2844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6948360" y="4046400"/>
                    <a:ext cx="2667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6948360" y="4006800"/>
                    <a:ext cx="2667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6948360" y="394164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6691320" y="3890880"/>
                    <a:ext cx="539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6929280" y="3914640"/>
                    <a:ext cx="301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6691320" y="3892680"/>
                    <a:ext cx="23976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6904080" y="3919680"/>
                    <a:ext cx="0" cy="703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6904080" y="392904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6904080" y="39816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6948360" y="394164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6904080" y="399744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6904080" y="40464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6904080" y="42451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6948360" y="4057560"/>
                    <a:ext cx="0" cy="20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7213680" y="4048200"/>
                    <a:ext cx="0" cy="19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6948360" y="4048200"/>
                    <a:ext cx="25416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7200720" y="4240080"/>
                    <a:ext cx="1296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flipH="1">
                    <a:off x="6948000" y="4113360"/>
                    <a:ext cx="252360" cy="12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H="1">
                    <a:off x="6948000" y="4179960"/>
                    <a:ext cx="252360" cy="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6904080" y="42973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6904080" y="4576680"/>
                    <a:ext cx="326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6948360" y="4313160"/>
                    <a:ext cx="0" cy="29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7213680" y="4297320"/>
                    <a:ext cx="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6948360" y="455760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6948360" y="454500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6948360" y="4533840"/>
                    <a:ext cx="266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6948360" y="4521240"/>
                    <a:ext cx="266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6948360" y="4506840"/>
                    <a:ext cx="266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6948360" y="3943440"/>
                    <a:ext cx="254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7200720" y="3967200"/>
                    <a:ext cx="1296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7010280" y="4006800"/>
                    <a:ext cx="142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6948360" y="4006800"/>
                    <a:ext cx="266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6948360" y="4024440"/>
                    <a:ext cx="204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H="1">
                    <a:off x="7151760" y="4027680"/>
                    <a:ext cx="6192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7151760" y="400680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6961320" y="395928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6997680" y="3957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7034040" y="3957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7072200" y="3957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7110360" y="3956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7145280" y="39528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7183440" y="39528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7188120" y="4048200"/>
                    <a:ext cx="27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7229520" y="4538520"/>
                    <a:ext cx="1522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02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7120" y="3919680"/>
                  <a:ext cx="86220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8" name=""/>
                <p:cNvGrpSpPr/>
                <p:nvPr/>
              </p:nvGrpSpPr>
              <p:grpSpPr>
                <a:xfrm>
                  <a:off x="1662120" y="3855960"/>
                  <a:ext cx="690480" cy="750960"/>
                  <a:chOff x="1662120" y="3855960"/>
                  <a:chExt cx="690480" cy="750960"/>
                </a:xfrm>
              </p:grpSpPr>
              <p:sp>
                <p:nvSpPr>
                  <p:cNvPr id="2029" name=""/>
                  <p:cNvSpPr/>
                  <p:nvPr/>
                </p:nvSpPr>
                <p:spPr>
                  <a:xfrm>
                    <a:off x="1901880" y="3879720"/>
                    <a:ext cx="2998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1919160" y="4262400"/>
                    <a:ext cx="2667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1919160" y="4013280"/>
                    <a:ext cx="254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1662120" y="3857760"/>
                    <a:ext cx="539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1662120" y="3857760"/>
                    <a:ext cx="24120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1874880" y="3882960"/>
                    <a:ext cx="2844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1919160" y="4011480"/>
                    <a:ext cx="2667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1919160" y="3971880"/>
                    <a:ext cx="2667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1919160" y="390672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1662120" y="3855960"/>
                    <a:ext cx="539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1900080" y="3879720"/>
                    <a:ext cx="301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1662120" y="3857760"/>
                    <a:ext cx="23976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874880" y="3884760"/>
                    <a:ext cx="0" cy="703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1874880" y="38941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1874880" y="39466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1919160" y="390672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1874880" y="39625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1874880" y="40114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1874880" y="42102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1919160" y="4022640"/>
                    <a:ext cx="0" cy="20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2184480" y="4013280"/>
                    <a:ext cx="0" cy="19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1919160" y="4013280"/>
                    <a:ext cx="25416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2171520" y="4205160"/>
                    <a:ext cx="1296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 flipH="1">
                    <a:off x="1918800" y="4078440"/>
                    <a:ext cx="252360" cy="12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 flipH="1">
                    <a:off x="1918800" y="4145040"/>
                    <a:ext cx="252360" cy="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1874880" y="42624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1874880" y="4541760"/>
                    <a:ext cx="326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1919160" y="4278240"/>
                    <a:ext cx="0" cy="29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2184480" y="4262400"/>
                    <a:ext cx="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1919160" y="452268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1919160" y="451008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1919160" y="4498920"/>
                    <a:ext cx="266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1919160" y="4486320"/>
                    <a:ext cx="266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1919160" y="4471920"/>
                    <a:ext cx="266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1919160" y="3908520"/>
                    <a:ext cx="254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2171520" y="3932280"/>
                    <a:ext cx="1296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1981080" y="3971880"/>
                    <a:ext cx="142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1919160" y="3971880"/>
                    <a:ext cx="266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1919160" y="3989520"/>
                    <a:ext cx="204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 flipH="1">
                    <a:off x="2122560" y="3992760"/>
                    <a:ext cx="6192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2122560" y="39718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1932120" y="392436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>
                    <a:off x="1968480" y="3922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2004840" y="3922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2043000" y="3922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2081160" y="39211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2116080" y="39178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2154240" y="39178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2158920" y="4013280"/>
                    <a:ext cx="27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2200320" y="4503600"/>
                    <a:ext cx="1522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07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102520" y="3935520"/>
                  <a:ext cx="86220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80" name=""/>
              <p:cNvGrpSpPr/>
              <p:nvPr/>
            </p:nvGrpSpPr>
            <p:grpSpPr>
              <a:xfrm>
                <a:off x="4134960" y="3749760"/>
                <a:ext cx="1586160" cy="1085040"/>
                <a:chOff x="4134960" y="3749760"/>
                <a:chExt cx="1586160" cy="1085040"/>
              </a:xfrm>
            </p:grpSpPr>
            <p:grpSp>
              <p:nvGrpSpPr>
                <p:cNvPr id="2081" name=""/>
                <p:cNvGrpSpPr/>
                <p:nvPr/>
              </p:nvGrpSpPr>
              <p:grpSpPr>
                <a:xfrm>
                  <a:off x="4134960" y="3749760"/>
                  <a:ext cx="1586160" cy="1085040"/>
                  <a:chOff x="4134960" y="3749760"/>
                  <a:chExt cx="1586160" cy="1085040"/>
                </a:xfrm>
              </p:grpSpPr>
              <p:sp>
                <p:nvSpPr>
                  <p:cNvPr id="2082" name=""/>
                  <p:cNvSpPr/>
                  <p:nvPr/>
                </p:nvSpPr>
                <p:spPr>
                  <a:xfrm rot="20700000">
                    <a:off x="4844520" y="4569120"/>
                    <a:ext cx="245880" cy="2170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 rot="20700000">
                    <a:off x="4651200" y="3777840"/>
                    <a:ext cx="248040" cy="2174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 rot="20700000">
                    <a:off x="4320000" y="3929400"/>
                    <a:ext cx="150120" cy="1335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 rot="20700000">
                    <a:off x="4347720" y="4457880"/>
                    <a:ext cx="149400" cy="127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 rot="20700000">
                    <a:off x="4211280" y="4265280"/>
                    <a:ext cx="246240" cy="2109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 rot="20700000">
                    <a:off x="4460760" y="3832920"/>
                    <a:ext cx="247680" cy="2156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 rot="20700000">
                    <a:off x="5447520" y="4344840"/>
                    <a:ext cx="249480" cy="2163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 rot="20700000">
                    <a:off x="5267880" y="4441320"/>
                    <a:ext cx="249480" cy="220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90" name=""/>
                  <p:cNvGrpSpPr/>
                  <p:nvPr/>
                </p:nvGrpSpPr>
                <p:grpSpPr>
                  <a:xfrm>
                    <a:off x="4134960" y="3752280"/>
                    <a:ext cx="1562760" cy="1082520"/>
                    <a:chOff x="4134960" y="3752280"/>
                    <a:chExt cx="1562760" cy="1082520"/>
                  </a:xfrm>
                </p:grpSpPr>
                <p:sp>
                  <p:nvSpPr>
                    <p:cNvPr id="2091" name=""/>
                    <p:cNvSpPr/>
                    <p:nvPr/>
                  </p:nvSpPr>
                  <p:spPr>
                    <a:xfrm rot="20700000">
                      <a:off x="4178160" y="4021560"/>
                      <a:ext cx="443880" cy="3927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92" name=""/>
                    <p:cNvGrpSpPr/>
                    <p:nvPr/>
                  </p:nvGrpSpPr>
                  <p:grpSpPr>
                    <a:xfrm>
                      <a:off x="4293000" y="3910680"/>
                      <a:ext cx="994680" cy="924120"/>
                      <a:chOff x="4293000" y="3910680"/>
                      <a:chExt cx="994680" cy="924120"/>
                    </a:xfrm>
                  </p:grpSpPr>
                  <p:sp>
                    <p:nvSpPr>
                      <p:cNvPr id="2093" name=""/>
                      <p:cNvSpPr/>
                      <p:nvPr/>
                    </p:nvSpPr>
                    <p:spPr>
                      <a:xfrm rot="20700000">
                        <a:off x="4373640" y="4005720"/>
                        <a:ext cx="833400" cy="7333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4" name=""/>
                      <p:cNvSpPr/>
                      <p:nvPr/>
                    </p:nvSpPr>
                    <p:spPr>
                      <a:xfrm>
                        <a:off x="4339080" y="4186080"/>
                        <a:ext cx="128880" cy="20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95" name=""/>
                    <p:cNvSpPr/>
                    <p:nvPr/>
                  </p:nvSpPr>
                  <p:spPr>
                    <a:xfrm rot="20700000">
                      <a:off x="4678560" y="4001760"/>
                      <a:ext cx="834120" cy="7336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6" name=""/>
                    <p:cNvSpPr/>
                    <p:nvPr/>
                  </p:nvSpPr>
                  <p:spPr>
                    <a:xfrm rot="20700000">
                      <a:off x="5370120" y="4002120"/>
                      <a:ext cx="298440" cy="262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7" name=""/>
                    <p:cNvSpPr/>
                    <p:nvPr/>
                  </p:nvSpPr>
                  <p:spPr>
                    <a:xfrm rot="20700000">
                      <a:off x="5361840" y="4420080"/>
                      <a:ext cx="198000" cy="1771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8" name=""/>
                    <p:cNvSpPr/>
                    <p:nvPr/>
                  </p:nvSpPr>
                  <p:spPr>
                    <a:xfrm rot="20700000">
                      <a:off x="5250600" y="3964320"/>
                      <a:ext cx="198360" cy="170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9" name=""/>
                    <p:cNvSpPr/>
                    <p:nvPr/>
                  </p:nvSpPr>
                  <p:spPr>
                    <a:xfrm rot="20700000">
                      <a:off x="5364720" y="4185720"/>
                      <a:ext cx="299880" cy="259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0" name=""/>
                    <p:cNvSpPr/>
                    <p:nvPr/>
                  </p:nvSpPr>
                  <p:spPr>
                    <a:xfrm rot="20700000">
                      <a:off x="4394520" y="387000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1" name=""/>
                    <p:cNvSpPr/>
                    <p:nvPr/>
                  </p:nvSpPr>
                  <p:spPr>
                    <a:xfrm rot="20700000">
                      <a:off x="4840200" y="382860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2" name=""/>
                    <p:cNvSpPr/>
                    <p:nvPr/>
                  </p:nvSpPr>
                  <p:spPr>
                    <a:xfrm rot="20700000">
                      <a:off x="4629240" y="3803040"/>
                      <a:ext cx="44568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"/>
                    <p:cNvSpPr/>
                    <p:nvPr/>
                  </p:nvSpPr>
                  <p:spPr>
                    <a:xfrm rot="20700000">
                      <a:off x="4600440" y="4299840"/>
                      <a:ext cx="442080" cy="3906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4" name=""/>
                    <p:cNvSpPr/>
                    <p:nvPr/>
                  </p:nvSpPr>
                  <p:spPr>
                    <a:xfrm>
                      <a:off x="4447080" y="3878640"/>
                      <a:ext cx="1106640" cy="79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05" name=""/>
                <p:cNvSpPr/>
                <p:nvPr/>
              </p:nvSpPr>
              <p:spPr>
                <a:xfrm>
                  <a:off x="4301640" y="4027320"/>
                  <a:ext cx="129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06" name=""/>
          <p:cNvGrpSpPr/>
          <p:nvPr/>
        </p:nvGrpSpPr>
        <p:grpSpPr>
          <a:xfrm>
            <a:off x="295560" y="1592280"/>
            <a:ext cx="8573760" cy="1699560"/>
            <a:chOff x="295560" y="1592280"/>
            <a:chExt cx="8573760" cy="1699560"/>
          </a:xfrm>
        </p:grpSpPr>
        <p:sp>
          <p:nvSpPr>
            <p:cNvPr id="2107" name=""/>
            <p:cNvSpPr/>
            <p:nvPr/>
          </p:nvSpPr>
          <p:spPr>
            <a:xfrm>
              <a:off x="295560" y="159228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Host - L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8" name=""/>
            <p:cNvGrpSpPr/>
            <p:nvPr/>
          </p:nvGrpSpPr>
          <p:grpSpPr>
            <a:xfrm>
              <a:off x="770040" y="2155680"/>
              <a:ext cx="8099280" cy="1136160"/>
              <a:chOff x="770040" y="2155680"/>
              <a:chExt cx="8099280" cy="1136160"/>
            </a:xfrm>
          </p:grpSpPr>
          <p:grpSp>
            <p:nvGrpSpPr>
              <p:cNvPr id="2109" name=""/>
              <p:cNvGrpSpPr/>
              <p:nvPr/>
            </p:nvGrpSpPr>
            <p:grpSpPr>
              <a:xfrm>
                <a:off x="1986120" y="2562120"/>
                <a:ext cx="4633920" cy="390600"/>
                <a:chOff x="1986120" y="2562120"/>
                <a:chExt cx="4633920" cy="39060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6305400" y="2567160"/>
                  <a:ext cx="314640" cy="3711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1" name=""/>
                <p:cNvGrpSpPr/>
                <p:nvPr/>
              </p:nvGrpSpPr>
              <p:grpSpPr>
                <a:xfrm>
                  <a:off x="1986120" y="2562120"/>
                  <a:ext cx="4389120" cy="390600"/>
                  <a:chOff x="1986120" y="2562120"/>
                  <a:chExt cx="4389120" cy="390600"/>
                </a:xfrm>
              </p:grpSpPr>
              <p:sp>
                <p:nvSpPr>
                  <p:cNvPr id="2112" name=""/>
                  <p:cNvSpPr/>
                  <p:nvPr/>
                </p:nvSpPr>
                <p:spPr>
                  <a:xfrm>
                    <a:off x="1986120" y="2571840"/>
                    <a:ext cx="680760" cy="36648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3" name=""/>
                  <p:cNvGrpSpPr/>
                  <p:nvPr/>
                </p:nvGrpSpPr>
                <p:grpSpPr>
                  <a:xfrm>
                    <a:off x="2519280" y="2562120"/>
                    <a:ext cx="3855960" cy="390600"/>
                    <a:chOff x="2519280" y="2562120"/>
                    <a:chExt cx="3855960" cy="390600"/>
                  </a:xfrm>
                </p:grpSpPr>
                <p:sp>
                  <p:nvSpPr>
                    <p:cNvPr id="2114" name=""/>
                    <p:cNvSpPr/>
                    <p:nvPr/>
                  </p:nvSpPr>
                  <p:spPr>
                    <a:xfrm>
                      <a:off x="6229440" y="2562120"/>
                      <a:ext cx="145800" cy="3812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30517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5" name=""/>
                    <p:cNvSpPr/>
                    <p:nvPr/>
                  </p:nvSpPr>
                  <p:spPr>
                    <a:xfrm>
                      <a:off x="2604960" y="2571840"/>
                      <a:ext cx="3683160" cy="377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6" name=""/>
                    <p:cNvSpPr/>
                    <p:nvPr/>
                  </p:nvSpPr>
                  <p:spPr>
                    <a:xfrm>
                      <a:off x="2519280" y="2571840"/>
                      <a:ext cx="146160" cy="38088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30517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17" name=""/>
              <p:cNvSpPr/>
              <p:nvPr/>
            </p:nvSpPr>
            <p:spPr>
              <a:xfrm>
                <a:off x="6721560" y="2776680"/>
                <a:ext cx="16333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8" name=""/>
              <p:cNvGrpSpPr/>
              <p:nvPr/>
            </p:nvGrpSpPr>
            <p:grpSpPr>
              <a:xfrm>
                <a:off x="2068560" y="2570040"/>
                <a:ext cx="4622760" cy="382680"/>
                <a:chOff x="2068560" y="2570040"/>
                <a:chExt cx="4622760" cy="382680"/>
              </a:xfrm>
            </p:grpSpPr>
            <p:grpSp>
              <p:nvGrpSpPr>
                <p:cNvPr id="2119" name=""/>
                <p:cNvGrpSpPr/>
                <p:nvPr/>
              </p:nvGrpSpPr>
              <p:grpSpPr>
                <a:xfrm>
                  <a:off x="2068560" y="2652840"/>
                  <a:ext cx="4622760" cy="218880"/>
                  <a:chOff x="2068560" y="2652840"/>
                  <a:chExt cx="4622760" cy="218880"/>
                </a:xfrm>
              </p:grpSpPr>
              <p:sp>
                <p:nvSpPr>
                  <p:cNvPr id="2120" name=""/>
                  <p:cNvSpPr/>
                  <p:nvPr/>
                </p:nvSpPr>
                <p:spPr>
                  <a:xfrm>
                    <a:off x="6443640" y="2662200"/>
                    <a:ext cx="247680" cy="1954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1" name=""/>
                  <p:cNvGrpSpPr/>
                  <p:nvPr/>
                </p:nvGrpSpPr>
                <p:grpSpPr>
                  <a:xfrm>
                    <a:off x="2068560" y="2652840"/>
                    <a:ext cx="4460760" cy="218880"/>
                    <a:chOff x="2068560" y="2652840"/>
                    <a:chExt cx="4460760" cy="218880"/>
                  </a:xfrm>
                </p:grpSpPr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2068560" y="2652840"/>
                      <a:ext cx="488880" cy="218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23" name=""/>
                    <p:cNvGrpSpPr/>
                    <p:nvPr/>
                  </p:nvGrpSpPr>
                  <p:grpSpPr>
                    <a:xfrm>
                      <a:off x="2446200" y="2660760"/>
                      <a:ext cx="4083120" cy="204840"/>
                      <a:chOff x="2446200" y="2660760"/>
                      <a:chExt cx="4083120" cy="204840"/>
                    </a:xfrm>
                  </p:grpSpPr>
                  <p:sp>
                    <p:nvSpPr>
                      <p:cNvPr id="2124" name=""/>
                      <p:cNvSpPr/>
                      <p:nvPr/>
                    </p:nvSpPr>
                    <p:spPr>
                      <a:xfrm>
                        <a:off x="6383160" y="2660760"/>
                        <a:ext cx="146160" cy="198360"/>
                      </a:xfrm>
                      <a:prstGeom prst="ellipse">
                        <a:avLst/>
                      </a:prstGeom>
                      <a:solidFill>
                        <a:srgbClr val="eea564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5" name=""/>
                      <p:cNvSpPr/>
                      <p:nvPr/>
                    </p:nvSpPr>
                    <p:spPr>
                      <a:xfrm>
                        <a:off x="2532240" y="2662200"/>
                        <a:ext cx="3921120" cy="193680"/>
                      </a:xfrm>
                      <a:prstGeom prst="rect">
                        <a:avLst/>
                      </a:prstGeom>
                      <a:solidFill>
                        <a:srgbClr val="eea56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6" name=""/>
                      <p:cNvSpPr/>
                      <p:nvPr/>
                    </p:nvSpPr>
                    <p:spPr>
                      <a:xfrm>
                        <a:off x="2446200" y="2666880"/>
                        <a:ext cx="146160" cy="198720"/>
                      </a:xfrm>
                      <a:prstGeom prst="ellipse">
                        <a:avLst/>
                      </a:prstGeom>
                      <a:solidFill>
                        <a:srgbClr val="eea564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27" name=""/>
                <p:cNvGrpSpPr/>
                <p:nvPr/>
              </p:nvGrpSpPr>
              <p:grpSpPr>
                <a:xfrm>
                  <a:off x="2593800" y="2570040"/>
                  <a:ext cx="3773520" cy="382680"/>
                  <a:chOff x="2593800" y="2570040"/>
                  <a:chExt cx="3773520" cy="382680"/>
                </a:xfrm>
              </p:grpSpPr>
              <p:sp>
                <p:nvSpPr>
                  <p:cNvPr id="2128" name=""/>
                  <p:cNvSpPr/>
                  <p:nvPr/>
                </p:nvSpPr>
                <p:spPr>
                  <a:xfrm>
                    <a:off x="2670120" y="2570040"/>
                    <a:ext cx="3614760" cy="378000"/>
                  </a:xfrm>
                  <a:prstGeom prst="rect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2593800" y="2574720"/>
                    <a:ext cx="76320" cy="37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37">
                        <a:moveTo>
                          <a:pt x="0" y="1"/>
                        </a:moveTo>
                        <a:cubicBezTo>
                          <a:pt x="6" y="0"/>
                          <a:pt x="12" y="0"/>
                          <a:pt x="18" y="9"/>
                        </a:cubicBezTo>
                        <a:cubicBezTo>
                          <a:pt x="24" y="18"/>
                          <a:pt x="32" y="37"/>
                          <a:pt x="37" y="55"/>
                        </a:cubicBezTo>
                        <a:cubicBezTo>
                          <a:pt x="42" y="73"/>
                          <a:pt x="44" y="101"/>
                          <a:pt x="46" y="118"/>
                        </a:cubicBezTo>
                        <a:cubicBezTo>
                          <a:pt x="48" y="135"/>
                          <a:pt x="48" y="145"/>
                          <a:pt x="46" y="157"/>
                        </a:cubicBezTo>
                        <a:cubicBezTo>
                          <a:pt x="44" y="169"/>
                          <a:pt x="40" y="182"/>
                          <a:pt x="37" y="192"/>
                        </a:cubicBezTo>
                        <a:cubicBezTo>
                          <a:pt x="34" y="202"/>
                          <a:pt x="32" y="209"/>
                          <a:pt x="27" y="216"/>
                        </a:cubicBezTo>
                        <a:cubicBezTo>
                          <a:pt x="22" y="223"/>
                          <a:pt x="12" y="233"/>
                          <a:pt x="7" y="237"/>
                        </a:cubicBezTo>
                      </a:path>
                    </a:pathLst>
                  </a:custGeom>
                  <a:noFill/>
                  <a:ln w="9360">
                    <a:solidFill>
                      <a:srgbClr val="30517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6221520" y="2571840"/>
                    <a:ext cx="145800" cy="380880"/>
                  </a:xfrm>
                  <a:prstGeom prst="ellipse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1" name=""/>
              <p:cNvSpPr/>
              <p:nvPr/>
            </p:nvSpPr>
            <p:spPr>
              <a:xfrm>
                <a:off x="1947960" y="2779560"/>
                <a:ext cx="6379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32" name=""/>
              <p:cNvGrpSpPr/>
              <p:nvPr/>
            </p:nvGrpSpPr>
            <p:grpSpPr>
              <a:xfrm>
                <a:off x="2565360" y="2565360"/>
                <a:ext cx="4081680" cy="382680"/>
                <a:chOff x="2565360" y="2565360"/>
                <a:chExt cx="4081680" cy="382680"/>
              </a:xfrm>
            </p:grpSpPr>
            <p:sp>
              <p:nvSpPr>
                <p:cNvPr id="2133" name=""/>
                <p:cNvSpPr/>
                <p:nvPr/>
              </p:nvSpPr>
              <p:spPr>
                <a:xfrm>
                  <a:off x="2565360" y="2776680"/>
                  <a:ext cx="4081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4" name=""/>
                <p:cNvGrpSpPr/>
                <p:nvPr/>
              </p:nvGrpSpPr>
              <p:grpSpPr>
                <a:xfrm>
                  <a:off x="2589120" y="2565360"/>
                  <a:ext cx="3773520" cy="382680"/>
                  <a:chOff x="2589120" y="2565360"/>
                  <a:chExt cx="3773520" cy="382680"/>
                </a:xfrm>
              </p:grpSpPr>
              <p:sp>
                <p:nvSpPr>
                  <p:cNvPr id="2135" name=""/>
                  <p:cNvSpPr/>
                  <p:nvPr/>
                </p:nvSpPr>
                <p:spPr>
                  <a:xfrm>
                    <a:off x="2665440" y="2565360"/>
                    <a:ext cx="3614760" cy="378000"/>
                  </a:xfrm>
                  <a:prstGeom prst="rect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2589120" y="2570040"/>
                    <a:ext cx="76320" cy="37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37">
                        <a:moveTo>
                          <a:pt x="0" y="1"/>
                        </a:moveTo>
                        <a:cubicBezTo>
                          <a:pt x="6" y="0"/>
                          <a:pt x="12" y="0"/>
                          <a:pt x="18" y="9"/>
                        </a:cubicBezTo>
                        <a:cubicBezTo>
                          <a:pt x="24" y="18"/>
                          <a:pt x="32" y="37"/>
                          <a:pt x="37" y="55"/>
                        </a:cubicBezTo>
                        <a:cubicBezTo>
                          <a:pt x="42" y="73"/>
                          <a:pt x="44" y="101"/>
                          <a:pt x="46" y="118"/>
                        </a:cubicBezTo>
                        <a:cubicBezTo>
                          <a:pt x="48" y="135"/>
                          <a:pt x="48" y="145"/>
                          <a:pt x="46" y="157"/>
                        </a:cubicBezTo>
                        <a:cubicBezTo>
                          <a:pt x="44" y="169"/>
                          <a:pt x="40" y="182"/>
                          <a:pt x="37" y="192"/>
                        </a:cubicBezTo>
                        <a:cubicBezTo>
                          <a:pt x="34" y="202"/>
                          <a:pt x="32" y="209"/>
                          <a:pt x="27" y="216"/>
                        </a:cubicBezTo>
                        <a:cubicBezTo>
                          <a:pt x="22" y="223"/>
                          <a:pt x="12" y="233"/>
                          <a:pt x="7" y="237"/>
                        </a:cubicBezTo>
                      </a:path>
                    </a:pathLst>
                  </a:custGeom>
                  <a:noFill/>
                  <a:ln w="9360">
                    <a:solidFill>
                      <a:srgbClr val="30517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6216840" y="2567160"/>
                    <a:ext cx="145800" cy="380880"/>
                  </a:xfrm>
                  <a:prstGeom prst="ellipse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8" name=""/>
              <p:cNvGrpSpPr/>
              <p:nvPr/>
            </p:nvGrpSpPr>
            <p:grpSpPr>
              <a:xfrm>
                <a:off x="770040" y="2155680"/>
                <a:ext cx="8099280" cy="1136160"/>
                <a:chOff x="770040" y="2155680"/>
                <a:chExt cx="8099280" cy="1136160"/>
              </a:xfrm>
            </p:grpSpPr>
            <p:grpSp>
              <p:nvGrpSpPr>
                <p:cNvPr id="2139" name=""/>
                <p:cNvGrpSpPr/>
                <p:nvPr/>
              </p:nvGrpSpPr>
              <p:grpSpPr>
                <a:xfrm>
                  <a:off x="8178840" y="2368440"/>
                  <a:ext cx="690480" cy="750960"/>
                  <a:chOff x="8178840" y="2368440"/>
                  <a:chExt cx="690480" cy="750960"/>
                </a:xfrm>
              </p:grpSpPr>
              <p:sp>
                <p:nvSpPr>
                  <p:cNvPr id="2140" name=""/>
                  <p:cNvSpPr/>
                  <p:nvPr/>
                </p:nvSpPr>
                <p:spPr>
                  <a:xfrm>
                    <a:off x="8418600" y="2392200"/>
                    <a:ext cx="2998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8435880" y="2774880"/>
                    <a:ext cx="2667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8435880" y="2525760"/>
                    <a:ext cx="254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8178840" y="2370240"/>
                    <a:ext cx="539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8178840" y="2370240"/>
                    <a:ext cx="24120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8391600" y="2395440"/>
                    <a:ext cx="2844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8435880" y="2523960"/>
                    <a:ext cx="2667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8435880" y="2484360"/>
                    <a:ext cx="2667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8435880" y="241920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8178840" y="2368440"/>
                    <a:ext cx="539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8416800" y="2392200"/>
                    <a:ext cx="301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8178840" y="2370240"/>
                    <a:ext cx="23976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8391600" y="2397240"/>
                    <a:ext cx="0" cy="703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8391600" y="24066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8391600" y="245916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8435880" y="241920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8391600" y="24750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8391600" y="252396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8391600" y="27226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8435880" y="2535120"/>
                    <a:ext cx="0" cy="20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8701200" y="2525760"/>
                    <a:ext cx="0" cy="19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8435880" y="2525760"/>
                    <a:ext cx="25416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8688240" y="2717640"/>
                    <a:ext cx="1296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 flipH="1">
                    <a:off x="8435520" y="2590920"/>
                    <a:ext cx="252360" cy="12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 flipH="1">
                    <a:off x="8435520" y="2657520"/>
                    <a:ext cx="252360" cy="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8391600" y="27748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8391600" y="3054240"/>
                    <a:ext cx="326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8435880" y="2790720"/>
                    <a:ext cx="0" cy="29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8701200" y="2774880"/>
                    <a:ext cx="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8435880" y="303516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8435880" y="302256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8435880" y="3011400"/>
                    <a:ext cx="266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8435880" y="2998800"/>
                    <a:ext cx="266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8435880" y="2984400"/>
                    <a:ext cx="266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8435880" y="2421000"/>
                    <a:ext cx="254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8688240" y="2444760"/>
                    <a:ext cx="1296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8497800" y="2484360"/>
                    <a:ext cx="142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8435880" y="2484360"/>
                    <a:ext cx="266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8435880" y="2502000"/>
                    <a:ext cx="204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 flipH="1">
                    <a:off x="8639280" y="2505240"/>
                    <a:ext cx="6192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8639280" y="24843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8448840" y="243684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8485200" y="2435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8521560" y="2435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8559720" y="2435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8597880" y="24336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8632800" y="2430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8670960" y="2430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8675640" y="2525760"/>
                    <a:ext cx="27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8717040" y="3016080"/>
                    <a:ext cx="1522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0" name=""/>
                <p:cNvGrpSpPr/>
                <p:nvPr/>
              </p:nvGrpSpPr>
              <p:grpSpPr>
                <a:xfrm>
                  <a:off x="6580080" y="2417760"/>
                  <a:ext cx="690480" cy="750960"/>
                  <a:chOff x="6580080" y="2417760"/>
                  <a:chExt cx="690480" cy="750960"/>
                </a:xfrm>
              </p:grpSpPr>
              <p:sp>
                <p:nvSpPr>
                  <p:cNvPr id="2191" name=""/>
                  <p:cNvSpPr/>
                  <p:nvPr/>
                </p:nvSpPr>
                <p:spPr>
                  <a:xfrm>
                    <a:off x="6819840" y="2441520"/>
                    <a:ext cx="2998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6837120" y="2824200"/>
                    <a:ext cx="2667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6837120" y="2575080"/>
                    <a:ext cx="254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6580080" y="2419560"/>
                    <a:ext cx="539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6580080" y="2419560"/>
                    <a:ext cx="24120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6792840" y="2444760"/>
                    <a:ext cx="2844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6837120" y="2573280"/>
                    <a:ext cx="2667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6837120" y="2533680"/>
                    <a:ext cx="2667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6837120" y="246852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6580080" y="2417760"/>
                    <a:ext cx="539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6818040" y="2441520"/>
                    <a:ext cx="301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6580080" y="2419560"/>
                    <a:ext cx="23976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6792840" y="2446560"/>
                    <a:ext cx="0" cy="703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6792840" y="24559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6792840" y="25084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6837120" y="246852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6792840" y="25243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6792840" y="25732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6792840" y="27720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6837120" y="2584440"/>
                    <a:ext cx="0" cy="20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7102440" y="2575080"/>
                    <a:ext cx="0" cy="19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6837120" y="2575080"/>
                    <a:ext cx="25416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7089480" y="2766960"/>
                    <a:ext cx="1296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 flipH="1">
                    <a:off x="6836760" y="2640240"/>
                    <a:ext cx="252360" cy="12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H="1">
                    <a:off x="6836760" y="2706840"/>
                    <a:ext cx="252360" cy="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6792840" y="28242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6792840" y="3103560"/>
                    <a:ext cx="326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6837120" y="2840040"/>
                    <a:ext cx="0" cy="29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7102440" y="2824200"/>
                    <a:ext cx="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6837120" y="308448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6837120" y="307188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6837120" y="3060720"/>
                    <a:ext cx="266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6837120" y="3048120"/>
                    <a:ext cx="266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6837120" y="3033720"/>
                    <a:ext cx="266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6837120" y="2470320"/>
                    <a:ext cx="254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7089480" y="2494080"/>
                    <a:ext cx="1296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6899040" y="2533680"/>
                    <a:ext cx="142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6837120" y="2533680"/>
                    <a:ext cx="266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6837120" y="2551320"/>
                    <a:ext cx="204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 flipH="1">
                    <a:off x="7040520" y="2554560"/>
                    <a:ext cx="6192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7040520" y="253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6850080" y="248616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6886440" y="2484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6922800" y="2484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6960960" y="2484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6999120" y="24829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7034040" y="2479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7072200" y="2479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7076880" y="2575080"/>
                    <a:ext cx="27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7118280" y="3065400"/>
                    <a:ext cx="1522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24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70040" y="2155680"/>
                  <a:ext cx="1427040" cy="1059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242" name=""/>
                <p:cNvGrpSpPr/>
                <p:nvPr/>
              </p:nvGrpSpPr>
              <p:grpSpPr>
                <a:xfrm>
                  <a:off x="3925440" y="2206800"/>
                  <a:ext cx="1586160" cy="1085040"/>
                  <a:chOff x="3925440" y="2206800"/>
                  <a:chExt cx="1586160" cy="1085040"/>
                </a:xfrm>
              </p:grpSpPr>
              <p:grpSp>
                <p:nvGrpSpPr>
                  <p:cNvPr id="2243" name=""/>
                  <p:cNvGrpSpPr/>
                  <p:nvPr/>
                </p:nvGrpSpPr>
                <p:grpSpPr>
                  <a:xfrm>
                    <a:off x="3925440" y="2206800"/>
                    <a:ext cx="1586160" cy="1085040"/>
                    <a:chOff x="3925440" y="2206800"/>
                    <a:chExt cx="1586160" cy="1085040"/>
                  </a:xfrm>
                </p:grpSpPr>
                <p:sp>
                  <p:nvSpPr>
                    <p:cNvPr id="2244" name=""/>
                    <p:cNvSpPr/>
                    <p:nvPr/>
                  </p:nvSpPr>
                  <p:spPr>
                    <a:xfrm rot="20700000">
                      <a:off x="4635000" y="3026160"/>
                      <a:ext cx="245880" cy="2170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5" name=""/>
                    <p:cNvSpPr/>
                    <p:nvPr/>
                  </p:nvSpPr>
                  <p:spPr>
                    <a:xfrm rot="20700000">
                      <a:off x="4441680" y="2234880"/>
                      <a:ext cx="248040" cy="2174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6" name=""/>
                    <p:cNvSpPr/>
                    <p:nvPr/>
                  </p:nvSpPr>
                  <p:spPr>
                    <a:xfrm rot="20700000">
                      <a:off x="4110480" y="2386440"/>
                      <a:ext cx="150120" cy="133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7" name=""/>
                    <p:cNvSpPr/>
                    <p:nvPr/>
                  </p:nvSpPr>
                  <p:spPr>
                    <a:xfrm rot="20700000">
                      <a:off x="4138200" y="2914920"/>
                      <a:ext cx="149400" cy="127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8" name=""/>
                    <p:cNvSpPr/>
                    <p:nvPr/>
                  </p:nvSpPr>
                  <p:spPr>
                    <a:xfrm rot="20700000">
                      <a:off x="4001760" y="2722320"/>
                      <a:ext cx="246240" cy="2109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9" name=""/>
                    <p:cNvSpPr/>
                    <p:nvPr/>
                  </p:nvSpPr>
                  <p:spPr>
                    <a:xfrm rot="20700000">
                      <a:off x="4251240" y="2289960"/>
                      <a:ext cx="247680" cy="215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0" name=""/>
                    <p:cNvSpPr/>
                    <p:nvPr/>
                  </p:nvSpPr>
                  <p:spPr>
                    <a:xfrm rot="20700000">
                      <a:off x="5238000" y="2801880"/>
                      <a:ext cx="249480" cy="2163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1" name=""/>
                    <p:cNvSpPr/>
                    <p:nvPr/>
                  </p:nvSpPr>
                  <p:spPr>
                    <a:xfrm rot="20700000">
                      <a:off x="5058360" y="2898360"/>
                      <a:ext cx="249480" cy="2203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52" name=""/>
                    <p:cNvGrpSpPr/>
                    <p:nvPr/>
                  </p:nvGrpSpPr>
                  <p:grpSpPr>
                    <a:xfrm>
                      <a:off x="3925440" y="2209320"/>
                      <a:ext cx="1562760" cy="1082520"/>
                      <a:chOff x="3925440" y="2209320"/>
                      <a:chExt cx="1562760" cy="1082520"/>
                    </a:xfrm>
                  </p:grpSpPr>
                  <p:sp>
                    <p:nvSpPr>
                      <p:cNvPr id="2253" name=""/>
                      <p:cNvSpPr/>
                      <p:nvPr/>
                    </p:nvSpPr>
                    <p:spPr>
                      <a:xfrm rot="20700000">
                        <a:off x="3968640" y="2478600"/>
                        <a:ext cx="443880" cy="3927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54" name=""/>
                      <p:cNvGrpSpPr/>
                      <p:nvPr/>
                    </p:nvGrpSpPr>
                    <p:grpSpPr>
                      <a:xfrm>
                        <a:off x="4083480" y="2367720"/>
                        <a:ext cx="994680" cy="924120"/>
                        <a:chOff x="4083480" y="2367720"/>
                        <a:chExt cx="994680" cy="924120"/>
                      </a:xfrm>
                    </p:grpSpPr>
                    <p:sp>
                      <p:nvSpPr>
                        <p:cNvPr id="2255" name=""/>
                        <p:cNvSpPr/>
                        <p:nvPr/>
                      </p:nvSpPr>
                      <p:spPr>
                        <a:xfrm rot="20700000">
                          <a:off x="4164120" y="2462760"/>
                          <a:ext cx="833400" cy="7333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6" name=""/>
                        <p:cNvSpPr/>
                        <p:nvPr/>
                      </p:nvSpPr>
                      <p:spPr>
                        <a:xfrm>
                          <a:off x="4129560" y="2643120"/>
                          <a:ext cx="128880" cy="207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3" h="323">
                              <a:moveTo>
                                <a:pt x="164" y="0"/>
                              </a:moveTo>
                              <a:lnTo>
                                <a:pt x="0" y="316"/>
                              </a:lnTo>
                              <a:lnTo>
                                <a:pt x="121" y="322"/>
                              </a:lnTo>
                              <a:lnTo>
                                <a:pt x="212" y="13"/>
                              </a:lnTo>
                              <a:lnTo>
                                <a:pt x="164" y="0"/>
                              </a:lnTo>
                            </a:path>
                          </a:pathLst>
                        </a:custGeom>
                        <a:solidFill>
                          <a:srgbClr val="5686d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57" name=""/>
                      <p:cNvSpPr/>
                      <p:nvPr/>
                    </p:nvSpPr>
                    <p:spPr>
                      <a:xfrm rot="20700000">
                        <a:off x="4469040" y="2458800"/>
                        <a:ext cx="834120" cy="7336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8" name=""/>
                      <p:cNvSpPr/>
                      <p:nvPr/>
                    </p:nvSpPr>
                    <p:spPr>
                      <a:xfrm rot="20700000">
                        <a:off x="5160600" y="2459160"/>
                        <a:ext cx="298440" cy="2628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9" name=""/>
                      <p:cNvSpPr/>
                      <p:nvPr/>
                    </p:nvSpPr>
                    <p:spPr>
                      <a:xfrm rot="20700000">
                        <a:off x="5152320" y="2877120"/>
                        <a:ext cx="198000" cy="1771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0" name=""/>
                      <p:cNvSpPr/>
                      <p:nvPr/>
                    </p:nvSpPr>
                    <p:spPr>
                      <a:xfrm rot="20700000">
                        <a:off x="5041080" y="2421360"/>
                        <a:ext cx="198360" cy="1706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1" name=""/>
                      <p:cNvSpPr/>
                      <p:nvPr/>
                    </p:nvSpPr>
                    <p:spPr>
                      <a:xfrm rot="20700000">
                        <a:off x="5155200" y="2642760"/>
                        <a:ext cx="299880" cy="2595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2" name=""/>
                      <p:cNvSpPr/>
                      <p:nvPr/>
                    </p:nvSpPr>
                    <p:spPr>
                      <a:xfrm rot="20700000">
                        <a:off x="4185000" y="2327040"/>
                        <a:ext cx="444960" cy="3898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3" name=""/>
                      <p:cNvSpPr/>
                      <p:nvPr/>
                    </p:nvSpPr>
                    <p:spPr>
                      <a:xfrm rot="20700000">
                        <a:off x="4630680" y="2285640"/>
                        <a:ext cx="444960" cy="3898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4" name=""/>
                      <p:cNvSpPr/>
                      <p:nvPr/>
                    </p:nvSpPr>
                    <p:spPr>
                      <a:xfrm rot="20700000">
                        <a:off x="4419720" y="2260080"/>
                        <a:ext cx="445680" cy="3898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5" name=""/>
                      <p:cNvSpPr/>
                      <p:nvPr/>
                    </p:nvSpPr>
                    <p:spPr>
                      <a:xfrm rot="20700000">
                        <a:off x="4390920" y="2756880"/>
                        <a:ext cx="442080" cy="3906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6" name=""/>
                      <p:cNvSpPr/>
                      <p:nvPr/>
                    </p:nvSpPr>
                    <p:spPr>
                      <a:xfrm>
                        <a:off x="4237560" y="2335680"/>
                        <a:ext cx="1106640" cy="79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7" h="1241">
                            <a:moveTo>
                              <a:pt x="300" y="77"/>
                            </a:moveTo>
                            <a:lnTo>
                              <a:pt x="656" y="143"/>
                            </a:lnTo>
                            <a:lnTo>
                              <a:pt x="1026" y="0"/>
                            </a:lnTo>
                            <a:lnTo>
                              <a:pt x="1348" y="231"/>
                            </a:lnTo>
                            <a:lnTo>
                              <a:pt x="1418" y="234"/>
                            </a:lnTo>
                            <a:lnTo>
                              <a:pt x="1614" y="282"/>
                            </a:lnTo>
                            <a:lnTo>
                              <a:pt x="1678" y="345"/>
                            </a:lnTo>
                            <a:lnTo>
                              <a:pt x="1826" y="455"/>
                            </a:lnTo>
                            <a:lnTo>
                              <a:pt x="1817" y="502"/>
                            </a:lnTo>
                            <a:lnTo>
                              <a:pt x="1657" y="981"/>
                            </a:lnTo>
                            <a:lnTo>
                              <a:pt x="1485" y="1083"/>
                            </a:lnTo>
                            <a:lnTo>
                              <a:pt x="868" y="1205"/>
                            </a:lnTo>
                            <a:lnTo>
                              <a:pt x="807" y="1152"/>
                            </a:lnTo>
                            <a:lnTo>
                              <a:pt x="388" y="1189"/>
                            </a:lnTo>
                            <a:lnTo>
                              <a:pt x="321" y="1240"/>
                            </a:lnTo>
                            <a:lnTo>
                              <a:pt x="0" y="612"/>
                            </a:lnTo>
                            <a:lnTo>
                              <a:pt x="300" y="77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67" name=""/>
                  <p:cNvSpPr/>
                  <p:nvPr/>
                </p:nvSpPr>
                <p:spPr>
                  <a:xfrm>
                    <a:off x="4091760" y="2484360"/>
                    <a:ext cx="1299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nterne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PN protokollok feladat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92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k hitele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lózati címek kezel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atfolyam titkosít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atfolyam integritásának ellenőr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itkosítás során használt kulcsok menedzsment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féle protokoll kezel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lterjedt VPN protokoll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380880" y="972720"/>
            <a:ext cx="8763120" cy="5871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SI Layer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T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crosoft+Ascend+3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raft-ietf-pppext-pptp-02.t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2F (Cisc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2T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crosoft+Ci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raft-ietf-pppext-l2tp-09.t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SI Layer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ET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ranszport mó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unnel mód (kötelező és szabadon válaszható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PPTP biztonság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273" name=""/>
          <p:cNvGrpSpPr/>
          <p:nvPr/>
        </p:nvGrpSpPr>
        <p:grpSpPr>
          <a:xfrm>
            <a:off x="1089000" y="1697040"/>
            <a:ext cx="6963480" cy="1058760"/>
            <a:chOff x="1089000" y="1697040"/>
            <a:chExt cx="6963480" cy="1058760"/>
          </a:xfrm>
        </p:grpSpPr>
        <p:grpSp>
          <p:nvGrpSpPr>
            <p:cNvPr id="2274" name=""/>
            <p:cNvGrpSpPr/>
            <p:nvPr/>
          </p:nvGrpSpPr>
          <p:grpSpPr>
            <a:xfrm>
              <a:off x="7118280" y="1701720"/>
              <a:ext cx="934200" cy="1049040"/>
              <a:chOff x="7118280" y="1701720"/>
              <a:chExt cx="934200" cy="1049040"/>
            </a:xfrm>
          </p:grpSpPr>
          <p:sp>
            <p:nvSpPr>
              <p:cNvPr id="2275" name=""/>
              <p:cNvSpPr/>
              <p:nvPr/>
            </p:nvSpPr>
            <p:spPr>
              <a:xfrm>
                <a:off x="7442640" y="1734840"/>
                <a:ext cx="405720" cy="101592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466040" y="2269440"/>
                <a:ext cx="361080" cy="43236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466040" y="1921320"/>
                <a:ext cx="343800" cy="2905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118280" y="1703880"/>
                <a:ext cx="730440" cy="4140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118280" y="1703880"/>
                <a:ext cx="326520" cy="104652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406280" y="1739160"/>
                <a:ext cx="38160" cy="101124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66040" y="1918800"/>
                <a:ext cx="361080" cy="3042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466040" y="1863360"/>
                <a:ext cx="361080" cy="5976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466040" y="1772640"/>
                <a:ext cx="361080" cy="511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118280" y="1701720"/>
                <a:ext cx="730440" cy="439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440120" y="1734840"/>
                <a:ext cx="408240" cy="101592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118280" y="1703880"/>
                <a:ext cx="324360" cy="104652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406280" y="1741680"/>
                <a:ext cx="0" cy="9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406280" y="175500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406280" y="182844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466040" y="1772640"/>
                <a:ext cx="361080" cy="511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406280" y="185040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406280" y="191880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406280" y="219636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466040" y="1934280"/>
                <a:ext cx="0" cy="28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825320" y="1921320"/>
                <a:ext cx="0" cy="27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466040" y="1921320"/>
                <a:ext cx="343800" cy="28800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807680" y="2189520"/>
                <a:ext cx="1728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465680" y="2012400"/>
                <a:ext cx="34164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>
                <a:off x="7465680" y="2105280"/>
                <a:ext cx="34164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406280" y="226944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406280" y="2659680"/>
                <a:ext cx="442440" cy="4644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466040" y="2291400"/>
                <a:ext cx="0" cy="40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825320" y="2269440"/>
                <a:ext cx="0" cy="39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466040" y="2633040"/>
                <a:ext cx="361080" cy="4644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466040" y="2615400"/>
                <a:ext cx="361080" cy="4644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466040" y="2599920"/>
                <a:ext cx="361080" cy="439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466040" y="2582280"/>
                <a:ext cx="361080" cy="396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466040" y="2562120"/>
                <a:ext cx="361080" cy="4212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466040" y="1774800"/>
                <a:ext cx="343800" cy="460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807680" y="1808280"/>
                <a:ext cx="172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549920" y="1863360"/>
                <a:ext cx="193320" cy="5976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466040" y="1863360"/>
                <a:ext cx="361080" cy="5328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466040" y="1888200"/>
                <a:ext cx="277200" cy="3744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7741440" y="1892520"/>
                <a:ext cx="8352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741440" y="1863360"/>
                <a:ext cx="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483680" y="1797120"/>
                <a:ext cx="3600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533000" y="179460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581960" y="179460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633800" y="179460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685280" y="179244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732800" y="178812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784280" y="178812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790760" y="1921320"/>
                <a:ext cx="36360" cy="27036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846560" y="2606400"/>
                <a:ext cx="205920" cy="1000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325" name="" descr=""/>
            <p:cNvPicPr/>
            <p:nvPr/>
          </p:nvPicPr>
          <p:blipFill>
            <a:blip r:embed="rId2"/>
            <a:stretch/>
          </p:blipFill>
          <p:spPr>
            <a:xfrm>
              <a:off x="1089000" y="1697040"/>
              <a:ext cx="1427040" cy="10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6" name=""/>
          <p:cNvGrpSpPr/>
          <p:nvPr/>
        </p:nvGrpSpPr>
        <p:grpSpPr>
          <a:xfrm>
            <a:off x="1587600" y="2877480"/>
            <a:ext cx="3884400" cy="368280"/>
            <a:chOff x="1587600" y="2877480"/>
            <a:chExt cx="3884400" cy="368280"/>
          </a:xfrm>
        </p:grpSpPr>
        <p:sp>
          <p:nvSpPr>
            <p:cNvPr id="2327" name=""/>
            <p:cNvSpPr/>
            <p:nvPr/>
          </p:nvSpPr>
          <p:spPr>
            <a:xfrm>
              <a:off x="1587600" y="287748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Kapcsolat kérel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975120" y="306072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3975120" y="4174560"/>
            <a:ext cx="2953440" cy="368280"/>
            <a:chOff x="3975120" y="4174560"/>
            <a:chExt cx="2953440" cy="368280"/>
          </a:xfrm>
        </p:grpSpPr>
        <p:sp>
          <p:nvSpPr>
            <p:cNvPr id="2330" name=""/>
            <p:cNvSpPr/>
            <p:nvPr/>
          </p:nvSpPr>
          <p:spPr>
            <a:xfrm>
              <a:off x="5466240" y="417456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sponse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975120" y="435924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2" name=""/>
          <p:cNvGrpSpPr/>
          <p:nvPr/>
        </p:nvGrpSpPr>
        <p:grpSpPr>
          <a:xfrm>
            <a:off x="2520000" y="3526560"/>
            <a:ext cx="2952000" cy="368280"/>
            <a:chOff x="2520000" y="3526560"/>
            <a:chExt cx="2952000" cy="368280"/>
          </a:xfrm>
        </p:grpSpPr>
        <p:sp>
          <p:nvSpPr>
            <p:cNvPr id="2333" name=""/>
            <p:cNvSpPr/>
            <p:nvPr/>
          </p:nvSpPr>
          <p:spPr>
            <a:xfrm>
              <a:off x="2520000" y="352656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Response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975120" y="371016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2519280" y="3850560"/>
            <a:ext cx="2952720" cy="368280"/>
            <a:chOff x="2519280" y="3850560"/>
            <a:chExt cx="2952720" cy="368280"/>
          </a:xfrm>
        </p:grpSpPr>
        <p:sp>
          <p:nvSpPr>
            <p:cNvPr id="2336" name=""/>
            <p:cNvSpPr/>
            <p:nvPr/>
          </p:nvSpPr>
          <p:spPr>
            <a:xfrm>
              <a:off x="2519280" y="385056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allenge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975120" y="403560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1731600" y="5164920"/>
            <a:ext cx="3740400" cy="368280"/>
            <a:chOff x="1731600" y="5164920"/>
            <a:chExt cx="3740400" cy="368280"/>
          </a:xfrm>
        </p:grpSpPr>
        <p:sp>
          <p:nvSpPr>
            <p:cNvPr id="2339" name=""/>
            <p:cNvSpPr/>
            <p:nvPr/>
          </p:nvSpPr>
          <p:spPr>
            <a:xfrm>
              <a:off x="1731600" y="516492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itkosított csoma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975120" y="534996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3975120" y="3202920"/>
            <a:ext cx="2954160" cy="368280"/>
            <a:chOff x="3975120" y="3202920"/>
            <a:chExt cx="2954160" cy="368280"/>
          </a:xfrm>
        </p:grpSpPr>
        <p:sp>
          <p:nvSpPr>
            <p:cNvPr id="2342" name=""/>
            <p:cNvSpPr/>
            <p:nvPr/>
          </p:nvSpPr>
          <p:spPr>
            <a:xfrm>
              <a:off x="5465520" y="320292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allenge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975120" y="338616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3975120" y="5488920"/>
            <a:ext cx="3741840" cy="368280"/>
            <a:chOff x="3975120" y="5488920"/>
            <a:chExt cx="3741840" cy="368280"/>
          </a:xfrm>
        </p:grpSpPr>
        <p:sp>
          <p:nvSpPr>
            <p:cNvPr id="2345" name=""/>
            <p:cNvSpPr/>
            <p:nvPr/>
          </p:nvSpPr>
          <p:spPr>
            <a:xfrm>
              <a:off x="5503320" y="548892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itkosított csoma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975120" y="567360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1829520" y="4493520"/>
            <a:ext cx="5827680" cy="693720"/>
            <a:chOff x="1829520" y="4493520"/>
            <a:chExt cx="5827680" cy="693720"/>
          </a:xfrm>
        </p:grpSpPr>
        <p:grpSp>
          <p:nvGrpSpPr>
            <p:cNvPr id="2348" name=""/>
            <p:cNvGrpSpPr/>
            <p:nvPr/>
          </p:nvGrpSpPr>
          <p:grpSpPr>
            <a:xfrm>
              <a:off x="2102760" y="4493520"/>
              <a:ext cx="5299920" cy="369720"/>
              <a:chOff x="2102760" y="4493520"/>
              <a:chExt cx="5299920" cy="369720"/>
            </a:xfrm>
          </p:grpSpPr>
          <p:sp>
            <p:nvSpPr>
              <p:cNvPr id="2349" name=""/>
              <p:cNvSpPr/>
              <p:nvPr/>
            </p:nvSpPr>
            <p:spPr>
              <a:xfrm>
                <a:off x="2102760" y="4493520"/>
                <a:ext cx="179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Új ügyfél kulc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608080" y="4494960"/>
                <a:ext cx="179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Új ügyfél kulc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1829520" y="4817520"/>
              <a:ext cx="5827680" cy="369720"/>
              <a:chOff x="1829520" y="4817520"/>
              <a:chExt cx="5827680" cy="369720"/>
            </a:xfrm>
          </p:grpSpPr>
          <p:sp>
            <p:nvSpPr>
              <p:cNvPr id="2352" name=""/>
              <p:cNvSpPr/>
              <p:nvPr/>
            </p:nvSpPr>
            <p:spPr>
              <a:xfrm>
                <a:off x="5429880" y="4817520"/>
                <a:ext cx="222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Új kiszolgáló kulc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829520" y="4818960"/>
                <a:ext cx="222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Új kiszolgáló kulc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4" name=""/>
          <p:cNvSpPr/>
          <p:nvPr/>
        </p:nvSpPr>
        <p:spPr>
          <a:xfrm>
            <a:off x="2995920" y="1384560"/>
            <a:ext cx="35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P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árbeszé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CHAP v2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teles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1109880" y="5867280"/>
            <a:ext cx="741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vag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8-bi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s titkosítás (alg: RS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C4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minden más 56 b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317000" y="12952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sh(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t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30400" y="12952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sh(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t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"/>
          <p:cNvSpPr/>
          <p:nvPr/>
        </p:nvSpPr>
        <p:spPr>
          <a:xfrm>
            <a:off x="457200" y="4114800"/>
            <a:ext cx="8458200" cy="1066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33520" y="4429080"/>
            <a:ext cx="99036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09880" y="297180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(PPP meghajtó szoft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1752480" y="5807160"/>
            <a:ext cx="7086600" cy="366120"/>
            <a:chOff x="1752480" y="5807160"/>
            <a:chExt cx="7086600" cy="366120"/>
          </a:xfrm>
        </p:grpSpPr>
        <p:sp>
          <p:nvSpPr>
            <p:cNvPr id="2362" name=""/>
            <p:cNvSpPr/>
            <p:nvPr/>
          </p:nvSpPr>
          <p:spPr>
            <a:xfrm>
              <a:off x="1752480" y="6172200"/>
              <a:ext cx="7086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815480" y="5807160"/>
              <a:ext cx="664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möríthető és titkosítható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ilyenkor nem hatékon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PTP belülrő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3886200" cy="339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P kapcsolat (LC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telesítés (PAP, CHAP, MS-CHA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P Callback (CBC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lózati protokollok (NCP-k, pl. IPC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676520" y="4191120"/>
            <a:ext cx="7162560" cy="914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771560" y="4421160"/>
            <a:ext cx="533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809880" y="245736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438280" y="4267080"/>
            <a:ext cx="6324840" cy="762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552760" y="4419720"/>
            <a:ext cx="1028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828960" y="4419720"/>
            <a:ext cx="95256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809880" y="194148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3809880" y="5273640"/>
            <a:ext cx="5029200" cy="366120"/>
            <a:chOff x="3809880" y="5273640"/>
            <a:chExt cx="5029200" cy="366120"/>
          </a:xfrm>
        </p:grpSpPr>
        <p:sp>
          <p:nvSpPr>
            <p:cNvPr id="2374" name=""/>
            <p:cNvSpPr/>
            <p:nvPr/>
          </p:nvSpPr>
          <p:spPr>
            <a:xfrm>
              <a:off x="3809880" y="5638680"/>
              <a:ext cx="5029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541400" y="5273640"/>
              <a:ext cx="367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möríthető és titkosíto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6" name=""/>
          <p:cNvSpPr/>
          <p:nvPr/>
        </p:nvSpPr>
        <p:spPr>
          <a:xfrm>
            <a:off x="3963240" y="6248520"/>
            <a:ext cx="509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Protokollok és Portok: Port 1723 + Protocol 47 (G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GRE: Generic Routing Encapsul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952880" y="4343400"/>
            <a:ext cx="3733920" cy="60948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029200" y="4421160"/>
            <a:ext cx="57168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715000" y="4435560"/>
            <a:ext cx="1676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CP/U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809880" y="142704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505640" y="4421160"/>
            <a:ext cx="110484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809880" y="99072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"/>
          <p:cNvSpPr/>
          <p:nvPr/>
        </p:nvSpPr>
        <p:spPr>
          <a:xfrm>
            <a:off x="457200" y="4114800"/>
            <a:ext cx="8458200" cy="1066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33520" y="4429080"/>
            <a:ext cx="99036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809880" y="297180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(PPP meghajtó szoft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6" name=""/>
          <p:cNvGrpSpPr/>
          <p:nvPr/>
        </p:nvGrpSpPr>
        <p:grpSpPr>
          <a:xfrm>
            <a:off x="1752480" y="5807160"/>
            <a:ext cx="7086600" cy="366120"/>
            <a:chOff x="1752480" y="5807160"/>
            <a:chExt cx="7086600" cy="366120"/>
          </a:xfrm>
        </p:grpSpPr>
        <p:sp>
          <p:nvSpPr>
            <p:cNvPr id="2387" name=""/>
            <p:cNvSpPr/>
            <p:nvPr/>
          </p:nvSpPr>
          <p:spPr>
            <a:xfrm>
              <a:off x="1752480" y="6172200"/>
              <a:ext cx="7086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57560" y="5807160"/>
              <a:ext cx="393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möríthető és titkosíthat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2TP belülrő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3886200" cy="3182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P alapú ez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ternetwork nem csak IP, de csomag elvű legy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öbb csatorna egyszer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jléc tömörí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torna hitelesí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676520" y="4191120"/>
            <a:ext cx="7162560" cy="914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771560" y="4421160"/>
            <a:ext cx="533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809880" y="245736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438280" y="4267080"/>
            <a:ext cx="6324840" cy="762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552760" y="4419720"/>
            <a:ext cx="1028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828960" y="4419720"/>
            <a:ext cx="95256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809880" y="194148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L2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8" name=""/>
          <p:cNvGrpSpPr/>
          <p:nvPr/>
        </p:nvGrpSpPr>
        <p:grpSpPr>
          <a:xfrm>
            <a:off x="3809880" y="5273640"/>
            <a:ext cx="5029200" cy="366120"/>
            <a:chOff x="3809880" y="5273640"/>
            <a:chExt cx="5029200" cy="366120"/>
          </a:xfrm>
        </p:grpSpPr>
        <p:sp>
          <p:nvSpPr>
            <p:cNvPr id="2399" name=""/>
            <p:cNvSpPr/>
            <p:nvPr/>
          </p:nvSpPr>
          <p:spPr>
            <a:xfrm>
              <a:off x="3809880" y="5638680"/>
              <a:ext cx="5029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416480" y="5273640"/>
              <a:ext cx="393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möríthető és titkosíthat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1" name=""/>
          <p:cNvSpPr/>
          <p:nvPr/>
        </p:nvSpPr>
        <p:spPr>
          <a:xfrm>
            <a:off x="4952880" y="4343400"/>
            <a:ext cx="3733920" cy="60948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029200" y="4421160"/>
            <a:ext cx="57168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715000" y="4435560"/>
            <a:ext cx="1676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CP/U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809880" y="142704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505640" y="4421160"/>
            <a:ext cx="110484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809880" y="99072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328440" y="6324480"/>
            <a:ext cx="264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Portok: 500, 501 (IKE), 17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380880" y="4262400"/>
            <a:ext cx="8534520" cy="762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022640" y="4343400"/>
            <a:ext cx="4764240" cy="60948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481120" y="4481280"/>
            <a:ext cx="144792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roto/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PSec belülrő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657600" cy="2739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ETF szabvá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CP/IP stack alatt foglal hely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3. szinten működő protoko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űrőként működ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102280" y="4495680"/>
            <a:ext cx="125712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ST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396120" y="4495680"/>
            <a:ext cx="144756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roto/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09880" y="142704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114800" y="4495680"/>
            <a:ext cx="95256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RC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880400" y="4495680"/>
            <a:ext cx="79992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809880" y="99072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444680" y="4481280"/>
            <a:ext cx="99072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ST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71600" y="4479840"/>
            <a:ext cx="91440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RC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809880" y="1941480"/>
            <a:ext cx="5562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PSec, ha a szűrő szerint használni k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2" name=""/>
          <p:cNvGrpSpPr/>
          <p:nvPr/>
        </p:nvGrpSpPr>
        <p:grpSpPr>
          <a:xfrm>
            <a:off x="6170400" y="5181480"/>
            <a:ext cx="2668680" cy="457200"/>
            <a:chOff x="6170400" y="5181480"/>
            <a:chExt cx="2668680" cy="457200"/>
          </a:xfrm>
        </p:grpSpPr>
        <p:sp>
          <p:nvSpPr>
            <p:cNvPr id="2423" name=""/>
            <p:cNvSpPr/>
            <p:nvPr/>
          </p:nvSpPr>
          <p:spPr>
            <a:xfrm>
              <a:off x="7848720" y="563868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170400" y="5181480"/>
              <a:ext cx="262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itkosítható (ESP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5" name=""/>
          <p:cNvGrpSpPr/>
          <p:nvPr/>
        </p:nvGrpSpPr>
        <p:grpSpPr>
          <a:xfrm>
            <a:off x="4038480" y="5943600"/>
            <a:ext cx="3886200" cy="366120"/>
            <a:chOff x="4038480" y="5943600"/>
            <a:chExt cx="3886200" cy="366120"/>
          </a:xfrm>
        </p:grpSpPr>
        <p:sp>
          <p:nvSpPr>
            <p:cNvPr id="2426" name=""/>
            <p:cNvSpPr/>
            <p:nvPr/>
          </p:nvSpPr>
          <p:spPr>
            <a:xfrm>
              <a:off x="4038480" y="6308640"/>
              <a:ext cx="3886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009760" y="5943600"/>
              <a:ext cx="205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láírható (AH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>
            <a:off x="3809880" y="275580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PSec Tunnel mód eseté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833560" y="6461280"/>
            <a:ext cx="592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H: Authenticated Hader, ESP: Encapsulated Secure Payl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PN protokoll különbség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800600" y="64911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FC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apján, szabványos mód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131640" y="1981080"/>
            <a:ext cx="5564520" cy="549000"/>
            <a:chOff x="3131640" y="1981080"/>
            <a:chExt cx="5564520" cy="549000"/>
          </a:xfrm>
        </p:grpSpPr>
        <p:sp>
          <p:nvSpPr>
            <p:cNvPr id="2433" name=""/>
            <p:cNvSpPr/>
            <p:nvPr/>
          </p:nvSpPr>
          <p:spPr>
            <a:xfrm>
              <a:off x="3131640" y="1981080"/>
              <a:ext cx="991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AD, P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669920" y="1981080"/>
              <a:ext cx="991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AD,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472080" y="20574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010360" y="20574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7" name=""/>
          <p:cNvGrpSpPr/>
          <p:nvPr/>
        </p:nvGrpSpPr>
        <p:grpSpPr>
          <a:xfrm>
            <a:off x="3294000" y="2716200"/>
            <a:ext cx="5412240" cy="560160"/>
            <a:chOff x="3294000" y="2716200"/>
            <a:chExt cx="5412240" cy="560160"/>
          </a:xfrm>
        </p:grpSpPr>
        <p:sp>
          <p:nvSpPr>
            <p:cNvPr id="2438" name=""/>
            <p:cNvSpPr/>
            <p:nvPr/>
          </p:nvSpPr>
          <p:spPr>
            <a:xfrm>
              <a:off x="6619680" y="2716200"/>
              <a:ext cx="53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72000" y="2727360"/>
              <a:ext cx="53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294000" y="27432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00600" y="27432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3455640" y="3352680"/>
            <a:ext cx="5242320" cy="457200"/>
            <a:chOff x="3455640" y="3352680"/>
            <a:chExt cx="5242320" cy="457200"/>
          </a:xfrm>
        </p:grpSpPr>
        <p:sp>
          <p:nvSpPr>
            <p:cNvPr id="2443" name=""/>
            <p:cNvSpPr/>
            <p:nvPr/>
          </p:nvSpPr>
          <p:spPr>
            <a:xfrm>
              <a:off x="3455640" y="34592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993920" y="34592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012160" y="33526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3455640" y="4648320"/>
            <a:ext cx="5251680" cy="457200"/>
            <a:chOff x="3455640" y="4648320"/>
            <a:chExt cx="5251680" cy="457200"/>
          </a:xfrm>
        </p:grpSpPr>
        <p:sp>
          <p:nvSpPr>
            <p:cNvPr id="2447" name=""/>
            <p:cNvSpPr/>
            <p:nvPr/>
          </p:nvSpPr>
          <p:spPr>
            <a:xfrm>
              <a:off x="3455640" y="47545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993920" y="47545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688080" y="47545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/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021520" y="46483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3243240" y="5257800"/>
            <a:ext cx="5367960" cy="457200"/>
            <a:chOff x="3243240" y="5257800"/>
            <a:chExt cx="5367960" cy="457200"/>
          </a:xfrm>
        </p:grpSpPr>
        <p:sp>
          <p:nvSpPr>
            <p:cNvPr id="2452" name=""/>
            <p:cNvSpPr/>
            <p:nvPr/>
          </p:nvSpPr>
          <p:spPr>
            <a:xfrm>
              <a:off x="6714720" y="53452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267400" y="53640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243240" y="5257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00600" y="5257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3455640" y="5867280"/>
            <a:ext cx="5155560" cy="457200"/>
            <a:chOff x="3455640" y="5867280"/>
            <a:chExt cx="5155560" cy="457200"/>
          </a:xfrm>
        </p:grpSpPr>
        <p:sp>
          <p:nvSpPr>
            <p:cNvPr id="2457" name=""/>
            <p:cNvSpPr/>
            <p:nvPr/>
          </p:nvSpPr>
          <p:spPr>
            <a:xfrm>
              <a:off x="345564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99392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26740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553080" y="58672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228600" y="914400"/>
            <a:ext cx="8763120" cy="5562720"/>
            <a:chOff x="228600" y="914400"/>
            <a:chExt cx="8763120" cy="5562720"/>
          </a:xfrm>
        </p:grpSpPr>
        <p:sp>
          <p:nvSpPr>
            <p:cNvPr id="2462" name=""/>
            <p:cNvSpPr/>
            <p:nvPr/>
          </p:nvSpPr>
          <p:spPr>
            <a:xfrm>
              <a:off x="379800" y="2173320"/>
              <a:ext cx="255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Felhasználó hitelesítés</a:t>
              </a: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28600" y="26668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80520" y="2784600"/>
              <a:ext cx="162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Gép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28600" y="327672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80520" y="3429000"/>
              <a:ext cx="202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Cím fordítás (</a:t>
              </a: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NAT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28600" y="38862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78360" y="3946680"/>
              <a:ext cx="1605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öbb protokoll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ámogatá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28600" y="44956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80520" y="4754520"/>
              <a:ext cx="200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IP címet csomag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28600" y="51814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80880" y="5291280"/>
              <a:ext cx="208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Csomag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8600" y="579132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99960" y="5973840"/>
              <a:ext cx="219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Multicast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 támoga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28600" y="64008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123360" y="1477800"/>
              <a:ext cx="111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PTP/PP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710960" y="1477800"/>
              <a:ext cx="10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L2TP/PP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295680" y="914400"/>
              <a:ext cx="11818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ranszport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064720" y="914400"/>
              <a:ext cx="7520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unnel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28600" y="18288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97180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41972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09588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62012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6369120" y="1914120"/>
            <a:ext cx="2445480" cy="3268800"/>
            <a:chOff x="6369120" y="1914120"/>
            <a:chExt cx="2445480" cy="3268800"/>
          </a:xfrm>
        </p:grpSpPr>
        <p:sp>
          <p:nvSpPr>
            <p:cNvPr id="2486" name=""/>
            <p:cNvSpPr/>
            <p:nvPr/>
          </p:nvSpPr>
          <p:spPr>
            <a:xfrm rot="20227800">
              <a:off x="7850880" y="2120760"/>
              <a:ext cx="855720" cy="337320"/>
            </a:xfrm>
            <a:prstGeom prst="rect">
              <a:avLst/>
            </a:prstGeom>
            <a:gradFill rotWithShape="0">
              <a:gsLst>
                <a:gs pos="0">
                  <a:srgbClr val="46752f"/>
                </a:gs>
                <a:gs pos="50000">
                  <a:srgbClr val="99ff66"/>
                </a:gs>
                <a:gs pos="100000">
                  <a:srgbClr val="46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ETF 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20227800">
              <a:off x="6402960" y="2057400"/>
              <a:ext cx="805680" cy="337320"/>
            </a:xfrm>
            <a:prstGeom prst="rect">
              <a:avLst/>
            </a:prstGeom>
            <a:gradFill rotWithShape="0">
              <a:gsLst>
                <a:gs pos="0">
                  <a:srgbClr val="46752f"/>
                </a:gs>
                <a:gs pos="50000">
                  <a:srgbClr val="99ff66"/>
                </a:gs>
                <a:gs pos="100000">
                  <a:srgbClr val="46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ETF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20227800">
              <a:off x="7926840" y="4692600"/>
              <a:ext cx="855720" cy="337320"/>
            </a:xfrm>
            <a:prstGeom prst="rect">
              <a:avLst/>
            </a:prstGeom>
            <a:gradFill rotWithShape="0">
              <a:gsLst>
                <a:gs pos="0">
                  <a:srgbClr val="46752f"/>
                </a:gs>
                <a:gs pos="50000">
                  <a:srgbClr val="99ff66"/>
                </a:gs>
                <a:gs pos="100000">
                  <a:srgbClr val="46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ETF 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3455640" y="3352680"/>
            <a:ext cx="5155560" cy="1067040"/>
            <a:chOff x="3455640" y="3352680"/>
            <a:chExt cx="5155560" cy="1067040"/>
          </a:xfrm>
        </p:grpSpPr>
        <p:sp>
          <p:nvSpPr>
            <p:cNvPr id="2490" name=""/>
            <p:cNvSpPr/>
            <p:nvPr/>
          </p:nvSpPr>
          <p:spPr>
            <a:xfrm>
              <a:off x="345564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99392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26740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553080" y="3352680"/>
              <a:ext cx="685800" cy="1067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utomatikus telepít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763120" cy="401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egrugalmasabb, de nem a legrövidebb telepítési módsz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elepítés minden gépen lef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mire szükség va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nt.exe, Winnt32.exe vagy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CD-R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sztribúciós pont vagy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Windows 2000 C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álasz fájl (unattend.txt)  vagy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winnt.sif floppy lemez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érdekes kombináci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495" name=""/>
          <p:cNvGrpSpPr/>
          <p:nvPr/>
        </p:nvGrpSpPr>
        <p:grpSpPr>
          <a:xfrm>
            <a:off x="7674120" y="1741320"/>
            <a:ext cx="690480" cy="750960"/>
            <a:chOff x="7674120" y="1741320"/>
            <a:chExt cx="690480" cy="750960"/>
          </a:xfrm>
        </p:grpSpPr>
        <p:sp>
          <p:nvSpPr>
            <p:cNvPr id="2496" name=""/>
            <p:cNvSpPr/>
            <p:nvPr/>
          </p:nvSpPr>
          <p:spPr>
            <a:xfrm>
              <a:off x="7913880" y="176508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931160" y="214776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931160" y="18986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674120" y="174312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674120" y="17431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886880" y="176832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931160" y="189684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931160" y="18572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931160" y="17920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674120" y="17413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912080" y="176508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674120" y="17431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886880" y="17701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886880" y="1779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886880" y="18320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931160" y="17920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886880" y="1847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886880" y="18968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886880" y="20955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931160" y="190800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196480" y="18986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931160" y="18986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183520" y="20905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7930800" y="19638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H="1">
              <a:off x="7930800" y="20304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886880" y="21477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886880" y="242712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931160" y="216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8196480" y="214776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931160" y="24080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931160" y="23954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931160" y="23842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931160" y="237168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931160" y="235728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931160" y="179388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183520" y="18176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993080" y="18572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931160" y="185724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931160" y="18748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H="1">
              <a:off x="8134560" y="18781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134560" y="18572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944120" y="18097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980480" y="180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016840" y="180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055000" y="180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93160" y="180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128080" y="180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166240" y="180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170920" y="18986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212320" y="238896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6" name=""/>
          <p:cNvSpPr/>
          <p:nvPr/>
        </p:nvSpPr>
        <p:spPr>
          <a:xfrm>
            <a:off x="2468520" y="2308320"/>
            <a:ext cx="3502080" cy="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7" name=""/>
          <p:cNvGrpSpPr/>
          <p:nvPr/>
        </p:nvGrpSpPr>
        <p:grpSpPr>
          <a:xfrm>
            <a:off x="609480" y="3581280"/>
            <a:ext cx="7909200" cy="778320"/>
            <a:chOff x="609480" y="3581280"/>
            <a:chExt cx="7909200" cy="778320"/>
          </a:xfrm>
        </p:grpSpPr>
        <p:sp>
          <p:nvSpPr>
            <p:cNvPr id="2548" name=""/>
            <p:cNvSpPr/>
            <p:nvPr/>
          </p:nvSpPr>
          <p:spPr>
            <a:xfrm>
              <a:off x="609480" y="3617640"/>
              <a:ext cx="1752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2T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133880" y="3585960"/>
              <a:ext cx="17524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2T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527800" y="3581280"/>
              <a:ext cx="299088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Felhasználó hitelesítés</a:t>
              </a:r>
              <a:br>
                <a:rPr sz="1800"/>
              </a:b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Felhasználó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Jelszó,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art Card/E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1" name=""/>
            <p:cNvGrpSpPr/>
            <p:nvPr/>
          </p:nvGrpSpPr>
          <p:grpSpPr>
            <a:xfrm>
              <a:off x="1960560" y="3585960"/>
              <a:ext cx="1980720" cy="457200"/>
              <a:chOff x="1960560" y="3585960"/>
              <a:chExt cx="1980720" cy="457200"/>
            </a:xfrm>
          </p:grpSpPr>
          <p:sp>
            <p:nvSpPr>
              <p:cNvPr id="2552" name=""/>
              <p:cNvSpPr/>
              <p:nvPr/>
            </p:nvSpPr>
            <p:spPr>
              <a:xfrm>
                <a:off x="1960560" y="3585960"/>
                <a:ext cx="1752480" cy="457200"/>
              </a:xfrm>
              <a:prstGeom prst="leftRightArrow">
                <a:avLst>
                  <a:gd name="adj1" fmla="val 50000"/>
                  <a:gd name="adj2" fmla="val 76306"/>
                </a:avLst>
              </a:prstGeom>
              <a:solidFill>
                <a:srgbClr val="3399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036520" y="3662280"/>
                <a:ext cx="19047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Csatorn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4" name=""/>
          <p:cNvGrpSpPr/>
          <p:nvPr/>
        </p:nvGrpSpPr>
        <p:grpSpPr>
          <a:xfrm>
            <a:off x="685800" y="4387680"/>
            <a:ext cx="7613640" cy="538200"/>
            <a:chOff x="685800" y="4387680"/>
            <a:chExt cx="7613640" cy="538200"/>
          </a:xfrm>
        </p:grpSpPr>
        <p:sp>
          <p:nvSpPr>
            <p:cNvPr id="2555" name=""/>
            <p:cNvSpPr/>
            <p:nvPr/>
          </p:nvSpPr>
          <p:spPr>
            <a:xfrm>
              <a:off x="685800" y="4448160"/>
              <a:ext cx="1752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PSe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10200" y="4448160"/>
              <a:ext cx="17524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PSe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7" name=""/>
            <p:cNvGrpSpPr/>
            <p:nvPr/>
          </p:nvGrpSpPr>
          <p:grpSpPr>
            <a:xfrm>
              <a:off x="1846440" y="4387680"/>
              <a:ext cx="2361960" cy="457200"/>
              <a:chOff x="1846440" y="4387680"/>
              <a:chExt cx="2361960" cy="457200"/>
            </a:xfrm>
          </p:grpSpPr>
          <p:sp>
            <p:nvSpPr>
              <p:cNvPr id="2558" name=""/>
              <p:cNvSpPr/>
              <p:nvPr/>
            </p:nvSpPr>
            <p:spPr>
              <a:xfrm>
                <a:off x="1846440" y="4387680"/>
                <a:ext cx="2361960" cy="457200"/>
              </a:xfrm>
              <a:prstGeom prst="leftRightArrow">
                <a:avLst>
                  <a:gd name="adj1" fmla="val 50000"/>
                  <a:gd name="adj2" fmla="val 102844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075040" y="4471560"/>
                <a:ext cx="19047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Titkosítá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0" name=""/>
            <p:cNvSpPr/>
            <p:nvPr/>
          </p:nvSpPr>
          <p:spPr>
            <a:xfrm>
              <a:off x="5604120" y="4473720"/>
              <a:ext cx="2695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Gép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1" name=""/>
          <p:cNvSpPr/>
          <p:nvPr/>
        </p:nvSpPr>
        <p:spPr>
          <a:xfrm flipV="1" rot="20752200">
            <a:off x="2526840" y="1672920"/>
            <a:ext cx="3448080" cy="819000"/>
          </a:xfrm>
          <a:custGeom>
            <a:avLst/>
            <a:gdLst/>
            <a:ahLst/>
            <a:rect l="l" t="t" r="r" b="b"/>
            <a:pathLst>
              <a:path w="1661" h="965">
                <a:moveTo>
                  <a:pt x="0" y="965"/>
                </a:moveTo>
                <a:cubicBezTo>
                  <a:pt x="128" y="857"/>
                  <a:pt x="257" y="749"/>
                  <a:pt x="453" y="617"/>
                </a:cubicBezTo>
                <a:cubicBezTo>
                  <a:pt x="649" y="485"/>
                  <a:pt x="973" y="276"/>
                  <a:pt x="1174" y="173"/>
                </a:cubicBezTo>
                <a:cubicBezTo>
                  <a:pt x="1375" y="70"/>
                  <a:pt x="1518" y="35"/>
                  <a:pt x="1661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2440080" y="2016000"/>
            <a:ext cx="3771360" cy="228600"/>
            <a:chOff x="2440080" y="2016000"/>
            <a:chExt cx="3771360" cy="228600"/>
          </a:xfrm>
        </p:grpSpPr>
        <p:sp>
          <p:nvSpPr>
            <p:cNvPr id="2563" name=""/>
            <p:cNvSpPr/>
            <p:nvPr/>
          </p:nvSpPr>
          <p:spPr>
            <a:xfrm>
              <a:off x="5956200" y="2019240"/>
              <a:ext cx="255240" cy="217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440080" y="2021040"/>
              <a:ext cx="553680" cy="21564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894280" y="2016000"/>
              <a:ext cx="118800" cy="2224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3051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944800" y="2022480"/>
              <a:ext cx="2996640" cy="22068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874960" y="2022480"/>
              <a:ext cx="118440" cy="22212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3051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8" name=""/>
          <p:cNvSpPr/>
          <p:nvPr/>
        </p:nvSpPr>
        <p:spPr>
          <a:xfrm rot="612000">
            <a:off x="2453760" y="1855800"/>
            <a:ext cx="3597480" cy="716040"/>
          </a:xfrm>
          <a:custGeom>
            <a:avLst/>
            <a:gdLst/>
            <a:ahLst/>
            <a:rect l="l" t="t" r="r" b="b"/>
            <a:pathLst>
              <a:path w="1757" h="1026">
                <a:moveTo>
                  <a:pt x="1757" y="0"/>
                </a:moveTo>
                <a:cubicBezTo>
                  <a:pt x="1699" y="137"/>
                  <a:pt x="1641" y="274"/>
                  <a:pt x="1435" y="426"/>
                </a:cubicBezTo>
                <a:cubicBezTo>
                  <a:pt x="1229" y="578"/>
                  <a:pt x="761" y="813"/>
                  <a:pt x="522" y="913"/>
                </a:cubicBezTo>
                <a:cubicBezTo>
                  <a:pt x="283" y="1013"/>
                  <a:pt x="141" y="1019"/>
                  <a:pt x="0" y="10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490840" y="2120760"/>
            <a:ext cx="5170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0" name="" descr=""/>
          <p:cNvPicPr/>
          <p:nvPr/>
        </p:nvPicPr>
        <p:blipFill>
          <a:blip r:embed="rId2"/>
          <a:stretch/>
        </p:blipFill>
        <p:spPr>
          <a:xfrm>
            <a:off x="1095480" y="1528920"/>
            <a:ext cx="14270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2571" name=""/>
          <p:cNvGrpSpPr/>
          <p:nvPr/>
        </p:nvGrpSpPr>
        <p:grpSpPr>
          <a:xfrm>
            <a:off x="6143760" y="1790640"/>
            <a:ext cx="690480" cy="750960"/>
            <a:chOff x="6143760" y="1790640"/>
            <a:chExt cx="690480" cy="750960"/>
          </a:xfrm>
        </p:grpSpPr>
        <p:sp>
          <p:nvSpPr>
            <p:cNvPr id="2572" name=""/>
            <p:cNvSpPr/>
            <p:nvPr/>
          </p:nvSpPr>
          <p:spPr>
            <a:xfrm>
              <a:off x="6383520" y="181440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400800" y="219708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400800" y="194796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143760" y="179244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143760" y="179244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356520" y="181764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00800" y="194616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00800" y="190656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00800" y="184140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143760" y="179064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381720" y="181440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143760" y="179244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356520" y="181944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356520" y="18288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356520" y="18813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400800" y="184140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356520" y="18972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356520" y="1946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356520" y="2144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400800" y="195732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666120" y="194796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400800" y="194796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653160" y="21398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>
              <a:off x="6400440" y="201312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>
              <a:off x="6400440" y="207972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356520" y="21970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356520" y="247644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400800" y="22129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666120" y="219708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400800" y="245736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400800" y="244476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400800" y="243360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400800" y="242100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400800" y="240660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400800" y="184320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653160" y="18669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462720" y="190656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400800" y="190656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400800" y="192420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H="1">
              <a:off x="6604200" y="192744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604200" y="190656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413760" y="18590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450120" y="18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486480" y="18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524640" y="18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562800" y="185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597720" y="185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635880" y="185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640560" y="194796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681960" y="243828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2" name=""/>
          <p:cNvGrpSpPr/>
          <p:nvPr/>
        </p:nvGrpSpPr>
        <p:grpSpPr>
          <a:xfrm>
            <a:off x="3530160" y="1579680"/>
            <a:ext cx="1586160" cy="1085040"/>
            <a:chOff x="3530160" y="1579680"/>
            <a:chExt cx="1586160" cy="1085040"/>
          </a:xfrm>
        </p:grpSpPr>
        <p:grpSp>
          <p:nvGrpSpPr>
            <p:cNvPr id="2623" name=""/>
            <p:cNvGrpSpPr/>
            <p:nvPr/>
          </p:nvGrpSpPr>
          <p:grpSpPr>
            <a:xfrm>
              <a:off x="3530160" y="1579680"/>
              <a:ext cx="1586160" cy="1085040"/>
              <a:chOff x="3530160" y="1579680"/>
              <a:chExt cx="1586160" cy="1085040"/>
            </a:xfrm>
          </p:grpSpPr>
          <p:sp>
            <p:nvSpPr>
              <p:cNvPr id="2624" name=""/>
              <p:cNvSpPr/>
              <p:nvPr/>
            </p:nvSpPr>
            <p:spPr>
              <a:xfrm rot="20700000">
                <a:off x="4239720" y="2399040"/>
                <a:ext cx="245880" cy="21708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rot="20700000">
                <a:off x="4046400" y="1607760"/>
                <a:ext cx="248040" cy="21744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rot="20700000">
                <a:off x="3715200" y="1759320"/>
                <a:ext cx="150120" cy="1335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rot="20700000">
                <a:off x="3742920" y="2287800"/>
                <a:ext cx="149400" cy="12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rot="20700000">
                <a:off x="3606480" y="2095200"/>
                <a:ext cx="246240" cy="2109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rot="20700000">
                <a:off x="3855960" y="1662840"/>
                <a:ext cx="247680" cy="21564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rot="20700000">
                <a:off x="4842720" y="2174760"/>
                <a:ext cx="249480" cy="2163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rot="20700000">
                <a:off x="4663080" y="2271240"/>
                <a:ext cx="249480" cy="220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32" name=""/>
              <p:cNvGrpSpPr/>
              <p:nvPr/>
            </p:nvGrpSpPr>
            <p:grpSpPr>
              <a:xfrm>
                <a:off x="3530160" y="1582200"/>
                <a:ext cx="1562760" cy="1082520"/>
                <a:chOff x="3530160" y="1582200"/>
                <a:chExt cx="1562760" cy="1082520"/>
              </a:xfrm>
            </p:grpSpPr>
            <p:sp>
              <p:nvSpPr>
                <p:cNvPr id="2633" name=""/>
                <p:cNvSpPr/>
                <p:nvPr/>
              </p:nvSpPr>
              <p:spPr>
                <a:xfrm rot="20700000">
                  <a:off x="3573360" y="1851480"/>
                  <a:ext cx="443880" cy="3927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4" name=""/>
                <p:cNvGrpSpPr/>
                <p:nvPr/>
              </p:nvGrpSpPr>
              <p:grpSpPr>
                <a:xfrm>
                  <a:off x="3688200" y="1740600"/>
                  <a:ext cx="994680" cy="924120"/>
                  <a:chOff x="3688200" y="1740600"/>
                  <a:chExt cx="994680" cy="924120"/>
                </a:xfrm>
              </p:grpSpPr>
              <p:sp>
                <p:nvSpPr>
                  <p:cNvPr id="2635" name=""/>
                  <p:cNvSpPr/>
                  <p:nvPr/>
                </p:nvSpPr>
                <p:spPr>
                  <a:xfrm rot="20700000">
                    <a:off x="3768840" y="1835640"/>
                    <a:ext cx="833400" cy="733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3734280" y="2016000"/>
                    <a:ext cx="12888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5686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7" name=""/>
                <p:cNvSpPr/>
                <p:nvPr/>
              </p:nvSpPr>
              <p:spPr>
                <a:xfrm rot="20700000">
                  <a:off x="4073760" y="1831680"/>
                  <a:ext cx="834120" cy="7336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rot="20700000">
                  <a:off x="4765320" y="1832040"/>
                  <a:ext cx="298440" cy="2628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rot="20700000">
                  <a:off x="4757040" y="2250000"/>
                  <a:ext cx="198000" cy="17712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rot="20700000">
                  <a:off x="4645800" y="1794240"/>
                  <a:ext cx="198360" cy="1706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rot="20700000">
                  <a:off x="4759920" y="2015640"/>
                  <a:ext cx="299880" cy="2595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rot="20700000">
                  <a:off x="3789720" y="169992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rot="20700000">
                  <a:off x="4235400" y="165852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rot="20700000">
                  <a:off x="4024440" y="1632960"/>
                  <a:ext cx="44568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rot="20700000">
                  <a:off x="3995640" y="2129760"/>
                  <a:ext cx="442080" cy="3906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3842280" y="1708560"/>
                  <a:ext cx="1106640" cy="79740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568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7" name=""/>
            <p:cNvSpPr/>
            <p:nvPr/>
          </p:nvSpPr>
          <p:spPr>
            <a:xfrm>
              <a:off x="3695400" y="185724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8" name=""/>
          <p:cNvGrpSpPr/>
          <p:nvPr/>
        </p:nvGrpSpPr>
        <p:grpSpPr>
          <a:xfrm>
            <a:off x="2971800" y="1828800"/>
            <a:ext cx="5943600" cy="4572000"/>
            <a:chOff x="2971800" y="1828800"/>
            <a:chExt cx="5943600" cy="4572000"/>
          </a:xfrm>
        </p:grpSpPr>
        <p:sp>
          <p:nvSpPr>
            <p:cNvPr id="2649" name=""/>
            <p:cNvSpPr/>
            <p:nvPr/>
          </p:nvSpPr>
          <p:spPr>
            <a:xfrm>
              <a:off x="2971800" y="1828800"/>
              <a:ext cx="1447920" cy="457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95880" y="1828800"/>
              <a:ext cx="1524240" cy="4572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20120" y="1828800"/>
              <a:ext cx="1295280" cy="457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2TP + IPSec funkció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4800600" y="64911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FC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apján, szabványos mód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4669920" y="1981080"/>
            <a:ext cx="99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(AD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KI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4993920" y="40687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993920" y="47545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993920" y="597384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8" name=""/>
          <p:cNvGrpSpPr/>
          <p:nvPr/>
        </p:nvGrpSpPr>
        <p:grpSpPr>
          <a:xfrm>
            <a:off x="228600" y="914400"/>
            <a:ext cx="8763120" cy="5562720"/>
            <a:chOff x="228600" y="914400"/>
            <a:chExt cx="8763120" cy="5562720"/>
          </a:xfrm>
        </p:grpSpPr>
        <p:sp>
          <p:nvSpPr>
            <p:cNvPr id="2659" name=""/>
            <p:cNvSpPr/>
            <p:nvPr/>
          </p:nvSpPr>
          <p:spPr>
            <a:xfrm>
              <a:off x="379800" y="2173320"/>
              <a:ext cx="255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Felhasználó hitelesítés</a:t>
              </a: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131640" y="1981080"/>
              <a:ext cx="991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AD,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472080" y="20574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8010360" y="20574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28600" y="26668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80520" y="2784600"/>
              <a:ext cx="162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Gép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619680" y="2716200"/>
              <a:ext cx="53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172000" y="2727360"/>
              <a:ext cx="53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294000" y="27432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28600" y="327672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80520" y="3429000"/>
              <a:ext cx="202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Cím fordítás (</a:t>
              </a: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NAT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455640" y="34592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12160" y="33526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28600" y="38862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78360" y="3946680"/>
              <a:ext cx="1605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öbb protokoll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ámogatá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45564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826740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553080" y="3352680"/>
              <a:ext cx="685800" cy="1067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28600" y="44956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80520" y="4754520"/>
              <a:ext cx="200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IP címet csomag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455640" y="47545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688080" y="47545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/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21520" y="46483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28600" y="51814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80880" y="5291280"/>
              <a:ext cx="208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Csomag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714720" y="53452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267400" y="53640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243240" y="5257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8600" y="579132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99960" y="5973840"/>
              <a:ext cx="219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Multicast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 támoga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45564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26740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553080" y="58672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28600" y="64008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123360" y="1477800"/>
              <a:ext cx="111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PTP/PP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387680" y="958680"/>
              <a:ext cx="1708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L2TP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+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ranszport 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295680" y="914400"/>
              <a:ext cx="11818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ranszport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64720" y="914400"/>
              <a:ext cx="7520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unnel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28600" y="18288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97180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41972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09588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62012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2" name=""/>
          <p:cNvSpPr/>
          <p:nvPr/>
        </p:nvSpPr>
        <p:spPr>
          <a:xfrm>
            <a:off x="4952880" y="284940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4800600" y="33526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990680" y="536400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elyik protokoll milyen célra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3123360" y="2475000"/>
            <a:ext cx="11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TP/P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593600" y="1981080"/>
            <a:ext cx="1316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2TP</a:t>
            </a: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+IPSec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Transzport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Mó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6295680" y="1981080"/>
            <a:ext cx="11818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PSec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Transzport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Mó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8064720" y="1981080"/>
            <a:ext cx="752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PSec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Tunnel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Mó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28600" y="278280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971800" y="2516040"/>
            <a:ext cx="0" cy="373248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4419720" y="2516040"/>
            <a:ext cx="0" cy="373248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095880" y="2516040"/>
            <a:ext cx="0" cy="373248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7620120" y="2516040"/>
            <a:ext cx="0" cy="373248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57200" y="3078000"/>
            <a:ext cx="192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RAS (Host – L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228600" y="361152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13280" y="3718080"/>
            <a:ext cx="241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Telephelyek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kapcsolata (LAN-L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28600" y="437364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411480" y="4495680"/>
            <a:ext cx="2073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xtranet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(pl. dealeri hálóza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28600" y="518148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412200" y="5334120"/>
            <a:ext cx="226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Biztonságos intra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(Pont-po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228600" y="601992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3" name=""/>
          <p:cNvGrpSpPr/>
          <p:nvPr/>
        </p:nvGrpSpPr>
        <p:grpSpPr>
          <a:xfrm>
            <a:off x="3504960" y="2971800"/>
            <a:ext cx="5105520" cy="457200"/>
            <a:chOff x="3504960" y="2971800"/>
            <a:chExt cx="5105520" cy="457200"/>
          </a:xfrm>
        </p:grpSpPr>
        <p:sp>
          <p:nvSpPr>
            <p:cNvPr id="2724" name=""/>
            <p:cNvSpPr/>
            <p:nvPr/>
          </p:nvSpPr>
          <p:spPr>
            <a:xfrm>
              <a:off x="3504960" y="30780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067000" y="30780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477120" y="2971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924680" y="2971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3504960" y="3809880"/>
            <a:ext cx="5232240" cy="457200"/>
            <a:chOff x="3504960" y="3809880"/>
            <a:chExt cx="5232240" cy="457200"/>
          </a:xfrm>
        </p:grpSpPr>
        <p:sp>
          <p:nvSpPr>
            <p:cNvPr id="2729" name=""/>
            <p:cNvSpPr/>
            <p:nvPr/>
          </p:nvSpPr>
          <p:spPr>
            <a:xfrm>
              <a:off x="3504960" y="38703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067000" y="38703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912080" y="387036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Csak 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477120" y="38098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3" name=""/>
          <p:cNvGrpSpPr/>
          <p:nvPr/>
        </p:nvGrpSpPr>
        <p:grpSpPr>
          <a:xfrm>
            <a:off x="3504960" y="4572000"/>
            <a:ext cx="5232240" cy="457200"/>
            <a:chOff x="3504960" y="4572000"/>
            <a:chExt cx="5232240" cy="457200"/>
          </a:xfrm>
        </p:grpSpPr>
        <p:sp>
          <p:nvSpPr>
            <p:cNvPr id="2734" name=""/>
            <p:cNvSpPr/>
            <p:nvPr/>
          </p:nvSpPr>
          <p:spPr>
            <a:xfrm>
              <a:off x="3504960" y="46782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067000" y="46782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912080" y="467820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Csak 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477120" y="45720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3352680" y="5318280"/>
            <a:ext cx="5257800" cy="549000"/>
            <a:chOff x="3352680" y="5318280"/>
            <a:chExt cx="5257800" cy="549000"/>
          </a:xfrm>
        </p:grpSpPr>
        <p:sp>
          <p:nvSpPr>
            <p:cNvPr id="2739" name=""/>
            <p:cNvSpPr/>
            <p:nvPr/>
          </p:nvSpPr>
          <p:spPr>
            <a:xfrm>
              <a:off x="6323760" y="5318280"/>
              <a:ext cx="1081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Csa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unicast 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924680" y="53341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876920" y="53341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352680" y="53341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3" name=""/>
          <p:cNvGrpSpPr/>
          <p:nvPr/>
        </p:nvGrpSpPr>
        <p:grpSpPr>
          <a:xfrm>
            <a:off x="2182680" y="2229480"/>
            <a:ext cx="6538680" cy="823320"/>
            <a:chOff x="2182680" y="2229480"/>
            <a:chExt cx="6538680" cy="823320"/>
          </a:xfrm>
        </p:grpSpPr>
        <p:grpSp>
          <p:nvGrpSpPr>
            <p:cNvPr id="2744" name=""/>
            <p:cNvGrpSpPr/>
            <p:nvPr/>
          </p:nvGrpSpPr>
          <p:grpSpPr>
            <a:xfrm>
              <a:off x="3504600" y="2445840"/>
              <a:ext cx="3519720" cy="295920"/>
              <a:chOff x="3504600" y="2445840"/>
              <a:chExt cx="3519720" cy="295920"/>
            </a:xfrm>
          </p:grpSpPr>
          <p:sp>
            <p:nvSpPr>
              <p:cNvPr id="2745" name=""/>
              <p:cNvSpPr/>
              <p:nvPr/>
            </p:nvSpPr>
            <p:spPr>
              <a:xfrm>
                <a:off x="6785640" y="2449440"/>
                <a:ext cx="238680" cy="281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46" name=""/>
              <p:cNvGrpSpPr/>
              <p:nvPr/>
            </p:nvGrpSpPr>
            <p:grpSpPr>
              <a:xfrm>
                <a:off x="3504600" y="2445840"/>
                <a:ext cx="3333240" cy="295920"/>
                <a:chOff x="3504600" y="2445840"/>
                <a:chExt cx="3333240" cy="295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3504600" y="2453040"/>
                  <a:ext cx="516960" cy="277920"/>
                </a:xfrm>
                <a:prstGeom prst="rect">
                  <a:avLst/>
                </a:pr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8" name=""/>
                <p:cNvGrpSpPr/>
                <p:nvPr/>
              </p:nvGrpSpPr>
              <p:grpSpPr>
                <a:xfrm>
                  <a:off x="3909240" y="2445840"/>
                  <a:ext cx="2928600" cy="295920"/>
                  <a:chOff x="3909240" y="2445840"/>
                  <a:chExt cx="2928600" cy="29592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>
                    <a:off x="6727320" y="2445840"/>
                    <a:ext cx="110520" cy="2890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>
                    <a:off x="3974040" y="2453040"/>
                    <a:ext cx="2797560" cy="28620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>
                    <a:off x="3909240" y="2453040"/>
                    <a:ext cx="110880" cy="28872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52" name=""/>
            <p:cNvSpPr/>
            <p:nvPr/>
          </p:nvSpPr>
          <p:spPr>
            <a:xfrm>
              <a:off x="7102080" y="2608560"/>
              <a:ext cx="124056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3" name=""/>
            <p:cNvGrpSpPr/>
            <p:nvPr/>
          </p:nvGrpSpPr>
          <p:grpSpPr>
            <a:xfrm>
              <a:off x="3567240" y="2451960"/>
              <a:ext cx="3511440" cy="289800"/>
              <a:chOff x="3567240" y="2451960"/>
              <a:chExt cx="3511440" cy="289800"/>
            </a:xfrm>
          </p:grpSpPr>
          <p:grpSp>
            <p:nvGrpSpPr>
              <p:cNvPr id="2754" name=""/>
              <p:cNvGrpSpPr/>
              <p:nvPr/>
            </p:nvGrpSpPr>
            <p:grpSpPr>
              <a:xfrm>
                <a:off x="3567240" y="2514600"/>
                <a:ext cx="3511440" cy="165960"/>
                <a:chOff x="3567240" y="2514600"/>
                <a:chExt cx="3511440" cy="165960"/>
              </a:xfrm>
            </p:grpSpPr>
            <p:sp>
              <p:nvSpPr>
                <p:cNvPr id="2755" name=""/>
                <p:cNvSpPr/>
                <p:nvPr/>
              </p:nvSpPr>
              <p:spPr>
                <a:xfrm>
                  <a:off x="6890760" y="2521440"/>
                  <a:ext cx="187920" cy="1479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6" name=""/>
                <p:cNvGrpSpPr/>
                <p:nvPr/>
              </p:nvGrpSpPr>
              <p:grpSpPr>
                <a:xfrm>
                  <a:off x="3567240" y="2514600"/>
                  <a:ext cx="3387960" cy="165960"/>
                  <a:chOff x="3567240" y="2514600"/>
                  <a:chExt cx="3387960" cy="165960"/>
                </a:xfrm>
              </p:grpSpPr>
              <p:sp>
                <p:nvSpPr>
                  <p:cNvPr id="2757" name=""/>
                  <p:cNvSpPr/>
                  <p:nvPr/>
                </p:nvSpPr>
                <p:spPr>
                  <a:xfrm>
                    <a:off x="3567240" y="2514600"/>
                    <a:ext cx="371160" cy="16596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58" name=""/>
                  <p:cNvGrpSpPr/>
                  <p:nvPr/>
                </p:nvGrpSpPr>
                <p:grpSpPr>
                  <a:xfrm>
                    <a:off x="3853800" y="2520360"/>
                    <a:ext cx="3101400" cy="154800"/>
                    <a:chOff x="3853800" y="2520360"/>
                    <a:chExt cx="3101400" cy="154800"/>
                  </a:xfrm>
                </p:grpSpPr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6844320" y="2520360"/>
                      <a:ext cx="110880" cy="15012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3918960" y="2521440"/>
                      <a:ext cx="2978640" cy="146520"/>
                    </a:xfrm>
                    <a:prstGeom prst="rect">
                      <a:avLst/>
                    </a:prstGeom>
                    <a:solidFill>
                      <a:srgbClr val="eea56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3853800" y="2524680"/>
                      <a:ext cx="110880" cy="15048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62" name=""/>
              <p:cNvGrpSpPr/>
              <p:nvPr/>
            </p:nvGrpSpPr>
            <p:grpSpPr>
              <a:xfrm>
                <a:off x="3966120" y="2451960"/>
                <a:ext cx="2866320" cy="289800"/>
                <a:chOff x="3966120" y="2451960"/>
                <a:chExt cx="2866320" cy="28980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4024080" y="2451960"/>
                  <a:ext cx="2746080" cy="2865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3966120" y="2455200"/>
                  <a:ext cx="57960" cy="28512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721920" y="2453040"/>
                  <a:ext cx="110520" cy="28872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6" name=""/>
            <p:cNvGrpSpPr/>
            <p:nvPr/>
          </p:nvGrpSpPr>
          <p:grpSpPr>
            <a:xfrm>
              <a:off x="3517560" y="2448360"/>
              <a:ext cx="3527280" cy="289800"/>
              <a:chOff x="3517560" y="2448360"/>
              <a:chExt cx="3527280" cy="289800"/>
            </a:xfrm>
          </p:grpSpPr>
          <p:sp>
            <p:nvSpPr>
              <p:cNvPr id="2767" name=""/>
              <p:cNvSpPr/>
              <p:nvPr/>
            </p:nvSpPr>
            <p:spPr>
              <a:xfrm>
                <a:off x="3517560" y="2608560"/>
                <a:ext cx="3527280" cy="0"/>
              </a:xfrm>
              <a:prstGeom prst="line">
                <a:avLst/>
              </a:prstGeom>
              <a:ln w="572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68" name=""/>
              <p:cNvGrpSpPr/>
              <p:nvPr/>
            </p:nvGrpSpPr>
            <p:grpSpPr>
              <a:xfrm>
                <a:off x="3962160" y="2448360"/>
                <a:ext cx="2865960" cy="289800"/>
                <a:chOff x="3962160" y="2448360"/>
                <a:chExt cx="2865960" cy="28980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4020120" y="2448360"/>
                  <a:ext cx="2745720" cy="2865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3962160" y="2451600"/>
                  <a:ext cx="57960" cy="28512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717600" y="2449440"/>
                  <a:ext cx="110520" cy="28872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72" name=""/>
            <p:cNvSpPr/>
            <p:nvPr/>
          </p:nvSpPr>
          <p:spPr>
            <a:xfrm>
              <a:off x="2649240" y="2611080"/>
              <a:ext cx="9187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73" name=""/>
            <p:cNvGrpSpPr/>
            <p:nvPr/>
          </p:nvGrpSpPr>
          <p:grpSpPr>
            <a:xfrm>
              <a:off x="2182680" y="2229480"/>
              <a:ext cx="6538680" cy="823320"/>
              <a:chOff x="2182680" y="2229480"/>
              <a:chExt cx="6538680" cy="823320"/>
            </a:xfrm>
          </p:grpSpPr>
          <p:grpSp>
            <p:nvGrpSpPr>
              <p:cNvPr id="2774" name=""/>
              <p:cNvGrpSpPr/>
              <p:nvPr/>
            </p:nvGrpSpPr>
            <p:grpSpPr>
              <a:xfrm>
                <a:off x="2182680" y="2309760"/>
                <a:ext cx="6538680" cy="595800"/>
                <a:chOff x="2182680" y="2309760"/>
                <a:chExt cx="6538680" cy="595800"/>
              </a:xfrm>
            </p:grpSpPr>
            <p:grpSp>
              <p:nvGrpSpPr>
                <p:cNvPr id="2775" name=""/>
                <p:cNvGrpSpPr/>
                <p:nvPr/>
              </p:nvGrpSpPr>
              <p:grpSpPr>
                <a:xfrm>
                  <a:off x="6994440" y="2336040"/>
                  <a:ext cx="524160" cy="569520"/>
                  <a:chOff x="6994440" y="2336040"/>
                  <a:chExt cx="524160" cy="569520"/>
                </a:xfrm>
              </p:grpSpPr>
              <p:sp>
                <p:nvSpPr>
                  <p:cNvPr id="2776" name=""/>
                  <p:cNvSpPr/>
                  <p:nvPr/>
                </p:nvSpPr>
                <p:spPr>
                  <a:xfrm>
                    <a:off x="7176600" y="2354040"/>
                    <a:ext cx="227520" cy="55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>
                    <a:off x="7189560" y="2644200"/>
                    <a:ext cx="20232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>
                    <a:off x="7189560" y="2455200"/>
                    <a:ext cx="19296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>
                    <a:off x="6994440" y="2337120"/>
                    <a:ext cx="409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6994440" y="2337120"/>
                    <a:ext cx="18324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>
                    <a:off x="7156080" y="2356200"/>
                    <a:ext cx="21600" cy="54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7189560" y="2453760"/>
                    <a:ext cx="20232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7189560" y="2423880"/>
                    <a:ext cx="20232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>
                    <a:off x="7189560" y="2374200"/>
                    <a:ext cx="2023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>
                    <a:off x="6994440" y="2336040"/>
                    <a:ext cx="4096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>
                    <a:off x="7175160" y="2354040"/>
                    <a:ext cx="228960" cy="55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6994440" y="2337120"/>
                    <a:ext cx="1821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7156080" y="2357640"/>
                    <a:ext cx="0" cy="53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>
                    <a:off x="7156080" y="236484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7156080" y="240480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7189560" y="2374200"/>
                    <a:ext cx="2023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7156080" y="241668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>
                    <a:off x="7156080" y="245376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7156080" y="260460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7189560" y="2462400"/>
                    <a:ext cx="0" cy="15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7391160" y="2455200"/>
                    <a:ext cx="0" cy="14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7189560" y="2455200"/>
                    <a:ext cx="19296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7381440" y="2600640"/>
                    <a:ext cx="9720" cy="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 flipH="1">
                    <a:off x="7189560" y="2504520"/>
                    <a:ext cx="191520" cy="9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 flipH="1">
                    <a:off x="7189560" y="2555280"/>
                    <a:ext cx="191520" cy="10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7156080" y="264420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7156080" y="2855880"/>
                    <a:ext cx="2480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7189560" y="2656080"/>
                    <a:ext cx="0" cy="22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7391160" y="2644200"/>
                    <a:ext cx="0" cy="21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7189560" y="2841480"/>
                    <a:ext cx="20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7189560" y="2832120"/>
                    <a:ext cx="20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7189560" y="2823480"/>
                    <a:ext cx="20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7189560" y="2814120"/>
                    <a:ext cx="2023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7189560" y="2802960"/>
                    <a:ext cx="202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7189560" y="2375640"/>
                    <a:ext cx="192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7381440" y="2393640"/>
                    <a:ext cx="9720" cy="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7236720" y="2423880"/>
                    <a:ext cx="1083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7189560" y="2423880"/>
                    <a:ext cx="2023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7189560" y="2437200"/>
                    <a:ext cx="155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5" name=""/>
                  <p:cNvSpPr/>
                  <p:nvPr/>
                </p:nvSpPr>
                <p:spPr>
                  <a:xfrm flipH="1">
                    <a:off x="7344000" y="2439720"/>
                    <a:ext cx="4680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7344000" y="2423880"/>
                    <a:ext cx="0" cy="8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7199280" y="238788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7227000" y="23864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7254720" y="23864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7283520" y="23864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7312680" y="23853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7339320" y="23828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7368120" y="23828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7371720" y="2455200"/>
                    <a:ext cx="201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7403040" y="2827080"/>
                    <a:ext cx="1155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82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82680" y="2358000"/>
                  <a:ext cx="654840" cy="4622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827" name=""/>
                <p:cNvGrpSpPr/>
                <p:nvPr/>
              </p:nvGrpSpPr>
              <p:grpSpPr>
                <a:xfrm>
                  <a:off x="3173760" y="2309760"/>
                  <a:ext cx="524160" cy="569520"/>
                  <a:chOff x="3173760" y="2309760"/>
                  <a:chExt cx="524160" cy="569520"/>
                </a:xfrm>
              </p:grpSpPr>
              <p:sp>
                <p:nvSpPr>
                  <p:cNvPr id="2828" name=""/>
                  <p:cNvSpPr/>
                  <p:nvPr/>
                </p:nvSpPr>
                <p:spPr>
                  <a:xfrm>
                    <a:off x="3355920" y="2327760"/>
                    <a:ext cx="227520" cy="55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>
                    <a:off x="3368880" y="2617920"/>
                    <a:ext cx="20232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3368880" y="2428920"/>
                    <a:ext cx="19296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3173760" y="2310840"/>
                    <a:ext cx="409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3173760" y="2310840"/>
                    <a:ext cx="18324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3335400" y="2329920"/>
                    <a:ext cx="21600" cy="54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3368880" y="2427480"/>
                    <a:ext cx="20232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3368880" y="2397600"/>
                    <a:ext cx="20232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3368880" y="2347920"/>
                    <a:ext cx="2023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3173760" y="2309760"/>
                    <a:ext cx="4096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3354480" y="2327760"/>
                    <a:ext cx="228960" cy="55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3173760" y="2310840"/>
                    <a:ext cx="1821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3335400" y="2331360"/>
                    <a:ext cx="0" cy="53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3335400" y="233856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3335400" y="237852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3368880" y="2347920"/>
                    <a:ext cx="2023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>
                    <a:off x="3335400" y="239040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3335400" y="242748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3335400" y="257832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3368880" y="2436120"/>
                    <a:ext cx="0" cy="15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3570480" y="2428920"/>
                    <a:ext cx="0" cy="14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3368880" y="2428920"/>
                    <a:ext cx="19296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3560760" y="2574360"/>
                    <a:ext cx="9720" cy="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 flipH="1">
                    <a:off x="3368880" y="2478240"/>
                    <a:ext cx="191520" cy="9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 flipH="1">
                    <a:off x="3368880" y="2529000"/>
                    <a:ext cx="191520" cy="10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3335400" y="261792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3335400" y="2829600"/>
                    <a:ext cx="2480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3368880" y="2629800"/>
                    <a:ext cx="0" cy="22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3570480" y="2617920"/>
                    <a:ext cx="0" cy="21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3368880" y="2815200"/>
                    <a:ext cx="20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>
                    <a:off x="3368880" y="2805840"/>
                    <a:ext cx="20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>
                    <a:off x="3368880" y="2797200"/>
                    <a:ext cx="20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3368880" y="2787840"/>
                    <a:ext cx="2023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3368880" y="2776680"/>
                    <a:ext cx="202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3368880" y="2349360"/>
                    <a:ext cx="192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3560760" y="2367360"/>
                    <a:ext cx="9720" cy="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3416040" y="2397600"/>
                    <a:ext cx="1083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3368880" y="2397600"/>
                    <a:ext cx="2023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3368880" y="2410920"/>
                    <a:ext cx="155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 flipH="1">
                    <a:off x="3523320" y="2413440"/>
                    <a:ext cx="4680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3523320" y="2397600"/>
                    <a:ext cx="0" cy="8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3378600" y="236160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3406320" y="23601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3434040" y="23601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3462840" y="23601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3492000" y="235908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3518640" y="23565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3547440" y="23565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3551040" y="2428920"/>
                    <a:ext cx="201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3582360" y="2800800"/>
                    <a:ext cx="1155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87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066520" y="2369880"/>
                  <a:ext cx="654840" cy="46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79" name=""/>
              <p:cNvGrpSpPr/>
              <p:nvPr/>
            </p:nvGrpSpPr>
            <p:grpSpPr>
              <a:xfrm>
                <a:off x="5052600" y="2229480"/>
                <a:ext cx="1204560" cy="823320"/>
                <a:chOff x="5052600" y="2229480"/>
                <a:chExt cx="1204560" cy="823320"/>
              </a:xfrm>
            </p:grpSpPr>
            <p:grpSp>
              <p:nvGrpSpPr>
                <p:cNvPr id="2880" name=""/>
                <p:cNvGrpSpPr/>
                <p:nvPr/>
              </p:nvGrpSpPr>
              <p:grpSpPr>
                <a:xfrm>
                  <a:off x="5052600" y="2229480"/>
                  <a:ext cx="1204560" cy="823320"/>
                  <a:chOff x="5052600" y="2229480"/>
                  <a:chExt cx="1204560" cy="82332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 rot="20700000">
                    <a:off x="5591520" y="2851200"/>
                    <a:ext cx="186480" cy="1645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rot="20700000">
                    <a:off x="5444640" y="2251080"/>
                    <a:ext cx="188640" cy="1652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rot="20700000">
                    <a:off x="5193360" y="2365920"/>
                    <a:ext cx="113760" cy="1015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rot="20700000">
                    <a:off x="5214600" y="2766600"/>
                    <a:ext cx="113400" cy="968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 rot="20700000">
                    <a:off x="5110200" y="2621160"/>
                    <a:ext cx="187200" cy="1602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 rot="20700000">
                    <a:off x="5299920" y="2292480"/>
                    <a:ext cx="187920" cy="163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 rot="20700000">
                    <a:off x="6049800" y="2680920"/>
                    <a:ext cx="189360" cy="1641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rot="20700000">
                    <a:off x="5913000" y="2754720"/>
                    <a:ext cx="189360" cy="1670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89" name=""/>
                  <p:cNvGrpSpPr/>
                  <p:nvPr/>
                </p:nvGrpSpPr>
                <p:grpSpPr>
                  <a:xfrm>
                    <a:off x="5052600" y="2231280"/>
                    <a:ext cx="1186920" cy="821520"/>
                    <a:chOff x="5052600" y="2231280"/>
                    <a:chExt cx="1186920" cy="821520"/>
                  </a:xfrm>
                </p:grpSpPr>
                <p:sp>
                  <p:nvSpPr>
                    <p:cNvPr id="2890" name=""/>
                    <p:cNvSpPr/>
                    <p:nvPr/>
                  </p:nvSpPr>
                  <p:spPr>
                    <a:xfrm rot="20700000">
                      <a:off x="5085360" y="2435400"/>
                      <a:ext cx="337320" cy="2980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91" name=""/>
                    <p:cNvGrpSpPr/>
                    <p:nvPr/>
                  </p:nvGrpSpPr>
                  <p:grpSpPr>
                    <a:xfrm>
                      <a:off x="5172480" y="2351520"/>
                      <a:ext cx="755280" cy="701280"/>
                      <a:chOff x="5172480" y="2351520"/>
                      <a:chExt cx="755280" cy="701280"/>
                    </a:xfrm>
                  </p:grpSpPr>
                  <p:sp>
                    <p:nvSpPr>
                      <p:cNvPr id="2892" name=""/>
                      <p:cNvSpPr/>
                      <p:nvPr/>
                    </p:nvSpPr>
                    <p:spPr>
                      <a:xfrm rot="20700000">
                        <a:off x="5233680" y="2423880"/>
                        <a:ext cx="632880" cy="5565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3" name=""/>
                      <p:cNvSpPr/>
                      <p:nvPr/>
                    </p:nvSpPr>
                    <p:spPr>
                      <a:xfrm>
                        <a:off x="5207400" y="2560320"/>
                        <a:ext cx="97920" cy="15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94" name=""/>
                    <p:cNvSpPr/>
                    <p:nvPr/>
                  </p:nvSpPr>
                  <p:spPr>
                    <a:xfrm rot="20700000">
                      <a:off x="5465160" y="2421000"/>
                      <a:ext cx="633240" cy="556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5" name=""/>
                    <p:cNvSpPr/>
                    <p:nvPr/>
                  </p:nvSpPr>
                  <p:spPr>
                    <a:xfrm rot="20700000">
                      <a:off x="5990400" y="2421000"/>
                      <a:ext cx="226800" cy="1994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 rot="20700000">
                      <a:off x="5984280" y="2737440"/>
                      <a:ext cx="150120" cy="134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 rot="20700000">
                      <a:off x="5900040" y="2392200"/>
                      <a:ext cx="150840" cy="1296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8" name=""/>
                    <p:cNvSpPr/>
                    <p:nvPr/>
                  </p:nvSpPr>
                  <p:spPr>
                    <a:xfrm rot="20700000">
                      <a:off x="5986440" y="2559960"/>
                      <a:ext cx="227520" cy="196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9" name=""/>
                    <p:cNvSpPr/>
                    <p:nvPr/>
                  </p:nvSpPr>
                  <p:spPr>
                    <a:xfrm rot="20700000">
                      <a:off x="5249520" y="2320560"/>
                      <a:ext cx="338040" cy="295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0" name=""/>
                    <p:cNvSpPr/>
                    <p:nvPr/>
                  </p:nvSpPr>
                  <p:spPr>
                    <a:xfrm rot="20700000">
                      <a:off x="5588280" y="2289240"/>
                      <a:ext cx="338040" cy="295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1" name=""/>
                    <p:cNvSpPr/>
                    <p:nvPr/>
                  </p:nvSpPr>
                  <p:spPr>
                    <a:xfrm rot="20700000">
                      <a:off x="5428080" y="2269800"/>
                      <a:ext cx="338400" cy="295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2" name=""/>
                    <p:cNvSpPr/>
                    <p:nvPr/>
                  </p:nvSpPr>
                  <p:spPr>
                    <a:xfrm rot="20700000">
                      <a:off x="5405760" y="2647080"/>
                      <a:ext cx="335880" cy="2962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>
                      <a:off x="5289480" y="2327040"/>
                      <a:ext cx="8406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04" name=""/>
                <p:cNvSpPr/>
                <p:nvPr/>
              </p:nvSpPr>
              <p:spPr>
                <a:xfrm>
                  <a:off x="5180760" y="2536560"/>
                  <a:ext cx="97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etwor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05" name=""/>
          <p:cNvGrpSpPr/>
          <p:nvPr/>
        </p:nvGrpSpPr>
        <p:grpSpPr>
          <a:xfrm>
            <a:off x="2676600" y="1425600"/>
            <a:ext cx="5963400" cy="835200"/>
            <a:chOff x="2676600" y="1425600"/>
            <a:chExt cx="5963400" cy="835200"/>
          </a:xfrm>
        </p:grpSpPr>
        <p:grpSp>
          <p:nvGrpSpPr>
            <p:cNvPr id="2906" name=""/>
            <p:cNvGrpSpPr/>
            <p:nvPr/>
          </p:nvGrpSpPr>
          <p:grpSpPr>
            <a:xfrm>
              <a:off x="3571920" y="1724400"/>
              <a:ext cx="3411720" cy="286920"/>
              <a:chOff x="3571920" y="1724400"/>
              <a:chExt cx="3411720" cy="286920"/>
            </a:xfrm>
          </p:grpSpPr>
          <p:sp>
            <p:nvSpPr>
              <p:cNvPr id="2907" name=""/>
              <p:cNvSpPr/>
              <p:nvPr/>
            </p:nvSpPr>
            <p:spPr>
              <a:xfrm>
                <a:off x="6752160" y="1728000"/>
                <a:ext cx="231480" cy="272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8" name=""/>
              <p:cNvGrpSpPr/>
              <p:nvPr/>
            </p:nvGrpSpPr>
            <p:grpSpPr>
              <a:xfrm>
                <a:off x="3571920" y="1724400"/>
                <a:ext cx="3231360" cy="286920"/>
                <a:chOff x="3571920" y="1724400"/>
                <a:chExt cx="3231360" cy="28692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3571920" y="1731240"/>
                  <a:ext cx="501120" cy="269280"/>
                </a:xfrm>
                <a:prstGeom prst="rect">
                  <a:avLst/>
                </a:pr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0" name=""/>
                <p:cNvGrpSpPr/>
                <p:nvPr/>
              </p:nvGrpSpPr>
              <p:grpSpPr>
                <a:xfrm>
                  <a:off x="3964320" y="1724400"/>
                  <a:ext cx="2838960" cy="286920"/>
                  <a:chOff x="3964320" y="1724400"/>
                  <a:chExt cx="2838960" cy="286920"/>
                </a:xfrm>
              </p:grpSpPr>
              <p:sp>
                <p:nvSpPr>
                  <p:cNvPr id="2911" name=""/>
                  <p:cNvSpPr/>
                  <p:nvPr/>
                </p:nvSpPr>
                <p:spPr>
                  <a:xfrm>
                    <a:off x="6696000" y="1724400"/>
                    <a:ext cx="107280" cy="2804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4027320" y="1731240"/>
                    <a:ext cx="2711520" cy="27756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>
                    <a:off x="3964320" y="1731240"/>
                    <a:ext cx="107280" cy="2800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14" name=""/>
            <p:cNvSpPr/>
            <p:nvPr/>
          </p:nvSpPr>
          <p:spPr>
            <a:xfrm>
              <a:off x="7058880" y="1882080"/>
              <a:ext cx="120240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5" name=""/>
            <p:cNvGrpSpPr/>
            <p:nvPr/>
          </p:nvGrpSpPr>
          <p:grpSpPr>
            <a:xfrm>
              <a:off x="3632760" y="1730160"/>
              <a:ext cx="3403440" cy="280800"/>
              <a:chOff x="3632760" y="1730160"/>
              <a:chExt cx="3403440" cy="280800"/>
            </a:xfrm>
          </p:grpSpPr>
          <p:grpSp>
            <p:nvGrpSpPr>
              <p:cNvPr id="2916" name=""/>
              <p:cNvGrpSpPr/>
              <p:nvPr/>
            </p:nvGrpSpPr>
            <p:grpSpPr>
              <a:xfrm>
                <a:off x="3632760" y="1791000"/>
                <a:ext cx="3403440" cy="160560"/>
                <a:chOff x="3632760" y="1791000"/>
                <a:chExt cx="3403440" cy="16056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6854040" y="1797840"/>
                  <a:ext cx="182160" cy="1432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8" name=""/>
                <p:cNvGrpSpPr/>
                <p:nvPr/>
              </p:nvGrpSpPr>
              <p:grpSpPr>
                <a:xfrm>
                  <a:off x="3632760" y="1791000"/>
                  <a:ext cx="3283560" cy="160560"/>
                  <a:chOff x="3632760" y="1791000"/>
                  <a:chExt cx="3283560" cy="160560"/>
                </a:xfrm>
              </p:grpSpPr>
              <p:sp>
                <p:nvSpPr>
                  <p:cNvPr id="2919" name=""/>
                  <p:cNvSpPr/>
                  <p:nvPr/>
                </p:nvSpPr>
                <p:spPr>
                  <a:xfrm>
                    <a:off x="3632760" y="1791000"/>
                    <a:ext cx="359640" cy="16056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20" name=""/>
                  <p:cNvGrpSpPr/>
                  <p:nvPr/>
                </p:nvGrpSpPr>
                <p:grpSpPr>
                  <a:xfrm>
                    <a:off x="3910680" y="1796760"/>
                    <a:ext cx="3005640" cy="149760"/>
                    <a:chOff x="3910680" y="1796760"/>
                    <a:chExt cx="3005640" cy="149760"/>
                  </a:xfrm>
                </p:grpSpPr>
                <p:sp>
                  <p:nvSpPr>
                    <p:cNvPr id="2921" name=""/>
                    <p:cNvSpPr/>
                    <p:nvPr/>
                  </p:nvSpPr>
                  <p:spPr>
                    <a:xfrm>
                      <a:off x="6809040" y="1796760"/>
                      <a:ext cx="107280" cy="14544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>
                      <a:off x="3973680" y="1797480"/>
                      <a:ext cx="2886480" cy="141840"/>
                    </a:xfrm>
                    <a:prstGeom prst="rect">
                      <a:avLst/>
                    </a:prstGeom>
                    <a:solidFill>
                      <a:srgbClr val="eea56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3" name=""/>
                    <p:cNvSpPr/>
                    <p:nvPr/>
                  </p:nvSpPr>
                  <p:spPr>
                    <a:xfrm>
                      <a:off x="3910680" y="1801080"/>
                      <a:ext cx="107280" cy="14544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24" name=""/>
              <p:cNvGrpSpPr/>
              <p:nvPr/>
            </p:nvGrpSpPr>
            <p:grpSpPr>
              <a:xfrm>
                <a:off x="4019400" y="1730160"/>
                <a:ext cx="2778480" cy="280800"/>
                <a:chOff x="4019400" y="1730160"/>
                <a:chExt cx="2778480" cy="28080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4075560" y="1730160"/>
                  <a:ext cx="2661480" cy="2775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4019400" y="1733400"/>
                  <a:ext cx="56160" cy="27648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6690600" y="1731240"/>
                  <a:ext cx="107280" cy="27972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8" name=""/>
            <p:cNvGrpSpPr/>
            <p:nvPr/>
          </p:nvGrpSpPr>
          <p:grpSpPr>
            <a:xfrm>
              <a:off x="3998520" y="1726920"/>
              <a:ext cx="3005640" cy="280800"/>
              <a:chOff x="3998520" y="1726920"/>
              <a:chExt cx="3005640" cy="280800"/>
            </a:xfrm>
          </p:grpSpPr>
          <p:sp>
            <p:nvSpPr>
              <p:cNvPr id="2929" name=""/>
              <p:cNvSpPr/>
              <p:nvPr/>
            </p:nvSpPr>
            <p:spPr>
              <a:xfrm>
                <a:off x="3998520" y="1882080"/>
                <a:ext cx="3005640" cy="0"/>
              </a:xfrm>
              <a:prstGeom prst="line">
                <a:avLst/>
              </a:prstGeom>
              <a:ln w="572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30" name=""/>
              <p:cNvGrpSpPr/>
              <p:nvPr/>
            </p:nvGrpSpPr>
            <p:grpSpPr>
              <a:xfrm>
                <a:off x="4015800" y="1726920"/>
                <a:ext cx="2778480" cy="280800"/>
                <a:chOff x="4015800" y="1726920"/>
                <a:chExt cx="2778480" cy="28080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4071960" y="1726920"/>
                  <a:ext cx="2661480" cy="2775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4015800" y="1730160"/>
                  <a:ext cx="56160" cy="27648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6687000" y="1728000"/>
                  <a:ext cx="107280" cy="27972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4" name=""/>
            <p:cNvSpPr/>
            <p:nvPr/>
          </p:nvSpPr>
          <p:spPr>
            <a:xfrm>
              <a:off x="3543840" y="1884240"/>
              <a:ext cx="46944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35" name=""/>
            <p:cNvGrpSpPr/>
            <p:nvPr/>
          </p:nvGrpSpPr>
          <p:grpSpPr>
            <a:xfrm>
              <a:off x="2676600" y="1425600"/>
              <a:ext cx="5963400" cy="835200"/>
              <a:chOff x="2676600" y="1425600"/>
              <a:chExt cx="5963400" cy="835200"/>
            </a:xfrm>
          </p:grpSpPr>
          <p:grpSp>
            <p:nvGrpSpPr>
              <p:cNvPr id="2936" name=""/>
              <p:cNvGrpSpPr/>
              <p:nvPr/>
            </p:nvGrpSpPr>
            <p:grpSpPr>
              <a:xfrm>
                <a:off x="8132040" y="1581840"/>
                <a:ext cx="507960" cy="552240"/>
                <a:chOff x="8132040" y="1581840"/>
                <a:chExt cx="507960" cy="552240"/>
              </a:xfrm>
            </p:grpSpPr>
            <p:sp>
              <p:nvSpPr>
                <p:cNvPr id="2937" name=""/>
                <p:cNvSpPr/>
                <p:nvPr/>
              </p:nvSpPr>
              <p:spPr>
                <a:xfrm>
                  <a:off x="8308440" y="1599120"/>
                  <a:ext cx="220680" cy="5346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8321040" y="1880640"/>
                  <a:ext cx="196200" cy="22752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8321040" y="1697400"/>
                  <a:ext cx="18684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8132040" y="1582920"/>
                  <a:ext cx="397080" cy="2196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8132040" y="1582920"/>
                  <a:ext cx="177480" cy="55080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8288640" y="1601640"/>
                  <a:ext cx="20880" cy="53244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8321040" y="1695960"/>
                  <a:ext cx="196200" cy="15984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8321040" y="1666800"/>
                  <a:ext cx="196200" cy="3132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8321040" y="1618920"/>
                  <a:ext cx="196200" cy="2700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8132040" y="1581840"/>
                  <a:ext cx="397080" cy="2304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8307000" y="1599120"/>
                  <a:ext cx="222120" cy="5346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8132040" y="1582920"/>
                  <a:ext cx="176400" cy="55080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8288640" y="1602720"/>
                  <a:ext cx="0" cy="51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8288640" y="160956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8288640" y="164844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8321040" y="1618920"/>
                  <a:ext cx="196200" cy="2700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8288640" y="165996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8288640" y="169596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8288640" y="184212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8321040" y="1704240"/>
                  <a:ext cx="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8516520" y="169740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8321040" y="1697400"/>
                  <a:ext cx="186840" cy="15156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8506800" y="1838520"/>
                  <a:ext cx="936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8321040" y="1745280"/>
                  <a:ext cx="185760" cy="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 flipH="1">
                  <a:off x="8321040" y="1794240"/>
                  <a:ext cx="185760" cy="1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8288640" y="188064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8288640" y="2086200"/>
                  <a:ext cx="240480" cy="24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8321040" y="1892160"/>
                  <a:ext cx="0" cy="21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8516520" y="1880640"/>
                  <a:ext cx="0" cy="20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8321040" y="2072160"/>
                  <a:ext cx="196200" cy="24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8321040" y="2062800"/>
                  <a:ext cx="196200" cy="24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8321040" y="2054520"/>
                  <a:ext cx="196200" cy="2304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8321040" y="2045160"/>
                  <a:ext cx="196200" cy="2088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8321040" y="2034720"/>
                  <a:ext cx="196200" cy="2196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8321040" y="1620360"/>
                  <a:ext cx="186840" cy="24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8506800" y="1637640"/>
                  <a:ext cx="9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8366760" y="1666800"/>
                  <a:ext cx="105120" cy="3132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8321040" y="1666800"/>
                  <a:ext cx="196200" cy="2772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8321040" y="1679760"/>
                  <a:ext cx="150480" cy="198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 flipH="1">
                  <a:off x="8470800" y="1682280"/>
                  <a:ext cx="45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8470800" y="1666800"/>
                  <a:ext cx="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8330760" y="1631880"/>
                  <a:ext cx="1944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8357400" y="16308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8384040" y="16308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8412480" y="16308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8440560" y="162972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8466120" y="16272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8494200" y="16272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8497800" y="1697400"/>
                  <a:ext cx="19800" cy="14220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8528040" y="2058120"/>
                  <a:ext cx="111960" cy="5256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7" name=""/>
              <p:cNvGrpSpPr/>
              <p:nvPr/>
            </p:nvGrpSpPr>
            <p:grpSpPr>
              <a:xfrm>
                <a:off x="6954840" y="1618200"/>
                <a:ext cx="508320" cy="552240"/>
                <a:chOff x="6954840" y="1618200"/>
                <a:chExt cx="508320" cy="552240"/>
              </a:xfrm>
            </p:grpSpPr>
            <p:sp>
              <p:nvSpPr>
                <p:cNvPr id="2988" name=""/>
                <p:cNvSpPr/>
                <p:nvPr/>
              </p:nvSpPr>
              <p:spPr>
                <a:xfrm>
                  <a:off x="7131240" y="1635480"/>
                  <a:ext cx="220680" cy="5346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144200" y="1917000"/>
                  <a:ext cx="196560" cy="22752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144200" y="1733760"/>
                  <a:ext cx="18720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6954840" y="1619280"/>
                  <a:ext cx="397440" cy="2196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6954840" y="1619280"/>
                  <a:ext cx="177480" cy="55080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111440" y="1638000"/>
                  <a:ext cx="20880" cy="53244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144200" y="1732320"/>
                  <a:ext cx="196560" cy="15984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144200" y="1703160"/>
                  <a:ext cx="196560" cy="3132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144200" y="1655280"/>
                  <a:ext cx="196560" cy="2700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6954840" y="1618200"/>
                  <a:ext cx="397440" cy="2304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130160" y="1635480"/>
                  <a:ext cx="222120" cy="5346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6954840" y="1619280"/>
                  <a:ext cx="176400" cy="55080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111440" y="1639080"/>
                  <a:ext cx="0" cy="51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111440" y="164592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111440" y="168480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144200" y="1655280"/>
                  <a:ext cx="196560" cy="2700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111440" y="169632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111440" y="173232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111440" y="187848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144200" y="1740600"/>
                  <a:ext cx="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339680" y="173376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144200" y="1733760"/>
                  <a:ext cx="187200" cy="15156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329960" y="1874880"/>
                  <a:ext cx="936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H="1">
                  <a:off x="7144200" y="1781640"/>
                  <a:ext cx="185760" cy="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H="1">
                  <a:off x="7144200" y="1830600"/>
                  <a:ext cx="185760" cy="1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111440" y="191700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111440" y="2122560"/>
                  <a:ext cx="240840" cy="24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144200" y="1928520"/>
                  <a:ext cx="0" cy="21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339680" y="1917000"/>
                  <a:ext cx="0" cy="20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144200" y="2108520"/>
                  <a:ext cx="196560" cy="24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144200" y="2099160"/>
                  <a:ext cx="196560" cy="24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144200" y="2090880"/>
                  <a:ext cx="196560" cy="2304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144200" y="2081520"/>
                  <a:ext cx="196560" cy="2088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144200" y="2071080"/>
                  <a:ext cx="196560" cy="2196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144200" y="1656720"/>
                  <a:ext cx="187200" cy="24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329960" y="1674000"/>
                  <a:ext cx="9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189560" y="1703160"/>
                  <a:ext cx="105120" cy="3132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144200" y="1703160"/>
                  <a:ext cx="196560" cy="2772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144200" y="1716120"/>
                  <a:ext cx="150840" cy="198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H="1">
                  <a:off x="7293960" y="1718640"/>
                  <a:ext cx="45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293960" y="1703160"/>
                  <a:ext cx="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153560" y="1668240"/>
                  <a:ext cx="1944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180560" y="16671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207200" y="16671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235280" y="16671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263360" y="166608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289280" y="16635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317360" y="16635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320600" y="1733760"/>
                  <a:ext cx="19800" cy="14220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351200" y="2094480"/>
                  <a:ext cx="111960" cy="5256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76600" y="1425600"/>
                <a:ext cx="1050840" cy="77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39" name=""/>
              <p:cNvGrpSpPr/>
              <p:nvPr/>
            </p:nvGrpSpPr>
            <p:grpSpPr>
              <a:xfrm>
                <a:off x="5000040" y="1463040"/>
                <a:ext cx="1167480" cy="797760"/>
                <a:chOff x="5000040" y="1463040"/>
                <a:chExt cx="1167480" cy="797760"/>
              </a:xfrm>
            </p:grpSpPr>
            <p:grpSp>
              <p:nvGrpSpPr>
                <p:cNvPr id="3040" name=""/>
                <p:cNvGrpSpPr/>
                <p:nvPr/>
              </p:nvGrpSpPr>
              <p:grpSpPr>
                <a:xfrm>
                  <a:off x="5000040" y="1463040"/>
                  <a:ext cx="1167480" cy="797760"/>
                  <a:chOff x="5000040" y="1463040"/>
                  <a:chExt cx="1167480" cy="797760"/>
                </a:xfrm>
              </p:grpSpPr>
              <p:sp>
                <p:nvSpPr>
                  <p:cNvPr id="3041" name=""/>
                  <p:cNvSpPr/>
                  <p:nvPr/>
                </p:nvSpPr>
                <p:spPr>
                  <a:xfrm rot="20700000">
                    <a:off x="5522040" y="2065320"/>
                    <a:ext cx="180720" cy="1594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 rot="20700000">
                    <a:off x="5379480" y="1483560"/>
                    <a:ext cx="182880" cy="1598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 rot="20700000">
                    <a:off x="5136480" y="1594800"/>
                    <a:ext cx="110520" cy="982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 rot="20700000">
                    <a:off x="5157000" y="1983240"/>
                    <a:ext cx="110160" cy="939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 rot="20700000">
                    <a:off x="5056200" y="1842480"/>
                    <a:ext cx="181440" cy="1551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 rot="20700000">
                    <a:off x="5239800" y="1524240"/>
                    <a:ext cx="182160" cy="1584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 rot="20700000">
                    <a:off x="5966280" y="1900440"/>
                    <a:ext cx="183600" cy="1591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 rot="20700000">
                    <a:off x="5833800" y="1972080"/>
                    <a:ext cx="183600" cy="1620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49" name=""/>
                  <p:cNvGrpSpPr/>
                  <p:nvPr/>
                </p:nvGrpSpPr>
                <p:grpSpPr>
                  <a:xfrm>
                    <a:off x="5000040" y="1464480"/>
                    <a:ext cx="1150200" cy="796320"/>
                    <a:chOff x="5000040" y="1464480"/>
                    <a:chExt cx="1150200" cy="796320"/>
                  </a:xfrm>
                </p:grpSpPr>
                <p:sp>
                  <p:nvSpPr>
                    <p:cNvPr id="3050" name=""/>
                    <p:cNvSpPr/>
                    <p:nvPr/>
                  </p:nvSpPr>
                  <p:spPr>
                    <a:xfrm rot="20700000">
                      <a:off x="5031720" y="1662840"/>
                      <a:ext cx="326880" cy="2887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51" name=""/>
                    <p:cNvGrpSpPr/>
                    <p:nvPr/>
                  </p:nvGrpSpPr>
                  <p:grpSpPr>
                    <a:xfrm>
                      <a:off x="5115960" y="1581120"/>
                      <a:ext cx="732240" cy="679680"/>
                      <a:chOff x="5115960" y="1581120"/>
                      <a:chExt cx="732240" cy="679680"/>
                    </a:xfrm>
                  </p:grpSpPr>
                  <p:sp>
                    <p:nvSpPr>
                      <p:cNvPr id="3052" name=""/>
                      <p:cNvSpPr/>
                      <p:nvPr/>
                    </p:nvSpPr>
                    <p:spPr>
                      <a:xfrm rot="20700000">
                        <a:off x="5175000" y="1650960"/>
                        <a:ext cx="613440" cy="5392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3" name=""/>
                      <p:cNvSpPr/>
                      <p:nvPr/>
                    </p:nvSpPr>
                    <p:spPr>
                      <a:xfrm>
                        <a:off x="5150160" y="1783440"/>
                        <a:ext cx="95040" cy="15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54" name=""/>
                    <p:cNvSpPr/>
                    <p:nvPr/>
                  </p:nvSpPr>
                  <p:spPr>
                    <a:xfrm rot="20700000">
                      <a:off x="5399640" y="1648080"/>
                      <a:ext cx="614160" cy="5392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5" name=""/>
                    <p:cNvSpPr/>
                    <p:nvPr/>
                  </p:nvSpPr>
                  <p:spPr>
                    <a:xfrm rot="20700000">
                      <a:off x="5909040" y="1648080"/>
                      <a:ext cx="219600" cy="1929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6" name=""/>
                    <p:cNvSpPr/>
                    <p:nvPr/>
                  </p:nvSpPr>
                  <p:spPr>
                    <a:xfrm rot="20700000">
                      <a:off x="5902920" y="1955520"/>
                      <a:ext cx="145800" cy="1303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7" name=""/>
                    <p:cNvSpPr/>
                    <p:nvPr/>
                  </p:nvSpPr>
                  <p:spPr>
                    <a:xfrm rot="20700000">
                      <a:off x="5821560" y="1620720"/>
                      <a:ext cx="146160" cy="125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8" name=""/>
                    <p:cNvSpPr/>
                    <p:nvPr/>
                  </p:nvSpPr>
                  <p:spPr>
                    <a:xfrm rot="20700000">
                      <a:off x="5905440" y="1783440"/>
                      <a:ext cx="220680" cy="190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9" name=""/>
                    <p:cNvSpPr/>
                    <p:nvPr/>
                  </p:nvSpPr>
                  <p:spPr>
                    <a:xfrm rot="20700000">
                      <a:off x="5190480" y="1551240"/>
                      <a:ext cx="327600" cy="286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0" name=""/>
                    <p:cNvSpPr/>
                    <p:nvPr/>
                  </p:nvSpPr>
                  <p:spPr>
                    <a:xfrm rot="20700000">
                      <a:off x="5518800" y="1521000"/>
                      <a:ext cx="327600" cy="286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1" name=""/>
                    <p:cNvSpPr/>
                    <p:nvPr/>
                  </p:nvSpPr>
                  <p:spPr>
                    <a:xfrm rot="20700000">
                      <a:off x="5363640" y="1501920"/>
                      <a:ext cx="327960" cy="286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2" name=""/>
                    <p:cNvSpPr/>
                    <p:nvPr/>
                  </p:nvSpPr>
                  <p:spPr>
                    <a:xfrm rot="20700000">
                      <a:off x="5342040" y="1868040"/>
                      <a:ext cx="325440" cy="2872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3" name=""/>
                    <p:cNvSpPr/>
                    <p:nvPr/>
                  </p:nvSpPr>
                  <p:spPr>
                    <a:xfrm>
                      <a:off x="5229720" y="1557720"/>
                      <a:ext cx="815040" cy="58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64" name=""/>
                <p:cNvSpPr/>
                <p:nvPr/>
              </p:nvSpPr>
              <p:spPr>
                <a:xfrm>
                  <a:off x="5125680" y="1765080"/>
                  <a:ext cx="97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etwor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65" name=""/>
          <p:cNvGrpSpPr/>
          <p:nvPr/>
        </p:nvGrpSpPr>
        <p:grpSpPr>
          <a:xfrm>
            <a:off x="2184480" y="1424160"/>
            <a:ext cx="6538320" cy="1628640"/>
            <a:chOff x="2184480" y="1424160"/>
            <a:chExt cx="6538320" cy="1628640"/>
          </a:xfrm>
        </p:grpSpPr>
        <p:grpSp>
          <p:nvGrpSpPr>
            <p:cNvPr id="3066" name=""/>
            <p:cNvGrpSpPr/>
            <p:nvPr/>
          </p:nvGrpSpPr>
          <p:grpSpPr>
            <a:xfrm>
              <a:off x="2184480" y="2229480"/>
              <a:ext cx="6538320" cy="823320"/>
              <a:chOff x="2184480" y="2229480"/>
              <a:chExt cx="6538320" cy="823320"/>
            </a:xfrm>
          </p:grpSpPr>
          <p:sp>
            <p:nvSpPr>
              <p:cNvPr id="3067" name=""/>
              <p:cNvSpPr/>
              <p:nvPr/>
            </p:nvSpPr>
            <p:spPr>
              <a:xfrm>
                <a:off x="4286160" y="2284200"/>
                <a:ext cx="296640" cy="627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8" name=""/>
              <p:cNvGrpSpPr/>
              <p:nvPr/>
            </p:nvGrpSpPr>
            <p:grpSpPr>
              <a:xfrm>
                <a:off x="2184480" y="2229480"/>
                <a:ext cx="6538320" cy="823320"/>
                <a:chOff x="2184480" y="2229480"/>
                <a:chExt cx="6538320" cy="823320"/>
              </a:xfrm>
            </p:grpSpPr>
            <p:grpSp>
              <p:nvGrpSpPr>
                <p:cNvPr id="3069" name=""/>
                <p:cNvGrpSpPr/>
                <p:nvPr/>
              </p:nvGrpSpPr>
              <p:grpSpPr>
                <a:xfrm>
                  <a:off x="3506400" y="2445840"/>
                  <a:ext cx="3519720" cy="295920"/>
                  <a:chOff x="3506400" y="2445840"/>
                  <a:chExt cx="3519720" cy="295920"/>
                </a:xfrm>
              </p:grpSpPr>
              <p:sp>
                <p:nvSpPr>
                  <p:cNvPr id="3070" name=""/>
                  <p:cNvSpPr/>
                  <p:nvPr/>
                </p:nvSpPr>
                <p:spPr>
                  <a:xfrm>
                    <a:off x="6787440" y="2449440"/>
                    <a:ext cx="238680" cy="28152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1" name=""/>
                  <p:cNvGrpSpPr/>
                  <p:nvPr/>
                </p:nvGrpSpPr>
                <p:grpSpPr>
                  <a:xfrm>
                    <a:off x="3506400" y="2445840"/>
                    <a:ext cx="3333240" cy="295920"/>
                    <a:chOff x="3506400" y="2445840"/>
                    <a:chExt cx="3333240" cy="295920"/>
                  </a:xfrm>
                </p:grpSpPr>
                <p:sp>
                  <p:nvSpPr>
                    <p:cNvPr id="3072" name=""/>
                    <p:cNvSpPr/>
                    <p:nvPr/>
                  </p:nvSpPr>
                  <p:spPr>
                    <a:xfrm>
                      <a:off x="3506400" y="2453040"/>
                      <a:ext cx="516960" cy="277920"/>
                    </a:xfrm>
                    <a:prstGeom prst="rect">
                      <a:avLst/>
                    </a:pr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73" name=""/>
                    <p:cNvGrpSpPr/>
                    <p:nvPr/>
                  </p:nvGrpSpPr>
                  <p:grpSpPr>
                    <a:xfrm>
                      <a:off x="3911040" y="2445840"/>
                      <a:ext cx="2928600" cy="295920"/>
                      <a:chOff x="3911040" y="2445840"/>
                      <a:chExt cx="2928600" cy="295920"/>
                    </a:xfrm>
                  </p:grpSpPr>
                  <p:sp>
                    <p:nvSpPr>
                      <p:cNvPr id="3074" name=""/>
                      <p:cNvSpPr/>
                      <p:nvPr/>
                    </p:nvSpPr>
                    <p:spPr>
                      <a:xfrm>
                        <a:off x="6729120" y="2445840"/>
                        <a:ext cx="110520" cy="28908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30517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5" name=""/>
                      <p:cNvSpPr/>
                      <p:nvPr/>
                    </p:nvSpPr>
                    <p:spPr>
                      <a:xfrm>
                        <a:off x="3975840" y="2453040"/>
                        <a:ext cx="2797560" cy="286200"/>
                      </a:xfrm>
                      <a:prstGeom prst="rect">
                        <a:avLst/>
                      </a:prstGeom>
                      <a:solidFill>
                        <a:srgbClr val="ff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6" name=""/>
                      <p:cNvSpPr/>
                      <p:nvPr/>
                    </p:nvSpPr>
                    <p:spPr>
                      <a:xfrm>
                        <a:off x="3911040" y="2453040"/>
                        <a:ext cx="110880" cy="28872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30517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077" name=""/>
                <p:cNvSpPr/>
                <p:nvPr/>
              </p:nvSpPr>
              <p:spPr>
                <a:xfrm>
                  <a:off x="7103520" y="2608560"/>
                  <a:ext cx="1240560" cy="0"/>
                </a:xfrm>
                <a:prstGeom prst="line">
                  <a:avLst/>
                </a:prstGeom>
                <a:ln w="57240">
                  <a:solidFill>
                    <a:srgbClr val="fcc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8" name=""/>
                <p:cNvGrpSpPr/>
                <p:nvPr/>
              </p:nvGrpSpPr>
              <p:grpSpPr>
                <a:xfrm>
                  <a:off x="3569040" y="2451960"/>
                  <a:ext cx="3511080" cy="289800"/>
                  <a:chOff x="3569040" y="2451960"/>
                  <a:chExt cx="3511080" cy="289800"/>
                </a:xfrm>
              </p:grpSpPr>
              <p:grpSp>
                <p:nvGrpSpPr>
                  <p:cNvPr id="3079" name=""/>
                  <p:cNvGrpSpPr/>
                  <p:nvPr/>
                </p:nvGrpSpPr>
                <p:grpSpPr>
                  <a:xfrm>
                    <a:off x="3569040" y="2514600"/>
                    <a:ext cx="3511080" cy="165960"/>
                    <a:chOff x="3569040" y="2514600"/>
                    <a:chExt cx="3511080" cy="165960"/>
                  </a:xfrm>
                </p:grpSpPr>
                <p:sp>
                  <p:nvSpPr>
                    <p:cNvPr id="3080" name=""/>
                    <p:cNvSpPr/>
                    <p:nvPr/>
                  </p:nvSpPr>
                  <p:spPr>
                    <a:xfrm>
                      <a:off x="6892200" y="2521440"/>
                      <a:ext cx="187920" cy="147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1" name=""/>
                    <p:cNvGrpSpPr/>
                    <p:nvPr/>
                  </p:nvGrpSpPr>
                  <p:grpSpPr>
                    <a:xfrm>
                      <a:off x="3569040" y="2514600"/>
                      <a:ext cx="3387600" cy="165960"/>
                      <a:chOff x="3569040" y="2514600"/>
                      <a:chExt cx="3387600" cy="165960"/>
                    </a:xfrm>
                  </p:grpSpPr>
                  <p:sp>
                    <p:nvSpPr>
                      <p:cNvPr id="3082" name=""/>
                      <p:cNvSpPr/>
                      <p:nvPr/>
                    </p:nvSpPr>
                    <p:spPr>
                      <a:xfrm>
                        <a:off x="3569040" y="2514600"/>
                        <a:ext cx="371160" cy="1659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83" name=""/>
                      <p:cNvGrpSpPr/>
                      <p:nvPr/>
                    </p:nvGrpSpPr>
                    <p:grpSpPr>
                      <a:xfrm>
                        <a:off x="3855600" y="2520360"/>
                        <a:ext cx="3101040" cy="154800"/>
                        <a:chOff x="3855600" y="2520360"/>
                        <a:chExt cx="3101040" cy="154800"/>
                      </a:xfrm>
                    </p:grpSpPr>
                    <p:sp>
                      <p:nvSpPr>
                        <p:cNvPr id="3084" name=""/>
                        <p:cNvSpPr/>
                        <p:nvPr/>
                      </p:nvSpPr>
                      <p:spPr>
                        <a:xfrm>
                          <a:off x="6845760" y="2520360"/>
                          <a:ext cx="110880" cy="150120"/>
                        </a:xfrm>
                        <a:prstGeom prst="ellipse">
                          <a:avLst/>
                        </a:prstGeom>
                        <a:solidFill>
                          <a:srgbClr val="eea564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5" name=""/>
                        <p:cNvSpPr/>
                        <p:nvPr/>
                      </p:nvSpPr>
                      <p:spPr>
                        <a:xfrm>
                          <a:off x="3920760" y="2521440"/>
                          <a:ext cx="2978280" cy="146520"/>
                        </a:xfrm>
                        <a:prstGeom prst="rect">
                          <a:avLst/>
                        </a:prstGeom>
                        <a:solidFill>
                          <a:srgbClr val="eea56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6" name=""/>
                        <p:cNvSpPr/>
                        <p:nvPr/>
                      </p:nvSpPr>
                      <p:spPr>
                        <a:xfrm>
                          <a:off x="3855600" y="2524680"/>
                          <a:ext cx="110880" cy="150480"/>
                        </a:xfrm>
                        <a:prstGeom prst="ellipse">
                          <a:avLst/>
                        </a:prstGeom>
                        <a:solidFill>
                          <a:srgbClr val="eea564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087" name=""/>
                  <p:cNvGrpSpPr/>
                  <p:nvPr/>
                </p:nvGrpSpPr>
                <p:grpSpPr>
                  <a:xfrm>
                    <a:off x="3967920" y="2451960"/>
                    <a:ext cx="2865960" cy="289800"/>
                    <a:chOff x="3967920" y="2451960"/>
                    <a:chExt cx="2865960" cy="289800"/>
                  </a:xfrm>
                </p:grpSpPr>
                <p:sp>
                  <p:nvSpPr>
                    <p:cNvPr id="3088" name=""/>
                    <p:cNvSpPr/>
                    <p:nvPr/>
                  </p:nvSpPr>
                  <p:spPr>
                    <a:xfrm>
                      <a:off x="4025880" y="2451960"/>
                      <a:ext cx="2745720" cy="286560"/>
                    </a:xfrm>
                    <a:prstGeom prst="rect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9" name=""/>
                    <p:cNvSpPr/>
                    <p:nvPr/>
                  </p:nvSpPr>
                  <p:spPr>
                    <a:xfrm>
                      <a:off x="3967920" y="2455200"/>
                      <a:ext cx="57960" cy="28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7">
                          <a:moveTo>
                            <a:pt x="0" y="1"/>
                          </a:moveTo>
                          <a:cubicBezTo>
                            <a:pt x="6" y="0"/>
                            <a:pt x="12" y="0"/>
                            <a:pt x="18" y="9"/>
                          </a:cubicBezTo>
                          <a:cubicBezTo>
                            <a:pt x="24" y="18"/>
                            <a:pt x="32" y="37"/>
                            <a:pt x="37" y="55"/>
                          </a:cubicBezTo>
                          <a:cubicBezTo>
                            <a:pt x="42" y="73"/>
                            <a:pt x="44" y="101"/>
                            <a:pt x="46" y="118"/>
                          </a:cubicBezTo>
                          <a:cubicBezTo>
                            <a:pt x="48" y="135"/>
                            <a:pt x="48" y="145"/>
                            <a:pt x="46" y="157"/>
                          </a:cubicBezTo>
                          <a:cubicBezTo>
                            <a:pt x="44" y="169"/>
                            <a:pt x="40" y="182"/>
                            <a:pt x="37" y="192"/>
                          </a:cubicBezTo>
                          <a:cubicBezTo>
                            <a:pt x="34" y="202"/>
                            <a:pt x="32" y="209"/>
                            <a:pt x="27" y="216"/>
                          </a:cubicBezTo>
                          <a:cubicBezTo>
                            <a:pt x="22" y="223"/>
                            <a:pt x="12" y="233"/>
                            <a:pt x="7" y="23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30517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0" name=""/>
                    <p:cNvSpPr/>
                    <p:nvPr/>
                  </p:nvSpPr>
                  <p:spPr>
                    <a:xfrm>
                      <a:off x="6723360" y="2453040"/>
                      <a:ext cx="110520" cy="288720"/>
                    </a:xfrm>
                    <a:prstGeom prst="ellipse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91" name=""/>
                <p:cNvGrpSpPr/>
                <p:nvPr/>
              </p:nvGrpSpPr>
              <p:grpSpPr>
                <a:xfrm>
                  <a:off x="3519360" y="2448360"/>
                  <a:ext cx="3526920" cy="289800"/>
                  <a:chOff x="3519360" y="2448360"/>
                  <a:chExt cx="3526920" cy="289800"/>
                </a:xfrm>
              </p:grpSpPr>
              <p:sp>
                <p:nvSpPr>
                  <p:cNvPr id="3092" name=""/>
                  <p:cNvSpPr/>
                  <p:nvPr/>
                </p:nvSpPr>
                <p:spPr>
                  <a:xfrm>
                    <a:off x="3519360" y="2608560"/>
                    <a:ext cx="3526920" cy="0"/>
                  </a:xfrm>
                  <a:prstGeom prst="line">
                    <a:avLst/>
                  </a:prstGeom>
                  <a:ln w="5724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93" name=""/>
                  <p:cNvGrpSpPr/>
                  <p:nvPr/>
                </p:nvGrpSpPr>
                <p:grpSpPr>
                  <a:xfrm>
                    <a:off x="3963960" y="2448360"/>
                    <a:ext cx="2865960" cy="289800"/>
                    <a:chOff x="3963960" y="2448360"/>
                    <a:chExt cx="2865960" cy="289800"/>
                  </a:xfrm>
                </p:grpSpPr>
                <p:sp>
                  <p:nvSpPr>
                    <p:cNvPr id="3094" name=""/>
                    <p:cNvSpPr/>
                    <p:nvPr/>
                  </p:nvSpPr>
                  <p:spPr>
                    <a:xfrm>
                      <a:off x="4021920" y="2448360"/>
                      <a:ext cx="2745720" cy="286560"/>
                    </a:xfrm>
                    <a:prstGeom prst="rect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5" name=""/>
                    <p:cNvSpPr/>
                    <p:nvPr/>
                  </p:nvSpPr>
                  <p:spPr>
                    <a:xfrm>
                      <a:off x="3963960" y="2451600"/>
                      <a:ext cx="57960" cy="28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7">
                          <a:moveTo>
                            <a:pt x="0" y="1"/>
                          </a:moveTo>
                          <a:cubicBezTo>
                            <a:pt x="6" y="0"/>
                            <a:pt x="12" y="0"/>
                            <a:pt x="18" y="9"/>
                          </a:cubicBezTo>
                          <a:cubicBezTo>
                            <a:pt x="24" y="18"/>
                            <a:pt x="32" y="37"/>
                            <a:pt x="37" y="55"/>
                          </a:cubicBezTo>
                          <a:cubicBezTo>
                            <a:pt x="42" y="73"/>
                            <a:pt x="44" y="101"/>
                            <a:pt x="46" y="118"/>
                          </a:cubicBezTo>
                          <a:cubicBezTo>
                            <a:pt x="48" y="135"/>
                            <a:pt x="48" y="145"/>
                            <a:pt x="46" y="157"/>
                          </a:cubicBezTo>
                          <a:cubicBezTo>
                            <a:pt x="44" y="169"/>
                            <a:pt x="40" y="182"/>
                            <a:pt x="37" y="192"/>
                          </a:cubicBezTo>
                          <a:cubicBezTo>
                            <a:pt x="34" y="202"/>
                            <a:pt x="32" y="209"/>
                            <a:pt x="27" y="216"/>
                          </a:cubicBezTo>
                          <a:cubicBezTo>
                            <a:pt x="22" y="223"/>
                            <a:pt x="12" y="233"/>
                            <a:pt x="7" y="23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30517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6" name=""/>
                    <p:cNvSpPr/>
                    <p:nvPr/>
                  </p:nvSpPr>
                  <p:spPr>
                    <a:xfrm>
                      <a:off x="6719400" y="2449440"/>
                      <a:ext cx="110520" cy="288720"/>
                    </a:xfrm>
                    <a:prstGeom prst="ellipse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97" name=""/>
                <p:cNvSpPr/>
                <p:nvPr/>
              </p:nvSpPr>
              <p:spPr>
                <a:xfrm>
                  <a:off x="2651040" y="2611080"/>
                  <a:ext cx="918720" cy="0"/>
                </a:xfrm>
                <a:prstGeom prst="line">
                  <a:avLst/>
                </a:prstGeom>
                <a:ln w="57240">
                  <a:solidFill>
                    <a:srgbClr val="fcc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8" name=""/>
                <p:cNvGrpSpPr/>
                <p:nvPr/>
              </p:nvGrpSpPr>
              <p:grpSpPr>
                <a:xfrm>
                  <a:off x="2184480" y="2229480"/>
                  <a:ext cx="6538320" cy="823320"/>
                  <a:chOff x="2184480" y="2229480"/>
                  <a:chExt cx="6538320" cy="823320"/>
                </a:xfrm>
              </p:grpSpPr>
              <p:grpSp>
                <p:nvGrpSpPr>
                  <p:cNvPr id="3099" name=""/>
                  <p:cNvGrpSpPr/>
                  <p:nvPr/>
                </p:nvGrpSpPr>
                <p:grpSpPr>
                  <a:xfrm>
                    <a:off x="2184480" y="2309760"/>
                    <a:ext cx="6538320" cy="595800"/>
                    <a:chOff x="2184480" y="2309760"/>
                    <a:chExt cx="6538320" cy="595800"/>
                  </a:xfrm>
                </p:grpSpPr>
                <p:grpSp>
                  <p:nvGrpSpPr>
                    <p:cNvPr id="3100" name=""/>
                    <p:cNvGrpSpPr/>
                    <p:nvPr/>
                  </p:nvGrpSpPr>
                  <p:grpSpPr>
                    <a:xfrm>
                      <a:off x="6996240" y="2336040"/>
                      <a:ext cx="524160" cy="569520"/>
                      <a:chOff x="6996240" y="2336040"/>
                      <a:chExt cx="524160" cy="569520"/>
                    </a:xfrm>
                  </p:grpSpPr>
                  <p:sp>
                    <p:nvSpPr>
                      <p:cNvPr id="3101" name=""/>
                      <p:cNvSpPr/>
                      <p:nvPr/>
                    </p:nvSpPr>
                    <p:spPr>
                      <a:xfrm>
                        <a:off x="7178400" y="2354040"/>
                        <a:ext cx="227520" cy="55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458">
                            <a:moveTo>
                              <a:pt x="188" y="0"/>
                            </a:moveTo>
                            <a:lnTo>
                              <a:pt x="0" y="5"/>
                            </a:lnTo>
                            <a:lnTo>
                              <a:pt x="0" y="457"/>
                            </a:lnTo>
                            <a:lnTo>
                              <a:pt x="188" y="437"/>
                            </a:lnTo>
                            <a:lnTo>
                              <a:pt x="188" y="0"/>
                            </a:lnTo>
                          </a:path>
                        </a:pathLst>
                      </a:custGeom>
                      <a:solidFill>
                        <a:srgbClr val="b5b5b5"/>
                      </a:solidFill>
                      <a:ln cap="rnd" w="12600">
                        <a:solidFill>
                          <a:srgbClr val="b5b5b5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2" name=""/>
                      <p:cNvSpPr/>
                      <p:nvPr/>
                    </p:nvSpPr>
                    <p:spPr>
                      <a:xfrm>
                        <a:off x="7191360" y="2644200"/>
                        <a:ext cx="20232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95">
                            <a:moveTo>
                              <a:pt x="0" y="11"/>
                            </a:moveTo>
                            <a:lnTo>
                              <a:pt x="167" y="0"/>
                            </a:lnTo>
                            <a:lnTo>
                              <a:pt x="167" y="177"/>
                            </a:lnTo>
                            <a:lnTo>
                              <a:pt x="0" y="194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3" name=""/>
                      <p:cNvSpPr/>
                      <p:nvPr/>
                    </p:nvSpPr>
                    <p:spPr>
                      <a:xfrm>
                        <a:off x="7191360" y="2455200"/>
                        <a:ext cx="192960" cy="15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31">
                            <a:moveTo>
                              <a:pt x="0" y="6"/>
                            </a:moveTo>
                            <a:lnTo>
                              <a:pt x="159" y="0"/>
                            </a:lnTo>
                            <a:lnTo>
                              <a:pt x="159" y="121"/>
                            </a:lnTo>
                            <a:lnTo>
                              <a:pt x="0" y="130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4" name=""/>
                      <p:cNvSpPr/>
                      <p:nvPr/>
                    </p:nvSpPr>
                    <p:spPr>
                      <a:xfrm>
                        <a:off x="6996240" y="2337120"/>
                        <a:ext cx="4096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0" h="19">
                            <a:moveTo>
                              <a:pt x="0" y="1"/>
                            </a:moveTo>
                            <a:lnTo>
                              <a:pt x="151" y="18"/>
                            </a:lnTo>
                            <a:lnTo>
                              <a:pt x="339" y="14"/>
                            </a:lnTo>
                            <a:lnTo>
                              <a:pt x="181" y="0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5" name=""/>
                      <p:cNvSpPr/>
                      <p:nvPr/>
                    </p:nvSpPr>
                    <p:spPr>
                      <a:xfrm>
                        <a:off x="6996240" y="2337120"/>
                        <a:ext cx="183240" cy="56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2" h="472">
                            <a:moveTo>
                              <a:pt x="151" y="471"/>
                            </a:moveTo>
                            <a:lnTo>
                              <a:pt x="0" y="358"/>
                            </a:lnTo>
                            <a:lnTo>
                              <a:pt x="0" y="0"/>
                            </a:lnTo>
                            <a:lnTo>
                              <a:pt x="151" y="18"/>
                            </a:lnTo>
                            <a:lnTo>
                              <a:pt x="151" y="471"/>
                            </a:lnTo>
                          </a:path>
                        </a:pathLst>
                      </a:custGeom>
                      <a:solidFill>
                        <a:srgbClr val="b5b5b5"/>
                      </a:solidFill>
                      <a:ln cap="rnd" w="12600">
                        <a:solidFill>
                          <a:srgbClr val="b5b5b5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6" name=""/>
                      <p:cNvSpPr/>
                      <p:nvPr/>
                    </p:nvSpPr>
                    <p:spPr>
                      <a:xfrm>
                        <a:off x="7157880" y="2356200"/>
                        <a:ext cx="21600" cy="54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56">
                            <a:moveTo>
                              <a:pt x="17" y="2"/>
                            </a:moveTo>
                            <a:lnTo>
                              <a:pt x="0" y="0"/>
                            </a:lnTo>
                            <a:lnTo>
                              <a:pt x="0" y="443"/>
                            </a:lnTo>
                            <a:lnTo>
                              <a:pt x="17" y="455"/>
                            </a:lnTo>
                            <a:lnTo>
                              <a:pt x="17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7" name=""/>
                      <p:cNvSpPr/>
                      <p:nvPr/>
                    </p:nvSpPr>
                    <p:spPr>
                      <a:xfrm>
                        <a:off x="7191360" y="2453760"/>
                        <a:ext cx="20232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37">
                            <a:moveTo>
                              <a:pt x="167" y="0"/>
                            </a:moveTo>
                            <a:lnTo>
                              <a:pt x="167" y="125"/>
                            </a:lnTo>
                            <a:lnTo>
                              <a:pt x="0" y="136"/>
                            </a:lnTo>
                            <a:lnTo>
                              <a:pt x="0" y="130"/>
                            </a:lnTo>
                            <a:lnTo>
                              <a:pt x="159" y="122"/>
                            </a:lnTo>
                            <a:lnTo>
                              <a:pt x="159" y="1"/>
                            </a:lnTo>
                            <a:lnTo>
                              <a:pt x="16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8" name=""/>
                      <p:cNvSpPr/>
                      <p:nvPr/>
                    </p:nvSpPr>
                    <p:spPr>
                      <a:xfrm>
                        <a:off x="7191360" y="2423880"/>
                        <a:ext cx="20232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7">
                            <a:moveTo>
                              <a:pt x="0" y="15"/>
                            </a:moveTo>
                            <a:lnTo>
                              <a:pt x="0" y="19"/>
                            </a:lnTo>
                            <a:lnTo>
                              <a:pt x="39" y="18"/>
                            </a:lnTo>
                            <a:lnTo>
                              <a:pt x="39" y="26"/>
                            </a:lnTo>
                            <a:lnTo>
                              <a:pt x="128" y="23"/>
                            </a:lnTo>
                            <a:lnTo>
                              <a:pt x="128" y="16"/>
                            </a:lnTo>
                            <a:lnTo>
                              <a:pt x="167" y="14"/>
                            </a:lnTo>
                            <a:lnTo>
                              <a:pt x="167" y="8"/>
                            </a:lnTo>
                            <a:lnTo>
                              <a:pt x="128" y="10"/>
                            </a:lnTo>
                            <a:lnTo>
                              <a:pt x="128" y="0"/>
                            </a:lnTo>
                            <a:lnTo>
                              <a:pt x="111" y="1"/>
                            </a:lnTo>
                            <a:lnTo>
                              <a:pt x="32" y="13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9" name=""/>
                      <p:cNvSpPr/>
                      <p:nvPr/>
                    </p:nvSpPr>
                    <p:spPr>
                      <a:xfrm>
                        <a:off x="7191360" y="2374200"/>
                        <a:ext cx="20232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3">
                            <a:moveTo>
                              <a:pt x="167" y="0"/>
                            </a:moveTo>
                            <a:lnTo>
                              <a:pt x="167" y="17"/>
                            </a:lnTo>
                            <a:lnTo>
                              <a:pt x="0" y="22"/>
                            </a:lnTo>
                            <a:lnTo>
                              <a:pt x="0" y="19"/>
                            </a:lnTo>
                            <a:lnTo>
                              <a:pt x="158" y="1"/>
                            </a:lnTo>
                            <a:lnTo>
                              <a:pt x="16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0" name=""/>
                      <p:cNvSpPr/>
                      <p:nvPr/>
                    </p:nvSpPr>
                    <p:spPr>
                      <a:xfrm>
                        <a:off x="6996240" y="2336040"/>
                        <a:ext cx="4096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0" h="20">
                            <a:moveTo>
                              <a:pt x="0" y="2"/>
                            </a:moveTo>
                            <a:lnTo>
                              <a:pt x="151" y="19"/>
                            </a:lnTo>
                            <a:lnTo>
                              <a:pt x="339" y="14"/>
                            </a:lnTo>
                            <a:lnTo>
                              <a:pt x="181" y="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1" name=""/>
                      <p:cNvSpPr/>
                      <p:nvPr/>
                    </p:nvSpPr>
                    <p:spPr>
                      <a:xfrm>
                        <a:off x="7176960" y="2354040"/>
                        <a:ext cx="228960" cy="55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0" h="458">
                            <a:moveTo>
                              <a:pt x="0" y="5"/>
                            </a:moveTo>
                            <a:lnTo>
                              <a:pt x="0" y="457"/>
                            </a:lnTo>
                            <a:lnTo>
                              <a:pt x="189" y="437"/>
                            </a:lnTo>
                            <a:lnTo>
                              <a:pt x="189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2" name=""/>
                      <p:cNvSpPr/>
                      <p:nvPr/>
                    </p:nvSpPr>
                    <p:spPr>
                      <a:xfrm>
                        <a:off x="6996240" y="2337120"/>
                        <a:ext cx="182160" cy="56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1" h="472">
                            <a:moveTo>
                              <a:pt x="0" y="0"/>
                            </a:moveTo>
                            <a:lnTo>
                              <a:pt x="0" y="358"/>
                            </a:lnTo>
                            <a:lnTo>
                              <a:pt x="150" y="471"/>
                            </a:lnTo>
                            <a:lnTo>
                              <a:pt x="150" y="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3" name=""/>
                      <p:cNvSpPr/>
                      <p:nvPr/>
                    </p:nvSpPr>
                    <p:spPr>
                      <a:xfrm>
                        <a:off x="7157880" y="2357640"/>
                        <a:ext cx="0" cy="533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4" name=""/>
                      <p:cNvSpPr/>
                      <p:nvPr/>
                    </p:nvSpPr>
                    <p:spPr>
                      <a:xfrm>
                        <a:off x="7157880" y="236484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0" y="9"/>
                            </a:moveTo>
                            <a:lnTo>
                              <a:pt x="16" y="16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5" name=""/>
                      <p:cNvSpPr/>
                      <p:nvPr/>
                    </p:nvSpPr>
                    <p:spPr>
                      <a:xfrm>
                        <a:off x="7157880" y="240480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6" name=""/>
                      <p:cNvSpPr/>
                      <p:nvPr/>
                    </p:nvSpPr>
                    <p:spPr>
                      <a:xfrm>
                        <a:off x="7191360" y="2374200"/>
                        <a:ext cx="20232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3">
                            <a:moveTo>
                              <a:pt x="0" y="5"/>
                            </a:moveTo>
                            <a:lnTo>
                              <a:pt x="0" y="22"/>
                            </a:lnTo>
                            <a:lnTo>
                              <a:pt x="167" y="17"/>
                            </a:lnTo>
                            <a:lnTo>
                              <a:pt x="167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7" name=""/>
                      <p:cNvSpPr/>
                      <p:nvPr/>
                    </p:nvSpPr>
                    <p:spPr>
                      <a:xfrm>
                        <a:off x="7157880" y="241668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8" name=""/>
                      <p:cNvSpPr/>
                      <p:nvPr/>
                    </p:nvSpPr>
                    <p:spPr>
                      <a:xfrm>
                        <a:off x="7157880" y="245376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9" name=""/>
                      <p:cNvSpPr/>
                      <p:nvPr/>
                    </p:nvSpPr>
                    <p:spPr>
                      <a:xfrm>
                        <a:off x="7157880" y="260460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0" name=""/>
                      <p:cNvSpPr/>
                      <p:nvPr/>
                    </p:nvSpPr>
                    <p:spPr>
                      <a:xfrm>
                        <a:off x="7191360" y="2462400"/>
                        <a:ext cx="0" cy="154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1" name=""/>
                      <p:cNvSpPr/>
                      <p:nvPr/>
                    </p:nvSpPr>
                    <p:spPr>
                      <a:xfrm>
                        <a:off x="7392960" y="2455200"/>
                        <a:ext cx="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2" name=""/>
                      <p:cNvSpPr/>
                      <p:nvPr/>
                    </p:nvSpPr>
                    <p:spPr>
                      <a:xfrm>
                        <a:off x="7191360" y="2455200"/>
                        <a:ext cx="192960" cy="15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30">
                            <a:moveTo>
                              <a:pt x="159" y="0"/>
                            </a:moveTo>
                            <a:lnTo>
                              <a:pt x="159" y="121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3" name=""/>
                      <p:cNvSpPr/>
                      <p:nvPr/>
                    </p:nvSpPr>
                    <p:spPr>
                      <a:xfrm>
                        <a:off x="7383240" y="2600640"/>
                        <a:ext cx="9720" cy="3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4" name=""/>
                      <p:cNvSpPr/>
                      <p:nvPr/>
                    </p:nvSpPr>
                    <p:spPr>
                      <a:xfrm flipH="1">
                        <a:off x="7191360" y="2504520"/>
                        <a:ext cx="19152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5" name=""/>
                      <p:cNvSpPr/>
                      <p:nvPr/>
                    </p:nvSpPr>
                    <p:spPr>
                      <a:xfrm flipH="1">
                        <a:off x="7191360" y="2555280"/>
                        <a:ext cx="191520" cy="1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6" name=""/>
                      <p:cNvSpPr/>
                      <p:nvPr/>
                    </p:nvSpPr>
                    <p:spPr>
                      <a:xfrm>
                        <a:off x="7157880" y="264420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0" y="3"/>
                            </a:moveTo>
                            <a:lnTo>
                              <a:pt x="16" y="16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7" name=""/>
                      <p:cNvSpPr/>
                      <p:nvPr/>
                    </p:nvSpPr>
                    <p:spPr>
                      <a:xfrm>
                        <a:off x="7157880" y="2855880"/>
                        <a:ext cx="24804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21">
                            <a:moveTo>
                              <a:pt x="0" y="7"/>
                            </a:moveTo>
                            <a:lnTo>
                              <a:pt x="16" y="20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8" name=""/>
                      <p:cNvSpPr/>
                      <p:nvPr/>
                    </p:nvSpPr>
                    <p:spPr>
                      <a:xfrm>
                        <a:off x="7191360" y="2656080"/>
                        <a:ext cx="0" cy="221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9" name=""/>
                      <p:cNvSpPr/>
                      <p:nvPr/>
                    </p:nvSpPr>
                    <p:spPr>
                      <a:xfrm>
                        <a:off x="7392960" y="2644200"/>
                        <a:ext cx="0" cy="21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0" name=""/>
                      <p:cNvSpPr/>
                      <p:nvPr/>
                    </p:nvSpPr>
                    <p:spPr>
                      <a:xfrm>
                        <a:off x="7191360" y="2841480"/>
                        <a:ext cx="202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1">
                            <a:moveTo>
                              <a:pt x="0" y="20"/>
                            </a:moveTo>
                            <a:lnTo>
                              <a:pt x="167" y="4"/>
                            </a:lnTo>
                            <a:lnTo>
                              <a:pt x="167" y="0"/>
                            </a:lnTo>
                            <a:lnTo>
                              <a:pt x="0" y="17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1" name=""/>
                      <p:cNvSpPr/>
                      <p:nvPr/>
                    </p:nvSpPr>
                    <p:spPr>
                      <a:xfrm>
                        <a:off x="7191360" y="2832120"/>
                        <a:ext cx="202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1">
                            <a:moveTo>
                              <a:pt x="0" y="20"/>
                            </a:moveTo>
                            <a:lnTo>
                              <a:pt x="167" y="3"/>
                            </a:lnTo>
                            <a:lnTo>
                              <a:pt x="167" y="0"/>
                            </a:lnTo>
                            <a:lnTo>
                              <a:pt x="0" y="16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2" name=""/>
                      <p:cNvSpPr/>
                      <p:nvPr/>
                    </p:nvSpPr>
                    <p:spPr>
                      <a:xfrm>
                        <a:off x="7191360" y="2823480"/>
                        <a:ext cx="202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0">
                            <a:moveTo>
                              <a:pt x="167" y="3"/>
                            </a:moveTo>
                            <a:lnTo>
                              <a:pt x="0" y="19"/>
                            </a:lnTo>
                            <a:lnTo>
                              <a:pt x="0" y="15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3" name=""/>
                      <p:cNvSpPr/>
                      <p:nvPr/>
                    </p:nvSpPr>
                    <p:spPr>
                      <a:xfrm>
                        <a:off x="7191360" y="2814120"/>
                        <a:ext cx="2023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8">
                            <a:moveTo>
                              <a:pt x="167" y="3"/>
                            </a:moveTo>
                            <a:lnTo>
                              <a:pt x="0" y="17"/>
                            </a:lnTo>
                            <a:lnTo>
                              <a:pt x="0" y="14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4" name=""/>
                      <p:cNvSpPr/>
                      <p:nvPr/>
                    </p:nvSpPr>
                    <p:spPr>
                      <a:xfrm>
                        <a:off x="7191360" y="2802960"/>
                        <a:ext cx="202320" cy="2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9">
                            <a:moveTo>
                              <a:pt x="167" y="3"/>
                            </a:move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5" name=""/>
                      <p:cNvSpPr/>
                      <p:nvPr/>
                    </p:nvSpPr>
                    <p:spPr>
                      <a:xfrm>
                        <a:off x="7191360" y="2375640"/>
                        <a:ext cx="1929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21">
                            <a:moveTo>
                              <a:pt x="159" y="0"/>
                            </a:moveTo>
                            <a:lnTo>
                              <a:pt x="159" y="15"/>
                            </a:lnTo>
                            <a:lnTo>
                              <a:pt x="0" y="20"/>
                            </a:lnTo>
                            <a:lnTo>
                              <a:pt x="1" y="5"/>
                            </a:lnTo>
                            <a:lnTo>
                              <a:pt x="15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6" name=""/>
                      <p:cNvSpPr/>
                      <p:nvPr/>
                    </p:nvSpPr>
                    <p:spPr>
                      <a:xfrm>
                        <a:off x="7383240" y="2393640"/>
                        <a:ext cx="9720" cy="2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7" name=""/>
                      <p:cNvSpPr/>
                      <p:nvPr/>
                    </p:nvSpPr>
                    <p:spPr>
                      <a:xfrm>
                        <a:off x="7238520" y="2423880"/>
                        <a:ext cx="10836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27">
                            <a:moveTo>
                              <a:pt x="0" y="26"/>
                            </a:moveTo>
                            <a:lnTo>
                              <a:pt x="0" y="3"/>
                            </a:lnTo>
                            <a:lnTo>
                              <a:pt x="89" y="0"/>
                            </a:lnTo>
                            <a:lnTo>
                              <a:pt x="89" y="2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8" name=""/>
                      <p:cNvSpPr/>
                      <p:nvPr/>
                    </p:nvSpPr>
                    <p:spPr>
                      <a:xfrm>
                        <a:off x="7191360" y="2423880"/>
                        <a:ext cx="2023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4">
                            <a:moveTo>
                              <a:pt x="113" y="8"/>
                            </a:moveTo>
                            <a:lnTo>
                              <a:pt x="167" y="6"/>
                            </a:lnTo>
                            <a:lnTo>
                              <a:pt x="167" y="14"/>
                            </a:lnTo>
                            <a:lnTo>
                              <a:pt x="159" y="13"/>
                            </a:lnTo>
                            <a:lnTo>
                              <a:pt x="113" y="14"/>
                            </a:lnTo>
                            <a:lnTo>
                              <a:pt x="113" y="20"/>
                            </a:lnTo>
                            <a:lnTo>
                              <a:pt x="39" y="23"/>
                            </a:lnTo>
                            <a:lnTo>
                              <a:pt x="39" y="18"/>
                            </a:lnTo>
                            <a:lnTo>
                              <a:pt x="32" y="17"/>
                            </a:lnTo>
                            <a:lnTo>
                              <a:pt x="0" y="18"/>
                            </a:lnTo>
                            <a:lnTo>
                              <a:pt x="0" y="12"/>
                            </a:lnTo>
                            <a:lnTo>
                              <a:pt x="39" y="10"/>
                            </a:lnTo>
                            <a:lnTo>
                              <a:pt x="39" y="3"/>
                            </a:lnTo>
                            <a:lnTo>
                              <a:pt x="128" y="0"/>
                            </a:lnTo>
                            <a:lnTo>
                              <a:pt x="113" y="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9" name=""/>
                      <p:cNvSpPr/>
                      <p:nvPr/>
                    </p:nvSpPr>
                    <p:spPr>
                      <a:xfrm>
                        <a:off x="7191360" y="2437200"/>
                        <a:ext cx="1555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17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38" y="7"/>
                            </a:lnTo>
                            <a:lnTo>
                              <a:pt x="38" y="16"/>
                            </a:lnTo>
                            <a:lnTo>
                              <a:pt x="128" y="12"/>
                            </a:lnTo>
                            <a:lnTo>
                              <a:pt x="128" y="4"/>
                            </a:lnTo>
                            <a:lnTo>
                              <a:pt x="112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0" name=""/>
                      <p:cNvSpPr/>
                      <p:nvPr/>
                    </p:nvSpPr>
                    <p:spPr>
                      <a:xfrm flipH="1">
                        <a:off x="7345800" y="2439720"/>
                        <a:ext cx="4680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1" name=""/>
                      <p:cNvSpPr/>
                      <p:nvPr/>
                    </p:nvSpPr>
                    <p:spPr>
                      <a:xfrm>
                        <a:off x="7345800" y="2423880"/>
                        <a:ext cx="0" cy="8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2" name=""/>
                      <p:cNvSpPr/>
                      <p:nvPr/>
                    </p:nvSpPr>
                    <p:spPr>
                      <a:xfrm>
                        <a:off x="7201080" y="238788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3" y="6"/>
                            </a:lnTo>
                            <a:lnTo>
                              <a:pt x="13" y="3"/>
                            </a:lnTo>
                            <a:lnTo>
                              <a:pt x="10" y="3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5" y="3"/>
                            </a:lnTo>
                            <a:lnTo>
                              <a:pt x="2" y="6"/>
                            </a:lnTo>
                            <a:lnTo>
                              <a:pt x="2" y="6"/>
                            </a:lnTo>
                            <a:lnTo>
                              <a:pt x="0" y="9"/>
                            </a:lnTo>
                            <a:lnTo>
                              <a:pt x="2" y="12"/>
                            </a:lnTo>
                            <a:lnTo>
                              <a:pt x="5" y="12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2"/>
                            </a:lnTo>
                            <a:lnTo>
                              <a:pt x="13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3" name=""/>
                      <p:cNvSpPr/>
                      <p:nvPr/>
                    </p:nvSpPr>
                    <p:spPr>
                      <a:xfrm>
                        <a:off x="7228800" y="23864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6" y="6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0" y="6"/>
                            </a:lnTo>
                            <a:lnTo>
                              <a:pt x="0" y="9"/>
                            </a:lnTo>
                            <a:lnTo>
                              <a:pt x="2" y="9"/>
                            </a:lnTo>
                            <a:lnTo>
                              <a:pt x="2" y="12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2"/>
                            </a:lnTo>
                            <a:lnTo>
                              <a:pt x="16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4" name=""/>
                      <p:cNvSpPr/>
                      <p:nvPr/>
                    </p:nvSpPr>
                    <p:spPr>
                      <a:xfrm>
                        <a:off x="7256520" y="23864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0"/>
                            </a:moveTo>
                            <a:lnTo>
                              <a:pt x="16" y="5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5"/>
                            </a:lnTo>
                            <a:lnTo>
                              <a:pt x="2" y="5"/>
                            </a:lnTo>
                            <a:lnTo>
                              <a:pt x="0" y="10"/>
                            </a:lnTo>
                            <a:lnTo>
                              <a:pt x="2" y="10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6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5" name=""/>
                      <p:cNvSpPr/>
                      <p:nvPr/>
                    </p:nvSpPr>
                    <p:spPr>
                      <a:xfrm>
                        <a:off x="7285320" y="23864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5"/>
                            </a:moveTo>
                            <a:lnTo>
                              <a:pt x="16" y="5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2" y="0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10"/>
                            </a:lnTo>
                            <a:lnTo>
                              <a:pt x="2" y="10"/>
                            </a:lnTo>
                            <a:lnTo>
                              <a:pt x="2" y="16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6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  <a:lnTo>
                              <a:pt x="16" y="5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6" name=""/>
                      <p:cNvSpPr/>
                      <p:nvPr/>
                    </p:nvSpPr>
                    <p:spPr>
                      <a:xfrm>
                        <a:off x="7314480" y="23853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8"/>
                            </a:moveTo>
                            <a:lnTo>
                              <a:pt x="12" y="4"/>
                            </a:lnTo>
                            <a:lnTo>
                              <a:pt x="12" y="4"/>
                            </a:lnTo>
                            <a:lnTo>
                              <a:pt x="12" y="0"/>
                            </a:lnTo>
                            <a:lnTo>
                              <a:pt x="6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  <a:lnTo>
                              <a:pt x="3" y="16"/>
                            </a:lnTo>
                            <a:lnTo>
                              <a:pt x="3" y="16"/>
                            </a:lnTo>
                            <a:lnTo>
                              <a:pt x="6" y="16"/>
                            </a:lnTo>
                            <a:lnTo>
                              <a:pt x="9" y="16"/>
                            </a:lnTo>
                            <a:lnTo>
                              <a:pt x="12" y="16"/>
                            </a:lnTo>
                            <a:lnTo>
                              <a:pt x="12" y="12"/>
                            </a:lnTo>
                            <a:lnTo>
                              <a:pt x="16" y="8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7" name=""/>
                      <p:cNvSpPr/>
                      <p:nvPr/>
                    </p:nvSpPr>
                    <p:spPr>
                      <a:xfrm>
                        <a:off x="7341120" y="23828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3" y="6"/>
                            </a:lnTo>
                            <a:lnTo>
                              <a:pt x="13" y="3"/>
                            </a:lnTo>
                            <a:lnTo>
                              <a:pt x="10" y="3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3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  <a:lnTo>
                              <a:pt x="0" y="9"/>
                            </a:lnTo>
                            <a:lnTo>
                              <a:pt x="0" y="9"/>
                            </a:lnTo>
                            <a:lnTo>
                              <a:pt x="5" y="12"/>
                            </a:lnTo>
                            <a:lnTo>
                              <a:pt x="8" y="16"/>
                            </a:lnTo>
                            <a:lnTo>
                              <a:pt x="8" y="16"/>
                            </a:lnTo>
                            <a:lnTo>
                              <a:pt x="10" y="12"/>
                            </a:lnTo>
                            <a:lnTo>
                              <a:pt x="13" y="12"/>
                            </a:lnTo>
                            <a:lnTo>
                              <a:pt x="13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8" name=""/>
                      <p:cNvSpPr/>
                      <p:nvPr/>
                    </p:nvSpPr>
                    <p:spPr>
                      <a:xfrm>
                        <a:off x="7369920" y="23828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8"/>
                            </a:moveTo>
                            <a:lnTo>
                              <a:pt x="16" y="8"/>
                            </a:lnTo>
                            <a:lnTo>
                              <a:pt x="16" y="4"/>
                            </a:lnTo>
                            <a:lnTo>
                              <a:pt x="12" y="4"/>
                            </a:lnTo>
                            <a:lnTo>
                              <a:pt x="9" y="0"/>
                            </a:lnTo>
                            <a:lnTo>
                              <a:pt x="6" y="0"/>
                            </a:lnTo>
                            <a:lnTo>
                              <a:pt x="3" y="4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  <a:lnTo>
                              <a:pt x="0" y="12"/>
                            </a:lnTo>
                            <a:lnTo>
                              <a:pt x="3" y="16"/>
                            </a:lnTo>
                            <a:lnTo>
                              <a:pt x="6" y="16"/>
                            </a:lnTo>
                            <a:lnTo>
                              <a:pt x="9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2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9" name=""/>
                      <p:cNvSpPr/>
                      <p:nvPr/>
                    </p:nvSpPr>
                    <p:spPr>
                      <a:xfrm>
                        <a:off x="7373520" y="245520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2">
                            <a:moveTo>
                              <a:pt x="0" y="0"/>
                            </a:moveTo>
                            <a:lnTo>
                              <a:pt x="0" y="42"/>
                            </a:lnTo>
                            <a:lnTo>
                              <a:pt x="12" y="42"/>
                            </a:lnTo>
                            <a:lnTo>
                              <a:pt x="0" y="47"/>
                            </a:lnTo>
                            <a:lnTo>
                              <a:pt x="0" y="84"/>
                            </a:lnTo>
                            <a:lnTo>
                              <a:pt x="12" y="84"/>
                            </a:lnTo>
                            <a:lnTo>
                              <a:pt x="0" y="89"/>
                            </a:lnTo>
                            <a:lnTo>
                              <a:pt x="0" y="121"/>
                            </a:lnTo>
                            <a:lnTo>
                              <a:pt x="16" y="121"/>
                            </a:ln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0" name=""/>
                      <p:cNvSpPr/>
                      <p:nvPr/>
                    </p:nvSpPr>
                    <p:spPr>
                      <a:xfrm>
                        <a:off x="7404840" y="2827080"/>
                        <a:ext cx="11556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45">
                            <a:moveTo>
                              <a:pt x="0" y="44"/>
                            </a:moveTo>
                            <a:lnTo>
                              <a:pt x="95" y="35"/>
                            </a:lnTo>
                            <a:lnTo>
                              <a:pt x="0" y="0"/>
                            </a:lnTo>
                            <a:lnTo>
                              <a:pt x="0" y="4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pic>
                  <p:nvPicPr>
                    <p:cNvPr id="3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84480" y="2358000"/>
                      <a:ext cx="65484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3152" name=""/>
                    <p:cNvGrpSpPr/>
                    <p:nvPr/>
                  </p:nvGrpSpPr>
                  <p:grpSpPr>
                    <a:xfrm>
                      <a:off x="3175560" y="2309760"/>
                      <a:ext cx="524160" cy="569520"/>
                      <a:chOff x="3175560" y="2309760"/>
                      <a:chExt cx="524160" cy="569520"/>
                    </a:xfrm>
                  </p:grpSpPr>
                  <p:sp>
                    <p:nvSpPr>
                      <p:cNvPr id="3153" name=""/>
                      <p:cNvSpPr/>
                      <p:nvPr/>
                    </p:nvSpPr>
                    <p:spPr>
                      <a:xfrm>
                        <a:off x="3357720" y="2327760"/>
                        <a:ext cx="227520" cy="55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458">
                            <a:moveTo>
                              <a:pt x="188" y="0"/>
                            </a:moveTo>
                            <a:lnTo>
                              <a:pt x="0" y="5"/>
                            </a:lnTo>
                            <a:lnTo>
                              <a:pt x="0" y="457"/>
                            </a:lnTo>
                            <a:lnTo>
                              <a:pt x="188" y="437"/>
                            </a:lnTo>
                            <a:lnTo>
                              <a:pt x="188" y="0"/>
                            </a:lnTo>
                          </a:path>
                        </a:pathLst>
                      </a:custGeom>
                      <a:solidFill>
                        <a:srgbClr val="b5b5b5"/>
                      </a:solidFill>
                      <a:ln cap="rnd" w="12600">
                        <a:solidFill>
                          <a:srgbClr val="b5b5b5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4" name=""/>
                      <p:cNvSpPr/>
                      <p:nvPr/>
                    </p:nvSpPr>
                    <p:spPr>
                      <a:xfrm>
                        <a:off x="3370680" y="2617920"/>
                        <a:ext cx="20232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95">
                            <a:moveTo>
                              <a:pt x="0" y="11"/>
                            </a:moveTo>
                            <a:lnTo>
                              <a:pt x="167" y="0"/>
                            </a:lnTo>
                            <a:lnTo>
                              <a:pt x="167" y="177"/>
                            </a:lnTo>
                            <a:lnTo>
                              <a:pt x="0" y="194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5" name=""/>
                      <p:cNvSpPr/>
                      <p:nvPr/>
                    </p:nvSpPr>
                    <p:spPr>
                      <a:xfrm>
                        <a:off x="3370680" y="2428920"/>
                        <a:ext cx="192960" cy="15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31">
                            <a:moveTo>
                              <a:pt x="0" y="6"/>
                            </a:moveTo>
                            <a:lnTo>
                              <a:pt x="159" y="0"/>
                            </a:lnTo>
                            <a:lnTo>
                              <a:pt x="159" y="121"/>
                            </a:lnTo>
                            <a:lnTo>
                              <a:pt x="0" y="130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6" name=""/>
                      <p:cNvSpPr/>
                      <p:nvPr/>
                    </p:nvSpPr>
                    <p:spPr>
                      <a:xfrm>
                        <a:off x="3175560" y="2310840"/>
                        <a:ext cx="4096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0" h="19">
                            <a:moveTo>
                              <a:pt x="0" y="1"/>
                            </a:moveTo>
                            <a:lnTo>
                              <a:pt x="151" y="18"/>
                            </a:lnTo>
                            <a:lnTo>
                              <a:pt x="339" y="14"/>
                            </a:lnTo>
                            <a:lnTo>
                              <a:pt x="181" y="0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7" name=""/>
                      <p:cNvSpPr/>
                      <p:nvPr/>
                    </p:nvSpPr>
                    <p:spPr>
                      <a:xfrm>
                        <a:off x="3175560" y="2310840"/>
                        <a:ext cx="183240" cy="56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2" h="472">
                            <a:moveTo>
                              <a:pt x="151" y="471"/>
                            </a:moveTo>
                            <a:lnTo>
                              <a:pt x="0" y="358"/>
                            </a:lnTo>
                            <a:lnTo>
                              <a:pt x="0" y="0"/>
                            </a:lnTo>
                            <a:lnTo>
                              <a:pt x="151" y="18"/>
                            </a:lnTo>
                            <a:lnTo>
                              <a:pt x="151" y="471"/>
                            </a:lnTo>
                          </a:path>
                        </a:pathLst>
                      </a:custGeom>
                      <a:solidFill>
                        <a:srgbClr val="b5b5b5"/>
                      </a:solidFill>
                      <a:ln cap="rnd" w="12600">
                        <a:solidFill>
                          <a:srgbClr val="b5b5b5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8" name=""/>
                      <p:cNvSpPr/>
                      <p:nvPr/>
                    </p:nvSpPr>
                    <p:spPr>
                      <a:xfrm>
                        <a:off x="3337200" y="2329920"/>
                        <a:ext cx="21600" cy="54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56">
                            <a:moveTo>
                              <a:pt x="17" y="2"/>
                            </a:moveTo>
                            <a:lnTo>
                              <a:pt x="0" y="0"/>
                            </a:lnTo>
                            <a:lnTo>
                              <a:pt x="0" y="443"/>
                            </a:lnTo>
                            <a:lnTo>
                              <a:pt x="17" y="455"/>
                            </a:lnTo>
                            <a:lnTo>
                              <a:pt x="17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9" name=""/>
                      <p:cNvSpPr/>
                      <p:nvPr/>
                    </p:nvSpPr>
                    <p:spPr>
                      <a:xfrm>
                        <a:off x="3370680" y="2427480"/>
                        <a:ext cx="20232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37">
                            <a:moveTo>
                              <a:pt x="167" y="0"/>
                            </a:moveTo>
                            <a:lnTo>
                              <a:pt x="167" y="125"/>
                            </a:lnTo>
                            <a:lnTo>
                              <a:pt x="0" y="136"/>
                            </a:lnTo>
                            <a:lnTo>
                              <a:pt x="0" y="130"/>
                            </a:lnTo>
                            <a:lnTo>
                              <a:pt x="159" y="122"/>
                            </a:lnTo>
                            <a:lnTo>
                              <a:pt x="159" y="1"/>
                            </a:lnTo>
                            <a:lnTo>
                              <a:pt x="16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0" name=""/>
                      <p:cNvSpPr/>
                      <p:nvPr/>
                    </p:nvSpPr>
                    <p:spPr>
                      <a:xfrm>
                        <a:off x="3370680" y="2397600"/>
                        <a:ext cx="20232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7">
                            <a:moveTo>
                              <a:pt x="0" y="15"/>
                            </a:moveTo>
                            <a:lnTo>
                              <a:pt x="0" y="19"/>
                            </a:lnTo>
                            <a:lnTo>
                              <a:pt x="39" y="18"/>
                            </a:lnTo>
                            <a:lnTo>
                              <a:pt x="39" y="26"/>
                            </a:lnTo>
                            <a:lnTo>
                              <a:pt x="128" y="23"/>
                            </a:lnTo>
                            <a:lnTo>
                              <a:pt x="128" y="16"/>
                            </a:lnTo>
                            <a:lnTo>
                              <a:pt x="167" y="14"/>
                            </a:lnTo>
                            <a:lnTo>
                              <a:pt x="167" y="8"/>
                            </a:lnTo>
                            <a:lnTo>
                              <a:pt x="128" y="10"/>
                            </a:lnTo>
                            <a:lnTo>
                              <a:pt x="128" y="0"/>
                            </a:lnTo>
                            <a:lnTo>
                              <a:pt x="111" y="1"/>
                            </a:lnTo>
                            <a:lnTo>
                              <a:pt x="32" y="13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1" name=""/>
                      <p:cNvSpPr/>
                      <p:nvPr/>
                    </p:nvSpPr>
                    <p:spPr>
                      <a:xfrm>
                        <a:off x="3370680" y="2347920"/>
                        <a:ext cx="20232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3">
                            <a:moveTo>
                              <a:pt x="167" y="0"/>
                            </a:moveTo>
                            <a:lnTo>
                              <a:pt x="167" y="17"/>
                            </a:lnTo>
                            <a:lnTo>
                              <a:pt x="0" y="22"/>
                            </a:lnTo>
                            <a:lnTo>
                              <a:pt x="0" y="19"/>
                            </a:lnTo>
                            <a:lnTo>
                              <a:pt x="158" y="1"/>
                            </a:lnTo>
                            <a:lnTo>
                              <a:pt x="16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2" name=""/>
                      <p:cNvSpPr/>
                      <p:nvPr/>
                    </p:nvSpPr>
                    <p:spPr>
                      <a:xfrm>
                        <a:off x="3175560" y="2309760"/>
                        <a:ext cx="4096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0" h="20">
                            <a:moveTo>
                              <a:pt x="0" y="2"/>
                            </a:moveTo>
                            <a:lnTo>
                              <a:pt x="151" y="19"/>
                            </a:lnTo>
                            <a:lnTo>
                              <a:pt x="339" y="14"/>
                            </a:lnTo>
                            <a:lnTo>
                              <a:pt x="181" y="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3" name=""/>
                      <p:cNvSpPr/>
                      <p:nvPr/>
                    </p:nvSpPr>
                    <p:spPr>
                      <a:xfrm>
                        <a:off x="3356280" y="2327760"/>
                        <a:ext cx="228960" cy="55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0" h="458">
                            <a:moveTo>
                              <a:pt x="0" y="5"/>
                            </a:moveTo>
                            <a:lnTo>
                              <a:pt x="0" y="457"/>
                            </a:lnTo>
                            <a:lnTo>
                              <a:pt x="189" y="437"/>
                            </a:lnTo>
                            <a:lnTo>
                              <a:pt x="189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4" name=""/>
                      <p:cNvSpPr/>
                      <p:nvPr/>
                    </p:nvSpPr>
                    <p:spPr>
                      <a:xfrm>
                        <a:off x="3175560" y="2310840"/>
                        <a:ext cx="182160" cy="56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1" h="472">
                            <a:moveTo>
                              <a:pt x="0" y="0"/>
                            </a:moveTo>
                            <a:lnTo>
                              <a:pt x="0" y="358"/>
                            </a:lnTo>
                            <a:lnTo>
                              <a:pt x="150" y="471"/>
                            </a:lnTo>
                            <a:lnTo>
                              <a:pt x="150" y="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5" name=""/>
                      <p:cNvSpPr/>
                      <p:nvPr/>
                    </p:nvSpPr>
                    <p:spPr>
                      <a:xfrm>
                        <a:off x="3337200" y="2331360"/>
                        <a:ext cx="0" cy="533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6" name=""/>
                      <p:cNvSpPr/>
                      <p:nvPr/>
                    </p:nvSpPr>
                    <p:spPr>
                      <a:xfrm>
                        <a:off x="3337200" y="233856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0" y="9"/>
                            </a:moveTo>
                            <a:lnTo>
                              <a:pt x="16" y="16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7" name=""/>
                      <p:cNvSpPr/>
                      <p:nvPr/>
                    </p:nvSpPr>
                    <p:spPr>
                      <a:xfrm>
                        <a:off x="3337200" y="237852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8" name=""/>
                      <p:cNvSpPr/>
                      <p:nvPr/>
                    </p:nvSpPr>
                    <p:spPr>
                      <a:xfrm>
                        <a:off x="3370680" y="2347920"/>
                        <a:ext cx="20232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3">
                            <a:moveTo>
                              <a:pt x="0" y="5"/>
                            </a:moveTo>
                            <a:lnTo>
                              <a:pt x="0" y="22"/>
                            </a:lnTo>
                            <a:lnTo>
                              <a:pt x="167" y="17"/>
                            </a:lnTo>
                            <a:lnTo>
                              <a:pt x="167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9" name=""/>
                      <p:cNvSpPr/>
                      <p:nvPr/>
                    </p:nvSpPr>
                    <p:spPr>
                      <a:xfrm>
                        <a:off x="3337200" y="239040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0" name=""/>
                      <p:cNvSpPr/>
                      <p:nvPr/>
                    </p:nvSpPr>
                    <p:spPr>
                      <a:xfrm>
                        <a:off x="3337200" y="242748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1" name=""/>
                      <p:cNvSpPr/>
                      <p:nvPr/>
                    </p:nvSpPr>
                    <p:spPr>
                      <a:xfrm>
                        <a:off x="3337200" y="257832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2" name=""/>
                      <p:cNvSpPr/>
                      <p:nvPr/>
                    </p:nvSpPr>
                    <p:spPr>
                      <a:xfrm>
                        <a:off x="3370680" y="2436120"/>
                        <a:ext cx="0" cy="154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3" name=""/>
                      <p:cNvSpPr/>
                      <p:nvPr/>
                    </p:nvSpPr>
                    <p:spPr>
                      <a:xfrm>
                        <a:off x="3572280" y="2428920"/>
                        <a:ext cx="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4" name=""/>
                      <p:cNvSpPr/>
                      <p:nvPr/>
                    </p:nvSpPr>
                    <p:spPr>
                      <a:xfrm>
                        <a:off x="3370680" y="2428920"/>
                        <a:ext cx="192960" cy="15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30">
                            <a:moveTo>
                              <a:pt x="159" y="0"/>
                            </a:moveTo>
                            <a:lnTo>
                              <a:pt x="159" y="121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5" name=""/>
                      <p:cNvSpPr/>
                      <p:nvPr/>
                    </p:nvSpPr>
                    <p:spPr>
                      <a:xfrm>
                        <a:off x="3562560" y="2574360"/>
                        <a:ext cx="9720" cy="3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6" name=""/>
                      <p:cNvSpPr/>
                      <p:nvPr/>
                    </p:nvSpPr>
                    <p:spPr>
                      <a:xfrm flipH="1">
                        <a:off x="3370680" y="2478240"/>
                        <a:ext cx="19152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7" name=""/>
                      <p:cNvSpPr/>
                      <p:nvPr/>
                    </p:nvSpPr>
                    <p:spPr>
                      <a:xfrm flipH="1">
                        <a:off x="3370680" y="2529000"/>
                        <a:ext cx="191520" cy="1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8" name=""/>
                      <p:cNvSpPr/>
                      <p:nvPr/>
                    </p:nvSpPr>
                    <p:spPr>
                      <a:xfrm>
                        <a:off x="3337200" y="261792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0" y="3"/>
                            </a:moveTo>
                            <a:lnTo>
                              <a:pt x="16" y="16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9" name=""/>
                      <p:cNvSpPr/>
                      <p:nvPr/>
                    </p:nvSpPr>
                    <p:spPr>
                      <a:xfrm>
                        <a:off x="3337200" y="2829600"/>
                        <a:ext cx="24804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21">
                            <a:moveTo>
                              <a:pt x="0" y="7"/>
                            </a:moveTo>
                            <a:lnTo>
                              <a:pt x="16" y="20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0" name=""/>
                      <p:cNvSpPr/>
                      <p:nvPr/>
                    </p:nvSpPr>
                    <p:spPr>
                      <a:xfrm>
                        <a:off x="3370680" y="2629800"/>
                        <a:ext cx="0" cy="221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1" name=""/>
                      <p:cNvSpPr/>
                      <p:nvPr/>
                    </p:nvSpPr>
                    <p:spPr>
                      <a:xfrm>
                        <a:off x="3572280" y="2617920"/>
                        <a:ext cx="0" cy="21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2" name=""/>
                      <p:cNvSpPr/>
                      <p:nvPr/>
                    </p:nvSpPr>
                    <p:spPr>
                      <a:xfrm>
                        <a:off x="3370680" y="2815200"/>
                        <a:ext cx="202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1">
                            <a:moveTo>
                              <a:pt x="0" y="20"/>
                            </a:moveTo>
                            <a:lnTo>
                              <a:pt x="167" y="4"/>
                            </a:lnTo>
                            <a:lnTo>
                              <a:pt x="167" y="0"/>
                            </a:lnTo>
                            <a:lnTo>
                              <a:pt x="0" y="17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3" name=""/>
                      <p:cNvSpPr/>
                      <p:nvPr/>
                    </p:nvSpPr>
                    <p:spPr>
                      <a:xfrm>
                        <a:off x="3370680" y="2805840"/>
                        <a:ext cx="202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1">
                            <a:moveTo>
                              <a:pt x="0" y="20"/>
                            </a:moveTo>
                            <a:lnTo>
                              <a:pt x="167" y="3"/>
                            </a:lnTo>
                            <a:lnTo>
                              <a:pt x="167" y="0"/>
                            </a:lnTo>
                            <a:lnTo>
                              <a:pt x="0" y="16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4" name=""/>
                      <p:cNvSpPr/>
                      <p:nvPr/>
                    </p:nvSpPr>
                    <p:spPr>
                      <a:xfrm>
                        <a:off x="3370680" y="2797200"/>
                        <a:ext cx="202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0">
                            <a:moveTo>
                              <a:pt x="167" y="3"/>
                            </a:moveTo>
                            <a:lnTo>
                              <a:pt x="0" y="19"/>
                            </a:lnTo>
                            <a:lnTo>
                              <a:pt x="0" y="15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5" name=""/>
                      <p:cNvSpPr/>
                      <p:nvPr/>
                    </p:nvSpPr>
                    <p:spPr>
                      <a:xfrm>
                        <a:off x="3370680" y="2787840"/>
                        <a:ext cx="2023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8">
                            <a:moveTo>
                              <a:pt x="167" y="3"/>
                            </a:moveTo>
                            <a:lnTo>
                              <a:pt x="0" y="17"/>
                            </a:lnTo>
                            <a:lnTo>
                              <a:pt x="0" y="14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6" name=""/>
                      <p:cNvSpPr/>
                      <p:nvPr/>
                    </p:nvSpPr>
                    <p:spPr>
                      <a:xfrm>
                        <a:off x="3370680" y="2776680"/>
                        <a:ext cx="202320" cy="2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9">
                            <a:moveTo>
                              <a:pt x="167" y="3"/>
                            </a:move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7" name=""/>
                      <p:cNvSpPr/>
                      <p:nvPr/>
                    </p:nvSpPr>
                    <p:spPr>
                      <a:xfrm>
                        <a:off x="3370680" y="2349360"/>
                        <a:ext cx="1929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21">
                            <a:moveTo>
                              <a:pt x="159" y="0"/>
                            </a:moveTo>
                            <a:lnTo>
                              <a:pt x="159" y="15"/>
                            </a:lnTo>
                            <a:lnTo>
                              <a:pt x="0" y="20"/>
                            </a:lnTo>
                            <a:lnTo>
                              <a:pt x="1" y="5"/>
                            </a:lnTo>
                            <a:lnTo>
                              <a:pt x="15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8" name=""/>
                      <p:cNvSpPr/>
                      <p:nvPr/>
                    </p:nvSpPr>
                    <p:spPr>
                      <a:xfrm>
                        <a:off x="3562560" y="2367360"/>
                        <a:ext cx="9720" cy="2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9" name=""/>
                      <p:cNvSpPr/>
                      <p:nvPr/>
                    </p:nvSpPr>
                    <p:spPr>
                      <a:xfrm>
                        <a:off x="3417840" y="2397600"/>
                        <a:ext cx="10836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27">
                            <a:moveTo>
                              <a:pt x="0" y="26"/>
                            </a:moveTo>
                            <a:lnTo>
                              <a:pt x="0" y="3"/>
                            </a:lnTo>
                            <a:lnTo>
                              <a:pt x="89" y="0"/>
                            </a:lnTo>
                            <a:lnTo>
                              <a:pt x="89" y="2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0" name=""/>
                      <p:cNvSpPr/>
                      <p:nvPr/>
                    </p:nvSpPr>
                    <p:spPr>
                      <a:xfrm>
                        <a:off x="3370680" y="2397600"/>
                        <a:ext cx="2023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4">
                            <a:moveTo>
                              <a:pt x="113" y="8"/>
                            </a:moveTo>
                            <a:lnTo>
                              <a:pt x="167" y="6"/>
                            </a:lnTo>
                            <a:lnTo>
                              <a:pt x="167" y="14"/>
                            </a:lnTo>
                            <a:lnTo>
                              <a:pt x="159" y="13"/>
                            </a:lnTo>
                            <a:lnTo>
                              <a:pt x="113" y="14"/>
                            </a:lnTo>
                            <a:lnTo>
                              <a:pt x="113" y="20"/>
                            </a:lnTo>
                            <a:lnTo>
                              <a:pt x="39" y="23"/>
                            </a:lnTo>
                            <a:lnTo>
                              <a:pt x="39" y="18"/>
                            </a:lnTo>
                            <a:lnTo>
                              <a:pt x="32" y="17"/>
                            </a:lnTo>
                            <a:lnTo>
                              <a:pt x="0" y="18"/>
                            </a:lnTo>
                            <a:lnTo>
                              <a:pt x="0" y="12"/>
                            </a:lnTo>
                            <a:lnTo>
                              <a:pt x="39" y="10"/>
                            </a:lnTo>
                            <a:lnTo>
                              <a:pt x="39" y="3"/>
                            </a:lnTo>
                            <a:lnTo>
                              <a:pt x="128" y="0"/>
                            </a:lnTo>
                            <a:lnTo>
                              <a:pt x="113" y="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1" name=""/>
                      <p:cNvSpPr/>
                      <p:nvPr/>
                    </p:nvSpPr>
                    <p:spPr>
                      <a:xfrm>
                        <a:off x="3370680" y="2410920"/>
                        <a:ext cx="1555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17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38" y="7"/>
                            </a:lnTo>
                            <a:lnTo>
                              <a:pt x="38" y="16"/>
                            </a:lnTo>
                            <a:lnTo>
                              <a:pt x="128" y="12"/>
                            </a:lnTo>
                            <a:lnTo>
                              <a:pt x="128" y="4"/>
                            </a:lnTo>
                            <a:lnTo>
                              <a:pt x="112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2" name=""/>
                      <p:cNvSpPr/>
                      <p:nvPr/>
                    </p:nvSpPr>
                    <p:spPr>
                      <a:xfrm flipH="1">
                        <a:off x="3525120" y="2413440"/>
                        <a:ext cx="4680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3" name=""/>
                      <p:cNvSpPr/>
                      <p:nvPr/>
                    </p:nvSpPr>
                    <p:spPr>
                      <a:xfrm>
                        <a:off x="3525120" y="2397600"/>
                        <a:ext cx="0" cy="8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4" name=""/>
                      <p:cNvSpPr/>
                      <p:nvPr/>
                    </p:nvSpPr>
                    <p:spPr>
                      <a:xfrm>
                        <a:off x="3380400" y="236160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3" y="6"/>
                            </a:lnTo>
                            <a:lnTo>
                              <a:pt x="13" y="3"/>
                            </a:lnTo>
                            <a:lnTo>
                              <a:pt x="10" y="3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5" y="3"/>
                            </a:lnTo>
                            <a:lnTo>
                              <a:pt x="2" y="6"/>
                            </a:lnTo>
                            <a:lnTo>
                              <a:pt x="2" y="6"/>
                            </a:lnTo>
                            <a:lnTo>
                              <a:pt x="0" y="9"/>
                            </a:lnTo>
                            <a:lnTo>
                              <a:pt x="2" y="12"/>
                            </a:lnTo>
                            <a:lnTo>
                              <a:pt x="5" y="12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2"/>
                            </a:lnTo>
                            <a:lnTo>
                              <a:pt x="13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5" name=""/>
                      <p:cNvSpPr/>
                      <p:nvPr/>
                    </p:nvSpPr>
                    <p:spPr>
                      <a:xfrm>
                        <a:off x="3408120" y="23601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6" y="6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0" y="6"/>
                            </a:lnTo>
                            <a:lnTo>
                              <a:pt x="0" y="9"/>
                            </a:lnTo>
                            <a:lnTo>
                              <a:pt x="2" y="9"/>
                            </a:lnTo>
                            <a:lnTo>
                              <a:pt x="2" y="12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2"/>
                            </a:lnTo>
                            <a:lnTo>
                              <a:pt x="16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6" name=""/>
                      <p:cNvSpPr/>
                      <p:nvPr/>
                    </p:nvSpPr>
                    <p:spPr>
                      <a:xfrm>
                        <a:off x="3435840" y="23601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0"/>
                            </a:moveTo>
                            <a:lnTo>
                              <a:pt x="16" y="5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5"/>
                            </a:lnTo>
                            <a:lnTo>
                              <a:pt x="2" y="5"/>
                            </a:lnTo>
                            <a:lnTo>
                              <a:pt x="0" y="10"/>
                            </a:lnTo>
                            <a:lnTo>
                              <a:pt x="2" y="10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6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7" name=""/>
                      <p:cNvSpPr/>
                      <p:nvPr/>
                    </p:nvSpPr>
                    <p:spPr>
                      <a:xfrm>
                        <a:off x="3464640" y="23601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5"/>
                            </a:moveTo>
                            <a:lnTo>
                              <a:pt x="16" y="5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2" y="0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10"/>
                            </a:lnTo>
                            <a:lnTo>
                              <a:pt x="2" y="10"/>
                            </a:lnTo>
                            <a:lnTo>
                              <a:pt x="2" y="16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6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  <a:lnTo>
                              <a:pt x="16" y="5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8" name=""/>
                      <p:cNvSpPr/>
                      <p:nvPr/>
                    </p:nvSpPr>
                    <p:spPr>
                      <a:xfrm>
                        <a:off x="3493800" y="235908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8"/>
                            </a:moveTo>
                            <a:lnTo>
                              <a:pt x="12" y="4"/>
                            </a:lnTo>
                            <a:lnTo>
                              <a:pt x="12" y="4"/>
                            </a:lnTo>
                            <a:lnTo>
                              <a:pt x="12" y="0"/>
                            </a:lnTo>
                            <a:lnTo>
                              <a:pt x="6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  <a:lnTo>
                              <a:pt x="3" y="16"/>
                            </a:lnTo>
                            <a:lnTo>
                              <a:pt x="3" y="16"/>
                            </a:lnTo>
                            <a:lnTo>
                              <a:pt x="6" y="16"/>
                            </a:lnTo>
                            <a:lnTo>
                              <a:pt x="9" y="16"/>
                            </a:lnTo>
                            <a:lnTo>
                              <a:pt x="12" y="16"/>
                            </a:lnTo>
                            <a:lnTo>
                              <a:pt x="12" y="12"/>
                            </a:lnTo>
                            <a:lnTo>
                              <a:pt x="16" y="8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9" name=""/>
                      <p:cNvSpPr/>
                      <p:nvPr/>
                    </p:nvSpPr>
                    <p:spPr>
                      <a:xfrm>
                        <a:off x="3520440" y="23565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3" y="6"/>
                            </a:lnTo>
                            <a:lnTo>
                              <a:pt x="13" y="3"/>
                            </a:lnTo>
                            <a:lnTo>
                              <a:pt x="10" y="3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3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  <a:lnTo>
                              <a:pt x="0" y="9"/>
                            </a:lnTo>
                            <a:lnTo>
                              <a:pt x="0" y="9"/>
                            </a:lnTo>
                            <a:lnTo>
                              <a:pt x="5" y="12"/>
                            </a:lnTo>
                            <a:lnTo>
                              <a:pt x="8" y="16"/>
                            </a:lnTo>
                            <a:lnTo>
                              <a:pt x="8" y="16"/>
                            </a:lnTo>
                            <a:lnTo>
                              <a:pt x="10" y="12"/>
                            </a:lnTo>
                            <a:lnTo>
                              <a:pt x="13" y="12"/>
                            </a:lnTo>
                            <a:lnTo>
                              <a:pt x="13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0" name=""/>
                      <p:cNvSpPr/>
                      <p:nvPr/>
                    </p:nvSpPr>
                    <p:spPr>
                      <a:xfrm>
                        <a:off x="3549240" y="23565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8"/>
                            </a:moveTo>
                            <a:lnTo>
                              <a:pt x="16" y="8"/>
                            </a:lnTo>
                            <a:lnTo>
                              <a:pt x="16" y="4"/>
                            </a:lnTo>
                            <a:lnTo>
                              <a:pt x="12" y="4"/>
                            </a:lnTo>
                            <a:lnTo>
                              <a:pt x="9" y="0"/>
                            </a:lnTo>
                            <a:lnTo>
                              <a:pt x="6" y="0"/>
                            </a:lnTo>
                            <a:lnTo>
                              <a:pt x="3" y="4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  <a:lnTo>
                              <a:pt x="0" y="12"/>
                            </a:lnTo>
                            <a:lnTo>
                              <a:pt x="3" y="16"/>
                            </a:lnTo>
                            <a:lnTo>
                              <a:pt x="6" y="16"/>
                            </a:lnTo>
                            <a:lnTo>
                              <a:pt x="9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2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1" name=""/>
                      <p:cNvSpPr/>
                      <p:nvPr/>
                    </p:nvSpPr>
                    <p:spPr>
                      <a:xfrm>
                        <a:off x="3552840" y="242892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2">
                            <a:moveTo>
                              <a:pt x="0" y="0"/>
                            </a:moveTo>
                            <a:lnTo>
                              <a:pt x="0" y="42"/>
                            </a:lnTo>
                            <a:lnTo>
                              <a:pt x="12" y="42"/>
                            </a:lnTo>
                            <a:lnTo>
                              <a:pt x="0" y="47"/>
                            </a:lnTo>
                            <a:lnTo>
                              <a:pt x="0" y="84"/>
                            </a:lnTo>
                            <a:lnTo>
                              <a:pt x="12" y="84"/>
                            </a:lnTo>
                            <a:lnTo>
                              <a:pt x="0" y="89"/>
                            </a:lnTo>
                            <a:lnTo>
                              <a:pt x="0" y="121"/>
                            </a:lnTo>
                            <a:lnTo>
                              <a:pt x="16" y="121"/>
                            </a:ln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2" name=""/>
                      <p:cNvSpPr/>
                      <p:nvPr/>
                    </p:nvSpPr>
                    <p:spPr>
                      <a:xfrm>
                        <a:off x="3584160" y="2800800"/>
                        <a:ext cx="11556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45">
                            <a:moveTo>
                              <a:pt x="0" y="44"/>
                            </a:moveTo>
                            <a:lnTo>
                              <a:pt x="95" y="35"/>
                            </a:lnTo>
                            <a:lnTo>
                              <a:pt x="0" y="0"/>
                            </a:lnTo>
                            <a:lnTo>
                              <a:pt x="0" y="4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pic>
                  <p:nvPicPr>
                    <p:cNvPr id="320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67960" y="2369880"/>
                      <a:ext cx="65484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204" name=""/>
                  <p:cNvGrpSpPr/>
                  <p:nvPr/>
                </p:nvGrpSpPr>
                <p:grpSpPr>
                  <a:xfrm>
                    <a:off x="5054040" y="2229480"/>
                    <a:ext cx="1204560" cy="823320"/>
                    <a:chOff x="5054040" y="2229480"/>
                    <a:chExt cx="1204560" cy="823320"/>
                  </a:xfrm>
                </p:grpSpPr>
                <p:grpSp>
                  <p:nvGrpSpPr>
                    <p:cNvPr id="3205" name=""/>
                    <p:cNvGrpSpPr/>
                    <p:nvPr/>
                  </p:nvGrpSpPr>
                  <p:grpSpPr>
                    <a:xfrm>
                      <a:off x="5054040" y="2229480"/>
                      <a:ext cx="1204560" cy="823320"/>
                      <a:chOff x="5054040" y="2229480"/>
                      <a:chExt cx="1204560" cy="823320"/>
                    </a:xfrm>
                  </p:grpSpPr>
                  <p:sp>
                    <p:nvSpPr>
                      <p:cNvPr id="3206" name=""/>
                      <p:cNvSpPr/>
                      <p:nvPr/>
                    </p:nvSpPr>
                    <p:spPr>
                      <a:xfrm rot="20700000">
                        <a:off x="5592960" y="2851200"/>
                        <a:ext cx="186480" cy="1645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7" name=""/>
                      <p:cNvSpPr/>
                      <p:nvPr/>
                    </p:nvSpPr>
                    <p:spPr>
                      <a:xfrm rot="20700000">
                        <a:off x="5446080" y="2251080"/>
                        <a:ext cx="188640" cy="1652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8" name=""/>
                      <p:cNvSpPr/>
                      <p:nvPr/>
                    </p:nvSpPr>
                    <p:spPr>
                      <a:xfrm rot="20700000">
                        <a:off x="5194800" y="2365920"/>
                        <a:ext cx="113760" cy="1015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0" bIns="25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9" name=""/>
                      <p:cNvSpPr/>
                      <p:nvPr/>
                    </p:nvSpPr>
                    <p:spPr>
                      <a:xfrm rot="20700000">
                        <a:off x="5216040" y="2766600"/>
                        <a:ext cx="113400" cy="968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0" name=""/>
                      <p:cNvSpPr/>
                      <p:nvPr/>
                    </p:nvSpPr>
                    <p:spPr>
                      <a:xfrm rot="20700000">
                        <a:off x="5111640" y="2621160"/>
                        <a:ext cx="187200" cy="1602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1" name=""/>
                      <p:cNvSpPr/>
                      <p:nvPr/>
                    </p:nvSpPr>
                    <p:spPr>
                      <a:xfrm rot="20700000">
                        <a:off x="5301360" y="2292480"/>
                        <a:ext cx="187920" cy="1638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2" name=""/>
                      <p:cNvSpPr/>
                      <p:nvPr/>
                    </p:nvSpPr>
                    <p:spPr>
                      <a:xfrm rot="20700000">
                        <a:off x="6051240" y="2680920"/>
                        <a:ext cx="189360" cy="1641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3" name=""/>
                      <p:cNvSpPr/>
                      <p:nvPr/>
                    </p:nvSpPr>
                    <p:spPr>
                      <a:xfrm rot="20700000">
                        <a:off x="5914440" y="2754720"/>
                        <a:ext cx="189360" cy="1670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14" name=""/>
                      <p:cNvGrpSpPr/>
                      <p:nvPr/>
                    </p:nvGrpSpPr>
                    <p:grpSpPr>
                      <a:xfrm>
                        <a:off x="5054040" y="2231280"/>
                        <a:ext cx="1186920" cy="821520"/>
                        <a:chOff x="5054040" y="2231280"/>
                        <a:chExt cx="1186920" cy="821520"/>
                      </a:xfrm>
                    </p:grpSpPr>
                    <p:sp>
                      <p:nvSpPr>
                        <p:cNvPr id="3215" name=""/>
                        <p:cNvSpPr/>
                        <p:nvPr/>
                      </p:nvSpPr>
                      <p:spPr>
                        <a:xfrm rot="20700000">
                          <a:off x="5086800" y="2435400"/>
                          <a:ext cx="337320" cy="29808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216" name=""/>
                        <p:cNvGrpSpPr/>
                        <p:nvPr/>
                      </p:nvGrpSpPr>
                      <p:grpSpPr>
                        <a:xfrm>
                          <a:off x="5173920" y="2351520"/>
                          <a:ext cx="755280" cy="701280"/>
                          <a:chOff x="5173920" y="2351520"/>
                          <a:chExt cx="755280" cy="701280"/>
                        </a:xfrm>
                      </p:grpSpPr>
                      <p:sp>
                        <p:nvSpPr>
                          <p:cNvPr id="3217" name=""/>
                          <p:cNvSpPr/>
                          <p:nvPr/>
                        </p:nvSpPr>
                        <p:spPr>
                          <a:xfrm rot="20700000">
                            <a:off x="5235120" y="2423880"/>
                            <a:ext cx="632880" cy="556560"/>
                          </a:xfrm>
                          <a:prstGeom prst="ellipse">
                            <a:avLst/>
                          </a:prstGeom>
                          <a:solidFill>
                            <a:srgbClr val="5686dc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8" name=""/>
                          <p:cNvSpPr/>
                          <p:nvPr/>
                        </p:nvSpPr>
                        <p:spPr>
                          <a:xfrm>
                            <a:off x="5208840" y="2560320"/>
                            <a:ext cx="97920" cy="15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323">
                                <a:moveTo>
                                  <a:pt x="164" y="0"/>
                                </a:moveTo>
                                <a:lnTo>
                                  <a:pt x="0" y="316"/>
                                </a:lnTo>
                                <a:lnTo>
                                  <a:pt x="121" y="322"/>
                                </a:lnTo>
                                <a:lnTo>
                                  <a:pt x="212" y="13"/>
                                </a:lnTo>
                                <a:lnTo>
                                  <a:pt x="164" y="0"/>
                                </a:lnTo>
                              </a:path>
                            </a:pathLst>
                          </a:custGeom>
                          <a:solidFill>
                            <a:srgbClr val="5686d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219" name=""/>
                        <p:cNvSpPr/>
                        <p:nvPr/>
                      </p:nvSpPr>
                      <p:spPr>
                        <a:xfrm rot="20700000">
                          <a:off x="5466600" y="2421000"/>
                          <a:ext cx="633240" cy="556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0" name=""/>
                        <p:cNvSpPr/>
                        <p:nvPr/>
                      </p:nvSpPr>
                      <p:spPr>
                        <a:xfrm rot="20700000">
                          <a:off x="5991840" y="2421000"/>
                          <a:ext cx="226800" cy="19944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1" name=""/>
                        <p:cNvSpPr/>
                        <p:nvPr/>
                      </p:nvSpPr>
                      <p:spPr>
                        <a:xfrm rot="20700000">
                          <a:off x="5985720" y="2737440"/>
                          <a:ext cx="150120" cy="13464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2" name=""/>
                        <p:cNvSpPr/>
                        <p:nvPr/>
                      </p:nvSpPr>
                      <p:spPr>
                        <a:xfrm rot="20700000">
                          <a:off x="5901480" y="2392200"/>
                          <a:ext cx="150840" cy="12960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3" name=""/>
                        <p:cNvSpPr/>
                        <p:nvPr/>
                      </p:nvSpPr>
                      <p:spPr>
                        <a:xfrm rot="20700000">
                          <a:off x="5987880" y="2559960"/>
                          <a:ext cx="227520" cy="196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4" name=""/>
                        <p:cNvSpPr/>
                        <p:nvPr/>
                      </p:nvSpPr>
                      <p:spPr>
                        <a:xfrm rot="20700000">
                          <a:off x="5250960" y="2320560"/>
                          <a:ext cx="338040" cy="295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5" name=""/>
                        <p:cNvSpPr/>
                        <p:nvPr/>
                      </p:nvSpPr>
                      <p:spPr>
                        <a:xfrm rot="20700000">
                          <a:off x="5589720" y="2289240"/>
                          <a:ext cx="338040" cy="295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6" name=""/>
                        <p:cNvSpPr/>
                        <p:nvPr/>
                      </p:nvSpPr>
                      <p:spPr>
                        <a:xfrm rot="20700000">
                          <a:off x="5429520" y="2269800"/>
                          <a:ext cx="338400" cy="295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7" name=""/>
                        <p:cNvSpPr/>
                        <p:nvPr/>
                      </p:nvSpPr>
                      <p:spPr>
                        <a:xfrm rot="20700000">
                          <a:off x="5407200" y="2647080"/>
                          <a:ext cx="335880" cy="29628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8" name=""/>
                        <p:cNvSpPr/>
                        <p:nvPr/>
                      </p:nvSpPr>
                      <p:spPr>
                        <a:xfrm>
                          <a:off x="5290920" y="2327040"/>
                          <a:ext cx="840600" cy="60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7" h="1241">
                              <a:moveTo>
                                <a:pt x="300" y="77"/>
                              </a:moveTo>
                              <a:lnTo>
                                <a:pt x="656" y="143"/>
                              </a:lnTo>
                              <a:lnTo>
                                <a:pt x="1026" y="0"/>
                              </a:lnTo>
                              <a:lnTo>
                                <a:pt x="1348" y="231"/>
                              </a:lnTo>
                              <a:lnTo>
                                <a:pt x="1418" y="234"/>
                              </a:lnTo>
                              <a:lnTo>
                                <a:pt x="1614" y="282"/>
                              </a:lnTo>
                              <a:lnTo>
                                <a:pt x="1678" y="345"/>
                              </a:lnTo>
                              <a:lnTo>
                                <a:pt x="1826" y="455"/>
                              </a:lnTo>
                              <a:lnTo>
                                <a:pt x="1817" y="502"/>
                              </a:lnTo>
                              <a:lnTo>
                                <a:pt x="1657" y="981"/>
                              </a:lnTo>
                              <a:lnTo>
                                <a:pt x="1485" y="1083"/>
                              </a:lnTo>
                              <a:lnTo>
                                <a:pt x="868" y="1205"/>
                              </a:lnTo>
                              <a:lnTo>
                                <a:pt x="807" y="1152"/>
                              </a:lnTo>
                              <a:lnTo>
                                <a:pt x="388" y="1189"/>
                              </a:lnTo>
                              <a:lnTo>
                                <a:pt x="321" y="1240"/>
                              </a:lnTo>
                              <a:lnTo>
                                <a:pt x="0" y="612"/>
                              </a:lnTo>
                              <a:lnTo>
                                <a:pt x="300" y="77"/>
                              </a:lnTo>
                            </a:path>
                          </a:pathLst>
                        </a:custGeom>
                        <a:solidFill>
                          <a:srgbClr val="5686d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29" name=""/>
                    <p:cNvSpPr/>
                    <p:nvPr/>
                  </p:nvSpPr>
                  <p:spPr>
                    <a:xfrm>
                      <a:off x="5182560" y="2536560"/>
                      <a:ext cx="9230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30" name=""/>
              <p:cNvSpPr/>
              <p:nvPr/>
            </p:nvSpPr>
            <p:spPr>
              <a:xfrm>
                <a:off x="4527360" y="2315880"/>
                <a:ext cx="242640" cy="6271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1" name=""/>
            <p:cNvGrpSpPr/>
            <p:nvPr/>
          </p:nvGrpSpPr>
          <p:grpSpPr>
            <a:xfrm>
              <a:off x="2676600" y="1424160"/>
              <a:ext cx="5963400" cy="835200"/>
              <a:chOff x="2676600" y="1424160"/>
              <a:chExt cx="5963400" cy="835200"/>
            </a:xfrm>
          </p:grpSpPr>
          <p:sp>
            <p:nvSpPr>
              <p:cNvPr id="3232" name=""/>
              <p:cNvSpPr/>
              <p:nvPr/>
            </p:nvSpPr>
            <p:spPr>
              <a:xfrm>
                <a:off x="6135840" y="1522440"/>
                <a:ext cx="296640" cy="6271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33" name=""/>
              <p:cNvGrpSpPr/>
              <p:nvPr/>
            </p:nvGrpSpPr>
            <p:grpSpPr>
              <a:xfrm>
                <a:off x="2676600" y="1424160"/>
                <a:ext cx="5963400" cy="835200"/>
                <a:chOff x="2676600" y="1424160"/>
                <a:chExt cx="5963400" cy="835200"/>
              </a:xfrm>
            </p:grpSpPr>
            <p:grpSp>
              <p:nvGrpSpPr>
                <p:cNvPr id="3234" name=""/>
                <p:cNvGrpSpPr/>
                <p:nvPr/>
              </p:nvGrpSpPr>
              <p:grpSpPr>
                <a:xfrm>
                  <a:off x="3571920" y="1722960"/>
                  <a:ext cx="3411720" cy="286920"/>
                  <a:chOff x="3571920" y="1722960"/>
                  <a:chExt cx="3411720" cy="286920"/>
                </a:xfrm>
              </p:grpSpPr>
              <p:sp>
                <p:nvSpPr>
                  <p:cNvPr id="3235" name=""/>
                  <p:cNvSpPr/>
                  <p:nvPr/>
                </p:nvSpPr>
                <p:spPr>
                  <a:xfrm>
                    <a:off x="6752160" y="1726560"/>
                    <a:ext cx="231480" cy="2728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36" name=""/>
                  <p:cNvGrpSpPr/>
                  <p:nvPr/>
                </p:nvGrpSpPr>
                <p:grpSpPr>
                  <a:xfrm>
                    <a:off x="3571920" y="1722960"/>
                    <a:ext cx="3231360" cy="286920"/>
                    <a:chOff x="3571920" y="1722960"/>
                    <a:chExt cx="3231360" cy="286920"/>
                  </a:xfrm>
                </p:grpSpPr>
                <p:sp>
                  <p:nvSpPr>
                    <p:cNvPr id="3237" name=""/>
                    <p:cNvSpPr/>
                    <p:nvPr/>
                  </p:nvSpPr>
                  <p:spPr>
                    <a:xfrm>
                      <a:off x="3571920" y="1729800"/>
                      <a:ext cx="501120" cy="269280"/>
                    </a:xfrm>
                    <a:prstGeom prst="rect">
                      <a:avLst/>
                    </a:pr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38" name=""/>
                    <p:cNvGrpSpPr/>
                    <p:nvPr/>
                  </p:nvGrpSpPr>
                  <p:grpSpPr>
                    <a:xfrm>
                      <a:off x="3964320" y="1722960"/>
                      <a:ext cx="2838960" cy="286920"/>
                      <a:chOff x="3964320" y="1722960"/>
                      <a:chExt cx="2838960" cy="286920"/>
                    </a:xfrm>
                  </p:grpSpPr>
                  <p:sp>
                    <p:nvSpPr>
                      <p:cNvPr id="3239" name=""/>
                      <p:cNvSpPr/>
                      <p:nvPr/>
                    </p:nvSpPr>
                    <p:spPr>
                      <a:xfrm>
                        <a:off x="6696000" y="1722960"/>
                        <a:ext cx="107280" cy="28044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30517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0" name=""/>
                      <p:cNvSpPr/>
                      <p:nvPr/>
                    </p:nvSpPr>
                    <p:spPr>
                      <a:xfrm>
                        <a:off x="4027320" y="1729800"/>
                        <a:ext cx="2711520" cy="277560"/>
                      </a:xfrm>
                      <a:prstGeom prst="rect">
                        <a:avLst/>
                      </a:prstGeom>
                      <a:solidFill>
                        <a:srgbClr val="ff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1" name=""/>
                      <p:cNvSpPr/>
                      <p:nvPr/>
                    </p:nvSpPr>
                    <p:spPr>
                      <a:xfrm>
                        <a:off x="3964320" y="1729800"/>
                        <a:ext cx="107280" cy="28008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30517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242" name=""/>
                <p:cNvSpPr/>
                <p:nvPr/>
              </p:nvSpPr>
              <p:spPr>
                <a:xfrm>
                  <a:off x="7058880" y="1880640"/>
                  <a:ext cx="1202400" cy="0"/>
                </a:xfrm>
                <a:prstGeom prst="line">
                  <a:avLst/>
                </a:prstGeom>
                <a:ln w="57240">
                  <a:solidFill>
                    <a:srgbClr val="fcc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3" name=""/>
                <p:cNvGrpSpPr/>
                <p:nvPr/>
              </p:nvGrpSpPr>
              <p:grpSpPr>
                <a:xfrm>
                  <a:off x="3632760" y="1728720"/>
                  <a:ext cx="3403440" cy="280800"/>
                  <a:chOff x="3632760" y="1728720"/>
                  <a:chExt cx="3403440" cy="280800"/>
                </a:xfrm>
              </p:grpSpPr>
              <p:grpSp>
                <p:nvGrpSpPr>
                  <p:cNvPr id="3244" name=""/>
                  <p:cNvGrpSpPr/>
                  <p:nvPr/>
                </p:nvGrpSpPr>
                <p:grpSpPr>
                  <a:xfrm>
                    <a:off x="3632760" y="1789560"/>
                    <a:ext cx="3403440" cy="160560"/>
                    <a:chOff x="3632760" y="1789560"/>
                    <a:chExt cx="3403440" cy="160560"/>
                  </a:xfrm>
                </p:grpSpPr>
                <p:sp>
                  <p:nvSpPr>
                    <p:cNvPr id="3245" name=""/>
                    <p:cNvSpPr/>
                    <p:nvPr/>
                  </p:nvSpPr>
                  <p:spPr>
                    <a:xfrm>
                      <a:off x="6854040" y="1796400"/>
                      <a:ext cx="182160" cy="143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46" name=""/>
                    <p:cNvGrpSpPr/>
                    <p:nvPr/>
                  </p:nvGrpSpPr>
                  <p:grpSpPr>
                    <a:xfrm>
                      <a:off x="3632760" y="1789560"/>
                      <a:ext cx="3283560" cy="160560"/>
                      <a:chOff x="3632760" y="1789560"/>
                      <a:chExt cx="3283560" cy="160560"/>
                    </a:xfrm>
                  </p:grpSpPr>
                  <p:sp>
                    <p:nvSpPr>
                      <p:cNvPr id="3247" name=""/>
                      <p:cNvSpPr/>
                      <p:nvPr/>
                    </p:nvSpPr>
                    <p:spPr>
                      <a:xfrm>
                        <a:off x="3632760" y="1789560"/>
                        <a:ext cx="359640" cy="1605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48" name=""/>
                      <p:cNvGrpSpPr/>
                      <p:nvPr/>
                    </p:nvGrpSpPr>
                    <p:grpSpPr>
                      <a:xfrm>
                        <a:off x="3910680" y="1795320"/>
                        <a:ext cx="3005640" cy="149760"/>
                        <a:chOff x="3910680" y="1795320"/>
                        <a:chExt cx="3005640" cy="149760"/>
                      </a:xfrm>
                    </p:grpSpPr>
                    <p:sp>
                      <p:nvSpPr>
                        <p:cNvPr id="3249" name=""/>
                        <p:cNvSpPr/>
                        <p:nvPr/>
                      </p:nvSpPr>
                      <p:spPr>
                        <a:xfrm>
                          <a:off x="6809040" y="1795320"/>
                          <a:ext cx="107280" cy="145440"/>
                        </a:xfrm>
                        <a:prstGeom prst="ellipse">
                          <a:avLst/>
                        </a:prstGeom>
                        <a:solidFill>
                          <a:srgbClr val="eea564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0" name=""/>
                        <p:cNvSpPr/>
                        <p:nvPr/>
                      </p:nvSpPr>
                      <p:spPr>
                        <a:xfrm>
                          <a:off x="3973680" y="1796040"/>
                          <a:ext cx="2886480" cy="141840"/>
                        </a:xfrm>
                        <a:prstGeom prst="rect">
                          <a:avLst/>
                        </a:prstGeom>
                        <a:solidFill>
                          <a:srgbClr val="eea56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1" name=""/>
                        <p:cNvSpPr/>
                        <p:nvPr/>
                      </p:nvSpPr>
                      <p:spPr>
                        <a:xfrm>
                          <a:off x="3910680" y="1799640"/>
                          <a:ext cx="107280" cy="145440"/>
                        </a:xfrm>
                        <a:prstGeom prst="ellipse">
                          <a:avLst/>
                        </a:prstGeom>
                        <a:solidFill>
                          <a:srgbClr val="eea564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252" name=""/>
                  <p:cNvGrpSpPr/>
                  <p:nvPr/>
                </p:nvGrpSpPr>
                <p:grpSpPr>
                  <a:xfrm>
                    <a:off x="4019400" y="1728720"/>
                    <a:ext cx="2778480" cy="280800"/>
                    <a:chOff x="4019400" y="1728720"/>
                    <a:chExt cx="2778480" cy="280800"/>
                  </a:xfrm>
                </p:grpSpPr>
                <p:sp>
                  <p:nvSpPr>
                    <p:cNvPr id="3253" name=""/>
                    <p:cNvSpPr/>
                    <p:nvPr/>
                  </p:nvSpPr>
                  <p:spPr>
                    <a:xfrm>
                      <a:off x="4075560" y="1728720"/>
                      <a:ext cx="2661480" cy="277560"/>
                    </a:xfrm>
                    <a:prstGeom prst="rect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4" name=""/>
                    <p:cNvSpPr/>
                    <p:nvPr/>
                  </p:nvSpPr>
                  <p:spPr>
                    <a:xfrm>
                      <a:off x="4019400" y="1731960"/>
                      <a:ext cx="561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7">
                          <a:moveTo>
                            <a:pt x="0" y="1"/>
                          </a:moveTo>
                          <a:cubicBezTo>
                            <a:pt x="6" y="0"/>
                            <a:pt x="12" y="0"/>
                            <a:pt x="18" y="9"/>
                          </a:cubicBezTo>
                          <a:cubicBezTo>
                            <a:pt x="24" y="18"/>
                            <a:pt x="32" y="37"/>
                            <a:pt x="37" y="55"/>
                          </a:cubicBezTo>
                          <a:cubicBezTo>
                            <a:pt x="42" y="73"/>
                            <a:pt x="44" y="101"/>
                            <a:pt x="46" y="118"/>
                          </a:cubicBezTo>
                          <a:cubicBezTo>
                            <a:pt x="48" y="135"/>
                            <a:pt x="48" y="145"/>
                            <a:pt x="46" y="157"/>
                          </a:cubicBezTo>
                          <a:cubicBezTo>
                            <a:pt x="44" y="169"/>
                            <a:pt x="40" y="182"/>
                            <a:pt x="37" y="192"/>
                          </a:cubicBezTo>
                          <a:cubicBezTo>
                            <a:pt x="34" y="202"/>
                            <a:pt x="32" y="209"/>
                            <a:pt x="27" y="216"/>
                          </a:cubicBezTo>
                          <a:cubicBezTo>
                            <a:pt x="22" y="223"/>
                            <a:pt x="12" y="233"/>
                            <a:pt x="7" y="23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30517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5" name=""/>
                    <p:cNvSpPr/>
                    <p:nvPr/>
                  </p:nvSpPr>
                  <p:spPr>
                    <a:xfrm>
                      <a:off x="6690600" y="1729800"/>
                      <a:ext cx="107280" cy="279720"/>
                    </a:xfrm>
                    <a:prstGeom prst="ellipse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56" name=""/>
                <p:cNvGrpSpPr/>
                <p:nvPr/>
              </p:nvGrpSpPr>
              <p:grpSpPr>
                <a:xfrm>
                  <a:off x="3998520" y="1725480"/>
                  <a:ext cx="3005640" cy="280800"/>
                  <a:chOff x="3998520" y="1725480"/>
                  <a:chExt cx="3005640" cy="280800"/>
                </a:xfrm>
              </p:grpSpPr>
              <p:sp>
                <p:nvSpPr>
                  <p:cNvPr id="3257" name=""/>
                  <p:cNvSpPr/>
                  <p:nvPr/>
                </p:nvSpPr>
                <p:spPr>
                  <a:xfrm>
                    <a:off x="3998520" y="1880640"/>
                    <a:ext cx="3005640" cy="0"/>
                  </a:xfrm>
                  <a:prstGeom prst="line">
                    <a:avLst/>
                  </a:prstGeom>
                  <a:ln w="5724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58" name=""/>
                  <p:cNvGrpSpPr/>
                  <p:nvPr/>
                </p:nvGrpSpPr>
                <p:grpSpPr>
                  <a:xfrm>
                    <a:off x="4015800" y="1725480"/>
                    <a:ext cx="2778480" cy="280800"/>
                    <a:chOff x="4015800" y="1725480"/>
                    <a:chExt cx="2778480" cy="280800"/>
                  </a:xfrm>
                </p:grpSpPr>
                <p:sp>
                  <p:nvSpPr>
                    <p:cNvPr id="3259" name=""/>
                    <p:cNvSpPr/>
                    <p:nvPr/>
                  </p:nvSpPr>
                  <p:spPr>
                    <a:xfrm>
                      <a:off x="4071960" y="1725480"/>
                      <a:ext cx="2661480" cy="277560"/>
                    </a:xfrm>
                    <a:prstGeom prst="rect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0" name=""/>
                    <p:cNvSpPr/>
                    <p:nvPr/>
                  </p:nvSpPr>
                  <p:spPr>
                    <a:xfrm>
                      <a:off x="4015800" y="1728720"/>
                      <a:ext cx="561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7">
                          <a:moveTo>
                            <a:pt x="0" y="1"/>
                          </a:moveTo>
                          <a:cubicBezTo>
                            <a:pt x="6" y="0"/>
                            <a:pt x="12" y="0"/>
                            <a:pt x="18" y="9"/>
                          </a:cubicBezTo>
                          <a:cubicBezTo>
                            <a:pt x="24" y="18"/>
                            <a:pt x="32" y="37"/>
                            <a:pt x="37" y="55"/>
                          </a:cubicBezTo>
                          <a:cubicBezTo>
                            <a:pt x="42" y="73"/>
                            <a:pt x="44" y="101"/>
                            <a:pt x="46" y="118"/>
                          </a:cubicBezTo>
                          <a:cubicBezTo>
                            <a:pt x="48" y="135"/>
                            <a:pt x="48" y="145"/>
                            <a:pt x="46" y="157"/>
                          </a:cubicBezTo>
                          <a:cubicBezTo>
                            <a:pt x="44" y="169"/>
                            <a:pt x="40" y="182"/>
                            <a:pt x="37" y="192"/>
                          </a:cubicBezTo>
                          <a:cubicBezTo>
                            <a:pt x="34" y="202"/>
                            <a:pt x="32" y="209"/>
                            <a:pt x="27" y="216"/>
                          </a:cubicBezTo>
                          <a:cubicBezTo>
                            <a:pt x="22" y="223"/>
                            <a:pt x="12" y="233"/>
                            <a:pt x="7" y="23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30517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1" name=""/>
                    <p:cNvSpPr/>
                    <p:nvPr/>
                  </p:nvSpPr>
                  <p:spPr>
                    <a:xfrm>
                      <a:off x="6687000" y="1726560"/>
                      <a:ext cx="107280" cy="279720"/>
                    </a:xfrm>
                    <a:prstGeom prst="ellipse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62" name=""/>
                <p:cNvSpPr/>
                <p:nvPr/>
              </p:nvSpPr>
              <p:spPr>
                <a:xfrm>
                  <a:off x="3543840" y="1882800"/>
                  <a:ext cx="469440" cy="0"/>
                </a:xfrm>
                <a:prstGeom prst="line">
                  <a:avLst/>
                </a:prstGeom>
                <a:ln w="57240">
                  <a:solidFill>
                    <a:srgbClr val="fcc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3" name=""/>
                <p:cNvGrpSpPr/>
                <p:nvPr/>
              </p:nvGrpSpPr>
              <p:grpSpPr>
                <a:xfrm>
                  <a:off x="2676600" y="1424160"/>
                  <a:ext cx="5963400" cy="835200"/>
                  <a:chOff x="2676600" y="1424160"/>
                  <a:chExt cx="5963400" cy="835200"/>
                </a:xfrm>
              </p:grpSpPr>
              <p:grpSp>
                <p:nvGrpSpPr>
                  <p:cNvPr id="3264" name=""/>
                  <p:cNvGrpSpPr/>
                  <p:nvPr/>
                </p:nvGrpSpPr>
                <p:grpSpPr>
                  <a:xfrm>
                    <a:off x="8132040" y="1580400"/>
                    <a:ext cx="507960" cy="552240"/>
                    <a:chOff x="8132040" y="1580400"/>
                    <a:chExt cx="507960" cy="552240"/>
                  </a:xfrm>
                </p:grpSpPr>
                <p:sp>
                  <p:nvSpPr>
                    <p:cNvPr id="3265" name=""/>
                    <p:cNvSpPr/>
                    <p:nvPr/>
                  </p:nvSpPr>
                  <p:spPr>
                    <a:xfrm>
                      <a:off x="8308440" y="1597680"/>
                      <a:ext cx="22068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458">
                          <a:moveTo>
                            <a:pt x="188" y="0"/>
                          </a:moveTo>
                          <a:lnTo>
                            <a:pt x="0" y="5"/>
                          </a:lnTo>
                          <a:lnTo>
                            <a:pt x="0" y="457"/>
                          </a:lnTo>
                          <a:lnTo>
                            <a:pt x="188" y="437"/>
                          </a:lnTo>
                          <a:lnTo>
                            <a:pt x="188" y="0"/>
                          </a:lnTo>
                        </a:path>
                      </a:pathLst>
                    </a:custGeom>
                    <a:solidFill>
                      <a:srgbClr val="b5b5b5"/>
                    </a:solidFill>
                    <a:ln cap="rnd" w="12600">
                      <a:solidFill>
                        <a:srgbClr val="b5b5b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6" name=""/>
                    <p:cNvSpPr/>
                    <p:nvPr/>
                  </p:nvSpPr>
                  <p:spPr>
                    <a:xfrm>
                      <a:off x="8321040" y="1879200"/>
                      <a:ext cx="19620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95">
                          <a:moveTo>
                            <a:pt x="0" y="11"/>
                          </a:moveTo>
                          <a:lnTo>
                            <a:pt x="167" y="0"/>
                          </a:lnTo>
                          <a:lnTo>
                            <a:pt x="167" y="177"/>
                          </a:lnTo>
                          <a:lnTo>
                            <a:pt x="0" y="194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7" name=""/>
                    <p:cNvSpPr/>
                    <p:nvPr/>
                  </p:nvSpPr>
                  <p:spPr>
                    <a:xfrm>
                      <a:off x="8321040" y="1695960"/>
                      <a:ext cx="18684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31">
                          <a:moveTo>
                            <a:pt x="0" y="6"/>
                          </a:moveTo>
                          <a:lnTo>
                            <a:pt x="159" y="0"/>
                          </a:lnTo>
                          <a:lnTo>
                            <a:pt x="159" y="121"/>
                          </a:lnTo>
                          <a:lnTo>
                            <a:pt x="0" y="13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8" name=""/>
                    <p:cNvSpPr/>
                    <p:nvPr/>
                  </p:nvSpPr>
                  <p:spPr>
                    <a:xfrm>
                      <a:off x="8132040" y="1581480"/>
                      <a:ext cx="39708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9">
                          <a:moveTo>
                            <a:pt x="0" y="1"/>
                          </a:moveTo>
                          <a:lnTo>
                            <a:pt x="151" y="18"/>
                          </a:lnTo>
                          <a:lnTo>
                            <a:pt x="339" y="14"/>
                          </a:lnTo>
                          <a:lnTo>
                            <a:pt x="181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9" name=""/>
                    <p:cNvSpPr/>
                    <p:nvPr/>
                  </p:nvSpPr>
                  <p:spPr>
                    <a:xfrm>
                      <a:off x="8132040" y="1581480"/>
                      <a:ext cx="177480" cy="55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472">
                          <a:moveTo>
                            <a:pt x="151" y="471"/>
                          </a:moveTo>
                          <a:lnTo>
                            <a:pt x="0" y="358"/>
                          </a:lnTo>
                          <a:lnTo>
                            <a:pt x="0" y="0"/>
                          </a:lnTo>
                          <a:lnTo>
                            <a:pt x="151" y="18"/>
                          </a:lnTo>
                          <a:lnTo>
                            <a:pt x="151" y="471"/>
                          </a:lnTo>
                        </a:path>
                      </a:pathLst>
                    </a:custGeom>
                    <a:solidFill>
                      <a:srgbClr val="b5b5b5"/>
                    </a:solidFill>
                    <a:ln cap="rnd" w="12600">
                      <a:solidFill>
                        <a:srgbClr val="b5b5b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0" name=""/>
                    <p:cNvSpPr/>
                    <p:nvPr/>
                  </p:nvSpPr>
                  <p:spPr>
                    <a:xfrm>
                      <a:off x="8288640" y="1600200"/>
                      <a:ext cx="20880" cy="53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56">
                          <a:moveTo>
                            <a:pt x="17" y="2"/>
                          </a:moveTo>
                          <a:lnTo>
                            <a:pt x="0" y="0"/>
                          </a:lnTo>
                          <a:lnTo>
                            <a:pt x="0" y="443"/>
                          </a:lnTo>
                          <a:lnTo>
                            <a:pt x="17" y="455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1" name=""/>
                    <p:cNvSpPr/>
                    <p:nvPr/>
                  </p:nvSpPr>
                  <p:spPr>
                    <a:xfrm>
                      <a:off x="8321040" y="1694520"/>
                      <a:ext cx="196200" cy="15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37">
                          <a:moveTo>
                            <a:pt x="167" y="0"/>
                          </a:moveTo>
                          <a:lnTo>
                            <a:pt x="167" y="125"/>
                          </a:lnTo>
                          <a:lnTo>
                            <a:pt x="0" y="136"/>
                          </a:lnTo>
                          <a:lnTo>
                            <a:pt x="0" y="130"/>
                          </a:lnTo>
                          <a:lnTo>
                            <a:pt x="159" y="122"/>
                          </a:lnTo>
                          <a:lnTo>
                            <a:pt x="159" y="1"/>
                          </a:lnTo>
                          <a:lnTo>
                            <a:pt x="16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2" name=""/>
                    <p:cNvSpPr/>
                    <p:nvPr/>
                  </p:nvSpPr>
                  <p:spPr>
                    <a:xfrm>
                      <a:off x="8321040" y="1665360"/>
                      <a:ext cx="1962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7">
                          <a:moveTo>
                            <a:pt x="0" y="15"/>
                          </a:moveTo>
                          <a:lnTo>
                            <a:pt x="0" y="19"/>
                          </a:lnTo>
                          <a:lnTo>
                            <a:pt x="39" y="18"/>
                          </a:lnTo>
                          <a:lnTo>
                            <a:pt x="39" y="26"/>
                          </a:lnTo>
                          <a:lnTo>
                            <a:pt x="128" y="23"/>
                          </a:lnTo>
                          <a:lnTo>
                            <a:pt x="128" y="16"/>
                          </a:lnTo>
                          <a:lnTo>
                            <a:pt x="167" y="14"/>
                          </a:lnTo>
                          <a:lnTo>
                            <a:pt x="167" y="8"/>
                          </a:lnTo>
                          <a:lnTo>
                            <a:pt x="128" y="10"/>
                          </a:lnTo>
                          <a:lnTo>
                            <a:pt x="128" y="0"/>
                          </a:lnTo>
                          <a:lnTo>
                            <a:pt x="111" y="1"/>
                          </a:lnTo>
                          <a:lnTo>
                            <a:pt x="32" y="13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3" name=""/>
                    <p:cNvSpPr/>
                    <p:nvPr/>
                  </p:nvSpPr>
                  <p:spPr>
                    <a:xfrm>
                      <a:off x="8321040" y="1617480"/>
                      <a:ext cx="1962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3">
                          <a:moveTo>
                            <a:pt x="167" y="0"/>
                          </a:moveTo>
                          <a:lnTo>
                            <a:pt x="167" y="17"/>
                          </a:lnTo>
                          <a:lnTo>
                            <a:pt x="0" y="22"/>
                          </a:lnTo>
                          <a:lnTo>
                            <a:pt x="0" y="19"/>
                          </a:lnTo>
                          <a:lnTo>
                            <a:pt x="158" y="1"/>
                          </a:lnTo>
                          <a:lnTo>
                            <a:pt x="16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4" name=""/>
                    <p:cNvSpPr/>
                    <p:nvPr/>
                  </p:nvSpPr>
                  <p:spPr>
                    <a:xfrm>
                      <a:off x="8132040" y="1580400"/>
                      <a:ext cx="3970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20">
                          <a:moveTo>
                            <a:pt x="0" y="2"/>
                          </a:moveTo>
                          <a:lnTo>
                            <a:pt x="151" y="19"/>
                          </a:lnTo>
                          <a:lnTo>
                            <a:pt x="339" y="14"/>
                          </a:lnTo>
                          <a:lnTo>
                            <a:pt x="181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5" name=""/>
                    <p:cNvSpPr/>
                    <p:nvPr/>
                  </p:nvSpPr>
                  <p:spPr>
                    <a:xfrm>
                      <a:off x="8307000" y="1597680"/>
                      <a:ext cx="22212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458">
                          <a:moveTo>
                            <a:pt x="0" y="5"/>
                          </a:moveTo>
                          <a:lnTo>
                            <a:pt x="0" y="457"/>
                          </a:lnTo>
                          <a:lnTo>
                            <a:pt x="189" y="437"/>
                          </a:lnTo>
                          <a:lnTo>
                            <a:pt x="189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6" name=""/>
                    <p:cNvSpPr/>
                    <p:nvPr/>
                  </p:nvSpPr>
                  <p:spPr>
                    <a:xfrm>
                      <a:off x="8132040" y="1581480"/>
                      <a:ext cx="176400" cy="55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72">
                          <a:moveTo>
                            <a:pt x="0" y="0"/>
                          </a:moveTo>
                          <a:lnTo>
                            <a:pt x="0" y="358"/>
                          </a:lnTo>
                          <a:lnTo>
                            <a:pt x="150" y="471"/>
                          </a:lnTo>
                          <a:lnTo>
                            <a:pt x="15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7" name=""/>
                    <p:cNvSpPr/>
                    <p:nvPr/>
                  </p:nvSpPr>
                  <p:spPr>
                    <a:xfrm>
                      <a:off x="8288640" y="1601280"/>
                      <a:ext cx="0" cy="516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8" name=""/>
                    <p:cNvSpPr/>
                    <p:nvPr/>
                  </p:nvSpPr>
                  <p:spPr>
                    <a:xfrm>
                      <a:off x="8288640" y="160812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0" y="9"/>
                          </a:moveTo>
                          <a:lnTo>
                            <a:pt x="16" y="16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9" name=""/>
                    <p:cNvSpPr/>
                    <p:nvPr/>
                  </p:nvSpPr>
                  <p:spPr>
                    <a:xfrm>
                      <a:off x="8288640" y="164700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0" name=""/>
                    <p:cNvSpPr/>
                    <p:nvPr/>
                  </p:nvSpPr>
                  <p:spPr>
                    <a:xfrm>
                      <a:off x="8321040" y="1617480"/>
                      <a:ext cx="1962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3">
                          <a:moveTo>
                            <a:pt x="0" y="5"/>
                          </a:moveTo>
                          <a:lnTo>
                            <a:pt x="0" y="22"/>
                          </a:lnTo>
                          <a:lnTo>
                            <a:pt x="167" y="17"/>
                          </a:lnTo>
                          <a:lnTo>
                            <a:pt x="167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1" name=""/>
                    <p:cNvSpPr/>
                    <p:nvPr/>
                  </p:nvSpPr>
                  <p:spPr>
                    <a:xfrm>
                      <a:off x="8288640" y="165852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2" name=""/>
                    <p:cNvSpPr/>
                    <p:nvPr/>
                  </p:nvSpPr>
                  <p:spPr>
                    <a:xfrm>
                      <a:off x="8288640" y="169452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3" name=""/>
                    <p:cNvSpPr/>
                    <p:nvPr/>
                  </p:nvSpPr>
                  <p:spPr>
                    <a:xfrm>
                      <a:off x="8288640" y="184068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4" name=""/>
                    <p:cNvSpPr/>
                    <p:nvPr/>
                  </p:nvSpPr>
                  <p:spPr>
                    <a:xfrm>
                      <a:off x="8321040" y="1702800"/>
                      <a:ext cx="0" cy="149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5" name=""/>
                    <p:cNvSpPr/>
                    <p:nvPr/>
                  </p:nvSpPr>
                  <p:spPr>
                    <a:xfrm>
                      <a:off x="8516520" y="1695960"/>
                      <a:ext cx="0" cy="144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6" name=""/>
                    <p:cNvSpPr/>
                    <p:nvPr/>
                  </p:nvSpPr>
                  <p:spPr>
                    <a:xfrm>
                      <a:off x="8321040" y="1695960"/>
                      <a:ext cx="18684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30">
                          <a:moveTo>
                            <a:pt x="159" y="0"/>
                          </a:moveTo>
                          <a:lnTo>
                            <a:pt x="159" y="121"/>
                          </a:lnTo>
                          <a:lnTo>
                            <a:pt x="0" y="12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7" name=""/>
                    <p:cNvSpPr/>
                    <p:nvPr/>
                  </p:nvSpPr>
                  <p:spPr>
                    <a:xfrm>
                      <a:off x="8506800" y="1837080"/>
                      <a:ext cx="9360" cy="3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8" name=""/>
                    <p:cNvSpPr/>
                    <p:nvPr/>
                  </p:nvSpPr>
                  <p:spPr>
                    <a:xfrm flipH="1">
                      <a:off x="8321040" y="1743840"/>
                      <a:ext cx="185760" cy="9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9" name=""/>
                    <p:cNvSpPr/>
                    <p:nvPr/>
                  </p:nvSpPr>
                  <p:spPr>
                    <a:xfrm flipH="1">
                      <a:off x="8321040" y="1792800"/>
                      <a:ext cx="185760" cy="10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0" name=""/>
                    <p:cNvSpPr/>
                    <p:nvPr/>
                  </p:nvSpPr>
                  <p:spPr>
                    <a:xfrm>
                      <a:off x="8288640" y="187920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0" y="3"/>
                          </a:moveTo>
                          <a:lnTo>
                            <a:pt x="16" y="16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1" name=""/>
                    <p:cNvSpPr/>
                    <p:nvPr/>
                  </p:nvSpPr>
                  <p:spPr>
                    <a:xfrm>
                      <a:off x="8288640" y="2084760"/>
                      <a:ext cx="24048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21">
                          <a:moveTo>
                            <a:pt x="0" y="7"/>
                          </a:moveTo>
                          <a:lnTo>
                            <a:pt x="16" y="20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2" name=""/>
                    <p:cNvSpPr/>
                    <p:nvPr/>
                  </p:nvSpPr>
                  <p:spPr>
                    <a:xfrm>
                      <a:off x="8321040" y="1890720"/>
                      <a:ext cx="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3" name=""/>
                    <p:cNvSpPr/>
                    <p:nvPr/>
                  </p:nvSpPr>
                  <p:spPr>
                    <a:xfrm>
                      <a:off x="8516520" y="1879200"/>
                      <a:ext cx="0" cy="206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4" name=""/>
                    <p:cNvSpPr/>
                    <p:nvPr/>
                  </p:nvSpPr>
                  <p:spPr>
                    <a:xfrm>
                      <a:off x="8321040" y="2070720"/>
                      <a:ext cx="1962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1">
                          <a:moveTo>
                            <a:pt x="0" y="20"/>
                          </a:moveTo>
                          <a:lnTo>
                            <a:pt x="167" y="4"/>
                          </a:lnTo>
                          <a:lnTo>
                            <a:pt x="167" y="0"/>
                          </a:lnTo>
                          <a:lnTo>
                            <a:pt x="0" y="17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5" name=""/>
                    <p:cNvSpPr/>
                    <p:nvPr/>
                  </p:nvSpPr>
                  <p:spPr>
                    <a:xfrm>
                      <a:off x="8321040" y="2061360"/>
                      <a:ext cx="1962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1">
                          <a:moveTo>
                            <a:pt x="0" y="20"/>
                          </a:moveTo>
                          <a:lnTo>
                            <a:pt x="167" y="3"/>
                          </a:lnTo>
                          <a:lnTo>
                            <a:pt x="167" y="0"/>
                          </a:lnTo>
                          <a:lnTo>
                            <a:pt x="0" y="16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6" name=""/>
                    <p:cNvSpPr/>
                    <p:nvPr/>
                  </p:nvSpPr>
                  <p:spPr>
                    <a:xfrm>
                      <a:off x="8321040" y="2053080"/>
                      <a:ext cx="1962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">
                          <a:moveTo>
                            <a:pt x="167" y="3"/>
                          </a:moveTo>
                          <a:lnTo>
                            <a:pt x="0" y="19"/>
                          </a:lnTo>
                          <a:lnTo>
                            <a:pt x="0" y="15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7" name=""/>
                    <p:cNvSpPr/>
                    <p:nvPr/>
                  </p:nvSpPr>
                  <p:spPr>
                    <a:xfrm>
                      <a:off x="8321040" y="2043720"/>
                      <a:ext cx="19620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8">
                          <a:moveTo>
                            <a:pt x="167" y="3"/>
                          </a:moveTo>
                          <a:lnTo>
                            <a:pt x="0" y="17"/>
                          </a:lnTo>
                          <a:lnTo>
                            <a:pt x="0" y="14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8" name=""/>
                    <p:cNvSpPr/>
                    <p:nvPr/>
                  </p:nvSpPr>
                  <p:spPr>
                    <a:xfrm>
                      <a:off x="8321040" y="2033280"/>
                      <a:ext cx="19620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9">
                          <a:moveTo>
                            <a:pt x="167" y="3"/>
                          </a:moveTo>
                          <a:lnTo>
                            <a:pt x="0" y="18"/>
                          </a:lnTo>
                          <a:lnTo>
                            <a:pt x="0" y="14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9" name=""/>
                    <p:cNvSpPr/>
                    <p:nvPr/>
                  </p:nvSpPr>
                  <p:spPr>
                    <a:xfrm>
                      <a:off x="8321040" y="1618920"/>
                      <a:ext cx="18684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21">
                          <a:moveTo>
                            <a:pt x="159" y="0"/>
                          </a:moveTo>
                          <a:lnTo>
                            <a:pt x="159" y="15"/>
                          </a:lnTo>
                          <a:lnTo>
                            <a:pt x="0" y="20"/>
                          </a:lnTo>
                          <a:lnTo>
                            <a:pt x="1" y="5"/>
                          </a:lnTo>
                          <a:lnTo>
                            <a:pt x="15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0" name=""/>
                    <p:cNvSpPr/>
                    <p:nvPr/>
                  </p:nvSpPr>
                  <p:spPr>
                    <a:xfrm>
                      <a:off x="8506800" y="1636200"/>
                      <a:ext cx="9360" cy="2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1" name=""/>
                    <p:cNvSpPr/>
                    <p:nvPr/>
                  </p:nvSpPr>
                  <p:spPr>
                    <a:xfrm>
                      <a:off x="8366760" y="1665360"/>
                      <a:ext cx="1051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27">
                          <a:moveTo>
                            <a:pt x="0" y="26"/>
                          </a:moveTo>
                          <a:lnTo>
                            <a:pt x="0" y="3"/>
                          </a:lnTo>
                          <a:lnTo>
                            <a:pt x="89" y="0"/>
                          </a:lnTo>
                          <a:lnTo>
                            <a:pt x="89" y="23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2" name=""/>
                    <p:cNvSpPr/>
                    <p:nvPr/>
                  </p:nvSpPr>
                  <p:spPr>
                    <a:xfrm>
                      <a:off x="8321040" y="1665360"/>
                      <a:ext cx="19620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4">
                          <a:moveTo>
                            <a:pt x="113" y="8"/>
                          </a:moveTo>
                          <a:lnTo>
                            <a:pt x="167" y="6"/>
                          </a:lnTo>
                          <a:lnTo>
                            <a:pt x="167" y="14"/>
                          </a:lnTo>
                          <a:lnTo>
                            <a:pt x="159" y="13"/>
                          </a:lnTo>
                          <a:lnTo>
                            <a:pt x="113" y="14"/>
                          </a:lnTo>
                          <a:lnTo>
                            <a:pt x="113" y="20"/>
                          </a:lnTo>
                          <a:lnTo>
                            <a:pt x="39" y="23"/>
                          </a:lnTo>
                          <a:lnTo>
                            <a:pt x="39" y="18"/>
                          </a:lnTo>
                          <a:lnTo>
                            <a:pt x="32" y="17"/>
                          </a:lnTo>
                          <a:lnTo>
                            <a:pt x="0" y="18"/>
                          </a:lnTo>
                          <a:lnTo>
                            <a:pt x="0" y="12"/>
                          </a:lnTo>
                          <a:lnTo>
                            <a:pt x="39" y="10"/>
                          </a:lnTo>
                          <a:lnTo>
                            <a:pt x="39" y="3"/>
                          </a:lnTo>
                          <a:lnTo>
                            <a:pt x="128" y="0"/>
                          </a:lnTo>
                          <a:lnTo>
                            <a:pt x="113" y="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3" name=""/>
                    <p:cNvSpPr/>
                    <p:nvPr/>
                  </p:nvSpPr>
                  <p:spPr>
                    <a:xfrm>
                      <a:off x="8321040" y="1678320"/>
                      <a:ext cx="15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7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38" y="7"/>
                          </a:lnTo>
                          <a:lnTo>
                            <a:pt x="38" y="16"/>
                          </a:lnTo>
                          <a:lnTo>
                            <a:pt x="128" y="12"/>
                          </a:lnTo>
                          <a:lnTo>
                            <a:pt x="128" y="4"/>
                          </a:lnTo>
                          <a:lnTo>
                            <a:pt x="112" y="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4" name=""/>
                    <p:cNvSpPr/>
                    <p:nvPr/>
                  </p:nvSpPr>
                  <p:spPr>
                    <a:xfrm flipH="1">
                      <a:off x="8470800" y="1680840"/>
                      <a:ext cx="45360" cy="3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5" name=""/>
                    <p:cNvSpPr/>
                    <p:nvPr/>
                  </p:nvSpPr>
                  <p:spPr>
                    <a:xfrm>
                      <a:off x="8470800" y="1665360"/>
                      <a:ext cx="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6" name=""/>
                    <p:cNvSpPr/>
                    <p:nvPr/>
                  </p:nvSpPr>
                  <p:spPr>
                    <a:xfrm>
                      <a:off x="8330760" y="1630440"/>
                      <a:ext cx="194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3" y="6"/>
                          </a:lnTo>
                          <a:lnTo>
                            <a:pt x="13" y="3"/>
                          </a:lnTo>
                          <a:lnTo>
                            <a:pt x="10" y="3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5" y="3"/>
                          </a:lnTo>
                          <a:lnTo>
                            <a:pt x="2" y="6"/>
                          </a:lnTo>
                          <a:lnTo>
                            <a:pt x="2" y="6"/>
                          </a:lnTo>
                          <a:lnTo>
                            <a:pt x="0" y="9"/>
                          </a:lnTo>
                          <a:lnTo>
                            <a:pt x="2" y="12"/>
                          </a:lnTo>
                          <a:lnTo>
                            <a:pt x="5" y="12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2"/>
                          </a:lnTo>
                          <a:lnTo>
                            <a:pt x="13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7" name=""/>
                    <p:cNvSpPr/>
                    <p:nvPr/>
                  </p:nvSpPr>
                  <p:spPr>
                    <a:xfrm>
                      <a:off x="8357400" y="16293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6" y="6"/>
                          </a:lnTo>
                          <a:lnTo>
                            <a:pt x="13" y="3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0" y="6"/>
                          </a:lnTo>
                          <a:lnTo>
                            <a:pt x="0" y="9"/>
                          </a:lnTo>
                          <a:lnTo>
                            <a:pt x="2" y="9"/>
                          </a:lnTo>
                          <a:lnTo>
                            <a:pt x="2" y="12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2"/>
                          </a:lnTo>
                          <a:lnTo>
                            <a:pt x="16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8" name=""/>
                    <p:cNvSpPr/>
                    <p:nvPr/>
                  </p:nvSpPr>
                  <p:spPr>
                    <a:xfrm>
                      <a:off x="8384040" y="16293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10"/>
                          </a:moveTo>
                          <a:lnTo>
                            <a:pt x="16" y="5"/>
                          </a:lnTo>
                          <a:lnTo>
                            <a:pt x="13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2" y="5"/>
                          </a:lnTo>
                          <a:lnTo>
                            <a:pt x="2" y="5"/>
                          </a:lnTo>
                          <a:lnTo>
                            <a:pt x="0" y="10"/>
                          </a:lnTo>
                          <a:lnTo>
                            <a:pt x="2" y="10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6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9" name=""/>
                    <p:cNvSpPr/>
                    <p:nvPr/>
                  </p:nvSpPr>
                  <p:spPr>
                    <a:xfrm>
                      <a:off x="8412480" y="16293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5"/>
                          </a:moveTo>
                          <a:lnTo>
                            <a:pt x="16" y="5"/>
                          </a:lnTo>
                          <a:lnTo>
                            <a:pt x="13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2" y="0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10"/>
                          </a:lnTo>
                          <a:lnTo>
                            <a:pt x="2" y="10"/>
                          </a:lnTo>
                          <a:lnTo>
                            <a:pt x="2" y="16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6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  <a:lnTo>
                            <a:pt x="16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0" name=""/>
                    <p:cNvSpPr/>
                    <p:nvPr/>
                  </p:nvSpPr>
                  <p:spPr>
                    <a:xfrm>
                      <a:off x="8440560" y="162828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8"/>
                          </a:moveTo>
                          <a:lnTo>
                            <a:pt x="12" y="4"/>
                          </a:lnTo>
                          <a:lnTo>
                            <a:pt x="12" y="4"/>
                          </a:lnTo>
                          <a:lnTo>
                            <a:pt x="12" y="0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3" y="16"/>
                          </a:lnTo>
                          <a:lnTo>
                            <a:pt x="3" y="16"/>
                          </a:lnTo>
                          <a:lnTo>
                            <a:pt x="6" y="16"/>
                          </a:lnTo>
                          <a:lnTo>
                            <a:pt x="9" y="16"/>
                          </a:lnTo>
                          <a:lnTo>
                            <a:pt x="12" y="16"/>
                          </a:lnTo>
                          <a:lnTo>
                            <a:pt x="12" y="12"/>
                          </a:lnTo>
                          <a:lnTo>
                            <a:pt x="16" y="8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1" name=""/>
                    <p:cNvSpPr/>
                    <p:nvPr/>
                  </p:nvSpPr>
                  <p:spPr>
                    <a:xfrm>
                      <a:off x="8466120" y="16257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3" y="6"/>
                          </a:lnTo>
                          <a:lnTo>
                            <a:pt x="13" y="3"/>
                          </a:lnTo>
                          <a:lnTo>
                            <a:pt x="10" y="3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5" y="3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lnTo>
                            <a:pt x="5" y="12"/>
                          </a:lnTo>
                          <a:lnTo>
                            <a:pt x="8" y="16"/>
                          </a:lnTo>
                          <a:lnTo>
                            <a:pt x="8" y="16"/>
                          </a:lnTo>
                          <a:lnTo>
                            <a:pt x="10" y="12"/>
                          </a:lnTo>
                          <a:lnTo>
                            <a:pt x="13" y="12"/>
                          </a:lnTo>
                          <a:lnTo>
                            <a:pt x="13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2" name=""/>
                    <p:cNvSpPr/>
                    <p:nvPr/>
                  </p:nvSpPr>
                  <p:spPr>
                    <a:xfrm>
                      <a:off x="8494200" y="16257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8"/>
                          </a:moveTo>
                          <a:lnTo>
                            <a:pt x="16" y="8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9" y="0"/>
                          </a:lnTo>
                          <a:lnTo>
                            <a:pt x="6" y="0"/>
                          </a:lnTo>
                          <a:lnTo>
                            <a:pt x="3" y="4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0" y="12"/>
                          </a:lnTo>
                          <a:lnTo>
                            <a:pt x="3" y="16"/>
                          </a:lnTo>
                          <a:lnTo>
                            <a:pt x="6" y="16"/>
                          </a:lnTo>
                          <a:lnTo>
                            <a:pt x="9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2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3" name=""/>
                    <p:cNvSpPr/>
                    <p:nvPr/>
                  </p:nvSpPr>
                  <p:spPr>
                    <a:xfrm>
                      <a:off x="8497800" y="1695960"/>
                      <a:ext cx="1980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22">
                          <a:moveTo>
                            <a:pt x="0" y="0"/>
                          </a:moveTo>
                          <a:lnTo>
                            <a:pt x="0" y="42"/>
                          </a:lnTo>
                          <a:lnTo>
                            <a:pt x="12" y="42"/>
                          </a:lnTo>
                          <a:lnTo>
                            <a:pt x="0" y="47"/>
                          </a:lnTo>
                          <a:lnTo>
                            <a:pt x="0" y="84"/>
                          </a:lnTo>
                          <a:lnTo>
                            <a:pt x="12" y="84"/>
                          </a:lnTo>
                          <a:lnTo>
                            <a:pt x="0" y="89"/>
                          </a:lnTo>
                          <a:lnTo>
                            <a:pt x="0" y="121"/>
                          </a:lnTo>
                          <a:lnTo>
                            <a:pt x="16" y="121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4" name=""/>
                    <p:cNvSpPr/>
                    <p:nvPr/>
                  </p:nvSpPr>
                  <p:spPr>
                    <a:xfrm>
                      <a:off x="8528040" y="2056680"/>
                      <a:ext cx="1119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45">
                          <a:moveTo>
                            <a:pt x="0" y="44"/>
                          </a:moveTo>
                          <a:lnTo>
                            <a:pt x="95" y="35"/>
                          </a:lnTo>
                          <a:lnTo>
                            <a:pt x="0" y="0"/>
                          </a:lnTo>
                          <a:lnTo>
                            <a:pt x="0" y="44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5" name=""/>
                  <p:cNvGrpSpPr/>
                  <p:nvPr/>
                </p:nvGrpSpPr>
                <p:grpSpPr>
                  <a:xfrm>
                    <a:off x="6954840" y="1616760"/>
                    <a:ext cx="508320" cy="552240"/>
                    <a:chOff x="6954840" y="1616760"/>
                    <a:chExt cx="508320" cy="552240"/>
                  </a:xfrm>
                </p:grpSpPr>
                <p:sp>
                  <p:nvSpPr>
                    <p:cNvPr id="3316" name=""/>
                    <p:cNvSpPr/>
                    <p:nvPr/>
                  </p:nvSpPr>
                  <p:spPr>
                    <a:xfrm>
                      <a:off x="7131240" y="1634040"/>
                      <a:ext cx="22068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458">
                          <a:moveTo>
                            <a:pt x="188" y="0"/>
                          </a:moveTo>
                          <a:lnTo>
                            <a:pt x="0" y="5"/>
                          </a:lnTo>
                          <a:lnTo>
                            <a:pt x="0" y="457"/>
                          </a:lnTo>
                          <a:lnTo>
                            <a:pt x="188" y="437"/>
                          </a:lnTo>
                          <a:lnTo>
                            <a:pt x="188" y="0"/>
                          </a:lnTo>
                        </a:path>
                      </a:pathLst>
                    </a:custGeom>
                    <a:solidFill>
                      <a:srgbClr val="b5b5b5"/>
                    </a:solidFill>
                    <a:ln cap="rnd" w="12600">
                      <a:solidFill>
                        <a:srgbClr val="b5b5b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7" name=""/>
                    <p:cNvSpPr/>
                    <p:nvPr/>
                  </p:nvSpPr>
                  <p:spPr>
                    <a:xfrm>
                      <a:off x="7144200" y="1915560"/>
                      <a:ext cx="19656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95">
                          <a:moveTo>
                            <a:pt x="0" y="11"/>
                          </a:moveTo>
                          <a:lnTo>
                            <a:pt x="167" y="0"/>
                          </a:lnTo>
                          <a:lnTo>
                            <a:pt x="167" y="177"/>
                          </a:lnTo>
                          <a:lnTo>
                            <a:pt x="0" y="194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8" name=""/>
                    <p:cNvSpPr/>
                    <p:nvPr/>
                  </p:nvSpPr>
                  <p:spPr>
                    <a:xfrm>
                      <a:off x="7144200" y="1732320"/>
                      <a:ext cx="18720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31">
                          <a:moveTo>
                            <a:pt x="0" y="6"/>
                          </a:moveTo>
                          <a:lnTo>
                            <a:pt x="159" y="0"/>
                          </a:lnTo>
                          <a:lnTo>
                            <a:pt x="159" y="121"/>
                          </a:lnTo>
                          <a:lnTo>
                            <a:pt x="0" y="13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9" name=""/>
                    <p:cNvSpPr/>
                    <p:nvPr/>
                  </p:nvSpPr>
                  <p:spPr>
                    <a:xfrm>
                      <a:off x="6954840" y="1617840"/>
                      <a:ext cx="3974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9">
                          <a:moveTo>
                            <a:pt x="0" y="1"/>
                          </a:moveTo>
                          <a:lnTo>
                            <a:pt x="151" y="18"/>
                          </a:lnTo>
                          <a:lnTo>
                            <a:pt x="339" y="14"/>
                          </a:lnTo>
                          <a:lnTo>
                            <a:pt x="181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0" name=""/>
                    <p:cNvSpPr/>
                    <p:nvPr/>
                  </p:nvSpPr>
                  <p:spPr>
                    <a:xfrm>
                      <a:off x="6954840" y="1617840"/>
                      <a:ext cx="177480" cy="55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472">
                          <a:moveTo>
                            <a:pt x="151" y="471"/>
                          </a:moveTo>
                          <a:lnTo>
                            <a:pt x="0" y="358"/>
                          </a:lnTo>
                          <a:lnTo>
                            <a:pt x="0" y="0"/>
                          </a:lnTo>
                          <a:lnTo>
                            <a:pt x="151" y="18"/>
                          </a:lnTo>
                          <a:lnTo>
                            <a:pt x="151" y="471"/>
                          </a:lnTo>
                        </a:path>
                      </a:pathLst>
                    </a:custGeom>
                    <a:solidFill>
                      <a:srgbClr val="b5b5b5"/>
                    </a:solidFill>
                    <a:ln cap="rnd" w="12600">
                      <a:solidFill>
                        <a:srgbClr val="b5b5b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1" name=""/>
                    <p:cNvSpPr/>
                    <p:nvPr/>
                  </p:nvSpPr>
                  <p:spPr>
                    <a:xfrm>
                      <a:off x="7111440" y="1636560"/>
                      <a:ext cx="20880" cy="53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56">
                          <a:moveTo>
                            <a:pt x="17" y="2"/>
                          </a:moveTo>
                          <a:lnTo>
                            <a:pt x="0" y="0"/>
                          </a:lnTo>
                          <a:lnTo>
                            <a:pt x="0" y="443"/>
                          </a:lnTo>
                          <a:lnTo>
                            <a:pt x="17" y="455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2" name=""/>
                    <p:cNvSpPr/>
                    <p:nvPr/>
                  </p:nvSpPr>
                  <p:spPr>
                    <a:xfrm>
                      <a:off x="7144200" y="1730880"/>
                      <a:ext cx="196560" cy="15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37">
                          <a:moveTo>
                            <a:pt x="167" y="0"/>
                          </a:moveTo>
                          <a:lnTo>
                            <a:pt x="167" y="125"/>
                          </a:lnTo>
                          <a:lnTo>
                            <a:pt x="0" y="136"/>
                          </a:lnTo>
                          <a:lnTo>
                            <a:pt x="0" y="130"/>
                          </a:lnTo>
                          <a:lnTo>
                            <a:pt x="159" y="122"/>
                          </a:lnTo>
                          <a:lnTo>
                            <a:pt x="159" y="1"/>
                          </a:lnTo>
                          <a:lnTo>
                            <a:pt x="16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3" name=""/>
                    <p:cNvSpPr/>
                    <p:nvPr/>
                  </p:nvSpPr>
                  <p:spPr>
                    <a:xfrm>
                      <a:off x="7144200" y="1701720"/>
                      <a:ext cx="196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7">
                          <a:moveTo>
                            <a:pt x="0" y="15"/>
                          </a:moveTo>
                          <a:lnTo>
                            <a:pt x="0" y="19"/>
                          </a:lnTo>
                          <a:lnTo>
                            <a:pt x="39" y="18"/>
                          </a:lnTo>
                          <a:lnTo>
                            <a:pt x="39" y="26"/>
                          </a:lnTo>
                          <a:lnTo>
                            <a:pt x="128" y="23"/>
                          </a:lnTo>
                          <a:lnTo>
                            <a:pt x="128" y="16"/>
                          </a:lnTo>
                          <a:lnTo>
                            <a:pt x="167" y="14"/>
                          </a:lnTo>
                          <a:lnTo>
                            <a:pt x="167" y="8"/>
                          </a:lnTo>
                          <a:lnTo>
                            <a:pt x="128" y="10"/>
                          </a:lnTo>
                          <a:lnTo>
                            <a:pt x="128" y="0"/>
                          </a:lnTo>
                          <a:lnTo>
                            <a:pt x="111" y="1"/>
                          </a:lnTo>
                          <a:lnTo>
                            <a:pt x="32" y="13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4" name=""/>
                    <p:cNvSpPr/>
                    <p:nvPr/>
                  </p:nvSpPr>
                  <p:spPr>
                    <a:xfrm>
                      <a:off x="7144200" y="1653840"/>
                      <a:ext cx="1965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3">
                          <a:moveTo>
                            <a:pt x="167" y="0"/>
                          </a:moveTo>
                          <a:lnTo>
                            <a:pt x="167" y="17"/>
                          </a:lnTo>
                          <a:lnTo>
                            <a:pt x="0" y="22"/>
                          </a:lnTo>
                          <a:lnTo>
                            <a:pt x="0" y="19"/>
                          </a:lnTo>
                          <a:lnTo>
                            <a:pt x="158" y="1"/>
                          </a:lnTo>
                          <a:lnTo>
                            <a:pt x="16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5" name=""/>
                    <p:cNvSpPr/>
                    <p:nvPr/>
                  </p:nvSpPr>
                  <p:spPr>
                    <a:xfrm>
                      <a:off x="6954840" y="1616760"/>
                      <a:ext cx="3974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20">
                          <a:moveTo>
                            <a:pt x="0" y="2"/>
                          </a:moveTo>
                          <a:lnTo>
                            <a:pt x="151" y="19"/>
                          </a:lnTo>
                          <a:lnTo>
                            <a:pt x="339" y="14"/>
                          </a:lnTo>
                          <a:lnTo>
                            <a:pt x="181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6" name=""/>
                    <p:cNvSpPr/>
                    <p:nvPr/>
                  </p:nvSpPr>
                  <p:spPr>
                    <a:xfrm>
                      <a:off x="7130160" y="1634040"/>
                      <a:ext cx="22212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458">
                          <a:moveTo>
                            <a:pt x="0" y="5"/>
                          </a:moveTo>
                          <a:lnTo>
                            <a:pt x="0" y="457"/>
                          </a:lnTo>
                          <a:lnTo>
                            <a:pt x="189" y="437"/>
                          </a:lnTo>
                          <a:lnTo>
                            <a:pt x="189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7" name=""/>
                    <p:cNvSpPr/>
                    <p:nvPr/>
                  </p:nvSpPr>
                  <p:spPr>
                    <a:xfrm>
                      <a:off x="6954840" y="1617840"/>
                      <a:ext cx="176400" cy="55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72">
                          <a:moveTo>
                            <a:pt x="0" y="0"/>
                          </a:moveTo>
                          <a:lnTo>
                            <a:pt x="0" y="358"/>
                          </a:lnTo>
                          <a:lnTo>
                            <a:pt x="150" y="471"/>
                          </a:lnTo>
                          <a:lnTo>
                            <a:pt x="15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8" name=""/>
                    <p:cNvSpPr/>
                    <p:nvPr/>
                  </p:nvSpPr>
                  <p:spPr>
                    <a:xfrm>
                      <a:off x="7111440" y="1637640"/>
                      <a:ext cx="0" cy="516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9" name=""/>
                    <p:cNvSpPr/>
                    <p:nvPr/>
                  </p:nvSpPr>
                  <p:spPr>
                    <a:xfrm>
                      <a:off x="7111440" y="164448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0" y="9"/>
                          </a:moveTo>
                          <a:lnTo>
                            <a:pt x="16" y="16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0" name=""/>
                    <p:cNvSpPr/>
                    <p:nvPr/>
                  </p:nvSpPr>
                  <p:spPr>
                    <a:xfrm>
                      <a:off x="7111440" y="168336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1" name=""/>
                    <p:cNvSpPr/>
                    <p:nvPr/>
                  </p:nvSpPr>
                  <p:spPr>
                    <a:xfrm>
                      <a:off x="7144200" y="1653840"/>
                      <a:ext cx="1965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3">
                          <a:moveTo>
                            <a:pt x="0" y="5"/>
                          </a:moveTo>
                          <a:lnTo>
                            <a:pt x="0" y="22"/>
                          </a:lnTo>
                          <a:lnTo>
                            <a:pt x="167" y="17"/>
                          </a:lnTo>
                          <a:lnTo>
                            <a:pt x="167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2" name=""/>
                    <p:cNvSpPr/>
                    <p:nvPr/>
                  </p:nvSpPr>
                  <p:spPr>
                    <a:xfrm>
                      <a:off x="7111440" y="169488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7111440" y="173088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"/>
                    <p:cNvSpPr/>
                    <p:nvPr/>
                  </p:nvSpPr>
                  <p:spPr>
                    <a:xfrm>
                      <a:off x="7111440" y="187704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5" name=""/>
                    <p:cNvSpPr/>
                    <p:nvPr/>
                  </p:nvSpPr>
                  <p:spPr>
                    <a:xfrm>
                      <a:off x="7144200" y="1739160"/>
                      <a:ext cx="0" cy="149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7339680" y="1732320"/>
                      <a:ext cx="0" cy="144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7144200" y="1732320"/>
                      <a:ext cx="18720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30">
                          <a:moveTo>
                            <a:pt x="159" y="0"/>
                          </a:moveTo>
                          <a:lnTo>
                            <a:pt x="159" y="121"/>
                          </a:lnTo>
                          <a:lnTo>
                            <a:pt x="0" y="12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8" name=""/>
                    <p:cNvSpPr/>
                    <p:nvPr/>
                  </p:nvSpPr>
                  <p:spPr>
                    <a:xfrm>
                      <a:off x="7329960" y="1873440"/>
                      <a:ext cx="9360" cy="3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9" name=""/>
                    <p:cNvSpPr/>
                    <p:nvPr/>
                  </p:nvSpPr>
                  <p:spPr>
                    <a:xfrm flipH="1">
                      <a:off x="7144200" y="1780200"/>
                      <a:ext cx="185760" cy="9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 flipH="1">
                      <a:off x="7144200" y="1829160"/>
                      <a:ext cx="185760" cy="10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1" name=""/>
                    <p:cNvSpPr/>
                    <p:nvPr/>
                  </p:nvSpPr>
                  <p:spPr>
                    <a:xfrm>
                      <a:off x="7111440" y="191556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0" y="3"/>
                          </a:moveTo>
                          <a:lnTo>
                            <a:pt x="16" y="16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7111440" y="2121120"/>
                      <a:ext cx="2408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21">
                          <a:moveTo>
                            <a:pt x="0" y="7"/>
                          </a:moveTo>
                          <a:lnTo>
                            <a:pt x="16" y="20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3" name=""/>
                    <p:cNvSpPr/>
                    <p:nvPr/>
                  </p:nvSpPr>
                  <p:spPr>
                    <a:xfrm>
                      <a:off x="7144200" y="1927080"/>
                      <a:ext cx="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4" name=""/>
                    <p:cNvSpPr/>
                    <p:nvPr/>
                  </p:nvSpPr>
                  <p:spPr>
                    <a:xfrm>
                      <a:off x="7339680" y="1915560"/>
                      <a:ext cx="0" cy="206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5" name=""/>
                    <p:cNvSpPr/>
                    <p:nvPr/>
                  </p:nvSpPr>
                  <p:spPr>
                    <a:xfrm>
                      <a:off x="7144200" y="2107080"/>
                      <a:ext cx="19656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1">
                          <a:moveTo>
                            <a:pt x="0" y="20"/>
                          </a:moveTo>
                          <a:lnTo>
                            <a:pt x="167" y="4"/>
                          </a:lnTo>
                          <a:lnTo>
                            <a:pt x="167" y="0"/>
                          </a:lnTo>
                          <a:lnTo>
                            <a:pt x="0" y="17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6" name=""/>
                    <p:cNvSpPr/>
                    <p:nvPr/>
                  </p:nvSpPr>
                  <p:spPr>
                    <a:xfrm>
                      <a:off x="7144200" y="2097720"/>
                      <a:ext cx="19656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1">
                          <a:moveTo>
                            <a:pt x="0" y="20"/>
                          </a:moveTo>
                          <a:lnTo>
                            <a:pt x="167" y="3"/>
                          </a:lnTo>
                          <a:lnTo>
                            <a:pt x="167" y="0"/>
                          </a:lnTo>
                          <a:lnTo>
                            <a:pt x="0" y="16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7" name=""/>
                    <p:cNvSpPr/>
                    <p:nvPr/>
                  </p:nvSpPr>
                  <p:spPr>
                    <a:xfrm>
                      <a:off x="7144200" y="2089440"/>
                      <a:ext cx="1965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">
                          <a:moveTo>
                            <a:pt x="167" y="3"/>
                          </a:moveTo>
                          <a:lnTo>
                            <a:pt x="0" y="19"/>
                          </a:lnTo>
                          <a:lnTo>
                            <a:pt x="0" y="15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8" name=""/>
                    <p:cNvSpPr/>
                    <p:nvPr/>
                  </p:nvSpPr>
                  <p:spPr>
                    <a:xfrm>
                      <a:off x="7144200" y="2080080"/>
                      <a:ext cx="19656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8">
                          <a:moveTo>
                            <a:pt x="167" y="3"/>
                          </a:moveTo>
                          <a:lnTo>
                            <a:pt x="0" y="17"/>
                          </a:lnTo>
                          <a:lnTo>
                            <a:pt x="0" y="14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9" name=""/>
                    <p:cNvSpPr/>
                    <p:nvPr/>
                  </p:nvSpPr>
                  <p:spPr>
                    <a:xfrm>
                      <a:off x="7144200" y="2069640"/>
                      <a:ext cx="19656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9">
                          <a:moveTo>
                            <a:pt x="167" y="3"/>
                          </a:moveTo>
                          <a:lnTo>
                            <a:pt x="0" y="18"/>
                          </a:lnTo>
                          <a:lnTo>
                            <a:pt x="0" y="14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0" name=""/>
                    <p:cNvSpPr/>
                    <p:nvPr/>
                  </p:nvSpPr>
                  <p:spPr>
                    <a:xfrm>
                      <a:off x="7144200" y="1655280"/>
                      <a:ext cx="18720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21">
                          <a:moveTo>
                            <a:pt x="159" y="0"/>
                          </a:moveTo>
                          <a:lnTo>
                            <a:pt x="159" y="15"/>
                          </a:lnTo>
                          <a:lnTo>
                            <a:pt x="0" y="20"/>
                          </a:lnTo>
                          <a:lnTo>
                            <a:pt x="1" y="5"/>
                          </a:lnTo>
                          <a:lnTo>
                            <a:pt x="15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1" name=""/>
                    <p:cNvSpPr/>
                    <p:nvPr/>
                  </p:nvSpPr>
                  <p:spPr>
                    <a:xfrm>
                      <a:off x="7329960" y="1672560"/>
                      <a:ext cx="9360" cy="2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2" name=""/>
                    <p:cNvSpPr/>
                    <p:nvPr/>
                  </p:nvSpPr>
                  <p:spPr>
                    <a:xfrm>
                      <a:off x="7189560" y="1701720"/>
                      <a:ext cx="1051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27">
                          <a:moveTo>
                            <a:pt x="0" y="26"/>
                          </a:moveTo>
                          <a:lnTo>
                            <a:pt x="0" y="3"/>
                          </a:lnTo>
                          <a:lnTo>
                            <a:pt x="89" y="0"/>
                          </a:lnTo>
                          <a:lnTo>
                            <a:pt x="89" y="23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3" name=""/>
                    <p:cNvSpPr/>
                    <p:nvPr/>
                  </p:nvSpPr>
                  <p:spPr>
                    <a:xfrm>
                      <a:off x="7144200" y="1701720"/>
                      <a:ext cx="1965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4">
                          <a:moveTo>
                            <a:pt x="113" y="8"/>
                          </a:moveTo>
                          <a:lnTo>
                            <a:pt x="167" y="6"/>
                          </a:lnTo>
                          <a:lnTo>
                            <a:pt x="167" y="14"/>
                          </a:lnTo>
                          <a:lnTo>
                            <a:pt x="159" y="13"/>
                          </a:lnTo>
                          <a:lnTo>
                            <a:pt x="113" y="14"/>
                          </a:lnTo>
                          <a:lnTo>
                            <a:pt x="113" y="20"/>
                          </a:lnTo>
                          <a:lnTo>
                            <a:pt x="39" y="23"/>
                          </a:lnTo>
                          <a:lnTo>
                            <a:pt x="39" y="18"/>
                          </a:lnTo>
                          <a:lnTo>
                            <a:pt x="32" y="17"/>
                          </a:lnTo>
                          <a:lnTo>
                            <a:pt x="0" y="18"/>
                          </a:lnTo>
                          <a:lnTo>
                            <a:pt x="0" y="12"/>
                          </a:lnTo>
                          <a:lnTo>
                            <a:pt x="39" y="10"/>
                          </a:lnTo>
                          <a:lnTo>
                            <a:pt x="39" y="3"/>
                          </a:lnTo>
                          <a:lnTo>
                            <a:pt x="128" y="0"/>
                          </a:lnTo>
                          <a:lnTo>
                            <a:pt x="113" y="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4" name=""/>
                    <p:cNvSpPr/>
                    <p:nvPr/>
                  </p:nvSpPr>
                  <p:spPr>
                    <a:xfrm>
                      <a:off x="7144200" y="1714680"/>
                      <a:ext cx="15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7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38" y="7"/>
                          </a:lnTo>
                          <a:lnTo>
                            <a:pt x="38" y="16"/>
                          </a:lnTo>
                          <a:lnTo>
                            <a:pt x="128" y="12"/>
                          </a:lnTo>
                          <a:lnTo>
                            <a:pt x="128" y="4"/>
                          </a:lnTo>
                          <a:lnTo>
                            <a:pt x="112" y="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5" name=""/>
                    <p:cNvSpPr/>
                    <p:nvPr/>
                  </p:nvSpPr>
                  <p:spPr>
                    <a:xfrm flipH="1">
                      <a:off x="7293960" y="1717200"/>
                      <a:ext cx="45360" cy="3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6" name=""/>
                    <p:cNvSpPr/>
                    <p:nvPr/>
                  </p:nvSpPr>
                  <p:spPr>
                    <a:xfrm>
                      <a:off x="7293960" y="1701720"/>
                      <a:ext cx="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7" name=""/>
                    <p:cNvSpPr/>
                    <p:nvPr/>
                  </p:nvSpPr>
                  <p:spPr>
                    <a:xfrm>
                      <a:off x="7153560" y="1666800"/>
                      <a:ext cx="194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3" y="6"/>
                          </a:lnTo>
                          <a:lnTo>
                            <a:pt x="13" y="3"/>
                          </a:lnTo>
                          <a:lnTo>
                            <a:pt x="10" y="3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5" y="3"/>
                          </a:lnTo>
                          <a:lnTo>
                            <a:pt x="2" y="6"/>
                          </a:lnTo>
                          <a:lnTo>
                            <a:pt x="2" y="6"/>
                          </a:lnTo>
                          <a:lnTo>
                            <a:pt x="0" y="9"/>
                          </a:lnTo>
                          <a:lnTo>
                            <a:pt x="2" y="12"/>
                          </a:lnTo>
                          <a:lnTo>
                            <a:pt x="5" y="12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2"/>
                          </a:lnTo>
                          <a:lnTo>
                            <a:pt x="13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8" name=""/>
                    <p:cNvSpPr/>
                    <p:nvPr/>
                  </p:nvSpPr>
                  <p:spPr>
                    <a:xfrm>
                      <a:off x="7180560" y="16657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6" y="6"/>
                          </a:lnTo>
                          <a:lnTo>
                            <a:pt x="13" y="3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0" y="6"/>
                          </a:lnTo>
                          <a:lnTo>
                            <a:pt x="0" y="9"/>
                          </a:lnTo>
                          <a:lnTo>
                            <a:pt x="2" y="9"/>
                          </a:lnTo>
                          <a:lnTo>
                            <a:pt x="2" y="12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2"/>
                          </a:lnTo>
                          <a:lnTo>
                            <a:pt x="16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9" name=""/>
                    <p:cNvSpPr/>
                    <p:nvPr/>
                  </p:nvSpPr>
                  <p:spPr>
                    <a:xfrm>
                      <a:off x="7207200" y="16657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10"/>
                          </a:moveTo>
                          <a:lnTo>
                            <a:pt x="16" y="5"/>
                          </a:lnTo>
                          <a:lnTo>
                            <a:pt x="13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2" y="5"/>
                          </a:lnTo>
                          <a:lnTo>
                            <a:pt x="2" y="5"/>
                          </a:lnTo>
                          <a:lnTo>
                            <a:pt x="0" y="10"/>
                          </a:lnTo>
                          <a:lnTo>
                            <a:pt x="2" y="10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6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0" name=""/>
                    <p:cNvSpPr/>
                    <p:nvPr/>
                  </p:nvSpPr>
                  <p:spPr>
                    <a:xfrm>
                      <a:off x="7235280" y="16657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5"/>
                          </a:moveTo>
                          <a:lnTo>
                            <a:pt x="16" y="5"/>
                          </a:lnTo>
                          <a:lnTo>
                            <a:pt x="13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2" y="0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10"/>
                          </a:lnTo>
                          <a:lnTo>
                            <a:pt x="2" y="10"/>
                          </a:lnTo>
                          <a:lnTo>
                            <a:pt x="2" y="16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6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  <a:lnTo>
                            <a:pt x="16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1" name=""/>
                    <p:cNvSpPr/>
                    <p:nvPr/>
                  </p:nvSpPr>
                  <p:spPr>
                    <a:xfrm>
                      <a:off x="7263360" y="166464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8"/>
                          </a:moveTo>
                          <a:lnTo>
                            <a:pt x="12" y="4"/>
                          </a:lnTo>
                          <a:lnTo>
                            <a:pt x="12" y="4"/>
                          </a:lnTo>
                          <a:lnTo>
                            <a:pt x="12" y="0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3" y="16"/>
                          </a:lnTo>
                          <a:lnTo>
                            <a:pt x="3" y="16"/>
                          </a:lnTo>
                          <a:lnTo>
                            <a:pt x="6" y="16"/>
                          </a:lnTo>
                          <a:lnTo>
                            <a:pt x="9" y="16"/>
                          </a:lnTo>
                          <a:lnTo>
                            <a:pt x="12" y="16"/>
                          </a:lnTo>
                          <a:lnTo>
                            <a:pt x="12" y="12"/>
                          </a:lnTo>
                          <a:lnTo>
                            <a:pt x="16" y="8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2" name=""/>
                    <p:cNvSpPr/>
                    <p:nvPr/>
                  </p:nvSpPr>
                  <p:spPr>
                    <a:xfrm>
                      <a:off x="7289280" y="16621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3" y="6"/>
                          </a:lnTo>
                          <a:lnTo>
                            <a:pt x="13" y="3"/>
                          </a:lnTo>
                          <a:lnTo>
                            <a:pt x="10" y="3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5" y="3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lnTo>
                            <a:pt x="5" y="12"/>
                          </a:lnTo>
                          <a:lnTo>
                            <a:pt x="8" y="16"/>
                          </a:lnTo>
                          <a:lnTo>
                            <a:pt x="8" y="16"/>
                          </a:lnTo>
                          <a:lnTo>
                            <a:pt x="10" y="12"/>
                          </a:lnTo>
                          <a:lnTo>
                            <a:pt x="13" y="12"/>
                          </a:lnTo>
                          <a:lnTo>
                            <a:pt x="13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3" name=""/>
                    <p:cNvSpPr/>
                    <p:nvPr/>
                  </p:nvSpPr>
                  <p:spPr>
                    <a:xfrm>
                      <a:off x="7317360" y="16621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8"/>
                          </a:moveTo>
                          <a:lnTo>
                            <a:pt x="16" y="8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9" y="0"/>
                          </a:lnTo>
                          <a:lnTo>
                            <a:pt x="6" y="0"/>
                          </a:lnTo>
                          <a:lnTo>
                            <a:pt x="3" y="4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0" y="12"/>
                          </a:lnTo>
                          <a:lnTo>
                            <a:pt x="3" y="16"/>
                          </a:lnTo>
                          <a:lnTo>
                            <a:pt x="6" y="16"/>
                          </a:lnTo>
                          <a:lnTo>
                            <a:pt x="9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2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4" name=""/>
                    <p:cNvSpPr/>
                    <p:nvPr/>
                  </p:nvSpPr>
                  <p:spPr>
                    <a:xfrm>
                      <a:off x="7320600" y="1732320"/>
                      <a:ext cx="1980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22">
                          <a:moveTo>
                            <a:pt x="0" y="0"/>
                          </a:moveTo>
                          <a:lnTo>
                            <a:pt x="0" y="42"/>
                          </a:lnTo>
                          <a:lnTo>
                            <a:pt x="12" y="42"/>
                          </a:lnTo>
                          <a:lnTo>
                            <a:pt x="0" y="47"/>
                          </a:lnTo>
                          <a:lnTo>
                            <a:pt x="0" y="84"/>
                          </a:lnTo>
                          <a:lnTo>
                            <a:pt x="12" y="84"/>
                          </a:lnTo>
                          <a:lnTo>
                            <a:pt x="0" y="89"/>
                          </a:lnTo>
                          <a:lnTo>
                            <a:pt x="0" y="121"/>
                          </a:lnTo>
                          <a:lnTo>
                            <a:pt x="16" y="121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5" name=""/>
                    <p:cNvSpPr/>
                    <p:nvPr/>
                  </p:nvSpPr>
                  <p:spPr>
                    <a:xfrm>
                      <a:off x="7351200" y="2093040"/>
                      <a:ext cx="1119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45">
                          <a:moveTo>
                            <a:pt x="0" y="44"/>
                          </a:moveTo>
                          <a:lnTo>
                            <a:pt x="95" y="35"/>
                          </a:lnTo>
                          <a:lnTo>
                            <a:pt x="0" y="0"/>
                          </a:lnTo>
                          <a:lnTo>
                            <a:pt x="0" y="44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pic>
                <p:nvPicPr>
                  <p:cNvPr id="33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6600" y="1424160"/>
                    <a:ext cx="1050840" cy="77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367" name=""/>
                  <p:cNvGrpSpPr/>
                  <p:nvPr/>
                </p:nvGrpSpPr>
                <p:grpSpPr>
                  <a:xfrm>
                    <a:off x="5000040" y="1461600"/>
                    <a:ext cx="1167480" cy="797760"/>
                    <a:chOff x="5000040" y="1461600"/>
                    <a:chExt cx="1167480" cy="797760"/>
                  </a:xfrm>
                </p:grpSpPr>
                <p:grpSp>
                  <p:nvGrpSpPr>
                    <p:cNvPr id="3368" name=""/>
                    <p:cNvGrpSpPr/>
                    <p:nvPr/>
                  </p:nvGrpSpPr>
                  <p:grpSpPr>
                    <a:xfrm>
                      <a:off x="5000040" y="1461600"/>
                      <a:ext cx="1167480" cy="797760"/>
                      <a:chOff x="5000040" y="1461600"/>
                      <a:chExt cx="1167480" cy="797760"/>
                    </a:xfrm>
                  </p:grpSpPr>
                  <p:sp>
                    <p:nvSpPr>
                      <p:cNvPr id="3369" name=""/>
                      <p:cNvSpPr/>
                      <p:nvPr/>
                    </p:nvSpPr>
                    <p:spPr>
                      <a:xfrm rot="20700000">
                        <a:off x="5522040" y="2063880"/>
                        <a:ext cx="180720" cy="1594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0" name=""/>
                      <p:cNvSpPr/>
                      <p:nvPr/>
                    </p:nvSpPr>
                    <p:spPr>
                      <a:xfrm rot="20700000">
                        <a:off x="5379480" y="1482120"/>
                        <a:ext cx="182880" cy="1598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1" name=""/>
                      <p:cNvSpPr/>
                      <p:nvPr/>
                    </p:nvSpPr>
                    <p:spPr>
                      <a:xfrm rot="20700000">
                        <a:off x="5136480" y="1593360"/>
                        <a:ext cx="110520" cy="982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2680" bIns="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2" name=""/>
                      <p:cNvSpPr/>
                      <p:nvPr/>
                    </p:nvSpPr>
                    <p:spPr>
                      <a:xfrm rot="20700000">
                        <a:off x="5157000" y="1981800"/>
                        <a:ext cx="110160" cy="939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800" bIns="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3" name=""/>
                      <p:cNvSpPr/>
                      <p:nvPr/>
                    </p:nvSpPr>
                    <p:spPr>
                      <a:xfrm rot="20700000">
                        <a:off x="5056200" y="1841040"/>
                        <a:ext cx="181440" cy="1551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4" name=""/>
                      <p:cNvSpPr/>
                      <p:nvPr/>
                    </p:nvSpPr>
                    <p:spPr>
                      <a:xfrm rot="20700000">
                        <a:off x="5239800" y="1522800"/>
                        <a:ext cx="182160" cy="1584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5" name=""/>
                      <p:cNvSpPr/>
                      <p:nvPr/>
                    </p:nvSpPr>
                    <p:spPr>
                      <a:xfrm rot="20700000">
                        <a:off x="5966280" y="1899000"/>
                        <a:ext cx="183600" cy="1591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6" name=""/>
                      <p:cNvSpPr/>
                      <p:nvPr/>
                    </p:nvSpPr>
                    <p:spPr>
                      <a:xfrm rot="20700000">
                        <a:off x="5833800" y="1970640"/>
                        <a:ext cx="183600" cy="1620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77" name=""/>
                      <p:cNvGrpSpPr/>
                      <p:nvPr/>
                    </p:nvGrpSpPr>
                    <p:grpSpPr>
                      <a:xfrm>
                        <a:off x="5000040" y="1463040"/>
                        <a:ext cx="1150200" cy="796320"/>
                        <a:chOff x="5000040" y="1463040"/>
                        <a:chExt cx="1150200" cy="796320"/>
                      </a:xfrm>
                    </p:grpSpPr>
                    <p:sp>
                      <p:nvSpPr>
                        <p:cNvPr id="3378" name=""/>
                        <p:cNvSpPr/>
                        <p:nvPr/>
                      </p:nvSpPr>
                      <p:spPr>
                        <a:xfrm rot="20700000">
                          <a:off x="5031720" y="1661400"/>
                          <a:ext cx="326880" cy="2887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379" name=""/>
                        <p:cNvGrpSpPr/>
                        <p:nvPr/>
                      </p:nvGrpSpPr>
                      <p:grpSpPr>
                        <a:xfrm>
                          <a:off x="5115960" y="1579680"/>
                          <a:ext cx="732240" cy="679680"/>
                          <a:chOff x="5115960" y="1579680"/>
                          <a:chExt cx="732240" cy="679680"/>
                        </a:xfrm>
                      </p:grpSpPr>
                      <p:sp>
                        <p:nvSpPr>
                          <p:cNvPr id="3380" name=""/>
                          <p:cNvSpPr/>
                          <p:nvPr/>
                        </p:nvSpPr>
                        <p:spPr>
                          <a:xfrm rot="20700000">
                            <a:off x="5175000" y="1649520"/>
                            <a:ext cx="613440" cy="539280"/>
                          </a:xfrm>
                          <a:prstGeom prst="ellipse">
                            <a:avLst/>
                          </a:prstGeom>
                          <a:solidFill>
                            <a:srgbClr val="5686dc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81" name=""/>
                          <p:cNvSpPr/>
                          <p:nvPr/>
                        </p:nvSpPr>
                        <p:spPr>
                          <a:xfrm>
                            <a:off x="5150160" y="1782000"/>
                            <a:ext cx="9504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323">
                                <a:moveTo>
                                  <a:pt x="164" y="0"/>
                                </a:moveTo>
                                <a:lnTo>
                                  <a:pt x="0" y="316"/>
                                </a:lnTo>
                                <a:lnTo>
                                  <a:pt x="121" y="322"/>
                                </a:lnTo>
                                <a:lnTo>
                                  <a:pt x="212" y="13"/>
                                </a:lnTo>
                                <a:lnTo>
                                  <a:pt x="164" y="0"/>
                                </a:lnTo>
                              </a:path>
                            </a:pathLst>
                          </a:custGeom>
                          <a:solidFill>
                            <a:srgbClr val="5686d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2" name=""/>
                        <p:cNvSpPr/>
                        <p:nvPr/>
                      </p:nvSpPr>
                      <p:spPr>
                        <a:xfrm rot="20700000">
                          <a:off x="5399640" y="1646640"/>
                          <a:ext cx="614160" cy="53928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3" name=""/>
                        <p:cNvSpPr/>
                        <p:nvPr/>
                      </p:nvSpPr>
                      <p:spPr>
                        <a:xfrm rot="20700000">
                          <a:off x="5909040" y="1646640"/>
                          <a:ext cx="219600" cy="19296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4" name=""/>
                        <p:cNvSpPr/>
                        <p:nvPr/>
                      </p:nvSpPr>
                      <p:spPr>
                        <a:xfrm rot="20700000">
                          <a:off x="5902920" y="1954080"/>
                          <a:ext cx="145800" cy="1303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5" name=""/>
                        <p:cNvSpPr/>
                        <p:nvPr/>
                      </p:nvSpPr>
                      <p:spPr>
                        <a:xfrm rot="20700000">
                          <a:off x="5821560" y="1619280"/>
                          <a:ext cx="146160" cy="12564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6" name=""/>
                        <p:cNvSpPr/>
                        <p:nvPr/>
                      </p:nvSpPr>
                      <p:spPr>
                        <a:xfrm rot="20700000">
                          <a:off x="5905440" y="1782000"/>
                          <a:ext cx="220680" cy="19080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7" name=""/>
                        <p:cNvSpPr/>
                        <p:nvPr/>
                      </p:nvSpPr>
                      <p:spPr>
                        <a:xfrm rot="20700000">
                          <a:off x="5190480" y="1549800"/>
                          <a:ext cx="327600" cy="28656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8" name=""/>
                        <p:cNvSpPr/>
                        <p:nvPr/>
                      </p:nvSpPr>
                      <p:spPr>
                        <a:xfrm rot="20700000">
                          <a:off x="5518800" y="1519560"/>
                          <a:ext cx="327600" cy="28656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9" name=""/>
                        <p:cNvSpPr/>
                        <p:nvPr/>
                      </p:nvSpPr>
                      <p:spPr>
                        <a:xfrm rot="20700000">
                          <a:off x="5363640" y="1500480"/>
                          <a:ext cx="327960" cy="28656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90" name=""/>
                        <p:cNvSpPr/>
                        <p:nvPr/>
                      </p:nvSpPr>
                      <p:spPr>
                        <a:xfrm rot="20700000">
                          <a:off x="5342040" y="1866600"/>
                          <a:ext cx="325440" cy="28728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91" name=""/>
                        <p:cNvSpPr/>
                        <p:nvPr/>
                      </p:nvSpPr>
                      <p:spPr>
                        <a:xfrm>
                          <a:off x="5229720" y="1556280"/>
                          <a:ext cx="815040" cy="58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7" h="1241">
                              <a:moveTo>
                                <a:pt x="300" y="77"/>
                              </a:moveTo>
                              <a:lnTo>
                                <a:pt x="656" y="143"/>
                              </a:lnTo>
                              <a:lnTo>
                                <a:pt x="1026" y="0"/>
                              </a:lnTo>
                              <a:lnTo>
                                <a:pt x="1348" y="231"/>
                              </a:lnTo>
                              <a:lnTo>
                                <a:pt x="1418" y="234"/>
                              </a:lnTo>
                              <a:lnTo>
                                <a:pt x="1614" y="282"/>
                              </a:lnTo>
                              <a:lnTo>
                                <a:pt x="1678" y="345"/>
                              </a:lnTo>
                              <a:lnTo>
                                <a:pt x="1826" y="455"/>
                              </a:lnTo>
                              <a:lnTo>
                                <a:pt x="1817" y="502"/>
                              </a:lnTo>
                              <a:lnTo>
                                <a:pt x="1657" y="981"/>
                              </a:lnTo>
                              <a:lnTo>
                                <a:pt x="1485" y="1083"/>
                              </a:lnTo>
                              <a:lnTo>
                                <a:pt x="868" y="1205"/>
                              </a:lnTo>
                              <a:lnTo>
                                <a:pt x="807" y="1152"/>
                              </a:lnTo>
                              <a:lnTo>
                                <a:pt x="388" y="1189"/>
                              </a:lnTo>
                              <a:lnTo>
                                <a:pt x="321" y="1240"/>
                              </a:lnTo>
                              <a:lnTo>
                                <a:pt x="0" y="612"/>
                              </a:lnTo>
                              <a:lnTo>
                                <a:pt x="300" y="77"/>
                              </a:lnTo>
                            </a:path>
                          </a:pathLst>
                        </a:custGeom>
                        <a:solidFill>
                          <a:srgbClr val="5686d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92" name=""/>
                    <p:cNvSpPr/>
                    <p:nvPr/>
                  </p:nvSpPr>
                  <p:spPr>
                    <a:xfrm>
                      <a:off x="5125680" y="1763640"/>
                      <a:ext cx="9230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393" name=""/>
              <p:cNvSpPr/>
              <p:nvPr/>
            </p:nvSpPr>
            <p:spPr>
              <a:xfrm>
                <a:off x="6377040" y="1554120"/>
                <a:ext cx="243000" cy="6271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90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Melyiket válasszam több telephelyes környezetben?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5912640" y="340056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TP/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912640" y="39830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TP/PPP/IP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5913000" y="45655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Sec Tunnel M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ó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8" name=""/>
          <p:cNvGrpSpPr/>
          <p:nvPr/>
        </p:nvGrpSpPr>
        <p:grpSpPr>
          <a:xfrm>
            <a:off x="367560" y="3400560"/>
            <a:ext cx="5452200" cy="459720"/>
            <a:chOff x="367560" y="3400560"/>
            <a:chExt cx="5452200" cy="459720"/>
          </a:xfrm>
        </p:grpSpPr>
        <p:sp>
          <p:nvSpPr>
            <p:cNvPr id="3399" name=""/>
            <p:cNvSpPr/>
            <p:nvPr/>
          </p:nvSpPr>
          <p:spPr>
            <a:xfrm>
              <a:off x="367560" y="34005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166760" y="3632400"/>
              <a:ext cx="465300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1" name=""/>
          <p:cNvGrpSpPr/>
          <p:nvPr/>
        </p:nvGrpSpPr>
        <p:grpSpPr>
          <a:xfrm>
            <a:off x="369720" y="3632040"/>
            <a:ext cx="5450040" cy="747000"/>
            <a:chOff x="369720" y="3632040"/>
            <a:chExt cx="5450040" cy="747000"/>
          </a:xfrm>
        </p:grpSpPr>
        <p:sp>
          <p:nvSpPr>
            <p:cNvPr id="3402" name=""/>
            <p:cNvSpPr/>
            <p:nvPr/>
          </p:nvSpPr>
          <p:spPr>
            <a:xfrm>
              <a:off x="369720" y="3919320"/>
              <a:ext cx="19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A legolcsób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941640" y="3632040"/>
              <a:ext cx="1878120" cy="504720"/>
            </a:xfrm>
            <a:custGeom>
              <a:avLst/>
              <a:gdLst/>
              <a:ahLst/>
              <a:rect l="l" t="t" r="r" b="b"/>
              <a:pathLst>
                <a:path w="2726" h="318">
                  <a:moveTo>
                    <a:pt x="0" y="318"/>
                  </a:moveTo>
                  <a:lnTo>
                    <a:pt x="1483" y="318"/>
                  </a:lnTo>
                  <a:lnTo>
                    <a:pt x="2726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4" name=""/>
          <p:cNvGrpSpPr/>
          <p:nvPr/>
        </p:nvGrpSpPr>
        <p:grpSpPr>
          <a:xfrm>
            <a:off x="370800" y="4272120"/>
            <a:ext cx="5448960" cy="1181880"/>
            <a:chOff x="370800" y="4272120"/>
            <a:chExt cx="5448960" cy="1181880"/>
          </a:xfrm>
        </p:grpSpPr>
        <p:sp>
          <p:nvSpPr>
            <p:cNvPr id="3405" name=""/>
            <p:cNvSpPr/>
            <p:nvPr/>
          </p:nvSpPr>
          <p:spPr>
            <a:xfrm>
              <a:off x="370800" y="499428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A legbiztonságosab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505320" y="4272120"/>
              <a:ext cx="2314440" cy="966600"/>
            </a:xfrm>
            <a:custGeom>
              <a:avLst/>
              <a:gdLst/>
              <a:ahLst/>
              <a:rect l="l" t="t" r="r" b="b"/>
              <a:pathLst>
                <a:path w="1166" h="609">
                  <a:moveTo>
                    <a:pt x="0" y="609"/>
                  </a:moveTo>
                  <a:lnTo>
                    <a:pt x="489" y="609"/>
                  </a:lnTo>
                  <a:lnTo>
                    <a:pt x="1166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7" name=""/>
          <p:cNvGrpSpPr/>
          <p:nvPr/>
        </p:nvGrpSpPr>
        <p:grpSpPr>
          <a:xfrm>
            <a:off x="369360" y="3632040"/>
            <a:ext cx="5480640" cy="1254960"/>
            <a:chOff x="369360" y="3632040"/>
            <a:chExt cx="5480640" cy="1254960"/>
          </a:xfrm>
        </p:grpSpPr>
        <p:sp>
          <p:nvSpPr>
            <p:cNvPr id="3408" name=""/>
            <p:cNvSpPr/>
            <p:nvPr/>
          </p:nvSpPr>
          <p:spPr>
            <a:xfrm>
              <a:off x="369360" y="4427280"/>
              <a:ext cx="26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Többféle protokol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9" name=""/>
            <p:cNvGrpSpPr/>
            <p:nvPr/>
          </p:nvGrpSpPr>
          <p:grpSpPr>
            <a:xfrm>
              <a:off x="3686040" y="3632040"/>
              <a:ext cx="2163960" cy="1062000"/>
              <a:chOff x="3686040" y="3632040"/>
              <a:chExt cx="2163960" cy="1062000"/>
            </a:xfrm>
          </p:grpSpPr>
          <p:sp>
            <p:nvSpPr>
              <p:cNvPr id="3410" name=""/>
              <p:cNvSpPr/>
              <p:nvPr/>
            </p:nvSpPr>
            <p:spPr>
              <a:xfrm>
                <a:off x="3686040" y="4271760"/>
                <a:ext cx="2163960" cy="407880"/>
              </a:xfrm>
              <a:custGeom>
                <a:avLst/>
                <a:gdLst/>
                <a:ahLst/>
                <a:rect l="l" t="t" r="r" b="b"/>
                <a:pathLst>
                  <a:path w="1903" h="257">
                    <a:moveTo>
                      <a:pt x="0" y="257"/>
                    </a:moveTo>
                    <a:lnTo>
                      <a:pt x="986" y="257"/>
                    </a:lnTo>
                    <a:lnTo>
                      <a:pt x="1903" y="0"/>
                    </a:lnTo>
                  </a:path>
                </a:pathLst>
              </a:custGeom>
              <a:noFill/>
              <a:ln w="38160">
                <a:solidFill>
                  <a:srgbClr val="fcc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4796640" y="3632040"/>
                <a:ext cx="1052280" cy="1062000"/>
              </a:xfrm>
              <a:prstGeom prst="line">
                <a:avLst/>
              </a:prstGeom>
              <a:ln w="38160">
                <a:solidFill>
                  <a:srgbClr val="fcc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2" name=""/>
          <p:cNvSpPr/>
          <p:nvPr/>
        </p:nvSpPr>
        <p:spPr>
          <a:xfrm>
            <a:off x="362520" y="16095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st-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3" name=""/>
          <p:cNvGrpSpPr/>
          <p:nvPr/>
        </p:nvGrpSpPr>
        <p:grpSpPr>
          <a:xfrm>
            <a:off x="366840" y="4952880"/>
            <a:ext cx="7787520" cy="1225080"/>
            <a:chOff x="366840" y="4952880"/>
            <a:chExt cx="7787520" cy="1225080"/>
          </a:xfrm>
        </p:grpSpPr>
        <p:sp>
          <p:nvSpPr>
            <p:cNvPr id="3414" name=""/>
            <p:cNvSpPr/>
            <p:nvPr/>
          </p:nvSpPr>
          <p:spPr>
            <a:xfrm>
              <a:off x="366840" y="57182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Csak 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676520" y="4995720"/>
              <a:ext cx="4173480" cy="966960"/>
            </a:xfrm>
            <a:custGeom>
              <a:avLst/>
              <a:gdLst/>
              <a:ahLst/>
              <a:rect l="l" t="t" r="r" b="b"/>
              <a:pathLst>
                <a:path w="1166" h="609">
                  <a:moveTo>
                    <a:pt x="0" y="609"/>
                  </a:moveTo>
                  <a:lnTo>
                    <a:pt x="489" y="609"/>
                  </a:lnTo>
                  <a:lnTo>
                    <a:pt x="1166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426720" y="4952880"/>
              <a:ext cx="1727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ccf00"/>
                  </a:solidFill>
                  <a:latin typeface="Arial"/>
                </a:rPr>
                <a:t>Gondok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cc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cf00"/>
                  </a:solidFill>
                  <a:latin typeface="Arial"/>
                </a:rPr>
                <a:t> </a:t>
              </a:r>
              <a:r>
                <a:rPr b="0" i="1" lang="hu-HU" sz="2000" spc="-1" strike="noStrike">
                  <a:solidFill>
                    <a:srgbClr val="fccf00"/>
                  </a:solidFill>
                  <a:latin typeface="Arial"/>
                </a:rPr>
                <a:t>Hitelesít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cc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cf00"/>
                  </a:solidFill>
                  <a:latin typeface="Arial"/>
                </a:rPr>
                <a:t> </a:t>
              </a:r>
              <a:r>
                <a:rPr b="0" i="1" lang="hu-HU" sz="2000" spc="-1" strike="noStrike">
                  <a:solidFill>
                    <a:srgbClr val="fccf00"/>
                  </a:solidFill>
                  <a:latin typeface="Arial"/>
                </a:rPr>
                <a:t>Címkioszt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7" name=""/>
          <p:cNvSpPr/>
          <p:nvPr/>
        </p:nvSpPr>
        <p:spPr>
          <a:xfrm>
            <a:off x="362520" y="24051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N-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"/>
          <p:cNvSpPr/>
          <p:nvPr/>
        </p:nvSpPr>
        <p:spPr>
          <a:xfrm flipH="1">
            <a:off x="7104240" y="2903400"/>
            <a:ext cx="475920" cy="107496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7022520" y="3940200"/>
            <a:ext cx="556920" cy="107460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77896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ndelkezésre állás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Network Load Balancing Services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421" name=""/>
          <p:cNvGrpSpPr/>
          <p:nvPr/>
        </p:nvGrpSpPr>
        <p:grpSpPr>
          <a:xfrm>
            <a:off x="770040" y="2266920"/>
            <a:ext cx="8099280" cy="1136160"/>
            <a:chOff x="770040" y="2266920"/>
            <a:chExt cx="8099280" cy="1136160"/>
          </a:xfrm>
        </p:grpSpPr>
        <p:grpSp>
          <p:nvGrpSpPr>
            <p:cNvPr id="3422" name=""/>
            <p:cNvGrpSpPr/>
            <p:nvPr/>
          </p:nvGrpSpPr>
          <p:grpSpPr>
            <a:xfrm>
              <a:off x="1986120" y="2673360"/>
              <a:ext cx="4633920" cy="390600"/>
              <a:chOff x="1986120" y="2673360"/>
              <a:chExt cx="4633920" cy="390600"/>
            </a:xfrm>
          </p:grpSpPr>
          <p:sp>
            <p:nvSpPr>
              <p:cNvPr id="3423" name=""/>
              <p:cNvSpPr/>
              <p:nvPr/>
            </p:nvSpPr>
            <p:spPr>
              <a:xfrm>
                <a:off x="6305400" y="2678400"/>
                <a:ext cx="314640" cy="3711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24" name=""/>
              <p:cNvGrpSpPr/>
              <p:nvPr/>
            </p:nvGrpSpPr>
            <p:grpSpPr>
              <a:xfrm>
                <a:off x="1986120" y="2673360"/>
                <a:ext cx="4389120" cy="390600"/>
                <a:chOff x="1986120" y="2673360"/>
                <a:chExt cx="4389120" cy="390600"/>
              </a:xfrm>
            </p:grpSpPr>
            <p:sp>
              <p:nvSpPr>
                <p:cNvPr id="3425" name=""/>
                <p:cNvSpPr/>
                <p:nvPr/>
              </p:nvSpPr>
              <p:spPr>
                <a:xfrm>
                  <a:off x="1986120" y="2683080"/>
                  <a:ext cx="680760" cy="366480"/>
                </a:xfrm>
                <a:prstGeom prst="rect">
                  <a:avLst/>
                </a:pr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6" name=""/>
                <p:cNvGrpSpPr/>
                <p:nvPr/>
              </p:nvGrpSpPr>
              <p:grpSpPr>
                <a:xfrm>
                  <a:off x="2519280" y="2673360"/>
                  <a:ext cx="3855960" cy="390600"/>
                  <a:chOff x="2519280" y="2673360"/>
                  <a:chExt cx="3855960" cy="390600"/>
                </a:xfrm>
              </p:grpSpPr>
              <p:sp>
                <p:nvSpPr>
                  <p:cNvPr id="3427" name=""/>
                  <p:cNvSpPr/>
                  <p:nvPr/>
                </p:nvSpPr>
                <p:spPr>
                  <a:xfrm>
                    <a:off x="6229440" y="2673360"/>
                    <a:ext cx="145800" cy="3812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"/>
                  <p:cNvSpPr/>
                  <p:nvPr/>
                </p:nvSpPr>
                <p:spPr>
                  <a:xfrm>
                    <a:off x="2604960" y="2683080"/>
                    <a:ext cx="3683160" cy="3776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9" name=""/>
                  <p:cNvSpPr/>
                  <p:nvPr/>
                </p:nvSpPr>
                <p:spPr>
                  <a:xfrm>
                    <a:off x="2519280" y="2683080"/>
                    <a:ext cx="146160" cy="3808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30" name=""/>
            <p:cNvSpPr/>
            <p:nvPr/>
          </p:nvSpPr>
          <p:spPr>
            <a:xfrm>
              <a:off x="6721560" y="2887920"/>
              <a:ext cx="16333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31" name=""/>
            <p:cNvGrpSpPr/>
            <p:nvPr/>
          </p:nvGrpSpPr>
          <p:grpSpPr>
            <a:xfrm>
              <a:off x="2068560" y="2681280"/>
              <a:ext cx="4622760" cy="382680"/>
              <a:chOff x="2068560" y="2681280"/>
              <a:chExt cx="4622760" cy="382680"/>
            </a:xfrm>
          </p:grpSpPr>
          <p:grpSp>
            <p:nvGrpSpPr>
              <p:cNvPr id="3432" name=""/>
              <p:cNvGrpSpPr/>
              <p:nvPr/>
            </p:nvGrpSpPr>
            <p:grpSpPr>
              <a:xfrm>
                <a:off x="2068560" y="2764080"/>
                <a:ext cx="4622760" cy="218880"/>
                <a:chOff x="2068560" y="2764080"/>
                <a:chExt cx="4622760" cy="218880"/>
              </a:xfrm>
            </p:grpSpPr>
            <p:sp>
              <p:nvSpPr>
                <p:cNvPr id="3433" name=""/>
                <p:cNvSpPr/>
                <p:nvPr/>
              </p:nvSpPr>
              <p:spPr>
                <a:xfrm>
                  <a:off x="6443640" y="2773440"/>
                  <a:ext cx="247680" cy="1954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4" name=""/>
                <p:cNvGrpSpPr/>
                <p:nvPr/>
              </p:nvGrpSpPr>
              <p:grpSpPr>
                <a:xfrm>
                  <a:off x="2068560" y="2764080"/>
                  <a:ext cx="4460760" cy="218880"/>
                  <a:chOff x="2068560" y="2764080"/>
                  <a:chExt cx="4460760" cy="218880"/>
                </a:xfrm>
              </p:grpSpPr>
              <p:sp>
                <p:nvSpPr>
                  <p:cNvPr id="3435" name=""/>
                  <p:cNvSpPr/>
                  <p:nvPr/>
                </p:nvSpPr>
                <p:spPr>
                  <a:xfrm>
                    <a:off x="2068560" y="2764080"/>
                    <a:ext cx="488880" cy="2188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36" name=""/>
                  <p:cNvGrpSpPr/>
                  <p:nvPr/>
                </p:nvGrpSpPr>
                <p:grpSpPr>
                  <a:xfrm>
                    <a:off x="2446200" y="2772000"/>
                    <a:ext cx="4083120" cy="204840"/>
                    <a:chOff x="2446200" y="2772000"/>
                    <a:chExt cx="4083120" cy="204840"/>
                  </a:xfrm>
                </p:grpSpPr>
                <p:sp>
                  <p:nvSpPr>
                    <p:cNvPr id="3437" name=""/>
                    <p:cNvSpPr/>
                    <p:nvPr/>
                  </p:nvSpPr>
                  <p:spPr>
                    <a:xfrm>
                      <a:off x="6383160" y="2772000"/>
                      <a:ext cx="146160" cy="19836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8" name=""/>
                    <p:cNvSpPr/>
                    <p:nvPr/>
                  </p:nvSpPr>
                  <p:spPr>
                    <a:xfrm>
                      <a:off x="2532240" y="2773440"/>
                      <a:ext cx="3921120" cy="193680"/>
                    </a:xfrm>
                    <a:prstGeom prst="rect">
                      <a:avLst/>
                    </a:prstGeom>
                    <a:solidFill>
                      <a:srgbClr val="eea56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9" name=""/>
                    <p:cNvSpPr/>
                    <p:nvPr/>
                  </p:nvSpPr>
                  <p:spPr>
                    <a:xfrm>
                      <a:off x="2446200" y="2778120"/>
                      <a:ext cx="146160" cy="19872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440" name=""/>
              <p:cNvGrpSpPr/>
              <p:nvPr/>
            </p:nvGrpSpPr>
            <p:grpSpPr>
              <a:xfrm>
                <a:off x="2593800" y="2681280"/>
                <a:ext cx="3773520" cy="382680"/>
                <a:chOff x="2593800" y="2681280"/>
                <a:chExt cx="3773520" cy="382680"/>
              </a:xfrm>
            </p:grpSpPr>
            <p:sp>
              <p:nvSpPr>
                <p:cNvPr id="3441" name=""/>
                <p:cNvSpPr/>
                <p:nvPr/>
              </p:nvSpPr>
              <p:spPr>
                <a:xfrm>
                  <a:off x="2670120" y="2681280"/>
                  <a:ext cx="3614760" cy="37800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2593800" y="2685960"/>
                  <a:ext cx="76320" cy="37620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6221520" y="2683080"/>
                  <a:ext cx="145800" cy="38088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4" name=""/>
            <p:cNvGrpSpPr/>
            <p:nvPr/>
          </p:nvGrpSpPr>
          <p:grpSpPr>
            <a:xfrm>
              <a:off x="2565360" y="2676600"/>
              <a:ext cx="4081680" cy="382680"/>
              <a:chOff x="2565360" y="2676600"/>
              <a:chExt cx="4081680" cy="382680"/>
            </a:xfrm>
          </p:grpSpPr>
          <p:sp>
            <p:nvSpPr>
              <p:cNvPr id="3445" name=""/>
              <p:cNvSpPr/>
              <p:nvPr/>
            </p:nvSpPr>
            <p:spPr>
              <a:xfrm>
                <a:off x="2565360" y="2887920"/>
                <a:ext cx="4081680" cy="0"/>
              </a:xfrm>
              <a:prstGeom prst="line">
                <a:avLst/>
              </a:prstGeom>
              <a:ln w="572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46" name=""/>
              <p:cNvGrpSpPr/>
              <p:nvPr/>
            </p:nvGrpSpPr>
            <p:grpSpPr>
              <a:xfrm>
                <a:off x="2589120" y="2676600"/>
                <a:ext cx="3773520" cy="382680"/>
                <a:chOff x="2589120" y="2676600"/>
                <a:chExt cx="3773520" cy="382680"/>
              </a:xfrm>
            </p:grpSpPr>
            <p:sp>
              <p:nvSpPr>
                <p:cNvPr id="3447" name=""/>
                <p:cNvSpPr/>
                <p:nvPr/>
              </p:nvSpPr>
              <p:spPr>
                <a:xfrm>
                  <a:off x="2665440" y="2676600"/>
                  <a:ext cx="3614760" cy="37800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2589120" y="2681280"/>
                  <a:ext cx="76320" cy="37620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6216840" y="2678400"/>
                  <a:ext cx="145800" cy="38088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0" name=""/>
            <p:cNvSpPr/>
            <p:nvPr/>
          </p:nvSpPr>
          <p:spPr>
            <a:xfrm>
              <a:off x="1947960" y="2890800"/>
              <a:ext cx="6379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51" name=""/>
            <p:cNvGrpSpPr/>
            <p:nvPr/>
          </p:nvGrpSpPr>
          <p:grpSpPr>
            <a:xfrm>
              <a:off x="770040" y="2266920"/>
              <a:ext cx="8099280" cy="1136160"/>
              <a:chOff x="770040" y="2266920"/>
              <a:chExt cx="8099280" cy="1136160"/>
            </a:xfrm>
          </p:grpSpPr>
          <p:grpSp>
            <p:nvGrpSpPr>
              <p:cNvPr id="3452" name=""/>
              <p:cNvGrpSpPr/>
              <p:nvPr/>
            </p:nvGrpSpPr>
            <p:grpSpPr>
              <a:xfrm>
                <a:off x="8178840" y="2479680"/>
                <a:ext cx="690480" cy="750960"/>
                <a:chOff x="8178840" y="2479680"/>
                <a:chExt cx="690480" cy="750960"/>
              </a:xfrm>
            </p:grpSpPr>
            <p:sp>
              <p:nvSpPr>
                <p:cNvPr id="3453" name=""/>
                <p:cNvSpPr/>
                <p:nvPr/>
              </p:nvSpPr>
              <p:spPr>
                <a:xfrm>
                  <a:off x="8418600" y="2503440"/>
                  <a:ext cx="299880" cy="7272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8435880" y="2886120"/>
                  <a:ext cx="266760" cy="30960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8435880" y="263700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8178840" y="2481480"/>
                  <a:ext cx="539640" cy="2988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8178840" y="248148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8391600" y="2506680"/>
                  <a:ext cx="28440" cy="72396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8435880" y="2635200"/>
                  <a:ext cx="266760" cy="21780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8435880" y="259560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8435880" y="253044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8178840" y="247968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8416800" y="2503440"/>
                  <a:ext cx="301680" cy="7272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8178840" y="248148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8391600" y="250848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8391600" y="25178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8391600" y="25704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8435880" y="253044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8391600" y="25862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8391600" y="26352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8391600" y="28339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8435880" y="264636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8701200" y="263700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8435880" y="263700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8688240" y="2828880"/>
                  <a:ext cx="1296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 flipH="1">
                  <a:off x="8435520" y="270216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 flipH="1">
                  <a:off x="8435520" y="276876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8391600" y="28861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8391600" y="3165480"/>
                  <a:ext cx="326880" cy="33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8435880" y="290196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8701200" y="2886120"/>
                  <a:ext cx="0" cy="28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8435880" y="31464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8435880" y="31338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8435880" y="312264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8435880" y="3110040"/>
                  <a:ext cx="266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8435880" y="3095640"/>
                  <a:ext cx="266760" cy="3024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8435880" y="2532240"/>
                  <a:ext cx="254160" cy="33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8688240" y="255600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8497800" y="259560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8435880" y="2595600"/>
                  <a:ext cx="266760" cy="3816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8435880" y="261324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 flipH="1">
                  <a:off x="8639280" y="261648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8639280" y="25956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8448840" y="254808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848520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852156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855972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>
                  <a:off x="8597880" y="2544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>
                  <a:off x="8632800" y="2541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8670960" y="2541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8675640" y="263700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8717040" y="3127320"/>
                  <a:ext cx="152280" cy="7164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3" name=""/>
              <p:cNvGrpSpPr/>
              <p:nvPr/>
            </p:nvGrpSpPr>
            <p:grpSpPr>
              <a:xfrm>
                <a:off x="6580080" y="2529000"/>
                <a:ext cx="690480" cy="750960"/>
                <a:chOff x="6580080" y="2529000"/>
                <a:chExt cx="690480" cy="750960"/>
              </a:xfrm>
            </p:grpSpPr>
            <p:sp>
              <p:nvSpPr>
                <p:cNvPr id="3504" name=""/>
                <p:cNvSpPr/>
                <p:nvPr/>
              </p:nvSpPr>
              <p:spPr>
                <a:xfrm>
                  <a:off x="6819840" y="2552760"/>
                  <a:ext cx="299880" cy="7272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6837120" y="2935440"/>
                  <a:ext cx="266760" cy="30960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6837120" y="268632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6580080" y="2530800"/>
                  <a:ext cx="539640" cy="2988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6580080" y="253080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>
                  <a:off x="6792840" y="2556000"/>
                  <a:ext cx="28440" cy="72396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>
                  <a:off x="6837120" y="2684520"/>
                  <a:ext cx="266760" cy="21780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6837120" y="264492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6837120" y="257976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6580080" y="252900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>
                  <a:off x="6818040" y="2552760"/>
                  <a:ext cx="301680" cy="7272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>
                  <a:off x="6580080" y="253080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6792840" y="255780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6792840" y="25671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6792840" y="26197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6837120" y="257976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6792840" y="26355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6792840" y="26845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6792840" y="28832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6837120" y="269568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7102440" y="268632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6837120" y="268632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7089480" y="2878200"/>
                  <a:ext cx="1296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 flipH="1">
                  <a:off x="6836760" y="275148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 flipH="1">
                  <a:off x="6836760" y="281808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6792840" y="29354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6792840" y="3214800"/>
                  <a:ext cx="326880" cy="33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6837120" y="295128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7102440" y="2935440"/>
                  <a:ext cx="0" cy="28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6837120" y="31957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6837120" y="31831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6837120" y="317196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6837120" y="3159360"/>
                  <a:ext cx="266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6837120" y="3144960"/>
                  <a:ext cx="266760" cy="3024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6837120" y="2581560"/>
                  <a:ext cx="254160" cy="33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7089480" y="260532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6899040" y="26449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6837120" y="2644920"/>
                  <a:ext cx="266760" cy="3816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6837120" y="266256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 flipH="1">
                  <a:off x="7040520" y="266580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7040520" y="26449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6850080" y="259740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688644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692280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696096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6999120" y="2594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7034040" y="2590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7072200" y="2590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7076880" y="268632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7118280" y="3176640"/>
                  <a:ext cx="152280" cy="7164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5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040" y="2266920"/>
                <a:ext cx="1427040" cy="1059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55" name=""/>
              <p:cNvGrpSpPr/>
              <p:nvPr/>
            </p:nvGrpSpPr>
            <p:grpSpPr>
              <a:xfrm>
                <a:off x="3925440" y="2318040"/>
                <a:ext cx="1586160" cy="1085040"/>
                <a:chOff x="3925440" y="2318040"/>
                <a:chExt cx="1586160" cy="1085040"/>
              </a:xfrm>
            </p:grpSpPr>
            <p:grpSp>
              <p:nvGrpSpPr>
                <p:cNvPr id="3556" name=""/>
                <p:cNvGrpSpPr/>
                <p:nvPr/>
              </p:nvGrpSpPr>
              <p:grpSpPr>
                <a:xfrm>
                  <a:off x="3925440" y="2318040"/>
                  <a:ext cx="1586160" cy="1085040"/>
                  <a:chOff x="3925440" y="2318040"/>
                  <a:chExt cx="1586160" cy="1085040"/>
                </a:xfrm>
              </p:grpSpPr>
              <p:sp>
                <p:nvSpPr>
                  <p:cNvPr id="3557" name=""/>
                  <p:cNvSpPr/>
                  <p:nvPr/>
                </p:nvSpPr>
                <p:spPr>
                  <a:xfrm rot="20700000">
                    <a:off x="4635000" y="3137400"/>
                    <a:ext cx="245880" cy="2170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 rot="20700000">
                    <a:off x="4441680" y="2346120"/>
                    <a:ext cx="248040" cy="2174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 rot="20700000">
                    <a:off x="4110480" y="2497680"/>
                    <a:ext cx="150120" cy="1335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 rot="20700000">
                    <a:off x="4138200" y="3026160"/>
                    <a:ext cx="149400" cy="127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 rot="20700000">
                    <a:off x="4001760" y="2833560"/>
                    <a:ext cx="246240" cy="2109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 rot="20700000">
                    <a:off x="4251240" y="2401200"/>
                    <a:ext cx="247680" cy="2156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 rot="20700000">
                    <a:off x="5238000" y="2913120"/>
                    <a:ext cx="249480" cy="2163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 rot="20700000">
                    <a:off x="5058360" y="3009600"/>
                    <a:ext cx="249480" cy="220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65" name=""/>
                  <p:cNvGrpSpPr/>
                  <p:nvPr/>
                </p:nvGrpSpPr>
                <p:grpSpPr>
                  <a:xfrm>
                    <a:off x="3925440" y="2320560"/>
                    <a:ext cx="1562760" cy="1082520"/>
                    <a:chOff x="3925440" y="2320560"/>
                    <a:chExt cx="1562760" cy="1082520"/>
                  </a:xfrm>
                </p:grpSpPr>
                <p:sp>
                  <p:nvSpPr>
                    <p:cNvPr id="3566" name=""/>
                    <p:cNvSpPr/>
                    <p:nvPr/>
                  </p:nvSpPr>
                  <p:spPr>
                    <a:xfrm rot="20700000">
                      <a:off x="3968640" y="2589840"/>
                      <a:ext cx="443880" cy="3927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67" name=""/>
                    <p:cNvGrpSpPr/>
                    <p:nvPr/>
                  </p:nvGrpSpPr>
                  <p:grpSpPr>
                    <a:xfrm>
                      <a:off x="4083480" y="2478960"/>
                      <a:ext cx="994680" cy="924120"/>
                      <a:chOff x="4083480" y="2478960"/>
                      <a:chExt cx="994680" cy="924120"/>
                    </a:xfrm>
                  </p:grpSpPr>
                  <p:sp>
                    <p:nvSpPr>
                      <p:cNvPr id="3568" name=""/>
                      <p:cNvSpPr/>
                      <p:nvPr/>
                    </p:nvSpPr>
                    <p:spPr>
                      <a:xfrm rot="20700000">
                        <a:off x="4164120" y="2574000"/>
                        <a:ext cx="833400" cy="7333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9" name=""/>
                      <p:cNvSpPr/>
                      <p:nvPr/>
                    </p:nvSpPr>
                    <p:spPr>
                      <a:xfrm>
                        <a:off x="4129560" y="2754360"/>
                        <a:ext cx="128880" cy="20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70" name=""/>
                    <p:cNvSpPr/>
                    <p:nvPr/>
                  </p:nvSpPr>
                  <p:spPr>
                    <a:xfrm rot="20700000">
                      <a:off x="4469040" y="2570040"/>
                      <a:ext cx="834120" cy="7336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1" name=""/>
                    <p:cNvSpPr/>
                    <p:nvPr/>
                  </p:nvSpPr>
                  <p:spPr>
                    <a:xfrm rot="20700000">
                      <a:off x="5160600" y="2570400"/>
                      <a:ext cx="298440" cy="262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2" name=""/>
                    <p:cNvSpPr/>
                    <p:nvPr/>
                  </p:nvSpPr>
                  <p:spPr>
                    <a:xfrm rot="20700000">
                      <a:off x="5152320" y="2988360"/>
                      <a:ext cx="198000" cy="1771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3" name=""/>
                    <p:cNvSpPr/>
                    <p:nvPr/>
                  </p:nvSpPr>
                  <p:spPr>
                    <a:xfrm rot="20700000">
                      <a:off x="5041080" y="2532600"/>
                      <a:ext cx="198360" cy="170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4" name=""/>
                    <p:cNvSpPr/>
                    <p:nvPr/>
                  </p:nvSpPr>
                  <p:spPr>
                    <a:xfrm rot="20700000">
                      <a:off x="5155200" y="2754000"/>
                      <a:ext cx="299880" cy="259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5" name=""/>
                    <p:cNvSpPr/>
                    <p:nvPr/>
                  </p:nvSpPr>
                  <p:spPr>
                    <a:xfrm rot="20700000">
                      <a:off x="4185000" y="243828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6" name=""/>
                    <p:cNvSpPr/>
                    <p:nvPr/>
                  </p:nvSpPr>
                  <p:spPr>
                    <a:xfrm rot="20700000">
                      <a:off x="4630680" y="239688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7" name=""/>
                    <p:cNvSpPr/>
                    <p:nvPr/>
                  </p:nvSpPr>
                  <p:spPr>
                    <a:xfrm rot="20700000">
                      <a:off x="4419720" y="2371320"/>
                      <a:ext cx="44568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8" name=""/>
                    <p:cNvSpPr/>
                    <p:nvPr/>
                  </p:nvSpPr>
                  <p:spPr>
                    <a:xfrm rot="20700000">
                      <a:off x="4390920" y="2868120"/>
                      <a:ext cx="442080" cy="3906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9" name=""/>
                    <p:cNvSpPr/>
                    <p:nvPr/>
                  </p:nvSpPr>
                  <p:spPr>
                    <a:xfrm>
                      <a:off x="4237560" y="2446920"/>
                      <a:ext cx="1106640" cy="79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80" name=""/>
                <p:cNvSpPr/>
                <p:nvPr/>
              </p:nvSpPr>
              <p:spPr>
                <a:xfrm>
                  <a:off x="4091760" y="2595600"/>
                  <a:ext cx="129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81" name=""/>
          <p:cNvGrpSpPr/>
          <p:nvPr/>
        </p:nvGrpSpPr>
        <p:grpSpPr>
          <a:xfrm>
            <a:off x="6580080" y="3616200"/>
            <a:ext cx="690480" cy="750960"/>
            <a:chOff x="6580080" y="3616200"/>
            <a:chExt cx="690480" cy="750960"/>
          </a:xfrm>
        </p:grpSpPr>
        <p:sp>
          <p:nvSpPr>
            <p:cNvPr id="3582" name=""/>
            <p:cNvSpPr/>
            <p:nvPr/>
          </p:nvSpPr>
          <p:spPr>
            <a:xfrm>
              <a:off x="6819840" y="363996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837120" y="402264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837120" y="377352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580080" y="361800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580080" y="361800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92840" y="364320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837120" y="377172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837120" y="373212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837120" y="366696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0080" y="361620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818040" y="363996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580080" y="361800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92840" y="36450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92840" y="36543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92840" y="37069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837120" y="366696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92840" y="37227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92840" y="37717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92840" y="3970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837120" y="378288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102440" y="37735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837120" y="377352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7089480" y="396540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 flipH="1">
              <a:off x="6836760" y="383868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836760" y="390528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92840" y="4022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92840" y="430200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837120" y="40384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102440" y="402264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837120" y="428292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837120" y="427032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37120" y="425916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37120" y="424656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7120" y="423216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7120" y="366876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089480" y="36925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99040" y="373212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37120" y="373212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37120" y="374976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H="1">
              <a:off x="7040520" y="375300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40520" y="37321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50080" y="36846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6440" y="36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922800" y="36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960960" y="36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999120" y="36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034040" y="36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72200" y="36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076880" y="377352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118280" y="426384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2" name=""/>
          <p:cNvGrpSpPr/>
          <p:nvPr/>
        </p:nvGrpSpPr>
        <p:grpSpPr>
          <a:xfrm>
            <a:off x="6595920" y="4667400"/>
            <a:ext cx="690480" cy="750240"/>
            <a:chOff x="6595920" y="4667400"/>
            <a:chExt cx="690480" cy="750240"/>
          </a:xfrm>
        </p:grpSpPr>
        <p:sp>
          <p:nvSpPr>
            <p:cNvPr id="3633" name=""/>
            <p:cNvSpPr/>
            <p:nvPr/>
          </p:nvSpPr>
          <p:spPr>
            <a:xfrm>
              <a:off x="6835680" y="469080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852960" y="507348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852960" y="4824360"/>
              <a:ext cx="254160" cy="20772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95920" y="4668840"/>
              <a:ext cx="539640" cy="2952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595920" y="4668840"/>
              <a:ext cx="241200" cy="74880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808680" y="469404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852960" y="482256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852960" y="4782960"/>
              <a:ext cx="266760" cy="424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852960" y="471780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595920" y="4667400"/>
              <a:ext cx="539640" cy="3132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833880" y="469080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595920" y="4668840"/>
              <a:ext cx="239760" cy="74880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808680" y="4695840"/>
              <a:ext cx="0" cy="7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808680" y="470520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808680" y="47577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852960" y="471780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808680" y="477360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808680" y="48225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808680" y="502128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852960" y="483372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118280" y="482436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852960" y="4824360"/>
              <a:ext cx="254160" cy="20592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105320" y="501624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6852600" y="4889520"/>
              <a:ext cx="25236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6852600" y="4956120"/>
              <a:ext cx="2523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808680" y="507348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808680" y="535284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852960" y="5089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7118280" y="507348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852960" y="533376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852960" y="532116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852960" y="5310000"/>
              <a:ext cx="266760" cy="3132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852960" y="5297400"/>
              <a:ext cx="266760" cy="280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852960" y="528300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852960" y="4719600"/>
              <a:ext cx="254160" cy="3276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105320" y="4743360"/>
              <a:ext cx="12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914880" y="4782960"/>
              <a:ext cx="142920" cy="4248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852960" y="478296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852960" y="4800600"/>
              <a:ext cx="204840" cy="266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H="1">
              <a:off x="7056360" y="4803840"/>
              <a:ext cx="619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056360" y="478296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865920" y="4735440"/>
              <a:ext cx="2664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902280" y="473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938640" y="473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976800" y="473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4960" y="47322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9880" y="47289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88040" y="47289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092720" y="4824360"/>
              <a:ext cx="27000" cy="19332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134120" y="531468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3" name=""/>
          <p:cNvSpPr/>
          <p:nvPr/>
        </p:nvSpPr>
        <p:spPr>
          <a:xfrm>
            <a:off x="6450120" y="2903400"/>
            <a:ext cx="203040" cy="107496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6450120" y="3940200"/>
            <a:ext cx="203040" cy="107460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6546960" y="2558880"/>
            <a:ext cx="790560" cy="720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6425640" y="1940040"/>
            <a:ext cx="924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3881520" y="3946680"/>
            <a:ext cx="104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ö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í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8" name=""/>
          <p:cNvGrpSpPr/>
          <p:nvPr/>
        </p:nvGrpSpPr>
        <p:grpSpPr>
          <a:xfrm>
            <a:off x="5388120" y="3322440"/>
            <a:ext cx="898560" cy="1530720"/>
            <a:chOff x="5388120" y="3322440"/>
            <a:chExt cx="898560" cy="1530720"/>
          </a:xfrm>
        </p:grpSpPr>
        <p:sp>
          <p:nvSpPr>
            <p:cNvPr id="3689" name=""/>
            <p:cNvSpPr/>
            <p:nvPr/>
          </p:nvSpPr>
          <p:spPr>
            <a:xfrm flipV="1">
              <a:off x="5388120" y="3322440"/>
              <a:ext cx="898560" cy="8701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flipV="1">
              <a:off x="5391000" y="4019760"/>
              <a:ext cx="789120" cy="3254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392800" y="4484880"/>
              <a:ext cx="788760" cy="3682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2" name=""/>
          <p:cNvSpPr/>
          <p:nvPr/>
        </p:nvSpPr>
        <p:spPr>
          <a:xfrm>
            <a:off x="6427440" y="5807160"/>
            <a:ext cx="25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én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ím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ximum 32 gé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7394040" y="3855960"/>
            <a:ext cx="1249560" cy="1930320"/>
            <a:chOff x="7394040" y="3855960"/>
            <a:chExt cx="1249560" cy="1930320"/>
          </a:xfrm>
        </p:grpSpPr>
        <p:sp>
          <p:nvSpPr>
            <p:cNvPr id="3694" name=""/>
            <p:cNvSpPr/>
            <p:nvPr/>
          </p:nvSpPr>
          <p:spPr>
            <a:xfrm flipH="1" flipV="1">
              <a:off x="7773480" y="3855960"/>
              <a:ext cx="870120" cy="1930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flipH="1" flipV="1">
              <a:off x="7706880" y="4630680"/>
              <a:ext cx="762120" cy="11556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flipH="1" flipV="1">
              <a:off x="7394040" y="5309640"/>
              <a:ext cx="776520" cy="4762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"/>
          <p:cNvSpPr/>
          <p:nvPr/>
        </p:nvSpPr>
        <p:spPr>
          <a:xfrm flipH="1">
            <a:off x="7104240" y="2903400"/>
            <a:ext cx="475920" cy="107496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 flipH="1">
            <a:off x="7022520" y="3940200"/>
            <a:ext cx="556920" cy="107460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300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ndelkezésre állás</a:t>
            </a:r>
            <a:br>
              <a:rPr sz="4800"/>
            </a:br>
            <a:r>
              <a:rPr b="1" lang="hu-HU" sz="4000" spc="-1" strike="noStrike">
                <a:solidFill>
                  <a:srgbClr val="eea564"/>
                </a:solidFill>
                <a:latin typeface="Arial"/>
              </a:rPr>
              <a:t>DNS Round Robin + NLBS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700" name=""/>
          <p:cNvGrpSpPr/>
          <p:nvPr/>
        </p:nvGrpSpPr>
        <p:grpSpPr>
          <a:xfrm>
            <a:off x="770040" y="2266920"/>
            <a:ext cx="8099280" cy="1136160"/>
            <a:chOff x="770040" y="2266920"/>
            <a:chExt cx="8099280" cy="1136160"/>
          </a:xfrm>
        </p:grpSpPr>
        <p:grpSp>
          <p:nvGrpSpPr>
            <p:cNvPr id="3701" name=""/>
            <p:cNvGrpSpPr/>
            <p:nvPr/>
          </p:nvGrpSpPr>
          <p:grpSpPr>
            <a:xfrm>
              <a:off x="1986120" y="2673360"/>
              <a:ext cx="4633920" cy="390600"/>
              <a:chOff x="1986120" y="2673360"/>
              <a:chExt cx="4633920" cy="390600"/>
            </a:xfrm>
          </p:grpSpPr>
          <p:sp>
            <p:nvSpPr>
              <p:cNvPr id="3702" name=""/>
              <p:cNvSpPr/>
              <p:nvPr/>
            </p:nvSpPr>
            <p:spPr>
              <a:xfrm>
                <a:off x="6305400" y="2678400"/>
                <a:ext cx="314640" cy="3711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03" name=""/>
              <p:cNvGrpSpPr/>
              <p:nvPr/>
            </p:nvGrpSpPr>
            <p:grpSpPr>
              <a:xfrm>
                <a:off x="1986120" y="2673360"/>
                <a:ext cx="4389120" cy="390600"/>
                <a:chOff x="1986120" y="2673360"/>
                <a:chExt cx="4389120" cy="390600"/>
              </a:xfrm>
            </p:grpSpPr>
            <p:sp>
              <p:nvSpPr>
                <p:cNvPr id="3704" name=""/>
                <p:cNvSpPr/>
                <p:nvPr/>
              </p:nvSpPr>
              <p:spPr>
                <a:xfrm>
                  <a:off x="1986120" y="2683080"/>
                  <a:ext cx="680760" cy="366480"/>
                </a:xfrm>
                <a:prstGeom prst="rect">
                  <a:avLst/>
                </a:pr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5" name=""/>
                <p:cNvGrpSpPr/>
                <p:nvPr/>
              </p:nvGrpSpPr>
              <p:grpSpPr>
                <a:xfrm>
                  <a:off x="2519280" y="2673360"/>
                  <a:ext cx="3855960" cy="390600"/>
                  <a:chOff x="2519280" y="2673360"/>
                  <a:chExt cx="3855960" cy="390600"/>
                </a:xfrm>
              </p:grpSpPr>
              <p:sp>
                <p:nvSpPr>
                  <p:cNvPr id="3706" name=""/>
                  <p:cNvSpPr/>
                  <p:nvPr/>
                </p:nvSpPr>
                <p:spPr>
                  <a:xfrm>
                    <a:off x="6229440" y="2673360"/>
                    <a:ext cx="145800" cy="3812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7" name=""/>
                  <p:cNvSpPr/>
                  <p:nvPr/>
                </p:nvSpPr>
                <p:spPr>
                  <a:xfrm>
                    <a:off x="2604960" y="2683080"/>
                    <a:ext cx="3683160" cy="3776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8" name=""/>
                  <p:cNvSpPr/>
                  <p:nvPr/>
                </p:nvSpPr>
                <p:spPr>
                  <a:xfrm>
                    <a:off x="2519280" y="2683080"/>
                    <a:ext cx="146160" cy="3808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709" name=""/>
            <p:cNvSpPr/>
            <p:nvPr/>
          </p:nvSpPr>
          <p:spPr>
            <a:xfrm>
              <a:off x="6721560" y="2887920"/>
              <a:ext cx="16333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10" name=""/>
            <p:cNvGrpSpPr/>
            <p:nvPr/>
          </p:nvGrpSpPr>
          <p:grpSpPr>
            <a:xfrm>
              <a:off x="2068560" y="2681280"/>
              <a:ext cx="4622760" cy="382680"/>
              <a:chOff x="2068560" y="2681280"/>
              <a:chExt cx="4622760" cy="382680"/>
            </a:xfrm>
          </p:grpSpPr>
          <p:grpSp>
            <p:nvGrpSpPr>
              <p:cNvPr id="3711" name=""/>
              <p:cNvGrpSpPr/>
              <p:nvPr/>
            </p:nvGrpSpPr>
            <p:grpSpPr>
              <a:xfrm>
                <a:off x="2068560" y="2764080"/>
                <a:ext cx="4622760" cy="218880"/>
                <a:chOff x="2068560" y="2764080"/>
                <a:chExt cx="4622760" cy="218880"/>
              </a:xfrm>
            </p:grpSpPr>
            <p:sp>
              <p:nvSpPr>
                <p:cNvPr id="3712" name=""/>
                <p:cNvSpPr/>
                <p:nvPr/>
              </p:nvSpPr>
              <p:spPr>
                <a:xfrm>
                  <a:off x="6443640" y="2773440"/>
                  <a:ext cx="247680" cy="1954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3" name=""/>
                <p:cNvGrpSpPr/>
                <p:nvPr/>
              </p:nvGrpSpPr>
              <p:grpSpPr>
                <a:xfrm>
                  <a:off x="2068560" y="2764080"/>
                  <a:ext cx="4460760" cy="218880"/>
                  <a:chOff x="2068560" y="2764080"/>
                  <a:chExt cx="4460760" cy="218880"/>
                </a:xfrm>
              </p:grpSpPr>
              <p:sp>
                <p:nvSpPr>
                  <p:cNvPr id="3714" name=""/>
                  <p:cNvSpPr/>
                  <p:nvPr/>
                </p:nvSpPr>
                <p:spPr>
                  <a:xfrm>
                    <a:off x="2068560" y="2764080"/>
                    <a:ext cx="488880" cy="2188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15" name=""/>
                  <p:cNvGrpSpPr/>
                  <p:nvPr/>
                </p:nvGrpSpPr>
                <p:grpSpPr>
                  <a:xfrm>
                    <a:off x="2446200" y="2772000"/>
                    <a:ext cx="4083120" cy="204840"/>
                    <a:chOff x="2446200" y="2772000"/>
                    <a:chExt cx="4083120" cy="204840"/>
                  </a:xfrm>
                </p:grpSpPr>
                <p:sp>
                  <p:nvSpPr>
                    <p:cNvPr id="3716" name=""/>
                    <p:cNvSpPr/>
                    <p:nvPr/>
                  </p:nvSpPr>
                  <p:spPr>
                    <a:xfrm>
                      <a:off x="6383160" y="2772000"/>
                      <a:ext cx="146160" cy="19836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7" name=""/>
                    <p:cNvSpPr/>
                    <p:nvPr/>
                  </p:nvSpPr>
                  <p:spPr>
                    <a:xfrm>
                      <a:off x="2532240" y="2773440"/>
                      <a:ext cx="3921120" cy="193680"/>
                    </a:xfrm>
                    <a:prstGeom prst="rect">
                      <a:avLst/>
                    </a:prstGeom>
                    <a:solidFill>
                      <a:srgbClr val="eea56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8" name=""/>
                    <p:cNvSpPr/>
                    <p:nvPr/>
                  </p:nvSpPr>
                  <p:spPr>
                    <a:xfrm>
                      <a:off x="2446200" y="2778120"/>
                      <a:ext cx="146160" cy="19872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19" name=""/>
              <p:cNvGrpSpPr/>
              <p:nvPr/>
            </p:nvGrpSpPr>
            <p:grpSpPr>
              <a:xfrm>
                <a:off x="2593800" y="2681280"/>
                <a:ext cx="3773520" cy="382680"/>
                <a:chOff x="2593800" y="2681280"/>
                <a:chExt cx="3773520" cy="382680"/>
              </a:xfrm>
            </p:grpSpPr>
            <p:sp>
              <p:nvSpPr>
                <p:cNvPr id="3720" name=""/>
                <p:cNvSpPr/>
                <p:nvPr/>
              </p:nvSpPr>
              <p:spPr>
                <a:xfrm>
                  <a:off x="2670120" y="2681280"/>
                  <a:ext cx="3614760" cy="37800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2593800" y="2685960"/>
                  <a:ext cx="76320" cy="37620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6221520" y="2683080"/>
                  <a:ext cx="145800" cy="38088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3" name=""/>
            <p:cNvGrpSpPr/>
            <p:nvPr/>
          </p:nvGrpSpPr>
          <p:grpSpPr>
            <a:xfrm>
              <a:off x="2565360" y="2676600"/>
              <a:ext cx="4081680" cy="382680"/>
              <a:chOff x="2565360" y="2676600"/>
              <a:chExt cx="4081680" cy="382680"/>
            </a:xfrm>
          </p:grpSpPr>
          <p:sp>
            <p:nvSpPr>
              <p:cNvPr id="3724" name=""/>
              <p:cNvSpPr/>
              <p:nvPr/>
            </p:nvSpPr>
            <p:spPr>
              <a:xfrm>
                <a:off x="2565360" y="2887920"/>
                <a:ext cx="4081680" cy="0"/>
              </a:xfrm>
              <a:prstGeom prst="line">
                <a:avLst/>
              </a:prstGeom>
              <a:ln w="572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5" name=""/>
              <p:cNvGrpSpPr/>
              <p:nvPr/>
            </p:nvGrpSpPr>
            <p:grpSpPr>
              <a:xfrm>
                <a:off x="2589120" y="2676600"/>
                <a:ext cx="3773520" cy="382680"/>
                <a:chOff x="2589120" y="2676600"/>
                <a:chExt cx="3773520" cy="382680"/>
              </a:xfrm>
            </p:grpSpPr>
            <p:sp>
              <p:nvSpPr>
                <p:cNvPr id="3726" name=""/>
                <p:cNvSpPr/>
                <p:nvPr/>
              </p:nvSpPr>
              <p:spPr>
                <a:xfrm>
                  <a:off x="2665440" y="2676600"/>
                  <a:ext cx="3614760" cy="37800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2589120" y="2681280"/>
                  <a:ext cx="76320" cy="37620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6216840" y="2678400"/>
                  <a:ext cx="145800" cy="38088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29" name=""/>
            <p:cNvSpPr/>
            <p:nvPr/>
          </p:nvSpPr>
          <p:spPr>
            <a:xfrm>
              <a:off x="1947960" y="2890800"/>
              <a:ext cx="6379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770040" y="2266920"/>
              <a:ext cx="8099280" cy="1136160"/>
              <a:chOff x="770040" y="2266920"/>
              <a:chExt cx="8099280" cy="1136160"/>
            </a:xfrm>
          </p:grpSpPr>
          <p:grpSp>
            <p:nvGrpSpPr>
              <p:cNvPr id="3731" name=""/>
              <p:cNvGrpSpPr/>
              <p:nvPr/>
            </p:nvGrpSpPr>
            <p:grpSpPr>
              <a:xfrm>
                <a:off x="8178840" y="2479680"/>
                <a:ext cx="690480" cy="750960"/>
                <a:chOff x="8178840" y="2479680"/>
                <a:chExt cx="690480" cy="750960"/>
              </a:xfrm>
            </p:grpSpPr>
            <p:sp>
              <p:nvSpPr>
                <p:cNvPr id="3732" name=""/>
                <p:cNvSpPr/>
                <p:nvPr/>
              </p:nvSpPr>
              <p:spPr>
                <a:xfrm>
                  <a:off x="8418600" y="2503440"/>
                  <a:ext cx="299880" cy="7272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8435880" y="2886120"/>
                  <a:ext cx="266760" cy="30960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8435880" y="263700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8178840" y="2481480"/>
                  <a:ext cx="539640" cy="2988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8178840" y="248148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8391600" y="2506680"/>
                  <a:ext cx="28440" cy="72396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8435880" y="2635200"/>
                  <a:ext cx="266760" cy="21780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8435880" y="259560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8435880" y="253044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8178840" y="247968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8416800" y="2503440"/>
                  <a:ext cx="301680" cy="7272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8178840" y="248148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8391600" y="250848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8391600" y="25178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8391600" y="25704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8435880" y="253044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8391600" y="25862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8391600" y="26352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8391600" y="28339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8435880" y="264636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8701200" y="263700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8435880" y="263700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8688240" y="2828880"/>
                  <a:ext cx="1296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 flipH="1">
                  <a:off x="8435520" y="270216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 flipH="1">
                  <a:off x="8435520" y="276876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8391600" y="28861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8391600" y="3165480"/>
                  <a:ext cx="326880" cy="33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>
                  <a:off x="8435880" y="290196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>
                  <a:off x="8701200" y="2886120"/>
                  <a:ext cx="0" cy="28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8435880" y="31464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8435880" y="31338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8435880" y="312264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8435880" y="3110040"/>
                  <a:ext cx="266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8435880" y="3095640"/>
                  <a:ext cx="266760" cy="3024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8435880" y="2532240"/>
                  <a:ext cx="254160" cy="33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8688240" y="255600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8497800" y="259560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8435880" y="2595600"/>
                  <a:ext cx="266760" cy="3816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8435880" y="261324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 flipH="1">
                  <a:off x="8639280" y="261648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>
                  <a:off x="8639280" y="25956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8448840" y="254808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>
                  <a:off x="848520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>
                  <a:off x="852156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855972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8597880" y="2544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>
                  <a:off x="8632800" y="2541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8670960" y="2541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8675640" y="263700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"/>
                <p:cNvSpPr/>
                <p:nvPr/>
              </p:nvSpPr>
              <p:spPr>
                <a:xfrm>
                  <a:off x="8717040" y="3127320"/>
                  <a:ext cx="152280" cy="7164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2" name=""/>
              <p:cNvGrpSpPr/>
              <p:nvPr/>
            </p:nvGrpSpPr>
            <p:grpSpPr>
              <a:xfrm>
                <a:off x="6580080" y="2529000"/>
                <a:ext cx="690480" cy="750960"/>
                <a:chOff x="6580080" y="2529000"/>
                <a:chExt cx="690480" cy="750960"/>
              </a:xfrm>
            </p:grpSpPr>
            <p:sp>
              <p:nvSpPr>
                <p:cNvPr id="3783" name=""/>
                <p:cNvSpPr/>
                <p:nvPr/>
              </p:nvSpPr>
              <p:spPr>
                <a:xfrm>
                  <a:off x="6819840" y="2552760"/>
                  <a:ext cx="299880" cy="7272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"/>
                <p:cNvSpPr/>
                <p:nvPr/>
              </p:nvSpPr>
              <p:spPr>
                <a:xfrm>
                  <a:off x="6837120" y="2935440"/>
                  <a:ext cx="266760" cy="30960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>
                  <a:off x="6837120" y="268632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>
                  <a:off x="6580080" y="2530800"/>
                  <a:ext cx="539640" cy="2988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>
                  <a:off x="6580080" y="253080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6792840" y="2556000"/>
                  <a:ext cx="28440" cy="72396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6837120" y="2684520"/>
                  <a:ext cx="266760" cy="21780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6837120" y="264492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6837120" y="257976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6580080" y="252900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6818040" y="2552760"/>
                  <a:ext cx="301680" cy="7272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6580080" y="253080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6792840" y="255780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>
                  <a:off x="6792840" y="25671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6792840" y="26197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6837120" y="257976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>
                  <a:off x="6792840" y="26355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>
                  <a:off x="6792840" y="26845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"/>
                <p:cNvSpPr/>
                <p:nvPr/>
              </p:nvSpPr>
              <p:spPr>
                <a:xfrm>
                  <a:off x="6792840" y="28832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>
                  <a:off x="6837120" y="269568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>
                  <a:off x="7102440" y="268632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>
                  <a:off x="6837120" y="268632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>
                  <a:off x="7089480" y="2878200"/>
                  <a:ext cx="1296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 flipH="1">
                  <a:off x="6836760" y="275148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 flipH="1">
                  <a:off x="6836760" y="281808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>
                  <a:off x="6792840" y="29354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6792840" y="3214800"/>
                  <a:ext cx="326880" cy="33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>
                  <a:off x="6837120" y="295128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>
                  <a:off x="7102440" y="2935440"/>
                  <a:ext cx="0" cy="28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6837120" y="31957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>
                  <a:off x="6837120" y="31831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>
                  <a:off x="6837120" y="317196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6837120" y="3159360"/>
                  <a:ext cx="266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>
                  <a:off x="6837120" y="3144960"/>
                  <a:ext cx="266760" cy="3024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6837120" y="2581560"/>
                  <a:ext cx="254160" cy="33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7089480" y="260532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6899040" y="26449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6837120" y="2644920"/>
                  <a:ext cx="266760" cy="3816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6837120" y="266256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 flipH="1">
                  <a:off x="7040520" y="266580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>
                  <a:off x="7040520" y="26449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>
                  <a:off x="6850080" y="259740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>
                  <a:off x="688644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>
                  <a:off x="692280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>
                  <a:off x="696096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6999120" y="2594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7034040" y="2590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>
                  <a:off x="7072200" y="2590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7076880" y="268632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7118280" y="3176640"/>
                  <a:ext cx="152280" cy="7164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8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040" y="2266920"/>
                <a:ext cx="1427040" cy="1059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34" name=""/>
              <p:cNvGrpSpPr/>
              <p:nvPr/>
            </p:nvGrpSpPr>
            <p:grpSpPr>
              <a:xfrm>
                <a:off x="3925440" y="2318040"/>
                <a:ext cx="1586160" cy="1085040"/>
                <a:chOff x="3925440" y="2318040"/>
                <a:chExt cx="1586160" cy="1085040"/>
              </a:xfrm>
            </p:grpSpPr>
            <p:grpSp>
              <p:nvGrpSpPr>
                <p:cNvPr id="3835" name=""/>
                <p:cNvGrpSpPr/>
                <p:nvPr/>
              </p:nvGrpSpPr>
              <p:grpSpPr>
                <a:xfrm>
                  <a:off x="3925440" y="2318040"/>
                  <a:ext cx="1586160" cy="1085040"/>
                  <a:chOff x="3925440" y="2318040"/>
                  <a:chExt cx="1586160" cy="1085040"/>
                </a:xfrm>
              </p:grpSpPr>
              <p:sp>
                <p:nvSpPr>
                  <p:cNvPr id="3836" name=""/>
                  <p:cNvSpPr/>
                  <p:nvPr/>
                </p:nvSpPr>
                <p:spPr>
                  <a:xfrm rot="20700000">
                    <a:off x="4635000" y="3137400"/>
                    <a:ext cx="245880" cy="2170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 rot="20700000">
                    <a:off x="4441680" y="2346120"/>
                    <a:ext cx="248040" cy="2174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 rot="20700000">
                    <a:off x="4110480" y="2497680"/>
                    <a:ext cx="150120" cy="1335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 rot="20700000">
                    <a:off x="4138200" y="3026160"/>
                    <a:ext cx="149400" cy="127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0" name=""/>
                  <p:cNvSpPr/>
                  <p:nvPr/>
                </p:nvSpPr>
                <p:spPr>
                  <a:xfrm rot="20700000">
                    <a:off x="4001760" y="2833560"/>
                    <a:ext cx="246240" cy="2109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 rot="20700000">
                    <a:off x="4251240" y="2401200"/>
                    <a:ext cx="247680" cy="2156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 rot="20700000">
                    <a:off x="5238000" y="2913120"/>
                    <a:ext cx="249480" cy="2163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 rot="20700000">
                    <a:off x="5058360" y="3009600"/>
                    <a:ext cx="249480" cy="220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44" name=""/>
                  <p:cNvGrpSpPr/>
                  <p:nvPr/>
                </p:nvGrpSpPr>
                <p:grpSpPr>
                  <a:xfrm>
                    <a:off x="3925440" y="2320560"/>
                    <a:ext cx="1562760" cy="1082520"/>
                    <a:chOff x="3925440" y="2320560"/>
                    <a:chExt cx="1562760" cy="1082520"/>
                  </a:xfrm>
                </p:grpSpPr>
                <p:sp>
                  <p:nvSpPr>
                    <p:cNvPr id="3845" name=""/>
                    <p:cNvSpPr/>
                    <p:nvPr/>
                  </p:nvSpPr>
                  <p:spPr>
                    <a:xfrm rot="20700000">
                      <a:off x="3968640" y="2589840"/>
                      <a:ext cx="443880" cy="3927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46" name=""/>
                    <p:cNvGrpSpPr/>
                    <p:nvPr/>
                  </p:nvGrpSpPr>
                  <p:grpSpPr>
                    <a:xfrm>
                      <a:off x="4083480" y="2478960"/>
                      <a:ext cx="994680" cy="924120"/>
                      <a:chOff x="4083480" y="2478960"/>
                      <a:chExt cx="994680" cy="924120"/>
                    </a:xfrm>
                  </p:grpSpPr>
                  <p:sp>
                    <p:nvSpPr>
                      <p:cNvPr id="3847" name=""/>
                      <p:cNvSpPr/>
                      <p:nvPr/>
                    </p:nvSpPr>
                    <p:spPr>
                      <a:xfrm rot="20700000">
                        <a:off x="4164120" y="2574000"/>
                        <a:ext cx="833400" cy="7333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8" name=""/>
                      <p:cNvSpPr/>
                      <p:nvPr/>
                    </p:nvSpPr>
                    <p:spPr>
                      <a:xfrm>
                        <a:off x="4129560" y="2754360"/>
                        <a:ext cx="128880" cy="20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49" name=""/>
                    <p:cNvSpPr/>
                    <p:nvPr/>
                  </p:nvSpPr>
                  <p:spPr>
                    <a:xfrm rot="20700000">
                      <a:off x="4469040" y="2570040"/>
                      <a:ext cx="834120" cy="7336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0" name=""/>
                    <p:cNvSpPr/>
                    <p:nvPr/>
                  </p:nvSpPr>
                  <p:spPr>
                    <a:xfrm rot="20700000">
                      <a:off x="5160600" y="2570400"/>
                      <a:ext cx="298440" cy="262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1" name=""/>
                    <p:cNvSpPr/>
                    <p:nvPr/>
                  </p:nvSpPr>
                  <p:spPr>
                    <a:xfrm rot="20700000">
                      <a:off x="5152320" y="2988360"/>
                      <a:ext cx="198000" cy="1771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2" name=""/>
                    <p:cNvSpPr/>
                    <p:nvPr/>
                  </p:nvSpPr>
                  <p:spPr>
                    <a:xfrm rot="20700000">
                      <a:off x="5041080" y="2532600"/>
                      <a:ext cx="198360" cy="170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3" name=""/>
                    <p:cNvSpPr/>
                    <p:nvPr/>
                  </p:nvSpPr>
                  <p:spPr>
                    <a:xfrm rot="20700000">
                      <a:off x="5155200" y="2754000"/>
                      <a:ext cx="299880" cy="259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4" name=""/>
                    <p:cNvSpPr/>
                    <p:nvPr/>
                  </p:nvSpPr>
                  <p:spPr>
                    <a:xfrm rot="20700000">
                      <a:off x="4185000" y="243828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5" name=""/>
                    <p:cNvSpPr/>
                    <p:nvPr/>
                  </p:nvSpPr>
                  <p:spPr>
                    <a:xfrm rot="20700000">
                      <a:off x="4630680" y="239688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6" name=""/>
                    <p:cNvSpPr/>
                    <p:nvPr/>
                  </p:nvSpPr>
                  <p:spPr>
                    <a:xfrm rot="20700000">
                      <a:off x="4419720" y="2371320"/>
                      <a:ext cx="44568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7" name=""/>
                    <p:cNvSpPr/>
                    <p:nvPr/>
                  </p:nvSpPr>
                  <p:spPr>
                    <a:xfrm rot="20700000">
                      <a:off x="4390920" y="2868120"/>
                      <a:ext cx="442080" cy="3906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8" name=""/>
                    <p:cNvSpPr/>
                    <p:nvPr/>
                  </p:nvSpPr>
                  <p:spPr>
                    <a:xfrm>
                      <a:off x="4237560" y="2446920"/>
                      <a:ext cx="1106640" cy="79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59" name=""/>
                <p:cNvSpPr/>
                <p:nvPr/>
              </p:nvSpPr>
              <p:spPr>
                <a:xfrm>
                  <a:off x="4091760" y="2595600"/>
                  <a:ext cx="129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60" name=""/>
          <p:cNvSpPr/>
          <p:nvPr/>
        </p:nvSpPr>
        <p:spPr>
          <a:xfrm>
            <a:off x="6450120" y="2903400"/>
            <a:ext cx="203040" cy="107496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6450120" y="3940200"/>
            <a:ext cx="203040" cy="107460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6546960" y="2558880"/>
            <a:ext cx="790560" cy="720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6425640" y="1940040"/>
            <a:ext cx="924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3576960" y="380988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ös DNS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ím rekord,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NS 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5" name=""/>
          <p:cNvGrpSpPr/>
          <p:nvPr/>
        </p:nvGrpSpPr>
        <p:grpSpPr>
          <a:xfrm>
            <a:off x="5388120" y="3322440"/>
            <a:ext cx="898560" cy="1530720"/>
            <a:chOff x="5388120" y="3322440"/>
            <a:chExt cx="898560" cy="1530720"/>
          </a:xfrm>
        </p:grpSpPr>
        <p:sp>
          <p:nvSpPr>
            <p:cNvPr id="3866" name=""/>
            <p:cNvSpPr/>
            <p:nvPr/>
          </p:nvSpPr>
          <p:spPr>
            <a:xfrm flipV="1">
              <a:off x="5388120" y="3322440"/>
              <a:ext cx="898560" cy="8701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flipV="1">
              <a:off x="5391000" y="4019760"/>
              <a:ext cx="789120" cy="3254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392800" y="4484880"/>
              <a:ext cx="788760" cy="3682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9" name=""/>
          <p:cNvSpPr/>
          <p:nvPr/>
        </p:nvSpPr>
        <p:spPr>
          <a:xfrm>
            <a:off x="6427440" y="5807160"/>
            <a:ext cx="25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LBS fürtö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ximum 32 gé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0" name=""/>
          <p:cNvGrpSpPr/>
          <p:nvPr/>
        </p:nvGrpSpPr>
        <p:grpSpPr>
          <a:xfrm>
            <a:off x="7394040" y="3855960"/>
            <a:ext cx="1249560" cy="1930320"/>
            <a:chOff x="7394040" y="3855960"/>
            <a:chExt cx="1249560" cy="1930320"/>
          </a:xfrm>
        </p:grpSpPr>
        <p:sp>
          <p:nvSpPr>
            <p:cNvPr id="3871" name=""/>
            <p:cNvSpPr/>
            <p:nvPr/>
          </p:nvSpPr>
          <p:spPr>
            <a:xfrm flipH="1" flipV="1">
              <a:off x="7773480" y="3855960"/>
              <a:ext cx="870120" cy="1930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H="1" flipV="1">
              <a:off x="7706880" y="4630680"/>
              <a:ext cx="762120" cy="11556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H="1" flipV="1">
              <a:off x="7394040" y="5309640"/>
              <a:ext cx="776520" cy="4762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4" name=""/>
          <p:cNvGrpSpPr/>
          <p:nvPr/>
        </p:nvGrpSpPr>
        <p:grpSpPr>
          <a:xfrm>
            <a:off x="6580080" y="3616200"/>
            <a:ext cx="995400" cy="1055880"/>
            <a:chOff x="6580080" y="3616200"/>
            <a:chExt cx="995400" cy="1055880"/>
          </a:xfrm>
        </p:grpSpPr>
        <p:grpSp>
          <p:nvGrpSpPr>
            <p:cNvPr id="3875" name=""/>
            <p:cNvGrpSpPr/>
            <p:nvPr/>
          </p:nvGrpSpPr>
          <p:grpSpPr>
            <a:xfrm>
              <a:off x="6580080" y="3616200"/>
              <a:ext cx="690480" cy="750960"/>
              <a:chOff x="6580080" y="3616200"/>
              <a:chExt cx="690480" cy="750960"/>
            </a:xfrm>
          </p:grpSpPr>
          <p:sp>
            <p:nvSpPr>
              <p:cNvPr id="3876" name=""/>
              <p:cNvSpPr/>
              <p:nvPr/>
            </p:nvSpPr>
            <p:spPr>
              <a:xfrm>
                <a:off x="6819840" y="363996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837120" y="402264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6837120" y="377352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580080" y="361800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6580080" y="361800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792840" y="364320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6837120" y="377172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837120" y="373212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6837120" y="366696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6580080" y="361620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6818040" y="363996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580080" y="361800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792840" y="364500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6792840" y="36543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792840" y="37069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6837120" y="366696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792840" y="37227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6792840" y="37717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6792840" y="39704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837120" y="378288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102440" y="377352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837120" y="377352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089480" y="396540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6836760" y="383868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H="1">
                <a:off x="6836760" y="390528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792840" y="40226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6792840" y="430200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6837120" y="403848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102440" y="402264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837120" y="42829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837120" y="42703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837120" y="425916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837120" y="424656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837120" y="423216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837120" y="366876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089480" y="369252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6899040" y="373212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6837120" y="373212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6837120" y="374976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 flipH="1">
                <a:off x="7040520" y="375300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040520" y="373212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6850080" y="36846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886440" y="368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922800" y="368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960960" y="368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999120" y="3681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03404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07220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7076880" y="377352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118280" y="426384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6" name=""/>
            <p:cNvGrpSpPr/>
            <p:nvPr/>
          </p:nvGrpSpPr>
          <p:grpSpPr>
            <a:xfrm>
              <a:off x="6732720" y="3768840"/>
              <a:ext cx="690480" cy="750240"/>
              <a:chOff x="6732720" y="3768840"/>
              <a:chExt cx="690480" cy="750240"/>
            </a:xfrm>
          </p:grpSpPr>
          <p:sp>
            <p:nvSpPr>
              <p:cNvPr id="3927" name=""/>
              <p:cNvSpPr/>
              <p:nvPr/>
            </p:nvSpPr>
            <p:spPr>
              <a:xfrm>
                <a:off x="6972480" y="379224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6989760" y="417492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989760" y="3925800"/>
                <a:ext cx="254160" cy="2077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732720" y="3770280"/>
                <a:ext cx="539640" cy="29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6732720" y="3770280"/>
                <a:ext cx="241200" cy="74880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945480" y="379548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6989760" y="392400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6989760" y="3884400"/>
                <a:ext cx="266760" cy="4248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6989760" y="381924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6732720" y="3768840"/>
                <a:ext cx="539640" cy="31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6970680" y="379224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6732720" y="3770280"/>
                <a:ext cx="239760" cy="74880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6945480" y="3797280"/>
                <a:ext cx="0" cy="70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6945480" y="380664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6945480" y="38592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989760" y="381924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945480" y="387504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945480" y="39240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6945480" y="412272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6989760" y="393516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255080" y="3925800"/>
                <a:ext cx="0" cy="19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6989760" y="3925800"/>
                <a:ext cx="254160" cy="20592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242120" y="411768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 flipH="1">
                <a:off x="6989400" y="3990960"/>
                <a:ext cx="25236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 flipH="1">
                <a:off x="6989400" y="4057560"/>
                <a:ext cx="2523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6945480" y="417492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6945480" y="445428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6989760" y="419076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7255080" y="417492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6989760" y="443520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989760" y="442260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6989760" y="4411440"/>
                <a:ext cx="266760" cy="31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6989760" y="4398840"/>
                <a:ext cx="266760" cy="2808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6989760" y="438444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989760" y="3821040"/>
                <a:ext cx="254160" cy="3276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242120" y="3844800"/>
                <a:ext cx="12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051680" y="3884400"/>
                <a:ext cx="142920" cy="4248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989760" y="388440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989760" y="3902040"/>
                <a:ext cx="204840" cy="2664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H="1">
                <a:off x="7193160" y="3905280"/>
                <a:ext cx="619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193160" y="388440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002720" y="383688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039080" y="3835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075440" y="3835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113600" y="3835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151760" y="3833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186680" y="3830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224840" y="3830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229520" y="3925800"/>
                <a:ext cx="27000" cy="19332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270920" y="441612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77" name=""/>
            <p:cNvGrpSpPr/>
            <p:nvPr/>
          </p:nvGrpSpPr>
          <p:grpSpPr>
            <a:xfrm>
              <a:off x="6885000" y="3921120"/>
              <a:ext cx="690480" cy="750960"/>
              <a:chOff x="6885000" y="3921120"/>
              <a:chExt cx="690480" cy="750960"/>
            </a:xfrm>
          </p:grpSpPr>
          <p:sp>
            <p:nvSpPr>
              <p:cNvPr id="3978" name=""/>
              <p:cNvSpPr/>
              <p:nvPr/>
            </p:nvSpPr>
            <p:spPr>
              <a:xfrm>
                <a:off x="7124760" y="394488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142040" y="432756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142040" y="407844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6885000" y="392292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6885000" y="392292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097760" y="394812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142040" y="407664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142040" y="40370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142040" y="397188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885000" y="39211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122960" y="394488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6885000" y="392292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097760" y="394992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097760" y="3959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097760" y="40118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142040" y="397188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097760" y="4027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097760" y="40766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097760" y="42753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142040" y="40878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407360" y="407844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142040" y="407844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394400" y="427032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 flipH="1">
                <a:off x="7141680" y="414360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 flipH="1">
                <a:off x="7141680" y="421020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097760" y="43275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097760" y="460692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142040" y="43434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407360" y="43275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142040" y="458784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142040" y="457524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142040" y="45640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142040" y="455148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142040" y="453708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142040" y="397368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394400" y="399744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203960" y="4037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142040" y="403704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142040" y="405468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 flipH="1">
                <a:off x="7345440" y="405792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345440" y="403704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155000" y="39895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191360" y="3987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227720" y="3987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265880" y="3987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304040" y="3986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338960" y="3983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377120" y="3983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381800" y="407844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423200" y="456876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28" name=""/>
          <p:cNvGrpSpPr/>
          <p:nvPr/>
        </p:nvGrpSpPr>
        <p:grpSpPr>
          <a:xfrm>
            <a:off x="6595920" y="4667400"/>
            <a:ext cx="995400" cy="1055520"/>
            <a:chOff x="6595920" y="4667400"/>
            <a:chExt cx="995400" cy="1055520"/>
          </a:xfrm>
        </p:grpSpPr>
        <p:grpSp>
          <p:nvGrpSpPr>
            <p:cNvPr id="4029" name=""/>
            <p:cNvGrpSpPr/>
            <p:nvPr/>
          </p:nvGrpSpPr>
          <p:grpSpPr>
            <a:xfrm>
              <a:off x="6595920" y="4667400"/>
              <a:ext cx="690480" cy="750240"/>
              <a:chOff x="6595920" y="4667400"/>
              <a:chExt cx="690480" cy="750240"/>
            </a:xfrm>
          </p:grpSpPr>
          <p:sp>
            <p:nvSpPr>
              <p:cNvPr id="4030" name=""/>
              <p:cNvSpPr/>
              <p:nvPr/>
            </p:nvSpPr>
            <p:spPr>
              <a:xfrm>
                <a:off x="6835680" y="469080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6852960" y="507348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6852960" y="4824360"/>
                <a:ext cx="254160" cy="2077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595920" y="4668840"/>
                <a:ext cx="539640" cy="29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6595920" y="4668840"/>
                <a:ext cx="241200" cy="74880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6808680" y="469404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852960" y="482256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6852960" y="4782960"/>
                <a:ext cx="266760" cy="4248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6852960" y="471780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595920" y="4667400"/>
                <a:ext cx="539640" cy="31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833880" y="469080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595920" y="4668840"/>
                <a:ext cx="239760" cy="74880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808680" y="4695840"/>
                <a:ext cx="0" cy="70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808680" y="47052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808680" y="47577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852960" y="471780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808680" y="47736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808680" y="48225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808680" y="502128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852960" y="483372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118280" y="4824360"/>
                <a:ext cx="0" cy="19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852960" y="4824360"/>
                <a:ext cx="254160" cy="20592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105320" y="501624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 flipH="1">
                <a:off x="6852600" y="4889520"/>
                <a:ext cx="25236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 flipH="1">
                <a:off x="6852600" y="4956120"/>
                <a:ext cx="2523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6808680" y="507348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6808680" y="535284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6852960" y="508932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118280" y="50734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6852960" y="533376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6852960" y="532116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6852960" y="5310000"/>
                <a:ext cx="266760" cy="31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6852960" y="5297400"/>
                <a:ext cx="266760" cy="2808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6852960" y="528300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6852960" y="4719600"/>
                <a:ext cx="254160" cy="3276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105320" y="4743360"/>
                <a:ext cx="12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914880" y="4782960"/>
                <a:ext cx="142920" cy="4248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852960" y="478296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852960" y="4800600"/>
                <a:ext cx="204840" cy="2664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 flipH="1">
                <a:off x="7056360" y="4803840"/>
                <a:ext cx="619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056360" y="478296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865920" y="473544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6902280" y="4733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938640" y="4733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976800" y="4733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014960" y="47322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049880" y="4728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088040" y="4728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092720" y="4824360"/>
                <a:ext cx="27000" cy="19332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134120" y="531468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0" name=""/>
            <p:cNvGrpSpPr/>
            <p:nvPr/>
          </p:nvGrpSpPr>
          <p:grpSpPr>
            <a:xfrm>
              <a:off x="6748560" y="4819680"/>
              <a:ext cx="690480" cy="750960"/>
              <a:chOff x="6748560" y="4819680"/>
              <a:chExt cx="690480" cy="750960"/>
            </a:xfrm>
          </p:grpSpPr>
          <p:sp>
            <p:nvSpPr>
              <p:cNvPr id="4081" name=""/>
              <p:cNvSpPr/>
              <p:nvPr/>
            </p:nvSpPr>
            <p:spPr>
              <a:xfrm>
                <a:off x="6988320" y="484344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005600" y="522612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005600" y="497700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748560" y="482148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6748560" y="482148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6961320" y="484668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005600" y="497520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005600" y="493560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005600" y="487044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6748560" y="481968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6986520" y="484344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6748560" y="482148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6961320" y="484848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6961320" y="48578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6961320" y="49104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005600" y="487044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6961320" y="49262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6961320" y="4975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6961320" y="51739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005600" y="498636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270920" y="497700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7005600" y="497700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7257960" y="516888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 flipH="1">
                <a:off x="7005240" y="504216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H="1">
                <a:off x="7005240" y="510876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6961320" y="5226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961320" y="550548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005600" y="52419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7270920" y="522612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7005600" y="548640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7005600" y="547380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7005600" y="546264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005600" y="545004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005600" y="543564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7005600" y="487224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7257960" y="489600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7067520" y="493560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005600" y="493560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005600" y="495324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 flipH="1">
                <a:off x="7209000" y="495648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209000" y="493560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018560" y="48880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054920" y="4886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091280" y="4886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129440" y="4886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167600" y="488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202520" y="4881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240680" y="4881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245360" y="497700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286760" y="546732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1" name=""/>
            <p:cNvGrpSpPr/>
            <p:nvPr/>
          </p:nvGrpSpPr>
          <p:grpSpPr>
            <a:xfrm>
              <a:off x="6900840" y="4971960"/>
              <a:ext cx="690480" cy="750960"/>
              <a:chOff x="6900840" y="4971960"/>
              <a:chExt cx="690480" cy="750960"/>
            </a:xfrm>
          </p:grpSpPr>
          <p:sp>
            <p:nvSpPr>
              <p:cNvPr id="4132" name=""/>
              <p:cNvSpPr/>
              <p:nvPr/>
            </p:nvSpPr>
            <p:spPr>
              <a:xfrm>
                <a:off x="7140600" y="499572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157880" y="537840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7157880" y="51292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900840" y="497376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900840" y="49737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7113600" y="499896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7157880" y="512748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157880" y="508788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157880" y="50227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6900840" y="497196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138800" y="499572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6900840" y="49737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113600" y="50007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113600" y="5010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113600" y="5062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157880" y="50227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113600" y="50785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7113600" y="51274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113600" y="5326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157880" y="513864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423200" y="51292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157880" y="51292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410240" y="532116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 flipH="1">
                <a:off x="7157520" y="51944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H="1">
                <a:off x="7157520" y="52610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7113600" y="53784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7113600" y="565776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157880" y="539424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7423200" y="53784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7157880" y="56386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7157880" y="56260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157880" y="561492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157880" y="560232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157880" y="55879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7157880" y="502452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7410240" y="50482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7219800" y="508788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157880" y="508788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157880" y="51055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 flipH="1">
                <a:off x="7361280" y="51087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361280" y="508788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170840" y="50403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207200" y="503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243560" y="503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281720" y="503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7319880" y="503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7354800" y="503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7392960" y="503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7397640" y="51292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7439040" y="561960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 flipV="1">
            <a:off x="1752480" y="4454280"/>
            <a:ext cx="91440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 flipV="1">
            <a:off x="1905120" y="4454280"/>
            <a:ext cx="83808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 flipH="1" flipV="1">
            <a:off x="3733560" y="491148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 flipH="1" flipV="1">
            <a:off x="3429000" y="4911480"/>
            <a:ext cx="99072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 flipH="1" flipV="1">
            <a:off x="3657240" y="4911480"/>
            <a:ext cx="10666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 flipH="1" flipV="1">
            <a:off x="3124080" y="4911480"/>
            <a:ext cx="144792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 flipH="1" flipV="1">
            <a:off x="3124080" y="4378320"/>
            <a:ext cx="763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3048120" y="232092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0" name=""/>
          <p:cNvGrpSpPr/>
          <p:nvPr/>
        </p:nvGrpSpPr>
        <p:grpSpPr>
          <a:xfrm>
            <a:off x="2743200" y="3159000"/>
            <a:ext cx="694800" cy="753840"/>
            <a:chOff x="2743200" y="3159000"/>
            <a:chExt cx="694800" cy="753840"/>
          </a:xfrm>
        </p:grpSpPr>
        <p:sp>
          <p:nvSpPr>
            <p:cNvPr id="4191" name=""/>
            <p:cNvSpPr/>
            <p:nvPr/>
          </p:nvSpPr>
          <p:spPr>
            <a:xfrm>
              <a:off x="2984400" y="318276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01680" y="356688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01680" y="331668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743200" y="316080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743200" y="316080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957400" y="318600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001680" y="331488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001680" y="327528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01680" y="32097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2743200" y="315900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982600" y="318276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743200" y="316080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957400" y="318780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957400" y="31971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957400" y="32500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001680" y="32097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957400" y="32659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957400" y="3314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957400" y="3514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001680" y="33260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268800" y="331668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001680" y="331668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255840" y="35096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3001320" y="338220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>
              <a:off x="3001320" y="344916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957400" y="3566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957400" y="384768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001680" y="358308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268800" y="356688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01680" y="38282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01680" y="38156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01680" y="380448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01680" y="379188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01680" y="377748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001680" y="321156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255840" y="32353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064320" y="327528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01680" y="327528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01680" y="329292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H="1">
              <a:off x="3206160" y="329616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206520" y="32752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15000" y="3227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51360" y="322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88080" y="322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26600" y="322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64760" y="322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200040" y="322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238560" y="322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243240" y="331668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285000" y="380916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1" name=""/>
          <p:cNvGrpSpPr/>
          <p:nvPr/>
        </p:nvGrpSpPr>
        <p:grpSpPr>
          <a:xfrm>
            <a:off x="2743200" y="1558800"/>
            <a:ext cx="694800" cy="753840"/>
            <a:chOff x="2743200" y="1558800"/>
            <a:chExt cx="694800" cy="753840"/>
          </a:xfrm>
        </p:grpSpPr>
        <p:sp>
          <p:nvSpPr>
            <p:cNvPr id="4242" name=""/>
            <p:cNvSpPr/>
            <p:nvPr/>
          </p:nvSpPr>
          <p:spPr>
            <a:xfrm>
              <a:off x="2984400" y="158256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001680" y="196668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001680" y="171648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743200" y="156060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743200" y="156060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2957400" y="158580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01680" y="171468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01680" y="167508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01680" y="16095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2743200" y="155880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2982600" y="158256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743200" y="156060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957400" y="158760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957400" y="1596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2957400" y="1649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01680" y="16095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957400" y="16657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2957400" y="1714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2957400" y="19144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01680" y="17258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268800" y="171648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01680" y="171648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255840" y="19094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 flipH="1">
              <a:off x="3001320" y="178200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H="1">
              <a:off x="3001320" y="184896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2957400" y="1966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2957400" y="224748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001680" y="198288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268800" y="196668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01680" y="22280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001680" y="22154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001680" y="220428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001680" y="219168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001680" y="217728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001680" y="161136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255840" y="16351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064320" y="167508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001680" y="167508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001680" y="169272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H="1">
              <a:off x="3206160" y="169596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206520" y="16750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015000" y="1627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051360" y="162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088080" y="162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126600" y="162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164760" y="162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200040" y="162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238560" y="162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243240" y="171648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285000" y="220896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2" name=""/>
          <p:cNvSpPr/>
          <p:nvPr/>
        </p:nvSpPr>
        <p:spPr>
          <a:xfrm>
            <a:off x="457200" y="182880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 2000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3" name=""/>
          <p:cNvGrpSpPr/>
          <p:nvPr/>
        </p:nvGrpSpPr>
        <p:grpSpPr>
          <a:xfrm>
            <a:off x="2438280" y="2625840"/>
            <a:ext cx="990720" cy="188640"/>
            <a:chOff x="2438280" y="2625840"/>
            <a:chExt cx="990720" cy="188640"/>
          </a:xfrm>
        </p:grpSpPr>
        <p:sp>
          <p:nvSpPr>
            <p:cNvPr id="4294" name=""/>
            <p:cNvSpPr/>
            <p:nvPr/>
          </p:nvSpPr>
          <p:spPr>
            <a:xfrm>
              <a:off x="2438280" y="2625840"/>
              <a:ext cx="990720" cy="188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5" name=""/>
            <p:cNvGrpSpPr/>
            <p:nvPr/>
          </p:nvGrpSpPr>
          <p:grpSpPr>
            <a:xfrm>
              <a:off x="2755440" y="2652840"/>
              <a:ext cx="633960" cy="107640"/>
              <a:chOff x="2755440" y="2652840"/>
              <a:chExt cx="633960" cy="107640"/>
            </a:xfrm>
          </p:grpSpPr>
          <p:sp>
            <p:nvSpPr>
              <p:cNvPr id="4296" name=""/>
              <p:cNvSpPr/>
              <p:nvPr/>
            </p:nvSpPr>
            <p:spPr>
              <a:xfrm>
                <a:off x="2755440" y="265284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2755440" y="267984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2755440" y="270684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2755440" y="273348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2755440" y="276048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1" name=""/>
            <p:cNvSpPr/>
            <p:nvPr/>
          </p:nvSpPr>
          <p:spPr>
            <a:xfrm>
              <a:off x="2517480" y="2652840"/>
              <a:ext cx="118800" cy="27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2" name=""/>
          <p:cNvSpPr/>
          <p:nvPr/>
        </p:nvSpPr>
        <p:spPr>
          <a:xfrm>
            <a:off x="838080" y="3159000"/>
            <a:ext cx="20574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PN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P XEON 450MH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1828800" y="4454280"/>
            <a:ext cx="6094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1600200" y="4454280"/>
            <a:ext cx="91440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5" name=""/>
          <p:cNvGrpSpPr/>
          <p:nvPr/>
        </p:nvGrpSpPr>
        <p:grpSpPr>
          <a:xfrm>
            <a:off x="838080" y="4987800"/>
            <a:ext cx="695160" cy="753840"/>
            <a:chOff x="838080" y="4987800"/>
            <a:chExt cx="695160" cy="753840"/>
          </a:xfrm>
        </p:grpSpPr>
        <p:sp>
          <p:nvSpPr>
            <p:cNvPr id="4306" name=""/>
            <p:cNvSpPr/>
            <p:nvPr/>
          </p:nvSpPr>
          <p:spPr>
            <a:xfrm>
              <a:off x="1079280" y="5011560"/>
              <a:ext cx="30204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1096920" y="539568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1096920" y="5145480"/>
              <a:ext cx="25596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838080" y="498960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838080" y="498960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1052280" y="501480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1096920" y="514368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1096920" y="510408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1096920" y="50385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838080" y="498780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1077480" y="5011560"/>
              <a:ext cx="30384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838080" y="498960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1052280" y="501660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052280" y="5025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052280" y="5078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096920" y="50385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052280" y="50947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052280" y="5143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052280" y="53434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096920" y="51548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364040" y="514548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096920" y="5145480"/>
              <a:ext cx="25596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351080" y="53384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H="1">
              <a:off x="1096920" y="5211000"/>
              <a:ext cx="254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H="1">
              <a:off x="1096920" y="5277960"/>
              <a:ext cx="254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052280" y="5395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052280" y="567648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096920" y="541188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364040" y="539568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096920" y="56570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096920" y="56444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096920" y="563328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096920" y="562068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096920" y="560628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096920" y="5040360"/>
              <a:ext cx="2559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351080" y="50641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159200" y="510408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096920" y="510408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096920" y="5121720"/>
              <a:ext cx="20628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 flipH="1">
              <a:off x="1301400" y="512496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301760" y="51040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109880" y="5056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146600" y="5054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182960" y="5054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221480" y="5054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260000" y="5052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295280" y="5049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333440" y="5049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338480" y="514548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379880" y="5637960"/>
              <a:ext cx="15336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6" name=""/>
          <p:cNvGrpSpPr/>
          <p:nvPr/>
        </p:nvGrpSpPr>
        <p:grpSpPr>
          <a:xfrm>
            <a:off x="4114800" y="5410080"/>
            <a:ext cx="694800" cy="753840"/>
            <a:chOff x="4114800" y="5410080"/>
            <a:chExt cx="694800" cy="753840"/>
          </a:xfrm>
        </p:grpSpPr>
        <p:sp>
          <p:nvSpPr>
            <p:cNvPr id="4357" name=""/>
            <p:cNvSpPr/>
            <p:nvPr/>
          </p:nvSpPr>
          <p:spPr>
            <a:xfrm flipH="1">
              <a:off x="4266720" y="543384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 flipH="1">
              <a:off x="4282560" y="581796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flipH="1">
              <a:off x="4295520" y="556776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4266000" y="541188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H="1">
              <a:off x="4566960" y="541188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 flipH="1">
              <a:off x="4566600" y="543708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H="1">
              <a:off x="4282560" y="556596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H="1">
              <a:off x="4282560" y="552636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H="1">
              <a:off x="4282560" y="546084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 flipH="1">
              <a:off x="4266000" y="541008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 flipH="1">
              <a:off x="4266360" y="543384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 flipH="1">
              <a:off x="4568400" y="541188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595400" y="543888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H="1">
              <a:off x="4266360" y="544824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H="1">
              <a:off x="4266360" y="55011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H="1">
              <a:off x="4282560" y="546084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4266360" y="55170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H="1">
              <a:off x="4266360" y="5565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H="1">
              <a:off x="4266360" y="57657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551120" y="557712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4284000" y="556776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H="1">
              <a:off x="4295520" y="556776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H="1">
              <a:off x="4284000" y="57607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4297680" y="563328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297680" y="570024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 flipH="1">
              <a:off x="4266360" y="5817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 flipH="1">
              <a:off x="4266360" y="609876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551120" y="583416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284000" y="581796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 flipH="1">
              <a:off x="4282560" y="60793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 flipH="1">
              <a:off x="4282560" y="60667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 flipH="1">
              <a:off x="4282560" y="605556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 flipH="1">
              <a:off x="4282560" y="604296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flipH="1">
              <a:off x="4282560" y="602856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 flipH="1">
              <a:off x="4295520" y="546264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H="1">
              <a:off x="4284000" y="548640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H="1">
              <a:off x="4344480" y="552636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 flipH="1">
              <a:off x="4282560" y="552636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4345200" y="554400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4284360" y="554724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346280" y="552636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 flipH="1">
              <a:off x="4511160" y="54784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flipH="1">
              <a:off x="4474080" y="54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H="1">
              <a:off x="4437360" y="54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H="1">
              <a:off x="4398840" y="54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H="1">
              <a:off x="4360680" y="5475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H="1">
              <a:off x="4325400" y="547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H="1">
              <a:off x="4286880" y="547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H="1">
              <a:off x="4282200" y="556776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 flipH="1">
              <a:off x="4114440" y="606024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7" name=""/>
          <p:cNvGrpSpPr/>
          <p:nvPr/>
        </p:nvGrpSpPr>
        <p:grpSpPr>
          <a:xfrm>
            <a:off x="1447920" y="4835520"/>
            <a:ext cx="694800" cy="753840"/>
            <a:chOff x="1447920" y="4835520"/>
            <a:chExt cx="694800" cy="753840"/>
          </a:xfrm>
        </p:grpSpPr>
        <p:sp>
          <p:nvSpPr>
            <p:cNvPr id="4408" name=""/>
            <p:cNvSpPr/>
            <p:nvPr/>
          </p:nvSpPr>
          <p:spPr>
            <a:xfrm>
              <a:off x="1689120" y="485928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706400" y="524340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706400" y="499320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447920" y="483732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447920" y="483732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1662120" y="486252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1706400" y="499140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706400" y="495180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1706400" y="488628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447920" y="483552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1687320" y="485928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447920" y="483732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662120" y="486432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662120" y="4873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662120" y="49266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1706400" y="488628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1662120" y="494244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1662120" y="49914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662120" y="51912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706400" y="500256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1973520" y="499320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1706400" y="499320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960560" y="518616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H="1">
              <a:off x="1706040" y="505872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 flipH="1">
              <a:off x="1706040" y="512568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662120" y="52434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1662120" y="552420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706400" y="525960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1973520" y="524340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706400" y="550476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706400" y="549216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706400" y="548100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706400" y="546840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706400" y="545400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706400" y="488808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960560" y="49118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769040" y="495180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706400" y="495180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1706400" y="496944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H="1">
              <a:off x="1910880" y="497268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1911240" y="49518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1719720" y="49039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175608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179280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183132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1869480" y="490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1904760" y="489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1943280" y="489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1947960" y="499320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989720" y="548568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8" name=""/>
          <p:cNvGrpSpPr/>
          <p:nvPr/>
        </p:nvGrpSpPr>
        <p:grpSpPr>
          <a:xfrm>
            <a:off x="1219320" y="5292720"/>
            <a:ext cx="694800" cy="753840"/>
            <a:chOff x="1219320" y="5292720"/>
            <a:chExt cx="694800" cy="753840"/>
          </a:xfrm>
        </p:grpSpPr>
        <p:sp>
          <p:nvSpPr>
            <p:cNvPr id="4459" name=""/>
            <p:cNvSpPr/>
            <p:nvPr/>
          </p:nvSpPr>
          <p:spPr>
            <a:xfrm>
              <a:off x="1460520" y="531648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477800" y="570060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477800" y="545040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1219320" y="529452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1219320" y="529452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1433520" y="531972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1477800" y="544860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1477800" y="540900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477800" y="534348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219320" y="529272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1458720" y="531648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1219320" y="529452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1433520" y="532152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1433520" y="5330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1433520" y="53838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477800" y="534348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433520" y="539964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1433520" y="54486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1433520" y="56484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1477800" y="545976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744920" y="545040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1477800" y="545040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1731960" y="564336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 flipH="1">
              <a:off x="1477440" y="551592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 flipH="1">
              <a:off x="1477440" y="558288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1433520" y="57006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1433520" y="598140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1477800" y="571680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1744920" y="570060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1477800" y="596196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1477800" y="594936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1477800" y="593820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1477800" y="592560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1477800" y="591120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1477800" y="534528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1731960" y="5369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1540440" y="540900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1477800" y="540900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1477800" y="542664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 flipH="1">
              <a:off x="1682280" y="542988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1682640" y="54090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1491120" y="5361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1527480" y="53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1564200" y="53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1602720" y="53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1640880" y="535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1676160" y="53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1714680" y="53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1719360" y="545040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1761120" y="594288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9" name=""/>
          <p:cNvGrpSpPr/>
          <p:nvPr/>
        </p:nvGrpSpPr>
        <p:grpSpPr>
          <a:xfrm>
            <a:off x="3733920" y="5369040"/>
            <a:ext cx="694800" cy="753480"/>
            <a:chOff x="3733920" y="5369040"/>
            <a:chExt cx="694800" cy="753480"/>
          </a:xfrm>
        </p:grpSpPr>
        <p:sp>
          <p:nvSpPr>
            <p:cNvPr id="4510" name=""/>
            <p:cNvSpPr/>
            <p:nvPr/>
          </p:nvSpPr>
          <p:spPr>
            <a:xfrm flipH="1">
              <a:off x="3885840" y="5392800"/>
              <a:ext cx="301680" cy="72972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flipH="1">
              <a:off x="3901680" y="577692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H="1">
              <a:off x="3914640" y="552672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H="1">
              <a:off x="3885120" y="537084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flipH="1">
              <a:off x="4186080" y="5370840"/>
              <a:ext cx="242640" cy="75168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H="1">
              <a:off x="4185720" y="5396040"/>
              <a:ext cx="28440" cy="72648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 flipH="1">
              <a:off x="3901680" y="552492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 flipH="1">
              <a:off x="3901680" y="548532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flipH="1">
              <a:off x="3901680" y="54198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 flipH="1">
              <a:off x="3885120" y="536904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flipH="1">
              <a:off x="3885480" y="5392800"/>
              <a:ext cx="303480" cy="72972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H="1">
              <a:off x="4187520" y="5370840"/>
              <a:ext cx="241200" cy="75168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4214520" y="5397840"/>
              <a:ext cx="0" cy="70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H="1">
              <a:off x="3885480" y="54072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H="1">
              <a:off x="3885480" y="54597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H="1">
              <a:off x="3901680" y="54198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H="1">
              <a:off x="3885480" y="5475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H="1">
              <a:off x="3885480" y="55249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H="1">
              <a:off x="3885480" y="57243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4170240" y="553608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03120" y="552672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H="1">
              <a:off x="3914640" y="552672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 flipH="1">
              <a:off x="3903120" y="57193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916800" y="559224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3916800" y="565920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flipH="1">
              <a:off x="3885480" y="57769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flipH="1">
              <a:off x="3885480" y="605736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70240" y="579276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3903120" y="5776920"/>
              <a:ext cx="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H="1">
              <a:off x="3901680" y="603828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 flipH="1">
              <a:off x="3901680" y="60253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 flipH="1">
              <a:off x="3901680" y="601416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 flipH="1">
              <a:off x="3901680" y="600156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H="1">
              <a:off x="3901680" y="598716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H="1">
              <a:off x="3914640" y="542160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flipH="1">
              <a:off x="3903120" y="54453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 flipH="1">
              <a:off x="3963600" y="548532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 flipH="1">
              <a:off x="3901680" y="548532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H="1">
              <a:off x="3964320" y="550296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3903480" y="550620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3965400" y="5485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 flipH="1">
              <a:off x="4130280" y="54374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 flipH="1">
              <a:off x="4093200" y="543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 flipH="1">
              <a:off x="4056480" y="543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 flipH="1">
              <a:off x="4017960" y="543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H="1">
              <a:off x="3979800" y="543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 flipH="1">
              <a:off x="3944520" y="543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H="1">
              <a:off x="3906000" y="543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 flipH="1">
              <a:off x="3901320" y="552672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>
              <a:off x="3733560" y="601884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0" name=""/>
          <p:cNvGrpSpPr/>
          <p:nvPr/>
        </p:nvGrpSpPr>
        <p:grpSpPr>
          <a:xfrm>
            <a:off x="4038840" y="5902200"/>
            <a:ext cx="695160" cy="753840"/>
            <a:chOff x="4038840" y="5902200"/>
            <a:chExt cx="695160" cy="753840"/>
          </a:xfrm>
        </p:grpSpPr>
        <p:sp>
          <p:nvSpPr>
            <p:cNvPr id="4561" name=""/>
            <p:cNvSpPr/>
            <p:nvPr/>
          </p:nvSpPr>
          <p:spPr>
            <a:xfrm flipH="1">
              <a:off x="4190400" y="5925960"/>
              <a:ext cx="30204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 flipH="1">
              <a:off x="4206600" y="631008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H="1">
              <a:off x="4218840" y="6059880"/>
              <a:ext cx="25596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 flipH="1">
              <a:off x="4190400" y="590400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H="1">
              <a:off x="4491360" y="590400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 flipH="1">
              <a:off x="4491000" y="592920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 flipH="1">
              <a:off x="4206600" y="605808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 flipH="1">
              <a:off x="4206600" y="601848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H="1">
              <a:off x="4206600" y="59529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 flipH="1">
              <a:off x="4190400" y="590220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 flipH="1">
              <a:off x="4190760" y="5925960"/>
              <a:ext cx="30384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 flipH="1">
              <a:off x="4492800" y="590400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519800" y="593100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 flipH="1">
              <a:off x="4190760" y="59403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 flipH="1">
              <a:off x="4190760" y="59932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 flipH="1">
              <a:off x="4206600" y="59529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 flipH="1">
              <a:off x="4190760" y="60091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 flipH="1">
              <a:off x="4190760" y="60580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flipH="1">
              <a:off x="4190760" y="6257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475160" y="60692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208040" y="605988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 flipH="1">
              <a:off x="4218840" y="6059880"/>
              <a:ext cx="25596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 flipH="1">
              <a:off x="4208040" y="62528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21000" y="6125400"/>
              <a:ext cx="254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21000" y="6192360"/>
              <a:ext cx="254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 flipH="1">
              <a:off x="4190760" y="63100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 flipH="1">
              <a:off x="4190760" y="659088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475160" y="632628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208040" y="631008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 flipH="1">
              <a:off x="4206600" y="65714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 flipH="1">
              <a:off x="4206600" y="65588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 flipH="1">
              <a:off x="4206600" y="654768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 flipH="1">
              <a:off x="4206600" y="653508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 flipH="1">
              <a:off x="4206600" y="652068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 flipH="1">
              <a:off x="4218840" y="5954760"/>
              <a:ext cx="2559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H="1">
              <a:off x="4208040" y="59785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 flipH="1">
              <a:off x="4268880" y="601848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 flipH="1">
              <a:off x="4206600" y="601848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 flipH="1">
              <a:off x="4268520" y="6036120"/>
              <a:ext cx="20628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208400" y="603936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270320" y="60184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 flipH="1">
              <a:off x="4435560" y="59706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 flipH="1">
              <a:off x="4398120" y="596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 flipH="1">
              <a:off x="4361760" y="596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 flipH="1">
              <a:off x="4323240" y="596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 flipH="1">
              <a:off x="4284720" y="596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 flipH="1">
              <a:off x="4249440" y="596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 flipH="1">
              <a:off x="4211280" y="596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 flipH="1">
              <a:off x="4206240" y="605988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 flipH="1">
              <a:off x="4038840" y="6552360"/>
              <a:ext cx="15336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1" name=""/>
          <p:cNvGrpSpPr/>
          <p:nvPr/>
        </p:nvGrpSpPr>
        <p:grpSpPr>
          <a:xfrm>
            <a:off x="3429000" y="5826240"/>
            <a:ext cx="694800" cy="753480"/>
            <a:chOff x="3429000" y="5826240"/>
            <a:chExt cx="694800" cy="753480"/>
          </a:xfrm>
        </p:grpSpPr>
        <p:sp>
          <p:nvSpPr>
            <p:cNvPr id="4612" name=""/>
            <p:cNvSpPr/>
            <p:nvPr/>
          </p:nvSpPr>
          <p:spPr>
            <a:xfrm flipH="1">
              <a:off x="3580920" y="5850000"/>
              <a:ext cx="301680" cy="72972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 flipH="1">
              <a:off x="3596760" y="623412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 flipH="1">
              <a:off x="3609720" y="598392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H="1">
              <a:off x="3580200" y="582804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 flipH="1">
              <a:off x="3881160" y="5828040"/>
              <a:ext cx="242640" cy="75168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 flipH="1">
              <a:off x="3880800" y="5853240"/>
              <a:ext cx="28440" cy="72648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 flipH="1">
              <a:off x="3596760" y="598212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 flipH="1">
              <a:off x="3596760" y="594252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 flipH="1">
              <a:off x="3596760" y="58770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 flipH="1">
              <a:off x="3580200" y="582624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 flipH="1">
              <a:off x="3580560" y="5850000"/>
              <a:ext cx="303480" cy="72972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 flipH="1">
              <a:off x="3882600" y="5828040"/>
              <a:ext cx="241200" cy="75168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3909600" y="5855040"/>
              <a:ext cx="0" cy="70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 flipH="1">
              <a:off x="3580560" y="58644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H="1">
              <a:off x="3580560" y="5916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H="1">
              <a:off x="3596760" y="58770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 flipH="1">
              <a:off x="3580560" y="59331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 flipH="1">
              <a:off x="3580560" y="59821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 flipH="1">
              <a:off x="3580560" y="61815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3865320" y="599328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3598200" y="598392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 flipH="1">
              <a:off x="3609720" y="598392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 flipH="1">
              <a:off x="3598200" y="61765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611880" y="604944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3611880" y="611640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 flipH="1">
              <a:off x="3580560" y="62341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>
              <a:off x="3580560" y="651456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865320" y="624996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3598200" y="6234120"/>
              <a:ext cx="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 flipH="1">
              <a:off x="3596760" y="649548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 flipH="1">
              <a:off x="3596760" y="64825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 flipH="1">
              <a:off x="3596760" y="647136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 flipH="1">
              <a:off x="3596760" y="645876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 flipH="1">
              <a:off x="3596760" y="644436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 flipH="1">
              <a:off x="3609720" y="587880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 flipH="1">
              <a:off x="3598200" y="59025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 flipH="1">
              <a:off x="3658680" y="594252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 flipH="1">
              <a:off x="3596760" y="594252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H="1">
              <a:off x="3659400" y="596016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3598560" y="596340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3660480" y="59425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 flipH="1">
              <a:off x="3825360" y="58946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H="1">
              <a:off x="3788280" y="589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 flipH="1">
              <a:off x="3751560" y="589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 flipH="1">
              <a:off x="3713040" y="589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 flipH="1">
              <a:off x="3674880" y="589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 flipH="1">
              <a:off x="3639600" y="588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H="1">
              <a:off x="3601080" y="588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 flipH="1">
              <a:off x="3596400" y="598392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 flipH="1">
              <a:off x="3428640" y="647604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2" name=""/>
          <p:cNvGrpSpPr/>
          <p:nvPr/>
        </p:nvGrpSpPr>
        <p:grpSpPr>
          <a:xfrm>
            <a:off x="914400" y="5597640"/>
            <a:ext cx="694800" cy="753480"/>
            <a:chOff x="914400" y="5597640"/>
            <a:chExt cx="694800" cy="753480"/>
          </a:xfrm>
        </p:grpSpPr>
        <p:sp>
          <p:nvSpPr>
            <p:cNvPr id="4663" name=""/>
            <p:cNvSpPr/>
            <p:nvPr/>
          </p:nvSpPr>
          <p:spPr>
            <a:xfrm>
              <a:off x="1155600" y="5621400"/>
              <a:ext cx="301680" cy="72972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172880" y="600552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172880" y="575532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914400" y="559944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914400" y="5599440"/>
              <a:ext cx="242640" cy="75168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1128600" y="5624640"/>
              <a:ext cx="28440" cy="72648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1172880" y="575352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1172880" y="571392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1172880" y="56484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914400" y="559764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153800" y="5621400"/>
              <a:ext cx="303480" cy="72972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914400" y="5599440"/>
              <a:ext cx="241200" cy="75168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128600" y="5626440"/>
              <a:ext cx="0" cy="70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128600" y="56358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1128600" y="56883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1172880" y="56484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128600" y="57045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128600" y="57535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128600" y="5952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172880" y="576468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440000" y="575532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172880" y="575532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1427040" y="59479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H="1">
              <a:off x="1172520" y="582084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H="1">
              <a:off x="1172520" y="588780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128600" y="60055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128600" y="628596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172880" y="602136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440000" y="6005520"/>
              <a:ext cx="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1172880" y="626688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172880" y="62539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1172880" y="624276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172880" y="623016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1172880" y="621576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1172880" y="565020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1427040" y="56739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1235520" y="571392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1172880" y="571392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1172880" y="573156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H="1">
              <a:off x="1377360" y="573480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1377720" y="57139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1186200" y="56660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1222560" y="566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1259280" y="566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1297800" y="566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1335960" y="566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1371240" y="565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1409760" y="565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1414440" y="575532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1456200" y="624744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3" name=""/>
          <p:cNvSpPr/>
          <p:nvPr/>
        </p:nvSpPr>
        <p:spPr>
          <a:xfrm>
            <a:off x="1676520" y="5715000"/>
            <a:ext cx="198108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Windows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P P3 400MHz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PPTP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kap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L2TP/IPSec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ap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4" name=""/>
          <p:cNvGrpSpPr/>
          <p:nvPr/>
        </p:nvGrpSpPr>
        <p:grpSpPr>
          <a:xfrm>
            <a:off x="2286000" y="4302000"/>
            <a:ext cx="990720" cy="189000"/>
            <a:chOff x="2286000" y="4302000"/>
            <a:chExt cx="990720" cy="189000"/>
          </a:xfrm>
        </p:grpSpPr>
        <p:sp>
          <p:nvSpPr>
            <p:cNvPr id="4715" name=""/>
            <p:cNvSpPr/>
            <p:nvPr/>
          </p:nvSpPr>
          <p:spPr>
            <a:xfrm>
              <a:off x="2286000" y="4302000"/>
              <a:ext cx="990720" cy="18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16" name=""/>
            <p:cNvGrpSpPr/>
            <p:nvPr/>
          </p:nvGrpSpPr>
          <p:grpSpPr>
            <a:xfrm>
              <a:off x="2603160" y="4329000"/>
              <a:ext cx="633960" cy="108000"/>
              <a:chOff x="2603160" y="4329000"/>
              <a:chExt cx="633960" cy="108000"/>
            </a:xfrm>
          </p:grpSpPr>
          <p:sp>
            <p:nvSpPr>
              <p:cNvPr id="4717" name=""/>
              <p:cNvSpPr/>
              <p:nvPr/>
            </p:nvSpPr>
            <p:spPr>
              <a:xfrm>
                <a:off x="2603160" y="4329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2603160" y="4356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2603160" y="4383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2603160" y="4410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2603160" y="4437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22" name=""/>
            <p:cNvSpPr/>
            <p:nvPr/>
          </p:nvSpPr>
          <p:spPr>
            <a:xfrm>
              <a:off x="2365200" y="4329000"/>
              <a:ext cx="118800" cy="27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3" name=""/>
          <p:cNvSpPr/>
          <p:nvPr/>
        </p:nvSpPr>
        <p:spPr>
          <a:xfrm>
            <a:off x="3048120" y="28544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ga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3048120" y="39974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ga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048120" y="2320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ga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524600" y="43783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B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4648320" y="289728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350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apcsol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30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bps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apcsolat egy szimulációs alkalmazás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636080" y="1752480"/>
            <a:ext cx="32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öbb mint 2,500 VPN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idejű kapcsolat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imuláció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9" name=""/>
          <p:cNvGrpSpPr/>
          <p:nvPr/>
        </p:nvGrpSpPr>
        <p:grpSpPr>
          <a:xfrm>
            <a:off x="2971800" y="4759200"/>
            <a:ext cx="990720" cy="189000"/>
            <a:chOff x="2971800" y="4759200"/>
            <a:chExt cx="990720" cy="189000"/>
          </a:xfrm>
        </p:grpSpPr>
        <p:sp>
          <p:nvSpPr>
            <p:cNvPr id="4730" name=""/>
            <p:cNvSpPr/>
            <p:nvPr/>
          </p:nvSpPr>
          <p:spPr>
            <a:xfrm>
              <a:off x="2971800" y="4759200"/>
              <a:ext cx="990720" cy="18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31" name=""/>
            <p:cNvGrpSpPr/>
            <p:nvPr/>
          </p:nvGrpSpPr>
          <p:grpSpPr>
            <a:xfrm>
              <a:off x="3288960" y="4786200"/>
              <a:ext cx="633960" cy="108000"/>
              <a:chOff x="3288960" y="4786200"/>
              <a:chExt cx="633960" cy="108000"/>
            </a:xfrm>
          </p:grpSpPr>
          <p:sp>
            <p:nvSpPr>
              <p:cNvPr id="4732" name=""/>
              <p:cNvSpPr/>
              <p:nvPr/>
            </p:nvSpPr>
            <p:spPr>
              <a:xfrm>
                <a:off x="3288960" y="4786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3288960" y="4813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3288960" y="4840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3288960" y="4867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3288960" y="4894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37" name=""/>
            <p:cNvSpPr/>
            <p:nvPr/>
          </p:nvSpPr>
          <p:spPr>
            <a:xfrm>
              <a:off x="3051000" y="4786200"/>
              <a:ext cx="118800" cy="27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8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teljesítmény tesz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PN menedzsment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Connection Manager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4952880" cy="175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szeri hitelesítés (SS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fonkönyv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 telepí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űzfalon átme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1" name=""/>
          <p:cNvGrpSpPr/>
          <p:nvPr/>
        </p:nvGrpSpPr>
        <p:grpSpPr>
          <a:xfrm>
            <a:off x="406080" y="1521000"/>
            <a:ext cx="3064320" cy="2611440"/>
            <a:chOff x="406080" y="1521000"/>
            <a:chExt cx="3064320" cy="2611440"/>
          </a:xfrm>
        </p:grpSpPr>
        <p:pic>
          <p:nvPicPr>
            <p:cNvPr id="4742" name="CMAK" descr=""/>
            <p:cNvPicPr/>
            <p:nvPr/>
          </p:nvPicPr>
          <p:blipFill>
            <a:blip r:embed="rId2"/>
            <a:stretch/>
          </p:blipFill>
          <p:spPr>
            <a:xfrm>
              <a:off x="441360" y="2201760"/>
              <a:ext cx="211284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3" name=""/>
            <p:cNvSpPr/>
            <p:nvPr/>
          </p:nvSpPr>
          <p:spPr>
            <a:xfrm>
              <a:off x="406080" y="1521000"/>
              <a:ext cx="30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nection Manager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 Ki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(CMAK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4" name=""/>
          <p:cNvGrpSpPr/>
          <p:nvPr/>
        </p:nvGrpSpPr>
        <p:grpSpPr>
          <a:xfrm>
            <a:off x="2173320" y="3314880"/>
            <a:ext cx="2133720" cy="900000"/>
            <a:chOff x="2173320" y="3314880"/>
            <a:chExt cx="2133720" cy="900000"/>
          </a:xfrm>
        </p:grpSpPr>
        <p:sp>
          <p:nvSpPr>
            <p:cNvPr id="4745" name=""/>
            <p:cNvSpPr/>
            <p:nvPr/>
          </p:nvSpPr>
          <p:spPr>
            <a:xfrm>
              <a:off x="3497400" y="3314880"/>
              <a:ext cx="809640" cy="9000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173320" y="3362400"/>
              <a:ext cx="1279440" cy="455400"/>
            </a:xfrm>
            <a:prstGeom prst="rightArrow">
              <a:avLst>
                <a:gd name="adj1" fmla="val 50000"/>
                <a:gd name="adj2" fmla="val 7023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7" name=""/>
          <p:cNvSpPr/>
          <p:nvPr/>
        </p:nvSpPr>
        <p:spPr>
          <a:xfrm>
            <a:off x="3354840" y="2338560"/>
            <a:ext cx="17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stre szabott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árcsázó és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lepít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8" name=""/>
          <p:cNvGrpSpPr/>
          <p:nvPr/>
        </p:nvGrpSpPr>
        <p:grpSpPr>
          <a:xfrm>
            <a:off x="4417920" y="1752480"/>
            <a:ext cx="4446720" cy="3889080"/>
            <a:chOff x="4417920" y="1752480"/>
            <a:chExt cx="4446720" cy="3889080"/>
          </a:xfrm>
        </p:grpSpPr>
        <p:grpSp>
          <p:nvGrpSpPr>
            <p:cNvPr id="4749" name=""/>
            <p:cNvGrpSpPr/>
            <p:nvPr/>
          </p:nvGrpSpPr>
          <p:grpSpPr>
            <a:xfrm>
              <a:off x="6251760" y="3234960"/>
              <a:ext cx="1115280" cy="1211040"/>
              <a:chOff x="6251760" y="3234960"/>
              <a:chExt cx="1115280" cy="1211040"/>
            </a:xfrm>
          </p:grpSpPr>
          <p:sp>
            <p:nvSpPr>
              <p:cNvPr id="4750" name=""/>
              <p:cNvSpPr/>
              <p:nvPr/>
            </p:nvSpPr>
            <p:spPr>
              <a:xfrm>
                <a:off x="6639120" y="3273120"/>
                <a:ext cx="484560" cy="117252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6666840" y="3890160"/>
                <a:ext cx="430920" cy="49932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6666840" y="3488400"/>
                <a:ext cx="410400" cy="3355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6251760" y="3237840"/>
                <a:ext cx="871920" cy="47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6251760" y="3237840"/>
                <a:ext cx="389520" cy="1208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6595560" y="3278160"/>
                <a:ext cx="45720" cy="116748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6666840" y="3485520"/>
                <a:ext cx="430920" cy="3510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6666840" y="3421800"/>
                <a:ext cx="430920" cy="6876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6666840" y="3316680"/>
                <a:ext cx="430920" cy="590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6251760" y="3234960"/>
                <a:ext cx="871920" cy="5076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6636240" y="3273120"/>
                <a:ext cx="487440" cy="117252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6251760" y="3237840"/>
                <a:ext cx="387360" cy="1208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6595560" y="3281400"/>
                <a:ext cx="0" cy="11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6595560" y="329616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6595560" y="338112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6666840" y="3316680"/>
                <a:ext cx="430920" cy="590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6595560" y="340668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6595560" y="348552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6595560" y="380628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6666840" y="3503520"/>
                <a:ext cx="0" cy="32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095600" y="3488400"/>
                <a:ext cx="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6666840" y="3488400"/>
                <a:ext cx="410400" cy="33264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074720" y="3798000"/>
                <a:ext cx="2088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flipH="1">
                <a:off x="6666840" y="3593520"/>
                <a:ext cx="407520" cy="2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 flipH="1">
                <a:off x="6666840" y="3701160"/>
                <a:ext cx="407520" cy="2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6595560" y="389016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6595560" y="4340880"/>
                <a:ext cx="528120" cy="5364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6666840" y="3915720"/>
                <a:ext cx="0" cy="47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095600" y="3890160"/>
                <a:ext cx="0" cy="45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6666840" y="4309920"/>
                <a:ext cx="430920" cy="5364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6666840" y="4289760"/>
                <a:ext cx="430920" cy="5364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6666840" y="4271760"/>
                <a:ext cx="430920" cy="5076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6666840" y="4251600"/>
                <a:ext cx="430920" cy="4572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6666840" y="4228200"/>
                <a:ext cx="430920" cy="4860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6666840" y="3319560"/>
                <a:ext cx="410400" cy="532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074720" y="3357720"/>
                <a:ext cx="208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6766920" y="3421800"/>
                <a:ext cx="230760" cy="6876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6666840" y="3421800"/>
                <a:ext cx="430920" cy="612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6666840" y="3450240"/>
                <a:ext cx="330840" cy="432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 flipH="1">
                <a:off x="6995160" y="3455280"/>
                <a:ext cx="997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6995520" y="342180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6687720" y="334512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6746760" y="334224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6805440" y="334224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6867000" y="334224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6928560" y="333972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6985080" y="333468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7046640" y="333468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7054560" y="3488400"/>
                <a:ext cx="43560" cy="31212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121160" y="4279320"/>
                <a:ext cx="245880" cy="11520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800" name="" descr=""/>
            <p:cNvPicPr/>
            <p:nvPr/>
          </p:nvPicPr>
          <p:blipFill>
            <a:blip r:embed="rId4"/>
            <a:stretch/>
          </p:blipFill>
          <p:spPr>
            <a:xfrm>
              <a:off x="5340240" y="1761840"/>
              <a:ext cx="131940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1" name="" descr=""/>
            <p:cNvPicPr/>
            <p:nvPr/>
          </p:nvPicPr>
          <p:blipFill>
            <a:blip r:embed="rId5"/>
            <a:stretch/>
          </p:blipFill>
          <p:spPr>
            <a:xfrm>
              <a:off x="5272200" y="4582800"/>
              <a:ext cx="1427040" cy="10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02" name=""/>
            <p:cNvGrpSpPr/>
            <p:nvPr/>
          </p:nvGrpSpPr>
          <p:grpSpPr>
            <a:xfrm>
              <a:off x="4417920" y="2340360"/>
              <a:ext cx="2024280" cy="2808360"/>
              <a:chOff x="4417920" y="2340360"/>
              <a:chExt cx="2024280" cy="2808360"/>
            </a:xfrm>
          </p:grpSpPr>
          <p:sp>
            <p:nvSpPr>
              <p:cNvPr id="4803" name=""/>
              <p:cNvSpPr/>
              <p:nvPr/>
            </p:nvSpPr>
            <p:spPr>
              <a:xfrm rot="2763000">
                <a:off x="4286520" y="4241160"/>
                <a:ext cx="1689120" cy="353160"/>
              </a:xfrm>
              <a:prstGeom prst="rightArrow">
                <a:avLst>
                  <a:gd name="adj1" fmla="val 50000"/>
                  <a:gd name="adj2" fmla="val 119572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 rot="18586200">
                <a:off x="4242240" y="2951640"/>
                <a:ext cx="1755720" cy="353160"/>
              </a:xfrm>
              <a:prstGeom prst="rightArrow">
                <a:avLst>
                  <a:gd name="adj1" fmla="val 50000"/>
                  <a:gd name="adj2" fmla="val 124286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4419720" y="3562200"/>
                <a:ext cx="2022480" cy="455400"/>
              </a:xfrm>
              <a:prstGeom prst="rightArrow">
                <a:avLst>
                  <a:gd name="adj1" fmla="val 50000"/>
                  <a:gd name="adj2" fmla="val 111028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06" name=""/>
            <p:cNvSpPr/>
            <p:nvPr/>
          </p:nvSpPr>
          <p:spPr>
            <a:xfrm>
              <a:off x="7108200" y="1752480"/>
              <a:ext cx="175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ndows 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ndows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ndows 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ndows 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onnection Manag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4808" name="CMMain" descr=""/>
          <p:cNvPicPr/>
          <p:nvPr/>
        </p:nvPicPr>
        <p:blipFill>
          <a:blip r:embed="rId2"/>
          <a:stretch/>
        </p:blipFill>
        <p:spPr>
          <a:xfrm>
            <a:off x="2309760" y="1066680"/>
            <a:ext cx="4048200" cy="5257800"/>
          </a:xfrm>
          <a:prstGeom prst="rect">
            <a:avLst/>
          </a:prstGeom>
          <a:ln w="0">
            <a:noFill/>
          </a:ln>
        </p:spPr>
      </p:pic>
      <p:sp>
        <p:nvSpPr>
          <p:cNvPr id="4809" name=""/>
          <p:cNvSpPr/>
          <p:nvPr/>
        </p:nvSpPr>
        <p:spPr>
          <a:xfrm>
            <a:off x="365040" y="2336760"/>
            <a:ext cx="1657440" cy="860400"/>
          </a:xfrm>
          <a:prstGeom prst="wedgeRectCallout">
            <a:avLst>
              <a:gd name="adj1" fmla="val 94347"/>
              <a:gd name="adj2" fmla="val -15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cég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ké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6429240" y="1676520"/>
            <a:ext cx="2486160" cy="1306440"/>
          </a:xfrm>
          <a:prstGeom prst="wedgeRectCallout">
            <a:avLst>
              <a:gd name="adj1" fmla="val -93421"/>
              <a:gd name="adj2" fmla="val 10540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szeri hitelesítés,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zvelen tárcsázá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N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m/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228600" y="4724280"/>
            <a:ext cx="2257560" cy="1043280"/>
          </a:xfrm>
          <a:prstGeom prst="wedgeRectCallout">
            <a:avLst>
              <a:gd name="adj1" fmla="val 68074"/>
              <a:gd name="adj2" fmla="val 64458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éni akci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6534000" y="3440160"/>
            <a:ext cx="2257560" cy="1109520"/>
          </a:xfrm>
          <a:prstGeom prst="wedgeRectCallout">
            <a:avLst>
              <a:gd name="adj1" fmla="val -84388"/>
              <a:gd name="adj2" fmla="val 6473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éni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ügyfélszolgálat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nf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6659640" y="4805280"/>
            <a:ext cx="2257200" cy="797040"/>
          </a:xfrm>
          <a:prstGeom prst="wedgeRectCallout">
            <a:avLst>
              <a:gd name="adj1" fmla="val -78763"/>
              <a:gd name="adj2" fmla="val 102388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éni súg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onnection Manag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4815" name="CMMain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902040" cy="5067360"/>
          </a:xfrm>
          <a:prstGeom prst="rect">
            <a:avLst/>
          </a:prstGeom>
          <a:ln w="0">
            <a:noFill/>
          </a:ln>
        </p:spPr>
      </p:pic>
      <p:pic>
        <p:nvPicPr>
          <p:cNvPr id="4816" name="CMPhone0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4189320" cy="5057640"/>
          </a:xfrm>
          <a:prstGeom prst="rect">
            <a:avLst/>
          </a:prstGeom>
          <a:ln w="0">
            <a:noFill/>
          </a:ln>
        </p:spPr>
      </p:pic>
      <p:pic>
        <p:nvPicPr>
          <p:cNvPr id="4817" name="CMPhone" descr=""/>
          <p:cNvPicPr/>
          <p:nvPr/>
        </p:nvPicPr>
        <p:blipFill>
          <a:blip r:embed="rId4"/>
          <a:stretch/>
        </p:blipFill>
        <p:spPr>
          <a:xfrm>
            <a:off x="2190600" y="1752480"/>
            <a:ext cx="4667400" cy="4838760"/>
          </a:xfrm>
          <a:prstGeom prst="rect">
            <a:avLst/>
          </a:prstGeom>
          <a:ln w="0">
            <a:noFill/>
          </a:ln>
        </p:spPr>
      </p:pic>
      <p:sp>
        <p:nvSpPr>
          <p:cNvPr id="4818" name=""/>
          <p:cNvSpPr/>
          <p:nvPr/>
        </p:nvSpPr>
        <p:spPr>
          <a:xfrm>
            <a:off x="7010280" y="1447920"/>
            <a:ext cx="1981440" cy="817560"/>
          </a:xfrm>
          <a:prstGeom prst="wedgeRectCallout">
            <a:avLst>
              <a:gd name="adj1" fmla="val -158972"/>
              <a:gd name="adj2" fmla="val 36212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és céges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lefonköny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7010280" y="2819520"/>
            <a:ext cx="1994040" cy="1226880"/>
          </a:xfrm>
          <a:prstGeom prst="wedgeRectCallout">
            <a:avLst>
              <a:gd name="adj1" fmla="val -119189"/>
              <a:gd name="adj2" fmla="val 137194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legolcsóbb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elépési pontot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álasztja 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7010280" y="5181480"/>
            <a:ext cx="2084400" cy="1113120"/>
          </a:xfrm>
          <a:prstGeom prst="wedgeRectCallout">
            <a:avLst>
              <a:gd name="adj1" fmla="val -120296"/>
              <a:gd name="adj2" fmla="val -5427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agy drágább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ásodlagos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ámot válasz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etup Manag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763120" cy="4991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a név azonos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féle elágazás, többféle futási mó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sztribúciós pont létrehoz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sak Windows 2000-en futtat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CD-n a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Support\Tools\Deploy.cab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talál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válasz fálj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Setup Manager a lehetséges paramétereknek csak a töredékére kérdez r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dokomentáció mérete jelenleg 142 old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1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apcsolat megosztása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Connection Sharing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2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415360" cy="50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gép megoszthatja működő RAS kapcsolatát a többi munkaállom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igyázat: automatikusan átírja a szomszédos gépek IP címei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IP kapcsolatot kézzel fel kell újítani a kapcsolat bontása utá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agától tárcsá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Proxy mindezt elegánsabban oldja meg (és fut Windows 2000 alat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3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ystem Preparation Tool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26880"/>
            <a:ext cx="8415360" cy="46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telepítése klónoz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eggyorsabb módszer (5-8 per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ug and Play miatt szélesebb körben használ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lónozás során legyen azonos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Merevlemez vezérlő (IDE-SCS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CPI támogatás és a BIOS verz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C kivételével mindenhez haszn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81080" y="5410080"/>
            <a:ext cx="866880" cy="865080"/>
            <a:chOff x="1981080" y="5410080"/>
            <a:chExt cx="866880" cy="865080"/>
          </a:xfrm>
        </p:grpSpPr>
        <p:pic>
          <p:nvPicPr>
            <p:cNvPr id="60" name="" descr=""/>
            <p:cNvPicPr/>
            <p:nvPr/>
          </p:nvPicPr>
          <p:blipFill>
            <a:blip r:embed="rId2"/>
            <a:srcRect l="15121" t="7998" r="14261" b="12026"/>
            <a:stretch/>
          </p:blipFill>
          <p:spPr>
            <a:xfrm>
              <a:off x="1981080" y="5410080"/>
              <a:ext cx="8668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rcRect l="0" t="0" r="0" b="33333"/>
            <a:stretch/>
          </p:blipFill>
          <p:spPr>
            <a:xfrm>
              <a:off x="2209680" y="5486400"/>
              <a:ext cx="4096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530760" y="5727600"/>
            <a:ext cx="1212840" cy="341280"/>
            <a:chOff x="6530760" y="5727600"/>
            <a:chExt cx="1212840" cy="341280"/>
          </a:xfrm>
        </p:grpSpPr>
        <p:sp>
          <p:nvSpPr>
            <p:cNvPr id="63" name=""/>
            <p:cNvSpPr/>
            <p:nvPr/>
          </p:nvSpPr>
          <p:spPr>
            <a:xfrm flipH="1">
              <a:off x="6530760" y="5727600"/>
              <a:ext cx="584280" cy="332280"/>
            </a:xfrm>
            <a:prstGeom prst="line">
              <a:avLst/>
            </a:prstGeom>
            <a:ln w="76320">
              <a:solidFill>
                <a:srgbClr val="eea56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15400" y="5727600"/>
              <a:ext cx="0" cy="341280"/>
            </a:xfrm>
            <a:prstGeom prst="line">
              <a:avLst/>
            </a:prstGeom>
            <a:ln w="76320">
              <a:solidFill>
                <a:srgbClr val="eea56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93080" y="5727600"/>
              <a:ext cx="650520" cy="312120"/>
            </a:xfrm>
            <a:prstGeom prst="line">
              <a:avLst/>
            </a:prstGeom>
            <a:ln w="76320">
              <a:solidFill>
                <a:srgbClr val="eea56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934320" y="4724280"/>
            <a:ext cx="1126800" cy="974880"/>
            <a:chOff x="6934320" y="4724280"/>
            <a:chExt cx="1126800" cy="974880"/>
          </a:xfrm>
        </p:grpSpPr>
        <p:pic>
          <p:nvPicPr>
            <p:cNvPr id="67" name="monitor%20standalone%20GIF" descr=""/>
            <p:cNvPicPr/>
            <p:nvPr/>
          </p:nvPicPr>
          <p:blipFill>
            <a:blip r:embed="rId4"/>
            <a:stretch/>
          </p:blipFill>
          <p:spPr>
            <a:xfrm>
              <a:off x="7372080" y="5010840"/>
              <a:ext cx="689040" cy="68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server%20Dell" descr=""/>
            <p:cNvPicPr/>
            <p:nvPr/>
          </p:nvPicPr>
          <p:blipFill>
            <a:blip r:embed="rId5"/>
            <a:srcRect l="0" t="0" r="0" b="3746"/>
            <a:stretch/>
          </p:blipFill>
          <p:spPr>
            <a:xfrm>
              <a:off x="6934320" y="4724280"/>
              <a:ext cx="486360" cy="97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6"/>
          <a:srcRect l="15121" t="7998" r="14261" b="12026"/>
          <a:stretch/>
        </p:blipFill>
        <p:spPr>
          <a:xfrm>
            <a:off x="6095880" y="6051600"/>
            <a:ext cx="717840" cy="65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rcRect l="0" t="0" r="0" b="33333"/>
          <a:stretch/>
        </p:blipFill>
        <p:spPr>
          <a:xfrm>
            <a:off x="6300720" y="6111720"/>
            <a:ext cx="338040" cy="239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rcRect l="15121" t="7998" r="14261" b="12026"/>
          <a:stretch/>
        </p:blipFill>
        <p:spPr>
          <a:xfrm>
            <a:off x="6818400" y="6051600"/>
            <a:ext cx="717480" cy="65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rcRect l="15121" t="7998" r="14261" b="12026"/>
          <a:stretch/>
        </p:blipFill>
        <p:spPr>
          <a:xfrm>
            <a:off x="7540560" y="6051600"/>
            <a:ext cx="719280" cy="654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rcRect l="0" t="0" r="0" b="33333"/>
          <a:stretch/>
        </p:blipFill>
        <p:spPr>
          <a:xfrm>
            <a:off x="7024680" y="611172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rcRect l="0" t="0" r="0" b="33333"/>
          <a:stretch/>
        </p:blipFill>
        <p:spPr>
          <a:xfrm>
            <a:off x="7746840" y="6111720"/>
            <a:ext cx="338400" cy="239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ysprep működése 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47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telep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lózat, biztonság, Default Us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ORKGROUP, azaz nem tagja semmilyen tartományna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 telepítés és testreszab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ystem Preparation tool futtat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pciók, SYSPREP.IN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7600" y="6324480"/>
            <a:ext cx="155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71500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ysprep működése I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090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mage dupliká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rton Gh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owerQuest Drive Im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rdveres céleszközö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ső indulásná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ID újragenerál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i Setup Wizard futása (ha nincs SYSPREP.IN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14:38:35Z</dcterms:created>
  <dc:creator>Tarsoly Balázs &amp; Szalontay Zoltán</dc:creator>
  <dc:description>A Windows 2000 előadássorozat (SP klub és Windows Akadémia) hatodik  előadása</dc:description>
  <dc:language>en-US</dc:language>
  <cp:lastModifiedBy>Zoltán Szalontay</cp:lastModifiedBy>
  <cp:lastPrinted>1998-11-23T08:04:50Z</cp:lastPrinted>
  <dcterms:modified xsi:type="dcterms:W3CDTF">1999-11-29T10:28:30Z</dcterms:modified>
  <cp:revision>59</cp:revision>
  <dc:subject/>
  <dc:title>A Windows 2000 telepítése és üzembehelyezése, Hálózatkezelés</dc:title>
</cp:coreProperties>
</file>