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8.wmf" ContentType="image/x-wmf"/>
  <Override PartName="/ppt/media/image40.png" ContentType="image/png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CC47D-B54A-4137-8422-7B1972F63D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95F98-2BD0-4B36-A845-91C155E6E5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C100B-F696-4517-9EB9-380DAD0BC6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REGISTRY TETOVÁLÁ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registry setting is set using NT4 system policies the setting stayed unti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cy is rever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r edits the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atic when a users’ group membership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ppen in Windows 2000  with the shipping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 Windows 2000 settings written to the following two secure locations are “cleaned up” when a GPO no longer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\Software\Polic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\Software\Microsoft\Windows\CurrentVersion\Policies</a:t>
            </a: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298E6-DB49-472D-82AC-9B7404C2D8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9079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t az öt modult hívjuk „Client Side Extension”-nek. Ezek mindegyikéhez tartozik egy ügyfél oldali komponens, ami szükség esetén a beállításokat értelme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BBA87-E577-49F9-A1B4-80ABAA3EA6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FEDB1-8699-42B7-94DD-CB0ECA88F2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0394C-7CD0-46B4-8882-C9250DB0E5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309E4-6488-4AE5-9876-ED9C99F4A0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7DEED-E136-44F8-9144-D27B41E5C3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855720" y="730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884160" y="4716360"/>
            <a:ext cx="4927680" cy="44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919B2-9BC6-4B31-ABDA-F03CFFCF76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3A48C-0FB3-4DCD-82EA-45E73A632C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DB7A8-2779-48C2-84C8-A304EB5CE9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6F15B-BA98-4FF8-91A8-6BC0CC6612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7.png"/><Relationship Id="rId13" Type="http://schemas.openxmlformats.org/officeDocument/2006/relationships/image" Target="../media/image29.png"/><Relationship Id="rId14" Type="http://schemas.openxmlformats.org/officeDocument/2006/relationships/image" Target="../media/image4.png"/><Relationship Id="rId15" Type="http://schemas.openxmlformats.org/officeDocument/2006/relationships/image" Target="../media/image7.png"/><Relationship Id="rId16" Type="http://schemas.openxmlformats.org/officeDocument/2006/relationships/image" Target="../media/image31.png"/><Relationship Id="rId17" Type="http://schemas.openxmlformats.org/officeDocument/2006/relationships/image" Target="../media/image4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25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4.png"/><Relationship Id="rId27" Type="http://schemas.openxmlformats.org/officeDocument/2006/relationships/image" Target="../media/image34.png"/><Relationship Id="rId28" Type="http://schemas.openxmlformats.org/officeDocument/2006/relationships/image" Target="../media/image5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32.png"/><Relationship Id="rId34" Type="http://schemas.openxmlformats.org/officeDocument/2006/relationships/image" Target="../media/image31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35.png"/><Relationship Id="rId40" Type="http://schemas.openxmlformats.org/officeDocument/2006/relationships/image" Target="../media/image35.png"/><Relationship Id="rId41" Type="http://schemas.openxmlformats.org/officeDocument/2006/relationships/image" Target="../media/image37.png"/><Relationship Id="rId42" Type="http://schemas.openxmlformats.org/officeDocument/2006/relationships/image" Target="../media/image8.png"/><Relationship Id="rId43" Type="http://schemas.openxmlformats.org/officeDocument/2006/relationships/image" Target="../media/image4.png"/><Relationship Id="rId44" Type="http://schemas.openxmlformats.org/officeDocument/2006/relationships/image" Target="../media/image37.png"/><Relationship Id="rId45" Type="http://schemas.openxmlformats.org/officeDocument/2006/relationships/image" Target="../media/image38.wmf"/><Relationship Id="rId4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Felhasználó és szoftver menedzsment Windows 2000-be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házirend  </a:t>
            </a:r>
            <a:r>
              <a:rPr b="1" lang="hu-HU" sz="4800" spc="-1" strike="noStrike">
                <a:solidFill>
                  <a:srgbClr val="fccf00"/>
                </a:solidFill>
                <a:latin typeface="Symbol"/>
                <a:ea typeface="Symbol"/>
              </a:rPr>
              <a:t>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használói profi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845640"/>
            <a:ext cx="8915400" cy="578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felhasználói profi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beállítás gyűjtemény, melyet a felhasználó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változtat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beállítások több helyen tárolód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ry (NTUser.da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kto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Profile könyvtár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il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em szükségképpe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veti a felhasznál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Group Polic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beállítás gyűjtemény, amit az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adminisztrátor határoz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indi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folyással van a munkállomás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6240" y="472284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ázirend - múlt és jelen -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5919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ázirend tartomány szinten jut érvény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zárólag korlátozásra használható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biztonságosak, mert „kitetoválják” a felhasználói profil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több szinte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kalmazható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e(s),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ain(s),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anizational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t(s) (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D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sősorba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enedzsmen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és másodsorban korlátozási célokra használju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incs „tetoválás”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önálló Registry kulcsokat használ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1840" y="319248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4320"/>
            <a:ext cx="87930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Desktop 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nedzsment csoportos házirendekke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413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gistry beállítások, „tetoválás” nélkü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Administrative Templ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beállításo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ecurity Set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 telep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oftware Instal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emelt mappák átirányítá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Folder redi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szintű szkriptelés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n/Logoff, Startup/Shutdow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cri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gfontolandó...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Windows 2000-es ügyfelek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élválasztás nem leltár, hanem OU 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helés elosztást a DFS biztosítja (most már replikál 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naplózás, nincs visszajel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időzítés, nincs tömörítés, nem veszi figyelembe a WAN specifik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 – I.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5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égrehajtási sorr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lózati alrendszer elindu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ámítógép specifikus házirend érvényre jut – szinkr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artUp szkriptek futtatása – rejtett és szinkr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trl-Alt-Del , felhasználó érvényesítése, profil betölt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elhasználó specifikus házirend érvényre ju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orrend : LGPO, NT4 stílusú, SD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ogon szkriptek futtatá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házirend alapján futó szkriptek – rejtve és aszinkr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felhasználói szkriptek normál ablakb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inkron - aszinkron tulajdonság módosíthat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600 másodperc múlva a szkriptek túllépik az idő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rejtett, minimalizált, és normál megjelenési mód felülírhat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47760" y="2437920"/>
            <a:ext cx="8415360" cy="11160"/>
          </a:xfrm>
          <a:prstGeom prst="line">
            <a:avLst/>
          </a:prstGeom>
          <a:ln w="1260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24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</a:t>
            </a:r>
            <a:br>
              <a:rPr sz="44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Optimalizálás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6840" y="1171080"/>
            <a:ext cx="8415360" cy="573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ezeli, hogy melyi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Side Extensio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CSE)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ll betölten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nincs adata, nem töltődik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menetben az összes olyan GPO-t megkapja, amiben számára vonatkozó adat v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t kapcsolóval  (User, Computer) optimalizálhatun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bekapcsolt, akk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 egész szekciót (user, computer) átugor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ek feldolgozása szinkron módon történ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egyes környez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43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(AD) + NTW 4.0 ügyf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soportos házirend nem működik, a kliens nem tudja értelmez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bejelentkezés ettől függetlenül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NT 4.0 + Windows 2000 Pro ügyf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ázirend (nem a csoportos) továbbra is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ozzárendelési szabályok követik az Active Directory struktúráját (SDOU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eállítások öröklődnek és összeadó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tlapolás (közös beállítások) esetén mindig a később érvényrejutó győ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ig a felhasználóhoz legközelebbi OU-ban megfogalmazott házirend töltődik be legutolj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ülről lefelé  halad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869160" y="5548320"/>
            <a:ext cx="1142640" cy="977040"/>
            <a:chOff x="6869160" y="5548320"/>
            <a:chExt cx="1142640" cy="977040"/>
          </a:xfrm>
        </p:grpSpPr>
        <p:grpSp>
          <p:nvGrpSpPr>
            <p:cNvPr id="463" name=""/>
            <p:cNvGrpSpPr/>
            <p:nvPr/>
          </p:nvGrpSpPr>
          <p:grpSpPr>
            <a:xfrm>
              <a:off x="6869160" y="5548320"/>
              <a:ext cx="852120" cy="769680"/>
              <a:chOff x="6869160" y="5548320"/>
              <a:chExt cx="852120" cy="769680"/>
            </a:xfrm>
          </p:grpSpPr>
          <p:sp>
            <p:nvSpPr>
              <p:cNvPr id="464" name=""/>
              <p:cNvSpPr/>
              <p:nvPr/>
            </p:nvSpPr>
            <p:spPr>
              <a:xfrm>
                <a:off x="6904800" y="610128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04800" y="610128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869160" y="554832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69160" y="554832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64200" y="5677560"/>
                <a:ext cx="171360" cy="5342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93880" y="610668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93880" y="610668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35560" y="5644080"/>
                <a:ext cx="542880" cy="5673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11880" y="5707080"/>
                <a:ext cx="39636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27360" y="5734440"/>
                <a:ext cx="349560" cy="3517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21720" y="6123960"/>
                <a:ext cx="78660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270560" y="5830560"/>
                <a:ext cx="32040" cy="8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64200" y="5571360"/>
                <a:ext cx="71424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176240" y="6202800"/>
              <a:ext cx="835560" cy="322560"/>
              <a:chOff x="7176240" y="6202800"/>
              <a:chExt cx="835560" cy="322560"/>
            </a:xfrm>
          </p:grpSpPr>
          <p:sp>
            <p:nvSpPr>
              <p:cNvPr id="478" name=""/>
              <p:cNvSpPr/>
              <p:nvPr/>
            </p:nvSpPr>
            <p:spPr>
              <a:xfrm>
                <a:off x="7176240" y="632700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6240" y="632700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80920" y="6202800"/>
                <a:ext cx="83052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3920" y="6249600"/>
                <a:ext cx="48888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284600" y="6298560"/>
                <a:ext cx="47808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01120" y="627444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64120" y="6316920"/>
                <a:ext cx="8676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786800" y="6251760"/>
                <a:ext cx="16164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2057400" y="2590920"/>
            <a:ext cx="1219320" cy="220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3200400"/>
            <a:ext cx="9144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38480" y="3733920"/>
            <a:ext cx="167652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4267080"/>
            <a:ext cx="1752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5105520"/>
            <a:ext cx="171468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38480" y="5105520"/>
            <a:ext cx="13716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5105520"/>
            <a:ext cx="76176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5105520"/>
            <a:ext cx="12193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851600" y="4749840"/>
            <a:ext cx="417600" cy="1366920"/>
            <a:chOff x="7851600" y="4749840"/>
            <a:chExt cx="417600" cy="1366920"/>
          </a:xfrm>
        </p:grpSpPr>
        <p:grpSp>
          <p:nvGrpSpPr>
            <p:cNvPr id="495" name=""/>
            <p:cNvGrpSpPr/>
            <p:nvPr/>
          </p:nvGrpSpPr>
          <p:grpSpPr>
            <a:xfrm>
              <a:off x="7940880" y="4749840"/>
              <a:ext cx="219600" cy="329040"/>
              <a:chOff x="7940880" y="4749840"/>
              <a:chExt cx="219600" cy="329040"/>
            </a:xfrm>
          </p:grpSpPr>
          <p:sp>
            <p:nvSpPr>
              <p:cNvPr id="496" name=""/>
              <p:cNvSpPr/>
              <p:nvPr/>
            </p:nvSpPr>
            <p:spPr>
              <a:xfrm>
                <a:off x="7940880" y="4749840"/>
                <a:ext cx="219600" cy="253440"/>
              </a:xfrm>
              <a:custGeom>
                <a:avLst/>
                <a:gdLst/>
                <a:ahLst/>
                <a:rect l="l" t="t" r="r" b="b"/>
                <a:pathLst>
                  <a:path w="241" h="396">
                    <a:moveTo>
                      <a:pt x="91" y="5"/>
                    </a:moveTo>
                    <a:lnTo>
                      <a:pt x="66" y="18"/>
                    </a:lnTo>
                    <a:lnTo>
                      <a:pt x="48" y="36"/>
                    </a:lnTo>
                    <a:lnTo>
                      <a:pt x="36" y="56"/>
                    </a:lnTo>
                    <a:lnTo>
                      <a:pt x="23" y="96"/>
                    </a:lnTo>
                    <a:lnTo>
                      <a:pt x="8" y="154"/>
                    </a:lnTo>
                    <a:lnTo>
                      <a:pt x="0" y="206"/>
                    </a:lnTo>
                    <a:lnTo>
                      <a:pt x="1" y="229"/>
                    </a:lnTo>
                    <a:lnTo>
                      <a:pt x="6" y="251"/>
                    </a:lnTo>
                    <a:lnTo>
                      <a:pt x="8" y="283"/>
                    </a:lnTo>
                    <a:lnTo>
                      <a:pt x="27" y="396"/>
                    </a:lnTo>
                    <a:lnTo>
                      <a:pt x="39" y="373"/>
                    </a:lnTo>
                    <a:lnTo>
                      <a:pt x="58" y="370"/>
                    </a:lnTo>
                    <a:lnTo>
                      <a:pt x="71" y="364"/>
                    </a:lnTo>
                    <a:lnTo>
                      <a:pt x="88" y="349"/>
                    </a:lnTo>
                    <a:lnTo>
                      <a:pt x="82" y="290"/>
                    </a:lnTo>
                    <a:lnTo>
                      <a:pt x="82" y="271"/>
                    </a:lnTo>
                    <a:lnTo>
                      <a:pt x="65" y="231"/>
                    </a:lnTo>
                    <a:lnTo>
                      <a:pt x="61" y="167"/>
                    </a:lnTo>
                    <a:lnTo>
                      <a:pt x="65" y="111"/>
                    </a:lnTo>
                    <a:lnTo>
                      <a:pt x="98" y="75"/>
                    </a:lnTo>
                    <a:lnTo>
                      <a:pt x="156" y="69"/>
                    </a:lnTo>
                    <a:lnTo>
                      <a:pt x="183" y="105"/>
                    </a:lnTo>
                    <a:lnTo>
                      <a:pt x="181" y="225"/>
                    </a:lnTo>
                    <a:lnTo>
                      <a:pt x="156" y="273"/>
                    </a:lnTo>
                    <a:lnTo>
                      <a:pt x="152" y="349"/>
                    </a:lnTo>
                    <a:lnTo>
                      <a:pt x="165" y="338"/>
                    </a:lnTo>
                    <a:lnTo>
                      <a:pt x="176" y="351"/>
                    </a:lnTo>
                    <a:lnTo>
                      <a:pt x="191" y="360"/>
                    </a:lnTo>
                    <a:lnTo>
                      <a:pt x="201" y="367"/>
                    </a:lnTo>
                    <a:lnTo>
                      <a:pt x="217" y="377"/>
                    </a:lnTo>
                    <a:lnTo>
                      <a:pt x="230" y="296"/>
                    </a:lnTo>
                    <a:lnTo>
                      <a:pt x="235" y="247"/>
                    </a:lnTo>
                    <a:lnTo>
                      <a:pt x="240" y="215"/>
                    </a:lnTo>
                    <a:lnTo>
                      <a:pt x="241" y="193"/>
                    </a:lnTo>
                    <a:lnTo>
                      <a:pt x="240" y="167"/>
                    </a:lnTo>
                    <a:lnTo>
                      <a:pt x="235" y="148"/>
                    </a:lnTo>
                    <a:lnTo>
                      <a:pt x="230" y="128"/>
                    </a:lnTo>
                    <a:lnTo>
                      <a:pt x="225" y="109"/>
                    </a:lnTo>
                    <a:lnTo>
                      <a:pt x="225" y="95"/>
                    </a:lnTo>
                    <a:lnTo>
                      <a:pt x="221" y="73"/>
                    </a:lnTo>
                    <a:lnTo>
                      <a:pt x="212" y="49"/>
                    </a:lnTo>
                    <a:lnTo>
                      <a:pt x="196" y="24"/>
                    </a:lnTo>
                    <a:lnTo>
                      <a:pt x="173" y="8"/>
                    </a:lnTo>
                    <a:lnTo>
                      <a:pt x="149" y="1"/>
                    </a:lnTo>
                    <a:lnTo>
                      <a:pt x="124" y="0"/>
                    </a:lnTo>
                    <a:lnTo>
                      <a:pt x="91" y="5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64640" y="4789440"/>
                <a:ext cx="180360" cy="289440"/>
              </a:xfrm>
              <a:custGeom>
                <a:avLst/>
                <a:gdLst/>
                <a:ahLst/>
                <a:rect l="l" t="t" r="r" b="b"/>
                <a:pathLst>
                  <a:path w="198" h="452">
                    <a:moveTo>
                      <a:pt x="72" y="6"/>
                    </a:moveTo>
                    <a:lnTo>
                      <a:pt x="56" y="14"/>
                    </a:lnTo>
                    <a:lnTo>
                      <a:pt x="43" y="30"/>
                    </a:lnTo>
                    <a:lnTo>
                      <a:pt x="36" y="49"/>
                    </a:lnTo>
                    <a:lnTo>
                      <a:pt x="33" y="71"/>
                    </a:lnTo>
                    <a:lnTo>
                      <a:pt x="30" y="104"/>
                    </a:lnTo>
                    <a:lnTo>
                      <a:pt x="36" y="162"/>
                    </a:lnTo>
                    <a:lnTo>
                      <a:pt x="42" y="182"/>
                    </a:lnTo>
                    <a:lnTo>
                      <a:pt x="56" y="211"/>
                    </a:lnTo>
                    <a:lnTo>
                      <a:pt x="56" y="280"/>
                    </a:lnTo>
                    <a:lnTo>
                      <a:pt x="0" y="318"/>
                    </a:lnTo>
                    <a:lnTo>
                      <a:pt x="102" y="452"/>
                    </a:lnTo>
                    <a:lnTo>
                      <a:pt x="198" y="309"/>
                    </a:lnTo>
                    <a:lnTo>
                      <a:pt x="130" y="266"/>
                    </a:lnTo>
                    <a:lnTo>
                      <a:pt x="130" y="212"/>
                    </a:lnTo>
                    <a:lnTo>
                      <a:pt x="150" y="180"/>
                    </a:lnTo>
                    <a:lnTo>
                      <a:pt x="156" y="163"/>
                    </a:lnTo>
                    <a:lnTo>
                      <a:pt x="160" y="108"/>
                    </a:lnTo>
                    <a:lnTo>
                      <a:pt x="162" y="76"/>
                    </a:lnTo>
                    <a:lnTo>
                      <a:pt x="162" y="55"/>
                    </a:lnTo>
                    <a:lnTo>
                      <a:pt x="155" y="34"/>
                    </a:lnTo>
                    <a:lnTo>
                      <a:pt x="144" y="17"/>
                    </a:lnTo>
                    <a:lnTo>
                      <a:pt x="130" y="7"/>
                    </a:lnTo>
                    <a:lnTo>
                      <a:pt x="111" y="0"/>
                    </a:lnTo>
                    <a:lnTo>
                      <a:pt x="91" y="0"/>
                    </a:lnTo>
                    <a:lnTo>
                      <a:pt x="72" y="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917840" y="5409720"/>
              <a:ext cx="342360" cy="648000"/>
              <a:chOff x="7917840" y="5409720"/>
              <a:chExt cx="342360" cy="64800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7917840" y="5409720"/>
                <a:ext cx="342360" cy="648000"/>
                <a:chOff x="7917840" y="5409720"/>
                <a:chExt cx="342360" cy="648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917840" y="5550480"/>
                  <a:ext cx="245160" cy="507240"/>
                </a:xfrm>
                <a:custGeom>
                  <a:avLst/>
                  <a:gdLst/>
                  <a:ahLst/>
                  <a:rect l="l" t="t" r="r" b="b"/>
                  <a:pathLst>
                    <a:path w="269" h="792">
                      <a:moveTo>
                        <a:pt x="49" y="17"/>
                      </a:moveTo>
                      <a:lnTo>
                        <a:pt x="52" y="244"/>
                      </a:lnTo>
                      <a:lnTo>
                        <a:pt x="51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3"/>
                      </a:lnTo>
                      <a:lnTo>
                        <a:pt x="12" y="792"/>
                      </a:lnTo>
                      <a:lnTo>
                        <a:pt x="60" y="789"/>
                      </a:lnTo>
                      <a:lnTo>
                        <a:pt x="101" y="684"/>
                      </a:lnTo>
                      <a:lnTo>
                        <a:pt x="104" y="617"/>
                      </a:lnTo>
                      <a:lnTo>
                        <a:pt x="136" y="397"/>
                      </a:lnTo>
                      <a:lnTo>
                        <a:pt x="140" y="347"/>
                      </a:lnTo>
                      <a:lnTo>
                        <a:pt x="139" y="449"/>
                      </a:lnTo>
                      <a:lnTo>
                        <a:pt x="153" y="595"/>
                      </a:lnTo>
                      <a:lnTo>
                        <a:pt x="149" y="663"/>
                      </a:lnTo>
                      <a:lnTo>
                        <a:pt x="171" y="731"/>
                      </a:lnTo>
                      <a:lnTo>
                        <a:pt x="200" y="780"/>
                      </a:lnTo>
                      <a:lnTo>
                        <a:pt x="243" y="783"/>
                      </a:lnTo>
                      <a:lnTo>
                        <a:pt x="256" y="766"/>
                      </a:lnTo>
                      <a:lnTo>
                        <a:pt x="210" y="660"/>
                      </a:lnTo>
                      <a:lnTo>
                        <a:pt x="206" y="611"/>
                      </a:lnTo>
                      <a:lnTo>
                        <a:pt x="214" y="506"/>
                      </a:lnTo>
                      <a:lnTo>
                        <a:pt x="232" y="332"/>
                      </a:lnTo>
                      <a:lnTo>
                        <a:pt x="269" y="0"/>
                      </a:lnTo>
                      <a:lnTo>
                        <a:pt x="49" y="17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202240" y="5409720"/>
                  <a:ext cx="57960" cy="640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8044560" y="5555160"/>
                <a:ext cx="20880" cy="224280"/>
              </a:xfrm>
              <a:custGeom>
                <a:avLst/>
                <a:gdLst/>
                <a:ahLst/>
                <a:rect l="l" t="t" r="r" b="b"/>
                <a:pathLst>
                  <a:path w="23" h="350">
                    <a:moveTo>
                      <a:pt x="23" y="0"/>
                    </a:moveTo>
                    <a:lnTo>
                      <a:pt x="23" y="116"/>
                    </a:lnTo>
                    <a:lnTo>
                      <a:pt x="19" y="185"/>
                    </a:lnTo>
                    <a:lnTo>
                      <a:pt x="13" y="260"/>
                    </a:lnTo>
                    <a:lnTo>
                      <a:pt x="0" y="333"/>
                    </a:lnTo>
                    <a:lnTo>
                      <a:pt x="3" y="350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05240" y="5975280"/>
              <a:ext cx="260640" cy="141480"/>
              <a:chOff x="7905240" y="5975280"/>
              <a:chExt cx="260640" cy="141480"/>
            </a:xfrm>
          </p:grpSpPr>
          <p:sp>
            <p:nvSpPr>
              <p:cNvPr id="504" name=""/>
              <p:cNvSpPr/>
              <p:nvPr/>
            </p:nvSpPr>
            <p:spPr>
              <a:xfrm>
                <a:off x="8047440" y="5975280"/>
                <a:ext cx="118440" cy="133920"/>
              </a:xfrm>
              <a:custGeom>
                <a:avLst/>
                <a:gdLst/>
                <a:ahLst/>
                <a:rect l="l" t="t" r="r" b="b"/>
                <a:pathLst>
                  <a:path w="130" h="209">
                    <a:moveTo>
                      <a:pt x="9" y="0"/>
                    </a:moveTo>
                    <a:lnTo>
                      <a:pt x="0" y="32"/>
                    </a:lnTo>
                    <a:lnTo>
                      <a:pt x="0" y="94"/>
                    </a:lnTo>
                    <a:lnTo>
                      <a:pt x="13" y="71"/>
                    </a:lnTo>
                    <a:lnTo>
                      <a:pt x="27" y="101"/>
                    </a:lnTo>
                    <a:lnTo>
                      <a:pt x="32" y="143"/>
                    </a:lnTo>
                    <a:lnTo>
                      <a:pt x="52" y="182"/>
                    </a:lnTo>
                    <a:lnTo>
                      <a:pt x="84" y="204"/>
                    </a:lnTo>
                    <a:lnTo>
                      <a:pt x="108" y="209"/>
                    </a:lnTo>
                    <a:lnTo>
                      <a:pt x="130" y="205"/>
                    </a:lnTo>
                    <a:lnTo>
                      <a:pt x="130" y="163"/>
                    </a:lnTo>
                    <a:lnTo>
                      <a:pt x="113" y="103"/>
                    </a:lnTo>
                    <a:lnTo>
                      <a:pt x="103" y="118"/>
                    </a:lnTo>
                    <a:lnTo>
                      <a:pt x="84" y="118"/>
                    </a:lnTo>
                    <a:lnTo>
                      <a:pt x="58" y="116"/>
                    </a:lnTo>
                    <a:lnTo>
                      <a:pt x="40" y="88"/>
                    </a:lnTo>
                    <a:lnTo>
                      <a:pt x="24" y="55"/>
                    </a:lnTo>
                    <a:lnTo>
                      <a:pt x="9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905240" y="5977800"/>
                <a:ext cx="107640" cy="138960"/>
              </a:xfrm>
              <a:custGeom>
                <a:avLst/>
                <a:gdLst/>
                <a:ahLst/>
                <a:rect l="l" t="t" r="r" b="b"/>
                <a:pathLst>
                  <a:path w="118" h="217">
                    <a:moveTo>
                      <a:pt x="117" y="0"/>
                    </a:moveTo>
                    <a:lnTo>
                      <a:pt x="118" y="87"/>
                    </a:lnTo>
                    <a:lnTo>
                      <a:pt x="111" y="65"/>
                    </a:lnTo>
                    <a:lnTo>
                      <a:pt x="101" y="93"/>
                    </a:lnTo>
                    <a:lnTo>
                      <a:pt x="92" y="133"/>
                    </a:lnTo>
                    <a:lnTo>
                      <a:pt x="82" y="168"/>
                    </a:lnTo>
                    <a:lnTo>
                      <a:pt x="59" y="195"/>
                    </a:lnTo>
                    <a:lnTo>
                      <a:pt x="37" y="211"/>
                    </a:lnTo>
                    <a:lnTo>
                      <a:pt x="16" y="217"/>
                    </a:lnTo>
                    <a:lnTo>
                      <a:pt x="8" y="207"/>
                    </a:lnTo>
                    <a:lnTo>
                      <a:pt x="1" y="187"/>
                    </a:lnTo>
                    <a:lnTo>
                      <a:pt x="0" y="165"/>
                    </a:lnTo>
                    <a:lnTo>
                      <a:pt x="3" y="143"/>
                    </a:lnTo>
                    <a:lnTo>
                      <a:pt x="13" y="107"/>
                    </a:lnTo>
                    <a:lnTo>
                      <a:pt x="30" y="120"/>
                    </a:lnTo>
                    <a:lnTo>
                      <a:pt x="56" y="120"/>
                    </a:lnTo>
                    <a:lnTo>
                      <a:pt x="74" y="119"/>
                    </a:lnTo>
                    <a:lnTo>
                      <a:pt x="104" y="45"/>
                    </a:lnTo>
                    <a:lnTo>
                      <a:pt x="117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851600" y="4977000"/>
              <a:ext cx="417600" cy="992160"/>
              <a:chOff x="7851600" y="4977000"/>
              <a:chExt cx="417600" cy="9921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7851600" y="4977000"/>
                <a:ext cx="417600" cy="992160"/>
                <a:chOff x="7851600" y="4977000"/>
                <a:chExt cx="417600" cy="992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851600" y="4977000"/>
                  <a:ext cx="417600" cy="99216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130" y="16"/>
                      </a:moveTo>
                      <a:lnTo>
                        <a:pt x="40" y="67"/>
                      </a:lnTo>
                      <a:lnTo>
                        <a:pt x="17" y="109"/>
                      </a:lnTo>
                      <a:lnTo>
                        <a:pt x="0" y="466"/>
                      </a:lnTo>
                      <a:lnTo>
                        <a:pt x="7" y="549"/>
                      </a:lnTo>
                      <a:lnTo>
                        <a:pt x="62" y="542"/>
                      </a:lnTo>
                      <a:lnTo>
                        <a:pt x="59" y="753"/>
                      </a:lnTo>
                      <a:lnTo>
                        <a:pt x="85" y="753"/>
                      </a:lnTo>
                      <a:lnTo>
                        <a:pt x="117" y="1191"/>
                      </a:lnTo>
                      <a:lnTo>
                        <a:pt x="119" y="1422"/>
                      </a:lnTo>
                      <a:lnTo>
                        <a:pt x="124" y="1528"/>
                      </a:lnTo>
                      <a:lnTo>
                        <a:pt x="146" y="1548"/>
                      </a:lnTo>
                      <a:lnTo>
                        <a:pt x="185" y="1531"/>
                      </a:lnTo>
                      <a:lnTo>
                        <a:pt x="206" y="1352"/>
                      </a:lnTo>
                      <a:lnTo>
                        <a:pt x="222" y="1538"/>
                      </a:lnTo>
                      <a:lnTo>
                        <a:pt x="255" y="1547"/>
                      </a:lnTo>
                      <a:lnTo>
                        <a:pt x="286" y="1534"/>
                      </a:lnTo>
                      <a:lnTo>
                        <a:pt x="319" y="1181"/>
                      </a:lnTo>
                      <a:lnTo>
                        <a:pt x="359" y="924"/>
                      </a:lnTo>
                      <a:lnTo>
                        <a:pt x="422" y="685"/>
                      </a:lnTo>
                      <a:lnTo>
                        <a:pt x="458" y="681"/>
                      </a:lnTo>
                      <a:lnTo>
                        <a:pt x="425" y="351"/>
                      </a:lnTo>
                      <a:lnTo>
                        <a:pt x="423" y="93"/>
                      </a:lnTo>
                      <a:lnTo>
                        <a:pt x="403" y="64"/>
                      </a:lnTo>
                      <a:lnTo>
                        <a:pt x="307" y="0"/>
                      </a:lnTo>
                      <a:lnTo>
                        <a:pt x="226" y="139"/>
                      </a:lnTo>
                      <a:lnTo>
                        <a:pt x="130" y="16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9" name=""/>
                <p:cNvGrpSpPr/>
                <p:nvPr/>
              </p:nvGrpSpPr>
              <p:grpSpPr>
                <a:xfrm>
                  <a:off x="7914240" y="5251320"/>
                  <a:ext cx="181440" cy="208440"/>
                  <a:chOff x="7914240" y="5251320"/>
                  <a:chExt cx="181440" cy="2084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7938000" y="5251320"/>
                    <a:ext cx="15768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25">
                        <a:moveTo>
                          <a:pt x="0" y="325"/>
                        </a:moveTo>
                        <a:lnTo>
                          <a:pt x="169" y="308"/>
                        </a:lnTo>
                        <a:lnTo>
                          <a:pt x="173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914240" y="5276160"/>
                    <a:ext cx="17784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1">
                        <a:moveTo>
                          <a:pt x="0" y="81"/>
                        </a:moveTo>
                        <a:lnTo>
                          <a:pt x="68" y="59"/>
                        </a:lnTo>
                        <a:lnTo>
                          <a:pt x="195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7906320" y="5079960"/>
                <a:ext cx="257040" cy="245160"/>
                <a:chOff x="7906320" y="5079960"/>
                <a:chExt cx="257040" cy="245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7926120" y="5079960"/>
                  <a:ext cx="219600" cy="185760"/>
                </a:xfrm>
                <a:custGeom>
                  <a:avLst/>
                  <a:gdLst/>
                  <a:ahLst/>
                  <a:rect l="l" t="t" r="r" b="b"/>
                  <a:pathLst>
                    <a:path w="241" h="290">
                      <a:moveTo>
                        <a:pt x="0" y="102"/>
                      </a:moveTo>
                      <a:lnTo>
                        <a:pt x="155" y="0"/>
                      </a:lnTo>
                      <a:lnTo>
                        <a:pt x="241" y="195"/>
                      </a:lnTo>
                      <a:lnTo>
                        <a:pt x="85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67600" y="5157360"/>
                  <a:ext cx="95760" cy="99720"/>
                </a:xfrm>
                <a:custGeom>
                  <a:avLst/>
                  <a:gdLst/>
                  <a:ahLst/>
                  <a:rect l="l" t="t" r="r" b="b"/>
                  <a:pathLst>
                    <a:path w="105" h="156">
                      <a:moveTo>
                        <a:pt x="0" y="95"/>
                      </a:moveTo>
                      <a:lnTo>
                        <a:pt x="26" y="72"/>
                      </a:lnTo>
                      <a:lnTo>
                        <a:pt x="40" y="26"/>
                      </a:lnTo>
                      <a:lnTo>
                        <a:pt x="60" y="12"/>
                      </a:lnTo>
                      <a:lnTo>
                        <a:pt x="70" y="0"/>
                      </a:lnTo>
                      <a:lnTo>
                        <a:pt x="78" y="4"/>
                      </a:lnTo>
                      <a:lnTo>
                        <a:pt x="79" y="16"/>
                      </a:lnTo>
                      <a:lnTo>
                        <a:pt x="99" y="38"/>
                      </a:lnTo>
                      <a:lnTo>
                        <a:pt x="105" y="77"/>
                      </a:lnTo>
                      <a:lnTo>
                        <a:pt x="99" y="104"/>
                      </a:lnTo>
                      <a:lnTo>
                        <a:pt x="69" y="134"/>
                      </a:lnTo>
                      <a:lnTo>
                        <a:pt x="10" y="156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06320" y="5214960"/>
                  <a:ext cx="177840" cy="110160"/>
                </a:xfrm>
                <a:custGeom>
                  <a:avLst/>
                  <a:gdLst/>
                  <a:ahLst/>
                  <a:rect l="l" t="t" r="r" b="b"/>
                  <a:pathLst>
                    <a:path w="195" h="172">
                      <a:moveTo>
                        <a:pt x="0" y="172"/>
                      </a:moveTo>
                      <a:lnTo>
                        <a:pt x="78" y="143"/>
                      </a:lnTo>
                      <a:lnTo>
                        <a:pt x="139" y="108"/>
                      </a:lnTo>
                      <a:lnTo>
                        <a:pt x="195" y="75"/>
                      </a:lnTo>
                      <a:lnTo>
                        <a:pt x="174" y="0"/>
                      </a:lnTo>
                      <a:lnTo>
                        <a:pt x="71" y="47"/>
                      </a:lnTo>
                      <a:lnTo>
                        <a:pt x="9" y="70"/>
                      </a:lnTo>
                      <a:lnTo>
                        <a:pt x="6" y="57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8040960" y="5490720"/>
              <a:ext cx="23760" cy="36000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26" y="0"/>
                  </a:moveTo>
                  <a:lnTo>
                    <a:pt x="17" y="302"/>
                  </a:lnTo>
                  <a:lnTo>
                    <a:pt x="0" y="562"/>
                  </a:lnTo>
                </a:path>
              </a:pathLst>
            </a:custGeom>
            <a:noFill/>
            <a:ln w="19080">
              <a:solidFill>
                <a:srgbClr val="5f3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1208880" y="213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hely házir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31520" y="25909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10240" y="3316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2136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3000" y="495288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égeredmé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5680" y="228600"/>
            <a:ext cx="8967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6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ső szinten előírható, hogy az alsó szinten lévő beállítások ne írják át a felülről kapott beállításokat (Enforce, vagy No Overrid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só szinten teljesen letiltható a felső szinten megfogalmazott házirendek érvényre jutása (Bloc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o Override erősebb, mint a Blo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No Override közül pedig a magasabb szinten lévő az erőseb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24120" y="2819520"/>
            <a:ext cx="1478160" cy="1233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ea564"/>
          </a:solidFill>
          <a:ln w="381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74600" y="2989440"/>
            <a:ext cx="2266920" cy="2990520"/>
            <a:chOff x="174600" y="2989440"/>
            <a:chExt cx="2266920" cy="2990520"/>
          </a:xfrm>
        </p:grpSpPr>
        <p:grpSp>
          <p:nvGrpSpPr>
            <p:cNvPr id="526" name=""/>
            <p:cNvGrpSpPr/>
            <p:nvPr/>
          </p:nvGrpSpPr>
          <p:grpSpPr>
            <a:xfrm>
              <a:off x="174600" y="4143240"/>
              <a:ext cx="2266920" cy="1836720"/>
              <a:chOff x="174600" y="4143240"/>
              <a:chExt cx="2266920" cy="1836720"/>
            </a:xfrm>
          </p:grpSpPr>
          <p:sp>
            <p:nvSpPr>
              <p:cNvPr id="527" name=""/>
              <p:cNvSpPr/>
              <p:nvPr/>
            </p:nvSpPr>
            <p:spPr>
              <a:xfrm>
                <a:off x="174600" y="4143240"/>
                <a:ext cx="2266920" cy="183672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431640" y="4404960"/>
                <a:ext cx="1785240" cy="1508400"/>
                <a:chOff x="431640" y="4404960"/>
                <a:chExt cx="1785240" cy="1508400"/>
              </a:xfrm>
            </p:grpSpPr>
            <p:sp>
              <p:nvSpPr>
                <p:cNvPr id="529" name=""/>
                <p:cNvSpPr/>
                <p:nvPr/>
              </p:nvSpPr>
              <p:spPr>
                <a:xfrm flipV="1">
                  <a:off x="529560" y="5455800"/>
                  <a:ext cx="296640" cy="284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762840" y="5466600"/>
                  <a:ext cx="77760" cy="27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997920" y="5463720"/>
                  <a:ext cx="12492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1132560" y="5476680"/>
                  <a:ext cx="75960" cy="263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1458360" y="5463720"/>
                  <a:ext cx="6156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>
                  <a:off x="1524960" y="5471640"/>
                  <a:ext cx="134640" cy="26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1807200" y="5463720"/>
                  <a:ext cx="7740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1816920" y="5471640"/>
                  <a:ext cx="281880" cy="26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1515600" y="5024160"/>
                  <a:ext cx="28224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1510200" y="5024160"/>
                  <a:ext cx="468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1118520" y="5024160"/>
                  <a:ext cx="1404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840960" y="5024160"/>
                  <a:ext cx="28692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1323000" y="4582800"/>
                  <a:ext cx="168120" cy="26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1126440" y="4561920"/>
                  <a:ext cx="196560" cy="28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225080" y="4404960"/>
                  <a:ext cx="201240" cy="1746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029600" y="4851360"/>
                  <a:ext cx="201240" cy="1728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407600" y="4851360"/>
                  <a:ext cx="201240" cy="1728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34400" y="52956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706040" y="52956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24920" y="52956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20200" y="5295600"/>
                  <a:ext cx="2030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31640" y="57402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01564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1091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345680" y="57402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663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88480" y="5740200"/>
                  <a:ext cx="2030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664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805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 flipH="1">
              <a:off x="1349280" y="2989440"/>
              <a:ext cx="378000" cy="11617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állatorvosi ló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716120" y="1160640"/>
            <a:ext cx="2266920" cy="1836720"/>
            <a:chOff x="1716120" y="1160640"/>
            <a:chExt cx="2266920" cy="1836720"/>
          </a:xfrm>
        </p:grpSpPr>
        <p:sp>
          <p:nvSpPr>
            <p:cNvPr id="561" name=""/>
            <p:cNvSpPr/>
            <p:nvPr/>
          </p:nvSpPr>
          <p:spPr>
            <a:xfrm>
              <a:off x="1716120" y="1160640"/>
              <a:ext cx="2266920" cy="1836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056680" y="2370960"/>
              <a:ext cx="296640" cy="28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291400" y="2383560"/>
              <a:ext cx="76320" cy="27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526120" y="2379240"/>
              <a:ext cx="12420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2660400" y="2391840"/>
              <a:ext cx="76320" cy="26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986200" y="2379240"/>
              <a:ext cx="6192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053160" y="2387160"/>
              <a:ext cx="133920" cy="26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335400" y="2379240"/>
              <a:ext cx="7668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345480" y="2387160"/>
              <a:ext cx="282240" cy="26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3043080" y="1938960"/>
              <a:ext cx="28260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038400" y="1938960"/>
              <a:ext cx="468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646360" y="1938960"/>
              <a:ext cx="1368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368440" y="1938960"/>
              <a:ext cx="28692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850840" y="1499400"/>
              <a:ext cx="167400" cy="26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655000" y="1478520"/>
              <a:ext cx="196200" cy="28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1840" y="132120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56720" y="176652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34720" y="176652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6152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3388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240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4840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59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43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62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735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93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166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8376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076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878360" y="1170000"/>
            <a:ext cx="1261800" cy="2257200"/>
            <a:chOff x="4878360" y="1170000"/>
            <a:chExt cx="1261800" cy="2257200"/>
          </a:xfrm>
        </p:grpSpPr>
        <p:sp>
          <p:nvSpPr>
            <p:cNvPr id="592" name=""/>
            <p:cNvSpPr/>
            <p:nvPr/>
          </p:nvSpPr>
          <p:spPr>
            <a:xfrm>
              <a:off x="5275080" y="1170000"/>
              <a:ext cx="86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65440" y="1613160"/>
              <a:ext cx="378000" cy="415800"/>
            </a:xfrm>
            <a:custGeom>
              <a:avLst/>
              <a:gdLst>
                <a:gd name="textAreaLeft" fmla="*/ 83160 w 378000"/>
                <a:gd name="textAreaRight" fmla="*/ 294840 w 37800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8360" y="2860920"/>
              <a:ext cx="377640" cy="41724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2440" y="3011400"/>
              <a:ext cx="379440" cy="415800"/>
            </a:xfrm>
            <a:custGeom>
              <a:avLst/>
              <a:gdLst>
                <a:gd name="textAreaLeft" fmla="*/ 83520 w 379440"/>
                <a:gd name="textAreaRight" fmla="*/ 295920 w 37944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8360" y="1299960"/>
              <a:ext cx="377640" cy="41580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8360" y="1820160"/>
              <a:ext cx="377640" cy="41796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960"/>
                <a:gd name="textAreaBottom" fmla="*/ 326160 h 41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8360" y="2340720"/>
              <a:ext cx="377640" cy="41724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95640" y="1381320"/>
              <a:ext cx="388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78360" y="187992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94200" y="242064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92440" y="3061800"/>
              <a:ext cx="3859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8360" y="291348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92440" y="2340720"/>
              <a:ext cx="379440" cy="417240"/>
            </a:xfrm>
            <a:custGeom>
              <a:avLst/>
              <a:gdLst>
                <a:gd name="textAreaLeft" fmla="*/ 83520 w 379440"/>
                <a:gd name="textAreaRight" fmla="*/ 295920 w 3794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809800" y="1193760"/>
            <a:ext cx="2141280" cy="662040"/>
            <a:chOff x="2809800" y="1193760"/>
            <a:chExt cx="2141280" cy="662040"/>
          </a:xfrm>
        </p:grpSpPr>
        <p:cxnSp>
          <p:nvCxnSpPr>
            <p:cNvPr id="606" name=""/>
            <p:cNvCxnSpPr/>
            <p:nvPr/>
          </p:nvCxnSpPr>
          <p:spPr>
            <a:xfrm>
              <a:off x="2809800" y="1193760"/>
              <a:ext cx="2141640" cy="14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607" name=""/>
            <p:cNvCxnSpPr/>
            <p:nvPr/>
          </p:nvCxnSpPr>
          <p:spPr>
            <a:xfrm>
              <a:off x="2809800" y="1193760"/>
              <a:ext cx="2141640" cy="662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lg" type="stealth" w="lg"/>
            </a:ln>
          </p:spPr>
        </p:cxnSp>
      </p:grpSp>
      <p:cxnSp>
        <p:nvCxnSpPr>
          <p:cNvPr id="608" name=""/>
          <p:cNvCxnSpPr/>
          <p:nvPr/>
        </p:nvCxnSpPr>
        <p:spPr>
          <a:xfrm flipV="1">
            <a:off x="501480" y="2579040"/>
            <a:ext cx="4306320" cy="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09" name=""/>
          <p:cNvGrpSpPr/>
          <p:nvPr/>
        </p:nvGrpSpPr>
        <p:grpSpPr>
          <a:xfrm>
            <a:off x="235440" y="1108080"/>
            <a:ext cx="1556640" cy="2703600"/>
            <a:chOff x="235440" y="1108080"/>
            <a:chExt cx="1556640" cy="2703600"/>
          </a:xfrm>
        </p:grpSpPr>
        <p:sp>
          <p:nvSpPr>
            <p:cNvPr id="610" name=""/>
            <p:cNvSpPr/>
            <p:nvPr/>
          </p:nvSpPr>
          <p:spPr>
            <a:xfrm>
              <a:off x="839520" y="1108080"/>
              <a:ext cx="952560" cy="2703600"/>
            </a:xfrm>
            <a:custGeom>
              <a:avLst/>
              <a:gdLst>
                <a:gd name="textAreaLeft" fmla="*/ 608760 w 952560"/>
                <a:gd name="textAreaRight" fmla="*/ 952920 w 952560"/>
                <a:gd name="textAreaTop" fmla="*/ 70200 h 2703600"/>
                <a:gd name="textAreaBottom" fmla="*/ 2633400 h 270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674"/>
                  </a:lnTo>
                  <a:cubicBezTo>
                    <a:pt x="10800" y="12574"/>
                    <a:pt x="5400" y="13474"/>
                    <a:pt x="0" y="13474"/>
                  </a:cubicBezTo>
                  <a:cubicBezTo>
                    <a:pt x="5400" y="13474"/>
                    <a:pt x="10800" y="14374"/>
                    <a:pt x="10800" y="152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5440" y="2541960"/>
              <a:ext cx="620640" cy="518760"/>
            </a:xfrm>
            <a:prstGeom prst="flowChartTerminator">
              <a:avLst/>
            </a:prstGeom>
            <a:solidFill>
              <a:srgbClr val="5686d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5923080" y="6093000"/>
            <a:ext cx="1427040" cy="556920"/>
          </a:xfrm>
          <a:prstGeom prst="wedgeRectCallout">
            <a:avLst>
              <a:gd name="adj1" fmla="val -91740"/>
              <a:gd name="adj2" fmla="val -64324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7829640" y="5288040"/>
            <a:ext cx="998280" cy="9684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918040" y="6099120"/>
            <a:ext cx="1428840" cy="557280"/>
          </a:xfrm>
          <a:prstGeom prst="wedgeRectCallout">
            <a:avLst>
              <a:gd name="adj1" fmla="val 100666"/>
              <a:gd name="adj2" fmla="val -52564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i az én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házirendem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952880" y="5551560"/>
            <a:ext cx="4669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16" name=""/>
          <p:cNvCxnSpPr>
            <a:stCxn id="580" idx="5"/>
            <a:endCxn id="603" idx="1"/>
          </p:cNvCxnSpPr>
          <p:nvPr/>
        </p:nvCxnSpPr>
        <p:spPr>
          <a:xfrm>
            <a:off x="3406680" y="2358720"/>
            <a:ext cx="1472400" cy="680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17" name=""/>
          <p:cNvGrpSpPr/>
          <p:nvPr/>
        </p:nvGrpSpPr>
        <p:grpSpPr>
          <a:xfrm>
            <a:off x="3664080" y="4581360"/>
            <a:ext cx="866160" cy="1459080"/>
            <a:chOff x="3664080" y="4581360"/>
            <a:chExt cx="866160" cy="1459080"/>
          </a:xfrm>
        </p:grpSpPr>
        <p:sp>
          <p:nvSpPr>
            <p:cNvPr id="618" name=""/>
            <p:cNvSpPr/>
            <p:nvPr/>
          </p:nvSpPr>
          <p:spPr>
            <a:xfrm>
              <a:off x="4151160" y="4894200"/>
              <a:ext cx="379080" cy="41904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2160 h 419040"/>
                <a:gd name="textAreaBottom" fmla="*/ 32688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51160" y="5414760"/>
              <a:ext cx="379080" cy="4194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2160 h 419400"/>
                <a:gd name="textAreaBottom" fmla="*/ 32724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64080" y="4581360"/>
              <a:ext cx="379080" cy="4176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800 h 417600"/>
                <a:gd name="textAreaBottom" fmla="*/ 32580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64080" y="5103720"/>
              <a:ext cx="379080" cy="4158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64080" y="5624640"/>
              <a:ext cx="379080" cy="4158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64080" y="4676400"/>
              <a:ext cx="3884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64080" y="5708160"/>
              <a:ext cx="3884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625" name=""/>
          <p:cNvCxnSpPr>
            <a:stCxn id="547" idx="5"/>
            <a:endCxn id="624" idx="1"/>
          </p:cNvCxnSpPr>
          <p:nvPr/>
        </p:nvCxnSpPr>
        <p:spPr>
          <a:xfrm>
            <a:off x="1879200" y="5443560"/>
            <a:ext cx="1785240" cy="38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26" name=""/>
          <p:cNvCxnSpPr>
            <a:stCxn id="545" idx="5"/>
            <a:endCxn id="622" idx="2"/>
          </p:cNvCxnSpPr>
          <p:nvPr/>
        </p:nvCxnSpPr>
        <p:spPr>
          <a:xfrm>
            <a:off x="1579680" y="4998600"/>
            <a:ext cx="213228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27" name=""/>
          <p:cNvGrpSpPr/>
          <p:nvPr/>
        </p:nvGrpSpPr>
        <p:grpSpPr>
          <a:xfrm>
            <a:off x="1625760" y="3279240"/>
            <a:ext cx="3773160" cy="2001960"/>
            <a:chOff x="1625760" y="3279240"/>
            <a:chExt cx="3773160" cy="2001960"/>
          </a:xfrm>
        </p:grpSpPr>
        <p:sp>
          <p:nvSpPr>
            <p:cNvPr id="628" name=""/>
            <p:cNvSpPr/>
            <p:nvPr/>
          </p:nvSpPr>
          <p:spPr>
            <a:xfrm flipV="1">
              <a:off x="1625760" y="3279240"/>
              <a:ext cx="3773160" cy="2001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035200">
              <a:off x="2376000" y="417492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3300"/>
                  </a:solidFill>
                  <a:latin typeface="Arial"/>
                </a:rPr>
                <a:t>LASS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4600" y="3875040"/>
            <a:ext cx="7547040" cy="328680"/>
            <a:chOff x="174600" y="3875040"/>
            <a:chExt cx="7547040" cy="328680"/>
          </a:xfrm>
        </p:grpSpPr>
        <p:sp>
          <p:nvSpPr>
            <p:cNvPr id="631" name=""/>
            <p:cNvSpPr/>
            <p:nvPr/>
          </p:nvSpPr>
          <p:spPr>
            <a:xfrm>
              <a:off x="174600" y="3875040"/>
              <a:ext cx="7547040" cy="0"/>
            </a:xfrm>
            <a:prstGeom prst="line">
              <a:avLst/>
            </a:prstGeom>
            <a:ln w="12600">
              <a:solidFill>
                <a:srgbClr val="fcc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41360" y="3929040"/>
              <a:ext cx="177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Nincs öröklőd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lságok az előző diá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741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GPO több SDOU-hoz is tartoz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SDOU-hoz több GPO is tartoz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 nincs öröklő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 lehet hivatkozni, de ez nagyon lassú is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5711760" y="2921040"/>
          <a:ext cx="3068640" cy="33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1760" y="2921040"/>
                    <a:ext cx="3068640" cy="3389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öbbszörös hozzárendel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77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van, he egy SDOU több GPO-hoz is hozzá van rendelv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istában elől lévő 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ülírj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ntebb lévő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 fordítot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orrendben hajtódnak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égre, mint ahogy az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istán lát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elhasználó itt, gép ott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880" y="976320"/>
            <a:ext cx="8763120" cy="5757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 mindig érvényre jut, ha a felhasználó bejelent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történik, ha a felhasználó és a gép nem egy OU-ban va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opback process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place – A gépnél definiált felhasználói beállítások felülírják a felhasználónál megadotta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rge – A gépnél definiált felhasználói beállítások összeadódnak a felhasználónál megadottak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jánlott: Merge, gépnél csak gép, felhasználónál csak felhaszná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18720"/>
            <a:ext cx="84312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ccf00"/>
                </a:solidFill>
                <a:latin typeface="Arial"/>
              </a:rPr>
              <a:t>A házirendek kapcsolata a Telephelyekkel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429000" y="762120"/>
            <a:ext cx="3623760" cy="2257200"/>
            <a:chOff x="3429000" y="762120"/>
            <a:chExt cx="3623760" cy="2257200"/>
          </a:xfrm>
        </p:grpSpPr>
        <p:grpSp>
          <p:nvGrpSpPr>
            <p:cNvPr id="643" name=""/>
            <p:cNvGrpSpPr/>
            <p:nvPr/>
          </p:nvGrpSpPr>
          <p:grpSpPr>
            <a:xfrm>
              <a:off x="5791320" y="762120"/>
              <a:ext cx="1261440" cy="2257200"/>
              <a:chOff x="5791320" y="762120"/>
              <a:chExt cx="1261440" cy="2257200"/>
            </a:xfrm>
          </p:grpSpPr>
          <p:sp>
            <p:nvSpPr>
              <p:cNvPr id="644" name=""/>
              <p:cNvSpPr/>
              <p:nvPr/>
            </p:nvSpPr>
            <p:spPr>
              <a:xfrm>
                <a:off x="6188040" y="762120"/>
                <a:ext cx="86472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P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78400" y="1204920"/>
                <a:ext cx="377640" cy="41580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440 h 415800"/>
                  <a:gd name="textAreaBottom" fmla="*/ 324360 h 41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91320" y="2452680"/>
                <a:ext cx="377640" cy="41904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2160 h 419040"/>
                  <a:gd name="textAreaBottom" fmla="*/ 326880 h 41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05400" y="2603520"/>
                <a:ext cx="379080" cy="415800"/>
              </a:xfrm>
              <a:custGeom>
                <a:avLst/>
                <a:gdLst>
                  <a:gd name="textAreaLeft" fmla="*/ 83160 w 379080"/>
                  <a:gd name="textAreaRight" fmla="*/ 295920 w 379080"/>
                  <a:gd name="textAreaTop" fmla="*/ 91440 h 415800"/>
                  <a:gd name="textAreaBottom" fmla="*/ 324360 h 41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91320" y="892080"/>
                <a:ext cx="377640" cy="41616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440 h 416160"/>
                  <a:gd name="textAreaBottom" fmla="*/ 3247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1320" y="1413000"/>
                <a:ext cx="377640" cy="41724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800 h 417240"/>
                  <a:gd name="textAreaBottom" fmla="*/ 32544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91320" y="1933560"/>
                <a:ext cx="377640" cy="41760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800 h 417600"/>
                  <a:gd name="textAreaBottom" fmla="*/ 325800 h 4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05400" y="1933560"/>
                <a:ext cx="379080" cy="417600"/>
              </a:xfrm>
              <a:custGeom>
                <a:avLst/>
                <a:gdLst>
                  <a:gd name="textAreaLeft" fmla="*/ 83160 w 379080"/>
                  <a:gd name="textAreaRight" fmla="*/ 295920 w 379080"/>
                  <a:gd name="textAreaTop" fmla="*/ 91800 h 417600"/>
                  <a:gd name="textAreaBottom" fmla="*/ 325800 h 4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3429000" y="1676520"/>
              <a:ext cx="2362320" cy="185760"/>
            </a:xfrm>
            <a:prstGeom prst="rightArrow">
              <a:avLst>
                <a:gd name="adj1" fmla="val 50000"/>
                <a:gd name="adj2" fmla="val 317926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19160" y="3069720"/>
            <a:ext cx="3581280" cy="3483360"/>
            <a:chOff x="1019160" y="3069720"/>
            <a:chExt cx="3581280" cy="3483360"/>
          </a:xfrm>
        </p:grpSpPr>
        <p:sp>
          <p:nvSpPr>
            <p:cNvPr id="654" name=""/>
            <p:cNvSpPr/>
            <p:nvPr/>
          </p:nvSpPr>
          <p:spPr>
            <a:xfrm>
              <a:off x="1019160" y="5029200"/>
              <a:ext cx="3581280" cy="1523880"/>
            </a:xfrm>
            <a:prstGeom prst="hexagon">
              <a:avLst>
                <a:gd name="adj" fmla="val 58753"/>
                <a:gd name="vf" fmla="val 115470"/>
              </a:avLst>
            </a:prstGeom>
            <a:gradFill rotWithShape="0">
              <a:gsLst>
                <a:gs pos="0">
                  <a:srgbClr val="745f00"/>
                </a:gs>
                <a:gs pos="100000">
                  <a:srgbClr val="fccf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55" name=""/>
            <p:cNvCxnSpPr>
              <a:stCxn id="656" idx="3"/>
              <a:endCxn id="657" idx="0"/>
            </p:cNvCxnSpPr>
            <p:nvPr/>
          </p:nvCxnSpPr>
          <p:spPr>
            <a:xfrm>
              <a:off x="1447560" y="3069720"/>
              <a:ext cx="538920" cy="2264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922320" cy="83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9" name=""/>
            <p:cNvCxnSpPr>
              <a:stCxn id="660" idx="3"/>
              <a:endCxn id="661" idx="0"/>
            </p:cNvCxnSpPr>
            <p:nvPr/>
          </p:nvCxnSpPr>
          <p:spPr>
            <a:xfrm flipH="1">
              <a:off x="3661920" y="3070080"/>
              <a:ext cx="529200" cy="2340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662" name="" descr=""/>
            <p:cNvPicPr/>
            <p:nvPr/>
          </p:nvPicPr>
          <p:blipFill>
            <a:blip r:embed="rId3"/>
            <a:stretch/>
          </p:blipFill>
          <p:spPr>
            <a:xfrm>
              <a:off x="3429000" y="5410080"/>
              <a:ext cx="46656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"/>
          <p:cNvGrpSpPr/>
          <p:nvPr/>
        </p:nvGrpSpPr>
        <p:grpSpPr>
          <a:xfrm>
            <a:off x="7086600" y="914400"/>
            <a:ext cx="2057400" cy="2133720"/>
            <a:chOff x="7086600" y="914400"/>
            <a:chExt cx="2057400" cy="2133720"/>
          </a:xfrm>
        </p:grpSpPr>
        <p:grpSp>
          <p:nvGrpSpPr>
            <p:cNvPr id="664" name=""/>
            <p:cNvGrpSpPr/>
            <p:nvPr/>
          </p:nvGrpSpPr>
          <p:grpSpPr>
            <a:xfrm>
              <a:off x="7848720" y="1066680"/>
              <a:ext cx="1295280" cy="1780560"/>
              <a:chOff x="7848720" y="1066680"/>
              <a:chExt cx="1295280" cy="1780560"/>
            </a:xfrm>
          </p:grpSpPr>
          <p:pic>
            <p:nvPicPr>
              <p:cNvPr id="6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48720" y="10666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970760" y="1182600"/>
                <a:ext cx="80496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094600" y="1298520"/>
                <a:ext cx="80316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7000" y="14140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339040" y="1530000"/>
                <a:ext cx="804960" cy="73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7848720" y="2340000"/>
                <a:ext cx="1295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Tartomány vezérlő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7086600" y="1828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6600" y="914400"/>
              <a:ext cx="152280" cy="21337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7240" y="1143000"/>
            <a:ext cx="5429160" cy="2209680"/>
            <a:chOff x="57240" y="1143000"/>
            <a:chExt cx="5429160" cy="2209680"/>
          </a:xfrm>
        </p:grpSpPr>
        <p:grpSp>
          <p:nvGrpSpPr>
            <p:cNvPr id="674" name=""/>
            <p:cNvGrpSpPr/>
            <p:nvPr/>
          </p:nvGrpSpPr>
          <p:grpSpPr>
            <a:xfrm>
              <a:off x="152280" y="1143000"/>
              <a:ext cx="5334120" cy="2209680"/>
              <a:chOff x="152280" y="1143000"/>
              <a:chExt cx="5334120" cy="2209680"/>
            </a:xfrm>
          </p:grpSpPr>
          <p:sp>
            <p:nvSpPr>
              <p:cNvPr id="675" name=""/>
              <p:cNvSpPr/>
              <p:nvPr/>
            </p:nvSpPr>
            <p:spPr>
              <a:xfrm>
                <a:off x="152280" y="1143000"/>
                <a:ext cx="5334120" cy="220968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00200" y="1199520"/>
                <a:ext cx="2438280" cy="679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d6c42"/>
                  </a:gs>
                  <a:gs pos="100000">
                    <a:srgbClr val="eea56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278080" y="1506240"/>
                <a:ext cx="1193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artomán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2971800" y="2389320"/>
                <a:ext cx="2438280" cy="679680"/>
                <a:chOff x="2971800" y="2389320"/>
                <a:chExt cx="2438280" cy="6796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971800" y="2389320"/>
                  <a:ext cx="2438280" cy="67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d6c42"/>
                    </a:gs>
                    <a:gs pos="100000">
                      <a:srgbClr val="eea56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649680" y="2698200"/>
                  <a:ext cx="1193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Arial"/>
                    </a:rPr>
                    <a:t>Tarto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28600" y="2389320"/>
                <a:ext cx="2438280" cy="679680"/>
                <a:chOff x="228600" y="2389320"/>
                <a:chExt cx="2438280" cy="679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228600" y="2389320"/>
                  <a:ext cx="2438280" cy="67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d6c42"/>
                    </a:gs>
                    <a:gs pos="100000">
                      <a:srgbClr val="eea56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906480" y="2698200"/>
                  <a:ext cx="1193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Arial"/>
                    </a:rPr>
                    <a:t>Tarto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82" name=""/>
              <p:cNvCxnSpPr>
                <a:stCxn id="676" idx="3"/>
                <a:endCxn id="656" idx="0"/>
              </p:cNvCxnSpPr>
              <p:nvPr/>
            </p:nvCxnSpPr>
            <p:spPr>
              <a:xfrm flipH="1">
                <a:off x="1447560" y="1879560"/>
                <a:ext cx="1372320" cy="5104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683" name=""/>
              <p:cNvCxnSpPr>
                <a:stCxn id="676" idx="3"/>
                <a:endCxn id="660" idx="0"/>
              </p:cNvCxnSpPr>
              <p:nvPr/>
            </p:nvCxnSpPr>
            <p:spPr>
              <a:xfrm>
                <a:off x="2819520" y="1879560"/>
                <a:ext cx="1372320" cy="5104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684" name=""/>
            <p:cNvSpPr/>
            <p:nvPr/>
          </p:nvSpPr>
          <p:spPr>
            <a:xfrm>
              <a:off x="57240" y="1219320"/>
              <a:ext cx="11937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5686dc"/>
                  </a:solidFill>
                  <a:latin typeface="Arial"/>
                </a:rPr>
                <a:t>Erdő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0" y="1878840"/>
            <a:ext cx="3860640" cy="3283200"/>
            <a:chOff x="0" y="1878840"/>
            <a:chExt cx="3860640" cy="3283200"/>
          </a:xfrm>
        </p:grpSpPr>
        <p:sp>
          <p:nvSpPr>
            <p:cNvPr id="686" name=""/>
            <p:cNvSpPr/>
            <p:nvPr/>
          </p:nvSpPr>
          <p:spPr>
            <a:xfrm>
              <a:off x="2666880" y="4114800"/>
              <a:ext cx="1193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cf00"/>
                  </a:solidFill>
                  <a:latin typeface="Arial"/>
                </a:rPr>
                <a:t>GP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7" name=""/>
            <p:cNvCxnSpPr>
              <a:stCxn id="654" idx="0"/>
              <a:endCxn id="676" idx="3"/>
            </p:cNvCxnSpPr>
            <p:nvPr/>
          </p:nvCxnSpPr>
          <p:spPr>
            <a:xfrm flipV="1">
              <a:off x="2809440" y="1878840"/>
              <a:ext cx="10440" cy="315036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cxnSp>
          <p:nvCxnSpPr>
            <p:cNvPr id="688" name=""/>
            <p:cNvCxnSpPr>
              <a:stCxn id="654" idx="0"/>
              <a:endCxn id="656" idx="4"/>
            </p:cNvCxnSpPr>
            <p:nvPr/>
          </p:nvCxnSpPr>
          <p:spPr>
            <a:xfrm flipH="1" flipV="1">
              <a:off x="2666160" y="3069720"/>
              <a:ext cx="143640" cy="195984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cxnSp>
          <p:nvCxnSpPr>
            <p:cNvPr id="689" name=""/>
            <p:cNvCxnSpPr>
              <a:stCxn id="654" idx="0"/>
              <a:endCxn id="660" idx="2"/>
            </p:cNvCxnSpPr>
            <p:nvPr/>
          </p:nvCxnSpPr>
          <p:spPr>
            <a:xfrm flipV="1">
              <a:off x="2809800" y="3069720"/>
              <a:ext cx="162720" cy="195984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sp>
          <p:nvSpPr>
            <p:cNvPr id="690" name=""/>
            <p:cNvSpPr/>
            <p:nvPr/>
          </p:nvSpPr>
          <p:spPr>
            <a:xfrm>
              <a:off x="0" y="3564000"/>
              <a:ext cx="1600200" cy="1598040"/>
            </a:xfrm>
            <a:prstGeom prst="wedgeRoundRectCallout">
              <a:avLst>
                <a:gd name="adj1" fmla="val 122782"/>
                <a:gd name="adj2" fmla="val -6217"/>
                <a:gd name="adj3" fmla="val 16667"/>
              </a:avLst>
            </a:prstGeom>
            <a:noFill/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A </a:t>
              </a:r>
              <a:r>
                <a:rPr b="1" lang="en-US" sz="1300" spc="-1" strike="noStrike">
                  <a:solidFill>
                    <a:srgbClr val="fccf00"/>
                  </a:solidFill>
                  <a:latin typeface="Arial"/>
                </a:rPr>
                <a:t>GPLink </a:t>
              </a: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a</a:t>
              </a:r>
              <a:r>
                <a:rPr b="1" lang="en-US" sz="1300" spc="-1" strike="noStrike">
                  <a:solidFill>
                    <a:srgbClr val="fccf00"/>
                  </a:solidFill>
                  <a:latin typeface="Arial"/>
                </a:rPr>
                <a:t> Glob</a:t>
              </a: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ális katalógusban tárolódik és így minden tartományban elérhető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600440" y="3018960"/>
            <a:ext cx="3934080" cy="3074400"/>
            <a:chOff x="4600440" y="3018960"/>
            <a:chExt cx="3934080" cy="3074400"/>
          </a:xfrm>
        </p:grpSpPr>
        <p:cxnSp>
          <p:nvCxnSpPr>
            <p:cNvPr id="692" name=""/>
            <p:cNvCxnSpPr>
              <a:stCxn id="654" idx="3"/>
              <a:endCxn id="647" idx="1"/>
            </p:cNvCxnSpPr>
            <p:nvPr/>
          </p:nvCxnSpPr>
          <p:spPr>
            <a:xfrm flipV="1">
              <a:off x="4600440" y="3018960"/>
              <a:ext cx="1896480" cy="2772720"/>
            </a:xfrm>
            <a:prstGeom prst="curvedConnector2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693" name=""/>
            <p:cNvSpPr/>
            <p:nvPr/>
          </p:nvSpPr>
          <p:spPr>
            <a:xfrm>
              <a:off x="6781680" y="4380840"/>
              <a:ext cx="1752840" cy="1712520"/>
            </a:xfrm>
            <a:prstGeom prst="wedgeRoundRectCallout">
              <a:avLst>
                <a:gd name="adj1" fmla="val -173449"/>
                <a:gd name="adj2" fmla="val 44888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gy telephelyhez rendelt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továbbra is csak egy tartományban tárolódi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8440" y="853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Csoportos házi</a:t>
            </a: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r</a:t>
            </a: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end és a felhasználói csoportok - I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38040" y="1553760"/>
            <a:ext cx="8415360" cy="490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al Unit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Felhasználói cso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zirendet OU-hoz rendelünk, nem csoporthoz, felhasználóhoz és gép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 hatósugarát szűkíthetjük ACL-ek segítségé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óval nagyobb belépési sebességet eredményez, mint amit a csoportokhoz rendelt házirendek biztosítaná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440" y="853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Csoportos házirend és a felhasználói csoportok – II.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37680" y="1596600"/>
            <a:ext cx="8805960" cy="4235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Új elem a jogosultságok listájáb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y Group Policy (AG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vasás és a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GP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zükség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 házirend érvényre jutásá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ett jogosultság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ated Us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R,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ntrol, 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 Admi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prise Admi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5105520" y="3352680"/>
            <a:ext cx="2361960" cy="1905120"/>
            <a:chOff x="5105520" y="3352680"/>
            <a:chExt cx="2361960" cy="1905120"/>
          </a:xfrm>
        </p:grpSpPr>
        <p:sp>
          <p:nvSpPr>
            <p:cNvPr id="699" name=""/>
            <p:cNvSpPr/>
            <p:nvPr/>
          </p:nvSpPr>
          <p:spPr>
            <a:xfrm>
              <a:off x="5241960" y="3976560"/>
              <a:ext cx="685800" cy="395280"/>
            </a:xfrm>
            <a:prstGeom prst="rightArrow">
              <a:avLst>
                <a:gd name="adj1" fmla="val 50000"/>
                <a:gd name="adj2" fmla="val 43374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43600" y="4484520"/>
              <a:ext cx="15238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roup Policy Container 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b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06960" y="3809880"/>
              <a:ext cx="1397160" cy="1447920"/>
            </a:xfrm>
            <a:prstGeom prst="rect">
              <a:avLst/>
            </a:prstGeom>
            <a:noFill/>
            <a:ln w="381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05520" y="3352680"/>
              <a:ext cx="225360" cy="9223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3962520"/>
              <a:ext cx="685800" cy="533160"/>
            </a:xfrm>
            <a:prstGeom prst="diamond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2344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Csoportos házirendek</a:t>
            </a:r>
            <a:br>
              <a:rPr sz="4400"/>
            </a:b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tárolás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547040" y="380880"/>
            <a:ext cx="1596960" cy="1492560"/>
            <a:chOff x="7547040" y="380880"/>
            <a:chExt cx="1596960" cy="1492560"/>
          </a:xfrm>
        </p:grpSpPr>
        <p:sp>
          <p:nvSpPr>
            <p:cNvPr id="706" name=""/>
            <p:cNvSpPr/>
            <p:nvPr/>
          </p:nvSpPr>
          <p:spPr>
            <a:xfrm>
              <a:off x="7696080" y="838080"/>
              <a:ext cx="1447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egistry.pol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48440" y="380880"/>
              <a:ext cx="990720" cy="457200"/>
            </a:xfrm>
            <a:prstGeom prst="roundRect">
              <a:avLst>
                <a:gd name="adj" fmla="val 50000"/>
              </a:avLst>
            </a:prstGeom>
            <a:solidFill>
              <a:srgbClr val="5686d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8662800">
              <a:off x="7542360" y="144432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2438280"/>
            <a:ext cx="2209680" cy="1780560"/>
            <a:chOff x="6934320" y="2438280"/>
            <a:chExt cx="2209680" cy="1780560"/>
          </a:xfrm>
        </p:grpSpPr>
        <p:grpSp>
          <p:nvGrpSpPr>
            <p:cNvPr id="710" name=""/>
            <p:cNvGrpSpPr/>
            <p:nvPr/>
          </p:nvGrpSpPr>
          <p:grpSpPr>
            <a:xfrm>
              <a:off x="7848720" y="2438280"/>
              <a:ext cx="1295280" cy="1780560"/>
              <a:chOff x="7848720" y="2438280"/>
              <a:chExt cx="1295280" cy="1780560"/>
            </a:xfrm>
          </p:grpSpPr>
          <p:pic>
            <p:nvPicPr>
              <p:cNvPr id="7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24382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70760" y="2554200"/>
                <a:ext cx="80496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94600" y="2670120"/>
                <a:ext cx="80316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17000" y="27856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339040" y="2901600"/>
                <a:ext cx="804960" cy="73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7848720" y="3711600"/>
                <a:ext cx="1295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Tartomány vezérlő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7086600" y="32004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34320" y="2819520"/>
              <a:ext cx="152280" cy="99036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419000" y="1828800"/>
            <a:ext cx="2972520" cy="1700640"/>
            <a:chOff x="4419000" y="1828800"/>
            <a:chExt cx="2972520" cy="1700640"/>
          </a:xfrm>
        </p:grpSpPr>
        <p:sp>
          <p:nvSpPr>
            <p:cNvPr id="720" name=""/>
            <p:cNvSpPr/>
            <p:nvPr/>
          </p:nvSpPr>
          <p:spPr>
            <a:xfrm>
              <a:off x="5103720" y="2181240"/>
              <a:ext cx="230400" cy="131616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57800" y="207648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019920" y="1828800"/>
              <a:ext cx="1371600" cy="1007640"/>
              <a:chOff x="6019920" y="1828800"/>
              <a:chExt cx="1371600" cy="1007640"/>
            </a:xfrm>
          </p:grpSpPr>
          <p:sp>
            <p:nvSpPr>
              <p:cNvPr id="723" name=""/>
              <p:cNvSpPr/>
              <p:nvPr/>
            </p:nvSpPr>
            <p:spPr>
              <a:xfrm>
                <a:off x="6269040" y="2535840"/>
                <a:ext cx="93528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ysvo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518520" y="1899360"/>
                <a:ext cx="374040" cy="565560"/>
              </a:xfrm>
              <a:prstGeom prst="can">
                <a:avLst>
                  <a:gd name="adj" fmla="val 25000"/>
                </a:avLst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9920" y="1828800"/>
                <a:ext cx="1371600" cy="99000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 rot="5381400">
              <a:off x="4725000" y="2942280"/>
              <a:ext cx="228600" cy="8395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14840" y="3228840"/>
              <a:ext cx="86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UI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04560" y="1828800"/>
            <a:ext cx="4827960" cy="3200400"/>
            <a:chOff x="304560" y="1828800"/>
            <a:chExt cx="4827960" cy="3200400"/>
          </a:xfrm>
        </p:grpSpPr>
        <p:grpSp>
          <p:nvGrpSpPr>
            <p:cNvPr id="729" name=""/>
            <p:cNvGrpSpPr/>
            <p:nvPr/>
          </p:nvGrpSpPr>
          <p:grpSpPr>
            <a:xfrm>
              <a:off x="304560" y="1828800"/>
              <a:ext cx="4827960" cy="3200400"/>
              <a:chOff x="304560" y="1828800"/>
              <a:chExt cx="4827960" cy="320040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304560" y="3733920"/>
                <a:ext cx="3429000" cy="121896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304560" y="2133720"/>
                <a:ext cx="3429000" cy="8380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0880" y="1828800"/>
                <a:ext cx="22100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roup Policy Edit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733920" y="2971800"/>
                <a:ext cx="685800" cy="76212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66880" y="2133720"/>
                <a:ext cx="1752840" cy="8380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2590920" y="3733920"/>
                <a:ext cx="1828800" cy="12952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3886200" y="2209680"/>
                <a:ext cx="1246320" cy="2629080"/>
                <a:chOff x="3886200" y="2209680"/>
                <a:chExt cx="1246320" cy="26290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267080" y="2209680"/>
                  <a:ext cx="86544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P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19720" y="2590920"/>
                  <a:ext cx="377640" cy="415800"/>
                </a:xfrm>
                <a:custGeom>
                  <a:avLst/>
                  <a:gdLst>
                    <a:gd name="textAreaLeft" fmla="*/ 82800 w 377640"/>
                    <a:gd name="textAreaRight" fmla="*/ 294840 w 377640"/>
                    <a:gd name="textAreaTop" fmla="*/ 91440 h 415800"/>
                    <a:gd name="textAreaBottom" fmla="*/ 324360 h 41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886200" y="4419720"/>
                  <a:ext cx="378000" cy="41904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2160 h 419040"/>
                    <a:gd name="textAreaBottom" fmla="*/ 326880 h 419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00640" y="4356000"/>
                  <a:ext cx="379440" cy="416160"/>
                </a:xfrm>
                <a:custGeom>
                  <a:avLst/>
                  <a:gdLst>
                    <a:gd name="textAreaLeft" fmla="*/ 83520 w 379440"/>
                    <a:gd name="textAreaRight" fmla="*/ 295920 w 379440"/>
                    <a:gd name="textAreaTop" fmla="*/ 91440 h 416160"/>
                    <a:gd name="textAreaBottom" fmla="*/ 324720 h 41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886200" y="2438280"/>
                  <a:ext cx="378000" cy="41616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440 h 416160"/>
                    <a:gd name="textAreaBottom" fmla="*/ 324720 h 41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86200" y="3165480"/>
                  <a:ext cx="378000" cy="41760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86200" y="3886200"/>
                  <a:ext cx="378000" cy="41760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419720" y="3886200"/>
                  <a:ext cx="379440" cy="417600"/>
                </a:xfrm>
                <a:custGeom>
                  <a:avLst/>
                  <a:gdLst>
                    <a:gd name="textAreaLeft" fmla="*/ 83520 w 379440"/>
                    <a:gd name="textAreaRight" fmla="*/ 295920 w 37944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45" name="" descr=""/>
            <p:cNvPicPr/>
            <p:nvPr/>
          </p:nvPicPr>
          <p:blipFill>
            <a:blip r:embed="rId7"/>
            <a:stretch/>
          </p:blipFill>
          <p:spPr>
            <a:xfrm>
              <a:off x="304920" y="2133720"/>
              <a:ext cx="237636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plikációs kérdé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P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lójában két helyen tárolód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ctive Directory –ban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Group Policy Container (GPC)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YSVOL-on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roup Policy Template (GPT)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ication latency may cause delays in the availability of new or changed poli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ét komponenst két eltérő replikációs megoldással replik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YSVOL replikálására (fájl replikáció) SMTP nem használ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l módosul házirend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763120" cy="5108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ésbe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C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mulator-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egy FSMO szerepkö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lyik DC-t válasszuk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biztonság a fontos, akk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D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Emulátort, lehet hogy lass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konzisztencia és teljesítmény a fontos, akkor az aktuális DC-t (ahol éppen ülö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gy melyik DC-t használhatjuk a házirend szerkesztésére, azt házirenddel szabályozhatjuk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10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yors áttekintés (dem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lliMirr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vezető a csoportos házirendekhez (Group Polic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oportos házirend működ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mplementációs kérd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vezési kérd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baelhár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oftver disztribúció kérdéskö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szerkesztés szabály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24000" y="1273320"/>
            <a:ext cx="8415360" cy="442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más-más tartományvezérlőn több adminisztrátor ugyanazt a GPO-t szerkeszti, az utolsó író ny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előtt szerkesztjük győződjünk meg arról, hogy a GPO teljesen replikálódot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„SAVE” gomb, a módosítás azonnal rögz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kesztés alatt tiltsuk le a GPO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ogy frissül a házirend az ügyfél oldalon 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36240" y="1763280"/>
            <a:ext cx="8589960" cy="499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Professional: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ercb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30 perces véletlenszám hozzáadásával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 vezérl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inden 5 percb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zoftver telepítés és a mappa átirányítás csak belépéskor friss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a GPO változik, csak a különbségek töltődnek 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rissülési időket házirenden keresztül szabályozhatjuk 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zirend és a lassú vonal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80880" y="1185480"/>
            <a:ext cx="8415360" cy="5302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assú vonal: &lt; 500 Kb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ódosítható érték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Templates\System\Group Polic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ulcs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ig letöltődik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 (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inistrativ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at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öltődik 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ppa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22200" y="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zirend egy gép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lon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ámítógépnek lehet önálló házirendje ami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ocal Group Policy Object (LGPO)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nek hív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\%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ystemroot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\system32\Group Poli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 következők támogatotta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egy LGPO számítógépenké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szűrni, de két csoportot be lehet állítani, az egyik akikre érvényes a másik akikre nem (tipikusan az admi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ig az LGPO jut először érvény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élés NT 4 házirendd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52080" y="1033560"/>
            <a:ext cx="8588520" cy="568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4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ú házirendek kizárólag Registry módosítások, amit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NFIG.P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jlban tárolu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PROMO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tán az új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LOGON shar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re költö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%systemroot%\SYSVOL\sysvol\Domain.name\SCRI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rissítés után minden beállítás megmarad és tovább működik az NT4 stílusú házir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GPO, NT4, Site, Domain, OU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 sor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a viselkedés kikapcsolható a  házirendben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efault Domain GPO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 Configuration\Administrative Templates\System\Group Policy and is called Disable system policy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T4 stílusú ADM fájlok használhat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 felejtsük ez Registry „tetoválást” jel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Ötletek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0600" y="1335240"/>
            <a:ext cx="8415360" cy="532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Ne bonyolítsuk túl 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!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lehet korlátozzu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röklődést (Bloc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ülről kényszerítést (Enfo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okon átnyúló GPO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opb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rlátozzuk a felhasználót és számítógépet érintő GPO-k szám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szűrésre az ACL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ltsuk le a nem használt rész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Milyen struktúr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92240" y="1417680"/>
            <a:ext cx="4130640" cy="267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ély OU struktú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 miatt nehezebb hibaelhár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i szabályokat kell módosíta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4160" y="1417680"/>
            <a:ext cx="4479840" cy="279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apos OU struktú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öröklődés, könnyű hibaelhár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lószínű ACL-el szűrni k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unkásabb” a kivitelez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006560" y="4600440"/>
            <a:ext cx="2316240" cy="1681200"/>
            <a:chOff x="1006560" y="4600440"/>
            <a:chExt cx="2316240" cy="1681200"/>
          </a:xfrm>
        </p:grpSpPr>
        <p:sp>
          <p:nvSpPr>
            <p:cNvPr id="766" name=""/>
            <p:cNvSpPr/>
            <p:nvPr/>
          </p:nvSpPr>
          <p:spPr>
            <a:xfrm>
              <a:off x="2249640" y="5657760"/>
              <a:ext cx="817560" cy="38556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11320" y="5908320"/>
              <a:ext cx="411480" cy="3733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96920" y="5900400"/>
              <a:ext cx="41148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54280" y="5195520"/>
              <a:ext cx="817560" cy="38592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16320" y="5446440"/>
              <a:ext cx="41112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01920" y="543852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8920" y="4735080"/>
              <a:ext cx="817560" cy="38448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57280" y="4600440"/>
              <a:ext cx="40968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20960" y="5027400"/>
              <a:ext cx="41112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06560" y="4976640"/>
              <a:ext cx="411120" cy="37620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5246640" y="5056200"/>
            <a:ext cx="3002040" cy="1136520"/>
            <a:chOff x="5246640" y="5056200"/>
            <a:chExt cx="3002040" cy="1136520"/>
          </a:xfrm>
        </p:grpSpPr>
        <p:sp>
          <p:nvSpPr>
            <p:cNvPr id="777" name=""/>
            <p:cNvSpPr/>
            <p:nvPr/>
          </p:nvSpPr>
          <p:spPr>
            <a:xfrm flipV="1">
              <a:off x="6745320" y="5401800"/>
              <a:ext cx="0" cy="4842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065640" y="5540040"/>
              <a:ext cx="0" cy="4158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424640" y="5540040"/>
              <a:ext cx="0" cy="4158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52920" y="5540400"/>
              <a:ext cx="2597400" cy="415800"/>
            </a:xfrm>
            <a:custGeom>
              <a:avLst/>
              <a:gdLst/>
              <a:ahLst/>
              <a:rect l="l" t="t" r="r" b="b"/>
              <a:pathLst>
                <a:path w="1632" h="288">
                  <a:moveTo>
                    <a:pt x="0" y="288"/>
                  </a:moveTo>
                  <a:lnTo>
                    <a:pt x="0" y="0"/>
                  </a:lnTo>
                  <a:lnTo>
                    <a:pt x="1632" y="0"/>
                  </a:lnTo>
                  <a:lnTo>
                    <a:pt x="1632" y="288"/>
                  </a:lnTo>
                </a:path>
              </a:pathLst>
            </a:custGeom>
            <a:noFill/>
            <a:ln w="4428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4664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561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419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277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756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41920" y="5056200"/>
              <a:ext cx="411120" cy="37440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789080" y="5230800"/>
            <a:ext cx="3115800" cy="1257480"/>
            <a:chOff x="4789080" y="5230800"/>
            <a:chExt cx="3115800" cy="1257480"/>
          </a:xfrm>
        </p:grpSpPr>
        <p:sp>
          <p:nvSpPr>
            <p:cNvPr id="788" name=""/>
            <p:cNvSpPr/>
            <p:nvPr/>
          </p:nvSpPr>
          <p:spPr>
            <a:xfrm>
              <a:off x="5011560" y="5500800"/>
              <a:ext cx="294840" cy="36180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gradFill rotWithShape="0">
              <a:gsLst>
                <a:gs pos="0">
                  <a:srgbClr val="e891d2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862320" y="6077160"/>
              <a:ext cx="150480" cy="9036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236280" y="523080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64920" y="527364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959160" y="5268960"/>
              <a:ext cx="4896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315840" y="523080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687440" y="6397560"/>
              <a:ext cx="150120" cy="907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061760" y="555156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0400" y="559440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784280" y="5589720"/>
              <a:ext cx="48600" cy="5220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141320" y="555156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414760" y="6077160"/>
              <a:ext cx="150480" cy="9036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788720" y="523080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517000" y="527364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5511600" y="5268960"/>
              <a:ext cx="4896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867920" y="523080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240240" y="6397560"/>
              <a:ext cx="150480" cy="907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613840" y="555156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342840" y="559440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337080" y="5589720"/>
              <a:ext cx="48960" cy="5220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693400" y="555156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7160" y="5465880"/>
              <a:ext cx="321840" cy="39348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95640" y="5854680"/>
              <a:ext cx="352080" cy="381240"/>
            </a:xfrm>
            <a:custGeom>
              <a:avLst/>
              <a:gdLst/>
              <a:ahLst/>
              <a:rect l="l" t="t" r="r" b="b"/>
              <a:pathLst>
                <a:path w="761" h="883">
                  <a:moveTo>
                    <a:pt x="0" y="859"/>
                  </a:moveTo>
                  <a:lnTo>
                    <a:pt x="52" y="822"/>
                  </a:lnTo>
                  <a:lnTo>
                    <a:pt x="100" y="783"/>
                  </a:lnTo>
                  <a:lnTo>
                    <a:pt x="146" y="745"/>
                  </a:lnTo>
                  <a:lnTo>
                    <a:pt x="190" y="706"/>
                  </a:lnTo>
                  <a:lnTo>
                    <a:pt x="229" y="667"/>
                  </a:lnTo>
                  <a:lnTo>
                    <a:pt x="267" y="629"/>
                  </a:lnTo>
                  <a:lnTo>
                    <a:pt x="300" y="589"/>
                  </a:lnTo>
                  <a:lnTo>
                    <a:pt x="332" y="550"/>
                  </a:lnTo>
                  <a:lnTo>
                    <a:pt x="359" y="512"/>
                  </a:lnTo>
                  <a:lnTo>
                    <a:pt x="384" y="473"/>
                  </a:lnTo>
                  <a:lnTo>
                    <a:pt x="404" y="437"/>
                  </a:lnTo>
                  <a:lnTo>
                    <a:pt x="420" y="401"/>
                  </a:lnTo>
                  <a:lnTo>
                    <a:pt x="427" y="383"/>
                  </a:lnTo>
                  <a:lnTo>
                    <a:pt x="433" y="366"/>
                  </a:lnTo>
                  <a:lnTo>
                    <a:pt x="439" y="349"/>
                  </a:lnTo>
                  <a:lnTo>
                    <a:pt x="443" y="333"/>
                  </a:lnTo>
                  <a:lnTo>
                    <a:pt x="446" y="315"/>
                  </a:lnTo>
                  <a:lnTo>
                    <a:pt x="449" y="299"/>
                  </a:lnTo>
                  <a:lnTo>
                    <a:pt x="451" y="284"/>
                  </a:lnTo>
                  <a:lnTo>
                    <a:pt x="451" y="268"/>
                  </a:lnTo>
                  <a:lnTo>
                    <a:pt x="451" y="250"/>
                  </a:lnTo>
                  <a:lnTo>
                    <a:pt x="448" y="234"/>
                  </a:lnTo>
                  <a:lnTo>
                    <a:pt x="445" y="218"/>
                  </a:lnTo>
                  <a:lnTo>
                    <a:pt x="440" y="204"/>
                  </a:lnTo>
                  <a:lnTo>
                    <a:pt x="435" y="190"/>
                  </a:lnTo>
                  <a:lnTo>
                    <a:pt x="429" y="177"/>
                  </a:lnTo>
                  <a:lnTo>
                    <a:pt x="420" y="165"/>
                  </a:lnTo>
                  <a:lnTo>
                    <a:pt x="411" y="153"/>
                  </a:lnTo>
                  <a:lnTo>
                    <a:pt x="401" y="143"/>
                  </a:lnTo>
                  <a:lnTo>
                    <a:pt x="390" y="135"/>
                  </a:lnTo>
                  <a:lnTo>
                    <a:pt x="378" y="127"/>
                  </a:lnTo>
                  <a:lnTo>
                    <a:pt x="367" y="122"/>
                  </a:lnTo>
                  <a:lnTo>
                    <a:pt x="352" y="116"/>
                  </a:lnTo>
                  <a:lnTo>
                    <a:pt x="339" y="113"/>
                  </a:lnTo>
                  <a:lnTo>
                    <a:pt x="323" y="111"/>
                  </a:lnTo>
                  <a:lnTo>
                    <a:pt x="307" y="110"/>
                  </a:lnTo>
                  <a:lnTo>
                    <a:pt x="287" y="111"/>
                  </a:lnTo>
                  <a:lnTo>
                    <a:pt x="267" y="114"/>
                  </a:lnTo>
                  <a:lnTo>
                    <a:pt x="248" y="117"/>
                  </a:lnTo>
                  <a:lnTo>
                    <a:pt x="229" y="123"/>
                  </a:lnTo>
                  <a:lnTo>
                    <a:pt x="213" y="132"/>
                  </a:lnTo>
                  <a:lnTo>
                    <a:pt x="197" y="140"/>
                  </a:lnTo>
                  <a:lnTo>
                    <a:pt x="181" y="150"/>
                  </a:lnTo>
                  <a:lnTo>
                    <a:pt x="168" y="163"/>
                  </a:lnTo>
                  <a:lnTo>
                    <a:pt x="155" y="178"/>
                  </a:lnTo>
                  <a:lnTo>
                    <a:pt x="145" y="192"/>
                  </a:lnTo>
                  <a:lnTo>
                    <a:pt x="135" y="210"/>
                  </a:lnTo>
                  <a:lnTo>
                    <a:pt x="126" y="227"/>
                  </a:lnTo>
                  <a:lnTo>
                    <a:pt x="120" y="246"/>
                  </a:lnTo>
                  <a:lnTo>
                    <a:pt x="114" y="266"/>
                  </a:lnTo>
                  <a:lnTo>
                    <a:pt x="112" y="288"/>
                  </a:lnTo>
                  <a:lnTo>
                    <a:pt x="109" y="311"/>
                  </a:lnTo>
                  <a:lnTo>
                    <a:pt x="84" y="315"/>
                  </a:lnTo>
                  <a:lnTo>
                    <a:pt x="22" y="98"/>
                  </a:lnTo>
                  <a:lnTo>
                    <a:pt x="45" y="87"/>
                  </a:lnTo>
                  <a:lnTo>
                    <a:pt x="68" y="75"/>
                  </a:lnTo>
                  <a:lnTo>
                    <a:pt x="91" y="65"/>
                  </a:lnTo>
                  <a:lnTo>
                    <a:pt x="114" y="55"/>
                  </a:lnTo>
                  <a:lnTo>
                    <a:pt x="138" y="46"/>
                  </a:lnTo>
                  <a:lnTo>
                    <a:pt x="161" y="39"/>
                  </a:lnTo>
                  <a:lnTo>
                    <a:pt x="184" y="32"/>
                  </a:lnTo>
                  <a:lnTo>
                    <a:pt x="207" y="25"/>
                  </a:lnTo>
                  <a:lnTo>
                    <a:pt x="230" y="19"/>
                  </a:lnTo>
                  <a:lnTo>
                    <a:pt x="254" y="14"/>
                  </a:lnTo>
                  <a:lnTo>
                    <a:pt x="275" y="10"/>
                  </a:lnTo>
                  <a:lnTo>
                    <a:pt x="298" y="7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23" y="1"/>
                  </a:lnTo>
                  <a:lnTo>
                    <a:pt x="458" y="4"/>
                  </a:lnTo>
                  <a:lnTo>
                    <a:pt x="491" y="10"/>
                  </a:lnTo>
                  <a:lnTo>
                    <a:pt x="522" y="17"/>
                  </a:lnTo>
                  <a:lnTo>
                    <a:pt x="550" y="26"/>
                  </a:lnTo>
                  <a:lnTo>
                    <a:pt x="578" y="38"/>
                  </a:lnTo>
                  <a:lnTo>
                    <a:pt x="604" y="52"/>
                  </a:lnTo>
                  <a:lnTo>
                    <a:pt x="627" y="68"/>
                  </a:lnTo>
                  <a:lnTo>
                    <a:pt x="637" y="77"/>
                  </a:lnTo>
                  <a:lnTo>
                    <a:pt x="648" y="85"/>
                  </a:lnTo>
                  <a:lnTo>
                    <a:pt x="658" y="94"/>
                  </a:lnTo>
                  <a:lnTo>
                    <a:pt x="666" y="104"/>
                  </a:lnTo>
                  <a:lnTo>
                    <a:pt x="674" y="113"/>
                  </a:lnTo>
                  <a:lnTo>
                    <a:pt x="682" y="124"/>
                  </a:lnTo>
                  <a:lnTo>
                    <a:pt x="688" y="135"/>
                  </a:lnTo>
                  <a:lnTo>
                    <a:pt x="694" y="145"/>
                  </a:lnTo>
                  <a:lnTo>
                    <a:pt x="700" y="156"/>
                  </a:lnTo>
                  <a:lnTo>
                    <a:pt x="704" y="168"/>
                  </a:lnTo>
                  <a:lnTo>
                    <a:pt x="708" y="179"/>
                  </a:lnTo>
                  <a:lnTo>
                    <a:pt x="711" y="192"/>
                  </a:lnTo>
                  <a:lnTo>
                    <a:pt x="714" y="205"/>
                  </a:lnTo>
                  <a:lnTo>
                    <a:pt x="716" y="217"/>
                  </a:lnTo>
                  <a:lnTo>
                    <a:pt x="717" y="231"/>
                  </a:lnTo>
                  <a:lnTo>
                    <a:pt x="717" y="245"/>
                  </a:lnTo>
                  <a:lnTo>
                    <a:pt x="716" y="268"/>
                  </a:lnTo>
                  <a:lnTo>
                    <a:pt x="713" y="291"/>
                  </a:lnTo>
                  <a:lnTo>
                    <a:pt x="708" y="314"/>
                  </a:lnTo>
                  <a:lnTo>
                    <a:pt x="701" y="337"/>
                  </a:lnTo>
                  <a:lnTo>
                    <a:pt x="691" y="360"/>
                  </a:lnTo>
                  <a:lnTo>
                    <a:pt x="681" y="383"/>
                  </a:lnTo>
                  <a:lnTo>
                    <a:pt x="668" y="407"/>
                  </a:lnTo>
                  <a:lnTo>
                    <a:pt x="652" y="428"/>
                  </a:lnTo>
                  <a:lnTo>
                    <a:pt x="635" y="451"/>
                  </a:lnTo>
                  <a:lnTo>
                    <a:pt x="611" y="477"/>
                  </a:lnTo>
                  <a:lnTo>
                    <a:pt x="585" y="505"/>
                  </a:lnTo>
                  <a:lnTo>
                    <a:pt x="555" y="535"/>
                  </a:lnTo>
                  <a:lnTo>
                    <a:pt x="520" y="567"/>
                  </a:lnTo>
                  <a:lnTo>
                    <a:pt x="481" y="600"/>
                  </a:lnTo>
                  <a:lnTo>
                    <a:pt x="437" y="637"/>
                  </a:lnTo>
                  <a:lnTo>
                    <a:pt x="391" y="676"/>
                  </a:lnTo>
                  <a:lnTo>
                    <a:pt x="604" y="676"/>
                  </a:lnTo>
                  <a:lnTo>
                    <a:pt x="617" y="676"/>
                  </a:lnTo>
                  <a:lnTo>
                    <a:pt x="630" y="674"/>
                  </a:lnTo>
                  <a:lnTo>
                    <a:pt x="640" y="673"/>
                  </a:lnTo>
                  <a:lnTo>
                    <a:pt x="652" y="671"/>
                  </a:lnTo>
                  <a:lnTo>
                    <a:pt x="662" y="670"/>
                  </a:lnTo>
                  <a:lnTo>
                    <a:pt x="671" y="667"/>
                  </a:lnTo>
                  <a:lnTo>
                    <a:pt x="679" y="663"/>
                  </a:lnTo>
                  <a:lnTo>
                    <a:pt x="687" y="660"/>
                  </a:lnTo>
                  <a:lnTo>
                    <a:pt x="694" y="655"/>
                  </a:lnTo>
                  <a:lnTo>
                    <a:pt x="701" y="651"/>
                  </a:lnTo>
                  <a:lnTo>
                    <a:pt x="707" y="645"/>
                  </a:lnTo>
                  <a:lnTo>
                    <a:pt x="713" y="639"/>
                  </a:lnTo>
                  <a:lnTo>
                    <a:pt x="719" y="632"/>
                  </a:lnTo>
                  <a:lnTo>
                    <a:pt x="723" y="625"/>
                  </a:lnTo>
                  <a:lnTo>
                    <a:pt x="727" y="616"/>
                  </a:lnTo>
                  <a:lnTo>
                    <a:pt x="730" y="609"/>
                  </a:lnTo>
                  <a:lnTo>
                    <a:pt x="761" y="615"/>
                  </a:lnTo>
                  <a:lnTo>
                    <a:pt x="655" y="883"/>
                  </a:lnTo>
                  <a:lnTo>
                    <a:pt x="652" y="880"/>
                  </a:lnTo>
                  <a:lnTo>
                    <a:pt x="649" y="877"/>
                  </a:lnTo>
                  <a:lnTo>
                    <a:pt x="648" y="874"/>
                  </a:lnTo>
                  <a:lnTo>
                    <a:pt x="645" y="872"/>
                  </a:lnTo>
                  <a:lnTo>
                    <a:pt x="642" y="870"/>
                  </a:lnTo>
                  <a:lnTo>
                    <a:pt x="639" y="868"/>
                  </a:lnTo>
                  <a:lnTo>
                    <a:pt x="636" y="867"/>
                  </a:lnTo>
                  <a:lnTo>
                    <a:pt x="633" y="865"/>
                  </a:lnTo>
                  <a:lnTo>
                    <a:pt x="629" y="864"/>
                  </a:lnTo>
                  <a:lnTo>
                    <a:pt x="626" y="862"/>
                  </a:lnTo>
                  <a:lnTo>
                    <a:pt x="621" y="862"/>
                  </a:lnTo>
                  <a:lnTo>
                    <a:pt x="617" y="861"/>
                  </a:lnTo>
                  <a:lnTo>
                    <a:pt x="613" y="861"/>
                  </a:lnTo>
                  <a:lnTo>
                    <a:pt x="607" y="861"/>
                  </a:lnTo>
                  <a:lnTo>
                    <a:pt x="603" y="859"/>
                  </a:lnTo>
                  <a:lnTo>
                    <a:pt x="597" y="859"/>
                  </a:lnTo>
                  <a:lnTo>
                    <a:pt x="0" y="859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18000" y="5853240"/>
              <a:ext cx="423720" cy="431640"/>
            </a:xfrm>
            <a:custGeom>
              <a:avLst/>
              <a:gdLst/>
              <a:ahLst/>
              <a:rect l="l" t="t" r="r" b="b"/>
              <a:pathLst>
                <a:path w="1050" h="1270">
                  <a:moveTo>
                    <a:pt x="415" y="1270"/>
                  </a:moveTo>
                  <a:lnTo>
                    <a:pt x="415" y="1210"/>
                  </a:lnTo>
                  <a:lnTo>
                    <a:pt x="426" y="1209"/>
                  </a:lnTo>
                  <a:lnTo>
                    <a:pt x="436" y="1205"/>
                  </a:lnTo>
                  <a:lnTo>
                    <a:pt x="445" y="1203"/>
                  </a:lnTo>
                  <a:lnTo>
                    <a:pt x="455" y="1199"/>
                  </a:lnTo>
                  <a:lnTo>
                    <a:pt x="463" y="1193"/>
                  </a:lnTo>
                  <a:lnTo>
                    <a:pt x="470" y="1189"/>
                  </a:lnTo>
                  <a:lnTo>
                    <a:pt x="478" y="1184"/>
                  </a:lnTo>
                  <a:lnTo>
                    <a:pt x="484" y="1178"/>
                  </a:lnTo>
                  <a:lnTo>
                    <a:pt x="490" y="1172"/>
                  </a:lnTo>
                  <a:lnTo>
                    <a:pt x="495" y="1166"/>
                  </a:lnTo>
                  <a:lnTo>
                    <a:pt x="499" y="1159"/>
                  </a:lnTo>
                  <a:lnTo>
                    <a:pt x="503" y="1151"/>
                  </a:lnTo>
                  <a:lnTo>
                    <a:pt x="505" y="1143"/>
                  </a:lnTo>
                  <a:lnTo>
                    <a:pt x="507" y="1135"/>
                  </a:lnTo>
                  <a:lnTo>
                    <a:pt x="509" y="1128"/>
                  </a:lnTo>
                  <a:lnTo>
                    <a:pt x="509" y="1118"/>
                  </a:lnTo>
                  <a:lnTo>
                    <a:pt x="509" y="986"/>
                  </a:lnTo>
                  <a:lnTo>
                    <a:pt x="60" y="986"/>
                  </a:lnTo>
                  <a:lnTo>
                    <a:pt x="56" y="986"/>
                  </a:lnTo>
                  <a:lnTo>
                    <a:pt x="52" y="988"/>
                  </a:lnTo>
                  <a:lnTo>
                    <a:pt x="48" y="988"/>
                  </a:lnTo>
                  <a:lnTo>
                    <a:pt x="44" y="988"/>
                  </a:lnTo>
                  <a:lnTo>
                    <a:pt x="40" y="988"/>
                  </a:lnTo>
                  <a:lnTo>
                    <a:pt x="36" y="989"/>
                  </a:lnTo>
                  <a:lnTo>
                    <a:pt x="33" y="989"/>
                  </a:lnTo>
                  <a:lnTo>
                    <a:pt x="29" y="991"/>
                  </a:lnTo>
                  <a:lnTo>
                    <a:pt x="25" y="991"/>
                  </a:lnTo>
                  <a:lnTo>
                    <a:pt x="21" y="993"/>
                  </a:lnTo>
                  <a:lnTo>
                    <a:pt x="17" y="993"/>
                  </a:lnTo>
                  <a:lnTo>
                    <a:pt x="15" y="995"/>
                  </a:lnTo>
                  <a:lnTo>
                    <a:pt x="12" y="997"/>
                  </a:lnTo>
                  <a:lnTo>
                    <a:pt x="8" y="999"/>
                  </a:lnTo>
                  <a:lnTo>
                    <a:pt x="6" y="1001"/>
                  </a:lnTo>
                  <a:lnTo>
                    <a:pt x="2" y="1003"/>
                  </a:lnTo>
                  <a:lnTo>
                    <a:pt x="2" y="1001"/>
                  </a:lnTo>
                  <a:lnTo>
                    <a:pt x="2" y="999"/>
                  </a:lnTo>
                  <a:lnTo>
                    <a:pt x="2" y="997"/>
                  </a:lnTo>
                  <a:lnTo>
                    <a:pt x="2" y="995"/>
                  </a:lnTo>
                  <a:lnTo>
                    <a:pt x="0" y="993"/>
                  </a:lnTo>
                  <a:lnTo>
                    <a:pt x="0" y="991"/>
                  </a:lnTo>
                  <a:lnTo>
                    <a:pt x="0" y="989"/>
                  </a:lnTo>
                  <a:lnTo>
                    <a:pt x="0" y="988"/>
                  </a:lnTo>
                  <a:lnTo>
                    <a:pt x="0" y="986"/>
                  </a:lnTo>
                  <a:lnTo>
                    <a:pt x="0" y="984"/>
                  </a:lnTo>
                  <a:lnTo>
                    <a:pt x="0" y="982"/>
                  </a:lnTo>
                  <a:lnTo>
                    <a:pt x="0" y="978"/>
                  </a:lnTo>
                  <a:lnTo>
                    <a:pt x="0" y="976"/>
                  </a:lnTo>
                  <a:lnTo>
                    <a:pt x="2" y="955"/>
                  </a:lnTo>
                  <a:lnTo>
                    <a:pt x="6" y="934"/>
                  </a:lnTo>
                  <a:lnTo>
                    <a:pt x="13" y="909"/>
                  </a:lnTo>
                  <a:lnTo>
                    <a:pt x="21" y="884"/>
                  </a:lnTo>
                  <a:lnTo>
                    <a:pt x="33" y="857"/>
                  </a:lnTo>
                  <a:lnTo>
                    <a:pt x="48" y="828"/>
                  </a:lnTo>
                  <a:lnTo>
                    <a:pt x="63" y="797"/>
                  </a:lnTo>
                  <a:lnTo>
                    <a:pt x="83" y="767"/>
                  </a:lnTo>
                  <a:lnTo>
                    <a:pt x="88" y="757"/>
                  </a:lnTo>
                  <a:lnTo>
                    <a:pt x="117" y="715"/>
                  </a:lnTo>
                  <a:lnTo>
                    <a:pt x="142" y="674"/>
                  </a:lnTo>
                  <a:lnTo>
                    <a:pt x="163" y="636"/>
                  </a:lnTo>
                  <a:lnTo>
                    <a:pt x="184" y="601"/>
                  </a:lnTo>
                  <a:lnTo>
                    <a:pt x="202" y="569"/>
                  </a:lnTo>
                  <a:lnTo>
                    <a:pt x="219" y="540"/>
                  </a:lnTo>
                  <a:lnTo>
                    <a:pt x="232" y="513"/>
                  </a:lnTo>
                  <a:lnTo>
                    <a:pt x="244" y="490"/>
                  </a:lnTo>
                  <a:lnTo>
                    <a:pt x="253" y="467"/>
                  </a:lnTo>
                  <a:lnTo>
                    <a:pt x="261" y="446"/>
                  </a:lnTo>
                  <a:lnTo>
                    <a:pt x="267" y="425"/>
                  </a:lnTo>
                  <a:lnTo>
                    <a:pt x="273" y="403"/>
                  </a:lnTo>
                  <a:lnTo>
                    <a:pt x="278" y="384"/>
                  </a:lnTo>
                  <a:lnTo>
                    <a:pt x="280" y="367"/>
                  </a:lnTo>
                  <a:lnTo>
                    <a:pt x="282" y="350"/>
                  </a:lnTo>
                  <a:lnTo>
                    <a:pt x="284" y="332"/>
                  </a:lnTo>
                  <a:lnTo>
                    <a:pt x="284" y="325"/>
                  </a:lnTo>
                  <a:lnTo>
                    <a:pt x="282" y="317"/>
                  </a:lnTo>
                  <a:lnTo>
                    <a:pt x="282" y="311"/>
                  </a:lnTo>
                  <a:lnTo>
                    <a:pt x="280" y="305"/>
                  </a:lnTo>
                  <a:lnTo>
                    <a:pt x="278" y="300"/>
                  </a:lnTo>
                  <a:lnTo>
                    <a:pt x="278" y="294"/>
                  </a:lnTo>
                  <a:lnTo>
                    <a:pt x="275" y="290"/>
                  </a:lnTo>
                  <a:lnTo>
                    <a:pt x="273" y="286"/>
                  </a:lnTo>
                  <a:lnTo>
                    <a:pt x="271" y="282"/>
                  </a:lnTo>
                  <a:lnTo>
                    <a:pt x="267" y="279"/>
                  </a:lnTo>
                  <a:lnTo>
                    <a:pt x="263" y="275"/>
                  </a:lnTo>
                  <a:lnTo>
                    <a:pt x="257" y="271"/>
                  </a:lnTo>
                  <a:lnTo>
                    <a:pt x="253" y="267"/>
                  </a:lnTo>
                  <a:lnTo>
                    <a:pt x="248" y="263"/>
                  </a:lnTo>
                  <a:lnTo>
                    <a:pt x="242" y="259"/>
                  </a:lnTo>
                  <a:lnTo>
                    <a:pt x="234" y="257"/>
                  </a:lnTo>
                  <a:lnTo>
                    <a:pt x="257" y="238"/>
                  </a:lnTo>
                  <a:lnTo>
                    <a:pt x="280" y="221"/>
                  </a:lnTo>
                  <a:lnTo>
                    <a:pt x="301" y="204"/>
                  </a:lnTo>
                  <a:lnTo>
                    <a:pt x="321" y="186"/>
                  </a:lnTo>
                  <a:lnTo>
                    <a:pt x="340" y="169"/>
                  </a:lnTo>
                  <a:lnTo>
                    <a:pt x="359" y="154"/>
                  </a:lnTo>
                  <a:lnTo>
                    <a:pt x="376" y="138"/>
                  </a:lnTo>
                  <a:lnTo>
                    <a:pt x="392" y="121"/>
                  </a:lnTo>
                  <a:lnTo>
                    <a:pt x="407" y="106"/>
                  </a:lnTo>
                  <a:lnTo>
                    <a:pt x="422" y="90"/>
                  </a:lnTo>
                  <a:lnTo>
                    <a:pt x="438" y="75"/>
                  </a:lnTo>
                  <a:lnTo>
                    <a:pt x="451" y="59"/>
                  </a:lnTo>
                  <a:lnTo>
                    <a:pt x="465" y="44"/>
                  </a:lnTo>
                  <a:lnTo>
                    <a:pt x="476" y="31"/>
                  </a:lnTo>
                  <a:lnTo>
                    <a:pt x="490" y="15"/>
                  </a:lnTo>
                  <a:lnTo>
                    <a:pt x="501" y="0"/>
                  </a:lnTo>
                  <a:lnTo>
                    <a:pt x="505" y="8"/>
                  </a:lnTo>
                  <a:lnTo>
                    <a:pt x="511" y="17"/>
                  </a:lnTo>
                  <a:lnTo>
                    <a:pt x="514" y="27"/>
                  </a:lnTo>
                  <a:lnTo>
                    <a:pt x="518" y="36"/>
                  </a:lnTo>
                  <a:lnTo>
                    <a:pt x="522" y="46"/>
                  </a:lnTo>
                  <a:lnTo>
                    <a:pt x="526" y="56"/>
                  </a:lnTo>
                  <a:lnTo>
                    <a:pt x="530" y="65"/>
                  </a:lnTo>
                  <a:lnTo>
                    <a:pt x="532" y="75"/>
                  </a:lnTo>
                  <a:lnTo>
                    <a:pt x="534" y="84"/>
                  </a:lnTo>
                  <a:lnTo>
                    <a:pt x="536" y="96"/>
                  </a:lnTo>
                  <a:lnTo>
                    <a:pt x="538" y="106"/>
                  </a:lnTo>
                  <a:lnTo>
                    <a:pt x="539" y="117"/>
                  </a:lnTo>
                  <a:lnTo>
                    <a:pt x="541" y="129"/>
                  </a:lnTo>
                  <a:lnTo>
                    <a:pt x="541" y="142"/>
                  </a:lnTo>
                  <a:lnTo>
                    <a:pt x="541" y="154"/>
                  </a:lnTo>
                  <a:lnTo>
                    <a:pt x="541" y="167"/>
                  </a:lnTo>
                  <a:lnTo>
                    <a:pt x="541" y="192"/>
                  </a:lnTo>
                  <a:lnTo>
                    <a:pt x="538" y="219"/>
                  </a:lnTo>
                  <a:lnTo>
                    <a:pt x="534" y="246"/>
                  </a:lnTo>
                  <a:lnTo>
                    <a:pt x="526" y="275"/>
                  </a:lnTo>
                  <a:lnTo>
                    <a:pt x="516" y="304"/>
                  </a:lnTo>
                  <a:lnTo>
                    <a:pt x="505" y="336"/>
                  </a:lnTo>
                  <a:lnTo>
                    <a:pt x="491" y="367"/>
                  </a:lnTo>
                  <a:lnTo>
                    <a:pt x="476" y="402"/>
                  </a:lnTo>
                  <a:lnTo>
                    <a:pt x="459" y="434"/>
                  </a:lnTo>
                  <a:lnTo>
                    <a:pt x="440" y="471"/>
                  </a:lnTo>
                  <a:lnTo>
                    <a:pt x="417" y="507"/>
                  </a:lnTo>
                  <a:lnTo>
                    <a:pt x="394" y="546"/>
                  </a:lnTo>
                  <a:lnTo>
                    <a:pt x="367" y="584"/>
                  </a:lnTo>
                  <a:lnTo>
                    <a:pt x="340" y="624"/>
                  </a:lnTo>
                  <a:lnTo>
                    <a:pt x="309" y="665"/>
                  </a:lnTo>
                  <a:lnTo>
                    <a:pt x="278" y="707"/>
                  </a:lnTo>
                  <a:lnTo>
                    <a:pt x="261" y="728"/>
                  </a:lnTo>
                  <a:lnTo>
                    <a:pt x="246" y="749"/>
                  </a:lnTo>
                  <a:lnTo>
                    <a:pt x="230" y="769"/>
                  </a:lnTo>
                  <a:lnTo>
                    <a:pt x="217" y="786"/>
                  </a:lnTo>
                  <a:lnTo>
                    <a:pt x="205" y="803"/>
                  </a:lnTo>
                  <a:lnTo>
                    <a:pt x="192" y="818"/>
                  </a:lnTo>
                  <a:lnTo>
                    <a:pt x="182" y="834"/>
                  </a:lnTo>
                  <a:lnTo>
                    <a:pt x="173" y="845"/>
                  </a:lnTo>
                  <a:lnTo>
                    <a:pt x="509" y="845"/>
                  </a:lnTo>
                  <a:lnTo>
                    <a:pt x="509" y="463"/>
                  </a:lnTo>
                  <a:lnTo>
                    <a:pt x="538" y="453"/>
                  </a:lnTo>
                  <a:lnTo>
                    <a:pt x="564" y="442"/>
                  </a:lnTo>
                  <a:lnTo>
                    <a:pt x="591" y="430"/>
                  </a:lnTo>
                  <a:lnTo>
                    <a:pt x="616" y="417"/>
                  </a:lnTo>
                  <a:lnTo>
                    <a:pt x="639" y="403"/>
                  </a:lnTo>
                  <a:lnTo>
                    <a:pt x="662" y="388"/>
                  </a:lnTo>
                  <a:lnTo>
                    <a:pt x="683" y="371"/>
                  </a:lnTo>
                  <a:lnTo>
                    <a:pt x="705" y="352"/>
                  </a:lnTo>
                  <a:lnTo>
                    <a:pt x="724" y="332"/>
                  </a:lnTo>
                  <a:lnTo>
                    <a:pt x="741" y="311"/>
                  </a:lnTo>
                  <a:lnTo>
                    <a:pt x="758" y="288"/>
                  </a:lnTo>
                  <a:lnTo>
                    <a:pt x="776" y="265"/>
                  </a:lnTo>
                  <a:lnTo>
                    <a:pt x="791" y="240"/>
                  </a:lnTo>
                  <a:lnTo>
                    <a:pt x="804" y="213"/>
                  </a:lnTo>
                  <a:lnTo>
                    <a:pt x="818" y="186"/>
                  </a:lnTo>
                  <a:lnTo>
                    <a:pt x="829" y="156"/>
                  </a:lnTo>
                  <a:lnTo>
                    <a:pt x="850" y="156"/>
                  </a:lnTo>
                  <a:lnTo>
                    <a:pt x="849" y="171"/>
                  </a:lnTo>
                  <a:lnTo>
                    <a:pt x="847" y="186"/>
                  </a:lnTo>
                  <a:lnTo>
                    <a:pt x="845" y="200"/>
                  </a:lnTo>
                  <a:lnTo>
                    <a:pt x="843" y="213"/>
                  </a:lnTo>
                  <a:lnTo>
                    <a:pt x="841" y="229"/>
                  </a:lnTo>
                  <a:lnTo>
                    <a:pt x="839" y="242"/>
                  </a:lnTo>
                  <a:lnTo>
                    <a:pt x="837" y="255"/>
                  </a:lnTo>
                  <a:lnTo>
                    <a:pt x="835" y="269"/>
                  </a:lnTo>
                  <a:lnTo>
                    <a:pt x="833" y="282"/>
                  </a:lnTo>
                  <a:lnTo>
                    <a:pt x="833" y="296"/>
                  </a:lnTo>
                  <a:lnTo>
                    <a:pt x="831" y="309"/>
                  </a:lnTo>
                  <a:lnTo>
                    <a:pt x="831" y="321"/>
                  </a:lnTo>
                  <a:lnTo>
                    <a:pt x="831" y="334"/>
                  </a:lnTo>
                  <a:lnTo>
                    <a:pt x="829" y="348"/>
                  </a:lnTo>
                  <a:lnTo>
                    <a:pt x="829" y="361"/>
                  </a:lnTo>
                  <a:lnTo>
                    <a:pt x="829" y="375"/>
                  </a:lnTo>
                  <a:lnTo>
                    <a:pt x="829" y="402"/>
                  </a:lnTo>
                  <a:lnTo>
                    <a:pt x="829" y="845"/>
                  </a:lnTo>
                  <a:lnTo>
                    <a:pt x="908" y="845"/>
                  </a:lnTo>
                  <a:lnTo>
                    <a:pt x="916" y="845"/>
                  </a:lnTo>
                  <a:lnTo>
                    <a:pt x="925" y="845"/>
                  </a:lnTo>
                  <a:lnTo>
                    <a:pt x="935" y="843"/>
                  </a:lnTo>
                  <a:lnTo>
                    <a:pt x="943" y="843"/>
                  </a:lnTo>
                  <a:lnTo>
                    <a:pt x="950" y="842"/>
                  </a:lnTo>
                  <a:lnTo>
                    <a:pt x="958" y="840"/>
                  </a:lnTo>
                  <a:lnTo>
                    <a:pt x="966" y="836"/>
                  </a:lnTo>
                  <a:lnTo>
                    <a:pt x="973" y="834"/>
                  </a:lnTo>
                  <a:lnTo>
                    <a:pt x="979" y="830"/>
                  </a:lnTo>
                  <a:lnTo>
                    <a:pt x="985" y="826"/>
                  </a:lnTo>
                  <a:lnTo>
                    <a:pt x="991" y="822"/>
                  </a:lnTo>
                  <a:lnTo>
                    <a:pt x="996" y="817"/>
                  </a:lnTo>
                  <a:lnTo>
                    <a:pt x="1002" y="811"/>
                  </a:lnTo>
                  <a:lnTo>
                    <a:pt x="1008" y="807"/>
                  </a:lnTo>
                  <a:lnTo>
                    <a:pt x="1014" y="799"/>
                  </a:lnTo>
                  <a:lnTo>
                    <a:pt x="1017" y="793"/>
                  </a:lnTo>
                  <a:lnTo>
                    <a:pt x="1050" y="795"/>
                  </a:lnTo>
                  <a:lnTo>
                    <a:pt x="987" y="1038"/>
                  </a:lnTo>
                  <a:lnTo>
                    <a:pt x="958" y="1032"/>
                  </a:lnTo>
                  <a:lnTo>
                    <a:pt x="958" y="1026"/>
                  </a:lnTo>
                  <a:lnTo>
                    <a:pt x="958" y="1020"/>
                  </a:lnTo>
                  <a:lnTo>
                    <a:pt x="956" y="1016"/>
                  </a:lnTo>
                  <a:lnTo>
                    <a:pt x="954" y="1011"/>
                  </a:lnTo>
                  <a:lnTo>
                    <a:pt x="952" y="1007"/>
                  </a:lnTo>
                  <a:lnTo>
                    <a:pt x="950" y="1003"/>
                  </a:lnTo>
                  <a:lnTo>
                    <a:pt x="946" y="1001"/>
                  </a:lnTo>
                  <a:lnTo>
                    <a:pt x="944" y="997"/>
                  </a:lnTo>
                  <a:lnTo>
                    <a:pt x="941" y="995"/>
                  </a:lnTo>
                  <a:lnTo>
                    <a:pt x="937" y="993"/>
                  </a:lnTo>
                  <a:lnTo>
                    <a:pt x="933" y="991"/>
                  </a:lnTo>
                  <a:lnTo>
                    <a:pt x="927" y="989"/>
                  </a:lnTo>
                  <a:lnTo>
                    <a:pt x="921" y="988"/>
                  </a:lnTo>
                  <a:lnTo>
                    <a:pt x="918" y="988"/>
                  </a:lnTo>
                  <a:lnTo>
                    <a:pt x="910" y="986"/>
                  </a:lnTo>
                  <a:lnTo>
                    <a:pt x="904" y="986"/>
                  </a:lnTo>
                  <a:lnTo>
                    <a:pt x="829" y="986"/>
                  </a:lnTo>
                  <a:lnTo>
                    <a:pt x="829" y="1118"/>
                  </a:lnTo>
                  <a:lnTo>
                    <a:pt x="829" y="1128"/>
                  </a:lnTo>
                  <a:lnTo>
                    <a:pt x="831" y="1135"/>
                  </a:lnTo>
                  <a:lnTo>
                    <a:pt x="833" y="1143"/>
                  </a:lnTo>
                  <a:lnTo>
                    <a:pt x="835" y="1151"/>
                  </a:lnTo>
                  <a:lnTo>
                    <a:pt x="839" y="1159"/>
                  </a:lnTo>
                  <a:lnTo>
                    <a:pt x="843" y="1166"/>
                  </a:lnTo>
                  <a:lnTo>
                    <a:pt x="849" y="1172"/>
                  </a:lnTo>
                  <a:lnTo>
                    <a:pt x="854" y="1178"/>
                  </a:lnTo>
                  <a:lnTo>
                    <a:pt x="860" y="1184"/>
                  </a:lnTo>
                  <a:lnTo>
                    <a:pt x="868" y="1189"/>
                  </a:lnTo>
                  <a:lnTo>
                    <a:pt x="875" y="1193"/>
                  </a:lnTo>
                  <a:lnTo>
                    <a:pt x="883" y="1199"/>
                  </a:lnTo>
                  <a:lnTo>
                    <a:pt x="891" y="1203"/>
                  </a:lnTo>
                  <a:lnTo>
                    <a:pt x="900" y="1205"/>
                  </a:lnTo>
                  <a:lnTo>
                    <a:pt x="912" y="1209"/>
                  </a:lnTo>
                  <a:lnTo>
                    <a:pt x="921" y="1210"/>
                  </a:lnTo>
                  <a:lnTo>
                    <a:pt x="921" y="1270"/>
                  </a:lnTo>
                  <a:lnTo>
                    <a:pt x="415" y="127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03760" y="5500800"/>
              <a:ext cx="334440" cy="392040"/>
            </a:xfrm>
            <a:custGeom>
              <a:avLst/>
              <a:gdLst/>
              <a:ahLst/>
              <a:rect l="l" t="t" r="r" b="b"/>
              <a:pathLst>
                <a:path w="965" h="1163">
                  <a:moveTo>
                    <a:pt x="0" y="1034"/>
                  </a:moveTo>
                  <a:lnTo>
                    <a:pt x="132" y="754"/>
                  </a:lnTo>
                  <a:lnTo>
                    <a:pt x="169" y="771"/>
                  </a:lnTo>
                  <a:lnTo>
                    <a:pt x="167" y="775"/>
                  </a:lnTo>
                  <a:lnTo>
                    <a:pt x="167" y="781"/>
                  </a:lnTo>
                  <a:lnTo>
                    <a:pt x="165" y="785"/>
                  </a:lnTo>
                  <a:lnTo>
                    <a:pt x="165" y="791"/>
                  </a:lnTo>
                  <a:lnTo>
                    <a:pt x="163" y="794"/>
                  </a:lnTo>
                  <a:lnTo>
                    <a:pt x="163" y="800"/>
                  </a:lnTo>
                  <a:lnTo>
                    <a:pt x="163" y="804"/>
                  </a:lnTo>
                  <a:lnTo>
                    <a:pt x="163" y="808"/>
                  </a:lnTo>
                  <a:lnTo>
                    <a:pt x="161" y="812"/>
                  </a:lnTo>
                  <a:lnTo>
                    <a:pt x="161" y="816"/>
                  </a:lnTo>
                  <a:lnTo>
                    <a:pt x="161" y="819"/>
                  </a:lnTo>
                  <a:lnTo>
                    <a:pt x="161" y="823"/>
                  </a:lnTo>
                  <a:lnTo>
                    <a:pt x="161" y="827"/>
                  </a:lnTo>
                  <a:lnTo>
                    <a:pt x="161" y="831"/>
                  </a:lnTo>
                  <a:lnTo>
                    <a:pt x="159" y="835"/>
                  </a:lnTo>
                  <a:lnTo>
                    <a:pt x="159" y="839"/>
                  </a:lnTo>
                  <a:lnTo>
                    <a:pt x="161" y="860"/>
                  </a:lnTo>
                  <a:lnTo>
                    <a:pt x="165" y="881"/>
                  </a:lnTo>
                  <a:lnTo>
                    <a:pt x="169" y="900"/>
                  </a:lnTo>
                  <a:lnTo>
                    <a:pt x="176" y="917"/>
                  </a:lnTo>
                  <a:lnTo>
                    <a:pt x="184" y="935"/>
                  </a:lnTo>
                  <a:lnTo>
                    <a:pt x="196" y="952"/>
                  </a:lnTo>
                  <a:lnTo>
                    <a:pt x="209" y="967"/>
                  </a:lnTo>
                  <a:lnTo>
                    <a:pt x="222" y="981"/>
                  </a:lnTo>
                  <a:lnTo>
                    <a:pt x="240" y="992"/>
                  </a:lnTo>
                  <a:lnTo>
                    <a:pt x="257" y="1004"/>
                  </a:lnTo>
                  <a:lnTo>
                    <a:pt x="276" y="1013"/>
                  </a:lnTo>
                  <a:lnTo>
                    <a:pt x="297" y="1019"/>
                  </a:lnTo>
                  <a:lnTo>
                    <a:pt x="318" y="1025"/>
                  </a:lnTo>
                  <a:lnTo>
                    <a:pt x="341" y="1031"/>
                  </a:lnTo>
                  <a:lnTo>
                    <a:pt x="366" y="1032"/>
                  </a:lnTo>
                  <a:lnTo>
                    <a:pt x="393" y="1032"/>
                  </a:lnTo>
                  <a:lnTo>
                    <a:pt x="420" y="1032"/>
                  </a:lnTo>
                  <a:lnTo>
                    <a:pt x="447" y="1029"/>
                  </a:lnTo>
                  <a:lnTo>
                    <a:pt x="472" y="1025"/>
                  </a:lnTo>
                  <a:lnTo>
                    <a:pt x="495" y="1017"/>
                  </a:lnTo>
                  <a:lnTo>
                    <a:pt x="518" y="1008"/>
                  </a:lnTo>
                  <a:lnTo>
                    <a:pt x="539" y="998"/>
                  </a:lnTo>
                  <a:lnTo>
                    <a:pt x="560" y="985"/>
                  </a:lnTo>
                  <a:lnTo>
                    <a:pt x="579" y="969"/>
                  </a:lnTo>
                  <a:lnTo>
                    <a:pt x="597" y="954"/>
                  </a:lnTo>
                  <a:lnTo>
                    <a:pt x="612" y="937"/>
                  </a:lnTo>
                  <a:lnTo>
                    <a:pt x="625" y="917"/>
                  </a:lnTo>
                  <a:lnTo>
                    <a:pt x="637" y="900"/>
                  </a:lnTo>
                  <a:lnTo>
                    <a:pt x="645" y="879"/>
                  </a:lnTo>
                  <a:lnTo>
                    <a:pt x="650" y="858"/>
                  </a:lnTo>
                  <a:lnTo>
                    <a:pt x="654" y="837"/>
                  </a:lnTo>
                  <a:lnTo>
                    <a:pt x="654" y="814"/>
                  </a:lnTo>
                  <a:lnTo>
                    <a:pt x="654" y="789"/>
                  </a:lnTo>
                  <a:lnTo>
                    <a:pt x="648" y="766"/>
                  </a:lnTo>
                  <a:lnTo>
                    <a:pt x="643" y="743"/>
                  </a:lnTo>
                  <a:lnTo>
                    <a:pt x="633" y="722"/>
                  </a:lnTo>
                  <a:lnTo>
                    <a:pt x="620" y="700"/>
                  </a:lnTo>
                  <a:lnTo>
                    <a:pt x="604" y="681"/>
                  </a:lnTo>
                  <a:lnTo>
                    <a:pt x="585" y="664"/>
                  </a:lnTo>
                  <a:lnTo>
                    <a:pt x="564" y="647"/>
                  </a:lnTo>
                  <a:lnTo>
                    <a:pt x="541" y="631"/>
                  </a:lnTo>
                  <a:lnTo>
                    <a:pt x="516" y="618"/>
                  </a:lnTo>
                  <a:lnTo>
                    <a:pt x="491" y="606"/>
                  </a:lnTo>
                  <a:lnTo>
                    <a:pt x="462" y="599"/>
                  </a:lnTo>
                  <a:lnTo>
                    <a:pt x="432" y="591"/>
                  </a:lnTo>
                  <a:lnTo>
                    <a:pt x="401" y="585"/>
                  </a:lnTo>
                  <a:lnTo>
                    <a:pt x="366" y="583"/>
                  </a:lnTo>
                  <a:lnTo>
                    <a:pt x="332" y="581"/>
                  </a:lnTo>
                  <a:lnTo>
                    <a:pt x="324" y="581"/>
                  </a:lnTo>
                  <a:lnTo>
                    <a:pt x="316" y="581"/>
                  </a:lnTo>
                  <a:lnTo>
                    <a:pt x="309" y="581"/>
                  </a:lnTo>
                  <a:lnTo>
                    <a:pt x="301" y="583"/>
                  </a:lnTo>
                  <a:lnTo>
                    <a:pt x="293" y="583"/>
                  </a:lnTo>
                  <a:lnTo>
                    <a:pt x="286" y="583"/>
                  </a:lnTo>
                  <a:lnTo>
                    <a:pt x="276" y="585"/>
                  </a:lnTo>
                  <a:lnTo>
                    <a:pt x="269" y="585"/>
                  </a:lnTo>
                  <a:lnTo>
                    <a:pt x="261" y="587"/>
                  </a:lnTo>
                  <a:lnTo>
                    <a:pt x="251" y="587"/>
                  </a:lnTo>
                  <a:lnTo>
                    <a:pt x="244" y="589"/>
                  </a:lnTo>
                  <a:lnTo>
                    <a:pt x="234" y="589"/>
                  </a:lnTo>
                  <a:lnTo>
                    <a:pt x="226" y="591"/>
                  </a:lnTo>
                  <a:lnTo>
                    <a:pt x="217" y="593"/>
                  </a:lnTo>
                  <a:lnTo>
                    <a:pt x="207" y="595"/>
                  </a:lnTo>
                  <a:lnTo>
                    <a:pt x="199" y="597"/>
                  </a:lnTo>
                  <a:lnTo>
                    <a:pt x="608" y="249"/>
                  </a:lnTo>
                  <a:lnTo>
                    <a:pt x="236" y="249"/>
                  </a:lnTo>
                  <a:lnTo>
                    <a:pt x="228" y="249"/>
                  </a:lnTo>
                  <a:lnTo>
                    <a:pt x="219" y="249"/>
                  </a:lnTo>
                  <a:lnTo>
                    <a:pt x="211" y="251"/>
                  </a:lnTo>
                  <a:lnTo>
                    <a:pt x="203" y="253"/>
                  </a:lnTo>
                  <a:lnTo>
                    <a:pt x="196" y="255"/>
                  </a:lnTo>
                  <a:lnTo>
                    <a:pt x="190" y="257"/>
                  </a:lnTo>
                  <a:lnTo>
                    <a:pt x="182" y="261"/>
                  </a:lnTo>
                  <a:lnTo>
                    <a:pt x="176" y="265"/>
                  </a:lnTo>
                  <a:lnTo>
                    <a:pt x="171" y="271"/>
                  </a:lnTo>
                  <a:lnTo>
                    <a:pt x="163" y="276"/>
                  </a:lnTo>
                  <a:lnTo>
                    <a:pt x="157" y="282"/>
                  </a:lnTo>
                  <a:lnTo>
                    <a:pt x="151" y="290"/>
                  </a:lnTo>
                  <a:lnTo>
                    <a:pt x="146" y="297"/>
                  </a:lnTo>
                  <a:lnTo>
                    <a:pt x="138" y="307"/>
                  </a:lnTo>
                  <a:lnTo>
                    <a:pt x="132" y="317"/>
                  </a:lnTo>
                  <a:lnTo>
                    <a:pt x="125" y="328"/>
                  </a:lnTo>
                  <a:lnTo>
                    <a:pt x="88" y="319"/>
                  </a:lnTo>
                  <a:lnTo>
                    <a:pt x="199" y="0"/>
                  </a:lnTo>
                  <a:lnTo>
                    <a:pt x="203" y="2"/>
                  </a:lnTo>
                  <a:lnTo>
                    <a:pt x="207" y="6"/>
                  </a:lnTo>
                  <a:lnTo>
                    <a:pt x="209" y="8"/>
                  </a:lnTo>
                  <a:lnTo>
                    <a:pt x="213" y="11"/>
                  </a:lnTo>
                  <a:lnTo>
                    <a:pt x="217" y="13"/>
                  </a:lnTo>
                  <a:lnTo>
                    <a:pt x="221" y="15"/>
                  </a:lnTo>
                  <a:lnTo>
                    <a:pt x="224" y="17"/>
                  </a:lnTo>
                  <a:lnTo>
                    <a:pt x="226" y="17"/>
                  </a:lnTo>
                  <a:lnTo>
                    <a:pt x="230" y="19"/>
                  </a:lnTo>
                  <a:lnTo>
                    <a:pt x="234" y="21"/>
                  </a:lnTo>
                  <a:lnTo>
                    <a:pt x="238" y="21"/>
                  </a:lnTo>
                  <a:lnTo>
                    <a:pt x="244" y="21"/>
                  </a:lnTo>
                  <a:lnTo>
                    <a:pt x="247" y="23"/>
                  </a:lnTo>
                  <a:lnTo>
                    <a:pt x="253" y="23"/>
                  </a:lnTo>
                  <a:lnTo>
                    <a:pt x="259" y="23"/>
                  </a:lnTo>
                  <a:lnTo>
                    <a:pt x="263" y="23"/>
                  </a:lnTo>
                  <a:lnTo>
                    <a:pt x="850" y="23"/>
                  </a:lnTo>
                  <a:lnTo>
                    <a:pt x="906" y="155"/>
                  </a:lnTo>
                  <a:lnTo>
                    <a:pt x="608" y="390"/>
                  </a:lnTo>
                  <a:lnTo>
                    <a:pt x="648" y="393"/>
                  </a:lnTo>
                  <a:lnTo>
                    <a:pt x="687" y="403"/>
                  </a:lnTo>
                  <a:lnTo>
                    <a:pt x="721" y="413"/>
                  </a:lnTo>
                  <a:lnTo>
                    <a:pt x="756" y="424"/>
                  </a:lnTo>
                  <a:lnTo>
                    <a:pt x="787" y="439"/>
                  </a:lnTo>
                  <a:lnTo>
                    <a:pt x="815" y="459"/>
                  </a:lnTo>
                  <a:lnTo>
                    <a:pt x="842" y="478"/>
                  </a:lnTo>
                  <a:lnTo>
                    <a:pt x="869" y="501"/>
                  </a:lnTo>
                  <a:lnTo>
                    <a:pt x="890" y="526"/>
                  </a:lnTo>
                  <a:lnTo>
                    <a:pt x="909" y="551"/>
                  </a:lnTo>
                  <a:lnTo>
                    <a:pt x="927" y="580"/>
                  </a:lnTo>
                  <a:lnTo>
                    <a:pt x="940" y="608"/>
                  </a:lnTo>
                  <a:lnTo>
                    <a:pt x="952" y="639"/>
                  </a:lnTo>
                  <a:lnTo>
                    <a:pt x="957" y="672"/>
                  </a:lnTo>
                  <a:lnTo>
                    <a:pt x="963" y="704"/>
                  </a:lnTo>
                  <a:lnTo>
                    <a:pt x="965" y="741"/>
                  </a:lnTo>
                  <a:lnTo>
                    <a:pt x="963" y="764"/>
                  </a:lnTo>
                  <a:lnTo>
                    <a:pt x="961" y="785"/>
                  </a:lnTo>
                  <a:lnTo>
                    <a:pt x="959" y="808"/>
                  </a:lnTo>
                  <a:lnTo>
                    <a:pt x="955" y="829"/>
                  </a:lnTo>
                  <a:lnTo>
                    <a:pt x="950" y="848"/>
                  </a:lnTo>
                  <a:lnTo>
                    <a:pt x="944" y="869"/>
                  </a:lnTo>
                  <a:lnTo>
                    <a:pt x="936" y="889"/>
                  </a:lnTo>
                  <a:lnTo>
                    <a:pt x="929" y="908"/>
                  </a:lnTo>
                  <a:lnTo>
                    <a:pt x="917" y="927"/>
                  </a:lnTo>
                  <a:lnTo>
                    <a:pt x="907" y="944"/>
                  </a:lnTo>
                  <a:lnTo>
                    <a:pt x="896" y="961"/>
                  </a:lnTo>
                  <a:lnTo>
                    <a:pt x="882" y="979"/>
                  </a:lnTo>
                  <a:lnTo>
                    <a:pt x="867" y="996"/>
                  </a:lnTo>
                  <a:lnTo>
                    <a:pt x="852" y="1011"/>
                  </a:lnTo>
                  <a:lnTo>
                    <a:pt x="836" y="1029"/>
                  </a:lnTo>
                  <a:lnTo>
                    <a:pt x="817" y="1042"/>
                  </a:lnTo>
                  <a:lnTo>
                    <a:pt x="800" y="1057"/>
                  </a:lnTo>
                  <a:lnTo>
                    <a:pt x="781" y="1071"/>
                  </a:lnTo>
                  <a:lnTo>
                    <a:pt x="760" y="1084"/>
                  </a:lnTo>
                  <a:lnTo>
                    <a:pt x="741" y="1096"/>
                  </a:lnTo>
                  <a:lnTo>
                    <a:pt x="717" y="1105"/>
                  </a:lnTo>
                  <a:lnTo>
                    <a:pt x="696" y="1115"/>
                  </a:lnTo>
                  <a:lnTo>
                    <a:pt x="673" y="1125"/>
                  </a:lnTo>
                  <a:lnTo>
                    <a:pt x="650" y="1132"/>
                  </a:lnTo>
                  <a:lnTo>
                    <a:pt x="625" y="1140"/>
                  </a:lnTo>
                  <a:lnTo>
                    <a:pt x="602" y="1146"/>
                  </a:lnTo>
                  <a:lnTo>
                    <a:pt x="576" y="1150"/>
                  </a:lnTo>
                  <a:lnTo>
                    <a:pt x="551" y="1155"/>
                  </a:lnTo>
                  <a:lnTo>
                    <a:pt x="524" y="1157"/>
                  </a:lnTo>
                  <a:lnTo>
                    <a:pt x="497" y="1161"/>
                  </a:lnTo>
                  <a:lnTo>
                    <a:pt x="468" y="1161"/>
                  </a:lnTo>
                  <a:lnTo>
                    <a:pt x="439" y="1163"/>
                  </a:lnTo>
                  <a:lnTo>
                    <a:pt x="409" y="1161"/>
                  </a:lnTo>
                  <a:lnTo>
                    <a:pt x="378" y="1161"/>
                  </a:lnTo>
                  <a:lnTo>
                    <a:pt x="349" y="1157"/>
                  </a:lnTo>
                  <a:lnTo>
                    <a:pt x="318" y="1153"/>
                  </a:lnTo>
                  <a:lnTo>
                    <a:pt x="290" y="1150"/>
                  </a:lnTo>
                  <a:lnTo>
                    <a:pt x="263" y="1144"/>
                  </a:lnTo>
                  <a:lnTo>
                    <a:pt x="234" y="1138"/>
                  </a:lnTo>
                  <a:lnTo>
                    <a:pt x="207" y="1130"/>
                  </a:lnTo>
                  <a:lnTo>
                    <a:pt x="180" y="1123"/>
                  </a:lnTo>
                  <a:lnTo>
                    <a:pt x="153" y="1113"/>
                  </a:lnTo>
                  <a:lnTo>
                    <a:pt x="127" y="1102"/>
                  </a:lnTo>
                  <a:lnTo>
                    <a:pt x="102" y="1090"/>
                  </a:lnTo>
                  <a:lnTo>
                    <a:pt x="75" y="1079"/>
                  </a:lnTo>
                  <a:lnTo>
                    <a:pt x="50" y="1065"/>
                  </a:lnTo>
                  <a:lnTo>
                    <a:pt x="25" y="1050"/>
                  </a:lnTo>
                  <a:lnTo>
                    <a:pt x="0" y="1034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1438200" y="5230800"/>
            <a:ext cx="1689120" cy="1192320"/>
            <a:chOff x="1438200" y="5230800"/>
            <a:chExt cx="1689120" cy="1192320"/>
          </a:xfrm>
        </p:grpSpPr>
        <p:sp>
          <p:nvSpPr>
            <p:cNvPr id="814" name=""/>
            <p:cNvSpPr/>
            <p:nvPr/>
          </p:nvSpPr>
          <p:spPr>
            <a:xfrm flipH="1">
              <a:off x="2564640" y="6307200"/>
              <a:ext cx="183960" cy="1159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796040" y="5230800"/>
              <a:ext cx="1033560" cy="11905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690640" y="5284800"/>
              <a:ext cx="84240" cy="7956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682720" y="5280120"/>
              <a:ext cx="60480" cy="651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1894680" y="5230800"/>
              <a:ext cx="865080" cy="1335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93800" y="5810400"/>
              <a:ext cx="533520" cy="541080"/>
            </a:xfrm>
            <a:custGeom>
              <a:avLst/>
              <a:gdLst/>
              <a:ahLst/>
              <a:rect l="l" t="t" r="r" b="b"/>
              <a:pathLst>
                <a:path w="1050" h="1270">
                  <a:moveTo>
                    <a:pt x="415" y="1270"/>
                  </a:moveTo>
                  <a:lnTo>
                    <a:pt x="415" y="1210"/>
                  </a:lnTo>
                  <a:lnTo>
                    <a:pt x="426" y="1209"/>
                  </a:lnTo>
                  <a:lnTo>
                    <a:pt x="436" y="1205"/>
                  </a:lnTo>
                  <a:lnTo>
                    <a:pt x="445" y="1203"/>
                  </a:lnTo>
                  <a:lnTo>
                    <a:pt x="455" y="1199"/>
                  </a:lnTo>
                  <a:lnTo>
                    <a:pt x="463" y="1193"/>
                  </a:lnTo>
                  <a:lnTo>
                    <a:pt x="470" y="1189"/>
                  </a:lnTo>
                  <a:lnTo>
                    <a:pt x="478" y="1184"/>
                  </a:lnTo>
                  <a:lnTo>
                    <a:pt x="484" y="1178"/>
                  </a:lnTo>
                  <a:lnTo>
                    <a:pt x="490" y="1172"/>
                  </a:lnTo>
                  <a:lnTo>
                    <a:pt x="495" y="1166"/>
                  </a:lnTo>
                  <a:lnTo>
                    <a:pt x="499" y="1159"/>
                  </a:lnTo>
                  <a:lnTo>
                    <a:pt x="503" y="1151"/>
                  </a:lnTo>
                  <a:lnTo>
                    <a:pt x="505" y="1143"/>
                  </a:lnTo>
                  <a:lnTo>
                    <a:pt x="507" y="1135"/>
                  </a:lnTo>
                  <a:lnTo>
                    <a:pt x="509" y="1128"/>
                  </a:lnTo>
                  <a:lnTo>
                    <a:pt x="509" y="1118"/>
                  </a:lnTo>
                  <a:lnTo>
                    <a:pt x="509" y="986"/>
                  </a:lnTo>
                  <a:lnTo>
                    <a:pt x="60" y="986"/>
                  </a:lnTo>
                  <a:lnTo>
                    <a:pt x="56" y="986"/>
                  </a:lnTo>
                  <a:lnTo>
                    <a:pt x="52" y="988"/>
                  </a:lnTo>
                  <a:lnTo>
                    <a:pt x="48" y="988"/>
                  </a:lnTo>
                  <a:lnTo>
                    <a:pt x="44" y="988"/>
                  </a:lnTo>
                  <a:lnTo>
                    <a:pt x="40" y="988"/>
                  </a:lnTo>
                  <a:lnTo>
                    <a:pt x="36" y="989"/>
                  </a:lnTo>
                  <a:lnTo>
                    <a:pt x="33" y="989"/>
                  </a:lnTo>
                  <a:lnTo>
                    <a:pt x="29" y="991"/>
                  </a:lnTo>
                  <a:lnTo>
                    <a:pt x="25" y="991"/>
                  </a:lnTo>
                  <a:lnTo>
                    <a:pt x="21" y="993"/>
                  </a:lnTo>
                  <a:lnTo>
                    <a:pt x="17" y="993"/>
                  </a:lnTo>
                  <a:lnTo>
                    <a:pt x="15" y="995"/>
                  </a:lnTo>
                  <a:lnTo>
                    <a:pt x="12" y="997"/>
                  </a:lnTo>
                  <a:lnTo>
                    <a:pt x="8" y="999"/>
                  </a:lnTo>
                  <a:lnTo>
                    <a:pt x="6" y="1001"/>
                  </a:lnTo>
                  <a:lnTo>
                    <a:pt x="2" y="1003"/>
                  </a:lnTo>
                  <a:lnTo>
                    <a:pt x="2" y="1001"/>
                  </a:lnTo>
                  <a:lnTo>
                    <a:pt x="2" y="999"/>
                  </a:lnTo>
                  <a:lnTo>
                    <a:pt x="2" y="997"/>
                  </a:lnTo>
                  <a:lnTo>
                    <a:pt x="2" y="995"/>
                  </a:lnTo>
                  <a:lnTo>
                    <a:pt x="0" y="993"/>
                  </a:lnTo>
                  <a:lnTo>
                    <a:pt x="0" y="991"/>
                  </a:lnTo>
                  <a:lnTo>
                    <a:pt x="0" y="989"/>
                  </a:lnTo>
                  <a:lnTo>
                    <a:pt x="0" y="988"/>
                  </a:lnTo>
                  <a:lnTo>
                    <a:pt x="0" y="986"/>
                  </a:lnTo>
                  <a:lnTo>
                    <a:pt x="0" y="984"/>
                  </a:lnTo>
                  <a:lnTo>
                    <a:pt x="0" y="982"/>
                  </a:lnTo>
                  <a:lnTo>
                    <a:pt x="0" y="978"/>
                  </a:lnTo>
                  <a:lnTo>
                    <a:pt x="0" y="976"/>
                  </a:lnTo>
                  <a:lnTo>
                    <a:pt x="2" y="955"/>
                  </a:lnTo>
                  <a:lnTo>
                    <a:pt x="6" y="934"/>
                  </a:lnTo>
                  <a:lnTo>
                    <a:pt x="13" y="909"/>
                  </a:lnTo>
                  <a:lnTo>
                    <a:pt x="21" y="884"/>
                  </a:lnTo>
                  <a:lnTo>
                    <a:pt x="33" y="857"/>
                  </a:lnTo>
                  <a:lnTo>
                    <a:pt x="48" y="828"/>
                  </a:lnTo>
                  <a:lnTo>
                    <a:pt x="63" y="797"/>
                  </a:lnTo>
                  <a:lnTo>
                    <a:pt x="83" y="767"/>
                  </a:lnTo>
                  <a:lnTo>
                    <a:pt x="88" y="757"/>
                  </a:lnTo>
                  <a:lnTo>
                    <a:pt x="117" y="715"/>
                  </a:lnTo>
                  <a:lnTo>
                    <a:pt x="142" y="674"/>
                  </a:lnTo>
                  <a:lnTo>
                    <a:pt x="163" y="636"/>
                  </a:lnTo>
                  <a:lnTo>
                    <a:pt x="184" y="601"/>
                  </a:lnTo>
                  <a:lnTo>
                    <a:pt x="202" y="569"/>
                  </a:lnTo>
                  <a:lnTo>
                    <a:pt x="219" y="540"/>
                  </a:lnTo>
                  <a:lnTo>
                    <a:pt x="232" y="513"/>
                  </a:lnTo>
                  <a:lnTo>
                    <a:pt x="244" y="490"/>
                  </a:lnTo>
                  <a:lnTo>
                    <a:pt x="253" y="467"/>
                  </a:lnTo>
                  <a:lnTo>
                    <a:pt x="261" y="446"/>
                  </a:lnTo>
                  <a:lnTo>
                    <a:pt x="267" y="425"/>
                  </a:lnTo>
                  <a:lnTo>
                    <a:pt x="273" y="403"/>
                  </a:lnTo>
                  <a:lnTo>
                    <a:pt x="278" y="384"/>
                  </a:lnTo>
                  <a:lnTo>
                    <a:pt x="280" y="367"/>
                  </a:lnTo>
                  <a:lnTo>
                    <a:pt x="282" y="350"/>
                  </a:lnTo>
                  <a:lnTo>
                    <a:pt x="284" y="332"/>
                  </a:lnTo>
                  <a:lnTo>
                    <a:pt x="284" y="325"/>
                  </a:lnTo>
                  <a:lnTo>
                    <a:pt x="282" y="317"/>
                  </a:lnTo>
                  <a:lnTo>
                    <a:pt x="282" y="311"/>
                  </a:lnTo>
                  <a:lnTo>
                    <a:pt x="280" y="305"/>
                  </a:lnTo>
                  <a:lnTo>
                    <a:pt x="278" y="300"/>
                  </a:lnTo>
                  <a:lnTo>
                    <a:pt x="278" y="294"/>
                  </a:lnTo>
                  <a:lnTo>
                    <a:pt x="275" y="290"/>
                  </a:lnTo>
                  <a:lnTo>
                    <a:pt x="273" y="286"/>
                  </a:lnTo>
                  <a:lnTo>
                    <a:pt x="271" y="282"/>
                  </a:lnTo>
                  <a:lnTo>
                    <a:pt x="267" y="279"/>
                  </a:lnTo>
                  <a:lnTo>
                    <a:pt x="263" y="275"/>
                  </a:lnTo>
                  <a:lnTo>
                    <a:pt x="257" y="271"/>
                  </a:lnTo>
                  <a:lnTo>
                    <a:pt x="253" y="267"/>
                  </a:lnTo>
                  <a:lnTo>
                    <a:pt x="248" y="263"/>
                  </a:lnTo>
                  <a:lnTo>
                    <a:pt x="242" y="259"/>
                  </a:lnTo>
                  <a:lnTo>
                    <a:pt x="234" y="257"/>
                  </a:lnTo>
                  <a:lnTo>
                    <a:pt x="257" y="238"/>
                  </a:lnTo>
                  <a:lnTo>
                    <a:pt x="280" y="221"/>
                  </a:lnTo>
                  <a:lnTo>
                    <a:pt x="301" y="204"/>
                  </a:lnTo>
                  <a:lnTo>
                    <a:pt x="321" y="186"/>
                  </a:lnTo>
                  <a:lnTo>
                    <a:pt x="340" y="169"/>
                  </a:lnTo>
                  <a:lnTo>
                    <a:pt x="359" y="154"/>
                  </a:lnTo>
                  <a:lnTo>
                    <a:pt x="376" y="138"/>
                  </a:lnTo>
                  <a:lnTo>
                    <a:pt x="392" y="121"/>
                  </a:lnTo>
                  <a:lnTo>
                    <a:pt x="407" y="106"/>
                  </a:lnTo>
                  <a:lnTo>
                    <a:pt x="422" y="90"/>
                  </a:lnTo>
                  <a:lnTo>
                    <a:pt x="438" y="75"/>
                  </a:lnTo>
                  <a:lnTo>
                    <a:pt x="451" y="59"/>
                  </a:lnTo>
                  <a:lnTo>
                    <a:pt x="465" y="44"/>
                  </a:lnTo>
                  <a:lnTo>
                    <a:pt x="476" y="31"/>
                  </a:lnTo>
                  <a:lnTo>
                    <a:pt x="490" y="15"/>
                  </a:lnTo>
                  <a:lnTo>
                    <a:pt x="501" y="0"/>
                  </a:lnTo>
                  <a:lnTo>
                    <a:pt x="505" y="8"/>
                  </a:lnTo>
                  <a:lnTo>
                    <a:pt x="511" y="17"/>
                  </a:lnTo>
                  <a:lnTo>
                    <a:pt x="514" y="27"/>
                  </a:lnTo>
                  <a:lnTo>
                    <a:pt x="518" y="36"/>
                  </a:lnTo>
                  <a:lnTo>
                    <a:pt x="522" y="46"/>
                  </a:lnTo>
                  <a:lnTo>
                    <a:pt x="526" y="56"/>
                  </a:lnTo>
                  <a:lnTo>
                    <a:pt x="530" y="65"/>
                  </a:lnTo>
                  <a:lnTo>
                    <a:pt x="532" y="75"/>
                  </a:lnTo>
                  <a:lnTo>
                    <a:pt x="534" y="84"/>
                  </a:lnTo>
                  <a:lnTo>
                    <a:pt x="536" y="96"/>
                  </a:lnTo>
                  <a:lnTo>
                    <a:pt x="538" y="106"/>
                  </a:lnTo>
                  <a:lnTo>
                    <a:pt x="539" y="117"/>
                  </a:lnTo>
                  <a:lnTo>
                    <a:pt x="541" y="129"/>
                  </a:lnTo>
                  <a:lnTo>
                    <a:pt x="541" y="142"/>
                  </a:lnTo>
                  <a:lnTo>
                    <a:pt x="541" y="154"/>
                  </a:lnTo>
                  <a:lnTo>
                    <a:pt x="541" y="167"/>
                  </a:lnTo>
                  <a:lnTo>
                    <a:pt x="541" y="192"/>
                  </a:lnTo>
                  <a:lnTo>
                    <a:pt x="538" y="219"/>
                  </a:lnTo>
                  <a:lnTo>
                    <a:pt x="534" y="246"/>
                  </a:lnTo>
                  <a:lnTo>
                    <a:pt x="526" y="275"/>
                  </a:lnTo>
                  <a:lnTo>
                    <a:pt x="516" y="304"/>
                  </a:lnTo>
                  <a:lnTo>
                    <a:pt x="505" y="336"/>
                  </a:lnTo>
                  <a:lnTo>
                    <a:pt x="491" y="367"/>
                  </a:lnTo>
                  <a:lnTo>
                    <a:pt x="476" y="402"/>
                  </a:lnTo>
                  <a:lnTo>
                    <a:pt x="459" y="434"/>
                  </a:lnTo>
                  <a:lnTo>
                    <a:pt x="440" y="471"/>
                  </a:lnTo>
                  <a:lnTo>
                    <a:pt x="417" y="507"/>
                  </a:lnTo>
                  <a:lnTo>
                    <a:pt x="394" y="546"/>
                  </a:lnTo>
                  <a:lnTo>
                    <a:pt x="367" y="584"/>
                  </a:lnTo>
                  <a:lnTo>
                    <a:pt x="340" y="624"/>
                  </a:lnTo>
                  <a:lnTo>
                    <a:pt x="309" y="665"/>
                  </a:lnTo>
                  <a:lnTo>
                    <a:pt x="278" y="707"/>
                  </a:lnTo>
                  <a:lnTo>
                    <a:pt x="261" y="728"/>
                  </a:lnTo>
                  <a:lnTo>
                    <a:pt x="246" y="749"/>
                  </a:lnTo>
                  <a:lnTo>
                    <a:pt x="230" y="769"/>
                  </a:lnTo>
                  <a:lnTo>
                    <a:pt x="217" y="786"/>
                  </a:lnTo>
                  <a:lnTo>
                    <a:pt x="205" y="803"/>
                  </a:lnTo>
                  <a:lnTo>
                    <a:pt x="192" y="818"/>
                  </a:lnTo>
                  <a:lnTo>
                    <a:pt x="182" y="834"/>
                  </a:lnTo>
                  <a:lnTo>
                    <a:pt x="173" y="845"/>
                  </a:lnTo>
                  <a:lnTo>
                    <a:pt x="509" y="845"/>
                  </a:lnTo>
                  <a:lnTo>
                    <a:pt x="509" y="463"/>
                  </a:lnTo>
                  <a:lnTo>
                    <a:pt x="538" y="453"/>
                  </a:lnTo>
                  <a:lnTo>
                    <a:pt x="564" y="442"/>
                  </a:lnTo>
                  <a:lnTo>
                    <a:pt x="591" y="430"/>
                  </a:lnTo>
                  <a:lnTo>
                    <a:pt x="616" y="417"/>
                  </a:lnTo>
                  <a:lnTo>
                    <a:pt x="639" y="403"/>
                  </a:lnTo>
                  <a:lnTo>
                    <a:pt x="662" y="388"/>
                  </a:lnTo>
                  <a:lnTo>
                    <a:pt x="683" y="371"/>
                  </a:lnTo>
                  <a:lnTo>
                    <a:pt x="705" y="352"/>
                  </a:lnTo>
                  <a:lnTo>
                    <a:pt x="724" y="332"/>
                  </a:lnTo>
                  <a:lnTo>
                    <a:pt x="741" y="311"/>
                  </a:lnTo>
                  <a:lnTo>
                    <a:pt x="758" y="288"/>
                  </a:lnTo>
                  <a:lnTo>
                    <a:pt x="776" y="265"/>
                  </a:lnTo>
                  <a:lnTo>
                    <a:pt x="791" y="240"/>
                  </a:lnTo>
                  <a:lnTo>
                    <a:pt x="804" y="213"/>
                  </a:lnTo>
                  <a:lnTo>
                    <a:pt x="818" y="186"/>
                  </a:lnTo>
                  <a:lnTo>
                    <a:pt x="829" y="156"/>
                  </a:lnTo>
                  <a:lnTo>
                    <a:pt x="850" y="156"/>
                  </a:lnTo>
                  <a:lnTo>
                    <a:pt x="849" y="171"/>
                  </a:lnTo>
                  <a:lnTo>
                    <a:pt x="847" y="186"/>
                  </a:lnTo>
                  <a:lnTo>
                    <a:pt x="845" y="200"/>
                  </a:lnTo>
                  <a:lnTo>
                    <a:pt x="843" y="213"/>
                  </a:lnTo>
                  <a:lnTo>
                    <a:pt x="841" y="229"/>
                  </a:lnTo>
                  <a:lnTo>
                    <a:pt x="839" y="242"/>
                  </a:lnTo>
                  <a:lnTo>
                    <a:pt x="837" y="255"/>
                  </a:lnTo>
                  <a:lnTo>
                    <a:pt x="835" y="269"/>
                  </a:lnTo>
                  <a:lnTo>
                    <a:pt x="833" y="282"/>
                  </a:lnTo>
                  <a:lnTo>
                    <a:pt x="833" y="296"/>
                  </a:lnTo>
                  <a:lnTo>
                    <a:pt x="831" y="309"/>
                  </a:lnTo>
                  <a:lnTo>
                    <a:pt x="831" y="321"/>
                  </a:lnTo>
                  <a:lnTo>
                    <a:pt x="831" y="334"/>
                  </a:lnTo>
                  <a:lnTo>
                    <a:pt x="829" y="348"/>
                  </a:lnTo>
                  <a:lnTo>
                    <a:pt x="829" y="361"/>
                  </a:lnTo>
                  <a:lnTo>
                    <a:pt x="829" y="375"/>
                  </a:lnTo>
                  <a:lnTo>
                    <a:pt x="829" y="402"/>
                  </a:lnTo>
                  <a:lnTo>
                    <a:pt x="829" y="845"/>
                  </a:lnTo>
                  <a:lnTo>
                    <a:pt x="908" y="845"/>
                  </a:lnTo>
                  <a:lnTo>
                    <a:pt x="916" y="845"/>
                  </a:lnTo>
                  <a:lnTo>
                    <a:pt x="925" y="845"/>
                  </a:lnTo>
                  <a:lnTo>
                    <a:pt x="935" y="843"/>
                  </a:lnTo>
                  <a:lnTo>
                    <a:pt x="943" y="843"/>
                  </a:lnTo>
                  <a:lnTo>
                    <a:pt x="950" y="842"/>
                  </a:lnTo>
                  <a:lnTo>
                    <a:pt x="958" y="840"/>
                  </a:lnTo>
                  <a:lnTo>
                    <a:pt x="966" y="836"/>
                  </a:lnTo>
                  <a:lnTo>
                    <a:pt x="973" y="834"/>
                  </a:lnTo>
                  <a:lnTo>
                    <a:pt x="979" y="830"/>
                  </a:lnTo>
                  <a:lnTo>
                    <a:pt x="985" y="826"/>
                  </a:lnTo>
                  <a:lnTo>
                    <a:pt x="991" y="822"/>
                  </a:lnTo>
                  <a:lnTo>
                    <a:pt x="996" y="817"/>
                  </a:lnTo>
                  <a:lnTo>
                    <a:pt x="1002" y="811"/>
                  </a:lnTo>
                  <a:lnTo>
                    <a:pt x="1008" y="807"/>
                  </a:lnTo>
                  <a:lnTo>
                    <a:pt x="1014" y="799"/>
                  </a:lnTo>
                  <a:lnTo>
                    <a:pt x="1017" y="793"/>
                  </a:lnTo>
                  <a:lnTo>
                    <a:pt x="1050" y="795"/>
                  </a:lnTo>
                  <a:lnTo>
                    <a:pt x="987" y="1038"/>
                  </a:lnTo>
                  <a:lnTo>
                    <a:pt x="958" y="1032"/>
                  </a:lnTo>
                  <a:lnTo>
                    <a:pt x="958" y="1026"/>
                  </a:lnTo>
                  <a:lnTo>
                    <a:pt x="958" y="1020"/>
                  </a:lnTo>
                  <a:lnTo>
                    <a:pt x="956" y="1016"/>
                  </a:lnTo>
                  <a:lnTo>
                    <a:pt x="954" y="1011"/>
                  </a:lnTo>
                  <a:lnTo>
                    <a:pt x="952" y="1007"/>
                  </a:lnTo>
                  <a:lnTo>
                    <a:pt x="950" y="1003"/>
                  </a:lnTo>
                  <a:lnTo>
                    <a:pt x="946" y="1001"/>
                  </a:lnTo>
                  <a:lnTo>
                    <a:pt x="944" y="997"/>
                  </a:lnTo>
                  <a:lnTo>
                    <a:pt x="941" y="995"/>
                  </a:lnTo>
                  <a:lnTo>
                    <a:pt x="937" y="993"/>
                  </a:lnTo>
                  <a:lnTo>
                    <a:pt x="933" y="991"/>
                  </a:lnTo>
                  <a:lnTo>
                    <a:pt x="927" y="989"/>
                  </a:lnTo>
                  <a:lnTo>
                    <a:pt x="921" y="988"/>
                  </a:lnTo>
                  <a:lnTo>
                    <a:pt x="918" y="988"/>
                  </a:lnTo>
                  <a:lnTo>
                    <a:pt x="910" y="986"/>
                  </a:lnTo>
                  <a:lnTo>
                    <a:pt x="904" y="986"/>
                  </a:lnTo>
                  <a:lnTo>
                    <a:pt x="829" y="986"/>
                  </a:lnTo>
                  <a:lnTo>
                    <a:pt x="829" y="1118"/>
                  </a:lnTo>
                  <a:lnTo>
                    <a:pt x="829" y="1128"/>
                  </a:lnTo>
                  <a:lnTo>
                    <a:pt x="831" y="1135"/>
                  </a:lnTo>
                  <a:lnTo>
                    <a:pt x="833" y="1143"/>
                  </a:lnTo>
                  <a:lnTo>
                    <a:pt x="835" y="1151"/>
                  </a:lnTo>
                  <a:lnTo>
                    <a:pt x="839" y="1159"/>
                  </a:lnTo>
                  <a:lnTo>
                    <a:pt x="843" y="1166"/>
                  </a:lnTo>
                  <a:lnTo>
                    <a:pt x="849" y="1172"/>
                  </a:lnTo>
                  <a:lnTo>
                    <a:pt x="854" y="1178"/>
                  </a:lnTo>
                  <a:lnTo>
                    <a:pt x="860" y="1184"/>
                  </a:lnTo>
                  <a:lnTo>
                    <a:pt x="868" y="1189"/>
                  </a:lnTo>
                  <a:lnTo>
                    <a:pt x="875" y="1193"/>
                  </a:lnTo>
                  <a:lnTo>
                    <a:pt x="883" y="1199"/>
                  </a:lnTo>
                  <a:lnTo>
                    <a:pt x="891" y="1203"/>
                  </a:lnTo>
                  <a:lnTo>
                    <a:pt x="900" y="1205"/>
                  </a:lnTo>
                  <a:lnTo>
                    <a:pt x="912" y="1209"/>
                  </a:lnTo>
                  <a:lnTo>
                    <a:pt x="921" y="1210"/>
                  </a:lnTo>
                  <a:lnTo>
                    <a:pt x="921" y="1270"/>
                  </a:lnTo>
                  <a:lnTo>
                    <a:pt x="415" y="127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0600" y="5665680"/>
              <a:ext cx="420840" cy="490680"/>
            </a:xfrm>
            <a:custGeom>
              <a:avLst/>
              <a:gdLst/>
              <a:ahLst/>
              <a:rect l="l" t="t" r="r" b="b"/>
              <a:pathLst>
                <a:path w="965" h="1163">
                  <a:moveTo>
                    <a:pt x="0" y="1034"/>
                  </a:moveTo>
                  <a:lnTo>
                    <a:pt x="132" y="754"/>
                  </a:lnTo>
                  <a:lnTo>
                    <a:pt x="169" y="771"/>
                  </a:lnTo>
                  <a:lnTo>
                    <a:pt x="167" y="775"/>
                  </a:lnTo>
                  <a:lnTo>
                    <a:pt x="167" y="781"/>
                  </a:lnTo>
                  <a:lnTo>
                    <a:pt x="165" y="785"/>
                  </a:lnTo>
                  <a:lnTo>
                    <a:pt x="165" y="791"/>
                  </a:lnTo>
                  <a:lnTo>
                    <a:pt x="163" y="794"/>
                  </a:lnTo>
                  <a:lnTo>
                    <a:pt x="163" y="800"/>
                  </a:lnTo>
                  <a:lnTo>
                    <a:pt x="163" y="804"/>
                  </a:lnTo>
                  <a:lnTo>
                    <a:pt x="163" y="808"/>
                  </a:lnTo>
                  <a:lnTo>
                    <a:pt x="161" y="812"/>
                  </a:lnTo>
                  <a:lnTo>
                    <a:pt x="161" y="816"/>
                  </a:lnTo>
                  <a:lnTo>
                    <a:pt x="161" y="819"/>
                  </a:lnTo>
                  <a:lnTo>
                    <a:pt x="161" y="823"/>
                  </a:lnTo>
                  <a:lnTo>
                    <a:pt x="161" y="827"/>
                  </a:lnTo>
                  <a:lnTo>
                    <a:pt x="161" y="831"/>
                  </a:lnTo>
                  <a:lnTo>
                    <a:pt x="159" y="835"/>
                  </a:lnTo>
                  <a:lnTo>
                    <a:pt x="159" y="839"/>
                  </a:lnTo>
                  <a:lnTo>
                    <a:pt x="161" y="860"/>
                  </a:lnTo>
                  <a:lnTo>
                    <a:pt x="165" y="881"/>
                  </a:lnTo>
                  <a:lnTo>
                    <a:pt x="169" y="900"/>
                  </a:lnTo>
                  <a:lnTo>
                    <a:pt x="176" y="917"/>
                  </a:lnTo>
                  <a:lnTo>
                    <a:pt x="184" y="935"/>
                  </a:lnTo>
                  <a:lnTo>
                    <a:pt x="196" y="952"/>
                  </a:lnTo>
                  <a:lnTo>
                    <a:pt x="209" y="967"/>
                  </a:lnTo>
                  <a:lnTo>
                    <a:pt x="222" y="981"/>
                  </a:lnTo>
                  <a:lnTo>
                    <a:pt x="240" y="992"/>
                  </a:lnTo>
                  <a:lnTo>
                    <a:pt x="257" y="1004"/>
                  </a:lnTo>
                  <a:lnTo>
                    <a:pt x="276" y="1013"/>
                  </a:lnTo>
                  <a:lnTo>
                    <a:pt x="297" y="1019"/>
                  </a:lnTo>
                  <a:lnTo>
                    <a:pt x="318" y="1025"/>
                  </a:lnTo>
                  <a:lnTo>
                    <a:pt x="341" y="1031"/>
                  </a:lnTo>
                  <a:lnTo>
                    <a:pt x="366" y="1032"/>
                  </a:lnTo>
                  <a:lnTo>
                    <a:pt x="393" y="1032"/>
                  </a:lnTo>
                  <a:lnTo>
                    <a:pt x="420" y="1032"/>
                  </a:lnTo>
                  <a:lnTo>
                    <a:pt x="447" y="1029"/>
                  </a:lnTo>
                  <a:lnTo>
                    <a:pt x="472" y="1025"/>
                  </a:lnTo>
                  <a:lnTo>
                    <a:pt x="495" y="1017"/>
                  </a:lnTo>
                  <a:lnTo>
                    <a:pt x="518" y="1008"/>
                  </a:lnTo>
                  <a:lnTo>
                    <a:pt x="539" y="998"/>
                  </a:lnTo>
                  <a:lnTo>
                    <a:pt x="560" y="985"/>
                  </a:lnTo>
                  <a:lnTo>
                    <a:pt x="579" y="969"/>
                  </a:lnTo>
                  <a:lnTo>
                    <a:pt x="597" y="954"/>
                  </a:lnTo>
                  <a:lnTo>
                    <a:pt x="612" y="937"/>
                  </a:lnTo>
                  <a:lnTo>
                    <a:pt x="625" y="917"/>
                  </a:lnTo>
                  <a:lnTo>
                    <a:pt x="637" y="900"/>
                  </a:lnTo>
                  <a:lnTo>
                    <a:pt x="645" y="879"/>
                  </a:lnTo>
                  <a:lnTo>
                    <a:pt x="650" y="858"/>
                  </a:lnTo>
                  <a:lnTo>
                    <a:pt x="654" y="837"/>
                  </a:lnTo>
                  <a:lnTo>
                    <a:pt x="654" y="814"/>
                  </a:lnTo>
                  <a:lnTo>
                    <a:pt x="654" y="789"/>
                  </a:lnTo>
                  <a:lnTo>
                    <a:pt x="648" y="766"/>
                  </a:lnTo>
                  <a:lnTo>
                    <a:pt x="643" y="743"/>
                  </a:lnTo>
                  <a:lnTo>
                    <a:pt x="633" y="722"/>
                  </a:lnTo>
                  <a:lnTo>
                    <a:pt x="620" y="700"/>
                  </a:lnTo>
                  <a:lnTo>
                    <a:pt x="604" y="681"/>
                  </a:lnTo>
                  <a:lnTo>
                    <a:pt x="585" y="664"/>
                  </a:lnTo>
                  <a:lnTo>
                    <a:pt x="564" y="647"/>
                  </a:lnTo>
                  <a:lnTo>
                    <a:pt x="541" y="631"/>
                  </a:lnTo>
                  <a:lnTo>
                    <a:pt x="516" y="618"/>
                  </a:lnTo>
                  <a:lnTo>
                    <a:pt x="491" y="606"/>
                  </a:lnTo>
                  <a:lnTo>
                    <a:pt x="462" y="599"/>
                  </a:lnTo>
                  <a:lnTo>
                    <a:pt x="432" y="591"/>
                  </a:lnTo>
                  <a:lnTo>
                    <a:pt x="401" y="585"/>
                  </a:lnTo>
                  <a:lnTo>
                    <a:pt x="366" y="583"/>
                  </a:lnTo>
                  <a:lnTo>
                    <a:pt x="332" y="581"/>
                  </a:lnTo>
                  <a:lnTo>
                    <a:pt x="324" y="581"/>
                  </a:lnTo>
                  <a:lnTo>
                    <a:pt x="316" y="581"/>
                  </a:lnTo>
                  <a:lnTo>
                    <a:pt x="309" y="581"/>
                  </a:lnTo>
                  <a:lnTo>
                    <a:pt x="301" y="583"/>
                  </a:lnTo>
                  <a:lnTo>
                    <a:pt x="293" y="583"/>
                  </a:lnTo>
                  <a:lnTo>
                    <a:pt x="286" y="583"/>
                  </a:lnTo>
                  <a:lnTo>
                    <a:pt x="276" y="585"/>
                  </a:lnTo>
                  <a:lnTo>
                    <a:pt x="269" y="585"/>
                  </a:lnTo>
                  <a:lnTo>
                    <a:pt x="261" y="587"/>
                  </a:lnTo>
                  <a:lnTo>
                    <a:pt x="251" y="587"/>
                  </a:lnTo>
                  <a:lnTo>
                    <a:pt x="244" y="589"/>
                  </a:lnTo>
                  <a:lnTo>
                    <a:pt x="234" y="589"/>
                  </a:lnTo>
                  <a:lnTo>
                    <a:pt x="226" y="591"/>
                  </a:lnTo>
                  <a:lnTo>
                    <a:pt x="217" y="593"/>
                  </a:lnTo>
                  <a:lnTo>
                    <a:pt x="207" y="595"/>
                  </a:lnTo>
                  <a:lnTo>
                    <a:pt x="199" y="597"/>
                  </a:lnTo>
                  <a:lnTo>
                    <a:pt x="608" y="249"/>
                  </a:lnTo>
                  <a:lnTo>
                    <a:pt x="236" y="249"/>
                  </a:lnTo>
                  <a:lnTo>
                    <a:pt x="228" y="249"/>
                  </a:lnTo>
                  <a:lnTo>
                    <a:pt x="219" y="249"/>
                  </a:lnTo>
                  <a:lnTo>
                    <a:pt x="211" y="251"/>
                  </a:lnTo>
                  <a:lnTo>
                    <a:pt x="203" y="253"/>
                  </a:lnTo>
                  <a:lnTo>
                    <a:pt x="196" y="255"/>
                  </a:lnTo>
                  <a:lnTo>
                    <a:pt x="190" y="257"/>
                  </a:lnTo>
                  <a:lnTo>
                    <a:pt x="182" y="261"/>
                  </a:lnTo>
                  <a:lnTo>
                    <a:pt x="176" y="265"/>
                  </a:lnTo>
                  <a:lnTo>
                    <a:pt x="171" y="271"/>
                  </a:lnTo>
                  <a:lnTo>
                    <a:pt x="163" y="276"/>
                  </a:lnTo>
                  <a:lnTo>
                    <a:pt x="157" y="282"/>
                  </a:lnTo>
                  <a:lnTo>
                    <a:pt x="151" y="290"/>
                  </a:lnTo>
                  <a:lnTo>
                    <a:pt x="146" y="297"/>
                  </a:lnTo>
                  <a:lnTo>
                    <a:pt x="138" y="307"/>
                  </a:lnTo>
                  <a:lnTo>
                    <a:pt x="132" y="317"/>
                  </a:lnTo>
                  <a:lnTo>
                    <a:pt x="125" y="328"/>
                  </a:lnTo>
                  <a:lnTo>
                    <a:pt x="88" y="319"/>
                  </a:lnTo>
                  <a:lnTo>
                    <a:pt x="199" y="0"/>
                  </a:lnTo>
                  <a:lnTo>
                    <a:pt x="203" y="2"/>
                  </a:lnTo>
                  <a:lnTo>
                    <a:pt x="207" y="6"/>
                  </a:lnTo>
                  <a:lnTo>
                    <a:pt x="209" y="8"/>
                  </a:lnTo>
                  <a:lnTo>
                    <a:pt x="213" y="11"/>
                  </a:lnTo>
                  <a:lnTo>
                    <a:pt x="217" y="13"/>
                  </a:lnTo>
                  <a:lnTo>
                    <a:pt x="221" y="15"/>
                  </a:lnTo>
                  <a:lnTo>
                    <a:pt x="224" y="17"/>
                  </a:lnTo>
                  <a:lnTo>
                    <a:pt x="226" y="17"/>
                  </a:lnTo>
                  <a:lnTo>
                    <a:pt x="230" y="19"/>
                  </a:lnTo>
                  <a:lnTo>
                    <a:pt x="234" y="21"/>
                  </a:lnTo>
                  <a:lnTo>
                    <a:pt x="238" y="21"/>
                  </a:lnTo>
                  <a:lnTo>
                    <a:pt x="244" y="21"/>
                  </a:lnTo>
                  <a:lnTo>
                    <a:pt x="247" y="23"/>
                  </a:lnTo>
                  <a:lnTo>
                    <a:pt x="253" y="23"/>
                  </a:lnTo>
                  <a:lnTo>
                    <a:pt x="259" y="23"/>
                  </a:lnTo>
                  <a:lnTo>
                    <a:pt x="263" y="23"/>
                  </a:lnTo>
                  <a:lnTo>
                    <a:pt x="850" y="23"/>
                  </a:lnTo>
                  <a:lnTo>
                    <a:pt x="906" y="155"/>
                  </a:lnTo>
                  <a:lnTo>
                    <a:pt x="608" y="390"/>
                  </a:lnTo>
                  <a:lnTo>
                    <a:pt x="648" y="393"/>
                  </a:lnTo>
                  <a:lnTo>
                    <a:pt x="687" y="403"/>
                  </a:lnTo>
                  <a:lnTo>
                    <a:pt x="721" y="413"/>
                  </a:lnTo>
                  <a:lnTo>
                    <a:pt x="756" y="424"/>
                  </a:lnTo>
                  <a:lnTo>
                    <a:pt x="787" y="439"/>
                  </a:lnTo>
                  <a:lnTo>
                    <a:pt x="815" y="459"/>
                  </a:lnTo>
                  <a:lnTo>
                    <a:pt x="842" y="478"/>
                  </a:lnTo>
                  <a:lnTo>
                    <a:pt x="869" y="501"/>
                  </a:lnTo>
                  <a:lnTo>
                    <a:pt x="890" y="526"/>
                  </a:lnTo>
                  <a:lnTo>
                    <a:pt x="909" y="551"/>
                  </a:lnTo>
                  <a:lnTo>
                    <a:pt x="927" y="580"/>
                  </a:lnTo>
                  <a:lnTo>
                    <a:pt x="940" y="608"/>
                  </a:lnTo>
                  <a:lnTo>
                    <a:pt x="952" y="639"/>
                  </a:lnTo>
                  <a:lnTo>
                    <a:pt x="957" y="672"/>
                  </a:lnTo>
                  <a:lnTo>
                    <a:pt x="963" y="704"/>
                  </a:lnTo>
                  <a:lnTo>
                    <a:pt x="965" y="741"/>
                  </a:lnTo>
                  <a:lnTo>
                    <a:pt x="963" y="764"/>
                  </a:lnTo>
                  <a:lnTo>
                    <a:pt x="961" y="785"/>
                  </a:lnTo>
                  <a:lnTo>
                    <a:pt x="959" y="808"/>
                  </a:lnTo>
                  <a:lnTo>
                    <a:pt x="955" y="829"/>
                  </a:lnTo>
                  <a:lnTo>
                    <a:pt x="950" y="848"/>
                  </a:lnTo>
                  <a:lnTo>
                    <a:pt x="944" y="869"/>
                  </a:lnTo>
                  <a:lnTo>
                    <a:pt x="936" y="889"/>
                  </a:lnTo>
                  <a:lnTo>
                    <a:pt x="929" y="908"/>
                  </a:lnTo>
                  <a:lnTo>
                    <a:pt x="917" y="927"/>
                  </a:lnTo>
                  <a:lnTo>
                    <a:pt x="907" y="944"/>
                  </a:lnTo>
                  <a:lnTo>
                    <a:pt x="896" y="961"/>
                  </a:lnTo>
                  <a:lnTo>
                    <a:pt x="882" y="979"/>
                  </a:lnTo>
                  <a:lnTo>
                    <a:pt x="867" y="996"/>
                  </a:lnTo>
                  <a:lnTo>
                    <a:pt x="852" y="1011"/>
                  </a:lnTo>
                  <a:lnTo>
                    <a:pt x="836" y="1029"/>
                  </a:lnTo>
                  <a:lnTo>
                    <a:pt x="817" y="1042"/>
                  </a:lnTo>
                  <a:lnTo>
                    <a:pt x="800" y="1057"/>
                  </a:lnTo>
                  <a:lnTo>
                    <a:pt x="781" y="1071"/>
                  </a:lnTo>
                  <a:lnTo>
                    <a:pt x="760" y="1084"/>
                  </a:lnTo>
                  <a:lnTo>
                    <a:pt x="741" y="1096"/>
                  </a:lnTo>
                  <a:lnTo>
                    <a:pt x="717" y="1105"/>
                  </a:lnTo>
                  <a:lnTo>
                    <a:pt x="696" y="1115"/>
                  </a:lnTo>
                  <a:lnTo>
                    <a:pt x="673" y="1125"/>
                  </a:lnTo>
                  <a:lnTo>
                    <a:pt x="650" y="1132"/>
                  </a:lnTo>
                  <a:lnTo>
                    <a:pt x="625" y="1140"/>
                  </a:lnTo>
                  <a:lnTo>
                    <a:pt x="602" y="1146"/>
                  </a:lnTo>
                  <a:lnTo>
                    <a:pt x="576" y="1150"/>
                  </a:lnTo>
                  <a:lnTo>
                    <a:pt x="551" y="1155"/>
                  </a:lnTo>
                  <a:lnTo>
                    <a:pt x="524" y="1157"/>
                  </a:lnTo>
                  <a:lnTo>
                    <a:pt x="497" y="1161"/>
                  </a:lnTo>
                  <a:lnTo>
                    <a:pt x="468" y="1161"/>
                  </a:lnTo>
                  <a:lnTo>
                    <a:pt x="439" y="1163"/>
                  </a:lnTo>
                  <a:lnTo>
                    <a:pt x="409" y="1161"/>
                  </a:lnTo>
                  <a:lnTo>
                    <a:pt x="378" y="1161"/>
                  </a:lnTo>
                  <a:lnTo>
                    <a:pt x="349" y="1157"/>
                  </a:lnTo>
                  <a:lnTo>
                    <a:pt x="318" y="1153"/>
                  </a:lnTo>
                  <a:lnTo>
                    <a:pt x="290" y="1150"/>
                  </a:lnTo>
                  <a:lnTo>
                    <a:pt x="263" y="1144"/>
                  </a:lnTo>
                  <a:lnTo>
                    <a:pt x="234" y="1138"/>
                  </a:lnTo>
                  <a:lnTo>
                    <a:pt x="207" y="1130"/>
                  </a:lnTo>
                  <a:lnTo>
                    <a:pt x="180" y="1123"/>
                  </a:lnTo>
                  <a:lnTo>
                    <a:pt x="153" y="1113"/>
                  </a:lnTo>
                  <a:lnTo>
                    <a:pt x="127" y="1102"/>
                  </a:lnTo>
                  <a:lnTo>
                    <a:pt x="102" y="1090"/>
                  </a:lnTo>
                  <a:lnTo>
                    <a:pt x="75" y="1079"/>
                  </a:lnTo>
                  <a:lnTo>
                    <a:pt x="50" y="1065"/>
                  </a:lnTo>
                  <a:lnTo>
                    <a:pt x="25" y="1050"/>
                  </a:lnTo>
                  <a:lnTo>
                    <a:pt x="0" y="1034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9760" y="5521320"/>
              <a:ext cx="443160" cy="477720"/>
            </a:xfrm>
            <a:custGeom>
              <a:avLst/>
              <a:gdLst/>
              <a:ahLst/>
              <a:rect l="l" t="t" r="r" b="b"/>
              <a:pathLst>
                <a:path w="761" h="883">
                  <a:moveTo>
                    <a:pt x="0" y="859"/>
                  </a:moveTo>
                  <a:lnTo>
                    <a:pt x="52" y="822"/>
                  </a:lnTo>
                  <a:lnTo>
                    <a:pt x="100" y="783"/>
                  </a:lnTo>
                  <a:lnTo>
                    <a:pt x="146" y="745"/>
                  </a:lnTo>
                  <a:lnTo>
                    <a:pt x="190" y="706"/>
                  </a:lnTo>
                  <a:lnTo>
                    <a:pt x="229" y="667"/>
                  </a:lnTo>
                  <a:lnTo>
                    <a:pt x="267" y="629"/>
                  </a:lnTo>
                  <a:lnTo>
                    <a:pt x="300" y="589"/>
                  </a:lnTo>
                  <a:lnTo>
                    <a:pt x="332" y="550"/>
                  </a:lnTo>
                  <a:lnTo>
                    <a:pt x="359" y="512"/>
                  </a:lnTo>
                  <a:lnTo>
                    <a:pt x="384" y="473"/>
                  </a:lnTo>
                  <a:lnTo>
                    <a:pt x="404" y="437"/>
                  </a:lnTo>
                  <a:lnTo>
                    <a:pt x="420" y="401"/>
                  </a:lnTo>
                  <a:lnTo>
                    <a:pt x="427" y="383"/>
                  </a:lnTo>
                  <a:lnTo>
                    <a:pt x="433" y="366"/>
                  </a:lnTo>
                  <a:lnTo>
                    <a:pt x="439" y="349"/>
                  </a:lnTo>
                  <a:lnTo>
                    <a:pt x="443" y="333"/>
                  </a:lnTo>
                  <a:lnTo>
                    <a:pt x="446" y="315"/>
                  </a:lnTo>
                  <a:lnTo>
                    <a:pt x="449" y="299"/>
                  </a:lnTo>
                  <a:lnTo>
                    <a:pt x="451" y="284"/>
                  </a:lnTo>
                  <a:lnTo>
                    <a:pt x="451" y="268"/>
                  </a:lnTo>
                  <a:lnTo>
                    <a:pt x="451" y="250"/>
                  </a:lnTo>
                  <a:lnTo>
                    <a:pt x="448" y="234"/>
                  </a:lnTo>
                  <a:lnTo>
                    <a:pt x="445" y="218"/>
                  </a:lnTo>
                  <a:lnTo>
                    <a:pt x="440" y="204"/>
                  </a:lnTo>
                  <a:lnTo>
                    <a:pt x="435" y="190"/>
                  </a:lnTo>
                  <a:lnTo>
                    <a:pt x="429" y="177"/>
                  </a:lnTo>
                  <a:lnTo>
                    <a:pt x="420" y="165"/>
                  </a:lnTo>
                  <a:lnTo>
                    <a:pt x="411" y="153"/>
                  </a:lnTo>
                  <a:lnTo>
                    <a:pt x="401" y="143"/>
                  </a:lnTo>
                  <a:lnTo>
                    <a:pt x="390" y="135"/>
                  </a:lnTo>
                  <a:lnTo>
                    <a:pt x="378" y="127"/>
                  </a:lnTo>
                  <a:lnTo>
                    <a:pt x="367" y="122"/>
                  </a:lnTo>
                  <a:lnTo>
                    <a:pt x="352" y="116"/>
                  </a:lnTo>
                  <a:lnTo>
                    <a:pt x="339" y="113"/>
                  </a:lnTo>
                  <a:lnTo>
                    <a:pt x="323" y="111"/>
                  </a:lnTo>
                  <a:lnTo>
                    <a:pt x="307" y="110"/>
                  </a:lnTo>
                  <a:lnTo>
                    <a:pt x="287" y="111"/>
                  </a:lnTo>
                  <a:lnTo>
                    <a:pt x="267" y="114"/>
                  </a:lnTo>
                  <a:lnTo>
                    <a:pt x="248" y="117"/>
                  </a:lnTo>
                  <a:lnTo>
                    <a:pt x="229" y="123"/>
                  </a:lnTo>
                  <a:lnTo>
                    <a:pt x="213" y="132"/>
                  </a:lnTo>
                  <a:lnTo>
                    <a:pt x="197" y="140"/>
                  </a:lnTo>
                  <a:lnTo>
                    <a:pt x="181" y="150"/>
                  </a:lnTo>
                  <a:lnTo>
                    <a:pt x="168" y="163"/>
                  </a:lnTo>
                  <a:lnTo>
                    <a:pt x="155" y="178"/>
                  </a:lnTo>
                  <a:lnTo>
                    <a:pt x="145" y="192"/>
                  </a:lnTo>
                  <a:lnTo>
                    <a:pt x="135" y="210"/>
                  </a:lnTo>
                  <a:lnTo>
                    <a:pt x="126" y="227"/>
                  </a:lnTo>
                  <a:lnTo>
                    <a:pt x="120" y="246"/>
                  </a:lnTo>
                  <a:lnTo>
                    <a:pt x="114" y="266"/>
                  </a:lnTo>
                  <a:lnTo>
                    <a:pt x="112" y="288"/>
                  </a:lnTo>
                  <a:lnTo>
                    <a:pt x="109" y="311"/>
                  </a:lnTo>
                  <a:lnTo>
                    <a:pt x="84" y="315"/>
                  </a:lnTo>
                  <a:lnTo>
                    <a:pt x="22" y="98"/>
                  </a:lnTo>
                  <a:lnTo>
                    <a:pt x="45" y="87"/>
                  </a:lnTo>
                  <a:lnTo>
                    <a:pt x="68" y="75"/>
                  </a:lnTo>
                  <a:lnTo>
                    <a:pt x="91" y="65"/>
                  </a:lnTo>
                  <a:lnTo>
                    <a:pt x="114" y="55"/>
                  </a:lnTo>
                  <a:lnTo>
                    <a:pt x="138" y="46"/>
                  </a:lnTo>
                  <a:lnTo>
                    <a:pt x="161" y="39"/>
                  </a:lnTo>
                  <a:lnTo>
                    <a:pt x="184" y="32"/>
                  </a:lnTo>
                  <a:lnTo>
                    <a:pt x="207" y="25"/>
                  </a:lnTo>
                  <a:lnTo>
                    <a:pt x="230" y="19"/>
                  </a:lnTo>
                  <a:lnTo>
                    <a:pt x="254" y="14"/>
                  </a:lnTo>
                  <a:lnTo>
                    <a:pt x="275" y="10"/>
                  </a:lnTo>
                  <a:lnTo>
                    <a:pt x="298" y="7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23" y="1"/>
                  </a:lnTo>
                  <a:lnTo>
                    <a:pt x="458" y="4"/>
                  </a:lnTo>
                  <a:lnTo>
                    <a:pt x="491" y="10"/>
                  </a:lnTo>
                  <a:lnTo>
                    <a:pt x="522" y="17"/>
                  </a:lnTo>
                  <a:lnTo>
                    <a:pt x="550" y="26"/>
                  </a:lnTo>
                  <a:lnTo>
                    <a:pt x="578" y="38"/>
                  </a:lnTo>
                  <a:lnTo>
                    <a:pt x="604" y="52"/>
                  </a:lnTo>
                  <a:lnTo>
                    <a:pt x="627" y="68"/>
                  </a:lnTo>
                  <a:lnTo>
                    <a:pt x="637" y="77"/>
                  </a:lnTo>
                  <a:lnTo>
                    <a:pt x="648" y="85"/>
                  </a:lnTo>
                  <a:lnTo>
                    <a:pt x="658" y="94"/>
                  </a:lnTo>
                  <a:lnTo>
                    <a:pt x="666" y="104"/>
                  </a:lnTo>
                  <a:lnTo>
                    <a:pt x="674" y="113"/>
                  </a:lnTo>
                  <a:lnTo>
                    <a:pt x="682" y="124"/>
                  </a:lnTo>
                  <a:lnTo>
                    <a:pt x="688" y="135"/>
                  </a:lnTo>
                  <a:lnTo>
                    <a:pt x="694" y="145"/>
                  </a:lnTo>
                  <a:lnTo>
                    <a:pt x="700" y="156"/>
                  </a:lnTo>
                  <a:lnTo>
                    <a:pt x="704" y="168"/>
                  </a:lnTo>
                  <a:lnTo>
                    <a:pt x="708" y="179"/>
                  </a:lnTo>
                  <a:lnTo>
                    <a:pt x="711" y="192"/>
                  </a:lnTo>
                  <a:lnTo>
                    <a:pt x="714" y="205"/>
                  </a:lnTo>
                  <a:lnTo>
                    <a:pt x="716" y="217"/>
                  </a:lnTo>
                  <a:lnTo>
                    <a:pt x="717" y="231"/>
                  </a:lnTo>
                  <a:lnTo>
                    <a:pt x="717" y="245"/>
                  </a:lnTo>
                  <a:lnTo>
                    <a:pt x="716" y="268"/>
                  </a:lnTo>
                  <a:lnTo>
                    <a:pt x="713" y="291"/>
                  </a:lnTo>
                  <a:lnTo>
                    <a:pt x="708" y="314"/>
                  </a:lnTo>
                  <a:lnTo>
                    <a:pt x="701" y="337"/>
                  </a:lnTo>
                  <a:lnTo>
                    <a:pt x="691" y="360"/>
                  </a:lnTo>
                  <a:lnTo>
                    <a:pt x="681" y="383"/>
                  </a:lnTo>
                  <a:lnTo>
                    <a:pt x="668" y="407"/>
                  </a:lnTo>
                  <a:lnTo>
                    <a:pt x="652" y="428"/>
                  </a:lnTo>
                  <a:lnTo>
                    <a:pt x="635" y="451"/>
                  </a:lnTo>
                  <a:lnTo>
                    <a:pt x="611" y="477"/>
                  </a:lnTo>
                  <a:lnTo>
                    <a:pt x="585" y="505"/>
                  </a:lnTo>
                  <a:lnTo>
                    <a:pt x="555" y="535"/>
                  </a:lnTo>
                  <a:lnTo>
                    <a:pt x="520" y="567"/>
                  </a:lnTo>
                  <a:lnTo>
                    <a:pt x="481" y="600"/>
                  </a:lnTo>
                  <a:lnTo>
                    <a:pt x="437" y="637"/>
                  </a:lnTo>
                  <a:lnTo>
                    <a:pt x="391" y="676"/>
                  </a:lnTo>
                  <a:lnTo>
                    <a:pt x="604" y="676"/>
                  </a:lnTo>
                  <a:lnTo>
                    <a:pt x="617" y="676"/>
                  </a:lnTo>
                  <a:lnTo>
                    <a:pt x="630" y="674"/>
                  </a:lnTo>
                  <a:lnTo>
                    <a:pt x="640" y="673"/>
                  </a:lnTo>
                  <a:lnTo>
                    <a:pt x="652" y="671"/>
                  </a:lnTo>
                  <a:lnTo>
                    <a:pt x="662" y="670"/>
                  </a:lnTo>
                  <a:lnTo>
                    <a:pt x="671" y="667"/>
                  </a:lnTo>
                  <a:lnTo>
                    <a:pt x="679" y="663"/>
                  </a:lnTo>
                  <a:lnTo>
                    <a:pt x="687" y="660"/>
                  </a:lnTo>
                  <a:lnTo>
                    <a:pt x="694" y="655"/>
                  </a:lnTo>
                  <a:lnTo>
                    <a:pt x="701" y="651"/>
                  </a:lnTo>
                  <a:lnTo>
                    <a:pt x="707" y="645"/>
                  </a:lnTo>
                  <a:lnTo>
                    <a:pt x="713" y="639"/>
                  </a:lnTo>
                  <a:lnTo>
                    <a:pt x="719" y="632"/>
                  </a:lnTo>
                  <a:lnTo>
                    <a:pt x="723" y="625"/>
                  </a:lnTo>
                  <a:lnTo>
                    <a:pt x="727" y="616"/>
                  </a:lnTo>
                  <a:lnTo>
                    <a:pt x="730" y="609"/>
                  </a:lnTo>
                  <a:lnTo>
                    <a:pt x="761" y="615"/>
                  </a:lnTo>
                  <a:lnTo>
                    <a:pt x="655" y="883"/>
                  </a:lnTo>
                  <a:lnTo>
                    <a:pt x="652" y="880"/>
                  </a:lnTo>
                  <a:lnTo>
                    <a:pt x="649" y="877"/>
                  </a:lnTo>
                  <a:lnTo>
                    <a:pt x="648" y="874"/>
                  </a:lnTo>
                  <a:lnTo>
                    <a:pt x="645" y="872"/>
                  </a:lnTo>
                  <a:lnTo>
                    <a:pt x="642" y="870"/>
                  </a:lnTo>
                  <a:lnTo>
                    <a:pt x="639" y="868"/>
                  </a:lnTo>
                  <a:lnTo>
                    <a:pt x="636" y="867"/>
                  </a:lnTo>
                  <a:lnTo>
                    <a:pt x="633" y="865"/>
                  </a:lnTo>
                  <a:lnTo>
                    <a:pt x="629" y="864"/>
                  </a:lnTo>
                  <a:lnTo>
                    <a:pt x="626" y="862"/>
                  </a:lnTo>
                  <a:lnTo>
                    <a:pt x="621" y="862"/>
                  </a:lnTo>
                  <a:lnTo>
                    <a:pt x="617" y="861"/>
                  </a:lnTo>
                  <a:lnTo>
                    <a:pt x="613" y="861"/>
                  </a:lnTo>
                  <a:lnTo>
                    <a:pt x="607" y="861"/>
                  </a:lnTo>
                  <a:lnTo>
                    <a:pt x="603" y="859"/>
                  </a:lnTo>
                  <a:lnTo>
                    <a:pt x="597" y="859"/>
                  </a:lnTo>
                  <a:lnTo>
                    <a:pt x="0" y="859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38200" y="5362560"/>
              <a:ext cx="404640" cy="49536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ány GPO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4130640" cy="31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részleteseb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evés GPO-t kell kezel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kinek meg kell hogy felelj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övidebb belépési id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4160" y="1417680"/>
            <a:ext cx="4132080" cy="329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kisebb speciális célok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hezebb átlát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nnyű delegál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CL-el jól lehet szűr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öveli a belépési idő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minisztrációs eszközö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ibaelhárítá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3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Resource K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.CH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Resul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PRESULT.EXE, parancssor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Verification Too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XE, parancssor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tive Directory Replication Mon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PLM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XE, graf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vent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Group Policy Result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GPRESULT.EXE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37680" y="1422360"/>
            <a:ext cx="880596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szletes információ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 típus, Terminal Services státusz, felhasználói név, AD konténer, profil típus és hely,..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öltődés legutolsó időpont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lista az érvényre jutott GPO-k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 részletes listáj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formáció az átirányított mappákról, a publikált és kötelező alkalmazások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18900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ctive Directory alapfogalmai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328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al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és altartom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Er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Névhasználati környez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Partí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4440" y="222084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7800" y="2581200"/>
            <a:ext cx="666720" cy="62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32200" y="3421080"/>
            <a:ext cx="2639880" cy="520560"/>
            <a:chOff x="4732200" y="3421080"/>
            <a:chExt cx="2639880" cy="520560"/>
          </a:xfrm>
        </p:grpSpPr>
        <p:grpSp>
          <p:nvGrpSpPr>
            <p:cNvPr id="56" name=""/>
            <p:cNvGrpSpPr/>
            <p:nvPr/>
          </p:nvGrpSpPr>
          <p:grpSpPr>
            <a:xfrm>
              <a:off x="4732200" y="3421080"/>
              <a:ext cx="1006560" cy="520200"/>
              <a:chOff x="4732200" y="3421080"/>
              <a:chExt cx="1006560" cy="52020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5300280" y="35553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9240" y="342108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19320" y="36129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32200" y="38052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6744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5672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320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888080" y="355716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5236560" y="355752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798800" y="37486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4952880" y="374796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530064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1484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0412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564840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060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06080" y="38052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150160" y="37494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5497560" y="37494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902920" y="3421080"/>
              <a:ext cx="1006200" cy="520200"/>
              <a:chOff x="5902920" y="3421080"/>
              <a:chExt cx="1006200" cy="520200"/>
            </a:xfrm>
          </p:grpSpPr>
          <p:sp>
            <p:nvSpPr>
              <p:cNvPr id="77" name=""/>
              <p:cNvSpPr/>
              <p:nvPr/>
            </p:nvSpPr>
            <p:spPr>
              <a:xfrm flipH="1" flipV="1">
                <a:off x="6471000" y="35553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39600" y="342108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0040" y="36129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02920" y="38052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3816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2708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25392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058440" y="355716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406920" y="355752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969520" y="37486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123600" y="374796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647136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8520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7448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681876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0096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76800" y="38052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20520" y="37494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67920" y="37494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64280" y="3421440"/>
              <a:ext cx="307800" cy="520200"/>
              <a:chOff x="7064280" y="3421440"/>
              <a:chExt cx="307800" cy="520200"/>
            </a:xfrm>
          </p:grpSpPr>
          <p:sp>
            <p:nvSpPr>
              <p:cNvPr id="97" name=""/>
              <p:cNvSpPr/>
              <p:nvPr/>
            </p:nvSpPr>
            <p:spPr>
              <a:xfrm>
                <a:off x="7149960" y="34214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48520" y="361332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37440" y="38055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64280" y="38055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217280" y="355824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7281720" y="37479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130880" y="37497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5222880" y="4633920"/>
            <a:ext cx="498600" cy="431640"/>
          </a:xfrm>
          <a:prstGeom prst="hexagon">
            <a:avLst>
              <a:gd name="adj" fmla="val 28878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578640" y="5076720"/>
            <a:ext cx="453960" cy="803520"/>
            <a:chOff x="6578640" y="5076720"/>
            <a:chExt cx="453960" cy="803520"/>
          </a:xfrm>
        </p:grpSpPr>
        <p:sp>
          <p:nvSpPr>
            <p:cNvPr id="106" name=""/>
            <p:cNvSpPr/>
            <p:nvPr/>
          </p:nvSpPr>
          <p:spPr>
            <a:xfrm>
              <a:off x="6578640" y="5661360"/>
              <a:ext cx="451800" cy="21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800" y="5550480"/>
              <a:ext cx="451800" cy="21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0800" y="5316840"/>
              <a:ext cx="451800" cy="337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80800" y="5076720"/>
              <a:ext cx="451800" cy="337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86600" y="1984320"/>
            <a:ext cx="912600" cy="784440"/>
            <a:chOff x="6186600" y="1984320"/>
            <a:chExt cx="912600" cy="784440"/>
          </a:xfrm>
        </p:grpSpPr>
        <p:sp>
          <p:nvSpPr>
            <p:cNvPr id="111" name=""/>
            <p:cNvSpPr/>
            <p:nvPr/>
          </p:nvSpPr>
          <p:spPr>
            <a:xfrm flipH="1" flipV="1">
              <a:off x="6642360" y="2076840"/>
              <a:ext cx="85680" cy="13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541920" y="2065680"/>
              <a:ext cx="100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1600" y="198432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91880" y="221580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4840" y="221580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86600" y="2305800"/>
              <a:ext cx="912600" cy="462960"/>
              <a:chOff x="6186600" y="2305800"/>
              <a:chExt cx="912600" cy="462960"/>
            </a:xfrm>
          </p:grpSpPr>
          <p:sp>
            <p:nvSpPr>
              <p:cNvPr id="117" name=""/>
              <p:cNvSpPr/>
              <p:nvPr/>
            </p:nvSpPr>
            <p:spPr>
              <a:xfrm flipH="1" flipV="1">
                <a:off x="6740280" y="2305800"/>
                <a:ext cx="1443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6738120" y="2305800"/>
                <a:ext cx="21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6537600" y="2305800"/>
                <a:ext cx="684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6395760" y="2305800"/>
                <a:ext cx="14652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410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378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8972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920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8660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9588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3256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5352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6620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8032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0108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1556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236280" y="2530080"/>
                <a:ext cx="151560" cy="14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356160" y="2536200"/>
                <a:ext cx="38880" cy="1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476400" y="2534400"/>
                <a:ext cx="6336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6544800" y="2540520"/>
                <a:ext cx="38880" cy="13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711120" y="2534400"/>
                <a:ext cx="316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6745680" y="2538360"/>
                <a:ext cx="6840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6890040" y="2534400"/>
                <a:ext cx="388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6894360" y="2538360"/>
                <a:ext cx="14436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Group Policy Verification Tool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GPTOOL.EXE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52080" y="1639440"/>
            <a:ext cx="8464680" cy="460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O „egészségét” vizsgál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cia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PC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cia ellenőrzés a tartományvezérlők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O info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m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ovábbi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PO kere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eferált tartományvezérlő megad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okon keresztül is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EventLog, házirend monitorozá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1243080"/>
            <a:ext cx="8763120" cy="5468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információ per gép és per felhasználó al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KLM\Software\Microsoft\Windows NT\CurrentVersion\Diagno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unDiagnosticLoggingGroup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_DWORD 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 végrehajtási nap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KLM\Software\Microsoft\Windows NT\CurrentVersion\Winlog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renvDebugLevel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_DWORD  0x3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napló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%Systemdrive%\Debug\userenv.lo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jtett könyvtárban keletke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5680" y="228600"/>
            <a:ext cx="8967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 a házirend nem töltődik l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6840" y="1337760"/>
            <a:ext cx="8464320" cy="421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lenőrizzük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ltot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röklődé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at (AC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plikáci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en mozgattuk a felhasználót vagy a gépet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setleg Windows NT4-ről térünk át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ma használt rövidíté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41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O: Group Policy Ob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oportos házir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E: Group Policy Edi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E: Client Side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C: Group Policy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T: Group Policy Templ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zoftver disztribú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ulcs: Windows Install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80880" y="1636200"/>
            <a:ext cx="8415360" cy="342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 telepítést az operációs rendszer végz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anzakció alapú telepítő szervi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i műveletek és a hozzájuk tartozó adatformátumok definí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9x, Windows NT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1640" y="24264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rchitektúr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62120" y="1905120"/>
            <a:ext cx="1649160" cy="832320"/>
            <a:chOff x="762120" y="1905120"/>
            <a:chExt cx="1649160" cy="83232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1600200" y="1905120"/>
              <a:ext cx="32184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3"/>
            <a:stretch/>
          </p:blipFill>
          <p:spPr>
            <a:xfrm>
              <a:off x="1752480" y="1981080"/>
              <a:ext cx="321840" cy="3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4"/>
            <a:stretch/>
          </p:blipFill>
          <p:spPr>
            <a:xfrm>
              <a:off x="1828800" y="2133360"/>
              <a:ext cx="38988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5"/>
            <a:stretch/>
          </p:blipFill>
          <p:spPr>
            <a:xfrm>
              <a:off x="1066680" y="2057400"/>
              <a:ext cx="39024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762120" y="2400120"/>
              <a:ext cx="16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Csomag</a:t>
              </a:r>
              <a:r>
                <a:rPr b="1" lang="hu-H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066680" y="5715000"/>
            <a:ext cx="2657520" cy="808200"/>
            <a:chOff x="1066680" y="5715000"/>
            <a:chExt cx="2657520" cy="808200"/>
          </a:xfrm>
        </p:grpSpPr>
        <p:sp>
          <p:nvSpPr>
            <p:cNvPr id="849" name=""/>
            <p:cNvSpPr/>
            <p:nvPr/>
          </p:nvSpPr>
          <p:spPr>
            <a:xfrm>
              <a:off x="1066680" y="5715000"/>
              <a:ext cx="1143000" cy="73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ájl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 rendsz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38280" y="5715000"/>
              <a:ext cx="1143000" cy="73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Regist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51" name="" descr=""/>
            <p:cNvPicPr/>
            <p:nvPr/>
          </p:nvPicPr>
          <p:blipFill>
            <a:blip r:embed="rId6"/>
            <a:stretch/>
          </p:blipFill>
          <p:spPr>
            <a:xfrm>
              <a:off x="3352680" y="6142320"/>
              <a:ext cx="371520" cy="35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"/>
            <p:cNvGrpSpPr/>
            <p:nvPr/>
          </p:nvGrpSpPr>
          <p:grpSpPr>
            <a:xfrm>
              <a:off x="1882800" y="6191280"/>
              <a:ext cx="466200" cy="331920"/>
              <a:chOff x="1882800" y="6191280"/>
              <a:chExt cx="466200" cy="331920"/>
            </a:xfrm>
          </p:grpSpPr>
          <p:pic>
            <p:nvPicPr>
              <p:cNvPr id="8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58760" y="6191280"/>
                <a:ext cx="39024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82800" y="6267600"/>
                <a:ext cx="350640" cy="21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55" name=""/>
          <p:cNvGrpSpPr/>
          <p:nvPr/>
        </p:nvGrpSpPr>
        <p:grpSpPr>
          <a:xfrm>
            <a:off x="990720" y="4267080"/>
            <a:ext cx="2828880" cy="1295640"/>
            <a:chOff x="990720" y="4267080"/>
            <a:chExt cx="2828880" cy="1295640"/>
          </a:xfrm>
        </p:grpSpPr>
        <p:sp>
          <p:nvSpPr>
            <p:cNvPr id="856" name=""/>
            <p:cNvSpPr/>
            <p:nvPr/>
          </p:nvSpPr>
          <p:spPr>
            <a:xfrm>
              <a:off x="990720" y="4267080"/>
              <a:ext cx="2770200" cy="68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Installer szervi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57" name="" descr=""/>
            <p:cNvPicPr/>
            <p:nvPr/>
          </p:nvPicPr>
          <p:blipFill>
            <a:blip r:embed="rId9"/>
            <a:stretch/>
          </p:blipFill>
          <p:spPr>
            <a:xfrm>
              <a:off x="3429000" y="4724280"/>
              <a:ext cx="39060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16002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71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990720" y="2819520"/>
            <a:ext cx="3988800" cy="2133360"/>
            <a:chOff x="990720" y="2819520"/>
            <a:chExt cx="3988800" cy="2133360"/>
          </a:xfrm>
        </p:grpSpPr>
        <p:grpSp>
          <p:nvGrpSpPr>
            <p:cNvPr id="861" name=""/>
            <p:cNvGrpSpPr/>
            <p:nvPr/>
          </p:nvGrpSpPr>
          <p:grpSpPr>
            <a:xfrm>
              <a:off x="990720" y="3733920"/>
              <a:ext cx="3988800" cy="1218960"/>
              <a:chOff x="990720" y="3733920"/>
              <a:chExt cx="3988800" cy="1218960"/>
            </a:xfrm>
          </p:grpSpPr>
          <p:sp>
            <p:nvSpPr>
              <p:cNvPr id="862" name=""/>
              <p:cNvSpPr/>
              <p:nvPr/>
            </p:nvSpPr>
            <p:spPr>
              <a:xfrm>
                <a:off x="990720" y="3733920"/>
                <a:ext cx="3988800" cy="1218960"/>
              </a:xfrm>
              <a:custGeom>
                <a:avLst/>
                <a:gdLst/>
                <a:ahLst/>
                <a:rect l="l" t="t" r="r" b="b"/>
                <a:pathLst>
                  <a:path w="1776" h="672">
                    <a:moveTo>
                      <a:pt x="0" y="0"/>
                    </a:moveTo>
                    <a:lnTo>
                      <a:pt x="1776" y="0"/>
                    </a:lnTo>
                    <a:lnTo>
                      <a:pt x="1776" y="672"/>
                    </a:lnTo>
                    <a:lnTo>
                      <a:pt x="1296" y="672"/>
                    </a:lnTo>
                    <a:lnTo>
                      <a:pt x="1296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86dc"/>
                  </a:gs>
                  <a:gs pos="100000">
                    <a:srgbClr val="273d6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806840" y="376992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Windows Installer AP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160020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438280" y="1905120"/>
            <a:ext cx="1600200" cy="1752480"/>
            <a:chOff x="2438280" y="1905120"/>
            <a:chExt cx="1600200" cy="1752480"/>
          </a:xfrm>
        </p:grpSpPr>
        <p:grpSp>
          <p:nvGrpSpPr>
            <p:cNvPr id="866" name=""/>
            <p:cNvGrpSpPr/>
            <p:nvPr/>
          </p:nvGrpSpPr>
          <p:grpSpPr>
            <a:xfrm>
              <a:off x="2438280" y="1905120"/>
              <a:ext cx="1600200" cy="794520"/>
              <a:chOff x="2438280" y="1905120"/>
              <a:chExt cx="1600200" cy="794520"/>
            </a:xfrm>
          </p:grpSpPr>
          <p:sp>
            <p:nvSpPr>
              <p:cNvPr id="867" name=""/>
              <p:cNvSpPr/>
              <p:nvPr/>
            </p:nvSpPr>
            <p:spPr>
              <a:xfrm>
                <a:off x="2438280" y="236232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lkalmazá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24080" y="1905120"/>
                <a:ext cx="371520" cy="3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95480" y="1981440"/>
                <a:ext cx="4586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0" name=""/>
            <p:cNvSpPr/>
            <p:nvPr/>
          </p:nvSpPr>
          <p:spPr>
            <a:xfrm>
              <a:off x="320040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3962520" y="1828800"/>
            <a:ext cx="1493640" cy="1828800"/>
            <a:chOff x="3962520" y="1828800"/>
            <a:chExt cx="1493640" cy="1828800"/>
          </a:xfrm>
        </p:grpSpPr>
        <p:grpSp>
          <p:nvGrpSpPr>
            <p:cNvPr id="872" name=""/>
            <p:cNvGrpSpPr/>
            <p:nvPr/>
          </p:nvGrpSpPr>
          <p:grpSpPr>
            <a:xfrm>
              <a:off x="3962520" y="1828800"/>
              <a:ext cx="1493640" cy="961560"/>
              <a:chOff x="3962520" y="1828800"/>
              <a:chExt cx="1493640" cy="961560"/>
            </a:xfrm>
          </p:grpSpPr>
          <p:pic>
            <p:nvPicPr>
              <p:cNvPr id="87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95680" y="1828800"/>
                <a:ext cx="4806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3962520" y="2209680"/>
                <a:ext cx="149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Grafikus felül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472428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09720" y="1523880"/>
            <a:ext cx="1905480" cy="1269360"/>
            <a:chOff x="5409720" y="1523880"/>
            <a:chExt cx="1905480" cy="1269360"/>
          </a:xfrm>
        </p:grpSpPr>
        <p:grpSp>
          <p:nvGrpSpPr>
            <p:cNvPr id="877" name=""/>
            <p:cNvGrpSpPr/>
            <p:nvPr/>
          </p:nvGrpSpPr>
          <p:grpSpPr>
            <a:xfrm>
              <a:off x="6095880" y="1523880"/>
              <a:ext cx="1219320" cy="1269360"/>
              <a:chOff x="6095880" y="1523880"/>
              <a:chExt cx="1219320" cy="1269360"/>
            </a:xfrm>
          </p:grpSpPr>
          <p:sp>
            <p:nvSpPr>
              <p:cNvPr id="878" name=""/>
              <p:cNvSpPr/>
              <p:nvPr/>
            </p:nvSpPr>
            <p:spPr>
              <a:xfrm>
                <a:off x="6095880" y="1523880"/>
                <a:ext cx="1219320" cy="11318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28160" y="1819080"/>
                <a:ext cx="515880" cy="4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6151320" y="2212560"/>
                <a:ext cx="1163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ctive Dire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5409720" y="2133720"/>
              <a:ext cx="838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09880" y="5410080"/>
            <a:ext cx="2459880" cy="885600"/>
            <a:chOff x="3809880" y="5410080"/>
            <a:chExt cx="2459880" cy="885600"/>
          </a:xfrm>
        </p:grpSpPr>
        <p:sp>
          <p:nvSpPr>
            <p:cNvPr id="883" name=""/>
            <p:cNvSpPr/>
            <p:nvPr/>
          </p:nvSpPr>
          <p:spPr>
            <a:xfrm>
              <a:off x="3809880" y="5410080"/>
              <a:ext cx="1143000" cy="685800"/>
            </a:xfrm>
            <a:custGeom>
              <a:avLst/>
              <a:gdLst>
                <a:gd name="textAreaLeft" fmla="*/ 357120 w 1143000"/>
                <a:gd name="textAreaRight" fmla="*/ 916200 w 1143000"/>
                <a:gd name="textAreaTop" fmla="*/ 432720 h 685800"/>
                <a:gd name="textAreaBottom" fmla="*/ 549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20"/>
                  </a:moveTo>
                  <a:lnTo>
                    <a:pt x="13630" y="17920"/>
                  </a:lnTo>
                  <a:lnTo>
                    <a:pt x="13630" y="6750"/>
                  </a:lnTo>
                  <a:lnTo>
                    <a:pt x="9340" y="6750"/>
                  </a:lnTo>
                  <a:lnTo>
                    <a:pt x="15470" y="0"/>
                  </a:lnTo>
                  <a:lnTo>
                    <a:pt x="21600" y="6750"/>
                  </a:lnTo>
                  <a:lnTo>
                    <a:pt x="17310" y="6750"/>
                  </a:lnTo>
                  <a:lnTo>
                    <a:pt x="173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28240" y="571500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Konfigurációs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dat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7080" y="271080"/>
            <a:ext cx="848196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zolgáltatások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507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epítés használatba vételk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omponens csak akkor települ, ha tényleg használjuk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javítás (Resilienc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ritikus komponensek ellenőrzése az alkalmazás indítása előtt, szükség esetén jav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telep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anszform fáj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kéletes alkalmazás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távol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LL Hell” megelő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550200" y="4562640"/>
          <a:ext cx="2277720" cy="18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0200" y="4562640"/>
                    <a:ext cx="2277720" cy="18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somag készítés (*.MSI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0360" y="1515600"/>
            <a:ext cx="8415360" cy="4594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redeti szerkesztő 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tív MSI fájlt készíten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ual Studio Instal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Shiel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S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racsomagoló eszközö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 utáni és telepítés előtti állapotok alapján differenciát készítenek és aztán ebből  az MSI-t (lásd Sysdif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erit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nInstall L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CD Support könyvtárában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MS 2.0 Step-Up Utility SMS Installer csomagokho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i módoza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ozzárendelés (Assign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905120" y="2286000"/>
            <a:ext cx="167616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2209680"/>
            <a:ext cx="1295280" cy="1828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4114800" y="4114800"/>
            <a:ext cx="2271600" cy="870120"/>
            <a:chOff x="4114800" y="4114800"/>
            <a:chExt cx="2271600" cy="870120"/>
          </a:xfrm>
        </p:grpSpPr>
        <p:grpSp>
          <p:nvGrpSpPr>
            <p:cNvPr id="896" name=""/>
            <p:cNvGrpSpPr/>
            <p:nvPr/>
          </p:nvGrpSpPr>
          <p:grpSpPr>
            <a:xfrm>
              <a:off x="4114800" y="4116600"/>
              <a:ext cx="900000" cy="867960"/>
              <a:chOff x="4114800" y="4116600"/>
              <a:chExt cx="900000" cy="86796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4344120" y="4116600"/>
                <a:ext cx="670680" cy="683280"/>
                <a:chOff x="4344120" y="4116600"/>
                <a:chExt cx="670680" cy="683280"/>
              </a:xfrm>
            </p:grpSpPr>
            <p:sp>
              <p:nvSpPr>
                <p:cNvPr id="898" name=""/>
                <p:cNvSpPr/>
                <p:nvPr/>
              </p:nvSpPr>
              <p:spPr>
                <a:xfrm flipH="1">
                  <a:off x="43437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43437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46000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46000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4805280" y="4231080"/>
                  <a:ext cx="134640" cy="47448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44611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44611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4377240" y="4201920"/>
                  <a:ext cx="427320" cy="5040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4432680" y="4257360"/>
                  <a:ext cx="312120" cy="36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4456800" y="4281840"/>
                  <a:ext cx="275400" cy="3121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4354200" y="4627800"/>
                  <a:ext cx="619200" cy="147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4673880" y="436716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4377600" y="4136760"/>
                  <a:ext cx="562320" cy="172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114800" y="4697640"/>
                <a:ext cx="658080" cy="286920"/>
                <a:chOff x="4114800" y="4697640"/>
                <a:chExt cx="658080" cy="286920"/>
              </a:xfrm>
            </p:grpSpPr>
            <p:sp>
              <p:nvSpPr>
                <p:cNvPr id="912" name=""/>
                <p:cNvSpPr/>
                <p:nvPr/>
              </p:nvSpPr>
              <p:spPr>
                <a:xfrm flipH="1">
                  <a:off x="41148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41148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4114800" y="4697640"/>
                  <a:ext cx="654120" cy="2624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4334400" y="4739040"/>
                  <a:ext cx="385200" cy="11952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4311000" y="4782960"/>
                  <a:ext cx="376560" cy="1468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42811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42415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4164480" y="4741200"/>
                  <a:ext cx="127080" cy="7164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4114800"/>
              <a:ext cx="900000" cy="870120"/>
              <a:chOff x="4800600" y="4114800"/>
              <a:chExt cx="900000" cy="8701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5029920" y="4114800"/>
                <a:ext cx="670680" cy="685080"/>
                <a:chOff x="5029920" y="4114800"/>
                <a:chExt cx="670680" cy="685080"/>
              </a:xfrm>
            </p:grpSpPr>
            <p:sp>
              <p:nvSpPr>
                <p:cNvPr id="922" name=""/>
                <p:cNvSpPr/>
                <p:nvPr/>
              </p:nvSpPr>
              <p:spPr>
                <a:xfrm flipH="1">
                  <a:off x="5029560" y="4606920"/>
                  <a:ext cx="642600" cy="192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5029560" y="4606920"/>
                  <a:ext cx="642600" cy="192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5285880" y="4114800"/>
                  <a:ext cx="414360" cy="433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>
                  <a:off x="5285880" y="4114800"/>
                  <a:ext cx="414360" cy="433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5491080" y="4229640"/>
                  <a:ext cx="134640" cy="47556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5146920" y="4611960"/>
                  <a:ext cx="298080" cy="9540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5146920" y="4611960"/>
                  <a:ext cx="298080" cy="9540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5063040" y="4200120"/>
                  <a:ext cx="427320" cy="50508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5118480" y="4255920"/>
                  <a:ext cx="312120" cy="36972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5142600" y="4280400"/>
                  <a:ext cx="275400" cy="31284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5040000" y="4627080"/>
                  <a:ext cx="619200" cy="1483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5359680" y="436608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5063400" y="4134960"/>
                  <a:ext cx="562320" cy="17244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4800600" y="4697280"/>
                <a:ext cx="658080" cy="287640"/>
                <a:chOff x="4800600" y="4697280"/>
                <a:chExt cx="658080" cy="287640"/>
              </a:xfrm>
            </p:grpSpPr>
            <p:sp>
              <p:nvSpPr>
                <p:cNvPr id="936" name=""/>
                <p:cNvSpPr/>
                <p:nvPr/>
              </p:nvSpPr>
              <p:spPr>
                <a:xfrm flipH="1">
                  <a:off x="4800600" y="4808160"/>
                  <a:ext cx="658080" cy="176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4800600" y="4808160"/>
                  <a:ext cx="658080" cy="176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4800600" y="4697280"/>
                  <a:ext cx="654120" cy="2631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5020200" y="4738680"/>
                  <a:ext cx="385200" cy="1198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4996800" y="4782600"/>
                  <a:ext cx="376560" cy="14724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49669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49273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850280" y="4740840"/>
                  <a:ext cx="127080" cy="7200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4" name=""/>
            <p:cNvGrpSpPr/>
            <p:nvPr/>
          </p:nvGrpSpPr>
          <p:grpSpPr>
            <a:xfrm>
              <a:off x="5486400" y="4116600"/>
              <a:ext cx="900000" cy="867960"/>
              <a:chOff x="5486400" y="4116600"/>
              <a:chExt cx="900000" cy="86796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715720" y="4116600"/>
                <a:ext cx="670680" cy="683280"/>
                <a:chOff x="5715720" y="4116600"/>
                <a:chExt cx="670680" cy="683280"/>
              </a:xfrm>
            </p:grpSpPr>
            <p:sp>
              <p:nvSpPr>
                <p:cNvPr id="946" name=""/>
                <p:cNvSpPr/>
                <p:nvPr/>
              </p:nvSpPr>
              <p:spPr>
                <a:xfrm flipH="1">
                  <a:off x="57153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57153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59716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59716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6176880" y="4231080"/>
                  <a:ext cx="134640" cy="47448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58327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58327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5748840" y="4201920"/>
                  <a:ext cx="427320" cy="5040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5804280" y="4257360"/>
                  <a:ext cx="312120" cy="36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5828400" y="4281840"/>
                  <a:ext cx="275400" cy="3121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5725800" y="4627800"/>
                  <a:ext cx="619200" cy="147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6045480" y="436716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5749200" y="4136760"/>
                  <a:ext cx="562320" cy="172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5486400" y="4697640"/>
                <a:ext cx="658080" cy="286920"/>
                <a:chOff x="5486400" y="4697640"/>
                <a:chExt cx="658080" cy="286920"/>
              </a:xfrm>
            </p:grpSpPr>
            <p:sp>
              <p:nvSpPr>
                <p:cNvPr id="960" name=""/>
                <p:cNvSpPr/>
                <p:nvPr/>
              </p:nvSpPr>
              <p:spPr>
                <a:xfrm flipH="1">
                  <a:off x="54864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54864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5486400" y="4697640"/>
                  <a:ext cx="654120" cy="2624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5706000" y="4739040"/>
                  <a:ext cx="385200" cy="11952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5682600" y="4782960"/>
                  <a:ext cx="376560" cy="1468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56527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56131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5536080" y="4741200"/>
                  <a:ext cx="127080" cy="7164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8" name=""/>
          <p:cNvGrpSpPr/>
          <p:nvPr/>
        </p:nvGrpSpPr>
        <p:grpSpPr>
          <a:xfrm>
            <a:off x="609480" y="3886200"/>
            <a:ext cx="1981440" cy="1675440"/>
            <a:chOff x="609480" y="3886200"/>
            <a:chExt cx="1981440" cy="1675440"/>
          </a:xfrm>
        </p:grpSpPr>
        <p:grpSp>
          <p:nvGrpSpPr>
            <p:cNvPr id="969" name=""/>
            <p:cNvGrpSpPr/>
            <p:nvPr/>
          </p:nvGrpSpPr>
          <p:grpSpPr>
            <a:xfrm>
              <a:off x="892440" y="3886200"/>
              <a:ext cx="1698480" cy="1675440"/>
              <a:chOff x="892440" y="3886200"/>
              <a:chExt cx="1698480" cy="167544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1264680" y="3886200"/>
                <a:ext cx="558720" cy="1482480"/>
                <a:chOff x="1264680" y="3886200"/>
                <a:chExt cx="558720" cy="148248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1264680" y="4101480"/>
                  <a:ext cx="558720" cy="417600"/>
                  <a:chOff x="1264680" y="4101480"/>
                  <a:chExt cx="558720" cy="4176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264680" y="4101480"/>
                    <a:ext cx="55872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2" h="574">
                        <a:moveTo>
                          <a:pt x="243" y="0"/>
                        </a:moveTo>
                        <a:lnTo>
                          <a:pt x="167" y="48"/>
                        </a:lnTo>
                        <a:lnTo>
                          <a:pt x="88" y="87"/>
                        </a:lnTo>
                        <a:lnTo>
                          <a:pt x="41" y="252"/>
                        </a:lnTo>
                        <a:lnTo>
                          <a:pt x="2" y="378"/>
                        </a:lnTo>
                        <a:lnTo>
                          <a:pt x="0" y="404"/>
                        </a:lnTo>
                        <a:lnTo>
                          <a:pt x="35" y="466"/>
                        </a:lnTo>
                        <a:lnTo>
                          <a:pt x="58" y="487"/>
                        </a:lnTo>
                        <a:lnTo>
                          <a:pt x="78" y="492"/>
                        </a:lnTo>
                        <a:lnTo>
                          <a:pt x="80" y="509"/>
                        </a:lnTo>
                        <a:lnTo>
                          <a:pt x="117" y="483"/>
                        </a:lnTo>
                        <a:lnTo>
                          <a:pt x="122" y="551"/>
                        </a:lnTo>
                        <a:lnTo>
                          <a:pt x="143" y="574"/>
                        </a:lnTo>
                        <a:lnTo>
                          <a:pt x="518" y="574"/>
                        </a:lnTo>
                        <a:lnTo>
                          <a:pt x="551" y="542"/>
                        </a:lnTo>
                        <a:lnTo>
                          <a:pt x="544" y="483"/>
                        </a:lnTo>
                        <a:lnTo>
                          <a:pt x="586" y="521"/>
                        </a:lnTo>
                        <a:lnTo>
                          <a:pt x="642" y="412"/>
                        </a:lnTo>
                        <a:lnTo>
                          <a:pt x="526" y="75"/>
                        </a:lnTo>
                        <a:lnTo>
                          <a:pt x="404" y="32"/>
                        </a:lnTo>
                        <a:lnTo>
                          <a:pt x="366" y="10"/>
                        </a:lnTo>
                        <a:lnTo>
                          <a:pt x="308" y="65"/>
                        </a:lnTo>
                        <a:lnTo>
                          <a:pt x="243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1374120" y="4145040"/>
                    <a:ext cx="388800" cy="373320"/>
                    <a:chOff x="1374120" y="4145040"/>
                    <a:chExt cx="388800" cy="373320"/>
                  </a:xfrm>
                </p:grpSpPr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1495800" y="4145040"/>
                      <a:ext cx="81720" cy="37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513">
                          <a:moveTo>
                            <a:pt x="26" y="0"/>
                          </a:moveTo>
                          <a:lnTo>
                            <a:pt x="9" y="34"/>
                          </a:lnTo>
                          <a:lnTo>
                            <a:pt x="26" y="52"/>
                          </a:lnTo>
                          <a:lnTo>
                            <a:pt x="0" y="410"/>
                          </a:lnTo>
                          <a:lnTo>
                            <a:pt x="3" y="474"/>
                          </a:lnTo>
                          <a:lnTo>
                            <a:pt x="51" y="513"/>
                          </a:lnTo>
                          <a:lnTo>
                            <a:pt x="94" y="469"/>
                          </a:lnTo>
                          <a:lnTo>
                            <a:pt x="94" y="396"/>
                          </a:lnTo>
                          <a:lnTo>
                            <a:pt x="55" y="54"/>
                          </a:lnTo>
                          <a:lnTo>
                            <a:pt x="73" y="34"/>
                          </a:lnTo>
                          <a:lnTo>
                            <a:pt x="57" y="1"/>
                          </a:lnTo>
                          <a:lnTo>
                            <a:pt x="42" y="13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1374120" y="4303800"/>
                      <a:ext cx="388800" cy="127080"/>
                      <a:chOff x="1374120" y="4303800"/>
                      <a:chExt cx="388800" cy="12708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1456560" y="4329720"/>
                        <a:ext cx="30348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9" h="111">
                            <a:moveTo>
                              <a:pt x="31" y="69"/>
                            </a:moveTo>
                            <a:lnTo>
                              <a:pt x="266" y="0"/>
                            </a:lnTo>
                            <a:lnTo>
                              <a:pt x="349" y="9"/>
                            </a:lnTo>
                            <a:lnTo>
                              <a:pt x="58" y="111"/>
                            </a:lnTo>
                            <a:lnTo>
                              <a:pt x="0" y="81"/>
                            </a:lnTo>
                            <a:lnTo>
                              <a:pt x="31" y="6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1593360" y="4332600"/>
                        <a:ext cx="16956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29">
                            <a:moveTo>
                              <a:pt x="101" y="0"/>
                            </a:moveTo>
                            <a:lnTo>
                              <a:pt x="23" y="21"/>
                            </a:lnTo>
                            <a:lnTo>
                              <a:pt x="18" y="47"/>
                            </a:lnTo>
                            <a:lnTo>
                              <a:pt x="0" y="68"/>
                            </a:lnTo>
                            <a:lnTo>
                              <a:pt x="31" y="103"/>
                            </a:lnTo>
                            <a:lnTo>
                              <a:pt x="75" y="125"/>
                            </a:lnTo>
                            <a:lnTo>
                              <a:pt x="138" y="129"/>
                            </a:lnTo>
                            <a:lnTo>
                              <a:pt x="195" y="73"/>
                            </a:lnTo>
                            <a:lnTo>
                              <a:pt x="188" y="5"/>
                            </a:lnTo>
                            <a:lnTo>
                              <a:pt x="138" y="38"/>
                            </a:lnTo>
                            <a:lnTo>
                              <a:pt x="101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1374120" y="4303800"/>
                        <a:ext cx="137160" cy="12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175">
                            <a:moveTo>
                              <a:pt x="0" y="108"/>
                            </a:moveTo>
                            <a:lnTo>
                              <a:pt x="19" y="78"/>
                            </a:lnTo>
                            <a:lnTo>
                              <a:pt x="35" y="45"/>
                            </a:lnTo>
                            <a:lnTo>
                              <a:pt x="43" y="13"/>
                            </a:lnTo>
                            <a:lnTo>
                              <a:pt x="91" y="0"/>
                            </a:lnTo>
                            <a:lnTo>
                              <a:pt x="127" y="0"/>
                            </a:lnTo>
                            <a:lnTo>
                              <a:pt x="158" y="88"/>
                            </a:lnTo>
                            <a:lnTo>
                              <a:pt x="147" y="108"/>
                            </a:lnTo>
                            <a:lnTo>
                              <a:pt x="127" y="130"/>
                            </a:lnTo>
                            <a:lnTo>
                              <a:pt x="95" y="140"/>
                            </a:lnTo>
                            <a:lnTo>
                              <a:pt x="71" y="143"/>
                            </a:lnTo>
                            <a:lnTo>
                              <a:pt x="61" y="149"/>
                            </a:lnTo>
                            <a:lnTo>
                              <a:pt x="45" y="166"/>
                            </a:lnTo>
                            <a:lnTo>
                              <a:pt x="19" y="175"/>
                            </a:lnTo>
                            <a:lnTo>
                              <a:pt x="6" y="175"/>
                            </a:lnTo>
                            <a:lnTo>
                              <a:pt x="0" y="108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1439280" y="3886200"/>
                  <a:ext cx="192240" cy="268200"/>
                  <a:chOff x="1439280" y="3886200"/>
                  <a:chExt cx="192240" cy="26820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1443600" y="3900600"/>
                    <a:ext cx="1782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49">
                        <a:moveTo>
                          <a:pt x="0" y="149"/>
                        </a:moveTo>
                        <a:lnTo>
                          <a:pt x="8" y="178"/>
                        </a:lnTo>
                        <a:lnTo>
                          <a:pt x="15" y="195"/>
                        </a:lnTo>
                        <a:lnTo>
                          <a:pt x="23" y="210"/>
                        </a:lnTo>
                        <a:lnTo>
                          <a:pt x="34" y="208"/>
                        </a:lnTo>
                        <a:lnTo>
                          <a:pt x="37" y="208"/>
                        </a:lnTo>
                        <a:lnTo>
                          <a:pt x="37" y="278"/>
                        </a:lnTo>
                        <a:lnTo>
                          <a:pt x="102" y="349"/>
                        </a:lnTo>
                        <a:lnTo>
                          <a:pt x="160" y="295"/>
                        </a:lnTo>
                        <a:lnTo>
                          <a:pt x="163" y="278"/>
                        </a:lnTo>
                        <a:lnTo>
                          <a:pt x="170" y="263"/>
                        </a:lnTo>
                        <a:lnTo>
                          <a:pt x="179" y="249"/>
                        </a:lnTo>
                        <a:lnTo>
                          <a:pt x="186" y="220"/>
                        </a:lnTo>
                        <a:lnTo>
                          <a:pt x="199" y="190"/>
                        </a:lnTo>
                        <a:lnTo>
                          <a:pt x="202" y="164"/>
                        </a:lnTo>
                        <a:lnTo>
                          <a:pt x="203" y="104"/>
                        </a:lnTo>
                        <a:lnTo>
                          <a:pt x="205" y="80"/>
                        </a:lnTo>
                        <a:lnTo>
                          <a:pt x="200" y="54"/>
                        </a:lnTo>
                        <a:lnTo>
                          <a:pt x="187" y="32"/>
                        </a:lnTo>
                        <a:lnTo>
                          <a:pt x="164" y="13"/>
                        </a:lnTo>
                        <a:lnTo>
                          <a:pt x="138" y="5"/>
                        </a:lnTo>
                        <a:lnTo>
                          <a:pt x="109" y="0"/>
                        </a:lnTo>
                        <a:lnTo>
                          <a:pt x="81" y="3"/>
                        </a:lnTo>
                        <a:lnTo>
                          <a:pt x="59" y="12"/>
                        </a:lnTo>
                        <a:lnTo>
                          <a:pt x="39" y="26"/>
                        </a:lnTo>
                        <a:lnTo>
                          <a:pt x="24" y="42"/>
                        </a:lnTo>
                        <a:lnTo>
                          <a:pt x="15" y="58"/>
                        </a:lnTo>
                        <a:lnTo>
                          <a:pt x="7" y="78"/>
                        </a:lnTo>
                        <a:lnTo>
                          <a:pt x="4" y="97"/>
                        </a:lnTo>
                        <a:lnTo>
                          <a:pt x="2" y="122"/>
                        </a:lnTo>
                        <a:lnTo>
                          <a:pt x="5" y="139"/>
                        </a:lnTo>
                        <a:lnTo>
                          <a:pt x="0" y="149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1439280" y="3886200"/>
                    <a:ext cx="1922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89">
                        <a:moveTo>
                          <a:pt x="2" y="156"/>
                        </a:moveTo>
                        <a:lnTo>
                          <a:pt x="0" y="132"/>
                        </a:lnTo>
                        <a:lnTo>
                          <a:pt x="5" y="100"/>
                        </a:lnTo>
                        <a:lnTo>
                          <a:pt x="9" y="72"/>
                        </a:lnTo>
                        <a:lnTo>
                          <a:pt x="18" y="52"/>
                        </a:lnTo>
                        <a:lnTo>
                          <a:pt x="29" y="33"/>
                        </a:lnTo>
                        <a:lnTo>
                          <a:pt x="48" y="26"/>
                        </a:lnTo>
                        <a:lnTo>
                          <a:pt x="58" y="17"/>
                        </a:lnTo>
                        <a:lnTo>
                          <a:pt x="78" y="9"/>
                        </a:lnTo>
                        <a:lnTo>
                          <a:pt x="100" y="0"/>
                        </a:lnTo>
                        <a:lnTo>
                          <a:pt x="125" y="0"/>
                        </a:lnTo>
                        <a:lnTo>
                          <a:pt x="151" y="4"/>
                        </a:lnTo>
                        <a:lnTo>
                          <a:pt x="166" y="13"/>
                        </a:lnTo>
                        <a:lnTo>
                          <a:pt x="179" y="23"/>
                        </a:lnTo>
                        <a:lnTo>
                          <a:pt x="200" y="39"/>
                        </a:lnTo>
                        <a:lnTo>
                          <a:pt x="213" y="53"/>
                        </a:lnTo>
                        <a:lnTo>
                          <a:pt x="221" y="61"/>
                        </a:lnTo>
                        <a:lnTo>
                          <a:pt x="213" y="62"/>
                        </a:lnTo>
                        <a:lnTo>
                          <a:pt x="211" y="68"/>
                        </a:lnTo>
                        <a:lnTo>
                          <a:pt x="211" y="78"/>
                        </a:lnTo>
                        <a:lnTo>
                          <a:pt x="210" y="93"/>
                        </a:lnTo>
                        <a:lnTo>
                          <a:pt x="216" y="113"/>
                        </a:lnTo>
                        <a:lnTo>
                          <a:pt x="217" y="136"/>
                        </a:lnTo>
                        <a:lnTo>
                          <a:pt x="205" y="162"/>
                        </a:lnTo>
                        <a:lnTo>
                          <a:pt x="207" y="126"/>
                        </a:lnTo>
                        <a:lnTo>
                          <a:pt x="205" y="101"/>
                        </a:lnTo>
                        <a:lnTo>
                          <a:pt x="200" y="90"/>
                        </a:lnTo>
                        <a:lnTo>
                          <a:pt x="191" y="84"/>
                        </a:lnTo>
                        <a:lnTo>
                          <a:pt x="187" y="77"/>
                        </a:lnTo>
                        <a:lnTo>
                          <a:pt x="179" y="78"/>
                        </a:lnTo>
                        <a:lnTo>
                          <a:pt x="165" y="84"/>
                        </a:lnTo>
                        <a:lnTo>
                          <a:pt x="151" y="84"/>
                        </a:lnTo>
                        <a:lnTo>
                          <a:pt x="133" y="84"/>
                        </a:lnTo>
                        <a:lnTo>
                          <a:pt x="119" y="82"/>
                        </a:lnTo>
                        <a:lnTo>
                          <a:pt x="109" y="82"/>
                        </a:lnTo>
                        <a:lnTo>
                          <a:pt x="117" y="87"/>
                        </a:lnTo>
                        <a:lnTo>
                          <a:pt x="126" y="90"/>
                        </a:lnTo>
                        <a:lnTo>
                          <a:pt x="116" y="91"/>
                        </a:lnTo>
                        <a:lnTo>
                          <a:pt x="100" y="90"/>
                        </a:lnTo>
                        <a:lnTo>
                          <a:pt x="84" y="88"/>
                        </a:lnTo>
                        <a:lnTo>
                          <a:pt x="67" y="87"/>
                        </a:lnTo>
                        <a:lnTo>
                          <a:pt x="57" y="87"/>
                        </a:lnTo>
                        <a:lnTo>
                          <a:pt x="49" y="87"/>
                        </a:lnTo>
                        <a:lnTo>
                          <a:pt x="52" y="90"/>
                        </a:lnTo>
                        <a:lnTo>
                          <a:pt x="57" y="97"/>
                        </a:lnTo>
                        <a:lnTo>
                          <a:pt x="57" y="108"/>
                        </a:lnTo>
                        <a:lnTo>
                          <a:pt x="54" y="120"/>
                        </a:lnTo>
                        <a:lnTo>
                          <a:pt x="45" y="133"/>
                        </a:lnTo>
                        <a:lnTo>
                          <a:pt x="41" y="147"/>
                        </a:lnTo>
                        <a:lnTo>
                          <a:pt x="39" y="163"/>
                        </a:lnTo>
                        <a:lnTo>
                          <a:pt x="41" y="182"/>
                        </a:lnTo>
                        <a:lnTo>
                          <a:pt x="42" y="189"/>
                        </a:lnTo>
                        <a:lnTo>
                          <a:pt x="31" y="176"/>
                        </a:lnTo>
                        <a:lnTo>
                          <a:pt x="15" y="162"/>
                        </a:lnTo>
                        <a:lnTo>
                          <a:pt x="9" y="163"/>
                        </a:lnTo>
                        <a:lnTo>
                          <a:pt x="6" y="175"/>
                        </a:lnTo>
                        <a:lnTo>
                          <a:pt x="2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1277640" y="5256000"/>
                  <a:ext cx="524520" cy="112680"/>
                  <a:chOff x="1277640" y="5256000"/>
                  <a:chExt cx="524520" cy="112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1277640" y="5256000"/>
                    <a:ext cx="229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55">
                        <a:moveTo>
                          <a:pt x="125" y="22"/>
                        </a:moveTo>
                        <a:lnTo>
                          <a:pt x="94" y="46"/>
                        </a:lnTo>
                        <a:lnTo>
                          <a:pt x="52" y="77"/>
                        </a:lnTo>
                        <a:lnTo>
                          <a:pt x="21" y="94"/>
                        </a:lnTo>
                        <a:lnTo>
                          <a:pt x="3" y="107"/>
                        </a:lnTo>
                        <a:lnTo>
                          <a:pt x="0" y="134"/>
                        </a:lnTo>
                        <a:lnTo>
                          <a:pt x="17" y="146"/>
                        </a:lnTo>
                        <a:lnTo>
                          <a:pt x="55" y="152"/>
                        </a:lnTo>
                        <a:lnTo>
                          <a:pt x="91" y="155"/>
                        </a:lnTo>
                        <a:lnTo>
                          <a:pt x="125" y="152"/>
                        </a:lnTo>
                        <a:lnTo>
                          <a:pt x="150" y="134"/>
                        </a:lnTo>
                        <a:lnTo>
                          <a:pt x="193" y="116"/>
                        </a:lnTo>
                        <a:lnTo>
                          <a:pt x="260" y="98"/>
                        </a:lnTo>
                        <a:lnTo>
                          <a:pt x="264" y="39"/>
                        </a:lnTo>
                        <a:lnTo>
                          <a:pt x="256" y="0"/>
                        </a:lnTo>
                        <a:lnTo>
                          <a:pt x="125" y="22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1563120" y="5264640"/>
                    <a:ext cx="23904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1">
                        <a:moveTo>
                          <a:pt x="6" y="1"/>
                        </a:moveTo>
                        <a:lnTo>
                          <a:pt x="0" y="52"/>
                        </a:lnTo>
                        <a:lnTo>
                          <a:pt x="6" y="91"/>
                        </a:lnTo>
                        <a:lnTo>
                          <a:pt x="69" y="105"/>
                        </a:lnTo>
                        <a:lnTo>
                          <a:pt x="101" y="105"/>
                        </a:lnTo>
                        <a:lnTo>
                          <a:pt x="147" y="118"/>
                        </a:lnTo>
                        <a:lnTo>
                          <a:pt x="201" y="127"/>
                        </a:lnTo>
                        <a:lnTo>
                          <a:pt x="273" y="131"/>
                        </a:lnTo>
                        <a:lnTo>
                          <a:pt x="275" y="112"/>
                        </a:lnTo>
                        <a:lnTo>
                          <a:pt x="275" y="92"/>
                        </a:lnTo>
                        <a:lnTo>
                          <a:pt x="218" y="62"/>
                        </a:lnTo>
                        <a:lnTo>
                          <a:pt x="156" y="27"/>
                        </a:lnTo>
                        <a:lnTo>
                          <a:pt x="118" y="0"/>
                        </a:lnTo>
                        <a:lnTo>
                          <a:pt x="6" y="1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>
                  <a:off x="1369080" y="4515120"/>
                  <a:ext cx="358560" cy="781200"/>
                </a:xfrm>
                <a:custGeom>
                  <a:avLst/>
                  <a:gdLst/>
                  <a:ahLst/>
                  <a:rect l="l" t="t" r="r" b="b"/>
                  <a:pathLst>
                    <a:path w="412" h="1073">
                      <a:moveTo>
                        <a:pt x="13" y="0"/>
                      </a:moveTo>
                      <a:lnTo>
                        <a:pt x="0" y="94"/>
                      </a:lnTo>
                      <a:lnTo>
                        <a:pt x="0" y="242"/>
                      </a:lnTo>
                      <a:lnTo>
                        <a:pt x="0" y="415"/>
                      </a:lnTo>
                      <a:lnTo>
                        <a:pt x="13" y="518"/>
                      </a:lnTo>
                      <a:lnTo>
                        <a:pt x="13" y="561"/>
                      </a:lnTo>
                      <a:lnTo>
                        <a:pt x="5" y="726"/>
                      </a:lnTo>
                      <a:lnTo>
                        <a:pt x="9" y="843"/>
                      </a:lnTo>
                      <a:lnTo>
                        <a:pt x="18" y="1003"/>
                      </a:lnTo>
                      <a:lnTo>
                        <a:pt x="18" y="1047"/>
                      </a:lnTo>
                      <a:lnTo>
                        <a:pt x="44" y="1069"/>
                      </a:lnTo>
                      <a:lnTo>
                        <a:pt x="148" y="1043"/>
                      </a:lnTo>
                      <a:lnTo>
                        <a:pt x="178" y="700"/>
                      </a:lnTo>
                      <a:lnTo>
                        <a:pt x="187" y="483"/>
                      </a:lnTo>
                      <a:lnTo>
                        <a:pt x="200" y="294"/>
                      </a:lnTo>
                      <a:lnTo>
                        <a:pt x="213" y="596"/>
                      </a:lnTo>
                      <a:lnTo>
                        <a:pt x="226" y="1038"/>
                      </a:lnTo>
                      <a:lnTo>
                        <a:pt x="330" y="1073"/>
                      </a:lnTo>
                      <a:lnTo>
                        <a:pt x="352" y="1047"/>
                      </a:lnTo>
                      <a:lnTo>
                        <a:pt x="378" y="657"/>
                      </a:lnTo>
                      <a:lnTo>
                        <a:pt x="382" y="467"/>
                      </a:lnTo>
                      <a:lnTo>
                        <a:pt x="412" y="52"/>
                      </a:lnTo>
                      <a:lnTo>
                        <a:pt x="404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892440" y="3973680"/>
                <a:ext cx="597240" cy="1491120"/>
                <a:chOff x="892440" y="3973680"/>
                <a:chExt cx="597240" cy="149112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892440" y="4164840"/>
                  <a:ext cx="597240" cy="1299960"/>
                  <a:chOff x="892440" y="4164840"/>
                  <a:chExt cx="597240" cy="1299960"/>
                </a:xfrm>
              </p:grpSpPr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912240" y="5330880"/>
                    <a:ext cx="527400" cy="133920"/>
                    <a:chOff x="912240" y="5330880"/>
                    <a:chExt cx="527400" cy="13392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912240" y="5358960"/>
                      <a:ext cx="165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46">
                          <a:moveTo>
                            <a:pt x="73" y="30"/>
                          </a:moveTo>
                          <a:lnTo>
                            <a:pt x="31" y="70"/>
                          </a:lnTo>
                          <a:lnTo>
                            <a:pt x="0" y="108"/>
                          </a:lnTo>
                          <a:lnTo>
                            <a:pt x="3" y="134"/>
                          </a:lnTo>
                          <a:lnTo>
                            <a:pt x="25" y="146"/>
                          </a:lnTo>
                          <a:lnTo>
                            <a:pt x="86" y="141"/>
                          </a:lnTo>
                          <a:lnTo>
                            <a:pt x="120" y="124"/>
                          </a:lnTo>
                          <a:lnTo>
                            <a:pt x="138" y="95"/>
                          </a:lnTo>
                          <a:lnTo>
                            <a:pt x="190" y="73"/>
                          </a:lnTo>
                          <a:lnTo>
                            <a:pt x="191" y="34"/>
                          </a:lnTo>
                          <a:lnTo>
                            <a:pt x="183" y="0"/>
                          </a:lnTo>
                          <a:lnTo>
                            <a:pt x="131" y="26"/>
                          </a:lnTo>
                          <a:lnTo>
                            <a:pt x="73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255320" y="5330880"/>
                      <a:ext cx="18432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2" h="150">
                          <a:moveTo>
                            <a:pt x="3" y="10"/>
                          </a:moveTo>
                          <a:lnTo>
                            <a:pt x="0" y="69"/>
                          </a:lnTo>
                          <a:lnTo>
                            <a:pt x="29" y="92"/>
                          </a:lnTo>
                          <a:lnTo>
                            <a:pt x="59" y="101"/>
                          </a:lnTo>
                          <a:lnTo>
                            <a:pt x="78" y="114"/>
                          </a:lnTo>
                          <a:lnTo>
                            <a:pt x="112" y="134"/>
                          </a:lnTo>
                          <a:lnTo>
                            <a:pt x="173" y="150"/>
                          </a:lnTo>
                          <a:lnTo>
                            <a:pt x="195" y="146"/>
                          </a:lnTo>
                          <a:lnTo>
                            <a:pt x="212" y="137"/>
                          </a:lnTo>
                          <a:lnTo>
                            <a:pt x="212" y="121"/>
                          </a:lnTo>
                          <a:lnTo>
                            <a:pt x="191" y="86"/>
                          </a:lnTo>
                          <a:lnTo>
                            <a:pt x="141" y="52"/>
                          </a:lnTo>
                          <a:lnTo>
                            <a:pt x="104" y="21"/>
                          </a:lnTo>
                          <a:lnTo>
                            <a:pt x="91" y="0"/>
                          </a:lnTo>
                          <a:lnTo>
                            <a:pt x="3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892440" y="4164840"/>
                    <a:ext cx="597240" cy="1227600"/>
                    <a:chOff x="892440" y="4164840"/>
                    <a:chExt cx="597240" cy="1227600"/>
                  </a:xfrm>
                </p:grpSpPr>
                <p:grpSp>
                  <p:nvGrpSpPr>
                    <p:cNvPr id="992" name=""/>
                    <p:cNvGrpSpPr/>
                    <p:nvPr/>
                  </p:nvGrpSpPr>
                  <p:grpSpPr>
                    <a:xfrm>
                      <a:off x="969840" y="4164840"/>
                      <a:ext cx="376200" cy="394560"/>
                      <a:chOff x="969840" y="4164840"/>
                      <a:chExt cx="376200" cy="394560"/>
                    </a:xfrm>
                  </p:grpSpPr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969840" y="4186800"/>
                        <a:ext cx="376200" cy="37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2" h="512">
                            <a:moveTo>
                              <a:pt x="0" y="99"/>
                            </a:moveTo>
                            <a:lnTo>
                              <a:pt x="130" y="0"/>
                            </a:lnTo>
                            <a:lnTo>
                              <a:pt x="273" y="224"/>
                            </a:lnTo>
                            <a:lnTo>
                              <a:pt x="297" y="12"/>
                            </a:lnTo>
                            <a:lnTo>
                              <a:pt x="384" y="39"/>
                            </a:lnTo>
                            <a:lnTo>
                              <a:pt x="432" y="117"/>
                            </a:lnTo>
                            <a:lnTo>
                              <a:pt x="423" y="512"/>
                            </a:lnTo>
                            <a:lnTo>
                              <a:pt x="47" y="512"/>
                            </a:lnTo>
                            <a:lnTo>
                              <a:pt x="0" y="9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1077840" y="4164840"/>
                        <a:ext cx="1504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299">
                            <a:moveTo>
                              <a:pt x="0" y="30"/>
                            </a:moveTo>
                            <a:lnTo>
                              <a:pt x="14" y="0"/>
                            </a:lnTo>
                            <a:lnTo>
                              <a:pt x="121" y="52"/>
                            </a:lnTo>
                            <a:lnTo>
                              <a:pt x="147" y="17"/>
                            </a:lnTo>
                            <a:lnTo>
                              <a:pt x="166" y="30"/>
                            </a:lnTo>
                            <a:lnTo>
                              <a:pt x="173" y="207"/>
                            </a:lnTo>
                            <a:lnTo>
                              <a:pt x="170" y="299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1126440" y="4209120"/>
                        <a:ext cx="957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9">
                            <a:moveTo>
                              <a:pt x="0" y="59"/>
                            </a:moveTo>
                            <a:lnTo>
                              <a:pt x="62" y="0"/>
                            </a:lnTo>
                            <a:lnTo>
                              <a:pt x="110" y="47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892440" y="4183560"/>
                      <a:ext cx="597240" cy="1208880"/>
                      <a:chOff x="892440" y="4183560"/>
                      <a:chExt cx="597240" cy="1208880"/>
                    </a:xfrm>
                  </p:grpSpPr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892440" y="4183560"/>
                        <a:ext cx="597240" cy="120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1661">
                            <a:moveTo>
                              <a:pt x="217" y="0"/>
                            </a:moveTo>
                            <a:lnTo>
                              <a:pt x="52" y="121"/>
                            </a:lnTo>
                            <a:lnTo>
                              <a:pt x="0" y="515"/>
                            </a:lnTo>
                            <a:lnTo>
                              <a:pt x="129" y="773"/>
                            </a:lnTo>
                            <a:lnTo>
                              <a:pt x="130" y="822"/>
                            </a:lnTo>
                            <a:lnTo>
                              <a:pt x="139" y="883"/>
                            </a:lnTo>
                            <a:lnTo>
                              <a:pt x="155" y="922"/>
                            </a:lnTo>
                            <a:lnTo>
                              <a:pt x="135" y="1204"/>
                            </a:lnTo>
                            <a:lnTo>
                              <a:pt x="90" y="1655"/>
                            </a:lnTo>
                            <a:lnTo>
                              <a:pt x="136" y="1661"/>
                            </a:lnTo>
                            <a:lnTo>
                              <a:pt x="209" y="1636"/>
                            </a:lnTo>
                            <a:lnTo>
                              <a:pt x="261" y="1331"/>
                            </a:lnTo>
                            <a:lnTo>
                              <a:pt x="287" y="1220"/>
                            </a:lnTo>
                            <a:lnTo>
                              <a:pt x="363" y="927"/>
                            </a:lnTo>
                            <a:lnTo>
                              <a:pt x="373" y="1236"/>
                            </a:lnTo>
                            <a:lnTo>
                              <a:pt x="414" y="1610"/>
                            </a:lnTo>
                            <a:lnTo>
                              <a:pt x="522" y="1615"/>
                            </a:lnTo>
                            <a:lnTo>
                              <a:pt x="534" y="1211"/>
                            </a:lnTo>
                            <a:lnTo>
                              <a:pt x="524" y="809"/>
                            </a:lnTo>
                            <a:lnTo>
                              <a:pt x="528" y="606"/>
                            </a:lnTo>
                            <a:lnTo>
                              <a:pt x="550" y="542"/>
                            </a:lnTo>
                            <a:lnTo>
                              <a:pt x="561" y="548"/>
                            </a:lnTo>
                            <a:lnTo>
                              <a:pt x="675" y="480"/>
                            </a:lnTo>
                            <a:lnTo>
                              <a:pt x="686" y="351"/>
                            </a:lnTo>
                            <a:lnTo>
                              <a:pt x="502" y="43"/>
                            </a:lnTo>
                            <a:lnTo>
                              <a:pt x="373" y="0"/>
                            </a:lnTo>
                            <a:lnTo>
                              <a:pt x="401" y="207"/>
                            </a:lnTo>
                            <a:lnTo>
                              <a:pt x="369" y="411"/>
                            </a:lnTo>
                            <a:lnTo>
                              <a:pt x="318" y="220"/>
                            </a:lnTo>
                            <a:lnTo>
                              <a:pt x="217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925200" y="4313520"/>
                        <a:ext cx="15048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432">
                            <a:moveTo>
                              <a:pt x="87" y="0"/>
                            </a:moveTo>
                            <a:lnTo>
                              <a:pt x="104" y="104"/>
                            </a:lnTo>
                            <a:lnTo>
                              <a:pt x="95" y="260"/>
                            </a:lnTo>
                            <a:lnTo>
                              <a:pt x="0" y="286"/>
                            </a:lnTo>
                            <a:lnTo>
                              <a:pt x="95" y="295"/>
                            </a:lnTo>
                            <a:lnTo>
                              <a:pt x="121" y="389"/>
                            </a:lnTo>
                            <a:lnTo>
                              <a:pt x="173" y="432"/>
                            </a:lnTo>
                            <a:lnTo>
                              <a:pt x="156" y="356"/>
                            </a:lnTo>
                            <a:lnTo>
                              <a:pt x="139" y="312"/>
                            </a:lnTo>
                            <a:lnTo>
                              <a:pt x="130" y="208"/>
                            </a:lnTo>
                            <a:lnTo>
                              <a:pt x="87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1062720" y="4331880"/>
                        <a:ext cx="52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59">
                            <a:moveTo>
                              <a:pt x="0" y="59"/>
                            </a:moveTo>
                            <a:lnTo>
                              <a:pt x="13" y="0"/>
                            </a:lnTo>
                            <a:lnTo>
                              <a:pt x="60" y="50"/>
                            </a:lnTo>
                            <a:lnTo>
                              <a:pt x="0" y="5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1060200" y="3973680"/>
                  <a:ext cx="189720" cy="235080"/>
                  <a:chOff x="1060200" y="3973680"/>
                  <a:chExt cx="189720" cy="23508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066320" y="3976200"/>
                    <a:ext cx="1670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20">
                        <a:moveTo>
                          <a:pt x="189" y="54"/>
                        </a:moveTo>
                        <a:lnTo>
                          <a:pt x="192" y="104"/>
                        </a:lnTo>
                        <a:lnTo>
                          <a:pt x="185" y="123"/>
                        </a:lnTo>
                        <a:lnTo>
                          <a:pt x="192" y="141"/>
                        </a:lnTo>
                        <a:lnTo>
                          <a:pt x="191" y="159"/>
                        </a:lnTo>
                        <a:lnTo>
                          <a:pt x="188" y="185"/>
                        </a:lnTo>
                        <a:lnTo>
                          <a:pt x="185" y="211"/>
                        </a:lnTo>
                        <a:lnTo>
                          <a:pt x="186" y="239"/>
                        </a:lnTo>
                        <a:lnTo>
                          <a:pt x="175" y="256"/>
                        </a:lnTo>
                        <a:lnTo>
                          <a:pt x="157" y="268"/>
                        </a:lnTo>
                        <a:lnTo>
                          <a:pt x="163" y="284"/>
                        </a:lnTo>
                        <a:lnTo>
                          <a:pt x="131" y="320"/>
                        </a:lnTo>
                        <a:lnTo>
                          <a:pt x="27" y="266"/>
                        </a:lnTo>
                        <a:lnTo>
                          <a:pt x="23" y="195"/>
                        </a:lnTo>
                        <a:lnTo>
                          <a:pt x="19" y="187"/>
                        </a:lnTo>
                        <a:lnTo>
                          <a:pt x="14" y="175"/>
                        </a:lnTo>
                        <a:lnTo>
                          <a:pt x="6" y="156"/>
                        </a:lnTo>
                        <a:lnTo>
                          <a:pt x="0" y="119"/>
                        </a:lnTo>
                        <a:lnTo>
                          <a:pt x="11" y="113"/>
                        </a:lnTo>
                        <a:lnTo>
                          <a:pt x="9" y="100"/>
                        </a:lnTo>
                        <a:lnTo>
                          <a:pt x="9" y="75"/>
                        </a:lnTo>
                        <a:lnTo>
                          <a:pt x="10" y="58"/>
                        </a:lnTo>
                        <a:lnTo>
                          <a:pt x="19" y="38"/>
                        </a:lnTo>
                        <a:lnTo>
                          <a:pt x="29" y="23"/>
                        </a:lnTo>
                        <a:lnTo>
                          <a:pt x="48" y="9"/>
                        </a:lnTo>
                        <a:lnTo>
                          <a:pt x="68" y="3"/>
                        </a:lnTo>
                        <a:lnTo>
                          <a:pt x="89" y="0"/>
                        </a:lnTo>
                        <a:lnTo>
                          <a:pt x="111" y="0"/>
                        </a:lnTo>
                        <a:lnTo>
                          <a:pt x="133" y="2"/>
                        </a:lnTo>
                        <a:lnTo>
                          <a:pt x="150" y="5"/>
                        </a:lnTo>
                        <a:lnTo>
                          <a:pt x="169" y="13"/>
                        </a:lnTo>
                        <a:lnTo>
                          <a:pt x="179" y="25"/>
                        </a:lnTo>
                        <a:lnTo>
                          <a:pt x="183" y="35"/>
                        </a:lnTo>
                        <a:lnTo>
                          <a:pt x="189" y="54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083600" y="4108680"/>
                    <a:ext cx="921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1">
                        <a:moveTo>
                          <a:pt x="9" y="9"/>
                        </a:moveTo>
                        <a:lnTo>
                          <a:pt x="20" y="8"/>
                        </a:lnTo>
                        <a:lnTo>
                          <a:pt x="45" y="52"/>
                        </a:lnTo>
                        <a:lnTo>
                          <a:pt x="106" y="81"/>
                        </a:lnTo>
                        <a:lnTo>
                          <a:pt x="43" y="61"/>
                        </a:lnTo>
                        <a:lnTo>
                          <a:pt x="19" y="37"/>
                        </a:lnTo>
                        <a:lnTo>
                          <a:pt x="6" y="47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060200" y="3973680"/>
                    <a:ext cx="189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5">
                        <a:moveTo>
                          <a:pt x="31" y="205"/>
                        </a:moveTo>
                        <a:lnTo>
                          <a:pt x="14" y="182"/>
                        </a:lnTo>
                        <a:lnTo>
                          <a:pt x="5" y="152"/>
                        </a:lnTo>
                        <a:lnTo>
                          <a:pt x="0" y="108"/>
                        </a:lnTo>
                        <a:lnTo>
                          <a:pt x="0" y="68"/>
                        </a:lnTo>
                        <a:lnTo>
                          <a:pt x="7" y="36"/>
                        </a:lnTo>
                        <a:lnTo>
                          <a:pt x="29" y="14"/>
                        </a:lnTo>
                        <a:lnTo>
                          <a:pt x="52" y="4"/>
                        </a:lnTo>
                        <a:lnTo>
                          <a:pt x="95" y="0"/>
                        </a:lnTo>
                        <a:lnTo>
                          <a:pt x="151" y="3"/>
                        </a:lnTo>
                        <a:lnTo>
                          <a:pt x="186" y="14"/>
                        </a:lnTo>
                        <a:lnTo>
                          <a:pt x="208" y="19"/>
                        </a:lnTo>
                        <a:lnTo>
                          <a:pt x="218" y="19"/>
                        </a:lnTo>
                        <a:lnTo>
                          <a:pt x="205" y="32"/>
                        </a:lnTo>
                        <a:lnTo>
                          <a:pt x="196" y="53"/>
                        </a:lnTo>
                        <a:lnTo>
                          <a:pt x="196" y="62"/>
                        </a:lnTo>
                        <a:lnTo>
                          <a:pt x="177" y="49"/>
                        </a:lnTo>
                        <a:lnTo>
                          <a:pt x="151" y="48"/>
                        </a:lnTo>
                        <a:lnTo>
                          <a:pt x="120" y="45"/>
                        </a:lnTo>
                        <a:lnTo>
                          <a:pt x="98" y="45"/>
                        </a:lnTo>
                        <a:lnTo>
                          <a:pt x="73" y="45"/>
                        </a:lnTo>
                        <a:lnTo>
                          <a:pt x="85" y="51"/>
                        </a:lnTo>
                        <a:lnTo>
                          <a:pt x="85" y="64"/>
                        </a:lnTo>
                        <a:lnTo>
                          <a:pt x="78" y="78"/>
                        </a:lnTo>
                        <a:lnTo>
                          <a:pt x="65" y="98"/>
                        </a:lnTo>
                        <a:lnTo>
                          <a:pt x="57" y="123"/>
                        </a:lnTo>
                        <a:lnTo>
                          <a:pt x="57" y="152"/>
                        </a:lnTo>
                        <a:lnTo>
                          <a:pt x="39" y="134"/>
                        </a:lnTo>
                        <a:lnTo>
                          <a:pt x="37" y="121"/>
                        </a:lnTo>
                        <a:lnTo>
                          <a:pt x="26" y="117"/>
                        </a:lnTo>
                        <a:lnTo>
                          <a:pt x="13" y="118"/>
                        </a:lnTo>
                        <a:lnTo>
                          <a:pt x="10" y="126"/>
                        </a:lnTo>
                        <a:lnTo>
                          <a:pt x="14" y="165"/>
                        </a:lnTo>
                        <a:lnTo>
                          <a:pt x="24" y="182"/>
                        </a:lnTo>
                        <a:lnTo>
                          <a:pt x="31" y="205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4" name=""/>
                <p:cNvSpPr/>
                <p:nvPr/>
              </p:nvSpPr>
              <p:spPr>
                <a:xfrm>
                  <a:off x="1217160" y="4505760"/>
                  <a:ext cx="162720" cy="75600"/>
                </a:xfrm>
                <a:custGeom>
                  <a:avLst/>
                  <a:gdLst/>
                  <a:ahLst/>
                  <a:rect l="l" t="t" r="r" b="b"/>
                  <a:pathLst>
                    <a:path w="187" h="104">
                      <a:moveTo>
                        <a:pt x="187" y="93"/>
                      </a:moveTo>
                      <a:lnTo>
                        <a:pt x="143" y="104"/>
                      </a:lnTo>
                      <a:lnTo>
                        <a:pt x="81" y="96"/>
                      </a:lnTo>
                      <a:lnTo>
                        <a:pt x="31" y="80"/>
                      </a:lnTo>
                      <a:lnTo>
                        <a:pt x="0" y="19"/>
                      </a:lnTo>
                      <a:lnTo>
                        <a:pt x="86" y="26"/>
                      </a:lnTo>
                      <a:lnTo>
                        <a:pt x="78" y="0"/>
                      </a:lnTo>
                      <a:lnTo>
                        <a:pt x="117" y="6"/>
                      </a:lnTo>
                      <a:lnTo>
                        <a:pt x="156" y="26"/>
                      </a:lnTo>
                      <a:lnTo>
                        <a:pt x="172" y="35"/>
                      </a:lnTo>
                      <a:lnTo>
                        <a:pt x="187" y="93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2207880" y="4069440"/>
                <a:ext cx="383040" cy="1458360"/>
                <a:chOff x="2207880" y="4069440"/>
                <a:chExt cx="383040" cy="145836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2286000" y="5059800"/>
                  <a:ext cx="201960" cy="424800"/>
                </a:xfrm>
                <a:custGeom>
                  <a:avLst/>
                  <a:gdLst/>
                  <a:ahLst/>
                  <a:rect l="l" t="t" r="r" b="b"/>
                  <a:pathLst>
                    <a:path w="232" h="584">
                      <a:moveTo>
                        <a:pt x="50" y="0"/>
                      </a:moveTo>
                      <a:lnTo>
                        <a:pt x="45" y="69"/>
                      </a:lnTo>
                      <a:lnTo>
                        <a:pt x="42" y="148"/>
                      </a:lnTo>
                      <a:lnTo>
                        <a:pt x="42" y="226"/>
                      </a:lnTo>
                      <a:lnTo>
                        <a:pt x="45" y="298"/>
                      </a:lnTo>
                      <a:lnTo>
                        <a:pt x="46" y="356"/>
                      </a:lnTo>
                      <a:lnTo>
                        <a:pt x="46" y="429"/>
                      </a:lnTo>
                      <a:lnTo>
                        <a:pt x="42" y="460"/>
                      </a:lnTo>
                      <a:lnTo>
                        <a:pt x="11" y="549"/>
                      </a:lnTo>
                      <a:lnTo>
                        <a:pt x="0" y="583"/>
                      </a:lnTo>
                      <a:lnTo>
                        <a:pt x="49" y="584"/>
                      </a:lnTo>
                      <a:lnTo>
                        <a:pt x="71" y="544"/>
                      </a:lnTo>
                      <a:lnTo>
                        <a:pt x="85" y="497"/>
                      </a:lnTo>
                      <a:lnTo>
                        <a:pt x="94" y="425"/>
                      </a:lnTo>
                      <a:lnTo>
                        <a:pt x="123" y="226"/>
                      </a:lnTo>
                      <a:lnTo>
                        <a:pt x="133" y="169"/>
                      </a:lnTo>
                      <a:lnTo>
                        <a:pt x="125" y="278"/>
                      </a:lnTo>
                      <a:lnTo>
                        <a:pt x="134" y="344"/>
                      </a:lnTo>
                      <a:lnTo>
                        <a:pt x="137" y="406"/>
                      </a:lnTo>
                      <a:lnTo>
                        <a:pt x="131" y="463"/>
                      </a:lnTo>
                      <a:lnTo>
                        <a:pt x="136" y="490"/>
                      </a:lnTo>
                      <a:lnTo>
                        <a:pt x="167" y="574"/>
                      </a:lnTo>
                      <a:lnTo>
                        <a:pt x="196" y="575"/>
                      </a:lnTo>
                      <a:lnTo>
                        <a:pt x="211" y="575"/>
                      </a:lnTo>
                      <a:lnTo>
                        <a:pt x="228" y="558"/>
                      </a:lnTo>
                      <a:lnTo>
                        <a:pt x="185" y="463"/>
                      </a:lnTo>
                      <a:lnTo>
                        <a:pt x="206" y="260"/>
                      </a:lnTo>
                      <a:lnTo>
                        <a:pt x="215" y="165"/>
                      </a:lnTo>
                      <a:lnTo>
                        <a:pt x="232" y="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7" name=""/>
                <p:cNvGrpSpPr/>
                <p:nvPr/>
              </p:nvGrpSpPr>
              <p:grpSpPr>
                <a:xfrm>
                  <a:off x="2212920" y="4531680"/>
                  <a:ext cx="367920" cy="423360"/>
                  <a:chOff x="2212920" y="4531680"/>
                  <a:chExt cx="367920" cy="42336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2212920" y="4543200"/>
                    <a:ext cx="100800" cy="41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66">
                        <a:moveTo>
                          <a:pt x="6" y="0"/>
                        </a:moveTo>
                        <a:lnTo>
                          <a:pt x="0" y="128"/>
                        </a:lnTo>
                        <a:lnTo>
                          <a:pt x="19" y="304"/>
                        </a:lnTo>
                        <a:lnTo>
                          <a:pt x="35" y="456"/>
                        </a:lnTo>
                        <a:lnTo>
                          <a:pt x="63" y="548"/>
                        </a:lnTo>
                        <a:lnTo>
                          <a:pt x="76" y="566"/>
                        </a:lnTo>
                        <a:lnTo>
                          <a:pt x="85" y="540"/>
                        </a:lnTo>
                        <a:lnTo>
                          <a:pt x="89" y="474"/>
                        </a:lnTo>
                        <a:lnTo>
                          <a:pt x="116" y="457"/>
                        </a:lnTo>
                        <a:lnTo>
                          <a:pt x="81" y="407"/>
                        </a:lnTo>
                        <a:lnTo>
                          <a:pt x="58" y="376"/>
                        </a:lnTo>
                        <a:lnTo>
                          <a:pt x="61" y="115"/>
                        </a:lnTo>
                        <a:lnTo>
                          <a:pt x="72" y="1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493000" y="4531680"/>
                    <a:ext cx="87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528">
                        <a:moveTo>
                          <a:pt x="29" y="15"/>
                        </a:moveTo>
                        <a:lnTo>
                          <a:pt x="44" y="109"/>
                        </a:lnTo>
                        <a:lnTo>
                          <a:pt x="42" y="336"/>
                        </a:lnTo>
                        <a:lnTo>
                          <a:pt x="0" y="431"/>
                        </a:lnTo>
                        <a:lnTo>
                          <a:pt x="10" y="440"/>
                        </a:lnTo>
                        <a:lnTo>
                          <a:pt x="0" y="488"/>
                        </a:lnTo>
                        <a:lnTo>
                          <a:pt x="9" y="528"/>
                        </a:lnTo>
                        <a:lnTo>
                          <a:pt x="42" y="463"/>
                        </a:lnTo>
                        <a:lnTo>
                          <a:pt x="73" y="347"/>
                        </a:lnTo>
                        <a:lnTo>
                          <a:pt x="101" y="87"/>
                        </a:lnTo>
                        <a:lnTo>
                          <a:pt x="88" y="0"/>
                        </a:lnTo>
                        <a:lnTo>
                          <a:pt x="29" y="15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0" name=""/>
                <p:cNvSpPr/>
                <p:nvPr/>
              </p:nvSpPr>
              <p:spPr>
                <a:xfrm>
                  <a:off x="2346120" y="4096080"/>
                  <a:ext cx="127080" cy="194040"/>
                </a:xfrm>
                <a:custGeom>
                  <a:avLst/>
                  <a:gdLst/>
                  <a:ahLst/>
                  <a:rect l="l" t="t" r="r" b="b"/>
                  <a:pathLst>
                    <a:path w="146" h="267">
                      <a:moveTo>
                        <a:pt x="22" y="267"/>
                      </a:moveTo>
                      <a:lnTo>
                        <a:pt x="22" y="227"/>
                      </a:lnTo>
                      <a:lnTo>
                        <a:pt x="4" y="179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0" y="90"/>
                      </a:lnTo>
                      <a:lnTo>
                        <a:pt x="4" y="61"/>
                      </a:lnTo>
                      <a:lnTo>
                        <a:pt x="12" y="42"/>
                      </a:lnTo>
                      <a:lnTo>
                        <a:pt x="22" y="25"/>
                      </a:lnTo>
                      <a:lnTo>
                        <a:pt x="35" y="12"/>
                      </a:lnTo>
                      <a:lnTo>
                        <a:pt x="55" y="2"/>
                      </a:lnTo>
                      <a:lnTo>
                        <a:pt x="78" y="0"/>
                      </a:lnTo>
                      <a:lnTo>
                        <a:pt x="98" y="3"/>
                      </a:lnTo>
                      <a:lnTo>
                        <a:pt x="116" y="10"/>
                      </a:lnTo>
                      <a:lnTo>
                        <a:pt x="129" y="25"/>
                      </a:lnTo>
                      <a:lnTo>
                        <a:pt x="139" y="42"/>
                      </a:lnTo>
                      <a:lnTo>
                        <a:pt x="146" y="62"/>
                      </a:lnTo>
                      <a:lnTo>
                        <a:pt x="145" y="108"/>
                      </a:lnTo>
                      <a:lnTo>
                        <a:pt x="139" y="145"/>
                      </a:lnTo>
                      <a:lnTo>
                        <a:pt x="133" y="185"/>
                      </a:lnTo>
                      <a:lnTo>
                        <a:pt x="122" y="205"/>
                      </a:lnTo>
                      <a:lnTo>
                        <a:pt x="111" y="223"/>
                      </a:lnTo>
                      <a:lnTo>
                        <a:pt x="106" y="234"/>
                      </a:lnTo>
                      <a:lnTo>
                        <a:pt x="100" y="267"/>
                      </a:lnTo>
                      <a:lnTo>
                        <a:pt x="22" y="267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292120" y="4069440"/>
                  <a:ext cx="231480" cy="160560"/>
                </a:xfrm>
                <a:custGeom>
                  <a:avLst/>
                  <a:gdLst/>
                  <a:ahLst/>
                  <a:rect l="l" t="t" r="r" b="b"/>
                  <a:pathLst>
                    <a:path w="266" h="221">
                      <a:moveTo>
                        <a:pt x="27" y="216"/>
                      </a:moveTo>
                      <a:lnTo>
                        <a:pt x="16" y="221"/>
                      </a:lnTo>
                      <a:lnTo>
                        <a:pt x="0" y="213"/>
                      </a:lnTo>
                      <a:lnTo>
                        <a:pt x="7" y="177"/>
                      </a:lnTo>
                      <a:lnTo>
                        <a:pt x="16" y="134"/>
                      </a:lnTo>
                      <a:lnTo>
                        <a:pt x="33" y="85"/>
                      </a:lnTo>
                      <a:lnTo>
                        <a:pt x="42" y="57"/>
                      </a:lnTo>
                      <a:lnTo>
                        <a:pt x="52" y="34"/>
                      </a:lnTo>
                      <a:lnTo>
                        <a:pt x="75" y="13"/>
                      </a:lnTo>
                      <a:lnTo>
                        <a:pt x="117" y="4"/>
                      </a:lnTo>
                      <a:lnTo>
                        <a:pt x="152" y="0"/>
                      </a:lnTo>
                      <a:lnTo>
                        <a:pt x="204" y="21"/>
                      </a:lnTo>
                      <a:lnTo>
                        <a:pt x="224" y="46"/>
                      </a:lnTo>
                      <a:lnTo>
                        <a:pt x="241" y="91"/>
                      </a:lnTo>
                      <a:lnTo>
                        <a:pt x="259" y="143"/>
                      </a:lnTo>
                      <a:lnTo>
                        <a:pt x="266" y="187"/>
                      </a:lnTo>
                      <a:lnTo>
                        <a:pt x="263" y="206"/>
                      </a:lnTo>
                      <a:lnTo>
                        <a:pt x="238" y="209"/>
                      </a:lnTo>
                      <a:lnTo>
                        <a:pt x="220" y="213"/>
                      </a:lnTo>
                      <a:lnTo>
                        <a:pt x="194" y="218"/>
                      </a:lnTo>
                      <a:lnTo>
                        <a:pt x="201" y="173"/>
                      </a:lnTo>
                      <a:lnTo>
                        <a:pt x="201" y="147"/>
                      </a:lnTo>
                      <a:lnTo>
                        <a:pt x="199" y="124"/>
                      </a:lnTo>
                      <a:lnTo>
                        <a:pt x="201" y="92"/>
                      </a:lnTo>
                      <a:lnTo>
                        <a:pt x="171" y="79"/>
                      </a:lnTo>
                      <a:lnTo>
                        <a:pt x="162" y="52"/>
                      </a:lnTo>
                      <a:lnTo>
                        <a:pt x="136" y="70"/>
                      </a:lnTo>
                      <a:lnTo>
                        <a:pt x="100" y="105"/>
                      </a:lnTo>
                      <a:lnTo>
                        <a:pt x="114" y="88"/>
                      </a:lnTo>
                      <a:lnTo>
                        <a:pt x="84" y="114"/>
                      </a:lnTo>
                      <a:lnTo>
                        <a:pt x="84" y="156"/>
                      </a:lnTo>
                      <a:lnTo>
                        <a:pt x="91" y="176"/>
                      </a:lnTo>
                      <a:lnTo>
                        <a:pt x="100" y="193"/>
                      </a:lnTo>
                      <a:lnTo>
                        <a:pt x="107" y="219"/>
                      </a:lnTo>
                      <a:lnTo>
                        <a:pt x="75" y="219"/>
                      </a:lnTo>
                      <a:lnTo>
                        <a:pt x="90" y="219"/>
                      </a:lnTo>
                      <a:lnTo>
                        <a:pt x="45" y="213"/>
                      </a:lnTo>
                      <a:lnTo>
                        <a:pt x="42" y="213"/>
                      </a:lnTo>
                      <a:lnTo>
                        <a:pt x="27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207880" y="4289760"/>
                  <a:ext cx="383040" cy="783720"/>
                </a:xfrm>
                <a:custGeom>
                  <a:avLst/>
                  <a:gdLst/>
                  <a:ahLst/>
                  <a:rect l="l" t="t" r="r" b="b"/>
                  <a:pathLst>
                    <a:path w="440" h="1077">
                      <a:moveTo>
                        <a:pt x="176" y="0"/>
                      </a:moveTo>
                      <a:lnTo>
                        <a:pt x="69" y="58"/>
                      </a:lnTo>
                      <a:lnTo>
                        <a:pt x="56" y="77"/>
                      </a:lnTo>
                      <a:lnTo>
                        <a:pt x="0" y="351"/>
                      </a:lnTo>
                      <a:lnTo>
                        <a:pt x="84" y="363"/>
                      </a:lnTo>
                      <a:lnTo>
                        <a:pt x="95" y="293"/>
                      </a:lnTo>
                      <a:lnTo>
                        <a:pt x="127" y="438"/>
                      </a:lnTo>
                      <a:lnTo>
                        <a:pt x="74" y="762"/>
                      </a:lnTo>
                      <a:lnTo>
                        <a:pt x="101" y="1074"/>
                      </a:lnTo>
                      <a:lnTo>
                        <a:pt x="132" y="1077"/>
                      </a:lnTo>
                      <a:lnTo>
                        <a:pt x="178" y="1073"/>
                      </a:lnTo>
                      <a:lnTo>
                        <a:pt x="244" y="1068"/>
                      </a:lnTo>
                      <a:lnTo>
                        <a:pt x="302" y="1068"/>
                      </a:lnTo>
                      <a:lnTo>
                        <a:pt x="351" y="1070"/>
                      </a:lnTo>
                      <a:lnTo>
                        <a:pt x="370" y="620"/>
                      </a:lnTo>
                      <a:lnTo>
                        <a:pt x="321" y="422"/>
                      </a:lnTo>
                      <a:lnTo>
                        <a:pt x="340" y="314"/>
                      </a:lnTo>
                      <a:lnTo>
                        <a:pt x="351" y="354"/>
                      </a:lnTo>
                      <a:lnTo>
                        <a:pt x="440" y="331"/>
                      </a:lnTo>
                      <a:lnTo>
                        <a:pt x="372" y="74"/>
                      </a:lnTo>
                      <a:lnTo>
                        <a:pt x="260" y="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2320200" y="4291920"/>
                  <a:ext cx="164520" cy="330480"/>
                  <a:chOff x="2320200" y="4291920"/>
                  <a:chExt cx="164520" cy="3304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2356560" y="4291920"/>
                    <a:ext cx="853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51">
                        <a:moveTo>
                          <a:pt x="0" y="4"/>
                        </a:moveTo>
                        <a:lnTo>
                          <a:pt x="21" y="51"/>
                        </a:lnTo>
                        <a:lnTo>
                          <a:pt x="50" y="0"/>
                        </a:lnTo>
                        <a:lnTo>
                          <a:pt x="79" y="51"/>
                        </a:lnTo>
                        <a:lnTo>
                          <a:pt x="98" y="6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403000" y="4299840"/>
                    <a:ext cx="1980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20">
                        <a:moveTo>
                          <a:pt x="0" y="0"/>
                        </a:moveTo>
                        <a:lnTo>
                          <a:pt x="23" y="174"/>
                        </a:lnTo>
                        <a:lnTo>
                          <a:pt x="23" y="4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320200" y="4605840"/>
                    <a:ext cx="164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3">
                        <a:moveTo>
                          <a:pt x="0" y="23"/>
                        </a:moveTo>
                        <a:lnTo>
                          <a:pt x="102" y="0"/>
                        </a:lnTo>
                        <a:lnTo>
                          <a:pt x="189" y="8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2275560" y="5400720"/>
                  <a:ext cx="222480" cy="127080"/>
                  <a:chOff x="2275560" y="5400720"/>
                  <a:chExt cx="222480" cy="1270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2275560" y="5412240"/>
                    <a:ext cx="867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59">
                        <a:moveTo>
                          <a:pt x="19" y="78"/>
                        </a:moveTo>
                        <a:lnTo>
                          <a:pt x="4" y="103"/>
                        </a:lnTo>
                        <a:lnTo>
                          <a:pt x="0" y="122"/>
                        </a:lnTo>
                        <a:lnTo>
                          <a:pt x="0" y="136"/>
                        </a:lnTo>
                        <a:lnTo>
                          <a:pt x="3" y="146"/>
                        </a:lnTo>
                        <a:lnTo>
                          <a:pt x="10" y="155"/>
                        </a:lnTo>
                        <a:lnTo>
                          <a:pt x="23" y="159"/>
                        </a:lnTo>
                        <a:lnTo>
                          <a:pt x="41" y="158"/>
                        </a:lnTo>
                        <a:lnTo>
                          <a:pt x="57" y="151"/>
                        </a:lnTo>
                        <a:lnTo>
                          <a:pt x="70" y="135"/>
                        </a:lnTo>
                        <a:lnTo>
                          <a:pt x="81" y="113"/>
                        </a:lnTo>
                        <a:lnTo>
                          <a:pt x="88" y="70"/>
                        </a:lnTo>
                        <a:lnTo>
                          <a:pt x="100" y="26"/>
                        </a:lnTo>
                        <a:lnTo>
                          <a:pt x="98" y="0"/>
                        </a:lnTo>
                        <a:lnTo>
                          <a:pt x="78" y="61"/>
                        </a:lnTo>
                        <a:lnTo>
                          <a:pt x="61" y="100"/>
                        </a:lnTo>
                        <a:lnTo>
                          <a:pt x="36" y="100"/>
                        </a:lnTo>
                        <a:lnTo>
                          <a:pt x="15" y="97"/>
                        </a:lnTo>
                        <a:lnTo>
                          <a:pt x="1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399040" y="5400720"/>
                    <a:ext cx="990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74">
                        <a:moveTo>
                          <a:pt x="1" y="0"/>
                        </a:moveTo>
                        <a:lnTo>
                          <a:pt x="0" y="18"/>
                        </a:lnTo>
                        <a:lnTo>
                          <a:pt x="14" y="61"/>
                        </a:lnTo>
                        <a:lnTo>
                          <a:pt x="24" y="97"/>
                        </a:lnTo>
                        <a:lnTo>
                          <a:pt x="36" y="132"/>
                        </a:lnTo>
                        <a:lnTo>
                          <a:pt x="48" y="151"/>
                        </a:lnTo>
                        <a:lnTo>
                          <a:pt x="59" y="165"/>
                        </a:lnTo>
                        <a:lnTo>
                          <a:pt x="75" y="171"/>
                        </a:lnTo>
                        <a:lnTo>
                          <a:pt x="92" y="174"/>
                        </a:lnTo>
                        <a:lnTo>
                          <a:pt x="101" y="168"/>
                        </a:lnTo>
                        <a:lnTo>
                          <a:pt x="110" y="164"/>
                        </a:lnTo>
                        <a:lnTo>
                          <a:pt x="114" y="146"/>
                        </a:lnTo>
                        <a:lnTo>
                          <a:pt x="111" y="123"/>
                        </a:lnTo>
                        <a:lnTo>
                          <a:pt x="101" y="96"/>
                        </a:lnTo>
                        <a:lnTo>
                          <a:pt x="94" y="81"/>
                        </a:lnTo>
                        <a:lnTo>
                          <a:pt x="91" y="94"/>
                        </a:lnTo>
                        <a:lnTo>
                          <a:pt x="87" y="100"/>
                        </a:lnTo>
                        <a:lnTo>
                          <a:pt x="72" y="104"/>
                        </a:lnTo>
                        <a:lnTo>
                          <a:pt x="61" y="106"/>
                        </a:lnTo>
                        <a:lnTo>
                          <a:pt x="37" y="102"/>
                        </a:lnTo>
                        <a:lnTo>
                          <a:pt x="14" y="3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0" name=""/>
              <p:cNvGrpSpPr/>
              <p:nvPr/>
            </p:nvGrpSpPr>
            <p:grpSpPr>
              <a:xfrm>
                <a:off x="1628640" y="3921840"/>
                <a:ext cx="465480" cy="1609920"/>
                <a:chOff x="1628640" y="3921840"/>
                <a:chExt cx="465480" cy="16099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1970640" y="4817160"/>
                  <a:ext cx="56520" cy="119880"/>
                </a:xfrm>
                <a:custGeom>
                  <a:avLst/>
                  <a:gdLst/>
                  <a:ahLst/>
                  <a:rect l="l" t="t" r="r" b="b"/>
                  <a:pathLst>
                    <a:path w="65" h="165">
                      <a:moveTo>
                        <a:pt x="62" y="2"/>
                      </a:moveTo>
                      <a:lnTo>
                        <a:pt x="65" y="91"/>
                      </a:lnTo>
                      <a:lnTo>
                        <a:pt x="32" y="148"/>
                      </a:lnTo>
                      <a:lnTo>
                        <a:pt x="15" y="165"/>
                      </a:lnTo>
                      <a:lnTo>
                        <a:pt x="18" y="85"/>
                      </a:lnTo>
                      <a:lnTo>
                        <a:pt x="10" y="94"/>
                      </a:lnTo>
                      <a:lnTo>
                        <a:pt x="2" y="120"/>
                      </a:lnTo>
                      <a:lnTo>
                        <a:pt x="0" y="91"/>
                      </a:lnTo>
                      <a:lnTo>
                        <a:pt x="9" y="44"/>
                      </a:lnTo>
                      <a:lnTo>
                        <a:pt x="31" y="0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688760" y="4785840"/>
                  <a:ext cx="63360" cy="113400"/>
                </a:xfrm>
                <a:custGeom>
                  <a:avLst/>
                  <a:gdLst/>
                  <a:ahLst/>
                  <a:rect l="l" t="t" r="r" b="b"/>
                  <a:pathLst>
                    <a:path w="73" h="156">
                      <a:moveTo>
                        <a:pt x="51" y="0"/>
                      </a:moveTo>
                      <a:lnTo>
                        <a:pt x="73" y="82"/>
                      </a:lnTo>
                      <a:lnTo>
                        <a:pt x="35" y="156"/>
                      </a:lnTo>
                      <a:lnTo>
                        <a:pt x="22" y="147"/>
                      </a:lnTo>
                      <a:lnTo>
                        <a:pt x="0" y="140"/>
                      </a:lnTo>
                      <a:lnTo>
                        <a:pt x="9" y="115"/>
                      </a:lnTo>
                      <a:lnTo>
                        <a:pt x="12" y="88"/>
                      </a:lnTo>
                      <a:lnTo>
                        <a:pt x="0" y="58"/>
                      </a:lnTo>
                      <a:lnTo>
                        <a:pt x="9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1637280" y="5374800"/>
                  <a:ext cx="456840" cy="156960"/>
                  <a:chOff x="1637280" y="5374800"/>
                  <a:chExt cx="456840" cy="15696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1904400" y="5374800"/>
                    <a:ext cx="189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3">
                        <a:moveTo>
                          <a:pt x="108" y="0"/>
                        </a:moveTo>
                        <a:lnTo>
                          <a:pt x="143" y="35"/>
                        </a:lnTo>
                        <a:lnTo>
                          <a:pt x="173" y="73"/>
                        </a:lnTo>
                        <a:lnTo>
                          <a:pt x="214" y="106"/>
                        </a:lnTo>
                        <a:lnTo>
                          <a:pt x="218" y="123"/>
                        </a:lnTo>
                        <a:lnTo>
                          <a:pt x="179" y="133"/>
                        </a:lnTo>
                        <a:lnTo>
                          <a:pt x="138" y="129"/>
                        </a:lnTo>
                        <a:lnTo>
                          <a:pt x="88" y="106"/>
                        </a:lnTo>
                        <a:lnTo>
                          <a:pt x="52" y="84"/>
                        </a:lnTo>
                        <a:lnTo>
                          <a:pt x="13" y="80"/>
                        </a:lnTo>
                        <a:lnTo>
                          <a:pt x="0" y="68"/>
                        </a:lnTo>
                        <a:lnTo>
                          <a:pt x="4" y="7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1637280" y="5423400"/>
                    <a:ext cx="1184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9">
                        <a:moveTo>
                          <a:pt x="135" y="3"/>
                        </a:moveTo>
                        <a:lnTo>
                          <a:pt x="136" y="42"/>
                        </a:lnTo>
                        <a:lnTo>
                          <a:pt x="117" y="62"/>
                        </a:lnTo>
                        <a:lnTo>
                          <a:pt x="113" y="95"/>
                        </a:lnTo>
                        <a:lnTo>
                          <a:pt x="83" y="127"/>
                        </a:lnTo>
                        <a:lnTo>
                          <a:pt x="57" y="144"/>
                        </a:lnTo>
                        <a:lnTo>
                          <a:pt x="33" y="149"/>
                        </a:lnTo>
                        <a:lnTo>
                          <a:pt x="12" y="147"/>
                        </a:lnTo>
                        <a:lnTo>
                          <a:pt x="0" y="124"/>
                        </a:lnTo>
                        <a:lnTo>
                          <a:pt x="3" y="91"/>
                        </a:lnTo>
                        <a:lnTo>
                          <a:pt x="26" y="53"/>
                        </a:lnTo>
                        <a:lnTo>
                          <a:pt x="59" y="13"/>
                        </a:lnTo>
                        <a:lnTo>
                          <a:pt x="61" y="0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6" name=""/>
                <p:cNvSpPr/>
                <p:nvPr/>
              </p:nvSpPr>
              <p:spPr>
                <a:xfrm>
                  <a:off x="1981080" y="4798440"/>
                  <a:ext cx="56520" cy="119880"/>
                </a:xfrm>
                <a:custGeom>
                  <a:avLst/>
                  <a:gdLst/>
                  <a:ahLst/>
                  <a:rect l="l" t="t" r="r" b="b"/>
                  <a:pathLst>
                    <a:path w="65" h="165">
                      <a:moveTo>
                        <a:pt x="62" y="2"/>
                      </a:moveTo>
                      <a:lnTo>
                        <a:pt x="65" y="91"/>
                      </a:lnTo>
                      <a:lnTo>
                        <a:pt x="32" y="148"/>
                      </a:lnTo>
                      <a:lnTo>
                        <a:pt x="14" y="165"/>
                      </a:lnTo>
                      <a:lnTo>
                        <a:pt x="17" y="87"/>
                      </a:lnTo>
                      <a:lnTo>
                        <a:pt x="10" y="94"/>
                      </a:lnTo>
                      <a:lnTo>
                        <a:pt x="1" y="120"/>
                      </a:lnTo>
                      <a:lnTo>
                        <a:pt x="0" y="91"/>
                      </a:lnTo>
                      <a:lnTo>
                        <a:pt x="9" y="44"/>
                      </a:lnTo>
                      <a:lnTo>
                        <a:pt x="30" y="0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681560" y="4535640"/>
                  <a:ext cx="328320" cy="890280"/>
                </a:xfrm>
                <a:custGeom>
                  <a:avLst/>
                  <a:gdLst/>
                  <a:ahLst/>
                  <a:rect l="l" t="t" r="r" b="b"/>
                  <a:pathLst>
                    <a:path w="377" h="1223">
                      <a:moveTo>
                        <a:pt x="373" y="0"/>
                      </a:moveTo>
                      <a:lnTo>
                        <a:pt x="377" y="665"/>
                      </a:lnTo>
                      <a:lnTo>
                        <a:pt x="373" y="1159"/>
                      </a:lnTo>
                      <a:lnTo>
                        <a:pt x="260" y="1181"/>
                      </a:lnTo>
                      <a:lnTo>
                        <a:pt x="243" y="777"/>
                      </a:lnTo>
                      <a:lnTo>
                        <a:pt x="256" y="738"/>
                      </a:lnTo>
                      <a:lnTo>
                        <a:pt x="243" y="717"/>
                      </a:lnTo>
                      <a:lnTo>
                        <a:pt x="243" y="470"/>
                      </a:lnTo>
                      <a:lnTo>
                        <a:pt x="217" y="548"/>
                      </a:lnTo>
                      <a:lnTo>
                        <a:pt x="152" y="882"/>
                      </a:lnTo>
                      <a:lnTo>
                        <a:pt x="95" y="1223"/>
                      </a:lnTo>
                      <a:lnTo>
                        <a:pt x="0" y="1223"/>
                      </a:lnTo>
                      <a:lnTo>
                        <a:pt x="43" y="764"/>
                      </a:lnTo>
                      <a:lnTo>
                        <a:pt x="60" y="376"/>
                      </a:lnTo>
                      <a:lnTo>
                        <a:pt x="52" y="8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628640" y="4124880"/>
                  <a:ext cx="418680" cy="680400"/>
                </a:xfrm>
                <a:custGeom>
                  <a:avLst/>
                  <a:gdLst/>
                  <a:ahLst/>
                  <a:rect l="l" t="t" r="r" b="b"/>
                  <a:pathLst>
                    <a:path w="481" h="935">
                      <a:moveTo>
                        <a:pt x="322" y="12"/>
                      </a:moveTo>
                      <a:lnTo>
                        <a:pt x="468" y="126"/>
                      </a:lnTo>
                      <a:lnTo>
                        <a:pt x="479" y="425"/>
                      </a:lnTo>
                      <a:lnTo>
                        <a:pt x="481" y="577"/>
                      </a:lnTo>
                      <a:lnTo>
                        <a:pt x="473" y="935"/>
                      </a:lnTo>
                      <a:lnTo>
                        <a:pt x="440" y="935"/>
                      </a:lnTo>
                      <a:lnTo>
                        <a:pt x="424" y="568"/>
                      </a:lnTo>
                      <a:lnTo>
                        <a:pt x="116" y="568"/>
                      </a:lnTo>
                      <a:lnTo>
                        <a:pt x="107" y="476"/>
                      </a:lnTo>
                      <a:lnTo>
                        <a:pt x="97" y="541"/>
                      </a:lnTo>
                      <a:lnTo>
                        <a:pt x="119" y="679"/>
                      </a:lnTo>
                      <a:lnTo>
                        <a:pt x="139" y="888"/>
                      </a:lnTo>
                      <a:lnTo>
                        <a:pt x="87" y="901"/>
                      </a:lnTo>
                      <a:lnTo>
                        <a:pt x="0" y="535"/>
                      </a:lnTo>
                      <a:lnTo>
                        <a:pt x="55" y="106"/>
                      </a:lnTo>
                      <a:lnTo>
                        <a:pt x="220" y="0"/>
                      </a:lnTo>
                      <a:lnTo>
                        <a:pt x="292" y="48"/>
                      </a:lnTo>
                      <a:lnTo>
                        <a:pt x="322" y="12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699200" y="4766760"/>
                  <a:ext cx="62280" cy="113400"/>
                </a:xfrm>
                <a:custGeom>
                  <a:avLst/>
                  <a:gdLst/>
                  <a:ahLst/>
                  <a:rect l="l" t="t" r="r" b="b"/>
                  <a:pathLst>
                    <a:path w="72" h="156">
                      <a:moveTo>
                        <a:pt x="51" y="0"/>
                      </a:moveTo>
                      <a:lnTo>
                        <a:pt x="72" y="82"/>
                      </a:lnTo>
                      <a:lnTo>
                        <a:pt x="35" y="156"/>
                      </a:lnTo>
                      <a:lnTo>
                        <a:pt x="22" y="147"/>
                      </a:lnTo>
                      <a:lnTo>
                        <a:pt x="0" y="140"/>
                      </a:lnTo>
                      <a:lnTo>
                        <a:pt x="9" y="117"/>
                      </a:lnTo>
                      <a:lnTo>
                        <a:pt x="12" y="88"/>
                      </a:lnTo>
                      <a:lnTo>
                        <a:pt x="0" y="58"/>
                      </a:lnTo>
                      <a:lnTo>
                        <a:pt x="9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0" name=""/>
                <p:cNvGrpSpPr/>
                <p:nvPr/>
              </p:nvGrpSpPr>
              <p:grpSpPr>
                <a:xfrm>
                  <a:off x="1729080" y="4138920"/>
                  <a:ext cx="270360" cy="422280"/>
                  <a:chOff x="1729080" y="4138920"/>
                  <a:chExt cx="270360" cy="422280"/>
                </a:xfrm>
              </p:grpSpPr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1729080" y="4138920"/>
                    <a:ext cx="270360" cy="422280"/>
                    <a:chOff x="1729080" y="4138920"/>
                    <a:chExt cx="270360" cy="422280"/>
                  </a:xfrm>
                </p:grpSpPr>
                <p:grpSp>
                  <p:nvGrpSpPr>
                    <p:cNvPr id="1032" name=""/>
                    <p:cNvGrpSpPr/>
                    <p:nvPr/>
                  </p:nvGrpSpPr>
                  <p:grpSpPr>
                    <a:xfrm>
                      <a:off x="1729080" y="4540320"/>
                      <a:ext cx="270360" cy="20880"/>
                      <a:chOff x="1729080" y="4540320"/>
                      <a:chExt cx="270360" cy="20880"/>
                    </a:xfrm>
                  </p:grpSpPr>
                  <p:sp>
                    <p:nvSpPr>
                      <p:cNvPr id="1033" name=""/>
                      <p:cNvSpPr/>
                      <p:nvPr/>
                    </p:nvSpPr>
                    <p:spPr>
                      <a:xfrm flipH="1">
                        <a:off x="1729080" y="4560480"/>
                        <a:ext cx="270360" cy="7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" name=""/>
                      <p:cNvSpPr/>
                      <p:nvPr/>
                    </p:nvSpPr>
                    <p:spPr>
                      <a:xfrm flipH="1">
                        <a:off x="1729080" y="4540320"/>
                        <a:ext cx="270360" cy="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1799640" y="4138920"/>
                      <a:ext cx="1224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84">
                          <a:moveTo>
                            <a:pt x="141" y="10"/>
                          </a:moveTo>
                          <a:lnTo>
                            <a:pt x="136" y="84"/>
                          </a:lnTo>
                          <a:lnTo>
                            <a:pt x="97" y="30"/>
                          </a:lnTo>
                          <a:lnTo>
                            <a:pt x="69" y="8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884960" y="4167720"/>
                    <a:ext cx="720" cy="39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1787040" y="3921840"/>
                  <a:ext cx="174600" cy="238320"/>
                  <a:chOff x="1787040" y="3921840"/>
                  <a:chExt cx="174600" cy="23832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1794600" y="3933360"/>
                    <a:ext cx="1616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312">
                        <a:moveTo>
                          <a:pt x="179" y="56"/>
                        </a:moveTo>
                        <a:lnTo>
                          <a:pt x="183" y="88"/>
                        </a:lnTo>
                        <a:lnTo>
                          <a:pt x="185" y="100"/>
                        </a:lnTo>
                        <a:lnTo>
                          <a:pt x="179" y="111"/>
                        </a:lnTo>
                        <a:lnTo>
                          <a:pt x="186" y="134"/>
                        </a:lnTo>
                        <a:lnTo>
                          <a:pt x="182" y="171"/>
                        </a:lnTo>
                        <a:lnTo>
                          <a:pt x="178" y="189"/>
                        </a:lnTo>
                        <a:lnTo>
                          <a:pt x="173" y="207"/>
                        </a:lnTo>
                        <a:lnTo>
                          <a:pt x="168" y="224"/>
                        </a:lnTo>
                        <a:lnTo>
                          <a:pt x="160" y="243"/>
                        </a:lnTo>
                        <a:lnTo>
                          <a:pt x="146" y="247"/>
                        </a:lnTo>
                        <a:lnTo>
                          <a:pt x="131" y="252"/>
                        </a:lnTo>
                        <a:lnTo>
                          <a:pt x="131" y="266"/>
                        </a:lnTo>
                        <a:lnTo>
                          <a:pt x="133" y="276"/>
                        </a:lnTo>
                        <a:lnTo>
                          <a:pt x="104" y="312"/>
                        </a:lnTo>
                        <a:lnTo>
                          <a:pt x="27" y="266"/>
                        </a:lnTo>
                        <a:lnTo>
                          <a:pt x="24" y="179"/>
                        </a:lnTo>
                        <a:lnTo>
                          <a:pt x="14" y="155"/>
                        </a:lnTo>
                        <a:lnTo>
                          <a:pt x="9" y="136"/>
                        </a:lnTo>
                        <a:lnTo>
                          <a:pt x="3" y="113"/>
                        </a:lnTo>
                        <a:lnTo>
                          <a:pt x="0" y="93"/>
                        </a:lnTo>
                        <a:lnTo>
                          <a:pt x="1" y="74"/>
                        </a:lnTo>
                        <a:lnTo>
                          <a:pt x="4" y="54"/>
                        </a:lnTo>
                        <a:lnTo>
                          <a:pt x="9" y="38"/>
                        </a:lnTo>
                        <a:lnTo>
                          <a:pt x="16" y="25"/>
                        </a:lnTo>
                        <a:lnTo>
                          <a:pt x="27" y="14"/>
                        </a:lnTo>
                        <a:lnTo>
                          <a:pt x="40" y="9"/>
                        </a:lnTo>
                        <a:lnTo>
                          <a:pt x="56" y="4"/>
                        </a:lnTo>
                        <a:lnTo>
                          <a:pt x="74" y="1"/>
                        </a:lnTo>
                        <a:lnTo>
                          <a:pt x="95" y="0"/>
                        </a:lnTo>
                        <a:lnTo>
                          <a:pt x="116" y="1"/>
                        </a:lnTo>
                        <a:lnTo>
                          <a:pt x="139" y="7"/>
                        </a:lnTo>
                        <a:lnTo>
                          <a:pt x="152" y="16"/>
                        </a:lnTo>
                        <a:lnTo>
                          <a:pt x="165" y="25"/>
                        </a:lnTo>
                        <a:lnTo>
                          <a:pt x="173" y="39"/>
                        </a:lnTo>
                        <a:lnTo>
                          <a:pt x="179" y="56"/>
                        </a:lnTo>
                        <a:close/>
                      </a:path>
                    </a:pathLst>
                  </a:custGeom>
                  <a:blipFill rotWithShape="0">
                    <a:blip r:embed="rId3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817280" y="4056480"/>
                    <a:ext cx="817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7">
                        <a:moveTo>
                          <a:pt x="16" y="26"/>
                        </a:moveTo>
                        <a:lnTo>
                          <a:pt x="24" y="49"/>
                        </a:lnTo>
                        <a:lnTo>
                          <a:pt x="94" y="84"/>
                        </a:lnTo>
                        <a:lnTo>
                          <a:pt x="58" y="75"/>
                        </a:lnTo>
                        <a:lnTo>
                          <a:pt x="42" y="71"/>
                        </a:lnTo>
                        <a:lnTo>
                          <a:pt x="23" y="74"/>
                        </a:lnTo>
                        <a:lnTo>
                          <a:pt x="9" y="80"/>
                        </a:lnTo>
                        <a:lnTo>
                          <a:pt x="1" y="97"/>
                        </a:lnTo>
                        <a:lnTo>
                          <a:pt x="0" y="29"/>
                        </a:lnTo>
                        <a:lnTo>
                          <a:pt x="3" y="15"/>
                        </a:lnTo>
                        <a:lnTo>
                          <a:pt x="13" y="0"/>
                        </a:lnTo>
                        <a:lnTo>
                          <a:pt x="16" y="26"/>
                        </a:lnTo>
                        <a:close/>
                      </a:path>
                    </a:pathLst>
                  </a:custGeom>
                  <a:blipFill rotWithShape="0">
                    <a:blip r:embed="rId3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787040" y="3921840"/>
                    <a:ext cx="1746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226">
                        <a:moveTo>
                          <a:pt x="165" y="19"/>
                        </a:moveTo>
                        <a:lnTo>
                          <a:pt x="148" y="10"/>
                        </a:lnTo>
                        <a:lnTo>
                          <a:pt x="133" y="6"/>
                        </a:lnTo>
                        <a:lnTo>
                          <a:pt x="109" y="0"/>
                        </a:lnTo>
                        <a:lnTo>
                          <a:pt x="91" y="0"/>
                        </a:lnTo>
                        <a:lnTo>
                          <a:pt x="73" y="0"/>
                        </a:lnTo>
                        <a:lnTo>
                          <a:pt x="54" y="4"/>
                        </a:lnTo>
                        <a:lnTo>
                          <a:pt x="41" y="4"/>
                        </a:lnTo>
                        <a:lnTo>
                          <a:pt x="28" y="9"/>
                        </a:lnTo>
                        <a:lnTo>
                          <a:pt x="16" y="19"/>
                        </a:lnTo>
                        <a:lnTo>
                          <a:pt x="7" y="30"/>
                        </a:lnTo>
                        <a:lnTo>
                          <a:pt x="6" y="48"/>
                        </a:lnTo>
                        <a:lnTo>
                          <a:pt x="3" y="70"/>
                        </a:lnTo>
                        <a:lnTo>
                          <a:pt x="0" y="100"/>
                        </a:lnTo>
                        <a:lnTo>
                          <a:pt x="2" y="126"/>
                        </a:lnTo>
                        <a:lnTo>
                          <a:pt x="7" y="148"/>
                        </a:lnTo>
                        <a:lnTo>
                          <a:pt x="12" y="169"/>
                        </a:lnTo>
                        <a:lnTo>
                          <a:pt x="18" y="184"/>
                        </a:lnTo>
                        <a:lnTo>
                          <a:pt x="23" y="198"/>
                        </a:lnTo>
                        <a:lnTo>
                          <a:pt x="29" y="211"/>
                        </a:lnTo>
                        <a:lnTo>
                          <a:pt x="36" y="226"/>
                        </a:lnTo>
                        <a:lnTo>
                          <a:pt x="44" y="226"/>
                        </a:lnTo>
                        <a:lnTo>
                          <a:pt x="41" y="205"/>
                        </a:lnTo>
                        <a:lnTo>
                          <a:pt x="45" y="192"/>
                        </a:lnTo>
                        <a:lnTo>
                          <a:pt x="48" y="184"/>
                        </a:lnTo>
                        <a:lnTo>
                          <a:pt x="44" y="171"/>
                        </a:lnTo>
                        <a:lnTo>
                          <a:pt x="41" y="148"/>
                        </a:lnTo>
                        <a:lnTo>
                          <a:pt x="46" y="142"/>
                        </a:lnTo>
                        <a:lnTo>
                          <a:pt x="55" y="153"/>
                        </a:lnTo>
                        <a:lnTo>
                          <a:pt x="62" y="165"/>
                        </a:lnTo>
                        <a:lnTo>
                          <a:pt x="61" y="142"/>
                        </a:lnTo>
                        <a:lnTo>
                          <a:pt x="65" y="116"/>
                        </a:lnTo>
                        <a:lnTo>
                          <a:pt x="65" y="87"/>
                        </a:lnTo>
                        <a:lnTo>
                          <a:pt x="67" y="71"/>
                        </a:lnTo>
                        <a:lnTo>
                          <a:pt x="59" y="64"/>
                        </a:lnTo>
                        <a:lnTo>
                          <a:pt x="74" y="68"/>
                        </a:lnTo>
                        <a:lnTo>
                          <a:pt x="86" y="72"/>
                        </a:lnTo>
                        <a:lnTo>
                          <a:pt x="96" y="74"/>
                        </a:lnTo>
                        <a:lnTo>
                          <a:pt x="114" y="77"/>
                        </a:lnTo>
                        <a:lnTo>
                          <a:pt x="127" y="81"/>
                        </a:lnTo>
                        <a:lnTo>
                          <a:pt x="110" y="72"/>
                        </a:lnTo>
                        <a:lnTo>
                          <a:pt x="120" y="72"/>
                        </a:lnTo>
                        <a:lnTo>
                          <a:pt x="143" y="72"/>
                        </a:lnTo>
                        <a:lnTo>
                          <a:pt x="161" y="70"/>
                        </a:lnTo>
                        <a:lnTo>
                          <a:pt x="182" y="71"/>
                        </a:lnTo>
                        <a:lnTo>
                          <a:pt x="188" y="85"/>
                        </a:lnTo>
                        <a:lnTo>
                          <a:pt x="191" y="103"/>
                        </a:lnTo>
                        <a:lnTo>
                          <a:pt x="195" y="81"/>
                        </a:lnTo>
                        <a:lnTo>
                          <a:pt x="201" y="57"/>
                        </a:lnTo>
                        <a:lnTo>
                          <a:pt x="191" y="39"/>
                        </a:lnTo>
                        <a:lnTo>
                          <a:pt x="179" y="28"/>
                        </a:lnTo>
                        <a:lnTo>
                          <a:pt x="165" y="19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1" name=""/>
              <p:cNvGrpSpPr/>
              <p:nvPr/>
            </p:nvGrpSpPr>
            <p:grpSpPr>
              <a:xfrm>
                <a:off x="1933560" y="4010400"/>
                <a:ext cx="398520" cy="1551240"/>
                <a:chOff x="1933560" y="4010400"/>
                <a:chExt cx="398520" cy="155124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2036160" y="4010400"/>
                  <a:ext cx="211680" cy="371880"/>
                  <a:chOff x="2036160" y="4010400"/>
                  <a:chExt cx="211680" cy="3718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2036160" y="4010400"/>
                    <a:ext cx="2116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89">
                        <a:moveTo>
                          <a:pt x="141" y="5"/>
                        </a:moveTo>
                        <a:lnTo>
                          <a:pt x="175" y="17"/>
                        </a:lnTo>
                        <a:lnTo>
                          <a:pt x="194" y="31"/>
                        </a:lnTo>
                        <a:lnTo>
                          <a:pt x="207" y="52"/>
                        </a:lnTo>
                        <a:lnTo>
                          <a:pt x="220" y="92"/>
                        </a:lnTo>
                        <a:lnTo>
                          <a:pt x="235" y="151"/>
                        </a:lnTo>
                        <a:lnTo>
                          <a:pt x="243" y="203"/>
                        </a:lnTo>
                        <a:lnTo>
                          <a:pt x="242" y="226"/>
                        </a:lnTo>
                        <a:lnTo>
                          <a:pt x="238" y="248"/>
                        </a:lnTo>
                        <a:lnTo>
                          <a:pt x="235" y="284"/>
                        </a:lnTo>
                        <a:lnTo>
                          <a:pt x="225" y="283"/>
                        </a:lnTo>
                        <a:lnTo>
                          <a:pt x="210" y="279"/>
                        </a:lnTo>
                        <a:lnTo>
                          <a:pt x="194" y="280"/>
                        </a:lnTo>
                        <a:lnTo>
                          <a:pt x="172" y="286"/>
                        </a:lnTo>
                        <a:lnTo>
                          <a:pt x="159" y="287"/>
                        </a:lnTo>
                        <a:lnTo>
                          <a:pt x="159" y="268"/>
                        </a:lnTo>
                        <a:lnTo>
                          <a:pt x="177" y="228"/>
                        </a:lnTo>
                        <a:lnTo>
                          <a:pt x="181" y="164"/>
                        </a:lnTo>
                        <a:lnTo>
                          <a:pt x="177" y="107"/>
                        </a:lnTo>
                        <a:lnTo>
                          <a:pt x="144" y="70"/>
                        </a:lnTo>
                        <a:lnTo>
                          <a:pt x="86" y="65"/>
                        </a:lnTo>
                        <a:lnTo>
                          <a:pt x="58" y="101"/>
                        </a:lnTo>
                        <a:lnTo>
                          <a:pt x="61" y="222"/>
                        </a:lnTo>
                        <a:lnTo>
                          <a:pt x="86" y="270"/>
                        </a:lnTo>
                        <a:lnTo>
                          <a:pt x="86" y="286"/>
                        </a:lnTo>
                        <a:lnTo>
                          <a:pt x="71" y="286"/>
                        </a:lnTo>
                        <a:lnTo>
                          <a:pt x="54" y="283"/>
                        </a:lnTo>
                        <a:lnTo>
                          <a:pt x="38" y="281"/>
                        </a:lnTo>
                        <a:lnTo>
                          <a:pt x="19" y="289"/>
                        </a:lnTo>
                        <a:lnTo>
                          <a:pt x="16" y="268"/>
                        </a:lnTo>
                        <a:lnTo>
                          <a:pt x="6" y="239"/>
                        </a:lnTo>
                        <a:lnTo>
                          <a:pt x="2" y="212"/>
                        </a:lnTo>
                        <a:lnTo>
                          <a:pt x="0" y="190"/>
                        </a:lnTo>
                        <a:lnTo>
                          <a:pt x="2" y="164"/>
                        </a:lnTo>
                        <a:lnTo>
                          <a:pt x="6" y="146"/>
                        </a:lnTo>
                        <a:lnTo>
                          <a:pt x="12" y="125"/>
                        </a:lnTo>
                        <a:lnTo>
                          <a:pt x="16" y="105"/>
                        </a:lnTo>
                        <a:lnTo>
                          <a:pt x="16" y="91"/>
                        </a:lnTo>
                        <a:lnTo>
                          <a:pt x="21" y="69"/>
                        </a:lnTo>
                        <a:lnTo>
                          <a:pt x="26" y="43"/>
                        </a:lnTo>
                        <a:lnTo>
                          <a:pt x="51" y="20"/>
                        </a:lnTo>
                        <a:lnTo>
                          <a:pt x="68" y="5"/>
                        </a:lnTo>
                        <a:lnTo>
                          <a:pt x="94" y="0"/>
                        </a:lnTo>
                        <a:lnTo>
                          <a:pt x="118" y="0"/>
                        </a:lnTo>
                        <a:lnTo>
                          <a:pt x="141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051640" y="4048200"/>
                    <a:ext cx="173160" cy="33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459">
                        <a:moveTo>
                          <a:pt x="123" y="4"/>
                        </a:moveTo>
                        <a:lnTo>
                          <a:pt x="137" y="11"/>
                        </a:lnTo>
                        <a:lnTo>
                          <a:pt x="150" y="21"/>
                        </a:lnTo>
                        <a:lnTo>
                          <a:pt x="160" y="37"/>
                        </a:lnTo>
                        <a:lnTo>
                          <a:pt x="163" y="55"/>
                        </a:lnTo>
                        <a:lnTo>
                          <a:pt x="168" y="111"/>
                        </a:lnTo>
                        <a:lnTo>
                          <a:pt x="168" y="134"/>
                        </a:lnTo>
                        <a:lnTo>
                          <a:pt x="162" y="172"/>
                        </a:lnTo>
                        <a:lnTo>
                          <a:pt x="154" y="192"/>
                        </a:lnTo>
                        <a:lnTo>
                          <a:pt x="141" y="218"/>
                        </a:lnTo>
                        <a:lnTo>
                          <a:pt x="141" y="287"/>
                        </a:lnTo>
                        <a:lnTo>
                          <a:pt x="199" y="325"/>
                        </a:lnTo>
                        <a:lnTo>
                          <a:pt x="95" y="459"/>
                        </a:lnTo>
                        <a:lnTo>
                          <a:pt x="0" y="316"/>
                        </a:lnTo>
                        <a:lnTo>
                          <a:pt x="68" y="273"/>
                        </a:lnTo>
                        <a:lnTo>
                          <a:pt x="68" y="219"/>
                        </a:lnTo>
                        <a:lnTo>
                          <a:pt x="50" y="192"/>
                        </a:lnTo>
                        <a:lnTo>
                          <a:pt x="42" y="173"/>
                        </a:lnTo>
                        <a:lnTo>
                          <a:pt x="37" y="150"/>
                        </a:lnTo>
                        <a:lnTo>
                          <a:pt x="36" y="122"/>
                        </a:lnTo>
                        <a:lnTo>
                          <a:pt x="36" y="104"/>
                        </a:lnTo>
                        <a:lnTo>
                          <a:pt x="36" y="75"/>
                        </a:lnTo>
                        <a:lnTo>
                          <a:pt x="36" y="56"/>
                        </a:lnTo>
                        <a:lnTo>
                          <a:pt x="40" y="36"/>
                        </a:lnTo>
                        <a:lnTo>
                          <a:pt x="52" y="18"/>
                        </a:lnTo>
                        <a:lnTo>
                          <a:pt x="68" y="7"/>
                        </a:lnTo>
                        <a:lnTo>
                          <a:pt x="82" y="1"/>
                        </a:lnTo>
                        <a:lnTo>
                          <a:pt x="101" y="0"/>
                        </a:lnTo>
                        <a:lnTo>
                          <a:pt x="123" y="4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1941120" y="4757760"/>
                  <a:ext cx="327960" cy="735840"/>
                  <a:chOff x="1941120" y="4757760"/>
                  <a:chExt cx="327960" cy="735840"/>
                </a:xfrm>
              </p:grpSpPr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1941120" y="4757760"/>
                    <a:ext cx="327960" cy="735840"/>
                    <a:chOff x="1941120" y="4757760"/>
                    <a:chExt cx="327960" cy="73584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2034000" y="4917240"/>
                      <a:ext cx="235080" cy="57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792">
                          <a:moveTo>
                            <a:pt x="221" y="17"/>
                          </a:moveTo>
                          <a:lnTo>
                            <a:pt x="218" y="245"/>
                          </a:lnTo>
                          <a:lnTo>
                            <a:pt x="219" y="437"/>
                          </a:lnTo>
                          <a:lnTo>
                            <a:pt x="208" y="624"/>
                          </a:lnTo>
                          <a:lnTo>
                            <a:pt x="238" y="703"/>
                          </a:lnTo>
                          <a:lnTo>
                            <a:pt x="263" y="757"/>
                          </a:lnTo>
                          <a:lnTo>
                            <a:pt x="270" y="773"/>
                          </a:lnTo>
                          <a:lnTo>
                            <a:pt x="258" y="792"/>
                          </a:lnTo>
                          <a:lnTo>
                            <a:pt x="211" y="789"/>
                          </a:lnTo>
                          <a:lnTo>
                            <a:pt x="167" y="685"/>
                          </a:lnTo>
                          <a:lnTo>
                            <a:pt x="164" y="618"/>
                          </a:lnTo>
                          <a:lnTo>
                            <a:pt x="133" y="398"/>
                          </a:lnTo>
                          <a:lnTo>
                            <a:pt x="128" y="348"/>
                          </a:lnTo>
                          <a:lnTo>
                            <a:pt x="130" y="450"/>
                          </a:lnTo>
                          <a:lnTo>
                            <a:pt x="115" y="596"/>
                          </a:lnTo>
                          <a:lnTo>
                            <a:pt x="120" y="664"/>
                          </a:lnTo>
                          <a:lnTo>
                            <a:pt x="98" y="731"/>
                          </a:lnTo>
                          <a:lnTo>
                            <a:pt x="69" y="780"/>
                          </a:lnTo>
                          <a:lnTo>
                            <a:pt x="26" y="783"/>
                          </a:lnTo>
                          <a:lnTo>
                            <a:pt x="13" y="766"/>
                          </a:lnTo>
                          <a:lnTo>
                            <a:pt x="59" y="662"/>
                          </a:lnTo>
                          <a:lnTo>
                            <a:pt x="63" y="612"/>
                          </a:lnTo>
                          <a:lnTo>
                            <a:pt x="55" y="507"/>
                          </a:lnTo>
                          <a:lnTo>
                            <a:pt x="37" y="333"/>
                          </a:lnTo>
                          <a:lnTo>
                            <a:pt x="0" y="0"/>
                          </a:lnTo>
                          <a:lnTo>
                            <a:pt x="221" y="17"/>
                          </a:ln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941120" y="4757760"/>
                      <a:ext cx="547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00">
                          <a:moveTo>
                            <a:pt x="0" y="0"/>
                          </a:moveTo>
                          <a:lnTo>
                            <a:pt x="0" y="52"/>
                          </a:lnTo>
                          <a:lnTo>
                            <a:pt x="63" y="100"/>
                          </a:lnTo>
                          <a:lnTo>
                            <a:pt x="34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2129040" y="4922280"/>
                    <a:ext cx="208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1">
                        <a:moveTo>
                          <a:pt x="0" y="0"/>
                        </a:moveTo>
                        <a:lnTo>
                          <a:pt x="0" y="117"/>
                        </a:lnTo>
                        <a:lnTo>
                          <a:pt x="5" y="186"/>
                        </a:lnTo>
                        <a:lnTo>
                          <a:pt x="11" y="261"/>
                        </a:lnTo>
                        <a:lnTo>
                          <a:pt x="24" y="334"/>
                        </a:lnTo>
                        <a:lnTo>
                          <a:pt x="21" y="3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19080">
                    <a:solidFill>
                      <a:srgbClr val="ff5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2031840" y="5400000"/>
                  <a:ext cx="249480" cy="161640"/>
                  <a:chOff x="2031840" y="5400000"/>
                  <a:chExt cx="249480" cy="1616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2031840" y="5400000"/>
                    <a:ext cx="11304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10">
                        <a:moveTo>
                          <a:pt x="121" y="0"/>
                        </a:moveTo>
                        <a:lnTo>
                          <a:pt x="130" y="30"/>
                        </a:lnTo>
                        <a:lnTo>
                          <a:pt x="130" y="92"/>
                        </a:lnTo>
                        <a:lnTo>
                          <a:pt x="117" y="69"/>
                        </a:lnTo>
                        <a:lnTo>
                          <a:pt x="102" y="100"/>
                        </a:lnTo>
                        <a:lnTo>
                          <a:pt x="98" y="143"/>
                        </a:lnTo>
                        <a:lnTo>
                          <a:pt x="78" y="182"/>
                        </a:lnTo>
                        <a:lnTo>
                          <a:pt x="46" y="204"/>
                        </a:lnTo>
                        <a:lnTo>
                          <a:pt x="21" y="210"/>
                        </a:lnTo>
                        <a:lnTo>
                          <a:pt x="0" y="205"/>
                        </a:lnTo>
                        <a:lnTo>
                          <a:pt x="0" y="163"/>
                        </a:lnTo>
                        <a:lnTo>
                          <a:pt x="17" y="101"/>
                        </a:lnTo>
                        <a:lnTo>
                          <a:pt x="27" y="117"/>
                        </a:lnTo>
                        <a:lnTo>
                          <a:pt x="46" y="117"/>
                        </a:lnTo>
                        <a:lnTo>
                          <a:pt x="72" y="114"/>
                        </a:lnTo>
                        <a:lnTo>
                          <a:pt x="89" y="87"/>
                        </a:lnTo>
                        <a:lnTo>
                          <a:pt x="105" y="53"/>
                        </a:lnTo>
                        <a:lnTo>
                          <a:pt x="121" y="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176920" y="5402520"/>
                    <a:ext cx="1044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19">
                        <a:moveTo>
                          <a:pt x="2" y="0"/>
                        </a:moveTo>
                        <a:lnTo>
                          <a:pt x="0" y="86"/>
                        </a:lnTo>
                        <a:lnTo>
                          <a:pt x="8" y="64"/>
                        </a:lnTo>
                        <a:lnTo>
                          <a:pt x="18" y="91"/>
                        </a:lnTo>
                        <a:lnTo>
                          <a:pt x="26" y="133"/>
                        </a:lnTo>
                        <a:lnTo>
                          <a:pt x="37" y="168"/>
                        </a:lnTo>
                        <a:lnTo>
                          <a:pt x="61" y="195"/>
                        </a:lnTo>
                        <a:lnTo>
                          <a:pt x="83" y="211"/>
                        </a:lnTo>
                        <a:lnTo>
                          <a:pt x="104" y="219"/>
                        </a:lnTo>
                        <a:lnTo>
                          <a:pt x="112" y="207"/>
                        </a:lnTo>
                        <a:lnTo>
                          <a:pt x="119" y="187"/>
                        </a:lnTo>
                        <a:lnTo>
                          <a:pt x="120" y="165"/>
                        </a:lnTo>
                        <a:lnTo>
                          <a:pt x="117" y="143"/>
                        </a:lnTo>
                        <a:lnTo>
                          <a:pt x="107" y="106"/>
                        </a:lnTo>
                        <a:lnTo>
                          <a:pt x="90" y="119"/>
                        </a:lnTo>
                        <a:lnTo>
                          <a:pt x="64" y="119"/>
                        </a:lnTo>
                        <a:lnTo>
                          <a:pt x="47" y="117"/>
                        </a:lnTo>
                        <a:lnTo>
                          <a:pt x="15" y="4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3" name=""/>
                <p:cNvSpPr/>
                <p:nvPr/>
              </p:nvSpPr>
              <p:spPr>
                <a:xfrm>
                  <a:off x="1933560" y="4266720"/>
                  <a:ext cx="398520" cy="112680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330" y="16"/>
                      </a:moveTo>
                      <a:lnTo>
                        <a:pt x="419" y="67"/>
                      </a:lnTo>
                      <a:lnTo>
                        <a:pt x="442" y="109"/>
                      </a:lnTo>
                      <a:lnTo>
                        <a:pt x="458" y="464"/>
                      </a:lnTo>
                      <a:lnTo>
                        <a:pt x="451" y="550"/>
                      </a:lnTo>
                      <a:lnTo>
                        <a:pt x="397" y="542"/>
                      </a:lnTo>
                      <a:lnTo>
                        <a:pt x="400" y="753"/>
                      </a:lnTo>
                      <a:lnTo>
                        <a:pt x="374" y="753"/>
                      </a:lnTo>
                      <a:lnTo>
                        <a:pt x="343" y="1191"/>
                      </a:lnTo>
                      <a:lnTo>
                        <a:pt x="340" y="1423"/>
                      </a:lnTo>
                      <a:lnTo>
                        <a:pt x="335" y="1528"/>
                      </a:lnTo>
                      <a:lnTo>
                        <a:pt x="312" y="1548"/>
                      </a:lnTo>
                      <a:lnTo>
                        <a:pt x="273" y="1531"/>
                      </a:lnTo>
                      <a:lnTo>
                        <a:pt x="251" y="1352"/>
                      </a:lnTo>
                      <a:lnTo>
                        <a:pt x="236" y="1538"/>
                      </a:lnTo>
                      <a:lnTo>
                        <a:pt x="202" y="1547"/>
                      </a:lnTo>
                      <a:lnTo>
                        <a:pt x="172" y="1534"/>
                      </a:lnTo>
                      <a:lnTo>
                        <a:pt x="139" y="1181"/>
                      </a:lnTo>
                      <a:lnTo>
                        <a:pt x="98" y="924"/>
                      </a:lnTo>
                      <a:lnTo>
                        <a:pt x="36" y="685"/>
                      </a:lnTo>
                      <a:lnTo>
                        <a:pt x="0" y="681"/>
                      </a:lnTo>
                      <a:lnTo>
                        <a:pt x="33" y="351"/>
                      </a:lnTo>
                      <a:lnTo>
                        <a:pt x="35" y="93"/>
                      </a:lnTo>
                      <a:lnTo>
                        <a:pt x="55" y="64"/>
                      </a:lnTo>
                      <a:lnTo>
                        <a:pt x="150" y="0"/>
                      </a:lnTo>
                      <a:lnTo>
                        <a:pt x="231" y="139"/>
                      </a:lnTo>
                      <a:lnTo>
                        <a:pt x="330" y="16"/>
                      </a:ln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4" name=""/>
                <p:cNvGrpSpPr/>
                <p:nvPr/>
              </p:nvGrpSpPr>
              <p:grpSpPr>
                <a:xfrm>
                  <a:off x="2034360" y="4383720"/>
                  <a:ext cx="246240" cy="278640"/>
                  <a:chOff x="2034360" y="4383720"/>
                  <a:chExt cx="246240" cy="2786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2049840" y="4383720"/>
                    <a:ext cx="21132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89">
                        <a:moveTo>
                          <a:pt x="243" y="102"/>
                        </a:moveTo>
                        <a:lnTo>
                          <a:pt x="87" y="0"/>
                        </a:lnTo>
                        <a:lnTo>
                          <a:pt x="0" y="195"/>
                        </a:lnTo>
                        <a:lnTo>
                          <a:pt x="156" y="289"/>
                        </a:lnTo>
                        <a:lnTo>
                          <a:pt x="243" y="102"/>
                        </a:lnTo>
                        <a:close/>
                      </a:path>
                    </a:pathLst>
                  </a:custGeom>
                  <a:blipFill rotWithShape="0">
                    <a:blip r:embed="rId4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034360" y="4471560"/>
                    <a:ext cx="910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5">
                        <a:moveTo>
                          <a:pt x="105" y="95"/>
                        </a:moveTo>
                        <a:lnTo>
                          <a:pt x="79" y="72"/>
                        </a:lnTo>
                        <a:lnTo>
                          <a:pt x="65" y="26"/>
                        </a:lnTo>
                        <a:lnTo>
                          <a:pt x="44" y="12"/>
                        </a:lnTo>
                        <a:lnTo>
                          <a:pt x="34" y="0"/>
                        </a:lnTo>
                        <a:lnTo>
                          <a:pt x="27" y="4"/>
                        </a:lnTo>
                        <a:lnTo>
                          <a:pt x="26" y="16"/>
                        </a:lnTo>
                        <a:lnTo>
                          <a:pt x="5" y="38"/>
                        </a:lnTo>
                        <a:lnTo>
                          <a:pt x="0" y="77"/>
                        </a:lnTo>
                        <a:lnTo>
                          <a:pt x="5" y="104"/>
                        </a:lnTo>
                        <a:lnTo>
                          <a:pt x="36" y="135"/>
                        </a:lnTo>
                        <a:lnTo>
                          <a:pt x="95" y="155"/>
                        </a:lnTo>
                        <a:lnTo>
                          <a:pt x="105" y="95"/>
                        </a:lnTo>
                        <a:close/>
                      </a:path>
                    </a:pathLst>
                  </a:custGeom>
                  <a:blipFill rotWithShape="0">
                    <a:blip r:embed="rId4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109240" y="4537080"/>
                    <a:ext cx="1713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72">
                        <a:moveTo>
                          <a:pt x="197" y="172"/>
                        </a:moveTo>
                        <a:lnTo>
                          <a:pt x="117" y="141"/>
                        </a:lnTo>
                        <a:lnTo>
                          <a:pt x="57" y="107"/>
                        </a:lnTo>
                        <a:lnTo>
                          <a:pt x="0" y="73"/>
                        </a:lnTo>
                        <a:lnTo>
                          <a:pt x="22" y="0"/>
                        </a:lnTo>
                        <a:lnTo>
                          <a:pt x="126" y="47"/>
                        </a:lnTo>
                        <a:lnTo>
                          <a:pt x="188" y="69"/>
                        </a:lnTo>
                        <a:lnTo>
                          <a:pt x="191" y="58"/>
                        </a:lnTo>
                        <a:lnTo>
                          <a:pt x="197" y="172"/>
                        </a:lnTo>
                        <a:close/>
                      </a:path>
                    </a:pathLst>
                  </a:custGeom>
                  <a:blipFill rotWithShape="0">
                    <a:blip r:embed="rId4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8" name=""/>
                <p:cNvGrpSpPr/>
                <p:nvPr/>
              </p:nvGrpSpPr>
              <p:grpSpPr>
                <a:xfrm>
                  <a:off x="2097720" y="4578120"/>
                  <a:ext cx="174960" cy="680400"/>
                  <a:chOff x="2097720" y="4578120"/>
                  <a:chExt cx="174960" cy="680400"/>
                </a:xfrm>
              </p:grpSpPr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2097720" y="4578120"/>
                    <a:ext cx="174960" cy="236520"/>
                    <a:chOff x="2097720" y="4578120"/>
                    <a:chExt cx="174960" cy="23652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2097720" y="4578120"/>
                      <a:ext cx="1522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325">
                          <a:moveTo>
                            <a:pt x="175" y="325"/>
                          </a:moveTo>
                          <a:lnTo>
                            <a:pt x="5" y="30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2102040" y="4605840"/>
                      <a:ext cx="1706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82">
                          <a:moveTo>
                            <a:pt x="196" y="82"/>
                          </a:moveTo>
                          <a:lnTo>
                            <a:pt x="127" y="5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2128320" y="4849560"/>
                    <a:ext cx="2232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62">
                        <a:moveTo>
                          <a:pt x="0" y="0"/>
                        </a:moveTo>
                        <a:lnTo>
                          <a:pt x="9" y="302"/>
                        </a:lnTo>
                        <a:lnTo>
                          <a:pt x="26" y="562"/>
                        </a:lnTo>
                      </a:path>
                    </a:pathLst>
                  </a:custGeom>
                  <a:noFill/>
                  <a:ln w="1908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63" name="" descr=""/>
            <p:cNvPicPr/>
            <p:nvPr/>
          </p:nvPicPr>
          <p:blipFill>
            <a:blip r:embed="rId45"/>
            <a:stretch/>
          </p:blipFill>
          <p:spPr>
            <a:xfrm>
              <a:off x="609480" y="4021920"/>
              <a:ext cx="399600" cy="14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"/>
          <p:cNvSpPr/>
          <p:nvPr/>
        </p:nvSpPr>
        <p:spPr>
          <a:xfrm>
            <a:off x="1023120" y="3110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123520" y="32814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7200" y="5562720"/>
            <a:ext cx="31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e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opcioná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191120" y="510552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</a:t>
            </a:r>
            <a:r>
              <a:rPr b="1" lang="hu-HU" sz="2400" spc="-1" strike="noStrike">
                <a:solidFill>
                  <a:srgbClr val="18d1ea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kötelező,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program</a:t>
            </a:r>
            <a:r>
              <a:rPr b="1" lang="hu-HU" sz="2400" spc="-1" strike="noStrike">
                <a:solidFill>
                  <a:srgbClr val="18d1ea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nem távolítható el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géprő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6600" y="20016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D kettős fastruktúráj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143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174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205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i módoza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415360" cy="4262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ublikálás (Published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ublikált alkalmazások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sak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felhasználókhoz rendelhetők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gépekhez n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ublikált alkalmazások nem kötelező érvényűe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ről a felhasználó dö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lepítési módozatok lehetséges száma tehát 2+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666880" y="817560"/>
            <a:ext cx="2165400" cy="585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96440" y="96696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Publis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13200" y="825480"/>
            <a:ext cx="2167200" cy="56664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408640" y="851040"/>
            <a:ext cx="6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s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440680" y="1082520"/>
            <a:ext cx="56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(Use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3589200"/>
            <a:ext cx="266688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54280" y="2552760"/>
            <a:ext cx="21654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12320" y="2798640"/>
            <a:ext cx="154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/Remov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13200" y="2552760"/>
            <a:ext cx="21672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6920" y="2666880"/>
            <a:ext cx="2111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Men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kto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/Remov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Pr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4748040"/>
            <a:ext cx="266688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54280" y="4748040"/>
            <a:ext cx="21654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03680" y="5135400"/>
            <a:ext cx="190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13200" y="4748040"/>
            <a:ext cx="21672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1392120"/>
            <a:ext cx="266688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8760" y="1566720"/>
            <a:ext cx="2419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hirdetés után mikor áll rendelkezésre ?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654280" y="3589200"/>
            <a:ext cx="21654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27840" y="4000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13200" y="3589200"/>
            <a:ext cx="21672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32920" y="40194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2552760"/>
            <a:ext cx="265572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54280" y="1392120"/>
            <a:ext cx="21654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91240" y="1663560"/>
            <a:ext cx="1559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13200" y="1392120"/>
            <a:ext cx="21672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04080" y="1687680"/>
            <a:ext cx="1559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78600" y="4748040"/>
            <a:ext cx="21654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56440" y="4970520"/>
            <a:ext cx="198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ak a local 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978600" y="3589200"/>
            <a:ext cx="21654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269120" y="3733920"/>
            <a:ext cx="1468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oftver már telepítve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78600" y="2552760"/>
            <a:ext cx="21654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203960" y="2697120"/>
            <a:ext cx="1619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oftver már telepítve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978600" y="819000"/>
            <a:ext cx="2165400" cy="5731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73680" y="851040"/>
            <a:ext cx="6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s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327800" y="1089000"/>
            <a:ext cx="108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(Compute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78600" y="1392120"/>
            <a:ext cx="21654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57880" y="1697040"/>
            <a:ext cx="158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épind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8760" y="2741760"/>
            <a:ext cx="236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nnét kerül telepítés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8760" y="3776760"/>
            <a:ext cx="2552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kumentum aktiváláson keresztül telepíthet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048280"/>
            <a:ext cx="260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távolíthatja a felhasználó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970520" y="5181480"/>
            <a:ext cx="187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65040" y="185400"/>
            <a:ext cx="843120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Assigning </a:t>
            </a: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vs</a:t>
            </a: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 Publishing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812080" cy="1250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7315560" y="1752480"/>
            <a:ext cx="1675800" cy="2958120"/>
            <a:chOff x="7315560" y="1752480"/>
            <a:chExt cx="1675800" cy="2958120"/>
          </a:xfrm>
        </p:grpSpPr>
        <p:grpSp>
          <p:nvGrpSpPr>
            <p:cNvPr id="1113" name=""/>
            <p:cNvGrpSpPr/>
            <p:nvPr/>
          </p:nvGrpSpPr>
          <p:grpSpPr>
            <a:xfrm>
              <a:off x="7315560" y="1752480"/>
              <a:ext cx="1523880" cy="1357920"/>
              <a:chOff x="7315560" y="1752480"/>
              <a:chExt cx="1523880" cy="135792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7703280" y="1752480"/>
                <a:ext cx="1136160" cy="1069200"/>
                <a:chOff x="7703280" y="1752480"/>
                <a:chExt cx="1136160" cy="10692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>
                  <a:off x="7703280" y="25207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>
                  <a:off x="7703280" y="25207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>
                  <a:off x="8137440" y="17524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8137440" y="17524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>
                  <a:off x="8484480" y="19317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>
                  <a:off x="7901640" y="25286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7901640" y="25286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7760520" y="18856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7854120" y="19728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7895160" y="20109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7720560" y="25524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8262000" y="21445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7760160" y="17841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315560" y="2661840"/>
                <a:ext cx="1114200" cy="448560"/>
                <a:chOff x="7315560" y="2661840"/>
                <a:chExt cx="1114200" cy="448560"/>
              </a:xfrm>
            </p:grpSpPr>
            <p:sp>
              <p:nvSpPr>
                <p:cNvPr id="1129" name=""/>
                <p:cNvSpPr/>
                <p:nvPr/>
              </p:nvSpPr>
              <p:spPr>
                <a:xfrm flipH="1">
                  <a:off x="7315200" y="28346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315200" y="28346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7315560" y="26618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687080" y="27266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647480" y="27950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>
                  <a:off x="7596720" y="27615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7529760" y="28202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7400160" y="27298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7" name=""/>
            <p:cNvGrpSpPr/>
            <p:nvPr/>
          </p:nvGrpSpPr>
          <p:grpSpPr>
            <a:xfrm>
              <a:off x="7467480" y="2438280"/>
              <a:ext cx="1523880" cy="1357920"/>
              <a:chOff x="7467480" y="2438280"/>
              <a:chExt cx="1523880" cy="135792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7855200" y="2438280"/>
                <a:ext cx="1136160" cy="1069200"/>
                <a:chOff x="7855200" y="2438280"/>
                <a:chExt cx="1136160" cy="1069200"/>
              </a:xfrm>
            </p:grpSpPr>
            <p:sp>
              <p:nvSpPr>
                <p:cNvPr id="1139" name=""/>
                <p:cNvSpPr/>
                <p:nvPr/>
              </p:nvSpPr>
              <p:spPr>
                <a:xfrm flipH="1">
                  <a:off x="7855200" y="32065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7855200" y="32065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8289360" y="24382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8289360" y="24382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8636400" y="26175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8053560" y="32144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H="1">
                  <a:off x="8053560" y="32144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7912440" y="25714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8006040" y="26586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8047080" y="26967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7872480" y="32382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8413920" y="28303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7912080" y="24699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7467480" y="3347640"/>
                <a:ext cx="1114200" cy="448560"/>
                <a:chOff x="7467480" y="3347640"/>
                <a:chExt cx="1114200" cy="448560"/>
              </a:xfrm>
            </p:grpSpPr>
            <p:sp>
              <p:nvSpPr>
                <p:cNvPr id="1153" name=""/>
                <p:cNvSpPr/>
                <p:nvPr/>
              </p:nvSpPr>
              <p:spPr>
                <a:xfrm flipH="1">
                  <a:off x="7467120" y="35204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7467120" y="35204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>
                  <a:off x="7467480" y="33476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7839000" y="34124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7799400" y="34808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7748640" y="34473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7681680" y="35060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7552080" y="34156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1" name=""/>
            <p:cNvGrpSpPr/>
            <p:nvPr/>
          </p:nvGrpSpPr>
          <p:grpSpPr>
            <a:xfrm>
              <a:off x="7467480" y="3352680"/>
              <a:ext cx="1523880" cy="1357920"/>
              <a:chOff x="7467480" y="3352680"/>
              <a:chExt cx="1523880" cy="13579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7855200" y="3352680"/>
                <a:ext cx="1136160" cy="1069200"/>
                <a:chOff x="7855200" y="3352680"/>
                <a:chExt cx="1136160" cy="1069200"/>
              </a:xfrm>
            </p:grpSpPr>
            <p:sp>
              <p:nvSpPr>
                <p:cNvPr id="1163" name=""/>
                <p:cNvSpPr/>
                <p:nvPr/>
              </p:nvSpPr>
              <p:spPr>
                <a:xfrm flipH="1">
                  <a:off x="7855200" y="41209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7855200" y="41209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8289360" y="33526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8289360" y="33526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8636400" y="35319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8053560" y="41288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8053560" y="41288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>
                  <a:off x="7912440" y="34858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>
                  <a:off x="8006040" y="35730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>
                  <a:off x="8047080" y="36111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872480" y="41526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8413920" y="37447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912080" y="33843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7467480" y="4262040"/>
                <a:ext cx="1114200" cy="448560"/>
                <a:chOff x="7467480" y="4262040"/>
                <a:chExt cx="1114200" cy="448560"/>
              </a:xfrm>
            </p:grpSpPr>
            <p:sp>
              <p:nvSpPr>
                <p:cNvPr id="1177" name=""/>
                <p:cNvSpPr/>
                <p:nvPr/>
              </p:nvSpPr>
              <p:spPr>
                <a:xfrm flipH="1">
                  <a:off x="7467120" y="44348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>
                  <a:off x="7467120" y="44348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H="1">
                  <a:off x="7467480" y="42620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7839000" y="43268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7799400" y="43952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>
                  <a:off x="7748640" y="43617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>
                  <a:off x="7681680" y="4420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7552080" y="43300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5" name=""/>
          <p:cNvGrpSpPr/>
          <p:nvPr/>
        </p:nvGrpSpPr>
        <p:grpSpPr>
          <a:xfrm>
            <a:off x="3216240" y="2461680"/>
            <a:ext cx="2683800" cy="1610280"/>
            <a:chOff x="3216240" y="2461680"/>
            <a:chExt cx="2683800" cy="1610280"/>
          </a:xfrm>
        </p:grpSpPr>
        <p:grpSp>
          <p:nvGrpSpPr>
            <p:cNvPr id="1186" name=""/>
            <p:cNvGrpSpPr/>
            <p:nvPr/>
          </p:nvGrpSpPr>
          <p:grpSpPr>
            <a:xfrm>
              <a:off x="3216240" y="2461680"/>
              <a:ext cx="2683800" cy="1610280"/>
              <a:chOff x="3216240" y="2461680"/>
              <a:chExt cx="2683800" cy="1610280"/>
            </a:xfrm>
          </p:grpSpPr>
          <p:sp>
            <p:nvSpPr>
              <p:cNvPr id="1187" name=""/>
              <p:cNvSpPr/>
              <p:nvPr/>
            </p:nvSpPr>
            <p:spPr>
              <a:xfrm rot="20700000">
                <a:off x="4413960" y="3660120"/>
                <a:ext cx="416880" cy="3128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20700000">
                <a:off x="4083480" y="2514240"/>
                <a:ext cx="420840" cy="31392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20700000">
                <a:off x="3518640" y="2734560"/>
                <a:ext cx="253800" cy="19152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20700000">
                <a:off x="3566520" y="3499200"/>
                <a:ext cx="252000" cy="1839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20700000">
                <a:off x="3333240" y="3220920"/>
                <a:ext cx="417960" cy="3052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20700000">
                <a:off x="3760200" y="2594160"/>
                <a:ext cx="418320" cy="3110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20700000">
                <a:off x="5444640" y="3335400"/>
                <a:ext cx="422280" cy="3117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20700000">
                <a:off x="5136120" y="3475800"/>
                <a:ext cx="423720" cy="3189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"/>
              <p:cNvGrpSpPr/>
              <p:nvPr/>
            </p:nvGrpSpPr>
            <p:grpSpPr>
              <a:xfrm>
                <a:off x="3216240" y="2461680"/>
                <a:ext cx="2642400" cy="1610280"/>
                <a:chOff x="3216240" y="2461680"/>
                <a:chExt cx="2642400" cy="1610280"/>
              </a:xfrm>
            </p:grpSpPr>
            <p:sp>
              <p:nvSpPr>
                <p:cNvPr id="1196" name=""/>
                <p:cNvSpPr/>
                <p:nvPr/>
              </p:nvSpPr>
              <p:spPr>
                <a:xfrm rot="20700000">
                  <a:off x="3276360" y="2868480"/>
                  <a:ext cx="753840" cy="5659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7" name=""/>
                <p:cNvGrpSpPr/>
                <p:nvPr/>
              </p:nvGrpSpPr>
              <p:grpSpPr>
                <a:xfrm>
                  <a:off x="3496320" y="2679480"/>
                  <a:ext cx="1646280" cy="1392480"/>
                  <a:chOff x="3496320" y="2679480"/>
                  <a:chExt cx="1646280" cy="139248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rot="20700000">
                    <a:off x="3609360" y="2845080"/>
                    <a:ext cx="1420200" cy="10609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549600" y="3104640"/>
                    <a:ext cx="22140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70">
                        <a:moveTo>
                          <a:pt x="122" y="0"/>
                        </a:moveTo>
                        <a:lnTo>
                          <a:pt x="0" y="264"/>
                        </a:lnTo>
                        <a:lnTo>
                          <a:pt x="90" y="269"/>
                        </a:lnTo>
                        <a:lnTo>
                          <a:pt x="158" y="11"/>
                        </a:lnTo>
                        <a:lnTo>
                          <a:pt x="122" y="0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0" name=""/>
                <p:cNvSpPr/>
                <p:nvPr/>
              </p:nvSpPr>
              <p:spPr>
                <a:xfrm rot="20700000">
                  <a:off x="4129920" y="2838960"/>
                  <a:ext cx="1421640" cy="10609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rot="20700000">
                  <a:off x="5310720" y="2838960"/>
                  <a:ext cx="507240" cy="3790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20700000">
                  <a:off x="5296680" y="3443040"/>
                  <a:ext cx="334800" cy="2563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20700000">
                  <a:off x="5106600" y="2784240"/>
                  <a:ext cx="335520" cy="2462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rot="20700000">
                  <a:off x="5301720" y="3104280"/>
                  <a:ext cx="508680" cy="3754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rot="20700000">
                  <a:off x="3645720" y="2648880"/>
                  <a:ext cx="757080" cy="562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rot="20700000">
                  <a:off x="4407120" y="2588760"/>
                  <a:ext cx="757080" cy="562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rot="20700000">
                  <a:off x="4047480" y="2549880"/>
                  <a:ext cx="757080" cy="5648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20700000">
                  <a:off x="3997440" y="3270960"/>
                  <a:ext cx="750960" cy="5648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733560" y="2660040"/>
                  <a:ext cx="1890360" cy="1154520"/>
                </a:xfrm>
                <a:custGeom>
                  <a:avLst/>
                  <a:gdLst/>
                  <a:ahLst/>
                  <a:rect l="l" t="t" r="r" b="b"/>
                  <a:pathLst>
                    <a:path w="1356" h="1036">
                      <a:moveTo>
                        <a:pt x="222" y="64"/>
                      </a:moveTo>
                      <a:lnTo>
                        <a:pt x="487" y="119"/>
                      </a:lnTo>
                      <a:lnTo>
                        <a:pt x="762" y="0"/>
                      </a:lnTo>
                      <a:lnTo>
                        <a:pt x="1000" y="193"/>
                      </a:lnTo>
                      <a:lnTo>
                        <a:pt x="1052" y="195"/>
                      </a:lnTo>
                      <a:lnTo>
                        <a:pt x="1197" y="235"/>
                      </a:lnTo>
                      <a:lnTo>
                        <a:pt x="1245" y="288"/>
                      </a:lnTo>
                      <a:lnTo>
                        <a:pt x="1355" y="379"/>
                      </a:lnTo>
                      <a:lnTo>
                        <a:pt x="1349" y="419"/>
                      </a:lnTo>
                      <a:lnTo>
                        <a:pt x="1229" y="819"/>
                      </a:lnTo>
                      <a:lnTo>
                        <a:pt x="1102" y="903"/>
                      </a:lnTo>
                      <a:lnTo>
                        <a:pt x="644" y="1006"/>
                      </a:lnTo>
                      <a:lnTo>
                        <a:pt x="598" y="961"/>
                      </a:lnTo>
                      <a:lnTo>
                        <a:pt x="288" y="992"/>
                      </a:lnTo>
                      <a:lnTo>
                        <a:pt x="238" y="1035"/>
                      </a:lnTo>
                      <a:lnTo>
                        <a:pt x="0" y="510"/>
                      </a:lnTo>
                      <a:lnTo>
                        <a:pt x="222" y="6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0" name=""/>
            <p:cNvSpPr/>
            <p:nvPr/>
          </p:nvSpPr>
          <p:spPr>
            <a:xfrm>
              <a:off x="3733920" y="2750400"/>
              <a:ext cx="1600200" cy="103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84240" bIns="84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3389400"/>
                  <a:tab algn="l" pos="6778800"/>
                  <a:tab algn="l" pos="10167840"/>
                </a:tabLst>
              </a:pPr>
              <a:r>
                <a:rPr b="1" lang="hu-HU" sz="1900" spc="-1" strike="noStrike">
                  <a:solidFill>
                    <a:srgbClr val="000099"/>
                  </a:solidFill>
                  <a:latin typeface="Arial"/>
                </a:rPr>
                <a:t>Windows 2000 hálóza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2209680" y="3352680"/>
            <a:ext cx="9907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19920" y="3276720"/>
            <a:ext cx="144756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2004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43600" y="2133720"/>
            <a:ext cx="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28960" y="2438280"/>
            <a:ext cx="1625400" cy="2066400"/>
            <a:chOff x="228960" y="2438280"/>
            <a:chExt cx="1625400" cy="2066400"/>
          </a:xfrm>
        </p:grpSpPr>
        <p:grpSp>
          <p:nvGrpSpPr>
            <p:cNvPr id="1216" name=""/>
            <p:cNvGrpSpPr/>
            <p:nvPr/>
          </p:nvGrpSpPr>
          <p:grpSpPr>
            <a:xfrm>
              <a:off x="312480" y="2438280"/>
              <a:ext cx="983880" cy="1639080"/>
              <a:chOff x="312480" y="2438280"/>
              <a:chExt cx="983880" cy="163908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752040" y="2538360"/>
                <a:ext cx="543960" cy="15390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18240" y="2686320"/>
                <a:ext cx="435240" cy="139104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3680" y="3852000"/>
                <a:ext cx="30348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374760" y="2939760"/>
                <a:ext cx="309600" cy="5803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79440" y="3067920"/>
                <a:ext cx="30060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79800" y="3196080"/>
                <a:ext cx="30204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79440" y="3311280"/>
                <a:ext cx="29736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15440" y="30103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15440" y="313884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15440" y="326700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15440" y="33919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584280" y="2888640"/>
                <a:ext cx="54360" cy="360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461880" y="3007080"/>
                <a:ext cx="116280" cy="6552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461880" y="312516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461880" y="325368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461880" y="337860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3680" y="379116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3680" y="373032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312120" y="2438280"/>
                <a:ext cx="983880" cy="36324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71840" y="3153240"/>
              <a:ext cx="1082520" cy="1107720"/>
              <a:chOff x="771840" y="3153240"/>
              <a:chExt cx="1082520" cy="1107720"/>
            </a:xfrm>
          </p:grpSpPr>
          <p:sp>
            <p:nvSpPr>
              <p:cNvPr id="1239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1515960" y="3339000"/>
                <a:ext cx="217440" cy="7689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825840" y="3291480"/>
                <a:ext cx="689400" cy="81684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915120" y="3381480"/>
                <a:ext cx="503640" cy="59832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955080" y="3421080"/>
                <a:ext cx="444240" cy="506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788400" y="3981960"/>
                <a:ext cx="999000" cy="23976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1303560" y="3559320"/>
                <a:ext cx="40680" cy="12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826200" y="3186360"/>
                <a:ext cx="907200" cy="27900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228960" y="4039920"/>
              <a:ext cx="1061640" cy="464760"/>
              <a:chOff x="228960" y="4039920"/>
              <a:chExt cx="1061640" cy="464760"/>
            </a:xfrm>
          </p:grpSpPr>
          <p:sp>
            <p:nvSpPr>
              <p:cNvPr id="1253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228960" y="4039920"/>
                <a:ext cx="1055160" cy="4255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582840" y="4107240"/>
                <a:ext cx="621000" cy="1936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545400" y="4178160"/>
                <a:ext cx="607320" cy="23796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497160" y="4143240"/>
                <a:ext cx="126720" cy="59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33440" y="4204080"/>
                <a:ext cx="110160" cy="57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309600" y="4110480"/>
                <a:ext cx="205200" cy="11664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1" name=""/>
          <p:cNvSpPr/>
          <p:nvPr/>
        </p:nvSpPr>
        <p:spPr>
          <a:xfrm>
            <a:off x="382680" y="4572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minisztrátor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59800" y="472428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áló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276720" y="15238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Ť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4360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3444480" y="1185840"/>
            <a:ext cx="5699160" cy="5180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endő alkalmazás testre szab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 konfigurálása az Active Directory-ba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endő csomag elhelyezése a szerv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i módszer meghatározás (hozzárendelt vagy publikál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okumentum aktiválás engedélyezése vagy tilt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ategorizálás a Programok hozzáadása ikon szám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209680" y="3352680"/>
            <a:ext cx="9907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004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28960" y="2438280"/>
            <a:ext cx="1625400" cy="2066400"/>
            <a:chOff x="228960" y="2438280"/>
            <a:chExt cx="1625400" cy="2066400"/>
          </a:xfrm>
        </p:grpSpPr>
        <p:grpSp>
          <p:nvGrpSpPr>
            <p:cNvPr id="1270" name=""/>
            <p:cNvGrpSpPr/>
            <p:nvPr/>
          </p:nvGrpSpPr>
          <p:grpSpPr>
            <a:xfrm>
              <a:off x="312480" y="2438280"/>
              <a:ext cx="983880" cy="1639080"/>
              <a:chOff x="312480" y="2438280"/>
              <a:chExt cx="983880" cy="1639080"/>
            </a:xfrm>
          </p:grpSpPr>
          <p:sp>
            <p:nvSpPr>
              <p:cNvPr id="1271" name=""/>
              <p:cNvSpPr/>
              <p:nvPr/>
            </p:nvSpPr>
            <p:spPr>
              <a:xfrm flipH="1">
                <a:off x="752040" y="2538360"/>
                <a:ext cx="543960" cy="15390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318240" y="2686320"/>
                <a:ext cx="435240" cy="139104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73680" y="3852000"/>
                <a:ext cx="30348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374760" y="2939760"/>
                <a:ext cx="309600" cy="5803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79440" y="3067920"/>
                <a:ext cx="30060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79800" y="3196080"/>
                <a:ext cx="30204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79440" y="3311280"/>
                <a:ext cx="29736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15440" y="30103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15440" y="313884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15440" y="326700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15440" y="33919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584280" y="2888640"/>
                <a:ext cx="54360" cy="360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461880" y="3007080"/>
                <a:ext cx="116280" cy="6552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61880" y="312516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461880" y="325368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461880" y="337860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73680" y="379116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73680" y="373032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312120" y="2438280"/>
                <a:ext cx="983880" cy="36324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771840" y="3153240"/>
              <a:ext cx="1082520" cy="1107720"/>
              <a:chOff x="771840" y="3153240"/>
              <a:chExt cx="1082520" cy="1107720"/>
            </a:xfrm>
          </p:grpSpPr>
          <p:sp>
            <p:nvSpPr>
              <p:cNvPr id="1293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1515960" y="3339000"/>
                <a:ext cx="217440" cy="7689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825840" y="3291480"/>
                <a:ext cx="689400" cy="81684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915120" y="3381480"/>
                <a:ext cx="503640" cy="59832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955080" y="3421080"/>
                <a:ext cx="444240" cy="506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788400" y="3981960"/>
                <a:ext cx="999000" cy="23976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1303560" y="3559320"/>
                <a:ext cx="40680" cy="12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826200" y="3186360"/>
                <a:ext cx="907200" cy="27900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28960" y="4039920"/>
              <a:ext cx="1061640" cy="464760"/>
              <a:chOff x="228960" y="4039920"/>
              <a:chExt cx="1061640" cy="464760"/>
            </a:xfrm>
          </p:grpSpPr>
          <p:sp>
            <p:nvSpPr>
              <p:cNvPr id="1307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28960" y="4039920"/>
                <a:ext cx="1055160" cy="4255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582840" y="4107240"/>
                <a:ext cx="621000" cy="1936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545400" y="4178160"/>
                <a:ext cx="607320" cy="23796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497160" y="4143240"/>
                <a:ext cx="126720" cy="59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3440" y="4204080"/>
                <a:ext cx="110160" cy="57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309600" y="4110480"/>
                <a:ext cx="205200" cy="11664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>
            <a:off x="382680" y="4572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minisztrátor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Első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ásodik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865680" y="1417680"/>
            <a:ext cx="5278320" cy="514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almazza a telepítési leírások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árolja a házirendben beállított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aramétereket, mely felhasználóknak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lletve gépeknek szól a csom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ájl szerver (DF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árolja a csomagokat (bináris állományo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2280" y="22096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70280" y="2765160"/>
            <a:ext cx="2680200" cy="1569240"/>
            <a:chOff x="170280" y="2765160"/>
            <a:chExt cx="2680200" cy="1569240"/>
          </a:xfrm>
        </p:grpSpPr>
        <p:grpSp>
          <p:nvGrpSpPr>
            <p:cNvPr id="1322" name=""/>
            <p:cNvGrpSpPr/>
            <p:nvPr/>
          </p:nvGrpSpPr>
          <p:grpSpPr>
            <a:xfrm>
              <a:off x="170280" y="2765160"/>
              <a:ext cx="2680200" cy="1569240"/>
              <a:chOff x="170280" y="2765160"/>
              <a:chExt cx="2680200" cy="1569240"/>
            </a:xfrm>
          </p:grpSpPr>
          <p:sp>
            <p:nvSpPr>
              <p:cNvPr id="1323" name=""/>
              <p:cNvSpPr/>
              <p:nvPr/>
            </p:nvSpPr>
            <p:spPr>
              <a:xfrm rot="20700000">
                <a:off x="1366200" y="3929760"/>
                <a:ext cx="416880" cy="3034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20700000">
                <a:off x="1035360" y="2819520"/>
                <a:ext cx="420840" cy="3045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20700000">
                <a:off x="470520" y="3033000"/>
                <a:ext cx="253800" cy="1857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20700000">
                <a:off x="518400" y="3774240"/>
                <a:ext cx="252000" cy="1782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0700000">
                <a:off x="285120" y="3503880"/>
                <a:ext cx="417960" cy="2962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20700000">
                <a:off x="711720" y="2896920"/>
                <a:ext cx="418320" cy="3016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20700000">
                <a:off x="2396160" y="3615480"/>
                <a:ext cx="422280" cy="3024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20700000">
                <a:off x="2088360" y="3751920"/>
                <a:ext cx="423720" cy="309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170280" y="2765160"/>
                <a:ext cx="2638440" cy="1569240"/>
                <a:chOff x="170280" y="2765160"/>
                <a:chExt cx="2638440" cy="1569240"/>
              </a:xfrm>
            </p:grpSpPr>
            <p:sp>
              <p:nvSpPr>
                <p:cNvPr id="1332" name=""/>
                <p:cNvSpPr/>
                <p:nvPr/>
              </p:nvSpPr>
              <p:spPr>
                <a:xfrm rot="20700000">
                  <a:off x="228240" y="3162600"/>
                  <a:ext cx="753840" cy="5486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52520" y="2973240"/>
                  <a:ext cx="1638000" cy="1361160"/>
                  <a:chOff x="452520" y="2973240"/>
                  <a:chExt cx="1638000" cy="136116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rot="20700000">
                    <a:off x="561240" y="3139200"/>
                    <a:ext cx="1420200" cy="10285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01480" y="3391200"/>
                    <a:ext cx="221400" cy="29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70">
                        <a:moveTo>
                          <a:pt x="122" y="0"/>
                        </a:moveTo>
                        <a:lnTo>
                          <a:pt x="0" y="264"/>
                        </a:lnTo>
                        <a:lnTo>
                          <a:pt x="90" y="269"/>
                        </a:lnTo>
                        <a:lnTo>
                          <a:pt x="158" y="11"/>
                        </a:lnTo>
                        <a:lnTo>
                          <a:pt x="122" y="0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6" name=""/>
                <p:cNvSpPr/>
                <p:nvPr/>
              </p:nvSpPr>
              <p:spPr>
                <a:xfrm rot="20700000">
                  <a:off x="1081800" y="3134520"/>
                  <a:ext cx="1421640" cy="10285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20700000">
                  <a:off x="2262240" y="3134520"/>
                  <a:ext cx="507240" cy="3672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20700000">
                  <a:off x="2248560" y="3719520"/>
                  <a:ext cx="334800" cy="248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20700000">
                  <a:off x="2058480" y="3081240"/>
                  <a:ext cx="335520" cy="238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20700000">
                  <a:off x="2253600" y="3391200"/>
                  <a:ext cx="508680" cy="3639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rot="20700000">
                  <a:off x="597600" y="2949480"/>
                  <a:ext cx="757080" cy="545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rot="20700000">
                  <a:off x="1359000" y="2891160"/>
                  <a:ext cx="757080" cy="545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20700000">
                  <a:off x="999360" y="2853360"/>
                  <a:ext cx="757080" cy="5475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20700000">
                  <a:off x="949320" y="3552480"/>
                  <a:ext cx="750960" cy="5475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85440" y="2960280"/>
                  <a:ext cx="1890360" cy="1119240"/>
                </a:xfrm>
                <a:custGeom>
                  <a:avLst/>
                  <a:gdLst/>
                  <a:ahLst/>
                  <a:rect l="l" t="t" r="r" b="b"/>
                  <a:pathLst>
                    <a:path w="1356" h="1036">
                      <a:moveTo>
                        <a:pt x="222" y="64"/>
                      </a:moveTo>
                      <a:lnTo>
                        <a:pt x="487" y="119"/>
                      </a:lnTo>
                      <a:lnTo>
                        <a:pt x="762" y="0"/>
                      </a:lnTo>
                      <a:lnTo>
                        <a:pt x="1000" y="193"/>
                      </a:lnTo>
                      <a:lnTo>
                        <a:pt x="1052" y="195"/>
                      </a:lnTo>
                      <a:lnTo>
                        <a:pt x="1197" y="235"/>
                      </a:lnTo>
                      <a:lnTo>
                        <a:pt x="1245" y="288"/>
                      </a:lnTo>
                      <a:lnTo>
                        <a:pt x="1355" y="379"/>
                      </a:lnTo>
                      <a:lnTo>
                        <a:pt x="1349" y="419"/>
                      </a:lnTo>
                      <a:lnTo>
                        <a:pt x="1229" y="819"/>
                      </a:lnTo>
                      <a:lnTo>
                        <a:pt x="1102" y="903"/>
                      </a:lnTo>
                      <a:lnTo>
                        <a:pt x="644" y="1006"/>
                      </a:lnTo>
                      <a:lnTo>
                        <a:pt x="598" y="961"/>
                      </a:lnTo>
                      <a:lnTo>
                        <a:pt x="288" y="992"/>
                      </a:lnTo>
                      <a:lnTo>
                        <a:pt x="238" y="1035"/>
                      </a:lnTo>
                      <a:lnTo>
                        <a:pt x="0" y="510"/>
                      </a:lnTo>
                      <a:lnTo>
                        <a:pt x="222" y="6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6" name=""/>
            <p:cNvSpPr/>
            <p:nvPr/>
          </p:nvSpPr>
          <p:spPr>
            <a:xfrm>
              <a:off x="685800" y="3048120"/>
              <a:ext cx="1600200" cy="103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84240" bIns="84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3389400"/>
                  <a:tab algn="l" pos="6778800"/>
                  <a:tab algn="l" pos="10167840"/>
                </a:tabLst>
              </a:pPr>
              <a:r>
                <a:rPr b="1" lang="hu-HU" sz="1900" spc="-1" strike="noStrike">
                  <a:solidFill>
                    <a:srgbClr val="000099"/>
                  </a:solidFill>
                  <a:latin typeface="Arial"/>
                </a:rPr>
                <a:t>Windows 2000 hálóza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3048120" y="2133720"/>
            <a:ext cx="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" y="18288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Ť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Harmadik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475160" y="1476000"/>
            <a:ext cx="4479840" cy="442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tölti és végrehajtja a hozzárendelt alkalmazások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gramok hozzáadása app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kérdezi az Active Directory-ból a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ublikált alkalmazások listájá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133360" y="2133720"/>
            <a:ext cx="1676160" cy="2958120"/>
            <a:chOff x="2133360" y="2133720"/>
            <a:chExt cx="1676160" cy="2958120"/>
          </a:xfrm>
        </p:grpSpPr>
        <p:grpSp>
          <p:nvGrpSpPr>
            <p:cNvPr id="1352" name=""/>
            <p:cNvGrpSpPr/>
            <p:nvPr/>
          </p:nvGrpSpPr>
          <p:grpSpPr>
            <a:xfrm>
              <a:off x="2133360" y="2133720"/>
              <a:ext cx="1523880" cy="1357920"/>
              <a:chOff x="2133360" y="2133720"/>
              <a:chExt cx="1523880" cy="135792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2521080" y="2133720"/>
                <a:ext cx="1136160" cy="1069200"/>
                <a:chOff x="2521080" y="2133720"/>
                <a:chExt cx="1136160" cy="106920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2521080" y="290196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>
                  <a:off x="2521080" y="290196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2955240" y="213372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2955240" y="213372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>
                  <a:off x="3302280" y="23130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2719440" y="29098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2719440" y="29098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2578320" y="226692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2671920" y="23540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712960" y="23922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538360" y="293364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>
                  <a:off x="3079800" y="25257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>
                  <a:off x="2577960" y="216540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133360" y="3043080"/>
                <a:ext cx="1114200" cy="448560"/>
                <a:chOff x="2133360" y="3043080"/>
                <a:chExt cx="1114200" cy="448560"/>
              </a:xfrm>
            </p:grpSpPr>
            <p:sp>
              <p:nvSpPr>
                <p:cNvPr id="1368" name=""/>
                <p:cNvSpPr/>
                <p:nvPr/>
              </p:nvSpPr>
              <p:spPr>
                <a:xfrm flipH="1">
                  <a:off x="2133000" y="321588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133000" y="321588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2133360" y="304308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504880" y="310788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2465280" y="317628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2414520" y="31428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>
                  <a:off x="2347560" y="32014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217960" y="31111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2286360" y="2819520"/>
              <a:ext cx="1523160" cy="1357920"/>
              <a:chOff x="2286360" y="2819520"/>
              <a:chExt cx="1523160" cy="135792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2673720" y="2819520"/>
                <a:ext cx="1135800" cy="1069200"/>
                <a:chOff x="2673720" y="2819520"/>
                <a:chExt cx="1135800" cy="1069200"/>
              </a:xfrm>
            </p:grpSpPr>
            <p:sp>
              <p:nvSpPr>
                <p:cNvPr id="1378" name=""/>
                <p:cNvSpPr/>
                <p:nvPr/>
              </p:nvSpPr>
              <p:spPr>
                <a:xfrm flipH="1">
                  <a:off x="2673360" y="35877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>
                  <a:off x="2673360" y="35877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>
                  <a:off x="3108240" y="28195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>
                  <a:off x="3108240" y="28195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454560" y="29988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>
                  <a:off x="2871720" y="35956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2871720" y="35956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2730600" y="2952720"/>
                  <a:ext cx="72324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>
                  <a:off x="2824200" y="30398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>
                  <a:off x="2865240" y="30780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2691360" y="3619440"/>
                  <a:ext cx="104832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3232080" y="32115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2730960" y="2851200"/>
                  <a:ext cx="95184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2286360" y="3728880"/>
                <a:ext cx="1113840" cy="448560"/>
                <a:chOff x="2286360" y="3728880"/>
                <a:chExt cx="1113840" cy="448560"/>
              </a:xfrm>
            </p:grpSpPr>
            <p:sp>
              <p:nvSpPr>
                <p:cNvPr id="1392" name=""/>
                <p:cNvSpPr/>
                <p:nvPr/>
              </p:nvSpPr>
              <p:spPr>
                <a:xfrm flipH="1">
                  <a:off x="2286360" y="39016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>
                  <a:off x="2286360" y="39016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>
                  <a:off x="2286720" y="3728880"/>
                  <a:ext cx="110736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2658240" y="3793680"/>
                  <a:ext cx="65160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2618640" y="3862080"/>
                  <a:ext cx="63720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>
                  <a:off x="2567520" y="38286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>
                  <a:off x="2500560" y="38872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>
                  <a:off x="2370960" y="37969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2286360" y="3733920"/>
              <a:ext cx="1523160" cy="1357920"/>
              <a:chOff x="2286360" y="3733920"/>
              <a:chExt cx="1523160" cy="13579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2673720" y="3733920"/>
                <a:ext cx="1135800" cy="1069200"/>
                <a:chOff x="2673720" y="3733920"/>
                <a:chExt cx="1135800" cy="1069200"/>
              </a:xfrm>
            </p:grpSpPr>
            <p:sp>
              <p:nvSpPr>
                <p:cNvPr id="1402" name=""/>
                <p:cNvSpPr/>
                <p:nvPr/>
              </p:nvSpPr>
              <p:spPr>
                <a:xfrm flipH="1">
                  <a:off x="2673360" y="45021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2673360" y="45021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3108240" y="37339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3108240" y="37339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>
                  <a:off x="3454560" y="39132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>
                  <a:off x="2871720" y="45100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>
                  <a:off x="2871720" y="45100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>
                  <a:off x="2730600" y="3867120"/>
                  <a:ext cx="72324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>
                  <a:off x="2824200" y="39542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2865240" y="39924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2691360" y="4533840"/>
                  <a:ext cx="104832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>
                  <a:off x="3232080" y="41259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2730960" y="3765600"/>
                  <a:ext cx="95184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2286360" y="4643280"/>
                <a:ext cx="1113840" cy="448560"/>
                <a:chOff x="2286360" y="4643280"/>
                <a:chExt cx="1113840" cy="448560"/>
              </a:xfrm>
            </p:grpSpPr>
            <p:sp>
              <p:nvSpPr>
                <p:cNvPr id="1416" name=""/>
                <p:cNvSpPr/>
                <p:nvPr/>
              </p:nvSpPr>
              <p:spPr>
                <a:xfrm flipH="1">
                  <a:off x="2286360" y="48160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2286360" y="48160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2286720" y="4643280"/>
                  <a:ext cx="110736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>
                  <a:off x="2658240" y="4708080"/>
                  <a:ext cx="65160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>
                  <a:off x="2618640" y="4776480"/>
                  <a:ext cx="63720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2567520" y="47430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>
                  <a:off x="2500560" y="48016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H="1">
                  <a:off x="2370960" y="47113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4" name=""/>
          <p:cNvSpPr/>
          <p:nvPr/>
        </p:nvSpPr>
        <p:spPr>
          <a:xfrm>
            <a:off x="838080" y="3733920"/>
            <a:ext cx="14479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24382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364120" y="525780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áló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62120" y="20574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ítés dokumentum aktiváláson keresztü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1600200"/>
            <a:ext cx="2133720" cy="762120"/>
          </a:xfrm>
          <a:prstGeom prst="flowChartProcess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használó kattint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dokumentum ikonjá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3124080"/>
            <a:ext cx="2133720" cy="160020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hozzárendelt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alkalmazás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telepítve v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19520" y="1752480"/>
            <a:ext cx="2209680" cy="205740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lkalmazás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finiálva a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terjesztéshe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53080" y="1727280"/>
            <a:ext cx="2210040" cy="213336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-12600" y="5678640"/>
            <a:ext cx="2133360" cy="685800"/>
          </a:xfrm>
          <a:prstGeom prst="flowChartTerminator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alkalmazás betöltődik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dokumentumm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4" name=""/>
          <p:cNvCxnSpPr>
            <a:stCxn id="1430" idx="3"/>
            <a:endCxn id="1431" idx="1"/>
          </p:cNvCxnSpPr>
          <p:nvPr/>
        </p:nvCxnSpPr>
        <p:spPr>
          <a:xfrm flipV="1">
            <a:off x="2152440" y="2780640"/>
            <a:ext cx="648360" cy="1143720"/>
          </a:xfrm>
          <a:prstGeom prst="bentConnector3">
            <a:avLst>
              <a:gd name="adj1" fmla="val 50000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stCxn id="1429" idx="2"/>
            <a:endCxn id="1430" idx="0"/>
          </p:cNvCxnSpPr>
          <p:nvPr/>
        </p:nvCxnSpPr>
        <p:spPr>
          <a:xfrm>
            <a:off x="1066320" y="2381400"/>
            <a:ext cx="1080" cy="724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30" idx="2"/>
            <a:endCxn id="1433" idx="0"/>
          </p:cNvCxnSpPr>
          <p:nvPr/>
        </p:nvCxnSpPr>
        <p:spPr>
          <a:xfrm flipH="1">
            <a:off x="1053360" y="4743000"/>
            <a:ext cx="13320" cy="916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37" name=""/>
          <p:cNvSpPr/>
          <p:nvPr/>
        </p:nvSpPr>
        <p:spPr>
          <a:xfrm>
            <a:off x="763200" y="4952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68760" y="5638680"/>
            <a:ext cx="2133720" cy="762120"/>
          </a:xfrm>
          <a:prstGeom prst="flowChartProcess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Windows install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lepíti az alkalmazá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105520" y="3962520"/>
            <a:ext cx="1295280" cy="1218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IBA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ÜZE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0" name=""/>
          <p:cNvCxnSpPr>
            <a:stCxn id="1431" idx="2"/>
            <a:endCxn id="1439" idx="1"/>
          </p:cNvCxnSpPr>
          <p:nvPr/>
        </p:nvCxnSpPr>
        <p:spPr>
          <a:xfrm flipH="1" rot="16200000">
            <a:off x="4142520" y="3609720"/>
            <a:ext cx="743760" cy="118188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32" idx="2"/>
            <a:endCxn id="1439" idx="3"/>
          </p:cNvCxnSpPr>
          <p:nvPr/>
        </p:nvCxnSpPr>
        <p:spPr>
          <a:xfrm rot="5400000">
            <a:off x="6682680" y="3596760"/>
            <a:ext cx="693000" cy="125820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32" idx="3"/>
            <a:endCxn id="1443" idx="3"/>
          </p:cNvCxnSpPr>
          <p:nvPr/>
        </p:nvCxnSpPr>
        <p:spPr>
          <a:xfrm flipH="1">
            <a:off x="8745120" y="2793600"/>
            <a:ext cx="37440" cy="3226680"/>
          </a:xfrm>
          <a:prstGeom prst="bentConnector3">
            <a:avLst>
              <a:gd name="adj1" fmla="val -573786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4" name=""/>
          <p:cNvCxnSpPr>
            <a:stCxn id="1438" idx="1"/>
            <a:endCxn id="1433" idx="3"/>
          </p:cNvCxnSpPr>
          <p:nvPr/>
        </p:nvCxnSpPr>
        <p:spPr>
          <a:xfrm flipH="1">
            <a:off x="2139480" y="6019920"/>
            <a:ext cx="151056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5" name=""/>
          <p:cNvCxnSpPr>
            <a:stCxn id="1431" idx="3"/>
            <a:endCxn id="1432" idx="1"/>
          </p:cNvCxnSpPr>
          <p:nvPr/>
        </p:nvCxnSpPr>
        <p:spPr>
          <a:xfrm>
            <a:off x="5047920" y="2781000"/>
            <a:ext cx="1486440" cy="13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46" name=""/>
          <p:cNvSpPr/>
          <p:nvPr/>
        </p:nvSpPr>
        <p:spPr>
          <a:xfrm>
            <a:off x="3659760" y="39625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135520" y="3429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487480" y="25146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29640" y="2362320"/>
            <a:ext cx="162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ozzárendeltük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gy publikáltuk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az alkalmazást a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használón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524800" y="44197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70720" y="5181480"/>
            <a:ext cx="2155680" cy="167652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656480" y="4572000"/>
            <a:ext cx="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393320" y="41148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393320" y="4724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4" name=""/>
          <p:cNvCxnSpPr>
            <a:stCxn id="1443" idx="1"/>
            <a:endCxn id="1438" idx="3"/>
          </p:cNvCxnSpPr>
          <p:nvPr/>
        </p:nvCxnSpPr>
        <p:spPr>
          <a:xfrm flipH="1">
            <a:off x="5820480" y="6019560"/>
            <a:ext cx="7311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55" name=""/>
          <p:cNvSpPr/>
          <p:nvPr/>
        </p:nvSpPr>
        <p:spPr>
          <a:xfrm>
            <a:off x="6854400" y="5791320"/>
            <a:ext cx="16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gedélyezett ez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ajta telepítési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óds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 korlát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Windows 2000-es ügyfelek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élválasztás nem leltár, hanem OU 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helés elosztást DFS biztosítja (most már replikál 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naplózás, nincs visszajel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időzítés, nincs tömörítés, nem veszi figyelembe a WAN specifik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S 2.0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s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w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200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1459" name=""/>
          <p:cNvGraphicFramePr/>
          <p:nvPr/>
        </p:nvGraphicFramePr>
        <p:xfrm>
          <a:off x="609480" y="1219320"/>
          <a:ext cx="7696440" cy="4916520"/>
        </p:xfrm>
        <a:graphic>
          <a:graphicData uri="http://schemas.openxmlformats.org/drawingml/2006/table">
            <a:tbl>
              <a:tblPr/>
              <a:tblGrid>
                <a:gridCol w="3657600"/>
                <a:gridCol w="251460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mazás telep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j oprendszer telep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ációs rendszer friss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ználói beállítások kezel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ználói adatok kezel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s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t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ltá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ávmenedz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oftver felhasználás mér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álózat analízis és diagnoszt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moni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2210040" y="632448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egy ponton van átfedé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876920" y="1596960"/>
            <a:ext cx="32763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6080" cy="762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lyiket válasszam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28600" y="1143000"/>
            <a:ext cx="502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9480" indent="-609480">
              <a:lnSpc>
                <a:spcPct val="100000"/>
              </a:lnSpc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egyes környezetben dolgozom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4" name="sms20large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33668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3657600" y="1523880"/>
            <a:ext cx="1752480" cy="457200"/>
            <a:chOff x="3657600" y="1523880"/>
            <a:chExt cx="1752480" cy="457200"/>
          </a:xfrm>
        </p:grpSpPr>
        <p:sp>
          <p:nvSpPr>
            <p:cNvPr id="1466" name=""/>
            <p:cNvSpPr/>
            <p:nvPr/>
          </p:nvSpPr>
          <p:spPr>
            <a:xfrm>
              <a:off x="3657600" y="198108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57600" y="15238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28600" y="1981080"/>
            <a:ext cx="5334120" cy="1007280"/>
            <a:chOff x="228600" y="1981080"/>
            <a:chExt cx="5334120" cy="1007280"/>
          </a:xfrm>
        </p:grpSpPr>
        <p:sp>
          <p:nvSpPr>
            <p:cNvPr id="1469" name=""/>
            <p:cNvSpPr/>
            <p:nvPr/>
          </p:nvSpPr>
          <p:spPr>
            <a:xfrm>
              <a:off x="228600" y="2590920"/>
              <a:ext cx="533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D be van vezetve?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2971800" y="1981080"/>
              <a:ext cx="685800" cy="457200"/>
              <a:chOff x="2971800" y="1981080"/>
              <a:chExt cx="685800" cy="457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2971800" y="205740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N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57600" y="1981080"/>
                <a:ext cx="0" cy="457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" name=""/>
          <p:cNvSpPr/>
          <p:nvPr/>
        </p:nvSpPr>
        <p:spPr>
          <a:xfrm>
            <a:off x="5867280" y="1600200"/>
            <a:ext cx="3124440" cy="3657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5438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S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3657600" y="2971800"/>
            <a:ext cx="1752480" cy="457200"/>
            <a:chOff x="3657600" y="2971800"/>
            <a:chExt cx="1752480" cy="457200"/>
          </a:xfrm>
        </p:grpSpPr>
        <p:sp>
          <p:nvSpPr>
            <p:cNvPr id="1476" name=""/>
            <p:cNvSpPr/>
            <p:nvPr/>
          </p:nvSpPr>
          <p:spPr>
            <a:xfrm>
              <a:off x="3657600" y="342900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657600" y="297180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28600" y="3429000"/>
            <a:ext cx="4495680" cy="1235880"/>
            <a:chOff x="228600" y="3429000"/>
            <a:chExt cx="4495680" cy="1235880"/>
          </a:xfrm>
        </p:grpSpPr>
        <p:sp>
          <p:nvSpPr>
            <p:cNvPr id="1479" name=""/>
            <p:cNvSpPr/>
            <p:nvPr/>
          </p:nvSpPr>
          <p:spPr>
            <a:xfrm>
              <a:off x="228600" y="3962520"/>
              <a:ext cx="4495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Csak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ndows 2000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–es ügyfelünk va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2895480" y="3429000"/>
              <a:ext cx="762120" cy="457200"/>
              <a:chOff x="2895480" y="3429000"/>
              <a:chExt cx="762120" cy="457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480" y="350532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Ig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657600" y="3429000"/>
                <a:ext cx="0" cy="457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3657600" y="4419720"/>
            <a:ext cx="1752480" cy="457200"/>
            <a:chOff x="3657600" y="4419720"/>
            <a:chExt cx="1752480" cy="457200"/>
          </a:xfrm>
        </p:grpSpPr>
        <p:sp>
          <p:nvSpPr>
            <p:cNvPr id="1484" name=""/>
            <p:cNvSpPr/>
            <p:nvPr/>
          </p:nvSpPr>
          <p:spPr>
            <a:xfrm>
              <a:off x="3657600" y="48769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57600" y="441972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2895480" y="4876920"/>
            <a:ext cx="1676520" cy="1769040"/>
            <a:chOff x="2895480" y="4876920"/>
            <a:chExt cx="1676520" cy="1769040"/>
          </a:xfrm>
        </p:grpSpPr>
        <p:grpSp>
          <p:nvGrpSpPr>
            <p:cNvPr id="1487" name=""/>
            <p:cNvGrpSpPr/>
            <p:nvPr/>
          </p:nvGrpSpPr>
          <p:grpSpPr>
            <a:xfrm>
              <a:off x="2895480" y="4876920"/>
              <a:ext cx="762120" cy="1295280"/>
              <a:chOff x="2895480" y="4876920"/>
              <a:chExt cx="762120" cy="1295280"/>
            </a:xfrm>
          </p:grpSpPr>
          <p:sp>
            <p:nvSpPr>
              <p:cNvPr id="1488" name=""/>
              <p:cNvSpPr/>
              <p:nvPr/>
            </p:nvSpPr>
            <p:spPr>
              <a:xfrm>
                <a:off x="2895480" y="495288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Ig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657600" y="4876920"/>
                <a:ext cx="0" cy="1295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2895480" y="6248520"/>
              <a:ext cx="1676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ováb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990720" y="1828800"/>
            <a:ext cx="7924680" cy="1143000"/>
            <a:chOff x="990720" y="1828800"/>
            <a:chExt cx="7924680" cy="1143000"/>
          </a:xfrm>
        </p:grpSpPr>
        <p:sp>
          <p:nvSpPr>
            <p:cNvPr id="238" name=""/>
            <p:cNvSpPr/>
            <p:nvPr/>
          </p:nvSpPr>
          <p:spPr>
            <a:xfrm>
              <a:off x="990720" y="182880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Felhasználói dokumentumok kezelé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182880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 dokumentumok mindig legyenek elérhetők,szűnjenek meg az adatvesztésből származó problémá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90720" y="3048120"/>
            <a:ext cx="7924680" cy="1143000"/>
            <a:chOff x="990720" y="3048120"/>
            <a:chExt cx="7924680" cy="1143000"/>
          </a:xfrm>
        </p:grpSpPr>
        <p:sp>
          <p:nvSpPr>
            <p:cNvPr id="241" name=""/>
            <p:cNvSpPr/>
            <p:nvPr/>
          </p:nvSpPr>
          <p:spPr>
            <a:xfrm>
              <a:off x="990720" y="304812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Szoftver telepít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304812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z alkalmazások akkor és ott álljanak rendelkezésre, amikor és ahol szükség van ráju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90720" y="4267080"/>
            <a:ext cx="7924680" cy="1143000"/>
            <a:chOff x="990720" y="4267080"/>
            <a:chExt cx="7924680" cy="1143000"/>
          </a:xfrm>
        </p:grpSpPr>
        <p:sp>
          <p:nvSpPr>
            <p:cNvPr id="244" name=""/>
            <p:cNvSpPr/>
            <p:nvPr/>
          </p:nvSpPr>
          <p:spPr>
            <a:xfrm>
              <a:off x="990720" y="426708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Felhasználói beállítások kezelé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9880" y="426708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Egyszer kelljen beállítani a preferenciákat és azok mindenhol legyenek elérhető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28600" y="5486400"/>
            <a:ext cx="8686800" cy="1143000"/>
            <a:chOff x="228600" y="5486400"/>
            <a:chExt cx="8686800" cy="1143000"/>
          </a:xfrm>
        </p:grpSpPr>
        <p:sp>
          <p:nvSpPr>
            <p:cNvPr id="248" name=""/>
            <p:cNvSpPr/>
            <p:nvPr/>
          </p:nvSpPr>
          <p:spPr>
            <a:xfrm>
              <a:off x="228600" y="5486400"/>
              <a:ext cx="35053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Távoli operációs rendszer telepít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9880" y="548640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 gép meghibásodásakor gyorsan helyre tudjuk állítani a munkakörnyezet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Felhasználói előnyök</a:t>
            </a: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0280" y="217440"/>
            <a:ext cx="8475840" cy="641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feladato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6080" cy="762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lyiket válasszam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1492" name="sms20large" descr=""/>
          <p:cNvPicPr/>
          <p:nvPr/>
        </p:nvPicPr>
        <p:blipFill>
          <a:blip r:embed="rId2"/>
          <a:stretch/>
        </p:blipFill>
        <p:spPr>
          <a:xfrm>
            <a:off x="5946840" y="1495440"/>
            <a:ext cx="1336680" cy="1628640"/>
          </a:xfrm>
          <a:prstGeom prst="rect">
            <a:avLst/>
          </a:prstGeom>
          <a:ln w="0">
            <a:noFill/>
          </a:ln>
        </p:spPr>
      </p:pic>
      <p:pic>
        <p:nvPicPr>
          <p:cNvPr id="1493" name="Windows%202000%20Server%20angled" descr=""/>
          <p:cNvPicPr/>
          <p:nvPr/>
        </p:nvPicPr>
        <p:blipFill>
          <a:blip r:embed="rId3"/>
          <a:stretch/>
        </p:blipFill>
        <p:spPr>
          <a:xfrm>
            <a:off x="5975280" y="4057560"/>
            <a:ext cx="1408320" cy="174780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/>
          <p:nvPr/>
        </p:nvSpPr>
        <p:spPr>
          <a:xfrm>
            <a:off x="5794200" y="1114560"/>
            <a:ext cx="3124440" cy="243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70720" y="2212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S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94200" y="3911760"/>
            <a:ext cx="3124440" cy="213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543800" y="4707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643200" y="2338560"/>
            <a:ext cx="1752480" cy="457200"/>
            <a:chOff x="3643200" y="2338560"/>
            <a:chExt cx="1752480" cy="457200"/>
          </a:xfrm>
        </p:grpSpPr>
        <p:sp>
          <p:nvSpPr>
            <p:cNvPr id="1499" name=""/>
            <p:cNvSpPr/>
            <p:nvPr/>
          </p:nvSpPr>
          <p:spPr>
            <a:xfrm>
              <a:off x="3643200" y="279576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643200" y="233856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2957400" y="2808360"/>
            <a:ext cx="2438280" cy="1226880"/>
            <a:chOff x="2957400" y="2808360"/>
            <a:chExt cx="2438280" cy="1226880"/>
          </a:xfrm>
        </p:grpSpPr>
        <p:sp>
          <p:nvSpPr>
            <p:cNvPr id="1502" name=""/>
            <p:cNvSpPr/>
            <p:nvPr/>
          </p:nvSpPr>
          <p:spPr>
            <a:xfrm>
              <a:off x="2957400" y="32464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43200" y="280836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43200" y="403524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360360" y="1406520"/>
            <a:ext cx="4191120" cy="4208760"/>
            <a:chOff x="360360" y="1406520"/>
            <a:chExt cx="4191120" cy="4208760"/>
          </a:xfrm>
        </p:grpSpPr>
        <p:sp>
          <p:nvSpPr>
            <p:cNvPr id="1506" name=""/>
            <p:cNvSpPr/>
            <p:nvPr/>
          </p:nvSpPr>
          <p:spPr>
            <a:xfrm>
              <a:off x="360360" y="1406520"/>
              <a:ext cx="4191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zükséged van </a:t>
              </a:r>
              <a:r>
                <a:rPr b="1" lang="hu-HU" sz="2000" spc="-1" strike="noStrike">
                  <a:solidFill>
                    <a:srgbClr val="fccf00"/>
                  </a:solidFill>
                  <a:latin typeface="Arial"/>
                </a:rPr>
                <a:t>összetett</a:t>
              </a: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*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lkalmazás telepítési szolgáltatáokr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0360" y="3844800"/>
              <a:ext cx="41911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* </a:t>
              </a:r>
              <a:r>
                <a:rPr b="1" lang="hu-HU" sz="2000" spc="-1" strike="noStrike">
                  <a:solidFill>
                    <a:srgbClr val="fccf00"/>
                  </a:solidFill>
                  <a:latin typeface="Arial"/>
                </a:rPr>
                <a:t>Összetett</a:t>
              </a: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Leltár alapú célválasz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dőzített telep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us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jelentése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N-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a érzékeny,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     hangolható disztribúci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641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Szoftver telepítés összefoglalva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12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- es megoldások kiscsoportos környezetben jól használható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vállalati környezetben az SMS 2.0 sokkal job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gyesen a két módszert ne használ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MS 2.0 konvergál a Windows 2000 megoldások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S 2.0 add on for Windows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0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403440"/>
            <a:ext cx="2590920" cy="76212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lliMirror </a:t>
            </a:r>
            <a:r>
              <a:rPr b="1" lang="en-GB" sz="4400" spc="-1" strike="noStrike" baseline="24000">
                <a:solidFill>
                  <a:srgbClr val="fccf00"/>
                </a:solidFill>
                <a:latin typeface="Arial"/>
              </a:rPr>
              <a:t>™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14240" y="1593720"/>
            <a:ext cx="1434600" cy="2229840"/>
            <a:chOff x="714240" y="1593720"/>
            <a:chExt cx="1434600" cy="2229840"/>
          </a:xfrm>
        </p:grpSpPr>
        <p:grpSp>
          <p:nvGrpSpPr>
            <p:cNvPr id="256" name=""/>
            <p:cNvGrpSpPr/>
            <p:nvPr/>
          </p:nvGrpSpPr>
          <p:grpSpPr>
            <a:xfrm>
              <a:off x="1351080" y="1730880"/>
              <a:ext cx="797760" cy="2092680"/>
              <a:chOff x="1351080" y="1730880"/>
              <a:chExt cx="797760" cy="2092680"/>
            </a:xfrm>
          </p:grpSpPr>
          <p:sp>
            <p:nvSpPr>
              <p:cNvPr id="257" name=""/>
              <p:cNvSpPr/>
              <p:nvPr/>
            </p:nvSpPr>
            <p:spPr>
              <a:xfrm>
                <a:off x="1351080" y="1730880"/>
                <a:ext cx="797760" cy="2092680"/>
              </a:xfrm>
              <a:custGeom>
                <a:avLst/>
                <a:gdLst/>
                <a:ahLst/>
                <a:rect l="l" t="t" r="r" b="b"/>
                <a:pathLst>
                  <a:path w="446" h="1175">
                    <a:moveTo>
                      <a:pt x="0" y="196"/>
                    </a:moveTo>
                    <a:lnTo>
                      <a:pt x="0" y="1175"/>
                    </a:lnTo>
                    <a:lnTo>
                      <a:pt x="446" y="897"/>
                    </a:lnTo>
                    <a:lnTo>
                      <a:pt x="446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51080" y="1730880"/>
                <a:ext cx="797760" cy="2092680"/>
              </a:xfrm>
              <a:custGeom>
                <a:avLst/>
                <a:gdLst/>
                <a:ahLst/>
                <a:rect l="l" t="t" r="r" b="b"/>
                <a:pathLst>
                  <a:path w="446" h="1175">
                    <a:moveTo>
                      <a:pt x="0" y="196"/>
                    </a:moveTo>
                    <a:lnTo>
                      <a:pt x="0" y="1175"/>
                    </a:lnTo>
                    <a:lnTo>
                      <a:pt x="446" y="897"/>
                    </a:lnTo>
                    <a:lnTo>
                      <a:pt x="446" y="0"/>
                    </a:lnTo>
                    <a:lnTo>
                      <a:pt x="0" y="1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22880" y="1932120"/>
              <a:ext cx="627480" cy="1891440"/>
              <a:chOff x="722880" y="1932120"/>
              <a:chExt cx="627480" cy="1891440"/>
            </a:xfrm>
          </p:grpSpPr>
          <p:sp>
            <p:nvSpPr>
              <p:cNvPr id="260" name=""/>
              <p:cNvSpPr/>
              <p:nvPr/>
            </p:nvSpPr>
            <p:spPr>
              <a:xfrm>
                <a:off x="722880" y="1932120"/>
                <a:ext cx="627480" cy="1891440"/>
              </a:xfrm>
              <a:custGeom>
                <a:avLst/>
                <a:gdLst/>
                <a:ahLst/>
                <a:rect l="l" t="t" r="r" b="b"/>
                <a:pathLst>
                  <a:path w="351" h="1062">
                    <a:moveTo>
                      <a:pt x="351" y="84"/>
                    </a:moveTo>
                    <a:lnTo>
                      <a:pt x="351" y="1062"/>
                    </a:lnTo>
                    <a:lnTo>
                      <a:pt x="1" y="964"/>
                    </a:lnTo>
                    <a:lnTo>
                      <a:pt x="0" y="0"/>
                    </a:lnTo>
                    <a:lnTo>
                      <a:pt x="351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880" y="1932120"/>
                <a:ext cx="627480" cy="1891440"/>
              </a:xfrm>
              <a:custGeom>
                <a:avLst/>
                <a:gdLst/>
                <a:ahLst/>
                <a:rect l="l" t="t" r="r" b="b"/>
                <a:pathLst>
                  <a:path w="351" h="1062">
                    <a:moveTo>
                      <a:pt x="351" y="84"/>
                    </a:moveTo>
                    <a:lnTo>
                      <a:pt x="351" y="1062"/>
                    </a:lnTo>
                    <a:lnTo>
                      <a:pt x="1" y="964"/>
                    </a:lnTo>
                    <a:lnTo>
                      <a:pt x="0" y="0"/>
                    </a:lnTo>
                    <a:lnTo>
                      <a:pt x="351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98480" y="2049840"/>
              <a:ext cx="451800" cy="1677600"/>
              <a:chOff x="798480" y="2049840"/>
              <a:chExt cx="451800" cy="1677600"/>
            </a:xfrm>
          </p:grpSpPr>
          <p:sp>
            <p:nvSpPr>
              <p:cNvPr id="263" name=""/>
              <p:cNvSpPr/>
              <p:nvPr/>
            </p:nvSpPr>
            <p:spPr>
              <a:xfrm>
                <a:off x="798480" y="2049840"/>
                <a:ext cx="451800" cy="1677600"/>
              </a:xfrm>
              <a:custGeom>
                <a:avLst/>
                <a:gdLst/>
                <a:ahLst/>
                <a:rect l="l" t="t" r="r" b="b"/>
                <a:pathLst>
                  <a:path w="253" h="942">
                    <a:moveTo>
                      <a:pt x="0" y="9"/>
                    </a:moveTo>
                    <a:lnTo>
                      <a:pt x="0" y="871"/>
                    </a:lnTo>
                    <a:lnTo>
                      <a:pt x="253" y="942"/>
                    </a:lnTo>
                    <a:lnTo>
                      <a:pt x="252" y="64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8480" y="2049840"/>
                <a:ext cx="451800" cy="1677600"/>
              </a:xfrm>
              <a:custGeom>
                <a:avLst/>
                <a:gdLst/>
                <a:ahLst/>
                <a:rect l="l" t="t" r="r" b="b"/>
                <a:pathLst>
                  <a:path w="253" h="942">
                    <a:moveTo>
                      <a:pt x="0" y="9"/>
                    </a:moveTo>
                    <a:lnTo>
                      <a:pt x="0" y="871"/>
                    </a:lnTo>
                    <a:lnTo>
                      <a:pt x="253" y="942"/>
                    </a:lnTo>
                    <a:lnTo>
                      <a:pt x="252" y="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805320" y="3526560"/>
              <a:ext cx="4348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798480" y="2272320"/>
              <a:ext cx="451800" cy="630000"/>
              <a:chOff x="798480" y="2272320"/>
              <a:chExt cx="451800" cy="63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798480" y="2272320"/>
                <a:ext cx="451800" cy="630000"/>
              </a:xfrm>
              <a:custGeom>
                <a:avLst/>
                <a:gdLst/>
                <a:ahLst/>
                <a:rect l="l" t="t" r="r" b="b"/>
                <a:pathLst>
                  <a:path w="253" h="354">
                    <a:moveTo>
                      <a:pt x="1" y="0"/>
                    </a:moveTo>
                    <a:lnTo>
                      <a:pt x="253" y="62"/>
                    </a:lnTo>
                    <a:lnTo>
                      <a:pt x="253" y="354"/>
                    </a:lnTo>
                    <a:lnTo>
                      <a:pt x="0" y="28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8480" y="2272320"/>
                <a:ext cx="451800" cy="630000"/>
              </a:xfrm>
              <a:custGeom>
                <a:avLst/>
                <a:gdLst/>
                <a:ahLst/>
                <a:rect l="l" t="t" r="r" b="b"/>
                <a:pathLst>
                  <a:path w="253" h="354">
                    <a:moveTo>
                      <a:pt x="1" y="0"/>
                    </a:moveTo>
                    <a:lnTo>
                      <a:pt x="253" y="62"/>
                    </a:lnTo>
                    <a:lnTo>
                      <a:pt x="253" y="354"/>
                    </a:lnTo>
                    <a:lnTo>
                      <a:pt x="0" y="287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810720" y="2454120"/>
              <a:ext cx="43308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0720" y="2628720"/>
              <a:ext cx="43308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6160" y="2377800"/>
              <a:ext cx="313200" cy="619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8520" y="2131560"/>
              <a:ext cx="71280" cy="38880"/>
            </a:xfrm>
            <a:prstGeom prst="ellipse">
              <a:avLst/>
            </a:pr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34560" y="2370600"/>
              <a:ext cx="166320" cy="8352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0"/>
                  </a:moveTo>
                  <a:lnTo>
                    <a:pt x="0" y="28"/>
                  </a:lnTo>
                  <a:lnTo>
                    <a:pt x="93" y="47"/>
                  </a:lnTo>
                  <a:lnTo>
                    <a:pt x="9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320" y="3443040"/>
              <a:ext cx="4348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5320" y="3353760"/>
              <a:ext cx="43488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14240" y="1593720"/>
              <a:ext cx="1433160" cy="493200"/>
              <a:chOff x="714240" y="1593720"/>
              <a:chExt cx="1433160" cy="493200"/>
            </a:xfrm>
          </p:grpSpPr>
          <p:sp>
            <p:nvSpPr>
              <p:cNvPr id="277" name=""/>
              <p:cNvSpPr/>
              <p:nvPr/>
            </p:nvSpPr>
            <p:spPr>
              <a:xfrm>
                <a:off x="714240" y="1593720"/>
                <a:ext cx="1433160" cy="493200"/>
              </a:xfrm>
              <a:custGeom>
                <a:avLst/>
                <a:gdLst/>
                <a:ahLst/>
                <a:rect l="l" t="t" r="r" b="b"/>
                <a:pathLst>
                  <a:path w="801" h="277">
                    <a:moveTo>
                      <a:pt x="0" y="190"/>
                    </a:moveTo>
                    <a:lnTo>
                      <a:pt x="358" y="277"/>
                    </a:lnTo>
                    <a:lnTo>
                      <a:pt x="801" y="78"/>
                    </a:lnTo>
                    <a:lnTo>
                      <a:pt x="452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4240" y="1593720"/>
                <a:ext cx="1433160" cy="493200"/>
              </a:xfrm>
              <a:custGeom>
                <a:avLst/>
                <a:gdLst/>
                <a:ahLst/>
                <a:rect l="l" t="t" r="r" b="b"/>
                <a:pathLst>
                  <a:path w="801" h="277">
                    <a:moveTo>
                      <a:pt x="0" y="190"/>
                    </a:moveTo>
                    <a:lnTo>
                      <a:pt x="358" y="277"/>
                    </a:lnTo>
                    <a:lnTo>
                      <a:pt x="801" y="78"/>
                    </a:lnTo>
                    <a:lnTo>
                      <a:pt x="452" y="0"/>
                    </a:lnTo>
                    <a:lnTo>
                      <a:pt x="0" y="1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127520" y="2648520"/>
              <a:ext cx="40680" cy="388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7" y="0"/>
                  </a:moveTo>
                  <a:lnTo>
                    <a:pt x="0" y="14"/>
                  </a:lnTo>
                  <a:lnTo>
                    <a:pt x="16" y="22"/>
                  </a:lnTo>
                  <a:lnTo>
                    <a:pt x="23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853560" y="2496960"/>
              <a:ext cx="352080" cy="150840"/>
              <a:chOff x="853560" y="2496960"/>
              <a:chExt cx="352080" cy="150840"/>
            </a:xfrm>
          </p:grpSpPr>
          <p:sp>
            <p:nvSpPr>
              <p:cNvPr id="281" name=""/>
              <p:cNvSpPr/>
              <p:nvPr/>
            </p:nvSpPr>
            <p:spPr>
              <a:xfrm>
                <a:off x="858960" y="2502000"/>
                <a:ext cx="337680" cy="763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0760" y="2569680"/>
                <a:ext cx="335880" cy="781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3560" y="2496960"/>
                <a:ext cx="1800" cy="601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04200" y="2591280"/>
                <a:ext cx="1440" cy="5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2590920" y="3809880"/>
            <a:ext cx="1461960" cy="4320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008080"/>
              </a:gs>
              <a:gs pos="50000">
                <a:srgbClr val="33cccc"/>
              </a:gs>
              <a:gs pos="100000">
                <a:srgbClr val="00808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4800" y="38052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114800"/>
            <a:ext cx="2438640" cy="7174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00640" y="2209680"/>
            <a:ext cx="2409840" cy="71784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629400" y="1143000"/>
            <a:ext cx="1600200" cy="1773360"/>
            <a:chOff x="6629400" y="1143000"/>
            <a:chExt cx="1600200" cy="1773360"/>
          </a:xfrm>
        </p:grpSpPr>
        <p:grpSp>
          <p:nvGrpSpPr>
            <p:cNvPr id="290" name=""/>
            <p:cNvGrpSpPr/>
            <p:nvPr/>
          </p:nvGrpSpPr>
          <p:grpSpPr>
            <a:xfrm>
              <a:off x="6629400" y="1143000"/>
              <a:ext cx="1379520" cy="1471320"/>
              <a:chOff x="6629400" y="1143000"/>
              <a:chExt cx="1379520" cy="14713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629760" y="2092680"/>
                <a:ext cx="473760" cy="521640"/>
                <a:chOff x="6629760" y="2092680"/>
                <a:chExt cx="473760" cy="52164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6629760" y="20926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6629760" y="20926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629400" y="1899720"/>
                <a:ext cx="1379520" cy="474840"/>
                <a:chOff x="6629400" y="1899720"/>
                <a:chExt cx="1379520" cy="4748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>
                  <a:off x="6629400" y="18997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6629400" y="18997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103520" y="2138040"/>
                <a:ext cx="905400" cy="476280"/>
                <a:chOff x="7103520" y="2138040"/>
                <a:chExt cx="905400" cy="47628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7103160" y="21380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7103160" y="21380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7770600" y="222048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7182360" y="2313360"/>
                <a:ext cx="354240" cy="240840"/>
                <a:chOff x="7182360" y="2313360"/>
                <a:chExt cx="354240" cy="240840"/>
              </a:xfrm>
            </p:grpSpPr>
            <p:sp>
              <p:nvSpPr>
                <p:cNvPr id="302" name=""/>
                <p:cNvSpPr/>
                <p:nvPr/>
              </p:nvSpPr>
              <p:spPr>
                <a:xfrm flipH="1">
                  <a:off x="7182360" y="23133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7182360" y="23133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 flipH="1">
                <a:off x="7193880" y="239760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7640" y="244044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307640" y="236916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6685200" y="1143000"/>
                <a:ext cx="831240" cy="812520"/>
                <a:chOff x="6685200" y="1143000"/>
                <a:chExt cx="831240" cy="81252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6684840" y="11430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6684840" y="11430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835320" y="1355400"/>
                <a:ext cx="271080" cy="892440"/>
                <a:chOff x="6835320" y="1355400"/>
                <a:chExt cx="271080" cy="89244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6834960" y="13554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6834960" y="13554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835320" y="1172520"/>
                <a:ext cx="1122480" cy="329400"/>
                <a:chOff x="6835320" y="1172520"/>
                <a:chExt cx="1122480" cy="32940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6835320" y="11725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6835320" y="11725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196760" y="2072520"/>
                <a:ext cx="592560" cy="181080"/>
                <a:chOff x="7196760" y="2072520"/>
                <a:chExt cx="592560" cy="18108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7196760" y="20725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7196760" y="20725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106760" y="1298160"/>
                <a:ext cx="851040" cy="951120"/>
                <a:chOff x="7106760" y="1298160"/>
                <a:chExt cx="851040" cy="95112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7106760" y="12981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7106760" y="12981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229880" y="1406520"/>
                <a:ext cx="621000" cy="693000"/>
                <a:chOff x="7229880" y="1406520"/>
                <a:chExt cx="621000" cy="69300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7229520" y="14065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7229520" y="14065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254000" y="1453680"/>
                <a:ext cx="546480" cy="587520"/>
                <a:chOff x="7254000" y="1453680"/>
                <a:chExt cx="546480" cy="587520"/>
              </a:xfrm>
            </p:grpSpPr>
            <p:sp>
              <p:nvSpPr>
                <p:cNvPr id="326" name=""/>
                <p:cNvSpPr/>
                <p:nvPr/>
              </p:nvSpPr>
              <p:spPr>
                <a:xfrm flipH="1">
                  <a:off x="7254000" y="14536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7254000" y="14536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flipH="1">
                <a:off x="7672320" y="153936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620120" y="26114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05520" y="20574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038480"/>
            <a:ext cx="1461960" cy="4320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6d4c2e"/>
              </a:gs>
              <a:gs pos="50000">
                <a:srgbClr val="eea564"/>
              </a:gs>
              <a:gs pos="100000">
                <a:srgbClr val="6d4c2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6140520"/>
            <a:ext cx="2438640" cy="7174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59436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008080"/>
              </a:gs>
              <a:gs pos="50000">
                <a:srgbClr val="33cccc"/>
              </a:gs>
              <a:gs pos="100000">
                <a:srgbClr val="00808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4290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6d4c2e"/>
              </a:gs>
              <a:gs pos="50000">
                <a:srgbClr val="eea564"/>
              </a:gs>
              <a:gs pos="100000">
                <a:srgbClr val="6d4c2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99736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4114800"/>
            <a:ext cx="1447920" cy="2133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3733920"/>
            <a:ext cx="1218960" cy="609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038480" y="2362320"/>
            <a:ext cx="114300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525780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335268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137160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73760" y="3146400"/>
            <a:ext cx="1600200" cy="1773360"/>
            <a:chOff x="6773760" y="3146400"/>
            <a:chExt cx="1600200" cy="1773360"/>
          </a:xfrm>
        </p:grpSpPr>
        <p:grpSp>
          <p:nvGrpSpPr>
            <p:cNvPr id="343" name=""/>
            <p:cNvGrpSpPr/>
            <p:nvPr/>
          </p:nvGrpSpPr>
          <p:grpSpPr>
            <a:xfrm>
              <a:off x="6773760" y="3146400"/>
              <a:ext cx="1379520" cy="1471320"/>
              <a:chOff x="6773760" y="3146400"/>
              <a:chExt cx="1379520" cy="14713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6774120" y="4096080"/>
                <a:ext cx="473760" cy="521640"/>
                <a:chOff x="6774120" y="4096080"/>
                <a:chExt cx="473760" cy="52164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6774120" y="40960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6774120" y="40960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773760" y="3903120"/>
                <a:ext cx="1379520" cy="474840"/>
                <a:chOff x="6773760" y="3903120"/>
                <a:chExt cx="1379520" cy="47484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773760" y="39031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6773760" y="39031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247880" y="4141440"/>
                <a:ext cx="905400" cy="476280"/>
                <a:chOff x="7247880" y="4141440"/>
                <a:chExt cx="905400" cy="476280"/>
              </a:xfrm>
            </p:grpSpPr>
            <p:sp>
              <p:nvSpPr>
                <p:cNvPr id="351" name=""/>
                <p:cNvSpPr/>
                <p:nvPr/>
              </p:nvSpPr>
              <p:spPr>
                <a:xfrm flipH="1">
                  <a:off x="7247520" y="41414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7247520" y="41414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flipH="1">
                <a:off x="7914960" y="422388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7326720" y="4316760"/>
                <a:ext cx="354240" cy="240840"/>
                <a:chOff x="7326720" y="4316760"/>
                <a:chExt cx="354240" cy="24084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7326720" y="43167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7326720" y="43167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 flipH="1">
                <a:off x="7338240" y="440100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452000" y="444384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452000" y="437256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6829560" y="3146400"/>
                <a:ext cx="831240" cy="812520"/>
                <a:chOff x="6829560" y="3146400"/>
                <a:chExt cx="831240" cy="8125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6829200" y="31464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6829200" y="31464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979680" y="3358800"/>
                <a:ext cx="271080" cy="892440"/>
                <a:chOff x="6979680" y="3358800"/>
                <a:chExt cx="271080" cy="892440"/>
              </a:xfrm>
            </p:grpSpPr>
            <p:sp>
              <p:nvSpPr>
                <p:cNvPr id="364" name=""/>
                <p:cNvSpPr/>
                <p:nvPr/>
              </p:nvSpPr>
              <p:spPr>
                <a:xfrm flipH="1">
                  <a:off x="6979320" y="33588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6979320" y="33588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979680" y="3175920"/>
                <a:ext cx="1122480" cy="329400"/>
                <a:chOff x="6979680" y="3175920"/>
                <a:chExt cx="1122480" cy="32940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6979680" y="31759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979680" y="31759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341120" y="4075920"/>
                <a:ext cx="592560" cy="181080"/>
                <a:chOff x="7341120" y="4075920"/>
                <a:chExt cx="592560" cy="181080"/>
              </a:xfrm>
            </p:grpSpPr>
            <p:sp>
              <p:nvSpPr>
                <p:cNvPr id="370" name=""/>
                <p:cNvSpPr/>
                <p:nvPr/>
              </p:nvSpPr>
              <p:spPr>
                <a:xfrm flipH="1">
                  <a:off x="7341120" y="40759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7341120" y="40759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251120" y="3301560"/>
                <a:ext cx="851040" cy="951120"/>
                <a:chOff x="7251120" y="3301560"/>
                <a:chExt cx="851040" cy="95112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7251120" y="33015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7251120" y="33015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374240" y="3409920"/>
                <a:ext cx="621000" cy="693000"/>
                <a:chOff x="7374240" y="3409920"/>
                <a:chExt cx="621000" cy="693000"/>
              </a:xfrm>
            </p:grpSpPr>
            <p:sp>
              <p:nvSpPr>
                <p:cNvPr id="376" name=""/>
                <p:cNvSpPr/>
                <p:nvPr/>
              </p:nvSpPr>
              <p:spPr>
                <a:xfrm flipH="1">
                  <a:off x="7373880" y="34099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7373880" y="34099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398360" y="3457080"/>
                <a:ext cx="546480" cy="587520"/>
                <a:chOff x="7398360" y="3457080"/>
                <a:chExt cx="546480" cy="58752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7398360" y="34570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7398360" y="34570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 flipH="1">
                <a:off x="7816680" y="354276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764480" y="46148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88160" y="5084640"/>
            <a:ext cx="1600200" cy="1773360"/>
            <a:chOff x="6788160" y="5084640"/>
            <a:chExt cx="1600200" cy="1773360"/>
          </a:xfrm>
        </p:grpSpPr>
        <p:grpSp>
          <p:nvGrpSpPr>
            <p:cNvPr id="384" name=""/>
            <p:cNvGrpSpPr/>
            <p:nvPr/>
          </p:nvGrpSpPr>
          <p:grpSpPr>
            <a:xfrm>
              <a:off x="6788160" y="5084640"/>
              <a:ext cx="1379520" cy="1471320"/>
              <a:chOff x="6788160" y="5084640"/>
              <a:chExt cx="1379520" cy="147132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788520" y="6034320"/>
                <a:ext cx="473760" cy="521640"/>
                <a:chOff x="6788520" y="6034320"/>
                <a:chExt cx="473760" cy="52164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6788520" y="603432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6788520" y="603432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788160" y="5841360"/>
                <a:ext cx="1379520" cy="474840"/>
                <a:chOff x="6788160" y="5841360"/>
                <a:chExt cx="1379520" cy="474840"/>
              </a:xfrm>
            </p:grpSpPr>
            <p:sp>
              <p:nvSpPr>
                <p:cNvPr id="389" name=""/>
                <p:cNvSpPr/>
                <p:nvPr/>
              </p:nvSpPr>
              <p:spPr>
                <a:xfrm flipH="1">
                  <a:off x="6788160" y="584136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6788160" y="584136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262280" y="6079680"/>
                <a:ext cx="905400" cy="476280"/>
                <a:chOff x="7262280" y="6079680"/>
                <a:chExt cx="905400" cy="47628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7261920" y="607968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7261920" y="607968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7929360" y="616212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341120" y="6255000"/>
                <a:ext cx="354240" cy="240840"/>
                <a:chOff x="7341120" y="6255000"/>
                <a:chExt cx="354240" cy="240840"/>
              </a:xfrm>
            </p:grpSpPr>
            <p:sp>
              <p:nvSpPr>
                <p:cNvPr id="396" name=""/>
                <p:cNvSpPr/>
                <p:nvPr/>
              </p:nvSpPr>
              <p:spPr>
                <a:xfrm flipH="1">
                  <a:off x="7341120" y="625500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7341120" y="625500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 flipH="1">
                <a:off x="7352640" y="633924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466400" y="638208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466400" y="631080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6843960" y="5084640"/>
                <a:ext cx="831240" cy="812520"/>
                <a:chOff x="6843960" y="5084640"/>
                <a:chExt cx="831240" cy="81252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6843600" y="508464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6843600" y="508464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994080" y="5297040"/>
                <a:ext cx="271080" cy="892440"/>
                <a:chOff x="6994080" y="5297040"/>
                <a:chExt cx="271080" cy="89244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6993720" y="529704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993720" y="529704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94080" y="5114160"/>
                <a:ext cx="1122480" cy="329400"/>
                <a:chOff x="6994080" y="5114160"/>
                <a:chExt cx="1122480" cy="32940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6994080" y="511416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6994080" y="511416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355520" y="6014160"/>
                <a:ext cx="592560" cy="181080"/>
                <a:chOff x="7355520" y="6014160"/>
                <a:chExt cx="592560" cy="18108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7355520" y="601416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7355520" y="601416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265520" y="5239800"/>
                <a:ext cx="851040" cy="951120"/>
                <a:chOff x="7265520" y="5239800"/>
                <a:chExt cx="851040" cy="95112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7265520" y="523980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7265520" y="523980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7388640" y="5348160"/>
                <a:ext cx="621000" cy="693000"/>
                <a:chOff x="7388640" y="5348160"/>
                <a:chExt cx="621000" cy="693000"/>
              </a:xfrm>
            </p:grpSpPr>
            <p:sp>
              <p:nvSpPr>
                <p:cNvPr id="417" name=""/>
                <p:cNvSpPr/>
                <p:nvPr/>
              </p:nvSpPr>
              <p:spPr>
                <a:xfrm flipH="1">
                  <a:off x="7388280" y="534816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7388280" y="534816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412760" y="5395320"/>
                <a:ext cx="546480" cy="587520"/>
                <a:chOff x="7412760" y="5395320"/>
                <a:chExt cx="546480" cy="58752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7412760" y="539532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7412760" y="539532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 flipH="1">
                <a:off x="7831080" y="548100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778880" y="65530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78400" y="5033880"/>
            <a:ext cx="3236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Kövessen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dokumentumaim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aim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beállítása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90720" y="182880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dokumentum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18288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Synchronization Manager,Disk Qu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04812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304812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indow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er, Application Deployment Editor, 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426708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beállítás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26708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Roaming User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5486400"/>
            <a:ext cx="35053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voli operációs rendsz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54864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Remote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er, (NetPC/PC9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6448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eszközö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31200" cy="113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Group Policy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Definíció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1371600"/>
            <a:ext cx="89917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z adminisztrátor egy kívánsága a felhasználói környezetről, amelyet a rendszer következetesen érvényre juttat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686800" cy="27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ereskedő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2000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fognak használn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cepción ne lehessen kijelentkezni a gépekbő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di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juk a sikertelen bejelenkezési kísérleteket a vidéki telephelyek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második előadása</dc:description>
  <dc:language>en-US</dc:language>
  <cp:lastModifiedBy>akosh</cp:lastModifiedBy>
  <cp:lastPrinted>1998-11-23T08:04:50Z</cp:lastPrinted>
  <dcterms:modified xsi:type="dcterms:W3CDTF">1999-12-02T13:04:25Z</dcterms:modified>
  <cp:revision>364</cp:revision>
  <dc:subject/>
  <dc:title>Felhasználó és szoftver menedzsment Windows 2000-ben</dc:title>
</cp:coreProperties>
</file>