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4680" y="74916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3203B-2AD9-421C-B42E-72C16CA503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tartományok fát alkotnak. A központi adminisztrációt segíti. Legalább egy tartományvezérlő tartományonké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ynamic update: W2K Pro magától tudja, a többinél az új DHCP Server megteszi helyettü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DNS dinamikus frissítésére a Dcpromo-nál mindenképpen szükség van, hiszen ekkor kerülnek be a GUID-ok a zóna fájl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FE25C-6882-4333-A955-A443E2E08E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7314A-590C-4897-9740-D4DA368791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3262320" y="68580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448920" y="2722320"/>
            <a:ext cx="5845320" cy="59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787CF-824A-4C5A-96F9-81EDAADD88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3262320" y="68580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448920" y="2722320"/>
            <a:ext cx="5845320" cy="59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2E7CA-CBB9-4794-A8D9-E4286F9AB8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3262320" y="68580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48920" y="2722320"/>
            <a:ext cx="5845320" cy="59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90648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xed mód: dcpromo után ez van. Korlátok: Nincs Universal Group és nem lehet azonos nevű objektum különböző konténerek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keverjük a címtár és a biztonságos hozzáférés fogalmát, mert egy jó címtár működhet alacsony biztonsági szinten is. A címtár egy fontos szempont: mert egy helyen tárolja az összes fontos adatot, de pl. Az AD-nál is a Kerberos és a smartcard támogatás miatt lesz a rendszer biztonság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Windows NT 4.0 címtára elosztott (PDC-BDC), kiterjeszthető (Terminal Server, GSNW), particionálható (domain-ek), de nem hierarchik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AD egy X.500 alapú címtár, azaz követi a szabványt a belső hierarchia leírásánál. A hozzáférési protokoll a DAP könnyített verziója az LDAP v3, amely funkciókban 90 százalékot biztosít a DAP költségeinek 10%-áé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locator szervizként  (erőforrások visszakeresése, azonosítása) a DNS-t használja. Azt a DNS-t ami már 20 éve meghatározza azt, miként találunk meg erőforrásokat az Interne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Olvasásra optimalizált. Egy címtár olvasás/írás aránya tipikusan 9 az 1-h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3.wmf"/><Relationship Id="rId14" Type="http://schemas.openxmlformats.org/officeDocument/2006/relationships/image" Target="../media/image7.wmf"/><Relationship Id="rId15" Type="http://schemas.openxmlformats.org/officeDocument/2006/relationships/image" Target="../media/image3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960" y="619200"/>
            <a:ext cx="84312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Active Directory,</a:t>
            </a:r>
            <a:br>
              <a:rPr sz="5400"/>
            </a:b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a Windows 2000 új címtár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Objektum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7312320" cy="5498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ímtár elemi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é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ulajdonság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tódu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őre definiált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bjektum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User Group (nem azonos az  Organizational Unit-ta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omputer, Domain Controller Printer, File sh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explore%20ou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286080" cy="28764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800600" y="2438280"/>
            <a:ext cx="25909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Organizational Uni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531800"/>
            <a:ext cx="7966080" cy="4934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datok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truktúrált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rolását segí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bjektumokat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agy más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rolókat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alma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egíti az elosztott adminisztráció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12-es mélységben ágyazható egymásba, de 3 fölé ne menjü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dir%20mgr" descr=""/>
          <p:cNvPicPr/>
          <p:nvPr/>
        </p:nvPicPr>
        <p:blipFill>
          <a:blip r:embed="rId2"/>
          <a:stretch/>
        </p:blipFill>
        <p:spPr>
          <a:xfrm>
            <a:off x="4467240" y="1579680"/>
            <a:ext cx="4438800" cy="33051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786200" y="346860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81840" y="307800"/>
            <a:ext cx="561960" cy="536760"/>
          </a:xfrm>
          <a:prstGeom prst="ellipse">
            <a:avLst/>
          </a:prstGeom>
          <a:gradFill rotWithShape="0">
            <a:gsLst>
              <a:gs pos="0">
                <a:srgbClr val="162339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864560" y="223920"/>
            <a:ext cx="1050480" cy="1035000"/>
            <a:chOff x="7864560" y="223920"/>
            <a:chExt cx="1050480" cy="1035000"/>
          </a:xfrm>
        </p:grpSpPr>
        <p:sp>
          <p:nvSpPr>
            <p:cNvPr id="547" name=""/>
            <p:cNvSpPr/>
            <p:nvPr/>
          </p:nvSpPr>
          <p:spPr>
            <a:xfrm flipH="1" flipV="1">
              <a:off x="8389440" y="345600"/>
              <a:ext cx="98640" cy="18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8273880" y="331920"/>
              <a:ext cx="115200" cy="19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30760" y="22392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215920" y="52920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438400" y="52920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7864560" y="647640"/>
              <a:ext cx="1050480" cy="611280"/>
              <a:chOff x="7864560" y="647640"/>
              <a:chExt cx="1050480" cy="611280"/>
            </a:xfrm>
          </p:grpSpPr>
          <p:sp>
            <p:nvSpPr>
              <p:cNvPr id="553" name=""/>
              <p:cNvSpPr/>
              <p:nvPr/>
            </p:nvSpPr>
            <p:spPr>
              <a:xfrm flipH="1" flipV="1">
                <a:off x="8502120" y="647640"/>
                <a:ext cx="165960" cy="18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>
                <a:off x="8499240" y="647640"/>
                <a:ext cx="2520" cy="18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68840" y="647640"/>
                <a:ext cx="7920" cy="18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105400" y="647640"/>
                <a:ext cx="168480" cy="18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042400" y="8341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614440" y="8341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213760" y="8341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46680" y="8341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86456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79624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6272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0240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3164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66340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99632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12844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7921800" y="943920"/>
                <a:ext cx="174600" cy="19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8060040" y="952200"/>
                <a:ext cx="45000" cy="18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8197920" y="949680"/>
                <a:ext cx="73080" cy="18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8276760" y="957960"/>
                <a:ext cx="45000" cy="18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8468640" y="949680"/>
                <a:ext cx="36360" cy="18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flipV="1">
                <a:off x="8507880" y="955080"/>
                <a:ext cx="7884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674200" y="949680"/>
                <a:ext cx="45000" cy="18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8679960" y="955080"/>
                <a:ext cx="16632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rtomány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95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D egy partíció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partíción belüli adatokért a tartomány verzérlői (DC) felelős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rtomány tartalmazza az OU-k fastruktúráj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D önálló adminisztratív egysé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OU-k tulajdonságai csak a tartományokon belül öröklőd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918560" y="309600"/>
            <a:ext cx="666720" cy="62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Active Directory kettős fastruktúráj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80880" y="1600200"/>
            <a:ext cx="8747640" cy="2946240"/>
            <a:chOff x="380880" y="1600200"/>
            <a:chExt cx="8747640" cy="2946240"/>
          </a:xfrm>
        </p:grpSpPr>
        <p:pic>
          <p:nvPicPr>
            <p:cNvPr id="582" name="tree%20mgr" descr=""/>
            <p:cNvPicPr/>
            <p:nvPr/>
          </p:nvPicPr>
          <p:blipFill>
            <a:blip r:embed="rId2"/>
            <a:stretch/>
          </p:blipFill>
          <p:spPr>
            <a:xfrm>
              <a:off x="380880" y="1600200"/>
              <a:ext cx="579132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6151320" y="1600200"/>
              <a:ext cx="297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bb tartomány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Elosztott felügyel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89080" y="2868480"/>
            <a:ext cx="8702640" cy="3913200"/>
            <a:chOff x="289080" y="2868480"/>
            <a:chExt cx="8702640" cy="3913200"/>
          </a:xfrm>
        </p:grpSpPr>
        <p:pic>
          <p:nvPicPr>
            <p:cNvPr id="585" name="dir%20mgr" descr=""/>
            <p:cNvPicPr/>
            <p:nvPr/>
          </p:nvPicPr>
          <p:blipFill>
            <a:blip r:embed="rId3"/>
            <a:stretch/>
          </p:blipFill>
          <p:spPr>
            <a:xfrm>
              <a:off x="3733920" y="2868480"/>
              <a:ext cx="525780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89080" y="5229360"/>
              <a:ext cx="344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Egy tartomány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özponti felügyel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8201160" y="185760"/>
            <a:ext cx="871560" cy="869400"/>
            <a:chOff x="8201160" y="185760"/>
            <a:chExt cx="871560" cy="869400"/>
          </a:xfrm>
        </p:grpSpPr>
        <p:sp>
          <p:nvSpPr>
            <p:cNvPr id="588" name=""/>
            <p:cNvSpPr/>
            <p:nvPr/>
          </p:nvSpPr>
          <p:spPr>
            <a:xfrm>
              <a:off x="8440560" y="185760"/>
              <a:ext cx="38268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90040" y="693720"/>
              <a:ext cx="382680" cy="361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8817120" y="539280"/>
              <a:ext cx="63360" cy="15372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01160" y="690480"/>
              <a:ext cx="382320" cy="361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8391600" y="550800"/>
              <a:ext cx="50760" cy="1440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kettős fastruktúra jelöl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3325680" y="1274760"/>
            <a:ext cx="2730600" cy="2489040"/>
            <a:chOff x="3325680" y="1274760"/>
            <a:chExt cx="2730600" cy="2489040"/>
          </a:xfrm>
        </p:grpSpPr>
        <p:sp>
          <p:nvSpPr>
            <p:cNvPr id="595" name=""/>
            <p:cNvSpPr/>
            <p:nvPr/>
          </p:nvSpPr>
          <p:spPr>
            <a:xfrm>
              <a:off x="3325680" y="12747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735720" y="29152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018680" y="29318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301280" y="29260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4462920" y="29430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855320" y="29260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4936320" y="29376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5276520" y="29260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5287680" y="29376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4924080" y="23295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4918320" y="23295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446360" y="23295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111560" y="23295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4692960" y="17337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456440" y="17056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73440" y="14925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380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934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8268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537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329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09960" y="26978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183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260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341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196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845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5348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8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5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824120" y="4098960"/>
            <a:ext cx="2730240" cy="2489040"/>
            <a:chOff x="1824120" y="4098960"/>
            <a:chExt cx="2730240" cy="2489040"/>
          </a:xfrm>
        </p:grpSpPr>
        <p:sp>
          <p:nvSpPr>
            <p:cNvPr id="626" name=""/>
            <p:cNvSpPr/>
            <p:nvPr/>
          </p:nvSpPr>
          <p:spPr>
            <a:xfrm>
              <a:off x="1824120" y="4098960"/>
              <a:ext cx="273024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3416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51712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79972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296136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335376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343440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377460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378612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342252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341676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94444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2610000" y="5153760"/>
              <a:ext cx="34524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319140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95488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7152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3644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9148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8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522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14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0804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1680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244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2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180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8264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51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871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568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792680" y="4098960"/>
            <a:ext cx="2730600" cy="2489040"/>
            <a:chOff x="4792680" y="4098960"/>
            <a:chExt cx="2730600" cy="2489040"/>
          </a:xfrm>
        </p:grpSpPr>
        <p:sp>
          <p:nvSpPr>
            <p:cNvPr id="657" name=""/>
            <p:cNvSpPr/>
            <p:nvPr/>
          </p:nvSpPr>
          <p:spPr>
            <a:xfrm>
              <a:off x="4792680" y="40989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20272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548568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576828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592992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632232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640332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674352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675468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639108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638532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91336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578560" y="51537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15996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592344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4044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050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604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4968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2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99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7696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853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930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011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866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515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2048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5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2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H="1">
            <a:off x="3192480" y="3759120"/>
            <a:ext cx="146160" cy="31932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53040" y="3745080"/>
            <a:ext cx="115920" cy="37620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kell tudnia a DNS-nek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38040" y="1112760"/>
            <a:ext cx="8415360" cy="549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üksé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rver Record, RFC-205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namikus fris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avasol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ott zóna transzf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ó, ha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krementális zóna transzfer, RFC-199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rtesítés a változásról, RFC-199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gatív caching, RFC-230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ND 8.2.1-től felfelé O.K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felejthetjük a NetBIOS-t (WINS-t)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4348080" y="3703680"/>
            <a:ext cx="4038840" cy="2895480"/>
          </a:xfrm>
          <a:prstGeom prst="triangle">
            <a:avLst>
              <a:gd name="adj" fmla="val 50000"/>
            </a:avLst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9120" y="3738600"/>
            <a:ext cx="4038840" cy="2895480"/>
          </a:xfrm>
          <a:prstGeom prst="triangle">
            <a:avLst>
              <a:gd name="adj" fmla="val 50000"/>
            </a:avLst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rdő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folyamatos névté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zös felügyel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zös sé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zös Globális Kataló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604880" y="4168800"/>
            <a:ext cx="1533240" cy="703080"/>
            <a:chOff x="1604880" y="4168800"/>
            <a:chExt cx="1533240" cy="703080"/>
          </a:xfrm>
        </p:grpSpPr>
        <p:sp>
          <p:nvSpPr>
            <p:cNvPr id="696" name=""/>
            <p:cNvSpPr/>
            <p:nvPr/>
          </p:nvSpPr>
          <p:spPr>
            <a:xfrm>
              <a:off x="1604880" y="4168800"/>
              <a:ext cx="965160" cy="703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27320" y="4194000"/>
              <a:ext cx="91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984240" y="5046840"/>
            <a:ext cx="2268000" cy="703080"/>
            <a:chOff x="984240" y="5046840"/>
            <a:chExt cx="2268000" cy="703080"/>
          </a:xfrm>
        </p:grpSpPr>
        <p:sp>
          <p:nvSpPr>
            <p:cNvPr id="699" name=""/>
            <p:cNvSpPr/>
            <p:nvPr/>
          </p:nvSpPr>
          <p:spPr>
            <a:xfrm>
              <a:off x="984240" y="5046840"/>
              <a:ext cx="965880" cy="703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07040" y="5070960"/>
              <a:ext cx="164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zerviz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61800" y="5925960"/>
            <a:ext cx="3249360" cy="703440"/>
            <a:chOff x="361800" y="5925960"/>
            <a:chExt cx="3249360" cy="703440"/>
          </a:xfrm>
        </p:grpSpPr>
        <p:sp>
          <p:nvSpPr>
            <p:cNvPr id="702" name=""/>
            <p:cNvSpPr/>
            <p:nvPr/>
          </p:nvSpPr>
          <p:spPr>
            <a:xfrm>
              <a:off x="361800" y="5925960"/>
              <a:ext cx="966240" cy="703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87480" y="5950080"/>
              <a:ext cx="26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Budapest.szerviz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705640" y="4114800"/>
            <a:ext cx="1770840" cy="789120"/>
            <a:chOff x="5705640" y="4114800"/>
            <a:chExt cx="1770840" cy="789120"/>
          </a:xfrm>
        </p:grpSpPr>
        <p:sp>
          <p:nvSpPr>
            <p:cNvPr id="705" name=""/>
            <p:cNvSpPr/>
            <p:nvPr/>
          </p:nvSpPr>
          <p:spPr>
            <a:xfrm>
              <a:off x="5705640" y="4114800"/>
              <a:ext cx="1067040" cy="789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95040" y="41378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Bicikli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030640" y="5105520"/>
            <a:ext cx="2505600" cy="788760"/>
            <a:chOff x="5030640" y="5105520"/>
            <a:chExt cx="2505600" cy="788760"/>
          </a:xfrm>
        </p:grpSpPr>
        <p:sp>
          <p:nvSpPr>
            <p:cNvPr id="708" name=""/>
            <p:cNvSpPr/>
            <p:nvPr/>
          </p:nvSpPr>
          <p:spPr>
            <a:xfrm>
              <a:off x="5030640" y="5105520"/>
              <a:ext cx="1067040" cy="788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20400" y="5128560"/>
              <a:ext cx="18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zerviz.bicikli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3401280" y="62485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516080" y="62485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230880" y="287280"/>
            <a:ext cx="2639880" cy="520920"/>
            <a:chOff x="6230880" y="287280"/>
            <a:chExt cx="2639880" cy="520920"/>
          </a:xfrm>
        </p:grpSpPr>
        <p:grpSp>
          <p:nvGrpSpPr>
            <p:cNvPr id="713" name=""/>
            <p:cNvGrpSpPr/>
            <p:nvPr/>
          </p:nvGrpSpPr>
          <p:grpSpPr>
            <a:xfrm>
              <a:off x="6230880" y="287280"/>
              <a:ext cx="1006560" cy="520920"/>
              <a:chOff x="6230880" y="287280"/>
              <a:chExt cx="1006560" cy="520920"/>
            </a:xfrm>
          </p:grpSpPr>
          <p:sp>
            <p:nvSpPr>
              <p:cNvPr id="714" name=""/>
              <p:cNvSpPr/>
              <p:nvPr/>
            </p:nvSpPr>
            <p:spPr>
              <a:xfrm flipH="1" flipV="1">
                <a:off x="6798960" y="42156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667920" y="28728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18000" y="479160"/>
                <a:ext cx="13464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0880" y="67176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66120" y="47916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55400" y="6714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81880" y="671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6386760" y="42372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735240" y="42408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6297480" y="61488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6451560" y="61452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 flipV="1">
                <a:off x="6799320" y="6141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13520" y="47916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02800" y="6714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7147080" y="6141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29280" y="671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404760" y="6717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6648840" y="61560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6996240" y="61560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7401600" y="287280"/>
              <a:ext cx="1006200" cy="520920"/>
              <a:chOff x="7401600" y="287280"/>
              <a:chExt cx="1006200" cy="520920"/>
            </a:xfrm>
          </p:grpSpPr>
          <p:sp>
            <p:nvSpPr>
              <p:cNvPr id="734" name=""/>
              <p:cNvSpPr/>
              <p:nvPr/>
            </p:nvSpPr>
            <p:spPr>
              <a:xfrm flipH="1" flipV="1">
                <a:off x="7969680" y="42156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838280" y="28728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488720" y="479160"/>
                <a:ext cx="13464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401600" y="67176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36840" y="47916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25760" y="6714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752600" y="671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7557120" y="42372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905600" y="42408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7468200" y="61488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>
                <a:off x="7622280" y="61452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 flipV="1">
                <a:off x="7970040" y="6141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183880" y="47916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73160" y="6714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flipV="1">
                <a:off x="8317440" y="6141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099640" y="671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575480" y="6717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819200" y="61560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8166600" y="61560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8562960" y="287640"/>
              <a:ext cx="307800" cy="520200"/>
              <a:chOff x="8562960" y="287640"/>
              <a:chExt cx="307800" cy="520200"/>
            </a:xfrm>
          </p:grpSpPr>
          <p:sp>
            <p:nvSpPr>
              <p:cNvPr id="754" name=""/>
              <p:cNvSpPr/>
              <p:nvPr/>
            </p:nvSpPr>
            <p:spPr>
              <a:xfrm>
                <a:off x="8648640" y="2876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647200" y="47952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736120" y="67176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562960" y="67176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8715960" y="42444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>
                <a:off x="8780400" y="61452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8629560" y="61632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ém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436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objektumok tulajdonságait leíró adatbáz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ctive Directory ezt is a címtárban tárol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chema Naming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schema" descr=""/>
          <p:cNvPicPr/>
          <p:nvPr/>
        </p:nvPicPr>
        <p:blipFill>
          <a:blip r:embed="rId2"/>
          <a:stretch/>
        </p:blipFill>
        <p:spPr>
          <a:xfrm>
            <a:off x="909720" y="2994120"/>
            <a:ext cx="79405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Globális Katalógus (GC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0880" y="1266480"/>
            <a:ext cx="8383680" cy="539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ímtárban történő keresést könnyí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objektumról egy szűkített kivonatot tartalma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redeti objektumok hozzáférési jogait megörök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ármely tartományvezérlő lehet G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ejelentkezéshez kell egy GC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ző szinten replikálód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éretezésre ügyelni ke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64520" y="318960"/>
            <a:ext cx="498600" cy="432000"/>
          </a:xfrm>
          <a:prstGeom prst="hexagon">
            <a:avLst>
              <a:gd name="adj" fmla="val 28854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173160" y="1558800"/>
            <a:ext cx="3523680" cy="3533760"/>
            <a:chOff x="173160" y="1558800"/>
            <a:chExt cx="3523680" cy="3533760"/>
          </a:xfrm>
        </p:grpSpPr>
        <p:sp>
          <p:nvSpPr>
            <p:cNvPr id="768" name=""/>
            <p:cNvSpPr/>
            <p:nvPr/>
          </p:nvSpPr>
          <p:spPr>
            <a:xfrm>
              <a:off x="1452240" y="1558800"/>
              <a:ext cx="977760" cy="925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12520" y="2863800"/>
              <a:ext cx="980640" cy="923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3160" y="4167000"/>
              <a:ext cx="980640" cy="925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65320" y="2863800"/>
              <a:ext cx="980640" cy="923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16200" y="4163760"/>
              <a:ext cx="980640" cy="925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52240" y="4163760"/>
              <a:ext cx="977760" cy="925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292040" y="2490480"/>
              <a:ext cx="156960" cy="37764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2420280" y="2487600"/>
              <a:ext cx="147240" cy="38088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658800" y="3782880"/>
              <a:ext cx="158040" cy="39384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1780560" y="3779280"/>
              <a:ext cx="168120" cy="3906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3039480" y="3773160"/>
              <a:ext cx="168120" cy="39348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 Globális Katalógus tartalma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71360" y="1560600"/>
            <a:ext cx="3523680" cy="3533040"/>
            <a:chOff x="171360" y="1560600"/>
            <a:chExt cx="3523680" cy="3533040"/>
          </a:xfrm>
        </p:grpSpPr>
        <p:sp>
          <p:nvSpPr>
            <p:cNvPr id="781" name=""/>
            <p:cNvSpPr/>
            <p:nvPr/>
          </p:nvSpPr>
          <p:spPr>
            <a:xfrm>
              <a:off x="1450080" y="1560600"/>
              <a:ext cx="97740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10360" y="2864520"/>
              <a:ext cx="98064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2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1360" y="4168800"/>
              <a:ext cx="97992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f0600"/>
                </a:gs>
                <a:gs pos="100000">
                  <a:srgbClr val="ff6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63520" y="2864520"/>
              <a:ext cx="97992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f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14400" y="4165560"/>
              <a:ext cx="98064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24200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450080" y="4165560"/>
              <a:ext cx="97740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800"/>
                </a:gs>
                <a:gs pos="100000">
                  <a:srgbClr val="008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290600" y="2491560"/>
              <a:ext cx="155880" cy="37872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2419200" y="2489040"/>
              <a:ext cx="147600" cy="3816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56640" y="3783960"/>
              <a:ext cx="159120" cy="39312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1779480" y="3780720"/>
              <a:ext cx="167760" cy="38988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3038400" y="3775320"/>
              <a:ext cx="167040" cy="39312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712880" y="1994040"/>
            <a:ext cx="479520" cy="415800"/>
          </a:xfrm>
          <a:prstGeom prst="hexagon">
            <a:avLst>
              <a:gd name="adj" fmla="val 28831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700280" y="1992240"/>
            <a:ext cx="6210360" cy="3336840"/>
            <a:chOff x="1700280" y="1992240"/>
            <a:chExt cx="6210360" cy="3336840"/>
          </a:xfrm>
        </p:grpSpPr>
        <p:grpSp>
          <p:nvGrpSpPr>
            <p:cNvPr id="794" name=""/>
            <p:cNvGrpSpPr/>
            <p:nvPr/>
          </p:nvGrpSpPr>
          <p:grpSpPr>
            <a:xfrm>
              <a:off x="1714680" y="1992240"/>
              <a:ext cx="6186600" cy="3333600"/>
              <a:chOff x="1714680" y="1992240"/>
              <a:chExt cx="6186600" cy="3333600"/>
            </a:xfrm>
          </p:grpSpPr>
          <p:sp>
            <p:nvSpPr>
              <p:cNvPr id="795" name=""/>
              <p:cNvSpPr/>
              <p:nvPr/>
            </p:nvSpPr>
            <p:spPr>
              <a:xfrm>
                <a:off x="2071800" y="2409840"/>
                <a:ext cx="5133960" cy="2887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071800" y="1992240"/>
                <a:ext cx="5143680" cy="905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830600" y="1993680"/>
                <a:ext cx="4013280" cy="912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714680" y="2201760"/>
                <a:ext cx="3395520" cy="18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830600" y="2405160"/>
                <a:ext cx="4003560" cy="2920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205360" y="2211480"/>
                <a:ext cx="5695920" cy="189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5126040" y="2905200"/>
              <a:ext cx="2784600" cy="2412720"/>
            </a:xfrm>
            <a:prstGeom prst="hexagon">
              <a:avLst>
                <a:gd name="adj" fmla="val 28853"/>
                <a:gd name="vf" fmla="val 115470"/>
              </a:avLst>
            </a:prstGeom>
            <a:gradFill rotWithShape="0">
              <a:gsLst>
                <a:gs pos="0">
                  <a:srgbClr val="000c09"/>
                </a:gs>
                <a:gs pos="100000">
                  <a:srgbClr val="00cc9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700280" y="2004840"/>
              <a:ext cx="5496120" cy="3324240"/>
            </a:xfrm>
            <a:custGeom>
              <a:avLst/>
              <a:gdLst/>
              <a:ahLst/>
              <a:rect l="l" t="t" r="r" b="b"/>
              <a:pathLst>
                <a:path w="3462" h="2094">
                  <a:moveTo>
                    <a:pt x="2592" y="2094"/>
                  </a:moveTo>
                  <a:lnTo>
                    <a:pt x="72" y="264"/>
                  </a:lnTo>
                  <a:lnTo>
                    <a:pt x="0" y="132"/>
                  </a:lnTo>
                  <a:lnTo>
                    <a:pt x="60" y="0"/>
                  </a:lnTo>
                  <a:lnTo>
                    <a:pt x="222" y="0"/>
                  </a:lnTo>
                  <a:lnTo>
                    <a:pt x="3462" y="570"/>
                  </a:lnTo>
                  <a:lnTo>
                    <a:pt x="2580" y="570"/>
                  </a:lnTo>
                  <a:lnTo>
                    <a:pt x="2142" y="1332"/>
                  </a:lnTo>
                  <a:lnTo>
                    <a:pt x="2592" y="209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039680" y="3289320"/>
            <a:ext cx="479520" cy="415800"/>
          </a:xfrm>
          <a:prstGeom prst="hexagon">
            <a:avLst>
              <a:gd name="adj" fmla="val 28831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35320" y="3289320"/>
            <a:ext cx="479160" cy="415800"/>
          </a:xfrm>
          <a:prstGeom prst="hexagon">
            <a:avLst>
              <a:gd name="adj" fmla="val 28810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30200" y="4622760"/>
            <a:ext cx="479520" cy="415800"/>
          </a:xfrm>
          <a:prstGeom prst="hexagon">
            <a:avLst>
              <a:gd name="adj" fmla="val 28831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87680" y="4622760"/>
            <a:ext cx="479160" cy="415800"/>
          </a:xfrm>
          <a:prstGeom prst="hexagon">
            <a:avLst>
              <a:gd name="adj" fmla="val 28810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44800" y="4622760"/>
            <a:ext cx="479520" cy="415800"/>
          </a:xfrm>
          <a:prstGeom prst="hexagon">
            <a:avLst>
              <a:gd name="adj" fmla="val 28831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26240" y="4122720"/>
            <a:ext cx="1387440" cy="1216080"/>
          </a:xfrm>
          <a:custGeom>
            <a:avLst/>
            <a:gdLst/>
            <a:ahLst/>
            <a:rect l="l" t="t" r="r" b="b"/>
            <a:pathLst>
              <a:path w="874" h="766">
                <a:moveTo>
                  <a:pt x="0" y="766"/>
                </a:moveTo>
                <a:lnTo>
                  <a:pt x="430" y="0"/>
                </a:lnTo>
                <a:lnTo>
                  <a:pt x="874" y="766"/>
                </a:lnTo>
                <a:lnTo>
                  <a:pt x="0" y="76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18320" y="2913120"/>
            <a:ext cx="1393560" cy="1206360"/>
          </a:xfrm>
          <a:custGeom>
            <a:avLst/>
            <a:gdLst/>
            <a:ahLst/>
            <a:rect l="l" t="t" r="r" b="b"/>
            <a:pathLst>
              <a:path w="878" h="760">
                <a:moveTo>
                  <a:pt x="878" y="0"/>
                </a:moveTo>
                <a:lnTo>
                  <a:pt x="435" y="760"/>
                </a:lnTo>
                <a:lnTo>
                  <a:pt x="0" y="0"/>
                </a:lnTo>
                <a:lnTo>
                  <a:pt x="878" y="0"/>
                </a:lnTo>
                <a:close/>
              </a:path>
            </a:pathLst>
          </a:cu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508800" y="2913120"/>
            <a:ext cx="1404720" cy="1206360"/>
          </a:xfrm>
          <a:custGeom>
            <a:avLst/>
            <a:gdLst/>
            <a:ahLst/>
            <a:rect l="l" t="t" r="r" b="b"/>
            <a:pathLst>
              <a:path w="885" h="760">
                <a:moveTo>
                  <a:pt x="885" y="759"/>
                </a:moveTo>
                <a:lnTo>
                  <a:pt x="0" y="760"/>
                </a:lnTo>
                <a:lnTo>
                  <a:pt x="446" y="0"/>
                </a:lnTo>
                <a:lnTo>
                  <a:pt x="885" y="75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22800" y="2919240"/>
            <a:ext cx="1390680" cy="1204920"/>
          </a:xfrm>
          <a:custGeom>
            <a:avLst/>
            <a:gdLst/>
            <a:ahLst/>
            <a:rect l="l" t="t" r="r" b="b"/>
            <a:pathLst>
              <a:path w="876" h="759">
                <a:moveTo>
                  <a:pt x="438" y="0"/>
                </a:moveTo>
                <a:lnTo>
                  <a:pt x="876" y="759"/>
                </a:lnTo>
                <a:lnTo>
                  <a:pt x="0" y="758"/>
                </a:lnTo>
                <a:lnTo>
                  <a:pt x="438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08800" y="4119480"/>
            <a:ext cx="1407960" cy="1222560"/>
          </a:xfrm>
          <a:custGeom>
            <a:avLst/>
            <a:gdLst/>
            <a:ahLst/>
            <a:rect l="l" t="t" r="r" b="b"/>
            <a:pathLst>
              <a:path w="887" h="770">
                <a:moveTo>
                  <a:pt x="444" y="770"/>
                </a:moveTo>
                <a:lnTo>
                  <a:pt x="0" y="0"/>
                </a:lnTo>
                <a:lnTo>
                  <a:pt x="887" y="2"/>
                </a:lnTo>
                <a:lnTo>
                  <a:pt x="444" y="77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16680" y="4122720"/>
            <a:ext cx="1392120" cy="1216080"/>
          </a:xfrm>
          <a:custGeom>
            <a:avLst/>
            <a:gdLst/>
            <a:ahLst/>
            <a:rect l="l" t="t" r="r" b="b"/>
            <a:pathLst>
              <a:path w="877" h="766">
                <a:moveTo>
                  <a:pt x="0" y="0"/>
                </a:moveTo>
                <a:lnTo>
                  <a:pt x="877" y="0"/>
                </a:lnTo>
                <a:lnTo>
                  <a:pt x="444" y="76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03800" y="2103480"/>
            <a:ext cx="828720" cy="817560"/>
          </a:xfrm>
          <a:prstGeom prst="downArrow">
            <a:avLst>
              <a:gd name="adj1" fmla="val 49806"/>
              <a:gd name="adj2" fmla="val 40000"/>
            </a:avLst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886280" y="1263960"/>
            <a:ext cx="4098960" cy="703800"/>
          </a:xfrm>
          <a:prstGeom prst="rect">
            <a:avLst/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C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inden adatot tartalmaz a saját tartományáró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32240" y="6140160"/>
            <a:ext cx="5711760" cy="610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e kivonatos formában tárolja az erdő összes többi tartományának adatait 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4540320" y="2602440"/>
            <a:ext cx="4007880" cy="3542400"/>
            <a:chOff x="4540320" y="2602440"/>
            <a:chExt cx="4007880" cy="3542400"/>
          </a:xfrm>
        </p:grpSpPr>
        <p:sp>
          <p:nvSpPr>
            <p:cNvPr id="818" name=""/>
            <p:cNvSpPr/>
            <p:nvPr/>
          </p:nvSpPr>
          <p:spPr>
            <a:xfrm rot="3600000">
              <a:off x="7452360" y="2756520"/>
              <a:ext cx="82836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7200000">
              <a:off x="7572600" y="4516920"/>
              <a:ext cx="82872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0800000">
              <a:off x="6091200" y="5327280"/>
              <a:ext cx="82872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4400000">
              <a:off x="4686840" y="4506840"/>
              <a:ext cx="82872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8000000">
              <a:off x="4704480" y="2877120"/>
              <a:ext cx="82872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„Windows 2000” kihívás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8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sokkal több, mint a Windows NT egy újabb verzió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új operációs rendszer, amelynek rengeteg új szolgáltatása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Összetett, nagy és „sokkoló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zakmának időben fel kell készülnie annak érdekében, hogy képes legyen Windows 2000 alapú rendszereket tervezni és üzemeltet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feladat nehéz, de nem lehetetl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artíció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653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artíció = Windows 2000 tartomá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tartományvezérlő egyszerre csak  egy tartományt kezel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-altartomány kapcsolat = Tru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rust kapcsolat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tranzití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megbízik B-ben és B megbízik C-ben, akkor A is megbízik C-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tartománynak akárhány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egyenrangú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vezérlője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többé PDC és BD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42880" y="247680"/>
            <a:ext cx="8601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xed vs </a:t>
            </a:r>
            <a:r>
              <a:rPr b="1" lang="hu-HU" sz="4800" spc="-1" strike="noStrike">
                <a:solidFill>
                  <a:srgbClr val="5f5f5f"/>
                </a:solidFill>
                <a:latin typeface="Arial"/>
              </a:rPr>
              <a:t>Native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o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44520" y="1319040"/>
            <a:ext cx="7288200" cy="435636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0" y="1711440"/>
            <a:ext cx="1797480" cy="2191680"/>
            <a:chOff x="0" y="1711440"/>
            <a:chExt cx="1797480" cy="2191680"/>
          </a:xfrm>
        </p:grpSpPr>
        <p:grpSp>
          <p:nvGrpSpPr>
            <p:cNvPr id="828" name=""/>
            <p:cNvGrpSpPr/>
            <p:nvPr/>
          </p:nvGrpSpPr>
          <p:grpSpPr>
            <a:xfrm>
              <a:off x="0" y="1711440"/>
              <a:ext cx="1797480" cy="1740960"/>
              <a:chOff x="0" y="1711440"/>
              <a:chExt cx="1797480" cy="17409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17400" y="1711440"/>
                <a:ext cx="1087920" cy="1380960"/>
                <a:chOff x="617400" y="1711440"/>
                <a:chExt cx="1087920" cy="138096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617400" y="1795680"/>
                  <a:ext cx="601560" cy="1296720"/>
                </a:xfrm>
                <a:custGeom>
                  <a:avLst/>
                  <a:gdLst/>
                  <a:ahLst/>
                  <a:rect l="l" t="t" r="r" b="b"/>
                  <a:pathLst>
                    <a:path w="360" h="936">
                      <a:moveTo>
                        <a:pt x="359" y="157"/>
                      </a:moveTo>
                      <a:lnTo>
                        <a:pt x="359" y="935"/>
                      </a:lnTo>
                      <a:lnTo>
                        <a:pt x="0" y="713"/>
                      </a:lnTo>
                      <a:lnTo>
                        <a:pt x="0" y="0"/>
                      </a:lnTo>
                      <a:lnTo>
                        <a:pt x="359" y="15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217520" y="1920600"/>
                  <a:ext cx="481320" cy="1171800"/>
                </a:xfrm>
                <a:custGeom>
                  <a:avLst/>
                  <a:gdLst/>
                  <a:ahLst/>
                  <a:rect l="l" t="t" r="r" b="b"/>
                  <a:pathLst>
                    <a:path w="288" h="846">
                      <a:moveTo>
                        <a:pt x="0" y="67"/>
                      </a:moveTo>
                      <a:lnTo>
                        <a:pt x="0" y="845"/>
                      </a:lnTo>
                      <a:lnTo>
                        <a:pt x="287" y="767"/>
                      </a:lnTo>
                      <a:lnTo>
                        <a:pt x="287" y="0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294560" y="1992600"/>
                  <a:ext cx="345600" cy="104040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  <a:lnTo>
                        <a:pt x="206" y="7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294560" y="1992600"/>
                  <a:ext cx="345600" cy="104040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1302480" y="2902680"/>
                  <a:ext cx="335880" cy="7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294560" y="2133720"/>
                  <a:ext cx="342720" cy="488880"/>
                </a:xfrm>
                <a:custGeom>
                  <a:avLst/>
                  <a:gdLst/>
                  <a:ahLst/>
                  <a:rect l="l" t="t" r="r" b="b"/>
                  <a:pathLst>
                    <a:path w="205" h="353">
                      <a:moveTo>
                        <a:pt x="204" y="0"/>
                      </a:moveTo>
                      <a:lnTo>
                        <a:pt x="0" y="50"/>
                      </a:lnTo>
                      <a:lnTo>
                        <a:pt x="0" y="352"/>
                      </a:lnTo>
                      <a:lnTo>
                        <a:pt x="204" y="296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1298880" y="2241720"/>
                  <a:ext cx="33228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1297080" y="2350080"/>
                  <a:ext cx="33444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1302840" y="2446920"/>
                  <a:ext cx="32904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1347840" y="2193480"/>
                  <a:ext cx="244080" cy="453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1347840" y="2301480"/>
                  <a:ext cx="244080" cy="453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1347840" y="2409480"/>
                  <a:ext cx="244080" cy="453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1347840" y="2514960"/>
                  <a:ext cx="244080" cy="453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344600" y="2090880"/>
                  <a:ext cx="60120" cy="3024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411200" y="2190600"/>
                  <a:ext cx="128880" cy="55080"/>
                </a:xfrm>
                <a:custGeom>
                  <a:avLst/>
                  <a:gdLst/>
                  <a:ahLst/>
                  <a:rect l="l" t="t" r="r" b="b"/>
                  <a:pathLst>
                    <a:path w="77" h="40">
                      <a:moveTo>
                        <a:pt x="76" y="0"/>
                      </a:moveTo>
                      <a:lnTo>
                        <a:pt x="76" y="22"/>
                      </a:lnTo>
                      <a:lnTo>
                        <a:pt x="0" y="39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411200" y="2290320"/>
                  <a:ext cx="128880" cy="583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411200" y="2398320"/>
                  <a:ext cx="128880" cy="583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411200" y="2503440"/>
                  <a:ext cx="128880" cy="583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1302480" y="2851200"/>
                  <a:ext cx="335880" cy="7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1302480" y="2800080"/>
                  <a:ext cx="335880" cy="7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17400" y="1711440"/>
                  <a:ext cx="1087920" cy="306000"/>
                </a:xfrm>
                <a:custGeom>
                  <a:avLst/>
                  <a:gdLst/>
                  <a:ahLst/>
                  <a:rect l="l" t="t" r="r" b="b"/>
                  <a:pathLst>
                    <a:path w="651" h="221">
                      <a:moveTo>
                        <a:pt x="650" y="151"/>
                      </a:moveTo>
                      <a:lnTo>
                        <a:pt x="359" y="220"/>
                      </a:lnTo>
                      <a:lnTo>
                        <a:pt x="0" y="63"/>
                      </a:lnTo>
                      <a:lnTo>
                        <a:pt x="283" y="0"/>
                      </a:lnTo>
                      <a:lnTo>
                        <a:pt x="650" y="1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0" y="2314080"/>
                <a:ext cx="1197360" cy="933480"/>
                <a:chOff x="0" y="2314080"/>
                <a:chExt cx="1197360" cy="93348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50400" y="2984760"/>
                  <a:ext cx="1146960" cy="26280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0400" y="2984760"/>
                  <a:ext cx="1146960" cy="26280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0" y="2314080"/>
                  <a:ext cx="739440" cy="5904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0" y="2314080"/>
                  <a:ext cx="739440" cy="5904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33560" y="2470680"/>
                  <a:ext cx="240480" cy="64800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6480" y="2991600"/>
                  <a:ext cx="532080" cy="12996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56480" y="2991600"/>
                  <a:ext cx="532080" cy="12996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74400" y="2430360"/>
                  <a:ext cx="762480" cy="68832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81320" y="2506680"/>
                  <a:ext cx="556920" cy="50400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03640" y="2539800"/>
                  <a:ext cx="491400" cy="42660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3800" y="3012480"/>
                  <a:ext cx="1104840" cy="20232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63760" y="2656440"/>
                  <a:ext cx="45000" cy="1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33560" y="2341800"/>
                  <a:ext cx="1003320" cy="2350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623880" y="3060720"/>
                <a:ext cx="1173600" cy="391680"/>
                <a:chOff x="623880" y="3060720"/>
                <a:chExt cx="1173600" cy="39168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623880" y="3211560"/>
                  <a:ext cx="1173600" cy="24084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23880" y="3211560"/>
                  <a:ext cx="1173600" cy="24084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30360" y="3060720"/>
                  <a:ext cx="1166760" cy="3585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19280" y="3117240"/>
                  <a:ext cx="686880" cy="16308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76160" y="3177000"/>
                  <a:ext cx="671760" cy="20052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361160" y="3147840"/>
                  <a:ext cx="140040" cy="496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450080" y="3198960"/>
                  <a:ext cx="122040" cy="4824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481760" y="3120120"/>
                  <a:ext cx="226800" cy="9828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4" name=""/>
            <p:cNvSpPr/>
            <p:nvPr/>
          </p:nvSpPr>
          <p:spPr>
            <a:xfrm>
              <a:off x="443520" y="344340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B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6733800" y="1711440"/>
            <a:ext cx="2086200" cy="2256840"/>
            <a:chOff x="6733800" y="1711440"/>
            <a:chExt cx="2086200" cy="2256840"/>
          </a:xfrm>
        </p:grpSpPr>
        <p:grpSp>
          <p:nvGrpSpPr>
            <p:cNvPr id="876" name=""/>
            <p:cNvGrpSpPr/>
            <p:nvPr/>
          </p:nvGrpSpPr>
          <p:grpSpPr>
            <a:xfrm>
              <a:off x="6733800" y="1711440"/>
              <a:ext cx="2086200" cy="1895400"/>
              <a:chOff x="6733800" y="1711440"/>
              <a:chExt cx="2086200" cy="1895400"/>
            </a:xfrm>
          </p:grpSpPr>
          <p:grpSp>
            <p:nvGrpSpPr>
              <p:cNvPr id="877" name=""/>
              <p:cNvGrpSpPr/>
              <p:nvPr/>
            </p:nvGrpSpPr>
            <p:grpSpPr>
              <a:xfrm>
                <a:off x="6840720" y="1711440"/>
                <a:ext cx="1262880" cy="1503720"/>
                <a:chOff x="6840720" y="1711440"/>
                <a:chExt cx="1262880" cy="1503720"/>
              </a:xfrm>
            </p:grpSpPr>
            <p:sp>
              <p:nvSpPr>
                <p:cNvPr id="878" name=""/>
                <p:cNvSpPr/>
                <p:nvPr/>
              </p:nvSpPr>
              <p:spPr>
                <a:xfrm flipH="1">
                  <a:off x="7405200" y="1803240"/>
                  <a:ext cx="698400" cy="1411920"/>
                </a:xfrm>
                <a:custGeom>
                  <a:avLst/>
                  <a:gdLst/>
                  <a:ahLst/>
                  <a:rect l="l" t="t" r="r" b="b"/>
                  <a:pathLst>
                    <a:path w="360" h="936">
                      <a:moveTo>
                        <a:pt x="359" y="157"/>
                      </a:moveTo>
                      <a:lnTo>
                        <a:pt x="359" y="935"/>
                      </a:lnTo>
                      <a:lnTo>
                        <a:pt x="0" y="713"/>
                      </a:lnTo>
                      <a:lnTo>
                        <a:pt x="0" y="0"/>
                      </a:lnTo>
                      <a:lnTo>
                        <a:pt x="359" y="15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6848280" y="1938960"/>
                  <a:ext cx="558720" cy="1276200"/>
                </a:xfrm>
                <a:custGeom>
                  <a:avLst/>
                  <a:gdLst/>
                  <a:ahLst/>
                  <a:rect l="l" t="t" r="r" b="b"/>
                  <a:pathLst>
                    <a:path w="288" h="846">
                      <a:moveTo>
                        <a:pt x="0" y="67"/>
                      </a:moveTo>
                      <a:lnTo>
                        <a:pt x="0" y="845"/>
                      </a:lnTo>
                      <a:lnTo>
                        <a:pt x="287" y="767"/>
                      </a:lnTo>
                      <a:lnTo>
                        <a:pt x="287" y="0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6916680" y="2017440"/>
                  <a:ext cx="401040" cy="113292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  <a:lnTo>
                        <a:pt x="206" y="7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6916680" y="2017440"/>
                  <a:ext cx="401040" cy="113292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918480" y="3008520"/>
                  <a:ext cx="38988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6919560" y="2171520"/>
                  <a:ext cx="397800" cy="532440"/>
                </a:xfrm>
                <a:custGeom>
                  <a:avLst/>
                  <a:gdLst/>
                  <a:ahLst/>
                  <a:rect l="l" t="t" r="r" b="b"/>
                  <a:pathLst>
                    <a:path w="205" h="353">
                      <a:moveTo>
                        <a:pt x="204" y="0"/>
                      </a:moveTo>
                      <a:lnTo>
                        <a:pt x="0" y="50"/>
                      </a:lnTo>
                      <a:lnTo>
                        <a:pt x="0" y="352"/>
                      </a:lnTo>
                      <a:lnTo>
                        <a:pt x="204" y="296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926040" y="2288880"/>
                  <a:ext cx="38592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926040" y="2406600"/>
                  <a:ext cx="3880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926400" y="2512440"/>
                  <a:ext cx="3819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972840" y="2236320"/>
                  <a:ext cx="283320" cy="49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972840" y="2354040"/>
                  <a:ext cx="283320" cy="49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972840" y="2471760"/>
                  <a:ext cx="283320" cy="49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972840" y="2586240"/>
                  <a:ext cx="283320" cy="49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7189920" y="2124360"/>
                  <a:ext cx="69840" cy="331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7032240" y="2233440"/>
                  <a:ext cx="149400" cy="60120"/>
                </a:xfrm>
                <a:custGeom>
                  <a:avLst/>
                  <a:gdLst/>
                  <a:ahLst/>
                  <a:rect l="l" t="t" r="r" b="b"/>
                  <a:pathLst>
                    <a:path w="77" h="40">
                      <a:moveTo>
                        <a:pt x="76" y="0"/>
                      </a:moveTo>
                      <a:lnTo>
                        <a:pt x="76" y="22"/>
                      </a:lnTo>
                      <a:lnTo>
                        <a:pt x="0" y="39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7032240" y="2341800"/>
                  <a:ext cx="149400" cy="6336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7032240" y="2459520"/>
                  <a:ext cx="149400" cy="6336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7032240" y="2574000"/>
                  <a:ext cx="149400" cy="6336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918480" y="2952720"/>
                  <a:ext cx="38988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918480" y="2896920"/>
                  <a:ext cx="38988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>
                  <a:off x="6840720" y="1711440"/>
                  <a:ext cx="1262880" cy="333360"/>
                </a:xfrm>
                <a:custGeom>
                  <a:avLst/>
                  <a:gdLst/>
                  <a:ahLst/>
                  <a:rect l="l" t="t" r="r" b="b"/>
                  <a:pathLst>
                    <a:path w="651" h="221">
                      <a:moveTo>
                        <a:pt x="650" y="151"/>
                      </a:moveTo>
                      <a:lnTo>
                        <a:pt x="359" y="220"/>
                      </a:lnTo>
                      <a:lnTo>
                        <a:pt x="0" y="63"/>
                      </a:lnTo>
                      <a:lnTo>
                        <a:pt x="283" y="0"/>
                      </a:lnTo>
                      <a:lnTo>
                        <a:pt x="650" y="1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7430400" y="2367360"/>
                <a:ext cx="1389600" cy="1016280"/>
                <a:chOff x="7430400" y="2367360"/>
                <a:chExt cx="1389600" cy="1016280"/>
              </a:xfrm>
            </p:grpSpPr>
            <p:sp>
              <p:nvSpPr>
                <p:cNvPr id="900" name=""/>
                <p:cNvSpPr/>
                <p:nvPr/>
              </p:nvSpPr>
              <p:spPr>
                <a:xfrm flipH="1">
                  <a:off x="7430400" y="3097440"/>
                  <a:ext cx="1331280" cy="28620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7430400" y="3097440"/>
                  <a:ext cx="1331280" cy="28620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7961760" y="2367360"/>
                  <a:ext cx="857880" cy="6426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7961760" y="2367360"/>
                  <a:ext cx="857880" cy="6426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385480" y="2538000"/>
                  <a:ext cx="279360" cy="70560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7672680" y="3105000"/>
                  <a:ext cx="617400" cy="1414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7672680" y="3105000"/>
                  <a:ext cx="617400" cy="1414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>
                  <a:off x="7500600" y="2494080"/>
                  <a:ext cx="884880" cy="74916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7614720" y="2576880"/>
                  <a:ext cx="646200" cy="54900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7665480" y="2613240"/>
                  <a:ext cx="570240" cy="46440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7452000" y="3127680"/>
                  <a:ext cx="1282320" cy="21996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8113320" y="2739960"/>
                  <a:ext cx="52200" cy="114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>
                  <a:off x="7500600" y="2397600"/>
                  <a:ext cx="1164240" cy="25596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733800" y="3180600"/>
                <a:ext cx="1362240" cy="426240"/>
                <a:chOff x="6733800" y="3180600"/>
                <a:chExt cx="1362240" cy="426240"/>
              </a:xfrm>
            </p:grpSpPr>
            <p:sp>
              <p:nvSpPr>
                <p:cNvPr id="914" name=""/>
                <p:cNvSpPr/>
                <p:nvPr/>
              </p:nvSpPr>
              <p:spPr>
                <a:xfrm flipH="1">
                  <a:off x="6733800" y="3344760"/>
                  <a:ext cx="1362240" cy="26208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>
                  <a:off x="6733800" y="3344760"/>
                  <a:ext cx="1362240" cy="26208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>
                  <a:off x="6733800" y="3180600"/>
                  <a:ext cx="1354320" cy="39024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7187400" y="3242160"/>
                  <a:ext cx="797400" cy="17748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7139520" y="3307320"/>
                  <a:ext cx="779760" cy="21816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7077600" y="3275280"/>
                  <a:ext cx="162720" cy="5400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>
                  <a:off x="6995520" y="3331080"/>
                  <a:ext cx="141480" cy="5256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>
                  <a:off x="6836760" y="3245400"/>
                  <a:ext cx="263520" cy="1069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2" name=""/>
            <p:cNvSpPr/>
            <p:nvPr/>
          </p:nvSpPr>
          <p:spPr>
            <a:xfrm flipH="1">
              <a:off x="7544520" y="35085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P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5302080" y="3142440"/>
            <a:ext cx="1433520" cy="585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17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906560" y="3142440"/>
            <a:ext cx="1433520" cy="58572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47880" y="2658960"/>
            <a:ext cx="4835520" cy="19080"/>
          </a:xfrm>
          <a:prstGeom prst="line">
            <a:avLst/>
          </a:prstGeom>
          <a:ln w="13032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42880" y="247680"/>
            <a:ext cx="8601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xed vs </a:t>
            </a:r>
            <a:r>
              <a:rPr b="1" lang="hu-HU" sz="4800" spc="-1" strike="noStrike">
                <a:solidFill>
                  <a:srgbClr val="5f5f5f"/>
                </a:solidFill>
                <a:latin typeface="Arial"/>
              </a:rPr>
              <a:t>Native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mo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44520" y="1319040"/>
            <a:ext cx="4959360" cy="256248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0" y="1643040"/>
            <a:ext cx="1401120" cy="1713240"/>
            <a:chOff x="0" y="1643040"/>
            <a:chExt cx="1401120" cy="1713240"/>
          </a:xfrm>
        </p:grpSpPr>
        <p:grpSp>
          <p:nvGrpSpPr>
            <p:cNvPr id="929" name=""/>
            <p:cNvGrpSpPr/>
            <p:nvPr/>
          </p:nvGrpSpPr>
          <p:grpSpPr>
            <a:xfrm>
              <a:off x="0" y="1643040"/>
              <a:ext cx="1401120" cy="1261800"/>
              <a:chOff x="0" y="1643040"/>
              <a:chExt cx="1401120" cy="1261800"/>
            </a:xfrm>
          </p:grpSpPr>
          <p:grpSp>
            <p:nvGrpSpPr>
              <p:cNvPr id="930" name=""/>
              <p:cNvGrpSpPr/>
              <p:nvPr/>
            </p:nvGrpSpPr>
            <p:grpSpPr>
              <a:xfrm>
                <a:off x="480960" y="1643040"/>
                <a:ext cx="848160" cy="1000800"/>
                <a:chOff x="480960" y="1643040"/>
                <a:chExt cx="848160" cy="100080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480960" y="1704240"/>
                  <a:ext cx="468720" cy="939600"/>
                </a:xfrm>
                <a:custGeom>
                  <a:avLst/>
                  <a:gdLst/>
                  <a:ahLst/>
                  <a:rect l="l" t="t" r="r" b="b"/>
                  <a:pathLst>
                    <a:path w="360" h="936">
                      <a:moveTo>
                        <a:pt x="359" y="157"/>
                      </a:moveTo>
                      <a:lnTo>
                        <a:pt x="359" y="935"/>
                      </a:lnTo>
                      <a:lnTo>
                        <a:pt x="0" y="713"/>
                      </a:lnTo>
                      <a:lnTo>
                        <a:pt x="0" y="0"/>
                      </a:lnTo>
                      <a:lnTo>
                        <a:pt x="359" y="15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948600" y="1794600"/>
                  <a:ext cx="375120" cy="849240"/>
                </a:xfrm>
                <a:custGeom>
                  <a:avLst/>
                  <a:gdLst/>
                  <a:ahLst/>
                  <a:rect l="l" t="t" r="r" b="b"/>
                  <a:pathLst>
                    <a:path w="288" h="846">
                      <a:moveTo>
                        <a:pt x="0" y="67"/>
                      </a:moveTo>
                      <a:lnTo>
                        <a:pt x="0" y="845"/>
                      </a:lnTo>
                      <a:lnTo>
                        <a:pt x="287" y="767"/>
                      </a:lnTo>
                      <a:lnTo>
                        <a:pt x="287" y="0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008720" y="1846440"/>
                  <a:ext cx="269280" cy="75384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  <a:lnTo>
                        <a:pt x="206" y="7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008720" y="1846440"/>
                  <a:ext cx="269280" cy="75384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>
                  <a:off x="1014840" y="2505960"/>
                  <a:ext cx="26172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008720" y="1949040"/>
                  <a:ext cx="267120" cy="354240"/>
                </a:xfrm>
                <a:custGeom>
                  <a:avLst/>
                  <a:gdLst/>
                  <a:ahLst/>
                  <a:rect l="l" t="t" r="r" b="b"/>
                  <a:pathLst>
                    <a:path w="205" h="353">
                      <a:moveTo>
                        <a:pt x="204" y="0"/>
                      </a:moveTo>
                      <a:lnTo>
                        <a:pt x="0" y="50"/>
                      </a:lnTo>
                      <a:lnTo>
                        <a:pt x="0" y="352"/>
                      </a:lnTo>
                      <a:lnTo>
                        <a:pt x="204" y="296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1011960" y="2027520"/>
                  <a:ext cx="25884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1010880" y="2105640"/>
                  <a:ext cx="260640" cy="5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1015200" y="2175840"/>
                  <a:ext cx="256320" cy="5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1050480" y="1992240"/>
                  <a:ext cx="190080" cy="327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1050480" y="2070720"/>
                  <a:ext cx="190080" cy="327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1050480" y="2148840"/>
                  <a:ext cx="190080" cy="327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1050480" y="2225160"/>
                  <a:ext cx="190080" cy="327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047600" y="1917720"/>
                  <a:ext cx="46800" cy="2196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099800" y="1990080"/>
                  <a:ext cx="100440" cy="39960"/>
                </a:xfrm>
                <a:custGeom>
                  <a:avLst/>
                  <a:gdLst/>
                  <a:ahLst/>
                  <a:rect l="l" t="t" r="r" b="b"/>
                  <a:pathLst>
                    <a:path w="77" h="40">
                      <a:moveTo>
                        <a:pt x="76" y="0"/>
                      </a:moveTo>
                      <a:lnTo>
                        <a:pt x="76" y="22"/>
                      </a:lnTo>
                      <a:lnTo>
                        <a:pt x="0" y="39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099800" y="2062440"/>
                  <a:ext cx="100440" cy="421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099800" y="2140560"/>
                  <a:ext cx="100440" cy="421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099800" y="2216880"/>
                  <a:ext cx="100440" cy="421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1014840" y="2468880"/>
                  <a:ext cx="261720" cy="5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1014840" y="2431800"/>
                  <a:ext cx="261720" cy="5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0960" y="1643040"/>
                  <a:ext cx="848160" cy="221760"/>
                </a:xfrm>
                <a:custGeom>
                  <a:avLst/>
                  <a:gdLst/>
                  <a:ahLst/>
                  <a:rect l="l" t="t" r="r" b="b"/>
                  <a:pathLst>
                    <a:path w="651" h="221">
                      <a:moveTo>
                        <a:pt x="650" y="151"/>
                      </a:moveTo>
                      <a:lnTo>
                        <a:pt x="359" y="220"/>
                      </a:lnTo>
                      <a:lnTo>
                        <a:pt x="0" y="63"/>
                      </a:lnTo>
                      <a:lnTo>
                        <a:pt x="283" y="0"/>
                      </a:lnTo>
                      <a:lnTo>
                        <a:pt x="650" y="1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0" y="2079360"/>
                <a:ext cx="933120" cy="676440"/>
                <a:chOff x="0" y="2079360"/>
                <a:chExt cx="933120" cy="67644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39240" y="2565360"/>
                  <a:ext cx="893880" cy="1904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9240" y="2565360"/>
                  <a:ext cx="893880" cy="1904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0" y="2079360"/>
                  <a:ext cx="576360" cy="4276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0" y="2079360"/>
                  <a:ext cx="576360" cy="4276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04040" y="2192760"/>
                  <a:ext cx="187560" cy="46944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55680" y="2570040"/>
                  <a:ext cx="414720" cy="9396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55680" y="2570040"/>
                  <a:ext cx="414720" cy="9396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91960" y="2163600"/>
                  <a:ext cx="594360" cy="4986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75120" y="2218680"/>
                  <a:ext cx="434160" cy="3650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92400" y="2242800"/>
                  <a:ext cx="383040" cy="30888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7600" y="2585160"/>
                  <a:ext cx="861120" cy="14652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439560" y="2327400"/>
                  <a:ext cx="34920" cy="7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04040" y="2099520"/>
                  <a:ext cx="781920" cy="170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486000" y="2620800"/>
                <a:ext cx="915120" cy="284040"/>
                <a:chOff x="486000" y="2620800"/>
                <a:chExt cx="915120" cy="2840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86000" y="2730240"/>
                  <a:ext cx="915120" cy="1746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86000" y="2730240"/>
                  <a:ext cx="915120" cy="1746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91040" y="2620800"/>
                  <a:ext cx="909720" cy="25992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60160" y="2661840"/>
                  <a:ext cx="535320" cy="11808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04800" y="2705040"/>
                  <a:ext cx="523800" cy="14544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060920" y="2683800"/>
                  <a:ext cx="109080" cy="3600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130040" y="2720880"/>
                  <a:ext cx="95040" cy="3492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154880" y="2664000"/>
                  <a:ext cx="176760" cy="709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5" name=""/>
            <p:cNvSpPr/>
            <p:nvPr/>
          </p:nvSpPr>
          <p:spPr>
            <a:xfrm>
              <a:off x="346680" y="289656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B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4422600" y="1843200"/>
            <a:ext cx="1452600" cy="1423440"/>
            <a:chOff x="4422600" y="1843200"/>
            <a:chExt cx="1452600" cy="1423440"/>
          </a:xfrm>
        </p:grpSpPr>
        <p:grpSp>
          <p:nvGrpSpPr>
            <p:cNvPr id="977" name=""/>
            <p:cNvGrpSpPr/>
            <p:nvPr/>
          </p:nvGrpSpPr>
          <p:grpSpPr>
            <a:xfrm>
              <a:off x="4921200" y="1843200"/>
              <a:ext cx="879120" cy="1129320"/>
              <a:chOff x="4921200" y="1843200"/>
              <a:chExt cx="879120" cy="1129320"/>
            </a:xfrm>
          </p:grpSpPr>
          <p:sp>
            <p:nvSpPr>
              <p:cNvPr id="978" name=""/>
              <p:cNvSpPr/>
              <p:nvPr/>
            </p:nvSpPr>
            <p:spPr>
              <a:xfrm>
                <a:off x="4921200" y="1911960"/>
                <a:ext cx="486000" cy="10602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406120" y="2014200"/>
                <a:ext cx="388800" cy="95832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68040" y="2072880"/>
                <a:ext cx="279360" cy="85068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468040" y="2072880"/>
                <a:ext cx="279360" cy="85068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5474520" y="2817000"/>
                <a:ext cx="2710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468040" y="2188440"/>
                <a:ext cx="276840" cy="39960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5472000" y="2277000"/>
                <a:ext cx="26856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5470560" y="2365200"/>
                <a:ext cx="27000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5474880" y="2444760"/>
                <a:ext cx="26568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5510880" y="223740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5510880" y="232560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5510880" y="241416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5510880" y="250020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508720" y="2153160"/>
                <a:ext cx="48600" cy="2484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562360" y="2234880"/>
                <a:ext cx="104040" cy="4500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562360" y="231624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62360" y="240480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62360" y="249084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5474520" y="2775240"/>
                <a:ext cx="27108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5474520" y="2733480"/>
                <a:ext cx="27108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21200" y="1843200"/>
                <a:ext cx="879120" cy="2502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4422600" y="2335680"/>
              <a:ext cx="966960" cy="763200"/>
              <a:chOff x="4422600" y="2335680"/>
              <a:chExt cx="966960" cy="763200"/>
            </a:xfrm>
          </p:grpSpPr>
          <p:sp>
            <p:nvSpPr>
              <p:cNvPr id="1000" name=""/>
              <p:cNvSpPr/>
              <p:nvPr/>
            </p:nvSpPr>
            <p:spPr>
              <a:xfrm>
                <a:off x="4463280" y="2883960"/>
                <a:ext cx="926280" cy="2149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463280" y="2883960"/>
                <a:ext cx="926280" cy="2149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422600" y="2335680"/>
                <a:ext cx="597240" cy="4824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422600" y="2335680"/>
                <a:ext cx="597240" cy="4824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530600" y="2463480"/>
                <a:ext cx="194400" cy="52956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791240" y="2889360"/>
                <a:ext cx="429480" cy="10620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791240" y="2889360"/>
                <a:ext cx="429480" cy="10620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5000" y="2430720"/>
                <a:ext cx="615960" cy="56268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811400" y="2493000"/>
                <a:ext cx="449640" cy="4122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829040" y="2520000"/>
                <a:ext cx="396720" cy="3484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482000" y="2906280"/>
                <a:ext cx="892440" cy="1652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878000" y="2615400"/>
                <a:ext cx="36360" cy="8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530600" y="2358360"/>
                <a:ext cx="810360" cy="1922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926600" y="2946240"/>
              <a:ext cx="948600" cy="320400"/>
              <a:chOff x="4926600" y="2946240"/>
              <a:chExt cx="948600" cy="320400"/>
            </a:xfrm>
          </p:grpSpPr>
          <p:sp>
            <p:nvSpPr>
              <p:cNvPr id="1014" name=""/>
              <p:cNvSpPr/>
              <p:nvPr/>
            </p:nvSpPr>
            <p:spPr>
              <a:xfrm>
                <a:off x="4926600" y="3069720"/>
                <a:ext cx="948600" cy="1969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26600" y="3069720"/>
                <a:ext cx="948600" cy="1969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32000" y="2946240"/>
                <a:ext cx="942840" cy="29304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03640" y="2992680"/>
                <a:ext cx="555120" cy="133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49720" y="3041280"/>
                <a:ext cx="542880" cy="16380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522400" y="3017520"/>
                <a:ext cx="113040" cy="406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594040" y="3059280"/>
                <a:ext cx="98640" cy="392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619960" y="2994840"/>
                <a:ext cx="183240" cy="802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2" name=""/>
          <p:cNvSpPr/>
          <p:nvPr/>
        </p:nvSpPr>
        <p:spPr>
          <a:xfrm>
            <a:off x="5927400" y="259092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 2000 DC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DC emulá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473120" y="2788200"/>
            <a:ext cx="1243080" cy="58572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380960" y="2155680"/>
            <a:ext cx="3024360" cy="19080"/>
          </a:xfrm>
          <a:prstGeom prst="line">
            <a:avLst/>
          </a:prstGeom>
          <a:ln w="13032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308480" y="3159000"/>
            <a:ext cx="2730600" cy="2489400"/>
            <a:chOff x="4308480" y="3159000"/>
            <a:chExt cx="2730600" cy="2489400"/>
          </a:xfrm>
        </p:grpSpPr>
        <p:sp>
          <p:nvSpPr>
            <p:cNvPr id="1026" name=""/>
            <p:cNvSpPr/>
            <p:nvPr/>
          </p:nvSpPr>
          <p:spPr>
            <a:xfrm>
              <a:off x="4308480" y="3159000"/>
              <a:ext cx="2730600" cy="2489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4718520" y="47998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001480" y="481608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284080" y="481032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5445720" y="4827240"/>
              <a:ext cx="92160" cy="35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5838120" y="481032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5919120" y="48222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259320" y="481032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6270480" y="48222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 flipV="1">
              <a:off x="5906880" y="42141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5901120" y="42141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5429160" y="42141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094360" y="42141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 flipV="1">
              <a:off x="5675760" y="361800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5439240" y="358992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556240" y="337680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320800" y="398016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76200" y="398016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480" y="45824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136560" y="45824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15760" y="45824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92760" y="45824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01160" y="51858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50880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1692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70240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967360" y="51858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3628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7152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14152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42880" y="247680"/>
            <a:ext cx="8601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5f5f5f"/>
                </a:solidFill>
                <a:latin typeface="Arial"/>
              </a:rPr>
              <a:t>Mixed v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Native mo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912960" y="2532240"/>
            <a:ext cx="1559880" cy="1434240"/>
            <a:chOff x="912960" y="2532240"/>
            <a:chExt cx="1559880" cy="1434240"/>
          </a:xfrm>
        </p:grpSpPr>
        <p:grpSp>
          <p:nvGrpSpPr>
            <p:cNvPr id="1058" name=""/>
            <p:cNvGrpSpPr/>
            <p:nvPr/>
          </p:nvGrpSpPr>
          <p:grpSpPr>
            <a:xfrm>
              <a:off x="1448640" y="2532240"/>
              <a:ext cx="944280" cy="1137960"/>
              <a:chOff x="1448640" y="2532240"/>
              <a:chExt cx="944280" cy="1137960"/>
            </a:xfrm>
          </p:grpSpPr>
          <p:sp>
            <p:nvSpPr>
              <p:cNvPr id="1059" name=""/>
              <p:cNvSpPr/>
              <p:nvPr/>
            </p:nvSpPr>
            <p:spPr>
              <a:xfrm>
                <a:off x="1448640" y="2601720"/>
                <a:ext cx="522000" cy="10684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969200" y="2704320"/>
                <a:ext cx="417600" cy="96588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36160" y="2763720"/>
                <a:ext cx="299880" cy="85716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36160" y="2763720"/>
                <a:ext cx="299880" cy="85716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2043000" y="3513960"/>
                <a:ext cx="2912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036160" y="2880360"/>
                <a:ext cx="297360" cy="40284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2040120" y="2969280"/>
                <a:ext cx="28836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038680" y="3058560"/>
                <a:ext cx="29016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2043000" y="3138480"/>
                <a:ext cx="28548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2082600" y="2929320"/>
                <a:ext cx="211680" cy="37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2082600" y="3018600"/>
                <a:ext cx="211680" cy="37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082600" y="3107520"/>
                <a:ext cx="211680" cy="37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2082600" y="3194280"/>
                <a:ext cx="211680" cy="37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079360" y="2844720"/>
                <a:ext cx="52200" cy="2484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137320" y="2927160"/>
                <a:ext cx="111600" cy="45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137320" y="3009240"/>
                <a:ext cx="111600" cy="478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37320" y="3098160"/>
                <a:ext cx="111600" cy="478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37320" y="3184920"/>
                <a:ext cx="111600" cy="478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2043000" y="3471480"/>
                <a:ext cx="29124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2043000" y="3429360"/>
                <a:ext cx="29124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448640" y="2532240"/>
                <a:ext cx="944280" cy="25236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912960" y="3028680"/>
              <a:ext cx="1038600" cy="768960"/>
              <a:chOff x="912960" y="3028680"/>
              <a:chExt cx="1038600" cy="768960"/>
            </a:xfrm>
          </p:grpSpPr>
          <p:sp>
            <p:nvSpPr>
              <p:cNvPr id="1081" name=""/>
              <p:cNvSpPr/>
              <p:nvPr/>
            </p:nvSpPr>
            <p:spPr>
              <a:xfrm>
                <a:off x="956520" y="3581280"/>
                <a:ext cx="995040" cy="2163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956520" y="3581280"/>
                <a:ext cx="995040" cy="2163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912960" y="3028680"/>
                <a:ext cx="6415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912960" y="3028680"/>
                <a:ext cx="6415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28880" y="3157560"/>
                <a:ext cx="208800" cy="5338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308960" y="3587040"/>
                <a:ext cx="4615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308960" y="3587040"/>
                <a:ext cx="4615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237680" y="3124440"/>
                <a:ext cx="661320" cy="56700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30560" y="3187080"/>
                <a:ext cx="483120" cy="415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349640" y="3214800"/>
                <a:ext cx="426240" cy="3513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977040" y="3603960"/>
                <a:ext cx="958680" cy="1666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401840" y="3310560"/>
                <a:ext cx="3888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28880" y="3051720"/>
                <a:ext cx="870480" cy="1936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1454040" y="3643920"/>
              <a:ext cx="1018800" cy="322560"/>
              <a:chOff x="1454040" y="3643920"/>
              <a:chExt cx="1018800" cy="322560"/>
            </a:xfrm>
          </p:grpSpPr>
          <p:sp>
            <p:nvSpPr>
              <p:cNvPr id="1095" name=""/>
              <p:cNvSpPr/>
              <p:nvPr/>
            </p:nvSpPr>
            <p:spPr>
              <a:xfrm>
                <a:off x="1454040" y="3768120"/>
                <a:ext cx="101880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454040" y="3768120"/>
                <a:ext cx="101880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459800" y="3643920"/>
                <a:ext cx="1012680" cy="2955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536840" y="3690720"/>
                <a:ext cx="596160" cy="1342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586160" y="3739680"/>
                <a:ext cx="582840" cy="1652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093760" y="3715560"/>
                <a:ext cx="121680" cy="41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170800" y="3758040"/>
                <a:ext cx="105840" cy="396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98520" y="3692880"/>
                <a:ext cx="196920" cy="8100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498600" y="40165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2000 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1687680" y="1552680"/>
            <a:ext cx="4748040" cy="4525920"/>
            <a:chOff x="1687680" y="1552680"/>
            <a:chExt cx="4748040" cy="4525920"/>
          </a:xfrm>
        </p:grpSpPr>
        <p:sp>
          <p:nvSpPr>
            <p:cNvPr id="1105" name=""/>
            <p:cNvSpPr/>
            <p:nvPr/>
          </p:nvSpPr>
          <p:spPr>
            <a:xfrm>
              <a:off x="1687680" y="1552680"/>
              <a:ext cx="4748040" cy="4525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2401200" y="4535280"/>
              <a:ext cx="621720" cy="70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892960" y="4566240"/>
              <a:ext cx="160200" cy="67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3384360" y="4555440"/>
              <a:ext cx="260640" cy="68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3664800" y="4586040"/>
              <a:ext cx="16020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4347360" y="4555440"/>
              <a:ext cx="129960" cy="68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4487760" y="4576320"/>
              <a:ext cx="280440" cy="66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5079960" y="4555440"/>
              <a:ext cx="160560" cy="68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flipV="1">
              <a:off x="5100120" y="4576320"/>
              <a:ext cx="591840" cy="66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 flipV="1">
              <a:off x="4467960" y="3471120"/>
              <a:ext cx="591840" cy="66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4457520" y="3471120"/>
              <a:ext cx="9720" cy="66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3636360" y="3471120"/>
              <a:ext cx="28800" cy="66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54240" y="3471120"/>
              <a:ext cx="600840" cy="66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4065480" y="2386800"/>
              <a:ext cx="350640" cy="65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3654000" y="2336760"/>
              <a:ext cx="411480" cy="70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57040" y="1949040"/>
              <a:ext cx="423720" cy="4280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448080" y="30459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239720" y="30459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829960" y="41403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66480" y="41403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439440" y="41403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68520" y="41403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9672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1376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1512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1192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200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03964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66688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13596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2503440" y="3174840"/>
            <a:ext cx="3094200" cy="88920"/>
          </a:xfrm>
          <a:prstGeom prst="line">
            <a:avLst/>
          </a:prstGeom>
          <a:ln w="130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5783400" y="2532240"/>
            <a:ext cx="1452600" cy="1423440"/>
            <a:chOff x="5783400" y="2532240"/>
            <a:chExt cx="1452600" cy="1423440"/>
          </a:xfrm>
        </p:grpSpPr>
        <p:grpSp>
          <p:nvGrpSpPr>
            <p:cNvPr id="1137" name=""/>
            <p:cNvGrpSpPr/>
            <p:nvPr/>
          </p:nvGrpSpPr>
          <p:grpSpPr>
            <a:xfrm>
              <a:off x="6282000" y="2532240"/>
              <a:ext cx="879120" cy="1129320"/>
              <a:chOff x="6282000" y="2532240"/>
              <a:chExt cx="879120" cy="1129320"/>
            </a:xfrm>
          </p:grpSpPr>
          <p:sp>
            <p:nvSpPr>
              <p:cNvPr id="1138" name=""/>
              <p:cNvSpPr/>
              <p:nvPr/>
            </p:nvSpPr>
            <p:spPr>
              <a:xfrm>
                <a:off x="6282000" y="2601000"/>
                <a:ext cx="486000" cy="10602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766920" y="2703240"/>
                <a:ext cx="388800" cy="95832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828840" y="2761920"/>
                <a:ext cx="279360" cy="85068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828840" y="2761920"/>
                <a:ext cx="279360" cy="85068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6835320" y="3506040"/>
                <a:ext cx="2710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28840" y="2877480"/>
                <a:ext cx="276840" cy="39960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832800" y="2966040"/>
                <a:ext cx="26856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6831360" y="3054240"/>
                <a:ext cx="27000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6835680" y="3133800"/>
                <a:ext cx="26568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6871680" y="292644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6871680" y="301464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6871680" y="310320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6871680" y="318924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69520" y="2842200"/>
                <a:ext cx="48600" cy="2484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23160" y="2923920"/>
                <a:ext cx="104040" cy="4500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23160" y="300528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23160" y="309384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923160" y="317988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6835320" y="3464280"/>
                <a:ext cx="27108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6835320" y="3422520"/>
                <a:ext cx="27108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282000" y="2532240"/>
                <a:ext cx="879120" cy="2502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5783400" y="3024720"/>
              <a:ext cx="966960" cy="763200"/>
              <a:chOff x="5783400" y="3024720"/>
              <a:chExt cx="966960" cy="763200"/>
            </a:xfrm>
          </p:grpSpPr>
          <p:sp>
            <p:nvSpPr>
              <p:cNvPr id="1160" name=""/>
              <p:cNvSpPr/>
              <p:nvPr/>
            </p:nvSpPr>
            <p:spPr>
              <a:xfrm>
                <a:off x="5824080" y="3573000"/>
                <a:ext cx="926280" cy="2149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24080" y="3573000"/>
                <a:ext cx="926280" cy="2149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783400" y="3024720"/>
                <a:ext cx="597240" cy="4824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783400" y="3024720"/>
                <a:ext cx="597240" cy="4824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91400" y="3152520"/>
                <a:ext cx="194400" cy="52956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152040" y="3578400"/>
                <a:ext cx="429480" cy="10620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152040" y="3578400"/>
                <a:ext cx="429480" cy="10620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085800" y="3119760"/>
                <a:ext cx="615960" cy="56268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72200" y="3182040"/>
                <a:ext cx="449640" cy="4122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89840" y="3209040"/>
                <a:ext cx="396720" cy="3484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42800" y="3595320"/>
                <a:ext cx="892440" cy="1652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38800" y="3304440"/>
                <a:ext cx="36360" cy="8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1400" y="3047400"/>
                <a:ext cx="810360" cy="1922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6287400" y="3635280"/>
              <a:ext cx="948600" cy="320400"/>
              <a:chOff x="6287400" y="3635280"/>
              <a:chExt cx="948600" cy="320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6287400" y="3758760"/>
                <a:ext cx="948600" cy="1969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87400" y="3758760"/>
                <a:ext cx="948600" cy="1969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292800" y="3635280"/>
                <a:ext cx="942840" cy="29304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364440" y="3681720"/>
                <a:ext cx="555120" cy="133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410520" y="3730320"/>
                <a:ext cx="542880" cy="16380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883200" y="3706560"/>
                <a:ext cx="113040" cy="406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954840" y="3748320"/>
                <a:ext cx="98640" cy="392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980760" y="3683880"/>
                <a:ext cx="183240" cy="802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2" name=""/>
          <p:cNvSpPr/>
          <p:nvPr/>
        </p:nvSpPr>
        <p:spPr>
          <a:xfrm>
            <a:off x="6181920" y="395748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2000 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évhasználati környezet</a:t>
            </a:r>
            <a:br>
              <a:rPr sz="4800"/>
            </a:br>
            <a:r>
              <a:rPr b="1" lang="en-US" sz="3200" spc="-1" strike="noStrike">
                <a:solidFill>
                  <a:srgbClr val="eea564"/>
                </a:solidFill>
                <a:latin typeface="Arial"/>
              </a:rPr>
              <a:t>Naming Context</a:t>
            </a: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 (NC)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78000" y="1630440"/>
            <a:ext cx="8385120" cy="370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is-IS" sz="3200" spc="-1" strike="noStrike">
                <a:solidFill>
                  <a:srgbClr val="ffffff"/>
                </a:solidFill>
                <a:latin typeface="Arial"/>
              </a:rPr>
              <a:t>égió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is-IS" sz="3200" spc="-1" strike="noStrike">
                <a:solidFill>
                  <a:srgbClr val="ffffff"/>
                </a:solidFill>
                <a:latin typeface="Arial"/>
              </a:rPr>
              <a:t> az AD adatbázisá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200" spc="-1" strike="noStrike">
                <a:solidFill>
                  <a:srgbClr val="ffffff"/>
                </a:solidFill>
                <a:latin typeface="Arial"/>
              </a:rPr>
              <a:t>Eltérő replikációs szabályok vonatkoznak ráj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éldák</a:t>
            </a:r>
            <a:r>
              <a:rPr b="1" lang="is-I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eea564"/>
                </a:solidFill>
                <a:latin typeface="Arial"/>
              </a:rPr>
              <a:t>Konfiguráció</a:t>
            </a:r>
            <a:r>
              <a:rPr b="1" lang="is-IS" sz="2800" spc="-1" strike="noStrike">
                <a:solidFill>
                  <a:srgbClr val="ffffff"/>
                </a:solidFill>
                <a:latin typeface="Arial"/>
              </a:rPr>
              <a:t> (az erdőre vonatkozi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5686dc"/>
                </a:solidFill>
                <a:latin typeface="Arial"/>
              </a:rPr>
              <a:t>Séma</a:t>
            </a:r>
            <a:r>
              <a:rPr b="1" lang="is-IS" sz="2800" spc="-1" strike="noStrike">
                <a:solidFill>
                  <a:srgbClr val="ffffff"/>
                </a:solidFill>
                <a:latin typeface="Arial"/>
              </a:rPr>
              <a:t> (az erdőre vonatkozi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is-IS" sz="2800" spc="-1" strike="noStrike">
                <a:solidFill>
                  <a:srgbClr val="00cc66"/>
                </a:solidFill>
                <a:latin typeface="Arial"/>
              </a:rPr>
              <a:t>erdő tartományai</a:t>
            </a:r>
            <a:r>
              <a:rPr b="1" lang="hu-HU" sz="2800" spc="-1" strike="noStrike">
                <a:solidFill>
                  <a:srgbClr val="00cc66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az a partíció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7985160" y="4599000"/>
            <a:ext cx="919080" cy="1625760"/>
            <a:chOff x="7985160" y="4599000"/>
            <a:chExt cx="919080" cy="1625760"/>
          </a:xfrm>
        </p:grpSpPr>
        <p:sp>
          <p:nvSpPr>
            <p:cNvPr id="1186" name=""/>
            <p:cNvSpPr/>
            <p:nvPr/>
          </p:nvSpPr>
          <p:spPr>
            <a:xfrm>
              <a:off x="7985160" y="5781960"/>
              <a:ext cx="914400" cy="442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89840" y="5558040"/>
              <a:ext cx="914400" cy="442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9840" y="5085000"/>
              <a:ext cx="914400" cy="682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989840" y="4599000"/>
              <a:ext cx="914400" cy="682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k – 1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94920" y="1281240"/>
            <a:ext cx="8528040" cy="4884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D telephelyei azonosak az Exchange és az SMS telephely fogalmáv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ásként kell replikálni telephelyen kívül és belü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állítható transzport, költség, ütem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elephelyek site linkek segítségével kapcsolódnak egymásho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2000 B3-tól a site linkek tranzitív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k - 2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163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voli telephely = lassú a kapcsolat (&lt;10 mbp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Ökölszabál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telephely nem vághat félbe egy IP alhálózat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telephely lehetőleg NE nyúljon át WAN kapcsolatok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telephelyen legy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ob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talog Server (G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telephelyen legyen DNS kiszolgál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ctive Directory replikáci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15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eplikáció célj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415360" cy="361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obusztus - multi mas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tékony – tulajdonság szintű, költségérzék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ugalmas – többféle transzport, időz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nnyen felügyelhető - automatikus topológia generá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eplikáció alapfogalmai - 1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78000" y="1130400"/>
            <a:ext cx="8766000" cy="564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USN alapú, Multi-mas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plikációt kiváltó művelet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7520" indent="-41940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bjektum létrehozás, módosítás, mozgatás, törl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rissítés elsőkézből (originating updat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7520" indent="-41940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rissítést egy adott DC kezdeményez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rissítés másodkézből (replicated updat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7520" indent="-41940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rissítést egy replikációs partner (egy másik DC) kezdeményez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objektumok törlésekor sírkő keletkezik (nincs azonnali törlé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eplikáció alapfogalmai - 2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271440" y="1258560"/>
            <a:ext cx="8872560" cy="541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High-watermark vekt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Megmondja, hogy kell-e replikálni vel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eplikációs partnerek legmagasabb USN-jeit tartalmaz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Up-to-dateness vekt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Megmondja, hogy mit kell replikálno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ming context-enké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egmagasabb kiinduló USN-eket tartalmaz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2162160" y="1481040"/>
            <a:ext cx="6981840" cy="3743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7440" y="1044720"/>
            <a:ext cx="2017800" cy="15238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838080" y="1219320"/>
          <a:ext cx="81288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5" name=""/>
          <p:cNvSpPr/>
          <p:nvPr/>
        </p:nvSpPr>
        <p:spPr>
          <a:xfrm>
            <a:off x="22968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47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4381560"/>
            <a:ext cx="434340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rea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209680" y="565632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04812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ersion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34340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72572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514600" y="3276720"/>
            <a:ext cx="20574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565632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04812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3962520" y="121932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12193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7" name=""/>
          <p:cNvSpPr/>
          <p:nvPr/>
        </p:nvSpPr>
        <p:spPr>
          <a:xfrm flipH="1">
            <a:off x="1828440" y="1523880"/>
            <a:ext cx="205740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799800" y="163980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elhasználó felvét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977760" y="255420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638680" y="527544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8ea8f"/>
                </a:solidFill>
                <a:latin typeface="Arial"/>
              </a:rPr>
              <a:t>Org.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620120" y="565632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638680" y="565632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295280" y="527544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209680" y="527544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34340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Timest</a:t>
            </a:r>
            <a:r>
              <a:rPr b="1" lang="hu-HU" sz="2000" spc="-1" strike="noStrike">
                <a:solidFill>
                  <a:srgbClr val="88ea8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620120" y="527544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Org 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209680" y="603720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34340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603720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04812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620120" y="603720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638680" y="603720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4830840"/>
            <a:ext cx="433548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USN működés közben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Új objektum létrehozása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0" y="1887480"/>
            <a:ext cx="217440" cy="2495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-360" y="941400"/>
            <a:ext cx="9144360" cy="4282920"/>
            <a:chOff x="-360" y="941400"/>
            <a:chExt cx="9144360" cy="4282920"/>
          </a:xfrm>
        </p:grpSpPr>
        <p:sp>
          <p:nvSpPr>
            <p:cNvPr id="1239" name=""/>
            <p:cNvSpPr/>
            <p:nvPr/>
          </p:nvSpPr>
          <p:spPr>
            <a:xfrm>
              <a:off x="5602320" y="941400"/>
              <a:ext cx="2017800" cy="15238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-360" y="1424160"/>
              <a:ext cx="5661000" cy="2958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04280" y="1452600"/>
              <a:ext cx="1539720" cy="3771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242" name=""/>
          <p:cNvGraphicFramePr/>
          <p:nvPr/>
        </p:nvGraphicFramePr>
        <p:xfrm>
          <a:off x="838080" y="1219320"/>
          <a:ext cx="81288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4" name=""/>
          <p:cNvSpPr/>
          <p:nvPr/>
        </p:nvSpPr>
        <p:spPr>
          <a:xfrm>
            <a:off x="38232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47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209680" y="565632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4812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ersion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34340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72200" y="3200400"/>
            <a:ext cx="7621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95280" y="565632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4812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2" name=""/>
          <p:cNvGraphicFramePr/>
          <p:nvPr/>
        </p:nvGraphicFramePr>
        <p:xfrm>
          <a:off x="5137200" y="96984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7200" y="96984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4" name=""/>
          <p:cNvSpPr/>
          <p:nvPr/>
        </p:nvSpPr>
        <p:spPr>
          <a:xfrm>
            <a:off x="1676520" y="2209680"/>
            <a:ext cx="4343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8600" y="16747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plik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977760" y="255420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638680" y="527544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8ea8f"/>
                </a:solidFill>
                <a:latin typeface="Arial"/>
              </a:rPr>
              <a:t>Org.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20120" y="565632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638680" y="565632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95280" y="527544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209680" y="527544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34340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Time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620120" y="527544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Org 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209680" y="603720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34340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295280" y="603720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04812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603720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638680" y="603720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2" name=""/>
          <p:cNvGraphicFramePr/>
          <p:nvPr/>
        </p:nvGraphicFramePr>
        <p:xfrm>
          <a:off x="6172200" y="1143000"/>
          <a:ext cx="812880" cy="13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114300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4" name=""/>
          <p:cNvSpPr/>
          <p:nvPr/>
        </p:nvSpPr>
        <p:spPr>
          <a:xfrm>
            <a:off x="6327720" y="251316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046040" y="297180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17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087680" y="297180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4383000"/>
            <a:ext cx="434340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rea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0" y="4832280"/>
            <a:ext cx="433548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USN működés közben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Objektum replikációja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0" name=""/>
          <p:cNvGraphicFramePr/>
          <p:nvPr/>
        </p:nvGraphicFramePr>
        <p:xfrm>
          <a:off x="6175440" y="1184400"/>
          <a:ext cx="81288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5440" y="118440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2" name=""/>
          <p:cNvSpPr/>
          <p:nvPr/>
        </p:nvSpPr>
        <p:spPr>
          <a:xfrm>
            <a:off x="6168960" y="254016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172200" y="3357720"/>
            <a:ext cx="7621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39720" y="3129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0" y="5662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09680" y="566244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048120" y="528156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ersion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343400" y="5662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295280" y="566244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048120" y="5662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638680" y="528156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8ea8f"/>
                </a:solidFill>
                <a:latin typeface="Arial"/>
              </a:rPr>
              <a:t>Org.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620120" y="566244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638680" y="566244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528156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295280" y="528156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09680" y="528156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343400" y="528156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Time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20120" y="528156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Org 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604368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09680" y="604368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343400" y="604368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295280" y="604368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048120" y="604368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620120" y="604368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38680" y="604368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4387680"/>
            <a:ext cx="434340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rea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4838760"/>
            <a:ext cx="433548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USN működés közben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Tulajdonság módosítása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-360" y="941400"/>
            <a:ext cx="9144360" cy="4282920"/>
            <a:chOff x="-360" y="941400"/>
            <a:chExt cx="9144360" cy="4282920"/>
          </a:xfrm>
        </p:grpSpPr>
        <p:sp>
          <p:nvSpPr>
            <p:cNvPr id="1310" name=""/>
            <p:cNvSpPr/>
            <p:nvPr/>
          </p:nvSpPr>
          <p:spPr>
            <a:xfrm>
              <a:off x="5602320" y="941400"/>
              <a:ext cx="2017800" cy="15238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-360" y="1424160"/>
              <a:ext cx="5661000" cy="2958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04280" y="1452600"/>
              <a:ext cx="1539720" cy="3771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13" name=""/>
          <p:cNvGraphicFramePr/>
          <p:nvPr/>
        </p:nvGraphicFramePr>
        <p:xfrm>
          <a:off x="7647120" y="91764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47120" y="91764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"/>
          <p:cNvSpPr/>
          <p:nvPr/>
        </p:nvSpPr>
        <p:spPr>
          <a:xfrm>
            <a:off x="7016400" y="13240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elszó vál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6991200" y="1798560"/>
            <a:ext cx="851040" cy="279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087680" y="3129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217440" y="1044720"/>
            <a:ext cx="2017800" cy="15238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0" y="1887480"/>
            <a:ext cx="217440" cy="2495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162160" y="1481040"/>
            <a:ext cx="6981840" cy="3743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1" name=""/>
          <p:cNvGraphicFramePr/>
          <p:nvPr/>
        </p:nvGraphicFramePr>
        <p:xfrm>
          <a:off x="838080" y="1219320"/>
          <a:ext cx="81288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"/>
          <p:cNvSpPr/>
          <p:nvPr/>
        </p:nvSpPr>
        <p:spPr>
          <a:xfrm>
            <a:off x="15372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503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0" y="56419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209680" y="564192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52610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ersion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43400" y="56419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114640" y="3276720"/>
            <a:ext cx="7617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295280" y="564192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048120" y="56419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1" name=""/>
          <p:cNvGraphicFramePr/>
          <p:nvPr/>
        </p:nvGraphicFramePr>
        <p:xfrm>
          <a:off x="5181480" y="129528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2952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3" name=""/>
          <p:cNvSpPr/>
          <p:nvPr/>
        </p:nvSpPr>
        <p:spPr>
          <a:xfrm>
            <a:off x="1676520" y="2209680"/>
            <a:ext cx="43434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6120" y="167472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ódosított jelszó replikáció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977760" y="255420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638680" y="526104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8ea8f"/>
                </a:solidFill>
                <a:latin typeface="Arial"/>
              </a:rPr>
              <a:t>Org.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20120" y="564192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638680" y="564192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52610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295280" y="526104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209680" y="526104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343400" y="52610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Time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620120" y="526104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Org 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60228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209680" y="602280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343400" y="60228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295280" y="602280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048120" y="60228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620120" y="602280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638680" y="602280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1" name=""/>
          <p:cNvGraphicFramePr/>
          <p:nvPr/>
        </p:nvGraphicFramePr>
        <p:xfrm>
          <a:off x="6172200" y="1143000"/>
          <a:ext cx="812880" cy="13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114300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3" name=""/>
          <p:cNvSpPr/>
          <p:nvPr/>
        </p:nvSpPr>
        <p:spPr>
          <a:xfrm>
            <a:off x="6327720" y="251316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7288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94468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4368960"/>
            <a:ext cx="434340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rea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4818240"/>
            <a:ext cx="433548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USN működés közben</a:t>
            </a:r>
            <a:br>
              <a:rPr sz="4800"/>
            </a:br>
            <a:r>
              <a:rPr b="1" lang="hu-HU" sz="2800" spc="-1" strike="noStrike">
                <a:solidFill>
                  <a:srgbClr val="00cc99"/>
                </a:solidFill>
                <a:latin typeface="Arial"/>
              </a:rPr>
              <a:t>ellentétes irányú replikáció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onfliktusok feloldása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 - 1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198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onos attributum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 a felhasználó jelszavát egymástól függetlenül másra állítják két DC-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oldá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verzió szá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időbélye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áltozás egy már kitörölt tároló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endszergazda a DC1-en létrehoz egy felhasználót az OU1-ben, de az OU1-et korábban már kitörölte egy másik rendszergazda a DC2-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oldá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OU1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rlésre kerü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használó átkerül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Lost and Found”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rolób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onfliktusok feloldása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 - 2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85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bjektum név konflikt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, Két rendszergazda azonos néven hoz létre egy-egy felhasználót két DC-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oldá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gyik objektum egy egyedi értéket kap (a GUID-ot hozzáragasztják az eredeti értékhez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lyik marad eredeti néve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verzió szá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időbélyeg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plikációs  model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503280" y="1397160"/>
          <a:ext cx="8370720" cy="4311360"/>
        </p:xfrm>
        <a:graphic>
          <a:graphicData uri="http://schemas.openxmlformats.org/drawingml/2006/table">
            <a:tbl>
              <a:tblPr/>
              <a:tblGrid>
                <a:gridCol w="2114640"/>
                <a:gridCol w="3011400"/>
                <a:gridCol w="3244680"/>
              </a:tblGrid>
              <a:tr h="115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elephelyen belül 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(Intra-Sit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elephelyek között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 (Inter-Sit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ransz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P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PC vagy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opológ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ttős gyűr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nning T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Időzíté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yakr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éterek sze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Replikációs mod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l, tárol és továbbí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ömöríté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n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opológia generál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94920" y="996480"/>
            <a:ext cx="8559720" cy="59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nowledge Consistency Checker (KC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elyi művelet, ami minden DC-n 15 percenként f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adata a Connection object-ek törlése létrehozá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NC szerint egy önálló topológ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onfigurációs és a séma NC azonos topológiát haszná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en tartományi NC-nek önáll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opológia a telephelyek felett alakul 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elephelyen belül (Intra-Site) minden NC-re egy kettős gyűrű épül f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elephelyek között (Inter-Site) fa alakul ki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opológia manuálisan módosíthat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"/>
          <p:cNvGrpSpPr/>
          <p:nvPr/>
        </p:nvGrpSpPr>
        <p:grpSpPr>
          <a:xfrm>
            <a:off x="306000" y="1619640"/>
            <a:ext cx="8301240" cy="4835160"/>
            <a:chOff x="306000" y="1619640"/>
            <a:chExt cx="8301240" cy="4835160"/>
          </a:xfrm>
        </p:grpSpPr>
        <p:sp>
          <p:nvSpPr>
            <p:cNvPr id="1368" name=""/>
            <p:cNvSpPr/>
            <p:nvPr/>
          </p:nvSpPr>
          <p:spPr>
            <a:xfrm>
              <a:off x="843120" y="2685960"/>
              <a:ext cx="7764120" cy="37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506960" y="3476520"/>
              <a:ext cx="673560" cy="1290600"/>
              <a:chOff x="1506960" y="3476520"/>
              <a:chExt cx="673560" cy="1290600"/>
            </a:xfrm>
          </p:grpSpPr>
          <p:pic>
            <p:nvPicPr>
              <p:cNvPr id="13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31880" y="3476520"/>
                <a:ext cx="4215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>
                <a:off x="1506960" y="4400640"/>
                <a:ext cx="673560" cy="366480"/>
              </a:xfrm>
              <a:prstGeom prst="rect">
                <a:avLst/>
              </a:prstGeom>
              <a:gradFill rotWithShape="0">
                <a:gsLst>
                  <a:gs pos="0">
                    <a:srgbClr val="fefec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6651000" y="1631880"/>
              <a:ext cx="1412640" cy="979560"/>
            </a:xfrm>
            <a:prstGeom prst="flowChartExtra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59640" y="2239920"/>
              <a:ext cx="1390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aut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4" name=""/>
            <p:cNvGrpSpPr/>
            <p:nvPr/>
          </p:nvGrpSpPr>
          <p:grpSpPr>
            <a:xfrm>
              <a:off x="306000" y="1899000"/>
              <a:ext cx="5242320" cy="335880"/>
              <a:chOff x="306000" y="1899000"/>
              <a:chExt cx="5242320" cy="335880"/>
            </a:xfrm>
          </p:grpSpPr>
          <p:sp>
            <p:nvSpPr>
              <p:cNvPr id="1375" name=""/>
              <p:cNvSpPr/>
              <p:nvPr/>
            </p:nvSpPr>
            <p:spPr>
              <a:xfrm>
                <a:off x="991080" y="1899000"/>
                <a:ext cx="4557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376" name=""/>
              <p:cNvCxnSpPr/>
              <p:nvPr/>
            </p:nvCxnSpPr>
            <p:spPr>
              <a:xfrm flipH="1" flipV="1">
                <a:off x="306000" y="207108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ff00"/>
                </a:solidFill>
                <a:miter/>
              </a:ln>
            </p:spPr>
          </p:cxnSp>
        </p:grpSp>
        <p:grpSp>
          <p:nvGrpSpPr>
            <p:cNvPr id="1377" name=""/>
            <p:cNvGrpSpPr/>
            <p:nvPr/>
          </p:nvGrpSpPr>
          <p:grpSpPr>
            <a:xfrm>
              <a:off x="306000" y="1619640"/>
              <a:ext cx="5571360" cy="335880"/>
              <a:chOff x="306000" y="1619640"/>
              <a:chExt cx="5571360" cy="335880"/>
            </a:xfrm>
          </p:grpSpPr>
          <p:sp>
            <p:nvSpPr>
              <p:cNvPr id="1378" name=""/>
              <p:cNvSpPr/>
              <p:nvPr/>
            </p:nvSpPr>
            <p:spPr>
              <a:xfrm>
                <a:off x="990720" y="1619640"/>
                <a:ext cx="4886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Konfiguráció és Séma 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379" name=""/>
              <p:cNvCxnSpPr/>
              <p:nvPr/>
            </p:nvCxnSpPr>
            <p:spPr>
              <a:xfrm flipH="1" flipV="1">
                <a:off x="306000" y="179172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0000"/>
                </a:solidFill>
                <a:miter/>
              </a:ln>
            </p:spPr>
          </p:cxnSp>
        </p:grpSp>
      </p:grpSp>
      <p:grpSp>
        <p:nvGrpSpPr>
          <p:cNvPr id="1380" name=""/>
          <p:cNvGrpSpPr/>
          <p:nvPr/>
        </p:nvGrpSpPr>
        <p:grpSpPr>
          <a:xfrm>
            <a:off x="3965400" y="2862360"/>
            <a:ext cx="641520" cy="1290600"/>
            <a:chOff x="3965400" y="2862360"/>
            <a:chExt cx="641520" cy="1290600"/>
          </a:xfrm>
        </p:grpSpPr>
        <p:pic>
          <p:nvPicPr>
            <p:cNvPr id="1381" name="" descr=""/>
            <p:cNvPicPr/>
            <p:nvPr/>
          </p:nvPicPr>
          <p:blipFill>
            <a:blip r:embed="rId3"/>
            <a:stretch/>
          </p:blipFill>
          <p:spPr>
            <a:xfrm>
              <a:off x="4084560" y="2862360"/>
              <a:ext cx="4017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65400" y="3786120"/>
              <a:ext cx="64152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3097080" y="4959360"/>
            <a:ext cx="641520" cy="1290600"/>
            <a:chOff x="3097080" y="4959360"/>
            <a:chExt cx="641520" cy="1290600"/>
          </a:xfrm>
        </p:grpSpPr>
        <p:pic>
          <p:nvPicPr>
            <p:cNvPr id="1384" name="" descr=""/>
            <p:cNvPicPr/>
            <p:nvPr/>
          </p:nvPicPr>
          <p:blipFill>
            <a:blip r:embed="rId4"/>
            <a:stretch/>
          </p:blipFill>
          <p:spPr>
            <a:xfrm>
              <a:off x="3214800" y="4959360"/>
              <a:ext cx="40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"/>
            <p:cNvSpPr/>
            <p:nvPr/>
          </p:nvSpPr>
          <p:spPr>
            <a:xfrm>
              <a:off x="3097080" y="5883480"/>
              <a:ext cx="641520" cy="36648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5338800" y="4956120"/>
            <a:ext cx="641160" cy="1290600"/>
            <a:chOff x="5338800" y="4956120"/>
            <a:chExt cx="641160" cy="1290600"/>
          </a:xfrm>
        </p:grpSpPr>
        <p:pic>
          <p:nvPicPr>
            <p:cNvPr id="1387" name="" descr=""/>
            <p:cNvPicPr/>
            <p:nvPr/>
          </p:nvPicPr>
          <p:blipFill>
            <a:blip r:embed="rId5"/>
            <a:stretch/>
          </p:blipFill>
          <p:spPr>
            <a:xfrm>
              <a:off x="5451120" y="4956120"/>
              <a:ext cx="4014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5338800" y="5879880"/>
              <a:ext cx="64116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2001960" y="3174840"/>
            <a:ext cx="2057400" cy="576360"/>
            <a:chOff x="2001960" y="3174840"/>
            <a:chExt cx="2057400" cy="576360"/>
          </a:xfrm>
        </p:grpSpPr>
        <p:sp>
          <p:nvSpPr>
            <p:cNvPr id="1390" name=""/>
            <p:cNvSpPr/>
            <p:nvPr/>
          </p:nvSpPr>
          <p:spPr>
            <a:xfrm>
              <a:off x="2001960" y="3174840"/>
              <a:ext cx="2057400" cy="576360"/>
            </a:xfrm>
            <a:prstGeom prst="rightArrow">
              <a:avLst>
                <a:gd name="adj1" fmla="val 50000"/>
                <a:gd name="adj2" fmla="val 89241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058840" y="3403440"/>
              <a:ext cx="1866960" cy="180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058840" y="3517920"/>
              <a:ext cx="186696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1968480" y="3713040"/>
            <a:ext cx="1943280" cy="585720"/>
            <a:chOff x="1968480" y="3713040"/>
            <a:chExt cx="1943280" cy="585720"/>
          </a:xfrm>
        </p:grpSpPr>
        <p:sp>
          <p:nvSpPr>
            <p:cNvPr id="1394" name=""/>
            <p:cNvSpPr/>
            <p:nvPr/>
          </p:nvSpPr>
          <p:spPr>
            <a:xfrm>
              <a:off x="1968480" y="3713040"/>
              <a:ext cx="1943280" cy="585720"/>
            </a:xfrm>
            <a:custGeom>
              <a:avLst/>
              <a:gdLst/>
              <a:ahLst/>
              <a:rect l="l" t="t" r="r" b="b"/>
              <a:pathLst>
                <a:path w="1224" h="369">
                  <a:moveTo>
                    <a:pt x="1224" y="93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1224" y="276"/>
                  </a:lnTo>
                  <a:lnTo>
                    <a:pt x="122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2120760" y="3946320"/>
              <a:ext cx="1747800" cy="125640"/>
              <a:chOff x="2120760" y="3946320"/>
              <a:chExt cx="1747800" cy="125640"/>
            </a:xfrm>
          </p:grpSpPr>
          <p:sp>
            <p:nvSpPr>
              <p:cNvPr id="1396" name=""/>
              <p:cNvSpPr/>
              <p:nvPr/>
            </p:nvSpPr>
            <p:spPr>
              <a:xfrm flipH="1">
                <a:off x="2120400" y="394632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2120400" y="407016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8" name=""/>
          <p:cNvGrpSpPr/>
          <p:nvPr/>
        </p:nvGrpSpPr>
        <p:grpSpPr>
          <a:xfrm>
            <a:off x="1503360" y="4414680"/>
            <a:ext cx="1717920" cy="1710720"/>
            <a:chOff x="1503360" y="4414680"/>
            <a:chExt cx="1717920" cy="1710720"/>
          </a:xfrm>
        </p:grpSpPr>
        <p:grpSp>
          <p:nvGrpSpPr>
            <p:cNvPr id="1399" name=""/>
            <p:cNvGrpSpPr/>
            <p:nvPr/>
          </p:nvGrpSpPr>
          <p:grpSpPr>
            <a:xfrm>
              <a:off x="1503360" y="4594680"/>
              <a:ext cx="1717920" cy="1530720"/>
              <a:chOff x="1503360" y="4594680"/>
              <a:chExt cx="1717920" cy="1530720"/>
            </a:xfrm>
          </p:grpSpPr>
          <p:sp>
            <p:nvSpPr>
              <p:cNvPr id="1400" name=""/>
              <p:cNvSpPr/>
              <p:nvPr/>
            </p:nvSpPr>
            <p:spPr>
              <a:xfrm flipH="1" rot="2300400">
                <a:off x="1498680" y="506700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1" name=""/>
              <p:cNvGrpSpPr/>
              <p:nvPr/>
            </p:nvGrpSpPr>
            <p:grpSpPr>
              <a:xfrm>
                <a:off x="1764360" y="4872600"/>
                <a:ext cx="1273680" cy="1043640"/>
                <a:chOff x="1764360" y="4872600"/>
                <a:chExt cx="1273680" cy="1043640"/>
              </a:xfrm>
            </p:grpSpPr>
            <p:sp>
              <p:nvSpPr>
                <p:cNvPr id="1402" name=""/>
                <p:cNvSpPr/>
                <p:nvPr/>
              </p:nvSpPr>
              <p:spPr>
                <a:xfrm flipH="1" rot="2300400">
                  <a:off x="1676520" y="534528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 rot="2300400">
                  <a:off x="1599840" y="544176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4" name=""/>
            <p:cNvGrpSpPr/>
            <p:nvPr/>
          </p:nvGrpSpPr>
          <p:grpSpPr>
            <a:xfrm>
              <a:off x="2095560" y="4414680"/>
              <a:ext cx="1112760" cy="930240"/>
              <a:chOff x="2095560" y="4414680"/>
              <a:chExt cx="1112760" cy="930240"/>
            </a:xfrm>
          </p:grpSpPr>
          <p:sp>
            <p:nvSpPr>
              <p:cNvPr id="1405" name=""/>
              <p:cNvSpPr/>
              <p:nvPr/>
            </p:nvSpPr>
            <p:spPr>
              <a:xfrm>
                <a:off x="2095560" y="4414680"/>
                <a:ext cx="1112760" cy="93024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6" name=""/>
              <p:cNvGrpSpPr/>
              <p:nvPr/>
            </p:nvGrpSpPr>
            <p:grpSpPr>
              <a:xfrm>
                <a:off x="2179800" y="4505040"/>
                <a:ext cx="952200" cy="789480"/>
                <a:chOff x="2179800" y="4505040"/>
                <a:chExt cx="952200" cy="789480"/>
              </a:xfrm>
            </p:grpSpPr>
            <p:sp>
              <p:nvSpPr>
                <p:cNvPr id="1407" name=""/>
                <p:cNvSpPr/>
                <p:nvPr/>
              </p:nvSpPr>
              <p:spPr>
                <a:xfrm flipV="1" rot="2299200">
                  <a:off x="2060280" y="49467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V="1" rot="2299200">
                  <a:off x="2137320" y="48495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09" name=""/>
          <p:cNvGrpSpPr/>
          <p:nvPr/>
        </p:nvGrpSpPr>
        <p:grpSpPr>
          <a:xfrm>
            <a:off x="3345120" y="4133520"/>
            <a:ext cx="784800" cy="826200"/>
            <a:chOff x="3345120" y="4133520"/>
            <a:chExt cx="784800" cy="826200"/>
          </a:xfrm>
        </p:grpSpPr>
        <p:sp>
          <p:nvSpPr>
            <p:cNvPr id="1410" name=""/>
            <p:cNvSpPr/>
            <p:nvPr/>
          </p:nvSpPr>
          <p:spPr>
            <a:xfrm rot="5280000">
              <a:off x="3337200" y="4168080"/>
              <a:ext cx="800280" cy="757080"/>
            </a:xfrm>
            <a:custGeom>
              <a:avLst/>
              <a:gdLst/>
              <a:ahLst/>
              <a:rect l="l" t="t" r="r" b="b"/>
              <a:pathLst>
                <a:path w="701" h="586">
                  <a:moveTo>
                    <a:pt x="0" y="147"/>
                  </a:moveTo>
                  <a:lnTo>
                    <a:pt x="391" y="456"/>
                  </a:lnTo>
                  <a:lnTo>
                    <a:pt x="333" y="529"/>
                  </a:lnTo>
                  <a:lnTo>
                    <a:pt x="701" y="586"/>
                  </a:lnTo>
                  <a:lnTo>
                    <a:pt x="562" y="240"/>
                  </a:lnTo>
                  <a:lnTo>
                    <a:pt x="505" y="313"/>
                  </a:lnTo>
                  <a:lnTo>
                    <a:pt x="108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3460680" y="4219200"/>
              <a:ext cx="523440" cy="668520"/>
              <a:chOff x="3460680" y="4219200"/>
              <a:chExt cx="523440" cy="668520"/>
            </a:xfrm>
          </p:grpSpPr>
          <p:sp>
            <p:nvSpPr>
              <p:cNvPr id="1412" name=""/>
              <p:cNvSpPr/>
              <p:nvPr/>
            </p:nvSpPr>
            <p:spPr>
              <a:xfrm flipV="1" rot="7579800">
                <a:off x="3304800" y="4527360"/>
                <a:ext cx="766800" cy="144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 rot="7579800">
                <a:off x="3372840" y="4577400"/>
                <a:ext cx="766800" cy="144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4" name=""/>
          <p:cNvGrpSpPr/>
          <p:nvPr/>
        </p:nvGrpSpPr>
        <p:grpSpPr>
          <a:xfrm>
            <a:off x="3522960" y="4371840"/>
            <a:ext cx="784800" cy="825840"/>
            <a:chOff x="3522960" y="4371840"/>
            <a:chExt cx="784800" cy="825840"/>
          </a:xfrm>
        </p:grpSpPr>
        <p:sp>
          <p:nvSpPr>
            <p:cNvPr id="1415" name=""/>
            <p:cNvSpPr/>
            <p:nvPr/>
          </p:nvSpPr>
          <p:spPr>
            <a:xfrm rot="16080000">
              <a:off x="3515400" y="4406040"/>
              <a:ext cx="799920" cy="757080"/>
            </a:xfrm>
            <a:custGeom>
              <a:avLst/>
              <a:gdLst/>
              <a:ahLst/>
              <a:rect l="l" t="t" r="r" b="b"/>
              <a:pathLst>
                <a:path w="701" h="586">
                  <a:moveTo>
                    <a:pt x="0" y="147"/>
                  </a:moveTo>
                  <a:lnTo>
                    <a:pt x="391" y="456"/>
                  </a:lnTo>
                  <a:lnTo>
                    <a:pt x="333" y="529"/>
                  </a:lnTo>
                  <a:lnTo>
                    <a:pt x="701" y="586"/>
                  </a:lnTo>
                  <a:lnTo>
                    <a:pt x="562" y="240"/>
                  </a:lnTo>
                  <a:lnTo>
                    <a:pt x="505" y="313"/>
                  </a:lnTo>
                  <a:lnTo>
                    <a:pt x="108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3668760" y="4444200"/>
              <a:ext cx="523440" cy="668160"/>
              <a:chOff x="3668760" y="4444200"/>
              <a:chExt cx="523440" cy="668160"/>
            </a:xfrm>
          </p:grpSpPr>
          <p:sp>
            <p:nvSpPr>
              <p:cNvPr id="1417" name=""/>
              <p:cNvSpPr/>
              <p:nvPr/>
            </p:nvSpPr>
            <p:spPr>
              <a:xfrm flipV="1" rot="18379800">
                <a:off x="3581280" y="4802040"/>
                <a:ext cx="766440" cy="144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 rot="18379800">
                <a:off x="3513240" y="4752000"/>
                <a:ext cx="766440" cy="144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9" name=""/>
          <p:cNvGrpSpPr/>
          <p:nvPr/>
        </p:nvGrpSpPr>
        <p:grpSpPr>
          <a:xfrm>
            <a:off x="304920" y="2473560"/>
            <a:ext cx="2631240" cy="365040"/>
            <a:chOff x="304920" y="2473560"/>
            <a:chExt cx="2631240" cy="365040"/>
          </a:xfrm>
        </p:grpSpPr>
        <p:sp>
          <p:nvSpPr>
            <p:cNvPr id="1420" name=""/>
            <p:cNvSpPr/>
            <p:nvPr/>
          </p:nvSpPr>
          <p:spPr>
            <a:xfrm>
              <a:off x="304920" y="2495520"/>
              <a:ext cx="657000" cy="343080"/>
            </a:xfrm>
            <a:prstGeom prst="rightArrow">
              <a:avLst>
                <a:gd name="adj1" fmla="val 50000"/>
                <a:gd name="adj2" fmla="val 4787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2920" y="2473560"/>
              <a:ext cx="198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nection Ob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3708360" y="3818160"/>
            <a:ext cx="2217960" cy="2334960"/>
            <a:chOff x="3708360" y="3818160"/>
            <a:chExt cx="2217960" cy="2334960"/>
          </a:xfrm>
        </p:grpSpPr>
        <p:grpSp>
          <p:nvGrpSpPr>
            <p:cNvPr id="1423" name=""/>
            <p:cNvGrpSpPr/>
            <p:nvPr/>
          </p:nvGrpSpPr>
          <p:grpSpPr>
            <a:xfrm>
              <a:off x="3708360" y="5103720"/>
              <a:ext cx="1727280" cy="585720"/>
              <a:chOff x="3708360" y="5103720"/>
              <a:chExt cx="1727280" cy="585720"/>
            </a:xfrm>
          </p:grpSpPr>
          <p:sp>
            <p:nvSpPr>
              <p:cNvPr id="1424" name=""/>
              <p:cNvSpPr/>
              <p:nvPr/>
            </p:nvSpPr>
            <p:spPr>
              <a:xfrm>
                <a:off x="3708360" y="510372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5" name=""/>
              <p:cNvGrpSpPr/>
              <p:nvPr/>
            </p:nvGrpSpPr>
            <p:grpSpPr>
              <a:xfrm>
                <a:off x="3757680" y="5337000"/>
                <a:ext cx="1525320" cy="124560"/>
                <a:chOff x="3757680" y="5337000"/>
                <a:chExt cx="1525320" cy="12456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3757680" y="533700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3757680" y="546012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8" name=""/>
            <p:cNvGrpSpPr/>
            <p:nvPr/>
          </p:nvGrpSpPr>
          <p:grpSpPr>
            <a:xfrm>
              <a:off x="3709800" y="5567400"/>
              <a:ext cx="1726920" cy="585720"/>
              <a:chOff x="3709800" y="5567400"/>
              <a:chExt cx="1726920" cy="585720"/>
            </a:xfrm>
          </p:grpSpPr>
          <p:sp>
            <p:nvSpPr>
              <p:cNvPr id="1429" name=""/>
              <p:cNvSpPr/>
              <p:nvPr/>
            </p:nvSpPr>
            <p:spPr>
              <a:xfrm flipH="1">
                <a:off x="3709440" y="5567400"/>
                <a:ext cx="172692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30" name=""/>
              <p:cNvGrpSpPr/>
              <p:nvPr/>
            </p:nvGrpSpPr>
            <p:grpSpPr>
              <a:xfrm>
                <a:off x="3862800" y="5800680"/>
                <a:ext cx="1524960" cy="124560"/>
                <a:chOff x="3862800" y="5800680"/>
                <a:chExt cx="1524960" cy="124560"/>
              </a:xfrm>
            </p:grpSpPr>
            <p:sp>
              <p:nvSpPr>
                <p:cNvPr id="1431" name=""/>
                <p:cNvSpPr/>
                <p:nvPr/>
              </p:nvSpPr>
              <p:spPr>
                <a:xfrm flipH="1">
                  <a:off x="3862800" y="580068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H="1">
                  <a:off x="3862800" y="592380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3" name=""/>
            <p:cNvGrpSpPr/>
            <p:nvPr/>
          </p:nvGrpSpPr>
          <p:grpSpPr>
            <a:xfrm>
              <a:off x="4121640" y="3818160"/>
              <a:ext cx="1804680" cy="1444320"/>
              <a:chOff x="4121640" y="3818160"/>
              <a:chExt cx="1804680" cy="1444320"/>
            </a:xfrm>
          </p:grpSpPr>
          <p:grpSp>
            <p:nvGrpSpPr>
              <p:cNvPr id="1434" name=""/>
              <p:cNvGrpSpPr/>
              <p:nvPr/>
            </p:nvGrpSpPr>
            <p:grpSpPr>
              <a:xfrm>
                <a:off x="4550040" y="3818160"/>
                <a:ext cx="1376280" cy="1162800"/>
                <a:chOff x="4550040" y="3818160"/>
                <a:chExt cx="1376280" cy="1162800"/>
              </a:xfrm>
            </p:grpSpPr>
            <p:sp>
              <p:nvSpPr>
                <p:cNvPr id="1435" name=""/>
                <p:cNvSpPr/>
                <p:nvPr/>
              </p:nvSpPr>
              <p:spPr>
                <a:xfrm flipH="1" flipV="1" rot="1920000">
                  <a:off x="4609080" y="4106520"/>
                  <a:ext cx="1256760" cy="58572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 flipV="1">
                  <a:off x="4767120" y="404100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 flipV="1">
                  <a:off x="4711680" y="414432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4121640" y="4098960"/>
                <a:ext cx="1377000" cy="1163520"/>
                <a:chOff x="4121640" y="4098960"/>
                <a:chExt cx="1377000" cy="1163520"/>
              </a:xfrm>
            </p:grpSpPr>
            <p:sp>
              <p:nvSpPr>
                <p:cNvPr id="1439" name=""/>
                <p:cNvSpPr/>
                <p:nvPr/>
              </p:nvSpPr>
              <p:spPr>
                <a:xfrm rot="1920000">
                  <a:off x="4181400" y="4387320"/>
                  <a:ext cx="1257480" cy="58608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4416480" y="4500720"/>
                  <a:ext cx="850680" cy="51408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459320" y="439416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n belüli topológia kialakul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258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smerkedjünk meg az Active Directoryval! (Demó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ctive Directory alapfogalmai és működ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 hogy néz ki mindez belülről??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"/>
          <p:cNvGrpSpPr/>
          <p:nvPr/>
        </p:nvGrpSpPr>
        <p:grpSpPr>
          <a:xfrm>
            <a:off x="306000" y="1619640"/>
            <a:ext cx="8299440" cy="4835160"/>
            <a:chOff x="306000" y="1619640"/>
            <a:chExt cx="8299440" cy="4835160"/>
          </a:xfrm>
        </p:grpSpPr>
        <p:sp>
          <p:nvSpPr>
            <p:cNvPr id="1444" name=""/>
            <p:cNvSpPr/>
            <p:nvPr/>
          </p:nvSpPr>
          <p:spPr>
            <a:xfrm>
              <a:off x="843120" y="2685960"/>
              <a:ext cx="7762320" cy="37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5" name=""/>
            <p:cNvGrpSpPr/>
            <p:nvPr/>
          </p:nvGrpSpPr>
          <p:grpSpPr>
            <a:xfrm>
              <a:off x="1506960" y="3476520"/>
              <a:ext cx="673200" cy="1290600"/>
              <a:chOff x="1506960" y="3476520"/>
              <a:chExt cx="673200" cy="1290600"/>
            </a:xfrm>
          </p:grpSpPr>
          <p:pic>
            <p:nvPicPr>
              <p:cNvPr id="14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31880" y="3476520"/>
                <a:ext cx="42120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>
                <a:off x="1506960" y="4400640"/>
                <a:ext cx="673200" cy="366480"/>
              </a:xfrm>
              <a:prstGeom prst="rect">
                <a:avLst/>
              </a:prstGeom>
              <a:gradFill rotWithShape="0">
                <a:gsLst>
                  <a:gs pos="0">
                    <a:srgbClr val="fefec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6649920" y="1631880"/>
              <a:ext cx="1412280" cy="979560"/>
            </a:xfrm>
            <a:prstGeom prst="flowChartExtra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658200" y="2239920"/>
              <a:ext cx="1390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306000" y="1899000"/>
              <a:ext cx="5208120" cy="335880"/>
              <a:chOff x="306000" y="1899000"/>
              <a:chExt cx="5208120" cy="335880"/>
            </a:xfrm>
          </p:grpSpPr>
          <p:sp>
            <p:nvSpPr>
              <p:cNvPr id="1451" name=""/>
              <p:cNvSpPr/>
              <p:nvPr/>
            </p:nvSpPr>
            <p:spPr>
              <a:xfrm>
                <a:off x="990360" y="1899000"/>
                <a:ext cx="4523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52" name=""/>
              <p:cNvCxnSpPr/>
              <p:nvPr/>
            </p:nvCxnSpPr>
            <p:spPr>
              <a:xfrm flipH="1" flipV="1">
                <a:off x="306000" y="207108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ff00"/>
                </a:solidFill>
                <a:miter/>
              </a:ln>
            </p:spPr>
          </p:cxnSp>
        </p:grpSp>
        <p:grpSp>
          <p:nvGrpSpPr>
            <p:cNvPr id="1453" name=""/>
            <p:cNvGrpSpPr/>
            <p:nvPr/>
          </p:nvGrpSpPr>
          <p:grpSpPr>
            <a:xfrm>
              <a:off x="306000" y="1619640"/>
              <a:ext cx="5571720" cy="335880"/>
              <a:chOff x="306000" y="1619640"/>
              <a:chExt cx="5571720" cy="335880"/>
            </a:xfrm>
          </p:grpSpPr>
          <p:sp>
            <p:nvSpPr>
              <p:cNvPr id="1454" name=""/>
              <p:cNvSpPr/>
              <p:nvPr/>
            </p:nvSpPr>
            <p:spPr>
              <a:xfrm>
                <a:off x="991080" y="1619640"/>
                <a:ext cx="4886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Konfiguráció és Séma 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55" name=""/>
              <p:cNvCxnSpPr/>
              <p:nvPr/>
            </p:nvCxnSpPr>
            <p:spPr>
              <a:xfrm flipH="1" flipV="1">
                <a:off x="306000" y="179172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0000"/>
                </a:solidFill>
                <a:miter/>
              </a:ln>
            </p:spPr>
          </p:cxnSp>
        </p:grpSp>
      </p:grpSp>
      <p:grpSp>
        <p:nvGrpSpPr>
          <p:cNvPr id="1456" name=""/>
          <p:cNvGrpSpPr/>
          <p:nvPr/>
        </p:nvGrpSpPr>
        <p:grpSpPr>
          <a:xfrm>
            <a:off x="3965400" y="2862360"/>
            <a:ext cx="641520" cy="1290600"/>
            <a:chOff x="3965400" y="2862360"/>
            <a:chExt cx="641520" cy="1290600"/>
          </a:xfrm>
        </p:grpSpPr>
        <p:pic>
          <p:nvPicPr>
            <p:cNvPr id="1457" name="" descr=""/>
            <p:cNvPicPr/>
            <p:nvPr/>
          </p:nvPicPr>
          <p:blipFill>
            <a:blip r:embed="rId3"/>
            <a:stretch/>
          </p:blipFill>
          <p:spPr>
            <a:xfrm>
              <a:off x="4084560" y="2862360"/>
              <a:ext cx="4017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3965400" y="3786120"/>
              <a:ext cx="64152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097080" y="4959360"/>
            <a:ext cx="641520" cy="1290600"/>
            <a:chOff x="3097080" y="4959360"/>
            <a:chExt cx="641520" cy="1290600"/>
          </a:xfrm>
        </p:grpSpPr>
        <p:pic>
          <p:nvPicPr>
            <p:cNvPr id="1460" name="" descr=""/>
            <p:cNvPicPr/>
            <p:nvPr/>
          </p:nvPicPr>
          <p:blipFill>
            <a:blip r:embed="rId4"/>
            <a:stretch/>
          </p:blipFill>
          <p:spPr>
            <a:xfrm>
              <a:off x="3214800" y="4959360"/>
              <a:ext cx="40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097080" y="5883480"/>
              <a:ext cx="641520" cy="36648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5338800" y="4956120"/>
            <a:ext cx="641160" cy="1290600"/>
            <a:chOff x="5338800" y="4956120"/>
            <a:chExt cx="641160" cy="1290600"/>
          </a:xfrm>
        </p:grpSpPr>
        <p:pic>
          <p:nvPicPr>
            <p:cNvPr id="1463" name="" descr=""/>
            <p:cNvPicPr/>
            <p:nvPr/>
          </p:nvPicPr>
          <p:blipFill>
            <a:blip r:embed="rId5"/>
            <a:stretch/>
          </p:blipFill>
          <p:spPr>
            <a:xfrm>
              <a:off x="5451120" y="4956120"/>
              <a:ext cx="4014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5338800" y="5879880"/>
              <a:ext cx="64116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2001960" y="3174840"/>
            <a:ext cx="2057400" cy="576360"/>
            <a:chOff x="2001960" y="3174840"/>
            <a:chExt cx="2057400" cy="576360"/>
          </a:xfrm>
        </p:grpSpPr>
        <p:sp>
          <p:nvSpPr>
            <p:cNvPr id="1466" name=""/>
            <p:cNvSpPr/>
            <p:nvPr/>
          </p:nvSpPr>
          <p:spPr>
            <a:xfrm>
              <a:off x="2001960" y="3174840"/>
              <a:ext cx="2057400" cy="576360"/>
            </a:xfrm>
            <a:prstGeom prst="rightArrow">
              <a:avLst>
                <a:gd name="adj1" fmla="val 50000"/>
                <a:gd name="adj2" fmla="val 89241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058840" y="3403440"/>
              <a:ext cx="1866960" cy="180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058840" y="3517920"/>
              <a:ext cx="186696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1968480" y="3713040"/>
            <a:ext cx="1943280" cy="585720"/>
            <a:chOff x="1968480" y="3713040"/>
            <a:chExt cx="1943280" cy="585720"/>
          </a:xfrm>
        </p:grpSpPr>
        <p:sp>
          <p:nvSpPr>
            <p:cNvPr id="1470" name=""/>
            <p:cNvSpPr/>
            <p:nvPr/>
          </p:nvSpPr>
          <p:spPr>
            <a:xfrm>
              <a:off x="1968480" y="3713040"/>
              <a:ext cx="1943280" cy="585720"/>
            </a:xfrm>
            <a:custGeom>
              <a:avLst/>
              <a:gdLst/>
              <a:ahLst/>
              <a:rect l="l" t="t" r="r" b="b"/>
              <a:pathLst>
                <a:path w="1224" h="369">
                  <a:moveTo>
                    <a:pt x="1224" y="93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1224" y="276"/>
                  </a:lnTo>
                  <a:lnTo>
                    <a:pt x="122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1" name=""/>
            <p:cNvGrpSpPr/>
            <p:nvPr/>
          </p:nvGrpSpPr>
          <p:grpSpPr>
            <a:xfrm>
              <a:off x="2120760" y="3946320"/>
              <a:ext cx="1747800" cy="125640"/>
              <a:chOff x="2120760" y="3946320"/>
              <a:chExt cx="1747800" cy="125640"/>
            </a:xfrm>
          </p:grpSpPr>
          <p:sp>
            <p:nvSpPr>
              <p:cNvPr id="1472" name=""/>
              <p:cNvSpPr/>
              <p:nvPr/>
            </p:nvSpPr>
            <p:spPr>
              <a:xfrm flipH="1">
                <a:off x="2120400" y="394632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2120400" y="407016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4" name=""/>
          <p:cNvGrpSpPr/>
          <p:nvPr/>
        </p:nvGrpSpPr>
        <p:grpSpPr>
          <a:xfrm>
            <a:off x="1503360" y="4414680"/>
            <a:ext cx="1717920" cy="1710720"/>
            <a:chOff x="1503360" y="4414680"/>
            <a:chExt cx="1717920" cy="1710720"/>
          </a:xfrm>
        </p:grpSpPr>
        <p:grpSp>
          <p:nvGrpSpPr>
            <p:cNvPr id="1475" name=""/>
            <p:cNvGrpSpPr/>
            <p:nvPr/>
          </p:nvGrpSpPr>
          <p:grpSpPr>
            <a:xfrm>
              <a:off x="1503360" y="4594680"/>
              <a:ext cx="1717920" cy="1530720"/>
              <a:chOff x="1503360" y="4594680"/>
              <a:chExt cx="1717920" cy="1530720"/>
            </a:xfrm>
          </p:grpSpPr>
          <p:sp>
            <p:nvSpPr>
              <p:cNvPr id="1476" name=""/>
              <p:cNvSpPr/>
              <p:nvPr/>
            </p:nvSpPr>
            <p:spPr>
              <a:xfrm flipH="1" rot="2300400">
                <a:off x="1498680" y="506700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77" name=""/>
              <p:cNvGrpSpPr/>
              <p:nvPr/>
            </p:nvGrpSpPr>
            <p:grpSpPr>
              <a:xfrm>
                <a:off x="1764360" y="4872600"/>
                <a:ext cx="1273680" cy="1043640"/>
                <a:chOff x="1764360" y="4872600"/>
                <a:chExt cx="1273680" cy="1043640"/>
              </a:xfrm>
            </p:grpSpPr>
            <p:sp>
              <p:nvSpPr>
                <p:cNvPr id="1478" name=""/>
                <p:cNvSpPr/>
                <p:nvPr/>
              </p:nvSpPr>
              <p:spPr>
                <a:xfrm flipH="1" rot="2300400">
                  <a:off x="1676520" y="534528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H="1" rot="2300400">
                  <a:off x="1599840" y="544176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0" name=""/>
            <p:cNvGrpSpPr/>
            <p:nvPr/>
          </p:nvGrpSpPr>
          <p:grpSpPr>
            <a:xfrm>
              <a:off x="2095560" y="4414680"/>
              <a:ext cx="1112760" cy="930240"/>
              <a:chOff x="2095560" y="4414680"/>
              <a:chExt cx="1112760" cy="930240"/>
            </a:xfrm>
          </p:grpSpPr>
          <p:sp>
            <p:nvSpPr>
              <p:cNvPr id="1481" name=""/>
              <p:cNvSpPr/>
              <p:nvPr/>
            </p:nvSpPr>
            <p:spPr>
              <a:xfrm>
                <a:off x="2095560" y="4414680"/>
                <a:ext cx="1112760" cy="93024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2179800" y="4505040"/>
                <a:ext cx="952200" cy="789480"/>
                <a:chOff x="2179800" y="4505040"/>
                <a:chExt cx="952200" cy="789480"/>
              </a:xfrm>
            </p:grpSpPr>
            <p:sp>
              <p:nvSpPr>
                <p:cNvPr id="1483" name=""/>
                <p:cNvSpPr/>
                <p:nvPr/>
              </p:nvSpPr>
              <p:spPr>
                <a:xfrm flipV="1" rot="2299200">
                  <a:off x="2060280" y="49467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V="1" rot="2299200">
                  <a:off x="2137320" y="48495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85" name=""/>
          <p:cNvGrpSpPr/>
          <p:nvPr/>
        </p:nvGrpSpPr>
        <p:grpSpPr>
          <a:xfrm>
            <a:off x="304920" y="2473560"/>
            <a:ext cx="2631240" cy="365040"/>
            <a:chOff x="304920" y="2473560"/>
            <a:chExt cx="2631240" cy="365040"/>
          </a:xfrm>
        </p:grpSpPr>
        <p:sp>
          <p:nvSpPr>
            <p:cNvPr id="1486" name=""/>
            <p:cNvSpPr/>
            <p:nvPr/>
          </p:nvSpPr>
          <p:spPr>
            <a:xfrm>
              <a:off x="304920" y="2495520"/>
              <a:ext cx="657000" cy="343080"/>
            </a:xfrm>
            <a:prstGeom prst="rightArrow">
              <a:avLst>
                <a:gd name="adj1" fmla="val 50000"/>
                <a:gd name="adj2" fmla="val 4787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952920" y="2473560"/>
              <a:ext cx="198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nection Ob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3708360" y="3818160"/>
            <a:ext cx="2217960" cy="2334960"/>
            <a:chOff x="3708360" y="3818160"/>
            <a:chExt cx="2217960" cy="2334960"/>
          </a:xfrm>
        </p:grpSpPr>
        <p:grpSp>
          <p:nvGrpSpPr>
            <p:cNvPr id="1489" name=""/>
            <p:cNvGrpSpPr/>
            <p:nvPr/>
          </p:nvGrpSpPr>
          <p:grpSpPr>
            <a:xfrm>
              <a:off x="3708360" y="5103720"/>
              <a:ext cx="1727280" cy="585720"/>
              <a:chOff x="3708360" y="5103720"/>
              <a:chExt cx="1727280" cy="585720"/>
            </a:xfrm>
          </p:grpSpPr>
          <p:sp>
            <p:nvSpPr>
              <p:cNvPr id="1490" name=""/>
              <p:cNvSpPr/>
              <p:nvPr/>
            </p:nvSpPr>
            <p:spPr>
              <a:xfrm>
                <a:off x="3708360" y="510372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1" name=""/>
              <p:cNvGrpSpPr/>
              <p:nvPr/>
            </p:nvGrpSpPr>
            <p:grpSpPr>
              <a:xfrm>
                <a:off x="3757680" y="5337000"/>
                <a:ext cx="1525320" cy="124560"/>
                <a:chOff x="3757680" y="5337000"/>
                <a:chExt cx="1525320" cy="12456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757680" y="533700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757680" y="546012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4" name=""/>
            <p:cNvGrpSpPr/>
            <p:nvPr/>
          </p:nvGrpSpPr>
          <p:grpSpPr>
            <a:xfrm>
              <a:off x="3709800" y="5567400"/>
              <a:ext cx="1726920" cy="585720"/>
              <a:chOff x="3709800" y="5567400"/>
              <a:chExt cx="1726920" cy="585720"/>
            </a:xfrm>
          </p:grpSpPr>
          <p:sp>
            <p:nvSpPr>
              <p:cNvPr id="1495" name=""/>
              <p:cNvSpPr/>
              <p:nvPr/>
            </p:nvSpPr>
            <p:spPr>
              <a:xfrm flipH="1">
                <a:off x="3709440" y="5567400"/>
                <a:ext cx="172692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6" name=""/>
              <p:cNvGrpSpPr/>
              <p:nvPr/>
            </p:nvGrpSpPr>
            <p:grpSpPr>
              <a:xfrm>
                <a:off x="3862800" y="5800680"/>
                <a:ext cx="1524960" cy="124560"/>
                <a:chOff x="3862800" y="5800680"/>
                <a:chExt cx="1524960" cy="124560"/>
              </a:xfrm>
            </p:grpSpPr>
            <p:sp>
              <p:nvSpPr>
                <p:cNvPr id="1497" name=""/>
                <p:cNvSpPr/>
                <p:nvPr/>
              </p:nvSpPr>
              <p:spPr>
                <a:xfrm flipH="1">
                  <a:off x="3862800" y="580068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flipH="1">
                  <a:off x="3862800" y="592380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9" name=""/>
            <p:cNvGrpSpPr/>
            <p:nvPr/>
          </p:nvGrpSpPr>
          <p:grpSpPr>
            <a:xfrm>
              <a:off x="4121640" y="3818160"/>
              <a:ext cx="1804680" cy="1444320"/>
              <a:chOff x="4121640" y="3818160"/>
              <a:chExt cx="1804680" cy="1444320"/>
            </a:xfrm>
          </p:grpSpPr>
          <p:grpSp>
            <p:nvGrpSpPr>
              <p:cNvPr id="1500" name=""/>
              <p:cNvGrpSpPr/>
              <p:nvPr/>
            </p:nvGrpSpPr>
            <p:grpSpPr>
              <a:xfrm>
                <a:off x="4550040" y="3818160"/>
                <a:ext cx="1376280" cy="1162800"/>
                <a:chOff x="4550040" y="3818160"/>
                <a:chExt cx="1376280" cy="1162800"/>
              </a:xfrm>
            </p:grpSpPr>
            <p:sp>
              <p:nvSpPr>
                <p:cNvPr id="1501" name=""/>
                <p:cNvSpPr/>
                <p:nvPr/>
              </p:nvSpPr>
              <p:spPr>
                <a:xfrm flipH="1" flipV="1" rot="1920000">
                  <a:off x="4609080" y="4106520"/>
                  <a:ext cx="1256760" cy="58572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flipH="1" flipV="1">
                  <a:off x="4767120" y="404100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flipH="1" flipV="1">
                  <a:off x="4711680" y="414432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4" name=""/>
              <p:cNvGrpSpPr/>
              <p:nvPr/>
            </p:nvGrpSpPr>
            <p:grpSpPr>
              <a:xfrm>
                <a:off x="4121640" y="4098960"/>
                <a:ext cx="1377000" cy="1163520"/>
                <a:chOff x="4121640" y="4098960"/>
                <a:chExt cx="1377000" cy="1163520"/>
              </a:xfrm>
            </p:grpSpPr>
            <p:sp>
              <p:nvSpPr>
                <p:cNvPr id="1505" name=""/>
                <p:cNvSpPr/>
                <p:nvPr/>
              </p:nvSpPr>
              <p:spPr>
                <a:xfrm rot="1920000">
                  <a:off x="4181400" y="4387320"/>
                  <a:ext cx="1257480" cy="58608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4416480" y="4500720"/>
                  <a:ext cx="850680" cy="51408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4459320" y="439416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8" name=""/>
          <p:cNvGrpSpPr/>
          <p:nvPr/>
        </p:nvGrpSpPr>
        <p:grpSpPr>
          <a:xfrm>
            <a:off x="5884920" y="2367000"/>
            <a:ext cx="3259080" cy="1909800"/>
            <a:chOff x="5884920" y="2367000"/>
            <a:chExt cx="3259080" cy="1909800"/>
          </a:xfrm>
        </p:grpSpPr>
        <p:grpSp>
          <p:nvGrpSpPr>
            <p:cNvPr id="1509" name=""/>
            <p:cNvGrpSpPr/>
            <p:nvPr/>
          </p:nvGrpSpPr>
          <p:grpSpPr>
            <a:xfrm>
              <a:off x="7799400" y="2367000"/>
              <a:ext cx="1344600" cy="979560"/>
              <a:chOff x="7799400" y="2367000"/>
              <a:chExt cx="1344600" cy="979560"/>
            </a:xfrm>
          </p:grpSpPr>
          <p:sp>
            <p:nvSpPr>
              <p:cNvPr id="1510" name=""/>
              <p:cNvSpPr/>
              <p:nvPr/>
            </p:nvSpPr>
            <p:spPr>
              <a:xfrm>
                <a:off x="7799400" y="2367000"/>
                <a:ext cx="1344600" cy="979560"/>
              </a:xfrm>
              <a:prstGeom prst="flowChartExtra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26480" y="2803680"/>
                <a:ext cx="1100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Arial"/>
                  </a:rPr>
                  <a:t>Szerviz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000000"/>
                    </a:solidFill>
                    <a:latin typeface="Arial"/>
                  </a:rPr>
                  <a:t>.auto.hu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5884920" y="2986200"/>
              <a:ext cx="641160" cy="1290600"/>
              <a:chOff x="5884920" y="2986200"/>
              <a:chExt cx="641160" cy="1290600"/>
            </a:xfrm>
          </p:grpSpPr>
          <p:pic>
            <p:nvPicPr>
              <p:cNvPr id="15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03720" y="2986200"/>
                <a:ext cx="4017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>
                <a:off x="5884920" y="3910320"/>
                <a:ext cx="641160" cy="366480"/>
              </a:xfrm>
              <a:prstGeom prst="re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5" name=""/>
          <p:cNvGrpSpPr/>
          <p:nvPr/>
        </p:nvGrpSpPr>
        <p:grpSpPr>
          <a:xfrm>
            <a:off x="4508640" y="2921040"/>
            <a:ext cx="1466640" cy="585720"/>
            <a:chOff x="4508640" y="2921040"/>
            <a:chExt cx="1466640" cy="585720"/>
          </a:xfrm>
        </p:grpSpPr>
        <p:sp>
          <p:nvSpPr>
            <p:cNvPr id="1516" name=""/>
            <p:cNvSpPr/>
            <p:nvPr/>
          </p:nvSpPr>
          <p:spPr>
            <a:xfrm>
              <a:off x="4508640" y="2921040"/>
              <a:ext cx="1466640" cy="585720"/>
            </a:xfrm>
            <a:custGeom>
              <a:avLst/>
              <a:gdLst/>
              <a:ahLst/>
              <a:rect l="l" t="t" r="r" b="b"/>
              <a:pathLst>
                <a:path w="924" h="369">
                  <a:moveTo>
                    <a:pt x="0" y="92"/>
                  </a:moveTo>
                  <a:lnTo>
                    <a:pt x="600" y="93"/>
                  </a:lnTo>
                  <a:lnTo>
                    <a:pt x="600" y="0"/>
                  </a:lnTo>
                  <a:lnTo>
                    <a:pt x="924" y="183"/>
                  </a:lnTo>
                  <a:lnTo>
                    <a:pt x="600" y="369"/>
                  </a:lnTo>
                  <a:lnTo>
                    <a:pt x="600" y="276"/>
                  </a:lnTo>
                  <a:lnTo>
                    <a:pt x="0" y="27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538520" y="3218040"/>
              <a:ext cx="128448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4495680" y="3390840"/>
            <a:ext cx="1473480" cy="585720"/>
            <a:chOff x="4495680" y="3390840"/>
            <a:chExt cx="1473480" cy="585720"/>
          </a:xfrm>
        </p:grpSpPr>
        <p:sp>
          <p:nvSpPr>
            <p:cNvPr id="1519" name=""/>
            <p:cNvSpPr/>
            <p:nvPr/>
          </p:nvSpPr>
          <p:spPr>
            <a:xfrm>
              <a:off x="4495680" y="3390840"/>
              <a:ext cx="1473480" cy="585720"/>
            </a:xfrm>
            <a:custGeom>
              <a:avLst/>
              <a:gdLst/>
              <a:ahLst/>
              <a:rect l="l" t="t" r="r" b="b"/>
              <a:pathLst>
                <a:path w="928" h="369">
                  <a:moveTo>
                    <a:pt x="928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928" y="276"/>
                  </a:lnTo>
                  <a:lnTo>
                    <a:pt x="928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649760" y="3676680"/>
              <a:ext cx="1268280" cy="1440"/>
            </a:xfrm>
            <a:custGeom>
              <a:avLst/>
              <a:gdLst/>
              <a:ahLst/>
              <a:rect l="l" t="t" r="r" b="b"/>
              <a:pathLst>
                <a:path w="799" h="1">
                  <a:moveTo>
                    <a:pt x="799" y="0"/>
                  </a:move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5616720" y="4259160"/>
            <a:ext cx="1030680" cy="901440"/>
            <a:chOff x="5616720" y="4259160"/>
            <a:chExt cx="1030680" cy="901440"/>
          </a:xfrm>
        </p:grpSpPr>
        <p:grpSp>
          <p:nvGrpSpPr>
            <p:cNvPr id="1522" name=""/>
            <p:cNvGrpSpPr/>
            <p:nvPr/>
          </p:nvGrpSpPr>
          <p:grpSpPr>
            <a:xfrm>
              <a:off x="5986080" y="4380120"/>
              <a:ext cx="661320" cy="780480"/>
              <a:chOff x="5986080" y="4380120"/>
              <a:chExt cx="661320" cy="780480"/>
            </a:xfrm>
          </p:grpSpPr>
          <p:sp>
            <p:nvSpPr>
              <p:cNvPr id="1523" name=""/>
              <p:cNvSpPr/>
              <p:nvPr/>
            </p:nvSpPr>
            <p:spPr>
              <a:xfrm rot="5280000">
                <a:off x="5937120" y="4452840"/>
                <a:ext cx="758880" cy="63504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6096960" y="4489560"/>
                <a:ext cx="407880" cy="60624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5616720" y="4259160"/>
              <a:ext cx="680400" cy="741600"/>
              <a:chOff x="5616720" y="4259160"/>
              <a:chExt cx="680400" cy="741600"/>
            </a:xfrm>
          </p:grpSpPr>
          <p:sp>
            <p:nvSpPr>
              <p:cNvPr id="1526" name=""/>
              <p:cNvSpPr/>
              <p:nvPr/>
            </p:nvSpPr>
            <p:spPr>
              <a:xfrm rot="16080000">
                <a:off x="5597280" y="4302000"/>
                <a:ext cx="719280" cy="65556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794200" y="4309920"/>
                <a:ext cx="421920" cy="55728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8" name=""/>
          <p:cNvGrpSpPr/>
          <p:nvPr/>
        </p:nvGrpSpPr>
        <p:grpSpPr>
          <a:xfrm>
            <a:off x="305640" y="2169000"/>
            <a:ext cx="7857360" cy="3283920"/>
            <a:chOff x="305640" y="2169000"/>
            <a:chExt cx="7857360" cy="3283920"/>
          </a:xfrm>
        </p:grpSpPr>
        <p:grpSp>
          <p:nvGrpSpPr>
            <p:cNvPr id="1529" name=""/>
            <p:cNvGrpSpPr/>
            <p:nvPr/>
          </p:nvGrpSpPr>
          <p:grpSpPr>
            <a:xfrm>
              <a:off x="7521480" y="4162320"/>
              <a:ext cx="641520" cy="1290600"/>
              <a:chOff x="7521480" y="4162320"/>
              <a:chExt cx="641520" cy="1290600"/>
            </a:xfrm>
          </p:grpSpPr>
          <p:pic>
            <p:nvPicPr>
              <p:cNvPr id="153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0640" y="4162320"/>
                <a:ext cx="4017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1" name=""/>
              <p:cNvSpPr/>
              <p:nvPr/>
            </p:nvSpPr>
            <p:spPr>
              <a:xfrm>
                <a:off x="7521480" y="5086080"/>
                <a:ext cx="641520" cy="366840"/>
              </a:xfrm>
              <a:prstGeom prst="re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305640" y="2169000"/>
              <a:ext cx="5911920" cy="335880"/>
              <a:chOff x="305640" y="2169000"/>
              <a:chExt cx="5911920" cy="335880"/>
            </a:xfrm>
          </p:grpSpPr>
          <p:cxnSp>
            <p:nvCxnSpPr>
              <p:cNvPr id="1533" name=""/>
              <p:cNvCxnSpPr/>
              <p:nvPr/>
            </p:nvCxnSpPr>
            <p:spPr>
              <a:xfrm flipH="1" flipV="1">
                <a:off x="305640" y="2350440"/>
                <a:ext cx="594360" cy="6840"/>
              </a:xfrm>
              <a:prstGeom prst="straightConnector1">
                <a:avLst/>
              </a:prstGeom>
              <a:ln w="47520">
                <a:solidFill>
                  <a:srgbClr val="0000ff"/>
                </a:solidFill>
                <a:miter/>
              </a:ln>
            </p:spPr>
          </p:cxnSp>
          <p:sp>
            <p:nvSpPr>
              <p:cNvPr id="1534" name=""/>
              <p:cNvSpPr/>
              <p:nvPr/>
            </p:nvSpPr>
            <p:spPr>
              <a:xfrm>
                <a:off x="959040" y="2169000"/>
                <a:ext cx="5258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szerviz.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5" name=""/>
          <p:cNvGrpSpPr/>
          <p:nvPr/>
        </p:nvGrpSpPr>
        <p:grpSpPr>
          <a:xfrm>
            <a:off x="6434640" y="3154320"/>
            <a:ext cx="1376640" cy="1163160"/>
            <a:chOff x="6434640" y="3154320"/>
            <a:chExt cx="1376640" cy="1163160"/>
          </a:xfrm>
        </p:grpSpPr>
        <p:sp>
          <p:nvSpPr>
            <p:cNvPr id="1536" name=""/>
            <p:cNvSpPr/>
            <p:nvPr/>
          </p:nvSpPr>
          <p:spPr>
            <a:xfrm flipH="1" flipV="1" rot="1920000">
              <a:off x="6494040" y="3442320"/>
              <a:ext cx="1257480" cy="585720"/>
            </a:xfrm>
            <a:custGeom>
              <a:avLst/>
              <a:gdLst/>
              <a:ahLst/>
              <a:rect l="l" t="t" r="r" b="b"/>
              <a:pathLst>
                <a:path w="792" h="369">
                  <a:moveTo>
                    <a:pt x="792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792" y="276"/>
                  </a:lnTo>
                  <a:lnTo>
                    <a:pt x="79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 flipV="1">
              <a:off x="6651000" y="3377520"/>
              <a:ext cx="850680" cy="51444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flipV="1">
              <a:off x="6595920" y="3481560"/>
              <a:ext cx="851040" cy="51408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0520" y="3624480"/>
            <a:ext cx="1376280" cy="1162800"/>
            <a:chOff x="6320520" y="3624480"/>
            <a:chExt cx="1376280" cy="1162800"/>
          </a:xfrm>
        </p:grpSpPr>
        <p:sp>
          <p:nvSpPr>
            <p:cNvPr id="1540" name=""/>
            <p:cNvSpPr/>
            <p:nvPr/>
          </p:nvSpPr>
          <p:spPr>
            <a:xfrm rot="1920000">
              <a:off x="6379920" y="3912840"/>
              <a:ext cx="1257120" cy="585720"/>
            </a:xfrm>
            <a:custGeom>
              <a:avLst/>
              <a:gdLst/>
              <a:ahLst/>
              <a:rect l="l" t="t" r="r" b="b"/>
              <a:pathLst>
                <a:path w="792" h="369">
                  <a:moveTo>
                    <a:pt x="792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792" y="276"/>
                  </a:lnTo>
                  <a:lnTo>
                    <a:pt x="79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15000" y="4025880"/>
              <a:ext cx="851040" cy="51444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657840" y="3919680"/>
              <a:ext cx="851040" cy="51408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5997600" y="5010120"/>
            <a:ext cx="1441440" cy="854280"/>
            <a:chOff x="5997600" y="5010120"/>
            <a:chExt cx="1441440" cy="854280"/>
          </a:xfrm>
        </p:grpSpPr>
        <p:grpSp>
          <p:nvGrpSpPr>
            <p:cNvPr id="1544" name=""/>
            <p:cNvGrpSpPr/>
            <p:nvPr/>
          </p:nvGrpSpPr>
          <p:grpSpPr>
            <a:xfrm>
              <a:off x="5997600" y="5010120"/>
              <a:ext cx="1441440" cy="461880"/>
              <a:chOff x="5997600" y="5010120"/>
              <a:chExt cx="1441440" cy="461880"/>
            </a:xfrm>
          </p:grpSpPr>
          <p:sp>
            <p:nvSpPr>
              <p:cNvPr id="1545" name=""/>
              <p:cNvSpPr/>
              <p:nvPr/>
            </p:nvSpPr>
            <p:spPr>
              <a:xfrm>
                <a:off x="5997600" y="5010120"/>
                <a:ext cx="1441440" cy="46188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6008760" y="5246280"/>
                <a:ext cx="1298520" cy="180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6027840" y="5425920"/>
              <a:ext cx="1404720" cy="438480"/>
              <a:chOff x="6027840" y="5425920"/>
              <a:chExt cx="1404720" cy="438480"/>
            </a:xfrm>
          </p:grpSpPr>
          <p:sp>
            <p:nvSpPr>
              <p:cNvPr id="1548" name=""/>
              <p:cNvSpPr/>
              <p:nvPr/>
            </p:nvSpPr>
            <p:spPr>
              <a:xfrm flipH="1">
                <a:off x="6027840" y="5425920"/>
                <a:ext cx="1404720" cy="43848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>
                <a:off x="6211800" y="5643720"/>
                <a:ext cx="11001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0" name=""/>
          <p:cNvSpPr/>
          <p:nvPr/>
        </p:nvSpPr>
        <p:spPr>
          <a:xfrm flipH="1" flipV="1">
            <a:off x="7345080" y="1617840"/>
            <a:ext cx="1119240" cy="73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n belüli topológia kialakul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2" name=""/>
          <p:cNvGrpSpPr/>
          <p:nvPr/>
        </p:nvGrpSpPr>
        <p:grpSpPr>
          <a:xfrm>
            <a:off x="306000" y="1619640"/>
            <a:ext cx="8299440" cy="4835160"/>
            <a:chOff x="306000" y="1619640"/>
            <a:chExt cx="8299440" cy="4835160"/>
          </a:xfrm>
        </p:grpSpPr>
        <p:sp>
          <p:nvSpPr>
            <p:cNvPr id="1553" name=""/>
            <p:cNvSpPr/>
            <p:nvPr/>
          </p:nvSpPr>
          <p:spPr>
            <a:xfrm>
              <a:off x="843120" y="2685960"/>
              <a:ext cx="7762320" cy="37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1506960" y="3476520"/>
              <a:ext cx="673200" cy="1290600"/>
              <a:chOff x="1506960" y="3476520"/>
              <a:chExt cx="673200" cy="1290600"/>
            </a:xfrm>
          </p:grpSpPr>
          <p:pic>
            <p:nvPicPr>
              <p:cNvPr id="15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31880" y="3476520"/>
                <a:ext cx="42120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6" name=""/>
              <p:cNvSpPr/>
              <p:nvPr/>
            </p:nvSpPr>
            <p:spPr>
              <a:xfrm>
                <a:off x="1506960" y="4400640"/>
                <a:ext cx="673200" cy="366480"/>
              </a:xfrm>
              <a:prstGeom prst="rect">
                <a:avLst/>
              </a:prstGeom>
              <a:gradFill rotWithShape="0">
                <a:gsLst>
                  <a:gs pos="0">
                    <a:srgbClr val="fefec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>
              <a:off x="6649920" y="1631880"/>
              <a:ext cx="1412280" cy="979560"/>
            </a:xfrm>
            <a:prstGeom prst="flowChartExtra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658200" y="2239920"/>
              <a:ext cx="1390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9" name=""/>
            <p:cNvGrpSpPr/>
            <p:nvPr/>
          </p:nvGrpSpPr>
          <p:grpSpPr>
            <a:xfrm>
              <a:off x="306000" y="1899000"/>
              <a:ext cx="5208120" cy="335880"/>
              <a:chOff x="306000" y="1899000"/>
              <a:chExt cx="5208120" cy="335880"/>
            </a:xfrm>
          </p:grpSpPr>
          <p:sp>
            <p:nvSpPr>
              <p:cNvPr id="1560" name=""/>
              <p:cNvSpPr/>
              <p:nvPr/>
            </p:nvSpPr>
            <p:spPr>
              <a:xfrm>
                <a:off x="990360" y="1899000"/>
                <a:ext cx="4523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1" name=""/>
              <p:cNvCxnSpPr/>
              <p:nvPr/>
            </p:nvCxnSpPr>
            <p:spPr>
              <a:xfrm flipH="1" flipV="1">
                <a:off x="306000" y="207108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ff00"/>
                </a:solidFill>
                <a:miter/>
              </a:ln>
            </p:spPr>
          </p:cxnSp>
        </p:grpSp>
        <p:grpSp>
          <p:nvGrpSpPr>
            <p:cNvPr id="1562" name=""/>
            <p:cNvGrpSpPr/>
            <p:nvPr/>
          </p:nvGrpSpPr>
          <p:grpSpPr>
            <a:xfrm>
              <a:off x="306000" y="1619640"/>
              <a:ext cx="5571720" cy="335880"/>
              <a:chOff x="306000" y="1619640"/>
              <a:chExt cx="5571720" cy="335880"/>
            </a:xfrm>
          </p:grpSpPr>
          <p:sp>
            <p:nvSpPr>
              <p:cNvPr id="1563" name=""/>
              <p:cNvSpPr/>
              <p:nvPr/>
            </p:nvSpPr>
            <p:spPr>
              <a:xfrm>
                <a:off x="991080" y="1619640"/>
                <a:ext cx="4886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Konfiguráció és Séma 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4" name=""/>
              <p:cNvCxnSpPr/>
              <p:nvPr/>
            </p:nvCxnSpPr>
            <p:spPr>
              <a:xfrm flipH="1" flipV="1">
                <a:off x="306000" y="179172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0000"/>
                </a:solidFill>
                <a:miter/>
              </a:ln>
            </p:spPr>
          </p:cxnSp>
        </p:grpSp>
      </p:grpSp>
      <p:grpSp>
        <p:nvGrpSpPr>
          <p:cNvPr id="1565" name=""/>
          <p:cNvGrpSpPr/>
          <p:nvPr/>
        </p:nvGrpSpPr>
        <p:grpSpPr>
          <a:xfrm>
            <a:off x="3965400" y="2862360"/>
            <a:ext cx="641520" cy="1290600"/>
            <a:chOff x="3965400" y="2862360"/>
            <a:chExt cx="641520" cy="1290600"/>
          </a:xfrm>
        </p:grpSpPr>
        <p:pic>
          <p:nvPicPr>
            <p:cNvPr id="1566" name="" descr=""/>
            <p:cNvPicPr/>
            <p:nvPr/>
          </p:nvPicPr>
          <p:blipFill>
            <a:blip r:embed="rId3"/>
            <a:stretch/>
          </p:blipFill>
          <p:spPr>
            <a:xfrm>
              <a:off x="4084560" y="2862360"/>
              <a:ext cx="4017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7" name=""/>
            <p:cNvSpPr/>
            <p:nvPr/>
          </p:nvSpPr>
          <p:spPr>
            <a:xfrm>
              <a:off x="3965400" y="3786120"/>
              <a:ext cx="64152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3097080" y="4959360"/>
            <a:ext cx="641520" cy="1290600"/>
            <a:chOff x="3097080" y="4959360"/>
            <a:chExt cx="641520" cy="129060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3214800" y="4959360"/>
              <a:ext cx="40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0" name=""/>
            <p:cNvSpPr/>
            <p:nvPr/>
          </p:nvSpPr>
          <p:spPr>
            <a:xfrm>
              <a:off x="3097080" y="5883480"/>
              <a:ext cx="641520" cy="36648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5338800" y="4956120"/>
            <a:ext cx="641160" cy="1290600"/>
            <a:chOff x="5338800" y="4956120"/>
            <a:chExt cx="641160" cy="1290600"/>
          </a:xfrm>
        </p:grpSpPr>
        <p:pic>
          <p:nvPicPr>
            <p:cNvPr id="1572" name="" descr=""/>
            <p:cNvPicPr/>
            <p:nvPr/>
          </p:nvPicPr>
          <p:blipFill>
            <a:blip r:embed="rId5"/>
            <a:stretch/>
          </p:blipFill>
          <p:spPr>
            <a:xfrm>
              <a:off x="5451120" y="4956120"/>
              <a:ext cx="4014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3" name=""/>
            <p:cNvSpPr/>
            <p:nvPr/>
          </p:nvSpPr>
          <p:spPr>
            <a:xfrm>
              <a:off x="5338800" y="5879880"/>
              <a:ext cx="64116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2001960" y="3174840"/>
            <a:ext cx="2057400" cy="576360"/>
            <a:chOff x="2001960" y="3174840"/>
            <a:chExt cx="2057400" cy="576360"/>
          </a:xfrm>
        </p:grpSpPr>
        <p:sp>
          <p:nvSpPr>
            <p:cNvPr id="1575" name=""/>
            <p:cNvSpPr/>
            <p:nvPr/>
          </p:nvSpPr>
          <p:spPr>
            <a:xfrm>
              <a:off x="2001960" y="3174840"/>
              <a:ext cx="2057400" cy="576360"/>
            </a:xfrm>
            <a:prstGeom prst="rightArrow">
              <a:avLst>
                <a:gd name="adj1" fmla="val 50000"/>
                <a:gd name="adj2" fmla="val 89241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8840" y="3403440"/>
              <a:ext cx="1866960" cy="180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58840" y="3517920"/>
              <a:ext cx="186696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1968480" y="3713040"/>
            <a:ext cx="1943280" cy="585720"/>
            <a:chOff x="1968480" y="3713040"/>
            <a:chExt cx="1943280" cy="585720"/>
          </a:xfrm>
        </p:grpSpPr>
        <p:sp>
          <p:nvSpPr>
            <p:cNvPr id="1579" name=""/>
            <p:cNvSpPr/>
            <p:nvPr/>
          </p:nvSpPr>
          <p:spPr>
            <a:xfrm>
              <a:off x="1968480" y="3713040"/>
              <a:ext cx="1943280" cy="585720"/>
            </a:xfrm>
            <a:custGeom>
              <a:avLst/>
              <a:gdLst/>
              <a:ahLst/>
              <a:rect l="l" t="t" r="r" b="b"/>
              <a:pathLst>
                <a:path w="1224" h="369">
                  <a:moveTo>
                    <a:pt x="1224" y="93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1224" y="276"/>
                  </a:lnTo>
                  <a:lnTo>
                    <a:pt x="122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2120760" y="3946320"/>
              <a:ext cx="1747800" cy="125640"/>
              <a:chOff x="2120760" y="3946320"/>
              <a:chExt cx="1747800" cy="125640"/>
            </a:xfrm>
          </p:grpSpPr>
          <p:sp>
            <p:nvSpPr>
              <p:cNvPr id="1581" name=""/>
              <p:cNvSpPr/>
              <p:nvPr/>
            </p:nvSpPr>
            <p:spPr>
              <a:xfrm flipH="1">
                <a:off x="2120400" y="394632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2120400" y="407016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1503360" y="4414680"/>
            <a:ext cx="1717920" cy="1710720"/>
            <a:chOff x="1503360" y="4414680"/>
            <a:chExt cx="1717920" cy="1710720"/>
          </a:xfrm>
        </p:grpSpPr>
        <p:grpSp>
          <p:nvGrpSpPr>
            <p:cNvPr id="1584" name=""/>
            <p:cNvGrpSpPr/>
            <p:nvPr/>
          </p:nvGrpSpPr>
          <p:grpSpPr>
            <a:xfrm>
              <a:off x="1503360" y="4594680"/>
              <a:ext cx="1717920" cy="1530720"/>
              <a:chOff x="1503360" y="4594680"/>
              <a:chExt cx="1717920" cy="1530720"/>
            </a:xfrm>
          </p:grpSpPr>
          <p:sp>
            <p:nvSpPr>
              <p:cNvPr id="1585" name=""/>
              <p:cNvSpPr/>
              <p:nvPr/>
            </p:nvSpPr>
            <p:spPr>
              <a:xfrm flipH="1" rot="2300400">
                <a:off x="1498680" y="506700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86" name=""/>
              <p:cNvGrpSpPr/>
              <p:nvPr/>
            </p:nvGrpSpPr>
            <p:grpSpPr>
              <a:xfrm>
                <a:off x="1764360" y="4872600"/>
                <a:ext cx="1273680" cy="1043640"/>
                <a:chOff x="1764360" y="4872600"/>
                <a:chExt cx="1273680" cy="1043640"/>
              </a:xfrm>
            </p:grpSpPr>
            <p:sp>
              <p:nvSpPr>
                <p:cNvPr id="1587" name=""/>
                <p:cNvSpPr/>
                <p:nvPr/>
              </p:nvSpPr>
              <p:spPr>
                <a:xfrm flipH="1" rot="2300400">
                  <a:off x="1676520" y="534528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 rot="2300400">
                  <a:off x="1599840" y="544176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9" name=""/>
            <p:cNvGrpSpPr/>
            <p:nvPr/>
          </p:nvGrpSpPr>
          <p:grpSpPr>
            <a:xfrm>
              <a:off x="2095560" y="4414680"/>
              <a:ext cx="1112760" cy="930240"/>
              <a:chOff x="2095560" y="4414680"/>
              <a:chExt cx="1112760" cy="930240"/>
            </a:xfrm>
          </p:grpSpPr>
          <p:sp>
            <p:nvSpPr>
              <p:cNvPr id="1590" name=""/>
              <p:cNvSpPr/>
              <p:nvPr/>
            </p:nvSpPr>
            <p:spPr>
              <a:xfrm>
                <a:off x="2095560" y="4414680"/>
                <a:ext cx="1112760" cy="93024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1" name=""/>
              <p:cNvGrpSpPr/>
              <p:nvPr/>
            </p:nvGrpSpPr>
            <p:grpSpPr>
              <a:xfrm>
                <a:off x="2179800" y="4505040"/>
                <a:ext cx="952200" cy="789480"/>
                <a:chOff x="2179800" y="4505040"/>
                <a:chExt cx="952200" cy="789480"/>
              </a:xfrm>
            </p:grpSpPr>
            <p:sp>
              <p:nvSpPr>
                <p:cNvPr id="1592" name=""/>
                <p:cNvSpPr/>
                <p:nvPr/>
              </p:nvSpPr>
              <p:spPr>
                <a:xfrm flipV="1" rot="2299200">
                  <a:off x="2060280" y="49467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V="1" rot="2299200">
                  <a:off x="2137320" y="48495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94" name=""/>
          <p:cNvGrpSpPr/>
          <p:nvPr/>
        </p:nvGrpSpPr>
        <p:grpSpPr>
          <a:xfrm>
            <a:off x="304920" y="2473560"/>
            <a:ext cx="2631240" cy="365040"/>
            <a:chOff x="304920" y="2473560"/>
            <a:chExt cx="2631240" cy="365040"/>
          </a:xfrm>
        </p:grpSpPr>
        <p:sp>
          <p:nvSpPr>
            <p:cNvPr id="1595" name=""/>
            <p:cNvSpPr/>
            <p:nvPr/>
          </p:nvSpPr>
          <p:spPr>
            <a:xfrm>
              <a:off x="304920" y="2495520"/>
              <a:ext cx="657000" cy="343080"/>
            </a:xfrm>
            <a:prstGeom prst="rightArrow">
              <a:avLst>
                <a:gd name="adj1" fmla="val 50000"/>
                <a:gd name="adj2" fmla="val 4787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952920" y="2473560"/>
              <a:ext cx="198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nection Ob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3708360" y="3818160"/>
            <a:ext cx="2217960" cy="2334960"/>
            <a:chOff x="3708360" y="3818160"/>
            <a:chExt cx="2217960" cy="2334960"/>
          </a:xfrm>
        </p:grpSpPr>
        <p:grpSp>
          <p:nvGrpSpPr>
            <p:cNvPr id="1598" name=""/>
            <p:cNvGrpSpPr/>
            <p:nvPr/>
          </p:nvGrpSpPr>
          <p:grpSpPr>
            <a:xfrm>
              <a:off x="3708360" y="5103720"/>
              <a:ext cx="1727280" cy="585720"/>
              <a:chOff x="3708360" y="5103720"/>
              <a:chExt cx="1727280" cy="585720"/>
            </a:xfrm>
          </p:grpSpPr>
          <p:sp>
            <p:nvSpPr>
              <p:cNvPr id="1599" name=""/>
              <p:cNvSpPr/>
              <p:nvPr/>
            </p:nvSpPr>
            <p:spPr>
              <a:xfrm>
                <a:off x="3708360" y="510372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3757680" y="5337000"/>
                <a:ext cx="1525320" cy="124560"/>
                <a:chOff x="3757680" y="5337000"/>
                <a:chExt cx="1525320" cy="12456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757680" y="533700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757680" y="546012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3" name=""/>
            <p:cNvGrpSpPr/>
            <p:nvPr/>
          </p:nvGrpSpPr>
          <p:grpSpPr>
            <a:xfrm>
              <a:off x="3709800" y="5567400"/>
              <a:ext cx="1726920" cy="585720"/>
              <a:chOff x="3709800" y="5567400"/>
              <a:chExt cx="1726920" cy="585720"/>
            </a:xfrm>
          </p:grpSpPr>
          <p:sp>
            <p:nvSpPr>
              <p:cNvPr id="1604" name=""/>
              <p:cNvSpPr/>
              <p:nvPr/>
            </p:nvSpPr>
            <p:spPr>
              <a:xfrm flipH="1">
                <a:off x="3709440" y="5567400"/>
                <a:ext cx="172692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862800" y="5800680"/>
                <a:ext cx="1524960" cy="124560"/>
                <a:chOff x="3862800" y="5800680"/>
                <a:chExt cx="1524960" cy="124560"/>
              </a:xfrm>
            </p:grpSpPr>
            <p:sp>
              <p:nvSpPr>
                <p:cNvPr id="1606" name=""/>
                <p:cNvSpPr/>
                <p:nvPr/>
              </p:nvSpPr>
              <p:spPr>
                <a:xfrm flipH="1">
                  <a:off x="3862800" y="580068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H="1">
                  <a:off x="3862800" y="592380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8" name=""/>
            <p:cNvGrpSpPr/>
            <p:nvPr/>
          </p:nvGrpSpPr>
          <p:grpSpPr>
            <a:xfrm>
              <a:off x="4121640" y="3818160"/>
              <a:ext cx="1804680" cy="1444320"/>
              <a:chOff x="4121640" y="3818160"/>
              <a:chExt cx="1804680" cy="1444320"/>
            </a:xfrm>
          </p:grpSpPr>
          <p:grpSp>
            <p:nvGrpSpPr>
              <p:cNvPr id="1609" name=""/>
              <p:cNvGrpSpPr/>
              <p:nvPr/>
            </p:nvGrpSpPr>
            <p:grpSpPr>
              <a:xfrm>
                <a:off x="4550040" y="3818160"/>
                <a:ext cx="1376280" cy="1162800"/>
                <a:chOff x="4550040" y="3818160"/>
                <a:chExt cx="1376280" cy="1162800"/>
              </a:xfrm>
            </p:grpSpPr>
            <p:sp>
              <p:nvSpPr>
                <p:cNvPr id="1610" name=""/>
                <p:cNvSpPr/>
                <p:nvPr/>
              </p:nvSpPr>
              <p:spPr>
                <a:xfrm flipH="1" flipV="1" rot="1920000">
                  <a:off x="4609080" y="4106520"/>
                  <a:ext cx="1256760" cy="58572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 flipV="1">
                  <a:off x="4767120" y="404100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 flipV="1">
                  <a:off x="4711680" y="414432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4121640" y="4098960"/>
                <a:ext cx="1377000" cy="1163520"/>
                <a:chOff x="4121640" y="4098960"/>
                <a:chExt cx="1377000" cy="1163520"/>
              </a:xfrm>
            </p:grpSpPr>
            <p:sp>
              <p:nvSpPr>
                <p:cNvPr id="1614" name=""/>
                <p:cNvSpPr/>
                <p:nvPr/>
              </p:nvSpPr>
              <p:spPr>
                <a:xfrm rot="1920000">
                  <a:off x="4181400" y="4387320"/>
                  <a:ext cx="1257480" cy="58608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4416480" y="4500720"/>
                  <a:ext cx="850680" cy="51408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4459320" y="439416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17" name=""/>
          <p:cNvGrpSpPr/>
          <p:nvPr/>
        </p:nvGrpSpPr>
        <p:grpSpPr>
          <a:xfrm>
            <a:off x="5884920" y="2367000"/>
            <a:ext cx="3259080" cy="1909800"/>
            <a:chOff x="5884920" y="2367000"/>
            <a:chExt cx="3259080" cy="1909800"/>
          </a:xfrm>
        </p:grpSpPr>
        <p:grpSp>
          <p:nvGrpSpPr>
            <p:cNvPr id="1618" name=""/>
            <p:cNvGrpSpPr/>
            <p:nvPr/>
          </p:nvGrpSpPr>
          <p:grpSpPr>
            <a:xfrm>
              <a:off x="7799400" y="2367000"/>
              <a:ext cx="1344600" cy="979560"/>
              <a:chOff x="7799400" y="2367000"/>
              <a:chExt cx="1344600" cy="979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7799400" y="2367000"/>
                <a:ext cx="1344600" cy="979560"/>
              </a:xfrm>
              <a:prstGeom prst="flowChartExtra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926480" y="2803680"/>
                <a:ext cx="1100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Arial"/>
                  </a:rPr>
                  <a:t>Szerviz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000000"/>
                    </a:solidFill>
                    <a:latin typeface="Arial"/>
                  </a:rPr>
                  <a:t>.auto.hu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884920" y="2986200"/>
              <a:ext cx="641160" cy="1290600"/>
              <a:chOff x="5884920" y="2986200"/>
              <a:chExt cx="641160" cy="1290600"/>
            </a:xfrm>
          </p:grpSpPr>
          <p:pic>
            <p:nvPicPr>
              <p:cNvPr id="16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03720" y="2986200"/>
                <a:ext cx="4017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"/>
              <p:cNvSpPr/>
              <p:nvPr/>
            </p:nvSpPr>
            <p:spPr>
              <a:xfrm>
                <a:off x="5884920" y="3910320"/>
                <a:ext cx="641160" cy="366480"/>
              </a:xfrm>
              <a:prstGeom prst="re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4" name=""/>
          <p:cNvGrpSpPr/>
          <p:nvPr/>
        </p:nvGrpSpPr>
        <p:grpSpPr>
          <a:xfrm>
            <a:off x="4508640" y="2921040"/>
            <a:ext cx="1466640" cy="585720"/>
            <a:chOff x="4508640" y="2921040"/>
            <a:chExt cx="1466640" cy="585720"/>
          </a:xfrm>
        </p:grpSpPr>
        <p:sp>
          <p:nvSpPr>
            <p:cNvPr id="1625" name=""/>
            <p:cNvSpPr/>
            <p:nvPr/>
          </p:nvSpPr>
          <p:spPr>
            <a:xfrm>
              <a:off x="4508640" y="2921040"/>
              <a:ext cx="1466640" cy="585720"/>
            </a:xfrm>
            <a:custGeom>
              <a:avLst/>
              <a:gdLst/>
              <a:ahLst/>
              <a:rect l="l" t="t" r="r" b="b"/>
              <a:pathLst>
                <a:path w="924" h="369">
                  <a:moveTo>
                    <a:pt x="0" y="92"/>
                  </a:moveTo>
                  <a:lnTo>
                    <a:pt x="600" y="93"/>
                  </a:lnTo>
                  <a:lnTo>
                    <a:pt x="600" y="0"/>
                  </a:lnTo>
                  <a:lnTo>
                    <a:pt x="924" y="183"/>
                  </a:lnTo>
                  <a:lnTo>
                    <a:pt x="600" y="369"/>
                  </a:lnTo>
                  <a:lnTo>
                    <a:pt x="600" y="276"/>
                  </a:lnTo>
                  <a:lnTo>
                    <a:pt x="0" y="27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538520" y="3218040"/>
              <a:ext cx="128448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4495680" y="3390840"/>
            <a:ext cx="1473480" cy="585720"/>
            <a:chOff x="4495680" y="3390840"/>
            <a:chExt cx="1473480" cy="585720"/>
          </a:xfrm>
        </p:grpSpPr>
        <p:sp>
          <p:nvSpPr>
            <p:cNvPr id="1628" name=""/>
            <p:cNvSpPr/>
            <p:nvPr/>
          </p:nvSpPr>
          <p:spPr>
            <a:xfrm>
              <a:off x="4495680" y="3390840"/>
              <a:ext cx="1473480" cy="585720"/>
            </a:xfrm>
            <a:custGeom>
              <a:avLst/>
              <a:gdLst/>
              <a:ahLst/>
              <a:rect l="l" t="t" r="r" b="b"/>
              <a:pathLst>
                <a:path w="928" h="369">
                  <a:moveTo>
                    <a:pt x="928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928" y="276"/>
                  </a:lnTo>
                  <a:lnTo>
                    <a:pt x="928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9760" y="3676680"/>
              <a:ext cx="1268280" cy="1440"/>
            </a:xfrm>
            <a:custGeom>
              <a:avLst/>
              <a:gdLst/>
              <a:ahLst/>
              <a:rect l="l" t="t" r="r" b="b"/>
              <a:pathLst>
                <a:path w="799" h="1">
                  <a:moveTo>
                    <a:pt x="799" y="0"/>
                  </a:move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305640" y="2169000"/>
            <a:ext cx="7857360" cy="3283920"/>
            <a:chOff x="305640" y="2169000"/>
            <a:chExt cx="7857360" cy="3283920"/>
          </a:xfrm>
        </p:grpSpPr>
        <p:grpSp>
          <p:nvGrpSpPr>
            <p:cNvPr id="1631" name=""/>
            <p:cNvGrpSpPr/>
            <p:nvPr/>
          </p:nvGrpSpPr>
          <p:grpSpPr>
            <a:xfrm>
              <a:off x="7521480" y="4162320"/>
              <a:ext cx="641520" cy="1290600"/>
              <a:chOff x="7521480" y="4162320"/>
              <a:chExt cx="641520" cy="1290600"/>
            </a:xfrm>
          </p:grpSpPr>
          <p:pic>
            <p:nvPicPr>
              <p:cNvPr id="16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0640" y="4162320"/>
                <a:ext cx="4017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3" name=""/>
              <p:cNvSpPr/>
              <p:nvPr/>
            </p:nvSpPr>
            <p:spPr>
              <a:xfrm>
                <a:off x="7521480" y="5086080"/>
                <a:ext cx="641520" cy="366840"/>
              </a:xfrm>
              <a:prstGeom prst="re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305640" y="2169000"/>
              <a:ext cx="5911920" cy="335880"/>
              <a:chOff x="305640" y="2169000"/>
              <a:chExt cx="5911920" cy="335880"/>
            </a:xfrm>
          </p:grpSpPr>
          <p:cxnSp>
            <p:nvCxnSpPr>
              <p:cNvPr id="1635" name=""/>
              <p:cNvCxnSpPr/>
              <p:nvPr/>
            </p:nvCxnSpPr>
            <p:spPr>
              <a:xfrm flipH="1" flipV="1">
                <a:off x="305640" y="2350440"/>
                <a:ext cx="594360" cy="6840"/>
              </a:xfrm>
              <a:prstGeom prst="straightConnector1">
                <a:avLst/>
              </a:prstGeom>
              <a:ln w="47520">
                <a:solidFill>
                  <a:srgbClr val="0000ff"/>
                </a:solidFill>
                <a:miter/>
              </a:ln>
            </p:spPr>
          </p:cxnSp>
          <p:sp>
            <p:nvSpPr>
              <p:cNvPr id="1636" name=""/>
              <p:cNvSpPr/>
              <p:nvPr/>
            </p:nvSpPr>
            <p:spPr>
              <a:xfrm>
                <a:off x="959040" y="2169000"/>
                <a:ext cx="5258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szerviz.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7" name=""/>
          <p:cNvGrpSpPr/>
          <p:nvPr/>
        </p:nvGrpSpPr>
        <p:grpSpPr>
          <a:xfrm>
            <a:off x="6434640" y="3154320"/>
            <a:ext cx="1376640" cy="1163160"/>
            <a:chOff x="6434640" y="3154320"/>
            <a:chExt cx="1376640" cy="1163160"/>
          </a:xfrm>
        </p:grpSpPr>
        <p:sp>
          <p:nvSpPr>
            <p:cNvPr id="1638" name=""/>
            <p:cNvSpPr/>
            <p:nvPr/>
          </p:nvSpPr>
          <p:spPr>
            <a:xfrm flipH="1" flipV="1" rot="1920000">
              <a:off x="6494040" y="3442320"/>
              <a:ext cx="1257480" cy="585720"/>
            </a:xfrm>
            <a:custGeom>
              <a:avLst/>
              <a:gdLst/>
              <a:ahLst/>
              <a:rect l="l" t="t" r="r" b="b"/>
              <a:pathLst>
                <a:path w="792" h="369">
                  <a:moveTo>
                    <a:pt x="792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792" y="276"/>
                  </a:lnTo>
                  <a:lnTo>
                    <a:pt x="79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flipV="1">
              <a:off x="6651000" y="3377520"/>
              <a:ext cx="850680" cy="51444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flipV="1">
              <a:off x="6595920" y="3481560"/>
              <a:ext cx="851040" cy="51408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6320520" y="3624480"/>
            <a:ext cx="1376280" cy="1162800"/>
            <a:chOff x="6320520" y="3624480"/>
            <a:chExt cx="1376280" cy="1162800"/>
          </a:xfrm>
        </p:grpSpPr>
        <p:sp>
          <p:nvSpPr>
            <p:cNvPr id="1642" name=""/>
            <p:cNvSpPr/>
            <p:nvPr/>
          </p:nvSpPr>
          <p:spPr>
            <a:xfrm rot="1920000">
              <a:off x="6379920" y="3912840"/>
              <a:ext cx="1257120" cy="585720"/>
            </a:xfrm>
            <a:custGeom>
              <a:avLst/>
              <a:gdLst/>
              <a:ahLst/>
              <a:rect l="l" t="t" r="r" b="b"/>
              <a:pathLst>
                <a:path w="792" h="369">
                  <a:moveTo>
                    <a:pt x="792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792" y="276"/>
                  </a:lnTo>
                  <a:lnTo>
                    <a:pt x="79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615000" y="4025880"/>
              <a:ext cx="851040" cy="51444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657840" y="3919680"/>
              <a:ext cx="851040" cy="51408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5997600" y="5010120"/>
            <a:ext cx="1441440" cy="854280"/>
            <a:chOff x="5997600" y="5010120"/>
            <a:chExt cx="1441440" cy="854280"/>
          </a:xfrm>
        </p:grpSpPr>
        <p:grpSp>
          <p:nvGrpSpPr>
            <p:cNvPr id="1646" name=""/>
            <p:cNvGrpSpPr/>
            <p:nvPr/>
          </p:nvGrpSpPr>
          <p:grpSpPr>
            <a:xfrm>
              <a:off x="5997600" y="5010120"/>
              <a:ext cx="1441440" cy="461880"/>
              <a:chOff x="5997600" y="5010120"/>
              <a:chExt cx="1441440" cy="4618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997600" y="5010120"/>
                <a:ext cx="1441440" cy="46188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6008760" y="5246280"/>
                <a:ext cx="1298520" cy="180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6027840" y="5425920"/>
              <a:ext cx="1404720" cy="438480"/>
              <a:chOff x="6027840" y="5425920"/>
              <a:chExt cx="1404720" cy="438480"/>
            </a:xfrm>
          </p:grpSpPr>
          <p:sp>
            <p:nvSpPr>
              <p:cNvPr id="1650" name=""/>
              <p:cNvSpPr/>
              <p:nvPr/>
            </p:nvSpPr>
            <p:spPr>
              <a:xfrm flipH="1">
                <a:off x="6027840" y="5425920"/>
                <a:ext cx="1404720" cy="43848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6211800" y="5643720"/>
                <a:ext cx="11001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2" name=""/>
          <p:cNvSpPr/>
          <p:nvPr/>
        </p:nvSpPr>
        <p:spPr>
          <a:xfrm flipH="1" flipV="1">
            <a:off x="7345080" y="1617840"/>
            <a:ext cx="1119240" cy="73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n belüli topológia kialakul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355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600" spc="-1" strike="noStrike">
                <a:solidFill>
                  <a:srgbClr val="fccf00"/>
                </a:solidFill>
                <a:latin typeface="Arial"/>
              </a:rPr>
              <a:t>Telephelyek közötti topológia kialakulása</a:t>
            </a:r>
            <a:endParaRPr b="1" lang="en-US" sz="4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929120" y="6477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247440" y="629460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838080" y="2514600"/>
            <a:ext cx="1447920" cy="1802520"/>
            <a:chOff x="838080" y="2514600"/>
            <a:chExt cx="1447920" cy="1802520"/>
          </a:xfrm>
        </p:grpSpPr>
        <p:sp>
          <p:nvSpPr>
            <p:cNvPr id="1658" name=""/>
            <p:cNvSpPr/>
            <p:nvPr/>
          </p:nvSpPr>
          <p:spPr>
            <a:xfrm>
              <a:off x="838080" y="2514600"/>
              <a:ext cx="1447920" cy="838080"/>
            </a:xfrm>
            <a:prstGeom prst="ellipse">
              <a:avLst/>
            </a:prstGeom>
            <a:solidFill>
              <a:srgbClr val="30517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Budape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59" name=""/>
            <p:cNvGraphicFramePr/>
            <p:nvPr/>
          </p:nvGraphicFramePr>
          <p:xfrm>
            <a:off x="1198440" y="3432240"/>
            <a:ext cx="814680" cy="814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98440" y="3432240"/>
                      <a:ext cx="814680" cy="8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1" name=""/>
            <p:cNvSpPr/>
            <p:nvPr/>
          </p:nvSpPr>
          <p:spPr>
            <a:xfrm>
              <a:off x="1036080" y="39798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dc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962520" y="2514600"/>
            <a:ext cx="1447560" cy="1758240"/>
            <a:chOff x="3962520" y="2514600"/>
            <a:chExt cx="1447560" cy="1758240"/>
          </a:xfrm>
        </p:grpSpPr>
        <p:sp>
          <p:nvSpPr>
            <p:cNvPr id="1663" name=""/>
            <p:cNvSpPr/>
            <p:nvPr/>
          </p:nvSpPr>
          <p:spPr>
            <a:xfrm>
              <a:off x="3962520" y="2514600"/>
              <a:ext cx="1447560" cy="838080"/>
            </a:xfrm>
            <a:prstGeom prst="ellipse">
              <a:avLst/>
            </a:prstGeom>
            <a:solidFill>
              <a:srgbClr val="30517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Pé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64" name=""/>
            <p:cNvGraphicFramePr/>
            <p:nvPr/>
          </p:nvGraphicFramePr>
          <p:xfrm>
            <a:off x="4576680" y="3446640"/>
            <a:ext cx="770040" cy="815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6680" y="3446640"/>
                      <a:ext cx="770040" cy="81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6" name=""/>
            <p:cNvSpPr/>
            <p:nvPr/>
          </p:nvSpPr>
          <p:spPr>
            <a:xfrm>
              <a:off x="4430160" y="39355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dc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4913280" y="6095880"/>
            <a:ext cx="99072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209280" y="586440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te Li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2362320" y="2438280"/>
            <a:ext cx="1523880" cy="459720"/>
            <a:chOff x="2362320" y="2438280"/>
            <a:chExt cx="1523880" cy="459720"/>
          </a:xfrm>
        </p:grpSpPr>
        <p:sp>
          <p:nvSpPr>
            <p:cNvPr id="1670" name=""/>
            <p:cNvSpPr/>
            <p:nvPr/>
          </p:nvSpPr>
          <p:spPr>
            <a:xfrm>
              <a:off x="2362320" y="2895480"/>
              <a:ext cx="1523880" cy="0"/>
            </a:xfrm>
            <a:prstGeom prst="line">
              <a:avLst/>
            </a:prstGeom>
            <a:ln w="76320">
              <a:solidFill>
                <a:srgbClr val="c0c0c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822040" y="24382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B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1828440" y="3581280"/>
            <a:ext cx="2591280" cy="304920"/>
            <a:chOff x="1828440" y="3581280"/>
            <a:chExt cx="2591280" cy="304920"/>
          </a:xfrm>
        </p:grpSpPr>
        <p:sp>
          <p:nvSpPr>
            <p:cNvPr id="1673" name=""/>
            <p:cNvSpPr/>
            <p:nvPr/>
          </p:nvSpPr>
          <p:spPr>
            <a:xfrm>
              <a:off x="1828800" y="3581280"/>
              <a:ext cx="259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1828440" y="3886200"/>
              <a:ext cx="2438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270000" y="1197000"/>
            <a:ext cx="1457280" cy="1182600"/>
          </a:xfrm>
          <a:prstGeom prst="flowChartExtract">
            <a:avLst/>
          </a:prstGeom>
          <a:gradFill rotWithShape="0">
            <a:gsLst>
              <a:gs pos="0">
                <a:srgbClr val="fefec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uto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5375160" y="4024440"/>
            <a:ext cx="1594080" cy="1015920"/>
            <a:chOff x="5375160" y="4024440"/>
            <a:chExt cx="1594080" cy="1015920"/>
          </a:xfrm>
        </p:grpSpPr>
        <p:sp>
          <p:nvSpPr>
            <p:cNvPr id="1677" name=""/>
            <p:cNvSpPr/>
            <p:nvPr/>
          </p:nvSpPr>
          <p:spPr>
            <a:xfrm>
              <a:off x="5423040" y="4024440"/>
              <a:ext cx="1546200" cy="82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 flipV="1">
              <a:off x="5375160" y="4313160"/>
              <a:ext cx="1408320" cy="72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5535720" y="3164040"/>
            <a:ext cx="1566720" cy="869760"/>
            <a:chOff x="5535720" y="3164040"/>
            <a:chExt cx="1566720" cy="869760"/>
          </a:xfrm>
        </p:grpSpPr>
        <p:sp>
          <p:nvSpPr>
            <p:cNvPr id="1680" name=""/>
            <p:cNvSpPr/>
            <p:nvPr/>
          </p:nvSpPr>
          <p:spPr>
            <a:xfrm>
              <a:off x="5535720" y="3164040"/>
              <a:ext cx="1566720" cy="869760"/>
            </a:xfrm>
            <a:prstGeom prst="line">
              <a:avLst/>
            </a:prstGeom>
            <a:ln w="76320">
              <a:solidFill>
                <a:srgbClr val="c0c0c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41400" y="31701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P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6940440" y="3886200"/>
            <a:ext cx="1447920" cy="1762200"/>
            <a:chOff x="6940440" y="3886200"/>
            <a:chExt cx="1447920" cy="1762200"/>
          </a:xfrm>
        </p:grpSpPr>
        <p:sp>
          <p:nvSpPr>
            <p:cNvPr id="1683" name=""/>
            <p:cNvSpPr/>
            <p:nvPr/>
          </p:nvSpPr>
          <p:spPr>
            <a:xfrm>
              <a:off x="6940440" y="3886200"/>
              <a:ext cx="1447920" cy="838080"/>
            </a:xfrm>
            <a:prstGeom prst="ellipse">
              <a:avLst/>
            </a:prstGeom>
            <a:solidFill>
              <a:srgbClr val="30517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Kaposvá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84" name=""/>
            <p:cNvGraphicFramePr/>
            <p:nvPr/>
          </p:nvGraphicFramePr>
          <p:xfrm>
            <a:off x="7385040" y="4832280"/>
            <a:ext cx="770040" cy="816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85040" y="4832280"/>
                      <a:ext cx="770040" cy="8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6" name=""/>
            <p:cNvSpPr/>
            <p:nvPr/>
          </p:nvSpPr>
          <p:spPr>
            <a:xfrm>
              <a:off x="7209720" y="53071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dc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7" name=""/>
          <p:cNvSpPr/>
          <p:nvPr/>
        </p:nvSpPr>
        <p:spPr>
          <a:xfrm>
            <a:off x="6476760" y="2374920"/>
            <a:ext cx="267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ltsé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Időzíté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7 közö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01320" y="4546440"/>
            <a:ext cx="267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ltsé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Időzíté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5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közö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355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600" spc="-1" strike="noStrike">
                <a:solidFill>
                  <a:srgbClr val="fccf00"/>
                </a:solidFill>
                <a:latin typeface="Arial"/>
              </a:rPr>
              <a:t>Telephelyek közötti topológia kialakulása</a:t>
            </a:r>
            <a:endParaRPr b="1" lang="en-US" sz="4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838080" y="2514600"/>
            <a:ext cx="1447920" cy="838080"/>
          </a:xfrm>
          <a:prstGeom prst="ellipse">
            <a:avLst/>
          </a:prstGeom>
          <a:solidFill>
            <a:srgbClr val="30517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udap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962520" y="2514600"/>
            <a:ext cx="1447560" cy="838080"/>
          </a:xfrm>
          <a:prstGeom prst="ellipse">
            <a:avLst/>
          </a:prstGeom>
          <a:solidFill>
            <a:srgbClr val="30517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é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929120" y="6477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247080" y="629460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on 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4" name=""/>
          <p:cNvGraphicFramePr/>
          <p:nvPr/>
        </p:nvGraphicFramePr>
        <p:xfrm>
          <a:off x="1198440" y="3432240"/>
          <a:ext cx="81468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8440" y="3432240"/>
                    <a:ext cx="8146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6" name=""/>
          <p:cNvSpPr/>
          <p:nvPr/>
        </p:nvSpPr>
        <p:spPr>
          <a:xfrm>
            <a:off x="1033560" y="400680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utod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7" name=""/>
          <p:cNvGraphicFramePr/>
          <p:nvPr/>
        </p:nvGraphicFramePr>
        <p:xfrm>
          <a:off x="4576680" y="3446640"/>
          <a:ext cx="770040" cy="81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6680" y="3446640"/>
                    <a:ext cx="7700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9" name=""/>
          <p:cNvSpPr/>
          <p:nvPr/>
        </p:nvSpPr>
        <p:spPr>
          <a:xfrm>
            <a:off x="4427640" y="396252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utod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913280" y="6095880"/>
            <a:ext cx="99072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210000" y="58644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e Li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362320" y="2895480"/>
            <a:ext cx="152388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822040" y="2438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828800" y="358128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1828440" y="388620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37960" y="1154160"/>
            <a:ext cx="1443240" cy="1197000"/>
          </a:xfrm>
          <a:prstGeom prst="flowChartExtract">
            <a:avLst/>
          </a:prstGeom>
          <a:gradFill rotWithShape="0">
            <a:gsLst>
              <a:gs pos="0">
                <a:srgbClr val="fefec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uto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940440" y="3886200"/>
            <a:ext cx="1447920" cy="838080"/>
          </a:xfrm>
          <a:prstGeom prst="ellipse">
            <a:avLst/>
          </a:prstGeom>
          <a:solidFill>
            <a:srgbClr val="30517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aposvá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8" name=""/>
          <p:cNvGraphicFramePr/>
          <p:nvPr/>
        </p:nvGraphicFramePr>
        <p:xfrm>
          <a:off x="7385040" y="4832280"/>
          <a:ext cx="770040" cy="81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85040" y="4832280"/>
                    <a:ext cx="7700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0" name=""/>
          <p:cNvSpPr/>
          <p:nvPr/>
        </p:nvSpPr>
        <p:spPr>
          <a:xfrm>
            <a:off x="5535720" y="3164040"/>
            <a:ext cx="1566720" cy="86976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423040" y="4024440"/>
            <a:ext cx="1546200" cy="826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 flipV="1">
            <a:off x="5375160" y="4313160"/>
            <a:ext cx="1408320" cy="72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41400" y="31701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207200" y="533412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utod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455840" y="5045040"/>
            <a:ext cx="267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ltsé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Időzíté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5 közö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379600" y="4070520"/>
            <a:ext cx="4851360" cy="126360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252680" y="46814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evezetés a fizmók világába (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FSMO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380880" y="1698480"/>
            <a:ext cx="8415360" cy="426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xible </a:t>
            </a: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gle </a:t>
            </a: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ter </a:t>
            </a: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onyos dolgokat nem lehet multi-master replikációval megolda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szerepkör MMC-vel vagy az NTDSUTIL-lal áthelyezhet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5 FSMO szerepkö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gész erdőre vonatko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rtományra (mindegyikre külön-külön) vonatkozik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chema Master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1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gész erdőre vonatko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 kiszolgáló, amely módosíthatja a sém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értelmezés szerint az erdő elsőnek telepített DC-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ódosítás a Schema Manag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nap-i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segítségével (ResKi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omain Naming Mast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971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gész erdőre vonatko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apértelmezés szerint az erdő elsőnek telepített DC-j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lobális Katalógus kiszolgálón kell, hogy legy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rtományok alkotta névtérért fel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névtér csak rajta keresztül módosít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Új tartomány létrehozá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glévő tartomány törl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ésőbbiekben: tartomány mozgatása és átnevez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PDC Advertiser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/Emulato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77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nként 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z a szerepkör jelenti a Mixed mód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DC-ként vislekedik a Windows NT 4.0-s BDC és a munkaállomások f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NT Master Brow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z a gép jelenti a kapcsolatot a régi és az új világ közö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RI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(Relative ID)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Mast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02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nként 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Új felhasználók vagy csoportok felvételekor a RID intervallumból ő osztja ki az egyedi azonosító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közötti mozgatások esetén is használj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Infrastructure Daemo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46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nként 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ás tartományokban lévő objektumokra történő hivatkozásokat kezel, pl. csoport tagok, elmozgatott felhasználók, stb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ehetőleg ne ez legyen Global Catalog szerver 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 az a címtár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352160"/>
            <a:ext cx="8763120" cy="53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rectory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formáció forrás, telefonkönyv, könyvtárrendsz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elosztott rendszer erőforrásainak információit egy központi helyen tárol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adatok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ámítógépek, nyomtatók, stb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ok egyéb adat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öveli a biztonság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en egy helyen: kevesebb a kiskap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címtár megléte önmagában még nem garancia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címtár nem csak az adminisztrátorok játé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felhasználók és az alkalmazások is hasznát vehet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0" name=""/>
          <p:cNvGrpSpPr/>
          <p:nvPr/>
        </p:nvGrpSpPr>
        <p:grpSpPr>
          <a:xfrm>
            <a:off x="380880" y="4495680"/>
            <a:ext cx="8458200" cy="1295280"/>
            <a:chOff x="380880" y="4495680"/>
            <a:chExt cx="8458200" cy="1295280"/>
          </a:xfrm>
        </p:grpSpPr>
        <p:sp>
          <p:nvSpPr>
            <p:cNvPr id="1731" name=""/>
            <p:cNvSpPr/>
            <p:nvPr/>
          </p:nvSpPr>
          <p:spPr>
            <a:xfrm>
              <a:off x="380880" y="4495680"/>
              <a:ext cx="8458200" cy="1295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Windows 2000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19040" y="5410080"/>
              <a:ext cx="1638360" cy="317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Bindery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3720" y="5410080"/>
              <a:ext cx="160020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cc3300"/>
                  </a:solidFill>
                  <a:latin typeface="Arial"/>
                </a:rPr>
                <a:t>NDS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809880" y="5410080"/>
              <a:ext cx="1600200" cy="3175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NTDS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86400" y="5410080"/>
              <a:ext cx="1600200" cy="3175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LDAP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19040" y="4991040"/>
              <a:ext cx="8344080" cy="317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ctive Directory Services Interface (ADSI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762440" y="4572000"/>
              <a:ext cx="4000680" cy="317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DSI-kompatíbilis alkalmazás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162920" y="5410080"/>
              <a:ext cx="1600200" cy="317520"/>
            </a:xfrm>
            <a:prstGeom prst="rect">
              <a:avLst/>
            </a:prstGeom>
            <a:gradFill rotWithShape="0">
              <a:gsLst>
                <a:gs pos="0">
                  <a:srgbClr val="30517c"/>
                </a:gs>
                <a:gs pos="100000">
                  <a:srgbClr val="16253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fffff"/>
                  </a:solidFill>
                  <a:latin typeface="Arial"/>
                </a:rPr>
                <a:t>DEN modu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419040" y="6032520"/>
            <a:ext cx="8344080" cy="749160"/>
            <a:chOff x="419040" y="6032520"/>
            <a:chExt cx="8344080" cy="749160"/>
          </a:xfrm>
        </p:grpSpPr>
        <p:grpSp>
          <p:nvGrpSpPr>
            <p:cNvPr id="1740" name=""/>
            <p:cNvGrpSpPr/>
            <p:nvPr/>
          </p:nvGrpSpPr>
          <p:grpSpPr>
            <a:xfrm>
              <a:off x="419040" y="6032520"/>
              <a:ext cx="1638000" cy="749160"/>
              <a:chOff x="419040" y="6032520"/>
              <a:chExt cx="1638000" cy="749160"/>
            </a:xfrm>
          </p:grpSpPr>
          <p:sp>
            <p:nvSpPr>
              <p:cNvPr id="1741" name=""/>
              <p:cNvSpPr/>
              <p:nvPr/>
            </p:nvSpPr>
            <p:spPr>
              <a:xfrm>
                <a:off x="419040" y="6032520"/>
                <a:ext cx="1638000" cy="749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NetWare 3.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142640" y="6095880"/>
                <a:ext cx="825480" cy="3175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Binder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2133720" y="6032520"/>
              <a:ext cx="1600200" cy="749160"/>
              <a:chOff x="2133720" y="6032520"/>
              <a:chExt cx="1600200" cy="749160"/>
            </a:xfrm>
          </p:grpSpPr>
          <p:sp>
            <p:nvSpPr>
              <p:cNvPr id="1744" name=""/>
              <p:cNvSpPr/>
              <p:nvPr/>
            </p:nvSpPr>
            <p:spPr>
              <a:xfrm>
                <a:off x="2133720" y="6032520"/>
                <a:ext cx="1600200" cy="749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cc3300"/>
                    </a:solidFill>
                    <a:latin typeface="Arial"/>
                  </a:rPr>
                  <a:t>NetWare 4.1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819520" y="6070680"/>
                <a:ext cx="825480" cy="317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cc3300"/>
                    </a:solidFill>
                    <a:latin typeface="Arial"/>
                  </a:rPr>
                  <a:t>N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3809880" y="6032520"/>
              <a:ext cx="1600200" cy="749160"/>
              <a:chOff x="3809880" y="6032520"/>
              <a:chExt cx="1600200" cy="749160"/>
            </a:xfrm>
          </p:grpSpPr>
          <p:sp>
            <p:nvSpPr>
              <p:cNvPr id="1747" name=""/>
              <p:cNvSpPr/>
              <p:nvPr/>
            </p:nvSpPr>
            <p:spPr>
              <a:xfrm>
                <a:off x="3809880" y="6032520"/>
                <a:ext cx="1600200" cy="74916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Windows 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495680" y="6070680"/>
                <a:ext cx="825480" cy="31716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NTD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5486400" y="6032520"/>
              <a:ext cx="1600200" cy="749160"/>
              <a:chOff x="5486400" y="6032520"/>
              <a:chExt cx="1600200" cy="749160"/>
            </a:xfrm>
          </p:grpSpPr>
          <p:sp>
            <p:nvSpPr>
              <p:cNvPr id="1750" name=""/>
              <p:cNvSpPr/>
              <p:nvPr/>
            </p:nvSpPr>
            <p:spPr>
              <a:xfrm>
                <a:off x="5486400" y="6032520"/>
                <a:ext cx="1600200" cy="74916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Unix, Not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172200" y="6070680"/>
                <a:ext cx="825480" cy="31716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LDA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7162920" y="6032520"/>
              <a:ext cx="1600200" cy="749160"/>
              <a:chOff x="7162920" y="6032520"/>
              <a:chExt cx="1600200" cy="7491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62920" y="6032520"/>
                <a:ext cx="1600200" cy="749160"/>
              </a:xfrm>
              <a:prstGeom prst="rect">
                <a:avLst/>
              </a:prstGeom>
              <a:gradFill rotWithShape="0">
                <a:gsLst>
                  <a:gs pos="0">
                    <a:srgbClr val="30517c"/>
                  </a:gs>
                  <a:gs pos="100000">
                    <a:srgbClr val="16253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Aktív</a:t>
                </a:r>
                <a:br>
                  <a:rPr sz="2000"/>
                </a:b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eszközö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848720" y="6070680"/>
                <a:ext cx="825480" cy="317160"/>
              </a:xfrm>
              <a:prstGeom prst="rect">
                <a:avLst/>
              </a:prstGeom>
              <a:gradFill rotWithShape="0">
                <a:gsLst>
                  <a:gs pos="0">
                    <a:srgbClr val="30517c"/>
                  </a:gs>
                  <a:gs pos="100000">
                    <a:srgbClr val="16253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DE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programozható címtá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32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éges programozási felület különböző címtárszolgáltatások és az azokat használó alkalmazások szám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 írhat címtárszolgáltatót (ld.: Directory Enabled Network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 írhat a címtárat igénybe vevő üzleti vagy felügyeleti alkalmazá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0" y="5918040"/>
            <a:ext cx="91440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emó belülről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336600" y="985680"/>
            <a:ext cx="8415360" cy="5405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treetmarket demó részlet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éb adminisztratív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source 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plmon.ex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t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SI Ed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minp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chema Mana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SI péld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0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120" y="114120"/>
            <a:ext cx="887724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Active Directory jellemző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120" y="1219320"/>
            <a:ext cx="8877240" cy="539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Hierarchikus, kiterjeszthető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névtér (sém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 mesterpéldányt használó (multimaster) </a:t>
            </a: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replik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vezeti szintű, </a:t>
            </a: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globális kataló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X.50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abványon alapu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alapú erőforrás-elér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LDAP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v3.0 alapú adatkezel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Integráció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a védelmi alrendszerrel, a hálózattal és a kezelőfelülett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120" y="204480"/>
            <a:ext cx="887724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Active Directory jellemzői</a:t>
            </a:r>
            <a:br>
              <a:rPr sz="44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 (folytatás)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480" y="1415520"/>
            <a:ext cx="9029520" cy="522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Nagy teljesítményű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adatbáz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kálázható (40 millió objektumig tesztelv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szörösen, röptében indexe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artícionált (tartományo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bízható (mentés, tranzakciós napló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Nyilvános sém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objekt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séma a címtárban foglal hely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tékony replik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bjektum helyett </a:t>
            </a:r>
            <a:r>
              <a:rPr b="1" lang="hu-HU" sz="2800" spc="-1" strike="noStrike">
                <a:solidFill>
                  <a:srgbClr val="ffff99"/>
                </a:solidFill>
                <a:latin typeface="Arial"/>
              </a:rPr>
              <a:t>tulajdonság szint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dőkülönbségek helyett </a:t>
            </a:r>
            <a:r>
              <a:rPr b="1" lang="hu-HU" sz="2800" spc="-1" strike="noStrike">
                <a:solidFill>
                  <a:srgbClr val="ffff99"/>
                </a:solidFill>
                <a:latin typeface="Arial"/>
              </a:rPr>
              <a:t>frissítési sorszámok (US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179640" y="3570120"/>
            <a:ext cx="3027600" cy="1377000"/>
            <a:chOff x="-179640" y="3570120"/>
            <a:chExt cx="3027600" cy="13770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1940040" y="3570120"/>
              <a:ext cx="511200" cy="71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"/>
            <p:cNvGrpSpPr/>
            <p:nvPr/>
          </p:nvGrpSpPr>
          <p:grpSpPr>
            <a:xfrm>
              <a:off x="1787400" y="4359240"/>
              <a:ext cx="487440" cy="406440"/>
              <a:chOff x="1787400" y="4359240"/>
              <a:chExt cx="487440" cy="406440"/>
            </a:xfrm>
          </p:grpSpPr>
          <p:sp>
            <p:nvSpPr>
              <p:cNvPr id="62" name=""/>
              <p:cNvSpPr/>
              <p:nvPr/>
            </p:nvSpPr>
            <p:spPr>
              <a:xfrm>
                <a:off x="1787400" y="435924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990080" y="446220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35080" y="446220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42280" y="446436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2071080" y="451800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84040" y="452628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24720" y="459144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20040" y="458100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960920" y="452628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007360" y="452448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998360" y="459144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03760" y="458532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917000" y="459144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958760" y="458928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962360" y="465228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97280" y="464760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94040" y="464544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112840" y="465624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2149200" y="464940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68640" y="464940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1884960" y="464940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17360" y="464544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20320" y="4447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7352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02032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6748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4436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91160" y="45684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5668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0384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0476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4184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2320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499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807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21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46520" y="468972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8324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2248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9520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3192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17116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6336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0008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-179640" y="4000680"/>
              <a:ext cx="222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zinkroniz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ingle Sign-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467080" y="3879360"/>
              <a:ext cx="38088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31040" y="2400480"/>
            <a:ext cx="2631240" cy="1159560"/>
            <a:chOff x="131040" y="2400480"/>
            <a:chExt cx="2631240" cy="1159560"/>
          </a:xfrm>
        </p:grpSpPr>
        <p:grpSp>
          <p:nvGrpSpPr>
            <p:cNvPr id="109" name=""/>
            <p:cNvGrpSpPr/>
            <p:nvPr/>
          </p:nvGrpSpPr>
          <p:grpSpPr>
            <a:xfrm>
              <a:off x="1671480" y="2803680"/>
              <a:ext cx="725760" cy="482400"/>
              <a:chOff x="1671480" y="2803680"/>
              <a:chExt cx="725760" cy="482400"/>
            </a:xfrm>
          </p:grpSpPr>
          <p:sp>
            <p:nvSpPr>
              <p:cNvPr id="110" name=""/>
              <p:cNvSpPr/>
              <p:nvPr/>
            </p:nvSpPr>
            <p:spPr>
              <a:xfrm>
                <a:off x="1671480" y="2803680"/>
                <a:ext cx="72576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72800" y="292572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40120" y="292572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50920" y="292824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093760" y="299232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12840" y="300204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74040" y="307944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66840" y="306720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929960" y="300204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998720" y="299952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985760" y="307944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94040" y="307188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864800" y="307944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926720" y="307692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931400" y="315144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83960" y="314568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79280" y="314316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156400" y="315648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210400" y="314820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38840" y="314820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816920" y="314820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64800" y="314316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18520" y="29088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4868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1852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836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0548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74960" y="305208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7252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4236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4608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0116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2248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1112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5948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15532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08360" y="319572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6344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2140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2940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8448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4280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8452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3960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31040" y="2400480"/>
              <a:ext cx="1660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Más címtár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Yellow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ektorniku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ereskedel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rtál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76440" y="3009960"/>
              <a:ext cx="28584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438360" y="4362480"/>
            <a:ext cx="3105720" cy="2319840"/>
            <a:chOff x="3438360" y="4362480"/>
            <a:chExt cx="3105720" cy="2319840"/>
          </a:xfrm>
        </p:grpSpPr>
        <p:grpSp>
          <p:nvGrpSpPr>
            <p:cNvPr id="157" name=""/>
            <p:cNvGrpSpPr/>
            <p:nvPr/>
          </p:nvGrpSpPr>
          <p:grpSpPr>
            <a:xfrm>
              <a:off x="3438360" y="4637160"/>
              <a:ext cx="987480" cy="826920"/>
              <a:chOff x="3438360" y="4637160"/>
              <a:chExt cx="987480" cy="826920"/>
            </a:xfrm>
          </p:grpSpPr>
          <p:sp>
            <p:nvSpPr>
              <p:cNvPr id="158" name=""/>
              <p:cNvSpPr/>
              <p:nvPr/>
            </p:nvSpPr>
            <p:spPr>
              <a:xfrm>
                <a:off x="3438360" y="4637160"/>
                <a:ext cx="987480" cy="82692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0640" y="4679280"/>
                <a:ext cx="884880" cy="74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0" name=""/>
            <p:cNvSpPr/>
            <p:nvPr/>
          </p:nvSpPr>
          <p:spPr>
            <a:xfrm>
              <a:off x="4256280" y="5522760"/>
              <a:ext cx="2287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A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lkalmazás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rver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ngle Sign-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pecifikus informáci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691080" y="5584680"/>
              <a:ext cx="487080" cy="406440"/>
              <a:chOff x="3691080" y="5584680"/>
              <a:chExt cx="487080" cy="406440"/>
            </a:xfrm>
          </p:grpSpPr>
          <p:sp>
            <p:nvSpPr>
              <p:cNvPr id="162" name=""/>
              <p:cNvSpPr/>
              <p:nvPr/>
            </p:nvSpPr>
            <p:spPr>
              <a:xfrm>
                <a:off x="3691080" y="5584680"/>
                <a:ext cx="48708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3893400" y="568764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38400" y="568764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945600" y="568980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3974400" y="574344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87360" y="575172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28400" y="581688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23720" y="5806440"/>
                <a:ext cx="478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864600" y="575172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910680" y="574992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3901680" y="581688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07440" y="581076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3820680" y="581688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3862080" y="581472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3865680" y="587772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00960" y="587304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97720" y="5870880"/>
                <a:ext cx="4248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016520" y="588168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052520" y="587484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71960" y="587484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788640" y="587484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21040" y="587088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24000" y="56732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772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240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9708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4804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94840" y="579384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6036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0716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844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4516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92652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5324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8440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1580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49840" y="591516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692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2580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9852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3560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7448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6668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0376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>
              <a:off x="4552920" y="4362480"/>
              <a:ext cx="0" cy="3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089000" y="1104840"/>
            <a:ext cx="6752520" cy="1676520"/>
            <a:chOff x="1089000" y="1104840"/>
            <a:chExt cx="6752520" cy="167652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5969160" y="11556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5"/>
            <a:stretch/>
          </p:blipFill>
          <p:spPr>
            <a:xfrm>
              <a:off x="5969160" y="2232000"/>
              <a:ext cx="35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5969160" y="16938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1089000" y="1155600"/>
              <a:ext cx="858600" cy="1039680"/>
              <a:chOff x="1089000" y="1155600"/>
              <a:chExt cx="858600" cy="10396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469160" y="1155600"/>
                <a:ext cx="40680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089000" y="1378440"/>
                <a:ext cx="406800" cy="58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540440" y="1607760"/>
                <a:ext cx="4071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5" name="" descr=""/>
            <p:cNvPicPr/>
            <p:nvPr/>
          </p:nvPicPr>
          <p:blipFill>
            <a:blip r:embed="rId10"/>
            <a:stretch/>
          </p:blipFill>
          <p:spPr>
            <a:xfrm>
              <a:off x="3660840" y="111924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1"/>
            <a:stretch/>
          </p:blipFill>
          <p:spPr>
            <a:xfrm>
              <a:off x="3660840" y="1549440"/>
              <a:ext cx="3762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12"/>
            <a:stretch/>
          </p:blipFill>
          <p:spPr>
            <a:xfrm>
              <a:off x="3660840" y="198288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838160" y="1135080"/>
              <a:ext cx="1648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Jogosult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0" y="1104840"/>
              <a:ext cx="1952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Ügyfel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mt prof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lózati paramé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20880" y="1125360"/>
              <a:ext cx="1520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olgálta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Nyomtat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egosz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152800"/>
              <a:ext cx="628920" cy="62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1906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448240" y="2342880"/>
              <a:ext cx="362160" cy="36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8200" y="4076640"/>
            <a:ext cx="3280320" cy="1492200"/>
            <a:chOff x="5848200" y="4076640"/>
            <a:chExt cx="3280320" cy="1492200"/>
          </a:xfrm>
        </p:grpSpPr>
        <p:sp>
          <p:nvSpPr>
            <p:cNvPr id="225" name=""/>
            <p:cNvSpPr/>
            <p:nvPr/>
          </p:nvSpPr>
          <p:spPr>
            <a:xfrm>
              <a:off x="6711840" y="5105520"/>
              <a:ext cx="336600" cy="19188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26080" y="5156280"/>
              <a:ext cx="258840" cy="19188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29320" y="5159520"/>
              <a:ext cx="269280" cy="1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" y="13946"/>
                  </a:moveTo>
                  <a:arcTo wR="10800" hR="10800" stAng="9783789" swAng="8155038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" y="13946"/>
                  </a:moveTo>
                  <a:arcTo wR="10800" hR="10800" stAng="9783789" swAng="8155038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5165640"/>
              <a:ext cx="24876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7" y="217"/>
                  </a:moveTo>
                  <a:arcTo wR="10800" hR="10800" stAng="-6089883" swAng="797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7" y="217"/>
                  </a:moveTo>
                  <a:arcTo wR="10800" hR="10800" stAng="-6089883" swAng="7977590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848200" y="4076640"/>
              <a:ext cx="3280320" cy="1492200"/>
              <a:chOff x="5848200" y="4076640"/>
              <a:chExt cx="3280320" cy="1492200"/>
            </a:xfrm>
          </p:grpSpPr>
          <p:sp>
            <p:nvSpPr>
              <p:cNvPr id="230" name=""/>
              <p:cNvSpPr/>
              <p:nvPr/>
            </p:nvSpPr>
            <p:spPr>
              <a:xfrm>
                <a:off x="6448320" y="5272200"/>
                <a:ext cx="174600" cy="15372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9080" y="5340240"/>
                <a:ext cx="262080" cy="1684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83400" y="5367240"/>
                <a:ext cx="393840" cy="2016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7113600" y="5309640"/>
                <a:ext cx="71280" cy="428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72480" y="5257800"/>
                <a:ext cx="247320" cy="1494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48360" y="5289480"/>
                <a:ext cx="247680" cy="2476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86560" y="5216400"/>
                <a:ext cx="504720" cy="2476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451560" y="5263200"/>
                <a:ext cx="24408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89" y="19564"/>
                    </a:moveTo>
                    <a:arcTo wR="10800" hR="10800" stAng="7545457" swAng="76015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89" y="19564"/>
                    </a:moveTo>
                    <a:arcTo wR="10800" hR="10800" stAng="7545457" swAng="7601544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99080" y="5340960"/>
                <a:ext cx="278280" cy="16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08" y="20471"/>
                    </a:moveTo>
                    <a:arcTo wR="10800" hR="10800" stAng="3813963" swAng="70192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08" y="20471"/>
                    </a:moveTo>
                    <a:arcTo wR="10800" hR="10800" stAng="3813963" swAng="7019227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93840" y="5399280"/>
                <a:ext cx="37008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51" y="16843"/>
                    </a:moveTo>
                    <a:arcTo wR="10800" hR="10800" stAng="2041560" swAng="82109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51" y="16843"/>
                    </a:moveTo>
                    <a:arcTo wR="10800" hR="10800" stAng="2041560" swAng="8210910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37560" y="5257800"/>
                <a:ext cx="281880" cy="15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06" y="2032"/>
                    </a:moveTo>
                    <a:arcTo wR="10800" hR="10800" stAng="-3256509" swAng="54710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06" y="2032"/>
                    </a:moveTo>
                    <a:arcTo wR="10800" hR="10800" stAng="-3256509" swAng="5471066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38280" y="5305320"/>
                <a:ext cx="259200" cy="22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39" y="7366"/>
                    </a:moveTo>
                    <a:arcTo wR="10800" hR="10800" stAng="-1112428" swAng="75908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39" y="7366"/>
                    </a:moveTo>
                    <a:arcTo wR="10800" hR="10800" stAng="-1112428" swAng="7590869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5848200" y="4076640"/>
                <a:ext cx="3280320" cy="1424160"/>
                <a:chOff x="5848200" y="4076640"/>
                <a:chExt cx="3280320" cy="1424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762600" y="4933800"/>
                  <a:ext cx="0" cy="266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5848200" y="4076640"/>
                  <a:ext cx="3280320" cy="1424160"/>
                  <a:chOff x="5848200" y="4076640"/>
                  <a:chExt cx="3280320" cy="1424160"/>
                </a:xfrm>
              </p:grpSpPr>
              <p:pic>
                <p:nvPicPr>
                  <p:cNvPr id="2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11840" y="4529160"/>
                    <a:ext cx="358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6" name=""/>
                  <p:cNvSpPr/>
                  <p:nvPr/>
                </p:nvSpPr>
                <p:spPr>
                  <a:xfrm>
                    <a:off x="6714000" y="5106960"/>
                    <a:ext cx="3337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08" y="7526"/>
                        </a:moveTo>
                        <a:arcTo wR="10800" hR="10800" stAng="-9741069" swAng="86147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08" y="7526"/>
                        </a:moveTo>
                        <a:arcTo wR="10800" hR="10800" stAng="-9741069" swAng="8614725"/>
                      </a:path>
                    </a:pathLst>
                  </a:custGeom>
                  <a:solidFill>
                    <a:srgbClr val="30517c"/>
                  </a:solidFill>
                  <a:ln w="20520">
                    <a:solidFill>
                      <a:srgbClr val="6c8f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491160" y="5224320"/>
                    <a:ext cx="74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Inter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012080" y="4473720"/>
                    <a:ext cx="211644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174600" indent="-174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eea564"/>
                        </a:solidFill>
                        <a:latin typeface="Arial"/>
                      </a:rPr>
                      <a:t>Tűzfal szolgáltatás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Konfiguráció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VPN </a:t>
                    </a: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beállításo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5848200" y="4076640"/>
                    <a:ext cx="324000" cy="381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6014880" y="4575240"/>
                    <a:ext cx="487440" cy="406440"/>
                    <a:chOff x="6014880" y="4575240"/>
                    <a:chExt cx="487440" cy="40644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014880" y="4575240"/>
                      <a:ext cx="487440" cy="406440"/>
                    </a:xfrm>
                    <a:prstGeom prst="can">
                      <a:avLst>
                        <a:gd name="adj" fmla="val 13791"/>
                      </a:avLst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>
                      <a:off x="6217560" y="4678200"/>
                      <a:ext cx="4680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262560" y="4678200"/>
                      <a:ext cx="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269760" y="4680360"/>
                      <a:ext cx="39240" cy="57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flipH="1">
                      <a:off x="6298560" y="4734000"/>
                      <a:ext cx="8280" cy="69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6311520" y="4742280"/>
                      <a:ext cx="36000" cy="66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6352200" y="4807440"/>
                      <a:ext cx="0" cy="69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6347520" y="4797000"/>
                      <a:ext cx="48240" cy="6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6188400" y="4742280"/>
                      <a:ext cx="22320" cy="56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H="1">
                      <a:off x="6234840" y="4740480"/>
                      <a:ext cx="29520" cy="64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>
                      <a:off x="6225840" y="4807440"/>
                      <a:ext cx="6840" cy="53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231240" y="4801320"/>
                      <a:ext cx="36000" cy="64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flipH="1">
                      <a:off x="6144480" y="4807440"/>
                      <a:ext cx="41400" cy="60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flipH="1">
                      <a:off x="6186240" y="4805280"/>
                      <a:ext cx="3240" cy="64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>
                      <a:off x="6189840" y="4868280"/>
                      <a:ext cx="31680" cy="53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224760" y="4863600"/>
                      <a:ext cx="1080" cy="58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221520" y="4861440"/>
                      <a:ext cx="42840" cy="60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>
                      <a:off x="6340320" y="4872240"/>
                      <a:ext cx="11520" cy="4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>
                      <a:off x="6376680" y="4865400"/>
                      <a:ext cx="22320" cy="48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396120" y="4865400"/>
                      <a:ext cx="19080" cy="54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>
                      <a:off x="6112440" y="4865400"/>
                      <a:ext cx="30960" cy="52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6144840" y="4861440"/>
                      <a:ext cx="1800" cy="62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247800" y="46638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620100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624780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29496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17184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218640" y="4784400"/>
                      <a:ext cx="2700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28416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33132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613224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616932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625068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63774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2082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3396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6174000" y="4905720"/>
                      <a:ext cx="2700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621072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624996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632268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35940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639864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609084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612756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5" name=""/>
                  <p:cNvSpPr/>
                  <p:nvPr/>
                </p:nvSpPr>
                <p:spPr>
                  <a:xfrm>
                    <a:off x="6496200" y="4781520"/>
                    <a:ext cx="209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96" name=""/>
          <p:cNvGrpSpPr/>
          <p:nvPr/>
        </p:nvGrpSpPr>
        <p:grpSpPr>
          <a:xfrm>
            <a:off x="6381720" y="2759040"/>
            <a:ext cx="2718720" cy="1179720"/>
            <a:chOff x="6381720" y="2759040"/>
            <a:chExt cx="2718720" cy="1179720"/>
          </a:xfrm>
        </p:grpSpPr>
        <p:sp>
          <p:nvSpPr>
            <p:cNvPr id="297" name=""/>
            <p:cNvSpPr/>
            <p:nvPr/>
          </p:nvSpPr>
          <p:spPr>
            <a:xfrm>
              <a:off x="7043400" y="275904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eszközö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u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isco CNS/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6759720" y="2990880"/>
              <a:ext cx="3650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381720" y="3448080"/>
              <a:ext cx="36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719760" y="3532320"/>
              <a:ext cx="487440" cy="406440"/>
              <a:chOff x="6719760" y="3532320"/>
              <a:chExt cx="487440" cy="406440"/>
            </a:xfrm>
          </p:grpSpPr>
          <p:sp>
            <p:nvSpPr>
              <p:cNvPr id="301" name=""/>
              <p:cNvSpPr/>
              <p:nvPr/>
            </p:nvSpPr>
            <p:spPr>
              <a:xfrm>
                <a:off x="6719760" y="353232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922440" y="363528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67440" y="363528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974640" y="363744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003440" y="369108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6400" y="369936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57080" y="376452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52400" y="375408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893280" y="369936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939720" y="369756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930720" y="376452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36120" y="375840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849360" y="376452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6891120" y="376236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6894720" y="382536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29640" y="382068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926400" y="381852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45200" y="382932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7081560" y="382248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01000" y="382248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817320" y="382248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849720" y="381852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52680" y="3620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058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526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9984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7672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23520" y="374148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8904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3620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3712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7420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95556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822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130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444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78880" y="38628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1560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548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2756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6428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035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957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324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59520" y="4172040"/>
            <a:ext cx="2521800" cy="2467440"/>
            <a:chOff x="659520" y="4172040"/>
            <a:chExt cx="2521800" cy="2467440"/>
          </a:xfrm>
        </p:grpSpPr>
        <p:grpSp>
          <p:nvGrpSpPr>
            <p:cNvPr id="346" name=""/>
            <p:cNvGrpSpPr/>
            <p:nvPr/>
          </p:nvGrpSpPr>
          <p:grpSpPr>
            <a:xfrm>
              <a:off x="2433600" y="5375160"/>
              <a:ext cx="487440" cy="406440"/>
              <a:chOff x="2433600" y="5375160"/>
              <a:chExt cx="487440" cy="406440"/>
            </a:xfrm>
          </p:grpSpPr>
          <p:sp>
            <p:nvSpPr>
              <p:cNvPr id="347" name=""/>
              <p:cNvSpPr/>
              <p:nvPr/>
            </p:nvSpPr>
            <p:spPr>
              <a:xfrm>
                <a:off x="2433600" y="537516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2636280" y="547812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81280" y="547812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88480" y="548028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2717280" y="553392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30240" y="554220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70920" y="560736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66240" y="559692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607120" y="554220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653560" y="554040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644560" y="560736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49960" y="560124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563200" y="560736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2604960" y="560520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2608560" y="566820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43480" y="566352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40240" y="566136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2759040" y="567216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2795400" y="566532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814840" y="566532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2531160" y="566532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63560" y="566136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66520" y="5463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1972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66652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71368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9056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37360" y="558432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0288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75004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5096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8804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6940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7961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269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583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592720" y="570564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62944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66868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4140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7812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81736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50956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54628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59520" y="5479920"/>
              <a:ext cx="1950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E-Mail S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zerver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sta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ím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isztribúció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857680" y="4172040"/>
              <a:ext cx="32364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15"/>
            <a:stretch/>
          </p:blipFill>
          <p:spPr>
            <a:xfrm>
              <a:off x="2482920" y="4624560"/>
              <a:ext cx="51120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e jó az Active Directory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38120" y="2057040"/>
            <a:ext cx="8325000" cy="2286360"/>
            <a:chOff x="438120" y="2057040"/>
            <a:chExt cx="8325000" cy="2286360"/>
          </a:xfrm>
        </p:grpSpPr>
        <p:sp>
          <p:nvSpPr>
            <p:cNvPr id="396" name=""/>
            <p:cNvSpPr/>
            <p:nvPr/>
          </p:nvSpPr>
          <p:spPr>
            <a:xfrm>
              <a:off x="2666880" y="2685960"/>
              <a:ext cx="3619800" cy="16574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3157560" y="3432240"/>
              <a:ext cx="725400" cy="482400"/>
              <a:chOff x="3157560" y="3432240"/>
              <a:chExt cx="725400" cy="482400"/>
            </a:xfrm>
          </p:grpSpPr>
          <p:sp>
            <p:nvSpPr>
              <p:cNvPr id="398" name=""/>
              <p:cNvSpPr/>
              <p:nvPr/>
            </p:nvSpPr>
            <p:spPr>
              <a:xfrm>
                <a:off x="3157560" y="3432240"/>
                <a:ext cx="72540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3458520" y="355428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25840" y="355428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537000" y="355680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579840" y="362088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98920" y="363060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659760" y="370800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52920" y="369576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3415680" y="363060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3484800" y="362808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3471480" y="370800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79760" y="370044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50880" y="370800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3412440" y="370548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3417480" y="378000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70040" y="377424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465000" y="377172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642120" y="378504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696120" y="377676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24560" y="377676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302640" y="377676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350880" y="377172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04240" y="3537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3440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0424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57408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9120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61040" y="368064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5860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62844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33216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38724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0820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69684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4556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4104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394080" y="382428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44916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50712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1548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7056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2852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27060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2532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42" name="" descr=""/>
            <p:cNvPicPr/>
            <p:nvPr/>
          </p:nvPicPr>
          <p:blipFill>
            <a:blip r:embed="rId16"/>
            <a:stretch/>
          </p:blipFill>
          <p:spPr>
            <a:xfrm>
              <a:off x="3736800" y="3825720"/>
              <a:ext cx="4082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089160" y="290664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recto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981760" y="2190600"/>
              <a:ext cx="2781360" cy="857520"/>
            </a:xfrm>
            <a:prstGeom prst="line">
              <a:avLst/>
            </a:prstGeom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438120" y="2057040"/>
              <a:ext cx="2781360" cy="857160"/>
            </a:xfrm>
            <a:prstGeom prst="line">
              <a:avLst/>
            </a:prstGeom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51360" y="2854440"/>
              <a:ext cx="1933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özponti MGMT</a:t>
              </a: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őforrás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leg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ció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címtárak alapfogalm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880" y="1309680"/>
            <a:ext cx="8382240" cy="4666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bjekt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rganization Un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és altartomán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rd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é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lobális kataló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vhasználati környez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artí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22880" y="1814400"/>
            <a:ext cx="561960" cy="536760"/>
          </a:xfrm>
          <a:prstGeom prst="ellipse">
            <a:avLst/>
          </a:prstGeom>
          <a:gradFill rotWithShape="0">
            <a:gsLst>
              <a:gs pos="0">
                <a:srgbClr val="162339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35960" y="2376360"/>
            <a:ext cx="666720" cy="62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643120" y="3002040"/>
            <a:ext cx="2639880" cy="520560"/>
            <a:chOff x="2643120" y="3002040"/>
            <a:chExt cx="2639880" cy="520560"/>
          </a:xfrm>
        </p:grpSpPr>
        <p:grpSp>
          <p:nvGrpSpPr>
            <p:cNvPr id="452" name=""/>
            <p:cNvGrpSpPr/>
            <p:nvPr/>
          </p:nvGrpSpPr>
          <p:grpSpPr>
            <a:xfrm>
              <a:off x="2643120" y="3002040"/>
              <a:ext cx="1006560" cy="520200"/>
              <a:chOff x="2643120" y="3002040"/>
              <a:chExt cx="1006560" cy="520200"/>
            </a:xfrm>
          </p:grpSpPr>
          <p:sp>
            <p:nvSpPr>
              <p:cNvPr id="453" name=""/>
              <p:cNvSpPr/>
              <p:nvPr/>
            </p:nvSpPr>
            <p:spPr>
              <a:xfrm flipH="1" flipV="1">
                <a:off x="3211200" y="313632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80160" y="30020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30240" y="319392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643120" y="338616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78360" y="319392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67640" y="33858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94120" y="33858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799000" y="313812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147480" y="3138480"/>
                <a:ext cx="0" cy="558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2709720" y="332964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2863800" y="332892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3211560" y="33285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25760" y="319392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515040" y="33858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3559320" y="33285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341520" y="33858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17000" y="338616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061080" y="333036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3408480" y="333036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3840" y="3002040"/>
              <a:ext cx="1006200" cy="520200"/>
              <a:chOff x="3813840" y="3002040"/>
              <a:chExt cx="1006200" cy="520200"/>
            </a:xfrm>
          </p:grpSpPr>
          <p:sp>
            <p:nvSpPr>
              <p:cNvPr id="473" name=""/>
              <p:cNvSpPr/>
              <p:nvPr/>
            </p:nvSpPr>
            <p:spPr>
              <a:xfrm flipH="1" flipV="1">
                <a:off x="4381920" y="313632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50520" y="30020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00960" y="319392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13840" y="338616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49080" y="319392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38000" y="33858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64840" y="33858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3969360" y="313812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4317840" y="3138480"/>
                <a:ext cx="0" cy="558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3880440" y="332964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flipV="1">
                <a:off x="4034520" y="332892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4382280" y="33285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6120" y="319392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85400" y="33858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4729680" y="33285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11880" y="33858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987720" y="338616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4231440" y="333036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4578840" y="333036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4975200" y="3002400"/>
              <a:ext cx="307800" cy="520200"/>
              <a:chOff x="4975200" y="3002400"/>
              <a:chExt cx="307800" cy="520200"/>
            </a:xfrm>
          </p:grpSpPr>
          <p:sp>
            <p:nvSpPr>
              <p:cNvPr id="493" name=""/>
              <p:cNvSpPr/>
              <p:nvPr/>
            </p:nvSpPr>
            <p:spPr>
              <a:xfrm>
                <a:off x="5060880" y="3002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59440" y="319428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48360" y="338652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975200" y="338652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128200" y="313920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5192640" y="332892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041800" y="333072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5367240" y="4286160"/>
            <a:ext cx="498600" cy="432000"/>
          </a:xfrm>
          <a:prstGeom prst="hexagon">
            <a:avLst>
              <a:gd name="adj" fmla="val 28854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578640" y="4684680"/>
            <a:ext cx="453960" cy="802800"/>
            <a:chOff x="6578640" y="4684680"/>
            <a:chExt cx="453960" cy="802800"/>
          </a:xfrm>
        </p:grpSpPr>
        <p:sp>
          <p:nvSpPr>
            <p:cNvPr id="502" name=""/>
            <p:cNvSpPr/>
            <p:nvPr/>
          </p:nvSpPr>
          <p:spPr>
            <a:xfrm>
              <a:off x="6578640" y="5268960"/>
              <a:ext cx="451800" cy="21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80800" y="5158440"/>
              <a:ext cx="451800" cy="21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80800" y="4924800"/>
              <a:ext cx="451800" cy="336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80800" y="4684680"/>
              <a:ext cx="451800" cy="336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86600" y="1650960"/>
            <a:ext cx="912600" cy="784440"/>
            <a:chOff x="6186600" y="1650960"/>
            <a:chExt cx="912600" cy="784440"/>
          </a:xfrm>
        </p:grpSpPr>
        <p:sp>
          <p:nvSpPr>
            <p:cNvPr id="507" name=""/>
            <p:cNvSpPr/>
            <p:nvPr/>
          </p:nvSpPr>
          <p:spPr>
            <a:xfrm flipH="1" flipV="1">
              <a:off x="6642360" y="1743480"/>
              <a:ext cx="85680" cy="13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541920" y="1732320"/>
              <a:ext cx="100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91600" y="165096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91880" y="188244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84840" y="188244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6186600" y="1972440"/>
              <a:ext cx="912600" cy="462960"/>
              <a:chOff x="6186600" y="1972440"/>
              <a:chExt cx="912600" cy="462960"/>
            </a:xfrm>
          </p:grpSpPr>
          <p:sp>
            <p:nvSpPr>
              <p:cNvPr id="513" name=""/>
              <p:cNvSpPr/>
              <p:nvPr/>
            </p:nvSpPr>
            <p:spPr>
              <a:xfrm flipH="1" flipV="1">
                <a:off x="6740280" y="1972440"/>
                <a:ext cx="14436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 flipV="1">
                <a:off x="6738120" y="1972440"/>
                <a:ext cx="216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537600" y="1972440"/>
                <a:ext cx="684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6395760" y="1972440"/>
                <a:ext cx="14652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341040" y="211356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37840" y="211356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89720" y="211356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92040" y="211356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8660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99588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3256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5352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6620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8032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0108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1556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236280" y="2196720"/>
                <a:ext cx="151560" cy="14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356160" y="2202840"/>
                <a:ext cx="38880" cy="141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476400" y="2201040"/>
                <a:ext cx="6336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flipV="1">
                <a:off x="6544800" y="2207160"/>
                <a:ext cx="38880" cy="137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711120" y="2201040"/>
                <a:ext cx="3168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6745680" y="2205000"/>
                <a:ext cx="6840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6890040" y="2201040"/>
                <a:ext cx="3888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6894360" y="2205000"/>
                <a:ext cx="14436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Szalontay Zoltán &amp; Tarsoly Balázs</dc:creator>
  <dc:description>A Windows 2000 előadássorozat (SP klub és Windows 2000 Akadémia) első előadása</dc:description>
  <dc:language>en-US</dc:language>
  <cp:lastModifiedBy>akosh</cp:lastModifiedBy>
  <cp:lastPrinted>1998-11-23T08:04:50Z</cp:lastPrinted>
  <dcterms:modified xsi:type="dcterms:W3CDTF">1999-12-02T13:03:57Z</dcterms:modified>
  <cp:revision>268</cp:revision>
  <dc:subject/>
  <dc:title>Active Directory a Windows 2000 új címtára</dc:title>
</cp:coreProperties>
</file>