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6A1-CF9D-4FE9-8E3D-10194E10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88D-644D-4891-856D-45C468FB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D7B-62DE-4CB7-B949-C428F10F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093-FBB1-4365-B1FD-DE5042BD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1B32-1AF5-4155-83D5-E1B8F2A9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6DA1-D7B3-4616-8B82-399A39B5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6C9-6F34-4CA5-8C36-37049634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767-B83B-46F5-AC93-22D27861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04D0-7274-44CC-9618-68FCDCF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D11A-2149-4A09-9661-E04E9600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021B-C6DF-4947-85BD-C5A1058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1B8-440E-4A1F-AEF3-7B299B91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B693-EA3F-4210-9266-DDFA4909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A8AA-C47F-4B3C-80AA-437A6A07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DC79-1B1B-406E-A0AD-453C49A9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C4FD-9F48-4286-A0CB-4110ED2D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2127-8BD8-4193-B861-6649B45A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8A1-A092-4A79-8BA6-6C88E16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AFA-A804-484A-AAF9-3070DF1A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85A-729A-42E3-8B98-E88B0D92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638-EC43-452E-B1AD-24F0740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2D3-541D-40DC-B38D-0A2D183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C19-4E04-47DD-8384-F4BACC5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61B-63F0-4D12-BCA1-3DEC6D1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C1F6-8187-4483-852F-EC5A78205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30D3-E476-4615-B98F-98B8D8EBC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áblázatkezel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átumo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éni   cellaformát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hetőség van pl mértékegység megjelenítésér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en formátum 3 számokra és egy negyedik szövegekre vonatkozó részből áll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részeket 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asztja el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00000" y="4076640"/>
          <a:ext cx="7775640" cy="57636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  <a:gridCol w="1944720"/>
                <a:gridCol w="1942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ití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ív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ll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684360" y="52293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tűjellemzők hasonlóan mint a MS Office Word –b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gaz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egély és mintáz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ámítások elvég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űveletek és végrehajtás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ellába írt képlet az egyenlet egyik oldala, melynek az eredménye a cellában jelenik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éplet mindig az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ellel kezdőd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értékelési sorrendet a precedencia szabályok határozzák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átumot és az időt is számonként kezeli a táblázatkeze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ellahivatkoz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éb szerkeszt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ágólap haszná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űveletek hatása a képletek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orok és oszlopok rögz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 lehet az adatok grafikus ábrázolás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tosabb diagram típuso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sszevont 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d 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al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r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 varázsl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kezelés alapj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blázat: sorokból és oszlopokból állá rá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oszlopokból 256 áll rendelkezésre, melyeket az angol abc betűivel jelölünk meg. A,B,…Z,AA,AB,….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rok azonosítására számokat használunk, összesen 65536 sor lehetsé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a: egy sor és egy oszlop közös része. Összesen 256*65536 =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ab cella. A cellára oszlopával és sorával hivatkozu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kezelés alapj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ig egy aktív cella van. Adatbevitel ebbe a cellába történ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cellába csak egy adat írha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3 = S3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xcel dokumentumai a munkafüz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nkafüzet több lapból áll. Alapértelmezésben 3 darab Munka1, Munka2, Munka3 lap áll rendel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nkafüzet összesen 255 lapból állhat. Egy lap lehet táblázat, vagy valamilyen más laptípus pl. grafik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füzet használ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nev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Új munkalap beszúr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áltás a munkalapok köz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unkalap tör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unkalapok rendez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ák kezel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ák kijelö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gás a cellák kö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jes táblázat kijelö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0" y="1773360"/>
          <a:ext cx="4321080" cy="31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3360"/>
                    <a:ext cx="432108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atbevitel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ltöltés előtt tervezzük meg a táblázatunk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épelés közben a kurzorvezérlő gombokkal nem lehet mozogni a szövegb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öveg csak akkor látszik hosszabbnak, ha nem takarja el a szomszédos cella tartal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erkesztőléc a javítás mellett a cella eredeti tartalmának megtekintésében is szerepet játs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cellában akkor jelenek meg a # jelek , ha a tartalma nem jeleníthető meg a rendelkezésre álló hely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akezelé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őfordul, hogy több cellába is ugyanazokat az adatokat kell beír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agy sorozatokra van szükségü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utomatikus funkciókat a ctrl billentyű nyomva tartásával felülbírálhatj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itöltéshez használhatjuk a szerkesztés menü kitöltés alpontjá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örlés és beszú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ájl művel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n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töl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égi bezárása, új megnyi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 formáz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szlopszélesség és sormagas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formátumok beáll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ormátum az aktív cellára vagy a kijelölt területre lesz érvén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hány gyakran használt formát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öv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talá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0:30:13Z</dcterms:created>
  <dc:creator>Nagymáté Péter</dc:creator>
  <dc:description/>
  <dc:language>en-US</dc:language>
  <cp:lastModifiedBy>Nagymáté Péter</cp:lastModifiedBy>
  <dcterms:modified xsi:type="dcterms:W3CDTF">2003-11-03T11:37:22Z</dcterms:modified>
  <cp:revision>9</cp:revision>
  <dc:subject/>
  <dc:title>Táblázatkezelés</dc:title>
</cp:coreProperties>
</file>