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D8DE1-04B9-4DF6-AC1D-9134E9657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BE0E-9237-4CBA-AB8E-B1EC2588A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48737-832E-4F3F-9C85-0B3A1D05B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CE2F8-3757-403D-A65A-80B947D2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77A8-99F7-4F9E-B051-C4850106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B7B6A-3F8E-4434-9ADA-5B9C3DA4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00F6-14F3-4CF5-8A4D-A18AA7299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A40F-1842-4A75-AF20-C85D4B18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7F3E-40CA-456D-B7E8-59738F904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A593-4057-4E76-A21E-98D437D91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DD16-9902-4390-B675-A87FDD67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D067-C8E9-4629-AF63-E41D8E0F8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5F6D-E07F-43C8-83C2-BE1DD9295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Útválasztá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a egy kisebb vállalat saját intranetes hálózatához a 192.168.0.0 hálózati azonosítót használja és az Internet-szolgáltatótól a w1.x1.y1.z1 nyilvános címet kapta, akkor a hálózati címfordítás (NAT - Network Address Translation) a 192.168.0.0 azonosítón lévő privát címeket a w1.x1.y1.z1 IP-címhez rendeli. Ha egy nyilvános címhez több privát cím is hozzá van rendelve, a NAT dinamikusan kiválasztott TCP és UDP portokat használ az egyes intranet helyek megkülönböztetésé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11280" y="1628640"/>
            <a:ext cx="7775640" cy="439416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ábra azt szemlélteti, hogyan lehet egyszerűen csatlakoztatni az intranetes hálózatot az Internethez a NAT használatá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Ha egy, a 192.168.0.10 azonosítóval rendelkező felhasználó web böngésző használatával a w2.x2.y2.z2 címen lévő webkiszolgálóhoz csatlakozik, a felhasználó számítógépe által létrehozott IP-csomag a következő információt fogja tartalmazn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él IP-címe: w2.x2.y2.z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orrás IP-címe: 192.168.0.1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élport: TCP port 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orrásport: TCP port 10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z az IP-csomag ezután a NAT-protokollhoz kerül, mely a kimenő csomagot az alábbiak szerint változtatja me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 IP-címe: w2.x2.y2.z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 IP-címe: w1.x1.y1.z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port: TCP port 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port: TCP port 5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NAT protokoll a {192.168.0.10, TCP 1025} adat {w1.x1.y1.z1, TCP 5000} adathoz történő hozzárendelését egy táblázatban tárol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átalakított csomagot a program elküldi az Interneten keresztül. A visszaküldött választ a NAT protokoll fogadja. A beérkezett csomag az alábbi információkat tartalmazza a nyilvános címre vonatkozó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 IP-címe: w1.x1.y1.z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 IP-címe: w2.x2.y2.z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port: TCP port 50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port: TCP port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NAT-protokoll ellenőrzi a fordítási táblázatot, és a nyilvános címeket privát címekhez rendeli, majd továbbítja a csomagot a 192.168.1.10 címen található számítógép felé. A továbbított csomag az alábbi információkat tartalmazza a címre vonatkozó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 IP-címe: 192.168.0.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 IP-címe: w2.x2.y2.z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élport: TCP port 102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orrásport: TCP port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élda a hálózati címfordításr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NAT-protokoll által kiadott kimenő csomagok forrás IP-címe (privát cím) az Internet-szolgáltató által kijelölt címhez (nyilvános cím), a TCP/UDP portszámok pedig másik TSP/UDP portszámhoz lesznek rendel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NAT-protokoll által fogadott bejövő csomagok cél IP-címe (nyilvános cím) az eredeti intranetes címhez (privát cím), a TCP/UDP portszámok pedig az eredeti TSP/UDP portszámokhoz lesznek rendel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ét útválasztó közötti virtuális magánhálózat tervezési szempontjai</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Nem állandó (igény szerinti) vagy állandó kapcsolato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öntse el, hogy az igény szerint tárcsázó, két útválasztó közötti VPN-kapcsolatai állandóak legyenek-e vagy s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nem állandó igény szerint tárcsázó kapcsolatok esetén a fogadó útválasztónak mindig csatlakoznia kell az Internethez. A hívó útválasztó telefonos kapcsolat segítségével, például analóg telefonvonalon vagy ISDN-vonalon keresztül csatlakozik az Internethez.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ogadó útválasztón egyetlen igény szerint tárcsázó összeköttetést kell konfigurálni. A hívó útválasztón két igény szerint tárcsázó összeköttetést kell konfigurálni: egyet a helyi Internet szolgáltatóval (ISP) való kapcsolathoz, egyet pedig a két útválasztó közötti VPN-kapcsolathoz.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gény szerint tárcsázó, két útválasztó közötti VPN-kapcsolatokhoz egy további állomásútvonalra van szükség a hívó útválasztó IP útválasztási táblájáb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ét útválasztó közötti virtuális magánhálózat tervezési szempontjai</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Állandó kapcsolat esetén mindkét útválasztónak folyamatosan WAN-kapcsolattal kell csatlakoznia az Internethez. Minden útválasztón csak egyetlen igény szerint tárcsázó összeköttetést kell konfigurálni. Az állandó kapcsolatok napi 24 órában kezdeményezhetők, és egész nap fennállhatna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irányúan vagy kétirányúan kezdeményezett kapcsolatok</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z egyirányúan kezdeményezett kapcsolatok esetében az egyik útválasztó mindig VPN-kiszolgálóként, a másik mindig VPN-ügyfélként működi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A VPN-ügyfél kezdeményezi a kapcsolatot, a VPN-kiszolgáló pedig fogadja azt. Az egyirányúan kezdeményezett kapcsolatok jól illeszkednek az állandó kapcsolatú sugaras topológiához, amelyben a fiókiroda útválasztója az egyetlen kapcsolatot kezdeményező útválasztó.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gyirányúan kezdeményezett kapcsolatok létrehozásához a következők szükségesek: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VPN-kiszolgálót (a fogadó útválasztót) LAN- és WAN-útválasztóként kell konfiguráln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hívó útválasztó hitelesítő adatai számára létre kell hozni egy felhasználói fiókot, amelyet a fogadó útválasztó ér el és érvényesí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igény szerint tárcsázó összeköttetést a fogadó útválasztón ugyanazzal a névvel kell konfigurálni, mint a hívó útválasztó által használt felhasználói fiókot. Ezt az igény szerint tárcsázó összeköttetést nem fogják kitárcsázásra alkalmazni, ezért nem kell beállítani rajta a hívó útválasztó állomásnevét vagy IP-címét, illetve érvényes felhasználói hitelesítő adatok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ikus útválasztásos környezet</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ikus útválasztásos IP környezet kis, egyetlen útvonallal rendelkező, statikus IP alapú összetett hálózat számára a legmegfelelőb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s összetett hálózatok 2-10  hálózatból állna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egyetlen útvonal azt jelenti, hogy az összetett hálózat bármely két végpontja között közlekedő csomagok számára csak egyetlen elérési út áll rendelkezés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kus azt jelenti, hogy az összetett hálózat topológiája az idő során nem változi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yirányúan vagy kétirányúan kezdeményezett kapcsolatok</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étirányúan kezdeményezett kapcsolatok esetében bármely útválasztó lehet VPN-kiszolgáló vagy VPN-ügyfél attól függően, melyik kezdeményezi a kapcsolato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indkét útválasztót konfigurálni kell VPN-kapcsolat kezdeményezésére és fogadására is. Kétirányúan kezdeményezett kapcsolatot akkor célszerű alkalmazni, ha a két útválasztó közötti VPN-kapcsolatok nem napi 24 órában állnak fenn, és bármely útválasztótól érkező forgalom létrehozhat igény szerinti kapcsolato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kétirányúan kezdeményezett, két útválasztó közötti VPN-kapcsolatok létrehozásához a következőkre van szükség: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indkét útválasztónak állandó WAN-kapcsolattal kell csatlakoznia az Internethez.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indkét útválasztót LAN és WAN-útválasztóként kell konfiguráln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indkét útválasztó számára létre kell hozni egy-egy felhasználói fiókot, hogy a fogadó útválasztó elérhesse és érvényesíthesse a hívó útválasztó hitelesítő adatai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igény szerint tárcsázó összeköttetések beállításait, ahol az összeköttetések neve megegyezik a hívó útválasztó felhasználói fiókjának nevével, mindkét útválasztón konfigurálni kell, beleértve a fogadó útválasztó állomásnevét vagy IP-címét, illetve a felhasználói fiók hívó útválasztó hitelesítéséhez szükséges hitelesítő adatait i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hetséges statikus útvonalú környezetek:</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svállalkozá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honi IP alapú összetett hálóz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etlen hálózattal rendelkező fiókirod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ak biztosítására, hogy a központi irodának szánt forgalom ne a fiókiroda számítógépére érkezzen, a fiókiroda útválasztója egy alapértelmezett útvonallal rendelkezik ahelyett, hogy az általában keskeny sávszélességű WAN kapcsolaton keresztül útválasztási protokollt futtat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atikus útválasztás hátrányai:</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cs hibatűré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 egy útválasztóval vagy kapcsolattal megszakad az összeköttetés, a statikus útválasztók nem észlelik a hibát, és nem is értesítik a többi útválasztót a hibáról. Ez a hátrány nagyméretű, vállalati összetett hálózatok esetében jelentős, a kisvállalkozásoknál (ahol két útválasztó és három, LAN kapcsolatokon alapuló hálózat működik) a kapcsolat nem szakad meg olyan gyakran, hogy több útvonallal rendelkező topológiát és útválasztó protokollt kellene telepíten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ügyeleti többletterhek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 az összetett hálózatból eltávolít egy hálózatot vagy újat telepít, az új hálózathoz vezető útvonalak hozzáadását vagy eltávolítását kézzel kell elvégeznie. Ha új útválasztót ad az összetett hálózathoz, akkor azt megfelelően kell konfigurálni az összetett hálózatban található útvonalakho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tikus útválasztás biztonsági kérdései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útválasztókon a statikus útvonalak szándékos vagy véletlen módosításának megakadályozása érdekében végezze el az alábbiak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kítson ki fizikai védelmet az útválasztók körül, hogy a felhasználók ne férjenek hozzá.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k azon felhasználóknak adjon rendszergazdai jogokat, akik futtatni fogják az Útválasztás és távelérés szolgáltatá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atikus útválasztás telepíté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észítsen térképet az IP alapú összetett hálózat topológiájáról, amely föltünteti az egyes hálózatokat, valamint az útválasztók és az állomások (TCP/IP protokollt használó, de nem útválasztóként működő számítógépek) elhelyezkedésé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Minden egyes IP alapú hálózathoz (egy vagy több útválasztó által körülhatárolt kábelrendszer) rendeljen egyedi IP hálózati azonosítót (más szóval IP-cím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atikus útválasztás telepíté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Rendeljen IP-címet minden egyes útválasztó összeköttetéshez. Általános gyakorlat az adott IP alapú hálózat első IP-címeit az útválasztó összeköttetésekhez rendelni. Például a 255.255.255.0 alhálózati maszkkal rendelkező 192.168.100.0 hálózati azonosító esetén az útválasztó összeköttetés a 192.168.100.1 IP-címet kapj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eriferikus útválasztók esetében állítson be alapértelmezett útvonalat azon az összeköttetésen, amely rendelkezik szomszédos útválasztóval. Periferikus útválasztókon nem kötelező alapértelmezett útvonalakat használ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atikus útválasztás telepítés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egyes nem periferikus útválasztó számára állítson össze egy listát azokról az útvonalakról, amelyeket statikus útvonalként kell az adott útválasztó útválasztási táblájához adni. Minden egyes útvonal célhálózati azonosítóval, alhálózati maszkkal, átjáró (vagy továbbító) IP-címmel, metrikával (az útválasztó ugrásainak száma a hálózat eléréséig), valamint a hálózat eléréséhez szükséges összeköttetéssel rendelkezi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em periferikus útválasztók esetében adja hozzá az 5. lépésben létrehozott statikus útvonalakat az egyes útválasztókhoz. Az Útválasztás és távelérés szolgáltatás route parancsával is hozzáadhat statikus útvonalakat. Ha az route parancsot használja, alkalmazza a -p beállítást, hogy a statikus útvonalak állandóak maradjana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elkészült a beállításokkal, a ping és tracert parancsok használatával ellenőrizze az állomások közötti kapcsolatokat, így a rendszer az összes útválasztási útvonalat ellenőrz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gjegyzések a statikus útválasztás tervezéséhez</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ferikus útválasztó konfigurációj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onfiguráció leegyszerűsítése érdekében a periferikus útválasztók számára olyan alapértelmezett útvonalat állíthat be, amely a szomszédos útválasztóhoz mutat. A periferikus útválasztó olyan útválasztó, amely több hálózathoz van csatolva, de ezen hálózatok közül csak egy rendelkezik szomszédos útválasztóva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pértelmezett útvonalak és útválasztási hurkok</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m ajánlott két olyan szomszédos útválasztót konfigurálni, amelynek alapértelmezett útvonalai egymásra mutatnak. Az alapértelmezett útvonal minden olyan forgalmat továbbít a beállított útválasztóhoz, amely nem közvetlenül csatlakoztatott hálózatról érkezik. Ha két útválasztó alapértelmezett útvonala egymásra mutat, akkor elérhetetlen rendeltetési helyre címzett forgalom esetén útválasztási hurok alakulhat 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0:47:10Z</dcterms:created>
  <dc:creator>Nagymáté Péter</dc:creator>
  <dc:description/>
  <dc:language>en-US</dc:language>
  <cp:lastModifiedBy>Nagymáté Péter</cp:lastModifiedBy>
  <dcterms:modified xsi:type="dcterms:W3CDTF">2005-01-11T12:07:17Z</dcterms:modified>
  <cp:revision>12</cp:revision>
  <dc:subject/>
  <dc:title>Útválasztás</dc:title>
</cp:coreProperties>
</file>