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7FF-A1A8-4EB0-9C54-F2DBCBCF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3D1-730C-4F1C-9621-ABB579CD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358-B5B2-4BDB-9461-3C14EE4D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A8B-E378-4013-A318-434A3109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A9A-5505-46D0-8BBC-4637FB1E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08F-154E-43FC-AAA3-21A258C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02F-0271-4328-BF3F-A80253A8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1AE-D36C-4461-BC72-CEAB66F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9644-566E-4A06-8C56-45B6CF39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F17-1E0D-4453-9D56-7D5F2139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0737-F935-4D24-B0A9-A51A4BA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FCA-0CDB-46ED-ADE8-3C3481FB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456-4905-4DAB-A7A4-2752E15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9461-42BC-4C1A-8D70-FDC5175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BBB-2AA4-4B9E-A748-28B5496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E2D9-01BC-4442-B9CE-7FBED07C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C2F-5006-4947-9140-2FDAADB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5DE-5EFF-4F08-8782-4BCB9975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5FC-A180-4FEB-81A2-F8778E7C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BAD-CB45-4543-9BAB-E176C6F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211-F317-435F-9F61-B7D4DF47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871-1A49-481B-BA4C-175E9EE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4C-1AE5-44DB-9A73-FAD9A409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CEE-3C98-4EEC-82C1-1E1B5C0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3B2-3E5F-4E28-8E13-70360A19D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5F1-8601-4C03-B10C-65F9A0CDE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átum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éni   cella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ség van pl mértékegység megjelenítésé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formátum 3 számokra és egy negyedik szövegekre vonatkozó részből áll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észeket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asztja el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0000" y="4076640"/>
          <a:ext cx="7775640" cy="57636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  <a:gridCol w="1944720"/>
                <a:gridCol w="1942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ití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í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ll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684360" y="5229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űjellemzők hasonlóan mint a MS Office Word –b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gaz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egély és mintáz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ámítások elvég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űveletek és végrehajtás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ellába írt képlet az egyenlet egyik oldala, melynek az eredménye a cellában jeleni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éplet mindig az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lel kezdő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értékelési sorrendet a precedencia szabályok határozzá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átumot és az időt is számonként kezeli a táblázatkez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ellahivatkoz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éb szerkeszt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gólap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űveletek hatása a képlet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orok és oszlopok rögz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 lehet az adatok grafikus ábrázol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sabb diagram típuso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sszevont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al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r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 varázs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blázat: sorokból és oszlopokból állá rá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oszlopokból 256 áll rendelkezésre, melyeket az angol abc betűivel jelölünk meg. A,B,…Z,AA,AB,….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rok azonosítására számokat használunk, összesen 65536 sor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a: egy sor és egy oszlop közös része. Összesen 256*65536 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ab cella. A cellára oszlopával és sorával hivatkozu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ig egy aktív cella van. Adatbevitel ebbe a cellába történ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 csak egy adat ír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3 = S3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xcel dokumentumai a munkafü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több lapból áll. Alapértelmezésben 3 darab Munka1, Munka2, Munka3 lap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összesen 255 lapból állhat. Egy lap lehet táblázat, vagy valamilyen más laptípus pl. grafik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füzet haszn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ne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munkalap beszúr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ltás a munkalapok köz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 tör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ok 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ák kezel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ák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gás a cellák kö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jes táblázat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0" y="1773360"/>
          <a:ext cx="432108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3360"/>
                    <a:ext cx="432108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bevite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ltöltés előtt tervezzük meg a táblázatunk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épelés közben a kurzorvezérlő gombokkal nem lehet mozogni a szövegb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 csak akkor látszik hosszabbnak, ha nem takarja el a szomszédos cella tartal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erkesztőléc a javítás mellett a cella eredeti tartalmának megtekintésében is szerepet játs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n akkor jelenek meg a # jelek , ha a tartalma nem jeleníthető meg a rendelkezésre álló hely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akezelé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fordul, hogy több cellába is ugyanazokat az adatokat kell beír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agy sorozatokra van szükségü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utomatikus funkciókat a ctrl billentyű nyomva tartásával felülbírálhat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töltéshez használhatjuk a szerkesztés menü kitöltés alpontjá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örlés és beszú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ájl művel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n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öl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égi bezárása, új megnyi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 form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szlopszélesség és sormagas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formátumok beáll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rmátum az aktív cellára vagy a kijelölt területre lesz érvén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gyakran használt formá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öv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talá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0:30:13Z</dcterms:created>
  <dc:creator>Nagymáté Péter</dc:creator>
  <dc:description/>
  <dc:language>en-US</dc:language>
  <cp:lastModifiedBy>Nagymáté Péter</cp:lastModifiedBy>
  <dcterms:modified xsi:type="dcterms:W3CDTF">2003-11-03T11:37:22Z</dcterms:modified>
  <cp:revision>9</cp:revision>
  <dc:subject/>
  <dc:title>Táblázatkezelés</dc:title>
</cp:coreProperties>
</file>