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38B-5FDD-4DD1-800B-D8E01436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F539-E762-40BD-ABE5-5238D7F7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F3A1-4AD6-4A1C-AA17-FF3DBA40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0D4E-F855-4110-BF57-02A97176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00A3-A1E8-4286-A904-0D87F144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E029-6646-4613-A7AC-3CD75A71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BB50-C63A-4C7B-8E01-AB1A42F6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203C-0EB8-41BC-8AAF-96AE5DA3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10F3-5AC7-47E7-A3E4-FF7CCC28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8B00-81FB-4746-A8ED-837DA948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587F-1638-4743-B016-626D01E1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1AD-F868-4676-81EB-B5932191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69A9-9FD1-429F-AD12-9ACE856D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B5CB-1A9D-4296-917D-E014E5CC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1656-FF88-47DA-994C-58187E7C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4CE0-AE29-4CB4-9FCD-08B1AF0A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8C75-DC58-4B83-9EF5-AD0F0719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C84-B02C-4FAD-B9E2-9C03A7EA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43EA-0F74-4531-8EB0-4D878E47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4E01-D20B-44F7-98C0-025C5309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DDF-D630-4FBE-AB08-84A035B0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566D-4A64-4DFF-9BB1-425561AA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69B2-C0B4-4BD3-8868-A62B4FC2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F618-0253-453A-B385-6CC53F12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EBC3-26AF-403E-AB77-4EB4612AF9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2DE9-7CDB-48D8-B32B-FD0D7CDF8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zövegszerkeszté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örlevél és társ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árgymutató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artalomjegyzékhez hasonlóan készíthetünk tárgymutató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 itt nekünk kell megadnunk, hogy mi kerüljön a tárgymutató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zó kijelölése, maj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T+SHIFT+X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nyom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árgymutató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Főbejegyzés mezőben a tárgymutató első szintjét adhatjuk me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Albejegyzés mezőben a mádik szint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Aktuális oldal kapcs. hatására azt az oldalszámot kapcsolja a program amelyik oldalon előfordul a sz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A beállítások után a jelölés gombot nyomjuk meg. Az ablak nem csukódik be , így ki tudjuk jelölni a következő szó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A tárgymutató elkészítése ugyanúgy történik mint a tartalomjegyzéké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30680" y="1700280"/>
            <a:ext cx="43340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gyebe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önyvjelz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ábjegyzet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dkettő a beszúrás menü alpontj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orítékok címzés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éhány dolog amire ügyelnünk kel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yomtatónk képes e borítékra nyomtat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lyen feltételeknek kell megfelelnie a borítékn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ítékok mére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ítás: Eszközök menüpont Boríték és címke alp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eec94"/>
                </a:solidFill>
                <a:latin typeface="Times New Roman"/>
              </a:rPr>
              <a:t>KÖRLEVÉL készíté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örzsdokumentum készít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tforrás megad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örzsdokumentum befejez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körlevél elkészít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rítékok címz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örzsdokumentu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z tartalmazza a körlevél állandó részé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mutatja, hogy hova kerülnek a változó részek a levél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dokumentumot nem kell, és nem is tudjuk elsőre elkészíteni végleges formájáb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ználhatunk már korábban létrehozott dokumentumok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örzsdokumentum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örlevél elkészítéshez válasszuk az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zközö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nü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örlevél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lpontjá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 varázsló végig vezet minket a készítés folyamá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sőnek a törzsdokumentum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Létrehozá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ombját nyomjuk meg. A lenyíló listából a körlevél fajtáját választhatjuk 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zokásos levélhez válasszuk a FORMALEVELEK beállítá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választás után választhatunk, hogy új törzsdokumentumot hozzunk létre, vagy az éppen megnyitott dokumentumot tekintjük ann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datforrás megadás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z a rész tartalmazza a körlevél változó információ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dásához használjuk az előzőleg ismertetett ablak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ATFORRÁ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épé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ATO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ombjá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készítés előtt érdemes megtervezni, hogy milyen mezők legyenek ben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datforrá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adatforrást a szerkesztő táblázatként keze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áblázat első sora az oszlopok megnevezés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őször mezőneveket kell megadnunk. Léteznek beépített mezőnevek melyek gyakran előfordulnak, de adhatunk meg mi is saját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adatforrás felépítésének meghatározása után válasszuk az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ATFORRÁS SZERKESZTÉ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ombot, hogy feltöltsük adatokk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eltöltés ún. adatűrlap segítségével történ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örzsdokumentum befejezés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 készen vagyunk az adatforrással, akkor már csak azt kell megadnunk, hogy mely adatmezők kerüljenek be a dokumentumb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adatmező beszúrásához nyomjuk meg 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örlevé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szköztár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atmező beszúrás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omb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egjelenő listából válasszuk ki a kívánt mező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örlevé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szköztár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gyesített adatok megtekinté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ombjának megnyomására a mezőnevek a mező tartalmára cserélődn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zerkesszünk kényelmesebb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sszabb szövegek formázása az eddig ismertetett módszerekkel meglehetősen sokáig tart. (font méret, szín, felsorolás stb..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oldás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ÍLUSO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znál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Körlevél készítés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egyesítéshez válasszuk az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szközö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enü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örlevél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pontjánál az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gyesíté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omb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álaszthatunk, hogy az egyesítés eredménye hová kerüljö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Új dokument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gyből a nyomtató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juk meg az egyesítendő rekordok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ekérdezési feltételekkel szűrhetjük a rekordoka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eépített stíluso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tílus vonatkozhat bekezdésre vagy betű jellemzők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épelés közben változtatva az aktuális bekezdés vagy betűalak változi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ólagos változtatáshoz ki kell jelölnünk a megfelelő rész a szövegbő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tílusokhoz rendelhetünk gyorsbillentyű kódot 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eépített stíluso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a ismerjük a gyorsbillentyű kombinációt akkor annak lenyomásával menet közben változtathatunk a stílus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a nem ismerjük akkor a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TRL+SHIFT+S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nyomásával érjük el a stílus listá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 stílus neve alapján választható a stílus a FORMÁZÁS eszköztár STÍLUS mezőjébő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10280" y="1413000"/>
            <a:ext cx="3587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aját stílu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ár létező stílus módosításához vagy új létrehozásához válasszuk a FORMÁTUM menü Stílus… alpontjá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utomatikus stílus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stílusok helye a normal.dot állományban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A stílusokra alapozott szolgáltatások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rtalom jegyzé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árgymutat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artalomjegyzé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készítésének feltétele, hogy a jegyzékbe kerülő címeket stílusokkal kell megformáz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ználjuk a beépített címstílusok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artalomjegyzék készítéséhez válaszuk 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SZÚRÁ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enü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ÁRGYMUTATÓ ÉS TARTALOMJEGYZÉ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pontjá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artalomjegyzé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megjelenő ablakban válasszuk a tartalomjegyzék fül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formátumok mezőben választhatunk előre definiált típusok közü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ldalszámok megjelentése kapcsolóval érjük el, hogy az oldalszámok is megjelenjen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jobbra igazítva kapcsolóval helyiérték helyesen jelenek meg a számok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artalomjegyzék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zintek mezőben adhatjuk meg, hogy hányadik szintig jelenjenek meg a címe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Kitöltő karakter mezőben a cím és az oldalszám közti jelölést lehet beállíta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állítások gombbal a szövegek stílusát adhatjuk meg a tartalomjegyzék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08:27:56Z</dcterms:created>
  <dc:creator>Nagymáté Péter</dc:creator>
  <dc:description/>
  <dc:language>en-US</dc:language>
  <cp:lastModifiedBy>Nagymáté Péter</cp:lastModifiedBy>
  <dcterms:modified xsi:type="dcterms:W3CDTF">2003-10-16T10:40:51Z</dcterms:modified>
  <cp:revision>13</cp:revision>
  <dc:subject/>
  <dc:title>Szövegszerkesztés</dc:title>
</cp:coreProperties>
</file>