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D55F-C784-4B1E-9B4B-07CEDD18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418B-F458-4F24-A891-28DAFCDD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6FF4-737F-4ADE-B303-B3F9D483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6E14-63F9-4127-A59E-20655D20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0FC9-AF1F-4017-9E2F-D507ABA1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D34A-B088-481D-8C7D-92E5B236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1BC5-9A74-4BE0-8EBE-C0C52FC0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19EB-30FC-48CD-BBC4-0B93D058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F4E7-81A1-47E2-A1B8-4A70072C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7CEB-0BC5-45FB-904B-3450DAD5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CD6C-0C6B-4A3C-A437-5679D990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CF5F-4FED-468D-AD50-2AE27A54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3197-423D-4EAC-9CBC-3373D361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6DB3-845D-49CA-8789-8D793AA1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132D-1D31-40FC-B1C5-908B75AC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DAF9-78FA-45E0-A841-3FCF2395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5C6D-8CFF-4A36-BD0B-E4263D42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796B-67A2-41A3-A563-0CB44C72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FEB0-D0B0-4A44-8A93-C0851E9C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AC4A-3EF9-414D-9658-BD089349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CDED-BAD2-449E-ADA5-C6D018AD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097B-B840-427E-925D-D558D179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A587-DF10-46EB-9265-CC2E8673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5653-9F6F-408D-8EA8-83EB2DAD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C513-633C-42C2-B1FE-BCBE6C1B3664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643D-5E79-432D-8AF0-9A19F62450BF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Szövegszerkeszté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peciális lehetőségek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övegdobo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iciálé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épek elhelyez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Kész kép beileszté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Kép formázá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ás alkalmazások dokumentumainak használ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ormázási alapelvek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omatikus javí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zövegtá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yesír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válasz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utomatikus javítá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yakori gépelési hibákat kijavíthatjuk a szerkesztővel gépelés közben 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unkció beállításait az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szközök -&gt;Automatikus javítá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üben lehet beállíta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zövegtá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Hosszabb gyakran ismétlődő szövegeknél lehetőség van a szöveg felvételére egy külön tárolób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felvett szövegre rövid névvel hivatkozhatun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ldalszámozá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öbb oldalas szöveg oldalait gyakran számozzá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oldalszámozást két helyen is beállíthatju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szúrás menü oldalszámok alpo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Élőfej és Élőláb használ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Nyomtatá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yomtató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CTRL+P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egnyomása a billenytűze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Fájl menü Nyomtatás alpo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Eszköztár nyomtatás gomb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ájl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Microsoft Sans Serif"/>
              </a:rPr>
              <a:t>Copy allomanynev.kit lpt1 /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ovábbi formázások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kezdés kiemel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zegély és mintáza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Formátum, szegély és mintáza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lsorolás és sorszámoz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ák rendez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zakaszokra osz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Élőfej és élőlá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ábok kialakítá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ezők alkalmazása a szövegb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eszúrás menü mező alpont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Fejlécekben használt fejezetcímek automatikus használ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Dátum és idő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Tartalomjegyzé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Stb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atékony állománykezelé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iegészítő információk hozzáad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dokumentumokat kereshetjük az adatlap alapj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08:24:57Z</dcterms:created>
  <dc:creator>Nagymáté Péter</dc:creator>
  <dc:description/>
  <dc:language>en-US</dc:language>
  <cp:lastModifiedBy>Nagymáté Péter</cp:lastModifiedBy>
  <dcterms:modified xsi:type="dcterms:W3CDTF">2003-10-14T09:36:10Z</dcterms:modified>
  <cp:revision>2</cp:revision>
  <dc:subject/>
  <dc:title>Szövegszerkesztés</dc:title>
</cp:coreProperties>
</file>