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975-E4F0-411D-93E5-FF8EA99D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14A0-D0D5-417F-BAF1-6C99F6E7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760-EC80-4D85-AC47-DDA96EEC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1090-B5CD-41A6-8FEE-2D91D335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CFB4-03B0-4729-BE6F-F2B37CC7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7D75-FD79-40C3-B61B-C5E52AD7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BC1F-EB34-4839-8076-A6E26235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9BBA-F930-4D75-9C2F-55751F54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AA0A-FF56-449C-897D-A2FFE9E8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4154-143B-48D5-9E45-B2383138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0AEC-DADD-423C-89A4-37D0F432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E77-CBF7-4C84-8943-C88DD48B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9524-0FE5-4842-9D7F-FFBEAD46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5245-1DEA-4A67-ADB9-FB75710E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EE4D-6A46-47C0-A98F-8DE98402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7BC2-85C8-4F38-8692-ED2A8F9B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1F26-2A5F-4CD5-8B69-E11D994F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93FA-2F1A-4F3F-8970-5C9F42A1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7AB6-889F-41D4-9127-62A34E57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9BEE-6C6F-4E36-AA33-9ED29DB1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06A2-3EC7-43BC-AB99-A8D8E784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25E-6B54-483B-9299-2E9AC359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EEBC-FA84-4BE7-8BFC-94E9BF5C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E49-BCD6-41B6-871C-F2CC583B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5B3A-46B5-460E-A7A0-2F05DC51D782}" type="slidenum">
              <a:rPr b="0" lang="hu-H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5BCC-914D-4924-B9B3-D35680C7F0E9}" type="slidenum">
              <a:rPr b="0" lang="hu-HU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álózato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Tahoma"/>
              </a:rPr>
              <a:t>IPSec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IPSec a titkosításra épülő védelmi szolgáltatások és biztonsági protokollok együtte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Biztosítja az adatintegritást, az eredet hiteleségét, az adat titkosságát és az adatáramlás titkosságá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alábbi biztonsági szolgáltatásokat kínálj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Biztonsági tulajdonság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Nyilvános kulcsú tanúsítványon alapuló hitelesí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Előmegosztott kulcson alapuló hitelesí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Nyilvános kulcsú kriptográf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z adatok sértetlenségének védelme hash függvényekk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Kulcskezelé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z adatok védelme titkosításs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GMP,TC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IGMP olyan protokoll , amelynek segítségével az IP állomások közlik a velül szomszédos csoportos küldést alkalmazó útválasztókkal , mely csoportos küldési csoportok tagj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TCP összeköttetés alapú, megbízható kapcsolatot biztosít az alkalmazások számára. Főbb funkció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 TCP vételi ablak méretének meghatározá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Késleltetett visszaigazolá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zelektív visszaigazolá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TCP időbélyege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PMTU meghatározá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Nem működő átjáró felismeré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TCP csomag újraküldé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D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Olyan kapcsolat nélküli datagram szolgáltatás biztosító TCP kiegészítés, amely sem a kézbesítést, sem a csomagok megfelelő sorrendjét nem garantál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iről lesz szó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lapfogalm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Windows TCP/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DHC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D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ou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apfogalma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Hálozati modell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LAN – Local Area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WAN – Wide Area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MAN – Metropolitan Area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Server - Cli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Peer to Pe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MAC add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P cím  (IPv4 és IPv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Netma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DHCP és Boo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D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Route , Gate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éhány fontosabb protokoll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AppleTalk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: Mac-en használt szállítási protokol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DLC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protokoll: A Hewlett Pakard JetDirect kártyával bővített lézernyomtatóinak eléréséhez szükség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NetBEUI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protokoll: Kis kiterjedésű hálózatok protokollja útvonalválasztóval (router) nem továbbítható. Tulajdonságait automatikusan állítja b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NWLink IPX/SPX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kompatibilis protokoll: A Netware hálózatokban használható </a:t>
            </a: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IPX/SPX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protokollal kompatibilis száll protokol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NWLink NetBIOS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: A Novell és NT kiszolgálók közötti kapcsolattartást teszi lehetővé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Point To Point Tunneling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protokoll (</a:t>
            </a: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PPTP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): Interneten keresztül létesít kapcsolato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TCP/IP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protokoll: Transmission Control Protocol/Internet Protocol. A nagyméretű hálózatokon használt protokoll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indows TCP/I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Windows TCP/IP központi elemekből (pl. ARP, IP, TCP protokolok), szolgáltatásokból (DHCP, DNS stb.) és a köztük lévő csatolófelületbő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satolófelületek: TDI (transport Driver Interface) és az NDIS (network Driver Interface Specific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INDOWS TCP/I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windows hálózati protokolljai az NDIS segítségével komunikál a hálózati csatolók driverei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központi komponensek és a TD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ddress Resolution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nternet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nternet Control Message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nternet Protocol Secu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nternet Group Management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Transmission Control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User Datagram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R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Címfeloldási protokoll végzi a kimenő csomagok MAC címének meghatározását az IP címek alapjá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Minden kifelé tartó IP-datagramhoz csatolni kell a forrás és a cél MAC címe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cél meghatározásához az ARP broadcast üzenetet küld ki, és válaszkor feljegyzik a IP és Mac címeket egy táblázat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gyorsító tárban az élettartam 10 perc. A tár tartalmát az ARP –a  paranccsal  lehet kiírat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Tahoma"/>
              </a:rPr>
              <a:t>Internet Protocol I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Feladata a csomagok címzése és továbbít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Minden csomag tartalmazza a forrás és a cél IP címé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MAC címektől eltérően a csomagban lévő IP címek a datagram teljes élete alatt állandóak maradn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IP réteg alapfunkciói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Útválasztás: Ez az elsődleges funkció, az IP fejlécet megvizsgálva és az útvonal táblával összehasonlítva eldönti hogy a csomagot a felső rétegek vagy a hálózati csatoló felé kell továbbítania, esetleg egyszerűen eldobhatja az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IP cím ütközés érzékelése: A gép ARP broadcast üzenetek formájában kiküldi a beállított IP címe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CM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ICMP segítségével az IP kommunikációt használó állomások és útválasztók hibákat jelezhetnek, és korlátozott adatcserét is folytathatnak  a vezérlésrő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következő feladatokra használjá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Kézbesítési problémák jelzé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Útválasztó táblák felépítése és karbantartá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Útválasztó felderí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 PMTU Path Maximum Transmission Unit (útvonal legnagyobb átviteli egysége) meghatározá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Elérhetőségi problémák felderíté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z IP útválasztó ICMP üzenet formájában jelzi a túlterheltséget a küldő állomásna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1:19:00Z</dcterms:created>
  <dc:creator>Nagymáté Péter</dc:creator>
  <dc:description/>
  <dc:language>en-US</dc:language>
  <cp:lastModifiedBy>Nagymáté Péter</cp:lastModifiedBy>
  <dcterms:modified xsi:type="dcterms:W3CDTF">2003-11-18T14:19:57Z</dcterms:modified>
  <cp:revision>4</cp:revision>
  <dc:subject/>
  <dc:title>Hálózatok</dc:title>
</cp:coreProperties>
</file>