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EB13-8A70-486F-8DD1-961DD3E5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177E-750B-40B8-BB79-F7A8D62C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9405-6351-4612-BBF3-235025C3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2027-9F57-45BF-876F-80C7E166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8465-66D7-4A7C-87B1-F75C3F9B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8CC2-65AC-4905-B61D-DC07BCED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19D-00CA-40BA-8A40-A7AEE8C0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CC0C-D91C-4B4C-84BF-98E7BA4A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3F8D-A55E-4E6F-A951-676E202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BC88-F4B4-425B-B360-2BE4D94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1FB6-35E0-4884-AC32-75C18893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D16F-F084-4847-92CB-15690A2B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D829-1400-4E7C-B357-C90D8B1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8687-3011-49F8-A7D8-473CBD6D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16FC-B150-413A-8171-B34629B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A7B8-0548-460A-9AD2-3FEE2517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F5F4-CF34-4E01-9B43-9E95F59D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F85A-898C-4315-AE9B-CA2A508E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7E46-7C52-49DC-BD4F-7D532124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3570-9705-4D18-99DA-498902FA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9BEE-F46D-4017-AEE5-C8608112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CFA7-2DE8-4E7E-9D0C-37EB1F09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4120-4FAF-4F65-9E7B-A0F1490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3465-3849-4E93-AC38-A809473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5206-C8AE-4AF7-96CA-FCE22717C05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D0B9-353E-4E2C-B591-C28B20AE51B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álózatok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tátviteli mód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ódolási eljá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arakterek ábráz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SCII kódrendsz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28 db 7bites különböző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t fő cso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Grafikus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Vezérlő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32 karakter és az utolsó DEL a vezérlő kategoriáj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co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6 bites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8192 hely a szabványos alfabetikus karakterek számára foglalták 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övetkező 4096 kód a szimbólum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Utána lévő 4096 karakter a kínai, japán és koreai ABC-k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utolsó előtti 5632 hely felhasználók által def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végső 495 karakter a konvertálást segítő tartomá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ód legnagyobb részét 27000 kar. Ún. Han karakterkészl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árhuzamos és soros adatátvit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 egy bitcsoportot egyszerre tudunk átvinni, akkor az átviteli sebesség nagyobb lesz, mintha a biteket sorban, egymás után vinnénk 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hhez azonban annyi adatút kell az ADÓ és a VEVŐ közt ahány bitből áll a bitcso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árhuzamos átvitelt csak kis távolságokra, illetve készülékek belsejében elhelyezkedő részegységek összekapcsolására használjá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oros átvitel esetén az információs biteket egyenként viszik át, így egy kódolt bitcsoport átviteli ideje nagyobb, mint párhuzamos esetb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zinkron soro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nagyokú és széleskörű elterjedése miatt egy számítógép és egy modem, vagy terminál közötti fizikai rétegének megvalósítása nagyon 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 teljes duplex, pont-pont típusú összekötetést igény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ezt megvalósító szabvány megalkotója az Electronic Industries Assoc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abvány neve: EIA RS-232-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A RS-232-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zabvány leírásban a szgép hivatalos neve: adatvég-berendezés – D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apcsolodó modemé: adatáramköri-végberendezés – D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149720"/>
            <a:ext cx="2374920" cy="15112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LEFONOS HÁLÓZ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79736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4869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486900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486900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5877000"/>
            <a:ext cx="2232360" cy="431640"/>
          </a:xfrm>
          <a:prstGeom prst="wedgeRoundRectCallout">
            <a:avLst>
              <a:gd name="adj1" fmla="val -28166"/>
              <a:gd name="adj2" fmla="val -30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-232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DTE-DCE egységeket összekötő vezetékrendszer mechanikus csatlakozóját is definiálták: 25 pólusú csatlakoz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pecifikáció szerint a -3V –nál kisebb fesz. A vonalon a bin 1-et ,míg a +3V-nál nagyobb fesz. A bin 0-át jel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szgépet bekapcsolják, az aktíválja az adatterminál kész jelet(20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modemet kapcsolják be, akkor az aktíválja az adat kész jelet (6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modem vivőjelet érzékel a telefon vonalon akkor a vivőérzékelés jelet aktíválja (8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kérés (4) jelzi, hogy a terminál  adatot akar küld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ra kész (5) azt jelent, hogy a modem felkészült az adatok fogadásá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atok adása az adás vonalon (2), vétele a vétel vonalon(3) történi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27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227664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0920" y="3213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36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50920" y="414972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50920" y="45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50920" y="5013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920" y="54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877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1989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DŐFÖLD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492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ÁS (TxD)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29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TEL (RxD)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33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KÉRÉS (RTS)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860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RA KÉSZ (CTS)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4292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 KÉSZ (DSR) 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47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LFÖLD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VŐÉRZÉKELÉS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5589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TERMINÁL KÉSZ (DTR) (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hhoz, hogy a soros adatátvitel során az ADÓ-ról érkező biteket a VEVŐ egyértelműen azonosítani tudja, szükséges, hogy azonosan értelmezzék a jel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szinkron soros átvitelnél a bitcsoportos átviteli mód biztosítja az ADÓ és a VEVŐ szinkronizmus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Járulékos infókhoz járulékos bitek is kellenek: START ill. STOP bitek (keretező bite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protokoll konkrét megvalósításánál a következőknek kell teljesűlni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bitek száma: 5,6,7 vagy 8 b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aritásb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top bitek száma: ez a soros vonalak a bitcsoportok átvitele után garantált logikai 1 állapotának az idejét határozza meg, az egy bit átviteléhez szükséges idővel kifejez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átviteli sebesség (bit/s): fontos adat, ez határozza meg alapvetően az ADÓ és a VEVŐ szinkronizmusá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/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y bit átvitelének ideje (m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3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20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10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5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életlen vezérlés: a közeget elvileg bármelyik állomás használhatja, de használat előtt meg kell győződnie, hogy más nem használ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sztott vezérlés: ilyen esetben egy időpontban mindig csak egy állomásnak van joga adatátvitel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zpontosított vezérlés: ilyenkor van egy kitüntetett állomás, mely vezérli a hálózatot, engedélyezi az állomáso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tátvitel – analó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múltat teljes egészében az analóg átvitel jellemezte. Például a telefon, televízió és rádi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vonalon keresztül mindössze 10 Kbit/s nagyságrendű adatátvitel lehetséges, nagy hibaarány mellet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öbb állomás esetén telefonközpontot kell alkalmaz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hierarchia szin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őfizető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elyi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vhív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apcsol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 csatorna alkalmas mind hang , mind adat átvitelre és a frekvenciája 300 és 3400 hz között van, tehát a sávszélessége 3100 h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229600" cy="2549520"/>
        </p:xfrm>
        <a:graphic>
          <a:graphicData uri="http://schemas.openxmlformats.org/drawingml/2006/table">
            <a:tbl>
              <a:tblPr/>
              <a:tblGrid>
                <a:gridCol w="2602080"/>
                <a:gridCol w="2808000"/>
                <a:gridCol w="28195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ÉLET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SZ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PONTOSÍ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 JELZ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ITÁSOS) VEZÉRJEL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KÉRDEZÉ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ÉSELT 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ÍTÁSOS) VEZÉRJELBUS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NALKAPCSOL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GISZTER BESZÚR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T ELKERÜL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DŐOSZTÁSOS TÖBBSZÖRÖS HOZZÁFÉRÉS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gyik állomás figyeli a csatornát , ha szabad akkor az adás idejére kisajátít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Ütközést jelző vivőérzékelős többszörös hozzáférés (CSMA/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arrier Sense Multiple Access with Collison Det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előtt belehallgat a csatornába, ha az csendes, akkor elküldi az üzenetet, a vivőérzékelés jelenti azt, hogy belehallg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ött üzenet mindegyik állomáshoz eljut, melyek eldöntik, hogy nekik szól vagy s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közben el tudja dönteni, hogy az adott és a vett üzenetfolyam egyforma-e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nem , akkor más is beszél, az üzenet hibás, sérü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ívják ütközésnek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asználja az Ethernet háló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éselt gyűrű (slotted 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gyűrűn felfűzött állomások </a:t>
            </a: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rés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-eknek elnevezett rögzített hosszúságú kereteket adnak kör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ésben van egy jelző, hogy foglalt-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állomások egy üres résbe, helyezik el az üzenet egy darabj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az üzenet visszaér a küldőhöz, akkor az kivonja az üzenetet a gyűrűbő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ezérjeles sín (Token bu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vezérjel busz az átviteli közeget úgy vezérli, hogy az állomásról állomásra történő vezérjel továbbítása egy logikai gyűrűt kép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Ütközést elkerülő, vivőérzékeléses többszörös hozzáférés (CSMA/C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arrier Sence Multiple Access with Collision Avoid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tt minden állomás adást figyelve belehallgat a csatorná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adás befejezése után egy adott ideig vár, ha ez idő alatt más nem kezd el adni, akkor elkezdi az adá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ülön egység, a központ végzi a hozzáférés vezérlé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es eljárás (poll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nnél az eljárásnál a főállomás, és a többi mellékállomás alkotja a hálózat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őállomás sorban egymás után szólítja az állomásokat, és ha van üzenetük akkor azt elküldik ne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Ő meg a cím alapján tovább küldi a megfelelő állomás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kérdezéses eljár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314172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3280" y="2637000"/>
            <a:ext cx="79200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4724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544500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5640" y="522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378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2708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9" idx="3"/>
          </p:cNvCxnSpPr>
          <p:nvPr/>
        </p:nvCxnSpPr>
        <p:spPr>
          <a:xfrm>
            <a:off x="2340000" y="3394080"/>
            <a:ext cx="1224720" cy="900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7" name=""/>
          <p:cNvCxnSpPr>
            <a:stCxn id="190" idx="2"/>
            <a:endCxn id="198" idx="1"/>
          </p:cNvCxnSpPr>
          <p:nvPr/>
        </p:nvCxnSpPr>
        <p:spPr>
          <a:xfrm>
            <a:off x="3240000" y="3139560"/>
            <a:ext cx="177120" cy="583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9" name=""/>
          <p:cNvCxnSpPr>
            <a:stCxn id="195" idx="2"/>
            <a:endCxn id="198" idx="0"/>
          </p:cNvCxnSpPr>
          <p:nvPr/>
        </p:nvCxnSpPr>
        <p:spPr>
          <a:xfrm flipH="1">
            <a:off x="4104720" y="3211560"/>
            <a:ext cx="115164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0" name=""/>
          <p:cNvCxnSpPr>
            <a:stCxn id="191" idx="3"/>
            <a:endCxn id="198" idx="3"/>
          </p:cNvCxnSpPr>
          <p:nvPr/>
        </p:nvCxnSpPr>
        <p:spPr>
          <a:xfrm flipV="1">
            <a:off x="2195280" y="4790520"/>
            <a:ext cx="1221480" cy="186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3132000" y="3500280"/>
            <a:ext cx="1944720" cy="151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őállomás (mas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2" idx="3"/>
            <a:endCxn id="198" idx="4"/>
          </p:cNvCxnSpPr>
          <p:nvPr/>
        </p:nvCxnSpPr>
        <p:spPr>
          <a:xfrm flipV="1">
            <a:off x="3924000" y="5013000"/>
            <a:ext cx="181800" cy="68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2" name=""/>
          <p:cNvCxnSpPr>
            <a:stCxn id="193" idx="1"/>
            <a:endCxn id="198" idx="5"/>
          </p:cNvCxnSpPr>
          <p:nvPr/>
        </p:nvCxnSpPr>
        <p:spPr>
          <a:xfrm flipH="1" flipV="1">
            <a:off x="4792680" y="4790880"/>
            <a:ext cx="643320" cy="691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3" name=""/>
          <p:cNvCxnSpPr>
            <a:stCxn id="194" idx="1"/>
            <a:endCxn id="198" idx="6"/>
          </p:cNvCxnSpPr>
          <p:nvPr/>
        </p:nvCxnSpPr>
        <p:spPr>
          <a:xfrm flipH="1">
            <a:off x="5076360" y="4041720"/>
            <a:ext cx="72000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onalkapcsolásos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központon belül külön kapcsoló relékkel kötik össze a kommunikálni kívánó állomásokat az üzenetváltás idejé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dőosztásos többszörös hozzáférésű eljárás (TD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ime Division Multiple Ac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lsődlegesen busz felépítésű hálózatoknál használ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uszhoz kapcsolódó  mellékállomás egy adott időszeletben adhat cs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ár az előfizetők a helyi központhoz egy fémes vezető párral csatlakoznak, melyen elvileg akár 1-2 Mbit/s  adatátviteli sebesség lehetséges, gyakorlatban a jeleket szűrők segítségével 300 Hz és 3,3 KHz közt tart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információt a szinuszos hullám egyik jellemzőjéhez rendelik hozz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odulációs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plitúdó moduláció : pl. a morze jel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rekvencia moduláció : ezt használják a modem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módszer másik elnevezése FSK (Frequency Shift Key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ázis moduláció: nagyobb adatátvitelt tesz lehetőv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– OSI mod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kalmazó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gjelenít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üttműköd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állítá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álóz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atkapcsol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zik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ommunikációs pr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perációs rendsz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ájlátvitel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ibafelismerési és javítás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odem áramköri működé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2852640"/>
            <a:ext cx="259272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MÍT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852640"/>
            <a:ext cx="2089080" cy="865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716280"/>
            <a:ext cx="2087640" cy="43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0..S27 BELSŐ REGISZ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3284640"/>
            <a:ext cx="2087640" cy="576000"/>
          </a:xfrm>
          <a:prstGeom prst="leftRightArrow">
            <a:avLst>
              <a:gd name="adj1" fmla="val 49861"/>
              <a:gd name="adj2" fmla="val 270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068640"/>
            <a:ext cx="71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Line Ph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610920" y="2205000"/>
            <a:ext cx="1152720" cy="1092960"/>
          </a:xfrm>
          <a:prstGeom prst="bentConnector3">
            <a:avLst>
              <a:gd name="adj1" fmla="val 49984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 flipH="1" flipV="1" rot="5400000">
            <a:off x="293400" y="3961800"/>
            <a:ext cx="2004120" cy="9374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3924360" y="30686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s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306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OM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414972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m parancsok, adat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crocom Networking Protoc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1 : aszinkron, bájt orientált, fél duple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2 : aszinkron , teljes duplex. Z80 és Intel 6800 procikhoz dolgozták 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3 : szinkron duplex átvitel, 10 bites adatcsomagok 1,8,1 start – adat – sto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4 :  csomag jellegű adat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Fájl átviteli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: 128 bájtos csomagok CRC ellenőrzéss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 -1K: 1024 bájtos csomag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Y modem: többszörös batch fájl 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Z modem: megszakadásból is fel tud épül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ermit: rég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átvitel során mindig biteket viszünk át, de először szövegátvitel volt megvalósítva, így az egység a karakter let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z a karakterorientált átviteli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ésőbb a bitorientált eljárások terjedtek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inkron átvitel esetén az egyes bitek jellemző időpontjai egy alapidőtartam egész számú többszörösére helyezkednek el egymást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zinkron átvitel esetén a START-STOP átvit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RZ : nullára vissza nem térő, azaz mindig az a feszültség van a vonalon, amit az ábrázolt bit határoz m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Z : nullára visszatérő, a nulla a nyugalmi állap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RZI : nullára nem visszatérő, megszakadásos, 0 bitnek a nulla szint felel meg, 1 bitnek vagy nulla vagy +V felel meg a következő kép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 az előző 1 nulla szint volt akkor a következő +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 az előző 1 +V szint volt akkor a következő nul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0 bit után mindig +V az 1 b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chester kódo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t a jelátmenet, ugrás jelképezi a biteket, de itt az ugrás irányának is jelentősége va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0-1 átmenet 1-e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0 átmenet 0-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kor több azonos  bit követi egymást, akkor a jelnek félidőben vissza kel térnie az eredeti szintre, hogy a következő átmenet is olyan irányú leg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ódszer kiválóan alkalmas mágneses adatrögzítéshez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6:51:09Z</dcterms:created>
  <dc:creator>Nagymáté Péter</dc:creator>
  <dc:description/>
  <dc:language>en-US</dc:language>
  <cp:lastModifiedBy>Nagymáté Péter</cp:lastModifiedBy>
  <dcterms:modified xsi:type="dcterms:W3CDTF">2003-12-02T14:53:51Z</dcterms:modified>
  <cp:revision>16</cp:revision>
  <dc:subject/>
  <dc:title>Hálózatok </dc:title>
</cp:coreProperties>
</file>