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AF8-C1FF-4C88-A1C5-43EB1020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E40-B84D-463B-B15E-6BECAE6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0AB-AF02-416A-9DBE-14ACB0CF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A8D-0ADF-4746-86AE-08C0962A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B5FB-E463-4AD3-A6B1-86C85703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7E00-1A71-40C3-9B6A-A397ABD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150-CAAE-4FE6-9F32-CDDDC607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C402-3F18-41BF-830A-48CFE93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AEA-EB08-4D23-B0F4-CF72A03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87F-E372-4B7D-9239-59E6C88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B0C-E059-40E7-9E87-A22A95E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7E7-16CF-4F00-98CD-3E01347E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3B00-DD33-4B47-A318-0B90998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DA51-8794-40EA-9B24-1D51696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ECCD-798C-4408-8A0A-3049FC7D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241F-E0B5-4121-8032-3BEC3012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9E73-8CDC-45E4-97CF-32FFDEB9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833-B6CC-458E-9B5C-BD2B5C2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3E3-B657-4E3B-885E-C77C2EEC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A52-91F8-47B4-8F8C-FC9DA1F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B0A-5047-4915-A4D3-13007040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275-E4A1-454C-9C4E-B8CF4FD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11D-11DF-4441-93B2-A15B8AB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4B0-D568-44AC-BE03-5545D4A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DCA-34A5-4ABB-951D-790D1DC41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462A-8856-45EE-9BB1-FD3E43A5E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áblázatkezelé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üggvény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rtományok elneve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tományok megad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zúr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mega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év alapértelmezésben abszolút hivatkozást je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kus létreho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zúr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étreh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jegyzések a cellá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üggvények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 fv.-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ummá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üggvény varázsl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üggvények egymásba ágya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üggvények áttekint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matika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ö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ekí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zt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trix (töm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átum és id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nzügy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ételes form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ok védel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rej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fed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avéd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kafüzet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t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Űrlapok haszná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datok szür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utószűr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rányíto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ok rende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3:28:12Z</dcterms:created>
  <dc:creator>Nagymáté Péter</dc:creator>
  <dc:description/>
  <dc:language>en-US</dc:language>
  <cp:lastModifiedBy>Nagymáté Péter</cp:lastModifiedBy>
  <dcterms:modified xsi:type="dcterms:W3CDTF">2003-11-06T14:44:50Z</dcterms:modified>
  <cp:revision>2</cp:revision>
  <dc:subject/>
  <dc:title>Táblázatkezelés </dc:title>
</cp:coreProperties>
</file>