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F71B-C582-4BC8-907A-E699E516D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1B6C-08E4-47BF-B35D-3B2987E33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C854-D4D7-4592-A1FC-36F21643C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2073-C068-40DC-A3EE-E33BCC31E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183A3-E355-4ED5-9BAA-B4FDC9B8E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19EE4-2066-4C08-B459-930A7D29E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24D54-F1B0-4043-BF62-57AED7A2F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84AED-4BE8-4FCB-A7D2-83877DF06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E3CCF-7241-4DF4-9D62-3422BB686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4C708-F0ED-48C6-BC53-422F5F561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34C9E-D106-49A9-A994-9E829353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A992-ACDA-43E8-B10C-D0AEC4C48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B86E0-801B-4D4A-B129-4C867F6F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119C6-C2C5-485B-A70B-8703AC31D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A9927-B345-4EE9-84D7-F8FC0702B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45087-DB27-4017-912C-83C88C1FC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20F80-4444-43A8-B129-8FBE89DBA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EBD3-EAA8-4766-B9B1-C19C62A98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CCB9-3B96-4562-A255-C83DA8B53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A6F1-C5CB-4656-ADB4-FB8282033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1D3F-B347-4FEA-9E08-7BF844436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3D10-B35D-470A-802D-404E187A0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9EC3-6B29-49BC-AE64-3E4A37DB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9427-DB9D-45B1-94BB-4D172F52F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36E2A-C87B-419C-A0E1-DEBEA693A1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ABBAD-19EB-4C59-B8BD-16329F8342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Táblázatkezelés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üggvények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artományok elnevezé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rtományok megadá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szúrás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Név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Név megadá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név alapértelmezésben abszolút hivatkozást jel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omatikus létrehozá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szúrás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Név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étrehozá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gjegyzések a celláho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üggvények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Egyszerű fv.-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szummázá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Ma(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Most(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függvény varázsl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Függvények egymásba ágyazá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üggvények áttekinté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ematika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zö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rekítő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sztika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átrix (tömb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átum és idő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énzügy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gika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ltételes formátum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áblázatok védelm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rejté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lfedé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lavédel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nkafüzet védel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atkezelé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Űrlapok használ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z adatok szüré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utószűrő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Irányítot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datok rendezé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6T13:28:12Z</dcterms:created>
  <dc:creator>Nagymáté Péter</dc:creator>
  <dc:description/>
  <dc:language>en-US</dc:language>
  <cp:lastModifiedBy>Nagymáté Péter</cp:lastModifiedBy>
  <dcterms:modified xsi:type="dcterms:W3CDTF">2003-11-06T14:44:50Z</dcterms:modified>
  <cp:revision>2</cp:revision>
  <dc:subject/>
  <dc:title>Táblázatkezelés </dc:title>
</cp:coreProperties>
</file>