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727-B9E7-4756-81D9-811F2C6A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897-4696-4C34-80D5-E20C5DE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AEC-595E-4098-8F70-139C5ED5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5F5-843A-4863-B1FF-D292EFF9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393-B4FC-49DC-92FF-83BC362E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1D82-EC5A-40CF-B9EC-490BC233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6720-9D89-4657-9996-7146AC43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73B5-30CA-491C-A5D0-E88E7FC8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79D8-5FAA-435E-9FD6-3B3573C0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5EB9-853E-4DF1-8AA0-7CA21BAE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2302-BB93-41C6-B02D-95F70B00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92C-5277-475A-B5D3-768A530E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9889-6302-4B8A-BEF5-04BDABED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F43B-F15C-4B4A-BE2A-872E1592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6B92-B3F6-4C69-8180-09761091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A352-0030-4A0B-AC7A-A8042576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01AE-7F64-462D-BC67-93358D6C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B61-DE0E-4B15-BE8E-938C23EF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692-725D-4AEE-8884-77253659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4F4-E6C9-4591-B8EC-12EED847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98B-783F-42F8-8343-1A80C875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8B2-2564-43CC-94A3-AE667E0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41D-8F93-49EC-AF46-9EFD7D8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A1F-BD79-42B8-98BD-33190D7E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1A12-A309-44C0-88BA-24435C61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31AE-24E3-4743-A1B3-F2946C1F2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optikai szálás gyűrűből áll, amelyekben az adatforgalom ellentétes irán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állomás típ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ú: mindkét gyűrűhöz kapcsoló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 osztályú, csak az egyikhez kapcsoló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tenciálisan 1000 állomásból és 200 km optikai szálból áll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 az 5 -ből kódolást haszná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4 MAC szimbólumból álló csoport 5 bites csoporttá kódolva jelenik meg a köz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hetséges 32 kombinációból 16 az adatok, 3 a határolók, 2 a vezérlés és 3 a hardverjelzés számára van fenntar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i réteg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 réteg feladata a csomagok eljuttatása a forrástól a cé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élig egy csomag több csomópontot is érint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eltérő hálózatszervezési módszer létez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köttetés alap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köttetés m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sszekötetés alapú hálózatoknál az összeköttetést virtuális áramkörnek szokták nev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ásiknál az átvitel csomagok segítségével történik ezek a datagra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i réteg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is áramkör használatakor nem kell minden egyes csomagra forgalomszabályozási döntést hoz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galom szabályozása az összeköttetés létesítésének a rés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sszeköttetés menetes esetben elvileg minden egyes csomag külön utat követhet, mivel a csomagok útválasztása függet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őnyök és hátrány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1680" y="1676520"/>
          <a:ext cx="8540640" cy="392256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rg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gram hálóz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ális áramkörö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amkör létes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üksé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mzé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en csomagban forrás é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lc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egy rövid, VÁ –t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onosító c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apotinformáci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alhálózat nem hord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blázatokban táro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alomirányí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somagok útvonala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mástól függet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Á létesítése meghat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útvonal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omóponti hibák hatá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az IMP ben lévő</a:t>
                      </a:r>
                      <a:br>
                        <a:rPr sz="1400"/>
                      </a:b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omagok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s, az IMP-n átmenő</a:t>
                      </a:r>
                      <a:br>
                        <a:rPr sz="1400"/>
                      </a:b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 megh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lódásvez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héz megold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nnyű, ha elegendő puffer v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tettsé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zállítási réteg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álózati réteg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két szolgálath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összeköttetés alapúh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adata a csomagok hatékony eljuttatása az egyik csomópontból a másik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álózatot célszerű gráfként modell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onalkapcsolt hálózatoknál az útvonal kijelölése a hívás felépítésének fázisában törté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magkapcsolt hálózatokban a csomópontoknak egy ún. routing táblákat kell tartalmazni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tettségét alapvetően meghatározza a topoló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galomirányító algoritmusok osztályozásának alapjául 4 főfunkciót tekinthetü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zérlésm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foly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ció-karbantartó foly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vábbító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lgoritmusoknak két osztálya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ív – alkalmazko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sztikus – előre meghatár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lehetséges vezérlésmó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szti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yan rögzített eljárás, amelyet a változó feltételek nem befolyáso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zigetel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den csomópont hoz irányítási döntéseket, de csak helyi információk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osztot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mópontok információt cserél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pontosítot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somópontok egy közös irányító központnak jelentik a helyi információ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 legrövidebb út meghatároz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ptimális útvonal nem feltétlenül jelenti a fizikailag legrövidebb útvona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rték lehet példá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mópont átlépés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nyi idő alatt jut el a cso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alhasználat köl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talánosan egy adott szakasz mértékét a távolság, az adatátviteli sebesség,az átlagos forgalom, a kommunikációs költség, az átlagos sorhossz vagy más egyéb tényezők alapján határozzá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 legrövidebb út meghatároz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tematikailag a probléma a gráfelmélet segítségével határozható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eladat a gráf két csomópontja közötti olyan élekből álló útvonal meghatározása, amelyre az érintett élek mértékeinek az összege minimá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gyik módszer a Dijsktrá-tól szárma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6600"/>
                </a:solidFill>
                <a:latin typeface="Arial"/>
              </a:rPr>
              <a:t>Dijsktra algoritmu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en csomópontot címkével látunk el, amely két tagból á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első tag az adott csomópont legrövidebb távolsága a forrásponttól. Ez kezdetben végtelen minden csomópon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ásodik tag annak a csomópontnak a neve, amelyen keresztül valósul meg a legrövidebb ú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lgoritmus működése során utakat talál, és úgy változnak a címkék is a legjobb utat tükröz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címke ideiglenes és állandó lehet. Amikor az algoritmus felfedezi, hogy egy adott címke a forrástól a címkéhez tartozó csomópontig vezető legrövidebb utat jelzi, akkor a címkét állandóvá teszi, és ezután már nem változta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űrű nem igazán alkalmas üzenetszórásos átvitel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 alakba rendezett két pont közötti kapcsolatok halm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jdnem teljesen digitális, kiszámítható felső időkorlátos csatorna hozzáférést biztos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vezésnél lényeges 1 bit „hossz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 gyűrű K Mbit/s –es akkor 1/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-ként kerül ki egy bit az átviteli köze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7" idx="7"/>
            <a:endCxn id="158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8" idx="5"/>
            <a:endCxn id="159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7" idx="5"/>
            <a:endCxn id="162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2" idx="7"/>
            <a:endCxn id="159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58" idx="6"/>
            <a:endCxn id="160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9" idx="6"/>
            <a:endCxn id="161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0" idx="3"/>
            <a:endCxn id="161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1" idx="5"/>
            <a:endCxn id="163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6"/>
            <a:endCxn id="163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0" idx="5"/>
            <a:endCxn id="164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3" idx="7"/>
            <a:endCxn id="164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7" idx="7"/>
            <a:endCxn id="188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8" idx="5"/>
            <a:endCxn id="189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5"/>
            <a:endCxn id="192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2" idx="7"/>
            <a:endCxn id="189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6"/>
            <a:endCxn id="190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9" idx="6"/>
            <a:endCxn id="191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0" idx="3"/>
            <a:endCxn id="191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1" idx="5"/>
            <a:endCxn id="193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2" idx="6"/>
            <a:endCxn id="193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0" idx="5"/>
            <a:endCxn id="194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93" idx="7"/>
            <a:endCxn id="194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57340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0" idx="7"/>
            <a:endCxn id="221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1" idx="5"/>
            <a:endCxn id="222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0" idx="5"/>
            <a:endCxn id="225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5" idx="7"/>
            <a:endCxn id="222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21" idx="6"/>
            <a:endCxn id="223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222" idx="6"/>
            <a:endCxn id="224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23" idx="3"/>
            <a:endCxn id="224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4" idx="5"/>
            <a:endCxn id="226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5" idx="6"/>
            <a:endCxn id="226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3" idx="5"/>
            <a:endCxn id="227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26" idx="7"/>
            <a:endCxn id="227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0" idx="7"/>
            <a:endCxn id="251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1" idx="5"/>
            <a:endCxn id="252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50" idx="5"/>
            <a:endCxn id="255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5" idx="7"/>
            <a:endCxn id="252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1" idx="6"/>
            <a:endCxn id="253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52" idx="6"/>
            <a:endCxn id="254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53" idx="3"/>
            <a:endCxn id="254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>
            <a:stCxn id="254" idx="5"/>
            <a:endCxn id="256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"/>
          <p:cNvCxnSpPr>
            <a:stCxn id="255" idx="6"/>
            <a:endCxn id="256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3" idx="5"/>
            <a:endCxn id="257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stCxn id="256" idx="7"/>
            <a:endCxn id="257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26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119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270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33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5734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221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0" idx="7"/>
            <a:endCxn id="291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1" idx="5"/>
            <a:endCxn id="292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90" idx="5"/>
            <a:endCxn id="295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5" idx="7"/>
            <a:endCxn id="292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1" idx="6"/>
            <a:endCxn id="293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2" idx="6"/>
            <a:endCxn id="294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3" idx="3"/>
            <a:endCxn id="294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4" idx="5"/>
            <a:endCxn id="296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5" idx="6"/>
            <a:endCxn id="296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3" idx="5"/>
            <a:endCxn id="297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7"/>
            <a:endCxn id="297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0" idx="7"/>
            <a:endCxn id="321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21" idx="5"/>
            <a:endCxn id="322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20" idx="5"/>
            <a:endCxn id="325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5" idx="7"/>
            <a:endCxn id="322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1" idx="6"/>
            <a:endCxn id="323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2" idx="6"/>
            <a:endCxn id="324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323" idx="3"/>
            <a:endCxn id="324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4" idx="5"/>
            <a:endCxn id="326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25" idx="6"/>
            <a:endCxn id="326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23" idx="5"/>
            <a:endCxn id="327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6" idx="7"/>
            <a:endCxn id="327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33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59280" y="126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63640" y="2492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1268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64000" y="33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2436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56000" y="33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51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40360" y="566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8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eladat A és D pontok közötti legrövidebb út megtalálása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ópontot állandóvá tess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 lesz az aktuális csomó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vizsgáljuk a szomszédjait (B és G) és beírjuk A-tól való távolságu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szes frissen címkézett csomópont vizsgálata, azt tesszük állandóvá, amelyik a legkisebb értékű címkével rendelk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a csomópont lesz a következő munkacsomópo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 esetben ez a B pont. Most B –ből indu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szomszédja van: E és C. E pont távolsága A-tól 4 , C pont távolsága A-tól 9 , Tehát E pont lesz a következő állandó csomó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eladat A és D pontok közötti legrövidebb út megtalálás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st E szomszédjait vizsgálj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G és F pont. F pont (6,E),G pont (5,E) címkéjű lesz. Tehát G lesz az álland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 szomszédjai : A,E és H . H címkéje (9,G) lesz, a többiek már állandó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közül a legkisebb már rögzített ezért E következő legkisebb szomszédját F –et kell vizsgálni, az lesz állan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 szomszédjai: E,C és H pont. F távolsága A-tól ezeken keresztül 6,12 és 9 ezért (6,E) címkével lesz állan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llandó F szomszédjai közül H távolsága A-tól 8 ezért H lesz az állandó, ennek a végpont szomszéd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rövidebb út: A-B-E-F-H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Determinisztikus forgalomirányítá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életlen forgalomirányító eljár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ovábbítandó csomagot a csomópont egy véletlen szám generátor segítségével kiválasztott vonalon küldi tová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 így a csomagok véletlen bolyonganak, ésszerűnek látszik egy élettartam bevezetése (csomópontok átlépésének szá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árasztásos eljá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ópontok a bejövő csomagot minden vonalra kiküld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épések száma itt is korlát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ősen terheli a rendsz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daptív algoritmus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a a hálózat elosztott jelegéből 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öntéskor olyan eseményeket kellene figyelembe venni amelyről van nem vagy eléggé régi információval rendelkez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 lenne az egész hálózatra kiterjedő forgalomirányítási információ azonnali elérhető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ban ez megvalósíthatatlan, szimulációs modellezést használva, analizálták az elméleti teljesítőképess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szigetelt eljárás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ó krumpli algorit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somópont a beérkezett csomagok abba a kimeneti sorba rakja amelyik a legrövide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foglalkozik az irány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ított tanulás módsz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en csomópont egy csomagot indít, amely tartalmaz egy számlálót és az indító azonosítój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kor egy csomópont egy ilyen csomagot vesz, akkor ezt elolvasva , megtudja, hogy a küldő hány csomópont távolságra van tő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Torlódásvezérlés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ó hálózati forgalomvezérlési algoritmus megoldást ad a túlterhelések elviselésé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 kell használnia a beépített forgalomvezérlő mechanizmusát arra, hogy a túlzott forgalmi igényeket visszauta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es hálózatrészek túltelítődnek, akkor a várakozási sorok állandóan tele vannak, Ezt a helyzetet nevezzük torlódásnak (cong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élsőséges esete a befulladás (lock-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orlódás lehet helyi jellegü vagy súlyosabb egész hálózatra kiterjed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tratégiák az elkerülésr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fferek foglal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rtuális áramkörök esetén használ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MP-okban az adott VÁ –hoz tárolóterület foglalható, csak akkor nyugtázza, ha tovább is tudta küld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mageldobás módsz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agot egyszerűen eldobjuk, ha nincs h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csomag nyugtát is tartalmaz akkor célszerű egy külön pufferbe dobni és nem a kuká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űrűinterfészeknek két üzemmódja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á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érkező bit egy pufferbe ker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z állomások tétlenek, akkor egy speciális bitminta jár körbe (vezérjel – tok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áshoz meg kell szerezni a vezérj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állomás az utolsó keretet utolsó bitjét is elküldte, vissza kell helyeznie a vezérjelet a gyűrű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tratégiák az elkerülésr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zometrikus torlódásvezér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úl sok csomag okozza a torlódást, ezért célszerű a csomagok számát korláto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oldás engedélycsomagok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ngedélyek száma korlátoz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fojtó csomagok haszn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filozófiája: az algoritmus csak akkor kezdjen működni, ha a hálózaton torlódásveszély kezd kialaku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ú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=a*K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rég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(1-a)*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K értéke egy küszöböt elér akkor a kimeneti vonal „figyelmeztetés” állapotba kerü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egy ilyen kimeneti vonalra kell továbbküldeni, akkor elküldéssel párhuzamosan visszaküld a forráshelyre egy lefojtó csoma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X.25 hálóz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52948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z egy CCITT ajánlás, amely a felhasználó (DTE) és a hálózat (DCE) közötti interfészt defini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zen ajánlás alapján elkészített berendezések az ISO OSI 7 ref. Modell alsó 3 szintjét valósítják meg, miközben maga az ajánlás végső soron a 3. és 4. szint közti interfészt definiá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61880" y="3886200"/>
          <a:ext cx="8380080" cy="2081160"/>
        </p:xfrm>
        <a:graphic>
          <a:graphicData uri="http://schemas.openxmlformats.org/drawingml/2006/table">
            <a:tbl>
              <a:tblPr/>
              <a:tblGrid>
                <a:gridCol w="2316240"/>
                <a:gridCol w="3662280"/>
                <a:gridCol w="24015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E (user) ol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E (node) ol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rtuális kapcsol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rtuális kapcsol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ai Sz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nyleges kapcso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ai Sz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2843280" y="4437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5013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43280" y="5589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Három alapvető csomagtípusú szolgálatot határoztak meg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atagram (DG) szolg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ővé teszi, hogy a felhasználó a hálózatban független csomagokat bárhová elküldjön, vagy bárhonnan fogad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ndó virtuális áramkör (PV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DTE-t állandóan összeköt logikai csatornával. Ez biztosítja a csomagváltások során a sorrendhelyessé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rtuális hívás (V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 az előbbi PVC rövid időre kapcsolt összeköttetés , ideiglenesen kialakított megfelelő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Protokoll szinte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zikai sz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magkapcsoló központhoz való kapcsolódást biztosítja adatáramkörökön keresztü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lehet bérel, vagy kapcsolt összekötetés, esetleg analóg távbeszélő áramkö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ásodik sz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HDLC szerinti adatkapcsolat, amely a DTE és a DCE közötti hibamentes adatcserét biztosí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tokoll neve LAP-B (Link Access Protocoll-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retek elejét/végét egy speciális kód szinkron karakter jelzi ún. FLAG (07Eh,01111110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agsz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edi azonosítókkal ellátott logikai csatornákból á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portokba vannak szervezve 4 bit a csoportszámot, 8 bit a csatornaszámot hordo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X.25 hálóz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os szolgáltatás a nem csomagkapcsolt hálózatokkal való illesztést biztosító csomagösszeállítás-felbontás funkció. (P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rtuális hívás folyam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2708280"/>
            <a:ext cx="2303640" cy="7207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ívó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E-DCE interfé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08720" y="2708280"/>
            <a:ext cx="2303280" cy="7207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ívot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E-DCE interfé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364500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KÉ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364500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JÖVŐ HÍV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40053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 KAPCSO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08720" y="4005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 ELFOGAD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4292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8720" y="4292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9640" y="47973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08720" y="4797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5084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BEJELEN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8720" y="5084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KÉ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53737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 VISSZAIGAZO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8720" y="537372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 VISSZAIGAZO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87640" y="2708280"/>
            <a:ext cx="0" cy="3241800"/>
          </a:xfrm>
          <a:prstGeom prst="line">
            <a:avLst/>
          </a:prstGeom>
          <a:ln w="381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2720" y="2708280"/>
            <a:ext cx="0" cy="3241800"/>
          </a:xfrm>
          <a:prstGeom prst="line">
            <a:avLst/>
          </a:prstGeom>
          <a:ln w="381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1280" y="4292640"/>
            <a:ext cx="720072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5084640"/>
            <a:ext cx="720072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84360" y="3789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56000" y="414972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68360" y="443700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68360" y="494172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626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551664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1964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35280" y="3068640"/>
            <a:ext cx="1008000" cy="5047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6600"/>
                </a:solidFill>
                <a:latin typeface="Arial"/>
              </a:rPr>
              <a:t>Keret relézés (Frame Relay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a csomagokat, hanem az adatkapcsolati szint kereteit viszik át megfelelő minőségű hálóz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X.25 –höz hasonló új módszer, bár nem megbízható összeköttetést biztosít, nincs a sebességet és a vevő fogadóképességét figyelembe vevő áramlásvezér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zak Amerikában az „európai” X.25 átvitel helyett használ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retek nyugtázása nagyon egyszerűen megold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retformátumnak  egyetlen 1 bites mezőt kell tartalmaznia ami kezdetben 0, ha a célállomás megkapja a keretet akkor ezt a mezőt 1 re állí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802.5 szabvány szerinti vezérjeles gyűrű 1,4 vagy 16 Mbit/s-os sebességre alkalmas árnyékolt sodort érpár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gas és alacsony logikai értéket 3.0 – 4.5 V közötti poz ill negatív jelek képvise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ábelszakadásra megoldás a huzalközpont (wir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3429000"/>
            <a:ext cx="2160720" cy="2158920"/>
          </a:xfrm>
          <a:prstGeom prst="roundRect">
            <a:avLst>
              <a:gd name="adj" fmla="val 16667"/>
            </a:avLst>
          </a:prstGeom>
          <a:solidFill>
            <a:srgbClr val="e2f2e2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zalközp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20500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602136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14972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852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852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4365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140360" y="479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479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1640" y="4365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71640" y="458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24360" y="4149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149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356000" y="45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45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27640" y="436572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140000" y="46526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24360" y="436536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41497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pműködése egyszer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nincs forgalom akkor egy 3 bájtos vezérjel kering kör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íg egy állomás meg nem szerzi a második bájt egy adott 0 értékű bitjének 1-be állítás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által az első két bájt keretkezdet szekvenciává alakul 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656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656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933720"/>
            <a:ext cx="43344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492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3933720"/>
            <a:ext cx="107964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élcí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6920" y="3933720"/>
            <a:ext cx="107928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ráscí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3933720"/>
            <a:ext cx="201600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500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2 vagy 6 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cs hatá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1989000"/>
            <a:ext cx="29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zérjel formá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keret formá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40360" y="2205000"/>
            <a:ext cx="1511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067280" y="2997360"/>
            <a:ext cx="1511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s körülmények közt a keret első bitje előbb ér vissza, mint hogy a teljes keret el lenne küld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át az adó állomásnak már küldés közben el kell kezdenie az útjukat befejező bitek kivonását a gyűrű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 karbantart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gyűrűben van 1 felügyelő állo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z állomás felelős a gyűrű helyes működéséé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gyűrű felállásakor az első egy Claim Token keretet küld ki, ha más nem küld ki akkor Ő lesz a felügye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6:46:13Z</dcterms:created>
  <dc:creator>Nagymáté Péter</dc:creator>
  <dc:description/>
  <dc:language>en-US</dc:language>
  <cp:lastModifiedBy>Nagymáté Péter</cp:lastModifiedBy>
  <dcterms:modified xsi:type="dcterms:W3CDTF">2004-02-10T10:44:04Z</dcterms:modified>
  <cp:revision>25</cp:revision>
  <dc:subject/>
  <dc:title>Hálózatok </dc:title>
</cp:coreProperties>
</file>