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7B01-1510-4A7F-BD6C-39A11AA4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2C8D-206E-4486-99BA-0C089D7D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BBAC-1849-4D02-A3F8-E16EC610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7B1B-66E1-474D-8A6A-ED9EAAB7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7EDD-8170-4E67-99EB-D79B7C26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6B14-3F28-42A8-BB36-B2299E99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3E4E-DA0F-4F22-BA6E-DE92846C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30E7-D605-4AC8-BD57-7FDE1109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562A-E71C-4810-ACF5-0DF3E162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3896-D8D7-479B-8698-87F938B7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69FE-BC44-423B-A537-AFECA818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6858-AC8E-4078-A53C-4ECDA9D0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D1D9-49D9-4C43-AA37-2CC8A9F27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álóz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802-es szabvány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tegek közötti szolgál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álózati/LCC felületek közötti szolgáltatási előír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 típus : kapcsolatmentes illetve kapcsolatorientá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incs szükség logikai kapcsolatra, közvetlen adatblokk feldolgozás, nincs folyamatvezérlés és hibajavítás. Két szolgálati primitív v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_DATA.request: hálózati réteg </a:t>
            </a:r>
            <a:r>
              <a:rPr b="0" lang="hu-H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L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_DATA.indication: hálózati réteg </a:t>
            </a:r>
            <a:r>
              <a:rPr b="0" lang="hu-H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L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apcsolatot kell létesíteni, fenn tartani majd megszüntetni. 5 primitív osztá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_CONNECT: két SAP közötti logikai kapcs. létesí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_DISCONNECT: a kapcsolat bon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_DATA_CONNECT: felépített összekötetésen keresztüli adatátvi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_RESET: alaphelyzetbe hozható az összeköte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_CONNECTION_FLOWCONTROL: két réteg közti adatcsere vezér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tegek közötti szolgál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LC/MAC felületek közti szolgáltatási előírá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árom primitív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_DATA.request: adatblokk küldésének kér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_DATA.indication. Adsatblokk vétele és továbbítása megtörtént a MAC rétegből az LCC réteg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_DATA.confirm: LCC jelzi, hogy elfogad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lokális hálózatok fizikai egység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ommunikáció feladatait az erre a célra tervezett hardver és firmware látja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pterkárty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zt spec. Perifériakártyaként kapható eszközt, a hálózat állomásaként használni kívánt valamennyi gépbe beépítik. Tartalmazza az LCC-t és MAC-t megvalósító hardvert és förmv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ábelrendsz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t a kábelt illetve vezetéket jelenti, amit az összekapcsolásra használnak. Ide tartoznak még a csatlakozószerelvények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ncentrátorok és erősít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es lokális hálózatokon használják a jelek erősítésére és elosztására, illetve a hálózatban levő eszközök egy központi helyen kerüljenek összekötetésbe egymással. (HUB,repeater, stb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z IEEE 802.3 és az Eth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előtt egy állomás adni akar, belehallgat a csatornába. Ha a kábel foglalt, akkor az állomás addig vár, amíg az üressé nem válik, máskülönben azonnal adni kez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thernet hálózatok átviteli sebessége a jelenleg még a legtöbbet használt rendszerekben 10 Mbit/s. Ez persze nem jelenti azt, hogy minden körülmények közt ez a max átviteli seb., hiszen észszerűen kb. 60% -on üzemeltethet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hát az optimális sebesség 4.5 Mbit/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összes implementáció manchester kódolást használ adat továbbítás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z IEEE 802.3 és az Eth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2327400"/>
        </p:xfrm>
        <a:graphic>
          <a:graphicData uri="http://schemas.openxmlformats.org/drawingml/2006/table">
            <a:tbl>
              <a:tblPr/>
              <a:tblGrid>
                <a:gridCol w="1811160"/>
                <a:gridCol w="2808360"/>
                <a:gridCol w="3610080"/>
              </a:tblGrid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nevezé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kábel fajtá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lgenerálás nélküli max hossz (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nyékolatlan csavart érpá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ékony koax káb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stag koax káb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üvegszá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ékony koax kábel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jelek visszaverődésének megakadályozására a végpontokat a kábel hullámellenállásával megegyező értékű ellenállással kell lezárni (50 Oh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ámítógépek sorosan vannak felfűzve ún. BNC csatlakozók és T csatolók segítségével ami a hálózati kártyához csatlakoz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új gép csatlakoztatásának hátránya hogy a csatlakozás idejére a hálózat működése megá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él több állomás van a hálózatban annál nagyobb az érintkezési hiba valószinűsé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astag ethernet ká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öbbnyire sárga színű, ezért gyakran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yellow cabl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-nek is nevez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agyfrekvenciás jelillesztés miatt a kábel borításán azonos távolságokra felfestett jelzések jelzik a pontokat ahol a kábelhez lehet csatlakoz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zt a kábelezés módszert csak olyan esetekben használják, ahol erősebb külső zavarok miatt szükséges az erősebb árnyékolás, illetve nagy távolság ese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astag ethernet ká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csatlakozás módja az ún. vámpír csatlakozó haszná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ábelbe egy rendkívül pontos mélységű, szélességű lyukat fúr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lyukba ami a rézmagban végződik kell becsavarni a speciális csatlakozó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ábelre a vámpír csatlakozóhoz egy adó-vevőt (transceiver vagy MAU ) kell illeszteni, amihez csatlakoztatott kábel köti össze a számítógép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astag ethernet ká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dó-vevő kábel (AUI=attachment unit interface) legfeljebb 50 méter lehet, és 5 árnyékolt sodort érpárt tartalm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AU csatlakozója négy szimmetrikus jeláramkört, tápellátást és földelést szolgáltató vezetéket tartalm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lehet két olyan adó-vevő, amely 2.5 Km-nél távolabbra helyezkedik 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lehet olyan adó-vevő közötti út, amely 4-nél több jelismétlőn halad keresztü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avart érpá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den ilyen módon bekötött számítógép lényegében pont-pont kapcsolatot valósít meg az elosztó eszközzel, az UTP több-portos jelismétlő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ilyen eszközöknek 8-24 UTP csatlakozásuk van a számítógépek felé, és a bemenetükön UTP,optikai,BNC vagy AUI csatlakozó találha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ltaluk lehetőség van fa struktúra kialakításá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kális hálóz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IEEE 802-es szabvány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802.1 szabvány az alapokat írja le, és az interfész primitíveket definiá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802.2 az adatkapcsolati réteg felső részét az ún. LLC (Logical Link Control) alréteget definiálja ,az adatkapcsolati réteget osztoták két részre: a közeg hozzáférési rétegre (MAC –Media Access Control) és az LCC-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802.3 szabvány a CSMA/CD (ethernet) leír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802.4 szabvány a vezérjeles s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802.5 szabvány a vezérjeles gyűrű leír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Épületkábelezési megold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etlen kábel fut végig az épület szobáin át, úgy hogy az állomások a hozzájuk legközelebb eső ponton csatlakozn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 gerinc kábel fut az alaptól a tetőig, és szintenként egy-egy jelismétlő alkalmazásával vízszintes kábelekkel csatlakozn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astag – vékony koax páro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Üvegszál – csavart érpár páro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802.3 MAC protokoll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keret egy 7-bájtos előtaggal (preamble) kezdődik, amely 10101010 mintáj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 minta machester-kódolása, amely egy 10 MHz-es 5.5 usec időtartamú négyszögjel , lehetőséget biztosít a vevő órájának az adó órájához szinkronizálódj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zután következik a keretkezdet bájt 10101011 mintá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eret két címet tartalm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abvány 2 és 6 bájtos címeket is mege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10 Mbit/s alapsáv csak 6 bájtos címeket haszn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célcím legfelső helyi értékű bitje (I/G) közönséges címeknél 0 (unicast) csoportcímeknél 1 értékű (multic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csupa 1 –es tartalmazó célcím esetén az összes állomás veszi a keretet (broadc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802.3 MAC protokoll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ímzésnél érdekes a legmagasabb helyiértékű bit melletti 46. bit (U/L) használ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z a bit a helyi és a globális címeket különbözteti m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helyi címeket a hálózat menedzserek jelölik 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globális címeket az IEEE jelöli 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vel 46 bit áll rendelkezésre </a:t>
            </a:r>
            <a:r>
              <a:rPr b="0" lang="hu-H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b. 7*10</a:t>
            </a:r>
            <a:r>
              <a:rPr b="0" lang="hu-HU" sz="20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globális cím létez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2421000"/>
            <a:ext cx="43200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2421000"/>
            <a:ext cx="28728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58920" y="2421000"/>
            <a:ext cx="108108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élc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0000" y="2421000"/>
            <a:ext cx="108108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rásc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19640" y="2421000"/>
            <a:ext cx="36036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2421000"/>
            <a:ext cx="237636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2421000"/>
            <a:ext cx="36036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2421000"/>
            <a:ext cx="79200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206064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    1   2 vagy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vagy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– 15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0-4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3284640"/>
            <a:ext cx="36036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68360" y="3284640"/>
            <a:ext cx="36072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3284640"/>
            <a:ext cx="158436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6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2852640"/>
            <a:ext cx="1009440" cy="432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19640" y="285264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802.3 MAC protokoll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élok megtalálásának módja már a hálózati rétegre tarto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zt a 6*8 bájtot hexadecimális alakban, bájtonként „:” elválasztva adják m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A:12:17:0:56: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osszmező az adatmezőben  található adatbájtok számát adja me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érvényes keretnek legalább 64 bájt hosszúnak kell len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tehát egy keret adatrésze 46 bájtnál rövidebb, akkor kitöltő mezőt kell használ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utolsó mező az ellenőrzőösszeg (CRC –alap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zérjeles sín - IEEE 802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yártásautomatizálás sokszor igényel valós idejű, vagy felülről korlátos válaszidejű hálózat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yűrű felépítés , ahol az állomások egymásnak küldik sorba körbe a kereteket, ilyen szempontból jó megol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állomás esetén, ha T ideig tart egy keret átvitele, akkor bármelyik állomás k*T időn belül képes kommunikál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yűrű, mint fizikai topológia nem illeszkedik a futószalagok egyenes vonaláh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zért valójában busz kialakítású üzenet szórásos módot használ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yűrű csak logikailag létezik ( az állomás ismeri a szomszédjainak címé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zérjeles sín - IEEE 802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üldési joga csak a tokent birtokló állomásnak van, ezért ütközés nem jöhet lé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AC protokoll bonyolult 10 időzítést és számos belső állapotváltozót hasz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izikai réteg a 75 Ohmos szélessávú koaxiális kábel. Három modulációs rends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ázis-folytonos frekv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ázis-koherens frekv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mplitúd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lehetséges sebességek 1.5 ill. 10 Mbit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ín MAC protokoll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állomások a gyűrűbe cím szerint csökkenő sorrendbe kerülhetnek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ezérjel küldés is mindig a nagyobbtól a kisebb sorszámú felé irány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rioritás megvalósítására 4 osztály van a forgalom számára: 0,2,4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mikor a vezérjel megérkezik egy állomáshoz akkor annak 6-os alállomása aktivizálódik ha van kerete azonnal kezdi a küldést, ha végzet és még van ideje, akkor tovább adja a jelet a 4-es alállomásnak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időzítések megfelelő beállításával elérhető az, hogy a teljes vezérjel birtoklási idő egy jól meghat. része a 6 –os prioritású forgalomé legy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ín MAC protokoll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őtag a vevő órájának a szinkronizá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zdetjelző és végjelző mező a keret határát jelzi. Mindkét mező analóg kódolású szimbólumokat tartalm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eretvezérlés mező különbözteti meg a vezérlő és az adat kerete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adatmező hossza 8182 bájt 2 bájtos címzés esetén, 8174 bájt 6 bájtos címzés eset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2421000"/>
            <a:ext cx="21564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2421000"/>
            <a:ext cx="108108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élc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421000"/>
            <a:ext cx="108108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rásc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2421000"/>
            <a:ext cx="273672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2421000"/>
            <a:ext cx="36036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6360" y="2421000"/>
            <a:ext cx="43164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206064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1  1  2 vagy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vagy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– 818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4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2421000"/>
            <a:ext cx="21600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42920" y="2421000"/>
            <a:ext cx="21600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ín MAC protokoll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600200"/>
          <a:ext cx="8229600" cy="3182760"/>
        </p:xfrm>
        <a:graphic>
          <a:graphicData uri="http://schemas.openxmlformats.org/drawingml/2006/table">
            <a:tbl>
              <a:tblPr/>
              <a:tblGrid>
                <a:gridCol w="2027160"/>
                <a:gridCol w="2087640"/>
                <a:gridCol w="4114800"/>
              </a:tblGrid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etvezérlő mez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é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adat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imtok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érjel –igénylés gyűrű inicializálásak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 successo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állomások beléptetésének engedélyez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 successo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állomások beléptetésének engedélyez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follo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épülés elveszett vezérlőjelbő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ve conten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senyhelyzet feloldás több állomás egyidejű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űrűbe lépése eseté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érjel átad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 succes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llomások kilépésének kezel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EEE 802 szabvány és az O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2997360"/>
            <a:ext cx="180000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kalmazó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3284640"/>
            <a:ext cx="180000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gjeleníté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3573360"/>
            <a:ext cx="180000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yüttműködé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3860640"/>
            <a:ext cx="1800000" cy="28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állítá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4149720"/>
            <a:ext cx="180000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álóz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4437000"/>
            <a:ext cx="180000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tkapcsol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4724280"/>
            <a:ext cx="180000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zik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2852640"/>
            <a:ext cx="165600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Logikai kapcsolat </a:t>
            </a:r>
            <a:br>
              <a:rPr sz="1200"/>
            </a:b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ezérlési alréteg</a:t>
            </a:r>
            <a:br>
              <a:rPr sz="1200"/>
            </a:b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80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3645000"/>
            <a:ext cx="165600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özeghozzáférés </a:t>
            </a:r>
            <a:br>
              <a:rPr sz="1200"/>
            </a:b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ezérlési al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71640" y="4437000"/>
            <a:ext cx="165600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ikai 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3645000"/>
            <a:ext cx="122400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3645000"/>
            <a:ext cx="122400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80360" y="3645000"/>
            <a:ext cx="122400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4437000"/>
            <a:ext cx="86544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Alapsávú</a:t>
            </a:r>
            <a:br>
              <a:rPr sz="1200"/>
            </a:b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o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1640" y="4437000"/>
            <a:ext cx="86508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Szélessávú</a:t>
            </a:r>
            <a:br>
              <a:rPr sz="1200"/>
            </a:b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o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2720" y="4437000"/>
            <a:ext cx="86508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drot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érpá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740720" y="4437000"/>
            <a:ext cx="86508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kai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á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5013360"/>
            <a:ext cx="503280" cy="71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268360" y="436572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268360" y="2852280"/>
            <a:ext cx="503280" cy="1584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izika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IEEE 802-es szabvány 3 olyan fizikai közeget szabványosított, amelyet az architektúrában használhat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rott érpá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axiális ká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kai ká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izikai szabvány megadja a kábel és az átvitel típusára a kódolás módjára és az adat sebességére vonatkozó előírások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lelős a fizikai összekötetés létesítésért és megszüntetésért ,bitek átviteléért , kódolás – dekódolásért és az időzítésé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özeghozzáférés-vezérlési rét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kális hálózatban lévő eszközök a közös fizikai csatornán való hozzáférésért verse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vel számos módszer létezik ennek kezelésére a bizottság a CSMA/CD, vezérjel-busz és vezérjel-gyűrű módszereket választot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özeghozzáférés-vezérlési rét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zabvány négy funkciót határozz me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özeghozzáférés-vezér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álózati állomások szabályokat ill. eljárásokat használnak a megosztás vezérlésé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et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zdeti és záró információ jelzés hozzáadására van szükség, hogy azonosítani lehessen az üzenetek elejét és végé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ím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álózat címzést használ, hogy azonosítani tudja az üzenet adásában és vételében résztvevő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bafelism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élja a helyes üzenetadás és vétel ellenőrzé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kai kapcsolatvezérlés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en a szinten minden IEEE 802 –es szabvány közö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alréteg szervezi az adatfolyamot, parancsokat értelmez, válaszokat generál, a hibákat ellenőrzi, és helyreállítási funkciókat hajt vég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kai kapcsolatvezérlés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lette álló rétegeknek nyújt szolgáltatást, úgy ahogy azt a hagyományos adatkapcsolati protokoll nyújtja a távolsági hálózat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OSI modellt követő LAN kialakításban az LCC feletti réteg tulajdonképpen a hálózati rét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LCC/MAC felületek közötti szolgáltatási előírások azokat a szolgáltatásokat rögzíti, amelyet a két réteg felületei közt definiál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kai kapcsolatvezérlés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hhoz, hogy meg tudják különböztetni az ugyanazon állomás által létesített különböző cseretípusokat, bevezették a szolgáltatás-hozzáférési pont (SAP) fogalm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t a SAP-ot amelyik adatblokkot küld forrás SAP –nak (SSAP), azt pedig amelyik adatblokkot vesz rendeltetési SAP-nak (DSAP) neve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t az adatblokkot, amely a forrásállomás LLC-ből eljut a célállomás LLC-ig, logikai kapcsolatvezérlési protokoll adatblokknak (LLC PDU) nevezzü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SAP cím – egy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SAP cím – egyedi vagy csoportcí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09:00:20Z</dcterms:created>
  <dc:creator>Nagymáté Péter</dc:creator>
  <dc:description/>
  <dc:language>en-US</dc:language>
  <cp:lastModifiedBy>Nagymáté Péter</cp:lastModifiedBy>
  <dcterms:modified xsi:type="dcterms:W3CDTF">2004-01-29T14:17:06Z</dcterms:modified>
  <cp:revision>17</cp:revision>
  <dc:subject/>
  <dc:title>Hálózatok</dc:title>
</cp:coreProperties>
</file>