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365-B063-4B36-9A1C-57DE4140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E10-B7AD-4886-96E5-82730D11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4B2-EB9D-4AE8-9819-D430507B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411-907F-4A33-A26C-680361DA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3918-0520-4CE7-AE07-DE1E4807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5BE-CF23-4236-9DE3-90DBC95B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6F10-EB47-42B1-89CE-1375AE4A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9AA-8285-400C-B8B5-F4A3D0CA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D07-B0E8-4DFC-904F-145E2FC5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489-C074-49CF-99B8-9921754F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C15-2C59-494D-A377-7E80A4CE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85B7-EEAB-4D56-B83C-D1DA604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4656-11F3-4B40-B2CA-99FAC49838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álózatok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bakezelé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átvitel és a kommunikáció fontos kérdése az átvitel során fellépő hibák kezelé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t az alsó 3 rétegben kell megold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lső hibakezelés a fizikai rétegben végezhető 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zajok időtartamából következően lehetn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edi bithib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oportos bithib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yakoribb esetben a hibák fennállási ideje többszöröse egy bit átviteli idejének, ezért a hibák hibacsomók formájában jelentkez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bakezelés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edi bithibák kezelésére a hibajavító (error correcting codes – ECC) és hibajelző kódok (error detecting codes) alkalmazása ad lehetőség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dundáns kódok alkalmazásakor a bitcsoportot alkotó eredetileg m bites kódot r db bittel egészítik k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redundáns bitcsoport elnevezése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kódsz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Hamming távolsá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 tetszőleges kódszót megadva, mindig megállapítható, hány bitben különbözn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ét szó XOR kapcsolata által adott eredményben az 1-esek száma adja a különbséget, ez a két szó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Hamming távolsá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Ha két kódszó k Hamming távolságú, akkor ez egyik a másikba k darab egyedi hibával konvertálódhat 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teljes rendszer Hamming távolságát úgy határozzuk meg, hogy képezzük minden lehetséges kódszó pár közötti Hamming távolságot, és ezek közül a legkisebb lesz az eredmén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soportos hibakezelé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egy kódszavakból álló blokkhoz szavanként egyetlen paritásbitet adunk, akkor csoportos hiba esetén az észlelés valószínűsége 0.5 le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növelhető oly módon, hogy a blokkot egy n*k elemű mátrixnak tekint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itásbitet oszloponként is kiszámítjuk és azt is elküldjü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ódszer egyetlen n bites csoporthiba észlelésére ké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bf1"/>
                </a:solidFill>
                <a:latin typeface="Arial"/>
              </a:rPr>
              <a:t>CRC – Cyclic Redundancy Check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soportos hibák esetén inkább egy másik módszert használn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1 keretnyi adatot egy előre meghatározott bitsorozattal „elosztunk” és a „maradékot” a keret részeként továbbítju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evő oldalon ugyanezt az osztást végezzük el, és ha a maradék egyezik akkor hibátlan az átvi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szabványos bitsorozat terjedt e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1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C-CCIT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 bites karakterek átvitelek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datkapcsolati protokollok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rlátozás nélküli, egyirányú (szimple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irányú „megáll és vá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irányú összet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irányú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bites csúszó ablak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isszalépés n-el technikáj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elektív ismétl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CITT V.41 –es ajánl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BM BISY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DL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orlátozás nélküli, egyirányú (szimplex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349360"/>
            <a:ext cx="287964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ít össze és átadja 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4437000"/>
            <a:ext cx="288000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álózat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2"/>
            <a:endCxn id="90" idx="0"/>
          </p:cNvCxnSpPr>
          <p:nvPr/>
        </p:nvCxnSpPr>
        <p:spPr>
          <a:xfrm flipH="1" flipV="1" rot="5400000">
            <a:off x="1404000" y="3140280"/>
            <a:ext cx="1585080" cy="2160"/>
          </a:xfrm>
          <a:prstGeom prst="bentConnector5">
            <a:avLst>
              <a:gd name="adj1" fmla="val -14425"/>
              <a:gd name="adj2" fmla="val -115200000"/>
              <a:gd name="adj3" fmla="val 11442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5219640" y="2349360"/>
            <a:ext cx="2592360" cy="1079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2"/>
            <a:endCxn id="91" idx="0"/>
          </p:cNvCxnSpPr>
          <p:nvPr/>
        </p:nvCxnSpPr>
        <p:spPr>
          <a:xfrm flipV="1" rot="10800000">
            <a:off x="6516000" y="3428640"/>
            <a:ext cx="1080" cy="1008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91" idx="2"/>
            <a:endCxn id="93" idx="0"/>
          </p:cNvCxnSpPr>
          <p:nvPr/>
        </p:nvCxnSpPr>
        <p:spPr>
          <a:xfrm flipH="1" flipV="1" rot="5400000">
            <a:off x="4681080" y="4184280"/>
            <a:ext cx="3672720" cy="2160"/>
          </a:xfrm>
          <a:prstGeom prst="bentConnector5">
            <a:avLst>
              <a:gd name="adj1" fmla="val -6224"/>
              <a:gd name="adj2" fmla="val -119700000"/>
              <a:gd name="adj3" fmla="val 10622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3" idx="3"/>
            <a:endCxn id="93" idx="0"/>
          </p:cNvCxnSpPr>
          <p:nvPr/>
        </p:nvCxnSpPr>
        <p:spPr>
          <a:xfrm flipH="1" flipV="1">
            <a:off x="6516360" y="2349000"/>
            <a:ext cx="1296000" cy="540720"/>
          </a:xfrm>
          <a:prstGeom prst="bentConnector4">
            <a:avLst>
              <a:gd name="adj1" fmla="val -52181"/>
              <a:gd name="adj2" fmla="val 14230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588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67640" y="2492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200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5084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5805360"/>
            <a:ext cx="2879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ilyen sebességgel küldi az ADÓ a kereteket, a VEVŐ ugyanilyen sebességgel képes ezt ven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satorna hibamentes, kerethiba, keretvesztés nem fordul el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irányú „megáll és vár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2349360"/>
            <a:ext cx="287964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állít össze és átadja 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6720" y="4437000"/>
            <a:ext cx="2880000" cy="1584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hálózati rétegnek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küldé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111" idx="2"/>
            <a:endCxn id="108" idx="0"/>
          </p:cNvCxnSpPr>
          <p:nvPr/>
        </p:nvCxnSpPr>
        <p:spPr>
          <a:xfrm flipH="1" flipV="1" rot="5400000">
            <a:off x="756000" y="3788280"/>
            <a:ext cx="2880720" cy="2160"/>
          </a:xfrm>
          <a:prstGeom prst="bentConnector5">
            <a:avLst>
              <a:gd name="adj1" fmla="val -7936"/>
              <a:gd name="adj2" fmla="val -118900000"/>
              <a:gd name="adj3" fmla="val 10793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5219640" y="2349360"/>
            <a:ext cx="2592360" cy="1079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12" idx="2"/>
            <a:endCxn id="109" idx="0"/>
          </p:cNvCxnSpPr>
          <p:nvPr/>
        </p:nvCxnSpPr>
        <p:spPr>
          <a:xfrm flipV="1" rot="10800000">
            <a:off x="6516000" y="3428640"/>
            <a:ext cx="1080" cy="1008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2"/>
            <a:endCxn id="112" idx="0"/>
          </p:cNvCxnSpPr>
          <p:nvPr/>
        </p:nvCxnSpPr>
        <p:spPr>
          <a:xfrm flipH="1" flipV="1" rot="5400000">
            <a:off x="4681080" y="4184280"/>
            <a:ext cx="3672720" cy="2160"/>
          </a:xfrm>
          <a:prstGeom prst="bentConnector5">
            <a:avLst>
              <a:gd name="adj1" fmla="val -6224"/>
              <a:gd name="adj2" fmla="val -119700000"/>
              <a:gd name="adj3" fmla="val 10622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2" idx="3"/>
            <a:endCxn id="112" idx="0"/>
          </p:cNvCxnSpPr>
          <p:nvPr/>
        </p:nvCxnSpPr>
        <p:spPr>
          <a:xfrm flipH="1" flipV="1">
            <a:off x="6516360" y="2349000"/>
            <a:ext cx="1296000" cy="540720"/>
          </a:xfrm>
          <a:prstGeom prst="bentConnector4">
            <a:avLst>
              <a:gd name="adj1" fmla="val -52181"/>
              <a:gd name="adj2" fmla="val 142305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88000" y="3789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67640" y="2492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24360" y="170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58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V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8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80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6165720"/>
            <a:ext cx="1944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365720"/>
            <a:ext cx="2879640" cy="86364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jött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8" idx="2"/>
            <a:endCxn id="111" idx="0"/>
          </p:cNvCxnSpPr>
          <p:nvPr/>
        </p:nvCxnSpPr>
        <p:spPr>
          <a:xfrm flipV="1" rot="10800000">
            <a:off x="2194920" y="3933360"/>
            <a:ext cx="1080" cy="4327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1" idx="3"/>
            <a:endCxn id="111" idx="0"/>
          </p:cNvCxnSpPr>
          <p:nvPr/>
        </p:nvCxnSpPr>
        <p:spPr>
          <a:xfrm flipH="1" flipV="1">
            <a:off x="2194920" y="4365000"/>
            <a:ext cx="1440360" cy="432360"/>
          </a:xfrm>
          <a:prstGeom prst="bentConnector4">
            <a:avLst>
              <a:gd name="adj1" fmla="val -44100"/>
              <a:gd name="adj2" fmla="val 152916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84360" y="50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042920" y="6308640"/>
            <a:ext cx="194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30864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yugta keret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datkapcsolati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okat a hálózati rétegtől kapja az adatkapcsolati réteg, és az általa összeállított információcsomagokat (KERET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tadja a fizikai rétegn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atkapcsolati protokollok feladata egy összeállított keret átvitele két csomópont közö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őre egyszerű feladatnak látszik, 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Ó és a VEVŐ tulajdonság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satorna minősé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ratlan eseményekre való felkészü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d-mind igényeket támaszt a protokollal szemb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alóságban nagyon sok esetben a VEVŐ nem képes olyan sebességgel feldolgozni a kereteket, azaz valahogy az ADÓ-t le kell lassítani olyan mértékben, hogy a VEVŐ mindig fel tudja dolgozni a kerete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baj az ha a VEVŐ által küldött nyugtakeret sérül meg (dupla adatok létrejöt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irányú összetet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lőző probléma megoldása az, hogy az ADÓ egy számot helyez el minden elküldendő keret fejrészébe, és ezáltal a VEVŐ eldöntheti, hogy először adott, vagy ismételt keretről van-e sz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gyirányú összetet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773360"/>
            <a:ext cx="2016000" cy="1081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yugtabit = 0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Ó a hálózati rétegtő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pott csomagból kerete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állít össze és átadja 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zikai rétegn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4076640"/>
            <a:ext cx="2016000" cy="10810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EVŐ a fizikai rétegtől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apott keretből az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formációt továbbadj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 hálózati rétegn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284640"/>
            <a:ext cx="2016000" cy="93636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 jöt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4653000"/>
            <a:ext cx="2016000" cy="93672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dőzítés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jár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24360" y="1700280"/>
            <a:ext cx="2016000" cy="93672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ret jött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2924280"/>
            <a:ext cx="2016000" cy="936360"/>
          </a:xfrm>
          <a:prstGeom prst="flowChartDecision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bit = 0 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877000"/>
            <a:ext cx="2016000" cy="57636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yugtabit = 1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eret újraindítás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589720"/>
            <a:ext cx="2016000" cy="576000"/>
          </a:xfrm>
          <a:prstGeom prst="flowChartProcess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yugta küldé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5" idx="2"/>
            <a:endCxn id="137" idx="0"/>
          </p:cNvCxnSpPr>
          <p:nvPr/>
        </p:nvCxnSpPr>
        <p:spPr>
          <a:xfrm flipV="1" rot="10800000">
            <a:off x="1762920" y="2854080"/>
            <a:ext cx="1080" cy="4309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2"/>
            <a:endCxn id="138" idx="0"/>
          </p:cNvCxnSpPr>
          <p:nvPr/>
        </p:nvCxnSpPr>
        <p:spPr>
          <a:xfrm>
            <a:off x="1763280" y="4221000"/>
            <a:ext cx="108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8" idx="2"/>
            <a:endCxn id="141" idx="0"/>
          </p:cNvCxnSpPr>
          <p:nvPr/>
        </p:nvCxnSpPr>
        <p:spPr>
          <a:xfrm flipV="1" rot="10800000">
            <a:off x="1762920" y="5589360"/>
            <a:ext cx="1080" cy="2880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3"/>
            <a:endCxn id="137" idx="0"/>
          </p:cNvCxnSpPr>
          <p:nvPr/>
        </p:nvCxnSpPr>
        <p:spPr>
          <a:xfrm flipH="1" flipV="1">
            <a:off x="1763280" y="3284280"/>
            <a:ext cx="1008720" cy="1837440"/>
          </a:xfrm>
          <a:prstGeom prst="bentConnector4">
            <a:avLst>
              <a:gd name="adj1" fmla="val -22670"/>
              <a:gd name="adj2" fmla="val 11244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1" idx="2"/>
            <a:endCxn id="137" idx="0"/>
          </p:cNvCxnSpPr>
          <p:nvPr/>
        </p:nvCxnSpPr>
        <p:spPr>
          <a:xfrm flipH="1" flipV="1" rot="5400000">
            <a:off x="178920" y="4867560"/>
            <a:ext cx="3169440" cy="2520"/>
          </a:xfrm>
          <a:prstGeom prst="bentConnector5">
            <a:avLst>
              <a:gd name="adj1" fmla="val -7156"/>
              <a:gd name="adj2" fmla="val 77900000"/>
              <a:gd name="adj3" fmla="val 107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7" idx="1"/>
            <a:endCxn id="135" idx="0"/>
          </p:cNvCxnSpPr>
          <p:nvPr/>
        </p:nvCxnSpPr>
        <p:spPr>
          <a:xfrm flipH="1" rot="10800000">
            <a:off x="755280" y="1772640"/>
            <a:ext cx="1008720" cy="1980360"/>
          </a:xfrm>
          <a:prstGeom prst="bentConnector4">
            <a:avLst>
              <a:gd name="adj1" fmla="val -22670"/>
              <a:gd name="adj2" fmla="val 11154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2"/>
            <a:endCxn id="140" idx="0"/>
          </p:cNvCxnSpPr>
          <p:nvPr/>
        </p:nvCxnSpPr>
        <p:spPr>
          <a:xfrm flipV="1" rot="10800000">
            <a:off x="4931640" y="2636640"/>
            <a:ext cx="1080" cy="2880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0" idx="2"/>
            <a:endCxn id="136" idx="0"/>
          </p:cNvCxnSpPr>
          <p:nvPr/>
        </p:nvCxnSpPr>
        <p:spPr>
          <a:xfrm flipV="1" rot="10800000">
            <a:off x="4931640" y="3860280"/>
            <a:ext cx="1080" cy="216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6" idx="2"/>
            <a:endCxn id="142" idx="0"/>
          </p:cNvCxnSpPr>
          <p:nvPr/>
        </p:nvCxnSpPr>
        <p:spPr>
          <a:xfrm flipV="1" rot="10800000">
            <a:off x="4931640" y="5157360"/>
            <a:ext cx="1080" cy="4327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2" idx="2"/>
            <a:endCxn id="139" idx="0"/>
          </p:cNvCxnSpPr>
          <p:nvPr/>
        </p:nvCxnSpPr>
        <p:spPr>
          <a:xfrm flipH="1" flipV="1" rot="5400000">
            <a:off x="2700000" y="3931920"/>
            <a:ext cx="4466160" cy="2160"/>
          </a:xfrm>
          <a:prstGeom prst="bentConnector5">
            <a:avLst>
              <a:gd name="adj1" fmla="val -5078"/>
              <a:gd name="adj2" fmla="val -95700000"/>
              <a:gd name="adj3" fmla="val 105118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9" idx="3"/>
            <a:endCxn id="139" idx="0"/>
          </p:cNvCxnSpPr>
          <p:nvPr/>
        </p:nvCxnSpPr>
        <p:spPr>
          <a:xfrm flipH="1" flipV="1">
            <a:off x="4932000" y="1699560"/>
            <a:ext cx="1008720" cy="469080"/>
          </a:xfrm>
          <a:prstGeom prst="bentConnector4">
            <a:avLst>
              <a:gd name="adj1" fmla="val -71652"/>
              <a:gd name="adj2" fmla="val 148771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0" idx="3"/>
            <a:endCxn id="142" idx="0"/>
          </p:cNvCxnSpPr>
          <p:nvPr/>
        </p:nvCxnSpPr>
        <p:spPr>
          <a:xfrm flipH="1">
            <a:off x="4932000" y="3392280"/>
            <a:ext cx="1008720" cy="2197800"/>
          </a:xfrm>
          <a:prstGeom prst="bentConnector4">
            <a:avLst>
              <a:gd name="adj1" fmla="val -74473"/>
              <a:gd name="adj2" fmla="val 9153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46836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58972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3789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3640" y="25653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g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35280" y="4292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472428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3068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40360" y="1844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étirányú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gyakorlatban az adatátvitel legtöbbször kétirány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 egyszerű megoldással az átviendő keretek számát csökkenthetjük: bármelyik irányba tartó adatkeretre ráültethetjük az előző ellenirányú adatkeret nyugtájá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zt szokták ráültetési (piggy-back) technikának hív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étirányú protokoll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csatorna jobb kihasználását teszi lehetővé, ha megengedjük, hogy a csatornán több keret is tartózkod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zt lehetővé tévő eljárásokat csúszó ablakos vagy forgó ablakos protokolloknak nevez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ényeg az, hogy a sorban elküldendő keretek sorszámaiból egy aktualizált listát tart fenn az AD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listában szereplő sorszámú keretek az adási ablakba esnek, melyek az elküldött de méh nem nyugtázott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VŐ egy vételi ablakot tart fenn, ha a k-adik keret érkezik akkor rá a nyugta két feltétel teljesülése esetén lesz visszaküld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k-adik keret még nem lett nyugtáz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inden keret az elsőnek várt és a k-adik között már vettü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 a legegyszerűbb, hasonlít a „megáll és vár” protokollhoz, de az átvitel mindkét irányban folyik és az ellenirányú csomag hordozza az előzőleg küldött nyugtáj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gyen két állomás A é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elölés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vesz = A ve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keret jelölése: (sorszám,nyugta,az A vagy B által küldött adatcsomag jelöl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csak akkor lehet küldeni új keretet , ha nyugtázva van az előző, a sorszám és a nyugta értéke csak 0 vagy 1 leh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ezdi az adást, küldi B-nek a keret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küld(0,1,A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 veszi és a nyugtát a saját keretével visszaküld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vesz(0,1,A0),Bküld(0,0,B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veszi B első keretét és küldött kerete nyugtáját és küldi az újabb keret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vesz(0,0,B0),Aküld(1,1,A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gybites csúszó ablako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eret-kettőződés lép fel, ha A és B egyszerre kezd adni, uis. Ehhez induláskor 1-es nyugtával kell elküldenie a saját kereté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küld(0,1,A0) Bküld(0,1,B0) és a vé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vesz(0,1,B0) Bvesz(0,1,A0) amit el is fogadn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vel mindkét vételben 1-es nyugta van a várt 0 helyett újraküldik az előző keretet, amelyet mindkettő vesz és tovább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Visszalépés n-el technikájú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a keretek átviteli ideje hosszú, akkor nem jó megoldás az, hogy újabb keretet csak az előző nyugtázása után indítu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oldás ne 1 hanem k darab keretet küldjünk nyugtázás nélkü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t a megoldást csővonalnak hívj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 van akkor ha egy keret a sorban megsérü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gyik megoldás visszalépés n –el: a VEVŐ a hibás keret utáni kereteket eldobja, kényszerítve az ADÓ-t az ismétlés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ásik megoldás a szelektív ismétl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zelektív ismétlő protokoll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nél a hibás keretet követő összes jó keret tárolásra kerü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 az ADÓ mind a VEVŐ fenntart egy ablakot a keretsorszámok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onkrét megvalósítás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Információ a rétegekbe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565360"/>
            <a:ext cx="2808360" cy="792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állítási rétegtől kapott üze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357720"/>
            <a:ext cx="280836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lózati réteg fejrés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916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ÁLÓZAT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soma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91628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KAPCSOLAT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6720" y="1916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ZIKAI RÉTE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foly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270828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RAK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g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TALAP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5013360"/>
            <a:ext cx="216036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5013360"/>
            <a:ext cx="64800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08360" y="5013360"/>
            <a:ext cx="21600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5013360"/>
            <a:ext cx="360360" cy="3603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2565360"/>
            <a:ext cx="2881080" cy="2448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4005360"/>
            <a:ext cx="3529080" cy="10080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013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rás- és célcí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5734080"/>
            <a:ext cx="22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etinformáci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64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ibaellenőrzé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987640" y="5229360"/>
            <a:ext cx="863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627280" y="5157360"/>
            <a:ext cx="865080" cy="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6372000" y="5300640"/>
            <a:ext cx="144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CCITT V.41 –es ajánlás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dó a vevőnek rögzített hosszúságú(260, 500 vagy 980 bites) blokkokat küld, a 4 bites prefix határozza meg a blokk típus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3284640"/>
            <a:ext cx="1657080" cy="4334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3284640"/>
            <a:ext cx="4104000" cy="431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72360" y="3284640"/>
            <a:ext cx="936360" cy="431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92428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bi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0,480,vagy 960 bi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16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422100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280" y="407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z adó a szinkron blokk után sorban mindig A,B és C típusú blokkokat küld úgy, hogy az előző blokkot tárolja. Az elküldött blokk után megvizsgálja a nyugtacsatornán küldött választ. Hiba esetén az éppen küldött blokkot elront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bf1"/>
                </a:solidFill>
                <a:latin typeface="Arial"/>
              </a:rPr>
              <a:t>CCITT V.41 –es ajánlás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őnyö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inkron átv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klikus hibavéd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ámozott információs blokk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ód-független átv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blokkhosszúsá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árbeszédes üzem bonyolult megvalósítósá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öbbpontos üzem nem realizálható, a terminál címzés nem megoldot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ülön csatornán megvalósított egyidejű nyugtáz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okális hálózato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IEEE 802-es szabvány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1 szabvány az alapokat írja le, és az interfész primitíveket definiál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2 az adatkapcsolati réteg felső részét az ún. LLC (Logical Link Control) alréteget definiálja ,az adatkapcsolati réteget osztoták két részre: a közeg hozzáférési rétegre (MAC –Media Access Control) és az LCC-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3 szabvány a CSMA/CD (ethernet) leír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4 szabvány a vezérjeles sí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802.5 szabvány a vezérjeles gyűrű leír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EEE 802 szabvány és az OSI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299736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kalmazó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328464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gjeleníté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357336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gyüttműködé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3860640"/>
            <a:ext cx="1800000" cy="28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zállítá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414972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álóz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443700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tkapcsola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4724280"/>
            <a:ext cx="1800000" cy="2872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z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85264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Logikai kapcsolat 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ezérlési alréteg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802.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364500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Közeghozzáférés </a:t>
            </a:r>
            <a:br>
              <a:rPr sz="1200"/>
            </a:b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vezérlési alrét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4437000"/>
            <a:ext cx="1656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zikai rét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328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80360" y="3645000"/>
            <a:ext cx="122400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43280" y="4437000"/>
            <a:ext cx="86544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Alapsávú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Szélessávú</a:t>
            </a:r>
            <a:br>
              <a:rPr sz="1200"/>
            </a:b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koa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3272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drott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érpá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40720" y="4437000"/>
            <a:ext cx="865080" cy="64764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tikai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á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8360" y="5013360"/>
            <a:ext cx="503280" cy="7128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268360" y="4365720"/>
            <a:ext cx="503280" cy="35856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268360" y="2852280"/>
            <a:ext cx="503280" cy="158436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vel nincs olyan eljárás amely folyamatos tetszőleges bitfolyamban a hibát képes jelezni, az átküldés hibátlanságát valahogy ellenőrizni k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tfolyamatot keretekre kell tördel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ereteket ellenőrző összeggel kell ellátni, melyet a vételi oldalon újraszámolva jelezni lehet, hogy hibátlan a vé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eretek képzés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itfolyam tördelésére többféle módszer létez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rakterszámláló móds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zdő és végkarakterek alkalmazása karakterbeszúrás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zdő és végjelző bitbeszúrás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Karakterszámláló módsze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egegyszerűb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eret fejlécében megadjuk a keretben lévő karakterek számá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a vevő oldalán meghatározóvá teszi a keret v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karakterek alkalmaz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b megoldás , ha egy speciális karaktersorozattal jelöljük a keret kezdetét és a vég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okásos megoldás a DLE STX karakterkettőssel jelezni a keret kezdet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LE ETX –el a keret végé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ek  speciális az ASCII kódtáblában megtalálható karakterek, és a keret adatrészében lévő esetleges szövegben nem fordulnak elő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karakterek alkalmazása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ás a helyzet, ha karakteralapú módszerrel bináris adatokat kívánunk átvin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lyenkor a két karakterkombináció megjelenhet az adatmezőben is, és ez hibás kerethatárt jel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megoldá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Ó minden az adatmezőben megjelenő DLE kód után azonnal beszúr még egy DLE karakt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VŐ pedig, ha a DLE karakter vétele után ismét DLE következik akkor eldobja a 2. –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üzenet: ITT E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O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artalma: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STX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ITT EZ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DL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OLT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DLE ET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Kezdő és végjelzők bitbeszúrással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zt a módszert a rugalmasabb bitorientált átvitelnél használjá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den keret egy speciális 01111110 bitmintával kezdődik és végződi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 az ADÓ 5 egymást követő 1-est tartalmazó mintát talál az adatmezőben, akkor egy 0 bitet szúr be utá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VEVŐ a másik oldalon pedig ezt a beszúrt bitet az 5 egymás utáni 1-es bit érzékelése után kiveszi a bitfolyambó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 üzenet: 111111111101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keret : 011111101111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11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111011111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 a 0 és 1 bitek kódolásán kívül létezik nem használt kód, ez a keretképzésre felhasználható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0:30:23Z</dcterms:created>
  <dc:creator>Nagymáté Péter</dc:creator>
  <dc:description/>
  <dc:language>en-US</dc:language>
  <cp:lastModifiedBy>Nagymáté Péter</cp:lastModifiedBy>
  <dcterms:modified xsi:type="dcterms:W3CDTF">2004-01-27T14:31:24Z</dcterms:modified>
  <cp:revision>18</cp:revision>
  <dc:subject/>
  <dc:title>Hálózatok </dc:title>
</cp:coreProperties>
</file>