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9BB-6EFB-4D0E-97F0-CC55CF7A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0A5-3C7B-45CF-A5EE-B3F4837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144-1666-43E1-AB60-6F5C848C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5B9-71F7-4DC7-BB19-B9F85DB1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381-66CD-43E6-A14E-19177F68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431-D62D-4A10-A6FE-33FDCFC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089-4524-4FCE-B8AE-114CDBD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C50-191D-4225-8038-329F2BC9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CF9-51D9-419C-992D-9864D10E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06C-A3A6-4662-89D4-2101D1FE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92D-3D3C-4E00-942E-D675801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C97-4A02-4254-AFE9-2205E5F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A15-BB64-4BF2-B4FF-B4FF3EBBC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átvitel és a kommunikáció fontos kérdése az átvitel során fellépő hibák kez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t az alsó 3 rétegben kell megold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lső hibakezelés a fizikai rétegben végezhető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zajok időtartamából következően lehet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edi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oportos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akoribb esetben a hibák fennállási ideje többszöröse egy bit átviteli idejének, ezért a hibák hibacsomók formájában jelentk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edi bithibák kezelésére a hibajavító (error correcting codes – ECC) és hibajelző kódok (error detecting codes) alkalmazása ad lehetősé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kódok alkalmazásakor a bitcsoportot alkotó eredetileg m bites kódot r db bittel egészítik 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bitcsoport elnevezés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ód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Hamming távolsá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tetszőleges kódszót megadva, mindig megállapítható, hány bitben különbö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ét szó XOR kapcsolata által adott eredményben az 1-esek száma adja a különbséget, ez a két szó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mming távolsá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Ha két kódszó k Hamming távolságú, akkor ez egyik a másikba k darab egyedi hibával konvertálódhat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teljes rendszer Hamming távolságát úgy határozzuk meg, hogy képezzük minden lehetséges kódszó pár közötti Hamming távolságot, és ezek közül a legkisebb lesz az eredmé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soportos hibakezelé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egy kódszavakból álló blokkhoz szavanként egyetlen paritásbitet adunk, akkor csoportos hiba esetén az észlelés valószínűsége 0.5 le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növelhető oly módon, hogy a blokkot egy n*k elemű mátrixnak tekint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itásbitet oszloponként is kiszámítjuk és azt is elküld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ódszer egyetlen n bites csoporthiba észlelésére ké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bf1"/>
                </a:solidFill>
                <a:latin typeface="Arial"/>
              </a:rPr>
              <a:t>CRC – Cyclic Redundancy Chec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oportos hibák esetén inkább egy másik módszert használ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1 keretnyi adatot egy előre meghatározott bitsorozattal „elosztunk” és a „maradékot” a keret részeként továbbí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vő oldalon ugyanezt az osztást végezzük el, és ha a maradék egyezik akkor hibátlan az átvi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szabványos bitsorozat terjedt 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CCIT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ozás nélküli, egyirányú (szimple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„megáll és vá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összet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irány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bites csúszó ablak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isszalépés n-el technikáj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tív ismét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CITT V.41 –es aján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BM BISY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D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orlátozás nélküli, egyirányú (szimplex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2"/>
            <a:endCxn id="90" idx="0"/>
          </p:cNvCxnSpPr>
          <p:nvPr/>
        </p:nvCxnSpPr>
        <p:spPr>
          <a:xfrm flipH="1" flipV="1" rot="5400000">
            <a:off x="1404000" y="3140280"/>
            <a:ext cx="1585080" cy="2160"/>
          </a:xfrm>
          <a:prstGeom prst="bentConnector5">
            <a:avLst>
              <a:gd name="adj1" fmla="val -14425"/>
              <a:gd name="adj2" fmla="val -115200000"/>
              <a:gd name="adj3" fmla="val 11442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1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93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3"/>
            <a:endCxn id="93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08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580536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lyen sebességgel küldi az ADÓ a kereteket, a VEVŐ ugyanilyen sebességgel képes ezt ven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satorna hibamentes, kerethiba, keretvesztés nem fordul el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„megáll és vár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11" idx="2"/>
            <a:endCxn id="108" idx="0"/>
          </p:cNvCxnSpPr>
          <p:nvPr/>
        </p:nvCxnSpPr>
        <p:spPr>
          <a:xfrm flipH="1" flipV="1" rot="5400000">
            <a:off x="756000" y="3788280"/>
            <a:ext cx="2880720" cy="2160"/>
          </a:xfrm>
          <a:prstGeom prst="bentConnector5">
            <a:avLst>
              <a:gd name="adj1" fmla="val -7936"/>
              <a:gd name="adj2" fmla="val -118900000"/>
              <a:gd name="adj3" fmla="val 10793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2"/>
            <a:endCxn id="109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2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2" idx="3"/>
            <a:endCxn id="112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616572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365720"/>
            <a:ext cx="2879640" cy="863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8" idx="2"/>
            <a:endCxn id="111" idx="0"/>
          </p:cNvCxnSpPr>
          <p:nvPr/>
        </p:nvCxnSpPr>
        <p:spPr>
          <a:xfrm flipV="1" rot="10800000">
            <a:off x="2194920" y="3933360"/>
            <a:ext cx="1080" cy="432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3"/>
            <a:endCxn id="111" idx="0"/>
          </p:cNvCxnSpPr>
          <p:nvPr/>
        </p:nvCxnSpPr>
        <p:spPr>
          <a:xfrm flipH="1" flipV="1">
            <a:off x="2194920" y="4365000"/>
            <a:ext cx="1440360" cy="432360"/>
          </a:xfrm>
          <a:prstGeom prst="bentConnector4">
            <a:avLst>
              <a:gd name="adj1" fmla="val -44100"/>
              <a:gd name="adj2" fmla="val 15291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84360" y="50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42920" y="630864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3086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okat a hálózati rétegtől kapja az adatkapcsolati réteg, és az általa összeállított információcsomagokat (KERE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adja a fizikai réteg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kapcsolati protokollok feladata egy összeállított keret átvitele két csomópont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őre egyszerű feladatnak látszik,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Ó és a VEVŐ tulajdonság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satorna min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ratlan eseményekre való felkészü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-mind igényeket támaszt a protokollal szem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ágban nagyon sok esetben a VEVŐ nem képes olyan sebességgel feldolgozni a kereteket, azaz valahogy az ADÓ-t le kell lassítani olyan mértékben, hogy a VEVŐ mindig fel tudja dolgozni a keret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aj az ha a VEVŐ által küldött nyugtakeret sérül meg (dupla adatok létrejöt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lőző probléma megoldása az, hogy az ADÓ egy számot helyez el minden elküldendő keret fejrészébe, és ezáltal a VEVŐ eldöntheti, hogy először adott, vagy ismételt keretről van-e 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77336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0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állít össze és átadja 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407664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28464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65300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őzíté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jár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170028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92428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bit = 0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877000"/>
            <a:ext cx="2016000" cy="576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1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eret újraindí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589720"/>
            <a:ext cx="2016000" cy="57600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5" idx="2"/>
            <a:endCxn id="137" idx="0"/>
          </p:cNvCxnSpPr>
          <p:nvPr/>
        </p:nvCxnSpPr>
        <p:spPr>
          <a:xfrm flipV="1" rot="10800000">
            <a:off x="1762920" y="2854080"/>
            <a:ext cx="1080" cy="430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2"/>
            <a:endCxn id="138" idx="0"/>
          </p:cNvCxnSpPr>
          <p:nvPr/>
        </p:nvCxnSpPr>
        <p:spPr>
          <a:xfrm>
            <a:off x="1763280" y="422100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2"/>
            <a:endCxn id="141" idx="0"/>
          </p:cNvCxnSpPr>
          <p:nvPr/>
        </p:nvCxnSpPr>
        <p:spPr>
          <a:xfrm flipV="1" rot="10800000">
            <a:off x="1762920" y="558936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3"/>
            <a:endCxn id="137" idx="0"/>
          </p:cNvCxnSpPr>
          <p:nvPr/>
        </p:nvCxnSpPr>
        <p:spPr>
          <a:xfrm flipH="1" flipV="1">
            <a:off x="1763280" y="3284280"/>
            <a:ext cx="1008720" cy="1837440"/>
          </a:xfrm>
          <a:prstGeom prst="bentConnector4">
            <a:avLst>
              <a:gd name="adj1" fmla="val -22670"/>
              <a:gd name="adj2" fmla="val 1124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2"/>
            <a:endCxn id="137" idx="0"/>
          </p:cNvCxnSpPr>
          <p:nvPr/>
        </p:nvCxnSpPr>
        <p:spPr>
          <a:xfrm flipH="1" flipV="1" rot="5400000">
            <a:off x="178920" y="4867560"/>
            <a:ext cx="3169440" cy="2520"/>
          </a:xfrm>
          <a:prstGeom prst="bentConnector5">
            <a:avLst>
              <a:gd name="adj1" fmla="val -7156"/>
              <a:gd name="adj2" fmla="val 77900000"/>
              <a:gd name="adj3" fmla="val 107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1"/>
            <a:endCxn id="135" idx="0"/>
          </p:cNvCxnSpPr>
          <p:nvPr/>
        </p:nvCxnSpPr>
        <p:spPr>
          <a:xfrm flipH="1" rot="10800000">
            <a:off x="755280" y="1772640"/>
            <a:ext cx="1008720" cy="1980360"/>
          </a:xfrm>
          <a:prstGeom prst="bentConnector4">
            <a:avLst>
              <a:gd name="adj1" fmla="val -22670"/>
              <a:gd name="adj2" fmla="val 11154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40" idx="0"/>
          </p:cNvCxnSpPr>
          <p:nvPr/>
        </p:nvCxnSpPr>
        <p:spPr>
          <a:xfrm flipV="1" rot="10800000">
            <a:off x="4931640" y="263664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2"/>
            <a:endCxn id="136" idx="0"/>
          </p:cNvCxnSpPr>
          <p:nvPr/>
        </p:nvCxnSpPr>
        <p:spPr>
          <a:xfrm flipV="1" rot="10800000">
            <a:off x="4931640" y="3860280"/>
            <a:ext cx="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2"/>
            <a:endCxn id="142" idx="0"/>
          </p:cNvCxnSpPr>
          <p:nvPr/>
        </p:nvCxnSpPr>
        <p:spPr>
          <a:xfrm flipV="1" rot="10800000">
            <a:off x="4931640" y="5157360"/>
            <a:ext cx="1080" cy="43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2"/>
            <a:endCxn id="139" idx="0"/>
          </p:cNvCxnSpPr>
          <p:nvPr/>
        </p:nvCxnSpPr>
        <p:spPr>
          <a:xfrm flipH="1" flipV="1" rot="5400000">
            <a:off x="2700000" y="3931920"/>
            <a:ext cx="4466160" cy="2160"/>
          </a:xfrm>
          <a:prstGeom prst="bentConnector5">
            <a:avLst>
              <a:gd name="adj1" fmla="val -5078"/>
              <a:gd name="adj2" fmla="val -95700000"/>
              <a:gd name="adj3" fmla="val 1051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9" idx="3"/>
            <a:endCxn id="139" idx="0"/>
          </p:cNvCxnSpPr>
          <p:nvPr/>
        </p:nvCxnSpPr>
        <p:spPr>
          <a:xfrm flipH="1" flipV="1">
            <a:off x="4932000" y="1699560"/>
            <a:ext cx="1008720" cy="469080"/>
          </a:xfrm>
          <a:prstGeom prst="bentConnector4">
            <a:avLst>
              <a:gd name="adj1" fmla="val -71652"/>
              <a:gd name="adj2" fmla="val 14877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0" idx="3"/>
            <a:endCxn id="142" idx="0"/>
          </p:cNvCxnSpPr>
          <p:nvPr/>
        </p:nvCxnSpPr>
        <p:spPr>
          <a:xfrm flipH="1">
            <a:off x="4932000" y="3392280"/>
            <a:ext cx="1008720" cy="2197800"/>
          </a:xfrm>
          <a:prstGeom prst="bentConnector4">
            <a:avLst>
              <a:gd name="adj1" fmla="val -74473"/>
              <a:gd name="adj2" fmla="val 9153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836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58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378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2565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4292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724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306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0360" y="184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yakorlatban az adatátvitel legtöbbször kétirány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egyszerű megoldással az átviendő keretek számát csökkenthetjük: bármelyik irányba tartó adatkeretre ráültethetjük az előző ellenirányú adatkeret nyugtá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t szokták ráültetési (piggy-back) technikának hí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satorna jobb kihasználását teszi lehetővé, ha megengedjük, hogy a csatornán több keret is tartózkod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zt lehetővé tévő eljárásokat csúszó ablakos vagy forgó ablakos protokolloknak neve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ényeg az, hogy a sorban elküldendő keretek sorszámaiból egy aktualizált listát tart fenn az AD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istában szereplő sorszámú keretek az adási ablakba esnek, melyek az elküldött de méh nem nyugtázott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VŐ egy vételi ablakot tart fenn, ha a k-adik keret érkezik akkor rá a nyugta két feltétel teljesülése esetén lesz visszaküld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-adik keret még nem lett nyugtáz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en keret az elsőnek várt és a k-adik között már vett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legegyszerűbb, hasonlít a „megáll és vár” protokollhoz, de az átvitel mindkét irányban folyik és az ellenirányú csomag hordozza az előzőleg küldött nyugt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yen két állomás A é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öl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 = A ve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ret jelölése: (sorszám,nyugta,az A vagy B által küldött adatcsomag jelö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csak akkor lehet küldeni új keretet , ha nyugtázva van az előző, a sorszám és a nyugta értéke csak 0 vagy 1 leh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ezdi az adást, küldi B-nek a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üld(0,1,A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 veszi és a nyugtát a saját keretével visszaküld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vesz(0,1,A0),Bküld(0,0,B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eszi B első keretét és küldött kerete nyugtáját és küldi az újabb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vesz(0,0,B0),Aküld(1,1,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et-kettőződés lép fel, ha A és B egyszerre kezd adni, uis. Ehhez induláskor 1-es nyugtával kell elküldenie a saját kereté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küld(0,1,A0) Bküld(0,1,B0) és a 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(0,1,B0) Bvesz(0,1,A0) amit el is fogad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mindkét vételben 1-es nyugta van a várt 0 helyett újraküldik az előző keretet, amelyet mindkettő vesz és továb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Visszalépés n-el technikájú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 keretek átviteli ideje hosszú, akkor nem jó megoldás az, hogy újabb keretet csak az előző nyugtázása után indít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oldás ne 1 hanem k darab keretet küldjünk nyugtázás nélk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 megoldást csővonalnak hívj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 van akkor ha egy keret a sorban megsérü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gyik megoldás visszalépés n –el: a VEVŐ a hibás keret utáni kereteket eldobja, kényszerítve az ADÓ-t az ismétlés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ik megoldás a szelektív ismét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zelektív ismétlő protoko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nél a hibás keretet követő összes jó keret tárolásra kerü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az ADÓ mind a VEVŐ fenntart egy ablakot a keretsorszámok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onkrét megvalósít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formáció a rétegekb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565360"/>
            <a:ext cx="2808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llítási rétegtől kapott üze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57720"/>
            <a:ext cx="2808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 fejrés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9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so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916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APCSOL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foly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270828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RAK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g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ALAP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013360"/>
            <a:ext cx="21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013360"/>
            <a:ext cx="648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5013360"/>
            <a:ext cx="216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013360"/>
            <a:ext cx="3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565360"/>
            <a:ext cx="2881080" cy="244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05360"/>
            <a:ext cx="3529080" cy="100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rás- és cél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7340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informáci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baellenőrz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87640" y="5229360"/>
            <a:ext cx="863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5157360"/>
            <a:ext cx="8650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372000" y="530064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dó a vevőnek rögzített hosszúságú(260, 500 vagy 980 bites) blokkokat küld, a 4 bites prefix határozza meg a blokk típu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284640"/>
            <a:ext cx="1657080" cy="433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3284640"/>
            <a:ext cx="410400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3284640"/>
            <a:ext cx="93636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924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0,480,vagy 960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16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22100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40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adó a szinkron blokk után sorban mindig A,B és C típusú blokkokat küld úgy, hogy az előző blokkot tárolja. Az elküldött blokk után megvizsgálja a nyugtacsatornán küldött választ. Hiba esetén az éppen küldött blokkot elron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őnyö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inkro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ikus hibavéd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ámozott információs blok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ód-függetle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blokkhosszú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árbeszédes üzem bonyolult megvalósí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öbbpontos üzem nem realizálható, a terminál címzés nem megold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ülön csatornán megvalósított egyidejű nyugtá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vel nincs olyan eljárás amely folyamatos tetszőleges bitfolyamban a hibát képes jelezni, az átküldés hibátlanságát valahogy ellenőrizni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atot keretekre kell törd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reteket ellenőrző összeggel kell ellátni, melyet a vételi oldalon újraszámolva jelezni lehet, hogy hibátlan a 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eretek kép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 tördelésére többféle módszer léte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akterszámláló móds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karakterek alkalmazása karakter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jelző bit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arakterszámláló módsz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egyszerű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ret fejlécében megadjuk a keretben lévő karakterek szá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a vevő oldalán meghatározóvá teszi a keret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b megoldás , ha egy speciális karaktersorozattal jelöljük a keret kezdetét és a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okásos megoldás a DLE STX karakterkettőssel jelezni a keret kezdet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E ETX –el a keret végé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  speciális az ASCII kódtáblában megtalálható karakterek, és a keret adatrészében lévő esetleges szövegben nem fordulnak 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 a helyzet, ha karakteralapú módszerrel bináris adatokat kívánunk átvi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lyenkor a két karakterkombináció megjelenhet az adatmezőben is, és ez hibás kerethatárt jel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Ó minden az adatmezőben megjelenő DLE kód után azonnal beszúr még egy DLE karakt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VŐ pedig, ha a DLE karakter vétele után ismét DLE következik akkor eldobja a 2. –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zenet: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artalma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STX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ET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jelzők bitbeszúrással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zt a módszert a rugalmasabb bitorientált átvitelnél haszn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keret egy speciális 01111110 bitmintával kezdődik és végződ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z ADÓ 5 egymást követő 1-est tartalmazó mintát talál az adatmezőben, akkor egy 0 bitet szúr be utá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VŐ a másik oldalon pedig ezt a beszúrt bitet az 5 egymás utáni 1-es bit érzékelése után kiveszi a bitfolyam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üzenet: 111111111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keret : 01111110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110111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 0 és 1 bitek kódolásán kívül létezik nem használt kód, ez a keretképzésre felhasználhat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0:30:23Z</dcterms:created>
  <dc:creator>Nagymáté Péter</dc:creator>
  <dc:description/>
  <dc:language>en-US</dc:language>
  <cp:lastModifiedBy>Nagymáté Péter</cp:lastModifiedBy>
  <dcterms:modified xsi:type="dcterms:W3CDTF">2004-01-27T14:31:24Z</dcterms:modified>
  <cp:revision>18</cp:revision>
  <dc:subject/>
  <dc:title>Hálózatok </dc:title>
</cp:coreProperties>
</file>