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7780-C9BD-4B70-973B-0661CDC0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852B-B894-4778-AAB0-CF3D0DE6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65BE-B5FF-45DE-86E7-1034B890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9541-9D45-43EC-BE02-05D85AA4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6A6D-3BD1-47C7-A36C-D5713F4A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E31A-F7E5-46FA-8D6D-C93F8DE5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A786-9904-4AAD-9853-9C199BF9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F497-71B4-4EAF-9189-4D05434E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E640-D57B-4936-9889-A2C9EADA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9A93-0C4B-4D41-91B6-89610AE6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491E-F8C8-45AD-A19B-2580CEF0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22CC-7AB0-444B-8E2E-74C9DE44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311E-5D43-4FC1-B6F3-22E35F7B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0098-5543-4F41-ACC9-EBF48286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C899-7187-4FF7-B658-99E70744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3665-4CBC-4E10-8283-6A61E0F5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1771-0813-4F40-B04A-E38A2E5D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C535-7B73-4716-A5F6-EED2B969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67B1D-CDF1-4C28-9EB7-18854A2A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6296-834B-416B-B8DD-802565BF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4464-0C06-441B-8BE9-5D89B543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8DAC-8714-4F00-92CB-D63D770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1934-A481-4C9C-8B20-80FCAFC5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AD94-4F04-4703-BBCD-85CC14B1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49CD-32EA-49AA-AD62-A49E0BA95FE8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B5D5-DF36-457D-9223-51CBFB2F80E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Hálózatok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atátviteli mód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ódolási eljár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RZ : nullára visszatérő, a nulla a nyugalmi állapot. 1 bitnél a bitidő első felében +V, a második felében a jel visszatér 0 –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Legrosszabb a sávszélesség igény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55640" y="3716280"/>
          <a:ext cx="7931160" cy="2409840"/>
        </p:xfrm>
        <a:graphic>
          <a:graphicData uri="http://schemas.openxmlformats.org/drawingml/2006/table">
            <a:tbl>
              <a:tblPr/>
              <a:tblGrid>
                <a:gridCol w="708120"/>
                <a:gridCol w="512640"/>
                <a:gridCol w="304920"/>
                <a:gridCol w="304560"/>
                <a:gridCol w="304920"/>
                <a:gridCol w="306360"/>
                <a:gridCol w="304920"/>
                <a:gridCol w="304920"/>
                <a:gridCol w="303120"/>
                <a:gridCol w="304560"/>
                <a:gridCol w="613080"/>
                <a:gridCol w="303120"/>
                <a:gridCol w="304920"/>
                <a:gridCol w="609480"/>
                <a:gridCol w="304920"/>
                <a:gridCol w="306360"/>
                <a:gridCol w="304560"/>
                <a:gridCol w="304920"/>
                <a:gridCol w="611280"/>
                <a:gridCol w="609480"/>
              </a:tblGrid>
              <a:tr h="603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RZI : nullára nem visszatérő, megszakadásos, 0 bitnek a nulla szint felel meg, 1 bitnek vagy nulla vagy +V felel meg a következő képe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 az előző 1 nulla szint volt akkor a következő +V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 az előző 1 +V szint volt akkor a következő nul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 bit után mindig +V az 1 bi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1280" y="4005360"/>
          <a:ext cx="8075520" cy="2120760"/>
        </p:xfrm>
        <a:graphic>
          <a:graphicData uri="http://schemas.openxmlformats.org/drawingml/2006/table">
            <a:tbl>
              <a:tblPr/>
              <a:tblGrid>
                <a:gridCol w="720720"/>
                <a:gridCol w="522360"/>
                <a:gridCol w="620640"/>
                <a:gridCol w="622080"/>
                <a:gridCol w="621000"/>
                <a:gridCol w="618840"/>
                <a:gridCol w="623880"/>
                <a:gridCol w="619200"/>
                <a:gridCol w="620640"/>
                <a:gridCol w="622440"/>
                <a:gridCol w="620640"/>
                <a:gridCol w="622440"/>
                <a:gridCol w="620640"/>
              </a:tblGrid>
              <a:tr h="530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chester kódol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t a jelátmenet, ugrás jelképezi a biteket, de itt az ugrás irányának is jelentősége va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0-1 átmenet 1-es bitet jelö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-0 átmenet 0-s bitet jelö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ikor több azonos  bit követi egymást, akkor a jelnek félidőben vissza kel térnie az eredeti szintre, hogy a következő átmenet is olyan irányú legy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ódszer kiválóan alkalmas mágneses adatrögzítéshez 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arakterek ábráz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SCII kódrendsz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28 db 7bites különböző kó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t fő csopo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Grafikus karaktere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Vezérlő karaktere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első 32 karakter és az utolsó DEL a vezérlő kategoriáj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nico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6 bites kó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első 8192 hely a szabványos alfabetikus karakterek számára foglalták 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övetkező 4096 kód a szimbólum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Utána lévő 4096 karakter a kínai, japán és koreai ABC-kn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utolsó előtti 5632 hely felhasználók által def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végső 495 karakter a konvertálást segítő tartomá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ód legnagyobb részét 27000 kar. Ún. Han karakterkészl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árhuzamos és soros adatátvit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 egy bitcsoportot egyszerre tudunk átvinni, akkor az átviteli sebesség nagyobb lesz, mintha a biteket sorban, egymás után vinnénk 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hhez azonban annyi adatút kell az ADÓ és a VEVŐ közt ahány bitből áll a bitcso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árhuzamos átvitelt csak kis távolságokra, illetve készülékek belsejében elhelyezkedő részegységek összekapcsolására használjá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oros átvitel esetén az információs biteket egyenként viszik át, így egy kódolt bitcsoport átviteli ideje nagyobb, mint párhuzamos esetb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zinkron soros adatátvit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nagyokú és széleskörű elterjedése miatt egy számítógép és egy modem, vagy terminál közötti fizikai rétegének megvalósítása nagyon fon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 teljes duplex, pont-pont típusú összekötetést igény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ezt megvalósító szabvány megalkotója az Electronic Industries Assoc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zabvány neve: EIA RS-232-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A RS-232-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szabvány leírásban a szgép hivatalos neve: adatvég-berendezés – DT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apcsolodó modemé: adatáramköri-végberendezés – DC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149720"/>
            <a:ext cx="2374920" cy="151128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LEFONOS HÁLÓZ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4292640"/>
            <a:ext cx="93672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292640"/>
            <a:ext cx="93672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4292640"/>
            <a:ext cx="93636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4292640"/>
            <a:ext cx="93636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479736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486900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486900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4869000"/>
            <a:ext cx="719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5877000"/>
            <a:ext cx="2232360" cy="431640"/>
          </a:xfrm>
          <a:prstGeom prst="wedgeRoundRectCallout">
            <a:avLst>
              <a:gd name="adj1" fmla="val -28166"/>
              <a:gd name="adj2" fmla="val -300000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-232-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DTE-DCE egységeket összekötő vezetékrendszer mechanikus csatlakozóját is definiálták: 25 pólusú csatlakoz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specifikáció szerint a -3V –nál kisebb fesz. A vonalon a bin 1-et ,míg a +3V-nál nagyobb fesz. A bin 0-át jele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ikor a szgépet bekapcsolják, az aktíválja az adatterminál kész jelet(20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ikor a modemet kapcsolják be, akkor az aktíválja az adat kész jelet (6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a modem vivőjelet érzékel a telefon vonalon akkor a vivőérzékelés jelet aktíválja (8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áskérés (4) jelzi, hogy a terminál  adatot akar külde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ásra kész (5) azt jelent, hogy a modem felkészült az adatok fogadásár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atok adása az adás vonalon (2), vétele a vétel vonalon(3) történi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2060640"/>
            <a:ext cx="115092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48360" y="2060640"/>
            <a:ext cx="115092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278136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27664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050920" y="3213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3645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050920" y="414972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050920" y="458136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050920" y="501336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0920" y="5445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877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1989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ÉDŐFÖLD 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27280" y="2492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DÁS (TxD)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292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TEL (RxD)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33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ÁSKÉRÉS (RTS) 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3860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ÁSRA KÉSZ (CTS)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429264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 KÉSZ (DSR) 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472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LFÖLD 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51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VŐÉRZÉKELÉS (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5589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TERMINÁL KÉSZ (DTR) (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hhoz, hogy a soros adatátvitel során az ADÓ-ról érkező biteket a VEVŐ egyértelműen azonosítani tudja, szükséges, hogy azonosan értelmezzék a jele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szinkron soros átvitelnél a bitcsoportos átviteli mód biztosítja az ADÓ és a VEVŐ szinkronizmus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Járulékos infókhoz járulékos bitek is kellenek: START ill. STOP bitek (keretező bite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atátvitel – analóg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múltat teljes egészében az analóg átvitel jellemezte. Például a telefon, televízió és rádi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telefonvonalon keresztül mindössze 10 Kbit/s nagyságrendű adatátvitel lehetséges, nagy hibaarány mellet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öbb állomás esetén telefonközpontot kell alkalmazn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hierarchia szint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őfizető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elyi köz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ávhívó köz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apcsoló köz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telefon csatorna alkalmas mind hang , mind adat átvitelre és a frekvenciája 300 és 3400 hz között van, tehát a sávszélessége 3100 h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protokoll konkrét megvalósításánál a következőknek kell teljesűlni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datbitek száma: 5,6,7 vagy 8 b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Paritásbi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top bitek száma: ez a soros vonalak a bitcsoportok átvitele után garantált logikai 1 állapotának az idejét határozza meg, az egy bit átviteléhez szükséges idővel kifejez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datátviteli sebesség (bit/s): fontos adat, ez határozza meg alapvetően az ADÓ és a VEVŐ szinkronizmusá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1811160"/>
                <a:gridCol w="641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t/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gy bit átvitelének ideje (mse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,66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,33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66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3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20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10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5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8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ényleges adatátviteli sebessé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200 –as 8-1-2 es átvitel eseté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200/(1 start+8 adat+1 paritás+2 stop bit) = 19200/12 =1600 adat (bájt) = 1,5625 Kbyte/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SDN –integrált szolgáltatású digitális hálóza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klasszikus távbeszélő rendszer nem alkalmas a modern digitális távközlés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z ISDN célja integrálni a hang és nem hang jelű átviteli szolgáltatások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legalapvetőbb szolgáltatás továbbra is a hangtovábbítás számos plusz funkcióval kiegészítve (hívószám kijelzés, 1 gombos hívá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SDN rendszerarchitektúrá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alapkoncepció az ún. digitális bitcső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bitfolyam időosztásos multiplexelésével  támogatja a több független csatorna kialakításá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CCITT négy ref. pontot határozott m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 referenciapont NT1 és ISDN központ közötti összekötteté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 referenciapont az NT1 –en a felhasználónak biztosít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 referenciapont az ISDN PBX és ISDN terminálok közötti interfés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R referenciapont a terminál adapterek és a nem IDSN terminálok közti összekötteté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SDN rendszerarchitektúrá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ális alközpont (PBX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ladata az előfizetői hívások kapcsolá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özponti része egy áramkör kapcsol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étféle típusú kapcsoló va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reszteződéses (mátrix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dőosztásos kapcsol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eg-hozzáférési módszer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életlen vezérlés: a közeget elvileg bármelyik állomás használhatja, de használat előtt meg kell győződnie, hogy más nem használ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sztott vezérlés: ilyen esetben egy időpontban mindig csak egy állomásnak van joga adatátvitel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özpontosított vezérlés: ilyenkor van egy kitüntetett állomás, mely vezérli a hálózatot, engedélyezi az állomások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eg-hozzáférési módszer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229600" cy="2549520"/>
        </p:xfrm>
        <a:graphic>
          <a:graphicData uri="http://schemas.openxmlformats.org/drawingml/2006/table">
            <a:tbl>
              <a:tblPr/>
              <a:tblGrid>
                <a:gridCol w="2602080"/>
                <a:gridCol w="2808000"/>
                <a:gridCol w="281952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ÉLETL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SZTOT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ÖZPONTOSÍTOT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ÜTKÖZÉSFIGYELÉSES ÜTKÖZÉS JELZ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VEZÉRJEL TOVÁBBITÁSOS) VEZÉRJELGYŰR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KÉRDEZÉS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ÉSELT GYŰR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VEZÉRJEL TOVÁBBÍTÁSOS) VEZÉRJELBUS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ONALKAPCSOLÁ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GISZTER BESZÚRÁ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ÜTKÖZÉSFIGYELÉSES ÜTKÖZÉST ELKERÜL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DŐOSZTÁSOS TÖBBSZÖRÖS HOZZÁFÉRÉS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életlen átvitel 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ndegyik állomás figyeli a csatornát , ha szabad akkor az adás idejére kisajátít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Ütközést jelző vivőérzékelős többszörös hozzáférés (CSMA/C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Carrier Sense Multiple Access with Collison Det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dás előtt belehallgat a csatornába, ha az csendes, akkor elküldi az üzenetet, a vivőérzékelés jelenti azt, hogy belehallg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üldött üzenet mindegyik állomáshoz eljut, melyek eldöntik, hogy nekik szól vagy s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dás közben el tudja dönteni, hogy az adott és a vett üzenetfolyam egyforma-e vagy s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nem , akkor más is beszél, az üzenet hibás, sérü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hívják ütközésnek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használja az Ethernet hálóz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életlen átvitel 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éselt gyűrű (slotted r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gyűrűn felfűzött állomások </a:t>
            </a: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rés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-eknek elnevezett rögzített hosszúságú kereteket adnak körb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résben van egy jelző, hogy foglalt-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állomások egy üres résbe, helyezik el az üzenet egy darabj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a az üzenet visszaér a küldőhöz, akkor az kivonja az üzenetet a gyűrűbő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Bár az előfizetők a helyi központhoz egy fémes vezető párral csatlakoznak, melyen elvileg akár 1-2 Mbit/s  adatátviteli sebesség lehetséges, gyakorlatban a jeleket szűrők segítségével 300 Hz és 3,3 KHz közt tartj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információt a szinuszos hullám egyik jellemzőjéhez rendelik hozz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odulációs protokoll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plitúdó moduláció : pl. a morze jel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Frekvencia moduláció : ezt használják a modem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módszer másik elnevezése FSK (Frequency Shift Keying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Fázis moduláció: nagyobb adatátvitelt tesz lehetőv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életlen átvitel 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ezérjeles sín (Token bu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vezérjel busz az átviteli közeget úgy vezérli, hogy az állomásról állomásra történő vezérjel továbbítása egy logikai gyűrűt képe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Ütközést elkerülő, vivőérzékeléses többszörös hozzáférés (CSMA/C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Carrier Sence Multiple Access with Collision Avoid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Itt minden állomás adást figyelve belehallgat a csatornáb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adás befejezése után egy adott ideig vár, ha ez idő alatt más nem kezd el adni, akkor elkezdi az adá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pontosított átvitel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ülön egység, a központ végzi a hozzáférés vezérlés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ekérdezéses eljárás (poll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nnél az eljárásnál a főállomás, és a többi mellékállomás alkotja a hálózato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főállomás sorban egymás után szólítja az állomásokat, és ha van üzenetük akkor azt elküldik nek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Ő meg a cím alapján tovább küldi a megfelelő állomásn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pontosított átvitel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kérdezéses eljár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314172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3280" y="2637000"/>
            <a:ext cx="792000" cy="50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472428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544500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5229360"/>
            <a:ext cx="792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3789360"/>
            <a:ext cx="792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9280" y="270828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208" idx="3"/>
          </p:cNvCxnSpPr>
          <p:nvPr/>
        </p:nvCxnSpPr>
        <p:spPr>
          <a:xfrm>
            <a:off x="2340000" y="3394080"/>
            <a:ext cx="1224720" cy="900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6" name=""/>
          <p:cNvCxnSpPr>
            <a:stCxn id="209" idx="2"/>
            <a:endCxn id="217" idx="1"/>
          </p:cNvCxnSpPr>
          <p:nvPr/>
        </p:nvCxnSpPr>
        <p:spPr>
          <a:xfrm>
            <a:off x="3240000" y="3139560"/>
            <a:ext cx="177120" cy="583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8" name=""/>
          <p:cNvCxnSpPr>
            <a:stCxn id="214" idx="2"/>
            <a:endCxn id="217" idx="0"/>
          </p:cNvCxnSpPr>
          <p:nvPr/>
        </p:nvCxnSpPr>
        <p:spPr>
          <a:xfrm flipH="1">
            <a:off x="4104720" y="3211560"/>
            <a:ext cx="1151640" cy="289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9" name=""/>
          <p:cNvCxnSpPr>
            <a:stCxn id="210" idx="3"/>
            <a:endCxn id="217" idx="3"/>
          </p:cNvCxnSpPr>
          <p:nvPr/>
        </p:nvCxnSpPr>
        <p:spPr>
          <a:xfrm flipV="1">
            <a:off x="2195280" y="4790520"/>
            <a:ext cx="1221480" cy="1861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3132000" y="3500280"/>
            <a:ext cx="1944720" cy="151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őállomás (mas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11" idx="3"/>
            <a:endCxn id="217" idx="4"/>
          </p:cNvCxnSpPr>
          <p:nvPr/>
        </p:nvCxnSpPr>
        <p:spPr>
          <a:xfrm flipV="1">
            <a:off x="3924000" y="5013000"/>
            <a:ext cx="181800" cy="68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21" name=""/>
          <p:cNvCxnSpPr>
            <a:stCxn id="212" idx="1"/>
            <a:endCxn id="217" idx="5"/>
          </p:cNvCxnSpPr>
          <p:nvPr/>
        </p:nvCxnSpPr>
        <p:spPr>
          <a:xfrm flipH="1" flipV="1">
            <a:off x="4792680" y="4790880"/>
            <a:ext cx="643320" cy="691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22" name=""/>
          <p:cNvCxnSpPr>
            <a:stCxn id="213" idx="1"/>
            <a:endCxn id="217" idx="6"/>
          </p:cNvCxnSpPr>
          <p:nvPr/>
        </p:nvCxnSpPr>
        <p:spPr>
          <a:xfrm flipH="1">
            <a:off x="5076360" y="4041720"/>
            <a:ext cx="720000" cy="216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pontosított átvitel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onalkapcsolásos eljár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központon belül külön kapcsoló relékkel kötik össze a kommunikálni kívánó állomásokat az üzenetváltás idejé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dőosztásos többszörös hozzáférésű eljárás (TDM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ime Division Multiple Ac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Elsődlegesen busz felépítésű hálózatoknál használj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buszhoz kapcsolódó  mellékállomás egy adott időszeletben adhat cs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 – OSI mode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kalmazó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gjeleníté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yüttműködé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zállítá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álóza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atkapcsola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zika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ommunikációs pr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Operációs rendsz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ájlátviteli protoko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ibafelismerési és javítási protoko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modem áramköri működé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2852640"/>
            <a:ext cx="259272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ÁMÍTÓGÉ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2852640"/>
            <a:ext cx="2089080" cy="865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716280"/>
            <a:ext cx="2087640" cy="433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0..S27 BELSŐ REGISZ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3284640"/>
            <a:ext cx="2087640" cy="576000"/>
          </a:xfrm>
          <a:prstGeom prst="leftRightArrow">
            <a:avLst>
              <a:gd name="adj1" fmla="val 49861"/>
              <a:gd name="adj2" fmla="val 2701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3068640"/>
            <a:ext cx="71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Line Ph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610920" y="2205000"/>
            <a:ext cx="1152720" cy="1092960"/>
          </a:xfrm>
          <a:prstGeom prst="bentConnector3">
            <a:avLst>
              <a:gd name="adj1" fmla="val 49984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16" name=""/>
          <p:cNvCxnSpPr/>
          <p:nvPr/>
        </p:nvCxnSpPr>
        <p:spPr>
          <a:xfrm flipH="1" flipV="1" rot="5400000">
            <a:off x="293400" y="3961800"/>
            <a:ext cx="2004120" cy="9374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3924360" y="306864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s2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3068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COM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4360" y="414972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m parancsok, adat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crocom Networking Protoc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1 : aszinkron, bájt orientált, fél duple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2 : aszinkron , teljes duplex. Z80 és Intel 6800 procikhoz dolgozták k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3 : szinkron duplex átvitel, 10 bites adatcsomagok 1,8,1 start – adat – sto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4 :  csomag jellegű adatátvit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Fájl átviteli protokoll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X modem: 128 bájtos csomagok CRC ellenőrzéss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X modem -1K: 1024 bájtos csomag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Y modem: többszörös batch fájl átvit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Z modem: megszakadásból is fel tud épül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ermit: rég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adatátvit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z átvitel során mindig biteket viszünk át, de először szövegátvitel volt megvalósítva, így az egység a karakter let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z a karakterorientált átviteli eljár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ésőbb a bitorientált eljárások terjedtek 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zinkron átvitel esetén az egyes bitek jellemző időpontjai egy alapidőtartam egész számú többszörösére helyezkednek el egymástó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zinkron átvitel esetén a START-STOP átvit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adatátvit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147160" cy="1114560"/>
        </p:xfrm>
        <a:graphic>
          <a:graphicData uri="http://schemas.openxmlformats.org/drawingml/2006/table">
            <a:tbl>
              <a:tblPr/>
              <a:tblGrid>
                <a:gridCol w="1165320"/>
                <a:gridCol w="1484280"/>
                <a:gridCol w="1138320"/>
                <a:gridCol w="571320"/>
                <a:gridCol w="1138320"/>
                <a:gridCol w="1484280"/>
                <a:gridCol w="1165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rakter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rakter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zinkron átvitel(START-STOP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268360" y="2924280"/>
          <a:ext cx="4464360" cy="1035000"/>
        </p:xfrm>
        <a:graphic>
          <a:graphicData uri="http://schemas.openxmlformats.org/drawingml/2006/table">
            <a:tbl>
              <a:tblPr/>
              <a:tblGrid>
                <a:gridCol w="863640"/>
                <a:gridCol w="935280"/>
                <a:gridCol w="2665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 darab karak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rakter szinkron átvit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03280" y="4221000"/>
          <a:ext cx="6480360" cy="129564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  <a:gridCol w="1800360"/>
                <a:gridCol w="165564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ezérlő inf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atmez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é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t szinkron átvit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RZ : nullára vissza nem térő, azaz mindig az a feszültség van a vonalon, amit az ábrázolt bit határoz me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3645000"/>
          <a:ext cx="8075520" cy="2070000"/>
        </p:xfrm>
        <a:graphic>
          <a:graphicData uri="http://schemas.openxmlformats.org/drawingml/2006/table">
            <a:tbl>
              <a:tblPr/>
              <a:tblGrid>
                <a:gridCol w="720720"/>
                <a:gridCol w="522360"/>
                <a:gridCol w="620640"/>
                <a:gridCol w="622080"/>
                <a:gridCol w="621000"/>
                <a:gridCol w="618840"/>
                <a:gridCol w="623880"/>
                <a:gridCol w="619200"/>
                <a:gridCol w="620640"/>
                <a:gridCol w="622440"/>
                <a:gridCol w="620640"/>
                <a:gridCol w="622440"/>
                <a:gridCol w="62064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6:51:09Z</dcterms:created>
  <dc:creator>Nagymáté Péter</dc:creator>
  <dc:description/>
  <dc:language>en-US</dc:language>
  <cp:lastModifiedBy>Nagymáté Péter</cp:lastModifiedBy>
  <dcterms:modified xsi:type="dcterms:W3CDTF">2007-02-26T11:00:25Z</dcterms:modified>
  <cp:revision>17</cp:revision>
  <dc:subject/>
  <dc:title>Hálózatok </dc:title>
</cp:coreProperties>
</file>