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D66-3712-4992-93FD-B8230EF1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9B2-C47A-429A-8435-E33E5409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FC1-B6D9-47EE-8B77-0125ECA2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A28-E0C0-4F85-A348-A4A0DDF1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74F6-94D2-427D-9DB3-FA60E500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DC61-BAAB-496B-81A2-B0F66E6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B2B-0F84-4E54-BA41-A8FDFEAD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DCCB-944A-4FDB-B72D-D76DE2E6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938C-80E6-4216-AECE-C850C5D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2A42-AC29-4F89-973B-482B30BE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1A9B-3AAC-4C18-9889-B2CB041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986-FE79-4DCA-A091-AEFA5E7F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FBD8-B20A-424E-A4F3-CB8D3270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B9D2-3ADE-4DF0-9858-E7B9B09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B73D-4958-41D7-96A4-4D557836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7320-86FB-4486-B812-5B7EFD3B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D31B-CEA9-4EAF-836C-21C270C1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B2E-1A9E-4F63-8B4B-0C5AE97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B48-F13E-4141-8B6B-2798169B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F8D-EDF1-4DA1-BA39-A5256D29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94F-AA04-4272-B202-A286559E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12A-86FE-47FE-8553-2B47EBCB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890-EA09-4EE2-907A-2C3553B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C1A-7B74-455A-B0CF-21208C6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4C10-9D02-4DFC-8065-8E2B6A69632F}" type="slidenum">
              <a:rPr b="0" lang="hu-H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5B03-2AF9-4FEB-B66C-2A68DE82B161}" type="slidenum">
              <a:rPr b="0" lang="hu-H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álózat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PSe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PSec a titkosításra épülő védelmi szolgáltatások és biztonsági protokollok együtte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iztosítja az adatintegritást, az eredet hiteleségét, az adat titkosságát és az adatáramlás titkosságá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alábbi biztonsági szolgáltatásokat kínál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Biztonsági tulajdonság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yilvános kulcsú tanúsítványon alapuló hiteles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őmegosztott kulcson alapuló hiteles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yilvános kulcsú kriptográf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datok sértetlenségének védelme hash függvényekk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ulcskezelé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datok védelme titkosításs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GMP,TC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GMP olyan protokoll , amelynek segítségével az IP állomások közlik a velül szomszédos csoportos küldést alkalmazó útválasztókkal , mely csoportos küldési csoportok tagj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TCP összeköttetés alapú, megbízható kapcsolatot biztosít az alkalmazások számára. Főbb funkció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TCP vételi ablak méretének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sleltetett visszaigazol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zelektív visszaigazol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CP időbélyege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MTU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működő átjáró felismer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CP csomag újraküld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D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Olyan kapcsolat nélküli datagram szolgáltatás biztosító TCP kiegészítés, amely sem a kézbesítést, sem a csomagok megfelelő sorrendjét nem garantá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ről lesz sz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apfogal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Windows TCP/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H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ou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apfogalm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álozati model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AN – Local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WAN – Wide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AN – Metropolitan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erver - Cl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eer to P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AC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P cím  (IPv4 és IPv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etma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HCP és Boo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oute , Gate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éhány fontosabb protokol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AppleTal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Mac-en használt szállítási protoko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DLC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A Hewlett Pakard JetDirect kártyával bővített lézernyomtatóinak eléréséhez szükség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etBEUI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Kis kiterjedésű hálózatok protokollja útvonalválasztóval (router) nem továbbítható. Tulajdonságait automatikusan állítja b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WLink IPX/SPX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kompatibilis protokoll: A Netware hálózatokban használható 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IPX/SPX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al kompatibilis száll protoko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WLink NetBIOS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A Novell és NT kiszolgálók közötti kapcsolattartást teszi lehetővé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Point To Point Tunneling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 (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PPTP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): Interneten keresztül létesít kapcsolato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TCP/IP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Transmission Control Protocol/Internet Protocol. A nagyméretű hálózatokon használt protokol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ndows TCP/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Windows TCP/IP központi elemekből (pl. ARP, IP, TCP protokolok), szolgáltatásokból (DHCP, DNS stb.) és a köztük lévő csatolófelületbő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satolófelületek: TDI (transport Driver Interface) és az NDIS (network Driver Interface Specifi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NDOWS TCP/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windows hálózati protokolljai az NDIS segítségével komunikál a hálózati csatolók drivere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özponti komponensek és a T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dress Resolution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Control Message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Protocol Secu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Group Management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ímfeloldási protokoll végzi a kimenő csomagok MAC címének meghatározását az IP címek alapj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kifelé tartó IP-datagramhoz csatolni kell a forrás és a cél MAC cím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cél meghatározásához az ARP broadcast üzenetet küld ki, és válaszkor feljegyzik a IP és Mac címeket egy táblázat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gyorsító tárban az élettartam 10 perc. A tár tartalmát az ARP –a  paranccsal  lehet kiírat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ternet Protocol 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eladata a csomagok címzése és tovább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csomag tartalmazza a forrás és a cél IP címé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MAC címektől eltérően a csomagban lévő IP címek a datagram teljes élete alatt állandóak maradn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P réteg alapfunkciói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ás: Ez az elsődleges funkció, az IP fejlécet megvizsgálva és az útvonal táblával összehasonlítva eldönti hogy a csomagot a felső rétegek vagy a hálózati csatoló felé kell továbbítania, esetleg egyszerűen eldobhatja az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IP cím ütközés érzékelése: A gép ARP broadcast üzenetek formájában kiküldi a beállított IP címe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CM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CMP segítségével az IP kommunikációt használó állomások és útválasztók hibákat jelezhetnek, és korlátozott adatcserét is folytathatnak  a vezérlésrő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övetkező feladatokra használjá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zbesítési problémák jelz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ó táblák felépítése és karbantart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ó felder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PMTU Path Maximum Transmission Unit (útvonal legnagyobb átviteli egysége)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érhetőségi problémák felderít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IP útválasztó ICMP üzenet formájában jelzi a túlterheltséget a küldő állomásn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1:19:00Z</dcterms:created>
  <dc:creator>Nagymáté Péter</dc:creator>
  <dc:description/>
  <dc:language>en-US</dc:language>
  <cp:lastModifiedBy>Nagymáté Péter</cp:lastModifiedBy>
  <dcterms:modified xsi:type="dcterms:W3CDTF">2003-11-18T14:19:57Z</dcterms:modified>
  <cp:revision>4</cp:revision>
  <dc:subject/>
  <dc:title>Hálózatok</dc:title>
</cp:coreProperties>
</file>